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wmf" ContentType="image/x-wmf"/>
  <Override PartName="/ppt/media/image27.wmf" ContentType="image/x-wmf"/>
  <Override PartName="/ppt/media/image4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media/image2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0CA8-BB92-4E53-96C3-2A9BFF6F2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1D16-5D80-43F4-863F-BBE4CDECD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017C-0DBF-4BDA-B267-21DE603B7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01C0-1BFB-48BD-A812-F7FDD75FA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1FE8-DE4A-44A7-8FB7-6352F1819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0863-8F78-4267-A56C-9D5D7BF92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AE22-96AA-4D38-80E8-D3E1DC92D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037A-DCA7-4097-9BBE-BD758C2B6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4A70-74A6-4779-9892-2EECC1F7B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A872-6553-4C8C-938C-729320A29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33B6-D437-4835-846B-8BEDF77E0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B825-DF00-42A3-B2DF-5A74387DA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0B032-BC8E-4749-8980-882A3C0E38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image" Target="../media/image10.wmf"/><Relationship Id="rId9" Type="http://schemas.openxmlformats.org/officeDocument/2006/relationships/image" Target="../media/image11.wmf"/><Relationship Id="rId10" Type="http://schemas.openxmlformats.org/officeDocument/2006/relationships/image" Target="../media/image9.wmf"/><Relationship Id="rId1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image" Target="../media/image17.wmf"/><Relationship Id="rId7" Type="http://schemas.openxmlformats.org/officeDocument/2006/relationships/image" Target="../media/image18.wmf"/><Relationship Id="rId8" Type="http://schemas.openxmlformats.org/officeDocument/2006/relationships/image" Target="../media/image19.wmf"/><Relationship Id="rId9" Type="http://schemas.openxmlformats.org/officeDocument/2006/relationships/image" Target="../media/image20.wmf"/><Relationship Id="rId10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image" Target="../media/image24.wmf"/><Relationship Id="rId6" Type="http://schemas.openxmlformats.org/officeDocument/2006/relationships/image" Target="../media/image25.wmf"/><Relationship Id="rId7" Type="http://schemas.openxmlformats.org/officeDocument/2006/relationships/image" Target="../media/image26.wmf"/><Relationship Id="rId8" Type="http://schemas.openxmlformats.org/officeDocument/2006/relationships/image" Target="../media/image27.wmf"/><Relationship Id="rId9" Type="http://schemas.openxmlformats.org/officeDocument/2006/relationships/image" Target="../media/image28.wmf"/><Relationship Id="rId10" Type="http://schemas.openxmlformats.org/officeDocument/2006/relationships/image" Target="../media/image29.wmf"/><Relationship Id="rId11" Type="http://schemas.openxmlformats.org/officeDocument/2006/relationships/image" Target="../media/image30.wmf"/><Relationship Id="rId1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748560" cy="9144000"/>
          </a:xfrm>
          <a:prstGeom prst="rect">
            <a:avLst/>
          </a:prstGeom>
          <a:ln w="0">
            <a:noFill/>
          </a:ln>
        </p:spPr>
      </p:pic>
      <p:grpSp>
        <p:nvGrpSpPr>
          <p:cNvPr id="42" name=""/>
          <p:cNvGrpSpPr/>
          <p:nvPr/>
        </p:nvGrpSpPr>
        <p:grpSpPr>
          <a:xfrm>
            <a:off x="0" y="420840"/>
            <a:ext cx="5986440" cy="885600"/>
            <a:chOff x="0" y="420840"/>
            <a:chExt cx="5986440" cy="885600"/>
          </a:xfrm>
        </p:grpSpPr>
        <p:pic>
          <p:nvPicPr>
            <p:cNvPr id="43" name="" descr=""/>
            <p:cNvPicPr/>
            <p:nvPr/>
          </p:nvPicPr>
          <p:blipFill>
            <a:blip r:embed="rId2"/>
            <a:stretch/>
          </p:blipFill>
          <p:spPr>
            <a:xfrm>
              <a:off x="0" y="420840"/>
              <a:ext cx="5986440" cy="88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"/>
            <p:cNvSpPr/>
            <p:nvPr/>
          </p:nvSpPr>
          <p:spPr>
            <a:xfrm>
              <a:off x="1197000" y="631080"/>
              <a:ext cx="4136040" cy="525600"/>
            </a:xfrm>
            <a:prstGeom prst="rect">
              <a:avLst/>
            </a:prstGeom>
            <a:solidFill>
              <a:srgbClr val="ffffff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0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أصنف الكلمات حسب (ال) الشمسية و(ال) القمرية</a:t>
              </a:r>
              <a:r>
                <a:rPr b="0" lang="ar-SA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"/>
          <p:cNvSpPr/>
          <p:nvPr/>
        </p:nvSpPr>
        <p:spPr>
          <a:xfrm>
            <a:off x="434880" y="1492200"/>
            <a:ext cx="5443560" cy="1063800"/>
          </a:xfrm>
          <a:prstGeom prst="rect">
            <a:avLst/>
          </a:prstGeom>
          <a:solidFill>
            <a:srgbClr val="ffffff"/>
          </a:solidFill>
          <a:ln cap="rnd" w="76320">
            <a:solidFill>
              <a:srgbClr val="00cc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سُّلحفاة –  الْأرنب 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</a:rPr>
              <a:t>–  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ْحيوانات -  الشَّجرة – الْمغرور -  الطُّيو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سِّباق – الْمجتهد – الزّهرة – الْفراشة – الْبحر – الرِّمال -  الْيمي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0" y="2566080"/>
            <a:ext cx="6913800" cy="6150960"/>
            <a:chOff x="0" y="2566080"/>
            <a:chExt cx="6913800" cy="6150960"/>
          </a:xfrm>
        </p:grpSpPr>
        <p:grpSp>
          <p:nvGrpSpPr>
            <p:cNvPr id="47" name=""/>
            <p:cNvGrpSpPr/>
            <p:nvPr/>
          </p:nvGrpSpPr>
          <p:grpSpPr>
            <a:xfrm>
              <a:off x="3809880" y="2566080"/>
              <a:ext cx="3103920" cy="5737680"/>
              <a:chOff x="3809880" y="2566080"/>
              <a:chExt cx="3103920" cy="5737680"/>
            </a:xfrm>
          </p:grpSpPr>
          <p:grpSp>
            <p:nvGrpSpPr>
              <p:cNvPr id="48" name=""/>
              <p:cNvGrpSpPr/>
              <p:nvPr/>
            </p:nvGrpSpPr>
            <p:grpSpPr>
              <a:xfrm>
                <a:off x="3809880" y="3468240"/>
                <a:ext cx="1959480" cy="4835520"/>
                <a:chOff x="3809880" y="3468240"/>
                <a:chExt cx="1959480" cy="4835520"/>
              </a:xfrm>
            </p:grpSpPr>
            <p:grpSp>
              <p:nvGrpSpPr>
                <p:cNvPr id="49" name=""/>
                <p:cNvGrpSpPr/>
                <p:nvPr/>
              </p:nvGrpSpPr>
              <p:grpSpPr>
                <a:xfrm>
                  <a:off x="3809880" y="3468240"/>
                  <a:ext cx="1959480" cy="4835520"/>
                  <a:chOff x="3809880" y="3468240"/>
                  <a:chExt cx="1959480" cy="4835520"/>
                </a:xfrm>
              </p:grpSpPr>
              <p:sp>
                <p:nvSpPr>
                  <p:cNvPr id="50" name=""/>
                  <p:cNvSpPr/>
                  <p:nvPr/>
                </p:nvSpPr>
                <p:spPr>
                  <a:xfrm>
                    <a:off x="3861360" y="3686040"/>
                    <a:ext cx="1870920" cy="4549320"/>
                  </a:xfrm>
                  <a:custGeom>
                    <a:avLst/>
                    <a:gdLst/>
                    <a:ahLst/>
                    <a:rect l="l" t="t" r="r" b="b"/>
                    <a:pathLst>
                      <a:path w="8803" h="6662">
                        <a:moveTo>
                          <a:pt x="0" y="6628"/>
                        </a:moveTo>
                        <a:lnTo>
                          <a:pt x="42" y="6640"/>
                        </a:lnTo>
                        <a:lnTo>
                          <a:pt x="91" y="6652"/>
                        </a:lnTo>
                        <a:lnTo>
                          <a:pt x="144" y="6658"/>
                        </a:lnTo>
                        <a:lnTo>
                          <a:pt x="204" y="6662"/>
                        </a:lnTo>
                        <a:lnTo>
                          <a:pt x="271" y="6660"/>
                        </a:lnTo>
                        <a:lnTo>
                          <a:pt x="340" y="6652"/>
                        </a:lnTo>
                        <a:lnTo>
                          <a:pt x="418" y="6636"/>
                        </a:lnTo>
                        <a:lnTo>
                          <a:pt x="498" y="6613"/>
                        </a:lnTo>
                        <a:lnTo>
                          <a:pt x="585" y="6581"/>
                        </a:lnTo>
                        <a:lnTo>
                          <a:pt x="676" y="6540"/>
                        </a:lnTo>
                        <a:lnTo>
                          <a:pt x="676" y="6542"/>
                        </a:lnTo>
                        <a:lnTo>
                          <a:pt x="803" y="6489"/>
                        </a:lnTo>
                        <a:lnTo>
                          <a:pt x="925" y="6459"/>
                        </a:lnTo>
                        <a:lnTo>
                          <a:pt x="1039" y="6447"/>
                        </a:lnTo>
                        <a:lnTo>
                          <a:pt x="1143" y="6449"/>
                        </a:lnTo>
                        <a:lnTo>
                          <a:pt x="1239" y="6461"/>
                        </a:lnTo>
                        <a:lnTo>
                          <a:pt x="1319" y="6479"/>
                        </a:lnTo>
                        <a:lnTo>
                          <a:pt x="1385" y="6499"/>
                        </a:lnTo>
                        <a:lnTo>
                          <a:pt x="1434" y="6520"/>
                        </a:lnTo>
                        <a:lnTo>
                          <a:pt x="1466" y="6534"/>
                        </a:lnTo>
                        <a:lnTo>
                          <a:pt x="1477" y="6540"/>
                        </a:lnTo>
                        <a:lnTo>
                          <a:pt x="1477" y="6542"/>
                        </a:lnTo>
                        <a:lnTo>
                          <a:pt x="1488" y="6546"/>
                        </a:lnTo>
                        <a:lnTo>
                          <a:pt x="1526" y="6560"/>
                        </a:lnTo>
                        <a:lnTo>
                          <a:pt x="1581" y="6579"/>
                        </a:lnTo>
                        <a:lnTo>
                          <a:pt x="1655" y="6599"/>
                        </a:lnTo>
                        <a:lnTo>
                          <a:pt x="1744" y="6617"/>
                        </a:lnTo>
                        <a:lnTo>
                          <a:pt x="1841" y="6628"/>
                        </a:lnTo>
                        <a:lnTo>
                          <a:pt x="1946" y="6630"/>
                        </a:lnTo>
                        <a:lnTo>
                          <a:pt x="2057" y="6619"/>
                        </a:lnTo>
                        <a:lnTo>
                          <a:pt x="2168" y="6589"/>
                        </a:lnTo>
                        <a:lnTo>
                          <a:pt x="2277" y="6540"/>
                        </a:lnTo>
                        <a:lnTo>
                          <a:pt x="2277" y="6542"/>
                        </a:lnTo>
                        <a:lnTo>
                          <a:pt x="2384" y="6491"/>
                        </a:lnTo>
                        <a:lnTo>
                          <a:pt x="2495" y="6463"/>
                        </a:lnTo>
                        <a:lnTo>
                          <a:pt x="2607" y="6451"/>
                        </a:lnTo>
                        <a:lnTo>
                          <a:pt x="2711" y="6453"/>
                        </a:lnTo>
                        <a:lnTo>
                          <a:pt x="2811" y="6465"/>
                        </a:lnTo>
                        <a:lnTo>
                          <a:pt x="2898" y="6481"/>
                        </a:lnTo>
                        <a:lnTo>
                          <a:pt x="2971" y="6502"/>
                        </a:lnTo>
                        <a:lnTo>
                          <a:pt x="3027" y="6522"/>
                        </a:lnTo>
                        <a:lnTo>
                          <a:pt x="3065" y="6534"/>
                        </a:lnTo>
                        <a:lnTo>
                          <a:pt x="3078" y="6540"/>
                        </a:lnTo>
                        <a:lnTo>
                          <a:pt x="3078" y="6542"/>
                        </a:lnTo>
                        <a:lnTo>
                          <a:pt x="3092" y="6546"/>
                        </a:lnTo>
                        <a:lnTo>
                          <a:pt x="3129" y="6558"/>
                        </a:lnTo>
                        <a:lnTo>
                          <a:pt x="3187" y="6575"/>
                        </a:lnTo>
                        <a:lnTo>
                          <a:pt x="3263" y="6593"/>
                        </a:lnTo>
                        <a:lnTo>
                          <a:pt x="3352" y="6609"/>
                        </a:lnTo>
                        <a:lnTo>
                          <a:pt x="3452" y="6619"/>
                        </a:lnTo>
                        <a:lnTo>
                          <a:pt x="3559" y="6621"/>
                        </a:lnTo>
                        <a:lnTo>
                          <a:pt x="3665" y="6611"/>
                        </a:lnTo>
                        <a:lnTo>
                          <a:pt x="3774" y="6585"/>
                        </a:lnTo>
                        <a:lnTo>
                          <a:pt x="3879" y="6540"/>
                        </a:lnTo>
                        <a:lnTo>
                          <a:pt x="3879" y="6542"/>
                        </a:lnTo>
                        <a:lnTo>
                          <a:pt x="3981" y="6497"/>
                        </a:lnTo>
                        <a:lnTo>
                          <a:pt x="4090" y="6471"/>
                        </a:lnTo>
                        <a:lnTo>
                          <a:pt x="4197" y="6461"/>
                        </a:lnTo>
                        <a:lnTo>
                          <a:pt x="4304" y="6461"/>
                        </a:lnTo>
                        <a:lnTo>
                          <a:pt x="4404" y="6471"/>
                        </a:lnTo>
                        <a:lnTo>
                          <a:pt x="4493" y="6487"/>
                        </a:lnTo>
                        <a:lnTo>
                          <a:pt x="4568" y="6506"/>
                        </a:lnTo>
                        <a:lnTo>
                          <a:pt x="4626" y="6524"/>
                        </a:lnTo>
                        <a:lnTo>
                          <a:pt x="4664" y="6536"/>
                        </a:lnTo>
                        <a:lnTo>
                          <a:pt x="4680" y="6540"/>
                        </a:lnTo>
                        <a:lnTo>
                          <a:pt x="4680" y="6542"/>
                        </a:lnTo>
                        <a:lnTo>
                          <a:pt x="4689" y="6546"/>
                        </a:lnTo>
                        <a:lnTo>
                          <a:pt x="4722" y="6563"/>
                        </a:lnTo>
                        <a:lnTo>
                          <a:pt x="4771" y="6583"/>
                        </a:lnTo>
                        <a:lnTo>
                          <a:pt x="4840" y="6605"/>
                        </a:lnTo>
                        <a:lnTo>
                          <a:pt x="4920" y="6626"/>
                        </a:lnTo>
                        <a:lnTo>
                          <a:pt x="5015" y="6638"/>
                        </a:lnTo>
                        <a:lnTo>
                          <a:pt x="5120" y="6640"/>
                        </a:lnTo>
                        <a:lnTo>
                          <a:pt x="5233" y="6626"/>
                        </a:lnTo>
                        <a:lnTo>
                          <a:pt x="5354" y="6595"/>
                        </a:lnTo>
                        <a:lnTo>
                          <a:pt x="5480" y="6540"/>
                        </a:lnTo>
                        <a:lnTo>
                          <a:pt x="5480" y="6542"/>
                        </a:lnTo>
                        <a:lnTo>
                          <a:pt x="5605" y="6487"/>
                        </a:lnTo>
                        <a:lnTo>
                          <a:pt x="5725" y="6455"/>
                        </a:lnTo>
                        <a:lnTo>
                          <a:pt x="5838" y="6443"/>
                        </a:lnTo>
                        <a:lnTo>
                          <a:pt x="5943" y="6445"/>
                        </a:lnTo>
                        <a:lnTo>
                          <a:pt x="6039" y="6457"/>
                        </a:lnTo>
                        <a:lnTo>
                          <a:pt x="6121" y="6475"/>
                        </a:lnTo>
                        <a:lnTo>
                          <a:pt x="6188" y="6497"/>
                        </a:lnTo>
                        <a:lnTo>
                          <a:pt x="6237" y="6520"/>
                        </a:lnTo>
                        <a:lnTo>
                          <a:pt x="6270" y="6534"/>
                        </a:lnTo>
                        <a:lnTo>
                          <a:pt x="6281" y="6540"/>
                        </a:lnTo>
                        <a:lnTo>
                          <a:pt x="6281" y="6542"/>
                        </a:lnTo>
                        <a:lnTo>
                          <a:pt x="6290" y="6546"/>
                        </a:lnTo>
                        <a:lnTo>
                          <a:pt x="6319" y="6560"/>
                        </a:lnTo>
                        <a:lnTo>
                          <a:pt x="6363" y="6579"/>
                        </a:lnTo>
                        <a:lnTo>
                          <a:pt x="6426" y="6597"/>
                        </a:lnTo>
                        <a:lnTo>
                          <a:pt x="6504" y="6615"/>
                        </a:lnTo>
                        <a:lnTo>
                          <a:pt x="6595" y="6626"/>
                        </a:lnTo>
                        <a:lnTo>
                          <a:pt x="6699" y="6628"/>
                        </a:lnTo>
                        <a:lnTo>
                          <a:pt x="6817" y="6615"/>
                        </a:lnTo>
                        <a:lnTo>
                          <a:pt x="6944" y="6589"/>
                        </a:lnTo>
                        <a:lnTo>
                          <a:pt x="7082" y="6540"/>
                        </a:lnTo>
                        <a:lnTo>
                          <a:pt x="7082" y="6542"/>
                        </a:lnTo>
                        <a:lnTo>
                          <a:pt x="7193" y="6504"/>
                        </a:lnTo>
                        <a:lnTo>
                          <a:pt x="7304" y="6483"/>
                        </a:lnTo>
                        <a:lnTo>
                          <a:pt x="7415" y="6473"/>
                        </a:lnTo>
                        <a:lnTo>
                          <a:pt x="7522" y="6475"/>
                        </a:lnTo>
                        <a:lnTo>
                          <a:pt x="7618" y="6483"/>
                        </a:lnTo>
                        <a:lnTo>
                          <a:pt x="7705" y="6497"/>
                        </a:lnTo>
                        <a:lnTo>
                          <a:pt x="7778" y="6512"/>
                        </a:lnTo>
                        <a:lnTo>
                          <a:pt x="7834" y="6526"/>
                        </a:lnTo>
                        <a:lnTo>
                          <a:pt x="7869" y="6536"/>
                        </a:lnTo>
                        <a:lnTo>
                          <a:pt x="7883" y="6540"/>
                        </a:lnTo>
                        <a:lnTo>
                          <a:pt x="7883" y="6542"/>
                        </a:lnTo>
                        <a:lnTo>
                          <a:pt x="7898" y="6546"/>
                        </a:lnTo>
                        <a:lnTo>
                          <a:pt x="7947" y="6558"/>
                        </a:lnTo>
                        <a:lnTo>
                          <a:pt x="8018" y="6575"/>
                        </a:lnTo>
                        <a:lnTo>
                          <a:pt x="8109" y="6593"/>
                        </a:lnTo>
                        <a:lnTo>
                          <a:pt x="8214" y="6609"/>
                        </a:lnTo>
                        <a:lnTo>
                          <a:pt x="8323" y="6619"/>
                        </a:lnTo>
                        <a:lnTo>
                          <a:pt x="8434" y="6621"/>
                        </a:lnTo>
                        <a:lnTo>
                          <a:pt x="8539" y="6611"/>
                        </a:lnTo>
                        <a:lnTo>
                          <a:pt x="8630" y="6585"/>
                        </a:lnTo>
                        <a:lnTo>
                          <a:pt x="8706" y="6540"/>
                        </a:lnTo>
                        <a:lnTo>
                          <a:pt x="8706" y="6542"/>
                        </a:lnTo>
                        <a:lnTo>
                          <a:pt x="8757" y="6475"/>
                        </a:lnTo>
                        <a:lnTo>
                          <a:pt x="8786" y="6394"/>
                        </a:lnTo>
                        <a:lnTo>
                          <a:pt x="8797" y="6302"/>
                        </a:lnTo>
                        <a:lnTo>
                          <a:pt x="8797" y="6205"/>
                        </a:lnTo>
                        <a:lnTo>
                          <a:pt x="8783" y="6105"/>
                        </a:lnTo>
                        <a:lnTo>
                          <a:pt x="8766" y="6014"/>
                        </a:lnTo>
                        <a:lnTo>
                          <a:pt x="8743" y="5932"/>
                        </a:lnTo>
                        <a:lnTo>
                          <a:pt x="8726" y="5867"/>
                        </a:lnTo>
                        <a:lnTo>
                          <a:pt x="8710" y="5825"/>
                        </a:lnTo>
                        <a:lnTo>
                          <a:pt x="8706" y="5808"/>
                        </a:lnTo>
                        <a:lnTo>
                          <a:pt x="8706" y="5810"/>
                        </a:lnTo>
                        <a:lnTo>
                          <a:pt x="8699" y="5798"/>
                        </a:lnTo>
                        <a:lnTo>
                          <a:pt x="8688" y="5766"/>
                        </a:lnTo>
                        <a:lnTo>
                          <a:pt x="8670" y="5717"/>
                        </a:lnTo>
                        <a:lnTo>
                          <a:pt x="8652" y="5652"/>
                        </a:lnTo>
                        <a:lnTo>
                          <a:pt x="8639" y="5572"/>
                        </a:lnTo>
                        <a:lnTo>
                          <a:pt x="8628" y="5483"/>
                        </a:lnTo>
                        <a:lnTo>
                          <a:pt x="8625" y="5387"/>
                        </a:lnTo>
                        <a:lnTo>
                          <a:pt x="8637" y="5286"/>
                        </a:lnTo>
                        <a:lnTo>
                          <a:pt x="8661" y="5182"/>
                        </a:lnTo>
                        <a:lnTo>
                          <a:pt x="8706" y="5076"/>
                        </a:lnTo>
                        <a:lnTo>
                          <a:pt x="8706" y="5078"/>
                        </a:lnTo>
                        <a:lnTo>
                          <a:pt x="8748" y="4973"/>
                        </a:lnTo>
                        <a:lnTo>
                          <a:pt x="8772" y="4869"/>
                        </a:lnTo>
                        <a:lnTo>
                          <a:pt x="8783" y="4767"/>
                        </a:lnTo>
                        <a:lnTo>
                          <a:pt x="8781" y="4670"/>
                        </a:lnTo>
                        <a:lnTo>
                          <a:pt x="8772" y="4580"/>
                        </a:lnTo>
                        <a:lnTo>
                          <a:pt x="8757" y="4503"/>
                        </a:lnTo>
                        <a:lnTo>
                          <a:pt x="8739" y="4438"/>
                        </a:lnTo>
                        <a:lnTo>
                          <a:pt x="8721" y="4387"/>
                        </a:lnTo>
                        <a:lnTo>
                          <a:pt x="8710" y="4357"/>
                        </a:lnTo>
                        <a:lnTo>
                          <a:pt x="8706" y="4344"/>
                        </a:lnTo>
                        <a:lnTo>
                          <a:pt x="8706" y="4346"/>
                        </a:lnTo>
                        <a:lnTo>
                          <a:pt x="8699" y="4334"/>
                        </a:lnTo>
                        <a:lnTo>
                          <a:pt x="8688" y="4300"/>
                        </a:lnTo>
                        <a:lnTo>
                          <a:pt x="8672" y="4249"/>
                        </a:lnTo>
                        <a:lnTo>
                          <a:pt x="8657" y="4182"/>
                        </a:lnTo>
                        <a:lnTo>
                          <a:pt x="8641" y="4100"/>
                        </a:lnTo>
                        <a:lnTo>
                          <a:pt x="8632" y="4011"/>
                        </a:lnTo>
                        <a:lnTo>
                          <a:pt x="8630" y="3915"/>
                        </a:lnTo>
                        <a:lnTo>
                          <a:pt x="8641" y="3814"/>
                        </a:lnTo>
                        <a:lnTo>
                          <a:pt x="8663" y="3712"/>
                        </a:lnTo>
                        <a:lnTo>
                          <a:pt x="8706" y="3613"/>
                        </a:lnTo>
                        <a:lnTo>
                          <a:pt x="8706" y="3615"/>
                        </a:lnTo>
                        <a:lnTo>
                          <a:pt x="8746" y="3513"/>
                        </a:lnTo>
                        <a:lnTo>
                          <a:pt x="8768" y="3411"/>
                        </a:lnTo>
                        <a:lnTo>
                          <a:pt x="8779" y="3312"/>
                        </a:lnTo>
                        <a:lnTo>
                          <a:pt x="8777" y="3214"/>
                        </a:lnTo>
                        <a:lnTo>
                          <a:pt x="8768" y="3125"/>
                        </a:lnTo>
                        <a:lnTo>
                          <a:pt x="8752" y="3045"/>
                        </a:lnTo>
                        <a:lnTo>
                          <a:pt x="8737" y="2978"/>
                        </a:lnTo>
                        <a:lnTo>
                          <a:pt x="8721" y="2925"/>
                        </a:lnTo>
                        <a:lnTo>
                          <a:pt x="8710" y="2893"/>
                        </a:lnTo>
                        <a:lnTo>
                          <a:pt x="8706" y="2881"/>
                        </a:lnTo>
                        <a:lnTo>
                          <a:pt x="8706" y="2883"/>
                        </a:lnTo>
                        <a:lnTo>
                          <a:pt x="8701" y="2870"/>
                        </a:lnTo>
                        <a:lnTo>
                          <a:pt x="8690" y="2838"/>
                        </a:lnTo>
                        <a:lnTo>
                          <a:pt x="8674" y="2787"/>
                        </a:lnTo>
                        <a:lnTo>
                          <a:pt x="8659" y="2720"/>
                        </a:lnTo>
                        <a:lnTo>
                          <a:pt x="8645" y="2641"/>
                        </a:lnTo>
                        <a:lnTo>
                          <a:pt x="8637" y="2551"/>
                        </a:lnTo>
                        <a:lnTo>
                          <a:pt x="8637" y="2456"/>
                        </a:lnTo>
                        <a:lnTo>
                          <a:pt x="8645" y="2354"/>
                        </a:lnTo>
                        <a:lnTo>
                          <a:pt x="8665" y="2250"/>
                        </a:lnTo>
                        <a:lnTo>
                          <a:pt x="8706" y="2149"/>
                        </a:lnTo>
                        <a:lnTo>
                          <a:pt x="8706" y="2151"/>
                        </a:lnTo>
                        <a:lnTo>
                          <a:pt x="8743" y="2047"/>
                        </a:lnTo>
                        <a:lnTo>
                          <a:pt x="8763" y="1945"/>
                        </a:lnTo>
                        <a:lnTo>
                          <a:pt x="8772" y="1844"/>
                        </a:lnTo>
                        <a:lnTo>
                          <a:pt x="8772" y="1746"/>
                        </a:lnTo>
                        <a:lnTo>
                          <a:pt x="8763" y="1657"/>
                        </a:lnTo>
                        <a:lnTo>
                          <a:pt x="8750" y="1577"/>
                        </a:lnTo>
                        <a:lnTo>
                          <a:pt x="8734" y="1512"/>
                        </a:lnTo>
                        <a:lnTo>
                          <a:pt x="8719" y="1462"/>
                        </a:lnTo>
                        <a:lnTo>
                          <a:pt x="8708" y="1429"/>
                        </a:lnTo>
                        <a:lnTo>
                          <a:pt x="8706" y="1417"/>
                        </a:lnTo>
                        <a:lnTo>
                          <a:pt x="8706" y="1419"/>
                        </a:lnTo>
                        <a:lnTo>
                          <a:pt x="8699" y="1405"/>
                        </a:lnTo>
                        <a:lnTo>
                          <a:pt x="8688" y="1366"/>
                        </a:lnTo>
                        <a:lnTo>
                          <a:pt x="8670" y="1305"/>
                        </a:lnTo>
                        <a:lnTo>
                          <a:pt x="8652" y="1230"/>
                        </a:lnTo>
                        <a:lnTo>
                          <a:pt x="8639" y="1142"/>
                        </a:lnTo>
                        <a:lnTo>
                          <a:pt x="8628" y="1049"/>
                        </a:lnTo>
                        <a:lnTo>
                          <a:pt x="8625" y="951"/>
                        </a:lnTo>
                        <a:lnTo>
                          <a:pt x="8637" y="856"/>
                        </a:lnTo>
                        <a:lnTo>
                          <a:pt x="8661" y="764"/>
                        </a:lnTo>
                        <a:lnTo>
                          <a:pt x="8706" y="685"/>
                        </a:lnTo>
                        <a:lnTo>
                          <a:pt x="8706" y="687"/>
                        </a:lnTo>
                        <a:lnTo>
                          <a:pt x="8741" y="622"/>
                        </a:lnTo>
                        <a:lnTo>
                          <a:pt x="8770" y="551"/>
                        </a:lnTo>
                        <a:lnTo>
                          <a:pt x="8788" y="476"/>
                        </a:lnTo>
                        <a:lnTo>
                          <a:pt x="8799" y="396"/>
                        </a:lnTo>
                        <a:lnTo>
                          <a:pt x="8803" y="317"/>
                        </a:lnTo>
                        <a:lnTo>
                          <a:pt x="8799" y="242"/>
                        </a:lnTo>
                        <a:lnTo>
                          <a:pt x="8792" y="169"/>
                        </a:lnTo>
                        <a:lnTo>
                          <a:pt x="8779" y="101"/>
                        </a:lnTo>
                        <a:lnTo>
                          <a:pt x="8763" y="45"/>
                        </a:lnTo>
                        <a:lnTo>
                          <a:pt x="8743" y="0"/>
                        </a:lnTo>
                      </a:path>
                    </a:pathLst>
                  </a:custGeom>
                  <a:noFill/>
                  <a:ln w="0">
                    <a:solidFill>
                      <a:srgbClr val="ffff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" name=""/>
                  <p:cNvSpPr/>
                  <p:nvPr/>
                </p:nvSpPr>
                <p:spPr>
                  <a:xfrm>
                    <a:off x="3809880" y="3581280"/>
                    <a:ext cx="1941120" cy="4686120"/>
                  </a:xfrm>
                  <a:custGeom>
                    <a:avLst/>
                    <a:gdLst/>
                    <a:ahLst/>
                    <a:rect l="l" t="t" r="r" b="b"/>
                    <a:pathLst>
                      <a:path w="9133" h="6862">
                        <a:moveTo>
                          <a:pt x="9133" y="238"/>
                        </a:moveTo>
                        <a:lnTo>
                          <a:pt x="9124" y="224"/>
                        </a:lnTo>
                        <a:lnTo>
                          <a:pt x="9109" y="208"/>
                        </a:lnTo>
                        <a:lnTo>
                          <a:pt x="9089" y="189"/>
                        </a:lnTo>
                        <a:lnTo>
                          <a:pt x="9064" y="169"/>
                        </a:lnTo>
                        <a:lnTo>
                          <a:pt x="9040" y="149"/>
                        </a:lnTo>
                        <a:lnTo>
                          <a:pt x="9013" y="130"/>
                        </a:lnTo>
                        <a:lnTo>
                          <a:pt x="8989" y="112"/>
                        </a:lnTo>
                        <a:lnTo>
                          <a:pt x="8969" y="100"/>
                        </a:lnTo>
                        <a:lnTo>
                          <a:pt x="8955" y="90"/>
                        </a:lnTo>
                        <a:lnTo>
                          <a:pt x="8949" y="86"/>
                        </a:lnTo>
                        <a:lnTo>
                          <a:pt x="8949" y="88"/>
                        </a:lnTo>
                        <a:lnTo>
                          <a:pt x="8937" y="82"/>
                        </a:lnTo>
                        <a:lnTo>
                          <a:pt x="8911" y="69"/>
                        </a:lnTo>
                        <a:lnTo>
                          <a:pt x="8864" y="53"/>
                        </a:lnTo>
                        <a:lnTo>
                          <a:pt x="8802" y="37"/>
                        </a:lnTo>
                        <a:lnTo>
                          <a:pt x="8724" y="21"/>
                        </a:lnTo>
                        <a:lnTo>
                          <a:pt x="8630" y="13"/>
                        </a:lnTo>
                        <a:lnTo>
                          <a:pt x="8524" y="10"/>
                        </a:lnTo>
                        <a:lnTo>
                          <a:pt x="8401" y="21"/>
                        </a:lnTo>
                        <a:lnTo>
                          <a:pt x="8270" y="43"/>
                        </a:lnTo>
                        <a:lnTo>
                          <a:pt x="8126" y="86"/>
                        </a:lnTo>
                        <a:lnTo>
                          <a:pt x="8126" y="88"/>
                        </a:lnTo>
                        <a:lnTo>
                          <a:pt x="7981" y="128"/>
                        </a:lnTo>
                        <a:lnTo>
                          <a:pt x="7850" y="153"/>
                        </a:lnTo>
                        <a:lnTo>
                          <a:pt x="7732" y="163"/>
                        </a:lnTo>
                        <a:lnTo>
                          <a:pt x="7627" y="161"/>
                        </a:lnTo>
                        <a:lnTo>
                          <a:pt x="7536" y="151"/>
                        </a:lnTo>
                        <a:lnTo>
                          <a:pt x="7460" y="137"/>
                        </a:lnTo>
                        <a:lnTo>
                          <a:pt x="7403" y="118"/>
                        </a:lnTo>
                        <a:lnTo>
                          <a:pt x="7358" y="102"/>
                        </a:lnTo>
                        <a:lnTo>
                          <a:pt x="7334" y="90"/>
                        </a:lnTo>
                        <a:lnTo>
                          <a:pt x="7325" y="86"/>
                        </a:lnTo>
                        <a:lnTo>
                          <a:pt x="7325" y="88"/>
                        </a:lnTo>
                        <a:lnTo>
                          <a:pt x="7309" y="82"/>
                        </a:lnTo>
                        <a:lnTo>
                          <a:pt x="7271" y="71"/>
                        </a:lnTo>
                        <a:lnTo>
                          <a:pt x="7211" y="57"/>
                        </a:lnTo>
                        <a:lnTo>
                          <a:pt x="7136" y="43"/>
                        </a:lnTo>
                        <a:lnTo>
                          <a:pt x="7045" y="29"/>
                        </a:lnTo>
                        <a:lnTo>
                          <a:pt x="6944" y="21"/>
                        </a:lnTo>
                        <a:lnTo>
                          <a:pt x="6838" y="19"/>
                        </a:lnTo>
                        <a:lnTo>
                          <a:pt x="6731" y="27"/>
                        </a:lnTo>
                        <a:lnTo>
                          <a:pt x="6624" y="49"/>
                        </a:lnTo>
                        <a:lnTo>
                          <a:pt x="6524" y="86"/>
                        </a:lnTo>
                        <a:lnTo>
                          <a:pt x="6524" y="88"/>
                        </a:lnTo>
                        <a:lnTo>
                          <a:pt x="6422" y="124"/>
                        </a:lnTo>
                        <a:lnTo>
                          <a:pt x="6315" y="145"/>
                        </a:lnTo>
                        <a:lnTo>
                          <a:pt x="6208" y="153"/>
                        </a:lnTo>
                        <a:lnTo>
                          <a:pt x="6101" y="153"/>
                        </a:lnTo>
                        <a:lnTo>
                          <a:pt x="6001" y="143"/>
                        </a:lnTo>
                        <a:lnTo>
                          <a:pt x="5910" y="130"/>
                        </a:lnTo>
                        <a:lnTo>
                          <a:pt x="5835" y="114"/>
                        </a:lnTo>
                        <a:lnTo>
                          <a:pt x="5775" y="100"/>
                        </a:lnTo>
                        <a:lnTo>
                          <a:pt x="5737" y="90"/>
                        </a:lnTo>
                        <a:lnTo>
                          <a:pt x="5723" y="86"/>
                        </a:lnTo>
                        <a:lnTo>
                          <a:pt x="5723" y="88"/>
                        </a:lnTo>
                        <a:lnTo>
                          <a:pt x="5708" y="82"/>
                        </a:lnTo>
                        <a:lnTo>
                          <a:pt x="5663" y="71"/>
                        </a:lnTo>
                        <a:lnTo>
                          <a:pt x="5597" y="55"/>
                        </a:lnTo>
                        <a:lnTo>
                          <a:pt x="5514" y="39"/>
                        </a:lnTo>
                        <a:lnTo>
                          <a:pt x="5419" y="25"/>
                        </a:lnTo>
                        <a:lnTo>
                          <a:pt x="5314" y="17"/>
                        </a:lnTo>
                        <a:lnTo>
                          <a:pt x="5207" y="15"/>
                        </a:lnTo>
                        <a:lnTo>
                          <a:pt x="5103" y="23"/>
                        </a:lnTo>
                        <a:lnTo>
                          <a:pt x="5007" y="47"/>
                        </a:lnTo>
                        <a:lnTo>
                          <a:pt x="4923" y="86"/>
                        </a:lnTo>
                        <a:lnTo>
                          <a:pt x="4923" y="88"/>
                        </a:lnTo>
                        <a:lnTo>
                          <a:pt x="4836" y="126"/>
                        </a:lnTo>
                        <a:lnTo>
                          <a:pt x="4740" y="149"/>
                        </a:lnTo>
                        <a:lnTo>
                          <a:pt x="4636" y="159"/>
                        </a:lnTo>
                        <a:lnTo>
                          <a:pt x="4529" y="157"/>
                        </a:lnTo>
                        <a:lnTo>
                          <a:pt x="4424" y="147"/>
                        </a:lnTo>
                        <a:lnTo>
                          <a:pt x="4329" y="132"/>
                        </a:lnTo>
                        <a:lnTo>
                          <a:pt x="4246" y="116"/>
                        </a:lnTo>
                        <a:lnTo>
                          <a:pt x="4180" y="102"/>
                        </a:lnTo>
                        <a:lnTo>
                          <a:pt x="4135" y="90"/>
                        </a:lnTo>
                        <a:lnTo>
                          <a:pt x="4122" y="86"/>
                        </a:lnTo>
                        <a:lnTo>
                          <a:pt x="4122" y="88"/>
                        </a:lnTo>
                        <a:lnTo>
                          <a:pt x="4111" y="82"/>
                        </a:lnTo>
                        <a:lnTo>
                          <a:pt x="4082" y="67"/>
                        </a:lnTo>
                        <a:lnTo>
                          <a:pt x="4033" y="49"/>
                        </a:lnTo>
                        <a:lnTo>
                          <a:pt x="3971" y="31"/>
                        </a:lnTo>
                        <a:lnTo>
                          <a:pt x="3891" y="15"/>
                        </a:lnTo>
                        <a:lnTo>
                          <a:pt x="3799" y="2"/>
                        </a:lnTo>
                        <a:lnTo>
                          <a:pt x="3695" y="0"/>
                        </a:lnTo>
                        <a:lnTo>
                          <a:pt x="3579" y="13"/>
                        </a:lnTo>
                        <a:lnTo>
                          <a:pt x="3452" y="39"/>
                        </a:lnTo>
                        <a:lnTo>
                          <a:pt x="3321" y="86"/>
                        </a:lnTo>
                        <a:lnTo>
                          <a:pt x="3321" y="88"/>
                        </a:lnTo>
                        <a:lnTo>
                          <a:pt x="3185" y="132"/>
                        </a:lnTo>
                        <a:lnTo>
                          <a:pt x="3061" y="161"/>
                        </a:lnTo>
                        <a:lnTo>
                          <a:pt x="2943" y="171"/>
                        </a:lnTo>
                        <a:lnTo>
                          <a:pt x="2836" y="169"/>
                        </a:lnTo>
                        <a:lnTo>
                          <a:pt x="2743" y="159"/>
                        </a:lnTo>
                        <a:lnTo>
                          <a:pt x="2663" y="143"/>
                        </a:lnTo>
                        <a:lnTo>
                          <a:pt x="2598" y="122"/>
                        </a:lnTo>
                        <a:lnTo>
                          <a:pt x="2549" y="104"/>
                        </a:lnTo>
                        <a:lnTo>
                          <a:pt x="2518" y="92"/>
                        </a:lnTo>
                        <a:lnTo>
                          <a:pt x="2509" y="86"/>
                        </a:lnTo>
                        <a:lnTo>
                          <a:pt x="2509" y="88"/>
                        </a:lnTo>
                        <a:lnTo>
                          <a:pt x="2489" y="82"/>
                        </a:lnTo>
                        <a:lnTo>
                          <a:pt x="2440" y="69"/>
                        </a:lnTo>
                        <a:lnTo>
                          <a:pt x="2367" y="53"/>
                        </a:lnTo>
                        <a:lnTo>
                          <a:pt x="2276" y="37"/>
                        </a:lnTo>
                        <a:lnTo>
                          <a:pt x="2171" y="21"/>
                        </a:lnTo>
                        <a:lnTo>
                          <a:pt x="2064" y="13"/>
                        </a:lnTo>
                        <a:lnTo>
                          <a:pt x="1958" y="10"/>
                        </a:lnTo>
                        <a:lnTo>
                          <a:pt x="1860" y="21"/>
                        </a:lnTo>
                        <a:lnTo>
                          <a:pt x="1778" y="43"/>
                        </a:lnTo>
                        <a:lnTo>
                          <a:pt x="1720" y="86"/>
                        </a:lnTo>
                        <a:lnTo>
                          <a:pt x="1720" y="88"/>
                        </a:lnTo>
                        <a:lnTo>
                          <a:pt x="1657" y="128"/>
                        </a:lnTo>
                        <a:lnTo>
                          <a:pt x="1575" y="153"/>
                        </a:lnTo>
                        <a:lnTo>
                          <a:pt x="1477" y="163"/>
                        </a:lnTo>
                        <a:lnTo>
                          <a:pt x="1370" y="161"/>
                        </a:lnTo>
                        <a:lnTo>
                          <a:pt x="1259" y="151"/>
                        </a:lnTo>
                        <a:lnTo>
                          <a:pt x="1155" y="137"/>
                        </a:lnTo>
                        <a:lnTo>
                          <a:pt x="1061" y="118"/>
                        </a:lnTo>
                        <a:lnTo>
                          <a:pt x="986" y="102"/>
                        </a:lnTo>
                        <a:lnTo>
                          <a:pt x="937" y="90"/>
                        </a:lnTo>
                        <a:lnTo>
                          <a:pt x="919" y="86"/>
                        </a:lnTo>
                        <a:lnTo>
                          <a:pt x="919" y="88"/>
                        </a:lnTo>
                        <a:lnTo>
                          <a:pt x="903" y="82"/>
                        </a:lnTo>
                        <a:lnTo>
                          <a:pt x="861" y="67"/>
                        </a:lnTo>
                        <a:lnTo>
                          <a:pt x="794" y="49"/>
                        </a:lnTo>
                        <a:lnTo>
                          <a:pt x="712" y="31"/>
                        </a:lnTo>
                        <a:lnTo>
                          <a:pt x="619" y="15"/>
                        </a:lnTo>
                        <a:lnTo>
                          <a:pt x="514" y="2"/>
                        </a:lnTo>
                        <a:lnTo>
                          <a:pt x="407" y="0"/>
                        </a:lnTo>
                        <a:lnTo>
                          <a:pt x="303" y="13"/>
                        </a:lnTo>
                        <a:lnTo>
                          <a:pt x="205" y="39"/>
                        </a:lnTo>
                        <a:lnTo>
                          <a:pt x="118" y="86"/>
                        </a:lnTo>
                        <a:lnTo>
                          <a:pt x="118" y="88"/>
                        </a:lnTo>
                        <a:lnTo>
                          <a:pt x="51" y="155"/>
                        </a:lnTo>
                        <a:lnTo>
                          <a:pt x="14" y="238"/>
                        </a:lnTo>
                        <a:lnTo>
                          <a:pt x="0" y="334"/>
                        </a:lnTo>
                        <a:lnTo>
                          <a:pt x="3" y="433"/>
                        </a:lnTo>
                        <a:lnTo>
                          <a:pt x="18" y="535"/>
                        </a:lnTo>
                        <a:lnTo>
                          <a:pt x="40" y="629"/>
                        </a:lnTo>
                        <a:lnTo>
                          <a:pt x="67" y="712"/>
                        </a:lnTo>
                        <a:lnTo>
                          <a:pt x="92" y="779"/>
                        </a:lnTo>
                        <a:lnTo>
                          <a:pt x="109" y="822"/>
                        </a:lnTo>
                        <a:lnTo>
                          <a:pt x="118" y="838"/>
                        </a:lnTo>
                        <a:lnTo>
                          <a:pt x="118" y="840"/>
                        </a:lnTo>
                        <a:lnTo>
                          <a:pt x="123" y="846"/>
                        </a:lnTo>
                        <a:lnTo>
                          <a:pt x="136" y="864"/>
                        </a:lnTo>
                        <a:lnTo>
                          <a:pt x="156" y="899"/>
                        </a:lnTo>
                        <a:lnTo>
                          <a:pt x="174" y="948"/>
                        </a:lnTo>
                        <a:lnTo>
                          <a:pt x="192" y="1011"/>
                        </a:lnTo>
                        <a:lnTo>
                          <a:pt x="203" y="1088"/>
                        </a:lnTo>
                        <a:lnTo>
                          <a:pt x="205" y="1184"/>
                        </a:lnTo>
                        <a:lnTo>
                          <a:pt x="194" y="1295"/>
                        </a:lnTo>
                        <a:lnTo>
                          <a:pt x="165" y="1423"/>
                        </a:lnTo>
                        <a:lnTo>
                          <a:pt x="118" y="1570"/>
                        </a:lnTo>
                        <a:lnTo>
                          <a:pt x="118" y="1572"/>
                        </a:lnTo>
                        <a:lnTo>
                          <a:pt x="69" y="1716"/>
                        </a:lnTo>
                        <a:lnTo>
                          <a:pt x="40" y="1846"/>
                        </a:lnTo>
                        <a:lnTo>
                          <a:pt x="29" y="1956"/>
                        </a:lnTo>
                        <a:lnTo>
                          <a:pt x="31" y="2052"/>
                        </a:lnTo>
                        <a:lnTo>
                          <a:pt x="43" y="2131"/>
                        </a:lnTo>
                        <a:lnTo>
                          <a:pt x="60" y="2194"/>
                        </a:lnTo>
                        <a:lnTo>
                          <a:pt x="78" y="2243"/>
                        </a:lnTo>
                        <a:lnTo>
                          <a:pt x="98" y="2275"/>
                        </a:lnTo>
                        <a:lnTo>
                          <a:pt x="112" y="2296"/>
                        </a:lnTo>
                        <a:lnTo>
                          <a:pt x="118" y="2302"/>
                        </a:lnTo>
                        <a:lnTo>
                          <a:pt x="118" y="2304"/>
                        </a:lnTo>
                        <a:lnTo>
                          <a:pt x="123" y="2314"/>
                        </a:lnTo>
                        <a:lnTo>
                          <a:pt x="136" y="2344"/>
                        </a:lnTo>
                        <a:lnTo>
                          <a:pt x="154" y="2391"/>
                        </a:lnTo>
                        <a:lnTo>
                          <a:pt x="172" y="2456"/>
                        </a:lnTo>
                        <a:lnTo>
                          <a:pt x="187" y="2531"/>
                        </a:lnTo>
                        <a:lnTo>
                          <a:pt x="198" y="2621"/>
                        </a:lnTo>
                        <a:lnTo>
                          <a:pt x="201" y="2719"/>
                        </a:lnTo>
                        <a:lnTo>
                          <a:pt x="189" y="2822"/>
                        </a:lnTo>
                        <a:lnTo>
                          <a:pt x="163" y="2932"/>
                        </a:lnTo>
                        <a:lnTo>
                          <a:pt x="118" y="3044"/>
                        </a:lnTo>
                        <a:lnTo>
                          <a:pt x="118" y="3046"/>
                        </a:lnTo>
                        <a:lnTo>
                          <a:pt x="72" y="3156"/>
                        </a:lnTo>
                        <a:lnTo>
                          <a:pt x="45" y="3263"/>
                        </a:lnTo>
                        <a:lnTo>
                          <a:pt x="34" y="3367"/>
                        </a:lnTo>
                        <a:lnTo>
                          <a:pt x="36" y="3461"/>
                        </a:lnTo>
                        <a:lnTo>
                          <a:pt x="47" y="3546"/>
                        </a:lnTo>
                        <a:lnTo>
                          <a:pt x="63" y="3619"/>
                        </a:lnTo>
                        <a:lnTo>
                          <a:pt x="80" y="3680"/>
                        </a:lnTo>
                        <a:lnTo>
                          <a:pt x="98" y="3727"/>
                        </a:lnTo>
                        <a:lnTo>
                          <a:pt x="112" y="3755"/>
                        </a:lnTo>
                        <a:lnTo>
                          <a:pt x="118" y="3766"/>
                        </a:lnTo>
                        <a:lnTo>
                          <a:pt x="118" y="3768"/>
                        </a:lnTo>
                        <a:lnTo>
                          <a:pt x="123" y="3778"/>
                        </a:lnTo>
                        <a:lnTo>
                          <a:pt x="138" y="3808"/>
                        </a:lnTo>
                        <a:lnTo>
                          <a:pt x="156" y="3857"/>
                        </a:lnTo>
                        <a:lnTo>
                          <a:pt x="178" y="3922"/>
                        </a:lnTo>
                        <a:lnTo>
                          <a:pt x="196" y="3999"/>
                        </a:lnTo>
                        <a:lnTo>
                          <a:pt x="209" y="4087"/>
                        </a:lnTo>
                        <a:lnTo>
                          <a:pt x="209" y="4182"/>
                        </a:lnTo>
                        <a:lnTo>
                          <a:pt x="198" y="4286"/>
                        </a:lnTo>
                        <a:lnTo>
                          <a:pt x="169" y="4392"/>
                        </a:lnTo>
                        <a:lnTo>
                          <a:pt x="118" y="4497"/>
                        </a:lnTo>
                        <a:lnTo>
                          <a:pt x="118" y="4499"/>
                        </a:lnTo>
                        <a:lnTo>
                          <a:pt x="65" y="4605"/>
                        </a:lnTo>
                        <a:lnTo>
                          <a:pt x="36" y="4711"/>
                        </a:lnTo>
                        <a:lnTo>
                          <a:pt x="25" y="4813"/>
                        </a:lnTo>
                        <a:lnTo>
                          <a:pt x="25" y="4910"/>
                        </a:lnTo>
                        <a:lnTo>
                          <a:pt x="38" y="4998"/>
                        </a:lnTo>
                        <a:lnTo>
                          <a:pt x="56" y="5075"/>
                        </a:lnTo>
                        <a:lnTo>
                          <a:pt x="78" y="5138"/>
                        </a:lnTo>
                        <a:lnTo>
                          <a:pt x="96" y="5189"/>
                        </a:lnTo>
                        <a:lnTo>
                          <a:pt x="112" y="5219"/>
                        </a:lnTo>
                        <a:lnTo>
                          <a:pt x="118" y="5229"/>
                        </a:lnTo>
                        <a:lnTo>
                          <a:pt x="118" y="5231"/>
                        </a:lnTo>
                        <a:lnTo>
                          <a:pt x="123" y="5244"/>
                        </a:lnTo>
                        <a:lnTo>
                          <a:pt x="138" y="5282"/>
                        </a:lnTo>
                        <a:lnTo>
                          <a:pt x="156" y="5343"/>
                        </a:lnTo>
                        <a:lnTo>
                          <a:pt x="178" y="5418"/>
                        </a:lnTo>
                        <a:lnTo>
                          <a:pt x="196" y="5506"/>
                        </a:lnTo>
                        <a:lnTo>
                          <a:pt x="209" y="5601"/>
                        </a:lnTo>
                        <a:lnTo>
                          <a:pt x="209" y="5699"/>
                        </a:lnTo>
                        <a:lnTo>
                          <a:pt x="198" y="5797"/>
                        </a:lnTo>
                        <a:lnTo>
                          <a:pt x="169" y="5890"/>
                        </a:lnTo>
                        <a:lnTo>
                          <a:pt x="118" y="5971"/>
                        </a:lnTo>
                        <a:lnTo>
                          <a:pt x="118" y="5973"/>
                        </a:lnTo>
                        <a:lnTo>
                          <a:pt x="65" y="6055"/>
                        </a:lnTo>
                        <a:lnTo>
                          <a:pt x="36" y="6144"/>
                        </a:lnTo>
                        <a:lnTo>
                          <a:pt x="25" y="6240"/>
                        </a:lnTo>
                        <a:lnTo>
                          <a:pt x="25" y="6335"/>
                        </a:lnTo>
                        <a:lnTo>
                          <a:pt x="38" y="6429"/>
                        </a:lnTo>
                        <a:lnTo>
                          <a:pt x="56" y="6512"/>
                        </a:lnTo>
                        <a:lnTo>
                          <a:pt x="78" y="6585"/>
                        </a:lnTo>
                        <a:lnTo>
                          <a:pt x="96" y="6642"/>
                        </a:lnTo>
                        <a:lnTo>
                          <a:pt x="112" y="6681"/>
                        </a:lnTo>
                        <a:lnTo>
                          <a:pt x="118" y="6693"/>
                        </a:lnTo>
                        <a:lnTo>
                          <a:pt x="118" y="6695"/>
                        </a:lnTo>
                        <a:lnTo>
                          <a:pt x="123" y="6699"/>
                        </a:lnTo>
                        <a:lnTo>
                          <a:pt x="136" y="6709"/>
                        </a:lnTo>
                        <a:lnTo>
                          <a:pt x="156" y="6726"/>
                        </a:lnTo>
                        <a:lnTo>
                          <a:pt x="183" y="6748"/>
                        </a:lnTo>
                        <a:lnTo>
                          <a:pt x="212" y="6770"/>
                        </a:lnTo>
                        <a:lnTo>
                          <a:pt x="243" y="6793"/>
                        </a:lnTo>
                        <a:lnTo>
                          <a:pt x="272" y="6815"/>
                        </a:lnTo>
                        <a:lnTo>
                          <a:pt x="301" y="6835"/>
                        </a:lnTo>
                        <a:lnTo>
                          <a:pt x="325" y="6852"/>
                        </a:lnTo>
                        <a:lnTo>
                          <a:pt x="345" y="6862"/>
                        </a:lnTo>
                      </a:path>
                    </a:pathLst>
                  </a:custGeom>
                  <a:noFill/>
                  <a:ln w="0">
                    <a:solidFill>
                      <a:srgbClr val="ffff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" name=""/>
                  <p:cNvSpPr/>
                  <p:nvPr/>
                </p:nvSpPr>
                <p:spPr>
                  <a:xfrm>
                    <a:off x="3848040" y="3664800"/>
                    <a:ext cx="1921320" cy="4638960"/>
                  </a:xfrm>
                  <a:custGeom>
                    <a:avLst/>
                    <a:gdLst/>
                    <a:ahLst/>
                    <a:rect l="l" t="t" r="r" b="b"/>
                    <a:pathLst>
                      <a:path w="9039" h="6793">
                        <a:moveTo>
                          <a:pt x="93" y="88"/>
                        </a:moveTo>
                        <a:lnTo>
                          <a:pt x="102" y="82"/>
                        </a:lnTo>
                        <a:lnTo>
                          <a:pt x="129" y="69"/>
                        </a:lnTo>
                        <a:lnTo>
                          <a:pt x="175" y="53"/>
                        </a:lnTo>
                        <a:lnTo>
                          <a:pt x="238" y="37"/>
                        </a:lnTo>
                        <a:lnTo>
                          <a:pt x="315" y="21"/>
                        </a:lnTo>
                        <a:lnTo>
                          <a:pt x="409" y="13"/>
                        </a:lnTo>
                        <a:lnTo>
                          <a:pt x="516" y="10"/>
                        </a:lnTo>
                        <a:lnTo>
                          <a:pt x="638" y="21"/>
                        </a:lnTo>
                        <a:lnTo>
                          <a:pt x="769" y="43"/>
                        </a:lnTo>
                        <a:lnTo>
                          <a:pt x="916" y="86"/>
                        </a:lnTo>
                        <a:lnTo>
                          <a:pt x="916" y="88"/>
                        </a:lnTo>
                        <a:lnTo>
                          <a:pt x="1058" y="128"/>
                        </a:lnTo>
                        <a:lnTo>
                          <a:pt x="1189" y="153"/>
                        </a:lnTo>
                        <a:lnTo>
                          <a:pt x="1307" y="163"/>
                        </a:lnTo>
                        <a:lnTo>
                          <a:pt x="1412" y="161"/>
                        </a:lnTo>
                        <a:lnTo>
                          <a:pt x="1503" y="151"/>
                        </a:lnTo>
                        <a:lnTo>
                          <a:pt x="1579" y="137"/>
                        </a:lnTo>
                        <a:lnTo>
                          <a:pt x="1637" y="118"/>
                        </a:lnTo>
                        <a:lnTo>
                          <a:pt x="1681" y="102"/>
                        </a:lnTo>
                        <a:lnTo>
                          <a:pt x="1706" y="90"/>
                        </a:lnTo>
                        <a:lnTo>
                          <a:pt x="1717" y="86"/>
                        </a:lnTo>
                        <a:lnTo>
                          <a:pt x="1717" y="88"/>
                        </a:lnTo>
                        <a:lnTo>
                          <a:pt x="1730" y="82"/>
                        </a:lnTo>
                        <a:lnTo>
                          <a:pt x="1768" y="71"/>
                        </a:lnTo>
                        <a:lnTo>
                          <a:pt x="1828" y="57"/>
                        </a:lnTo>
                        <a:lnTo>
                          <a:pt x="1903" y="43"/>
                        </a:lnTo>
                        <a:lnTo>
                          <a:pt x="1995" y="29"/>
                        </a:lnTo>
                        <a:lnTo>
                          <a:pt x="2095" y="21"/>
                        </a:lnTo>
                        <a:lnTo>
                          <a:pt x="2202" y="19"/>
                        </a:lnTo>
                        <a:lnTo>
                          <a:pt x="2308" y="27"/>
                        </a:lnTo>
                        <a:lnTo>
                          <a:pt x="2415" y="49"/>
                        </a:lnTo>
                        <a:lnTo>
                          <a:pt x="2517" y="86"/>
                        </a:lnTo>
                        <a:lnTo>
                          <a:pt x="2517" y="88"/>
                        </a:lnTo>
                        <a:lnTo>
                          <a:pt x="2617" y="124"/>
                        </a:lnTo>
                        <a:lnTo>
                          <a:pt x="2724" y="145"/>
                        </a:lnTo>
                        <a:lnTo>
                          <a:pt x="2831" y="153"/>
                        </a:lnTo>
                        <a:lnTo>
                          <a:pt x="2938" y="153"/>
                        </a:lnTo>
                        <a:lnTo>
                          <a:pt x="3038" y="143"/>
                        </a:lnTo>
                        <a:lnTo>
                          <a:pt x="3129" y="130"/>
                        </a:lnTo>
                        <a:lnTo>
                          <a:pt x="3205" y="114"/>
                        </a:lnTo>
                        <a:lnTo>
                          <a:pt x="3265" y="100"/>
                        </a:lnTo>
                        <a:lnTo>
                          <a:pt x="3303" y="90"/>
                        </a:lnTo>
                        <a:lnTo>
                          <a:pt x="3318" y="86"/>
                        </a:lnTo>
                        <a:lnTo>
                          <a:pt x="3318" y="88"/>
                        </a:lnTo>
                        <a:lnTo>
                          <a:pt x="3331" y="82"/>
                        </a:lnTo>
                        <a:lnTo>
                          <a:pt x="3376" y="71"/>
                        </a:lnTo>
                        <a:lnTo>
                          <a:pt x="3443" y="55"/>
                        </a:lnTo>
                        <a:lnTo>
                          <a:pt x="3525" y="39"/>
                        </a:lnTo>
                        <a:lnTo>
                          <a:pt x="3621" y="25"/>
                        </a:lnTo>
                        <a:lnTo>
                          <a:pt x="3725" y="17"/>
                        </a:lnTo>
                        <a:lnTo>
                          <a:pt x="3832" y="15"/>
                        </a:lnTo>
                        <a:lnTo>
                          <a:pt x="3936" y="23"/>
                        </a:lnTo>
                        <a:lnTo>
                          <a:pt x="4032" y="47"/>
                        </a:lnTo>
                        <a:lnTo>
                          <a:pt x="4119" y="86"/>
                        </a:lnTo>
                        <a:lnTo>
                          <a:pt x="4119" y="88"/>
                        </a:lnTo>
                        <a:lnTo>
                          <a:pt x="4203" y="126"/>
                        </a:lnTo>
                        <a:lnTo>
                          <a:pt x="4299" y="149"/>
                        </a:lnTo>
                        <a:lnTo>
                          <a:pt x="4404" y="159"/>
                        </a:lnTo>
                        <a:lnTo>
                          <a:pt x="4510" y="157"/>
                        </a:lnTo>
                        <a:lnTo>
                          <a:pt x="4615" y="147"/>
                        </a:lnTo>
                        <a:lnTo>
                          <a:pt x="4710" y="132"/>
                        </a:lnTo>
                        <a:lnTo>
                          <a:pt x="4793" y="116"/>
                        </a:lnTo>
                        <a:lnTo>
                          <a:pt x="4860" y="102"/>
                        </a:lnTo>
                        <a:lnTo>
                          <a:pt x="4904" y="90"/>
                        </a:lnTo>
                        <a:lnTo>
                          <a:pt x="4920" y="86"/>
                        </a:lnTo>
                        <a:lnTo>
                          <a:pt x="4920" y="88"/>
                        </a:lnTo>
                        <a:lnTo>
                          <a:pt x="4928" y="82"/>
                        </a:lnTo>
                        <a:lnTo>
                          <a:pt x="4957" y="67"/>
                        </a:lnTo>
                        <a:lnTo>
                          <a:pt x="5006" y="49"/>
                        </a:lnTo>
                        <a:lnTo>
                          <a:pt x="5069" y="31"/>
                        </a:lnTo>
                        <a:lnTo>
                          <a:pt x="5149" y="15"/>
                        </a:lnTo>
                        <a:lnTo>
                          <a:pt x="5240" y="2"/>
                        </a:lnTo>
                        <a:lnTo>
                          <a:pt x="5344" y="0"/>
                        </a:lnTo>
                        <a:lnTo>
                          <a:pt x="5460" y="13"/>
                        </a:lnTo>
                        <a:lnTo>
                          <a:pt x="5587" y="39"/>
                        </a:lnTo>
                        <a:lnTo>
                          <a:pt x="5720" y="86"/>
                        </a:lnTo>
                        <a:lnTo>
                          <a:pt x="5720" y="88"/>
                        </a:lnTo>
                        <a:lnTo>
                          <a:pt x="5854" y="132"/>
                        </a:lnTo>
                        <a:lnTo>
                          <a:pt x="5978" y="161"/>
                        </a:lnTo>
                        <a:lnTo>
                          <a:pt x="6096" y="171"/>
                        </a:lnTo>
                        <a:lnTo>
                          <a:pt x="6203" y="169"/>
                        </a:lnTo>
                        <a:lnTo>
                          <a:pt x="6296" y="159"/>
                        </a:lnTo>
                        <a:lnTo>
                          <a:pt x="6376" y="143"/>
                        </a:lnTo>
                        <a:lnTo>
                          <a:pt x="6441" y="122"/>
                        </a:lnTo>
                        <a:lnTo>
                          <a:pt x="6490" y="104"/>
                        </a:lnTo>
                        <a:lnTo>
                          <a:pt x="6521" y="92"/>
                        </a:lnTo>
                        <a:lnTo>
                          <a:pt x="6532" y="86"/>
                        </a:lnTo>
                        <a:lnTo>
                          <a:pt x="6532" y="88"/>
                        </a:lnTo>
                        <a:lnTo>
                          <a:pt x="6550" y="82"/>
                        </a:lnTo>
                        <a:lnTo>
                          <a:pt x="6599" y="69"/>
                        </a:lnTo>
                        <a:lnTo>
                          <a:pt x="6672" y="53"/>
                        </a:lnTo>
                        <a:lnTo>
                          <a:pt x="6763" y="37"/>
                        </a:lnTo>
                        <a:lnTo>
                          <a:pt x="6868" y="21"/>
                        </a:lnTo>
                        <a:lnTo>
                          <a:pt x="6975" y="13"/>
                        </a:lnTo>
                        <a:lnTo>
                          <a:pt x="7082" y="10"/>
                        </a:lnTo>
                        <a:lnTo>
                          <a:pt x="7179" y="21"/>
                        </a:lnTo>
                        <a:lnTo>
                          <a:pt x="7262" y="43"/>
                        </a:lnTo>
                        <a:lnTo>
                          <a:pt x="7322" y="86"/>
                        </a:lnTo>
                        <a:lnTo>
                          <a:pt x="7322" y="88"/>
                        </a:lnTo>
                        <a:lnTo>
                          <a:pt x="7382" y="128"/>
                        </a:lnTo>
                        <a:lnTo>
                          <a:pt x="7464" y="153"/>
                        </a:lnTo>
                        <a:lnTo>
                          <a:pt x="7562" y="163"/>
                        </a:lnTo>
                        <a:lnTo>
                          <a:pt x="7669" y="161"/>
                        </a:lnTo>
                        <a:lnTo>
                          <a:pt x="7780" y="151"/>
                        </a:lnTo>
                        <a:lnTo>
                          <a:pt x="7884" y="137"/>
                        </a:lnTo>
                        <a:lnTo>
                          <a:pt x="7978" y="118"/>
                        </a:lnTo>
                        <a:lnTo>
                          <a:pt x="8054" y="102"/>
                        </a:lnTo>
                        <a:lnTo>
                          <a:pt x="8102" y="90"/>
                        </a:lnTo>
                        <a:lnTo>
                          <a:pt x="8122" y="86"/>
                        </a:lnTo>
                        <a:lnTo>
                          <a:pt x="8122" y="88"/>
                        </a:lnTo>
                        <a:lnTo>
                          <a:pt x="8136" y="82"/>
                        </a:lnTo>
                        <a:lnTo>
                          <a:pt x="8178" y="67"/>
                        </a:lnTo>
                        <a:lnTo>
                          <a:pt x="8245" y="49"/>
                        </a:lnTo>
                        <a:lnTo>
                          <a:pt x="8327" y="31"/>
                        </a:lnTo>
                        <a:lnTo>
                          <a:pt x="8423" y="15"/>
                        </a:lnTo>
                        <a:lnTo>
                          <a:pt x="8525" y="2"/>
                        </a:lnTo>
                        <a:lnTo>
                          <a:pt x="8632" y="0"/>
                        </a:lnTo>
                        <a:lnTo>
                          <a:pt x="8736" y="13"/>
                        </a:lnTo>
                        <a:lnTo>
                          <a:pt x="8834" y="39"/>
                        </a:lnTo>
                        <a:lnTo>
                          <a:pt x="8923" y="86"/>
                        </a:lnTo>
                        <a:lnTo>
                          <a:pt x="8923" y="88"/>
                        </a:lnTo>
                        <a:lnTo>
                          <a:pt x="8988" y="155"/>
                        </a:lnTo>
                        <a:lnTo>
                          <a:pt x="9026" y="238"/>
                        </a:lnTo>
                        <a:lnTo>
                          <a:pt x="9039" y="334"/>
                        </a:lnTo>
                        <a:lnTo>
                          <a:pt x="9037" y="433"/>
                        </a:lnTo>
                        <a:lnTo>
                          <a:pt x="9023" y="535"/>
                        </a:lnTo>
                        <a:lnTo>
                          <a:pt x="8999" y="629"/>
                        </a:lnTo>
                        <a:lnTo>
                          <a:pt x="8972" y="712"/>
                        </a:lnTo>
                        <a:lnTo>
                          <a:pt x="8948" y="779"/>
                        </a:lnTo>
                        <a:lnTo>
                          <a:pt x="8930" y="822"/>
                        </a:lnTo>
                        <a:lnTo>
                          <a:pt x="8923" y="838"/>
                        </a:lnTo>
                        <a:lnTo>
                          <a:pt x="8923" y="840"/>
                        </a:lnTo>
                        <a:lnTo>
                          <a:pt x="8917" y="846"/>
                        </a:lnTo>
                        <a:lnTo>
                          <a:pt x="8903" y="864"/>
                        </a:lnTo>
                        <a:lnTo>
                          <a:pt x="8883" y="899"/>
                        </a:lnTo>
                        <a:lnTo>
                          <a:pt x="8865" y="948"/>
                        </a:lnTo>
                        <a:lnTo>
                          <a:pt x="8848" y="1011"/>
                        </a:lnTo>
                        <a:lnTo>
                          <a:pt x="8836" y="1088"/>
                        </a:lnTo>
                        <a:lnTo>
                          <a:pt x="8834" y="1184"/>
                        </a:lnTo>
                        <a:lnTo>
                          <a:pt x="8845" y="1295"/>
                        </a:lnTo>
                        <a:lnTo>
                          <a:pt x="8874" y="1423"/>
                        </a:lnTo>
                        <a:lnTo>
                          <a:pt x="8923" y="1570"/>
                        </a:lnTo>
                        <a:lnTo>
                          <a:pt x="8923" y="1572"/>
                        </a:lnTo>
                        <a:lnTo>
                          <a:pt x="8970" y="1716"/>
                        </a:lnTo>
                        <a:lnTo>
                          <a:pt x="8999" y="1846"/>
                        </a:lnTo>
                        <a:lnTo>
                          <a:pt x="9010" y="1956"/>
                        </a:lnTo>
                        <a:lnTo>
                          <a:pt x="9008" y="2052"/>
                        </a:lnTo>
                        <a:lnTo>
                          <a:pt x="8997" y="2131"/>
                        </a:lnTo>
                        <a:lnTo>
                          <a:pt x="8979" y="2194"/>
                        </a:lnTo>
                        <a:lnTo>
                          <a:pt x="8961" y="2243"/>
                        </a:lnTo>
                        <a:lnTo>
                          <a:pt x="8941" y="2275"/>
                        </a:lnTo>
                        <a:lnTo>
                          <a:pt x="8928" y="2296"/>
                        </a:lnTo>
                        <a:lnTo>
                          <a:pt x="8923" y="2302"/>
                        </a:lnTo>
                        <a:lnTo>
                          <a:pt x="8923" y="2304"/>
                        </a:lnTo>
                        <a:lnTo>
                          <a:pt x="8917" y="2314"/>
                        </a:lnTo>
                        <a:lnTo>
                          <a:pt x="8903" y="2344"/>
                        </a:lnTo>
                        <a:lnTo>
                          <a:pt x="8885" y="2391"/>
                        </a:lnTo>
                        <a:lnTo>
                          <a:pt x="8868" y="2456"/>
                        </a:lnTo>
                        <a:lnTo>
                          <a:pt x="8852" y="2531"/>
                        </a:lnTo>
                        <a:lnTo>
                          <a:pt x="8841" y="2621"/>
                        </a:lnTo>
                        <a:lnTo>
                          <a:pt x="8839" y="2719"/>
                        </a:lnTo>
                        <a:lnTo>
                          <a:pt x="8850" y="2822"/>
                        </a:lnTo>
                        <a:lnTo>
                          <a:pt x="8877" y="2932"/>
                        </a:lnTo>
                        <a:lnTo>
                          <a:pt x="8923" y="3044"/>
                        </a:lnTo>
                        <a:lnTo>
                          <a:pt x="8923" y="3046"/>
                        </a:lnTo>
                        <a:lnTo>
                          <a:pt x="8968" y="3156"/>
                        </a:lnTo>
                        <a:lnTo>
                          <a:pt x="8994" y="3263"/>
                        </a:lnTo>
                        <a:lnTo>
                          <a:pt x="9006" y="3367"/>
                        </a:lnTo>
                        <a:lnTo>
                          <a:pt x="9003" y="3461"/>
                        </a:lnTo>
                        <a:lnTo>
                          <a:pt x="8992" y="3546"/>
                        </a:lnTo>
                        <a:lnTo>
                          <a:pt x="8977" y="3619"/>
                        </a:lnTo>
                        <a:lnTo>
                          <a:pt x="8959" y="3680"/>
                        </a:lnTo>
                        <a:lnTo>
                          <a:pt x="8941" y="3727"/>
                        </a:lnTo>
                        <a:lnTo>
                          <a:pt x="8928" y="3755"/>
                        </a:lnTo>
                        <a:lnTo>
                          <a:pt x="8923" y="3766"/>
                        </a:lnTo>
                        <a:lnTo>
                          <a:pt x="8923" y="3768"/>
                        </a:lnTo>
                        <a:lnTo>
                          <a:pt x="8917" y="3778"/>
                        </a:lnTo>
                        <a:lnTo>
                          <a:pt x="8901" y="3808"/>
                        </a:lnTo>
                        <a:lnTo>
                          <a:pt x="8883" y="3857"/>
                        </a:lnTo>
                        <a:lnTo>
                          <a:pt x="8861" y="3922"/>
                        </a:lnTo>
                        <a:lnTo>
                          <a:pt x="8843" y="3999"/>
                        </a:lnTo>
                        <a:lnTo>
                          <a:pt x="8830" y="4087"/>
                        </a:lnTo>
                        <a:lnTo>
                          <a:pt x="8830" y="4182"/>
                        </a:lnTo>
                        <a:lnTo>
                          <a:pt x="8841" y="4286"/>
                        </a:lnTo>
                        <a:lnTo>
                          <a:pt x="8870" y="4392"/>
                        </a:lnTo>
                        <a:lnTo>
                          <a:pt x="8923" y="4497"/>
                        </a:lnTo>
                        <a:lnTo>
                          <a:pt x="8923" y="4499"/>
                        </a:lnTo>
                        <a:lnTo>
                          <a:pt x="8974" y="4605"/>
                        </a:lnTo>
                        <a:lnTo>
                          <a:pt x="9003" y="4711"/>
                        </a:lnTo>
                        <a:lnTo>
                          <a:pt x="9014" y="4813"/>
                        </a:lnTo>
                        <a:lnTo>
                          <a:pt x="9014" y="4910"/>
                        </a:lnTo>
                        <a:lnTo>
                          <a:pt x="9001" y="4998"/>
                        </a:lnTo>
                        <a:lnTo>
                          <a:pt x="8983" y="5075"/>
                        </a:lnTo>
                        <a:lnTo>
                          <a:pt x="8961" y="5138"/>
                        </a:lnTo>
                        <a:lnTo>
                          <a:pt x="8943" y="5189"/>
                        </a:lnTo>
                        <a:lnTo>
                          <a:pt x="8928" y="5219"/>
                        </a:lnTo>
                        <a:lnTo>
                          <a:pt x="8923" y="5229"/>
                        </a:lnTo>
                        <a:lnTo>
                          <a:pt x="8923" y="5231"/>
                        </a:lnTo>
                        <a:lnTo>
                          <a:pt x="8917" y="5244"/>
                        </a:lnTo>
                        <a:lnTo>
                          <a:pt x="8901" y="5282"/>
                        </a:lnTo>
                        <a:lnTo>
                          <a:pt x="8883" y="5343"/>
                        </a:lnTo>
                        <a:lnTo>
                          <a:pt x="8861" y="5418"/>
                        </a:lnTo>
                        <a:lnTo>
                          <a:pt x="8843" y="5506"/>
                        </a:lnTo>
                        <a:lnTo>
                          <a:pt x="8830" y="5601"/>
                        </a:lnTo>
                        <a:lnTo>
                          <a:pt x="8830" y="5699"/>
                        </a:lnTo>
                        <a:lnTo>
                          <a:pt x="8841" y="5797"/>
                        </a:lnTo>
                        <a:lnTo>
                          <a:pt x="8870" y="5890"/>
                        </a:lnTo>
                        <a:lnTo>
                          <a:pt x="8923" y="5971"/>
                        </a:lnTo>
                        <a:lnTo>
                          <a:pt x="8923" y="5973"/>
                        </a:lnTo>
                        <a:lnTo>
                          <a:pt x="8974" y="6055"/>
                        </a:lnTo>
                        <a:lnTo>
                          <a:pt x="9003" y="6144"/>
                        </a:lnTo>
                        <a:lnTo>
                          <a:pt x="9014" y="6240"/>
                        </a:lnTo>
                        <a:lnTo>
                          <a:pt x="9014" y="6335"/>
                        </a:lnTo>
                        <a:lnTo>
                          <a:pt x="9001" y="6429"/>
                        </a:lnTo>
                        <a:lnTo>
                          <a:pt x="8983" y="6512"/>
                        </a:lnTo>
                        <a:lnTo>
                          <a:pt x="8961" y="6585"/>
                        </a:lnTo>
                        <a:lnTo>
                          <a:pt x="8943" y="6642"/>
                        </a:lnTo>
                        <a:lnTo>
                          <a:pt x="8928" y="6681"/>
                        </a:lnTo>
                        <a:lnTo>
                          <a:pt x="8923" y="6693"/>
                        </a:lnTo>
                        <a:lnTo>
                          <a:pt x="8923" y="6695"/>
                        </a:lnTo>
                        <a:lnTo>
                          <a:pt x="8912" y="6699"/>
                        </a:lnTo>
                        <a:lnTo>
                          <a:pt x="8881" y="6716"/>
                        </a:lnTo>
                        <a:lnTo>
                          <a:pt x="8832" y="6734"/>
                        </a:lnTo>
                        <a:lnTo>
                          <a:pt x="8765" y="6756"/>
                        </a:lnTo>
                        <a:lnTo>
                          <a:pt x="8685" y="6774"/>
                        </a:lnTo>
                        <a:lnTo>
                          <a:pt x="8590" y="6787"/>
                        </a:lnTo>
                        <a:lnTo>
                          <a:pt x="8485" y="6789"/>
                        </a:lnTo>
                        <a:lnTo>
                          <a:pt x="8372" y="6774"/>
                        </a:lnTo>
                        <a:lnTo>
                          <a:pt x="8249" y="6746"/>
                        </a:lnTo>
                        <a:lnTo>
                          <a:pt x="8122" y="6693"/>
                        </a:lnTo>
                        <a:lnTo>
                          <a:pt x="8122" y="6695"/>
                        </a:lnTo>
                        <a:lnTo>
                          <a:pt x="7993" y="6642"/>
                        </a:lnTo>
                        <a:lnTo>
                          <a:pt x="7871" y="6612"/>
                        </a:lnTo>
                        <a:lnTo>
                          <a:pt x="7758" y="6600"/>
                        </a:lnTo>
                        <a:lnTo>
                          <a:pt x="7653" y="6602"/>
                        </a:lnTo>
                        <a:lnTo>
                          <a:pt x="7558" y="6614"/>
                        </a:lnTo>
                        <a:lnTo>
                          <a:pt x="7477" y="6632"/>
                        </a:lnTo>
                        <a:lnTo>
                          <a:pt x="7411" y="6652"/>
                        </a:lnTo>
                        <a:lnTo>
                          <a:pt x="7362" y="6673"/>
                        </a:lnTo>
                        <a:lnTo>
                          <a:pt x="7331" y="6687"/>
                        </a:lnTo>
                        <a:lnTo>
                          <a:pt x="7322" y="6693"/>
                        </a:lnTo>
                        <a:lnTo>
                          <a:pt x="7322" y="6695"/>
                        </a:lnTo>
                        <a:lnTo>
                          <a:pt x="7308" y="6699"/>
                        </a:lnTo>
                        <a:lnTo>
                          <a:pt x="7271" y="6713"/>
                        </a:lnTo>
                        <a:lnTo>
                          <a:pt x="7215" y="6732"/>
                        </a:lnTo>
                        <a:lnTo>
                          <a:pt x="7142" y="6752"/>
                        </a:lnTo>
                        <a:lnTo>
                          <a:pt x="7055" y="6770"/>
                        </a:lnTo>
                        <a:lnTo>
                          <a:pt x="6955" y="6781"/>
                        </a:lnTo>
                        <a:lnTo>
                          <a:pt x="6850" y="6783"/>
                        </a:lnTo>
                        <a:lnTo>
                          <a:pt x="6739" y="6772"/>
                        </a:lnTo>
                        <a:lnTo>
                          <a:pt x="6628" y="6742"/>
                        </a:lnTo>
                        <a:lnTo>
                          <a:pt x="6521" y="6693"/>
                        </a:lnTo>
                        <a:lnTo>
                          <a:pt x="6521" y="6695"/>
                        </a:lnTo>
                        <a:lnTo>
                          <a:pt x="6412" y="6644"/>
                        </a:lnTo>
                        <a:lnTo>
                          <a:pt x="6301" y="6616"/>
                        </a:lnTo>
                        <a:lnTo>
                          <a:pt x="6190" y="6604"/>
                        </a:lnTo>
                        <a:lnTo>
                          <a:pt x="6085" y="6606"/>
                        </a:lnTo>
                        <a:lnTo>
                          <a:pt x="5987" y="6618"/>
                        </a:lnTo>
                        <a:lnTo>
                          <a:pt x="5898" y="6634"/>
                        </a:lnTo>
                        <a:lnTo>
                          <a:pt x="5825" y="6655"/>
                        </a:lnTo>
                        <a:lnTo>
                          <a:pt x="5769" y="6675"/>
                        </a:lnTo>
                        <a:lnTo>
                          <a:pt x="5731" y="6687"/>
                        </a:lnTo>
                        <a:lnTo>
                          <a:pt x="5720" y="6693"/>
                        </a:lnTo>
                        <a:lnTo>
                          <a:pt x="5720" y="6695"/>
                        </a:lnTo>
                        <a:lnTo>
                          <a:pt x="5705" y="6699"/>
                        </a:lnTo>
                        <a:lnTo>
                          <a:pt x="5667" y="6711"/>
                        </a:lnTo>
                        <a:lnTo>
                          <a:pt x="5609" y="6728"/>
                        </a:lnTo>
                        <a:lnTo>
                          <a:pt x="5533" y="6746"/>
                        </a:lnTo>
                        <a:lnTo>
                          <a:pt x="5444" y="6762"/>
                        </a:lnTo>
                        <a:lnTo>
                          <a:pt x="5344" y="6772"/>
                        </a:lnTo>
                        <a:lnTo>
                          <a:pt x="5238" y="6774"/>
                        </a:lnTo>
                        <a:lnTo>
                          <a:pt x="5131" y="6764"/>
                        </a:lnTo>
                        <a:lnTo>
                          <a:pt x="5022" y="6738"/>
                        </a:lnTo>
                        <a:lnTo>
                          <a:pt x="4920" y="6693"/>
                        </a:lnTo>
                        <a:lnTo>
                          <a:pt x="4920" y="6695"/>
                        </a:lnTo>
                        <a:lnTo>
                          <a:pt x="4815" y="6650"/>
                        </a:lnTo>
                        <a:lnTo>
                          <a:pt x="4706" y="6624"/>
                        </a:lnTo>
                        <a:lnTo>
                          <a:pt x="4599" y="6614"/>
                        </a:lnTo>
                        <a:lnTo>
                          <a:pt x="4493" y="6614"/>
                        </a:lnTo>
                        <a:lnTo>
                          <a:pt x="4392" y="6624"/>
                        </a:lnTo>
                        <a:lnTo>
                          <a:pt x="4303" y="6640"/>
                        </a:lnTo>
                        <a:lnTo>
                          <a:pt x="4228" y="6659"/>
                        </a:lnTo>
                        <a:lnTo>
                          <a:pt x="4170" y="6677"/>
                        </a:lnTo>
                        <a:lnTo>
                          <a:pt x="4132" y="6689"/>
                        </a:lnTo>
                        <a:lnTo>
                          <a:pt x="4119" y="6693"/>
                        </a:lnTo>
                        <a:lnTo>
                          <a:pt x="4119" y="6695"/>
                        </a:lnTo>
                        <a:lnTo>
                          <a:pt x="4108" y="6699"/>
                        </a:lnTo>
                        <a:lnTo>
                          <a:pt x="4074" y="6716"/>
                        </a:lnTo>
                        <a:lnTo>
                          <a:pt x="4025" y="6736"/>
                        </a:lnTo>
                        <a:lnTo>
                          <a:pt x="3959" y="6758"/>
                        </a:lnTo>
                        <a:lnTo>
                          <a:pt x="3876" y="6779"/>
                        </a:lnTo>
                        <a:lnTo>
                          <a:pt x="3781" y="6791"/>
                        </a:lnTo>
                        <a:lnTo>
                          <a:pt x="3676" y="6793"/>
                        </a:lnTo>
                        <a:lnTo>
                          <a:pt x="3563" y="6779"/>
                        </a:lnTo>
                        <a:lnTo>
                          <a:pt x="3443" y="6748"/>
                        </a:lnTo>
                        <a:lnTo>
                          <a:pt x="3318" y="6693"/>
                        </a:lnTo>
                        <a:lnTo>
                          <a:pt x="3318" y="6695"/>
                        </a:lnTo>
                        <a:lnTo>
                          <a:pt x="3191" y="6640"/>
                        </a:lnTo>
                        <a:lnTo>
                          <a:pt x="3071" y="6608"/>
                        </a:lnTo>
                        <a:lnTo>
                          <a:pt x="2958" y="6596"/>
                        </a:lnTo>
                        <a:lnTo>
                          <a:pt x="2853" y="6598"/>
                        </a:lnTo>
                        <a:lnTo>
                          <a:pt x="2758" y="6610"/>
                        </a:lnTo>
                        <a:lnTo>
                          <a:pt x="2678" y="6628"/>
                        </a:lnTo>
                        <a:lnTo>
                          <a:pt x="2609" y="6650"/>
                        </a:lnTo>
                        <a:lnTo>
                          <a:pt x="2560" y="6673"/>
                        </a:lnTo>
                        <a:lnTo>
                          <a:pt x="2526" y="6687"/>
                        </a:lnTo>
                        <a:lnTo>
                          <a:pt x="2517" y="6693"/>
                        </a:lnTo>
                        <a:lnTo>
                          <a:pt x="2517" y="6695"/>
                        </a:lnTo>
                        <a:lnTo>
                          <a:pt x="2506" y="6699"/>
                        </a:lnTo>
                        <a:lnTo>
                          <a:pt x="2477" y="6713"/>
                        </a:lnTo>
                        <a:lnTo>
                          <a:pt x="2433" y="6732"/>
                        </a:lnTo>
                        <a:lnTo>
                          <a:pt x="2371" y="6750"/>
                        </a:lnTo>
                        <a:lnTo>
                          <a:pt x="2293" y="6768"/>
                        </a:lnTo>
                        <a:lnTo>
                          <a:pt x="2202" y="6779"/>
                        </a:lnTo>
                        <a:lnTo>
                          <a:pt x="2097" y="6781"/>
                        </a:lnTo>
                        <a:lnTo>
                          <a:pt x="1979" y="6768"/>
                        </a:lnTo>
                        <a:lnTo>
                          <a:pt x="1852" y="6742"/>
                        </a:lnTo>
                        <a:lnTo>
                          <a:pt x="1714" y="6693"/>
                        </a:lnTo>
                        <a:lnTo>
                          <a:pt x="1714" y="6695"/>
                        </a:lnTo>
                        <a:lnTo>
                          <a:pt x="1603" y="6657"/>
                        </a:lnTo>
                        <a:lnTo>
                          <a:pt x="1490" y="6636"/>
                        </a:lnTo>
                        <a:lnTo>
                          <a:pt x="1381" y="6626"/>
                        </a:lnTo>
                        <a:lnTo>
                          <a:pt x="1274" y="6628"/>
                        </a:lnTo>
                        <a:lnTo>
                          <a:pt x="1178" y="6636"/>
                        </a:lnTo>
                        <a:lnTo>
                          <a:pt x="1092" y="6650"/>
                        </a:lnTo>
                        <a:lnTo>
                          <a:pt x="1018" y="6665"/>
                        </a:lnTo>
                        <a:lnTo>
                          <a:pt x="963" y="6679"/>
                        </a:lnTo>
                        <a:lnTo>
                          <a:pt x="927" y="6689"/>
                        </a:lnTo>
                        <a:lnTo>
                          <a:pt x="916" y="6693"/>
                        </a:lnTo>
                        <a:lnTo>
                          <a:pt x="916" y="6695"/>
                        </a:lnTo>
                        <a:lnTo>
                          <a:pt x="898" y="6699"/>
                        </a:lnTo>
                        <a:lnTo>
                          <a:pt x="849" y="6711"/>
                        </a:lnTo>
                        <a:lnTo>
                          <a:pt x="778" y="6728"/>
                        </a:lnTo>
                        <a:lnTo>
                          <a:pt x="687" y="6746"/>
                        </a:lnTo>
                        <a:lnTo>
                          <a:pt x="582" y="6762"/>
                        </a:lnTo>
                        <a:lnTo>
                          <a:pt x="473" y="6772"/>
                        </a:lnTo>
                        <a:lnTo>
                          <a:pt x="362" y="6774"/>
                        </a:lnTo>
                        <a:lnTo>
                          <a:pt x="258" y="6764"/>
                        </a:lnTo>
                        <a:lnTo>
                          <a:pt x="166" y="6738"/>
                        </a:lnTo>
                        <a:lnTo>
                          <a:pt x="93" y="6693"/>
                        </a:lnTo>
                        <a:lnTo>
                          <a:pt x="93" y="6695"/>
                        </a:lnTo>
                        <a:lnTo>
                          <a:pt x="40" y="6628"/>
                        </a:lnTo>
                        <a:lnTo>
                          <a:pt x="11" y="6547"/>
                        </a:lnTo>
                        <a:lnTo>
                          <a:pt x="0" y="6455"/>
                        </a:lnTo>
                        <a:lnTo>
                          <a:pt x="0" y="6358"/>
                        </a:lnTo>
                        <a:lnTo>
                          <a:pt x="13" y="6258"/>
                        </a:lnTo>
                        <a:lnTo>
                          <a:pt x="31" y="6167"/>
                        </a:lnTo>
                        <a:lnTo>
                          <a:pt x="53" y="6085"/>
                        </a:lnTo>
                        <a:lnTo>
                          <a:pt x="71" y="6020"/>
                        </a:lnTo>
                        <a:lnTo>
                          <a:pt x="86" y="5978"/>
                        </a:lnTo>
                        <a:lnTo>
                          <a:pt x="93" y="5961"/>
                        </a:lnTo>
                        <a:lnTo>
                          <a:pt x="93" y="5963"/>
                        </a:lnTo>
                        <a:lnTo>
                          <a:pt x="97" y="5951"/>
                        </a:lnTo>
                        <a:lnTo>
                          <a:pt x="108" y="5919"/>
                        </a:lnTo>
                        <a:lnTo>
                          <a:pt x="126" y="5870"/>
                        </a:lnTo>
                        <a:lnTo>
                          <a:pt x="144" y="5805"/>
                        </a:lnTo>
                        <a:lnTo>
                          <a:pt x="160" y="5725"/>
                        </a:lnTo>
                        <a:lnTo>
                          <a:pt x="169" y="5636"/>
                        </a:lnTo>
                        <a:lnTo>
                          <a:pt x="171" y="5540"/>
                        </a:lnTo>
                        <a:lnTo>
                          <a:pt x="160" y="5439"/>
                        </a:lnTo>
                        <a:lnTo>
                          <a:pt x="135" y="5335"/>
                        </a:lnTo>
                        <a:lnTo>
                          <a:pt x="93" y="5229"/>
                        </a:lnTo>
                        <a:lnTo>
                          <a:pt x="93" y="5231"/>
                        </a:lnTo>
                        <a:lnTo>
                          <a:pt x="48" y="5126"/>
                        </a:lnTo>
                        <a:lnTo>
                          <a:pt x="24" y="5022"/>
                        </a:lnTo>
                        <a:lnTo>
                          <a:pt x="13" y="4920"/>
                        </a:lnTo>
                        <a:lnTo>
                          <a:pt x="15" y="4823"/>
                        </a:lnTo>
                        <a:lnTo>
                          <a:pt x="26" y="4733"/>
                        </a:lnTo>
                        <a:lnTo>
                          <a:pt x="40" y="4656"/>
                        </a:lnTo>
                        <a:lnTo>
                          <a:pt x="57" y="4591"/>
                        </a:lnTo>
                        <a:lnTo>
                          <a:pt x="75" y="4540"/>
                        </a:lnTo>
                        <a:lnTo>
                          <a:pt x="86" y="4510"/>
                        </a:lnTo>
                        <a:lnTo>
                          <a:pt x="93" y="4497"/>
                        </a:lnTo>
                        <a:lnTo>
                          <a:pt x="93" y="4499"/>
                        </a:lnTo>
                        <a:lnTo>
                          <a:pt x="97" y="4487"/>
                        </a:lnTo>
                        <a:lnTo>
                          <a:pt x="108" y="4453"/>
                        </a:lnTo>
                        <a:lnTo>
                          <a:pt x="124" y="4402"/>
                        </a:lnTo>
                        <a:lnTo>
                          <a:pt x="140" y="4335"/>
                        </a:lnTo>
                        <a:lnTo>
                          <a:pt x="155" y="4253"/>
                        </a:lnTo>
                        <a:lnTo>
                          <a:pt x="164" y="4164"/>
                        </a:lnTo>
                        <a:lnTo>
                          <a:pt x="166" y="4068"/>
                        </a:lnTo>
                        <a:lnTo>
                          <a:pt x="155" y="3967"/>
                        </a:lnTo>
                        <a:lnTo>
                          <a:pt x="133" y="3865"/>
                        </a:lnTo>
                        <a:lnTo>
                          <a:pt x="93" y="3766"/>
                        </a:lnTo>
                        <a:lnTo>
                          <a:pt x="93" y="3768"/>
                        </a:lnTo>
                        <a:lnTo>
                          <a:pt x="51" y="3666"/>
                        </a:lnTo>
                        <a:lnTo>
                          <a:pt x="28" y="3564"/>
                        </a:lnTo>
                        <a:lnTo>
                          <a:pt x="17" y="3465"/>
                        </a:lnTo>
                        <a:lnTo>
                          <a:pt x="20" y="3367"/>
                        </a:lnTo>
                        <a:lnTo>
                          <a:pt x="28" y="3278"/>
                        </a:lnTo>
                        <a:lnTo>
                          <a:pt x="44" y="3198"/>
                        </a:lnTo>
                        <a:lnTo>
                          <a:pt x="60" y="3131"/>
                        </a:lnTo>
                        <a:lnTo>
                          <a:pt x="75" y="3078"/>
                        </a:lnTo>
                        <a:lnTo>
                          <a:pt x="86" y="3046"/>
                        </a:lnTo>
                        <a:lnTo>
                          <a:pt x="93" y="3034"/>
                        </a:lnTo>
                        <a:lnTo>
                          <a:pt x="93" y="3036"/>
                        </a:lnTo>
                        <a:lnTo>
                          <a:pt x="95" y="3023"/>
                        </a:lnTo>
                        <a:lnTo>
                          <a:pt x="106" y="2991"/>
                        </a:lnTo>
                        <a:lnTo>
                          <a:pt x="122" y="2940"/>
                        </a:lnTo>
                        <a:lnTo>
                          <a:pt x="137" y="2873"/>
                        </a:lnTo>
                        <a:lnTo>
                          <a:pt x="151" y="2794"/>
                        </a:lnTo>
                        <a:lnTo>
                          <a:pt x="160" y="2704"/>
                        </a:lnTo>
                        <a:lnTo>
                          <a:pt x="160" y="2609"/>
                        </a:lnTo>
                        <a:lnTo>
                          <a:pt x="151" y="2507"/>
                        </a:lnTo>
                        <a:lnTo>
                          <a:pt x="131" y="2403"/>
                        </a:lnTo>
                        <a:lnTo>
                          <a:pt x="93" y="2302"/>
                        </a:lnTo>
                        <a:lnTo>
                          <a:pt x="93" y="2304"/>
                        </a:lnTo>
                        <a:lnTo>
                          <a:pt x="53" y="2200"/>
                        </a:lnTo>
                        <a:lnTo>
                          <a:pt x="33" y="2098"/>
                        </a:lnTo>
                        <a:lnTo>
                          <a:pt x="24" y="1997"/>
                        </a:lnTo>
                        <a:lnTo>
                          <a:pt x="24" y="1899"/>
                        </a:lnTo>
                        <a:lnTo>
                          <a:pt x="33" y="1810"/>
                        </a:lnTo>
                        <a:lnTo>
                          <a:pt x="46" y="1730"/>
                        </a:lnTo>
                        <a:lnTo>
                          <a:pt x="62" y="1665"/>
                        </a:lnTo>
                        <a:lnTo>
                          <a:pt x="77" y="1615"/>
                        </a:lnTo>
                        <a:lnTo>
                          <a:pt x="88" y="1582"/>
                        </a:lnTo>
                        <a:lnTo>
                          <a:pt x="93" y="1570"/>
                        </a:lnTo>
                        <a:lnTo>
                          <a:pt x="93" y="1572"/>
                        </a:lnTo>
                        <a:lnTo>
                          <a:pt x="97" y="1558"/>
                        </a:lnTo>
                        <a:lnTo>
                          <a:pt x="108" y="1519"/>
                        </a:lnTo>
                        <a:lnTo>
                          <a:pt x="126" y="1458"/>
                        </a:lnTo>
                        <a:lnTo>
                          <a:pt x="144" y="1383"/>
                        </a:lnTo>
                        <a:lnTo>
                          <a:pt x="160" y="1295"/>
                        </a:lnTo>
                        <a:lnTo>
                          <a:pt x="169" y="1202"/>
                        </a:lnTo>
                        <a:lnTo>
                          <a:pt x="171" y="1104"/>
                        </a:lnTo>
                        <a:lnTo>
                          <a:pt x="160" y="1009"/>
                        </a:lnTo>
                        <a:lnTo>
                          <a:pt x="135" y="917"/>
                        </a:lnTo>
                        <a:lnTo>
                          <a:pt x="93" y="838"/>
                        </a:lnTo>
                        <a:lnTo>
                          <a:pt x="93" y="840"/>
                        </a:lnTo>
                        <a:lnTo>
                          <a:pt x="48" y="759"/>
                        </a:lnTo>
                        <a:lnTo>
                          <a:pt x="20" y="667"/>
                        </a:lnTo>
                        <a:lnTo>
                          <a:pt x="4" y="570"/>
                        </a:lnTo>
                        <a:lnTo>
                          <a:pt x="2" y="472"/>
                        </a:lnTo>
                        <a:lnTo>
                          <a:pt x="8" y="374"/>
                        </a:lnTo>
                        <a:lnTo>
                          <a:pt x="22" y="285"/>
                        </a:lnTo>
                        <a:lnTo>
                          <a:pt x="40" y="208"/>
                        </a:lnTo>
                        <a:lnTo>
                          <a:pt x="57" y="145"/>
                        </a:lnTo>
                        <a:lnTo>
                          <a:pt x="75" y="102"/>
                        </a:lnTo>
                        <a:lnTo>
                          <a:pt x="93" y="86"/>
                        </a:lnTo>
                      </a:path>
                    </a:pathLst>
                  </a:custGeom>
                  <a:noFill/>
                  <a:ln w="0">
                    <a:solidFill>
                      <a:srgbClr val="ff00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>
                    <a:off x="4788360" y="3746520"/>
                    <a:ext cx="203040" cy="342720"/>
                  </a:xfrm>
                  <a:custGeom>
                    <a:avLst/>
                    <a:gdLst/>
                    <a:ahLst/>
                    <a:rect l="l" t="t" r="r" b="b"/>
                    <a:pathLst>
                      <a:path w="956" h="502">
                        <a:moveTo>
                          <a:pt x="278" y="4"/>
                        </a:moveTo>
                        <a:lnTo>
                          <a:pt x="309" y="0"/>
                        </a:lnTo>
                        <a:lnTo>
                          <a:pt x="342" y="2"/>
                        </a:lnTo>
                        <a:lnTo>
                          <a:pt x="373" y="6"/>
                        </a:lnTo>
                        <a:lnTo>
                          <a:pt x="404" y="12"/>
                        </a:lnTo>
                        <a:lnTo>
                          <a:pt x="433" y="21"/>
                        </a:lnTo>
                        <a:lnTo>
                          <a:pt x="462" y="31"/>
                        </a:lnTo>
                        <a:lnTo>
                          <a:pt x="489" y="45"/>
                        </a:lnTo>
                        <a:lnTo>
                          <a:pt x="516" y="59"/>
                        </a:lnTo>
                        <a:lnTo>
                          <a:pt x="540" y="78"/>
                        </a:lnTo>
                        <a:lnTo>
                          <a:pt x="565" y="96"/>
                        </a:lnTo>
                        <a:lnTo>
                          <a:pt x="565" y="98"/>
                        </a:lnTo>
                        <a:lnTo>
                          <a:pt x="582" y="112"/>
                        </a:lnTo>
                        <a:lnTo>
                          <a:pt x="600" y="126"/>
                        </a:lnTo>
                        <a:lnTo>
                          <a:pt x="618" y="141"/>
                        </a:lnTo>
                        <a:lnTo>
                          <a:pt x="638" y="153"/>
                        </a:lnTo>
                        <a:lnTo>
                          <a:pt x="656" y="167"/>
                        </a:lnTo>
                        <a:lnTo>
                          <a:pt x="674" y="181"/>
                        </a:lnTo>
                        <a:lnTo>
                          <a:pt x="691" y="197"/>
                        </a:lnTo>
                        <a:lnTo>
                          <a:pt x="709" y="214"/>
                        </a:lnTo>
                        <a:lnTo>
                          <a:pt x="727" y="230"/>
                        </a:lnTo>
                        <a:lnTo>
                          <a:pt x="742" y="250"/>
                        </a:lnTo>
                        <a:lnTo>
                          <a:pt x="742" y="252"/>
                        </a:lnTo>
                        <a:lnTo>
                          <a:pt x="758" y="271"/>
                        </a:lnTo>
                        <a:lnTo>
                          <a:pt x="776" y="287"/>
                        </a:lnTo>
                        <a:lnTo>
                          <a:pt x="798" y="303"/>
                        </a:lnTo>
                        <a:lnTo>
                          <a:pt x="818" y="317"/>
                        </a:lnTo>
                        <a:lnTo>
                          <a:pt x="843" y="330"/>
                        </a:lnTo>
                        <a:lnTo>
                          <a:pt x="865" y="344"/>
                        </a:lnTo>
                        <a:lnTo>
                          <a:pt x="889" y="356"/>
                        </a:lnTo>
                        <a:lnTo>
                          <a:pt x="911" y="368"/>
                        </a:lnTo>
                        <a:lnTo>
                          <a:pt x="934" y="382"/>
                        </a:lnTo>
                        <a:lnTo>
                          <a:pt x="956" y="399"/>
                        </a:lnTo>
                        <a:lnTo>
                          <a:pt x="956" y="401"/>
                        </a:lnTo>
                        <a:lnTo>
                          <a:pt x="938" y="391"/>
                        </a:lnTo>
                        <a:lnTo>
                          <a:pt x="920" y="385"/>
                        </a:lnTo>
                        <a:lnTo>
                          <a:pt x="900" y="378"/>
                        </a:lnTo>
                        <a:lnTo>
                          <a:pt x="883" y="376"/>
                        </a:lnTo>
                        <a:lnTo>
                          <a:pt x="863" y="376"/>
                        </a:lnTo>
                        <a:lnTo>
                          <a:pt x="843" y="374"/>
                        </a:lnTo>
                        <a:lnTo>
                          <a:pt x="825" y="374"/>
                        </a:lnTo>
                        <a:lnTo>
                          <a:pt x="805" y="374"/>
                        </a:lnTo>
                        <a:lnTo>
                          <a:pt x="785" y="372"/>
                        </a:lnTo>
                        <a:lnTo>
                          <a:pt x="767" y="368"/>
                        </a:lnTo>
                        <a:lnTo>
                          <a:pt x="767" y="370"/>
                        </a:lnTo>
                        <a:lnTo>
                          <a:pt x="774" y="395"/>
                        </a:lnTo>
                        <a:lnTo>
                          <a:pt x="782" y="421"/>
                        </a:lnTo>
                        <a:lnTo>
                          <a:pt x="791" y="446"/>
                        </a:lnTo>
                        <a:lnTo>
                          <a:pt x="798" y="472"/>
                        </a:lnTo>
                        <a:lnTo>
                          <a:pt x="800" y="500"/>
                        </a:lnTo>
                        <a:lnTo>
                          <a:pt x="800" y="502"/>
                        </a:lnTo>
                        <a:lnTo>
                          <a:pt x="776" y="464"/>
                        </a:lnTo>
                        <a:lnTo>
                          <a:pt x="749" y="431"/>
                        </a:lnTo>
                        <a:lnTo>
                          <a:pt x="720" y="399"/>
                        </a:lnTo>
                        <a:lnTo>
                          <a:pt x="689" y="368"/>
                        </a:lnTo>
                        <a:lnTo>
                          <a:pt x="656" y="340"/>
                        </a:lnTo>
                        <a:lnTo>
                          <a:pt x="622" y="313"/>
                        </a:lnTo>
                        <a:lnTo>
                          <a:pt x="587" y="285"/>
                        </a:lnTo>
                        <a:lnTo>
                          <a:pt x="551" y="260"/>
                        </a:lnTo>
                        <a:lnTo>
                          <a:pt x="513" y="234"/>
                        </a:lnTo>
                        <a:lnTo>
                          <a:pt x="476" y="208"/>
                        </a:lnTo>
                        <a:lnTo>
                          <a:pt x="476" y="210"/>
                        </a:lnTo>
                        <a:lnTo>
                          <a:pt x="431" y="179"/>
                        </a:lnTo>
                        <a:lnTo>
                          <a:pt x="387" y="157"/>
                        </a:lnTo>
                        <a:lnTo>
                          <a:pt x="340" y="134"/>
                        </a:lnTo>
                        <a:lnTo>
                          <a:pt x="293" y="118"/>
                        </a:lnTo>
                        <a:lnTo>
                          <a:pt x="244" y="104"/>
                        </a:lnTo>
                        <a:lnTo>
                          <a:pt x="195" y="90"/>
                        </a:lnTo>
                        <a:lnTo>
                          <a:pt x="146" y="78"/>
                        </a:lnTo>
                        <a:lnTo>
                          <a:pt x="97" y="67"/>
                        </a:lnTo>
                        <a:lnTo>
                          <a:pt x="48" y="55"/>
                        </a:lnTo>
                        <a:lnTo>
                          <a:pt x="0" y="43"/>
                        </a:lnTo>
                        <a:lnTo>
                          <a:pt x="278" y="4"/>
                        </a:lnTo>
                        <a:close/>
                      </a:path>
                    </a:pathLst>
                  </a:custGeom>
                  <a:solidFill>
                    <a:srgbClr val="fefefe"/>
                  </a:solidFill>
                  <a:ln w="0">
                    <a:solidFill>
                      <a:srgbClr val="ff00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" name=""/>
                  <p:cNvSpPr/>
                  <p:nvPr/>
                </p:nvSpPr>
                <p:spPr>
                  <a:xfrm>
                    <a:off x="4788360" y="3746520"/>
                    <a:ext cx="203040" cy="342720"/>
                  </a:xfrm>
                  <a:custGeom>
                    <a:avLst/>
                    <a:gdLst/>
                    <a:ahLst/>
                    <a:rect l="l" t="t" r="r" b="b"/>
                    <a:pathLst>
                      <a:path w="956" h="502">
                        <a:moveTo>
                          <a:pt x="278" y="4"/>
                        </a:moveTo>
                        <a:lnTo>
                          <a:pt x="309" y="0"/>
                        </a:lnTo>
                        <a:lnTo>
                          <a:pt x="342" y="2"/>
                        </a:lnTo>
                        <a:lnTo>
                          <a:pt x="373" y="6"/>
                        </a:lnTo>
                        <a:lnTo>
                          <a:pt x="404" y="12"/>
                        </a:lnTo>
                        <a:lnTo>
                          <a:pt x="433" y="21"/>
                        </a:lnTo>
                        <a:lnTo>
                          <a:pt x="462" y="31"/>
                        </a:lnTo>
                        <a:lnTo>
                          <a:pt x="489" y="45"/>
                        </a:lnTo>
                        <a:lnTo>
                          <a:pt x="516" y="59"/>
                        </a:lnTo>
                        <a:lnTo>
                          <a:pt x="540" y="78"/>
                        </a:lnTo>
                        <a:lnTo>
                          <a:pt x="565" y="96"/>
                        </a:lnTo>
                        <a:lnTo>
                          <a:pt x="565" y="98"/>
                        </a:lnTo>
                        <a:lnTo>
                          <a:pt x="582" y="112"/>
                        </a:lnTo>
                        <a:lnTo>
                          <a:pt x="600" y="126"/>
                        </a:lnTo>
                        <a:lnTo>
                          <a:pt x="618" y="141"/>
                        </a:lnTo>
                        <a:lnTo>
                          <a:pt x="638" y="153"/>
                        </a:lnTo>
                        <a:lnTo>
                          <a:pt x="656" y="167"/>
                        </a:lnTo>
                        <a:lnTo>
                          <a:pt x="674" y="181"/>
                        </a:lnTo>
                        <a:lnTo>
                          <a:pt x="691" y="197"/>
                        </a:lnTo>
                        <a:lnTo>
                          <a:pt x="709" y="214"/>
                        </a:lnTo>
                        <a:lnTo>
                          <a:pt x="727" y="230"/>
                        </a:lnTo>
                        <a:lnTo>
                          <a:pt x="742" y="250"/>
                        </a:lnTo>
                        <a:lnTo>
                          <a:pt x="742" y="252"/>
                        </a:lnTo>
                        <a:lnTo>
                          <a:pt x="758" y="271"/>
                        </a:lnTo>
                        <a:lnTo>
                          <a:pt x="776" y="287"/>
                        </a:lnTo>
                        <a:lnTo>
                          <a:pt x="798" y="303"/>
                        </a:lnTo>
                        <a:lnTo>
                          <a:pt x="818" y="317"/>
                        </a:lnTo>
                        <a:lnTo>
                          <a:pt x="843" y="330"/>
                        </a:lnTo>
                        <a:lnTo>
                          <a:pt x="865" y="344"/>
                        </a:lnTo>
                        <a:lnTo>
                          <a:pt x="889" y="356"/>
                        </a:lnTo>
                        <a:lnTo>
                          <a:pt x="911" y="368"/>
                        </a:lnTo>
                        <a:lnTo>
                          <a:pt x="934" y="382"/>
                        </a:lnTo>
                        <a:lnTo>
                          <a:pt x="956" y="399"/>
                        </a:lnTo>
                        <a:lnTo>
                          <a:pt x="956" y="401"/>
                        </a:lnTo>
                        <a:lnTo>
                          <a:pt x="938" y="391"/>
                        </a:lnTo>
                        <a:lnTo>
                          <a:pt x="920" y="385"/>
                        </a:lnTo>
                        <a:lnTo>
                          <a:pt x="900" y="378"/>
                        </a:lnTo>
                        <a:lnTo>
                          <a:pt x="883" y="376"/>
                        </a:lnTo>
                        <a:lnTo>
                          <a:pt x="863" y="376"/>
                        </a:lnTo>
                        <a:lnTo>
                          <a:pt x="843" y="374"/>
                        </a:lnTo>
                        <a:lnTo>
                          <a:pt x="825" y="374"/>
                        </a:lnTo>
                        <a:lnTo>
                          <a:pt x="805" y="374"/>
                        </a:lnTo>
                        <a:lnTo>
                          <a:pt x="785" y="372"/>
                        </a:lnTo>
                        <a:lnTo>
                          <a:pt x="767" y="368"/>
                        </a:lnTo>
                        <a:lnTo>
                          <a:pt x="767" y="370"/>
                        </a:lnTo>
                        <a:lnTo>
                          <a:pt x="774" y="395"/>
                        </a:lnTo>
                        <a:lnTo>
                          <a:pt x="782" y="421"/>
                        </a:lnTo>
                        <a:lnTo>
                          <a:pt x="791" y="446"/>
                        </a:lnTo>
                        <a:lnTo>
                          <a:pt x="798" y="472"/>
                        </a:lnTo>
                        <a:lnTo>
                          <a:pt x="800" y="500"/>
                        </a:lnTo>
                        <a:lnTo>
                          <a:pt x="800" y="502"/>
                        </a:lnTo>
                        <a:lnTo>
                          <a:pt x="776" y="464"/>
                        </a:lnTo>
                        <a:lnTo>
                          <a:pt x="749" y="431"/>
                        </a:lnTo>
                        <a:lnTo>
                          <a:pt x="720" y="399"/>
                        </a:lnTo>
                        <a:lnTo>
                          <a:pt x="689" y="368"/>
                        </a:lnTo>
                        <a:lnTo>
                          <a:pt x="656" y="340"/>
                        </a:lnTo>
                        <a:lnTo>
                          <a:pt x="622" y="313"/>
                        </a:lnTo>
                        <a:lnTo>
                          <a:pt x="587" y="285"/>
                        </a:lnTo>
                        <a:lnTo>
                          <a:pt x="551" y="260"/>
                        </a:lnTo>
                        <a:lnTo>
                          <a:pt x="513" y="234"/>
                        </a:lnTo>
                        <a:lnTo>
                          <a:pt x="476" y="208"/>
                        </a:lnTo>
                        <a:lnTo>
                          <a:pt x="476" y="210"/>
                        </a:lnTo>
                        <a:lnTo>
                          <a:pt x="431" y="179"/>
                        </a:lnTo>
                        <a:lnTo>
                          <a:pt x="387" y="157"/>
                        </a:lnTo>
                        <a:lnTo>
                          <a:pt x="340" y="134"/>
                        </a:lnTo>
                        <a:lnTo>
                          <a:pt x="293" y="118"/>
                        </a:lnTo>
                        <a:lnTo>
                          <a:pt x="244" y="104"/>
                        </a:lnTo>
                        <a:lnTo>
                          <a:pt x="195" y="90"/>
                        </a:lnTo>
                        <a:lnTo>
                          <a:pt x="146" y="78"/>
                        </a:lnTo>
                        <a:lnTo>
                          <a:pt x="97" y="67"/>
                        </a:lnTo>
                        <a:lnTo>
                          <a:pt x="48" y="55"/>
                        </a:lnTo>
                        <a:lnTo>
                          <a:pt x="0" y="43"/>
                        </a:lnTo>
                      </a:path>
                    </a:pathLst>
                  </a:custGeom>
                  <a:solidFill>
                    <a:srgbClr val="ff0066"/>
                  </a:solidFill>
                  <a:ln w="0">
                    <a:solidFill>
                      <a:srgbClr val="ff00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" name=""/>
                  <p:cNvSpPr/>
                  <p:nvPr/>
                </p:nvSpPr>
                <p:spPr>
                  <a:xfrm>
                    <a:off x="4540320" y="3715200"/>
                    <a:ext cx="240840" cy="214920"/>
                  </a:xfrm>
                  <a:custGeom>
                    <a:avLst/>
                    <a:gdLst/>
                    <a:ahLst/>
                    <a:rect l="l" t="t" r="r" b="b"/>
                    <a:pathLst>
                      <a:path w="1134" h="315">
                        <a:moveTo>
                          <a:pt x="845" y="0"/>
                        </a:moveTo>
                        <a:lnTo>
                          <a:pt x="787" y="0"/>
                        </a:lnTo>
                        <a:lnTo>
                          <a:pt x="729" y="4"/>
                        </a:lnTo>
                        <a:lnTo>
                          <a:pt x="674" y="14"/>
                        </a:lnTo>
                        <a:lnTo>
                          <a:pt x="618" y="28"/>
                        </a:lnTo>
                        <a:lnTo>
                          <a:pt x="565" y="44"/>
                        </a:lnTo>
                        <a:lnTo>
                          <a:pt x="511" y="63"/>
                        </a:lnTo>
                        <a:lnTo>
                          <a:pt x="458" y="83"/>
                        </a:lnTo>
                        <a:lnTo>
                          <a:pt x="405" y="103"/>
                        </a:lnTo>
                        <a:lnTo>
                          <a:pt x="351" y="124"/>
                        </a:lnTo>
                        <a:lnTo>
                          <a:pt x="298" y="144"/>
                        </a:lnTo>
                        <a:lnTo>
                          <a:pt x="298" y="146"/>
                        </a:lnTo>
                        <a:lnTo>
                          <a:pt x="269" y="154"/>
                        </a:lnTo>
                        <a:lnTo>
                          <a:pt x="240" y="162"/>
                        </a:lnTo>
                        <a:lnTo>
                          <a:pt x="211" y="168"/>
                        </a:lnTo>
                        <a:lnTo>
                          <a:pt x="182" y="174"/>
                        </a:lnTo>
                        <a:lnTo>
                          <a:pt x="151" y="178"/>
                        </a:lnTo>
                        <a:lnTo>
                          <a:pt x="122" y="180"/>
                        </a:lnTo>
                        <a:lnTo>
                          <a:pt x="91" y="182"/>
                        </a:lnTo>
                        <a:lnTo>
                          <a:pt x="62" y="182"/>
                        </a:lnTo>
                        <a:lnTo>
                          <a:pt x="31" y="182"/>
                        </a:lnTo>
                        <a:lnTo>
                          <a:pt x="0" y="180"/>
                        </a:lnTo>
                        <a:lnTo>
                          <a:pt x="0" y="182"/>
                        </a:lnTo>
                        <a:lnTo>
                          <a:pt x="38" y="180"/>
                        </a:lnTo>
                        <a:lnTo>
                          <a:pt x="75" y="180"/>
                        </a:lnTo>
                        <a:lnTo>
                          <a:pt x="113" y="180"/>
                        </a:lnTo>
                        <a:lnTo>
                          <a:pt x="151" y="180"/>
                        </a:lnTo>
                        <a:lnTo>
                          <a:pt x="189" y="180"/>
                        </a:lnTo>
                        <a:lnTo>
                          <a:pt x="227" y="180"/>
                        </a:lnTo>
                        <a:lnTo>
                          <a:pt x="265" y="180"/>
                        </a:lnTo>
                        <a:lnTo>
                          <a:pt x="302" y="180"/>
                        </a:lnTo>
                        <a:lnTo>
                          <a:pt x="340" y="180"/>
                        </a:lnTo>
                        <a:lnTo>
                          <a:pt x="378" y="180"/>
                        </a:lnTo>
                        <a:lnTo>
                          <a:pt x="378" y="182"/>
                        </a:lnTo>
                        <a:lnTo>
                          <a:pt x="349" y="213"/>
                        </a:lnTo>
                        <a:lnTo>
                          <a:pt x="320" y="241"/>
                        </a:lnTo>
                        <a:lnTo>
                          <a:pt x="285" y="268"/>
                        </a:lnTo>
                        <a:lnTo>
                          <a:pt x="249" y="290"/>
                        </a:lnTo>
                        <a:lnTo>
                          <a:pt x="211" y="313"/>
                        </a:lnTo>
                        <a:lnTo>
                          <a:pt x="211" y="315"/>
                        </a:lnTo>
                        <a:lnTo>
                          <a:pt x="233" y="306"/>
                        </a:lnTo>
                        <a:lnTo>
                          <a:pt x="258" y="302"/>
                        </a:lnTo>
                        <a:lnTo>
                          <a:pt x="282" y="296"/>
                        </a:lnTo>
                        <a:lnTo>
                          <a:pt x="305" y="292"/>
                        </a:lnTo>
                        <a:lnTo>
                          <a:pt x="329" y="288"/>
                        </a:lnTo>
                        <a:lnTo>
                          <a:pt x="353" y="282"/>
                        </a:lnTo>
                        <a:lnTo>
                          <a:pt x="376" y="276"/>
                        </a:lnTo>
                        <a:lnTo>
                          <a:pt x="398" y="268"/>
                        </a:lnTo>
                        <a:lnTo>
                          <a:pt x="420" y="258"/>
                        </a:lnTo>
                        <a:lnTo>
                          <a:pt x="442" y="248"/>
                        </a:lnTo>
                        <a:lnTo>
                          <a:pt x="442" y="250"/>
                        </a:lnTo>
                        <a:lnTo>
                          <a:pt x="505" y="213"/>
                        </a:lnTo>
                        <a:lnTo>
                          <a:pt x="571" y="182"/>
                        </a:lnTo>
                        <a:lnTo>
                          <a:pt x="640" y="156"/>
                        </a:lnTo>
                        <a:lnTo>
                          <a:pt x="709" y="134"/>
                        </a:lnTo>
                        <a:lnTo>
                          <a:pt x="778" y="115"/>
                        </a:lnTo>
                        <a:lnTo>
                          <a:pt x="849" y="101"/>
                        </a:lnTo>
                        <a:lnTo>
                          <a:pt x="921" y="93"/>
                        </a:lnTo>
                        <a:lnTo>
                          <a:pt x="992" y="87"/>
                        </a:lnTo>
                        <a:lnTo>
                          <a:pt x="1063" y="85"/>
                        </a:lnTo>
                        <a:lnTo>
                          <a:pt x="1134" y="89"/>
                        </a:lnTo>
                        <a:lnTo>
                          <a:pt x="845" y="0"/>
                        </a:lnTo>
                        <a:close/>
                      </a:path>
                    </a:pathLst>
                  </a:custGeom>
                  <a:solidFill>
                    <a:srgbClr val="fefefe"/>
                  </a:solidFill>
                  <a:ln w="0">
                    <a:solidFill>
                      <a:srgbClr val="ff00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>
                    <a:off x="4540320" y="3715200"/>
                    <a:ext cx="240840" cy="214920"/>
                  </a:xfrm>
                  <a:custGeom>
                    <a:avLst/>
                    <a:gdLst/>
                    <a:ahLst/>
                    <a:rect l="l" t="t" r="r" b="b"/>
                    <a:pathLst>
                      <a:path w="1134" h="315">
                        <a:moveTo>
                          <a:pt x="845" y="0"/>
                        </a:moveTo>
                        <a:lnTo>
                          <a:pt x="787" y="0"/>
                        </a:lnTo>
                        <a:lnTo>
                          <a:pt x="729" y="4"/>
                        </a:lnTo>
                        <a:lnTo>
                          <a:pt x="674" y="14"/>
                        </a:lnTo>
                        <a:lnTo>
                          <a:pt x="618" y="28"/>
                        </a:lnTo>
                        <a:lnTo>
                          <a:pt x="565" y="44"/>
                        </a:lnTo>
                        <a:lnTo>
                          <a:pt x="511" y="63"/>
                        </a:lnTo>
                        <a:lnTo>
                          <a:pt x="458" y="83"/>
                        </a:lnTo>
                        <a:lnTo>
                          <a:pt x="405" y="103"/>
                        </a:lnTo>
                        <a:lnTo>
                          <a:pt x="351" y="124"/>
                        </a:lnTo>
                        <a:lnTo>
                          <a:pt x="298" y="144"/>
                        </a:lnTo>
                        <a:lnTo>
                          <a:pt x="298" y="146"/>
                        </a:lnTo>
                        <a:lnTo>
                          <a:pt x="269" y="154"/>
                        </a:lnTo>
                        <a:lnTo>
                          <a:pt x="240" y="162"/>
                        </a:lnTo>
                        <a:lnTo>
                          <a:pt x="211" y="168"/>
                        </a:lnTo>
                        <a:lnTo>
                          <a:pt x="182" y="174"/>
                        </a:lnTo>
                        <a:lnTo>
                          <a:pt x="151" y="178"/>
                        </a:lnTo>
                        <a:lnTo>
                          <a:pt x="122" y="180"/>
                        </a:lnTo>
                        <a:lnTo>
                          <a:pt x="91" y="182"/>
                        </a:lnTo>
                        <a:lnTo>
                          <a:pt x="62" y="182"/>
                        </a:lnTo>
                        <a:lnTo>
                          <a:pt x="31" y="182"/>
                        </a:lnTo>
                        <a:lnTo>
                          <a:pt x="0" y="180"/>
                        </a:lnTo>
                        <a:lnTo>
                          <a:pt x="0" y="182"/>
                        </a:lnTo>
                        <a:lnTo>
                          <a:pt x="38" y="180"/>
                        </a:lnTo>
                        <a:lnTo>
                          <a:pt x="75" y="180"/>
                        </a:lnTo>
                        <a:lnTo>
                          <a:pt x="113" y="180"/>
                        </a:lnTo>
                        <a:lnTo>
                          <a:pt x="151" y="180"/>
                        </a:lnTo>
                        <a:lnTo>
                          <a:pt x="189" y="180"/>
                        </a:lnTo>
                        <a:lnTo>
                          <a:pt x="227" y="180"/>
                        </a:lnTo>
                        <a:lnTo>
                          <a:pt x="265" y="180"/>
                        </a:lnTo>
                        <a:lnTo>
                          <a:pt x="302" y="180"/>
                        </a:lnTo>
                        <a:lnTo>
                          <a:pt x="340" y="180"/>
                        </a:lnTo>
                        <a:lnTo>
                          <a:pt x="378" y="180"/>
                        </a:lnTo>
                        <a:lnTo>
                          <a:pt x="378" y="182"/>
                        </a:lnTo>
                        <a:lnTo>
                          <a:pt x="349" y="213"/>
                        </a:lnTo>
                        <a:lnTo>
                          <a:pt x="320" y="241"/>
                        </a:lnTo>
                        <a:lnTo>
                          <a:pt x="285" y="268"/>
                        </a:lnTo>
                        <a:lnTo>
                          <a:pt x="249" y="290"/>
                        </a:lnTo>
                        <a:lnTo>
                          <a:pt x="211" y="313"/>
                        </a:lnTo>
                        <a:lnTo>
                          <a:pt x="211" y="315"/>
                        </a:lnTo>
                        <a:lnTo>
                          <a:pt x="233" y="306"/>
                        </a:lnTo>
                        <a:lnTo>
                          <a:pt x="258" y="302"/>
                        </a:lnTo>
                        <a:lnTo>
                          <a:pt x="282" y="296"/>
                        </a:lnTo>
                        <a:lnTo>
                          <a:pt x="305" y="292"/>
                        </a:lnTo>
                        <a:lnTo>
                          <a:pt x="329" y="288"/>
                        </a:lnTo>
                        <a:lnTo>
                          <a:pt x="353" y="282"/>
                        </a:lnTo>
                        <a:lnTo>
                          <a:pt x="376" y="276"/>
                        </a:lnTo>
                        <a:lnTo>
                          <a:pt x="398" y="268"/>
                        </a:lnTo>
                        <a:lnTo>
                          <a:pt x="420" y="258"/>
                        </a:lnTo>
                        <a:lnTo>
                          <a:pt x="442" y="248"/>
                        </a:lnTo>
                        <a:lnTo>
                          <a:pt x="442" y="250"/>
                        </a:lnTo>
                        <a:lnTo>
                          <a:pt x="505" y="213"/>
                        </a:lnTo>
                        <a:lnTo>
                          <a:pt x="571" y="182"/>
                        </a:lnTo>
                        <a:lnTo>
                          <a:pt x="640" y="156"/>
                        </a:lnTo>
                        <a:lnTo>
                          <a:pt x="709" y="134"/>
                        </a:lnTo>
                        <a:lnTo>
                          <a:pt x="778" y="115"/>
                        </a:lnTo>
                        <a:lnTo>
                          <a:pt x="849" y="101"/>
                        </a:lnTo>
                        <a:lnTo>
                          <a:pt x="921" y="93"/>
                        </a:lnTo>
                        <a:lnTo>
                          <a:pt x="992" y="87"/>
                        </a:lnTo>
                        <a:lnTo>
                          <a:pt x="1063" y="85"/>
                        </a:lnTo>
                        <a:lnTo>
                          <a:pt x="1134" y="89"/>
                        </a:lnTo>
                      </a:path>
                    </a:pathLst>
                  </a:custGeom>
                  <a:solidFill>
                    <a:srgbClr val="ff0066"/>
                  </a:solidFill>
                  <a:ln w="0">
                    <a:solidFill>
                      <a:srgbClr val="ff00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" name=""/>
                  <p:cNvSpPr/>
                  <p:nvPr/>
                </p:nvSpPr>
                <p:spPr>
                  <a:xfrm>
                    <a:off x="4790160" y="3470760"/>
                    <a:ext cx="137880" cy="331560"/>
                  </a:xfrm>
                  <a:custGeom>
                    <a:avLst/>
                    <a:gdLst/>
                    <a:ahLst/>
                    <a:rect l="l" t="t" r="r" b="b"/>
                    <a:pathLst>
                      <a:path w="650" h="486">
                        <a:moveTo>
                          <a:pt x="58" y="276"/>
                        </a:moveTo>
                        <a:lnTo>
                          <a:pt x="54" y="262"/>
                        </a:lnTo>
                        <a:lnTo>
                          <a:pt x="58" y="254"/>
                        </a:lnTo>
                        <a:lnTo>
                          <a:pt x="69" y="248"/>
                        </a:lnTo>
                        <a:lnTo>
                          <a:pt x="78" y="242"/>
                        </a:lnTo>
                        <a:lnTo>
                          <a:pt x="87" y="238"/>
                        </a:lnTo>
                        <a:lnTo>
                          <a:pt x="87" y="240"/>
                        </a:lnTo>
                        <a:lnTo>
                          <a:pt x="105" y="215"/>
                        </a:lnTo>
                        <a:lnTo>
                          <a:pt x="125" y="195"/>
                        </a:lnTo>
                        <a:lnTo>
                          <a:pt x="145" y="177"/>
                        </a:lnTo>
                        <a:lnTo>
                          <a:pt x="169" y="160"/>
                        </a:lnTo>
                        <a:lnTo>
                          <a:pt x="194" y="146"/>
                        </a:lnTo>
                        <a:lnTo>
                          <a:pt x="194" y="148"/>
                        </a:lnTo>
                        <a:lnTo>
                          <a:pt x="227" y="128"/>
                        </a:lnTo>
                        <a:lnTo>
                          <a:pt x="261" y="105"/>
                        </a:lnTo>
                        <a:lnTo>
                          <a:pt x="294" y="83"/>
                        </a:lnTo>
                        <a:lnTo>
                          <a:pt x="327" y="63"/>
                        </a:lnTo>
                        <a:lnTo>
                          <a:pt x="361" y="42"/>
                        </a:lnTo>
                        <a:lnTo>
                          <a:pt x="394" y="26"/>
                        </a:lnTo>
                        <a:lnTo>
                          <a:pt x="430" y="12"/>
                        </a:lnTo>
                        <a:lnTo>
                          <a:pt x="468" y="4"/>
                        </a:lnTo>
                        <a:lnTo>
                          <a:pt x="505" y="0"/>
                        </a:lnTo>
                        <a:lnTo>
                          <a:pt x="545" y="6"/>
                        </a:lnTo>
                        <a:lnTo>
                          <a:pt x="545" y="8"/>
                        </a:lnTo>
                        <a:lnTo>
                          <a:pt x="579" y="22"/>
                        </a:lnTo>
                        <a:lnTo>
                          <a:pt x="597" y="48"/>
                        </a:lnTo>
                        <a:lnTo>
                          <a:pt x="605" y="81"/>
                        </a:lnTo>
                        <a:lnTo>
                          <a:pt x="610" y="118"/>
                        </a:lnTo>
                        <a:lnTo>
                          <a:pt x="619" y="154"/>
                        </a:lnTo>
                        <a:lnTo>
                          <a:pt x="619" y="156"/>
                        </a:lnTo>
                        <a:lnTo>
                          <a:pt x="625" y="183"/>
                        </a:lnTo>
                        <a:lnTo>
                          <a:pt x="634" y="213"/>
                        </a:lnTo>
                        <a:lnTo>
                          <a:pt x="641" y="242"/>
                        </a:lnTo>
                        <a:lnTo>
                          <a:pt x="648" y="272"/>
                        </a:lnTo>
                        <a:lnTo>
                          <a:pt x="650" y="303"/>
                        </a:lnTo>
                        <a:lnTo>
                          <a:pt x="650" y="331"/>
                        </a:lnTo>
                        <a:lnTo>
                          <a:pt x="645" y="360"/>
                        </a:lnTo>
                        <a:lnTo>
                          <a:pt x="639" y="384"/>
                        </a:lnTo>
                        <a:lnTo>
                          <a:pt x="623" y="404"/>
                        </a:lnTo>
                        <a:lnTo>
                          <a:pt x="603" y="423"/>
                        </a:lnTo>
                        <a:lnTo>
                          <a:pt x="603" y="425"/>
                        </a:lnTo>
                        <a:lnTo>
                          <a:pt x="554" y="449"/>
                        </a:lnTo>
                        <a:lnTo>
                          <a:pt x="505" y="467"/>
                        </a:lnTo>
                        <a:lnTo>
                          <a:pt x="452" y="479"/>
                        </a:lnTo>
                        <a:lnTo>
                          <a:pt x="399" y="486"/>
                        </a:lnTo>
                        <a:lnTo>
                          <a:pt x="343" y="486"/>
                        </a:lnTo>
                        <a:lnTo>
                          <a:pt x="287" y="484"/>
                        </a:lnTo>
                        <a:lnTo>
                          <a:pt x="230" y="477"/>
                        </a:lnTo>
                        <a:lnTo>
                          <a:pt x="172" y="469"/>
                        </a:lnTo>
                        <a:lnTo>
                          <a:pt x="116" y="463"/>
                        </a:lnTo>
                        <a:lnTo>
                          <a:pt x="61" y="455"/>
                        </a:lnTo>
                        <a:lnTo>
                          <a:pt x="61" y="457"/>
                        </a:lnTo>
                        <a:lnTo>
                          <a:pt x="36" y="449"/>
                        </a:lnTo>
                        <a:lnTo>
                          <a:pt x="18" y="437"/>
                        </a:lnTo>
                        <a:lnTo>
                          <a:pt x="7" y="421"/>
                        </a:lnTo>
                        <a:lnTo>
                          <a:pt x="3" y="400"/>
                        </a:lnTo>
                        <a:lnTo>
                          <a:pt x="0" y="378"/>
                        </a:lnTo>
                        <a:lnTo>
                          <a:pt x="3" y="353"/>
                        </a:lnTo>
                        <a:lnTo>
                          <a:pt x="9" y="329"/>
                        </a:lnTo>
                        <a:lnTo>
                          <a:pt x="20" y="307"/>
                        </a:lnTo>
                        <a:lnTo>
                          <a:pt x="34" y="284"/>
                        </a:lnTo>
                        <a:lnTo>
                          <a:pt x="49" y="264"/>
                        </a:lnTo>
                        <a:lnTo>
                          <a:pt x="49" y="266"/>
                        </a:lnTo>
                        <a:lnTo>
                          <a:pt x="52" y="262"/>
                        </a:lnTo>
                        <a:lnTo>
                          <a:pt x="56" y="262"/>
                        </a:lnTo>
                        <a:lnTo>
                          <a:pt x="58" y="264"/>
                        </a:lnTo>
                        <a:lnTo>
                          <a:pt x="58" y="268"/>
                        </a:lnTo>
                        <a:lnTo>
                          <a:pt x="58" y="274"/>
                        </a:lnTo>
                        <a:lnTo>
                          <a:pt x="58" y="276"/>
                        </a:lnTo>
                        <a:close/>
                      </a:path>
                    </a:pathLst>
                  </a:custGeom>
                  <a:solidFill>
                    <a:srgbClr val="ff0066"/>
                  </a:solidFill>
                  <a:ln w="0">
                    <a:solidFill>
                      <a:srgbClr val="ff00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4790160" y="3470760"/>
                    <a:ext cx="137880" cy="331560"/>
                  </a:xfrm>
                  <a:custGeom>
                    <a:avLst/>
                    <a:gdLst/>
                    <a:ahLst/>
                    <a:rect l="l" t="t" r="r" b="b"/>
                    <a:pathLst>
                      <a:path w="650" h="486">
                        <a:moveTo>
                          <a:pt x="58" y="276"/>
                        </a:moveTo>
                        <a:lnTo>
                          <a:pt x="54" y="262"/>
                        </a:lnTo>
                        <a:lnTo>
                          <a:pt x="58" y="254"/>
                        </a:lnTo>
                        <a:lnTo>
                          <a:pt x="69" y="248"/>
                        </a:lnTo>
                        <a:lnTo>
                          <a:pt x="78" y="242"/>
                        </a:lnTo>
                        <a:lnTo>
                          <a:pt x="87" y="238"/>
                        </a:lnTo>
                        <a:lnTo>
                          <a:pt x="87" y="240"/>
                        </a:lnTo>
                        <a:lnTo>
                          <a:pt x="105" y="215"/>
                        </a:lnTo>
                        <a:lnTo>
                          <a:pt x="125" y="195"/>
                        </a:lnTo>
                        <a:lnTo>
                          <a:pt x="145" y="177"/>
                        </a:lnTo>
                        <a:lnTo>
                          <a:pt x="169" y="160"/>
                        </a:lnTo>
                        <a:lnTo>
                          <a:pt x="194" y="146"/>
                        </a:lnTo>
                        <a:lnTo>
                          <a:pt x="194" y="148"/>
                        </a:lnTo>
                        <a:lnTo>
                          <a:pt x="227" y="128"/>
                        </a:lnTo>
                        <a:lnTo>
                          <a:pt x="261" y="105"/>
                        </a:lnTo>
                        <a:lnTo>
                          <a:pt x="294" y="83"/>
                        </a:lnTo>
                        <a:lnTo>
                          <a:pt x="327" y="63"/>
                        </a:lnTo>
                        <a:lnTo>
                          <a:pt x="361" y="42"/>
                        </a:lnTo>
                        <a:lnTo>
                          <a:pt x="394" y="26"/>
                        </a:lnTo>
                        <a:lnTo>
                          <a:pt x="430" y="12"/>
                        </a:lnTo>
                        <a:lnTo>
                          <a:pt x="468" y="4"/>
                        </a:lnTo>
                        <a:lnTo>
                          <a:pt x="505" y="0"/>
                        </a:lnTo>
                        <a:lnTo>
                          <a:pt x="545" y="6"/>
                        </a:lnTo>
                        <a:lnTo>
                          <a:pt x="545" y="8"/>
                        </a:lnTo>
                        <a:lnTo>
                          <a:pt x="579" y="22"/>
                        </a:lnTo>
                        <a:lnTo>
                          <a:pt x="597" y="48"/>
                        </a:lnTo>
                        <a:lnTo>
                          <a:pt x="605" y="81"/>
                        </a:lnTo>
                        <a:lnTo>
                          <a:pt x="610" y="118"/>
                        </a:lnTo>
                        <a:lnTo>
                          <a:pt x="619" y="154"/>
                        </a:lnTo>
                        <a:lnTo>
                          <a:pt x="619" y="156"/>
                        </a:lnTo>
                        <a:lnTo>
                          <a:pt x="625" y="183"/>
                        </a:lnTo>
                        <a:lnTo>
                          <a:pt x="634" y="213"/>
                        </a:lnTo>
                        <a:lnTo>
                          <a:pt x="641" y="242"/>
                        </a:lnTo>
                        <a:lnTo>
                          <a:pt x="648" y="272"/>
                        </a:lnTo>
                        <a:lnTo>
                          <a:pt x="650" y="303"/>
                        </a:lnTo>
                        <a:lnTo>
                          <a:pt x="650" y="331"/>
                        </a:lnTo>
                        <a:lnTo>
                          <a:pt x="645" y="360"/>
                        </a:lnTo>
                        <a:lnTo>
                          <a:pt x="639" y="384"/>
                        </a:lnTo>
                        <a:lnTo>
                          <a:pt x="623" y="404"/>
                        </a:lnTo>
                        <a:lnTo>
                          <a:pt x="603" y="423"/>
                        </a:lnTo>
                        <a:lnTo>
                          <a:pt x="603" y="425"/>
                        </a:lnTo>
                        <a:lnTo>
                          <a:pt x="554" y="449"/>
                        </a:lnTo>
                        <a:lnTo>
                          <a:pt x="505" y="467"/>
                        </a:lnTo>
                        <a:lnTo>
                          <a:pt x="452" y="479"/>
                        </a:lnTo>
                        <a:lnTo>
                          <a:pt x="399" y="486"/>
                        </a:lnTo>
                        <a:lnTo>
                          <a:pt x="343" y="486"/>
                        </a:lnTo>
                        <a:lnTo>
                          <a:pt x="287" y="484"/>
                        </a:lnTo>
                        <a:lnTo>
                          <a:pt x="230" y="477"/>
                        </a:lnTo>
                        <a:lnTo>
                          <a:pt x="172" y="469"/>
                        </a:lnTo>
                        <a:lnTo>
                          <a:pt x="116" y="463"/>
                        </a:lnTo>
                        <a:lnTo>
                          <a:pt x="61" y="455"/>
                        </a:lnTo>
                        <a:lnTo>
                          <a:pt x="61" y="457"/>
                        </a:lnTo>
                        <a:lnTo>
                          <a:pt x="36" y="449"/>
                        </a:lnTo>
                        <a:lnTo>
                          <a:pt x="18" y="437"/>
                        </a:lnTo>
                        <a:lnTo>
                          <a:pt x="7" y="421"/>
                        </a:lnTo>
                        <a:lnTo>
                          <a:pt x="3" y="400"/>
                        </a:lnTo>
                        <a:lnTo>
                          <a:pt x="0" y="378"/>
                        </a:lnTo>
                        <a:lnTo>
                          <a:pt x="3" y="353"/>
                        </a:lnTo>
                        <a:lnTo>
                          <a:pt x="9" y="329"/>
                        </a:lnTo>
                        <a:lnTo>
                          <a:pt x="20" y="307"/>
                        </a:lnTo>
                        <a:lnTo>
                          <a:pt x="34" y="284"/>
                        </a:lnTo>
                        <a:lnTo>
                          <a:pt x="49" y="264"/>
                        </a:lnTo>
                        <a:lnTo>
                          <a:pt x="49" y="266"/>
                        </a:lnTo>
                        <a:lnTo>
                          <a:pt x="52" y="262"/>
                        </a:lnTo>
                        <a:lnTo>
                          <a:pt x="56" y="262"/>
                        </a:lnTo>
                        <a:lnTo>
                          <a:pt x="58" y="264"/>
                        </a:lnTo>
                        <a:lnTo>
                          <a:pt x="58" y="268"/>
                        </a:lnTo>
                        <a:lnTo>
                          <a:pt x="58" y="274"/>
                        </a:lnTo>
                      </a:path>
                    </a:pathLst>
                  </a:custGeom>
                  <a:noFill/>
                  <a:ln w="0">
                    <a:solidFill>
                      <a:srgbClr val="ff00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>
                    <a:off x="4809960" y="3683160"/>
                    <a:ext cx="108360" cy="109080"/>
                  </a:xfrm>
                  <a:custGeom>
                    <a:avLst/>
                    <a:gdLst/>
                    <a:ahLst/>
                    <a:rect l="l" t="t" r="r" b="b"/>
                    <a:pathLst>
                      <a:path w="511" h="160">
                        <a:moveTo>
                          <a:pt x="511" y="16"/>
                        </a:moveTo>
                        <a:lnTo>
                          <a:pt x="496" y="8"/>
                        </a:lnTo>
                        <a:lnTo>
                          <a:pt x="480" y="2"/>
                        </a:lnTo>
                        <a:lnTo>
                          <a:pt x="465" y="0"/>
                        </a:lnTo>
                        <a:lnTo>
                          <a:pt x="449" y="2"/>
                        </a:lnTo>
                        <a:lnTo>
                          <a:pt x="436" y="6"/>
                        </a:lnTo>
                        <a:lnTo>
                          <a:pt x="436" y="8"/>
                        </a:lnTo>
                        <a:lnTo>
                          <a:pt x="393" y="26"/>
                        </a:lnTo>
                        <a:lnTo>
                          <a:pt x="351" y="42"/>
                        </a:lnTo>
                        <a:lnTo>
                          <a:pt x="309" y="59"/>
                        </a:lnTo>
                        <a:lnTo>
                          <a:pt x="267" y="71"/>
                        </a:lnTo>
                        <a:lnTo>
                          <a:pt x="222" y="81"/>
                        </a:lnTo>
                        <a:lnTo>
                          <a:pt x="180" y="91"/>
                        </a:lnTo>
                        <a:lnTo>
                          <a:pt x="135" y="101"/>
                        </a:lnTo>
                        <a:lnTo>
                          <a:pt x="91" y="110"/>
                        </a:lnTo>
                        <a:lnTo>
                          <a:pt x="46" y="118"/>
                        </a:lnTo>
                        <a:lnTo>
                          <a:pt x="0" y="128"/>
                        </a:lnTo>
                        <a:lnTo>
                          <a:pt x="0" y="130"/>
                        </a:lnTo>
                        <a:lnTo>
                          <a:pt x="0" y="130"/>
                        </a:lnTo>
                        <a:lnTo>
                          <a:pt x="0" y="134"/>
                        </a:lnTo>
                        <a:lnTo>
                          <a:pt x="0" y="138"/>
                        </a:lnTo>
                        <a:lnTo>
                          <a:pt x="0" y="142"/>
                        </a:lnTo>
                        <a:lnTo>
                          <a:pt x="0" y="144"/>
                        </a:lnTo>
                        <a:lnTo>
                          <a:pt x="0" y="146"/>
                        </a:lnTo>
                        <a:lnTo>
                          <a:pt x="40" y="148"/>
                        </a:lnTo>
                        <a:lnTo>
                          <a:pt x="80" y="152"/>
                        </a:lnTo>
                        <a:lnTo>
                          <a:pt x="122" y="156"/>
                        </a:lnTo>
                        <a:lnTo>
                          <a:pt x="162" y="158"/>
                        </a:lnTo>
                        <a:lnTo>
                          <a:pt x="202" y="160"/>
                        </a:lnTo>
                        <a:lnTo>
                          <a:pt x="242" y="158"/>
                        </a:lnTo>
                        <a:lnTo>
                          <a:pt x="282" y="154"/>
                        </a:lnTo>
                        <a:lnTo>
                          <a:pt x="320" y="146"/>
                        </a:lnTo>
                        <a:lnTo>
                          <a:pt x="358" y="136"/>
                        </a:lnTo>
                        <a:lnTo>
                          <a:pt x="396" y="118"/>
                        </a:lnTo>
                        <a:lnTo>
                          <a:pt x="396" y="120"/>
                        </a:lnTo>
                        <a:lnTo>
                          <a:pt x="416" y="110"/>
                        </a:lnTo>
                        <a:lnTo>
                          <a:pt x="438" y="103"/>
                        </a:lnTo>
                        <a:lnTo>
                          <a:pt x="460" y="95"/>
                        </a:lnTo>
                        <a:lnTo>
                          <a:pt x="476" y="83"/>
                        </a:lnTo>
                        <a:lnTo>
                          <a:pt x="487" y="63"/>
                        </a:lnTo>
                        <a:lnTo>
                          <a:pt x="487" y="65"/>
                        </a:lnTo>
                        <a:lnTo>
                          <a:pt x="489" y="55"/>
                        </a:lnTo>
                        <a:lnTo>
                          <a:pt x="489" y="42"/>
                        </a:lnTo>
                        <a:lnTo>
                          <a:pt x="489" y="32"/>
                        </a:lnTo>
                        <a:lnTo>
                          <a:pt x="489" y="24"/>
                        </a:lnTo>
                        <a:lnTo>
                          <a:pt x="491" y="14"/>
                        </a:lnTo>
                        <a:lnTo>
                          <a:pt x="491" y="16"/>
                        </a:lnTo>
                        <a:lnTo>
                          <a:pt x="493" y="14"/>
                        </a:lnTo>
                        <a:lnTo>
                          <a:pt x="496" y="12"/>
                        </a:lnTo>
                        <a:lnTo>
                          <a:pt x="500" y="12"/>
                        </a:lnTo>
                        <a:lnTo>
                          <a:pt x="507" y="14"/>
                        </a:lnTo>
                        <a:lnTo>
                          <a:pt x="511" y="14"/>
                        </a:lnTo>
                        <a:lnTo>
                          <a:pt x="511" y="16"/>
                        </a:lnTo>
                        <a:close/>
                      </a:path>
                    </a:pathLst>
                  </a:custGeom>
                  <a:solidFill>
                    <a:srgbClr val="fefefe"/>
                  </a:solidFill>
                  <a:ln w="0">
                    <a:solidFill>
                      <a:srgbClr val="ff00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4809960" y="3683160"/>
                    <a:ext cx="108360" cy="109080"/>
                  </a:xfrm>
                  <a:custGeom>
                    <a:avLst/>
                    <a:gdLst/>
                    <a:ahLst/>
                    <a:rect l="l" t="t" r="r" b="b"/>
                    <a:pathLst>
                      <a:path w="511" h="160">
                        <a:moveTo>
                          <a:pt x="511" y="16"/>
                        </a:moveTo>
                        <a:lnTo>
                          <a:pt x="496" y="8"/>
                        </a:lnTo>
                        <a:lnTo>
                          <a:pt x="480" y="2"/>
                        </a:lnTo>
                        <a:lnTo>
                          <a:pt x="465" y="0"/>
                        </a:lnTo>
                        <a:lnTo>
                          <a:pt x="449" y="2"/>
                        </a:lnTo>
                        <a:lnTo>
                          <a:pt x="436" y="6"/>
                        </a:lnTo>
                        <a:lnTo>
                          <a:pt x="436" y="8"/>
                        </a:lnTo>
                        <a:lnTo>
                          <a:pt x="393" y="26"/>
                        </a:lnTo>
                        <a:lnTo>
                          <a:pt x="351" y="42"/>
                        </a:lnTo>
                        <a:lnTo>
                          <a:pt x="309" y="59"/>
                        </a:lnTo>
                        <a:lnTo>
                          <a:pt x="267" y="71"/>
                        </a:lnTo>
                        <a:lnTo>
                          <a:pt x="222" y="81"/>
                        </a:lnTo>
                        <a:lnTo>
                          <a:pt x="180" y="91"/>
                        </a:lnTo>
                        <a:lnTo>
                          <a:pt x="135" y="101"/>
                        </a:lnTo>
                        <a:lnTo>
                          <a:pt x="91" y="110"/>
                        </a:lnTo>
                        <a:lnTo>
                          <a:pt x="46" y="118"/>
                        </a:lnTo>
                        <a:lnTo>
                          <a:pt x="0" y="128"/>
                        </a:lnTo>
                        <a:lnTo>
                          <a:pt x="0" y="130"/>
                        </a:lnTo>
                        <a:lnTo>
                          <a:pt x="0" y="130"/>
                        </a:lnTo>
                        <a:lnTo>
                          <a:pt x="0" y="134"/>
                        </a:lnTo>
                        <a:lnTo>
                          <a:pt x="0" y="138"/>
                        </a:lnTo>
                        <a:lnTo>
                          <a:pt x="0" y="142"/>
                        </a:lnTo>
                        <a:lnTo>
                          <a:pt x="0" y="144"/>
                        </a:lnTo>
                        <a:lnTo>
                          <a:pt x="0" y="146"/>
                        </a:lnTo>
                        <a:lnTo>
                          <a:pt x="40" y="148"/>
                        </a:lnTo>
                        <a:lnTo>
                          <a:pt x="80" y="152"/>
                        </a:lnTo>
                        <a:lnTo>
                          <a:pt x="122" y="156"/>
                        </a:lnTo>
                        <a:lnTo>
                          <a:pt x="162" y="158"/>
                        </a:lnTo>
                        <a:lnTo>
                          <a:pt x="202" y="160"/>
                        </a:lnTo>
                        <a:lnTo>
                          <a:pt x="242" y="158"/>
                        </a:lnTo>
                        <a:lnTo>
                          <a:pt x="282" y="154"/>
                        </a:lnTo>
                        <a:lnTo>
                          <a:pt x="320" y="146"/>
                        </a:lnTo>
                        <a:lnTo>
                          <a:pt x="358" y="136"/>
                        </a:lnTo>
                        <a:lnTo>
                          <a:pt x="396" y="118"/>
                        </a:lnTo>
                        <a:lnTo>
                          <a:pt x="396" y="120"/>
                        </a:lnTo>
                        <a:lnTo>
                          <a:pt x="416" y="110"/>
                        </a:lnTo>
                        <a:lnTo>
                          <a:pt x="438" y="103"/>
                        </a:lnTo>
                        <a:lnTo>
                          <a:pt x="460" y="95"/>
                        </a:lnTo>
                        <a:lnTo>
                          <a:pt x="476" y="83"/>
                        </a:lnTo>
                        <a:lnTo>
                          <a:pt x="487" y="63"/>
                        </a:lnTo>
                        <a:lnTo>
                          <a:pt x="487" y="65"/>
                        </a:lnTo>
                        <a:lnTo>
                          <a:pt x="489" y="55"/>
                        </a:lnTo>
                        <a:lnTo>
                          <a:pt x="489" y="42"/>
                        </a:lnTo>
                        <a:lnTo>
                          <a:pt x="489" y="32"/>
                        </a:lnTo>
                        <a:lnTo>
                          <a:pt x="489" y="24"/>
                        </a:lnTo>
                        <a:lnTo>
                          <a:pt x="491" y="14"/>
                        </a:lnTo>
                        <a:lnTo>
                          <a:pt x="491" y="16"/>
                        </a:lnTo>
                        <a:lnTo>
                          <a:pt x="493" y="14"/>
                        </a:lnTo>
                        <a:lnTo>
                          <a:pt x="496" y="12"/>
                        </a:lnTo>
                        <a:lnTo>
                          <a:pt x="500" y="12"/>
                        </a:lnTo>
                        <a:lnTo>
                          <a:pt x="507" y="14"/>
                        </a:lnTo>
                        <a:lnTo>
                          <a:pt x="511" y="14"/>
                        </a:lnTo>
                      </a:path>
                    </a:pathLst>
                  </a:custGeom>
                  <a:noFill/>
                  <a:ln w="0">
                    <a:solidFill>
                      <a:srgbClr val="ff00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" name=""/>
                  <p:cNvSpPr/>
                  <p:nvPr/>
                </p:nvSpPr>
                <p:spPr>
                  <a:xfrm>
                    <a:off x="4644720" y="3468240"/>
                    <a:ext cx="137880" cy="331560"/>
                  </a:xfrm>
                  <a:custGeom>
                    <a:avLst/>
                    <a:gdLst/>
                    <a:ahLst/>
                    <a:rect l="l" t="t" r="r" b="b"/>
                    <a:pathLst>
                      <a:path w="650" h="486">
                        <a:moveTo>
                          <a:pt x="594" y="274"/>
                        </a:moveTo>
                        <a:lnTo>
                          <a:pt x="596" y="260"/>
                        </a:lnTo>
                        <a:lnTo>
                          <a:pt x="592" y="252"/>
                        </a:lnTo>
                        <a:lnTo>
                          <a:pt x="583" y="246"/>
                        </a:lnTo>
                        <a:lnTo>
                          <a:pt x="572" y="242"/>
                        </a:lnTo>
                        <a:lnTo>
                          <a:pt x="565" y="235"/>
                        </a:lnTo>
                        <a:lnTo>
                          <a:pt x="565" y="237"/>
                        </a:lnTo>
                        <a:lnTo>
                          <a:pt x="545" y="215"/>
                        </a:lnTo>
                        <a:lnTo>
                          <a:pt x="528" y="195"/>
                        </a:lnTo>
                        <a:lnTo>
                          <a:pt x="505" y="176"/>
                        </a:lnTo>
                        <a:lnTo>
                          <a:pt x="483" y="158"/>
                        </a:lnTo>
                        <a:lnTo>
                          <a:pt x="456" y="144"/>
                        </a:lnTo>
                        <a:lnTo>
                          <a:pt x="456" y="146"/>
                        </a:lnTo>
                        <a:lnTo>
                          <a:pt x="423" y="126"/>
                        </a:lnTo>
                        <a:lnTo>
                          <a:pt x="390" y="103"/>
                        </a:lnTo>
                        <a:lnTo>
                          <a:pt x="356" y="83"/>
                        </a:lnTo>
                        <a:lnTo>
                          <a:pt x="323" y="61"/>
                        </a:lnTo>
                        <a:lnTo>
                          <a:pt x="290" y="40"/>
                        </a:lnTo>
                        <a:lnTo>
                          <a:pt x="256" y="24"/>
                        </a:lnTo>
                        <a:lnTo>
                          <a:pt x="221" y="12"/>
                        </a:lnTo>
                        <a:lnTo>
                          <a:pt x="185" y="2"/>
                        </a:lnTo>
                        <a:lnTo>
                          <a:pt x="145" y="0"/>
                        </a:lnTo>
                        <a:lnTo>
                          <a:pt x="105" y="4"/>
                        </a:lnTo>
                        <a:lnTo>
                          <a:pt x="105" y="6"/>
                        </a:lnTo>
                        <a:lnTo>
                          <a:pt x="72" y="20"/>
                        </a:lnTo>
                        <a:lnTo>
                          <a:pt x="54" y="46"/>
                        </a:lnTo>
                        <a:lnTo>
                          <a:pt x="45" y="81"/>
                        </a:lnTo>
                        <a:lnTo>
                          <a:pt x="40" y="118"/>
                        </a:lnTo>
                        <a:lnTo>
                          <a:pt x="34" y="152"/>
                        </a:lnTo>
                        <a:lnTo>
                          <a:pt x="34" y="154"/>
                        </a:lnTo>
                        <a:lnTo>
                          <a:pt x="25" y="181"/>
                        </a:lnTo>
                        <a:lnTo>
                          <a:pt x="16" y="211"/>
                        </a:lnTo>
                        <a:lnTo>
                          <a:pt x="9" y="242"/>
                        </a:lnTo>
                        <a:lnTo>
                          <a:pt x="3" y="272"/>
                        </a:lnTo>
                        <a:lnTo>
                          <a:pt x="0" y="303"/>
                        </a:lnTo>
                        <a:lnTo>
                          <a:pt x="0" y="331"/>
                        </a:lnTo>
                        <a:lnTo>
                          <a:pt x="5" y="357"/>
                        </a:lnTo>
                        <a:lnTo>
                          <a:pt x="14" y="382"/>
                        </a:lnTo>
                        <a:lnTo>
                          <a:pt x="27" y="404"/>
                        </a:lnTo>
                        <a:lnTo>
                          <a:pt x="47" y="422"/>
                        </a:lnTo>
                        <a:lnTo>
                          <a:pt x="47" y="425"/>
                        </a:lnTo>
                        <a:lnTo>
                          <a:pt x="94" y="449"/>
                        </a:lnTo>
                        <a:lnTo>
                          <a:pt x="145" y="467"/>
                        </a:lnTo>
                        <a:lnTo>
                          <a:pt x="196" y="479"/>
                        </a:lnTo>
                        <a:lnTo>
                          <a:pt x="252" y="483"/>
                        </a:lnTo>
                        <a:lnTo>
                          <a:pt x="307" y="486"/>
                        </a:lnTo>
                        <a:lnTo>
                          <a:pt x="365" y="481"/>
                        </a:lnTo>
                        <a:lnTo>
                          <a:pt x="421" y="477"/>
                        </a:lnTo>
                        <a:lnTo>
                          <a:pt x="479" y="469"/>
                        </a:lnTo>
                        <a:lnTo>
                          <a:pt x="536" y="461"/>
                        </a:lnTo>
                        <a:lnTo>
                          <a:pt x="592" y="453"/>
                        </a:lnTo>
                        <a:lnTo>
                          <a:pt x="592" y="455"/>
                        </a:lnTo>
                        <a:lnTo>
                          <a:pt x="614" y="447"/>
                        </a:lnTo>
                        <a:lnTo>
                          <a:pt x="632" y="435"/>
                        </a:lnTo>
                        <a:lnTo>
                          <a:pt x="643" y="418"/>
                        </a:lnTo>
                        <a:lnTo>
                          <a:pt x="650" y="398"/>
                        </a:lnTo>
                        <a:lnTo>
                          <a:pt x="650" y="376"/>
                        </a:lnTo>
                        <a:lnTo>
                          <a:pt x="648" y="353"/>
                        </a:lnTo>
                        <a:lnTo>
                          <a:pt x="641" y="329"/>
                        </a:lnTo>
                        <a:lnTo>
                          <a:pt x="632" y="305"/>
                        </a:lnTo>
                        <a:lnTo>
                          <a:pt x="619" y="282"/>
                        </a:lnTo>
                        <a:lnTo>
                          <a:pt x="603" y="264"/>
                        </a:lnTo>
                        <a:lnTo>
                          <a:pt x="603" y="266"/>
                        </a:lnTo>
                        <a:lnTo>
                          <a:pt x="599" y="262"/>
                        </a:lnTo>
                        <a:lnTo>
                          <a:pt x="596" y="262"/>
                        </a:lnTo>
                        <a:lnTo>
                          <a:pt x="594" y="264"/>
                        </a:lnTo>
                        <a:lnTo>
                          <a:pt x="592" y="268"/>
                        </a:lnTo>
                        <a:lnTo>
                          <a:pt x="594" y="272"/>
                        </a:lnTo>
                        <a:lnTo>
                          <a:pt x="594" y="274"/>
                        </a:lnTo>
                        <a:close/>
                      </a:path>
                    </a:pathLst>
                  </a:custGeom>
                  <a:solidFill>
                    <a:srgbClr val="ff0066"/>
                  </a:solidFill>
                  <a:ln w="0">
                    <a:solidFill>
                      <a:srgbClr val="ff00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>
                    <a:off x="4644720" y="3468240"/>
                    <a:ext cx="137880" cy="331560"/>
                  </a:xfrm>
                  <a:custGeom>
                    <a:avLst/>
                    <a:gdLst/>
                    <a:ahLst/>
                    <a:rect l="l" t="t" r="r" b="b"/>
                    <a:pathLst>
                      <a:path w="650" h="486">
                        <a:moveTo>
                          <a:pt x="594" y="274"/>
                        </a:moveTo>
                        <a:lnTo>
                          <a:pt x="596" y="260"/>
                        </a:lnTo>
                        <a:lnTo>
                          <a:pt x="592" y="252"/>
                        </a:lnTo>
                        <a:lnTo>
                          <a:pt x="583" y="246"/>
                        </a:lnTo>
                        <a:lnTo>
                          <a:pt x="572" y="242"/>
                        </a:lnTo>
                        <a:lnTo>
                          <a:pt x="565" y="235"/>
                        </a:lnTo>
                        <a:lnTo>
                          <a:pt x="565" y="237"/>
                        </a:lnTo>
                        <a:lnTo>
                          <a:pt x="545" y="215"/>
                        </a:lnTo>
                        <a:lnTo>
                          <a:pt x="528" y="195"/>
                        </a:lnTo>
                        <a:lnTo>
                          <a:pt x="505" y="176"/>
                        </a:lnTo>
                        <a:lnTo>
                          <a:pt x="483" y="158"/>
                        </a:lnTo>
                        <a:lnTo>
                          <a:pt x="456" y="144"/>
                        </a:lnTo>
                        <a:lnTo>
                          <a:pt x="456" y="146"/>
                        </a:lnTo>
                        <a:lnTo>
                          <a:pt x="423" y="126"/>
                        </a:lnTo>
                        <a:lnTo>
                          <a:pt x="390" y="103"/>
                        </a:lnTo>
                        <a:lnTo>
                          <a:pt x="356" y="83"/>
                        </a:lnTo>
                        <a:lnTo>
                          <a:pt x="323" y="61"/>
                        </a:lnTo>
                        <a:lnTo>
                          <a:pt x="290" y="40"/>
                        </a:lnTo>
                        <a:lnTo>
                          <a:pt x="256" y="24"/>
                        </a:lnTo>
                        <a:lnTo>
                          <a:pt x="221" y="12"/>
                        </a:lnTo>
                        <a:lnTo>
                          <a:pt x="185" y="2"/>
                        </a:lnTo>
                        <a:lnTo>
                          <a:pt x="145" y="0"/>
                        </a:lnTo>
                        <a:lnTo>
                          <a:pt x="105" y="4"/>
                        </a:lnTo>
                        <a:lnTo>
                          <a:pt x="105" y="6"/>
                        </a:lnTo>
                        <a:lnTo>
                          <a:pt x="72" y="20"/>
                        </a:lnTo>
                        <a:lnTo>
                          <a:pt x="54" y="46"/>
                        </a:lnTo>
                        <a:lnTo>
                          <a:pt x="45" y="81"/>
                        </a:lnTo>
                        <a:lnTo>
                          <a:pt x="40" y="118"/>
                        </a:lnTo>
                        <a:lnTo>
                          <a:pt x="34" y="152"/>
                        </a:lnTo>
                        <a:lnTo>
                          <a:pt x="34" y="154"/>
                        </a:lnTo>
                        <a:lnTo>
                          <a:pt x="25" y="181"/>
                        </a:lnTo>
                        <a:lnTo>
                          <a:pt x="16" y="211"/>
                        </a:lnTo>
                        <a:lnTo>
                          <a:pt x="9" y="242"/>
                        </a:lnTo>
                        <a:lnTo>
                          <a:pt x="3" y="272"/>
                        </a:lnTo>
                        <a:lnTo>
                          <a:pt x="0" y="303"/>
                        </a:lnTo>
                        <a:lnTo>
                          <a:pt x="0" y="331"/>
                        </a:lnTo>
                        <a:lnTo>
                          <a:pt x="5" y="357"/>
                        </a:lnTo>
                        <a:lnTo>
                          <a:pt x="14" y="382"/>
                        </a:lnTo>
                        <a:lnTo>
                          <a:pt x="27" y="404"/>
                        </a:lnTo>
                        <a:lnTo>
                          <a:pt x="47" y="422"/>
                        </a:lnTo>
                        <a:lnTo>
                          <a:pt x="47" y="425"/>
                        </a:lnTo>
                        <a:lnTo>
                          <a:pt x="94" y="449"/>
                        </a:lnTo>
                        <a:lnTo>
                          <a:pt x="145" y="467"/>
                        </a:lnTo>
                        <a:lnTo>
                          <a:pt x="196" y="479"/>
                        </a:lnTo>
                        <a:lnTo>
                          <a:pt x="252" y="483"/>
                        </a:lnTo>
                        <a:lnTo>
                          <a:pt x="307" y="486"/>
                        </a:lnTo>
                        <a:lnTo>
                          <a:pt x="365" y="481"/>
                        </a:lnTo>
                        <a:lnTo>
                          <a:pt x="421" y="477"/>
                        </a:lnTo>
                        <a:lnTo>
                          <a:pt x="479" y="469"/>
                        </a:lnTo>
                        <a:lnTo>
                          <a:pt x="536" y="461"/>
                        </a:lnTo>
                        <a:lnTo>
                          <a:pt x="592" y="453"/>
                        </a:lnTo>
                        <a:lnTo>
                          <a:pt x="592" y="455"/>
                        </a:lnTo>
                        <a:lnTo>
                          <a:pt x="614" y="447"/>
                        </a:lnTo>
                        <a:lnTo>
                          <a:pt x="632" y="435"/>
                        </a:lnTo>
                        <a:lnTo>
                          <a:pt x="643" y="418"/>
                        </a:lnTo>
                        <a:lnTo>
                          <a:pt x="650" y="398"/>
                        </a:lnTo>
                        <a:lnTo>
                          <a:pt x="650" y="376"/>
                        </a:lnTo>
                        <a:lnTo>
                          <a:pt x="648" y="353"/>
                        </a:lnTo>
                        <a:lnTo>
                          <a:pt x="641" y="329"/>
                        </a:lnTo>
                        <a:lnTo>
                          <a:pt x="632" y="305"/>
                        </a:lnTo>
                        <a:lnTo>
                          <a:pt x="619" y="282"/>
                        </a:lnTo>
                        <a:lnTo>
                          <a:pt x="603" y="264"/>
                        </a:lnTo>
                        <a:lnTo>
                          <a:pt x="603" y="266"/>
                        </a:lnTo>
                        <a:lnTo>
                          <a:pt x="599" y="262"/>
                        </a:lnTo>
                        <a:lnTo>
                          <a:pt x="596" y="262"/>
                        </a:lnTo>
                        <a:lnTo>
                          <a:pt x="594" y="264"/>
                        </a:lnTo>
                        <a:lnTo>
                          <a:pt x="592" y="268"/>
                        </a:lnTo>
                        <a:lnTo>
                          <a:pt x="594" y="272"/>
                        </a:lnTo>
                      </a:path>
                    </a:pathLst>
                  </a:custGeom>
                  <a:noFill/>
                  <a:ln w="0">
                    <a:solidFill>
                      <a:srgbClr val="ff00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" name=""/>
                  <p:cNvSpPr/>
                  <p:nvPr/>
                </p:nvSpPr>
                <p:spPr>
                  <a:xfrm>
                    <a:off x="4655160" y="3680640"/>
                    <a:ext cx="10872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512" h="158">
                        <a:moveTo>
                          <a:pt x="0" y="14"/>
                        </a:moveTo>
                        <a:lnTo>
                          <a:pt x="14" y="6"/>
                        </a:lnTo>
                        <a:lnTo>
                          <a:pt x="31" y="2"/>
                        </a:lnTo>
                        <a:lnTo>
                          <a:pt x="47" y="0"/>
                        </a:lnTo>
                        <a:lnTo>
                          <a:pt x="60" y="2"/>
                        </a:lnTo>
                        <a:lnTo>
                          <a:pt x="76" y="6"/>
                        </a:lnTo>
                        <a:lnTo>
                          <a:pt x="76" y="8"/>
                        </a:lnTo>
                        <a:lnTo>
                          <a:pt x="116" y="26"/>
                        </a:lnTo>
                        <a:lnTo>
                          <a:pt x="158" y="42"/>
                        </a:lnTo>
                        <a:lnTo>
                          <a:pt x="200" y="57"/>
                        </a:lnTo>
                        <a:lnTo>
                          <a:pt x="245" y="69"/>
                        </a:lnTo>
                        <a:lnTo>
                          <a:pt x="287" y="81"/>
                        </a:lnTo>
                        <a:lnTo>
                          <a:pt x="332" y="91"/>
                        </a:lnTo>
                        <a:lnTo>
                          <a:pt x="374" y="99"/>
                        </a:lnTo>
                        <a:lnTo>
                          <a:pt x="418" y="109"/>
                        </a:lnTo>
                        <a:lnTo>
                          <a:pt x="465" y="118"/>
                        </a:lnTo>
                        <a:lnTo>
                          <a:pt x="510" y="126"/>
                        </a:lnTo>
                        <a:lnTo>
                          <a:pt x="510" y="128"/>
                        </a:lnTo>
                        <a:lnTo>
                          <a:pt x="510" y="128"/>
                        </a:lnTo>
                        <a:lnTo>
                          <a:pt x="512" y="132"/>
                        </a:lnTo>
                        <a:lnTo>
                          <a:pt x="512" y="136"/>
                        </a:lnTo>
                        <a:lnTo>
                          <a:pt x="512" y="140"/>
                        </a:lnTo>
                        <a:lnTo>
                          <a:pt x="510" y="142"/>
                        </a:lnTo>
                        <a:lnTo>
                          <a:pt x="510" y="144"/>
                        </a:lnTo>
                        <a:lnTo>
                          <a:pt x="467" y="146"/>
                        </a:lnTo>
                        <a:lnTo>
                          <a:pt x="427" y="150"/>
                        </a:lnTo>
                        <a:lnTo>
                          <a:pt x="387" y="154"/>
                        </a:lnTo>
                        <a:lnTo>
                          <a:pt x="347" y="158"/>
                        </a:lnTo>
                        <a:lnTo>
                          <a:pt x="307" y="158"/>
                        </a:lnTo>
                        <a:lnTo>
                          <a:pt x="267" y="158"/>
                        </a:lnTo>
                        <a:lnTo>
                          <a:pt x="227" y="154"/>
                        </a:lnTo>
                        <a:lnTo>
                          <a:pt x="189" y="146"/>
                        </a:lnTo>
                        <a:lnTo>
                          <a:pt x="152" y="134"/>
                        </a:lnTo>
                        <a:lnTo>
                          <a:pt x="114" y="118"/>
                        </a:lnTo>
                        <a:lnTo>
                          <a:pt x="114" y="120"/>
                        </a:lnTo>
                        <a:lnTo>
                          <a:pt x="94" y="109"/>
                        </a:lnTo>
                        <a:lnTo>
                          <a:pt x="71" y="103"/>
                        </a:lnTo>
                        <a:lnTo>
                          <a:pt x="51" y="95"/>
                        </a:lnTo>
                        <a:lnTo>
                          <a:pt x="34" y="83"/>
                        </a:lnTo>
                        <a:lnTo>
                          <a:pt x="23" y="63"/>
                        </a:lnTo>
                        <a:lnTo>
                          <a:pt x="23" y="65"/>
                        </a:lnTo>
                        <a:lnTo>
                          <a:pt x="20" y="53"/>
                        </a:lnTo>
                        <a:lnTo>
                          <a:pt x="20" y="42"/>
                        </a:lnTo>
                        <a:lnTo>
                          <a:pt x="23" y="32"/>
                        </a:lnTo>
                        <a:lnTo>
                          <a:pt x="23" y="22"/>
                        </a:lnTo>
                        <a:lnTo>
                          <a:pt x="20" y="14"/>
                        </a:lnTo>
                        <a:lnTo>
                          <a:pt x="20" y="16"/>
                        </a:lnTo>
                        <a:lnTo>
                          <a:pt x="18" y="14"/>
                        </a:lnTo>
                        <a:lnTo>
                          <a:pt x="14" y="12"/>
                        </a:lnTo>
                        <a:lnTo>
                          <a:pt x="9" y="12"/>
                        </a:lnTo>
                        <a:lnTo>
                          <a:pt x="5" y="12"/>
                        </a:lnTo>
                        <a:lnTo>
                          <a:pt x="0" y="12"/>
                        </a:lnTo>
                        <a:lnTo>
                          <a:pt x="0" y="14"/>
                        </a:lnTo>
                        <a:close/>
                      </a:path>
                    </a:pathLst>
                  </a:custGeom>
                  <a:solidFill>
                    <a:srgbClr val="fefefe"/>
                  </a:solidFill>
                  <a:ln w="0">
                    <a:solidFill>
                      <a:srgbClr val="ff00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>
                    <a:off x="4655160" y="3680640"/>
                    <a:ext cx="10872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512" h="158">
                        <a:moveTo>
                          <a:pt x="0" y="14"/>
                        </a:moveTo>
                        <a:lnTo>
                          <a:pt x="14" y="6"/>
                        </a:lnTo>
                        <a:lnTo>
                          <a:pt x="31" y="2"/>
                        </a:lnTo>
                        <a:lnTo>
                          <a:pt x="47" y="0"/>
                        </a:lnTo>
                        <a:lnTo>
                          <a:pt x="60" y="2"/>
                        </a:lnTo>
                        <a:lnTo>
                          <a:pt x="76" y="6"/>
                        </a:lnTo>
                        <a:lnTo>
                          <a:pt x="76" y="8"/>
                        </a:lnTo>
                        <a:lnTo>
                          <a:pt x="116" y="26"/>
                        </a:lnTo>
                        <a:lnTo>
                          <a:pt x="158" y="42"/>
                        </a:lnTo>
                        <a:lnTo>
                          <a:pt x="200" y="57"/>
                        </a:lnTo>
                        <a:lnTo>
                          <a:pt x="245" y="69"/>
                        </a:lnTo>
                        <a:lnTo>
                          <a:pt x="287" y="81"/>
                        </a:lnTo>
                        <a:lnTo>
                          <a:pt x="332" y="91"/>
                        </a:lnTo>
                        <a:lnTo>
                          <a:pt x="374" y="99"/>
                        </a:lnTo>
                        <a:lnTo>
                          <a:pt x="418" y="109"/>
                        </a:lnTo>
                        <a:lnTo>
                          <a:pt x="465" y="118"/>
                        </a:lnTo>
                        <a:lnTo>
                          <a:pt x="510" y="126"/>
                        </a:lnTo>
                        <a:lnTo>
                          <a:pt x="510" y="128"/>
                        </a:lnTo>
                        <a:lnTo>
                          <a:pt x="510" y="128"/>
                        </a:lnTo>
                        <a:lnTo>
                          <a:pt x="512" y="132"/>
                        </a:lnTo>
                        <a:lnTo>
                          <a:pt x="512" y="136"/>
                        </a:lnTo>
                        <a:lnTo>
                          <a:pt x="512" y="140"/>
                        </a:lnTo>
                        <a:lnTo>
                          <a:pt x="510" y="142"/>
                        </a:lnTo>
                        <a:lnTo>
                          <a:pt x="510" y="144"/>
                        </a:lnTo>
                        <a:lnTo>
                          <a:pt x="467" y="146"/>
                        </a:lnTo>
                        <a:lnTo>
                          <a:pt x="427" y="150"/>
                        </a:lnTo>
                        <a:lnTo>
                          <a:pt x="387" y="154"/>
                        </a:lnTo>
                        <a:lnTo>
                          <a:pt x="347" y="158"/>
                        </a:lnTo>
                        <a:lnTo>
                          <a:pt x="307" y="158"/>
                        </a:lnTo>
                        <a:lnTo>
                          <a:pt x="267" y="158"/>
                        </a:lnTo>
                        <a:lnTo>
                          <a:pt x="227" y="154"/>
                        </a:lnTo>
                        <a:lnTo>
                          <a:pt x="189" y="146"/>
                        </a:lnTo>
                        <a:lnTo>
                          <a:pt x="152" y="134"/>
                        </a:lnTo>
                        <a:lnTo>
                          <a:pt x="114" y="118"/>
                        </a:lnTo>
                        <a:lnTo>
                          <a:pt x="114" y="120"/>
                        </a:lnTo>
                        <a:lnTo>
                          <a:pt x="94" y="109"/>
                        </a:lnTo>
                        <a:lnTo>
                          <a:pt x="71" y="103"/>
                        </a:lnTo>
                        <a:lnTo>
                          <a:pt x="51" y="95"/>
                        </a:lnTo>
                        <a:lnTo>
                          <a:pt x="34" y="83"/>
                        </a:lnTo>
                        <a:lnTo>
                          <a:pt x="23" y="63"/>
                        </a:lnTo>
                        <a:lnTo>
                          <a:pt x="23" y="65"/>
                        </a:lnTo>
                        <a:lnTo>
                          <a:pt x="20" y="53"/>
                        </a:lnTo>
                        <a:lnTo>
                          <a:pt x="20" y="42"/>
                        </a:lnTo>
                        <a:lnTo>
                          <a:pt x="23" y="32"/>
                        </a:lnTo>
                        <a:lnTo>
                          <a:pt x="23" y="22"/>
                        </a:lnTo>
                        <a:lnTo>
                          <a:pt x="20" y="14"/>
                        </a:lnTo>
                        <a:lnTo>
                          <a:pt x="20" y="16"/>
                        </a:lnTo>
                        <a:lnTo>
                          <a:pt x="18" y="14"/>
                        </a:lnTo>
                        <a:lnTo>
                          <a:pt x="14" y="12"/>
                        </a:lnTo>
                        <a:lnTo>
                          <a:pt x="9" y="12"/>
                        </a:lnTo>
                        <a:lnTo>
                          <a:pt x="5" y="12"/>
                        </a:lnTo>
                        <a:lnTo>
                          <a:pt x="0" y="12"/>
                        </a:lnTo>
                      </a:path>
                    </a:pathLst>
                  </a:custGeom>
                  <a:noFill/>
                  <a:ln w="0">
                    <a:solidFill>
                      <a:srgbClr val="ff00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>
                    <a:off x="4762080" y="3616200"/>
                    <a:ext cx="56520" cy="177480"/>
                  </a:xfrm>
                  <a:custGeom>
                    <a:avLst/>
                    <a:gdLst/>
                    <a:ahLst/>
                    <a:rect l="l" t="t" r="r" b="b"/>
                    <a:pathLst>
                      <a:path w="267" h="260">
                        <a:moveTo>
                          <a:pt x="33" y="25"/>
                        </a:moveTo>
                        <a:lnTo>
                          <a:pt x="47" y="10"/>
                        </a:lnTo>
                        <a:lnTo>
                          <a:pt x="64" y="4"/>
                        </a:lnTo>
                        <a:lnTo>
                          <a:pt x="80" y="0"/>
                        </a:lnTo>
                        <a:lnTo>
                          <a:pt x="98" y="2"/>
                        </a:lnTo>
                        <a:lnTo>
                          <a:pt x="116" y="4"/>
                        </a:lnTo>
                        <a:lnTo>
                          <a:pt x="116" y="6"/>
                        </a:lnTo>
                        <a:lnTo>
                          <a:pt x="138" y="6"/>
                        </a:lnTo>
                        <a:lnTo>
                          <a:pt x="160" y="6"/>
                        </a:lnTo>
                        <a:lnTo>
                          <a:pt x="180" y="6"/>
                        </a:lnTo>
                        <a:lnTo>
                          <a:pt x="200" y="8"/>
                        </a:lnTo>
                        <a:lnTo>
                          <a:pt x="220" y="14"/>
                        </a:lnTo>
                        <a:lnTo>
                          <a:pt x="220" y="16"/>
                        </a:lnTo>
                        <a:lnTo>
                          <a:pt x="227" y="18"/>
                        </a:lnTo>
                        <a:lnTo>
                          <a:pt x="231" y="23"/>
                        </a:lnTo>
                        <a:lnTo>
                          <a:pt x="236" y="29"/>
                        </a:lnTo>
                        <a:lnTo>
                          <a:pt x="240" y="37"/>
                        </a:lnTo>
                        <a:lnTo>
                          <a:pt x="242" y="43"/>
                        </a:lnTo>
                        <a:lnTo>
                          <a:pt x="242" y="45"/>
                        </a:lnTo>
                        <a:lnTo>
                          <a:pt x="251" y="73"/>
                        </a:lnTo>
                        <a:lnTo>
                          <a:pt x="260" y="104"/>
                        </a:lnTo>
                        <a:lnTo>
                          <a:pt x="265" y="132"/>
                        </a:lnTo>
                        <a:lnTo>
                          <a:pt x="267" y="163"/>
                        </a:lnTo>
                        <a:lnTo>
                          <a:pt x="265" y="195"/>
                        </a:lnTo>
                        <a:lnTo>
                          <a:pt x="265" y="197"/>
                        </a:lnTo>
                        <a:lnTo>
                          <a:pt x="262" y="203"/>
                        </a:lnTo>
                        <a:lnTo>
                          <a:pt x="262" y="210"/>
                        </a:lnTo>
                        <a:lnTo>
                          <a:pt x="260" y="218"/>
                        </a:lnTo>
                        <a:lnTo>
                          <a:pt x="258" y="224"/>
                        </a:lnTo>
                        <a:lnTo>
                          <a:pt x="254" y="230"/>
                        </a:lnTo>
                        <a:lnTo>
                          <a:pt x="254" y="232"/>
                        </a:lnTo>
                        <a:lnTo>
                          <a:pt x="247" y="236"/>
                        </a:lnTo>
                        <a:lnTo>
                          <a:pt x="240" y="242"/>
                        </a:lnTo>
                        <a:lnTo>
                          <a:pt x="231" y="246"/>
                        </a:lnTo>
                        <a:lnTo>
                          <a:pt x="222" y="250"/>
                        </a:lnTo>
                        <a:lnTo>
                          <a:pt x="211" y="252"/>
                        </a:lnTo>
                        <a:lnTo>
                          <a:pt x="211" y="254"/>
                        </a:lnTo>
                        <a:lnTo>
                          <a:pt x="194" y="254"/>
                        </a:lnTo>
                        <a:lnTo>
                          <a:pt x="176" y="256"/>
                        </a:lnTo>
                        <a:lnTo>
                          <a:pt x="158" y="256"/>
                        </a:lnTo>
                        <a:lnTo>
                          <a:pt x="140" y="258"/>
                        </a:lnTo>
                        <a:lnTo>
                          <a:pt x="122" y="258"/>
                        </a:lnTo>
                        <a:lnTo>
                          <a:pt x="105" y="258"/>
                        </a:lnTo>
                        <a:lnTo>
                          <a:pt x="87" y="258"/>
                        </a:lnTo>
                        <a:lnTo>
                          <a:pt x="69" y="258"/>
                        </a:lnTo>
                        <a:lnTo>
                          <a:pt x="51" y="258"/>
                        </a:lnTo>
                        <a:lnTo>
                          <a:pt x="33" y="258"/>
                        </a:lnTo>
                        <a:lnTo>
                          <a:pt x="33" y="260"/>
                        </a:lnTo>
                        <a:lnTo>
                          <a:pt x="27" y="258"/>
                        </a:lnTo>
                        <a:lnTo>
                          <a:pt x="20" y="256"/>
                        </a:lnTo>
                        <a:lnTo>
                          <a:pt x="13" y="252"/>
                        </a:lnTo>
                        <a:lnTo>
                          <a:pt x="7" y="250"/>
                        </a:lnTo>
                        <a:lnTo>
                          <a:pt x="0" y="246"/>
                        </a:lnTo>
                        <a:lnTo>
                          <a:pt x="0" y="248"/>
                        </a:lnTo>
                        <a:lnTo>
                          <a:pt x="7" y="242"/>
                        </a:lnTo>
                        <a:lnTo>
                          <a:pt x="13" y="236"/>
                        </a:lnTo>
                        <a:lnTo>
                          <a:pt x="18" y="228"/>
                        </a:lnTo>
                        <a:lnTo>
                          <a:pt x="22" y="222"/>
                        </a:lnTo>
                        <a:lnTo>
                          <a:pt x="24" y="216"/>
                        </a:lnTo>
                        <a:lnTo>
                          <a:pt x="24" y="218"/>
                        </a:lnTo>
                        <a:lnTo>
                          <a:pt x="27" y="197"/>
                        </a:lnTo>
                        <a:lnTo>
                          <a:pt x="31" y="179"/>
                        </a:lnTo>
                        <a:lnTo>
                          <a:pt x="36" y="159"/>
                        </a:lnTo>
                        <a:lnTo>
                          <a:pt x="38" y="140"/>
                        </a:lnTo>
                        <a:lnTo>
                          <a:pt x="40" y="120"/>
                        </a:lnTo>
                        <a:lnTo>
                          <a:pt x="40" y="102"/>
                        </a:lnTo>
                        <a:lnTo>
                          <a:pt x="38" y="84"/>
                        </a:lnTo>
                        <a:lnTo>
                          <a:pt x="36" y="65"/>
                        </a:lnTo>
                        <a:lnTo>
                          <a:pt x="29" y="45"/>
                        </a:lnTo>
                        <a:lnTo>
                          <a:pt x="22" y="27"/>
                        </a:lnTo>
                        <a:lnTo>
                          <a:pt x="22" y="29"/>
                        </a:lnTo>
                        <a:lnTo>
                          <a:pt x="22" y="27"/>
                        </a:lnTo>
                        <a:lnTo>
                          <a:pt x="24" y="27"/>
                        </a:lnTo>
                        <a:lnTo>
                          <a:pt x="27" y="25"/>
                        </a:lnTo>
                        <a:lnTo>
                          <a:pt x="31" y="23"/>
                        </a:lnTo>
                        <a:lnTo>
                          <a:pt x="33" y="23"/>
                        </a:lnTo>
                        <a:lnTo>
                          <a:pt x="33" y="25"/>
                        </a:lnTo>
                        <a:close/>
                      </a:path>
                    </a:pathLst>
                  </a:custGeom>
                  <a:solidFill>
                    <a:srgbClr val="fefefe"/>
                  </a:solidFill>
                  <a:ln w="0">
                    <a:solidFill>
                      <a:srgbClr val="ff00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" name=""/>
                  <p:cNvSpPr/>
                  <p:nvPr/>
                </p:nvSpPr>
                <p:spPr>
                  <a:xfrm>
                    <a:off x="4762080" y="3616200"/>
                    <a:ext cx="56520" cy="177480"/>
                  </a:xfrm>
                  <a:custGeom>
                    <a:avLst/>
                    <a:gdLst/>
                    <a:ahLst/>
                    <a:rect l="l" t="t" r="r" b="b"/>
                    <a:pathLst>
                      <a:path w="267" h="260">
                        <a:moveTo>
                          <a:pt x="33" y="25"/>
                        </a:moveTo>
                        <a:lnTo>
                          <a:pt x="47" y="10"/>
                        </a:lnTo>
                        <a:lnTo>
                          <a:pt x="64" y="4"/>
                        </a:lnTo>
                        <a:lnTo>
                          <a:pt x="80" y="0"/>
                        </a:lnTo>
                        <a:lnTo>
                          <a:pt x="98" y="2"/>
                        </a:lnTo>
                        <a:lnTo>
                          <a:pt x="116" y="4"/>
                        </a:lnTo>
                        <a:lnTo>
                          <a:pt x="116" y="6"/>
                        </a:lnTo>
                        <a:lnTo>
                          <a:pt x="138" y="6"/>
                        </a:lnTo>
                        <a:lnTo>
                          <a:pt x="160" y="6"/>
                        </a:lnTo>
                        <a:lnTo>
                          <a:pt x="180" y="6"/>
                        </a:lnTo>
                        <a:lnTo>
                          <a:pt x="200" y="8"/>
                        </a:lnTo>
                        <a:lnTo>
                          <a:pt x="220" y="14"/>
                        </a:lnTo>
                        <a:lnTo>
                          <a:pt x="220" y="16"/>
                        </a:lnTo>
                        <a:lnTo>
                          <a:pt x="227" y="18"/>
                        </a:lnTo>
                        <a:lnTo>
                          <a:pt x="231" y="23"/>
                        </a:lnTo>
                        <a:lnTo>
                          <a:pt x="236" y="29"/>
                        </a:lnTo>
                        <a:lnTo>
                          <a:pt x="240" y="37"/>
                        </a:lnTo>
                        <a:lnTo>
                          <a:pt x="242" y="43"/>
                        </a:lnTo>
                        <a:lnTo>
                          <a:pt x="242" y="45"/>
                        </a:lnTo>
                        <a:lnTo>
                          <a:pt x="251" y="73"/>
                        </a:lnTo>
                        <a:lnTo>
                          <a:pt x="260" y="104"/>
                        </a:lnTo>
                        <a:lnTo>
                          <a:pt x="265" y="132"/>
                        </a:lnTo>
                        <a:lnTo>
                          <a:pt x="267" y="163"/>
                        </a:lnTo>
                        <a:lnTo>
                          <a:pt x="265" y="195"/>
                        </a:lnTo>
                        <a:lnTo>
                          <a:pt x="265" y="197"/>
                        </a:lnTo>
                        <a:lnTo>
                          <a:pt x="262" y="203"/>
                        </a:lnTo>
                        <a:lnTo>
                          <a:pt x="262" y="210"/>
                        </a:lnTo>
                        <a:lnTo>
                          <a:pt x="260" y="218"/>
                        </a:lnTo>
                        <a:lnTo>
                          <a:pt x="258" y="224"/>
                        </a:lnTo>
                        <a:lnTo>
                          <a:pt x="254" y="230"/>
                        </a:lnTo>
                        <a:lnTo>
                          <a:pt x="254" y="232"/>
                        </a:lnTo>
                        <a:lnTo>
                          <a:pt x="247" y="236"/>
                        </a:lnTo>
                        <a:lnTo>
                          <a:pt x="240" y="242"/>
                        </a:lnTo>
                        <a:lnTo>
                          <a:pt x="231" y="246"/>
                        </a:lnTo>
                        <a:lnTo>
                          <a:pt x="222" y="250"/>
                        </a:lnTo>
                        <a:lnTo>
                          <a:pt x="211" y="252"/>
                        </a:lnTo>
                        <a:lnTo>
                          <a:pt x="211" y="254"/>
                        </a:lnTo>
                        <a:lnTo>
                          <a:pt x="194" y="254"/>
                        </a:lnTo>
                        <a:lnTo>
                          <a:pt x="176" y="256"/>
                        </a:lnTo>
                        <a:lnTo>
                          <a:pt x="158" y="256"/>
                        </a:lnTo>
                        <a:lnTo>
                          <a:pt x="140" y="258"/>
                        </a:lnTo>
                        <a:lnTo>
                          <a:pt x="122" y="258"/>
                        </a:lnTo>
                        <a:lnTo>
                          <a:pt x="105" y="258"/>
                        </a:lnTo>
                        <a:lnTo>
                          <a:pt x="87" y="258"/>
                        </a:lnTo>
                        <a:lnTo>
                          <a:pt x="69" y="258"/>
                        </a:lnTo>
                        <a:lnTo>
                          <a:pt x="51" y="258"/>
                        </a:lnTo>
                        <a:lnTo>
                          <a:pt x="33" y="258"/>
                        </a:lnTo>
                        <a:lnTo>
                          <a:pt x="33" y="260"/>
                        </a:lnTo>
                        <a:lnTo>
                          <a:pt x="27" y="258"/>
                        </a:lnTo>
                        <a:lnTo>
                          <a:pt x="20" y="256"/>
                        </a:lnTo>
                        <a:lnTo>
                          <a:pt x="13" y="252"/>
                        </a:lnTo>
                        <a:lnTo>
                          <a:pt x="7" y="250"/>
                        </a:lnTo>
                        <a:lnTo>
                          <a:pt x="0" y="246"/>
                        </a:lnTo>
                        <a:lnTo>
                          <a:pt x="0" y="248"/>
                        </a:lnTo>
                        <a:lnTo>
                          <a:pt x="7" y="242"/>
                        </a:lnTo>
                        <a:lnTo>
                          <a:pt x="13" y="236"/>
                        </a:lnTo>
                        <a:lnTo>
                          <a:pt x="18" y="228"/>
                        </a:lnTo>
                        <a:lnTo>
                          <a:pt x="22" y="222"/>
                        </a:lnTo>
                        <a:lnTo>
                          <a:pt x="24" y="216"/>
                        </a:lnTo>
                        <a:lnTo>
                          <a:pt x="24" y="218"/>
                        </a:lnTo>
                        <a:lnTo>
                          <a:pt x="27" y="197"/>
                        </a:lnTo>
                        <a:lnTo>
                          <a:pt x="31" y="179"/>
                        </a:lnTo>
                        <a:lnTo>
                          <a:pt x="36" y="159"/>
                        </a:lnTo>
                        <a:lnTo>
                          <a:pt x="38" y="140"/>
                        </a:lnTo>
                        <a:lnTo>
                          <a:pt x="40" y="120"/>
                        </a:lnTo>
                        <a:lnTo>
                          <a:pt x="40" y="102"/>
                        </a:lnTo>
                        <a:lnTo>
                          <a:pt x="38" y="84"/>
                        </a:lnTo>
                        <a:lnTo>
                          <a:pt x="36" y="65"/>
                        </a:lnTo>
                        <a:lnTo>
                          <a:pt x="29" y="45"/>
                        </a:lnTo>
                        <a:lnTo>
                          <a:pt x="22" y="27"/>
                        </a:lnTo>
                        <a:lnTo>
                          <a:pt x="22" y="29"/>
                        </a:lnTo>
                        <a:lnTo>
                          <a:pt x="22" y="27"/>
                        </a:lnTo>
                        <a:lnTo>
                          <a:pt x="24" y="27"/>
                        </a:lnTo>
                        <a:lnTo>
                          <a:pt x="27" y="25"/>
                        </a:lnTo>
                        <a:lnTo>
                          <a:pt x="31" y="23"/>
                        </a:lnTo>
                        <a:lnTo>
                          <a:pt x="33" y="23"/>
                        </a:lnTo>
                      </a:path>
                    </a:pathLst>
                  </a:custGeom>
                  <a:solidFill>
                    <a:srgbClr val="ffff00"/>
                  </a:solidFill>
                  <a:ln w="0">
                    <a:solidFill>
                      <a:srgbClr val="ff00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7" name=""/>
                <p:cNvSpPr/>
                <p:nvPr/>
              </p:nvSpPr>
              <p:spPr>
                <a:xfrm>
                  <a:off x="4027680" y="4098600"/>
                  <a:ext cx="1523880" cy="52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(</a:t>
                  </a:r>
                  <a:r>
                    <a:rPr b="0" lang="ar-SA" sz="2000" spc="-1" strike="noStrike">
                      <a:solidFill>
                        <a:srgbClr val="000000"/>
                      </a:solidFill>
                      <a:latin typeface="Times New Roman"/>
                      <a:cs typeface="Times New Roman"/>
                    </a:rPr>
                    <a:t>ال</a:t>
                  </a:r>
                  <a:r>
                    <a:rPr b="0" lang="ar-SA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) </a:t>
                  </a:r>
                  <a:r>
                    <a:rPr b="0" lang="ar-SA" sz="2000" spc="-1" strike="noStrike">
                      <a:solidFill>
                        <a:srgbClr val="000000"/>
                      </a:solidFill>
                      <a:latin typeface="Times New Roman"/>
                      <a:cs typeface="Times New Roman"/>
                    </a:rPr>
                    <a:t>الشمسية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4136400" y="4624560"/>
                  <a:ext cx="1415160" cy="346896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1200" spc="-1" strike="noStrike">
                      <a:solidFill>
                        <a:srgbClr val="000000"/>
                      </a:solidFill>
                      <a:latin typeface="Times New Roman"/>
                    </a:rPr>
                    <a:t>................................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1200" spc="-1" strike="noStrike">
                      <a:solidFill>
                        <a:srgbClr val="000000"/>
                      </a:solidFill>
                      <a:latin typeface="Times New Roman"/>
                    </a:rPr>
                    <a:t>................................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1200" spc="-1" strike="noStrike">
                      <a:solidFill>
                        <a:srgbClr val="000000"/>
                      </a:solidFill>
                      <a:latin typeface="Times New Roman"/>
                    </a:rPr>
                    <a:t>................................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1200" spc="-1" strike="noStrike">
                      <a:solidFill>
                        <a:srgbClr val="000000"/>
                      </a:solidFill>
                      <a:latin typeface="Times New Roman"/>
                    </a:rPr>
                    <a:t>................................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1200" spc="-1" strike="noStrike">
                      <a:solidFill>
                        <a:srgbClr val="000000"/>
                      </a:solidFill>
                      <a:latin typeface="Times New Roman"/>
                    </a:rPr>
                    <a:t>................................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1200" spc="-1" strike="noStrike">
                      <a:solidFill>
                        <a:srgbClr val="000000"/>
                      </a:solidFill>
                      <a:latin typeface="Times New Roman"/>
                    </a:rPr>
                    <a:t>................................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1200" spc="-1" strike="noStrike">
                      <a:solidFill>
                        <a:srgbClr val="000000"/>
                      </a:solidFill>
                      <a:latin typeface="Times New Roman"/>
                    </a:rPr>
                    <a:t>................................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69" name="" descr=""/>
              <p:cNvPicPr/>
              <p:nvPr/>
            </p:nvPicPr>
            <p:blipFill>
              <a:blip r:embed="rId3"/>
              <a:stretch/>
            </p:blipFill>
            <p:spPr>
              <a:xfrm rot="267000">
                <a:off x="5224680" y="2626920"/>
                <a:ext cx="1632600" cy="15170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0" name=""/>
            <p:cNvGrpSpPr/>
            <p:nvPr/>
          </p:nvGrpSpPr>
          <p:grpSpPr>
            <a:xfrm>
              <a:off x="0" y="2837160"/>
              <a:ext cx="2830320" cy="5466240"/>
              <a:chOff x="0" y="2837160"/>
              <a:chExt cx="2830320" cy="5466240"/>
            </a:xfrm>
          </p:grpSpPr>
          <p:grpSp>
            <p:nvGrpSpPr>
              <p:cNvPr id="71" name=""/>
              <p:cNvGrpSpPr/>
              <p:nvPr/>
            </p:nvGrpSpPr>
            <p:grpSpPr>
              <a:xfrm>
                <a:off x="870840" y="3467880"/>
                <a:ext cx="1959480" cy="4835520"/>
                <a:chOff x="870840" y="3467880"/>
                <a:chExt cx="1959480" cy="4835520"/>
              </a:xfrm>
            </p:grpSpPr>
            <p:grpSp>
              <p:nvGrpSpPr>
                <p:cNvPr id="72" name=""/>
                <p:cNvGrpSpPr/>
                <p:nvPr/>
              </p:nvGrpSpPr>
              <p:grpSpPr>
                <a:xfrm>
                  <a:off x="870840" y="3467880"/>
                  <a:ext cx="1959480" cy="4835520"/>
                  <a:chOff x="870840" y="3467880"/>
                  <a:chExt cx="1959480" cy="483552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>
                    <a:off x="922320" y="3685680"/>
                    <a:ext cx="1870920" cy="4549320"/>
                  </a:xfrm>
                  <a:custGeom>
                    <a:avLst/>
                    <a:gdLst/>
                    <a:ahLst/>
                    <a:rect l="l" t="t" r="r" b="b"/>
                    <a:pathLst>
                      <a:path w="8803" h="6662">
                        <a:moveTo>
                          <a:pt x="0" y="6628"/>
                        </a:moveTo>
                        <a:lnTo>
                          <a:pt x="42" y="6640"/>
                        </a:lnTo>
                        <a:lnTo>
                          <a:pt x="91" y="6652"/>
                        </a:lnTo>
                        <a:lnTo>
                          <a:pt x="144" y="6658"/>
                        </a:lnTo>
                        <a:lnTo>
                          <a:pt x="204" y="6662"/>
                        </a:lnTo>
                        <a:lnTo>
                          <a:pt x="271" y="6660"/>
                        </a:lnTo>
                        <a:lnTo>
                          <a:pt x="340" y="6652"/>
                        </a:lnTo>
                        <a:lnTo>
                          <a:pt x="418" y="6636"/>
                        </a:lnTo>
                        <a:lnTo>
                          <a:pt x="498" y="6613"/>
                        </a:lnTo>
                        <a:lnTo>
                          <a:pt x="585" y="6581"/>
                        </a:lnTo>
                        <a:lnTo>
                          <a:pt x="676" y="6540"/>
                        </a:lnTo>
                        <a:lnTo>
                          <a:pt x="676" y="6542"/>
                        </a:lnTo>
                        <a:lnTo>
                          <a:pt x="803" y="6489"/>
                        </a:lnTo>
                        <a:lnTo>
                          <a:pt x="925" y="6459"/>
                        </a:lnTo>
                        <a:lnTo>
                          <a:pt x="1039" y="6447"/>
                        </a:lnTo>
                        <a:lnTo>
                          <a:pt x="1143" y="6449"/>
                        </a:lnTo>
                        <a:lnTo>
                          <a:pt x="1239" y="6461"/>
                        </a:lnTo>
                        <a:lnTo>
                          <a:pt x="1319" y="6479"/>
                        </a:lnTo>
                        <a:lnTo>
                          <a:pt x="1385" y="6499"/>
                        </a:lnTo>
                        <a:lnTo>
                          <a:pt x="1434" y="6520"/>
                        </a:lnTo>
                        <a:lnTo>
                          <a:pt x="1466" y="6534"/>
                        </a:lnTo>
                        <a:lnTo>
                          <a:pt x="1477" y="6540"/>
                        </a:lnTo>
                        <a:lnTo>
                          <a:pt x="1477" y="6542"/>
                        </a:lnTo>
                        <a:lnTo>
                          <a:pt x="1488" y="6546"/>
                        </a:lnTo>
                        <a:lnTo>
                          <a:pt x="1526" y="6560"/>
                        </a:lnTo>
                        <a:lnTo>
                          <a:pt x="1581" y="6579"/>
                        </a:lnTo>
                        <a:lnTo>
                          <a:pt x="1655" y="6599"/>
                        </a:lnTo>
                        <a:lnTo>
                          <a:pt x="1744" y="6617"/>
                        </a:lnTo>
                        <a:lnTo>
                          <a:pt x="1841" y="6628"/>
                        </a:lnTo>
                        <a:lnTo>
                          <a:pt x="1946" y="6630"/>
                        </a:lnTo>
                        <a:lnTo>
                          <a:pt x="2057" y="6619"/>
                        </a:lnTo>
                        <a:lnTo>
                          <a:pt x="2168" y="6589"/>
                        </a:lnTo>
                        <a:lnTo>
                          <a:pt x="2277" y="6540"/>
                        </a:lnTo>
                        <a:lnTo>
                          <a:pt x="2277" y="6542"/>
                        </a:lnTo>
                        <a:lnTo>
                          <a:pt x="2384" y="6491"/>
                        </a:lnTo>
                        <a:lnTo>
                          <a:pt x="2495" y="6463"/>
                        </a:lnTo>
                        <a:lnTo>
                          <a:pt x="2607" y="6451"/>
                        </a:lnTo>
                        <a:lnTo>
                          <a:pt x="2711" y="6453"/>
                        </a:lnTo>
                        <a:lnTo>
                          <a:pt x="2811" y="6465"/>
                        </a:lnTo>
                        <a:lnTo>
                          <a:pt x="2898" y="6481"/>
                        </a:lnTo>
                        <a:lnTo>
                          <a:pt x="2971" y="6502"/>
                        </a:lnTo>
                        <a:lnTo>
                          <a:pt x="3027" y="6522"/>
                        </a:lnTo>
                        <a:lnTo>
                          <a:pt x="3065" y="6534"/>
                        </a:lnTo>
                        <a:lnTo>
                          <a:pt x="3078" y="6540"/>
                        </a:lnTo>
                        <a:lnTo>
                          <a:pt x="3078" y="6542"/>
                        </a:lnTo>
                        <a:lnTo>
                          <a:pt x="3092" y="6546"/>
                        </a:lnTo>
                        <a:lnTo>
                          <a:pt x="3129" y="6558"/>
                        </a:lnTo>
                        <a:lnTo>
                          <a:pt x="3187" y="6575"/>
                        </a:lnTo>
                        <a:lnTo>
                          <a:pt x="3263" y="6593"/>
                        </a:lnTo>
                        <a:lnTo>
                          <a:pt x="3352" y="6609"/>
                        </a:lnTo>
                        <a:lnTo>
                          <a:pt x="3452" y="6619"/>
                        </a:lnTo>
                        <a:lnTo>
                          <a:pt x="3559" y="6621"/>
                        </a:lnTo>
                        <a:lnTo>
                          <a:pt x="3665" y="6611"/>
                        </a:lnTo>
                        <a:lnTo>
                          <a:pt x="3774" y="6585"/>
                        </a:lnTo>
                        <a:lnTo>
                          <a:pt x="3879" y="6540"/>
                        </a:lnTo>
                        <a:lnTo>
                          <a:pt x="3879" y="6542"/>
                        </a:lnTo>
                        <a:lnTo>
                          <a:pt x="3981" y="6497"/>
                        </a:lnTo>
                        <a:lnTo>
                          <a:pt x="4090" y="6471"/>
                        </a:lnTo>
                        <a:lnTo>
                          <a:pt x="4197" y="6461"/>
                        </a:lnTo>
                        <a:lnTo>
                          <a:pt x="4304" y="6461"/>
                        </a:lnTo>
                        <a:lnTo>
                          <a:pt x="4404" y="6471"/>
                        </a:lnTo>
                        <a:lnTo>
                          <a:pt x="4493" y="6487"/>
                        </a:lnTo>
                        <a:lnTo>
                          <a:pt x="4568" y="6506"/>
                        </a:lnTo>
                        <a:lnTo>
                          <a:pt x="4626" y="6524"/>
                        </a:lnTo>
                        <a:lnTo>
                          <a:pt x="4664" y="6536"/>
                        </a:lnTo>
                        <a:lnTo>
                          <a:pt x="4680" y="6540"/>
                        </a:lnTo>
                        <a:lnTo>
                          <a:pt x="4680" y="6542"/>
                        </a:lnTo>
                        <a:lnTo>
                          <a:pt x="4689" y="6546"/>
                        </a:lnTo>
                        <a:lnTo>
                          <a:pt x="4722" y="6563"/>
                        </a:lnTo>
                        <a:lnTo>
                          <a:pt x="4771" y="6583"/>
                        </a:lnTo>
                        <a:lnTo>
                          <a:pt x="4840" y="6605"/>
                        </a:lnTo>
                        <a:lnTo>
                          <a:pt x="4920" y="6626"/>
                        </a:lnTo>
                        <a:lnTo>
                          <a:pt x="5015" y="6638"/>
                        </a:lnTo>
                        <a:lnTo>
                          <a:pt x="5120" y="6640"/>
                        </a:lnTo>
                        <a:lnTo>
                          <a:pt x="5233" y="6626"/>
                        </a:lnTo>
                        <a:lnTo>
                          <a:pt x="5354" y="6595"/>
                        </a:lnTo>
                        <a:lnTo>
                          <a:pt x="5480" y="6540"/>
                        </a:lnTo>
                        <a:lnTo>
                          <a:pt x="5480" y="6542"/>
                        </a:lnTo>
                        <a:lnTo>
                          <a:pt x="5605" y="6487"/>
                        </a:lnTo>
                        <a:lnTo>
                          <a:pt x="5725" y="6455"/>
                        </a:lnTo>
                        <a:lnTo>
                          <a:pt x="5838" y="6443"/>
                        </a:lnTo>
                        <a:lnTo>
                          <a:pt x="5943" y="6445"/>
                        </a:lnTo>
                        <a:lnTo>
                          <a:pt x="6039" y="6457"/>
                        </a:lnTo>
                        <a:lnTo>
                          <a:pt x="6121" y="6475"/>
                        </a:lnTo>
                        <a:lnTo>
                          <a:pt x="6188" y="6497"/>
                        </a:lnTo>
                        <a:lnTo>
                          <a:pt x="6237" y="6520"/>
                        </a:lnTo>
                        <a:lnTo>
                          <a:pt x="6270" y="6534"/>
                        </a:lnTo>
                        <a:lnTo>
                          <a:pt x="6281" y="6540"/>
                        </a:lnTo>
                        <a:lnTo>
                          <a:pt x="6281" y="6542"/>
                        </a:lnTo>
                        <a:lnTo>
                          <a:pt x="6290" y="6546"/>
                        </a:lnTo>
                        <a:lnTo>
                          <a:pt x="6319" y="6560"/>
                        </a:lnTo>
                        <a:lnTo>
                          <a:pt x="6363" y="6579"/>
                        </a:lnTo>
                        <a:lnTo>
                          <a:pt x="6426" y="6597"/>
                        </a:lnTo>
                        <a:lnTo>
                          <a:pt x="6504" y="6615"/>
                        </a:lnTo>
                        <a:lnTo>
                          <a:pt x="6595" y="6626"/>
                        </a:lnTo>
                        <a:lnTo>
                          <a:pt x="6699" y="6628"/>
                        </a:lnTo>
                        <a:lnTo>
                          <a:pt x="6817" y="6615"/>
                        </a:lnTo>
                        <a:lnTo>
                          <a:pt x="6944" y="6589"/>
                        </a:lnTo>
                        <a:lnTo>
                          <a:pt x="7082" y="6540"/>
                        </a:lnTo>
                        <a:lnTo>
                          <a:pt x="7082" y="6542"/>
                        </a:lnTo>
                        <a:lnTo>
                          <a:pt x="7193" y="6504"/>
                        </a:lnTo>
                        <a:lnTo>
                          <a:pt x="7304" y="6483"/>
                        </a:lnTo>
                        <a:lnTo>
                          <a:pt x="7415" y="6473"/>
                        </a:lnTo>
                        <a:lnTo>
                          <a:pt x="7522" y="6475"/>
                        </a:lnTo>
                        <a:lnTo>
                          <a:pt x="7618" y="6483"/>
                        </a:lnTo>
                        <a:lnTo>
                          <a:pt x="7705" y="6497"/>
                        </a:lnTo>
                        <a:lnTo>
                          <a:pt x="7778" y="6512"/>
                        </a:lnTo>
                        <a:lnTo>
                          <a:pt x="7834" y="6526"/>
                        </a:lnTo>
                        <a:lnTo>
                          <a:pt x="7869" y="6536"/>
                        </a:lnTo>
                        <a:lnTo>
                          <a:pt x="7883" y="6540"/>
                        </a:lnTo>
                        <a:lnTo>
                          <a:pt x="7883" y="6542"/>
                        </a:lnTo>
                        <a:lnTo>
                          <a:pt x="7898" y="6546"/>
                        </a:lnTo>
                        <a:lnTo>
                          <a:pt x="7947" y="6558"/>
                        </a:lnTo>
                        <a:lnTo>
                          <a:pt x="8018" y="6575"/>
                        </a:lnTo>
                        <a:lnTo>
                          <a:pt x="8109" y="6593"/>
                        </a:lnTo>
                        <a:lnTo>
                          <a:pt x="8214" y="6609"/>
                        </a:lnTo>
                        <a:lnTo>
                          <a:pt x="8323" y="6619"/>
                        </a:lnTo>
                        <a:lnTo>
                          <a:pt x="8434" y="6621"/>
                        </a:lnTo>
                        <a:lnTo>
                          <a:pt x="8539" y="6611"/>
                        </a:lnTo>
                        <a:lnTo>
                          <a:pt x="8630" y="6585"/>
                        </a:lnTo>
                        <a:lnTo>
                          <a:pt x="8706" y="6540"/>
                        </a:lnTo>
                        <a:lnTo>
                          <a:pt x="8706" y="6542"/>
                        </a:lnTo>
                        <a:lnTo>
                          <a:pt x="8757" y="6475"/>
                        </a:lnTo>
                        <a:lnTo>
                          <a:pt x="8786" y="6394"/>
                        </a:lnTo>
                        <a:lnTo>
                          <a:pt x="8797" y="6302"/>
                        </a:lnTo>
                        <a:lnTo>
                          <a:pt x="8797" y="6205"/>
                        </a:lnTo>
                        <a:lnTo>
                          <a:pt x="8783" y="6105"/>
                        </a:lnTo>
                        <a:lnTo>
                          <a:pt x="8766" y="6014"/>
                        </a:lnTo>
                        <a:lnTo>
                          <a:pt x="8743" y="5932"/>
                        </a:lnTo>
                        <a:lnTo>
                          <a:pt x="8726" y="5867"/>
                        </a:lnTo>
                        <a:lnTo>
                          <a:pt x="8710" y="5825"/>
                        </a:lnTo>
                        <a:lnTo>
                          <a:pt x="8706" y="5808"/>
                        </a:lnTo>
                        <a:lnTo>
                          <a:pt x="8706" y="5810"/>
                        </a:lnTo>
                        <a:lnTo>
                          <a:pt x="8699" y="5798"/>
                        </a:lnTo>
                        <a:lnTo>
                          <a:pt x="8688" y="5766"/>
                        </a:lnTo>
                        <a:lnTo>
                          <a:pt x="8670" y="5717"/>
                        </a:lnTo>
                        <a:lnTo>
                          <a:pt x="8652" y="5652"/>
                        </a:lnTo>
                        <a:lnTo>
                          <a:pt x="8639" y="5572"/>
                        </a:lnTo>
                        <a:lnTo>
                          <a:pt x="8628" y="5483"/>
                        </a:lnTo>
                        <a:lnTo>
                          <a:pt x="8625" y="5387"/>
                        </a:lnTo>
                        <a:lnTo>
                          <a:pt x="8637" y="5286"/>
                        </a:lnTo>
                        <a:lnTo>
                          <a:pt x="8661" y="5182"/>
                        </a:lnTo>
                        <a:lnTo>
                          <a:pt x="8706" y="5076"/>
                        </a:lnTo>
                        <a:lnTo>
                          <a:pt x="8706" y="5078"/>
                        </a:lnTo>
                        <a:lnTo>
                          <a:pt x="8748" y="4973"/>
                        </a:lnTo>
                        <a:lnTo>
                          <a:pt x="8772" y="4869"/>
                        </a:lnTo>
                        <a:lnTo>
                          <a:pt x="8783" y="4767"/>
                        </a:lnTo>
                        <a:lnTo>
                          <a:pt x="8781" y="4670"/>
                        </a:lnTo>
                        <a:lnTo>
                          <a:pt x="8772" y="4580"/>
                        </a:lnTo>
                        <a:lnTo>
                          <a:pt x="8757" y="4503"/>
                        </a:lnTo>
                        <a:lnTo>
                          <a:pt x="8739" y="4438"/>
                        </a:lnTo>
                        <a:lnTo>
                          <a:pt x="8721" y="4387"/>
                        </a:lnTo>
                        <a:lnTo>
                          <a:pt x="8710" y="4357"/>
                        </a:lnTo>
                        <a:lnTo>
                          <a:pt x="8706" y="4344"/>
                        </a:lnTo>
                        <a:lnTo>
                          <a:pt x="8706" y="4346"/>
                        </a:lnTo>
                        <a:lnTo>
                          <a:pt x="8699" y="4334"/>
                        </a:lnTo>
                        <a:lnTo>
                          <a:pt x="8688" y="4300"/>
                        </a:lnTo>
                        <a:lnTo>
                          <a:pt x="8672" y="4249"/>
                        </a:lnTo>
                        <a:lnTo>
                          <a:pt x="8657" y="4182"/>
                        </a:lnTo>
                        <a:lnTo>
                          <a:pt x="8641" y="4100"/>
                        </a:lnTo>
                        <a:lnTo>
                          <a:pt x="8632" y="4011"/>
                        </a:lnTo>
                        <a:lnTo>
                          <a:pt x="8630" y="3915"/>
                        </a:lnTo>
                        <a:lnTo>
                          <a:pt x="8641" y="3814"/>
                        </a:lnTo>
                        <a:lnTo>
                          <a:pt x="8663" y="3712"/>
                        </a:lnTo>
                        <a:lnTo>
                          <a:pt x="8706" y="3613"/>
                        </a:lnTo>
                        <a:lnTo>
                          <a:pt x="8706" y="3615"/>
                        </a:lnTo>
                        <a:lnTo>
                          <a:pt x="8746" y="3513"/>
                        </a:lnTo>
                        <a:lnTo>
                          <a:pt x="8768" y="3411"/>
                        </a:lnTo>
                        <a:lnTo>
                          <a:pt x="8779" y="3312"/>
                        </a:lnTo>
                        <a:lnTo>
                          <a:pt x="8777" y="3214"/>
                        </a:lnTo>
                        <a:lnTo>
                          <a:pt x="8768" y="3125"/>
                        </a:lnTo>
                        <a:lnTo>
                          <a:pt x="8752" y="3045"/>
                        </a:lnTo>
                        <a:lnTo>
                          <a:pt x="8737" y="2978"/>
                        </a:lnTo>
                        <a:lnTo>
                          <a:pt x="8721" y="2925"/>
                        </a:lnTo>
                        <a:lnTo>
                          <a:pt x="8710" y="2893"/>
                        </a:lnTo>
                        <a:lnTo>
                          <a:pt x="8706" y="2881"/>
                        </a:lnTo>
                        <a:lnTo>
                          <a:pt x="8706" y="2883"/>
                        </a:lnTo>
                        <a:lnTo>
                          <a:pt x="8701" y="2870"/>
                        </a:lnTo>
                        <a:lnTo>
                          <a:pt x="8690" y="2838"/>
                        </a:lnTo>
                        <a:lnTo>
                          <a:pt x="8674" y="2787"/>
                        </a:lnTo>
                        <a:lnTo>
                          <a:pt x="8659" y="2720"/>
                        </a:lnTo>
                        <a:lnTo>
                          <a:pt x="8645" y="2641"/>
                        </a:lnTo>
                        <a:lnTo>
                          <a:pt x="8637" y="2551"/>
                        </a:lnTo>
                        <a:lnTo>
                          <a:pt x="8637" y="2456"/>
                        </a:lnTo>
                        <a:lnTo>
                          <a:pt x="8645" y="2354"/>
                        </a:lnTo>
                        <a:lnTo>
                          <a:pt x="8665" y="2250"/>
                        </a:lnTo>
                        <a:lnTo>
                          <a:pt x="8706" y="2149"/>
                        </a:lnTo>
                        <a:lnTo>
                          <a:pt x="8706" y="2151"/>
                        </a:lnTo>
                        <a:lnTo>
                          <a:pt x="8743" y="2047"/>
                        </a:lnTo>
                        <a:lnTo>
                          <a:pt x="8763" y="1945"/>
                        </a:lnTo>
                        <a:lnTo>
                          <a:pt x="8772" y="1844"/>
                        </a:lnTo>
                        <a:lnTo>
                          <a:pt x="8772" y="1746"/>
                        </a:lnTo>
                        <a:lnTo>
                          <a:pt x="8763" y="1657"/>
                        </a:lnTo>
                        <a:lnTo>
                          <a:pt x="8750" y="1577"/>
                        </a:lnTo>
                        <a:lnTo>
                          <a:pt x="8734" y="1512"/>
                        </a:lnTo>
                        <a:lnTo>
                          <a:pt x="8719" y="1462"/>
                        </a:lnTo>
                        <a:lnTo>
                          <a:pt x="8708" y="1429"/>
                        </a:lnTo>
                        <a:lnTo>
                          <a:pt x="8706" y="1417"/>
                        </a:lnTo>
                        <a:lnTo>
                          <a:pt x="8706" y="1419"/>
                        </a:lnTo>
                        <a:lnTo>
                          <a:pt x="8699" y="1405"/>
                        </a:lnTo>
                        <a:lnTo>
                          <a:pt x="8688" y="1366"/>
                        </a:lnTo>
                        <a:lnTo>
                          <a:pt x="8670" y="1305"/>
                        </a:lnTo>
                        <a:lnTo>
                          <a:pt x="8652" y="1230"/>
                        </a:lnTo>
                        <a:lnTo>
                          <a:pt x="8639" y="1142"/>
                        </a:lnTo>
                        <a:lnTo>
                          <a:pt x="8628" y="1049"/>
                        </a:lnTo>
                        <a:lnTo>
                          <a:pt x="8625" y="951"/>
                        </a:lnTo>
                        <a:lnTo>
                          <a:pt x="8637" y="856"/>
                        </a:lnTo>
                        <a:lnTo>
                          <a:pt x="8661" y="764"/>
                        </a:lnTo>
                        <a:lnTo>
                          <a:pt x="8706" y="685"/>
                        </a:lnTo>
                        <a:lnTo>
                          <a:pt x="8706" y="687"/>
                        </a:lnTo>
                        <a:lnTo>
                          <a:pt x="8741" y="622"/>
                        </a:lnTo>
                        <a:lnTo>
                          <a:pt x="8770" y="551"/>
                        </a:lnTo>
                        <a:lnTo>
                          <a:pt x="8788" y="476"/>
                        </a:lnTo>
                        <a:lnTo>
                          <a:pt x="8799" y="396"/>
                        </a:lnTo>
                        <a:lnTo>
                          <a:pt x="8803" y="317"/>
                        </a:lnTo>
                        <a:lnTo>
                          <a:pt x="8799" y="242"/>
                        </a:lnTo>
                        <a:lnTo>
                          <a:pt x="8792" y="169"/>
                        </a:lnTo>
                        <a:lnTo>
                          <a:pt x="8779" y="101"/>
                        </a:lnTo>
                        <a:lnTo>
                          <a:pt x="8763" y="45"/>
                        </a:lnTo>
                        <a:lnTo>
                          <a:pt x="8743" y="0"/>
                        </a:lnTo>
                      </a:path>
                    </a:pathLst>
                  </a:custGeom>
                  <a:noFill/>
                  <a:ln w="0">
                    <a:solidFill>
                      <a:srgbClr val="00ffff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>
                    <a:off x="870840" y="3580920"/>
                    <a:ext cx="1941120" cy="4686120"/>
                  </a:xfrm>
                  <a:custGeom>
                    <a:avLst/>
                    <a:gdLst/>
                    <a:ahLst/>
                    <a:rect l="l" t="t" r="r" b="b"/>
                    <a:pathLst>
                      <a:path w="9133" h="6862">
                        <a:moveTo>
                          <a:pt x="9133" y="238"/>
                        </a:moveTo>
                        <a:lnTo>
                          <a:pt x="9124" y="224"/>
                        </a:lnTo>
                        <a:lnTo>
                          <a:pt x="9109" y="208"/>
                        </a:lnTo>
                        <a:lnTo>
                          <a:pt x="9089" y="189"/>
                        </a:lnTo>
                        <a:lnTo>
                          <a:pt x="9064" y="169"/>
                        </a:lnTo>
                        <a:lnTo>
                          <a:pt x="9040" y="149"/>
                        </a:lnTo>
                        <a:lnTo>
                          <a:pt x="9013" y="130"/>
                        </a:lnTo>
                        <a:lnTo>
                          <a:pt x="8989" y="112"/>
                        </a:lnTo>
                        <a:lnTo>
                          <a:pt x="8969" y="100"/>
                        </a:lnTo>
                        <a:lnTo>
                          <a:pt x="8955" y="90"/>
                        </a:lnTo>
                        <a:lnTo>
                          <a:pt x="8949" y="86"/>
                        </a:lnTo>
                        <a:lnTo>
                          <a:pt x="8949" y="88"/>
                        </a:lnTo>
                        <a:lnTo>
                          <a:pt x="8937" y="82"/>
                        </a:lnTo>
                        <a:lnTo>
                          <a:pt x="8911" y="69"/>
                        </a:lnTo>
                        <a:lnTo>
                          <a:pt x="8864" y="53"/>
                        </a:lnTo>
                        <a:lnTo>
                          <a:pt x="8802" y="37"/>
                        </a:lnTo>
                        <a:lnTo>
                          <a:pt x="8724" y="21"/>
                        </a:lnTo>
                        <a:lnTo>
                          <a:pt x="8630" y="13"/>
                        </a:lnTo>
                        <a:lnTo>
                          <a:pt x="8524" y="10"/>
                        </a:lnTo>
                        <a:lnTo>
                          <a:pt x="8401" y="21"/>
                        </a:lnTo>
                        <a:lnTo>
                          <a:pt x="8270" y="43"/>
                        </a:lnTo>
                        <a:lnTo>
                          <a:pt x="8126" y="86"/>
                        </a:lnTo>
                        <a:lnTo>
                          <a:pt x="8126" y="88"/>
                        </a:lnTo>
                        <a:lnTo>
                          <a:pt x="7981" y="128"/>
                        </a:lnTo>
                        <a:lnTo>
                          <a:pt x="7850" y="153"/>
                        </a:lnTo>
                        <a:lnTo>
                          <a:pt x="7732" y="163"/>
                        </a:lnTo>
                        <a:lnTo>
                          <a:pt x="7627" y="161"/>
                        </a:lnTo>
                        <a:lnTo>
                          <a:pt x="7536" y="151"/>
                        </a:lnTo>
                        <a:lnTo>
                          <a:pt x="7460" y="137"/>
                        </a:lnTo>
                        <a:lnTo>
                          <a:pt x="7403" y="118"/>
                        </a:lnTo>
                        <a:lnTo>
                          <a:pt x="7358" y="102"/>
                        </a:lnTo>
                        <a:lnTo>
                          <a:pt x="7334" y="90"/>
                        </a:lnTo>
                        <a:lnTo>
                          <a:pt x="7325" y="86"/>
                        </a:lnTo>
                        <a:lnTo>
                          <a:pt x="7325" y="88"/>
                        </a:lnTo>
                        <a:lnTo>
                          <a:pt x="7309" y="82"/>
                        </a:lnTo>
                        <a:lnTo>
                          <a:pt x="7271" y="71"/>
                        </a:lnTo>
                        <a:lnTo>
                          <a:pt x="7211" y="57"/>
                        </a:lnTo>
                        <a:lnTo>
                          <a:pt x="7136" y="43"/>
                        </a:lnTo>
                        <a:lnTo>
                          <a:pt x="7045" y="29"/>
                        </a:lnTo>
                        <a:lnTo>
                          <a:pt x="6944" y="21"/>
                        </a:lnTo>
                        <a:lnTo>
                          <a:pt x="6838" y="19"/>
                        </a:lnTo>
                        <a:lnTo>
                          <a:pt x="6731" y="27"/>
                        </a:lnTo>
                        <a:lnTo>
                          <a:pt x="6624" y="49"/>
                        </a:lnTo>
                        <a:lnTo>
                          <a:pt x="6524" y="86"/>
                        </a:lnTo>
                        <a:lnTo>
                          <a:pt x="6524" y="88"/>
                        </a:lnTo>
                        <a:lnTo>
                          <a:pt x="6422" y="124"/>
                        </a:lnTo>
                        <a:lnTo>
                          <a:pt x="6315" y="145"/>
                        </a:lnTo>
                        <a:lnTo>
                          <a:pt x="6208" y="153"/>
                        </a:lnTo>
                        <a:lnTo>
                          <a:pt x="6101" y="153"/>
                        </a:lnTo>
                        <a:lnTo>
                          <a:pt x="6001" y="143"/>
                        </a:lnTo>
                        <a:lnTo>
                          <a:pt x="5910" y="130"/>
                        </a:lnTo>
                        <a:lnTo>
                          <a:pt x="5835" y="114"/>
                        </a:lnTo>
                        <a:lnTo>
                          <a:pt x="5775" y="100"/>
                        </a:lnTo>
                        <a:lnTo>
                          <a:pt x="5737" y="90"/>
                        </a:lnTo>
                        <a:lnTo>
                          <a:pt x="5723" y="86"/>
                        </a:lnTo>
                        <a:lnTo>
                          <a:pt x="5723" y="88"/>
                        </a:lnTo>
                        <a:lnTo>
                          <a:pt x="5708" y="82"/>
                        </a:lnTo>
                        <a:lnTo>
                          <a:pt x="5663" y="71"/>
                        </a:lnTo>
                        <a:lnTo>
                          <a:pt x="5597" y="55"/>
                        </a:lnTo>
                        <a:lnTo>
                          <a:pt x="5514" y="39"/>
                        </a:lnTo>
                        <a:lnTo>
                          <a:pt x="5419" y="25"/>
                        </a:lnTo>
                        <a:lnTo>
                          <a:pt x="5314" y="17"/>
                        </a:lnTo>
                        <a:lnTo>
                          <a:pt x="5207" y="15"/>
                        </a:lnTo>
                        <a:lnTo>
                          <a:pt x="5103" y="23"/>
                        </a:lnTo>
                        <a:lnTo>
                          <a:pt x="5007" y="47"/>
                        </a:lnTo>
                        <a:lnTo>
                          <a:pt x="4923" y="86"/>
                        </a:lnTo>
                        <a:lnTo>
                          <a:pt x="4923" y="88"/>
                        </a:lnTo>
                        <a:lnTo>
                          <a:pt x="4836" y="126"/>
                        </a:lnTo>
                        <a:lnTo>
                          <a:pt x="4740" y="149"/>
                        </a:lnTo>
                        <a:lnTo>
                          <a:pt x="4636" y="159"/>
                        </a:lnTo>
                        <a:lnTo>
                          <a:pt x="4529" y="157"/>
                        </a:lnTo>
                        <a:lnTo>
                          <a:pt x="4424" y="147"/>
                        </a:lnTo>
                        <a:lnTo>
                          <a:pt x="4329" y="132"/>
                        </a:lnTo>
                        <a:lnTo>
                          <a:pt x="4246" y="116"/>
                        </a:lnTo>
                        <a:lnTo>
                          <a:pt x="4180" y="102"/>
                        </a:lnTo>
                        <a:lnTo>
                          <a:pt x="4135" y="90"/>
                        </a:lnTo>
                        <a:lnTo>
                          <a:pt x="4122" y="86"/>
                        </a:lnTo>
                        <a:lnTo>
                          <a:pt x="4122" y="88"/>
                        </a:lnTo>
                        <a:lnTo>
                          <a:pt x="4111" y="82"/>
                        </a:lnTo>
                        <a:lnTo>
                          <a:pt x="4082" y="67"/>
                        </a:lnTo>
                        <a:lnTo>
                          <a:pt x="4033" y="49"/>
                        </a:lnTo>
                        <a:lnTo>
                          <a:pt x="3971" y="31"/>
                        </a:lnTo>
                        <a:lnTo>
                          <a:pt x="3891" y="15"/>
                        </a:lnTo>
                        <a:lnTo>
                          <a:pt x="3799" y="2"/>
                        </a:lnTo>
                        <a:lnTo>
                          <a:pt x="3695" y="0"/>
                        </a:lnTo>
                        <a:lnTo>
                          <a:pt x="3579" y="13"/>
                        </a:lnTo>
                        <a:lnTo>
                          <a:pt x="3452" y="39"/>
                        </a:lnTo>
                        <a:lnTo>
                          <a:pt x="3321" y="86"/>
                        </a:lnTo>
                        <a:lnTo>
                          <a:pt x="3321" y="88"/>
                        </a:lnTo>
                        <a:lnTo>
                          <a:pt x="3185" y="132"/>
                        </a:lnTo>
                        <a:lnTo>
                          <a:pt x="3061" y="161"/>
                        </a:lnTo>
                        <a:lnTo>
                          <a:pt x="2943" y="171"/>
                        </a:lnTo>
                        <a:lnTo>
                          <a:pt x="2836" y="169"/>
                        </a:lnTo>
                        <a:lnTo>
                          <a:pt x="2743" y="159"/>
                        </a:lnTo>
                        <a:lnTo>
                          <a:pt x="2663" y="143"/>
                        </a:lnTo>
                        <a:lnTo>
                          <a:pt x="2598" y="122"/>
                        </a:lnTo>
                        <a:lnTo>
                          <a:pt x="2549" y="104"/>
                        </a:lnTo>
                        <a:lnTo>
                          <a:pt x="2518" y="92"/>
                        </a:lnTo>
                        <a:lnTo>
                          <a:pt x="2509" y="86"/>
                        </a:lnTo>
                        <a:lnTo>
                          <a:pt x="2509" y="88"/>
                        </a:lnTo>
                        <a:lnTo>
                          <a:pt x="2489" y="82"/>
                        </a:lnTo>
                        <a:lnTo>
                          <a:pt x="2440" y="69"/>
                        </a:lnTo>
                        <a:lnTo>
                          <a:pt x="2367" y="53"/>
                        </a:lnTo>
                        <a:lnTo>
                          <a:pt x="2276" y="37"/>
                        </a:lnTo>
                        <a:lnTo>
                          <a:pt x="2171" y="21"/>
                        </a:lnTo>
                        <a:lnTo>
                          <a:pt x="2064" y="13"/>
                        </a:lnTo>
                        <a:lnTo>
                          <a:pt x="1958" y="10"/>
                        </a:lnTo>
                        <a:lnTo>
                          <a:pt x="1860" y="21"/>
                        </a:lnTo>
                        <a:lnTo>
                          <a:pt x="1778" y="43"/>
                        </a:lnTo>
                        <a:lnTo>
                          <a:pt x="1720" y="86"/>
                        </a:lnTo>
                        <a:lnTo>
                          <a:pt x="1720" y="88"/>
                        </a:lnTo>
                        <a:lnTo>
                          <a:pt x="1657" y="128"/>
                        </a:lnTo>
                        <a:lnTo>
                          <a:pt x="1575" y="153"/>
                        </a:lnTo>
                        <a:lnTo>
                          <a:pt x="1477" y="163"/>
                        </a:lnTo>
                        <a:lnTo>
                          <a:pt x="1370" y="161"/>
                        </a:lnTo>
                        <a:lnTo>
                          <a:pt x="1259" y="151"/>
                        </a:lnTo>
                        <a:lnTo>
                          <a:pt x="1155" y="137"/>
                        </a:lnTo>
                        <a:lnTo>
                          <a:pt x="1061" y="118"/>
                        </a:lnTo>
                        <a:lnTo>
                          <a:pt x="986" y="102"/>
                        </a:lnTo>
                        <a:lnTo>
                          <a:pt x="937" y="90"/>
                        </a:lnTo>
                        <a:lnTo>
                          <a:pt x="919" y="86"/>
                        </a:lnTo>
                        <a:lnTo>
                          <a:pt x="919" y="88"/>
                        </a:lnTo>
                        <a:lnTo>
                          <a:pt x="903" y="82"/>
                        </a:lnTo>
                        <a:lnTo>
                          <a:pt x="861" y="67"/>
                        </a:lnTo>
                        <a:lnTo>
                          <a:pt x="794" y="49"/>
                        </a:lnTo>
                        <a:lnTo>
                          <a:pt x="712" y="31"/>
                        </a:lnTo>
                        <a:lnTo>
                          <a:pt x="619" y="15"/>
                        </a:lnTo>
                        <a:lnTo>
                          <a:pt x="514" y="2"/>
                        </a:lnTo>
                        <a:lnTo>
                          <a:pt x="407" y="0"/>
                        </a:lnTo>
                        <a:lnTo>
                          <a:pt x="303" y="13"/>
                        </a:lnTo>
                        <a:lnTo>
                          <a:pt x="205" y="39"/>
                        </a:lnTo>
                        <a:lnTo>
                          <a:pt x="118" y="86"/>
                        </a:lnTo>
                        <a:lnTo>
                          <a:pt x="118" y="88"/>
                        </a:lnTo>
                        <a:lnTo>
                          <a:pt x="51" y="155"/>
                        </a:lnTo>
                        <a:lnTo>
                          <a:pt x="14" y="238"/>
                        </a:lnTo>
                        <a:lnTo>
                          <a:pt x="0" y="334"/>
                        </a:lnTo>
                        <a:lnTo>
                          <a:pt x="3" y="433"/>
                        </a:lnTo>
                        <a:lnTo>
                          <a:pt x="18" y="535"/>
                        </a:lnTo>
                        <a:lnTo>
                          <a:pt x="40" y="629"/>
                        </a:lnTo>
                        <a:lnTo>
                          <a:pt x="67" y="712"/>
                        </a:lnTo>
                        <a:lnTo>
                          <a:pt x="92" y="779"/>
                        </a:lnTo>
                        <a:lnTo>
                          <a:pt x="109" y="822"/>
                        </a:lnTo>
                        <a:lnTo>
                          <a:pt x="118" y="838"/>
                        </a:lnTo>
                        <a:lnTo>
                          <a:pt x="118" y="840"/>
                        </a:lnTo>
                        <a:lnTo>
                          <a:pt x="123" y="846"/>
                        </a:lnTo>
                        <a:lnTo>
                          <a:pt x="136" y="864"/>
                        </a:lnTo>
                        <a:lnTo>
                          <a:pt x="156" y="899"/>
                        </a:lnTo>
                        <a:lnTo>
                          <a:pt x="174" y="948"/>
                        </a:lnTo>
                        <a:lnTo>
                          <a:pt x="192" y="1011"/>
                        </a:lnTo>
                        <a:lnTo>
                          <a:pt x="203" y="1088"/>
                        </a:lnTo>
                        <a:lnTo>
                          <a:pt x="205" y="1184"/>
                        </a:lnTo>
                        <a:lnTo>
                          <a:pt x="194" y="1295"/>
                        </a:lnTo>
                        <a:lnTo>
                          <a:pt x="165" y="1423"/>
                        </a:lnTo>
                        <a:lnTo>
                          <a:pt x="118" y="1570"/>
                        </a:lnTo>
                        <a:lnTo>
                          <a:pt x="118" y="1572"/>
                        </a:lnTo>
                        <a:lnTo>
                          <a:pt x="69" y="1716"/>
                        </a:lnTo>
                        <a:lnTo>
                          <a:pt x="40" y="1846"/>
                        </a:lnTo>
                        <a:lnTo>
                          <a:pt x="29" y="1956"/>
                        </a:lnTo>
                        <a:lnTo>
                          <a:pt x="31" y="2052"/>
                        </a:lnTo>
                        <a:lnTo>
                          <a:pt x="43" y="2131"/>
                        </a:lnTo>
                        <a:lnTo>
                          <a:pt x="60" y="2194"/>
                        </a:lnTo>
                        <a:lnTo>
                          <a:pt x="78" y="2243"/>
                        </a:lnTo>
                        <a:lnTo>
                          <a:pt x="98" y="2275"/>
                        </a:lnTo>
                        <a:lnTo>
                          <a:pt x="112" y="2296"/>
                        </a:lnTo>
                        <a:lnTo>
                          <a:pt x="118" y="2302"/>
                        </a:lnTo>
                        <a:lnTo>
                          <a:pt x="118" y="2304"/>
                        </a:lnTo>
                        <a:lnTo>
                          <a:pt x="123" y="2314"/>
                        </a:lnTo>
                        <a:lnTo>
                          <a:pt x="136" y="2344"/>
                        </a:lnTo>
                        <a:lnTo>
                          <a:pt x="154" y="2391"/>
                        </a:lnTo>
                        <a:lnTo>
                          <a:pt x="172" y="2456"/>
                        </a:lnTo>
                        <a:lnTo>
                          <a:pt x="187" y="2531"/>
                        </a:lnTo>
                        <a:lnTo>
                          <a:pt x="198" y="2621"/>
                        </a:lnTo>
                        <a:lnTo>
                          <a:pt x="201" y="2719"/>
                        </a:lnTo>
                        <a:lnTo>
                          <a:pt x="189" y="2822"/>
                        </a:lnTo>
                        <a:lnTo>
                          <a:pt x="163" y="2932"/>
                        </a:lnTo>
                        <a:lnTo>
                          <a:pt x="118" y="3044"/>
                        </a:lnTo>
                        <a:lnTo>
                          <a:pt x="118" y="3046"/>
                        </a:lnTo>
                        <a:lnTo>
                          <a:pt x="72" y="3156"/>
                        </a:lnTo>
                        <a:lnTo>
                          <a:pt x="45" y="3263"/>
                        </a:lnTo>
                        <a:lnTo>
                          <a:pt x="34" y="3367"/>
                        </a:lnTo>
                        <a:lnTo>
                          <a:pt x="36" y="3461"/>
                        </a:lnTo>
                        <a:lnTo>
                          <a:pt x="47" y="3546"/>
                        </a:lnTo>
                        <a:lnTo>
                          <a:pt x="63" y="3619"/>
                        </a:lnTo>
                        <a:lnTo>
                          <a:pt x="80" y="3680"/>
                        </a:lnTo>
                        <a:lnTo>
                          <a:pt x="98" y="3727"/>
                        </a:lnTo>
                        <a:lnTo>
                          <a:pt x="112" y="3755"/>
                        </a:lnTo>
                        <a:lnTo>
                          <a:pt x="118" y="3766"/>
                        </a:lnTo>
                        <a:lnTo>
                          <a:pt x="118" y="3768"/>
                        </a:lnTo>
                        <a:lnTo>
                          <a:pt x="123" y="3778"/>
                        </a:lnTo>
                        <a:lnTo>
                          <a:pt x="138" y="3808"/>
                        </a:lnTo>
                        <a:lnTo>
                          <a:pt x="156" y="3857"/>
                        </a:lnTo>
                        <a:lnTo>
                          <a:pt x="178" y="3922"/>
                        </a:lnTo>
                        <a:lnTo>
                          <a:pt x="196" y="3999"/>
                        </a:lnTo>
                        <a:lnTo>
                          <a:pt x="209" y="4087"/>
                        </a:lnTo>
                        <a:lnTo>
                          <a:pt x="209" y="4182"/>
                        </a:lnTo>
                        <a:lnTo>
                          <a:pt x="198" y="4286"/>
                        </a:lnTo>
                        <a:lnTo>
                          <a:pt x="169" y="4392"/>
                        </a:lnTo>
                        <a:lnTo>
                          <a:pt x="118" y="4497"/>
                        </a:lnTo>
                        <a:lnTo>
                          <a:pt x="118" y="4499"/>
                        </a:lnTo>
                        <a:lnTo>
                          <a:pt x="65" y="4605"/>
                        </a:lnTo>
                        <a:lnTo>
                          <a:pt x="36" y="4711"/>
                        </a:lnTo>
                        <a:lnTo>
                          <a:pt x="25" y="4813"/>
                        </a:lnTo>
                        <a:lnTo>
                          <a:pt x="25" y="4910"/>
                        </a:lnTo>
                        <a:lnTo>
                          <a:pt x="38" y="4998"/>
                        </a:lnTo>
                        <a:lnTo>
                          <a:pt x="56" y="5075"/>
                        </a:lnTo>
                        <a:lnTo>
                          <a:pt x="78" y="5138"/>
                        </a:lnTo>
                        <a:lnTo>
                          <a:pt x="96" y="5189"/>
                        </a:lnTo>
                        <a:lnTo>
                          <a:pt x="112" y="5219"/>
                        </a:lnTo>
                        <a:lnTo>
                          <a:pt x="118" y="5229"/>
                        </a:lnTo>
                        <a:lnTo>
                          <a:pt x="118" y="5231"/>
                        </a:lnTo>
                        <a:lnTo>
                          <a:pt x="123" y="5244"/>
                        </a:lnTo>
                        <a:lnTo>
                          <a:pt x="138" y="5282"/>
                        </a:lnTo>
                        <a:lnTo>
                          <a:pt x="156" y="5343"/>
                        </a:lnTo>
                        <a:lnTo>
                          <a:pt x="178" y="5418"/>
                        </a:lnTo>
                        <a:lnTo>
                          <a:pt x="196" y="5506"/>
                        </a:lnTo>
                        <a:lnTo>
                          <a:pt x="209" y="5601"/>
                        </a:lnTo>
                        <a:lnTo>
                          <a:pt x="209" y="5699"/>
                        </a:lnTo>
                        <a:lnTo>
                          <a:pt x="198" y="5797"/>
                        </a:lnTo>
                        <a:lnTo>
                          <a:pt x="169" y="5890"/>
                        </a:lnTo>
                        <a:lnTo>
                          <a:pt x="118" y="5971"/>
                        </a:lnTo>
                        <a:lnTo>
                          <a:pt x="118" y="5973"/>
                        </a:lnTo>
                        <a:lnTo>
                          <a:pt x="65" y="6055"/>
                        </a:lnTo>
                        <a:lnTo>
                          <a:pt x="36" y="6144"/>
                        </a:lnTo>
                        <a:lnTo>
                          <a:pt x="25" y="6240"/>
                        </a:lnTo>
                        <a:lnTo>
                          <a:pt x="25" y="6335"/>
                        </a:lnTo>
                        <a:lnTo>
                          <a:pt x="38" y="6429"/>
                        </a:lnTo>
                        <a:lnTo>
                          <a:pt x="56" y="6512"/>
                        </a:lnTo>
                        <a:lnTo>
                          <a:pt x="78" y="6585"/>
                        </a:lnTo>
                        <a:lnTo>
                          <a:pt x="96" y="6642"/>
                        </a:lnTo>
                        <a:lnTo>
                          <a:pt x="112" y="6681"/>
                        </a:lnTo>
                        <a:lnTo>
                          <a:pt x="118" y="6693"/>
                        </a:lnTo>
                        <a:lnTo>
                          <a:pt x="118" y="6695"/>
                        </a:lnTo>
                        <a:lnTo>
                          <a:pt x="123" y="6699"/>
                        </a:lnTo>
                        <a:lnTo>
                          <a:pt x="136" y="6709"/>
                        </a:lnTo>
                        <a:lnTo>
                          <a:pt x="156" y="6726"/>
                        </a:lnTo>
                        <a:lnTo>
                          <a:pt x="183" y="6748"/>
                        </a:lnTo>
                        <a:lnTo>
                          <a:pt x="212" y="6770"/>
                        </a:lnTo>
                        <a:lnTo>
                          <a:pt x="243" y="6793"/>
                        </a:lnTo>
                        <a:lnTo>
                          <a:pt x="272" y="6815"/>
                        </a:lnTo>
                        <a:lnTo>
                          <a:pt x="301" y="6835"/>
                        </a:lnTo>
                        <a:lnTo>
                          <a:pt x="325" y="6852"/>
                        </a:lnTo>
                        <a:lnTo>
                          <a:pt x="345" y="6862"/>
                        </a:lnTo>
                      </a:path>
                    </a:pathLst>
                  </a:custGeom>
                  <a:noFill/>
                  <a:ln w="0">
                    <a:solidFill>
                      <a:srgbClr val="00ffff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909000" y="3664440"/>
                    <a:ext cx="1921320" cy="4638960"/>
                  </a:xfrm>
                  <a:custGeom>
                    <a:avLst/>
                    <a:gdLst/>
                    <a:ahLst/>
                    <a:rect l="l" t="t" r="r" b="b"/>
                    <a:pathLst>
                      <a:path w="9039" h="6793">
                        <a:moveTo>
                          <a:pt x="93" y="88"/>
                        </a:moveTo>
                        <a:lnTo>
                          <a:pt x="102" y="82"/>
                        </a:lnTo>
                        <a:lnTo>
                          <a:pt x="129" y="69"/>
                        </a:lnTo>
                        <a:lnTo>
                          <a:pt x="175" y="53"/>
                        </a:lnTo>
                        <a:lnTo>
                          <a:pt x="238" y="37"/>
                        </a:lnTo>
                        <a:lnTo>
                          <a:pt x="315" y="21"/>
                        </a:lnTo>
                        <a:lnTo>
                          <a:pt x="409" y="13"/>
                        </a:lnTo>
                        <a:lnTo>
                          <a:pt x="516" y="10"/>
                        </a:lnTo>
                        <a:lnTo>
                          <a:pt x="638" y="21"/>
                        </a:lnTo>
                        <a:lnTo>
                          <a:pt x="769" y="43"/>
                        </a:lnTo>
                        <a:lnTo>
                          <a:pt x="916" y="86"/>
                        </a:lnTo>
                        <a:lnTo>
                          <a:pt x="916" y="88"/>
                        </a:lnTo>
                        <a:lnTo>
                          <a:pt x="1058" y="128"/>
                        </a:lnTo>
                        <a:lnTo>
                          <a:pt x="1189" y="153"/>
                        </a:lnTo>
                        <a:lnTo>
                          <a:pt x="1307" y="163"/>
                        </a:lnTo>
                        <a:lnTo>
                          <a:pt x="1412" y="161"/>
                        </a:lnTo>
                        <a:lnTo>
                          <a:pt x="1503" y="151"/>
                        </a:lnTo>
                        <a:lnTo>
                          <a:pt x="1579" y="137"/>
                        </a:lnTo>
                        <a:lnTo>
                          <a:pt x="1637" y="118"/>
                        </a:lnTo>
                        <a:lnTo>
                          <a:pt x="1681" y="102"/>
                        </a:lnTo>
                        <a:lnTo>
                          <a:pt x="1706" y="90"/>
                        </a:lnTo>
                        <a:lnTo>
                          <a:pt x="1717" y="86"/>
                        </a:lnTo>
                        <a:lnTo>
                          <a:pt x="1717" y="88"/>
                        </a:lnTo>
                        <a:lnTo>
                          <a:pt x="1730" y="82"/>
                        </a:lnTo>
                        <a:lnTo>
                          <a:pt x="1768" y="71"/>
                        </a:lnTo>
                        <a:lnTo>
                          <a:pt x="1828" y="57"/>
                        </a:lnTo>
                        <a:lnTo>
                          <a:pt x="1903" y="43"/>
                        </a:lnTo>
                        <a:lnTo>
                          <a:pt x="1995" y="29"/>
                        </a:lnTo>
                        <a:lnTo>
                          <a:pt x="2095" y="21"/>
                        </a:lnTo>
                        <a:lnTo>
                          <a:pt x="2202" y="19"/>
                        </a:lnTo>
                        <a:lnTo>
                          <a:pt x="2308" y="27"/>
                        </a:lnTo>
                        <a:lnTo>
                          <a:pt x="2415" y="49"/>
                        </a:lnTo>
                        <a:lnTo>
                          <a:pt x="2517" y="86"/>
                        </a:lnTo>
                        <a:lnTo>
                          <a:pt x="2517" y="88"/>
                        </a:lnTo>
                        <a:lnTo>
                          <a:pt x="2617" y="124"/>
                        </a:lnTo>
                        <a:lnTo>
                          <a:pt x="2724" y="145"/>
                        </a:lnTo>
                        <a:lnTo>
                          <a:pt x="2831" y="153"/>
                        </a:lnTo>
                        <a:lnTo>
                          <a:pt x="2938" y="153"/>
                        </a:lnTo>
                        <a:lnTo>
                          <a:pt x="3038" y="143"/>
                        </a:lnTo>
                        <a:lnTo>
                          <a:pt x="3129" y="130"/>
                        </a:lnTo>
                        <a:lnTo>
                          <a:pt x="3205" y="114"/>
                        </a:lnTo>
                        <a:lnTo>
                          <a:pt x="3265" y="100"/>
                        </a:lnTo>
                        <a:lnTo>
                          <a:pt x="3303" y="90"/>
                        </a:lnTo>
                        <a:lnTo>
                          <a:pt x="3318" y="86"/>
                        </a:lnTo>
                        <a:lnTo>
                          <a:pt x="3318" y="88"/>
                        </a:lnTo>
                        <a:lnTo>
                          <a:pt x="3331" y="82"/>
                        </a:lnTo>
                        <a:lnTo>
                          <a:pt x="3376" y="71"/>
                        </a:lnTo>
                        <a:lnTo>
                          <a:pt x="3443" y="55"/>
                        </a:lnTo>
                        <a:lnTo>
                          <a:pt x="3525" y="39"/>
                        </a:lnTo>
                        <a:lnTo>
                          <a:pt x="3621" y="25"/>
                        </a:lnTo>
                        <a:lnTo>
                          <a:pt x="3725" y="17"/>
                        </a:lnTo>
                        <a:lnTo>
                          <a:pt x="3832" y="15"/>
                        </a:lnTo>
                        <a:lnTo>
                          <a:pt x="3936" y="23"/>
                        </a:lnTo>
                        <a:lnTo>
                          <a:pt x="4032" y="47"/>
                        </a:lnTo>
                        <a:lnTo>
                          <a:pt x="4119" y="86"/>
                        </a:lnTo>
                        <a:lnTo>
                          <a:pt x="4119" y="88"/>
                        </a:lnTo>
                        <a:lnTo>
                          <a:pt x="4203" y="126"/>
                        </a:lnTo>
                        <a:lnTo>
                          <a:pt x="4299" y="149"/>
                        </a:lnTo>
                        <a:lnTo>
                          <a:pt x="4404" y="159"/>
                        </a:lnTo>
                        <a:lnTo>
                          <a:pt x="4510" y="157"/>
                        </a:lnTo>
                        <a:lnTo>
                          <a:pt x="4615" y="147"/>
                        </a:lnTo>
                        <a:lnTo>
                          <a:pt x="4710" y="132"/>
                        </a:lnTo>
                        <a:lnTo>
                          <a:pt x="4793" y="116"/>
                        </a:lnTo>
                        <a:lnTo>
                          <a:pt x="4860" y="102"/>
                        </a:lnTo>
                        <a:lnTo>
                          <a:pt x="4904" y="90"/>
                        </a:lnTo>
                        <a:lnTo>
                          <a:pt x="4920" y="86"/>
                        </a:lnTo>
                        <a:lnTo>
                          <a:pt x="4920" y="88"/>
                        </a:lnTo>
                        <a:lnTo>
                          <a:pt x="4928" y="82"/>
                        </a:lnTo>
                        <a:lnTo>
                          <a:pt x="4957" y="67"/>
                        </a:lnTo>
                        <a:lnTo>
                          <a:pt x="5006" y="49"/>
                        </a:lnTo>
                        <a:lnTo>
                          <a:pt x="5069" y="31"/>
                        </a:lnTo>
                        <a:lnTo>
                          <a:pt x="5149" y="15"/>
                        </a:lnTo>
                        <a:lnTo>
                          <a:pt x="5240" y="2"/>
                        </a:lnTo>
                        <a:lnTo>
                          <a:pt x="5344" y="0"/>
                        </a:lnTo>
                        <a:lnTo>
                          <a:pt x="5460" y="13"/>
                        </a:lnTo>
                        <a:lnTo>
                          <a:pt x="5587" y="39"/>
                        </a:lnTo>
                        <a:lnTo>
                          <a:pt x="5720" y="86"/>
                        </a:lnTo>
                        <a:lnTo>
                          <a:pt x="5720" y="88"/>
                        </a:lnTo>
                        <a:lnTo>
                          <a:pt x="5854" y="132"/>
                        </a:lnTo>
                        <a:lnTo>
                          <a:pt x="5978" y="161"/>
                        </a:lnTo>
                        <a:lnTo>
                          <a:pt x="6096" y="171"/>
                        </a:lnTo>
                        <a:lnTo>
                          <a:pt x="6203" y="169"/>
                        </a:lnTo>
                        <a:lnTo>
                          <a:pt x="6296" y="159"/>
                        </a:lnTo>
                        <a:lnTo>
                          <a:pt x="6376" y="143"/>
                        </a:lnTo>
                        <a:lnTo>
                          <a:pt x="6441" y="122"/>
                        </a:lnTo>
                        <a:lnTo>
                          <a:pt x="6490" y="104"/>
                        </a:lnTo>
                        <a:lnTo>
                          <a:pt x="6521" y="92"/>
                        </a:lnTo>
                        <a:lnTo>
                          <a:pt x="6532" y="86"/>
                        </a:lnTo>
                        <a:lnTo>
                          <a:pt x="6532" y="88"/>
                        </a:lnTo>
                        <a:lnTo>
                          <a:pt x="6550" y="82"/>
                        </a:lnTo>
                        <a:lnTo>
                          <a:pt x="6599" y="69"/>
                        </a:lnTo>
                        <a:lnTo>
                          <a:pt x="6672" y="53"/>
                        </a:lnTo>
                        <a:lnTo>
                          <a:pt x="6763" y="37"/>
                        </a:lnTo>
                        <a:lnTo>
                          <a:pt x="6868" y="21"/>
                        </a:lnTo>
                        <a:lnTo>
                          <a:pt x="6975" y="13"/>
                        </a:lnTo>
                        <a:lnTo>
                          <a:pt x="7082" y="10"/>
                        </a:lnTo>
                        <a:lnTo>
                          <a:pt x="7179" y="21"/>
                        </a:lnTo>
                        <a:lnTo>
                          <a:pt x="7262" y="43"/>
                        </a:lnTo>
                        <a:lnTo>
                          <a:pt x="7322" y="86"/>
                        </a:lnTo>
                        <a:lnTo>
                          <a:pt x="7322" y="88"/>
                        </a:lnTo>
                        <a:lnTo>
                          <a:pt x="7382" y="128"/>
                        </a:lnTo>
                        <a:lnTo>
                          <a:pt x="7464" y="153"/>
                        </a:lnTo>
                        <a:lnTo>
                          <a:pt x="7562" y="163"/>
                        </a:lnTo>
                        <a:lnTo>
                          <a:pt x="7669" y="161"/>
                        </a:lnTo>
                        <a:lnTo>
                          <a:pt x="7780" y="151"/>
                        </a:lnTo>
                        <a:lnTo>
                          <a:pt x="7884" y="137"/>
                        </a:lnTo>
                        <a:lnTo>
                          <a:pt x="7978" y="118"/>
                        </a:lnTo>
                        <a:lnTo>
                          <a:pt x="8054" y="102"/>
                        </a:lnTo>
                        <a:lnTo>
                          <a:pt x="8102" y="90"/>
                        </a:lnTo>
                        <a:lnTo>
                          <a:pt x="8122" y="86"/>
                        </a:lnTo>
                        <a:lnTo>
                          <a:pt x="8122" y="88"/>
                        </a:lnTo>
                        <a:lnTo>
                          <a:pt x="8136" y="82"/>
                        </a:lnTo>
                        <a:lnTo>
                          <a:pt x="8178" y="67"/>
                        </a:lnTo>
                        <a:lnTo>
                          <a:pt x="8245" y="49"/>
                        </a:lnTo>
                        <a:lnTo>
                          <a:pt x="8327" y="31"/>
                        </a:lnTo>
                        <a:lnTo>
                          <a:pt x="8423" y="15"/>
                        </a:lnTo>
                        <a:lnTo>
                          <a:pt x="8525" y="2"/>
                        </a:lnTo>
                        <a:lnTo>
                          <a:pt x="8632" y="0"/>
                        </a:lnTo>
                        <a:lnTo>
                          <a:pt x="8736" y="13"/>
                        </a:lnTo>
                        <a:lnTo>
                          <a:pt x="8834" y="39"/>
                        </a:lnTo>
                        <a:lnTo>
                          <a:pt x="8923" y="86"/>
                        </a:lnTo>
                        <a:lnTo>
                          <a:pt x="8923" y="88"/>
                        </a:lnTo>
                        <a:lnTo>
                          <a:pt x="8988" y="155"/>
                        </a:lnTo>
                        <a:lnTo>
                          <a:pt x="9026" y="238"/>
                        </a:lnTo>
                        <a:lnTo>
                          <a:pt x="9039" y="334"/>
                        </a:lnTo>
                        <a:lnTo>
                          <a:pt x="9037" y="433"/>
                        </a:lnTo>
                        <a:lnTo>
                          <a:pt x="9023" y="535"/>
                        </a:lnTo>
                        <a:lnTo>
                          <a:pt x="8999" y="629"/>
                        </a:lnTo>
                        <a:lnTo>
                          <a:pt x="8972" y="712"/>
                        </a:lnTo>
                        <a:lnTo>
                          <a:pt x="8948" y="779"/>
                        </a:lnTo>
                        <a:lnTo>
                          <a:pt x="8930" y="822"/>
                        </a:lnTo>
                        <a:lnTo>
                          <a:pt x="8923" y="838"/>
                        </a:lnTo>
                        <a:lnTo>
                          <a:pt x="8923" y="840"/>
                        </a:lnTo>
                        <a:lnTo>
                          <a:pt x="8917" y="846"/>
                        </a:lnTo>
                        <a:lnTo>
                          <a:pt x="8903" y="864"/>
                        </a:lnTo>
                        <a:lnTo>
                          <a:pt x="8883" y="899"/>
                        </a:lnTo>
                        <a:lnTo>
                          <a:pt x="8865" y="948"/>
                        </a:lnTo>
                        <a:lnTo>
                          <a:pt x="8848" y="1011"/>
                        </a:lnTo>
                        <a:lnTo>
                          <a:pt x="8836" y="1088"/>
                        </a:lnTo>
                        <a:lnTo>
                          <a:pt x="8834" y="1184"/>
                        </a:lnTo>
                        <a:lnTo>
                          <a:pt x="8845" y="1295"/>
                        </a:lnTo>
                        <a:lnTo>
                          <a:pt x="8874" y="1423"/>
                        </a:lnTo>
                        <a:lnTo>
                          <a:pt x="8923" y="1570"/>
                        </a:lnTo>
                        <a:lnTo>
                          <a:pt x="8923" y="1572"/>
                        </a:lnTo>
                        <a:lnTo>
                          <a:pt x="8970" y="1716"/>
                        </a:lnTo>
                        <a:lnTo>
                          <a:pt x="8999" y="1846"/>
                        </a:lnTo>
                        <a:lnTo>
                          <a:pt x="9010" y="1956"/>
                        </a:lnTo>
                        <a:lnTo>
                          <a:pt x="9008" y="2052"/>
                        </a:lnTo>
                        <a:lnTo>
                          <a:pt x="8997" y="2131"/>
                        </a:lnTo>
                        <a:lnTo>
                          <a:pt x="8979" y="2194"/>
                        </a:lnTo>
                        <a:lnTo>
                          <a:pt x="8961" y="2243"/>
                        </a:lnTo>
                        <a:lnTo>
                          <a:pt x="8941" y="2275"/>
                        </a:lnTo>
                        <a:lnTo>
                          <a:pt x="8928" y="2296"/>
                        </a:lnTo>
                        <a:lnTo>
                          <a:pt x="8923" y="2302"/>
                        </a:lnTo>
                        <a:lnTo>
                          <a:pt x="8923" y="2304"/>
                        </a:lnTo>
                        <a:lnTo>
                          <a:pt x="8917" y="2314"/>
                        </a:lnTo>
                        <a:lnTo>
                          <a:pt x="8903" y="2344"/>
                        </a:lnTo>
                        <a:lnTo>
                          <a:pt x="8885" y="2391"/>
                        </a:lnTo>
                        <a:lnTo>
                          <a:pt x="8868" y="2456"/>
                        </a:lnTo>
                        <a:lnTo>
                          <a:pt x="8852" y="2531"/>
                        </a:lnTo>
                        <a:lnTo>
                          <a:pt x="8841" y="2621"/>
                        </a:lnTo>
                        <a:lnTo>
                          <a:pt x="8839" y="2719"/>
                        </a:lnTo>
                        <a:lnTo>
                          <a:pt x="8850" y="2822"/>
                        </a:lnTo>
                        <a:lnTo>
                          <a:pt x="8877" y="2932"/>
                        </a:lnTo>
                        <a:lnTo>
                          <a:pt x="8923" y="3044"/>
                        </a:lnTo>
                        <a:lnTo>
                          <a:pt x="8923" y="3046"/>
                        </a:lnTo>
                        <a:lnTo>
                          <a:pt x="8968" y="3156"/>
                        </a:lnTo>
                        <a:lnTo>
                          <a:pt x="8994" y="3263"/>
                        </a:lnTo>
                        <a:lnTo>
                          <a:pt x="9006" y="3367"/>
                        </a:lnTo>
                        <a:lnTo>
                          <a:pt x="9003" y="3461"/>
                        </a:lnTo>
                        <a:lnTo>
                          <a:pt x="8992" y="3546"/>
                        </a:lnTo>
                        <a:lnTo>
                          <a:pt x="8977" y="3619"/>
                        </a:lnTo>
                        <a:lnTo>
                          <a:pt x="8959" y="3680"/>
                        </a:lnTo>
                        <a:lnTo>
                          <a:pt x="8941" y="3727"/>
                        </a:lnTo>
                        <a:lnTo>
                          <a:pt x="8928" y="3755"/>
                        </a:lnTo>
                        <a:lnTo>
                          <a:pt x="8923" y="3766"/>
                        </a:lnTo>
                        <a:lnTo>
                          <a:pt x="8923" y="3768"/>
                        </a:lnTo>
                        <a:lnTo>
                          <a:pt x="8917" y="3778"/>
                        </a:lnTo>
                        <a:lnTo>
                          <a:pt x="8901" y="3808"/>
                        </a:lnTo>
                        <a:lnTo>
                          <a:pt x="8883" y="3857"/>
                        </a:lnTo>
                        <a:lnTo>
                          <a:pt x="8861" y="3922"/>
                        </a:lnTo>
                        <a:lnTo>
                          <a:pt x="8843" y="3999"/>
                        </a:lnTo>
                        <a:lnTo>
                          <a:pt x="8830" y="4087"/>
                        </a:lnTo>
                        <a:lnTo>
                          <a:pt x="8830" y="4182"/>
                        </a:lnTo>
                        <a:lnTo>
                          <a:pt x="8841" y="4286"/>
                        </a:lnTo>
                        <a:lnTo>
                          <a:pt x="8870" y="4392"/>
                        </a:lnTo>
                        <a:lnTo>
                          <a:pt x="8923" y="4497"/>
                        </a:lnTo>
                        <a:lnTo>
                          <a:pt x="8923" y="4499"/>
                        </a:lnTo>
                        <a:lnTo>
                          <a:pt x="8974" y="4605"/>
                        </a:lnTo>
                        <a:lnTo>
                          <a:pt x="9003" y="4711"/>
                        </a:lnTo>
                        <a:lnTo>
                          <a:pt x="9014" y="4813"/>
                        </a:lnTo>
                        <a:lnTo>
                          <a:pt x="9014" y="4910"/>
                        </a:lnTo>
                        <a:lnTo>
                          <a:pt x="9001" y="4998"/>
                        </a:lnTo>
                        <a:lnTo>
                          <a:pt x="8983" y="5075"/>
                        </a:lnTo>
                        <a:lnTo>
                          <a:pt x="8961" y="5138"/>
                        </a:lnTo>
                        <a:lnTo>
                          <a:pt x="8943" y="5189"/>
                        </a:lnTo>
                        <a:lnTo>
                          <a:pt x="8928" y="5219"/>
                        </a:lnTo>
                        <a:lnTo>
                          <a:pt x="8923" y="5229"/>
                        </a:lnTo>
                        <a:lnTo>
                          <a:pt x="8923" y="5231"/>
                        </a:lnTo>
                        <a:lnTo>
                          <a:pt x="8917" y="5244"/>
                        </a:lnTo>
                        <a:lnTo>
                          <a:pt x="8901" y="5282"/>
                        </a:lnTo>
                        <a:lnTo>
                          <a:pt x="8883" y="5343"/>
                        </a:lnTo>
                        <a:lnTo>
                          <a:pt x="8861" y="5418"/>
                        </a:lnTo>
                        <a:lnTo>
                          <a:pt x="8843" y="5506"/>
                        </a:lnTo>
                        <a:lnTo>
                          <a:pt x="8830" y="5601"/>
                        </a:lnTo>
                        <a:lnTo>
                          <a:pt x="8830" y="5699"/>
                        </a:lnTo>
                        <a:lnTo>
                          <a:pt x="8841" y="5797"/>
                        </a:lnTo>
                        <a:lnTo>
                          <a:pt x="8870" y="5890"/>
                        </a:lnTo>
                        <a:lnTo>
                          <a:pt x="8923" y="5971"/>
                        </a:lnTo>
                        <a:lnTo>
                          <a:pt x="8923" y="5973"/>
                        </a:lnTo>
                        <a:lnTo>
                          <a:pt x="8974" y="6055"/>
                        </a:lnTo>
                        <a:lnTo>
                          <a:pt x="9003" y="6144"/>
                        </a:lnTo>
                        <a:lnTo>
                          <a:pt x="9014" y="6240"/>
                        </a:lnTo>
                        <a:lnTo>
                          <a:pt x="9014" y="6335"/>
                        </a:lnTo>
                        <a:lnTo>
                          <a:pt x="9001" y="6429"/>
                        </a:lnTo>
                        <a:lnTo>
                          <a:pt x="8983" y="6512"/>
                        </a:lnTo>
                        <a:lnTo>
                          <a:pt x="8961" y="6585"/>
                        </a:lnTo>
                        <a:lnTo>
                          <a:pt x="8943" y="6642"/>
                        </a:lnTo>
                        <a:lnTo>
                          <a:pt x="8928" y="6681"/>
                        </a:lnTo>
                        <a:lnTo>
                          <a:pt x="8923" y="6693"/>
                        </a:lnTo>
                        <a:lnTo>
                          <a:pt x="8923" y="6695"/>
                        </a:lnTo>
                        <a:lnTo>
                          <a:pt x="8912" y="6699"/>
                        </a:lnTo>
                        <a:lnTo>
                          <a:pt x="8881" y="6716"/>
                        </a:lnTo>
                        <a:lnTo>
                          <a:pt x="8832" y="6734"/>
                        </a:lnTo>
                        <a:lnTo>
                          <a:pt x="8765" y="6756"/>
                        </a:lnTo>
                        <a:lnTo>
                          <a:pt x="8685" y="6774"/>
                        </a:lnTo>
                        <a:lnTo>
                          <a:pt x="8590" y="6787"/>
                        </a:lnTo>
                        <a:lnTo>
                          <a:pt x="8485" y="6789"/>
                        </a:lnTo>
                        <a:lnTo>
                          <a:pt x="8372" y="6774"/>
                        </a:lnTo>
                        <a:lnTo>
                          <a:pt x="8249" y="6746"/>
                        </a:lnTo>
                        <a:lnTo>
                          <a:pt x="8122" y="6693"/>
                        </a:lnTo>
                        <a:lnTo>
                          <a:pt x="8122" y="6695"/>
                        </a:lnTo>
                        <a:lnTo>
                          <a:pt x="7993" y="6642"/>
                        </a:lnTo>
                        <a:lnTo>
                          <a:pt x="7871" y="6612"/>
                        </a:lnTo>
                        <a:lnTo>
                          <a:pt x="7758" y="6600"/>
                        </a:lnTo>
                        <a:lnTo>
                          <a:pt x="7653" y="6602"/>
                        </a:lnTo>
                        <a:lnTo>
                          <a:pt x="7558" y="6614"/>
                        </a:lnTo>
                        <a:lnTo>
                          <a:pt x="7477" y="6632"/>
                        </a:lnTo>
                        <a:lnTo>
                          <a:pt x="7411" y="6652"/>
                        </a:lnTo>
                        <a:lnTo>
                          <a:pt x="7362" y="6673"/>
                        </a:lnTo>
                        <a:lnTo>
                          <a:pt x="7331" y="6687"/>
                        </a:lnTo>
                        <a:lnTo>
                          <a:pt x="7322" y="6693"/>
                        </a:lnTo>
                        <a:lnTo>
                          <a:pt x="7322" y="6695"/>
                        </a:lnTo>
                        <a:lnTo>
                          <a:pt x="7308" y="6699"/>
                        </a:lnTo>
                        <a:lnTo>
                          <a:pt x="7271" y="6713"/>
                        </a:lnTo>
                        <a:lnTo>
                          <a:pt x="7215" y="6732"/>
                        </a:lnTo>
                        <a:lnTo>
                          <a:pt x="7142" y="6752"/>
                        </a:lnTo>
                        <a:lnTo>
                          <a:pt x="7055" y="6770"/>
                        </a:lnTo>
                        <a:lnTo>
                          <a:pt x="6955" y="6781"/>
                        </a:lnTo>
                        <a:lnTo>
                          <a:pt x="6850" y="6783"/>
                        </a:lnTo>
                        <a:lnTo>
                          <a:pt x="6739" y="6772"/>
                        </a:lnTo>
                        <a:lnTo>
                          <a:pt x="6628" y="6742"/>
                        </a:lnTo>
                        <a:lnTo>
                          <a:pt x="6521" y="6693"/>
                        </a:lnTo>
                        <a:lnTo>
                          <a:pt x="6521" y="6695"/>
                        </a:lnTo>
                        <a:lnTo>
                          <a:pt x="6412" y="6644"/>
                        </a:lnTo>
                        <a:lnTo>
                          <a:pt x="6301" y="6616"/>
                        </a:lnTo>
                        <a:lnTo>
                          <a:pt x="6190" y="6604"/>
                        </a:lnTo>
                        <a:lnTo>
                          <a:pt x="6085" y="6606"/>
                        </a:lnTo>
                        <a:lnTo>
                          <a:pt x="5987" y="6618"/>
                        </a:lnTo>
                        <a:lnTo>
                          <a:pt x="5898" y="6634"/>
                        </a:lnTo>
                        <a:lnTo>
                          <a:pt x="5825" y="6655"/>
                        </a:lnTo>
                        <a:lnTo>
                          <a:pt x="5769" y="6675"/>
                        </a:lnTo>
                        <a:lnTo>
                          <a:pt x="5731" y="6687"/>
                        </a:lnTo>
                        <a:lnTo>
                          <a:pt x="5720" y="6693"/>
                        </a:lnTo>
                        <a:lnTo>
                          <a:pt x="5720" y="6695"/>
                        </a:lnTo>
                        <a:lnTo>
                          <a:pt x="5705" y="6699"/>
                        </a:lnTo>
                        <a:lnTo>
                          <a:pt x="5667" y="6711"/>
                        </a:lnTo>
                        <a:lnTo>
                          <a:pt x="5609" y="6728"/>
                        </a:lnTo>
                        <a:lnTo>
                          <a:pt x="5533" y="6746"/>
                        </a:lnTo>
                        <a:lnTo>
                          <a:pt x="5444" y="6762"/>
                        </a:lnTo>
                        <a:lnTo>
                          <a:pt x="5344" y="6772"/>
                        </a:lnTo>
                        <a:lnTo>
                          <a:pt x="5238" y="6774"/>
                        </a:lnTo>
                        <a:lnTo>
                          <a:pt x="5131" y="6764"/>
                        </a:lnTo>
                        <a:lnTo>
                          <a:pt x="5022" y="6738"/>
                        </a:lnTo>
                        <a:lnTo>
                          <a:pt x="4920" y="6693"/>
                        </a:lnTo>
                        <a:lnTo>
                          <a:pt x="4920" y="6695"/>
                        </a:lnTo>
                        <a:lnTo>
                          <a:pt x="4815" y="6650"/>
                        </a:lnTo>
                        <a:lnTo>
                          <a:pt x="4706" y="6624"/>
                        </a:lnTo>
                        <a:lnTo>
                          <a:pt x="4599" y="6614"/>
                        </a:lnTo>
                        <a:lnTo>
                          <a:pt x="4493" y="6614"/>
                        </a:lnTo>
                        <a:lnTo>
                          <a:pt x="4392" y="6624"/>
                        </a:lnTo>
                        <a:lnTo>
                          <a:pt x="4303" y="6640"/>
                        </a:lnTo>
                        <a:lnTo>
                          <a:pt x="4228" y="6659"/>
                        </a:lnTo>
                        <a:lnTo>
                          <a:pt x="4170" y="6677"/>
                        </a:lnTo>
                        <a:lnTo>
                          <a:pt x="4132" y="6689"/>
                        </a:lnTo>
                        <a:lnTo>
                          <a:pt x="4119" y="6693"/>
                        </a:lnTo>
                        <a:lnTo>
                          <a:pt x="4119" y="6695"/>
                        </a:lnTo>
                        <a:lnTo>
                          <a:pt x="4108" y="6699"/>
                        </a:lnTo>
                        <a:lnTo>
                          <a:pt x="4074" y="6716"/>
                        </a:lnTo>
                        <a:lnTo>
                          <a:pt x="4025" y="6736"/>
                        </a:lnTo>
                        <a:lnTo>
                          <a:pt x="3959" y="6758"/>
                        </a:lnTo>
                        <a:lnTo>
                          <a:pt x="3876" y="6779"/>
                        </a:lnTo>
                        <a:lnTo>
                          <a:pt x="3781" y="6791"/>
                        </a:lnTo>
                        <a:lnTo>
                          <a:pt x="3676" y="6793"/>
                        </a:lnTo>
                        <a:lnTo>
                          <a:pt x="3563" y="6779"/>
                        </a:lnTo>
                        <a:lnTo>
                          <a:pt x="3443" y="6748"/>
                        </a:lnTo>
                        <a:lnTo>
                          <a:pt x="3318" y="6693"/>
                        </a:lnTo>
                        <a:lnTo>
                          <a:pt x="3318" y="6695"/>
                        </a:lnTo>
                        <a:lnTo>
                          <a:pt x="3191" y="6640"/>
                        </a:lnTo>
                        <a:lnTo>
                          <a:pt x="3071" y="6608"/>
                        </a:lnTo>
                        <a:lnTo>
                          <a:pt x="2958" y="6596"/>
                        </a:lnTo>
                        <a:lnTo>
                          <a:pt x="2853" y="6598"/>
                        </a:lnTo>
                        <a:lnTo>
                          <a:pt x="2758" y="6610"/>
                        </a:lnTo>
                        <a:lnTo>
                          <a:pt x="2678" y="6628"/>
                        </a:lnTo>
                        <a:lnTo>
                          <a:pt x="2609" y="6650"/>
                        </a:lnTo>
                        <a:lnTo>
                          <a:pt x="2560" y="6673"/>
                        </a:lnTo>
                        <a:lnTo>
                          <a:pt x="2526" y="6687"/>
                        </a:lnTo>
                        <a:lnTo>
                          <a:pt x="2517" y="6693"/>
                        </a:lnTo>
                        <a:lnTo>
                          <a:pt x="2517" y="6695"/>
                        </a:lnTo>
                        <a:lnTo>
                          <a:pt x="2506" y="6699"/>
                        </a:lnTo>
                        <a:lnTo>
                          <a:pt x="2477" y="6713"/>
                        </a:lnTo>
                        <a:lnTo>
                          <a:pt x="2433" y="6732"/>
                        </a:lnTo>
                        <a:lnTo>
                          <a:pt x="2371" y="6750"/>
                        </a:lnTo>
                        <a:lnTo>
                          <a:pt x="2293" y="6768"/>
                        </a:lnTo>
                        <a:lnTo>
                          <a:pt x="2202" y="6779"/>
                        </a:lnTo>
                        <a:lnTo>
                          <a:pt x="2097" y="6781"/>
                        </a:lnTo>
                        <a:lnTo>
                          <a:pt x="1979" y="6768"/>
                        </a:lnTo>
                        <a:lnTo>
                          <a:pt x="1852" y="6742"/>
                        </a:lnTo>
                        <a:lnTo>
                          <a:pt x="1714" y="6693"/>
                        </a:lnTo>
                        <a:lnTo>
                          <a:pt x="1714" y="6695"/>
                        </a:lnTo>
                        <a:lnTo>
                          <a:pt x="1603" y="6657"/>
                        </a:lnTo>
                        <a:lnTo>
                          <a:pt x="1490" y="6636"/>
                        </a:lnTo>
                        <a:lnTo>
                          <a:pt x="1381" y="6626"/>
                        </a:lnTo>
                        <a:lnTo>
                          <a:pt x="1274" y="6628"/>
                        </a:lnTo>
                        <a:lnTo>
                          <a:pt x="1178" y="6636"/>
                        </a:lnTo>
                        <a:lnTo>
                          <a:pt x="1092" y="6650"/>
                        </a:lnTo>
                        <a:lnTo>
                          <a:pt x="1018" y="6665"/>
                        </a:lnTo>
                        <a:lnTo>
                          <a:pt x="963" y="6679"/>
                        </a:lnTo>
                        <a:lnTo>
                          <a:pt x="927" y="6689"/>
                        </a:lnTo>
                        <a:lnTo>
                          <a:pt x="916" y="6693"/>
                        </a:lnTo>
                        <a:lnTo>
                          <a:pt x="916" y="6695"/>
                        </a:lnTo>
                        <a:lnTo>
                          <a:pt x="898" y="6699"/>
                        </a:lnTo>
                        <a:lnTo>
                          <a:pt x="849" y="6711"/>
                        </a:lnTo>
                        <a:lnTo>
                          <a:pt x="778" y="6728"/>
                        </a:lnTo>
                        <a:lnTo>
                          <a:pt x="687" y="6746"/>
                        </a:lnTo>
                        <a:lnTo>
                          <a:pt x="582" y="6762"/>
                        </a:lnTo>
                        <a:lnTo>
                          <a:pt x="473" y="6772"/>
                        </a:lnTo>
                        <a:lnTo>
                          <a:pt x="362" y="6774"/>
                        </a:lnTo>
                        <a:lnTo>
                          <a:pt x="258" y="6764"/>
                        </a:lnTo>
                        <a:lnTo>
                          <a:pt x="166" y="6738"/>
                        </a:lnTo>
                        <a:lnTo>
                          <a:pt x="93" y="6693"/>
                        </a:lnTo>
                        <a:lnTo>
                          <a:pt x="93" y="6695"/>
                        </a:lnTo>
                        <a:lnTo>
                          <a:pt x="40" y="6628"/>
                        </a:lnTo>
                        <a:lnTo>
                          <a:pt x="11" y="6547"/>
                        </a:lnTo>
                        <a:lnTo>
                          <a:pt x="0" y="6455"/>
                        </a:lnTo>
                        <a:lnTo>
                          <a:pt x="0" y="6358"/>
                        </a:lnTo>
                        <a:lnTo>
                          <a:pt x="13" y="6258"/>
                        </a:lnTo>
                        <a:lnTo>
                          <a:pt x="31" y="6167"/>
                        </a:lnTo>
                        <a:lnTo>
                          <a:pt x="53" y="6085"/>
                        </a:lnTo>
                        <a:lnTo>
                          <a:pt x="71" y="6020"/>
                        </a:lnTo>
                        <a:lnTo>
                          <a:pt x="86" y="5978"/>
                        </a:lnTo>
                        <a:lnTo>
                          <a:pt x="93" y="5961"/>
                        </a:lnTo>
                        <a:lnTo>
                          <a:pt x="93" y="5963"/>
                        </a:lnTo>
                        <a:lnTo>
                          <a:pt x="97" y="5951"/>
                        </a:lnTo>
                        <a:lnTo>
                          <a:pt x="108" y="5919"/>
                        </a:lnTo>
                        <a:lnTo>
                          <a:pt x="126" y="5870"/>
                        </a:lnTo>
                        <a:lnTo>
                          <a:pt x="144" y="5805"/>
                        </a:lnTo>
                        <a:lnTo>
                          <a:pt x="160" y="5725"/>
                        </a:lnTo>
                        <a:lnTo>
                          <a:pt x="169" y="5636"/>
                        </a:lnTo>
                        <a:lnTo>
                          <a:pt x="171" y="5540"/>
                        </a:lnTo>
                        <a:lnTo>
                          <a:pt x="160" y="5439"/>
                        </a:lnTo>
                        <a:lnTo>
                          <a:pt x="135" y="5335"/>
                        </a:lnTo>
                        <a:lnTo>
                          <a:pt x="93" y="5229"/>
                        </a:lnTo>
                        <a:lnTo>
                          <a:pt x="93" y="5231"/>
                        </a:lnTo>
                        <a:lnTo>
                          <a:pt x="48" y="5126"/>
                        </a:lnTo>
                        <a:lnTo>
                          <a:pt x="24" y="5022"/>
                        </a:lnTo>
                        <a:lnTo>
                          <a:pt x="13" y="4920"/>
                        </a:lnTo>
                        <a:lnTo>
                          <a:pt x="15" y="4823"/>
                        </a:lnTo>
                        <a:lnTo>
                          <a:pt x="26" y="4733"/>
                        </a:lnTo>
                        <a:lnTo>
                          <a:pt x="40" y="4656"/>
                        </a:lnTo>
                        <a:lnTo>
                          <a:pt x="57" y="4591"/>
                        </a:lnTo>
                        <a:lnTo>
                          <a:pt x="75" y="4540"/>
                        </a:lnTo>
                        <a:lnTo>
                          <a:pt x="86" y="4510"/>
                        </a:lnTo>
                        <a:lnTo>
                          <a:pt x="93" y="4497"/>
                        </a:lnTo>
                        <a:lnTo>
                          <a:pt x="93" y="4499"/>
                        </a:lnTo>
                        <a:lnTo>
                          <a:pt x="97" y="4487"/>
                        </a:lnTo>
                        <a:lnTo>
                          <a:pt x="108" y="4453"/>
                        </a:lnTo>
                        <a:lnTo>
                          <a:pt x="124" y="4402"/>
                        </a:lnTo>
                        <a:lnTo>
                          <a:pt x="140" y="4335"/>
                        </a:lnTo>
                        <a:lnTo>
                          <a:pt x="155" y="4253"/>
                        </a:lnTo>
                        <a:lnTo>
                          <a:pt x="164" y="4164"/>
                        </a:lnTo>
                        <a:lnTo>
                          <a:pt x="166" y="4068"/>
                        </a:lnTo>
                        <a:lnTo>
                          <a:pt x="155" y="3967"/>
                        </a:lnTo>
                        <a:lnTo>
                          <a:pt x="133" y="3865"/>
                        </a:lnTo>
                        <a:lnTo>
                          <a:pt x="93" y="3766"/>
                        </a:lnTo>
                        <a:lnTo>
                          <a:pt x="93" y="3768"/>
                        </a:lnTo>
                        <a:lnTo>
                          <a:pt x="51" y="3666"/>
                        </a:lnTo>
                        <a:lnTo>
                          <a:pt x="28" y="3564"/>
                        </a:lnTo>
                        <a:lnTo>
                          <a:pt x="17" y="3465"/>
                        </a:lnTo>
                        <a:lnTo>
                          <a:pt x="20" y="3367"/>
                        </a:lnTo>
                        <a:lnTo>
                          <a:pt x="28" y="3278"/>
                        </a:lnTo>
                        <a:lnTo>
                          <a:pt x="44" y="3198"/>
                        </a:lnTo>
                        <a:lnTo>
                          <a:pt x="60" y="3131"/>
                        </a:lnTo>
                        <a:lnTo>
                          <a:pt x="75" y="3078"/>
                        </a:lnTo>
                        <a:lnTo>
                          <a:pt x="86" y="3046"/>
                        </a:lnTo>
                        <a:lnTo>
                          <a:pt x="93" y="3034"/>
                        </a:lnTo>
                        <a:lnTo>
                          <a:pt x="93" y="3036"/>
                        </a:lnTo>
                        <a:lnTo>
                          <a:pt x="95" y="3023"/>
                        </a:lnTo>
                        <a:lnTo>
                          <a:pt x="106" y="2991"/>
                        </a:lnTo>
                        <a:lnTo>
                          <a:pt x="122" y="2940"/>
                        </a:lnTo>
                        <a:lnTo>
                          <a:pt x="137" y="2873"/>
                        </a:lnTo>
                        <a:lnTo>
                          <a:pt x="151" y="2794"/>
                        </a:lnTo>
                        <a:lnTo>
                          <a:pt x="160" y="2704"/>
                        </a:lnTo>
                        <a:lnTo>
                          <a:pt x="160" y="2609"/>
                        </a:lnTo>
                        <a:lnTo>
                          <a:pt x="151" y="2507"/>
                        </a:lnTo>
                        <a:lnTo>
                          <a:pt x="131" y="2403"/>
                        </a:lnTo>
                        <a:lnTo>
                          <a:pt x="93" y="2302"/>
                        </a:lnTo>
                        <a:lnTo>
                          <a:pt x="93" y="2304"/>
                        </a:lnTo>
                        <a:lnTo>
                          <a:pt x="53" y="2200"/>
                        </a:lnTo>
                        <a:lnTo>
                          <a:pt x="33" y="2098"/>
                        </a:lnTo>
                        <a:lnTo>
                          <a:pt x="24" y="1997"/>
                        </a:lnTo>
                        <a:lnTo>
                          <a:pt x="24" y="1899"/>
                        </a:lnTo>
                        <a:lnTo>
                          <a:pt x="33" y="1810"/>
                        </a:lnTo>
                        <a:lnTo>
                          <a:pt x="46" y="1730"/>
                        </a:lnTo>
                        <a:lnTo>
                          <a:pt x="62" y="1665"/>
                        </a:lnTo>
                        <a:lnTo>
                          <a:pt x="77" y="1615"/>
                        </a:lnTo>
                        <a:lnTo>
                          <a:pt x="88" y="1582"/>
                        </a:lnTo>
                        <a:lnTo>
                          <a:pt x="93" y="1570"/>
                        </a:lnTo>
                        <a:lnTo>
                          <a:pt x="93" y="1572"/>
                        </a:lnTo>
                        <a:lnTo>
                          <a:pt x="97" y="1558"/>
                        </a:lnTo>
                        <a:lnTo>
                          <a:pt x="108" y="1519"/>
                        </a:lnTo>
                        <a:lnTo>
                          <a:pt x="126" y="1458"/>
                        </a:lnTo>
                        <a:lnTo>
                          <a:pt x="144" y="1383"/>
                        </a:lnTo>
                        <a:lnTo>
                          <a:pt x="160" y="1295"/>
                        </a:lnTo>
                        <a:lnTo>
                          <a:pt x="169" y="1202"/>
                        </a:lnTo>
                        <a:lnTo>
                          <a:pt x="171" y="1104"/>
                        </a:lnTo>
                        <a:lnTo>
                          <a:pt x="160" y="1009"/>
                        </a:lnTo>
                        <a:lnTo>
                          <a:pt x="135" y="917"/>
                        </a:lnTo>
                        <a:lnTo>
                          <a:pt x="93" y="838"/>
                        </a:lnTo>
                        <a:lnTo>
                          <a:pt x="93" y="840"/>
                        </a:lnTo>
                        <a:lnTo>
                          <a:pt x="48" y="759"/>
                        </a:lnTo>
                        <a:lnTo>
                          <a:pt x="20" y="667"/>
                        </a:lnTo>
                        <a:lnTo>
                          <a:pt x="4" y="570"/>
                        </a:lnTo>
                        <a:lnTo>
                          <a:pt x="2" y="472"/>
                        </a:lnTo>
                        <a:lnTo>
                          <a:pt x="8" y="374"/>
                        </a:lnTo>
                        <a:lnTo>
                          <a:pt x="22" y="285"/>
                        </a:lnTo>
                        <a:lnTo>
                          <a:pt x="40" y="208"/>
                        </a:lnTo>
                        <a:lnTo>
                          <a:pt x="57" y="145"/>
                        </a:lnTo>
                        <a:lnTo>
                          <a:pt x="75" y="102"/>
                        </a:lnTo>
                        <a:lnTo>
                          <a:pt x="93" y="86"/>
                        </a:lnTo>
                      </a:path>
                    </a:pathLst>
                  </a:custGeom>
                  <a:noFill/>
                  <a:ln w="0">
                    <a:solidFill>
                      <a:srgbClr val="ff00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>
                    <a:off x="1849320" y="3746160"/>
                    <a:ext cx="203040" cy="342720"/>
                  </a:xfrm>
                  <a:custGeom>
                    <a:avLst/>
                    <a:gdLst/>
                    <a:ahLst/>
                    <a:rect l="l" t="t" r="r" b="b"/>
                    <a:pathLst>
                      <a:path w="956" h="502">
                        <a:moveTo>
                          <a:pt x="278" y="4"/>
                        </a:moveTo>
                        <a:lnTo>
                          <a:pt x="309" y="0"/>
                        </a:lnTo>
                        <a:lnTo>
                          <a:pt x="342" y="2"/>
                        </a:lnTo>
                        <a:lnTo>
                          <a:pt x="373" y="6"/>
                        </a:lnTo>
                        <a:lnTo>
                          <a:pt x="404" y="12"/>
                        </a:lnTo>
                        <a:lnTo>
                          <a:pt x="433" y="21"/>
                        </a:lnTo>
                        <a:lnTo>
                          <a:pt x="462" y="31"/>
                        </a:lnTo>
                        <a:lnTo>
                          <a:pt x="489" y="45"/>
                        </a:lnTo>
                        <a:lnTo>
                          <a:pt x="516" y="59"/>
                        </a:lnTo>
                        <a:lnTo>
                          <a:pt x="540" y="78"/>
                        </a:lnTo>
                        <a:lnTo>
                          <a:pt x="565" y="96"/>
                        </a:lnTo>
                        <a:lnTo>
                          <a:pt x="565" y="98"/>
                        </a:lnTo>
                        <a:lnTo>
                          <a:pt x="582" y="112"/>
                        </a:lnTo>
                        <a:lnTo>
                          <a:pt x="600" y="126"/>
                        </a:lnTo>
                        <a:lnTo>
                          <a:pt x="618" y="141"/>
                        </a:lnTo>
                        <a:lnTo>
                          <a:pt x="638" y="153"/>
                        </a:lnTo>
                        <a:lnTo>
                          <a:pt x="656" y="167"/>
                        </a:lnTo>
                        <a:lnTo>
                          <a:pt x="674" y="181"/>
                        </a:lnTo>
                        <a:lnTo>
                          <a:pt x="691" y="197"/>
                        </a:lnTo>
                        <a:lnTo>
                          <a:pt x="709" y="214"/>
                        </a:lnTo>
                        <a:lnTo>
                          <a:pt x="727" y="230"/>
                        </a:lnTo>
                        <a:lnTo>
                          <a:pt x="742" y="250"/>
                        </a:lnTo>
                        <a:lnTo>
                          <a:pt x="742" y="252"/>
                        </a:lnTo>
                        <a:lnTo>
                          <a:pt x="758" y="271"/>
                        </a:lnTo>
                        <a:lnTo>
                          <a:pt x="776" y="287"/>
                        </a:lnTo>
                        <a:lnTo>
                          <a:pt x="798" y="303"/>
                        </a:lnTo>
                        <a:lnTo>
                          <a:pt x="818" y="317"/>
                        </a:lnTo>
                        <a:lnTo>
                          <a:pt x="843" y="330"/>
                        </a:lnTo>
                        <a:lnTo>
                          <a:pt x="865" y="344"/>
                        </a:lnTo>
                        <a:lnTo>
                          <a:pt x="889" y="356"/>
                        </a:lnTo>
                        <a:lnTo>
                          <a:pt x="911" y="368"/>
                        </a:lnTo>
                        <a:lnTo>
                          <a:pt x="934" y="382"/>
                        </a:lnTo>
                        <a:lnTo>
                          <a:pt x="956" y="399"/>
                        </a:lnTo>
                        <a:lnTo>
                          <a:pt x="956" y="401"/>
                        </a:lnTo>
                        <a:lnTo>
                          <a:pt x="938" y="391"/>
                        </a:lnTo>
                        <a:lnTo>
                          <a:pt x="920" y="385"/>
                        </a:lnTo>
                        <a:lnTo>
                          <a:pt x="900" y="378"/>
                        </a:lnTo>
                        <a:lnTo>
                          <a:pt x="883" y="376"/>
                        </a:lnTo>
                        <a:lnTo>
                          <a:pt x="863" y="376"/>
                        </a:lnTo>
                        <a:lnTo>
                          <a:pt x="843" y="374"/>
                        </a:lnTo>
                        <a:lnTo>
                          <a:pt x="825" y="374"/>
                        </a:lnTo>
                        <a:lnTo>
                          <a:pt x="805" y="374"/>
                        </a:lnTo>
                        <a:lnTo>
                          <a:pt x="785" y="372"/>
                        </a:lnTo>
                        <a:lnTo>
                          <a:pt x="767" y="368"/>
                        </a:lnTo>
                        <a:lnTo>
                          <a:pt x="767" y="370"/>
                        </a:lnTo>
                        <a:lnTo>
                          <a:pt x="774" y="395"/>
                        </a:lnTo>
                        <a:lnTo>
                          <a:pt x="782" y="421"/>
                        </a:lnTo>
                        <a:lnTo>
                          <a:pt x="791" y="446"/>
                        </a:lnTo>
                        <a:lnTo>
                          <a:pt x="798" y="472"/>
                        </a:lnTo>
                        <a:lnTo>
                          <a:pt x="800" y="500"/>
                        </a:lnTo>
                        <a:lnTo>
                          <a:pt x="800" y="502"/>
                        </a:lnTo>
                        <a:lnTo>
                          <a:pt x="776" y="464"/>
                        </a:lnTo>
                        <a:lnTo>
                          <a:pt x="749" y="431"/>
                        </a:lnTo>
                        <a:lnTo>
                          <a:pt x="720" y="399"/>
                        </a:lnTo>
                        <a:lnTo>
                          <a:pt x="689" y="368"/>
                        </a:lnTo>
                        <a:lnTo>
                          <a:pt x="656" y="340"/>
                        </a:lnTo>
                        <a:lnTo>
                          <a:pt x="622" y="313"/>
                        </a:lnTo>
                        <a:lnTo>
                          <a:pt x="587" y="285"/>
                        </a:lnTo>
                        <a:lnTo>
                          <a:pt x="551" y="260"/>
                        </a:lnTo>
                        <a:lnTo>
                          <a:pt x="513" y="234"/>
                        </a:lnTo>
                        <a:lnTo>
                          <a:pt x="476" y="208"/>
                        </a:lnTo>
                        <a:lnTo>
                          <a:pt x="476" y="210"/>
                        </a:lnTo>
                        <a:lnTo>
                          <a:pt x="431" y="179"/>
                        </a:lnTo>
                        <a:lnTo>
                          <a:pt x="387" y="157"/>
                        </a:lnTo>
                        <a:lnTo>
                          <a:pt x="340" y="134"/>
                        </a:lnTo>
                        <a:lnTo>
                          <a:pt x="293" y="118"/>
                        </a:lnTo>
                        <a:lnTo>
                          <a:pt x="244" y="104"/>
                        </a:lnTo>
                        <a:lnTo>
                          <a:pt x="195" y="90"/>
                        </a:lnTo>
                        <a:lnTo>
                          <a:pt x="146" y="78"/>
                        </a:lnTo>
                        <a:lnTo>
                          <a:pt x="97" y="67"/>
                        </a:lnTo>
                        <a:lnTo>
                          <a:pt x="48" y="55"/>
                        </a:lnTo>
                        <a:lnTo>
                          <a:pt x="0" y="43"/>
                        </a:lnTo>
                        <a:lnTo>
                          <a:pt x="278" y="4"/>
                        </a:lnTo>
                        <a:close/>
                      </a:path>
                    </a:pathLst>
                  </a:custGeom>
                  <a:solidFill>
                    <a:srgbClr val="fefefe"/>
                  </a:solidFill>
                  <a:ln w="0">
                    <a:solidFill>
                      <a:srgbClr val="ff00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>
                    <a:off x="1849320" y="3746160"/>
                    <a:ext cx="203040" cy="342720"/>
                  </a:xfrm>
                  <a:custGeom>
                    <a:avLst/>
                    <a:gdLst/>
                    <a:ahLst/>
                    <a:rect l="l" t="t" r="r" b="b"/>
                    <a:pathLst>
                      <a:path w="956" h="502">
                        <a:moveTo>
                          <a:pt x="278" y="4"/>
                        </a:moveTo>
                        <a:lnTo>
                          <a:pt x="309" y="0"/>
                        </a:lnTo>
                        <a:lnTo>
                          <a:pt x="342" y="2"/>
                        </a:lnTo>
                        <a:lnTo>
                          <a:pt x="373" y="6"/>
                        </a:lnTo>
                        <a:lnTo>
                          <a:pt x="404" y="12"/>
                        </a:lnTo>
                        <a:lnTo>
                          <a:pt x="433" y="21"/>
                        </a:lnTo>
                        <a:lnTo>
                          <a:pt x="462" y="31"/>
                        </a:lnTo>
                        <a:lnTo>
                          <a:pt x="489" y="45"/>
                        </a:lnTo>
                        <a:lnTo>
                          <a:pt x="516" y="59"/>
                        </a:lnTo>
                        <a:lnTo>
                          <a:pt x="540" y="78"/>
                        </a:lnTo>
                        <a:lnTo>
                          <a:pt x="565" y="96"/>
                        </a:lnTo>
                        <a:lnTo>
                          <a:pt x="565" y="98"/>
                        </a:lnTo>
                        <a:lnTo>
                          <a:pt x="582" y="112"/>
                        </a:lnTo>
                        <a:lnTo>
                          <a:pt x="600" y="126"/>
                        </a:lnTo>
                        <a:lnTo>
                          <a:pt x="618" y="141"/>
                        </a:lnTo>
                        <a:lnTo>
                          <a:pt x="638" y="153"/>
                        </a:lnTo>
                        <a:lnTo>
                          <a:pt x="656" y="167"/>
                        </a:lnTo>
                        <a:lnTo>
                          <a:pt x="674" y="181"/>
                        </a:lnTo>
                        <a:lnTo>
                          <a:pt x="691" y="197"/>
                        </a:lnTo>
                        <a:lnTo>
                          <a:pt x="709" y="214"/>
                        </a:lnTo>
                        <a:lnTo>
                          <a:pt x="727" y="230"/>
                        </a:lnTo>
                        <a:lnTo>
                          <a:pt x="742" y="250"/>
                        </a:lnTo>
                        <a:lnTo>
                          <a:pt x="742" y="252"/>
                        </a:lnTo>
                        <a:lnTo>
                          <a:pt x="758" y="271"/>
                        </a:lnTo>
                        <a:lnTo>
                          <a:pt x="776" y="287"/>
                        </a:lnTo>
                        <a:lnTo>
                          <a:pt x="798" y="303"/>
                        </a:lnTo>
                        <a:lnTo>
                          <a:pt x="818" y="317"/>
                        </a:lnTo>
                        <a:lnTo>
                          <a:pt x="843" y="330"/>
                        </a:lnTo>
                        <a:lnTo>
                          <a:pt x="865" y="344"/>
                        </a:lnTo>
                        <a:lnTo>
                          <a:pt x="889" y="356"/>
                        </a:lnTo>
                        <a:lnTo>
                          <a:pt x="911" y="368"/>
                        </a:lnTo>
                        <a:lnTo>
                          <a:pt x="934" y="382"/>
                        </a:lnTo>
                        <a:lnTo>
                          <a:pt x="956" y="399"/>
                        </a:lnTo>
                        <a:lnTo>
                          <a:pt x="956" y="401"/>
                        </a:lnTo>
                        <a:lnTo>
                          <a:pt x="938" y="391"/>
                        </a:lnTo>
                        <a:lnTo>
                          <a:pt x="920" y="385"/>
                        </a:lnTo>
                        <a:lnTo>
                          <a:pt x="900" y="378"/>
                        </a:lnTo>
                        <a:lnTo>
                          <a:pt x="883" y="376"/>
                        </a:lnTo>
                        <a:lnTo>
                          <a:pt x="863" y="376"/>
                        </a:lnTo>
                        <a:lnTo>
                          <a:pt x="843" y="374"/>
                        </a:lnTo>
                        <a:lnTo>
                          <a:pt x="825" y="374"/>
                        </a:lnTo>
                        <a:lnTo>
                          <a:pt x="805" y="374"/>
                        </a:lnTo>
                        <a:lnTo>
                          <a:pt x="785" y="372"/>
                        </a:lnTo>
                        <a:lnTo>
                          <a:pt x="767" y="368"/>
                        </a:lnTo>
                        <a:lnTo>
                          <a:pt x="767" y="370"/>
                        </a:lnTo>
                        <a:lnTo>
                          <a:pt x="774" y="395"/>
                        </a:lnTo>
                        <a:lnTo>
                          <a:pt x="782" y="421"/>
                        </a:lnTo>
                        <a:lnTo>
                          <a:pt x="791" y="446"/>
                        </a:lnTo>
                        <a:lnTo>
                          <a:pt x="798" y="472"/>
                        </a:lnTo>
                        <a:lnTo>
                          <a:pt x="800" y="500"/>
                        </a:lnTo>
                        <a:lnTo>
                          <a:pt x="800" y="502"/>
                        </a:lnTo>
                        <a:lnTo>
                          <a:pt x="776" y="464"/>
                        </a:lnTo>
                        <a:lnTo>
                          <a:pt x="749" y="431"/>
                        </a:lnTo>
                        <a:lnTo>
                          <a:pt x="720" y="399"/>
                        </a:lnTo>
                        <a:lnTo>
                          <a:pt x="689" y="368"/>
                        </a:lnTo>
                        <a:lnTo>
                          <a:pt x="656" y="340"/>
                        </a:lnTo>
                        <a:lnTo>
                          <a:pt x="622" y="313"/>
                        </a:lnTo>
                        <a:lnTo>
                          <a:pt x="587" y="285"/>
                        </a:lnTo>
                        <a:lnTo>
                          <a:pt x="551" y="260"/>
                        </a:lnTo>
                        <a:lnTo>
                          <a:pt x="513" y="234"/>
                        </a:lnTo>
                        <a:lnTo>
                          <a:pt x="476" y="208"/>
                        </a:lnTo>
                        <a:lnTo>
                          <a:pt x="476" y="210"/>
                        </a:lnTo>
                        <a:lnTo>
                          <a:pt x="431" y="179"/>
                        </a:lnTo>
                        <a:lnTo>
                          <a:pt x="387" y="157"/>
                        </a:lnTo>
                        <a:lnTo>
                          <a:pt x="340" y="134"/>
                        </a:lnTo>
                        <a:lnTo>
                          <a:pt x="293" y="118"/>
                        </a:lnTo>
                        <a:lnTo>
                          <a:pt x="244" y="104"/>
                        </a:lnTo>
                        <a:lnTo>
                          <a:pt x="195" y="90"/>
                        </a:lnTo>
                        <a:lnTo>
                          <a:pt x="146" y="78"/>
                        </a:lnTo>
                        <a:lnTo>
                          <a:pt x="97" y="67"/>
                        </a:lnTo>
                        <a:lnTo>
                          <a:pt x="48" y="55"/>
                        </a:lnTo>
                        <a:lnTo>
                          <a:pt x="0" y="43"/>
                        </a:lnTo>
                      </a:path>
                    </a:pathLst>
                  </a:custGeom>
                  <a:solidFill>
                    <a:srgbClr val="ff0066"/>
                  </a:solidFill>
                  <a:ln w="0">
                    <a:solidFill>
                      <a:srgbClr val="ff00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" name=""/>
                  <p:cNvSpPr/>
                  <p:nvPr/>
                </p:nvSpPr>
                <p:spPr>
                  <a:xfrm>
                    <a:off x="1601280" y="3714840"/>
                    <a:ext cx="240840" cy="214920"/>
                  </a:xfrm>
                  <a:custGeom>
                    <a:avLst/>
                    <a:gdLst/>
                    <a:ahLst/>
                    <a:rect l="l" t="t" r="r" b="b"/>
                    <a:pathLst>
                      <a:path w="1134" h="315">
                        <a:moveTo>
                          <a:pt x="845" y="0"/>
                        </a:moveTo>
                        <a:lnTo>
                          <a:pt x="787" y="0"/>
                        </a:lnTo>
                        <a:lnTo>
                          <a:pt x="729" y="4"/>
                        </a:lnTo>
                        <a:lnTo>
                          <a:pt x="674" y="14"/>
                        </a:lnTo>
                        <a:lnTo>
                          <a:pt x="618" y="28"/>
                        </a:lnTo>
                        <a:lnTo>
                          <a:pt x="565" y="44"/>
                        </a:lnTo>
                        <a:lnTo>
                          <a:pt x="511" y="63"/>
                        </a:lnTo>
                        <a:lnTo>
                          <a:pt x="458" y="83"/>
                        </a:lnTo>
                        <a:lnTo>
                          <a:pt x="405" y="103"/>
                        </a:lnTo>
                        <a:lnTo>
                          <a:pt x="351" y="124"/>
                        </a:lnTo>
                        <a:lnTo>
                          <a:pt x="298" y="144"/>
                        </a:lnTo>
                        <a:lnTo>
                          <a:pt x="298" y="146"/>
                        </a:lnTo>
                        <a:lnTo>
                          <a:pt x="269" y="154"/>
                        </a:lnTo>
                        <a:lnTo>
                          <a:pt x="240" y="162"/>
                        </a:lnTo>
                        <a:lnTo>
                          <a:pt x="211" y="168"/>
                        </a:lnTo>
                        <a:lnTo>
                          <a:pt x="182" y="174"/>
                        </a:lnTo>
                        <a:lnTo>
                          <a:pt x="151" y="178"/>
                        </a:lnTo>
                        <a:lnTo>
                          <a:pt x="122" y="180"/>
                        </a:lnTo>
                        <a:lnTo>
                          <a:pt x="91" y="182"/>
                        </a:lnTo>
                        <a:lnTo>
                          <a:pt x="62" y="182"/>
                        </a:lnTo>
                        <a:lnTo>
                          <a:pt x="31" y="182"/>
                        </a:lnTo>
                        <a:lnTo>
                          <a:pt x="0" y="180"/>
                        </a:lnTo>
                        <a:lnTo>
                          <a:pt x="0" y="182"/>
                        </a:lnTo>
                        <a:lnTo>
                          <a:pt x="38" y="180"/>
                        </a:lnTo>
                        <a:lnTo>
                          <a:pt x="75" y="180"/>
                        </a:lnTo>
                        <a:lnTo>
                          <a:pt x="113" y="180"/>
                        </a:lnTo>
                        <a:lnTo>
                          <a:pt x="151" y="180"/>
                        </a:lnTo>
                        <a:lnTo>
                          <a:pt x="189" y="180"/>
                        </a:lnTo>
                        <a:lnTo>
                          <a:pt x="227" y="180"/>
                        </a:lnTo>
                        <a:lnTo>
                          <a:pt x="265" y="180"/>
                        </a:lnTo>
                        <a:lnTo>
                          <a:pt x="302" y="180"/>
                        </a:lnTo>
                        <a:lnTo>
                          <a:pt x="340" y="180"/>
                        </a:lnTo>
                        <a:lnTo>
                          <a:pt x="378" y="180"/>
                        </a:lnTo>
                        <a:lnTo>
                          <a:pt x="378" y="182"/>
                        </a:lnTo>
                        <a:lnTo>
                          <a:pt x="349" y="213"/>
                        </a:lnTo>
                        <a:lnTo>
                          <a:pt x="320" y="241"/>
                        </a:lnTo>
                        <a:lnTo>
                          <a:pt x="285" y="268"/>
                        </a:lnTo>
                        <a:lnTo>
                          <a:pt x="249" y="290"/>
                        </a:lnTo>
                        <a:lnTo>
                          <a:pt x="211" y="313"/>
                        </a:lnTo>
                        <a:lnTo>
                          <a:pt x="211" y="315"/>
                        </a:lnTo>
                        <a:lnTo>
                          <a:pt x="233" y="306"/>
                        </a:lnTo>
                        <a:lnTo>
                          <a:pt x="258" y="302"/>
                        </a:lnTo>
                        <a:lnTo>
                          <a:pt x="282" y="296"/>
                        </a:lnTo>
                        <a:lnTo>
                          <a:pt x="305" y="292"/>
                        </a:lnTo>
                        <a:lnTo>
                          <a:pt x="329" y="288"/>
                        </a:lnTo>
                        <a:lnTo>
                          <a:pt x="353" y="282"/>
                        </a:lnTo>
                        <a:lnTo>
                          <a:pt x="376" y="276"/>
                        </a:lnTo>
                        <a:lnTo>
                          <a:pt x="398" y="268"/>
                        </a:lnTo>
                        <a:lnTo>
                          <a:pt x="420" y="258"/>
                        </a:lnTo>
                        <a:lnTo>
                          <a:pt x="442" y="248"/>
                        </a:lnTo>
                        <a:lnTo>
                          <a:pt x="442" y="250"/>
                        </a:lnTo>
                        <a:lnTo>
                          <a:pt x="505" y="213"/>
                        </a:lnTo>
                        <a:lnTo>
                          <a:pt x="571" y="182"/>
                        </a:lnTo>
                        <a:lnTo>
                          <a:pt x="640" y="156"/>
                        </a:lnTo>
                        <a:lnTo>
                          <a:pt x="709" y="134"/>
                        </a:lnTo>
                        <a:lnTo>
                          <a:pt x="778" y="115"/>
                        </a:lnTo>
                        <a:lnTo>
                          <a:pt x="849" y="101"/>
                        </a:lnTo>
                        <a:lnTo>
                          <a:pt x="921" y="93"/>
                        </a:lnTo>
                        <a:lnTo>
                          <a:pt x="992" y="87"/>
                        </a:lnTo>
                        <a:lnTo>
                          <a:pt x="1063" y="85"/>
                        </a:lnTo>
                        <a:lnTo>
                          <a:pt x="1134" y="89"/>
                        </a:lnTo>
                        <a:lnTo>
                          <a:pt x="845" y="0"/>
                        </a:lnTo>
                        <a:close/>
                      </a:path>
                    </a:pathLst>
                  </a:custGeom>
                  <a:solidFill>
                    <a:srgbClr val="fefefe"/>
                  </a:solidFill>
                  <a:ln w="0">
                    <a:solidFill>
                      <a:srgbClr val="ff00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>
                    <a:off x="1601280" y="3714840"/>
                    <a:ext cx="240840" cy="214920"/>
                  </a:xfrm>
                  <a:custGeom>
                    <a:avLst/>
                    <a:gdLst/>
                    <a:ahLst/>
                    <a:rect l="l" t="t" r="r" b="b"/>
                    <a:pathLst>
                      <a:path w="1134" h="315">
                        <a:moveTo>
                          <a:pt x="845" y="0"/>
                        </a:moveTo>
                        <a:lnTo>
                          <a:pt x="787" y="0"/>
                        </a:lnTo>
                        <a:lnTo>
                          <a:pt x="729" y="4"/>
                        </a:lnTo>
                        <a:lnTo>
                          <a:pt x="674" y="14"/>
                        </a:lnTo>
                        <a:lnTo>
                          <a:pt x="618" y="28"/>
                        </a:lnTo>
                        <a:lnTo>
                          <a:pt x="565" y="44"/>
                        </a:lnTo>
                        <a:lnTo>
                          <a:pt x="511" y="63"/>
                        </a:lnTo>
                        <a:lnTo>
                          <a:pt x="458" y="83"/>
                        </a:lnTo>
                        <a:lnTo>
                          <a:pt x="405" y="103"/>
                        </a:lnTo>
                        <a:lnTo>
                          <a:pt x="351" y="124"/>
                        </a:lnTo>
                        <a:lnTo>
                          <a:pt x="298" y="144"/>
                        </a:lnTo>
                        <a:lnTo>
                          <a:pt x="298" y="146"/>
                        </a:lnTo>
                        <a:lnTo>
                          <a:pt x="269" y="154"/>
                        </a:lnTo>
                        <a:lnTo>
                          <a:pt x="240" y="162"/>
                        </a:lnTo>
                        <a:lnTo>
                          <a:pt x="211" y="168"/>
                        </a:lnTo>
                        <a:lnTo>
                          <a:pt x="182" y="174"/>
                        </a:lnTo>
                        <a:lnTo>
                          <a:pt x="151" y="178"/>
                        </a:lnTo>
                        <a:lnTo>
                          <a:pt x="122" y="180"/>
                        </a:lnTo>
                        <a:lnTo>
                          <a:pt x="91" y="182"/>
                        </a:lnTo>
                        <a:lnTo>
                          <a:pt x="62" y="182"/>
                        </a:lnTo>
                        <a:lnTo>
                          <a:pt x="31" y="182"/>
                        </a:lnTo>
                        <a:lnTo>
                          <a:pt x="0" y="180"/>
                        </a:lnTo>
                        <a:lnTo>
                          <a:pt x="0" y="182"/>
                        </a:lnTo>
                        <a:lnTo>
                          <a:pt x="38" y="180"/>
                        </a:lnTo>
                        <a:lnTo>
                          <a:pt x="75" y="180"/>
                        </a:lnTo>
                        <a:lnTo>
                          <a:pt x="113" y="180"/>
                        </a:lnTo>
                        <a:lnTo>
                          <a:pt x="151" y="180"/>
                        </a:lnTo>
                        <a:lnTo>
                          <a:pt x="189" y="180"/>
                        </a:lnTo>
                        <a:lnTo>
                          <a:pt x="227" y="180"/>
                        </a:lnTo>
                        <a:lnTo>
                          <a:pt x="265" y="180"/>
                        </a:lnTo>
                        <a:lnTo>
                          <a:pt x="302" y="180"/>
                        </a:lnTo>
                        <a:lnTo>
                          <a:pt x="340" y="180"/>
                        </a:lnTo>
                        <a:lnTo>
                          <a:pt x="378" y="180"/>
                        </a:lnTo>
                        <a:lnTo>
                          <a:pt x="378" y="182"/>
                        </a:lnTo>
                        <a:lnTo>
                          <a:pt x="349" y="213"/>
                        </a:lnTo>
                        <a:lnTo>
                          <a:pt x="320" y="241"/>
                        </a:lnTo>
                        <a:lnTo>
                          <a:pt x="285" y="268"/>
                        </a:lnTo>
                        <a:lnTo>
                          <a:pt x="249" y="290"/>
                        </a:lnTo>
                        <a:lnTo>
                          <a:pt x="211" y="313"/>
                        </a:lnTo>
                        <a:lnTo>
                          <a:pt x="211" y="315"/>
                        </a:lnTo>
                        <a:lnTo>
                          <a:pt x="233" y="306"/>
                        </a:lnTo>
                        <a:lnTo>
                          <a:pt x="258" y="302"/>
                        </a:lnTo>
                        <a:lnTo>
                          <a:pt x="282" y="296"/>
                        </a:lnTo>
                        <a:lnTo>
                          <a:pt x="305" y="292"/>
                        </a:lnTo>
                        <a:lnTo>
                          <a:pt x="329" y="288"/>
                        </a:lnTo>
                        <a:lnTo>
                          <a:pt x="353" y="282"/>
                        </a:lnTo>
                        <a:lnTo>
                          <a:pt x="376" y="276"/>
                        </a:lnTo>
                        <a:lnTo>
                          <a:pt x="398" y="268"/>
                        </a:lnTo>
                        <a:lnTo>
                          <a:pt x="420" y="258"/>
                        </a:lnTo>
                        <a:lnTo>
                          <a:pt x="442" y="248"/>
                        </a:lnTo>
                        <a:lnTo>
                          <a:pt x="442" y="250"/>
                        </a:lnTo>
                        <a:lnTo>
                          <a:pt x="505" y="213"/>
                        </a:lnTo>
                        <a:lnTo>
                          <a:pt x="571" y="182"/>
                        </a:lnTo>
                        <a:lnTo>
                          <a:pt x="640" y="156"/>
                        </a:lnTo>
                        <a:lnTo>
                          <a:pt x="709" y="134"/>
                        </a:lnTo>
                        <a:lnTo>
                          <a:pt x="778" y="115"/>
                        </a:lnTo>
                        <a:lnTo>
                          <a:pt x="849" y="101"/>
                        </a:lnTo>
                        <a:lnTo>
                          <a:pt x="921" y="93"/>
                        </a:lnTo>
                        <a:lnTo>
                          <a:pt x="992" y="87"/>
                        </a:lnTo>
                        <a:lnTo>
                          <a:pt x="1063" y="85"/>
                        </a:lnTo>
                        <a:lnTo>
                          <a:pt x="1134" y="89"/>
                        </a:lnTo>
                      </a:path>
                    </a:pathLst>
                  </a:custGeom>
                  <a:solidFill>
                    <a:srgbClr val="ff0066"/>
                  </a:solidFill>
                  <a:ln w="0">
                    <a:solidFill>
                      <a:srgbClr val="ff00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>
                    <a:off x="1851120" y="3470400"/>
                    <a:ext cx="137880" cy="331560"/>
                  </a:xfrm>
                  <a:custGeom>
                    <a:avLst/>
                    <a:gdLst/>
                    <a:ahLst/>
                    <a:rect l="l" t="t" r="r" b="b"/>
                    <a:pathLst>
                      <a:path w="650" h="486">
                        <a:moveTo>
                          <a:pt x="58" y="276"/>
                        </a:moveTo>
                        <a:lnTo>
                          <a:pt x="54" y="262"/>
                        </a:lnTo>
                        <a:lnTo>
                          <a:pt x="58" y="254"/>
                        </a:lnTo>
                        <a:lnTo>
                          <a:pt x="69" y="248"/>
                        </a:lnTo>
                        <a:lnTo>
                          <a:pt x="78" y="242"/>
                        </a:lnTo>
                        <a:lnTo>
                          <a:pt x="87" y="238"/>
                        </a:lnTo>
                        <a:lnTo>
                          <a:pt x="87" y="240"/>
                        </a:lnTo>
                        <a:lnTo>
                          <a:pt x="105" y="215"/>
                        </a:lnTo>
                        <a:lnTo>
                          <a:pt x="125" y="195"/>
                        </a:lnTo>
                        <a:lnTo>
                          <a:pt x="145" y="177"/>
                        </a:lnTo>
                        <a:lnTo>
                          <a:pt x="169" y="160"/>
                        </a:lnTo>
                        <a:lnTo>
                          <a:pt x="194" y="146"/>
                        </a:lnTo>
                        <a:lnTo>
                          <a:pt x="194" y="148"/>
                        </a:lnTo>
                        <a:lnTo>
                          <a:pt x="227" y="128"/>
                        </a:lnTo>
                        <a:lnTo>
                          <a:pt x="261" y="105"/>
                        </a:lnTo>
                        <a:lnTo>
                          <a:pt x="294" y="83"/>
                        </a:lnTo>
                        <a:lnTo>
                          <a:pt x="327" y="63"/>
                        </a:lnTo>
                        <a:lnTo>
                          <a:pt x="361" y="42"/>
                        </a:lnTo>
                        <a:lnTo>
                          <a:pt x="394" y="26"/>
                        </a:lnTo>
                        <a:lnTo>
                          <a:pt x="430" y="12"/>
                        </a:lnTo>
                        <a:lnTo>
                          <a:pt x="468" y="4"/>
                        </a:lnTo>
                        <a:lnTo>
                          <a:pt x="505" y="0"/>
                        </a:lnTo>
                        <a:lnTo>
                          <a:pt x="545" y="6"/>
                        </a:lnTo>
                        <a:lnTo>
                          <a:pt x="545" y="8"/>
                        </a:lnTo>
                        <a:lnTo>
                          <a:pt x="579" y="22"/>
                        </a:lnTo>
                        <a:lnTo>
                          <a:pt x="597" y="48"/>
                        </a:lnTo>
                        <a:lnTo>
                          <a:pt x="605" y="81"/>
                        </a:lnTo>
                        <a:lnTo>
                          <a:pt x="610" y="118"/>
                        </a:lnTo>
                        <a:lnTo>
                          <a:pt x="619" y="154"/>
                        </a:lnTo>
                        <a:lnTo>
                          <a:pt x="619" y="156"/>
                        </a:lnTo>
                        <a:lnTo>
                          <a:pt x="625" y="183"/>
                        </a:lnTo>
                        <a:lnTo>
                          <a:pt x="634" y="213"/>
                        </a:lnTo>
                        <a:lnTo>
                          <a:pt x="641" y="242"/>
                        </a:lnTo>
                        <a:lnTo>
                          <a:pt x="648" y="272"/>
                        </a:lnTo>
                        <a:lnTo>
                          <a:pt x="650" y="303"/>
                        </a:lnTo>
                        <a:lnTo>
                          <a:pt x="650" y="331"/>
                        </a:lnTo>
                        <a:lnTo>
                          <a:pt x="645" y="360"/>
                        </a:lnTo>
                        <a:lnTo>
                          <a:pt x="639" y="384"/>
                        </a:lnTo>
                        <a:lnTo>
                          <a:pt x="623" y="404"/>
                        </a:lnTo>
                        <a:lnTo>
                          <a:pt x="603" y="423"/>
                        </a:lnTo>
                        <a:lnTo>
                          <a:pt x="603" y="425"/>
                        </a:lnTo>
                        <a:lnTo>
                          <a:pt x="554" y="449"/>
                        </a:lnTo>
                        <a:lnTo>
                          <a:pt x="505" y="467"/>
                        </a:lnTo>
                        <a:lnTo>
                          <a:pt x="452" y="479"/>
                        </a:lnTo>
                        <a:lnTo>
                          <a:pt x="399" y="486"/>
                        </a:lnTo>
                        <a:lnTo>
                          <a:pt x="343" y="486"/>
                        </a:lnTo>
                        <a:lnTo>
                          <a:pt x="287" y="484"/>
                        </a:lnTo>
                        <a:lnTo>
                          <a:pt x="230" y="477"/>
                        </a:lnTo>
                        <a:lnTo>
                          <a:pt x="172" y="469"/>
                        </a:lnTo>
                        <a:lnTo>
                          <a:pt x="116" y="463"/>
                        </a:lnTo>
                        <a:lnTo>
                          <a:pt x="61" y="455"/>
                        </a:lnTo>
                        <a:lnTo>
                          <a:pt x="61" y="457"/>
                        </a:lnTo>
                        <a:lnTo>
                          <a:pt x="36" y="449"/>
                        </a:lnTo>
                        <a:lnTo>
                          <a:pt x="18" y="437"/>
                        </a:lnTo>
                        <a:lnTo>
                          <a:pt x="7" y="421"/>
                        </a:lnTo>
                        <a:lnTo>
                          <a:pt x="3" y="400"/>
                        </a:lnTo>
                        <a:lnTo>
                          <a:pt x="0" y="378"/>
                        </a:lnTo>
                        <a:lnTo>
                          <a:pt x="3" y="353"/>
                        </a:lnTo>
                        <a:lnTo>
                          <a:pt x="9" y="329"/>
                        </a:lnTo>
                        <a:lnTo>
                          <a:pt x="20" y="307"/>
                        </a:lnTo>
                        <a:lnTo>
                          <a:pt x="34" y="284"/>
                        </a:lnTo>
                        <a:lnTo>
                          <a:pt x="49" y="264"/>
                        </a:lnTo>
                        <a:lnTo>
                          <a:pt x="49" y="266"/>
                        </a:lnTo>
                        <a:lnTo>
                          <a:pt x="52" y="262"/>
                        </a:lnTo>
                        <a:lnTo>
                          <a:pt x="56" y="262"/>
                        </a:lnTo>
                        <a:lnTo>
                          <a:pt x="58" y="264"/>
                        </a:lnTo>
                        <a:lnTo>
                          <a:pt x="58" y="268"/>
                        </a:lnTo>
                        <a:lnTo>
                          <a:pt x="58" y="274"/>
                        </a:lnTo>
                        <a:lnTo>
                          <a:pt x="58" y="276"/>
                        </a:lnTo>
                        <a:close/>
                      </a:path>
                    </a:pathLst>
                  </a:custGeom>
                  <a:solidFill>
                    <a:srgbClr val="ff0066"/>
                  </a:solidFill>
                  <a:ln w="0">
                    <a:solidFill>
                      <a:srgbClr val="ff00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"/>
                  <p:cNvSpPr/>
                  <p:nvPr/>
                </p:nvSpPr>
                <p:spPr>
                  <a:xfrm>
                    <a:off x="1851120" y="3470400"/>
                    <a:ext cx="137880" cy="331560"/>
                  </a:xfrm>
                  <a:custGeom>
                    <a:avLst/>
                    <a:gdLst/>
                    <a:ahLst/>
                    <a:rect l="l" t="t" r="r" b="b"/>
                    <a:pathLst>
                      <a:path w="650" h="486">
                        <a:moveTo>
                          <a:pt x="58" y="276"/>
                        </a:moveTo>
                        <a:lnTo>
                          <a:pt x="54" y="262"/>
                        </a:lnTo>
                        <a:lnTo>
                          <a:pt x="58" y="254"/>
                        </a:lnTo>
                        <a:lnTo>
                          <a:pt x="69" y="248"/>
                        </a:lnTo>
                        <a:lnTo>
                          <a:pt x="78" y="242"/>
                        </a:lnTo>
                        <a:lnTo>
                          <a:pt x="87" y="238"/>
                        </a:lnTo>
                        <a:lnTo>
                          <a:pt x="87" y="240"/>
                        </a:lnTo>
                        <a:lnTo>
                          <a:pt x="105" y="215"/>
                        </a:lnTo>
                        <a:lnTo>
                          <a:pt x="125" y="195"/>
                        </a:lnTo>
                        <a:lnTo>
                          <a:pt x="145" y="177"/>
                        </a:lnTo>
                        <a:lnTo>
                          <a:pt x="169" y="160"/>
                        </a:lnTo>
                        <a:lnTo>
                          <a:pt x="194" y="146"/>
                        </a:lnTo>
                        <a:lnTo>
                          <a:pt x="194" y="148"/>
                        </a:lnTo>
                        <a:lnTo>
                          <a:pt x="227" y="128"/>
                        </a:lnTo>
                        <a:lnTo>
                          <a:pt x="261" y="105"/>
                        </a:lnTo>
                        <a:lnTo>
                          <a:pt x="294" y="83"/>
                        </a:lnTo>
                        <a:lnTo>
                          <a:pt x="327" y="63"/>
                        </a:lnTo>
                        <a:lnTo>
                          <a:pt x="361" y="42"/>
                        </a:lnTo>
                        <a:lnTo>
                          <a:pt x="394" y="26"/>
                        </a:lnTo>
                        <a:lnTo>
                          <a:pt x="430" y="12"/>
                        </a:lnTo>
                        <a:lnTo>
                          <a:pt x="468" y="4"/>
                        </a:lnTo>
                        <a:lnTo>
                          <a:pt x="505" y="0"/>
                        </a:lnTo>
                        <a:lnTo>
                          <a:pt x="545" y="6"/>
                        </a:lnTo>
                        <a:lnTo>
                          <a:pt x="545" y="8"/>
                        </a:lnTo>
                        <a:lnTo>
                          <a:pt x="579" y="22"/>
                        </a:lnTo>
                        <a:lnTo>
                          <a:pt x="597" y="48"/>
                        </a:lnTo>
                        <a:lnTo>
                          <a:pt x="605" y="81"/>
                        </a:lnTo>
                        <a:lnTo>
                          <a:pt x="610" y="118"/>
                        </a:lnTo>
                        <a:lnTo>
                          <a:pt x="619" y="154"/>
                        </a:lnTo>
                        <a:lnTo>
                          <a:pt x="619" y="156"/>
                        </a:lnTo>
                        <a:lnTo>
                          <a:pt x="625" y="183"/>
                        </a:lnTo>
                        <a:lnTo>
                          <a:pt x="634" y="213"/>
                        </a:lnTo>
                        <a:lnTo>
                          <a:pt x="641" y="242"/>
                        </a:lnTo>
                        <a:lnTo>
                          <a:pt x="648" y="272"/>
                        </a:lnTo>
                        <a:lnTo>
                          <a:pt x="650" y="303"/>
                        </a:lnTo>
                        <a:lnTo>
                          <a:pt x="650" y="331"/>
                        </a:lnTo>
                        <a:lnTo>
                          <a:pt x="645" y="360"/>
                        </a:lnTo>
                        <a:lnTo>
                          <a:pt x="639" y="384"/>
                        </a:lnTo>
                        <a:lnTo>
                          <a:pt x="623" y="404"/>
                        </a:lnTo>
                        <a:lnTo>
                          <a:pt x="603" y="423"/>
                        </a:lnTo>
                        <a:lnTo>
                          <a:pt x="603" y="425"/>
                        </a:lnTo>
                        <a:lnTo>
                          <a:pt x="554" y="449"/>
                        </a:lnTo>
                        <a:lnTo>
                          <a:pt x="505" y="467"/>
                        </a:lnTo>
                        <a:lnTo>
                          <a:pt x="452" y="479"/>
                        </a:lnTo>
                        <a:lnTo>
                          <a:pt x="399" y="486"/>
                        </a:lnTo>
                        <a:lnTo>
                          <a:pt x="343" y="486"/>
                        </a:lnTo>
                        <a:lnTo>
                          <a:pt x="287" y="484"/>
                        </a:lnTo>
                        <a:lnTo>
                          <a:pt x="230" y="477"/>
                        </a:lnTo>
                        <a:lnTo>
                          <a:pt x="172" y="469"/>
                        </a:lnTo>
                        <a:lnTo>
                          <a:pt x="116" y="463"/>
                        </a:lnTo>
                        <a:lnTo>
                          <a:pt x="61" y="455"/>
                        </a:lnTo>
                        <a:lnTo>
                          <a:pt x="61" y="457"/>
                        </a:lnTo>
                        <a:lnTo>
                          <a:pt x="36" y="449"/>
                        </a:lnTo>
                        <a:lnTo>
                          <a:pt x="18" y="437"/>
                        </a:lnTo>
                        <a:lnTo>
                          <a:pt x="7" y="421"/>
                        </a:lnTo>
                        <a:lnTo>
                          <a:pt x="3" y="400"/>
                        </a:lnTo>
                        <a:lnTo>
                          <a:pt x="0" y="378"/>
                        </a:lnTo>
                        <a:lnTo>
                          <a:pt x="3" y="353"/>
                        </a:lnTo>
                        <a:lnTo>
                          <a:pt x="9" y="329"/>
                        </a:lnTo>
                        <a:lnTo>
                          <a:pt x="20" y="307"/>
                        </a:lnTo>
                        <a:lnTo>
                          <a:pt x="34" y="284"/>
                        </a:lnTo>
                        <a:lnTo>
                          <a:pt x="49" y="264"/>
                        </a:lnTo>
                        <a:lnTo>
                          <a:pt x="49" y="266"/>
                        </a:lnTo>
                        <a:lnTo>
                          <a:pt x="52" y="262"/>
                        </a:lnTo>
                        <a:lnTo>
                          <a:pt x="56" y="262"/>
                        </a:lnTo>
                        <a:lnTo>
                          <a:pt x="58" y="264"/>
                        </a:lnTo>
                        <a:lnTo>
                          <a:pt x="58" y="268"/>
                        </a:lnTo>
                        <a:lnTo>
                          <a:pt x="58" y="274"/>
                        </a:lnTo>
                      </a:path>
                    </a:pathLst>
                  </a:custGeom>
                  <a:noFill/>
                  <a:ln w="0">
                    <a:solidFill>
                      <a:srgbClr val="ff00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>
                    <a:off x="1870920" y="3682800"/>
                    <a:ext cx="108360" cy="109080"/>
                  </a:xfrm>
                  <a:custGeom>
                    <a:avLst/>
                    <a:gdLst/>
                    <a:ahLst/>
                    <a:rect l="l" t="t" r="r" b="b"/>
                    <a:pathLst>
                      <a:path w="511" h="160">
                        <a:moveTo>
                          <a:pt x="511" y="16"/>
                        </a:moveTo>
                        <a:lnTo>
                          <a:pt x="496" y="8"/>
                        </a:lnTo>
                        <a:lnTo>
                          <a:pt x="480" y="2"/>
                        </a:lnTo>
                        <a:lnTo>
                          <a:pt x="465" y="0"/>
                        </a:lnTo>
                        <a:lnTo>
                          <a:pt x="449" y="2"/>
                        </a:lnTo>
                        <a:lnTo>
                          <a:pt x="436" y="6"/>
                        </a:lnTo>
                        <a:lnTo>
                          <a:pt x="436" y="8"/>
                        </a:lnTo>
                        <a:lnTo>
                          <a:pt x="393" y="26"/>
                        </a:lnTo>
                        <a:lnTo>
                          <a:pt x="351" y="42"/>
                        </a:lnTo>
                        <a:lnTo>
                          <a:pt x="309" y="59"/>
                        </a:lnTo>
                        <a:lnTo>
                          <a:pt x="267" y="71"/>
                        </a:lnTo>
                        <a:lnTo>
                          <a:pt x="222" y="81"/>
                        </a:lnTo>
                        <a:lnTo>
                          <a:pt x="180" y="91"/>
                        </a:lnTo>
                        <a:lnTo>
                          <a:pt x="135" y="101"/>
                        </a:lnTo>
                        <a:lnTo>
                          <a:pt x="91" y="110"/>
                        </a:lnTo>
                        <a:lnTo>
                          <a:pt x="46" y="118"/>
                        </a:lnTo>
                        <a:lnTo>
                          <a:pt x="0" y="128"/>
                        </a:lnTo>
                        <a:lnTo>
                          <a:pt x="0" y="130"/>
                        </a:lnTo>
                        <a:lnTo>
                          <a:pt x="0" y="130"/>
                        </a:lnTo>
                        <a:lnTo>
                          <a:pt x="0" y="134"/>
                        </a:lnTo>
                        <a:lnTo>
                          <a:pt x="0" y="138"/>
                        </a:lnTo>
                        <a:lnTo>
                          <a:pt x="0" y="142"/>
                        </a:lnTo>
                        <a:lnTo>
                          <a:pt x="0" y="144"/>
                        </a:lnTo>
                        <a:lnTo>
                          <a:pt x="0" y="146"/>
                        </a:lnTo>
                        <a:lnTo>
                          <a:pt x="40" y="148"/>
                        </a:lnTo>
                        <a:lnTo>
                          <a:pt x="80" y="152"/>
                        </a:lnTo>
                        <a:lnTo>
                          <a:pt x="122" y="156"/>
                        </a:lnTo>
                        <a:lnTo>
                          <a:pt x="162" y="158"/>
                        </a:lnTo>
                        <a:lnTo>
                          <a:pt x="202" y="160"/>
                        </a:lnTo>
                        <a:lnTo>
                          <a:pt x="242" y="158"/>
                        </a:lnTo>
                        <a:lnTo>
                          <a:pt x="282" y="154"/>
                        </a:lnTo>
                        <a:lnTo>
                          <a:pt x="320" y="146"/>
                        </a:lnTo>
                        <a:lnTo>
                          <a:pt x="358" y="136"/>
                        </a:lnTo>
                        <a:lnTo>
                          <a:pt x="396" y="118"/>
                        </a:lnTo>
                        <a:lnTo>
                          <a:pt x="396" y="120"/>
                        </a:lnTo>
                        <a:lnTo>
                          <a:pt x="416" y="110"/>
                        </a:lnTo>
                        <a:lnTo>
                          <a:pt x="438" y="103"/>
                        </a:lnTo>
                        <a:lnTo>
                          <a:pt x="460" y="95"/>
                        </a:lnTo>
                        <a:lnTo>
                          <a:pt x="476" y="83"/>
                        </a:lnTo>
                        <a:lnTo>
                          <a:pt x="487" y="63"/>
                        </a:lnTo>
                        <a:lnTo>
                          <a:pt x="487" y="65"/>
                        </a:lnTo>
                        <a:lnTo>
                          <a:pt x="489" y="55"/>
                        </a:lnTo>
                        <a:lnTo>
                          <a:pt x="489" y="42"/>
                        </a:lnTo>
                        <a:lnTo>
                          <a:pt x="489" y="32"/>
                        </a:lnTo>
                        <a:lnTo>
                          <a:pt x="489" y="24"/>
                        </a:lnTo>
                        <a:lnTo>
                          <a:pt x="491" y="14"/>
                        </a:lnTo>
                        <a:lnTo>
                          <a:pt x="491" y="16"/>
                        </a:lnTo>
                        <a:lnTo>
                          <a:pt x="493" y="14"/>
                        </a:lnTo>
                        <a:lnTo>
                          <a:pt x="496" y="12"/>
                        </a:lnTo>
                        <a:lnTo>
                          <a:pt x="500" y="12"/>
                        </a:lnTo>
                        <a:lnTo>
                          <a:pt x="507" y="14"/>
                        </a:lnTo>
                        <a:lnTo>
                          <a:pt x="511" y="14"/>
                        </a:lnTo>
                        <a:lnTo>
                          <a:pt x="511" y="16"/>
                        </a:lnTo>
                        <a:close/>
                      </a:path>
                    </a:pathLst>
                  </a:custGeom>
                  <a:solidFill>
                    <a:srgbClr val="fefefe"/>
                  </a:solidFill>
                  <a:ln w="0">
                    <a:solidFill>
                      <a:srgbClr val="ff00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"/>
                  <p:cNvSpPr/>
                  <p:nvPr/>
                </p:nvSpPr>
                <p:spPr>
                  <a:xfrm>
                    <a:off x="1870920" y="3682800"/>
                    <a:ext cx="108360" cy="109080"/>
                  </a:xfrm>
                  <a:custGeom>
                    <a:avLst/>
                    <a:gdLst/>
                    <a:ahLst/>
                    <a:rect l="l" t="t" r="r" b="b"/>
                    <a:pathLst>
                      <a:path w="511" h="160">
                        <a:moveTo>
                          <a:pt x="511" y="16"/>
                        </a:moveTo>
                        <a:lnTo>
                          <a:pt x="496" y="8"/>
                        </a:lnTo>
                        <a:lnTo>
                          <a:pt x="480" y="2"/>
                        </a:lnTo>
                        <a:lnTo>
                          <a:pt x="465" y="0"/>
                        </a:lnTo>
                        <a:lnTo>
                          <a:pt x="449" y="2"/>
                        </a:lnTo>
                        <a:lnTo>
                          <a:pt x="436" y="6"/>
                        </a:lnTo>
                        <a:lnTo>
                          <a:pt x="436" y="8"/>
                        </a:lnTo>
                        <a:lnTo>
                          <a:pt x="393" y="26"/>
                        </a:lnTo>
                        <a:lnTo>
                          <a:pt x="351" y="42"/>
                        </a:lnTo>
                        <a:lnTo>
                          <a:pt x="309" y="59"/>
                        </a:lnTo>
                        <a:lnTo>
                          <a:pt x="267" y="71"/>
                        </a:lnTo>
                        <a:lnTo>
                          <a:pt x="222" y="81"/>
                        </a:lnTo>
                        <a:lnTo>
                          <a:pt x="180" y="91"/>
                        </a:lnTo>
                        <a:lnTo>
                          <a:pt x="135" y="101"/>
                        </a:lnTo>
                        <a:lnTo>
                          <a:pt x="91" y="110"/>
                        </a:lnTo>
                        <a:lnTo>
                          <a:pt x="46" y="118"/>
                        </a:lnTo>
                        <a:lnTo>
                          <a:pt x="0" y="128"/>
                        </a:lnTo>
                        <a:lnTo>
                          <a:pt x="0" y="130"/>
                        </a:lnTo>
                        <a:lnTo>
                          <a:pt x="0" y="130"/>
                        </a:lnTo>
                        <a:lnTo>
                          <a:pt x="0" y="134"/>
                        </a:lnTo>
                        <a:lnTo>
                          <a:pt x="0" y="138"/>
                        </a:lnTo>
                        <a:lnTo>
                          <a:pt x="0" y="142"/>
                        </a:lnTo>
                        <a:lnTo>
                          <a:pt x="0" y="144"/>
                        </a:lnTo>
                        <a:lnTo>
                          <a:pt x="0" y="146"/>
                        </a:lnTo>
                        <a:lnTo>
                          <a:pt x="40" y="148"/>
                        </a:lnTo>
                        <a:lnTo>
                          <a:pt x="80" y="152"/>
                        </a:lnTo>
                        <a:lnTo>
                          <a:pt x="122" y="156"/>
                        </a:lnTo>
                        <a:lnTo>
                          <a:pt x="162" y="158"/>
                        </a:lnTo>
                        <a:lnTo>
                          <a:pt x="202" y="160"/>
                        </a:lnTo>
                        <a:lnTo>
                          <a:pt x="242" y="158"/>
                        </a:lnTo>
                        <a:lnTo>
                          <a:pt x="282" y="154"/>
                        </a:lnTo>
                        <a:lnTo>
                          <a:pt x="320" y="146"/>
                        </a:lnTo>
                        <a:lnTo>
                          <a:pt x="358" y="136"/>
                        </a:lnTo>
                        <a:lnTo>
                          <a:pt x="396" y="118"/>
                        </a:lnTo>
                        <a:lnTo>
                          <a:pt x="396" y="120"/>
                        </a:lnTo>
                        <a:lnTo>
                          <a:pt x="416" y="110"/>
                        </a:lnTo>
                        <a:lnTo>
                          <a:pt x="438" y="103"/>
                        </a:lnTo>
                        <a:lnTo>
                          <a:pt x="460" y="95"/>
                        </a:lnTo>
                        <a:lnTo>
                          <a:pt x="476" y="83"/>
                        </a:lnTo>
                        <a:lnTo>
                          <a:pt x="487" y="63"/>
                        </a:lnTo>
                        <a:lnTo>
                          <a:pt x="487" y="65"/>
                        </a:lnTo>
                        <a:lnTo>
                          <a:pt x="489" y="55"/>
                        </a:lnTo>
                        <a:lnTo>
                          <a:pt x="489" y="42"/>
                        </a:lnTo>
                        <a:lnTo>
                          <a:pt x="489" y="32"/>
                        </a:lnTo>
                        <a:lnTo>
                          <a:pt x="489" y="24"/>
                        </a:lnTo>
                        <a:lnTo>
                          <a:pt x="491" y="14"/>
                        </a:lnTo>
                        <a:lnTo>
                          <a:pt x="491" y="16"/>
                        </a:lnTo>
                        <a:lnTo>
                          <a:pt x="493" y="14"/>
                        </a:lnTo>
                        <a:lnTo>
                          <a:pt x="496" y="12"/>
                        </a:lnTo>
                        <a:lnTo>
                          <a:pt x="500" y="12"/>
                        </a:lnTo>
                        <a:lnTo>
                          <a:pt x="507" y="14"/>
                        </a:lnTo>
                        <a:lnTo>
                          <a:pt x="511" y="14"/>
                        </a:lnTo>
                      </a:path>
                    </a:pathLst>
                  </a:custGeom>
                  <a:noFill/>
                  <a:ln w="0">
                    <a:solidFill>
                      <a:srgbClr val="ff00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"/>
                  <p:cNvSpPr/>
                  <p:nvPr/>
                </p:nvSpPr>
                <p:spPr>
                  <a:xfrm>
                    <a:off x="1705680" y="3467880"/>
                    <a:ext cx="137880" cy="331560"/>
                  </a:xfrm>
                  <a:custGeom>
                    <a:avLst/>
                    <a:gdLst/>
                    <a:ahLst/>
                    <a:rect l="l" t="t" r="r" b="b"/>
                    <a:pathLst>
                      <a:path w="650" h="486">
                        <a:moveTo>
                          <a:pt x="594" y="274"/>
                        </a:moveTo>
                        <a:lnTo>
                          <a:pt x="596" y="260"/>
                        </a:lnTo>
                        <a:lnTo>
                          <a:pt x="592" y="252"/>
                        </a:lnTo>
                        <a:lnTo>
                          <a:pt x="583" y="246"/>
                        </a:lnTo>
                        <a:lnTo>
                          <a:pt x="572" y="242"/>
                        </a:lnTo>
                        <a:lnTo>
                          <a:pt x="565" y="235"/>
                        </a:lnTo>
                        <a:lnTo>
                          <a:pt x="565" y="237"/>
                        </a:lnTo>
                        <a:lnTo>
                          <a:pt x="545" y="215"/>
                        </a:lnTo>
                        <a:lnTo>
                          <a:pt x="528" y="195"/>
                        </a:lnTo>
                        <a:lnTo>
                          <a:pt x="505" y="176"/>
                        </a:lnTo>
                        <a:lnTo>
                          <a:pt x="483" y="158"/>
                        </a:lnTo>
                        <a:lnTo>
                          <a:pt x="456" y="144"/>
                        </a:lnTo>
                        <a:lnTo>
                          <a:pt x="456" y="146"/>
                        </a:lnTo>
                        <a:lnTo>
                          <a:pt x="423" y="126"/>
                        </a:lnTo>
                        <a:lnTo>
                          <a:pt x="390" y="103"/>
                        </a:lnTo>
                        <a:lnTo>
                          <a:pt x="356" y="83"/>
                        </a:lnTo>
                        <a:lnTo>
                          <a:pt x="323" y="61"/>
                        </a:lnTo>
                        <a:lnTo>
                          <a:pt x="290" y="40"/>
                        </a:lnTo>
                        <a:lnTo>
                          <a:pt x="256" y="24"/>
                        </a:lnTo>
                        <a:lnTo>
                          <a:pt x="221" y="12"/>
                        </a:lnTo>
                        <a:lnTo>
                          <a:pt x="185" y="2"/>
                        </a:lnTo>
                        <a:lnTo>
                          <a:pt x="145" y="0"/>
                        </a:lnTo>
                        <a:lnTo>
                          <a:pt x="105" y="4"/>
                        </a:lnTo>
                        <a:lnTo>
                          <a:pt x="105" y="6"/>
                        </a:lnTo>
                        <a:lnTo>
                          <a:pt x="72" y="20"/>
                        </a:lnTo>
                        <a:lnTo>
                          <a:pt x="54" y="46"/>
                        </a:lnTo>
                        <a:lnTo>
                          <a:pt x="45" y="81"/>
                        </a:lnTo>
                        <a:lnTo>
                          <a:pt x="40" y="118"/>
                        </a:lnTo>
                        <a:lnTo>
                          <a:pt x="34" y="152"/>
                        </a:lnTo>
                        <a:lnTo>
                          <a:pt x="34" y="154"/>
                        </a:lnTo>
                        <a:lnTo>
                          <a:pt x="25" y="181"/>
                        </a:lnTo>
                        <a:lnTo>
                          <a:pt x="16" y="211"/>
                        </a:lnTo>
                        <a:lnTo>
                          <a:pt x="9" y="242"/>
                        </a:lnTo>
                        <a:lnTo>
                          <a:pt x="3" y="272"/>
                        </a:lnTo>
                        <a:lnTo>
                          <a:pt x="0" y="303"/>
                        </a:lnTo>
                        <a:lnTo>
                          <a:pt x="0" y="331"/>
                        </a:lnTo>
                        <a:lnTo>
                          <a:pt x="5" y="357"/>
                        </a:lnTo>
                        <a:lnTo>
                          <a:pt x="14" y="382"/>
                        </a:lnTo>
                        <a:lnTo>
                          <a:pt x="27" y="404"/>
                        </a:lnTo>
                        <a:lnTo>
                          <a:pt x="47" y="422"/>
                        </a:lnTo>
                        <a:lnTo>
                          <a:pt x="47" y="425"/>
                        </a:lnTo>
                        <a:lnTo>
                          <a:pt x="94" y="449"/>
                        </a:lnTo>
                        <a:lnTo>
                          <a:pt x="145" y="467"/>
                        </a:lnTo>
                        <a:lnTo>
                          <a:pt x="196" y="479"/>
                        </a:lnTo>
                        <a:lnTo>
                          <a:pt x="252" y="483"/>
                        </a:lnTo>
                        <a:lnTo>
                          <a:pt x="307" y="486"/>
                        </a:lnTo>
                        <a:lnTo>
                          <a:pt x="365" y="481"/>
                        </a:lnTo>
                        <a:lnTo>
                          <a:pt x="421" y="477"/>
                        </a:lnTo>
                        <a:lnTo>
                          <a:pt x="479" y="469"/>
                        </a:lnTo>
                        <a:lnTo>
                          <a:pt x="536" y="461"/>
                        </a:lnTo>
                        <a:lnTo>
                          <a:pt x="592" y="453"/>
                        </a:lnTo>
                        <a:lnTo>
                          <a:pt x="592" y="455"/>
                        </a:lnTo>
                        <a:lnTo>
                          <a:pt x="614" y="447"/>
                        </a:lnTo>
                        <a:lnTo>
                          <a:pt x="632" y="435"/>
                        </a:lnTo>
                        <a:lnTo>
                          <a:pt x="643" y="418"/>
                        </a:lnTo>
                        <a:lnTo>
                          <a:pt x="650" y="398"/>
                        </a:lnTo>
                        <a:lnTo>
                          <a:pt x="650" y="376"/>
                        </a:lnTo>
                        <a:lnTo>
                          <a:pt x="648" y="353"/>
                        </a:lnTo>
                        <a:lnTo>
                          <a:pt x="641" y="329"/>
                        </a:lnTo>
                        <a:lnTo>
                          <a:pt x="632" y="305"/>
                        </a:lnTo>
                        <a:lnTo>
                          <a:pt x="619" y="282"/>
                        </a:lnTo>
                        <a:lnTo>
                          <a:pt x="603" y="264"/>
                        </a:lnTo>
                        <a:lnTo>
                          <a:pt x="603" y="266"/>
                        </a:lnTo>
                        <a:lnTo>
                          <a:pt x="599" y="262"/>
                        </a:lnTo>
                        <a:lnTo>
                          <a:pt x="596" y="262"/>
                        </a:lnTo>
                        <a:lnTo>
                          <a:pt x="594" y="264"/>
                        </a:lnTo>
                        <a:lnTo>
                          <a:pt x="592" y="268"/>
                        </a:lnTo>
                        <a:lnTo>
                          <a:pt x="594" y="272"/>
                        </a:lnTo>
                        <a:lnTo>
                          <a:pt x="594" y="274"/>
                        </a:lnTo>
                        <a:close/>
                      </a:path>
                    </a:pathLst>
                  </a:custGeom>
                  <a:solidFill>
                    <a:srgbClr val="ff0066"/>
                  </a:solidFill>
                  <a:ln w="0">
                    <a:solidFill>
                      <a:srgbClr val="ff00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>
                    <a:off x="1705680" y="3467880"/>
                    <a:ext cx="137880" cy="331560"/>
                  </a:xfrm>
                  <a:custGeom>
                    <a:avLst/>
                    <a:gdLst/>
                    <a:ahLst/>
                    <a:rect l="l" t="t" r="r" b="b"/>
                    <a:pathLst>
                      <a:path w="650" h="486">
                        <a:moveTo>
                          <a:pt x="594" y="274"/>
                        </a:moveTo>
                        <a:lnTo>
                          <a:pt x="596" y="260"/>
                        </a:lnTo>
                        <a:lnTo>
                          <a:pt x="592" y="252"/>
                        </a:lnTo>
                        <a:lnTo>
                          <a:pt x="583" y="246"/>
                        </a:lnTo>
                        <a:lnTo>
                          <a:pt x="572" y="242"/>
                        </a:lnTo>
                        <a:lnTo>
                          <a:pt x="565" y="235"/>
                        </a:lnTo>
                        <a:lnTo>
                          <a:pt x="565" y="237"/>
                        </a:lnTo>
                        <a:lnTo>
                          <a:pt x="545" y="215"/>
                        </a:lnTo>
                        <a:lnTo>
                          <a:pt x="528" y="195"/>
                        </a:lnTo>
                        <a:lnTo>
                          <a:pt x="505" y="176"/>
                        </a:lnTo>
                        <a:lnTo>
                          <a:pt x="483" y="158"/>
                        </a:lnTo>
                        <a:lnTo>
                          <a:pt x="456" y="144"/>
                        </a:lnTo>
                        <a:lnTo>
                          <a:pt x="456" y="146"/>
                        </a:lnTo>
                        <a:lnTo>
                          <a:pt x="423" y="126"/>
                        </a:lnTo>
                        <a:lnTo>
                          <a:pt x="390" y="103"/>
                        </a:lnTo>
                        <a:lnTo>
                          <a:pt x="356" y="83"/>
                        </a:lnTo>
                        <a:lnTo>
                          <a:pt x="323" y="61"/>
                        </a:lnTo>
                        <a:lnTo>
                          <a:pt x="290" y="40"/>
                        </a:lnTo>
                        <a:lnTo>
                          <a:pt x="256" y="24"/>
                        </a:lnTo>
                        <a:lnTo>
                          <a:pt x="221" y="12"/>
                        </a:lnTo>
                        <a:lnTo>
                          <a:pt x="185" y="2"/>
                        </a:lnTo>
                        <a:lnTo>
                          <a:pt x="145" y="0"/>
                        </a:lnTo>
                        <a:lnTo>
                          <a:pt x="105" y="4"/>
                        </a:lnTo>
                        <a:lnTo>
                          <a:pt x="105" y="6"/>
                        </a:lnTo>
                        <a:lnTo>
                          <a:pt x="72" y="20"/>
                        </a:lnTo>
                        <a:lnTo>
                          <a:pt x="54" y="46"/>
                        </a:lnTo>
                        <a:lnTo>
                          <a:pt x="45" y="81"/>
                        </a:lnTo>
                        <a:lnTo>
                          <a:pt x="40" y="118"/>
                        </a:lnTo>
                        <a:lnTo>
                          <a:pt x="34" y="152"/>
                        </a:lnTo>
                        <a:lnTo>
                          <a:pt x="34" y="154"/>
                        </a:lnTo>
                        <a:lnTo>
                          <a:pt x="25" y="181"/>
                        </a:lnTo>
                        <a:lnTo>
                          <a:pt x="16" y="211"/>
                        </a:lnTo>
                        <a:lnTo>
                          <a:pt x="9" y="242"/>
                        </a:lnTo>
                        <a:lnTo>
                          <a:pt x="3" y="272"/>
                        </a:lnTo>
                        <a:lnTo>
                          <a:pt x="0" y="303"/>
                        </a:lnTo>
                        <a:lnTo>
                          <a:pt x="0" y="331"/>
                        </a:lnTo>
                        <a:lnTo>
                          <a:pt x="5" y="357"/>
                        </a:lnTo>
                        <a:lnTo>
                          <a:pt x="14" y="382"/>
                        </a:lnTo>
                        <a:lnTo>
                          <a:pt x="27" y="404"/>
                        </a:lnTo>
                        <a:lnTo>
                          <a:pt x="47" y="422"/>
                        </a:lnTo>
                        <a:lnTo>
                          <a:pt x="47" y="425"/>
                        </a:lnTo>
                        <a:lnTo>
                          <a:pt x="94" y="449"/>
                        </a:lnTo>
                        <a:lnTo>
                          <a:pt x="145" y="467"/>
                        </a:lnTo>
                        <a:lnTo>
                          <a:pt x="196" y="479"/>
                        </a:lnTo>
                        <a:lnTo>
                          <a:pt x="252" y="483"/>
                        </a:lnTo>
                        <a:lnTo>
                          <a:pt x="307" y="486"/>
                        </a:lnTo>
                        <a:lnTo>
                          <a:pt x="365" y="481"/>
                        </a:lnTo>
                        <a:lnTo>
                          <a:pt x="421" y="477"/>
                        </a:lnTo>
                        <a:lnTo>
                          <a:pt x="479" y="469"/>
                        </a:lnTo>
                        <a:lnTo>
                          <a:pt x="536" y="461"/>
                        </a:lnTo>
                        <a:lnTo>
                          <a:pt x="592" y="453"/>
                        </a:lnTo>
                        <a:lnTo>
                          <a:pt x="592" y="455"/>
                        </a:lnTo>
                        <a:lnTo>
                          <a:pt x="614" y="447"/>
                        </a:lnTo>
                        <a:lnTo>
                          <a:pt x="632" y="435"/>
                        </a:lnTo>
                        <a:lnTo>
                          <a:pt x="643" y="418"/>
                        </a:lnTo>
                        <a:lnTo>
                          <a:pt x="650" y="398"/>
                        </a:lnTo>
                        <a:lnTo>
                          <a:pt x="650" y="376"/>
                        </a:lnTo>
                        <a:lnTo>
                          <a:pt x="648" y="353"/>
                        </a:lnTo>
                        <a:lnTo>
                          <a:pt x="641" y="329"/>
                        </a:lnTo>
                        <a:lnTo>
                          <a:pt x="632" y="305"/>
                        </a:lnTo>
                        <a:lnTo>
                          <a:pt x="619" y="282"/>
                        </a:lnTo>
                        <a:lnTo>
                          <a:pt x="603" y="264"/>
                        </a:lnTo>
                        <a:lnTo>
                          <a:pt x="603" y="266"/>
                        </a:lnTo>
                        <a:lnTo>
                          <a:pt x="599" y="262"/>
                        </a:lnTo>
                        <a:lnTo>
                          <a:pt x="596" y="262"/>
                        </a:lnTo>
                        <a:lnTo>
                          <a:pt x="594" y="264"/>
                        </a:lnTo>
                        <a:lnTo>
                          <a:pt x="592" y="268"/>
                        </a:lnTo>
                        <a:lnTo>
                          <a:pt x="594" y="272"/>
                        </a:lnTo>
                      </a:path>
                    </a:pathLst>
                  </a:custGeom>
                  <a:noFill/>
                  <a:ln w="0">
                    <a:solidFill>
                      <a:srgbClr val="ff00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>
                    <a:off x="1716120" y="3680280"/>
                    <a:ext cx="10872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512" h="158">
                        <a:moveTo>
                          <a:pt x="0" y="14"/>
                        </a:moveTo>
                        <a:lnTo>
                          <a:pt x="14" y="6"/>
                        </a:lnTo>
                        <a:lnTo>
                          <a:pt x="31" y="2"/>
                        </a:lnTo>
                        <a:lnTo>
                          <a:pt x="47" y="0"/>
                        </a:lnTo>
                        <a:lnTo>
                          <a:pt x="60" y="2"/>
                        </a:lnTo>
                        <a:lnTo>
                          <a:pt x="76" y="6"/>
                        </a:lnTo>
                        <a:lnTo>
                          <a:pt x="76" y="8"/>
                        </a:lnTo>
                        <a:lnTo>
                          <a:pt x="116" y="26"/>
                        </a:lnTo>
                        <a:lnTo>
                          <a:pt x="158" y="42"/>
                        </a:lnTo>
                        <a:lnTo>
                          <a:pt x="200" y="57"/>
                        </a:lnTo>
                        <a:lnTo>
                          <a:pt x="245" y="69"/>
                        </a:lnTo>
                        <a:lnTo>
                          <a:pt x="287" y="81"/>
                        </a:lnTo>
                        <a:lnTo>
                          <a:pt x="332" y="91"/>
                        </a:lnTo>
                        <a:lnTo>
                          <a:pt x="374" y="99"/>
                        </a:lnTo>
                        <a:lnTo>
                          <a:pt x="418" y="109"/>
                        </a:lnTo>
                        <a:lnTo>
                          <a:pt x="465" y="118"/>
                        </a:lnTo>
                        <a:lnTo>
                          <a:pt x="510" y="126"/>
                        </a:lnTo>
                        <a:lnTo>
                          <a:pt x="510" y="128"/>
                        </a:lnTo>
                        <a:lnTo>
                          <a:pt x="510" y="128"/>
                        </a:lnTo>
                        <a:lnTo>
                          <a:pt x="512" y="132"/>
                        </a:lnTo>
                        <a:lnTo>
                          <a:pt x="512" y="136"/>
                        </a:lnTo>
                        <a:lnTo>
                          <a:pt x="512" y="140"/>
                        </a:lnTo>
                        <a:lnTo>
                          <a:pt x="510" y="142"/>
                        </a:lnTo>
                        <a:lnTo>
                          <a:pt x="510" y="144"/>
                        </a:lnTo>
                        <a:lnTo>
                          <a:pt x="467" y="146"/>
                        </a:lnTo>
                        <a:lnTo>
                          <a:pt x="427" y="150"/>
                        </a:lnTo>
                        <a:lnTo>
                          <a:pt x="387" y="154"/>
                        </a:lnTo>
                        <a:lnTo>
                          <a:pt x="347" y="158"/>
                        </a:lnTo>
                        <a:lnTo>
                          <a:pt x="307" y="158"/>
                        </a:lnTo>
                        <a:lnTo>
                          <a:pt x="267" y="158"/>
                        </a:lnTo>
                        <a:lnTo>
                          <a:pt x="227" y="154"/>
                        </a:lnTo>
                        <a:lnTo>
                          <a:pt x="189" y="146"/>
                        </a:lnTo>
                        <a:lnTo>
                          <a:pt x="152" y="134"/>
                        </a:lnTo>
                        <a:lnTo>
                          <a:pt x="114" y="118"/>
                        </a:lnTo>
                        <a:lnTo>
                          <a:pt x="114" y="120"/>
                        </a:lnTo>
                        <a:lnTo>
                          <a:pt x="94" y="109"/>
                        </a:lnTo>
                        <a:lnTo>
                          <a:pt x="71" y="103"/>
                        </a:lnTo>
                        <a:lnTo>
                          <a:pt x="51" y="95"/>
                        </a:lnTo>
                        <a:lnTo>
                          <a:pt x="34" y="83"/>
                        </a:lnTo>
                        <a:lnTo>
                          <a:pt x="23" y="63"/>
                        </a:lnTo>
                        <a:lnTo>
                          <a:pt x="23" y="65"/>
                        </a:lnTo>
                        <a:lnTo>
                          <a:pt x="20" y="53"/>
                        </a:lnTo>
                        <a:lnTo>
                          <a:pt x="20" y="42"/>
                        </a:lnTo>
                        <a:lnTo>
                          <a:pt x="23" y="32"/>
                        </a:lnTo>
                        <a:lnTo>
                          <a:pt x="23" y="22"/>
                        </a:lnTo>
                        <a:lnTo>
                          <a:pt x="20" y="14"/>
                        </a:lnTo>
                        <a:lnTo>
                          <a:pt x="20" y="16"/>
                        </a:lnTo>
                        <a:lnTo>
                          <a:pt x="18" y="14"/>
                        </a:lnTo>
                        <a:lnTo>
                          <a:pt x="14" y="12"/>
                        </a:lnTo>
                        <a:lnTo>
                          <a:pt x="9" y="12"/>
                        </a:lnTo>
                        <a:lnTo>
                          <a:pt x="5" y="12"/>
                        </a:lnTo>
                        <a:lnTo>
                          <a:pt x="0" y="12"/>
                        </a:lnTo>
                        <a:lnTo>
                          <a:pt x="0" y="14"/>
                        </a:lnTo>
                        <a:close/>
                      </a:path>
                    </a:pathLst>
                  </a:custGeom>
                  <a:solidFill>
                    <a:srgbClr val="fefefe"/>
                  </a:solidFill>
                  <a:ln w="0">
                    <a:solidFill>
                      <a:srgbClr val="ff00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>
                    <a:off x="1716120" y="3680280"/>
                    <a:ext cx="10872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512" h="158">
                        <a:moveTo>
                          <a:pt x="0" y="14"/>
                        </a:moveTo>
                        <a:lnTo>
                          <a:pt x="14" y="6"/>
                        </a:lnTo>
                        <a:lnTo>
                          <a:pt x="31" y="2"/>
                        </a:lnTo>
                        <a:lnTo>
                          <a:pt x="47" y="0"/>
                        </a:lnTo>
                        <a:lnTo>
                          <a:pt x="60" y="2"/>
                        </a:lnTo>
                        <a:lnTo>
                          <a:pt x="76" y="6"/>
                        </a:lnTo>
                        <a:lnTo>
                          <a:pt x="76" y="8"/>
                        </a:lnTo>
                        <a:lnTo>
                          <a:pt x="116" y="26"/>
                        </a:lnTo>
                        <a:lnTo>
                          <a:pt x="158" y="42"/>
                        </a:lnTo>
                        <a:lnTo>
                          <a:pt x="200" y="57"/>
                        </a:lnTo>
                        <a:lnTo>
                          <a:pt x="245" y="69"/>
                        </a:lnTo>
                        <a:lnTo>
                          <a:pt x="287" y="81"/>
                        </a:lnTo>
                        <a:lnTo>
                          <a:pt x="332" y="91"/>
                        </a:lnTo>
                        <a:lnTo>
                          <a:pt x="374" y="99"/>
                        </a:lnTo>
                        <a:lnTo>
                          <a:pt x="418" y="109"/>
                        </a:lnTo>
                        <a:lnTo>
                          <a:pt x="465" y="118"/>
                        </a:lnTo>
                        <a:lnTo>
                          <a:pt x="510" y="126"/>
                        </a:lnTo>
                        <a:lnTo>
                          <a:pt x="510" y="128"/>
                        </a:lnTo>
                        <a:lnTo>
                          <a:pt x="510" y="128"/>
                        </a:lnTo>
                        <a:lnTo>
                          <a:pt x="512" y="132"/>
                        </a:lnTo>
                        <a:lnTo>
                          <a:pt x="512" y="136"/>
                        </a:lnTo>
                        <a:lnTo>
                          <a:pt x="512" y="140"/>
                        </a:lnTo>
                        <a:lnTo>
                          <a:pt x="510" y="142"/>
                        </a:lnTo>
                        <a:lnTo>
                          <a:pt x="510" y="144"/>
                        </a:lnTo>
                        <a:lnTo>
                          <a:pt x="467" y="146"/>
                        </a:lnTo>
                        <a:lnTo>
                          <a:pt x="427" y="150"/>
                        </a:lnTo>
                        <a:lnTo>
                          <a:pt x="387" y="154"/>
                        </a:lnTo>
                        <a:lnTo>
                          <a:pt x="347" y="158"/>
                        </a:lnTo>
                        <a:lnTo>
                          <a:pt x="307" y="158"/>
                        </a:lnTo>
                        <a:lnTo>
                          <a:pt x="267" y="158"/>
                        </a:lnTo>
                        <a:lnTo>
                          <a:pt x="227" y="154"/>
                        </a:lnTo>
                        <a:lnTo>
                          <a:pt x="189" y="146"/>
                        </a:lnTo>
                        <a:lnTo>
                          <a:pt x="152" y="134"/>
                        </a:lnTo>
                        <a:lnTo>
                          <a:pt x="114" y="118"/>
                        </a:lnTo>
                        <a:lnTo>
                          <a:pt x="114" y="120"/>
                        </a:lnTo>
                        <a:lnTo>
                          <a:pt x="94" y="109"/>
                        </a:lnTo>
                        <a:lnTo>
                          <a:pt x="71" y="103"/>
                        </a:lnTo>
                        <a:lnTo>
                          <a:pt x="51" y="95"/>
                        </a:lnTo>
                        <a:lnTo>
                          <a:pt x="34" y="83"/>
                        </a:lnTo>
                        <a:lnTo>
                          <a:pt x="23" y="63"/>
                        </a:lnTo>
                        <a:lnTo>
                          <a:pt x="23" y="65"/>
                        </a:lnTo>
                        <a:lnTo>
                          <a:pt x="20" y="53"/>
                        </a:lnTo>
                        <a:lnTo>
                          <a:pt x="20" y="42"/>
                        </a:lnTo>
                        <a:lnTo>
                          <a:pt x="23" y="32"/>
                        </a:lnTo>
                        <a:lnTo>
                          <a:pt x="23" y="22"/>
                        </a:lnTo>
                        <a:lnTo>
                          <a:pt x="20" y="14"/>
                        </a:lnTo>
                        <a:lnTo>
                          <a:pt x="20" y="16"/>
                        </a:lnTo>
                        <a:lnTo>
                          <a:pt x="18" y="14"/>
                        </a:lnTo>
                        <a:lnTo>
                          <a:pt x="14" y="12"/>
                        </a:lnTo>
                        <a:lnTo>
                          <a:pt x="9" y="12"/>
                        </a:lnTo>
                        <a:lnTo>
                          <a:pt x="5" y="12"/>
                        </a:lnTo>
                        <a:lnTo>
                          <a:pt x="0" y="12"/>
                        </a:lnTo>
                      </a:path>
                    </a:pathLst>
                  </a:custGeom>
                  <a:noFill/>
                  <a:ln w="0">
                    <a:solidFill>
                      <a:srgbClr val="ff00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>
                    <a:off x="1823040" y="3615840"/>
                    <a:ext cx="56520" cy="177480"/>
                  </a:xfrm>
                  <a:custGeom>
                    <a:avLst/>
                    <a:gdLst/>
                    <a:ahLst/>
                    <a:rect l="l" t="t" r="r" b="b"/>
                    <a:pathLst>
                      <a:path w="267" h="260">
                        <a:moveTo>
                          <a:pt x="33" y="25"/>
                        </a:moveTo>
                        <a:lnTo>
                          <a:pt x="47" y="10"/>
                        </a:lnTo>
                        <a:lnTo>
                          <a:pt x="64" y="4"/>
                        </a:lnTo>
                        <a:lnTo>
                          <a:pt x="80" y="0"/>
                        </a:lnTo>
                        <a:lnTo>
                          <a:pt x="98" y="2"/>
                        </a:lnTo>
                        <a:lnTo>
                          <a:pt x="116" y="4"/>
                        </a:lnTo>
                        <a:lnTo>
                          <a:pt x="116" y="6"/>
                        </a:lnTo>
                        <a:lnTo>
                          <a:pt x="138" y="6"/>
                        </a:lnTo>
                        <a:lnTo>
                          <a:pt x="160" y="6"/>
                        </a:lnTo>
                        <a:lnTo>
                          <a:pt x="180" y="6"/>
                        </a:lnTo>
                        <a:lnTo>
                          <a:pt x="200" y="8"/>
                        </a:lnTo>
                        <a:lnTo>
                          <a:pt x="220" y="14"/>
                        </a:lnTo>
                        <a:lnTo>
                          <a:pt x="220" y="16"/>
                        </a:lnTo>
                        <a:lnTo>
                          <a:pt x="227" y="18"/>
                        </a:lnTo>
                        <a:lnTo>
                          <a:pt x="231" y="23"/>
                        </a:lnTo>
                        <a:lnTo>
                          <a:pt x="236" y="29"/>
                        </a:lnTo>
                        <a:lnTo>
                          <a:pt x="240" y="37"/>
                        </a:lnTo>
                        <a:lnTo>
                          <a:pt x="242" y="43"/>
                        </a:lnTo>
                        <a:lnTo>
                          <a:pt x="242" y="45"/>
                        </a:lnTo>
                        <a:lnTo>
                          <a:pt x="251" y="73"/>
                        </a:lnTo>
                        <a:lnTo>
                          <a:pt x="260" y="104"/>
                        </a:lnTo>
                        <a:lnTo>
                          <a:pt x="265" y="132"/>
                        </a:lnTo>
                        <a:lnTo>
                          <a:pt x="267" y="163"/>
                        </a:lnTo>
                        <a:lnTo>
                          <a:pt x="265" y="195"/>
                        </a:lnTo>
                        <a:lnTo>
                          <a:pt x="265" y="197"/>
                        </a:lnTo>
                        <a:lnTo>
                          <a:pt x="262" y="203"/>
                        </a:lnTo>
                        <a:lnTo>
                          <a:pt x="262" y="210"/>
                        </a:lnTo>
                        <a:lnTo>
                          <a:pt x="260" y="218"/>
                        </a:lnTo>
                        <a:lnTo>
                          <a:pt x="258" y="224"/>
                        </a:lnTo>
                        <a:lnTo>
                          <a:pt x="254" y="230"/>
                        </a:lnTo>
                        <a:lnTo>
                          <a:pt x="254" y="232"/>
                        </a:lnTo>
                        <a:lnTo>
                          <a:pt x="247" y="236"/>
                        </a:lnTo>
                        <a:lnTo>
                          <a:pt x="240" y="242"/>
                        </a:lnTo>
                        <a:lnTo>
                          <a:pt x="231" y="246"/>
                        </a:lnTo>
                        <a:lnTo>
                          <a:pt x="222" y="250"/>
                        </a:lnTo>
                        <a:lnTo>
                          <a:pt x="211" y="252"/>
                        </a:lnTo>
                        <a:lnTo>
                          <a:pt x="211" y="254"/>
                        </a:lnTo>
                        <a:lnTo>
                          <a:pt x="194" y="254"/>
                        </a:lnTo>
                        <a:lnTo>
                          <a:pt x="176" y="256"/>
                        </a:lnTo>
                        <a:lnTo>
                          <a:pt x="158" y="256"/>
                        </a:lnTo>
                        <a:lnTo>
                          <a:pt x="140" y="258"/>
                        </a:lnTo>
                        <a:lnTo>
                          <a:pt x="122" y="258"/>
                        </a:lnTo>
                        <a:lnTo>
                          <a:pt x="105" y="258"/>
                        </a:lnTo>
                        <a:lnTo>
                          <a:pt x="87" y="258"/>
                        </a:lnTo>
                        <a:lnTo>
                          <a:pt x="69" y="258"/>
                        </a:lnTo>
                        <a:lnTo>
                          <a:pt x="51" y="258"/>
                        </a:lnTo>
                        <a:lnTo>
                          <a:pt x="33" y="258"/>
                        </a:lnTo>
                        <a:lnTo>
                          <a:pt x="33" y="260"/>
                        </a:lnTo>
                        <a:lnTo>
                          <a:pt x="27" y="258"/>
                        </a:lnTo>
                        <a:lnTo>
                          <a:pt x="20" y="256"/>
                        </a:lnTo>
                        <a:lnTo>
                          <a:pt x="13" y="252"/>
                        </a:lnTo>
                        <a:lnTo>
                          <a:pt x="7" y="250"/>
                        </a:lnTo>
                        <a:lnTo>
                          <a:pt x="0" y="246"/>
                        </a:lnTo>
                        <a:lnTo>
                          <a:pt x="0" y="248"/>
                        </a:lnTo>
                        <a:lnTo>
                          <a:pt x="7" y="242"/>
                        </a:lnTo>
                        <a:lnTo>
                          <a:pt x="13" y="236"/>
                        </a:lnTo>
                        <a:lnTo>
                          <a:pt x="18" y="228"/>
                        </a:lnTo>
                        <a:lnTo>
                          <a:pt x="22" y="222"/>
                        </a:lnTo>
                        <a:lnTo>
                          <a:pt x="24" y="216"/>
                        </a:lnTo>
                        <a:lnTo>
                          <a:pt x="24" y="218"/>
                        </a:lnTo>
                        <a:lnTo>
                          <a:pt x="27" y="197"/>
                        </a:lnTo>
                        <a:lnTo>
                          <a:pt x="31" y="179"/>
                        </a:lnTo>
                        <a:lnTo>
                          <a:pt x="36" y="159"/>
                        </a:lnTo>
                        <a:lnTo>
                          <a:pt x="38" y="140"/>
                        </a:lnTo>
                        <a:lnTo>
                          <a:pt x="40" y="120"/>
                        </a:lnTo>
                        <a:lnTo>
                          <a:pt x="40" y="102"/>
                        </a:lnTo>
                        <a:lnTo>
                          <a:pt x="38" y="84"/>
                        </a:lnTo>
                        <a:lnTo>
                          <a:pt x="36" y="65"/>
                        </a:lnTo>
                        <a:lnTo>
                          <a:pt x="29" y="45"/>
                        </a:lnTo>
                        <a:lnTo>
                          <a:pt x="22" y="27"/>
                        </a:lnTo>
                        <a:lnTo>
                          <a:pt x="22" y="29"/>
                        </a:lnTo>
                        <a:lnTo>
                          <a:pt x="22" y="27"/>
                        </a:lnTo>
                        <a:lnTo>
                          <a:pt x="24" y="27"/>
                        </a:lnTo>
                        <a:lnTo>
                          <a:pt x="27" y="25"/>
                        </a:lnTo>
                        <a:lnTo>
                          <a:pt x="31" y="23"/>
                        </a:lnTo>
                        <a:lnTo>
                          <a:pt x="33" y="23"/>
                        </a:lnTo>
                        <a:lnTo>
                          <a:pt x="33" y="25"/>
                        </a:lnTo>
                        <a:close/>
                      </a:path>
                    </a:pathLst>
                  </a:custGeom>
                  <a:solidFill>
                    <a:srgbClr val="fefefe"/>
                  </a:solidFill>
                  <a:ln w="0">
                    <a:solidFill>
                      <a:srgbClr val="ff00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"/>
                  <p:cNvSpPr/>
                  <p:nvPr/>
                </p:nvSpPr>
                <p:spPr>
                  <a:xfrm>
                    <a:off x="1823040" y="3615840"/>
                    <a:ext cx="56520" cy="177480"/>
                  </a:xfrm>
                  <a:custGeom>
                    <a:avLst/>
                    <a:gdLst/>
                    <a:ahLst/>
                    <a:rect l="l" t="t" r="r" b="b"/>
                    <a:pathLst>
                      <a:path w="267" h="260">
                        <a:moveTo>
                          <a:pt x="33" y="25"/>
                        </a:moveTo>
                        <a:lnTo>
                          <a:pt x="47" y="10"/>
                        </a:lnTo>
                        <a:lnTo>
                          <a:pt x="64" y="4"/>
                        </a:lnTo>
                        <a:lnTo>
                          <a:pt x="80" y="0"/>
                        </a:lnTo>
                        <a:lnTo>
                          <a:pt x="98" y="2"/>
                        </a:lnTo>
                        <a:lnTo>
                          <a:pt x="116" y="4"/>
                        </a:lnTo>
                        <a:lnTo>
                          <a:pt x="116" y="6"/>
                        </a:lnTo>
                        <a:lnTo>
                          <a:pt x="138" y="6"/>
                        </a:lnTo>
                        <a:lnTo>
                          <a:pt x="160" y="6"/>
                        </a:lnTo>
                        <a:lnTo>
                          <a:pt x="180" y="6"/>
                        </a:lnTo>
                        <a:lnTo>
                          <a:pt x="200" y="8"/>
                        </a:lnTo>
                        <a:lnTo>
                          <a:pt x="220" y="14"/>
                        </a:lnTo>
                        <a:lnTo>
                          <a:pt x="220" y="16"/>
                        </a:lnTo>
                        <a:lnTo>
                          <a:pt x="227" y="18"/>
                        </a:lnTo>
                        <a:lnTo>
                          <a:pt x="231" y="23"/>
                        </a:lnTo>
                        <a:lnTo>
                          <a:pt x="236" y="29"/>
                        </a:lnTo>
                        <a:lnTo>
                          <a:pt x="240" y="37"/>
                        </a:lnTo>
                        <a:lnTo>
                          <a:pt x="242" y="43"/>
                        </a:lnTo>
                        <a:lnTo>
                          <a:pt x="242" y="45"/>
                        </a:lnTo>
                        <a:lnTo>
                          <a:pt x="251" y="73"/>
                        </a:lnTo>
                        <a:lnTo>
                          <a:pt x="260" y="104"/>
                        </a:lnTo>
                        <a:lnTo>
                          <a:pt x="265" y="132"/>
                        </a:lnTo>
                        <a:lnTo>
                          <a:pt x="267" y="163"/>
                        </a:lnTo>
                        <a:lnTo>
                          <a:pt x="265" y="195"/>
                        </a:lnTo>
                        <a:lnTo>
                          <a:pt x="265" y="197"/>
                        </a:lnTo>
                        <a:lnTo>
                          <a:pt x="262" y="203"/>
                        </a:lnTo>
                        <a:lnTo>
                          <a:pt x="262" y="210"/>
                        </a:lnTo>
                        <a:lnTo>
                          <a:pt x="260" y="218"/>
                        </a:lnTo>
                        <a:lnTo>
                          <a:pt x="258" y="224"/>
                        </a:lnTo>
                        <a:lnTo>
                          <a:pt x="254" y="230"/>
                        </a:lnTo>
                        <a:lnTo>
                          <a:pt x="254" y="232"/>
                        </a:lnTo>
                        <a:lnTo>
                          <a:pt x="247" y="236"/>
                        </a:lnTo>
                        <a:lnTo>
                          <a:pt x="240" y="242"/>
                        </a:lnTo>
                        <a:lnTo>
                          <a:pt x="231" y="246"/>
                        </a:lnTo>
                        <a:lnTo>
                          <a:pt x="222" y="250"/>
                        </a:lnTo>
                        <a:lnTo>
                          <a:pt x="211" y="252"/>
                        </a:lnTo>
                        <a:lnTo>
                          <a:pt x="211" y="254"/>
                        </a:lnTo>
                        <a:lnTo>
                          <a:pt x="194" y="254"/>
                        </a:lnTo>
                        <a:lnTo>
                          <a:pt x="176" y="256"/>
                        </a:lnTo>
                        <a:lnTo>
                          <a:pt x="158" y="256"/>
                        </a:lnTo>
                        <a:lnTo>
                          <a:pt x="140" y="258"/>
                        </a:lnTo>
                        <a:lnTo>
                          <a:pt x="122" y="258"/>
                        </a:lnTo>
                        <a:lnTo>
                          <a:pt x="105" y="258"/>
                        </a:lnTo>
                        <a:lnTo>
                          <a:pt x="87" y="258"/>
                        </a:lnTo>
                        <a:lnTo>
                          <a:pt x="69" y="258"/>
                        </a:lnTo>
                        <a:lnTo>
                          <a:pt x="51" y="258"/>
                        </a:lnTo>
                        <a:lnTo>
                          <a:pt x="33" y="258"/>
                        </a:lnTo>
                        <a:lnTo>
                          <a:pt x="33" y="260"/>
                        </a:lnTo>
                        <a:lnTo>
                          <a:pt x="27" y="258"/>
                        </a:lnTo>
                        <a:lnTo>
                          <a:pt x="20" y="256"/>
                        </a:lnTo>
                        <a:lnTo>
                          <a:pt x="13" y="252"/>
                        </a:lnTo>
                        <a:lnTo>
                          <a:pt x="7" y="250"/>
                        </a:lnTo>
                        <a:lnTo>
                          <a:pt x="0" y="246"/>
                        </a:lnTo>
                        <a:lnTo>
                          <a:pt x="0" y="248"/>
                        </a:lnTo>
                        <a:lnTo>
                          <a:pt x="7" y="242"/>
                        </a:lnTo>
                        <a:lnTo>
                          <a:pt x="13" y="236"/>
                        </a:lnTo>
                        <a:lnTo>
                          <a:pt x="18" y="228"/>
                        </a:lnTo>
                        <a:lnTo>
                          <a:pt x="22" y="222"/>
                        </a:lnTo>
                        <a:lnTo>
                          <a:pt x="24" y="216"/>
                        </a:lnTo>
                        <a:lnTo>
                          <a:pt x="24" y="218"/>
                        </a:lnTo>
                        <a:lnTo>
                          <a:pt x="27" y="197"/>
                        </a:lnTo>
                        <a:lnTo>
                          <a:pt x="31" y="179"/>
                        </a:lnTo>
                        <a:lnTo>
                          <a:pt x="36" y="159"/>
                        </a:lnTo>
                        <a:lnTo>
                          <a:pt x="38" y="140"/>
                        </a:lnTo>
                        <a:lnTo>
                          <a:pt x="40" y="120"/>
                        </a:lnTo>
                        <a:lnTo>
                          <a:pt x="40" y="102"/>
                        </a:lnTo>
                        <a:lnTo>
                          <a:pt x="38" y="84"/>
                        </a:lnTo>
                        <a:lnTo>
                          <a:pt x="36" y="65"/>
                        </a:lnTo>
                        <a:lnTo>
                          <a:pt x="29" y="45"/>
                        </a:lnTo>
                        <a:lnTo>
                          <a:pt x="22" y="27"/>
                        </a:lnTo>
                        <a:lnTo>
                          <a:pt x="22" y="29"/>
                        </a:lnTo>
                        <a:lnTo>
                          <a:pt x="22" y="27"/>
                        </a:lnTo>
                        <a:lnTo>
                          <a:pt x="24" y="27"/>
                        </a:lnTo>
                        <a:lnTo>
                          <a:pt x="27" y="25"/>
                        </a:lnTo>
                        <a:lnTo>
                          <a:pt x="31" y="23"/>
                        </a:lnTo>
                        <a:lnTo>
                          <a:pt x="33" y="23"/>
                        </a:lnTo>
                      </a:path>
                    </a:pathLst>
                  </a:custGeom>
                  <a:solidFill>
                    <a:srgbClr val="00ffff"/>
                  </a:solidFill>
                  <a:ln w="0">
                    <a:solidFill>
                      <a:srgbClr val="ff006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0" name=""/>
                <p:cNvSpPr/>
                <p:nvPr/>
              </p:nvSpPr>
              <p:spPr>
                <a:xfrm>
                  <a:off x="1088640" y="4098240"/>
                  <a:ext cx="1523880" cy="52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(</a:t>
                  </a:r>
                  <a:r>
                    <a:rPr b="0" lang="ar-SA" sz="2000" spc="-1" strike="noStrike">
                      <a:solidFill>
                        <a:srgbClr val="000000"/>
                      </a:solidFill>
                      <a:latin typeface="Times New Roman"/>
                      <a:cs typeface="Times New Roman"/>
                    </a:rPr>
                    <a:t>ال</a:t>
                  </a:r>
                  <a:r>
                    <a:rPr b="0" lang="ar-SA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) </a:t>
                  </a:r>
                  <a:r>
                    <a:rPr b="0" lang="ar-SA" sz="2000" spc="-1" strike="noStrike">
                      <a:solidFill>
                        <a:srgbClr val="000000"/>
                      </a:solidFill>
                      <a:latin typeface="Times New Roman"/>
                      <a:cs typeface="Times New Roman"/>
                    </a:rPr>
                    <a:t>القمرية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1197360" y="4624200"/>
                  <a:ext cx="1415160" cy="346896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1200" spc="-1" strike="noStrike">
                      <a:solidFill>
                        <a:srgbClr val="000000"/>
                      </a:solidFill>
                      <a:latin typeface="Times New Roman"/>
                    </a:rPr>
                    <a:t>................................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1200" spc="-1" strike="noStrike">
                      <a:solidFill>
                        <a:srgbClr val="000000"/>
                      </a:solidFill>
                      <a:latin typeface="Times New Roman"/>
                    </a:rPr>
                    <a:t>................................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1200" spc="-1" strike="noStrike">
                      <a:solidFill>
                        <a:srgbClr val="000000"/>
                      </a:solidFill>
                      <a:latin typeface="Times New Roman"/>
                    </a:rPr>
                    <a:t>................................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1200" spc="-1" strike="noStrike">
                      <a:solidFill>
                        <a:srgbClr val="000000"/>
                      </a:solidFill>
                      <a:latin typeface="Times New Roman"/>
                    </a:rPr>
                    <a:t>................................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1200" spc="-1" strike="noStrike">
                      <a:solidFill>
                        <a:srgbClr val="000000"/>
                      </a:solidFill>
                      <a:latin typeface="Times New Roman"/>
                    </a:rPr>
                    <a:t>................................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1200" spc="-1" strike="noStrike">
                      <a:solidFill>
                        <a:srgbClr val="000000"/>
                      </a:solidFill>
                      <a:latin typeface="Times New Roman"/>
                    </a:rPr>
                    <a:t>................................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1200" spc="-1" strike="noStrike">
                      <a:solidFill>
                        <a:srgbClr val="000000"/>
                      </a:solidFill>
                      <a:latin typeface="Times New Roman"/>
                    </a:rPr>
                    <a:t>................................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9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2837160"/>
                <a:ext cx="1523880" cy="1333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93" name="" descr=""/>
            <p:cNvPicPr/>
            <p:nvPr/>
          </p:nvPicPr>
          <p:blipFill>
            <a:blip r:embed="rId5"/>
            <a:stretch/>
          </p:blipFill>
          <p:spPr>
            <a:xfrm>
              <a:off x="2245320" y="5570640"/>
              <a:ext cx="2039040" cy="3146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0" y="0"/>
            <a:ext cx="6858000" cy="9144000"/>
            <a:chOff x="0" y="0"/>
            <a:chExt cx="6858000" cy="9144000"/>
          </a:xfrm>
        </p:grpSpPr>
        <p:pic>
          <p:nvPicPr>
            <p:cNvPr id="95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6858000" cy="9144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6" name=""/>
            <p:cNvGrpSpPr/>
            <p:nvPr/>
          </p:nvGrpSpPr>
          <p:grpSpPr>
            <a:xfrm>
              <a:off x="110160" y="210240"/>
              <a:ext cx="6389280" cy="8197920"/>
              <a:chOff x="110160" y="210240"/>
              <a:chExt cx="6389280" cy="8197920"/>
            </a:xfrm>
          </p:grpSpPr>
          <p:grpSp>
            <p:nvGrpSpPr>
              <p:cNvPr id="97" name=""/>
              <p:cNvGrpSpPr/>
              <p:nvPr/>
            </p:nvGrpSpPr>
            <p:grpSpPr>
              <a:xfrm>
                <a:off x="552600" y="4834800"/>
                <a:ext cx="5546880" cy="3573360"/>
                <a:chOff x="552600" y="4834800"/>
                <a:chExt cx="5546880" cy="3573360"/>
              </a:xfrm>
            </p:grpSpPr>
            <p:grpSp>
              <p:nvGrpSpPr>
                <p:cNvPr id="98" name=""/>
                <p:cNvGrpSpPr/>
                <p:nvPr/>
              </p:nvGrpSpPr>
              <p:grpSpPr>
                <a:xfrm>
                  <a:off x="552600" y="6052680"/>
                  <a:ext cx="5546880" cy="2355480"/>
                  <a:chOff x="552600" y="6052680"/>
                  <a:chExt cx="5546880" cy="2355480"/>
                </a:xfrm>
              </p:grpSpPr>
              <p:grpSp>
                <p:nvGrpSpPr>
                  <p:cNvPr id="99" name=""/>
                  <p:cNvGrpSpPr/>
                  <p:nvPr/>
                </p:nvGrpSpPr>
                <p:grpSpPr>
                  <a:xfrm>
                    <a:off x="4912920" y="6052680"/>
                    <a:ext cx="1186560" cy="1400760"/>
                    <a:chOff x="4912920" y="6052680"/>
                    <a:chExt cx="1186560" cy="1400760"/>
                  </a:xfrm>
                </p:grpSpPr>
                <p:sp>
                  <p:nvSpPr>
                    <p:cNvPr id="100" name=""/>
                    <p:cNvSpPr/>
                    <p:nvPr/>
                  </p:nvSpPr>
                  <p:spPr>
                    <a:xfrm>
                      <a:off x="4912920" y="6052680"/>
                      <a:ext cx="1186560" cy="14007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1" name=""/>
                    <p:cNvGrpSpPr/>
                    <p:nvPr/>
                  </p:nvGrpSpPr>
                  <p:grpSpPr>
                    <a:xfrm>
                      <a:off x="5125680" y="6363720"/>
                      <a:ext cx="744840" cy="1011600"/>
                      <a:chOff x="5125680" y="6363720"/>
                      <a:chExt cx="744840" cy="1011600"/>
                    </a:xfrm>
                  </p:grpSpPr>
                  <p:pic>
                    <p:nvPicPr>
                      <p:cNvPr id="102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5125680" y="6363720"/>
                        <a:ext cx="412560" cy="678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pic>
                    <p:nvPicPr>
                      <p:cNvPr id="103" name="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 flipH="1">
                        <a:off x="5469120" y="6363720"/>
                        <a:ext cx="401400" cy="5958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pic>
                    <p:nvPicPr>
                      <p:cNvPr id="104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5297400" y="6696360"/>
                        <a:ext cx="412560" cy="678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grpSp>
              </p:grpSp>
              <p:sp>
                <p:nvSpPr>
                  <p:cNvPr id="105" name=""/>
                  <p:cNvSpPr/>
                  <p:nvPr/>
                </p:nvSpPr>
                <p:spPr>
                  <a:xfrm>
                    <a:off x="3422520" y="6052680"/>
                    <a:ext cx="1171080" cy="1400760"/>
                  </a:xfrm>
                  <a:prstGeom prst="rect">
                    <a:avLst/>
                  </a:prstGeom>
                  <a:solidFill>
                    <a:srgbClr val="ff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10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539160" y="6234840"/>
                    <a:ext cx="884880" cy="91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grpSp>
                <p:nvGrpSpPr>
                  <p:cNvPr id="107" name=""/>
                  <p:cNvGrpSpPr/>
                  <p:nvPr/>
                </p:nvGrpSpPr>
                <p:grpSpPr>
                  <a:xfrm>
                    <a:off x="1932120" y="6052680"/>
                    <a:ext cx="1171080" cy="1400760"/>
                    <a:chOff x="1932120" y="6052680"/>
                    <a:chExt cx="1171080" cy="1400760"/>
                  </a:xfrm>
                </p:grpSpPr>
                <p:sp>
                  <p:nvSpPr>
                    <p:cNvPr id="108" name=""/>
                    <p:cNvSpPr/>
                    <p:nvPr/>
                  </p:nvSpPr>
                  <p:spPr>
                    <a:xfrm>
                      <a:off x="1932120" y="6052680"/>
                      <a:ext cx="1171080" cy="14007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pic>
                  <p:nvPicPr>
                    <p:cNvPr id="10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023200" y="6227280"/>
                      <a:ext cx="958320" cy="1141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  <p:sp>
                <p:nvSpPr>
                  <p:cNvPr id="110" name=""/>
                  <p:cNvSpPr/>
                  <p:nvPr/>
                </p:nvSpPr>
                <p:spPr>
                  <a:xfrm>
                    <a:off x="4912920" y="7765200"/>
                    <a:ext cx="1186560" cy="6228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ar-SA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...........................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>
                    <a:off x="3422520" y="7765200"/>
                    <a:ext cx="1186560" cy="6228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ar-SA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...........................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>
                    <a:off x="1932120" y="7765200"/>
                    <a:ext cx="1186560" cy="6228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ar-SA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...........................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"/>
                  <p:cNvSpPr/>
                  <p:nvPr/>
                </p:nvSpPr>
                <p:spPr>
                  <a:xfrm>
                    <a:off x="552600" y="7785360"/>
                    <a:ext cx="1186560" cy="6228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ar-SA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...........................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"/>
                  <p:cNvSpPr/>
                  <p:nvPr/>
                </p:nvSpPr>
                <p:spPr>
                  <a:xfrm>
                    <a:off x="552600" y="6062400"/>
                    <a:ext cx="1170720" cy="1401120"/>
                  </a:xfrm>
                  <a:prstGeom prst="rect">
                    <a:avLst/>
                  </a:prstGeom>
                  <a:solidFill>
                    <a:srgbClr val="ff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15" name=""/>
                  <p:cNvGrpSpPr/>
                  <p:nvPr/>
                </p:nvGrpSpPr>
                <p:grpSpPr>
                  <a:xfrm>
                    <a:off x="663120" y="6234840"/>
                    <a:ext cx="884880" cy="1162800"/>
                    <a:chOff x="663120" y="6234840"/>
                    <a:chExt cx="884880" cy="1162800"/>
                  </a:xfrm>
                </p:grpSpPr>
                <p:sp>
                  <p:nvSpPr>
                    <p:cNvPr id="116" name=""/>
                    <p:cNvSpPr/>
                    <p:nvPr/>
                  </p:nvSpPr>
                  <p:spPr>
                    <a:xfrm>
                      <a:off x="663120" y="6234840"/>
                      <a:ext cx="884880" cy="116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516" h="8380">
                          <a:moveTo>
                            <a:pt x="449" y="7348"/>
                          </a:moveTo>
                          <a:lnTo>
                            <a:pt x="436" y="7330"/>
                          </a:lnTo>
                          <a:lnTo>
                            <a:pt x="429" y="7315"/>
                          </a:lnTo>
                          <a:lnTo>
                            <a:pt x="416" y="7300"/>
                          </a:lnTo>
                          <a:lnTo>
                            <a:pt x="409" y="7284"/>
                          </a:lnTo>
                          <a:lnTo>
                            <a:pt x="398" y="7269"/>
                          </a:lnTo>
                          <a:lnTo>
                            <a:pt x="388" y="7254"/>
                          </a:lnTo>
                          <a:lnTo>
                            <a:pt x="378" y="7239"/>
                          </a:lnTo>
                          <a:lnTo>
                            <a:pt x="370" y="7223"/>
                          </a:lnTo>
                          <a:lnTo>
                            <a:pt x="360" y="7206"/>
                          </a:lnTo>
                          <a:lnTo>
                            <a:pt x="350" y="7190"/>
                          </a:lnTo>
                          <a:lnTo>
                            <a:pt x="340" y="7175"/>
                          </a:lnTo>
                          <a:lnTo>
                            <a:pt x="332" y="7160"/>
                          </a:lnTo>
                          <a:lnTo>
                            <a:pt x="322" y="7145"/>
                          </a:lnTo>
                          <a:lnTo>
                            <a:pt x="312" y="7130"/>
                          </a:lnTo>
                          <a:lnTo>
                            <a:pt x="302" y="7114"/>
                          </a:lnTo>
                          <a:lnTo>
                            <a:pt x="294" y="7099"/>
                          </a:lnTo>
                          <a:lnTo>
                            <a:pt x="282" y="7081"/>
                          </a:lnTo>
                          <a:lnTo>
                            <a:pt x="272" y="7066"/>
                          </a:lnTo>
                          <a:lnTo>
                            <a:pt x="261" y="7051"/>
                          </a:lnTo>
                          <a:lnTo>
                            <a:pt x="254" y="7036"/>
                          </a:lnTo>
                          <a:lnTo>
                            <a:pt x="244" y="7018"/>
                          </a:lnTo>
                          <a:lnTo>
                            <a:pt x="233" y="7003"/>
                          </a:lnTo>
                          <a:lnTo>
                            <a:pt x="226" y="6988"/>
                          </a:lnTo>
                          <a:lnTo>
                            <a:pt x="218" y="6972"/>
                          </a:lnTo>
                          <a:lnTo>
                            <a:pt x="208" y="6955"/>
                          </a:lnTo>
                          <a:lnTo>
                            <a:pt x="198" y="6939"/>
                          </a:lnTo>
                          <a:lnTo>
                            <a:pt x="188" y="6924"/>
                          </a:lnTo>
                          <a:lnTo>
                            <a:pt x="180" y="6909"/>
                          </a:lnTo>
                          <a:lnTo>
                            <a:pt x="173" y="6894"/>
                          </a:lnTo>
                          <a:lnTo>
                            <a:pt x="165" y="6879"/>
                          </a:lnTo>
                          <a:lnTo>
                            <a:pt x="157" y="6863"/>
                          </a:lnTo>
                          <a:lnTo>
                            <a:pt x="150" y="6848"/>
                          </a:lnTo>
                          <a:lnTo>
                            <a:pt x="140" y="6830"/>
                          </a:lnTo>
                          <a:lnTo>
                            <a:pt x="132" y="6813"/>
                          </a:lnTo>
                          <a:lnTo>
                            <a:pt x="122" y="6797"/>
                          </a:lnTo>
                          <a:lnTo>
                            <a:pt x="114" y="6782"/>
                          </a:lnTo>
                          <a:lnTo>
                            <a:pt x="107" y="6765"/>
                          </a:lnTo>
                          <a:lnTo>
                            <a:pt x="99" y="6747"/>
                          </a:lnTo>
                          <a:lnTo>
                            <a:pt x="91" y="6732"/>
                          </a:lnTo>
                          <a:lnTo>
                            <a:pt x="86" y="6716"/>
                          </a:lnTo>
                          <a:lnTo>
                            <a:pt x="79" y="6699"/>
                          </a:lnTo>
                          <a:lnTo>
                            <a:pt x="71" y="6681"/>
                          </a:lnTo>
                          <a:lnTo>
                            <a:pt x="66" y="6663"/>
                          </a:lnTo>
                          <a:lnTo>
                            <a:pt x="61" y="6648"/>
                          </a:lnTo>
                          <a:lnTo>
                            <a:pt x="53" y="6630"/>
                          </a:lnTo>
                          <a:lnTo>
                            <a:pt x="48" y="6615"/>
                          </a:lnTo>
                          <a:lnTo>
                            <a:pt x="43" y="6597"/>
                          </a:lnTo>
                          <a:lnTo>
                            <a:pt x="41" y="6582"/>
                          </a:lnTo>
                          <a:lnTo>
                            <a:pt x="33" y="6562"/>
                          </a:lnTo>
                          <a:lnTo>
                            <a:pt x="31" y="6546"/>
                          </a:lnTo>
                          <a:lnTo>
                            <a:pt x="26" y="6526"/>
                          </a:lnTo>
                          <a:lnTo>
                            <a:pt x="23" y="6511"/>
                          </a:lnTo>
                          <a:lnTo>
                            <a:pt x="18" y="6491"/>
                          </a:lnTo>
                          <a:lnTo>
                            <a:pt x="15" y="6475"/>
                          </a:lnTo>
                          <a:lnTo>
                            <a:pt x="10" y="6455"/>
                          </a:lnTo>
                          <a:lnTo>
                            <a:pt x="10" y="6440"/>
                          </a:lnTo>
                          <a:lnTo>
                            <a:pt x="8" y="6420"/>
                          </a:lnTo>
                          <a:lnTo>
                            <a:pt x="5" y="6402"/>
                          </a:lnTo>
                          <a:lnTo>
                            <a:pt x="3" y="6384"/>
                          </a:lnTo>
                          <a:lnTo>
                            <a:pt x="3" y="6366"/>
                          </a:lnTo>
                          <a:lnTo>
                            <a:pt x="3" y="6346"/>
                          </a:lnTo>
                          <a:lnTo>
                            <a:pt x="3" y="6331"/>
                          </a:lnTo>
                          <a:lnTo>
                            <a:pt x="3" y="6311"/>
                          </a:lnTo>
                          <a:lnTo>
                            <a:pt x="5" y="6295"/>
                          </a:lnTo>
                          <a:lnTo>
                            <a:pt x="5" y="6273"/>
                          </a:lnTo>
                          <a:lnTo>
                            <a:pt x="5" y="6250"/>
                          </a:lnTo>
                          <a:lnTo>
                            <a:pt x="5" y="6230"/>
                          </a:lnTo>
                          <a:lnTo>
                            <a:pt x="5" y="6209"/>
                          </a:lnTo>
                          <a:lnTo>
                            <a:pt x="5" y="6186"/>
                          </a:lnTo>
                          <a:lnTo>
                            <a:pt x="5" y="6164"/>
                          </a:lnTo>
                          <a:lnTo>
                            <a:pt x="5" y="6143"/>
                          </a:lnTo>
                          <a:lnTo>
                            <a:pt x="8" y="6123"/>
                          </a:lnTo>
                          <a:lnTo>
                            <a:pt x="5" y="6100"/>
                          </a:lnTo>
                          <a:lnTo>
                            <a:pt x="5" y="6077"/>
                          </a:lnTo>
                          <a:lnTo>
                            <a:pt x="5" y="6057"/>
                          </a:lnTo>
                          <a:lnTo>
                            <a:pt x="5" y="6037"/>
                          </a:lnTo>
                          <a:lnTo>
                            <a:pt x="5" y="6014"/>
                          </a:lnTo>
                          <a:lnTo>
                            <a:pt x="5" y="5991"/>
                          </a:lnTo>
                          <a:lnTo>
                            <a:pt x="5" y="5971"/>
                          </a:lnTo>
                          <a:lnTo>
                            <a:pt x="5" y="5951"/>
                          </a:lnTo>
                          <a:lnTo>
                            <a:pt x="3" y="5928"/>
                          </a:lnTo>
                          <a:lnTo>
                            <a:pt x="3" y="5905"/>
                          </a:lnTo>
                          <a:lnTo>
                            <a:pt x="0" y="5885"/>
                          </a:lnTo>
                          <a:lnTo>
                            <a:pt x="0" y="5864"/>
                          </a:lnTo>
                          <a:lnTo>
                            <a:pt x="0" y="5842"/>
                          </a:lnTo>
                          <a:lnTo>
                            <a:pt x="0" y="5819"/>
                          </a:lnTo>
                          <a:lnTo>
                            <a:pt x="0" y="5799"/>
                          </a:lnTo>
                          <a:lnTo>
                            <a:pt x="0" y="5778"/>
                          </a:lnTo>
                          <a:lnTo>
                            <a:pt x="0" y="5755"/>
                          </a:lnTo>
                          <a:lnTo>
                            <a:pt x="0" y="5735"/>
                          </a:lnTo>
                          <a:lnTo>
                            <a:pt x="0" y="5715"/>
                          </a:lnTo>
                          <a:lnTo>
                            <a:pt x="0" y="5695"/>
                          </a:lnTo>
                          <a:lnTo>
                            <a:pt x="0" y="5672"/>
                          </a:lnTo>
                          <a:lnTo>
                            <a:pt x="3" y="5651"/>
                          </a:lnTo>
                          <a:lnTo>
                            <a:pt x="5" y="5631"/>
                          </a:lnTo>
                          <a:lnTo>
                            <a:pt x="8" y="5613"/>
                          </a:lnTo>
                          <a:lnTo>
                            <a:pt x="8" y="5591"/>
                          </a:lnTo>
                          <a:lnTo>
                            <a:pt x="10" y="5570"/>
                          </a:lnTo>
                          <a:lnTo>
                            <a:pt x="13" y="5550"/>
                          </a:lnTo>
                          <a:lnTo>
                            <a:pt x="15" y="5530"/>
                          </a:lnTo>
                          <a:lnTo>
                            <a:pt x="18" y="5507"/>
                          </a:lnTo>
                          <a:lnTo>
                            <a:pt x="23" y="5487"/>
                          </a:lnTo>
                          <a:lnTo>
                            <a:pt x="26" y="5466"/>
                          </a:lnTo>
                          <a:lnTo>
                            <a:pt x="31" y="5449"/>
                          </a:lnTo>
                          <a:lnTo>
                            <a:pt x="33" y="5428"/>
                          </a:lnTo>
                          <a:lnTo>
                            <a:pt x="38" y="5411"/>
                          </a:lnTo>
                          <a:lnTo>
                            <a:pt x="46" y="5390"/>
                          </a:lnTo>
                          <a:lnTo>
                            <a:pt x="53" y="5373"/>
                          </a:lnTo>
                          <a:lnTo>
                            <a:pt x="58" y="5352"/>
                          </a:lnTo>
                          <a:lnTo>
                            <a:pt x="66" y="5335"/>
                          </a:lnTo>
                          <a:lnTo>
                            <a:pt x="74" y="5314"/>
                          </a:lnTo>
                          <a:lnTo>
                            <a:pt x="84" y="5299"/>
                          </a:lnTo>
                          <a:lnTo>
                            <a:pt x="91" y="5279"/>
                          </a:lnTo>
                          <a:lnTo>
                            <a:pt x="99" y="5261"/>
                          </a:lnTo>
                          <a:lnTo>
                            <a:pt x="109" y="5241"/>
                          </a:lnTo>
                          <a:lnTo>
                            <a:pt x="122" y="5225"/>
                          </a:lnTo>
                          <a:lnTo>
                            <a:pt x="129" y="5208"/>
                          </a:lnTo>
                          <a:lnTo>
                            <a:pt x="142" y="5190"/>
                          </a:lnTo>
                          <a:lnTo>
                            <a:pt x="155" y="5172"/>
                          </a:lnTo>
                          <a:lnTo>
                            <a:pt x="170" y="5157"/>
                          </a:lnTo>
                          <a:lnTo>
                            <a:pt x="183" y="5139"/>
                          </a:lnTo>
                          <a:lnTo>
                            <a:pt x="195" y="5124"/>
                          </a:lnTo>
                          <a:lnTo>
                            <a:pt x="211" y="5106"/>
                          </a:lnTo>
                          <a:lnTo>
                            <a:pt x="228" y="5091"/>
                          </a:lnTo>
                          <a:lnTo>
                            <a:pt x="244" y="5076"/>
                          </a:lnTo>
                          <a:lnTo>
                            <a:pt x="261" y="5061"/>
                          </a:lnTo>
                          <a:lnTo>
                            <a:pt x="279" y="5045"/>
                          </a:lnTo>
                          <a:lnTo>
                            <a:pt x="302" y="5033"/>
                          </a:lnTo>
                          <a:lnTo>
                            <a:pt x="325" y="5007"/>
                          </a:lnTo>
                          <a:lnTo>
                            <a:pt x="348" y="4982"/>
                          </a:lnTo>
                          <a:lnTo>
                            <a:pt x="370" y="4957"/>
                          </a:lnTo>
                          <a:lnTo>
                            <a:pt x="396" y="4934"/>
                          </a:lnTo>
                          <a:lnTo>
                            <a:pt x="419" y="4909"/>
                          </a:lnTo>
                          <a:lnTo>
                            <a:pt x="444" y="4886"/>
                          </a:lnTo>
                          <a:lnTo>
                            <a:pt x="467" y="4860"/>
                          </a:lnTo>
                          <a:lnTo>
                            <a:pt x="492" y="4838"/>
                          </a:lnTo>
                          <a:lnTo>
                            <a:pt x="515" y="4810"/>
                          </a:lnTo>
                          <a:lnTo>
                            <a:pt x="540" y="4787"/>
                          </a:lnTo>
                          <a:lnTo>
                            <a:pt x="566" y="4759"/>
                          </a:lnTo>
                          <a:lnTo>
                            <a:pt x="591" y="4736"/>
                          </a:lnTo>
                          <a:lnTo>
                            <a:pt x="614" y="4711"/>
                          </a:lnTo>
                          <a:lnTo>
                            <a:pt x="639" y="4685"/>
                          </a:lnTo>
                          <a:lnTo>
                            <a:pt x="665" y="4663"/>
                          </a:lnTo>
                          <a:lnTo>
                            <a:pt x="693" y="4640"/>
                          </a:lnTo>
                          <a:lnTo>
                            <a:pt x="715" y="4614"/>
                          </a:lnTo>
                          <a:lnTo>
                            <a:pt x="743" y="4589"/>
                          </a:lnTo>
                          <a:lnTo>
                            <a:pt x="766" y="4564"/>
                          </a:lnTo>
                          <a:lnTo>
                            <a:pt x="794" y="4541"/>
                          </a:lnTo>
                          <a:lnTo>
                            <a:pt x="819" y="4518"/>
                          </a:lnTo>
                          <a:lnTo>
                            <a:pt x="847" y="4495"/>
                          </a:lnTo>
                          <a:lnTo>
                            <a:pt x="860" y="4483"/>
                          </a:lnTo>
                          <a:lnTo>
                            <a:pt x="873" y="4472"/>
                          </a:lnTo>
                          <a:lnTo>
                            <a:pt x="888" y="4460"/>
                          </a:lnTo>
                          <a:lnTo>
                            <a:pt x="903" y="4452"/>
                          </a:lnTo>
                          <a:lnTo>
                            <a:pt x="928" y="4429"/>
                          </a:lnTo>
                          <a:lnTo>
                            <a:pt x="956" y="4407"/>
                          </a:lnTo>
                          <a:lnTo>
                            <a:pt x="969" y="4396"/>
                          </a:lnTo>
                          <a:lnTo>
                            <a:pt x="982" y="4386"/>
                          </a:lnTo>
                          <a:lnTo>
                            <a:pt x="997" y="4376"/>
                          </a:lnTo>
                          <a:lnTo>
                            <a:pt x="1012" y="4368"/>
                          </a:lnTo>
                          <a:lnTo>
                            <a:pt x="1025" y="4356"/>
                          </a:lnTo>
                          <a:lnTo>
                            <a:pt x="1040" y="4346"/>
                          </a:lnTo>
                          <a:lnTo>
                            <a:pt x="1053" y="4336"/>
                          </a:lnTo>
                          <a:lnTo>
                            <a:pt x="1068" y="4328"/>
                          </a:lnTo>
                          <a:lnTo>
                            <a:pt x="1083" y="4318"/>
                          </a:lnTo>
                          <a:lnTo>
                            <a:pt x="1098" y="4310"/>
                          </a:lnTo>
                          <a:lnTo>
                            <a:pt x="1114" y="4303"/>
                          </a:lnTo>
                          <a:lnTo>
                            <a:pt x="1129" y="4295"/>
                          </a:lnTo>
                          <a:lnTo>
                            <a:pt x="1154" y="4287"/>
                          </a:lnTo>
                          <a:lnTo>
                            <a:pt x="1182" y="4282"/>
                          </a:lnTo>
                          <a:lnTo>
                            <a:pt x="1195" y="4280"/>
                          </a:lnTo>
                          <a:lnTo>
                            <a:pt x="1210" y="4277"/>
                          </a:lnTo>
                          <a:lnTo>
                            <a:pt x="1225" y="4275"/>
                          </a:lnTo>
                          <a:lnTo>
                            <a:pt x="1240" y="4275"/>
                          </a:lnTo>
                          <a:lnTo>
                            <a:pt x="1253" y="4272"/>
                          </a:lnTo>
                          <a:lnTo>
                            <a:pt x="1268" y="4270"/>
                          </a:lnTo>
                          <a:lnTo>
                            <a:pt x="1284" y="4267"/>
                          </a:lnTo>
                          <a:lnTo>
                            <a:pt x="1299" y="4267"/>
                          </a:lnTo>
                          <a:lnTo>
                            <a:pt x="1311" y="4265"/>
                          </a:lnTo>
                          <a:lnTo>
                            <a:pt x="1327" y="4262"/>
                          </a:lnTo>
                          <a:lnTo>
                            <a:pt x="1342" y="4262"/>
                          </a:lnTo>
                          <a:lnTo>
                            <a:pt x="1357" y="4262"/>
                          </a:lnTo>
                          <a:lnTo>
                            <a:pt x="1370" y="4259"/>
                          </a:lnTo>
                          <a:lnTo>
                            <a:pt x="1385" y="4257"/>
                          </a:lnTo>
                          <a:lnTo>
                            <a:pt x="1400" y="4254"/>
                          </a:lnTo>
                          <a:lnTo>
                            <a:pt x="1415" y="4254"/>
                          </a:lnTo>
                          <a:lnTo>
                            <a:pt x="1428" y="4252"/>
                          </a:lnTo>
                          <a:lnTo>
                            <a:pt x="1443" y="4249"/>
                          </a:lnTo>
                          <a:lnTo>
                            <a:pt x="1459" y="4247"/>
                          </a:lnTo>
                          <a:lnTo>
                            <a:pt x="1474" y="4247"/>
                          </a:lnTo>
                          <a:lnTo>
                            <a:pt x="1486" y="4244"/>
                          </a:lnTo>
                          <a:lnTo>
                            <a:pt x="1502" y="4242"/>
                          </a:lnTo>
                          <a:lnTo>
                            <a:pt x="1514" y="4239"/>
                          </a:lnTo>
                          <a:lnTo>
                            <a:pt x="1530" y="4237"/>
                          </a:lnTo>
                          <a:lnTo>
                            <a:pt x="1542" y="4234"/>
                          </a:lnTo>
                          <a:lnTo>
                            <a:pt x="1557" y="4232"/>
                          </a:lnTo>
                          <a:lnTo>
                            <a:pt x="1573" y="4229"/>
                          </a:lnTo>
                          <a:lnTo>
                            <a:pt x="1588" y="4229"/>
                          </a:lnTo>
                          <a:lnTo>
                            <a:pt x="1672" y="4161"/>
                          </a:lnTo>
                          <a:lnTo>
                            <a:pt x="1760" y="4095"/>
                          </a:lnTo>
                          <a:lnTo>
                            <a:pt x="1844" y="4029"/>
                          </a:lnTo>
                          <a:lnTo>
                            <a:pt x="1933" y="3963"/>
                          </a:lnTo>
                          <a:lnTo>
                            <a:pt x="2019" y="3894"/>
                          </a:lnTo>
                          <a:lnTo>
                            <a:pt x="2105" y="3828"/>
                          </a:lnTo>
                          <a:lnTo>
                            <a:pt x="2192" y="3762"/>
                          </a:lnTo>
                          <a:lnTo>
                            <a:pt x="2280" y="3697"/>
                          </a:lnTo>
                          <a:lnTo>
                            <a:pt x="2364" y="3628"/>
                          </a:lnTo>
                          <a:lnTo>
                            <a:pt x="2453" y="3562"/>
                          </a:lnTo>
                          <a:lnTo>
                            <a:pt x="2537" y="3496"/>
                          </a:lnTo>
                          <a:lnTo>
                            <a:pt x="2625" y="3430"/>
                          </a:lnTo>
                          <a:lnTo>
                            <a:pt x="2712" y="3362"/>
                          </a:lnTo>
                          <a:lnTo>
                            <a:pt x="2798" y="3296"/>
                          </a:lnTo>
                          <a:lnTo>
                            <a:pt x="2884" y="3230"/>
                          </a:lnTo>
                          <a:lnTo>
                            <a:pt x="2973" y="3167"/>
                          </a:lnTo>
                          <a:lnTo>
                            <a:pt x="3057" y="3098"/>
                          </a:lnTo>
                          <a:lnTo>
                            <a:pt x="3143" y="3032"/>
                          </a:lnTo>
                          <a:lnTo>
                            <a:pt x="3229" y="2966"/>
                          </a:lnTo>
                          <a:lnTo>
                            <a:pt x="3315" y="2903"/>
                          </a:lnTo>
                          <a:lnTo>
                            <a:pt x="3401" y="2835"/>
                          </a:lnTo>
                          <a:lnTo>
                            <a:pt x="3488" y="2769"/>
                          </a:lnTo>
                          <a:lnTo>
                            <a:pt x="3574" y="2703"/>
                          </a:lnTo>
                          <a:lnTo>
                            <a:pt x="3663" y="2639"/>
                          </a:lnTo>
                          <a:lnTo>
                            <a:pt x="3746" y="2571"/>
                          </a:lnTo>
                          <a:lnTo>
                            <a:pt x="3833" y="2507"/>
                          </a:lnTo>
                          <a:lnTo>
                            <a:pt x="3919" y="2439"/>
                          </a:lnTo>
                          <a:lnTo>
                            <a:pt x="4005" y="2376"/>
                          </a:lnTo>
                          <a:lnTo>
                            <a:pt x="4091" y="2310"/>
                          </a:lnTo>
                          <a:lnTo>
                            <a:pt x="4178" y="2244"/>
                          </a:lnTo>
                          <a:lnTo>
                            <a:pt x="4264" y="2178"/>
                          </a:lnTo>
                          <a:lnTo>
                            <a:pt x="4353" y="2114"/>
                          </a:lnTo>
                          <a:lnTo>
                            <a:pt x="4436" y="2046"/>
                          </a:lnTo>
                          <a:lnTo>
                            <a:pt x="4523" y="1983"/>
                          </a:lnTo>
                          <a:lnTo>
                            <a:pt x="4609" y="1914"/>
                          </a:lnTo>
                          <a:lnTo>
                            <a:pt x="4695" y="1851"/>
                          </a:lnTo>
                          <a:lnTo>
                            <a:pt x="4779" y="1785"/>
                          </a:lnTo>
                          <a:lnTo>
                            <a:pt x="4868" y="1719"/>
                          </a:lnTo>
                          <a:lnTo>
                            <a:pt x="4951" y="1653"/>
                          </a:lnTo>
                          <a:lnTo>
                            <a:pt x="5040" y="1590"/>
                          </a:lnTo>
                          <a:lnTo>
                            <a:pt x="5124" y="1521"/>
                          </a:lnTo>
                          <a:lnTo>
                            <a:pt x="5210" y="1458"/>
                          </a:lnTo>
                          <a:lnTo>
                            <a:pt x="5296" y="1389"/>
                          </a:lnTo>
                          <a:lnTo>
                            <a:pt x="5385" y="1326"/>
                          </a:lnTo>
                          <a:lnTo>
                            <a:pt x="5469" y="1260"/>
                          </a:lnTo>
                          <a:lnTo>
                            <a:pt x="5555" y="1194"/>
                          </a:lnTo>
                          <a:lnTo>
                            <a:pt x="5641" y="1128"/>
                          </a:lnTo>
                          <a:lnTo>
                            <a:pt x="5730" y="1065"/>
                          </a:lnTo>
                          <a:lnTo>
                            <a:pt x="5814" y="996"/>
                          </a:lnTo>
                          <a:lnTo>
                            <a:pt x="5900" y="933"/>
                          </a:lnTo>
                          <a:lnTo>
                            <a:pt x="5986" y="867"/>
                          </a:lnTo>
                          <a:lnTo>
                            <a:pt x="6072" y="804"/>
                          </a:lnTo>
                          <a:lnTo>
                            <a:pt x="6159" y="735"/>
                          </a:lnTo>
                          <a:lnTo>
                            <a:pt x="6245" y="672"/>
                          </a:lnTo>
                          <a:lnTo>
                            <a:pt x="6331" y="606"/>
                          </a:lnTo>
                          <a:lnTo>
                            <a:pt x="6420" y="542"/>
                          </a:lnTo>
                          <a:lnTo>
                            <a:pt x="6503" y="476"/>
                          </a:lnTo>
                          <a:lnTo>
                            <a:pt x="6592" y="411"/>
                          </a:lnTo>
                          <a:lnTo>
                            <a:pt x="6676" y="345"/>
                          </a:lnTo>
                          <a:lnTo>
                            <a:pt x="6765" y="281"/>
                          </a:lnTo>
                          <a:lnTo>
                            <a:pt x="6851" y="215"/>
                          </a:lnTo>
                          <a:lnTo>
                            <a:pt x="6937" y="152"/>
                          </a:lnTo>
                          <a:lnTo>
                            <a:pt x="7023" y="86"/>
                          </a:lnTo>
                          <a:lnTo>
                            <a:pt x="7112" y="23"/>
                          </a:lnTo>
                          <a:lnTo>
                            <a:pt x="7125" y="12"/>
                          </a:lnTo>
                          <a:lnTo>
                            <a:pt x="7140" y="10"/>
                          </a:lnTo>
                          <a:lnTo>
                            <a:pt x="7155" y="12"/>
                          </a:lnTo>
                          <a:lnTo>
                            <a:pt x="7173" y="18"/>
                          </a:lnTo>
                          <a:lnTo>
                            <a:pt x="7186" y="20"/>
                          </a:lnTo>
                          <a:lnTo>
                            <a:pt x="7201" y="23"/>
                          </a:lnTo>
                          <a:lnTo>
                            <a:pt x="7214" y="15"/>
                          </a:lnTo>
                          <a:lnTo>
                            <a:pt x="7226" y="0"/>
                          </a:lnTo>
                          <a:lnTo>
                            <a:pt x="7226" y="18"/>
                          </a:lnTo>
                          <a:lnTo>
                            <a:pt x="7231" y="38"/>
                          </a:lnTo>
                          <a:lnTo>
                            <a:pt x="7231" y="58"/>
                          </a:lnTo>
                          <a:lnTo>
                            <a:pt x="7237" y="81"/>
                          </a:lnTo>
                          <a:lnTo>
                            <a:pt x="7239" y="99"/>
                          </a:lnTo>
                          <a:lnTo>
                            <a:pt x="7242" y="119"/>
                          </a:lnTo>
                          <a:lnTo>
                            <a:pt x="7244" y="139"/>
                          </a:lnTo>
                          <a:lnTo>
                            <a:pt x="7249" y="162"/>
                          </a:lnTo>
                          <a:lnTo>
                            <a:pt x="7252" y="182"/>
                          </a:lnTo>
                          <a:lnTo>
                            <a:pt x="7257" y="203"/>
                          </a:lnTo>
                          <a:lnTo>
                            <a:pt x="7259" y="223"/>
                          </a:lnTo>
                          <a:lnTo>
                            <a:pt x="7264" y="246"/>
                          </a:lnTo>
                          <a:lnTo>
                            <a:pt x="7267" y="266"/>
                          </a:lnTo>
                          <a:lnTo>
                            <a:pt x="7272" y="286"/>
                          </a:lnTo>
                          <a:lnTo>
                            <a:pt x="7275" y="307"/>
                          </a:lnTo>
                          <a:lnTo>
                            <a:pt x="7282" y="329"/>
                          </a:lnTo>
                          <a:lnTo>
                            <a:pt x="7285" y="347"/>
                          </a:lnTo>
                          <a:lnTo>
                            <a:pt x="7290" y="367"/>
                          </a:lnTo>
                          <a:lnTo>
                            <a:pt x="7292" y="388"/>
                          </a:lnTo>
                          <a:lnTo>
                            <a:pt x="7297" y="411"/>
                          </a:lnTo>
                          <a:lnTo>
                            <a:pt x="7300" y="428"/>
                          </a:lnTo>
                          <a:lnTo>
                            <a:pt x="7308" y="449"/>
                          </a:lnTo>
                          <a:lnTo>
                            <a:pt x="7310" y="469"/>
                          </a:lnTo>
                          <a:lnTo>
                            <a:pt x="7318" y="492"/>
                          </a:lnTo>
                          <a:lnTo>
                            <a:pt x="7320" y="512"/>
                          </a:lnTo>
                          <a:lnTo>
                            <a:pt x="7325" y="532"/>
                          </a:lnTo>
                          <a:lnTo>
                            <a:pt x="7330" y="553"/>
                          </a:lnTo>
                          <a:lnTo>
                            <a:pt x="7335" y="575"/>
                          </a:lnTo>
                          <a:lnTo>
                            <a:pt x="7338" y="596"/>
                          </a:lnTo>
                          <a:lnTo>
                            <a:pt x="7346" y="616"/>
                          </a:lnTo>
                          <a:lnTo>
                            <a:pt x="7348" y="636"/>
                          </a:lnTo>
                          <a:lnTo>
                            <a:pt x="7356" y="659"/>
                          </a:lnTo>
                          <a:lnTo>
                            <a:pt x="7358" y="677"/>
                          </a:lnTo>
                          <a:lnTo>
                            <a:pt x="7363" y="697"/>
                          </a:lnTo>
                          <a:lnTo>
                            <a:pt x="7368" y="717"/>
                          </a:lnTo>
                          <a:lnTo>
                            <a:pt x="7373" y="740"/>
                          </a:lnTo>
                          <a:lnTo>
                            <a:pt x="7376" y="760"/>
                          </a:lnTo>
                          <a:lnTo>
                            <a:pt x="7384" y="781"/>
                          </a:lnTo>
                          <a:lnTo>
                            <a:pt x="7386" y="801"/>
                          </a:lnTo>
                          <a:lnTo>
                            <a:pt x="7394" y="824"/>
                          </a:lnTo>
                          <a:lnTo>
                            <a:pt x="7396" y="844"/>
                          </a:lnTo>
                          <a:lnTo>
                            <a:pt x="7401" y="864"/>
                          </a:lnTo>
                          <a:lnTo>
                            <a:pt x="7406" y="885"/>
                          </a:lnTo>
                          <a:lnTo>
                            <a:pt x="7412" y="908"/>
                          </a:lnTo>
                          <a:lnTo>
                            <a:pt x="7417" y="928"/>
                          </a:lnTo>
                          <a:lnTo>
                            <a:pt x="7422" y="948"/>
                          </a:lnTo>
                          <a:lnTo>
                            <a:pt x="7427" y="968"/>
                          </a:lnTo>
                          <a:lnTo>
                            <a:pt x="7434" y="991"/>
                          </a:lnTo>
                          <a:lnTo>
                            <a:pt x="7437" y="1011"/>
                          </a:lnTo>
                          <a:lnTo>
                            <a:pt x="7442" y="1032"/>
                          </a:lnTo>
                          <a:lnTo>
                            <a:pt x="7447" y="1052"/>
                          </a:lnTo>
                          <a:lnTo>
                            <a:pt x="7455" y="1075"/>
                          </a:lnTo>
                          <a:lnTo>
                            <a:pt x="7457" y="1095"/>
                          </a:lnTo>
                          <a:lnTo>
                            <a:pt x="7462" y="1115"/>
                          </a:lnTo>
                          <a:lnTo>
                            <a:pt x="7467" y="1136"/>
                          </a:lnTo>
                          <a:lnTo>
                            <a:pt x="7475" y="1159"/>
                          </a:lnTo>
                          <a:lnTo>
                            <a:pt x="7477" y="1179"/>
                          </a:lnTo>
                          <a:lnTo>
                            <a:pt x="7483" y="1202"/>
                          </a:lnTo>
                          <a:lnTo>
                            <a:pt x="7488" y="1222"/>
                          </a:lnTo>
                          <a:lnTo>
                            <a:pt x="7495" y="1245"/>
                          </a:lnTo>
                          <a:lnTo>
                            <a:pt x="7498" y="1265"/>
                          </a:lnTo>
                          <a:lnTo>
                            <a:pt x="7503" y="1288"/>
                          </a:lnTo>
                          <a:lnTo>
                            <a:pt x="7508" y="1311"/>
                          </a:lnTo>
                          <a:lnTo>
                            <a:pt x="7516" y="1333"/>
                          </a:lnTo>
                          <a:lnTo>
                            <a:pt x="7498" y="1339"/>
                          </a:lnTo>
                          <a:lnTo>
                            <a:pt x="7483" y="1346"/>
                          </a:lnTo>
                          <a:lnTo>
                            <a:pt x="7465" y="1349"/>
                          </a:lnTo>
                          <a:lnTo>
                            <a:pt x="7450" y="1354"/>
                          </a:lnTo>
                          <a:lnTo>
                            <a:pt x="7429" y="1354"/>
                          </a:lnTo>
                          <a:lnTo>
                            <a:pt x="7412" y="1354"/>
                          </a:lnTo>
                          <a:lnTo>
                            <a:pt x="7394" y="1354"/>
                          </a:lnTo>
                          <a:lnTo>
                            <a:pt x="7376" y="1356"/>
                          </a:lnTo>
                          <a:lnTo>
                            <a:pt x="7356" y="1354"/>
                          </a:lnTo>
                          <a:lnTo>
                            <a:pt x="7338" y="1351"/>
                          </a:lnTo>
                          <a:lnTo>
                            <a:pt x="7320" y="1351"/>
                          </a:lnTo>
                          <a:lnTo>
                            <a:pt x="7305" y="1354"/>
                          </a:lnTo>
                          <a:lnTo>
                            <a:pt x="7287" y="1354"/>
                          </a:lnTo>
                          <a:lnTo>
                            <a:pt x="7275" y="1356"/>
                          </a:lnTo>
                          <a:lnTo>
                            <a:pt x="7259" y="1361"/>
                          </a:lnTo>
                          <a:lnTo>
                            <a:pt x="7252" y="1369"/>
                          </a:lnTo>
                          <a:lnTo>
                            <a:pt x="7252" y="1392"/>
                          </a:lnTo>
                          <a:lnTo>
                            <a:pt x="7252" y="1417"/>
                          </a:lnTo>
                          <a:lnTo>
                            <a:pt x="7252" y="1443"/>
                          </a:lnTo>
                          <a:lnTo>
                            <a:pt x="7252" y="1468"/>
                          </a:lnTo>
                          <a:lnTo>
                            <a:pt x="7249" y="1491"/>
                          </a:lnTo>
                          <a:lnTo>
                            <a:pt x="7249" y="1516"/>
                          </a:lnTo>
                          <a:lnTo>
                            <a:pt x="7247" y="1541"/>
                          </a:lnTo>
                          <a:lnTo>
                            <a:pt x="7244" y="1567"/>
                          </a:lnTo>
                          <a:lnTo>
                            <a:pt x="7239" y="1587"/>
                          </a:lnTo>
                          <a:lnTo>
                            <a:pt x="7234" y="1610"/>
                          </a:lnTo>
                          <a:lnTo>
                            <a:pt x="7226" y="1630"/>
                          </a:lnTo>
                          <a:lnTo>
                            <a:pt x="7219" y="1650"/>
                          </a:lnTo>
                          <a:lnTo>
                            <a:pt x="7209" y="1666"/>
                          </a:lnTo>
                          <a:lnTo>
                            <a:pt x="7198" y="1683"/>
                          </a:lnTo>
                          <a:lnTo>
                            <a:pt x="7183" y="1696"/>
                          </a:lnTo>
                          <a:lnTo>
                            <a:pt x="7171" y="1711"/>
                          </a:lnTo>
                          <a:lnTo>
                            <a:pt x="7153" y="1711"/>
                          </a:lnTo>
                          <a:lnTo>
                            <a:pt x="7138" y="1711"/>
                          </a:lnTo>
                          <a:lnTo>
                            <a:pt x="7122" y="1711"/>
                          </a:lnTo>
                          <a:lnTo>
                            <a:pt x="7107" y="1711"/>
                          </a:lnTo>
                          <a:lnTo>
                            <a:pt x="7092" y="1709"/>
                          </a:lnTo>
                          <a:lnTo>
                            <a:pt x="7077" y="1709"/>
                          </a:lnTo>
                          <a:lnTo>
                            <a:pt x="7061" y="1709"/>
                          </a:lnTo>
                          <a:lnTo>
                            <a:pt x="7049" y="1709"/>
                          </a:lnTo>
                          <a:lnTo>
                            <a:pt x="7034" y="1709"/>
                          </a:lnTo>
                          <a:lnTo>
                            <a:pt x="7018" y="1709"/>
                          </a:lnTo>
                          <a:lnTo>
                            <a:pt x="7006" y="1711"/>
                          </a:lnTo>
                          <a:lnTo>
                            <a:pt x="6993" y="1716"/>
                          </a:lnTo>
                          <a:lnTo>
                            <a:pt x="6965" y="1726"/>
                          </a:lnTo>
                          <a:lnTo>
                            <a:pt x="6940" y="1747"/>
                          </a:lnTo>
                          <a:lnTo>
                            <a:pt x="6937" y="1762"/>
                          </a:lnTo>
                          <a:lnTo>
                            <a:pt x="6937" y="1780"/>
                          </a:lnTo>
                          <a:lnTo>
                            <a:pt x="6937" y="1797"/>
                          </a:lnTo>
                          <a:lnTo>
                            <a:pt x="6937" y="1818"/>
                          </a:lnTo>
                          <a:lnTo>
                            <a:pt x="6937" y="1836"/>
                          </a:lnTo>
                          <a:lnTo>
                            <a:pt x="6937" y="1856"/>
                          </a:lnTo>
                          <a:lnTo>
                            <a:pt x="6940" y="1876"/>
                          </a:lnTo>
                          <a:lnTo>
                            <a:pt x="6942" y="1896"/>
                          </a:lnTo>
                          <a:lnTo>
                            <a:pt x="6940" y="1914"/>
                          </a:lnTo>
                          <a:lnTo>
                            <a:pt x="6940" y="1932"/>
                          </a:lnTo>
                          <a:lnTo>
                            <a:pt x="6937" y="1950"/>
                          </a:lnTo>
                          <a:lnTo>
                            <a:pt x="6935" y="1970"/>
                          </a:lnTo>
                          <a:lnTo>
                            <a:pt x="6930" y="1985"/>
                          </a:lnTo>
                          <a:lnTo>
                            <a:pt x="6925" y="2003"/>
                          </a:lnTo>
                          <a:lnTo>
                            <a:pt x="6914" y="2018"/>
                          </a:lnTo>
                          <a:lnTo>
                            <a:pt x="6907" y="2033"/>
                          </a:lnTo>
                          <a:lnTo>
                            <a:pt x="6884" y="2033"/>
                          </a:lnTo>
                          <a:lnTo>
                            <a:pt x="6864" y="2036"/>
                          </a:lnTo>
                          <a:lnTo>
                            <a:pt x="6843" y="2038"/>
                          </a:lnTo>
                          <a:lnTo>
                            <a:pt x="6826" y="2041"/>
                          </a:lnTo>
                          <a:lnTo>
                            <a:pt x="6803" y="2041"/>
                          </a:lnTo>
                          <a:lnTo>
                            <a:pt x="6782" y="2043"/>
                          </a:lnTo>
                          <a:lnTo>
                            <a:pt x="6762" y="2046"/>
                          </a:lnTo>
                          <a:lnTo>
                            <a:pt x="6744" y="2048"/>
                          </a:lnTo>
                          <a:lnTo>
                            <a:pt x="6722" y="2048"/>
                          </a:lnTo>
                          <a:lnTo>
                            <a:pt x="6704" y="2051"/>
                          </a:lnTo>
                          <a:lnTo>
                            <a:pt x="6684" y="2054"/>
                          </a:lnTo>
                          <a:lnTo>
                            <a:pt x="6666" y="2061"/>
                          </a:lnTo>
                          <a:lnTo>
                            <a:pt x="6646" y="2064"/>
                          </a:lnTo>
                          <a:lnTo>
                            <a:pt x="6628" y="2071"/>
                          </a:lnTo>
                          <a:lnTo>
                            <a:pt x="6610" y="2079"/>
                          </a:lnTo>
                          <a:lnTo>
                            <a:pt x="6595" y="2092"/>
                          </a:lnTo>
                          <a:lnTo>
                            <a:pt x="6595" y="2112"/>
                          </a:lnTo>
                          <a:lnTo>
                            <a:pt x="6595" y="2135"/>
                          </a:lnTo>
                          <a:lnTo>
                            <a:pt x="6595" y="2158"/>
                          </a:lnTo>
                          <a:lnTo>
                            <a:pt x="6595" y="2180"/>
                          </a:lnTo>
                          <a:lnTo>
                            <a:pt x="6590" y="2203"/>
                          </a:lnTo>
                          <a:lnTo>
                            <a:pt x="6587" y="2226"/>
                          </a:lnTo>
                          <a:lnTo>
                            <a:pt x="6585" y="2249"/>
                          </a:lnTo>
                          <a:lnTo>
                            <a:pt x="6582" y="2272"/>
                          </a:lnTo>
                          <a:lnTo>
                            <a:pt x="6577" y="2294"/>
                          </a:lnTo>
                          <a:lnTo>
                            <a:pt x="6575" y="2317"/>
                          </a:lnTo>
                          <a:lnTo>
                            <a:pt x="6569" y="2340"/>
                          </a:lnTo>
                          <a:lnTo>
                            <a:pt x="6567" y="2365"/>
                          </a:lnTo>
                          <a:lnTo>
                            <a:pt x="6564" y="2388"/>
                          </a:lnTo>
                          <a:lnTo>
                            <a:pt x="6562" y="2411"/>
                          </a:lnTo>
                          <a:lnTo>
                            <a:pt x="6562" y="2434"/>
                          </a:lnTo>
                          <a:lnTo>
                            <a:pt x="6562" y="2459"/>
                          </a:lnTo>
                          <a:lnTo>
                            <a:pt x="6544" y="2464"/>
                          </a:lnTo>
                          <a:lnTo>
                            <a:pt x="6526" y="2472"/>
                          </a:lnTo>
                          <a:lnTo>
                            <a:pt x="6503" y="2474"/>
                          </a:lnTo>
                          <a:lnTo>
                            <a:pt x="6483" y="2477"/>
                          </a:lnTo>
                          <a:lnTo>
                            <a:pt x="6460" y="2477"/>
                          </a:lnTo>
                          <a:lnTo>
                            <a:pt x="6440" y="2480"/>
                          </a:lnTo>
                          <a:lnTo>
                            <a:pt x="6417" y="2480"/>
                          </a:lnTo>
                          <a:lnTo>
                            <a:pt x="6397" y="2482"/>
                          </a:lnTo>
                          <a:lnTo>
                            <a:pt x="6374" y="2482"/>
                          </a:lnTo>
                          <a:lnTo>
                            <a:pt x="6356" y="2487"/>
                          </a:lnTo>
                          <a:lnTo>
                            <a:pt x="6339" y="2492"/>
                          </a:lnTo>
                          <a:lnTo>
                            <a:pt x="6323" y="2502"/>
                          </a:lnTo>
                          <a:lnTo>
                            <a:pt x="6308" y="2512"/>
                          </a:lnTo>
                          <a:lnTo>
                            <a:pt x="6303" y="2528"/>
                          </a:lnTo>
                          <a:lnTo>
                            <a:pt x="6296" y="2548"/>
                          </a:lnTo>
                          <a:lnTo>
                            <a:pt x="6298" y="2573"/>
                          </a:lnTo>
                          <a:lnTo>
                            <a:pt x="6288" y="2596"/>
                          </a:lnTo>
                          <a:lnTo>
                            <a:pt x="6285" y="2622"/>
                          </a:lnTo>
                          <a:lnTo>
                            <a:pt x="6288" y="2644"/>
                          </a:lnTo>
                          <a:lnTo>
                            <a:pt x="6293" y="2670"/>
                          </a:lnTo>
                          <a:lnTo>
                            <a:pt x="6293" y="2693"/>
                          </a:lnTo>
                          <a:lnTo>
                            <a:pt x="6293" y="2715"/>
                          </a:lnTo>
                          <a:lnTo>
                            <a:pt x="6283" y="2736"/>
                          </a:lnTo>
                          <a:lnTo>
                            <a:pt x="6265" y="2756"/>
                          </a:lnTo>
                          <a:lnTo>
                            <a:pt x="6245" y="2758"/>
                          </a:lnTo>
                          <a:lnTo>
                            <a:pt x="6227" y="2764"/>
                          </a:lnTo>
                          <a:lnTo>
                            <a:pt x="6207" y="2766"/>
                          </a:lnTo>
                          <a:lnTo>
                            <a:pt x="6192" y="2771"/>
                          </a:lnTo>
                          <a:lnTo>
                            <a:pt x="6171" y="2774"/>
                          </a:lnTo>
                          <a:lnTo>
                            <a:pt x="6153" y="2781"/>
                          </a:lnTo>
                          <a:lnTo>
                            <a:pt x="6133" y="2784"/>
                          </a:lnTo>
                          <a:lnTo>
                            <a:pt x="6118" y="2791"/>
                          </a:lnTo>
                          <a:lnTo>
                            <a:pt x="6098" y="2794"/>
                          </a:lnTo>
                          <a:lnTo>
                            <a:pt x="6080" y="2799"/>
                          </a:lnTo>
                          <a:lnTo>
                            <a:pt x="6062" y="2802"/>
                          </a:lnTo>
                          <a:lnTo>
                            <a:pt x="6047" y="2807"/>
                          </a:lnTo>
                          <a:lnTo>
                            <a:pt x="6029" y="2809"/>
                          </a:lnTo>
                          <a:lnTo>
                            <a:pt x="6011" y="2817"/>
                          </a:lnTo>
                          <a:lnTo>
                            <a:pt x="5994" y="2819"/>
                          </a:lnTo>
                          <a:lnTo>
                            <a:pt x="5978" y="2827"/>
                          </a:lnTo>
                          <a:lnTo>
                            <a:pt x="5968" y="2842"/>
                          </a:lnTo>
                          <a:lnTo>
                            <a:pt x="5963" y="2857"/>
                          </a:lnTo>
                          <a:lnTo>
                            <a:pt x="5958" y="2875"/>
                          </a:lnTo>
                          <a:lnTo>
                            <a:pt x="5958" y="2898"/>
                          </a:lnTo>
                          <a:lnTo>
                            <a:pt x="5956" y="2916"/>
                          </a:lnTo>
                          <a:lnTo>
                            <a:pt x="5956" y="2936"/>
                          </a:lnTo>
                          <a:lnTo>
                            <a:pt x="5953" y="2956"/>
                          </a:lnTo>
                          <a:lnTo>
                            <a:pt x="5953" y="2979"/>
                          </a:lnTo>
                          <a:lnTo>
                            <a:pt x="5948" y="2997"/>
                          </a:lnTo>
                          <a:lnTo>
                            <a:pt x="5945" y="3015"/>
                          </a:lnTo>
                          <a:lnTo>
                            <a:pt x="5938" y="3032"/>
                          </a:lnTo>
                          <a:lnTo>
                            <a:pt x="5933" y="3050"/>
                          </a:lnTo>
                          <a:lnTo>
                            <a:pt x="5920" y="3060"/>
                          </a:lnTo>
                          <a:lnTo>
                            <a:pt x="5907" y="3073"/>
                          </a:lnTo>
                          <a:lnTo>
                            <a:pt x="5890" y="3080"/>
                          </a:lnTo>
                          <a:lnTo>
                            <a:pt x="5872" y="3091"/>
                          </a:lnTo>
                          <a:lnTo>
                            <a:pt x="5689" y="3101"/>
                          </a:lnTo>
                          <a:lnTo>
                            <a:pt x="5682" y="3116"/>
                          </a:lnTo>
                          <a:lnTo>
                            <a:pt x="5679" y="3134"/>
                          </a:lnTo>
                          <a:lnTo>
                            <a:pt x="5679" y="3154"/>
                          </a:lnTo>
                          <a:lnTo>
                            <a:pt x="5682" y="3177"/>
                          </a:lnTo>
                          <a:lnTo>
                            <a:pt x="5684" y="3200"/>
                          </a:lnTo>
                          <a:lnTo>
                            <a:pt x="5689" y="3222"/>
                          </a:lnTo>
                          <a:lnTo>
                            <a:pt x="5694" y="3245"/>
                          </a:lnTo>
                          <a:lnTo>
                            <a:pt x="5699" y="3268"/>
                          </a:lnTo>
                          <a:lnTo>
                            <a:pt x="5699" y="3288"/>
                          </a:lnTo>
                          <a:lnTo>
                            <a:pt x="5699" y="3309"/>
                          </a:lnTo>
                          <a:lnTo>
                            <a:pt x="5697" y="3326"/>
                          </a:lnTo>
                          <a:lnTo>
                            <a:pt x="5692" y="3344"/>
                          </a:lnTo>
                          <a:lnTo>
                            <a:pt x="5679" y="3357"/>
                          </a:lnTo>
                          <a:lnTo>
                            <a:pt x="5664" y="3372"/>
                          </a:lnTo>
                          <a:lnTo>
                            <a:pt x="5654" y="3375"/>
                          </a:lnTo>
                          <a:lnTo>
                            <a:pt x="5644" y="3380"/>
                          </a:lnTo>
                          <a:lnTo>
                            <a:pt x="5631" y="3382"/>
                          </a:lnTo>
                          <a:lnTo>
                            <a:pt x="5618" y="3387"/>
                          </a:lnTo>
                          <a:lnTo>
                            <a:pt x="5603" y="3387"/>
                          </a:lnTo>
                          <a:lnTo>
                            <a:pt x="5588" y="3390"/>
                          </a:lnTo>
                          <a:lnTo>
                            <a:pt x="5573" y="3392"/>
                          </a:lnTo>
                          <a:lnTo>
                            <a:pt x="5557" y="3395"/>
                          </a:lnTo>
                          <a:lnTo>
                            <a:pt x="5542" y="3395"/>
                          </a:lnTo>
                          <a:lnTo>
                            <a:pt x="5530" y="3400"/>
                          </a:lnTo>
                          <a:lnTo>
                            <a:pt x="5514" y="3402"/>
                          </a:lnTo>
                          <a:lnTo>
                            <a:pt x="5502" y="3410"/>
                          </a:lnTo>
                          <a:lnTo>
                            <a:pt x="5474" y="3418"/>
                          </a:lnTo>
                          <a:lnTo>
                            <a:pt x="5448" y="3428"/>
                          </a:lnTo>
                          <a:lnTo>
                            <a:pt x="5426" y="3440"/>
                          </a:lnTo>
                          <a:lnTo>
                            <a:pt x="5403" y="3458"/>
                          </a:lnTo>
                          <a:lnTo>
                            <a:pt x="5387" y="3473"/>
                          </a:lnTo>
                          <a:lnTo>
                            <a:pt x="5380" y="3496"/>
                          </a:lnTo>
                          <a:lnTo>
                            <a:pt x="5372" y="3519"/>
                          </a:lnTo>
                          <a:lnTo>
                            <a:pt x="5370" y="3542"/>
                          </a:lnTo>
                          <a:lnTo>
                            <a:pt x="5365" y="3565"/>
                          </a:lnTo>
                          <a:lnTo>
                            <a:pt x="5362" y="3588"/>
                          </a:lnTo>
                          <a:lnTo>
                            <a:pt x="5360" y="3613"/>
                          </a:lnTo>
                          <a:lnTo>
                            <a:pt x="5360" y="3638"/>
                          </a:lnTo>
                          <a:lnTo>
                            <a:pt x="5354" y="3659"/>
                          </a:lnTo>
                          <a:lnTo>
                            <a:pt x="5352" y="3681"/>
                          </a:lnTo>
                          <a:lnTo>
                            <a:pt x="5347" y="3702"/>
                          </a:lnTo>
                          <a:lnTo>
                            <a:pt x="5342" y="3724"/>
                          </a:lnTo>
                          <a:lnTo>
                            <a:pt x="5332" y="3742"/>
                          </a:lnTo>
                          <a:lnTo>
                            <a:pt x="5322" y="3760"/>
                          </a:lnTo>
                          <a:lnTo>
                            <a:pt x="5304" y="3773"/>
                          </a:lnTo>
                          <a:lnTo>
                            <a:pt x="5289" y="3788"/>
                          </a:lnTo>
                          <a:lnTo>
                            <a:pt x="5281" y="3770"/>
                          </a:lnTo>
                          <a:lnTo>
                            <a:pt x="5273" y="3760"/>
                          </a:lnTo>
                          <a:lnTo>
                            <a:pt x="5263" y="3750"/>
                          </a:lnTo>
                          <a:lnTo>
                            <a:pt x="5256" y="3745"/>
                          </a:lnTo>
                          <a:lnTo>
                            <a:pt x="5230" y="3740"/>
                          </a:lnTo>
                          <a:lnTo>
                            <a:pt x="5207" y="3745"/>
                          </a:lnTo>
                          <a:lnTo>
                            <a:pt x="5192" y="3745"/>
                          </a:lnTo>
                          <a:lnTo>
                            <a:pt x="5179" y="3750"/>
                          </a:lnTo>
                          <a:lnTo>
                            <a:pt x="5164" y="3755"/>
                          </a:lnTo>
                          <a:lnTo>
                            <a:pt x="5152" y="3760"/>
                          </a:lnTo>
                          <a:lnTo>
                            <a:pt x="5124" y="3765"/>
                          </a:lnTo>
                          <a:lnTo>
                            <a:pt x="5101" y="3770"/>
                          </a:lnTo>
                          <a:lnTo>
                            <a:pt x="5096" y="3785"/>
                          </a:lnTo>
                          <a:lnTo>
                            <a:pt x="5093" y="3801"/>
                          </a:lnTo>
                          <a:lnTo>
                            <a:pt x="5091" y="3813"/>
                          </a:lnTo>
                          <a:lnTo>
                            <a:pt x="5091" y="3828"/>
                          </a:lnTo>
                          <a:lnTo>
                            <a:pt x="5088" y="3854"/>
                          </a:lnTo>
                          <a:lnTo>
                            <a:pt x="5088" y="3879"/>
                          </a:lnTo>
                          <a:lnTo>
                            <a:pt x="5088" y="3902"/>
                          </a:lnTo>
                          <a:lnTo>
                            <a:pt x="5091" y="3927"/>
                          </a:lnTo>
                          <a:lnTo>
                            <a:pt x="5091" y="3940"/>
                          </a:lnTo>
                          <a:lnTo>
                            <a:pt x="5091" y="3953"/>
                          </a:lnTo>
                          <a:lnTo>
                            <a:pt x="5091" y="3968"/>
                          </a:lnTo>
                          <a:lnTo>
                            <a:pt x="5093" y="3986"/>
                          </a:lnTo>
                          <a:lnTo>
                            <a:pt x="5073" y="3988"/>
                          </a:lnTo>
                          <a:lnTo>
                            <a:pt x="5058" y="3993"/>
                          </a:lnTo>
                          <a:lnTo>
                            <a:pt x="5037" y="3998"/>
                          </a:lnTo>
                          <a:lnTo>
                            <a:pt x="5022" y="4003"/>
                          </a:lnTo>
                          <a:lnTo>
                            <a:pt x="5004" y="4006"/>
                          </a:lnTo>
                          <a:lnTo>
                            <a:pt x="4987" y="4011"/>
                          </a:lnTo>
                          <a:lnTo>
                            <a:pt x="4969" y="4014"/>
                          </a:lnTo>
                          <a:lnTo>
                            <a:pt x="4954" y="4019"/>
                          </a:lnTo>
                          <a:lnTo>
                            <a:pt x="4936" y="4021"/>
                          </a:lnTo>
                          <a:lnTo>
                            <a:pt x="4918" y="4026"/>
                          </a:lnTo>
                          <a:lnTo>
                            <a:pt x="4903" y="4031"/>
                          </a:lnTo>
                          <a:lnTo>
                            <a:pt x="4888" y="4039"/>
                          </a:lnTo>
                          <a:lnTo>
                            <a:pt x="4870" y="4044"/>
                          </a:lnTo>
                          <a:lnTo>
                            <a:pt x="4855" y="4054"/>
                          </a:lnTo>
                          <a:lnTo>
                            <a:pt x="4842" y="4062"/>
                          </a:lnTo>
                          <a:lnTo>
                            <a:pt x="4829" y="4077"/>
                          </a:lnTo>
                          <a:lnTo>
                            <a:pt x="4824" y="4092"/>
                          </a:lnTo>
                          <a:lnTo>
                            <a:pt x="4824" y="4112"/>
                          </a:lnTo>
                          <a:lnTo>
                            <a:pt x="4824" y="4130"/>
                          </a:lnTo>
                          <a:lnTo>
                            <a:pt x="4824" y="4150"/>
                          </a:lnTo>
                          <a:lnTo>
                            <a:pt x="4824" y="4168"/>
                          </a:lnTo>
                          <a:lnTo>
                            <a:pt x="4827" y="4188"/>
                          </a:lnTo>
                          <a:lnTo>
                            <a:pt x="4827" y="4209"/>
                          </a:lnTo>
                          <a:lnTo>
                            <a:pt x="4829" y="4232"/>
                          </a:lnTo>
                          <a:lnTo>
                            <a:pt x="4827" y="4249"/>
                          </a:lnTo>
                          <a:lnTo>
                            <a:pt x="4827" y="4267"/>
                          </a:lnTo>
                          <a:lnTo>
                            <a:pt x="4822" y="4285"/>
                          </a:lnTo>
                          <a:lnTo>
                            <a:pt x="4819" y="4303"/>
                          </a:lnTo>
                          <a:lnTo>
                            <a:pt x="4812" y="4318"/>
                          </a:lnTo>
                          <a:lnTo>
                            <a:pt x="4804" y="4333"/>
                          </a:lnTo>
                          <a:lnTo>
                            <a:pt x="4794" y="4348"/>
                          </a:lnTo>
                          <a:lnTo>
                            <a:pt x="4781" y="4363"/>
                          </a:lnTo>
                          <a:lnTo>
                            <a:pt x="4764" y="4361"/>
                          </a:lnTo>
                          <a:lnTo>
                            <a:pt x="4748" y="4361"/>
                          </a:lnTo>
                          <a:lnTo>
                            <a:pt x="4733" y="4363"/>
                          </a:lnTo>
                          <a:lnTo>
                            <a:pt x="4718" y="4368"/>
                          </a:lnTo>
                          <a:lnTo>
                            <a:pt x="4703" y="4374"/>
                          </a:lnTo>
                          <a:lnTo>
                            <a:pt x="4687" y="4379"/>
                          </a:lnTo>
                          <a:lnTo>
                            <a:pt x="4672" y="4384"/>
                          </a:lnTo>
                          <a:lnTo>
                            <a:pt x="4657" y="4391"/>
                          </a:lnTo>
                          <a:lnTo>
                            <a:pt x="4639" y="4396"/>
                          </a:lnTo>
                          <a:lnTo>
                            <a:pt x="4624" y="4404"/>
                          </a:lnTo>
                          <a:lnTo>
                            <a:pt x="4609" y="4409"/>
                          </a:lnTo>
                          <a:lnTo>
                            <a:pt x="4594" y="4417"/>
                          </a:lnTo>
                          <a:lnTo>
                            <a:pt x="4576" y="4422"/>
                          </a:lnTo>
                          <a:lnTo>
                            <a:pt x="4561" y="4427"/>
                          </a:lnTo>
                          <a:lnTo>
                            <a:pt x="4543" y="4429"/>
                          </a:lnTo>
                          <a:lnTo>
                            <a:pt x="4528" y="4434"/>
                          </a:lnTo>
                          <a:lnTo>
                            <a:pt x="4507" y="4452"/>
                          </a:lnTo>
                          <a:lnTo>
                            <a:pt x="4497" y="4478"/>
                          </a:lnTo>
                          <a:lnTo>
                            <a:pt x="4490" y="4488"/>
                          </a:lnTo>
                          <a:lnTo>
                            <a:pt x="4487" y="4500"/>
                          </a:lnTo>
                          <a:lnTo>
                            <a:pt x="4482" y="4516"/>
                          </a:lnTo>
                          <a:lnTo>
                            <a:pt x="4482" y="4531"/>
                          </a:lnTo>
                          <a:lnTo>
                            <a:pt x="4479" y="4546"/>
                          </a:lnTo>
                          <a:lnTo>
                            <a:pt x="4477" y="4561"/>
                          </a:lnTo>
                          <a:lnTo>
                            <a:pt x="4477" y="4576"/>
                          </a:lnTo>
                          <a:lnTo>
                            <a:pt x="4477" y="4592"/>
                          </a:lnTo>
                          <a:lnTo>
                            <a:pt x="4477" y="4607"/>
                          </a:lnTo>
                          <a:lnTo>
                            <a:pt x="4477" y="4622"/>
                          </a:lnTo>
                          <a:lnTo>
                            <a:pt x="4477" y="4637"/>
                          </a:lnTo>
                          <a:lnTo>
                            <a:pt x="4477" y="4652"/>
                          </a:lnTo>
                          <a:lnTo>
                            <a:pt x="4472" y="4678"/>
                          </a:lnTo>
                          <a:lnTo>
                            <a:pt x="4467" y="4706"/>
                          </a:lnTo>
                          <a:lnTo>
                            <a:pt x="4459" y="4729"/>
                          </a:lnTo>
                          <a:lnTo>
                            <a:pt x="4449" y="4754"/>
                          </a:lnTo>
                          <a:lnTo>
                            <a:pt x="4431" y="4772"/>
                          </a:lnTo>
                          <a:lnTo>
                            <a:pt x="4408" y="4787"/>
                          </a:lnTo>
                          <a:lnTo>
                            <a:pt x="4393" y="4789"/>
                          </a:lnTo>
                          <a:lnTo>
                            <a:pt x="4378" y="4794"/>
                          </a:lnTo>
                          <a:lnTo>
                            <a:pt x="4360" y="4797"/>
                          </a:lnTo>
                          <a:lnTo>
                            <a:pt x="4345" y="4802"/>
                          </a:lnTo>
                          <a:lnTo>
                            <a:pt x="4327" y="4800"/>
                          </a:lnTo>
                          <a:lnTo>
                            <a:pt x="4309" y="4800"/>
                          </a:lnTo>
                          <a:lnTo>
                            <a:pt x="4292" y="4802"/>
                          </a:lnTo>
                          <a:lnTo>
                            <a:pt x="4277" y="4807"/>
                          </a:lnTo>
                          <a:lnTo>
                            <a:pt x="4259" y="4810"/>
                          </a:lnTo>
                          <a:lnTo>
                            <a:pt x="4241" y="4815"/>
                          </a:lnTo>
                          <a:lnTo>
                            <a:pt x="4223" y="4817"/>
                          </a:lnTo>
                          <a:lnTo>
                            <a:pt x="4208" y="4822"/>
                          </a:lnTo>
                          <a:lnTo>
                            <a:pt x="4203" y="4838"/>
                          </a:lnTo>
                          <a:lnTo>
                            <a:pt x="4203" y="4858"/>
                          </a:lnTo>
                          <a:lnTo>
                            <a:pt x="4203" y="4873"/>
                          </a:lnTo>
                          <a:lnTo>
                            <a:pt x="4203" y="4893"/>
                          </a:lnTo>
                          <a:lnTo>
                            <a:pt x="4203" y="4911"/>
                          </a:lnTo>
                          <a:lnTo>
                            <a:pt x="4206" y="4929"/>
                          </a:lnTo>
                          <a:lnTo>
                            <a:pt x="4206" y="4947"/>
                          </a:lnTo>
                          <a:lnTo>
                            <a:pt x="4208" y="4967"/>
                          </a:lnTo>
                          <a:lnTo>
                            <a:pt x="4206" y="4982"/>
                          </a:lnTo>
                          <a:lnTo>
                            <a:pt x="4203" y="5000"/>
                          </a:lnTo>
                          <a:lnTo>
                            <a:pt x="4198" y="5015"/>
                          </a:lnTo>
                          <a:lnTo>
                            <a:pt x="4193" y="5030"/>
                          </a:lnTo>
                          <a:lnTo>
                            <a:pt x="4183" y="5040"/>
                          </a:lnTo>
                          <a:lnTo>
                            <a:pt x="4170" y="5053"/>
                          </a:lnTo>
                          <a:lnTo>
                            <a:pt x="4155" y="5063"/>
                          </a:lnTo>
                          <a:lnTo>
                            <a:pt x="4140" y="5076"/>
                          </a:lnTo>
                          <a:lnTo>
                            <a:pt x="4124" y="5078"/>
                          </a:lnTo>
                          <a:lnTo>
                            <a:pt x="4112" y="5083"/>
                          </a:lnTo>
                          <a:lnTo>
                            <a:pt x="4096" y="5089"/>
                          </a:lnTo>
                          <a:lnTo>
                            <a:pt x="4084" y="5094"/>
                          </a:lnTo>
                          <a:lnTo>
                            <a:pt x="4069" y="5096"/>
                          </a:lnTo>
                          <a:lnTo>
                            <a:pt x="4056" y="5104"/>
                          </a:lnTo>
                          <a:lnTo>
                            <a:pt x="4041" y="5106"/>
                          </a:lnTo>
                          <a:lnTo>
                            <a:pt x="4028" y="5114"/>
                          </a:lnTo>
                          <a:lnTo>
                            <a:pt x="4000" y="5122"/>
                          </a:lnTo>
                          <a:lnTo>
                            <a:pt x="3975" y="5132"/>
                          </a:lnTo>
                          <a:lnTo>
                            <a:pt x="3949" y="5147"/>
                          </a:lnTo>
                          <a:lnTo>
                            <a:pt x="3929" y="5167"/>
                          </a:lnTo>
                          <a:lnTo>
                            <a:pt x="3929" y="5180"/>
                          </a:lnTo>
                          <a:lnTo>
                            <a:pt x="3929" y="5195"/>
                          </a:lnTo>
                          <a:lnTo>
                            <a:pt x="3929" y="5210"/>
                          </a:lnTo>
                          <a:lnTo>
                            <a:pt x="3932" y="5225"/>
                          </a:lnTo>
                          <a:lnTo>
                            <a:pt x="3932" y="5241"/>
                          </a:lnTo>
                          <a:lnTo>
                            <a:pt x="3932" y="5256"/>
                          </a:lnTo>
                          <a:lnTo>
                            <a:pt x="3932" y="5271"/>
                          </a:lnTo>
                          <a:lnTo>
                            <a:pt x="3932" y="5289"/>
                          </a:lnTo>
                          <a:lnTo>
                            <a:pt x="3929" y="5302"/>
                          </a:lnTo>
                          <a:lnTo>
                            <a:pt x="3929" y="5317"/>
                          </a:lnTo>
                          <a:lnTo>
                            <a:pt x="3926" y="5332"/>
                          </a:lnTo>
                          <a:lnTo>
                            <a:pt x="3926" y="5347"/>
                          </a:lnTo>
                          <a:lnTo>
                            <a:pt x="3924" y="5360"/>
                          </a:lnTo>
                          <a:lnTo>
                            <a:pt x="3921" y="5375"/>
                          </a:lnTo>
                          <a:lnTo>
                            <a:pt x="3919" y="5388"/>
                          </a:lnTo>
                          <a:lnTo>
                            <a:pt x="3916" y="5403"/>
                          </a:lnTo>
                          <a:lnTo>
                            <a:pt x="3906" y="5426"/>
                          </a:lnTo>
                          <a:lnTo>
                            <a:pt x="3894" y="5451"/>
                          </a:lnTo>
                          <a:lnTo>
                            <a:pt x="3878" y="5471"/>
                          </a:lnTo>
                          <a:lnTo>
                            <a:pt x="3861" y="5489"/>
                          </a:lnTo>
                          <a:lnTo>
                            <a:pt x="3848" y="5494"/>
                          </a:lnTo>
                          <a:lnTo>
                            <a:pt x="3835" y="5502"/>
                          </a:lnTo>
                          <a:lnTo>
                            <a:pt x="3823" y="5507"/>
                          </a:lnTo>
                          <a:lnTo>
                            <a:pt x="3810" y="5515"/>
                          </a:lnTo>
                          <a:lnTo>
                            <a:pt x="3795" y="5517"/>
                          </a:lnTo>
                          <a:lnTo>
                            <a:pt x="3779" y="5520"/>
                          </a:lnTo>
                          <a:lnTo>
                            <a:pt x="3762" y="5522"/>
                          </a:lnTo>
                          <a:lnTo>
                            <a:pt x="3746" y="5525"/>
                          </a:lnTo>
                          <a:lnTo>
                            <a:pt x="3721" y="5522"/>
                          </a:lnTo>
                          <a:lnTo>
                            <a:pt x="3701" y="5522"/>
                          </a:lnTo>
                          <a:lnTo>
                            <a:pt x="3683" y="5525"/>
                          </a:lnTo>
                          <a:lnTo>
                            <a:pt x="3668" y="5530"/>
                          </a:lnTo>
                          <a:lnTo>
                            <a:pt x="3645" y="5542"/>
                          </a:lnTo>
                          <a:lnTo>
                            <a:pt x="3630" y="5565"/>
                          </a:lnTo>
                          <a:lnTo>
                            <a:pt x="3620" y="5588"/>
                          </a:lnTo>
                          <a:lnTo>
                            <a:pt x="3615" y="5616"/>
                          </a:lnTo>
                          <a:lnTo>
                            <a:pt x="3615" y="5631"/>
                          </a:lnTo>
                          <a:lnTo>
                            <a:pt x="3615" y="5646"/>
                          </a:lnTo>
                          <a:lnTo>
                            <a:pt x="3615" y="5664"/>
                          </a:lnTo>
                          <a:lnTo>
                            <a:pt x="3617" y="5682"/>
                          </a:lnTo>
                          <a:lnTo>
                            <a:pt x="3617" y="5697"/>
                          </a:lnTo>
                          <a:lnTo>
                            <a:pt x="3617" y="5712"/>
                          </a:lnTo>
                          <a:lnTo>
                            <a:pt x="3617" y="5728"/>
                          </a:lnTo>
                          <a:lnTo>
                            <a:pt x="3620" y="5745"/>
                          </a:lnTo>
                          <a:lnTo>
                            <a:pt x="3617" y="5760"/>
                          </a:lnTo>
                          <a:lnTo>
                            <a:pt x="3617" y="5776"/>
                          </a:lnTo>
                          <a:lnTo>
                            <a:pt x="3615" y="5791"/>
                          </a:lnTo>
                          <a:lnTo>
                            <a:pt x="3615" y="5809"/>
                          </a:lnTo>
                          <a:lnTo>
                            <a:pt x="3609" y="5821"/>
                          </a:lnTo>
                          <a:lnTo>
                            <a:pt x="3604" y="5837"/>
                          </a:lnTo>
                          <a:lnTo>
                            <a:pt x="3597" y="5847"/>
                          </a:lnTo>
                          <a:lnTo>
                            <a:pt x="3592" y="5859"/>
                          </a:lnTo>
                          <a:lnTo>
                            <a:pt x="3579" y="5867"/>
                          </a:lnTo>
                          <a:lnTo>
                            <a:pt x="3569" y="5877"/>
                          </a:lnTo>
                          <a:lnTo>
                            <a:pt x="3554" y="5885"/>
                          </a:lnTo>
                          <a:lnTo>
                            <a:pt x="3541" y="5892"/>
                          </a:lnTo>
                          <a:lnTo>
                            <a:pt x="3297" y="5928"/>
                          </a:lnTo>
                          <a:lnTo>
                            <a:pt x="3287" y="5943"/>
                          </a:lnTo>
                          <a:lnTo>
                            <a:pt x="3282" y="5961"/>
                          </a:lnTo>
                          <a:lnTo>
                            <a:pt x="3282" y="5981"/>
                          </a:lnTo>
                          <a:lnTo>
                            <a:pt x="3285" y="6004"/>
                          </a:lnTo>
                          <a:lnTo>
                            <a:pt x="3285" y="6024"/>
                          </a:lnTo>
                          <a:lnTo>
                            <a:pt x="3290" y="6047"/>
                          </a:lnTo>
                          <a:lnTo>
                            <a:pt x="3295" y="6067"/>
                          </a:lnTo>
                          <a:lnTo>
                            <a:pt x="3300" y="6090"/>
                          </a:lnTo>
                          <a:lnTo>
                            <a:pt x="3297" y="6108"/>
                          </a:lnTo>
                          <a:lnTo>
                            <a:pt x="3297" y="6126"/>
                          </a:lnTo>
                          <a:lnTo>
                            <a:pt x="3292" y="6143"/>
                          </a:lnTo>
                          <a:lnTo>
                            <a:pt x="3287" y="6161"/>
                          </a:lnTo>
                          <a:lnTo>
                            <a:pt x="3275" y="6174"/>
                          </a:lnTo>
                          <a:lnTo>
                            <a:pt x="3257" y="6184"/>
                          </a:lnTo>
                          <a:lnTo>
                            <a:pt x="3244" y="6186"/>
                          </a:lnTo>
                          <a:lnTo>
                            <a:pt x="3234" y="6192"/>
                          </a:lnTo>
                          <a:lnTo>
                            <a:pt x="3219" y="6194"/>
                          </a:lnTo>
                          <a:lnTo>
                            <a:pt x="3206" y="6199"/>
                          </a:lnTo>
                          <a:lnTo>
                            <a:pt x="3188" y="6199"/>
                          </a:lnTo>
                          <a:lnTo>
                            <a:pt x="3173" y="6202"/>
                          </a:lnTo>
                          <a:lnTo>
                            <a:pt x="3158" y="6209"/>
                          </a:lnTo>
                          <a:lnTo>
                            <a:pt x="3150" y="6222"/>
                          </a:lnTo>
                          <a:lnTo>
                            <a:pt x="3161" y="6242"/>
                          </a:lnTo>
                          <a:lnTo>
                            <a:pt x="3173" y="6265"/>
                          </a:lnTo>
                          <a:lnTo>
                            <a:pt x="3183" y="6288"/>
                          </a:lnTo>
                          <a:lnTo>
                            <a:pt x="3193" y="6313"/>
                          </a:lnTo>
                          <a:lnTo>
                            <a:pt x="3201" y="6336"/>
                          </a:lnTo>
                          <a:lnTo>
                            <a:pt x="3209" y="6359"/>
                          </a:lnTo>
                          <a:lnTo>
                            <a:pt x="3214" y="6384"/>
                          </a:lnTo>
                          <a:lnTo>
                            <a:pt x="3221" y="6412"/>
                          </a:lnTo>
                          <a:lnTo>
                            <a:pt x="3224" y="6435"/>
                          </a:lnTo>
                          <a:lnTo>
                            <a:pt x="3226" y="6463"/>
                          </a:lnTo>
                          <a:lnTo>
                            <a:pt x="3229" y="6488"/>
                          </a:lnTo>
                          <a:lnTo>
                            <a:pt x="3232" y="6516"/>
                          </a:lnTo>
                          <a:lnTo>
                            <a:pt x="3232" y="6541"/>
                          </a:lnTo>
                          <a:lnTo>
                            <a:pt x="3234" y="6569"/>
                          </a:lnTo>
                          <a:lnTo>
                            <a:pt x="3234" y="6582"/>
                          </a:lnTo>
                          <a:lnTo>
                            <a:pt x="3237" y="6595"/>
                          </a:lnTo>
                          <a:lnTo>
                            <a:pt x="3237" y="6610"/>
                          </a:lnTo>
                          <a:lnTo>
                            <a:pt x="3239" y="6625"/>
                          </a:lnTo>
                          <a:lnTo>
                            <a:pt x="3229" y="6645"/>
                          </a:lnTo>
                          <a:lnTo>
                            <a:pt x="3219" y="6668"/>
                          </a:lnTo>
                          <a:lnTo>
                            <a:pt x="3209" y="6691"/>
                          </a:lnTo>
                          <a:lnTo>
                            <a:pt x="3201" y="6714"/>
                          </a:lnTo>
                          <a:lnTo>
                            <a:pt x="3191" y="6734"/>
                          </a:lnTo>
                          <a:lnTo>
                            <a:pt x="3183" y="6757"/>
                          </a:lnTo>
                          <a:lnTo>
                            <a:pt x="3173" y="6780"/>
                          </a:lnTo>
                          <a:lnTo>
                            <a:pt x="3166" y="6803"/>
                          </a:lnTo>
                          <a:lnTo>
                            <a:pt x="3153" y="6823"/>
                          </a:lnTo>
                          <a:lnTo>
                            <a:pt x="3143" y="6843"/>
                          </a:lnTo>
                          <a:lnTo>
                            <a:pt x="3130" y="6866"/>
                          </a:lnTo>
                          <a:lnTo>
                            <a:pt x="3120" y="6889"/>
                          </a:lnTo>
                          <a:lnTo>
                            <a:pt x="3107" y="6909"/>
                          </a:lnTo>
                          <a:lnTo>
                            <a:pt x="3097" y="6929"/>
                          </a:lnTo>
                          <a:lnTo>
                            <a:pt x="3087" y="6952"/>
                          </a:lnTo>
                          <a:lnTo>
                            <a:pt x="3077" y="6975"/>
                          </a:lnTo>
                          <a:lnTo>
                            <a:pt x="3062" y="6995"/>
                          </a:lnTo>
                          <a:lnTo>
                            <a:pt x="3051" y="7016"/>
                          </a:lnTo>
                          <a:lnTo>
                            <a:pt x="3036" y="7036"/>
                          </a:lnTo>
                          <a:lnTo>
                            <a:pt x="3026" y="7059"/>
                          </a:lnTo>
                          <a:lnTo>
                            <a:pt x="3013" y="7079"/>
                          </a:lnTo>
                          <a:lnTo>
                            <a:pt x="3001" y="7099"/>
                          </a:lnTo>
                          <a:lnTo>
                            <a:pt x="2988" y="7122"/>
                          </a:lnTo>
                          <a:lnTo>
                            <a:pt x="2978" y="7145"/>
                          </a:lnTo>
                          <a:lnTo>
                            <a:pt x="2963" y="7165"/>
                          </a:lnTo>
                          <a:lnTo>
                            <a:pt x="2950" y="7185"/>
                          </a:lnTo>
                          <a:lnTo>
                            <a:pt x="2937" y="7206"/>
                          </a:lnTo>
                          <a:lnTo>
                            <a:pt x="2927" y="7229"/>
                          </a:lnTo>
                          <a:lnTo>
                            <a:pt x="2912" y="7249"/>
                          </a:lnTo>
                          <a:lnTo>
                            <a:pt x="2899" y="7269"/>
                          </a:lnTo>
                          <a:lnTo>
                            <a:pt x="2887" y="7292"/>
                          </a:lnTo>
                          <a:lnTo>
                            <a:pt x="2876" y="7315"/>
                          </a:lnTo>
                          <a:lnTo>
                            <a:pt x="2876" y="7332"/>
                          </a:lnTo>
                          <a:lnTo>
                            <a:pt x="2876" y="7348"/>
                          </a:lnTo>
                          <a:lnTo>
                            <a:pt x="2869" y="7358"/>
                          </a:lnTo>
                          <a:lnTo>
                            <a:pt x="2864" y="7371"/>
                          </a:lnTo>
                          <a:lnTo>
                            <a:pt x="2851" y="7378"/>
                          </a:lnTo>
                          <a:lnTo>
                            <a:pt x="2843" y="7388"/>
                          </a:lnTo>
                          <a:lnTo>
                            <a:pt x="2833" y="7401"/>
                          </a:lnTo>
                          <a:lnTo>
                            <a:pt x="2828" y="7419"/>
                          </a:lnTo>
                          <a:lnTo>
                            <a:pt x="2818" y="7434"/>
                          </a:lnTo>
                          <a:lnTo>
                            <a:pt x="2808" y="7454"/>
                          </a:lnTo>
                          <a:lnTo>
                            <a:pt x="2798" y="7469"/>
                          </a:lnTo>
                          <a:lnTo>
                            <a:pt x="2790" y="7490"/>
                          </a:lnTo>
                          <a:lnTo>
                            <a:pt x="2780" y="7507"/>
                          </a:lnTo>
                          <a:lnTo>
                            <a:pt x="2770" y="7525"/>
                          </a:lnTo>
                          <a:lnTo>
                            <a:pt x="2760" y="7543"/>
                          </a:lnTo>
                          <a:lnTo>
                            <a:pt x="2752" y="7563"/>
                          </a:lnTo>
                          <a:lnTo>
                            <a:pt x="2739" y="7578"/>
                          </a:lnTo>
                          <a:lnTo>
                            <a:pt x="2729" y="7599"/>
                          </a:lnTo>
                          <a:lnTo>
                            <a:pt x="2719" y="7614"/>
                          </a:lnTo>
                          <a:lnTo>
                            <a:pt x="2709" y="7634"/>
                          </a:lnTo>
                          <a:lnTo>
                            <a:pt x="2696" y="7649"/>
                          </a:lnTo>
                          <a:lnTo>
                            <a:pt x="2686" y="7670"/>
                          </a:lnTo>
                          <a:lnTo>
                            <a:pt x="2674" y="7685"/>
                          </a:lnTo>
                          <a:lnTo>
                            <a:pt x="2663" y="7705"/>
                          </a:lnTo>
                          <a:lnTo>
                            <a:pt x="2648" y="7720"/>
                          </a:lnTo>
                          <a:lnTo>
                            <a:pt x="2635" y="7738"/>
                          </a:lnTo>
                          <a:lnTo>
                            <a:pt x="2623" y="7753"/>
                          </a:lnTo>
                          <a:lnTo>
                            <a:pt x="2610" y="7771"/>
                          </a:lnTo>
                          <a:lnTo>
                            <a:pt x="2597" y="7786"/>
                          </a:lnTo>
                          <a:lnTo>
                            <a:pt x="2585" y="7804"/>
                          </a:lnTo>
                          <a:lnTo>
                            <a:pt x="2572" y="7819"/>
                          </a:lnTo>
                          <a:lnTo>
                            <a:pt x="2559" y="7837"/>
                          </a:lnTo>
                          <a:lnTo>
                            <a:pt x="2544" y="7852"/>
                          </a:lnTo>
                          <a:lnTo>
                            <a:pt x="2529" y="7867"/>
                          </a:lnTo>
                          <a:lnTo>
                            <a:pt x="2514" y="7883"/>
                          </a:lnTo>
                          <a:lnTo>
                            <a:pt x="2501" y="7898"/>
                          </a:lnTo>
                          <a:lnTo>
                            <a:pt x="2486" y="7913"/>
                          </a:lnTo>
                          <a:lnTo>
                            <a:pt x="2471" y="7928"/>
                          </a:lnTo>
                          <a:lnTo>
                            <a:pt x="2455" y="7944"/>
                          </a:lnTo>
                          <a:lnTo>
                            <a:pt x="2443" y="7961"/>
                          </a:lnTo>
                          <a:lnTo>
                            <a:pt x="2425" y="7974"/>
                          </a:lnTo>
                          <a:lnTo>
                            <a:pt x="2410" y="7989"/>
                          </a:lnTo>
                          <a:lnTo>
                            <a:pt x="2395" y="8002"/>
                          </a:lnTo>
                          <a:lnTo>
                            <a:pt x="2379" y="8017"/>
                          </a:lnTo>
                          <a:lnTo>
                            <a:pt x="2362" y="8030"/>
                          </a:lnTo>
                          <a:lnTo>
                            <a:pt x="2346" y="8045"/>
                          </a:lnTo>
                          <a:lnTo>
                            <a:pt x="2329" y="8058"/>
                          </a:lnTo>
                          <a:lnTo>
                            <a:pt x="2313" y="8073"/>
                          </a:lnTo>
                          <a:lnTo>
                            <a:pt x="2296" y="8083"/>
                          </a:lnTo>
                          <a:lnTo>
                            <a:pt x="2278" y="8098"/>
                          </a:lnTo>
                          <a:lnTo>
                            <a:pt x="2260" y="8108"/>
                          </a:lnTo>
                          <a:lnTo>
                            <a:pt x="2245" y="8124"/>
                          </a:lnTo>
                          <a:lnTo>
                            <a:pt x="2227" y="8134"/>
                          </a:lnTo>
                          <a:lnTo>
                            <a:pt x="2212" y="8149"/>
                          </a:lnTo>
                          <a:lnTo>
                            <a:pt x="2194" y="8159"/>
                          </a:lnTo>
                          <a:lnTo>
                            <a:pt x="2179" y="8174"/>
                          </a:lnTo>
                          <a:lnTo>
                            <a:pt x="2159" y="8184"/>
                          </a:lnTo>
                          <a:lnTo>
                            <a:pt x="2141" y="8195"/>
                          </a:lnTo>
                          <a:lnTo>
                            <a:pt x="2123" y="8205"/>
                          </a:lnTo>
                          <a:lnTo>
                            <a:pt x="2105" y="8217"/>
                          </a:lnTo>
                          <a:lnTo>
                            <a:pt x="2085" y="8228"/>
                          </a:lnTo>
                          <a:lnTo>
                            <a:pt x="2070" y="8238"/>
                          </a:lnTo>
                          <a:lnTo>
                            <a:pt x="2050" y="8248"/>
                          </a:lnTo>
                          <a:lnTo>
                            <a:pt x="2034" y="8260"/>
                          </a:lnTo>
                          <a:lnTo>
                            <a:pt x="2014" y="8268"/>
                          </a:lnTo>
                          <a:lnTo>
                            <a:pt x="1996" y="8278"/>
                          </a:lnTo>
                          <a:lnTo>
                            <a:pt x="1976" y="8288"/>
                          </a:lnTo>
                          <a:lnTo>
                            <a:pt x="1958" y="8299"/>
                          </a:lnTo>
                          <a:lnTo>
                            <a:pt x="1938" y="8306"/>
                          </a:lnTo>
                          <a:lnTo>
                            <a:pt x="1920" y="8316"/>
                          </a:lnTo>
                          <a:lnTo>
                            <a:pt x="1902" y="8326"/>
                          </a:lnTo>
                          <a:lnTo>
                            <a:pt x="1885" y="8337"/>
                          </a:lnTo>
                          <a:lnTo>
                            <a:pt x="1862" y="8337"/>
                          </a:lnTo>
                          <a:lnTo>
                            <a:pt x="1839" y="8342"/>
                          </a:lnTo>
                          <a:lnTo>
                            <a:pt x="1816" y="8344"/>
                          </a:lnTo>
                          <a:lnTo>
                            <a:pt x="1793" y="8349"/>
                          </a:lnTo>
                          <a:lnTo>
                            <a:pt x="1771" y="8349"/>
                          </a:lnTo>
                          <a:lnTo>
                            <a:pt x="1748" y="8354"/>
                          </a:lnTo>
                          <a:lnTo>
                            <a:pt x="1725" y="8357"/>
                          </a:lnTo>
                          <a:lnTo>
                            <a:pt x="1702" y="8362"/>
                          </a:lnTo>
                          <a:lnTo>
                            <a:pt x="1677" y="8364"/>
                          </a:lnTo>
                          <a:lnTo>
                            <a:pt x="1654" y="8367"/>
                          </a:lnTo>
                          <a:lnTo>
                            <a:pt x="1629" y="8370"/>
                          </a:lnTo>
                          <a:lnTo>
                            <a:pt x="1606" y="8375"/>
                          </a:lnTo>
                          <a:lnTo>
                            <a:pt x="1580" y="8375"/>
                          </a:lnTo>
                          <a:lnTo>
                            <a:pt x="1557" y="8377"/>
                          </a:lnTo>
                          <a:lnTo>
                            <a:pt x="1535" y="8377"/>
                          </a:lnTo>
                          <a:lnTo>
                            <a:pt x="1512" y="8380"/>
                          </a:lnTo>
                          <a:lnTo>
                            <a:pt x="1486" y="8377"/>
                          </a:lnTo>
                          <a:lnTo>
                            <a:pt x="1464" y="8377"/>
                          </a:lnTo>
                          <a:lnTo>
                            <a:pt x="1441" y="8375"/>
                          </a:lnTo>
                          <a:lnTo>
                            <a:pt x="1418" y="8375"/>
                          </a:lnTo>
                          <a:lnTo>
                            <a:pt x="1395" y="8370"/>
                          </a:lnTo>
                          <a:lnTo>
                            <a:pt x="1372" y="8364"/>
                          </a:lnTo>
                          <a:lnTo>
                            <a:pt x="1350" y="8359"/>
                          </a:lnTo>
                          <a:lnTo>
                            <a:pt x="1329" y="8357"/>
                          </a:lnTo>
                          <a:lnTo>
                            <a:pt x="1306" y="8347"/>
                          </a:lnTo>
                          <a:lnTo>
                            <a:pt x="1284" y="8339"/>
                          </a:lnTo>
                          <a:lnTo>
                            <a:pt x="1261" y="8329"/>
                          </a:lnTo>
                          <a:lnTo>
                            <a:pt x="1240" y="8321"/>
                          </a:lnTo>
                          <a:lnTo>
                            <a:pt x="1218" y="8309"/>
                          </a:lnTo>
                          <a:lnTo>
                            <a:pt x="1200" y="8296"/>
                          </a:lnTo>
                          <a:lnTo>
                            <a:pt x="1180" y="8281"/>
                          </a:lnTo>
                          <a:lnTo>
                            <a:pt x="1162" y="8266"/>
                          </a:lnTo>
                          <a:lnTo>
                            <a:pt x="1147" y="8250"/>
                          </a:lnTo>
                          <a:lnTo>
                            <a:pt x="1131" y="8238"/>
                          </a:lnTo>
                          <a:lnTo>
                            <a:pt x="1119" y="8222"/>
                          </a:lnTo>
                          <a:lnTo>
                            <a:pt x="1106" y="8210"/>
                          </a:lnTo>
                          <a:lnTo>
                            <a:pt x="1078" y="8182"/>
                          </a:lnTo>
                          <a:lnTo>
                            <a:pt x="1053" y="8157"/>
                          </a:lnTo>
                          <a:lnTo>
                            <a:pt x="1038" y="8141"/>
                          </a:lnTo>
                          <a:lnTo>
                            <a:pt x="1027" y="8126"/>
                          </a:lnTo>
                          <a:lnTo>
                            <a:pt x="1015" y="8113"/>
                          </a:lnTo>
                          <a:lnTo>
                            <a:pt x="1005" y="8101"/>
                          </a:lnTo>
                          <a:lnTo>
                            <a:pt x="992" y="8086"/>
                          </a:lnTo>
                          <a:lnTo>
                            <a:pt x="982" y="8070"/>
                          </a:lnTo>
                          <a:lnTo>
                            <a:pt x="969" y="8058"/>
                          </a:lnTo>
                          <a:lnTo>
                            <a:pt x="959" y="8045"/>
                          </a:lnTo>
                          <a:lnTo>
                            <a:pt x="944" y="8030"/>
                          </a:lnTo>
                          <a:lnTo>
                            <a:pt x="934" y="8015"/>
                          </a:lnTo>
                          <a:lnTo>
                            <a:pt x="921" y="7999"/>
                          </a:lnTo>
                          <a:lnTo>
                            <a:pt x="911" y="7987"/>
                          </a:lnTo>
                          <a:lnTo>
                            <a:pt x="898" y="7971"/>
                          </a:lnTo>
                          <a:lnTo>
                            <a:pt x="888" y="7956"/>
                          </a:lnTo>
                          <a:lnTo>
                            <a:pt x="875" y="7941"/>
                          </a:lnTo>
                          <a:lnTo>
                            <a:pt x="868" y="7928"/>
                          </a:lnTo>
                          <a:lnTo>
                            <a:pt x="855" y="7913"/>
                          </a:lnTo>
                          <a:lnTo>
                            <a:pt x="845" y="7898"/>
                          </a:lnTo>
                          <a:lnTo>
                            <a:pt x="835" y="7883"/>
                          </a:lnTo>
                          <a:lnTo>
                            <a:pt x="824" y="7870"/>
                          </a:lnTo>
                          <a:lnTo>
                            <a:pt x="814" y="7855"/>
                          </a:lnTo>
                          <a:lnTo>
                            <a:pt x="804" y="7842"/>
                          </a:lnTo>
                          <a:lnTo>
                            <a:pt x="794" y="7827"/>
                          </a:lnTo>
                          <a:lnTo>
                            <a:pt x="786" y="7814"/>
                          </a:lnTo>
                          <a:lnTo>
                            <a:pt x="774" y="7799"/>
                          </a:lnTo>
                          <a:lnTo>
                            <a:pt x="764" y="7784"/>
                          </a:lnTo>
                          <a:lnTo>
                            <a:pt x="753" y="7769"/>
                          </a:lnTo>
                          <a:lnTo>
                            <a:pt x="743" y="7753"/>
                          </a:lnTo>
                          <a:lnTo>
                            <a:pt x="731" y="7738"/>
                          </a:lnTo>
                          <a:lnTo>
                            <a:pt x="723" y="7723"/>
                          </a:lnTo>
                          <a:lnTo>
                            <a:pt x="710" y="7708"/>
                          </a:lnTo>
                          <a:lnTo>
                            <a:pt x="703" y="7695"/>
                          </a:lnTo>
                          <a:lnTo>
                            <a:pt x="690" y="7680"/>
                          </a:lnTo>
                          <a:lnTo>
                            <a:pt x="680" y="7665"/>
                          </a:lnTo>
                          <a:lnTo>
                            <a:pt x="670" y="7649"/>
                          </a:lnTo>
                          <a:lnTo>
                            <a:pt x="662" y="7634"/>
                          </a:lnTo>
                          <a:lnTo>
                            <a:pt x="649" y="7619"/>
                          </a:lnTo>
                          <a:lnTo>
                            <a:pt x="639" y="7604"/>
                          </a:lnTo>
                          <a:lnTo>
                            <a:pt x="629" y="7589"/>
                          </a:lnTo>
                          <a:lnTo>
                            <a:pt x="622" y="7576"/>
                          </a:lnTo>
                          <a:lnTo>
                            <a:pt x="609" y="7561"/>
                          </a:lnTo>
                          <a:lnTo>
                            <a:pt x="599" y="7545"/>
                          </a:lnTo>
                          <a:lnTo>
                            <a:pt x="589" y="7530"/>
                          </a:lnTo>
                          <a:lnTo>
                            <a:pt x="578" y="7518"/>
                          </a:lnTo>
                          <a:lnTo>
                            <a:pt x="566" y="7502"/>
                          </a:lnTo>
                          <a:lnTo>
                            <a:pt x="558" y="7487"/>
                          </a:lnTo>
                          <a:lnTo>
                            <a:pt x="545" y="7472"/>
                          </a:lnTo>
                          <a:lnTo>
                            <a:pt x="538" y="7459"/>
                          </a:lnTo>
                          <a:lnTo>
                            <a:pt x="525" y="7444"/>
                          </a:lnTo>
                          <a:lnTo>
                            <a:pt x="515" y="7429"/>
                          </a:lnTo>
                          <a:lnTo>
                            <a:pt x="502" y="7414"/>
                          </a:lnTo>
                          <a:lnTo>
                            <a:pt x="492" y="7401"/>
                          </a:lnTo>
                          <a:lnTo>
                            <a:pt x="469" y="7373"/>
                          </a:lnTo>
                          <a:lnTo>
                            <a:pt x="449" y="7348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" name=""/>
                    <p:cNvSpPr/>
                    <p:nvPr/>
                  </p:nvSpPr>
                  <p:spPr>
                    <a:xfrm>
                      <a:off x="782640" y="7084440"/>
                      <a:ext cx="45360" cy="103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8" h="745">
                          <a:moveTo>
                            <a:pt x="388" y="745"/>
                          </a:moveTo>
                          <a:lnTo>
                            <a:pt x="375" y="720"/>
                          </a:lnTo>
                          <a:lnTo>
                            <a:pt x="365" y="695"/>
                          </a:lnTo>
                          <a:lnTo>
                            <a:pt x="355" y="669"/>
                          </a:lnTo>
                          <a:lnTo>
                            <a:pt x="345" y="647"/>
                          </a:lnTo>
                          <a:lnTo>
                            <a:pt x="332" y="621"/>
                          </a:lnTo>
                          <a:lnTo>
                            <a:pt x="324" y="596"/>
                          </a:lnTo>
                          <a:lnTo>
                            <a:pt x="312" y="573"/>
                          </a:lnTo>
                          <a:lnTo>
                            <a:pt x="304" y="550"/>
                          </a:lnTo>
                          <a:lnTo>
                            <a:pt x="291" y="525"/>
                          </a:lnTo>
                          <a:lnTo>
                            <a:pt x="281" y="500"/>
                          </a:lnTo>
                          <a:lnTo>
                            <a:pt x="271" y="474"/>
                          </a:lnTo>
                          <a:lnTo>
                            <a:pt x="261" y="451"/>
                          </a:lnTo>
                          <a:lnTo>
                            <a:pt x="248" y="426"/>
                          </a:lnTo>
                          <a:lnTo>
                            <a:pt x="238" y="403"/>
                          </a:lnTo>
                          <a:lnTo>
                            <a:pt x="228" y="380"/>
                          </a:lnTo>
                          <a:lnTo>
                            <a:pt x="218" y="358"/>
                          </a:lnTo>
                          <a:lnTo>
                            <a:pt x="203" y="332"/>
                          </a:lnTo>
                          <a:lnTo>
                            <a:pt x="192" y="309"/>
                          </a:lnTo>
                          <a:lnTo>
                            <a:pt x="177" y="284"/>
                          </a:lnTo>
                          <a:lnTo>
                            <a:pt x="167" y="261"/>
                          </a:lnTo>
                          <a:lnTo>
                            <a:pt x="152" y="238"/>
                          </a:lnTo>
                          <a:lnTo>
                            <a:pt x="142" y="216"/>
                          </a:lnTo>
                          <a:lnTo>
                            <a:pt x="127" y="193"/>
                          </a:lnTo>
                          <a:lnTo>
                            <a:pt x="116" y="170"/>
                          </a:lnTo>
                          <a:lnTo>
                            <a:pt x="101" y="147"/>
                          </a:lnTo>
                          <a:lnTo>
                            <a:pt x="88" y="124"/>
                          </a:lnTo>
                          <a:lnTo>
                            <a:pt x="73" y="101"/>
                          </a:lnTo>
                          <a:lnTo>
                            <a:pt x="61" y="81"/>
                          </a:lnTo>
                          <a:lnTo>
                            <a:pt x="45" y="58"/>
                          </a:lnTo>
                          <a:lnTo>
                            <a:pt x="30" y="38"/>
                          </a:lnTo>
                          <a:lnTo>
                            <a:pt x="15" y="18"/>
                          </a:lnTo>
                          <a:lnTo>
                            <a:pt x="0" y="0"/>
                          </a:lnTo>
                          <a:lnTo>
                            <a:pt x="2" y="23"/>
                          </a:lnTo>
                          <a:lnTo>
                            <a:pt x="7" y="51"/>
                          </a:lnTo>
                          <a:lnTo>
                            <a:pt x="12" y="74"/>
                          </a:lnTo>
                          <a:lnTo>
                            <a:pt x="20" y="101"/>
                          </a:lnTo>
                          <a:lnTo>
                            <a:pt x="28" y="124"/>
                          </a:lnTo>
                          <a:lnTo>
                            <a:pt x="35" y="150"/>
                          </a:lnTo>
                          <a:lnTo>
                            <a:pt x="43" y="175"/>
                          </a:lnTo>
                          <a:lnTo>
                            <a:pt x="56" y="200"/>
                          </a:lnTo>
                          <a:lnTo>
                            <a:pt x="63" y="223"/>
                          </a:lnTo>
                          <a:lnTo>
                            <a:pt x="73" y="249"/>
                          </a:lnTo>
                          <a:lnTo>
                            <a:pt x="83" y="271"/>
                          </a:lnTo>
                          <a:lnTo>
                            <a:pt x="99" y="297"/>
                          </a:lnTo>
                          <a:lnTo>
                            <a:pt x="109" y="320"/>
                          </a:lnTo>
                          <a:lnTo>
                            <a:pt x="121" y="342"/>
                          </a:lnTo>
                          <a:lnTo>
                            <a:pt x="134" y="365"/>
                          </a:lnTo>
                          <a:lnTo>
                            <a:pt x="149" y="391"/>
                          </a:lnTo>
                          <a:lnTo>
                            <a:pt x="162" y="411"/>
                          </a:lnTo>
                          <a:lnTo>
                            <a:pt x="175" y="434"/>
                          </a:lnTo>
                          <a:lnTo>
                            <a:pt x="187" y="456"/>
                          </a:lnTo>
                          <a:lnTo>
                            <a:pt x="203" y="479"/>
                          </a:lnTo>
                          <a:lnTo>
                            <a:pt x="218" y="502"/>
                          </a:lnTo>
                          <a:lnTo>
                            <a:pt x="233" y="525"/>
                          </a:lnTo>
                          <a:lnTo>
                            <a:pt x="248" y="548"/>
                          </a:lnTo>
                          <a:lnTo>
                            <a:pt x="263" y="571"/>
                          </a:lnTo>
                          <a:lnTo>
                            <a:pt x="279" y="591"/>
                          </a:lnTo>
                          <a:lnTo>
                            <a:pt x="294" y="614"/>
                          </a:lnTo>
                          <a:lnTo>
                            <a:pt x="309" y="634"/>
                          </a:lnTo>
                          <a:lnTo>
                            <a:pt x="324" y="657"/>
                          </a:lnTo>
                          <a:lnTo>
                            <a:pt x="340" y="677"/>
                          </a:lnTo>
                          <a:lnTo>
                            <a:pt x="355" y="700"/>
                          </a:lnTo>
                          <a:lnTo>
                            <a:pt x="370" y="723"/>
                          </a:lnTo>
                          <a:lnTo>
                            <a:pt x="388" y="74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8" name=""/>
                    <p:cNvSpPr/>
                    <p:nvPr/>
                  </p:nvSpPr>
                  <p:spPr>
                    <a:xfrm>
                      <a:off x="685440" y="6850080"/>
                      <a:ext cx="337680" cy="522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69" h="3761">
                          <a:moveTo>
                            <a:pt x="1180" y="3684"/>
                          </a:moveTo>
                          <a:lnTo>
                            <a:pt x="1121" y="3684"/>
                          </a:lnTo>
                          <a:lnTo>
                            <a:pt x="1099" y="3664"/>
                          </a:lnTo>
                          <a:lnTo>
                            <a:pt x="1078" y="3646"/>
                          </a:lnTo>
                          <a:lnTo>
                            <a:pt x="1058" y="3626"/>
                          </a:lnTo>
                          <a:lnTo>
                            <a:pt x="1040" y="3608"/>
                          </a:lnTo>
                          <a:lnTo>
                            <a:pt x="1020" y="3588"/>
                          </a:lnTo>
                          <a:lnTo>
                            <a:pt x="1002" y="3570"/>
                          </a:lnTo>
                          <a:lnTo>
                            <a:pt x="982" y="3550"/>
                          </a:lnTo>
                          <a:lnTo>
                            <a:pt x="967" y="3532"/>
                          </a:lnTo>
                          <a:lnTo>
                            <a:pt x="946" y="3510"/>
                          </a:lnTo>
                          <a:lnTo>
                            <a:pt x="929" y="3492"/>
                          </a:lnTo>
                          <a:lnTo>
                            <a:pt x="908" y="3469"/>
                          </a:lnTo>
                          <a:lnTo>
                            <a:pt x="893" y="3451"/>
                          </a:lnTo>
                          <a:lnTo>
                            <a:pt x="875" y="3431"/>
                          </a:lnTo>
                          <a:lnTo>
                            <a:pt x="858" y="3411"/>
                          </a:lnTo>
                          <a:lnTo>
                            <a:pt x="842" y="3390"/>
                          </a:lnTo>
                          <a:lnTo>
                            <a:pt x="827" y="3373"/>
                          </a:lnTo>
                          <a:lnTo>
                            <a:pt x="809" y="3350"/>
                          </a:lnTo>
                          <a:lnTo>
                            <a:pt x="794" y="3330"/>
                          </a:lnTo>
                          <a:lnTo>
                            <a:pt x="777" y="3309"/>
                          </a:lnTo>
                          <a:lnTo>
                            <a:pt x="761" y="3289"/>
                          </a:lnTo>
                          <a:lnTo>
                            <a:pt x="746" y="3266"/>
                          </a:lnTo>
                          <a:lnTo>
                            <a:pt x="731" y="3246"/>
                          </a:lnTo>
                          <a:lnTo>
                            <a:pt x="716" y="3226"/>
                          </a:lnTo>
                          <a:lnTo>
                            <a:pt x="703" y="3205"/>
                          </a:lnTo>
                          <a:lnTo>
                            <a:pt x="688" y="3182"/>
                          </a:lnTo>
                          <a:lnTo>
                            <a:pt x="673" y="3160"/>
                          </a:lnTo>
                          <a:lnTo>
                            <a:pt x="657" y="3139"/>
                          </a:lnTo>
                          <a:lnTo>
                            <a:pt x="642" y="3119"/>
                          </a:lnTo>
                          <a:lnTo>
                            <a:pt x="627" y="3096"/>
                          </a:lnTo>
                          <a:lnTo>
                            <a:pt x="614" y="3073"/>
                          </a:lnTo>
                          <a:lnTo>
                            <a:pt x="601" y="3053"/>
                          </a:lnTo>
                          <a:lnTo>
                            <a:pt x="589" y="3033"/>
                          </a:lnTo>
                          <a:lnTo>
                            <a:pt x="574" y="3010"/>
                          </a:lnTo>
                          <a:lnTo>
                            <a:pt x="558" y="2987"/>
                          </a:lnTo>
                          <a:lnTo>
                            <a:pt x="543" y="2964"/>
                          </a:lnTo>
                          <a:lnTo>
                            <a:pt x="530" y="2944"/>
                          </a:lnTo>
                          <a:lnTo>
                            <a:pt x="515" y="2921"/>
                          </a:lnTo>
                          <a:lnTo>
                            <a:pt x="503" y="2898"/>
                          </a:lnTo>
                          <a:lnTo>
                            <a:pt x="490" y="2876"/>
                          </a:lnTo>
                          <a:lnTo>
                            <a:pt x="477" y="2855"/>
                          </a:lnTo>
                          <a:lnTo>
                            <a:pt x="462" y="2833"/>
                          </a:lnTo>
                          <a:lnTo>
                            <a:pt x="449" y="2810"/>
                          </a:lnTo>
                          <a:lnTo>
                            <a:pt x="437" y="2787"/>
                          </a:lnTo>
                          <a:lnTo>
                            <a:pt x="424" y="2767"/>
                          </a:lnTo>
                          <a:lnTo>
                            <a:pt x="409" y="2744"/>
                          </a:lnTo>
                          <a:lnTo>
                            <a:pt x="396" y="2721"/>
                          </a:lnTo>
                          <a:lnTo>
                            <a:pt x="383" y="2698"/>
                          </a:lnTo>
                          <a:lnTo>
                            <a:pt x="371" y="2678"/>
                          </a:lnTo>
                          <a:lnTo>
                            <a:pt x="355" y="2655"/>
                          </a:lnTo>
                          <a:lnTo>
                            <a:pt x="340" y="2632"/>
                          </a:lnTo>
                          <a:lnTo>
                            <a:pt x="328" y="2609"/>
                          </a:lnTo>
                          <a:lnTo>
                            <a:pt x="315" y="2587"/>
                          </a:lnTo>
                          <a:lnTo>
                            <a:pt x="300" y="2564"/>
                          </a:lnTo>
                          <a:lnTo>
                            <a:pt x="284" y="2544"/>
                          </a:lnTo>
                          <a:lnTo>
                            <a:pt x="272" y="2521"/>
                          </a:lnTo>
                          <a:lnTo>
                            <a:pt x="259" y="2500"/>
                          </a:lnTo>
                          <a:lnTo>
                            <a:pt x="244" y="2478"/>
                          </a:lnTo>
                          <a:lnTo>
                            <a:pt x="229" y="2455"/>
                          </a:lnTo>
                          <a:lnTo>
                            <a:pt x="213" y="2434"/>
                          </a:lnTo>
                          <a:lnTo>
                            <a:pt x="201" y="2414"/>
                          </a:lnTo>
                          <a:lnTo>
                            <a:pt x="186" y="2391"/>
                          </a:lnTo>
                          <a:lnTo>
                            <a:pt x="173" y="2371"/>
                          </a:lnTo>
                          <a:lnTo>
                            <a:pt x="158" y="2351"/>
                          </a:lnTo>
                          <a:lnTo>
                            <a:pt x="145" y="2331"/>
                          </a:lnTo>
                          <a:lnTo>
                            <a:pt x="135" y="2315"/>
                          </a:lnTo>
                          <a:lnTo>
                            <a:pt x="127" y="2303"/>
                          </a:lnTo>
                          <a:lnTo>
                            <a:pt x="120" y="2287"/>
                          </a:lnTo>
                          <a:lnTo>
                            <a:pt x="112" y="2275"/>
                          </a:lnTo>
                          <a:lnTo>
                            <a:pt x="104" y="2260"/>
                          </a:lnTo>
                          <a:lnTo>
                            <a:pt x="97" y="2247"/>
                          </a:lnTo>
                          <a:lnTo>
                            <a:pt x="92" y="2232"/>
                          </a:lnTo>
                          <a:lnTo>
                            <a:pt x="87" y="2219"/>
                          </a:lnTo>
                          <a:lnTo>
                            <a:pt x="79" y="2204"/>
                          </a:lnTo>
                          <a:lnTo>
                            <a:pt x="71" y="2189"/>
                          </a:lnTo>
                          <a:lnTo>
                            <a:pt x="66" y="2173"/>
                          </a:lnTo>
                          <a:lnTo>
                            <a:pt x="61" y="2158"/>
                          </a:lnTo>
                          <a:lnTo>
                            <a:pt x="56" y="2143"/>
                          </a:lnTo>
                          <a:lnTo>
                            <a:pt x="54" y="2128"/>
                          </a:lnTo>
                          <a:lnTo>
                            <a:pt x="49" y="2112"/>
                          </a:lnTo>
                          <a:lnTo>
                            <a:pt x="46" y="2100"/>
                          </a:lnTo>
                          <a:lnTo>
                            <a:pt x="41" y="2082"/>
                          </a:lnTo>
                          <a:lnTo>
                            <a:pt x="38" y="2067"/>
                          </a:lnTo>
                          <a:lnTo>
                            <a:pt x="33" y="2052"/>
                          </a:lnTo>
                          <a:lnTo>
                            <a:pt x="31" y="2036"/>
                          </a:lnTo>
                          <a:lnTo>
                            <a:pt x="26" y="2019"/>
                          </a:lnTo>
                          <a:lnTo>
                            <a:pt x="23" y="2003"/>
                          </a:lnTo>
                          <a:lnTo>
                            <a:pt x="21" y="1988"/>
                          </a:lnTo>
                          <a:lnTo>
                            <a:pt x="21" y="1973"/>
                          </a:lnTo>
                          <a:lnTo>
                            <a:pt x="16" y="1955"/>
                          </a:lnTo>
                          <a:lnTo>
                            <a:pt x="13" y="1940"/>
                          </a:lnTo>
                          <a:lnTo>
                            <a:pt x="11" y="1925"/>
                          </a:lnTo>
                          <a:lnTo>
                            <a:pt x="11" y="1910"/>
                          </a:lnTo>
                          <a:lnTo>
                            <a:pt x="8" y="1892"/>
                          </a:lnTo>
                          <a:lnTo>
                            <a:pt x="8" y="1877"/>
                          </a:lnTo>
                          <a:lnTo>
                            <a:pt x="8" y="1861"/>
                          </a:lnTo>
                          <a:lnTo>
                            <a:pt x="8" y="1846"/>
                          </a:lnTo>
                          <a:lnTo>
                            <a:pt x="5" y="1829"/>
                          </a:lnTo>
                          <a:lnTo>
                            <a:pt x="3" y="1811"/>
                          </a:lnTo>
                          <a:lnTo>
                            <a:pt x="0" y="1796"/>
                          </a:lnTo>
                          <a:lnTo>
                            <a:pt x="0" y="1780"/>
                          </a:lnTo>
                          <a:lnTo>
                            <a:pt x="0" y="1763"/>
                          </a:lnTo>
                          <a:lnTo>
                            <a:pt x="0" y="1745"/>
                          </a:lnTo>
                          <a:lnTo>
                            <a:pt x="0" y="1730"/>
                          </a:lnTo>
                          <a:lnTo>
                            <a:pt x="0" y="1714"/>
                          </a:lnTo>
                          <a:lnTo>
                            <a:pt x="0" y="1697"/>
                          </a:lnTo>
                          <a:lnTo>
                            <a:pt x="0" y="1681"/>
                          </a:lnTo>
                          <a:lnTo>
                            <a:pt x="0" y="1664"/>
                          </a:lnTo>
                          <a:lnTo>
                            <a:pt x="0" y="1648"/>
                          </a:lnTo>
                          <a:lnTo>
                            <a:pt x="0" y="1631"/>
                          </a:lnTo>
                          <a:lnTo>
                            <a:pt x="0" y="1616"/>
                          </a:lnTo>
                          <a:lnTo>
                            <a:pt x="0" y="1600"/>
                          </a:lnTo>
                          <a:lnTo>
                            <a:pt x="0" y="1585"/>
                          </a:lnTo>
                          <a:lnTo>
                            <a:pt x="0" y="1567"/>
                          </a:lnTo>
                          <a:lnTo>
                            <a:pt x="0" y="1550"/>
                          </a:lnTo>
                          <a:lnTo>
                            <a:pt x="0" y="1532"/>
                          </a:lnTo>
                          <a:lnTo>
                            <a:pt x="0" y="1517"/>
                          </a:lnTo>
                          <a:lnTo>
                            <a:pt x="0" y="1499"/>
                          </a:lnTo>
                          <a:lnTo>
                            <a:pt x="0" y="1484"/>
                          </a:lnTo>
                          <a:lnTo>
                            <a:pt x="0" y="1468"/>
                          </a:lnTo>
                          <a:lnTo>
                            <a:pt x="3" y="1453"/>
                          </a:lnTo>
                          <a:lnTo>
                            <a:pt x="3" y="1438"/>
                          </a:lnTo>
                          <a:lnTo>
                            <a:pt x="3" y="1423"/>
                          </a:lnTo>
                          <a:lnTo>
                            <a:pt x="3" y="1408"/>
                          </a:lnTo>
                          <a:lnTo>
                            <a:pt x="3" y="1392"/>
                          </a:lnTo>
                          <a:lnTo>
                            <a:pt x="3" y="1377"/>
                          </a:lnTo>
                          <a:lnTo>
                            <a:pt x="3" y="1362"/>
                          </a:lnTo>
                          <a:lnTo>
                            <a:pt x="3" y="1347"/>
                          </a:lnTo>
                          <a:lnTo>
                            <a:pt x="5" y="1332"/>
                          </a:lnTo>
                          <a:lnTo>
                            <a:pt x="5" y="1316"/>
                          </a:lnTo>
                          <a:lnTo>
                            <a:pt x="5" y="1301"/>
                          </a:lnTo>
                          <a:lnTo>
                            <a:pt x="8" y="1286"/>
                          </a:lnTo>
                          <a:lnTo>
                            <a:pt x="11" y="1271"/>
                          </a:lnTo>
                          <a:lnTo>
                            <a:pt x="11" y="1255"/>
                          </a:lnTo>
                          <a:lnTo>
                            <a:pt x="13" y="1240"/>
                          </a:lnTo>
                          <a:lnTo>
                            <a:pt x="16" y="1225"/>
                          </a:lnTo>
                          <a:lnTo>
                            <a:pt x="21" y="1212"/>
                          </a:lnTo>
                          <a:lnTo>
                            <a:pt x="21" y="1197"/>
                          </a:lnTo>
                          <a:lnTo>
                            <a:pt x="26" y="1182"/>
                          </a:lnTo>
                          <a:lnTo>
                            <a:pt x="26" y="1167"/>
                          </a:lnTo>
                          <a:lnTo>
                            <a:pt x="31" y="1152"/>
                          </a:lnTo>
                          <a:lnTo>
                            <a:pt x="33" y="1136"/>
                          </a:lnTo>
                          <a:lnTo>
                            <a:pt x="38" y="1121"/>
                          </a:lnTo>
                          <a:lnTo>
                            <a:pt x="41" y="1106"/>
                          </a:lnTo>
                          <a:lnTo>
                            <a:pt x="49" y="1093"/>
                          </a:lnTo>
                          <a:lnTo>
                            <a:pt x="51" y="1078"/>
                          </a:lnTo>
                          <a:lnTo>
                            <a:pt x="56" y="1063"/>
                          </a:lnTo>
                          <a:lnTo>
                            <a:pt x="61" y="1048"/>
                          </a:lnTo>
                          <a:lnTo>
                            <a:pt x="69" y="1032"/>
                          </a:lnTo>
                          <a:lnTo>
                            <a:pt x="74" y="1017"/>
                          </a:lnTo>
                          <a:lnTo>
                            <a:pt x="79" y="1002"/>
                          </a:lnTo>
                          <a:lnTo>
                            <a:pt x="87" y="987"/>
                          </a:lnTo>
                          <a:lnTo>
                            <a:pt x="94" y="974"/>
                          </a:lnTo>
                          <a:lnTo>
                            <a:pt x="107" y="946"/>
                          </a:lnTo>
                          <a:lnTo>
                            <a:pt x="122" y="921"/>
                          </a:lnTo>
                          <a:lnTo>
                            <a:pt x="140" y="893"/>
                          </a:lnTo>
                          <a:lnTo>
                            <a:pt x="160" y="870"/>
                          </a:lnTo>
                          <a:lnTo>
                            <a:pt x="168" y="855"/>
                          </a:lnTo>
                          <a:lnTo>
                            <a:pt x="180" y="840"/>
                          </a:lnTo>
                          <a:lnTo>
                            <a:pt x="191" y="824"/>
                          </a:lnTo>
                          <a:lnTo>
                            <a:pt x="203" y="809"/>
                          </a:lnTo>
                          <a:lnTo>
                            <a:pt x="213" y="794"/>
                          </a:lnTo>
                          <a:lnTo>
                            <a:pt x="226" y="781"/>
                          </a:lnTo>
                          <a:lnTo>
                            <a:pt x="236" y="766"/>
                          </a:lnTo>
                          <a:lnTo>
                            <a:pt x="249" y="753"/>
                          </a:lnTo>
                          <a:lnTo>
                            <a:pt x="259" y="738"/>
                          </a:lnTo>
                          <a:lnTo>
                            <a:pt x="272" y="723"/>
                          </a:lnTo>
                          <a:lnTo>
                            <a:pt x="282" y="708"/>
                          </a:lnTo>
                          <a:lnTo>
                            <a:pt x="295" y="695"/>
                          </a:lnTo>
                          <a:lnTo>
                            <a:pt x="305" y="680"/>
                          </a:lnTo>
                          <a:lnTo>
                            <a:pt x="317" y="667"/>
                          </a:lnTo>
                          <a:lnTo>
                            <a:pt x="328" y="652"/>
                          </a:lnTo>
                          <a:lnTo>
                            <a:pt x="343" y="639"/>
                          </a:lnTo>
                          <a:lnTo>
                            <a:pt x="353" y="624"/>
                          </a:lnTo>
                          <a:lnTo>
                            <a:pt x="366" y="609"/>
                          </a:lnTo>
                          <a:lnTo>
                            <a:pt x="378" y="594"/>
                          </a:lnTo>
                          <a:lnTo>
                            <a:pt x="391" y="581"/>
                          </a:lnTo>
                          <a:lnTo>
                            <a:pt x="401" y="566"/>
                          </a:lnTo>
                          <a:lnTo>
                            <a:pt x="416" y="553"/>
                          </a:lnTo>
                          <a:lnTo>
                            <a:pt x="426" y="538"/>
                          </a:lnTo>
                          <a:lnTo>
                            <a:pt x="442" y="525"/>
                          </a:lnTo>
                          <a:lnTo>
                            <a:pt x="467" y="497"/>
                          </a:lnTo>
                          <a:lnTo>
                            <a:pt x="495" y="472"/>
                          </a:lnTo>
                          <a:lnTo>
                            <a:pt x="520" y="444"/>
                          </a:lnTo>
                          <a:lnTo>
                            <a:pt x="548" y="419"/>
                          </a:lnTo>
                          <a:lnTo>
                            <a:pt x="561" y="404"/>
                          </a:lnTo>
                          <a:lnTo>
                            <a:pt x="574" y="388"/>
                          </a:lnTo>
                          <a:lnTo>
                            <a:pt x="586" y="376"/>
                          </a:lnTo>
                          <a:lnTo>
                            <a:pt x="601" y="363"/>
                          </a:lnTo>
                          <a:lnTo>
                            <a:pt x="627" y="335"/>
                          </a:lnTo>
                          <a:lnTo>
                            <a:pt x="655" y="310"/>
                          </a:lnTo>
                          <a:lnTo>
                            <a:pt x="667" y="295"/>
                          </a:lnTo>
                          <a:lnTo>
                            <a:pt x="683" y="282"/>
                          </a:lnTo>
                          <a:lnTo>
                            <a:pt x="695" y="269"/>
                          </a:lnTo>
                          <a:lnTo>
                            <a:pt x="711" y="259"/>
                          </a:lnTo>
                          <a:lnTo>
                            <a:pt x="723" y="244"/>
                          </a:lnTo>
                          <a:lnTo>
                            <a:pt x="738" y="231"/>
                          </a:lnTo>
                          <a:lnTo>
                            <a:pt x="754" y="218"/>
                          </a:lnTo>
                          <a:lnTo>
                            <a:pt x="769" y="208"/>
                          </a:lnTo>
                          <a:lnTo>
                            <a:pt x="782" y="193"/>
                          </a:lnTo>
                          <a:lnTo>
                            <a:pt x="797" y="183"/>
                          </a:lnTo>
                          <a:lnTo>
                            <a:pt x="809" y="168"/>
                          </a:lnTo>
                          <a:lnTo>
                            <a:pt x="825" y="158"/>
                          </a:lnTo>
                          <a:lnTo>
                            <a:pt x="837" y="145"/>
                          </a:lnTo>
                          <a:lnTo>
                            <a:pt x="853" y="135"/>
                          </a:lnTo>
                          <a:lnTo>
                            <a:pt x="868" y="122"/>
                          </a:lnTo>
                          <a:lnTo>
                            <a:pt x="883" y="112"/>
                          </a:lnTo>
                          <a:lnTo>
                            <a:pt x="898" y="99"/>
                          </a:lnTo>
                          <a:lnTo>
                            <a:pt x="913" y="89"/>
                          </a:lnTo>
                          <a:lnTo>
                            <a:pt x="929" y="76"/>
                          </a:lnTo>
                          <a:lnTo>
                            <a:pt x="944" y="66"/>
                          </a:lnTo>
                          <a:lnTo>
                            <a:pt x="959" y="54"/>
                          </a:lnTo>
                          <a:lnTo>
                            <a:pt x="974" y="44"/>
                          </a:lnTo>
                          <a:lnTo>
                            <a:pt x="990" y="31"/>
                          </a:lnTo>
                          <a:lnTo>
                            <a:pt x="1007" y="23"/>
                          </a:lnTo>
                          <a:lnTo>
                            <a:pt x="1030" y="21"/>
                          </a:lnTo>
                          <a:lnTo>
                            <a:pt x="1053" y="21"/>
                          </a:lnTo>
                          <a:lnTo>
                            <a:pt x="1076" y="18"/>
                          </a:lnTo>
                          <a:lnTo>
                            <a:pt x="1099" y="18"/>
                          </a:lnTo>
                          <a:lnTo>
                            <a:pt x="1121" y="16"/>
                          </a:lnTo>
                          <a:lnTo>
                            <a:pt x="1144" y="16"/>
                          </a:lnTo>
                          <a:lnTo>
                            <a:pt x="1167" y="13"/>
                          </a:lnTo>
                          <a:lnTo>
                            <a:pt x="1190" y="13"/>
                          </a:lnTo>
                          <a:lnTo>
                            <a:pt x="1213" y="11"/>
                          </a:lnTo>
                          <a:lnTo>
                            <a:pt x="1236" y="8"/>
                          </a:lnTo>
                          <a:lnTo>
                            <a:pt x="1258" y="5"/>
                          </a:lnTo>
                          <a:lnTo>
                            <a:pt x="1281" y="5"/>
                          </a:lnTo>
                          <a:lnTo>
                            <a:pt x="1304" y="3"/>
                          </a:lnTo>
                          <a:lnTo>
                            <a:pt x="1327" y="3"/>
                          </a:lnTo>
                          <a:lnTo>
                            <a:pt x="1350" y="3"/>
                          </a:lnTo>
                          <a:lnTo>
                            <a:pt x="1373" y="3"/>
                          </a:lnTo>
                          <a:lnTo>
                            <a:pt x="1393" y="0"/>
                          </a:lnTo>
                          <a:lnTo>
                            <a:pt x="1416" y="0"/>
                          </a:lnTo>
                          <a:lnTo>
                            <a:pt x="1436" y="0"/>
                          </a:lnTo>
                          <a:lnTo>
                            <a:pt x="1459" y="3"/>
                          </a:lnTo>
                          <a:lnTo>
                            <a:pt x="1479" y="5"/>
                          </a:lnTo>
                          <a:lnTo>
                            <a:pt x="1502" y="11"/>
                          </a:lnTo>
                          <a:lnTo>
                            <a:pt x="1522" y="13"/>
                          </a:lnTo>
                          <a:lnTo>
                            <a:pt x="1545" y="21"/>
                          </a:lnTo>
                          <a:lnTo>
                            <a:pt x="1565" y="26"/>
                          </a:lnTo>
                          <a:lnTo>
                            <a:pt x="1586" y="33"/>
                          </a:lnTo>
                          <a:lnTo>
                            <a:pt x="1606" y="41"/>
                          </a:lnTo>
                          <a:lnTo>
                            <a:pt x="1629" y="51"/>
                          </a:lnTo>
                          <a:lnTo>
                            <a:pt x="1646" y="59"/>
                          </a:lnTo>
                          <a:lnTo>
                            <a:pt x="1669" y="71"/>
                          </a:lnTo>
                          <a:lnTo>
                            <a:pt x="1687" y="87"/>
                          </a:lnTo>
                          <a:lnTo>
                            <a:pt x="1710" y="102"/>
                          </a:lnTo>
                          <a:lnTo>
                            <a:pt x="1740" y="125"/>
                          </a:lnTo>
                          <a:lnTo>
                            <a:pt x="1771" y="147"/>
                          </a:lnTo>
                          <a:lnTo>
                            <a:pt x="1801" y="173"/>
                          </a:lnTo>
                          <a:lnTo>
                            <a:pt x="1834" y="201"/>
                          </a:lnTo>
                          <a:lnTo>
                            <a:pt x="1862" y="224"/>
                          </a:lnTo>
                          <a:lnTo>
                            <a:pt x="1893" y="251"/>
                          </a:lnTo>
                          <a:lnTo>
                            <a:pt x="1920" y="277"/>
                          </a:lnTo>
                          <a:lnTo>
                            <a:pt x="1951" y="307"/>
                          </a:lnTo>
                          <a:lnTo>
                            <a:pt x="1976" y="333"/>
                          </a:lnTo>
                          <a:lnTo>
                            <a:pt x="2004" y="360"/>
                          </a:lnTo>
                          <a:lnTo>
                            <a:pt x="2029" y="386"/>
                          </a:lnTo>
                          <a:lnTo>
                            <a:pt x="2057" y="416"/>
                          </a:lnTo>
                          <a:lnTo>
                            <a:pt x="2083" y="444"/>
                          </a:lnTo>
                          <a:lnTo>
                            <a:pt x="2108" y="475"/>
                          </a:lnTo>
                          <a:lnTo>
                            <a:pt x="2133" y="505"/>
                          </a:lnTo>
                          <a:lnTo>
                            <a:pt x="2159" y="535"/>
                          </a:lnTo>
                          <a:lnTo>
                            <a:pt x="2182" y="563"/>
                          </a:lnTo>
                          <a:lnTo>
                            <a:pt x="2205" y="594"/>
                          </a:lnTo>
                          <a:lnTo>
                            <a:pt x="2227" y="624"/>
                          </a:lnTo>
                          <a:lnTo>
                            <a:pt x="2250" y="655"/>
                          </a:lnTo>
                          <a:lnTo>
                            <a:pt x="2270" y="685"/>
                          </a:lnTo>
                          <a:lnTo>
                            <a:pt x="2293" y="715"/>
                          </a:lnTo>
                          <a:lnTo>
                            <a:pt x="2314" y="748"/>
                          </a:lnTo>
                          <a:lnTo>
                            <a:pt x="2336" y="781"/>
                          </a:lnTo>
                          <a:lnTo>
                            <a:pt x="2354" y="812"/>
                          </a:lnTo>
                          <a:lnTo>
                            <a:pt x="2374" y="845"/>
                          </a:lnTo>
                          <a:lnTo>
                            <a:pt x="2392" y="878"/>
                          </a:lnTo>
                          <a:lnTo>
                            <a:pt x="2412" y="911"/>
                          </a:lnTo>
                          <a:lnTo>
                            <a:pt x="2430" y="944"/>
                          </a:lnTo>
                          <a:lnTo>
                            <a:pt x="2448" y="979"/>
                          </a:lnTo>
                          <a:lnTo>
                            <a:pt x="2466" y="1012"/>
                          </a:lnTo>
                          <a:lnTo>
                            <a:pt x="2486" y="1048"/>
                          </a:lnTo>
                          <a:lnTo>
                            <a:pt x="2501" y="1078"/>
                          </a:lnTo>
                          <a:lnTo>
                            <a:pt x="2516" y="1113"/>
                          </a:lnTo>
                          <a:lnTo>
                            <a:pt x="2532" y="1146"/>
                          </a:lnTo>
                          <a:lnTo>
                            <a:pt x="2549" y="1182"/>
                          </a:lnTo>
                          <a:lnTo>
                            <a:pt x="2565" y="1215"/>
                          </a:lnTo>
                          <a:lnTo>
                            <a:pt x="2580" y="1250"/>
                          </a:lnTo>
                          <a:lnTo>
                            <a:pt x="2595" y="1283"/>
                          </a:lnTo>
                          <a:lnTo>
                            <a:pt x="2610" y="1321"/>
                          </a:lnTo>
                          <a:lnTo>
                            <a:pt x="2623" y="1354"/>
                          </a:lnTo>
                          <a:lnTo>
                            <a:pt x="2636" y="1390"/>
                          </a:lnTo>
                          <a:lnTo>
                            <a:pt x="2648" y="1425"/>
                          </a:lnTo>
                          <a:lnTo>
                            <a:pt x="2664" y="1463"/>
                          </a:lnTo>
                          <a:lnTo>
                            <a:pt x="2674" y="1499"/>
                          </a:lnTo>
                          <a:lnTo>
                            <a:pt x="2689" y="1534"/>
                          </a:lnTo>
                          <a:lnTo>
                            <a:pt x="2699" y="1572"/>
                          </a:lnTo>
                          <a:lnTo>
                            <a:pt x="2714" y="1610"/>
                          </a:lnTo>
                          <a:lnTo>
                            <a:pt x="2724" y="1646"/>
                          </a:lnTo>
                          <a:lnTo>
                            <a:pt x="2735" y="1681"/>
                          </a:lnTo>
                          <a:lnTo>
                            <a:pt x="2745" y="1717"/>
                          </a:lnTo>
                          <a:lnTo>
                            <a:pt x="2757" y="1755"/>
                          </a:lnTo>
                          <a:lnTo>
                            <a:pt x="2765" y="1790"/>
                          </a:lnTo>
                          <a:lnTo>
                            <a:pt x="2778" y="1829"/>
                          </a:lnTo>
                          <a:lnTo>
                            <a:pt x="2785" y="1867"/>
                          </a:lnTo>
                          <a:lnTo>
                            <a:pt x="2798" y="1905"/>
                          </a:lnTo>
                          <a:lnTo>
                            <a:pt x="2806" y="1940"/>
                          </a:lnTo>
                          <a:lnTo>
                            <a:pt x="2816" y="1978"/>
                          </a:lnTo>
                          <a:lnTo>
                            <a:pt x="2823" y="2016"/>
                          </a:lnTo>
                          <a:lnTo>
                            <a:pt x="2834" y="2054"/>
                          </a:lnTo>
                          <a:lnTo>
                            <a:pt x="2841" y="2092"/>
                          </a:lnTo>
                          <a:lnTo>
                            <a:pt x="2851" y="2130"/>
                          </a:lnTo>
                          <a:lnTo>
                            <a:pt x="2859" y="2168"/>
                          </a:lnTo>
                          <a:lnTo>
                            <a:pt x="2869" y="2206"/>
                          </a:lnTo>
                          <a:lnTo>
                            <a:pt x="2859" y="2222"/>
                          </a:lnTo>
                          <a:lnTo>
                            <a:pt x="2851" y="2239"/>
                          </a:lnTo>
                          <a:lnTo>
                            <a:pt x="2841" y="2257"/>
                          </a:lnTo>
                          <a:lnTo>
                            <a:pt x="2834" y="2275"/>
                          </a:lnTo>
                          <a:lnTo>
                            <a:pt x="2823" y="2290"/>
                          </a:lnTo>
                          <a:lnTo>
                            <a:pt x="2816" y="2310"/>
                          </a:lnTo>
                          <a:lnTo>
                            <a:pt x="2806" y="2325"/>
                          </a:lnTo>
                          <a:lnTo>
                            <a:pt x="2798" y="2346"/>
                          </a:lnTo>
                          <a:lnTo>
                            <a:pt x="2788" y="2361"/>
                          </a:lnTo>
                          <a:lnTo>
                            <a:pt x="2780" y="2379"/>
                          </a:lnTo>
                          <a:lnTo>
                            <a:pt x="2770" y="2396"/>
                          </a:lnTo>
                          <a:lnTo>
                            <a:pt x="2763" y="2417"/>
                          </a:lnTo>
                          <a:lnTo>
                            <a:pt x="2752" y="2432"/>
                          </a:lnTo>
                          <a:lnTo>
                            <a:pt x="2745" y="2450"/>
                          </a:lnTo>
                          <a:lnTo>
                            <a:pt x="2737" y="2467"/>
                          </a:lnTo>
                          <a:lnTo>
                            <a:pt x="2730" y="2488"/>
                          </a:lnTo>
                          <a:lnTo>
                            <a:pt x="2719" y="2503"/>
                          </a:lnTo>
                          <a:lnTo>
                            <a:pt x="2709" y="2521"/>
                          </a:lnTo>
                          <a:lnTo>
                            <a:pt x="2699" y="2538"/>
                          </a:lnTo>
                          <a:lnTo>
                            <a:pt x="2691" y="2559"/>
                          </a:lnTo>
                          <a:lnTo>
                            <a:pt x="2681" y="2574"/>
                          </a:lnTo>
                          <a:lnTo>
                            <a:pt x="2674" y="2592"/>
                          </a:lnTo>
                          <a:lnTo>
                            <a:pt x="2664" y="2609"/>
                          </a:lnTo>
                          <a:lnTo>
                            <a:pt x="2656" y="2630"/>
                          </a:lnTo>
                          <a:lnTo>
                            <a:pt x="2646" y="2645"/>
                          </a:lnTo>
                          <a:lnTo>
                            <a:pt x="2636" y="2663"/>
                          </a:lnTo>
                          <a:lnTo>
                            <a:pt x="2626" y="2680"/>
                          </a:lnTo>
                          <a:lnTo>
                            <a:pt x="2618" y="2701"/>
                          </a:lnTo>
                          <a:lnTo>
                            <a:pt x="2608" y="2716"/>
                          </a:lnTo>
                          <a:lnTo>
                            <a:pt x="2600" y="2734"/>
                          </a:lnTo>
                          <a:lnTo>
                            <a:pt x="2590" y="2751"/>
                          </a:lnTo>
                          <a:lnTo>
                            <a:pt x="2582" y="2772"/>
                          </a:lnTo>
                          <a:lnTo>
                            <a:pt x="2570" y="2787"/>
                          </a:lnTo>
                          <a:lnTo>
                            <a:pt x="2562" y="2805"/>
                          </a:lnTo>
                          <a:lnTo>
                            <a:pt x="2549" y="2822"/>
                          </a:lnTo>
                          <a:lnTo>
                            <a:pt x="2542" y="2840"/>
                          </a:lnTo>
                          <a:lnTo>
                            <a:pt x="2529" y="2855"/>
                          </a:lnTo>
                          <a:lnTo>
                            <a:pt x="2522" y="2873"/>
                          </a:lnTo>
                          <a:lnTo>
                            <a:pt x="2509" y="2891"/>
                          </a:lnTo>
                          <a:lnTo>
                            <a:pt x="2501" y="2909"/>
                          </a:lnTo>
                          <a:lnTo>
                            <a:pt x="2489" y="2924"/>
                          </a:lnTo>
                          <a:lnTo>
                            <a:pt x="2481" y="2942"/>
                          </a:lnTo>
                          <a:lnTo>
                            <a:pt x="2468" y="2959"/>
                          </a:lnTo>
                          <a:lnTo>
                            <a:pt x="2461" y="2977"/>
                          </a:lnTo>
                          <a:lnTo>
                            <a:pt x="2448" y="2992"/>
                          </a:lnTo>
                          <a:lnTo>
                            <a:pt x="2440" y="3010"/>
                          </a:lnTo>
                          <a:lnTo>
                            <a:pt x="2428" y="3028"/>
                          </a:lnTo>
                          <a:lnTo>
                            <a:pt x="2420" y="3046"/>
                          </a:lnTo>
                          <a:lnTo>
                            <a:pt x="2407" y="3061"/>
                          </a:lnTo>
                          <a:lnTo>
                            <a:pt x="2397" y="3076"/>
                          </a:lnTo>
                          <a:lnTo>
                            <a:pt x="2385" y="3094"/>
                          </a:lnTo>
                          <a:lnTo>
                            <a:pt x="2374" y="3111"/>
                          </a:lnTo>
                          <a:lnTo>
                            <a:pt x="2362" y="3127"/>
                          </a:lnTo>
                          <a:lnTo>
                            <a:pt x="2352" y="3142"/>
                          </a:lnTo>
                          <a:lnTo>
                            <a:pt x="2339" y="3160"/>
                          </a:lnTo>
                          <a:lnTo>
                            <a:pt x="2329" y="3177"/>
                          </a:lnTo>
                          <a:lnTo>
                            <a:pt x="2316" y="3193"/>
                          </a:lnTo>
                          <a:lnTo>
                            <a:pt x="2306" y="3208"/>
                          </a:lnTo>
                          <a:lnTo>
                            <a:pt x="2293" y="3223"/>
                          </a:lnTo>
                          <a:lnTo>
                            <a:pt x="2283" y="3241"/>
                          </a:lnTo>
                          <a:lnTo>
                            <a:pt x="2270" y="3256"/>
                          </a:lnTo>
                          <a:lnTo>
                            <a:pt x="2260" y="3274"/>
                          </a:lnTo>
                          <a:lnTo>
                            <a:pt x="2248" y="3289"/>
                          </a:lnTo>
                          <a:lnTo>
                            <a:pt x="2237" y="3307"/>
                          </a:lnTo>
                          <a:lnTo>
                            <a:pt x="2227" y="3297"/>
                          </a:lnTo>
                          <a:lnTo>
                            <a:pt x="2215" y="3314"/>
                          </a:lnTo>
                          <a:lnTo>
                            <a:pt x="2202" y="3335"/>
                          </a:lnTo>
                          <a:lnTo>
                            <a:pt x="2187" y="3352"/>
                          </a:lnTo>
                          <a:lnTo>
                            <a:pt x="2172" y="3373"/>
                          </a:lnTo>
                          <a:lnTo>
                            <a:pt x="2151" y="3388"/>
                          </a:lnTo>
                          <a:lnTo>
                            <a:pt x="2131" y="3408"/>
                          </a:lnTo>
                          <a:lnTo>
                            <a:pt x="2108" y="3423"/>
                          </a:lnTo>
                          <a:lnTo>
                            <a:pt x="2088" y="3444"/>
                          </a:lnTo>
                          <a:lnTo>
                            <a:pt x="2062" y="3459"/>
                          </a:lnTo>
                          <a:lnTo>
                            <a:pt x="2040" y="3477"/>
                          </a:lnTo>
                          <a:lnTo>
                            <a:pt x="2017" y="3494"/>
                          </a:lnTo>
                          <a:lnTo>
                            <a:pt x="1994" y="3512"/>
                          </a:lnTo>
                          <a:lnTo>
                            <a:pt x="1971" y="3527"/>
                          </a:lnTo>
                          <a:lnTo>
                            <a:pt x="1951" y="3545"/>
                          </a:lnTo>
                          <a:lnTo>
                            <a:pt x="1931" y="3563"/>
                          </a:lnTo>
                          <a:lnTo>
                            <a:pt x="1915" y="3583"/>
                          </a:lnTo>
                          <a:lnTo>
                            <a:pt x="1898" y="3601"/>
                          </a:lnTo>
                          <a:lnTo>
                            <a:pt x="1880" y="3619"/>
                          </a:lnTo>
                          <a:lnTo>
                            <a:pt x="1860" y="3634"/>
                          </a:lnTo>
                          <a:lnTo>
                            <a:pt x="1842" y="3652"/>
                          </a:lnTo>
                          <a:lnTo>
                            <a:pt x="1822" y="3664"/>
                          </a:lnTo>
                          <a:lnTo>
                            <a:pt x="1801" y="3679"/>
                          </a:lnTo>
                          <a:lnTo>
                            <a:pt x="1781" y="3692"/>
                          </a:lnTo>
                          <a:lnTo>
                            <a:pt x="1763" y="3705"/>
                          </a:lnTo>
                          <a:lnTo>
                            <a:pt x="1740" y="3712"/>
                          </a:lnTo>
                          <a:lnTo>
                            <a:pt x="1718" y="3723"/>
                          </a:lnTo>
                          <a:lnTo>
                            <a:pt x="1695" y="3730"/>
                          </a:lnTo>
                          <a:lnTo>
                            <a:pt x="1674" y="3738"/>
                          </a:lnTo>
                          <a:lnTo>
                            <a:pt x="1652" y="3743"/>
                          </a:lnTo>
                          <a:lnTo>
                            <a:pt x="1629" y="3748"/>
                          </a:lnTo>
                          <a:lnTo>
                            <a:pt x="1606" y="3753"/>
                          </a:lnTo>
                          <a:lnTo>
                            <a:pt x="1586" y="3758"/>
                          </a:lnTo>
                          <a:lnTo>
                            <a:pt x="1560" y="3758"/>
                          </a:lnTo>
                          <a:lnTo>
                            <a:pt x="1535" y="3761"/>
                          </a:lnTo>
                          <a:lnTo>
                            <a:pt x="1510" y="3761"/>
                          </a:lnTo>
                          <a:lnTo>
                            <a:pt x="1487" y="3761"/>
                          </a:lnTo>
                          <a:lnTo>
                            <a:pt x="1461" y="3758"/>
                          </a:lnTo>
                          <a:lnTo>
                            <a:pt x="1439" y="3758"/>
                          </a:lnTo>
                          <a:lnTo>
                            <a:pt x="1413" y="3755"/>
                          </a:lnTo>
                          <a:lnTo>
                            <a:pt x="1390" y="3755"/>
                          </a:lnTo>
                          <a:lnTo>
                            <a:pt x="1365" y="3750"/>
                          </a:lnTo>
                          <a:lnTo>
                            <a:pt x="1342" y="3748"/>
                          </a:lnTo>
                          <a:lnTo>
                            <a:pt x="1317" y="3743"/>
                          </a:lnTo>
                          <a:lnTo>
                            <a:pt x="1294" y="3740"/>
                          </a:lnTo>
                          <a:lnTo>
                            <a:pt x="1271" y="3733"/>
                          </a:lnTo>
                          <a:lnTo>
                            <a:pt x="1248" y="3728"/>
                          </a:lnTo>
                          <a:lnTo>
                            <a:pt x="1225" y="3723"/>
                          </a:lnTo>
                          <a:lnTo>
                            <a:pt x="1203" y="3717"/>
                          </a:lnTo>
                          <a:lnTo>
                            <a:pt x="1180" y="3684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9" name=""/>
                    <p:cNvSpPr/>
                    <p:nvPr/>
                  </p:nvSpPr>
                  <p:spPr>
                    <a:xfrm>
                      <a:off x="754920" y="6967800"/>
                      <a:ext cx="167760" cy="324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26" h="2335">
                          <a:moveTo>
                            <a:pt x="497" y="1770"/>
                          </a:moveTo>
                          <a:lnTo>
                            <a:pt x="482" y="1752"/>
                          </a:lnTo>
                          <a:lnTo>
                            <a:pt x="467" y="1735"/>
                          </a:lnTo>
                          <a:lnTo>
                            <a:pt x="452" y="1717"/>
                          </a:lnTo>
                          <a:lnTo>
                            <a:pt x="437" y="1702"/>
                          </a:lnTo>
                          <a:lnTo>
                            <a:pt x="421" y="1684"/>
                          </a:lnTo>
                          <a:lnTo>
                            <a:pt x="409" y="1669"/>
                          </a:lnTo>
                          <a:lnTo>
                            <a:pt x="396" y="1651"/>
                          </a:lnTo>
                          <a:lnTo>
                            <a:pt x="383" y="1636"/>
                          </a:lnTo>
                          <a:lnTo>
                            <a:pt x="368" y="1615"/>
                          </a:lnTo>
                          <a:lnTo>
                            <a:pt x="358" y="1600"/>
                          </a:lnTo>
                          <a:lnTo>
                            <a:pt x="343" y="1580"/>
                          </a:lnTo>
                          <a:lnTo>
                            <a:pt x="333" y="1565"/>
                          </a:lnTo>
                          <a:lnTo>
                            <a:pt x="320" y="1544"/>
                          </a:lnTo>
                          <a:lnTo>
                            <a:pt x="310" y="1529"/>
                          </a:lnTo>
                          <a:lnTo>
                            <a:pt x="297" y="1509"/>
                          </a:lnTo>
                          <a:lnTo>
                            <a:pt x="290" y="1494"/>
                          </a:lnTo>
                          <a:lnTo>
                            <a:pt x="277" y="1473"/>
                          </a:lnTo>
                          <a:lnTo>
                            <a:pt x="267" y="1456"/>
                          </a:lnTo>
                          <a:lnTo>
                            <a:pt x="257" y="1435"/>
                          </a:lnTo>
                          <a:lnTo>
                            <a:pt x="246" y="1418"/>
                          </a:lnTo>
                          <a:lnTo>
                            <a:pt x="236" y="1397"/>
                          </a:lnTo>
                          <a:lnTo>
                            <a:pt x="226" y="1380"/>
                          </a:lnTo>
                          <a:lnTo>
                            <a:pt x="218" y="1362"/>
                          </a:lnTo>
                          <a:lnTo>
                            <a:pt x="211" y="1344"/>
                          </a:lnTo>
                          <a:lnTo>
                            <a:pt x="201" y="1324"/>
                          </a:lnTo>
                          <a:lnTo>
                            <a:pt x="193" y="1304"/>
                          </a:lnTo>
                          <a:lnTo>
                            <a:pt x="183" y="1283"/>
                          </a:lnTo>
                          <a:lnTo>
                            <a:pt x="175" y="1265"/>
                          </a:lnTo>
                          <a:lnTo>
                            <a:pt x="168" y="1245"/>
                          </a:lnTo>
                          <a:lnTo>
                            <a:pt x="160" y="1227"/>
                          </a:lnTo>
                          <a:lnTo>
                            <a:pt x="153" y="1207"/>
                          </a:lnTo>
                          <a:lnTo>
                            <a:pt x="147" y="1189"/>
                          </a:lnTo>
                          <a:lnTo>
                            <a:pt x="140" y="1167"/>
                          </a:lnTo>
                          <a:lnTo>
                            <a:pt x="132" y="1146"/>
                          </a:lnTo>
                          <a:lnTo>
                            <a:pt x="125" y="1126"/>
                          </a:lnTo>
                          <a:lnTo>
                            <a:pt x="117" y="1106"/>
                          </a:lnTo>
                          <a:lnTo>
                            <a:pt x="109" y="1085"/>
                          </a:lnTo>
                          <a:lnTo>
                            <a:pt x="104" y="1065"/>
                          </a:lnTo>
                          <a:lnTo>
                            <a:pt x="99" y="1045"/>
                          </a:lnTo>
                          <a:lnTo>
                            <a:pt x="94" y="1025"/>
                          </a:lnTo>
                          <a:lnTo>
                            <a:pt x="87" y="1002"/>
                          </a:lnTo>
                          <a:lnTo>
                            <a:pt x="82" y="982"/>
                          </a:lnTo>
                          <a:lnTo>
                            <a:pt x="76" y="961"/>
                          </a:lnTo>
                          <a:lnTo>
                            <a:pt x="71" y="941"/>
                          </a:lnTo>
                          <a:lnTo>
                            <a:pt x="66" y="921"/>
                          </a:lnTo>
                          <a:lnTo>
                            <a:pt x="64" y="900"/>
                          </a:lnTo>
                          <a:lnTo>
                            <a:pt x="59" y="880"/>
                          </a:lnTo>
                          <a:lnTo>
                            <a:pt x="56" y="860"/>
                          </a:lnTo>
                          <a:lnTo>
                            <a:pt x="49" y="837"/>
                          </a:lnTo>
                          <a:lnTo>
                            <a:pt x="46" y="814"/>
                          </a:lnTo>
                          <a:lnTo>
                            <a:pt x="41" y="794"/>
                          </a:lnTo>
                          <a:lnTo>
                            <a:pt x="38" y="774"/>
                          </a:lnTo>
                          <a:lnTo>
                            <a:pt x="33" y="751"/>
                          </a:lnTo>
                          <a:lnTo>
                            <a:pt x="31" y="728"/>
                          </a:lnTo>
                          <a:lnTo>
                            <a:pt x="26" y="708"/>
                          </a:lnTo>
                          <a:lnTo>
                            <a:pt x="23" y="687"/>
                          </a:lnTo>
                          <a:lnTo>
                            <a:pt x="18" y="665"/>
                          </a:lnTo>
                          <a:lnTo>
                            <a:pt x="16" y="644"/>
                          </a:lnTo>
                          <a:lnTo>
                            <a:pt x="13" y="621"/>
                          </a:lnTo>
                          <a:lnTo>
                            <a:pt x="10" y="601"/>
                          </a:lnTo>
                          <a:lnTo>
                            <a:pt x="8" y="578"/>
                          </a:lnTo>
                          <a:lnTo>
                            <a:pt x="5" y="558"/>
                          </a:lnTo>
                          <a:lnTo>
                            <a:pt x="3" y="538"/>
                          </a:lnTo>
                          <a:lnTo>
                            <a:pt x="3" y="518"/>
                          </a:lnTo>
                          <a:lnTo>
                            <a:pt x="0" y="495"/>
                          </a:lnTo>
                          <a:lnTo>
                            <a:pt x="0" y="477"/>
                          </a:lnTo>
                          <a:lnTo>
                            <a:pt x="3" y="457"/>
                          </a:lnTo>
                          <a:lnTo>
                            <a:pt x="5" y="441"/>
                          </a:lnTo>
                          <a:lnTo>
                            <a:pt x="5" y="421"/>
                          </a:lnTo>
                          <a:lnTo>
                            <a:pt x="10" y="403"/>
                          </a:lnTo>
                          <a:lnTo>
                            <a:pt x="13" y="388"/>
                          </a:lnTo>
                          <a:lnTo>
                            <a:pt x="21" y="373"/>
                          </a:lnTo>
                          <a:lnTo>
                            <a:pt x="26" y="355"/>
                          </a:lnTo>
                          <a:lnTo>
                            <a:pt x="31" y="337"/>
                          </a:lnTo>
                          <a:lnTo>
                            <a:pt x="38" y="322"/>
                          </a:lnTo>
                          <a:lnTo>
                            <a:pt x="46" y="307"/>
                          </a:lnTo>
                          <a:lnTo>
                            <a:pt x="54" y="292"/>
                          </a:lnTo>
                          <a:lnTo>
                            <a:pt x="61" y="277"/>
                          </a:lnTo>
                          <a:lnTo>
                            <a:pt x="69" y="261"/>
                          </a:lnTo>
                          <a:lnTo>
                            <a:pt x="79" y="246"/>
                          </a:lnTo>
                          <a:lnTo>
                            <a:pt x="87" y="228"/>
                          </a:lnTo>
                          <a:lnTo>
                            <a:pt x="94" y="213"/>
                          </a:lnTo>
                          <a:lnTo>
                            <a:pt x="104" y="198"/>
                          </a:lnTo>
                          <a:lnTo>
                            <a:pt x="114" y="183"/>
                          </a:lnTo>
                          <a:lnTo>
                            <a:pt x="122" y="168"/>
                          </a:lnTo>
                          <a:lnTo>
                            <a:pt x="130" y="152"/>
                          </a:lnTo>
                          <a:lnTo>
                            <a:pt x="140" y="137"/>
                          </a:lnTo>
                          <a:lnTo>
                            <a:pt x="150" y="122"/>
                          </a:lnTo>
                          <a:lnTo>
                            <a:pt x="158" y="107"/>
                          </a:lnTo>
                          <a:lnTo>
                            <a:pt x="168" y="92"/>
                          </a:lnTo>
                          <a:lnTo>
                            <a:pt x="175" y="76"/>
                          </a:lnTo>
                          <a:lnTo>
                            <a:pt x="186" y="61"/>
                          </a:lnTo>
                          <a:lnTo>
                            <a:pt x="193" y="46"/>
                          </a:lnTo>
                          <a:lnTo>
                            <a:pt x="201" y="31"/>
                          </a:lnTo>
                          <a:lnTo>
                            <a:pt x="208" y="15"/>
                          </a:lnTo>
                          <a:lnTo>
                            <a:pt x="218" y="0"/>
                          </a:lnTo>
                          <a:lnTo>
                            <a:pt x="244" y="8"/>
                          </a:lnTo>
                          <a:lnTo>
                            <a:pt x="272" y="21"/>
                          </a:lnTo>
                          <a:lnTo>
                            <a:pt x="297" y="33"/>
                          </a:lnTo>
                          <a:lnTo>
                            <a:pt x="322" y="54"/>
                          </a:lnTo>
                          <a:lnTo>
                            <a:pt x="345" y="69"/>
                          </a:lnTo>
                          <a:lnTo>
                            <a:pt x="368" y="92"/>
                          </a:lnTo>
                          <a:lnTo>
                            <a:pt x="391" y="114"/>
                          </a:lnTo>
                          <a:lnTo>
                            <a:pt x="414" y="140"/>
                          </a:lnTo>
                          <a:lnTo>
                            <a:pt x="432" y="163"/>
                          </a:lnTo>
                          <a:lnTo>
                            <a:pt x="454" y="185"/>
                          </a:lnTo>
                          <a:lnTo>
                            <a:pt x="472" y="211"/>
                          </a:lnTo>
                          <a:lnTo>
                            <a:pt x="495" y="236"/>
                          </a:lnTo>
                          <a:lnTo>
                            <a:pt x="513" y="259"/>
                          </a:lnTo>
                          <a:lnTo>
                            <a:pt x="533" y="282"/>
                          </a:lnTo>
                          <a:lnTo>
                            <a:pt x="556" y="302"/>
                          </a:lnTo>
                          <a:lnTo>
                            <a:pt x="579" y="325"/>
                          </a:lnTo>
                          <a:lnTo>
                            <a:pt x="589" y="340"/>
                          </a:lnTo>
                          <a:lnTo>
                            <a:pt x="601" y="360"/>
                          </a:lnTo>
                          <a:lnTo>
                            <a:pt x="614" y="378"/>
                          </a:lnTo>
                          <a:lnTo>
                            <a:pt x="627" y="398"/>
                          </a:lnTo>
                          <a:lnTo>
                            <a:pt x="640" y="414"/>
                          </a:lnTo>
                          <a:lnTo>
                            <a:pt x="652" y="434"/>
                          </a:lnTo>
                          <a:lnTo>
                            <a:pt x="665" y="452"/>
                          </a:lnTo>
                          <a:lnTo>
                            <a:pt x="680" y="472"/>
                          </a:lnTo>
                          <a:lnTo>
                            <a:pt x="690" y="490"/>
                          </a:lnTo>
                          <a:lnTo>
                            <a:pt x="703" y="510"/>
                          </a:lnTo>
                          <a:lnTo>
                            <a:pt x="716" y="528"/>
                          </a:lnTo>
                          <a:lnTo>
                            <a:pt x="731" y="548"/>
                          </a:lnTo>
                          <a:lnTo>
                            <a:pt x="744" y="566"/>
                          </a:lnTo>
                          <a:lnTo>
                            <a:pt x="756" y="586"/>
                          </a:lnTo>
                          <a:lnTo>
                            <a:pt x="769" y="604"/>
                          </a:lnTo>
                          <a:lnTo>
                            <a:pt x="784" y="624"/>
                          </a:lnTo>
                          <a:lnTo>
                            <a:pt x="794" y="639"/>
                          </a:lnTo>
                          <a:lnTo>
                            <a:pt x="807" y="659"/>
                          </a:lnTo>
                          <a:lnTo>
                            <a:pt x="820" y="677"/>
                          </a:lnTo>
                          <a:lnTo>
                            <a:pt x="835" y="698"/>
                          </a:lnTo>
                          <a:lnTo>
                            <a:pt x="845" y="715"/>
                          </a:lnTo>
                          <a:lnTo>
                            <a:pt x="858" y="736"/>
                          </a:lnTo>
                          <a:lnTo>
                            <a:pt x="870" y="753"/>
                          </a:lnTo>
                          <a:lnTo>
                            <a:pt x="886" y="774"/>
                          </a:lnTo>
                          <a:lnTo>
                            <a:pt x="898" y="791"/>
                          </a:lnTo>
                          <a:lnTo>
                            <a:pt x="911" y="812"/>
                          </a:lnTo>
                          <a:lnTo>
                            <a:pt x="924" y="829"/>
                          </a:lnTo>
                          <a:lnTo>
                            <a:pt x="936" y="852"/>
                          </a:lnTo>
                          <a:lnTo>
                            <a:pt x="949" y="870"/>
                          </a:lnTo>
                          <a:lnTo>
                            <a:pt x="962" y="890"/>
                          </a:lnTo>
                          <a:lnTo>
                            <a:pt x="974" y="908"/>
                          </a:lnTo>
                          <a:lnTo>
                            <a:pt x="990" y="931"/>
                          </a:lnTo>
                          <a:lnTo>
                            <a:pt x="1000" y="949"/>
                          </a:lnTo>
                          <a:lnTo>
                            <a:pt x="1012" y="969"/>
                          </a:lnTo>
                          <a:lnTo>
                            <a:pt x="1023" y="987"/>
                          </a:lnTo>
                          <a:lnTo>
                            <a:pt x="1038" y="1007"/>
                          </a:lnTo>
                          <a:lnTo>
                            <a:pt x="1048" y="1025"/>
                          </a:lnTo>
                          <a:lnTo>
                            <a:pt x="1061" y="1045"/>
                          </a:lnTo>
                          <a:lnTo>
                            <a:pt x="1071" y="1065"/>
                          </a:lnTo>
                          <a:lnTo>
                            <a:pt x="1086" y="1085"/>
                          </a:lnTo>
                          <a:lnTo>
                            <a:pt x="1096" y="1103"/>
                          </a:lnTo>
                          <a:lnTo>
                            <a:pt x="1109" y="1123"/>
                          </a:lnTo>
                          <a:lnTo>
                            <a:pt x="1119" y="1144"/>
                          </a:lnTo>
                          <a:lnTo>
                            <a:pt x="1132" y="1164"/>
                          </a:lnTo>
                          <a:lnTo>
                            <a:pt x="1142" y="1182"/>
                          </a:lnTo>
                          <a:lnTo>
                            <a:pt x="1154" y="1205"/>
                          </a:lnTo>
                          <a:lnTo>
                            <a:pt x="1165" y="1222"/>
                          </a:lnTo>
                          <a:lnTo>
                            <a:pt x="1177" y="1245"/>
                          </a:lnTo>
                          <a:lnTo>
                            <a:pt x="1185" y="1263"/>
                          </a:lnTo>
                          <a:lnTo>
                            <a:pt x="1198" y="1283"/>
                          </a:lnTo>
                          <a:lnTo>
                            <a:pt x="1205" y="1304"/>
                          </a:lnTo>
                          <a:lnTo>
                            <a:pt x="1218" y="1326"/>
                          </a:lnTo>
                          <a:lnTo>
                            <a:pt x="1225" y="1344"/>
                          </a:lnTo>
                          <a:lnTo>
                            <a:pt x="1238" y="1364"/>
                          </a:lnTo>
                          <a:lnTo>
                            <a:pt x="1246" y="1385"/>
                          </a:lnTo>
                          <a:lnTo>
                            <a:pt x="1258" y="1407"/>
                          </a:lnTo>
                          <a:lnTo>
                            <a:pt x="1266" y="1428"/>
                          </a:lnTo>
                          <a:lnTo>
                            <a:pt x="1276" y="1448"/>
                          </a:lnTo>
                          <a:lnTo>
                            <a:pt x="1286" y="1468"/>
                          </a:lnTo>
                          <a:lnTo>
                            <a:pt x="1296" y="1491"/>
                          </a:lnTo>
                          <a:lnTo>
                            <a:pt x="1304" y="1511"/>
                          </a:lnTo>
                          <a:lnTo>
                            <a:pt x="1314" y="1532"/>
                          </a:lnTo>
                          <a:lnTo>
                            <a:pt x="1324" y="1552"/>
                          </a:lnTo>
                          <a:lnTo>
                            <a:pt x="1335" y="1575"/>
                          </a:lnTo>
                          <a:lnTo>
                            <a:pt x="1335" y="1587"/>
                          </a:lnTo>
                          <a:lnTo>
                            <a:pt x="1340" y="1603"/>
                          </a:lnTo>
                          <a:lnTo>
                            <a:pt x="1342" y="1615"/>
                          </a:lnTo>
                          <a:lnTo>
                            <a:pt x="1347" y="1631"/>
                          </a:lnTo>
                          <a:lnTo>
                            <a:pt x="1350" y="1643"/>
                          </a:lnTo>
                          <a:lnTo>
                            <a:pt x="1355" y="1658"/>
                          </a:lnTo>
                          <a:lnTo>
                            <a:pt x="1357" y="1674"/>
                          </a:lnTo>
                          <a:lnTo>
                            <a:pt x="1362" y="1689"/>
                          </a:lnTo>
                          <a:lnTo>
                            <a:pt x="1365" y="1702"/>
                          </a:lnTo>
                          <a:lnTo>
                            <a:pt x="1370" y="1717"/>
                          </a:lnTo>
                          <a:lnTo>
                            <a:pt x="1373" y="1729"/>
                          </a:lnTo>
                          <a:lnTo>
                            <a:pt x="1378" y="1745"/>
                          </a:lnTo>
                          <a:lnTo>
                            <a:pt x="1380" y="1757"/>
                          </a:lnTo>
                          <a:lnTo>
                            <a:pt x="1385" y="1773"/>
                          </a:lnTo>
                          <a:lnTo>
                            <a:pt x="1390" y="1788"/>
                          </a:lnTo>
                          <a:lnTo>
                            <a:pt x="1395" y="1803"/>
                          </a:lnTo>
                          <a:lnTo>
                            <a:pt x="1398" y="1816"/>
                          </a:lnTo>
                          <a:lnTo>
                            <a:pt x="1400" y="1831"/>
                          </a:lnTo>
                          <a:lnTo>
                            <a:pt x="1403" y="1846"/>
                          </a:lnTo>
                          <a:lnTo>
                            <a:pt x="1408" y="1861"/>
                          </a:lnTo>
                          <a:lnTo>
                            <a:pt x="1408" y="1874"/>
                          </a:lnTo>
                          <a:lnTo>
                            <a:pt x="1413" y="1889"/>
                          </a:lnTo>
                          <a:lnTo>
                            <a:pt x="1413" y="1904"/>
                          </a:lnTo>
                          <a:lnTo>
                            <a:pt x="1418" y="1920"/>
                          </a:lnTo>
                          <a:lnTo>
                            <a:pt x="1418" y="1935"/>
                          </a:lnTo>
                          <a:lnTo>
                            <a:pt x="1421" y="1950"/>
                          </a:lnTo>
                          <a:lnTo>
                            <a:pt x="1423" y="1965"/>
                          </a:lnTo>
                          <a:lnTo>
                            <a:pt x="1426" y="1980"/>
                          </a:lnTo>
                          <a:lnTo>
                            <a:pt x="1426" y="1996"/>
                          </a:lnTo>
                          <a:lnTo>
                            <a:pt x="1426" y="2013"/>
                          </a:lnTo>
                          <a:lnTo>
                            <a:pt x="1426" y="2029"/>
                          </a:lnTo>
                          <a:lnTo>
                            <a:pt x="1426" y="2046"/>
                          </a:lnTo>
                          <a:lnTo>
                            <a:pt x="1400" y="2069"/>
                          </a:lnTo>
                          <a:lnTo>
                            <a:pt x="1378" y="2092"/>
                          </a:lnTo>
                          <a:lnTo>
                            <a:pt x="1355" y="2117"/>
                          </a:lnTo>
                          <a:lnTo>
                            <a:pt x="1332" y="2145"/>
                          </a:lnTo>
                          <a:lnTo>
                            <a:pt x="1307" y="2171"/>
                          </a:lnTo>
                          <a:lnTo>
                            <a:pt x="1284" y="2196"/>
                          </a:lnTo>
                          <a:lnTo>
                            <a:pt x="1258" y="2219"/>
                          </a:lnTo>
                          <a:lnTo>
                            <a:pt x="1233" y="2244"/>
                          </a:lnTo>
                          <a:lnTo>
                            <a:pt x="1218" y="2254"/>
                          </a:lnTo>
                          <a:lnTo>
                            <a:pt x="1205" y="2264"/>
                          </a:lnTo>
                          <a:lnTo>
                            <a:pt x="1190" y="2275"/>
                          </a:lnTo>
                          <a:lnTo>
                            <a:pt x="1177" y="2285"/>
                          </a:lnTo>
                          <a:lnTo>
                            <a:pt x="1162" y="2292"/>
                          </a:lnTo>
                          <a:lnTo>
                            <a:pt x="1147" y="2300"/>
                          </a:lnTo>
                          <a:lnTo>
                            <a:pt x="1132" y="2308"/>
                          </a:lnTo>
                          <a:lnTo>
                            <a:pt x="1119" y="2315"/>
                          </a:lnTo>
                          <a:lnTo>
                            <a:pt x="1101" y="2320"/>
                          </a:lnTo>
                          <a:lnTo>
                            <a:pt x="1086" y="2325"/>
                          </a:lnTo>
                          <a:lnTo>
                            <a:pt x="1071" y="2328"/>
                          </a:lnTo>
                          <a:lnTo>
                            <a:pt x="1055" y="2333"/>
                          </a:lnTo>
                          <a:lnTo>
                            <a:pt x="1038" y="2333"/>
                          </a:lnTo>
                          <a:lnTo>
                            <a:pt x="1023" y="2335"/>
                          </a:lnTo>
                          <a:lnTo>
                            <a:pt x="1005" y="2335"/>
                          </a:lnTo>
                          <a:lnTo>
                            <a:pt x="990" y="2335"/>
                          </a:lnTo>
                          <a:lnTo>
                            <a:pt x="967" y="2318"/>
                          </a:lnTo>
                          <a:lnTo>
                            <a:pt x="946" y="2300"/>
                          </a:lnTo>
                          <a:lnTo>
                            <a:pt x="926" y="2282"/>
                          </a:lnTo>
                          <a:lnTo>
                            <a:pt x="908" y="2267"/>
                          </a:lnTo>
                          <a:lnTo>
                            <a:pt x="888" y="2249"/>
                          </a:lnTo>
                          <a:lnTo>
                            <a:pt x="870" y="2234"/>
                          </a:lnTo>
                          <a:lnTo>
                            <a:pt x="855" y="2216"/>
                          </a:lnTo>
                          <a:lnTo>
                            <a:pt x="840" y="2201"/>
                          </a:lnTo>
                          <a:lnTo>
                            <a:pt x="822" y="2181"/>
                          </a:lnTo>
                          <a:lnTo>
                            <a:pt x="807" y="2163"/>
                          </a:lnTo>
                          <a:lnTo>
                            <a:pt x="792" y="2145"/>
                          </a:lnTo>
                          <a:lnTo>
                            <a:pt x="779" y="2130"/>
                          </a:lnTo>
                          <a:lnTo>
                            <a:pt x="764" y="2110"/>
                          </a:lnTo>
                          <a:lnTo>
                            <a:pt x="751" y="2092"/>
                          </a:lnTo>
                          <a:lnTo>
                            <a:pt x="738" y="2074"/>
                          </a:lnTo>
                          <a:lnTo>
                            <a:pt x="726" y="2059"/>
                          </a:lnTo>
                          <a:lnTo>
                            <a:pt x="711" y="2039"/>
                          </a:lnTo>
                          <a:lnTo>
                            <a:pt x="695" y="2021"/>
                          </a:lnTo>
                          <a:lnTo>
                            <a:pt x="683" y="2001"/>
                          </a:lnTo>
                          <a:lnTo>
                            <a:pt x="670" y="1986"/>
                          </a:lnTo>
                          <a:lnTo>
                            <a:pt x="655" y="1965"/>
                          </a:lnTo>
                          <a:lnTo>
                            <a:pt x="642" y="1948"/>
                          </a:lnTo>
                          <a:lnTo>
                            <a:pt x="629" y="1927"/>
                          </a:lnTo>
                          <a:lnTo>
                            <a:pt x="617" y="1912"/>
                          </a:lnTo>
                          <a:lnTo>
                            <a:pt x="601" y="1892"/>
                          </a:lnTo>
                          <a:lnTo>
                            <a:pt x="586" y="1874"/>
                          </a:lnTo>
                          <a:lnTo>
                            <a:pt x="571" y="1856"/>
                          </a:lnTo>
                          <a:lnTo>
                            <a:pt x="558" y="1839"/>
                          </a:lnTo>
                          <a:lnTo>
                            <a:pt x="543" y="1821"/>
                          </a:lnTo>
                          <a:lnTo>
                            <a:pt x="528" y="1803"/>
                          </a:lnTo>
                          <a:lnTo>
                            <a:pt x="513" y="1785"/>
                          </a:lnTo>
                          <a:lnTo>
                            <a:pt x="497" y="177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0" name=""/>
                    <p:cNvSpPr/>
                    <p:nvPr/>
                  </p:nvSpPr>
                  <p:spPr>
                    <a:xfrm>
                      <a:off x="782640" y="7084440"/>
                      <a:ext cx="45360" cy="103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8" h="745">
                          <a:moveTo>
                            <a:pt x="388" y="745"/>
                          </a:moveTo>
                          <a:lnTo>
                            <a:pt x="375" y="720"/>
                          </a:lnTo>
                          <a:lnTo>
                            <a:pt x="365" y="695"/>
                          </a:lnTo>
                          <a:lnTo>
                            <a:pt x="355" y="669"/>
                          </a:lnTo>
                          <a:lnTo>
                            <a:pt x="345" y="647"/>
                          </a:lnTo>
                          <a:lnTo>
                            <a:pt x="332" y="621"/>
                          </a:lnTo>
                          <a:lnTo>
                            <a:pt x="324" y="596"/>
                          </a:lnTo>
                          <a:lnTo>
                            <a:pt x="312" y="573"/>
                          </a:lnTo>
                          <a:lnTo>
                            <a:pt x="304" y="550"/>
                          </a:lnTo>
                          <a:lnTo>
                            <a:pt x="291" y="525"/>
                          </a:lnTo>
                          <a:lnTo>
                            <a:pt x="281" y="500"/>
                          </a:lnTo>
                          <a:lnTo>
                            <a:pt x="271" y="474"/>
                          </a:lnTo>
                          <a:lnTo>
                            <a:pt x="261" y="451"/>
                          </a:lnTo>
                          <a:lnTo>
                            <a:pt x="248" y="426"/>
                          </a:lnTo>
                          <a:lnTo>
                            <a:pt x="238" y="403"/>
                          </a:lnTo>
                          <a:lnTo>
                            <a:pt x="228" y="380"/>
                          </a:lnTo>
                          <a:lnTo>
                            <a:pt x="218" y="358"/>
                          </a:lnTo>
                          <a:lnTo>
                            <a:pt x="203" y="332"/>
                          </a:lnTo>
                          <a:lnTo>
                            <a:pt x="192" y="309"/>
                          </a:lnTo>
                          <a:lnTo>
                            <a:pt x="177" y="284"/>
                          </a:lnTo>
                          <a:lnTo>
                            <a:pt x="167" y="261"/>
                          </a:lnTo>
                          <a:lnTo>
                            <a:pt x="152" y="238"/>
                          </a:lnTo>
                          <a:lnTo>
                            <a:pt x="142" y="216"/>
                          </a:lnTo>
                          <a:lnTo>
                            <a:pt x="127" y="193"/>
                          </a:lnTo>
                          <a:lnTo>
                            <a:pt x="116" y="170"/>
                          </a:lnTo>
                          <a:lnTo>
                            <a:pt x="101" y="147"/>
                          </a:lnTo>
                          <a:lnTo>
                            <a:pt x="88" y="124"/>
                          </a:lnTo>
                          <a:lnTo>
                            <a:pt x="73" y="101"/>
                          </a:lnTo>
                          <a:lnTo>
                            <a:pt x="61" y="81"/>
                          </a:lnTo>
                          <a:lnTo>
                            <a:pt x="45" y="58"/>
                          </a:lnTo>
                          <a:lnTo>
                            <a:pt x="30" y="38"/>
                          </a:lnTo>
                          <a:lnTo>
                            <a:pt x="15" y="18"/>
                          </a:lnTo>
                          <a:lnTo>
                            <a:pt x="0" y="0"/>
                          </a:lnTo>
                          <a:lnTo>
                            <a:pt x="2" y="23"/>
                          </a:lnTo>
                          <a:lnTo>
                            <a:pt x="7" y="51"/>
                          </a:lnTo>
                          <a:lnTo>
                            <a:pt x="12" y="74"/>
                          </a:lnTo>
                          <a:lnTo>
                            <a:pt x="20" y="101"/>
                          </a:lnTo>
                          <a:lnTo>
                            <a:pt x="28" y="124"/>
                          </a:lnTo>
                          <a:lnTo>
                            <a:pt x="35" y="150"/>
                          </a:lnTo>
                          <a:lnTo>
                            <a:pt x="43" y="175"/>
                          </a:lnTo>
                          <a:lnTo>
                            <a:pt x="56" y="200"/>
                          </a:lnTo>
                          <a:lnTo>
                            <a:pt x="63" y="223"/>
                          </a:lnTo>
                          <a:lnTo>
                            <a:pt x="73" y="249"/>
                          </a:lnTo>
                          <a:lnTo>
                            <a:pt x="83" y="271"/>
                          </a:lnTo>
                          <a:lnTo>
                            <a:pt x="99" y="297"/>
                          </a:lnTo>
                          <a:lnTo>
                            <a:pt x="109" y="320"/>
                          </a:lnTo>
                          <a:lnTo>
                            <a:pt x="121" y="342"/>
                          </a:lnTo>
                          <a:lnTo>
                            <a:pt x="134" y="365"/>
                          </a:lnTo>
                          <a:lnTo>
                            <a:pt x="149" y="391"/>
                          </a:lnTo>
                          <a:lnTo>
                            <a:pt x="162" y="411"/>
                          </a:lnTo>
                          <a:lnTo>
                            <a:pt x="175" y="434"/>
                          </a:lnTo>
                          <a:lnTo>
                            <a:pt x="187" y="456"/>
                          </a:lnTo>
                          <a:lnTo>
                            <a:pt x="203" y="479"/>
                          </a:lnTo>
                          <a:lnTo>
                            <a:pt x="218" y="502"/>
                          </a:lnTo>
                          <a:lnTo>
                            <a:pt x="233" y="525"/>
                          </a:lnTo>
                          <a:lnTo>
                            <a:pt x="248" y="548"/>
                          </a:lnTo>
                          <a:lnTo>
                            <a:pt x="263" y="571"/>
                          </a:lnTo>
                          <a:lnTo>
                            <a:pt x="279" y="591"/>
                          </a:lnTo>
                          <a:lnTo>
                            <a:pt x="294" y="614"/>
                          </a:lnTo>
                          <a:lnTo>
                            <a:pt x="309" y="634"/>
                          </a:lnTo>
                          <a:lnTo>
                            <a:pt x="324" y="657"/>
                          </a:lnTo>
                          <a:lnTo>
                            <a:pt x="340" y="677"/>
                          </a:lnTo>
                          <a:lnTo>
                            <a:pt x="355" y="700"/>
                          </a:lnTo>
                          <a:lnTo>
                            <a:pt x="370" y="723"/>
                          </a:lnTo>
                          <a:lnTo>
                            <a:pt x="388" y="74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1" name=""/>
                    <p:cNvSpPr/>
                    <p:nvPr/>
                  </p:nvSpPr>
                  <p:spPr>
                    <a:xfrm>
                      <a:off x="770040" y="6985800"/>
                      <a:ext cx="142200" cy="292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08" h="2109">
                          <a:moveTo>
                            <a:pt x="878" y="1952"/>
                          </a:moveTo>
                          <a:lnTo>
                            <a:pt x="870" y="1924"/>
                          </a:lnTo>
                          <a:lnTo>
                            <a:pt x="863" y="1899"/>
                          </a:lnTo>
                          <a:lnTo>
                            <a:pt x="855" y="1871"/>
                          </a:lnTo>
                          <a:lnTo>
                            <a:pt x="847" y="1845"/>
                          </a:lnTo>
                          <a:lnTo>
                            <a:pt x="840" y="1818"/>
                          </a:lnTo>
                          <a:lnTo>
                            <a:pt x="832" y="1792"/>
                          </a:lnTo>
                          <a:lnTo>
                            <a:pt x="825" y="1764"/>
                          </a:lnTo>
                          <a:lnTo>
                            <a:pt x="817" y="1741"/>
                          </a:lnTo>
                          <a:lnTo>
                            <a:pt x="807" y="1714"/>
                          </a:lnTo>
                          <a:lnTo>
                            <a:pt x="799" y="1688"/>
                          </a:lnTo>
                          <a:lnTo>
                            <a:pt x="789" y="1663"/>
                          </a:lnTo>
                          <a:lnTo>
                            <a:pt x="781" y="1640"/>
                          </a:lnTo>
                          <a:lnTo>
                            <a:pt x="771" y="1615"/>
                          </a:lnTo>
                          <a:lnTo>
                            <a:pt x="764" y="1589"/>
                          </a:lnTo>
                          <a:lnTo>
                            <a:pt x="753" y="1564"/>
                          </a:lnTo>
                          <a:lnTo>
                            <a:pt x="746" y="1541"/>
                          </a:lnTo>
                          <a:lnTo>
                            <a:pt x="733" y="1513"/>
                          </a:lnTo>
                          <a:lnTo>
                            <a:pt x="723" y="1488"/>
                          </a:lnTo>
                          <a:lnTo>
                            <a:pt x="713" y="1463"/>
                          </a:lnTo>
                          <a:lnTo>
                            <a:pt x="703" y="1440"/>
                          </a:lnTo>
                          <a:lnTo>
                            <a:pt x="690" y="1414"/>
                          </a:lnTo>
                          <a:lnTo>
                            <a:pt x="682" y="1389"/>
                          </a:lnTo>
                          <a:lnTo>
                            <a:pt x="670" y="1364"/>
                          </a:lnTo>
                          <a:lnTo>
                            <a:pt x="662" y="1341"/>
                          </a:lnTo>
                          <a:lnTo>
                            <a:pt x="649" y="1316"/>
                          </a:lnTo>
                          <a:lnTo>
                            <a:pt x="639" y="1293"/>
                          </a:lnTo>
                          <a:lnTo>
                            <a:pt x="627" y="1267"/>
                          </a:lnTo>
                          <a:lnTo>
                            <a:pt x="617" y="1245"/>
                          </a:lnTo>
                          <a:lnTo>
                            <a:pt x="604" y="1219"/>
                          </a:lnTo>
                          <a:lnTo>
                            <a:pt x="594" y="1196"/>
                          </a:lnTo>
                          <a:lnTo>
                            <a:pt x="581" y="1174"/>
                          </a:lnTo>
                          <a:lnTo>
                            <a:pt x="571" y="1151"/>
                          </a:lnTo>
                          <a:lnTo>
                            <a:pt x="556" y="1125"/>
                          </a:lnTo>
                          <a:lnTo>
                            <a:pt x="546" y="1100"/>
                          </a:lnTo>
                          <a:lnTo>
                            <a:pt x="530" y="1075"/>
                          </a:lnTo>
                          <a:lnTo>
                            <a:pt x="520" y="1052"/>
                          </a:lnTo>
                          <a:lnTo>
                            <a:pt x="507" y="1026"/>
                          </a:lnTo>
                          <a:lnTo>
                            <a:pt x="495" y="1004"/>
                          </a:lnTo>
                          <a:lnTo>
                            <a:pt x="482" y="981"/>
                          </a:lnTo>
                          <a:lnTo>
                            <a:pt x="472" y="958"/>
                          </a:lnTo>
                          <a:lnTo>
                            <a:pt x="457" y="933"/>
                          </a:lnTo>
                          <a:lnTo>
                            <a:pt x="444" y="910"/>
                          </a:lnTo>
                          <a:lnTo>
                            <a:pt x="431" y="887"/>
                          </a:lnTo>
                          <a:lnTo>
                            <a:pt x="419" y="864"/>
                          </a:lnTo>
                          <a:lnTo>
                            <a:pt x="403" y="839"/>
                          </a:lnTo>
                          <a:lnTo>
                            <a:pt x="393" y="816"/>
                          </a:lnTo>
                          <a:lnTo>
                            <a:pt x="378" y="793"/>
                          </a:lnTo>
                          <a:lnTo>
                            <a:pt x="368" y="770"/>
                          </a:lnTo>
                          <a:lnTo>
                            <a:pt x="353" y="745"/>
                          </a:lnTo>
                          <a:lnTo>
                            <a:pt x="340" y="722"/>
                          </a:lnTo>
                          <a:lnTo>
                            <a:pt x="325" y="699"/>
                          </a:lnTo>
                          <a:lnTo>
                            <a:pt x="312" y="677"/>
                          </a:lnTo>
                          <a:lnTo>
                            <a:pt x="297" y="654"/>
                          </a:lnTo>
                          <a:lnTo>
                            <a:pt x="284" y="631"/>
                          </a:lnTo>
                          <a:lnTo>
                            <a:pt x="272" y="608"/>
                          </a:lnTo>
                          <a:lnTo>
                            <a:pt x="259" y="585"/>
                          </a:lnTo>
                          <a:lnTo>
                            <a:pt x="244" y="560"/>
                          </a:lnTo>
                          <a:lnTo>
                            <a:pt x="231" y="537"/>
                          </a:lnTo>
                          <a:lnTo>
                            <a:pt x="216" y="514"/>
                          </a:lnTo>
                          <a:lnTo>
                            <a:pt x="203" y="491"/>
                          </a:lnTo>
                          <a:lnTo>
                            <a:pt x="188" y="469"/>
                          </a:lnTo>
                          <a:lnTo>
                            <a:pt x="175" y="446"/>
                          </a:lnTo>
                          <a:lnTo>
                            <a:pt x="163" y="423"/>
                          </a:lnTo>
                          <a:lnTo>
                            <a:pt x="150" y="400"/>
                          </a:lnTo>
                          <a:lnTo>
                            <a:pt x="137" y="382"/>
                          </a:lnTo>
                          <a:lnTo>
                            <a:pt x="127" y="367"/>
                          </a:lnTo>
                          <a:lnTo>
                            <a:pt x="114" y="352"/>
                          </a:lnTo>
                          <a:lnTo>
                            <a:pt x="102" y="339"/>
                          </a:lnTo>
                          <a:lnTo>
                            <a:pt x="86" y="324"/>
                          </a:lnTo>
                          <a:lnTo>
                            <a:pt x="74" y="309"/>
                          </a:lnTo>
                          <a:lnTo>
                            <a:pt x="59" y="294"/>
                          </a:lnTo>
                          <a:lnTo>
                            <a:pt x="46" y="281"/>
                          </a:lnTo>
                          <a:lnTo>
                            <a:pt x="31" y="266"/>
                          </a:lnTo>
                          <a:lnTo>
                            <a:pt x="20" y="251"/>
                          </a:lnTo>
                          <a:lnTo>
                            <a:pt x="10" y="235"/>
                          </a:lnTo>
                          <a:lnTo>
                            <a:pt x="5" y="220"/>
                          </a:lnTo>
                          <a:lnTo>
                            <a:pt x="0" y="202"/>
                          </a:lnTo>
                          <a:lnTo>
                            <a:pt x="3" y="185"/>
                          </a:lnTo>
                          <a:lnTo>
                            <a:pt x="5" y="164"/>
                          </a:lnTo>
                          <a:lnTo>
                            <a:pt x="15" y="147"/>
                          </a:lnTo>
                          <a:lnTo>
                            <a:pt x="28" y="126"/>
                          </a:lnTo>
                          <a:lnTo>
                            <a:pt x="41" y="109"/>
                          </a:lnTo>
                          <a:lnTo>
                            <a:pt x="48" y="91"/>
                          </a:lnTo>
                          <a:lnTo>
                            <a:pt x="59" y="73"/>
                          </a:lnTo>
                          <a:lnTo>
                            <a:pt x="64" y="53"/>
                          </a:lnTo>
                          <a:lnTo>
                            <a:pt x="71" y="35"/>
                          </a:lnTo>
                          <a:lnTo>
                            <a:pt x="79" y="15"/>
                          </a:lnTo>
                          <a:lnTo>
                            <a:pt x="91" y="0"/>
                          </a:lnTo>
                          <a:lnTo>
                            <a:pt x="107" y="12"/>
                          </a:lnTo>
                          <a:lnTo>
                            <a:pt x="124" y="25"/>
                          </a:lnTo>
                          <a:lnTo>
                            <a:pt x="140" y="38"/>
                          </a:lnTo>
                          <a:lnTo>
                            <a:pt x="157" y="53"/>
                          </a:lnTo>
                          <a:lnTo>
                            <a:pt x="173" y="65"/>
                          </a:lnTo>
                          <a:lnTo>
                            <a:pt x="190" y="81"/>
                          </a:lnTo>
                          <a:lnTo>
                            <a:pt x="208" y="96"/>
                          </a:lnTo>
                          <a:lnTo>
                            <a:pt x="226" y="111"/>
                          </a:lnTo>
                          <a:lnTo>
                            <a:pt x="241" y="126"/>
                          </a:lnTo>
                          <a:lnTo>
                            <a:pt x="256" y="142"/>
                          </a:lnTo>
                          <a:lnTo>
                            <a:pt x="272" y="157"/>
                          </a:lnTo>
                          <a:lnTo>
                            <a:pt x="287" y="172"/>
                          </a:lnTo>
                          <a:lnTo>
                            <a:pt x="302" y="187"/>
                          </a:lnTo>
                          <a:lnTo>
                            <a:pt x="317" y="205"/>
                          </a:lnTo>
                          <a:lnTo>
                            <a:pt x="332" y="223"/>
                          </a:lnTo>
                          <a:lnTo>
                            <a:pt x="350" y="240"/>
                          </a:lnTo>
                          <a:lnTo>
                            <a:pt x="363" y="256"/>
                          </a:lnTo>
                          <a:lnTo>
                            <a:pt x="378" y="271"/>
                          </a:lnTo>
                          <a:lnTo>
                            <a:pt x="391" y="289"/>
                          </a:lnTo>
                          <a:lnTo>
                            <a:pt x="406" y="306"/>
                          </a:lnTo>
                          <a:lnTo>
                            <a:pt x="419" y="322"/>
                          </a:lnTo>
                          <a:lnTo>
                            <a:pt x="434" y="339"/>
                          </a:lnTo>
                          <a:lnTo>
                            <a:pt x="447" y="357"/>
                          </a:lnTo>
                          <a:lnTo>
                            <a:pt x="462" y="377"/>
                          </a:lnTo>
                          <a:lnTo>
                            <a:pt x="474" y="393"/>
                          </a:lnTo>
                          <a:lnTo>
                            <a:pt x="487" y="413"/>
                          </a:lnTo>
                          <a:lnTo>
                            <a:pt x="500" y="428"/>
                          </a:lnTo>
                          <a:lnTo>
                            <a:pt x="513" y="448"/>
                          </a:lnTo>
                          <a:lnTo>
                            <a:pt x="525" y="466"/>
                          </a:lnTo>
                          <a:lnTo>
                            <a:pt x="538" y="486"/>
                          </a:lnTo>
                          <a:lnTo>
                            <a:pt x="551" y="504"/>
                          </a:lnTo>
                          <a:lnTo>
                            <a:pt x="566" y="524"/>
                          </a:lnTo>
                          <a:lnTo>
                            <a:pt x="576" y="540"/>
                          </a:lnTo>
                          <a:lnTo>
                            <a:pt x="589" y="560"/>
                          </a:lnTo>
                          <a:lnTo>
                            <a:pt x="599" y="578"/>
                          </a:lnTo>
                          <a:lnTo>
                            <a:pt x="614" y="598"/>
                          </a:lnTo>
                          <a:lnTo>
                            <a:pt x="624" y="616"/>
                          </a:lnTo>
                          <a:lnTo>
                            <a:pt x="637" y="636"/>
                          </a:lnTo>
                          <a:lnTo>
                            <a:pt x="647" y="654"/>
                          </a:lnTo>
                          <a:lnTo>
                            <a:pt x="662" y="674"/>
                          </a:lnTo>
                          <a:lnTo>
                            <a:pt x="672" y="692"/>
                          </a:lnTo>
                          <a:lnTo>
                            <a:pt x="685" y="712"/>
                          </a:lnTo>
                          <a:lnTo>
                            <a:pt x="695" y="730"/>
                          </a:lnTo>
                          <a:lnTo>
                            <a:pt x="710" y="750"/>
                          </a:lnTo>
                          <a:lnTo>
                            <a:pt x="721" y="768"/>
                          </a:lnTo>
                          <a:lnTo>
                            <a:pt x="733" y="788"/>
                          </a:lnTo>
                          <a:lnTo>
                            <a:pt x="743" y="808"/>
                          </a:lnTo>
                          <a:lnTo>
                            <a:pt x="759" y="829"/>
                          </a:lnTo>
                          <a:lnTo>
                            <a:pt x="769" y="846"/>
                          </a:lnTo>
                          <a:lnTo>
                            <a:pt x="781" y="867"/>
                          </a:lnTo>
                          <a:lnTo>
                            <a:pt x="792" y="884"/>
                          </a:lnTo>
                          <a:lnTo>
                            <a:pt x="804" y="905"/>
                          </a:lnTo>
                          <a:lnTo>
                            <a:pt x="814" y="922"/>
                          </a:lnTo>
                          <a:lnTo>
                            <a:pt x="827" y="943"/>
                          </a:lnTo>
                          <a:lnTo>
                            <a:pt x="837" y="961"/>
                          </a:lnTo>
                          <a:lnTo>
                            <a:pt x="850" y="981"/>
                          </a:lnTo>
                          <a:lnTo>
                            <a:pt x="860" y="999"/>
                          </a:lnTo>
                          <a:lnTo>
                            <a:pt x="873" y="1019"/>
                          </a:lnTo>
                          <a:lnTo>
                            <a:pt x="883" y="1037"/>
                          </a:lnTo>
                          <a:lnTo>
                            <a:pt x="896" y="1057"/>
                          </a:lnTo>
                          <a:lnTo>
                            <a:pt x="906" y="1075"/>
                          </a:lnTo>
                          <a:lnTo>
                            <a:pt x="918" y="1095"/>
                          </a:lnTo>
                          <a:lnTo>
                            <a:pt x="928" y="1113"/>
                          </a:lnTo>
                          <a:lnTo>
                            <a:pt x="944" y="1133"/>
                          </a:lnTo>
                          <a:lnTo>
                            <a:pt x="954" y="1153"/>
                          </a:lnTo>
                          <a:lnTo>
                            <a:pt x="967" y="1176"/>
                          </a:lnTo>
                          <a:lnTo>
                            <a:pt x="979" y="1199"/>
                          </a:lnTo>
                          <a:lnTo>
                            <a:pt x="992" y="1222"/>
                          </a:lnTo>
                          <a:lnTo>
                            <a:pt x="1002" y="1245"/>
                          </a:lnTo>
                          <a:lnTo>
                            <a:pt x="1015" y="1267"/>
                          </a:lnTo>
                          <a:lnTo>
                            <a:pt x="1027" y="1290"/>
                          </a:lnTo>
                          <a:lnTo>
                            <a:pt x="1040" y="1313"/>
                          </a:lnTo>
                          <a:lnTo>
                            <a:pt x="1050" y="1336"/>
                          </a:lnTo>
                          <a:lnTo>
                            <a:pt x="1060" y="1359"/>
                          </a:lnTo>
                          <a:lnTo>
                            <a:pt x="1071" y="1381"/>
                          </a:lnTo>
                          <a:lnTo>
                            <a:pt x="1083" y="1404"/>
                          </a:lnTo>
                          <a:lnTo>
                            <a:pt x="1091" y="1427"/>
                          </a:lnTo>
                          <a:lnTo>
                            <a:pt x="1101" y="1452"/>
                          </a:lnTo>
                          <a:lnTo>
                            <a:pt x="1111" y="1475"/>
                          </a:lnTo>
                          <a:lnTo>
                            <a:pt x="1121" y="1501"/>
                          </a:lnTo>
                          <a:lnTo>
                            <a:pt x="1129" y="1523"/>
                          </a:lnTo>
                          <a:lnTo>
                            <a:pt x="1136" y="1546"/>
                          </a:lnTo>
                          <a:lnTo>
                            <a:pt x="1144" y="1569"/>
                          </a:lnTo>
                          <a:lnTo>
                            <a:pt x="1152" y="1594"/>
                          </a:lnTo>
                          <a:lnTo>
                            <a:pt x="1157" y="1617"/>
                          </a:lnTo>
                          <a:lnTo>
                            <a:pt x="1164" y="1643"/>
                          </a:lnTo>
                          <a:lnTo>
                            <a:pt x="1169" y="1668"/>
                          </a:lnTo>
                          <a:lnTo>
                            <a:pt x="1177" y="1696"/>
                          </a:lnTo>
                          <a:lnTo>
                            <a:pt x="1180" y="1719"/>
                          </a:lnTo>
                          <a:lnTo>
                            <a:pt x="1185" y="1744"/>
                          </a:lnTo>
                          <a:lnTo>
                            <a:pt x="1190" y="1769"/>
                          </a:lnTo>
                          <a:lnTo>
                            <a:pt x="1195" y="1797"/>
                          </a:lnTo>
                          <a:lnTo>
                            <a:pt x="1197" y="1823"/>
                          </a:lnTo>
                          <a:lnTo>
                            <a:pt x="1200" y="1850"/>
                          </a:lnTo>
                          <a:lnTo>
                            <a:pt x="1202" y="1876"/>
                          </a:lnTo>
                          <a:lnTo>
                            <a:pt x="1208" y="1904"/>
                          </a:lnTo>
                          <a:lnTo>
                            <a:pt x="1190" y="1924"/>
                          </a:lnTo>
                          <a:lnTo>
                            <a:pt x="1169" y="1947"/>
                          </a:lnTo>
                          <a:lnTo>
                            <a:pt x="1154" y="1960"/>
                          </a:lnTo>
                          <a:lnTo>
                            <a:pt x="1142" y="1972"/>
                          </a:lnTo>
                          <a:lnTo>
                            <a:pt x="1126" y="1985"/>
                          </a:lnTo>
                          <a:lnTo>
                            <a:pt x="1114" y="2000"/>
                          </a:lnTo>
                          <a:lnTo>
                            <a:pt x="1096" y="2013"/>
                          </a:lnTo>
                          <a:lnTo>
                            <a:pt x="1081" y="2025"/>
                          </a:lnTo>
                          <a:lnTo>
                            <a:pt x="1063" y="2038"/>
                          </a:lnTo>
                          <a:lnTo>
                            <a:pt x="1048" y="2051"/>
                          </a:lnTo>
                          <a:lnTo>
                            <a:pt x="1030" y="2061"/>
                          </a:lnTo>
                          <a:lnTo>
                            <a:pt x="1015" y="2071"/>
                          </a:lnTo>
                          <a:lnTo>
                            <a:pt x="1000" y="2081"/>
                          </a:lnTo>
                          <a:lnTo>
                            <a:pt x="984" y="2091"/>
                          </a:lnTo>
                          <a:lnTo>
                            <a:pt x="967" y="2096"/>
                          </a:lnTo>
                          <a:lnTo>
                            <a:pt x="951" y="2102"/>
                          </a:lnTo>
                          <a:lnTo>
                            <a:pt x="936" y="2104"/>
                          </a:lnTo>
                          <a:lnTo>
                            <a:pt x="923" y="2109"/>
                          </a:lnTo>
                          <a:lnTo>
                            <a:pt x="898" y="2107"/>
                          </a:lnTo>
                          <a:lnTo>
                            <a:pt x="880" y="2099"/>
                          </a:lnTo>
                          <a:lnTo>
                            <a:pt x="873" y="2089"/>
                          </a:lnTo>
                          <a:lnTo>
                            <a:pt x="868" y="2076"/>
                          </a:lnTo>
                          <a:lnTo>
                            <a:pt x="863" y="2061"/>
                          </a:lnTo>
                          <a:lnTo>
                            <a:pt x="863" y="2048"/>
                          </a:lnTo>
                          <a:lnTo>
                            <a:pt x="860" y="2028"/>
                          </a:lnTo>
                          <a:lnTo>
                            <a:pt x="863" y="2005"/>
                          </a:lnTo>
                          <a:lnTo>
                            <a:pt x="863" y="1992"/>
                          </a:lnTo>
                          <a:lnTo>
                            <a:pt x="868" y="1980"/>
                          </a:lnTo>
                          <a:lnTo>
                            <a:pt x="870" y="1965"/>
                          </a:lnTo>
                          <a:lnTo>
                            <a:pt x="878" y="1952"/>
                          </a:lnTo>
                          <a:close/>
                        </a:path>
                      </a:pathLst>
                    </a:custGeom>
                    <a:solidFill>
                      <a:srgbClr val="a6a6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2" name=""/>
                    <p:cNvSpPr/>
                    <p:nvPr/>
                  </p:nvSpPr>
                  <p:spPr>
                    <a:xfrm>
                      <a:off x="933480" y="7094880"/>
                      <a:ext cx="47520" cy="69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6" h="499">
                          <a:moveTo>
                            <a:pt x="335" y="476"/>
                          </a:moveTo>
                          <a:lnTo>
                            <a:pt x="312" y="476"/>
                          </a:lnTo>
                          <a:lnTo>
                            <a:pt x="292" y="476"/>
                          </a:lnTo>
                          <a:lnTo>
                            <a:pt x="269" y="474"/>
                          </a:lnTo>
                          <a:lnTo>
                            <a:pt x="249" y="471"/>
                          </a:lnTo>
                          <a:lnTo>
                            <a:pt x="226" y="464"/>
                          </a:lnTo>
                          <a:lnTo>
                            <a:pt x="206" y="456"/>
                          </a:lnTo>
                          <a:lnTo>
                            <a:pt x="185" y="448"/>
                          </a:lnTo>
                          <a:lnTo>
                            <a:pt x="168" y="441"/>
                          </a:lnTo>
                          <a:lnTo>
                            <a:pt x="147" y="428"/>
                          </a:lnTo>
                          <a:lnTo>
                            <a:pt x="129" y="415"/>
                          </a:lnTo>
                          <a:lnTo>
                            <a:pt x="109" y="400"/>
                          </a:lnTo>
                          <a:lnTo>
                            <a:pt x="94" y="385"/>
                          </a:lnTo>
                          <a:lnTo>
                            <a:pt x="79" y="367"/>
                          </a:lnTo>
                          <a:lnTo>
                            <a:pt x="64" y="349"/>
                          </a:lnTo>
                          <a:lnTo>
                            <a:pt x="48" y="332"/>
                          </a:lnTo>
                          <a:lnTo>
                            <a:pt x="38" y="314"/>
                          </a:lnTo>
                          <a:lnTo>
                            <a:pt x="31" y="296"/>
                          </a:lnTo>
                          <a:lnTo>
                            <a:pt x="25" y="278"/>
                          </a:lnTo>
                          <a:lnTo>
                            <a:pt x="18" y="261"/>
                          </a:lnTo>
                          <a:lnTo>
                            <a:pt x="15" y="243"/>
                          </a:lnTo>
                          <a:lnTo>
                            <a:pt x="8" y="223"/>
                          </a:lnTo>
                          <a:lnTo>
                            <a:pt x="5" y="202"/>
                          </a:lnTo>
                          <a:lnTo>
                            <a:pt x="3" y="182"/>
                          </a:lnTo>
                          <a:lnTo>
                            <a:pt x="3" y="164"/>
                          </a:lnTo>
                          <a:lnTo>
                            <a:pt x="0" y="144"/>
                          </a:lnTo>
                          <a:lnTo>
                            <a:pt x="3" y="126"/>
                          </a:lnTo>
                          <a:lnTo>
                            <a:pt x="3" y="106"/>
                          </a:lnTo>
                          <a:lnTo>
                            <a:pt x="10" y="88"/>
                          </a:lnTo>
                          <a:lnTo>
                            <a:pt x="13" y="71"/>
                          </a:lnTo>
                          <a:lnTo>
                            <a:pt x="23" y="53"/>
                          </a:lnTo>
                          <a:lnTo>
                            <a:pt x="33" y="38"/>
                          </a:lnTo>
                          <a:lnTo>
                            <a:pt x="48" y="25"/>
                          </a:lnTo>
                          <a:lnTo>
                            <a:pt x="66" y="10"/>
                          </a:lnTo>
                          <a:lnTo>
                            <a:pt x="84" y="5"/>
                          </a:lnTo>
                          <a:lnTo>
                            <a:pt x="102" y="0"/>
                          </a:lnTo>
                          <a:lnTo>
                            <a:pt x="122" y="2"/>
                          </a:lnTo>
                          <a:lnTo>
                            <a:pt x="140" y="2"/>
                          </a:lnTo>
                          <a:lnTo>
                            <a:pt x="160" y="2"/>
                          </a:lnTo>
                          <a:lnTo>
                            <a:pt x="170" y="2"/>
                          </a:lnTo>
                          <a:lnTo>
                            <a:pt x="183" y="2"/>
                          </a:lnTo>
                          <a:lnTo>
                            <a:pt x="195" y="2"/>
                          </a:lnTo>
                          <a:lnTo>
                            <a:pt x="211" y="2"/>
                          </a:lnTo>
                          <a:lnTo>
                            <a:pt x="233" y="15"/>
                          </a:lnTo>
                          <a:lnTo>
                            <a:pt x="259" y="30"/>
                          </a:lnTo>
                          <a:lnTo>
                            <a:pt x="279" y="48"/>
                          </a:lnTo>
                          <a:lnTo>
                            <a:pt x="302" y="68"/>
                          </a:lnTo>
                          <a:lnTo>
                            <a:pt x="317" y="88"/>
                          </a:lnTo>
                          <a:lnTo>
                            <a:pt x="335" y="111"/>
                          </a:lnTo>
                          <a:lnTo>
                            <a:pt x="350" y="134"/>
                          </a:lnTo>
                          <a:lnTo>
                            <a:pt x="365" y="159"/>
                          </a:lnTo>
                          <a:lnTo>
                            <a:pt x="373" y="182"/>
                          </a:lnTo>
                          <a:lnTo>
                            <a:pt x="383" y="210"/>
                          </a:lnTo>
                          <a:lnTo>
                            <a:pt x="388" y="235"/>
                          </a:lnTo>
                          <a:lnTo>
                            <a:pt x="396" y="263"/>
                          </a:lnTo>
                          <a:lnTo>
                            <a:pt x="398" y="289"/>
                          </a:lnTo>
                          <a:lnTo>
                            <a:pt x="403" y="317"/>
                          </a:lnTo>
                          <a:lnTo>
                            <a:pt x="403" y="342"/>
                          </a:lnTo>
                          <a:lnTo>
                            <a:pt x="406" y="370"/>
                          </a:lnTo>
                          <a:lnTo>
                            <a:pt x="396" y="385"/>
                          </a:lnTo>
                          <a:lnTo>
                            <a:pt x="383" y="400"/>
                          </a:lnTo>
                          <a:lnTo>
                            <a:pt x="368" y="415"/>
                          </a:lnTo>
                          <a:lnTo>
                            <a:pt x="355" y="431"/>
                          </a:lnTo>
                          <a:lnTo>
                            <a:pt x="345" y="446"/>
                          </a:lnTo>
                          <a:lnTo>
                            <a:pt x="343" y="464"/>
                          </a:lnTo>
                          <a:lnTo>
                            <a:pt x="348" y="479"/>
                          </a:lnTo>
                          <a:lnTo>
                            <a:pt x="368" y="499"/>
                          </a:lnTo>
                          <a:lnTo>
                            <a:pt x="335" y="499"/>
                          </a:lnTo>
                          <a:lnTo>
                            <a:pt x="335" y="47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2320" bIns="22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3" name=""/>
                    <p:cNvSpPr/>
                    <p:nvPr/>
                  </p:nvSpPr>
                  <p:spPr>
                    <a:xfrm>
                      <a:off x="941760" y="7104600"/>
                      <a:ext cx="30240" cy="4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58" h="301">
                          <a:moveTo>
                            <a:pt x="25" y="185"/>
                          </a:moveTo>
                          <a:lnTo>
                            <a:pt x="17" y="162"/>
                          </a:lnTo>
                          <a:lnTo>
                            <a:pt x="12" y="139"/>
                          </a:lnTo>
                          <a:lnTo>
                            <a:pt x="7" y="116"/>
                          </a:lnTo>
                          <a:lnTo>
                            <a:pt x="2" y="93"/>
                          </a:lnTo>
                          <a:lnTo>
                            <a:pt x="0" y="71"/>
                          </a:lnTo>
                          <a:lnTo>
                            <a:pt x="2" y="48"/>
                          </a:lnTo>
                          <a:lnTo>
                            <a:pt x="12" y="27"/>
                          </a:lnTo>
                          <a:lnTo>
                            <a:pt x="35" y="12"/>
                          </a:lnTo>
                          <a:lnTo>
                            <a:pt x="53" y="2"/>
                          </a:lnTo>
                          <a:lnTo>
                            <a:pt x="71" y="0"/>
                          </a:lnTo>
                          <a:lnTo>
                            <a:pt x="88" y="2"/>
                          </a:lnTo>
                          <a:lnTo>
                            <a:pt x="106" y="10"/>
                          </a:lnTo>
                          <a:lnTo>
                            <a:pt x="121" y="17"/>
                          </a:lnTo>
                          <a:lnTo>
                            <a:pt x="139" y="27"/>
                          </a:lnTo>
                          <a:lnTo>
                            <a:pt x="154" y="35"/>
                          </a:lnTo>
                          <a:lnTo>
                            <a:pt x="175" y="45"/>
                          </a:lnTo>
                          <a:lnTo>
                            <a:pt x="190" y="68"/>
                          </a:lnTo>
                          <a:lnTo>
                            <a:pt x="205" y="96"/>
                          </a:lnTo>
                          <a:lnTo>
                            <a:pt x="220" y="121"/>
                          </a:lnTo>
                          <a:lnTo>
                            <a:pt x="238" y="149"/>
                          </a:lnTo>
                          <a:lnTo>
                            <a:pt x="243" y="162"/>
                          </a:lnTo>
                          <a:lnTo>
                            <a:pt x="248" y="177"/>
                          </a:lnTo>
                          <a:lnTo>
                            <a:pt x="251" y="190"/>
                          </a:lnTo>
                          <a:lnTo>
                            <a:pt x="256" y="205"/>
                          </a:lnTo>
                          <a:lnTo>
                            <a:pt x="256" y="220"/>
                          </a:lnTo>
                          <a:lnTo>
                            <a:pt x="258" y="235"/>
                          </a:lnTo>
                          <a:lnTo>
                            <a:pt x="256" y="251"/>
                          </a:lnTo>
                          <a:lnTo>
                            <a:pt x="256" y="266"/>
                          </a:lnTo>
                          <a:lnTo>
                            <a:pt x="241" y="278"/>
                          </a:lnTo>
                          <a:lnTo>
                            <a:pt x="228" y="289"/>
                          </a:lnTo>
                          <a:lnTo>
                            <a:pt x="213" y="294"/>
                          </a:lnTo>
                          <a:lnTo>
                            <a:pt x="197" y="301"/>
                          </a:lnTo>
                          <a:lnTo>
                            <a:pt x="177" y="301"/>
                          </a:lnTo>
                          <a:lnTo>
                            <a:pt x="162" y="301"/>
                          </a:lnTo>
                          <a:lnTo>
                            <a:pt x="142" y="296"/>
                          </a:lnTo>
                          <a:lnTo>
                            <a:pt x="126" y="294"/>
                          </a:lnTo>
                          <a:lnTo>
                            <a:pt x="109" y="284"/>
                          </a:lnTo>
                          <a:lnTo>
                            <a:pt x="91" y="273"/>
                          </a:lnTo>
                          <a:lnTo>
                            <a:pt x="76" y="261"/>
                          </a:lnTo>
                          <a:lnTo>
                            <a:pt x="63" y="251"/>
                          </a:lnTo>
                          <a:lnTo>
                            <a:pt x="48" y="235"/>
                          </a:lnTo>
                          <a:lnTo>
                            <a:pt x="38" y="220"/>
                          </a:lnTo>
                          <a:lnTo>
                            <a:pt x="30" y="202"/>
                          </a:lnTo>
                          <a:lnTo>
                            <a:pt x="25" y="185"/>
                          </a:lnTo>
                          <a:close/>
                        </a:path>
                      </a:pathLst>
                    </a:custGeom>
                    <a:solidFill>
                      <a:srgbClr val="b34d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040" bIns="-5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4" name=""/>
                    <p:cNvSpPr/>
                    <p:nvPr/>
                  </p:nvSpPr>
                  <p:spPr>
                    <a:xfrm>
                      <a:off x="875520" y="6638400"/>
                      <a:ext cx="259560" cy="438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04" h="3159">
                          <a:moveTo>
                            <a:pt x="1311" y="3159"/>
                          </a:moveTo>
                          <a:lnTo>
                            <a:pt x="1298" y="3136"/>
                          </a:lnTo>
                          <a:lnTo>
                            <a:pt x="1288" y="3116"/>
                          </a:lnTo>
                          <a:lnTo>
                            <a:pt x="1278" y="3096"/>
                          </a:lnTo>
                          <a:lnTo>
                            <a:pt x="1270" y="3076"/>
                          </a:lnTo>
                          <a:lnTo>
                            <a:pt x="1260" y="3055"/>
                          </a:lnTo>
                          <a:lnTo>
                            <a:pt x="1253" y="3035"/>
                          </a:lnTo>
                          <a:lnTo>
                            <a:pt x="1245" y="3015"/>
                          </a:lnTo>
                          <a:lnTo>
                            <a:pt x="1237" y="2994"/>
                          </a:lnTo>
                          <a:lnTo>
                            <a:pt x="1227" y="2972"/>
                          </a:lnTo>
                          <a:lnTo>
                            <a:pt x="1220" y="2951"/>
                          </a:lnTo>
                          <a:lnTo>
                            <a:pt x="1209" y="2931"/>
                          </a:lnTo>
                          <a:lnTo>
                            <a:pt x="1202" y="2913"/>
                          </a:lnTo>
                          <a:lnTo>
                            <a:pt x="1194" y="2891"/>
                          </a:lnTo>
                          <a:lnTo>
                            <a:pt x="1187" y="2870"/>
                          </a:lnTo>
                          <a:lnTo>
                            <a:pt x="1179" y="2850"/>
                          </a:lnTo>
                          <a:lnTo>
                            <a:pt x="1171" y="2832"/>
                          </a:lnTo>
                          <a:lnTo>
                            <a:pt x="1161" y="2809"/>
                          </a:lnTo>
                          <a:lnTo>
                            <a:pt x="1154" y="2789"/>
                          </a:lnTo>
                          <a:lnTo>
                            <a:pt x="1146" y="2769"/>
                          </a:lnTo>
                          <a:lnTo>
                            <a:pt x="1138" y="2749"/>
                          </a:lnTo>
                          <a:lnTo>
                            <a:pt x="1128" y="2726"/>
                          </a:lnTo>
                          <a:lnTo>
                            <a:pt x="1121" y="2705"/>
                          </a:lnTo>
                          <a:lnTo>
                            <a:pt x="1113" y="2685"/>
                          </a:lnTo>
                          <a:lnTo>
                            <a:pt x="1105" y="2667"/>
                          </a:lnTo>
                          <a:lnTo>
                            <a:pt x="1095" y="2645"/>
                          </a:lnTo>
                          <a:lnTo>
                            <a:pt x="1088" y="2624"/>
                          </a:lnTo>
                          <a:lnTo>
                            <a:pt x="1080" y="2604"/>
                          </a:lnTo>
                          <a:lnTo>
                            <a:pt x="1072" y="2584"/>
                          </a:lnTo>
                          <a:lnTo>
                            <a:pt x="1065" y="2563"/>
                          </a:lnTo>
                          <a:lnTo>
                            <a:pt x="1057" y="2543"/>
                          </a:lnTo>
                          <a:lnTo>
                            <a:pt x="1050" y="2523"/>
                          </a:lnTo>
                          <a:lnTo>
                            <a:pt x="1042" y="2505"/>
                          </a:lnTo>
                          <a:lnTo>
                            <a:pt x="1032" y="2482"/>
                          </a:lnTo>
                          <a:lnTo>
                            <a:pt x="1022" y="2462"/>
                          </a:lnTo>
                          <a:lnTo>
                            <a:pt x="1012" y="2442"/>
                          </a:lnTo>
                          <a:lnTo>
                            <a:pt x="1004" y="2421"/>
                          </a:lnTo>
                          <a:lnTo>
                            <a:pt x="994" y="2401"/>
                          </a:lnTo>
                          <a:lnTo>
                            <a:pt x="986" y="2381"/>
                          </a:lnTo>
                          <a:lnTo>
                            <a:pt x="976" y="2361"/>
                          </a:lnTo>
                          <a:lnTo>
                            <a:pt x="968" y="2343"/>
                          </a:lnTo>
                          <a:lnTo>
                            <a:pt x="956" y="2320"/>
                          </a:lnTo>
                          <a:lnTo>
                            <a:pt x="948" y="2302"/>
                          </a:lnTo>
                          <a:lnTo>
                            <a:pt x="935" y="2282"/>
                          </a:lnTo>
                          <a:lnTo>
                            <a:pt x="928" y="2264"/>
                          </a:lnTo>
                          <a:lnTo>
                            <a:pt x="915" y="2244"/>
                          </a:lnTo>
                          <a:lnTo>
                            <a:pt x="905" y="2226"/>
                          </a:lnTo>
                          <a:lnTo>
                            <a:pt x="895" y="2206"/>
                          </a:lnTo>
                          <a:lnTo>
                            <a:pt x="885" y="2188"/>
                          </a:lnTo>
                          <a:lnTo>
                            <a:pt x="872" y="2168"/>
                          </a:lnTo>
                          <a:lnTo>
                            <a:pt x="859" y="2150"/>
                          </a:lnTo>
                          <a:lnTo>
                            <a:pt x="847" y="2130"/>
                          </a:lnTo>
                          <a:lnTo>
                            <a:pt x="837" y="2112"/>
                          </a:lnTo>
                          <a:lnTo>
                            <a:pt x="821" y="2092"/>
                          </a:lnTo>
                          <a:lnTo>
                            <a:pt x="811" y="2074"/>
                          </a:lnTo>
                          <a:lnTo>
                            <a:pt x="796" y="2056"/>
                          </a:lnTo>
                          <a:lnTo>
                            <a:pt x="786" y="2041"/>
                          </a:lnTo>
                          <a:lnTo>
                            <a:pt x="771" y="2021"/>
                          </a:lnTo>
                          <a:lnTo>
                            <a:pt x="758" y="2003"/>
                          </a:lnTo>
                          <a:lnTo>
                            <a:pt x="743" y="1985"/>
                          </a:lnTo>
                          <a:lnTo>
                            <a:pt x="730" y="1970"/>
                          </a:lnTo>
                          <a:lnTo>
                            <a:pt x="715" y="1952"/>
                          </a:lnTo>
                          <a:lnTo>
                            <a:pt x="700" y="1935"/>
                          </a:lnTo>
                          <a:lnTo>
                            <a:pt x="684" y="1919"/>
                          </a:lnTo>
                          <a:lnTo>
                            <a:pt x="669" y="1904"/>
                          </a:lnTo>
                          <a:lnTo>
                            <a:pt x="646" y="1884"/>
                          </a:lnTo>
                          <a:lnTo>
                            <a:pt x="623" y="1866"/>
                          </a:lnTo>
                          <a:lnTo>
                            <a:pt x="601" y="1848"/>
                          </a:lnTo>
                          <a:lnTo>
                            <a:pt x="580" y="1831"/>
                          </a:lnTo>
                          <a:lnTo>
                            <a:pt x="558" y="1810"/>
                          </a:lnTo>
                          <a:lnTo>
                            <a:pt x="540" y="1790"/>
                          </a:lnTo>
                          <a:lnTo>
                            <a:pt x="519" y="1770"/>
                          </a:lnTo>
                          <a:lnTo>
                            <a:pt x="502" y="1752"/>
                          </a:lnTo>
                          <a:lnTo>
                            <a:pt x="481" y="1729"/>
                          </a:lnTo>
                          <a:lnTo>
                            <a:pt x="464" y="1711"/>
                          </a:lnTo>
                          <a:lnTo>
                            <a:pt x="443" y="1689"/>
                          </a:lnTo>
                          <a:lnTo>
                            <a:pt x="426" y="1671"/>
                          </a:lnTo>
                          <a:lnTo>
                            <a:pt x="405" y="1651"/>
                          </a:lnTo>
                          <a:lnTo>
                            <a:pt x="388" y="1633"/>
                          </a:lnTo>
                          <a:lnTo>
                            <a:pt x="370" y="1613"/>
                          </a:lnTo>
                          <a:lnTo>
                            <a:pt x="352" y="1595"/>
                          </a:lnTo>
                          <a:lnTo>
                            <a:pt x="332" y="1575"/>
                          </a:lnTo>
                          <a:lnTo>
                            <a:pt x="312" y="1557"/>
                          </a:lnTo>
                          <a:lnTo>
                            <a:pt x="291" y="1537"/>
                          </a:lnTo>
                          <a:lnTo>
                            <a:pt x="273" y="1521"/>
                          </a:lnTo>
                          <a:lnTo>
                            <a:pt x="253" y="1501"/>
                          </a:lnTo>
                          <a:lnTo>
                            <a:pt x="233" y="1486"/>
                          </a:lnTo>
                          <a:lnTo>
                            <a:pt x="213" y="1471"/>
                          </a:lnTo>
                          <a:lnTo>
                            <a:pt x="192" y="1455"/>
                          </a:lnTo>
                          <a:lnTo>
                            <a:pt x="169" y="1440"/>
                          </a:lnTo>
                          <a:lnTo>
                            <a:pt x="147" y="1425"/>
                          </a:lnTo>
                          <a:lnTo>
                            <a:pt x="124" y="1412"/>
                          </a:lnTo>
                          <a:lnTo>
                            <a:pt x="101" y="1402"/>
                          </a:lnTo>
                          <a:lnTo>
                            <a:pt x="76" y="1389"/>
                          </a:lnTo>
                          <a:lnTo>
                            <a:pt x="50" y="1379"/>
                          </a:lnTo>
                          <a:lnTo>
                            <a:pt x="25" y="1372"/>
                          </a:lnTo>
                          <a:lnTo>
                            <a:pt x="0" y="1364"/>
                          </a:lnTo>
                          <a:lnTo>
                            <a:pt x="0" y="1339"/>
                          </a:lnTo>
                          <a:lnTo>
                            <a:pt x="25" y="1316"/>
                          </a:lnTo>
                          <a:lnTo>
                            <a:pt x="53" y="1293"/>
                          </a:lnTo>
                          <a:lnTo>
                            <a:pt x="78" y="1270"/>
                          </a:lnTo>
                          <a:lnTo>
                            <a:pt x="106" y="1250"/>
                          </a:lnTo>
                          <a:lnTo>
                            <a:pt x="131" y="1227"/>
                          </a:lnTo>
                          <a:lnTo>
                            <a:pt x="159" y="1207"/>
                          </a:lnTo>
                          <a:lnTo>
                            <a:pt x="185" y="1184"/>
                          </a:lnTo>
                          <a:lnTo>
                            <a:pt x="213" y="1164"/>
                          </a:lnTo>
                          <a:lnTo>
                            <a:pt x="238" y="1141"/>
                          </a:lnTo>
                          <a:lnTo>
                            <a:pt x="266" y="1121"/>
                          </a:lnTo>
                          <a:lnTo>
                            <a:pt x="291" y="1100"/>
                          </a:lnTo>
                          <a:lnTo>
                            <a:pt x="322" y="1080"/>
                          </a:lnTo>
                          <a:lnTo>
                            <a:pt x="347" y="1057"/>
                          </a:lnTo>
                          <a:lnTo>
                            <a:pt x="375" y="1037"/>
                          </a:lnTo>
                          <a:lnTo>
                            <a:pt x="400" y="1017"/>
                          </a:lnTo>
                          <a:lnTo>
                            <a:pt x="431" y="996"/>
                          </a:lnTo>
                          <a:lnTo>
                            <a:pt x="456" y="974"/>
                          </a:lnTo>
                          <a:lnTo>
                            <a:pt x="484" y="953"/>
                          </a:lnTo>
                          <a:lnTo>
                            <a:pt x="512" y="933"/>
                          </a:lnTo>
                          <a:lnTo>
                            <a:pt x="540" y="913"/>
                          </a:lnTo>
                          <a:lnTo>
                            <a:pt x="565" y="890"/>
                          </a:lnTo>
                          <a:lnTo>
                            <a:pt x="596" y="870"/>
                          </a:lnTo>
                          <a:lnTo>
                            <a:pt x="621" y="849"/>
                          </a:lnTo>
                          <a:lnTo>
                            <a:pt x="651" y="829"/>
                          </a:lnTo>
                          <a:lnTo>
                            <a:pt x="677" y="806"/>
                          </a:lnTo>
                          <a:lnTo>
                            <a:pt x="705" y="786"/>
                          </a:lnTo>
                          <a:lnTo>
                            <a:pt x="733" y="766"/>
                          </a:lnTo>
                          <a:lnTo>
                            <a:pt x="760" y="748"/>
                          </a:lnTo>
                          <a:lnTo>
                            <a:pt x="788" y="725"/>
                          </a:lnTo>
                          <a:lnTo>
                            <a:pt x="816" y="705"/>
                          </a:lnTo>
                          <a:lnTo>
                            <a:pt x="844" y="685"/>
                          </a:lnTo>
                          <a:lnTo>
                            <a:pt x="875" y="667"/>
                          </a:lnTo>
                          <a:lnTo>
                            <a:pt x="900" y="644"/>
                          </a:lnTo>
                          <a:lnTo>
                            <a:pt x="928" y="624"/>
                          </a:lnTo>
                          <a:lnTo>
                            <a:pt x="956" y="603"/>
                          </a:lnTo>
                          <a:lnTo>
                            <a:pt x="984" y="583"/>
                          </a:lnTo>
                          <a:lnTo>
                            <a:pt x="1009" y="560"/>
                          </a:lnTo>
                          <a:lnTo>
                            <a:pt x="1039" y="540"/>
                          </a:lnTo>
                          <a:lnTo>
                            <a:pt x="1065" y="520"/>
                          </a:lnTo>
                          <a:lnTo>
                            <a:pt x="1095" y="500"/>
                          </a:lnTo>
                          <a:lnTo>
                            <a:pt x="1121" y="477"/>
                          </a:lnTo>
                          <a:lnTo>
                            <a:pt x="1149" y="456"/>
                          </a:lnTo>
                          <a:lnTo>
                            <a:pt x="1176" y="436"/>
                          </a:lnTo>
                          <a:lnTo>
                            <a:pt x="1207" y="416"/>
                          </a:lnTo>
                          <a:lnTo>
                            <a:pt x="1232" y="393"/>
                          </a:lnTo>
                          <a:lnTo>
                            <a:pt x="1260" y="375"/>
                          </a:lnTo>
                          <a:lnTo>
                            <a:pt x="1288" y="352"/>
                          </a:lnTo>
                          <a:lnTo>
                            <a:pt x="1318" y="335"/>
                          </a:lnTo>
                          <a:lnTo>
                            <a:pt x="1344" y="312"/>
                          </a:lnTo>
                          <a:lnTo>
                            <a:pt x="1372" y="292"/>
                          </a:lnTo>
                          <a:lnTo>
                            <a:pt x="1400" y="271"/>
                          </a:lnTo>
                          <a:lnTo>
                            <a:pt x="1428" y="251"/>
                          </a:lnTo>
                          <a:lnTo>
                            <a:pt x="1453" y="228"/>
                          </a:lnTo>
                          <a:lnTo>
                            <a:pt x="1483" y="208"/>
                          </a:lnTo>
                          <a:lnTo>
                            <a:pt x="1509" y="188"/>
                          </a:lnTo>
                          <a:lnTo>
                            <a:pt x="1539" y="167"/>
                          </a:lnTo>
                          <a:lnTo>
                            <a:pt x="1564" y="145"/>
                          </a:lnTo>
                          <a:lnTo>
                            <a:pt x="1592" y="124"/>
                          </a:lnTo>
                          <a:lnTo>
                            <a:pt x="1620" y="104"/>
                          </a:lnTo>
                          <a:lnTo>
                            <a:pt x="1651" y="84"/>
                          </a:lnTo>
                          <a:lnTo>
                            <a:pt x="1676" y="61"/>
                          </a:lnTo>
                          <a:lnTo>
                            <a:pt x="1704" y="41"/>
                          </a:lnTo>
                          <a:lnTo>
                            <a:pt x="1732" y="20"/>
                          </a:lnTo>
                          <a:lnTo>
                            <a:pt x="1762" y="0"/>
                          </a:lnTo>
                          <a:lnTo>
                            <a:pt x="1783" y="8"/>
                          </a:lnTo>
                          <a:lnTo>
                            <a:pt x="1805" y="15"/>
                          </a:lnTo>
                          <a:lnTo>
                            <a:pt x="1826" y="25"/>
                          </a:lnTo>
                          <a:lnTo>
                            <a:pt x="1849" y="41"/>
                          </a:lnTo>
                          <a:lnTo>
                            <a:pt x="1869" y="56"/>
                          </a:lnTo>
                          <a:lnTo>
                            <a:pt x="1892" y="71"/>
                          </a:lnTo>
                          <a:lnTo>
                            <a:pt x="1912" y="86"/>
                          </a:lnTo>
                          <a:lnTo>
                            <a:pt x="1935" y="107"/>
                          </a:lnTo>
                          <a:lnTo>
                            <a:pt x="1953" y="122"/>
                          </a:lnTo>
                          <a:lnTo>
                            <a:pt x="1973" y="142"/>
                          </a:lnTo>
                          <a:lnTo>
                            <a:pt x="1991" y="162"/>
                          </a:lnTo>
                          <a:lnTo>
                            <a:pt x="2008" y="185"/>
                          </a:lnTo>
                          <a:lnTo>
                            <a:pt x="2024" y="205"/>
                          </a:lnTo>
                          <a:lnTo>
                            <a:pt x="2039" y="228"/>
                          </a:lnTo>
                          <a:lnTo>
                            <a:pt x="2054" y="251"/>
                          </a:lnTo>
                          <a:lnTo>
                            <a:pt x="2069" y="274"/>
                          </a:lnTo>
                          <a:lnTo>
                            <a:pt x="2077" y="289"/>
                          </a:lnTo>
                          <a:lnTo>
                            <a:pt x="2084" y="304"/>
                          </a:lnTo>
                          <a:lnTo>
                            <a:pt x="2092" y="320"/>
                          </a:lnTo>
                          <a:lnTo>
                            <a:pt x="2100" y="335"/>
                          </a:lnTo>
                          <a:lnTo>
                            <a:pt x="2107" y="350"/>
                          </a:lnTo>
                          <a:lnTo>
                            <a:pt x="2115" y="365"/>
                          </a:lnTo>
                          <a:lnTo>
                            <a:pt x="2122" y="383"/>
                          </a:lnTo>
                          <a:lnTo>
                            <a:pt x="2130" y="401"/>
                          </a:lnTo>
                          <a:lnTo>
                            <a:pt x="2135" y="416"/>
                          </a:lnTo>
                          <a:lnTo>
                            <a:pt x="2140" y="431"/>
                          </a:lnTo>
                          <a:lnTo>
                            <a:pt x="2145" y="449"/>
                          </a:lnTo>
                          <a:lnTo>
                            <a:pt x="2153" y="467"/>
                          </a:lnTo>
                          <a:lnTo>
                            <a:pt x="2158" y="482"/>
                          </a:lnTo>
                          <a:lnTo>
                            <a:pt x="2163" y="500"/>
                          </a:lnTo>
                          <a:lnTo>
                            <a:pt x="2168" y="517"/>
                          </a:lnTo>
                          <a:lnTo>
                            <a:pt x="2173" y="535"/>
                          </a:lnTo>
                          <a:lnTo>
                            <a:pt x="2176" y="550"/>
                          </a:lnTo>
                          <a:lnTo>
                            <a:pt x="2178" y="568"/>
                          </a:lnTo>
                          <a:lnTo>
                            <a:pt x="2181" y="586"/>
                          </a:lnTo>
                          <a:lnTo>
                            <a:pt x="2186" y="603"/>
                          </a:lnTo>
                          <a:lnTo>
                            <a:pt x="2186" y="619"/>
                          </a:lnTo>
                          <a:lnTo>
                            <a:pt x="2191" y="636"/>
                          </a:lnTo>
                          <a:lnTo>
                            <a:pt x="2191" y="654"/>
                          </a:lnTo>
                          <a:lnTo>
                            <a:pt x="2196" y="674"/>
                          </a:lnTo>
                          <a:lnTo>
                            <a:pt x="2196" y="690"/>
                          </a:lnTo>
                          <a:lnTo>
                            <a:pt x="2199" y="707"/>
                          </a:lnTo>
                          <a:lnTo>
                            <a:pt x="2199" y="725"/>
                          </a:lnTo>
                          <a:lnTo>
                            <a:pt x="2201" y="743"/>
                          </a:lnTo>
                          <a:lnTo>
                            <a:pt x="2201" y="761"/>
                          </a:lnTo>
                          <a:lnTo>
                            <a:pt x="2201" y="778"/>
                          </a:lnTo>
                          <a:lnTo>
                            <a:pt x="2201" y="796"/>
                          </a:lnTo>
                          <a:lnTo>
                            <a:pt x="2204" y="816"/>
                          </a:lnTo>
                          <a:lnTo>
                            <a:pt x="2201" y="832"/>
                          </a:lnTo>
                          <a:lnTo>
                            <a:pt x="2199" y="849"/>
                          </a:lnTo>
                          <a:lnTo>
                            <a:pt x="2196" y="867"/>
                          </a:lnTo>
                          <a:lnTo>
                            <a:pt x="2196" y="885"/>
                          </a:lnTo>
                          <a:lnTo>
                            <a:pt x="2191" y="900"/>
                          </a:lnTo>
                          <a:lnTo>
                            <a:pt x="2191" y="918"/>
                          </a:lnTo>
                          <a:lnTo>
                            <a:pt x="2186" y="936"/>
                          </a:lnTo>
                          <a:lnTo>
                            <a:pt x="2186" y="953"/>
                          </a:lnTo>
                          <a:lnTo>
                            <a:pt x="2181" y="969"/>
                          </a:lnTo>
                          <a:lnTo>
                            <a:pt x="2176" y="986"/>
                          </a:lnTo>
                          <a:lnTo>
                            <a:pt x="2171" y="1004"/>
                          </a:lnTo>
                          <a:lnTo>
                            <a:pt x="2168" y="1022"/>
                          </a:lnTo>
                          <a:lnTo>
                            <a:pt x="2161" y="1037"/>
                          </a:lnTo>
                          <a:lnTo>
                            <a:pt x="2158" y="1055"/>
                          </a:lnTo>
                          <a:lnTo>
                            <a:pt x="2150" y="1073"/>
                          </a:lnTo>
                          <a:lnTo>
                            <a:pt x="2148" y="1090"/>
                          </a:lnTo>
                          <a:lnTo>
                            <a:pt x="2140" y="1106"/>
                          </a:lnTo>
                          <a:lnTo>
                            <a:pt x="2133" y="1121"/>
                          </a:lnTo>
                          <a:lnTo>
                            <a:pt x="2125" y="1136"/>
                          </a:lnTo>
                          <a:lnTo>
                            <a:pt x="2120" y="1154"/>
                          </a:lnTo>
                          <a:lnTo>
                            <a:pt x="2112" y="1169"/>
                          </a:lnTo>
                          <a:lnTo>
                            <a:pt x="2105" y="1184"/>
                          </a:lnTo>
                          <a:lnTo>
                            <a:pt x="2097" y="1199"/>
                          </a:lnTo>
                          <a:lnTo>
                            <a:pt x="2090" y="1217"/>
                          </a:lnTo>
                          <a:lnTo>
                            <a:pt x="2079" y="1232"/>
                          </a:lnTo>
                          <a:lnTo>
                            <a:pt x="2069" y="1248"/>
                          </a:lnTo>
                          <a:lnTo>
                            <a:pt x="2059" y="1263"/>
                          </a:lnTo>
                          <a:lnTo>
                            <a:pt x="2051" y="1278"/>
                          </a:lnTo>
                          <a:lnTo>
                            <a:pt x="2041" y="1293"/>
                          </a:lnTo>
                          <a:lnTo>
                            <a:pt x="2031" y="1308"/>
                          </a:lnTo>
                          <a:lnTo>
                            <a:pt x="2021" y="1324"/>
                          </a:lnTo>
                          <a:lnTo>
                            <a:pt x="2011" y="1339"/>
                          </a:lnTo>
                          <a:lnTo>
                            <a:pt x="1993" y="1362"/>
                          </a:lnTo>
                          <a:lnTo>
                            <a:pt x="1978" y="1389"/>
                          </a:lnTo>
                          <a:lnTo>
                            <a:pt x="1970" y="1402"/>
                          </a:lnTo>
                          <a:lnTo>
                            <a:pt x="1965" y="1417"/>
                          </a:lnTo>
                          <a:lnTo>
                            <a:pt x="1960" y="1433"/>
                          </a:lnTo>
                          <a:lnTo>
                            <a:pt x="1955" y="1448"/>
                          </a:lnTo>
                          <a:lnTo>
                            <a:pt x="1947" y="1460"/>
                          </a:lnTo>
                          <a:lnTo>
                            <a:pt x="1945" y="1476"/>
                          </a:lnTo>
                          <a:lnTo>
                            <a:pt x="1937" y="1491"/>
                          </a:lnTo>
                          <a:lnTo>
                            <a:pt x="1935" y="1506"/>
                          </a:lnTo>
                          <a:lnTo>
                            <a:pt x="1930" y="1521"/>
                          </a:lnTo>
                          <a:lnTo>
                            <a:pt x="1927" y="1537"/>
                          </a:lnTo>
                          <a:lnTo>
                            <a:pt x="1922" y="1552"/>
                          </a:lnTo>
                          <a:lnTo>
                            <a:pt x="1922" y="1567"/>
                          </a:lnTo>
                          <a:lnTo>
                            <a:pt x="1917" y="1582"/>
                          </a:lnTo>
                          <a:lnTo>
                            <a:pt x="1915" y="1597"/>
                          </a:lnTo>
                          <a:lnTo>
                            <a:pt x="1909" y="1613"/>
                          </a:lnTo>
                          <a:lnTo>
                            <a:pt x="1909" y="1628"/>
                          </a:lnTo>
                          <a:lnTo>
                            <a:pt x="1907" y="1643"/>
                          </a:lnTo>
                          <a:lnTo>
                            <a:pt x="1904" y="1661"/>
                          </a:lnTo>
                          <a:lnTo>
                            <a:pt x="1902" y="1676"/>
                          </a:lnTo>
                          <a:lnTo>
                            <a:pt x="1902" y="1694"/>
                          </a:lnTo>
                          <a:lnTo>
                            <a:pt x="1899" y="1709"/>
                          </a:lnTo>
                          <a:lnTo>
                            <a:pt x="1899" y="1724"/>
                          </a:lnTo>
                          <a:lnTo>
                            <a:pt x="1897" y="1739"/>
                          </a:lnTo>
                          <a:lnTo>
                            <a:pt x="1897" y="1757"/>
                          </a:lnTo>
                          <a:lnTo>
                            <a:pt x="1897" y="1772"/>
                          </a:lnTo>
                          <a:lnTo>
                            <a:pt x="1897" y="1790"/>
                          </a:lnTo>
                          <a:lnTo>
                            <a:pt x="1897" y="1805"/>
                          </a:lnTo>
                          <a:lnTo>
                            <a:pt x="1899" y="1823"/>
                          </a:lnTo>
                          <a:lnTo>
                            <a:pt x="1899" y="1838"/>
                          </a:lnTo>
                          <a:lnTo>
                            <a:pt x="1899" y="1853"/>
                          </a:lnTo>
                          <a:lnTo>
                            <a:pt x="1899" y="1869"/>
                          </a:lnTo>
                          <a:lnTo>
                            <a:pt x="1899" y="1886"/>
                          </a:lnTo>
                          <a:lnTo>
                            <a:pt x="1899" y="1902"/>
                          </a:lnTo>
                          <a:lnTo>
                            <a:pt x="1899" y="1917"/>
                          </a:lnTo>
                          <a:lnTo>
                            <a:pt x="1902" y="1932"/>
                          </a:lnTo>
                          <a:lnTo>
                            <a:pt x="1904" y="1950"/>
                          </a:lnTo>
                          <a:lnTo>
                            <a:pt x="1904" y="1965"/>
                          </a:lnTo>
                          <a:lnTo>
                            <a:pt x="1904" y="1980"/>
                          </a:lnTo>
                          <a:lnTo>
                            <a:pt x="1907" y="1995"/>
                          </a:lnTo>
                          <a:lnTo>
                            <a:pt x="1909" y="2013"/>
                          </a:lnTo>
                          <a:lnTo>
                            <a:pt x="1909" y="2028"/>
                          </a:lnTo>
                          <a:lnTo>
                            <a:pt x="1912" y="2046"/>
                          </a:lnTo>
                          <a:lnTo>
                            <a:pt x="1915" y="2061"/>
                          </a:lnTo>
                          <a:lnTo>
                            <a:pt x="1920" y="2079"/>
                          </a:lnTo>
                          <a:lnTo>
                            <a:pt x="1920" y="2094"/>
                          </a:lnTo>
                          <a:lnTo>
                            <a:pt x="1922" y="2110"/>
                          </a:lnTo>
                          <a:lnTo>
                            <a:pt x="1925" y="2125"/>
                          </a:lnTo>
                          <a:lnTo>
                            <a:pt x="1927" y="2140"/>
                          </a:lnTo>
                          <a:lnTo>
                            <a:pt x="1930" y="2155"/>
                          </a:lnTo>
                          <a:lnTo>
                            <a:pt x="1932" y="2170"/>
                          </a:lnTo>
                          <a:lnTo>
                            <a:pt x="1935" y="2186"/>
                          </a:lnTo>
                          <a:lnTo>
                            <a:pt x="1940" y="2201"/>
                          </a:lnTo>
                          <a:lnTo>
                            <a:pt x="1942" y="2214"/>
                          </a:lnTo>
                          <a:lnTo>
                            <a:pt x="1945" y="2229"/>
                          </a:lnTo>
                          <a:lnTo>
                            <a:pt x="1947" y="2241"/>
                          </a:lnTo>
                          <a:lnTo>
                            <a:pt x="1953" y="2257"/>
                          </a:lnTo>
                          <a:lnTo>
                            <a:pt x="1955" y="2269"/>
                          </a:lnTo>
                          <a:lnTo>
                            <a:pt x="1960" y="2285"/>
                          </a:lnTo>
                          <a:lnTo>
                            <a:pt x="1963" y="2300"/>
                          </a:lnTo>
                          <a:lnTo>
                            <a:pt x="1968" y="2315"/>
                          </a:lnTo>
                          <a:lnTo>
                            <a:pt x="1968" y="2328"/>
                          </a:lnTo>
                          <a:lnTo>
                            <a:pt x="1968" y="2343"/>
                          </a:lnTo>
                          <a:lnTo>
                            <a:pt x="1968" y="2356"/>
                          </a:lnTo>
                          <a:lnTo>
                            <a:pt x="1968" y="2371"/>
                          </a:lnTo>
                          <a:lnTo>
                            <a:pt x="1960" y="2391"/>
                          </a:lnTo>
                          <a:lnTo>
                            <a:pt x="1953" y="2411"/>
                          </a:lnTo>
                          <a:lnTo>
                            <a:pt x="1937" y="2424"/>
                          </a:lnTo>
                          <a:lnTo>
                            <a:pt x="1922" y="2439"/>
                          </a:lnTo>
                          <a:lnTo>
                            <a:pt x="1899" y="2447"/>
                          </a:lnTo>
                          <a:lnTo>
                            <a:pt x="1876" y="2454"/>
                          </a:lnTo>
                          <a:lnTo>
                            <a:pt x="1856" y="2449"/>
                          </a:lnTo>
                          <a:lnTo>
                            <a:pt x="1841" y="2447"/>
                          </a:lnTo>
                          <a:lnTo>
                            <a:pt x="1826" y="2447"/>
                          </a:lnTo>
                          <a:lnTo>
                            <a:pt x="1811" y="2449"/>
                          </a:lnTo>
                          <a:lnTo>
                            <a:pt x="1795" y="2449"/>
                          </a:lnTo>
                          <a:lnTo>
                            <a:pt x="1780" y="2454"/>
                          </a:lnTo>
                          <a:lnTo>
                            <a:pt x="1765" y="2457"/>
                          </a:lnTo>
                          <a:lnTo>
                            <a:pt x="1752" y="2465"/>
                          </a:lnTo>
                          <a:lnTo>
                            <a:pt x="1724" y="2472"/>
                          </a:lnTo>
                          <a:lnTo>
                            <a:pt x="1699" y="2485"/>
                          </a:lnTo>
                          <a:lnTo>
                            <a:pt x="1671" y="2492"/>
                          </a:lnTo>
                          <a:lnTo>
                            <a:pt x="1646" y="2503"/>
                          </a:lnTo>
                          <a:lnTo>
                            <a:pt x="1646" y="2520"/>
                          </a:lnTo>
                          <a:lnTo>
                            <a:pt x="1646" y="2541"/>
                          </a:lnTo>
                          <a:lnTo>
                            <a:pt x="1646" y="2558"/>
                          </a:lnTo>
                          <a:lnTo>
                            <a:pt x="1646" y="2579"/>
                          </a:lnTo>
                          <a:lnTo>
                            <a:pt x="1643" y="2596"/>
                          </a:lnTo>
                          <a:lnTo>
                            <a:pt x="1641" y="2614"/>
                          </a:lnTo>
                          <a:lnTo>
                            <a:pt x="1638" y="2632"/>
                          </a:lnTo>
                          <a:lnTo>
                            <a:pt x="1638" y="2652"/>
                          </a:lnTo>
                          <a:lnTo>
                            <a:pt x="1633" y="2667"/>
                          </a:lnTo>
                          <a:lnTo>
                            <a:pt x="1630" y="2688"/>
                          </a:lnTo>
                          <a:lnTo>
                            <a:pt x="1628" y="2705"/>
                          </a:lnTo>
                          <a:lnTo>
                            <a:pt x="1628" y="2726"/>
                          </a:lnTo>
                          <a:lnTo>
                            <a:pt x="1628" y="2746"/>
                          </a:lnTo>
                          <a:lnTo>
                            <a:pt x="1628" y="2766"/>
                          </a:lnTo>
                          <a:lnTo>
                            <a:pt x="1628" y="2789"/>
                          </a:lnTo>
                          <a:lnTo>
                            <a:pt x="1633" y="2814"/>
                          </a:lnTo>
                          <a:lnTo>
                            <a:pt x="1613" y="2817"/>
                          </a:lnTo>
                          <a:lnTo>
                            <a:pt x="1592" y="2822"/>
                          </a:lnTo>
                          <a:lnTo>
                            <a:pt x="1572" y="2825"/>
                          </a:lnTo>
                          <a:lnTo>
                            <a:pt x="1554" y="2830"/>
                          </a:lnTo>
                          <a:lnTo>
                            <a:pt x="1534" y="2832"/>
                          </a:lnTo>
                          <a:lnTo>
                            <a:pt x="1514" y="2835"/>
                          </a:lnTo>
                          <a:lnTo>
                            <a:pt x="1493" y="2837"/>
                          </a:lnTo>
                          <a:lnTo>
                            <a:pt x="1473" y="2840"/>
                          </a:lnTo>
                          <a:lnTo>
                            <a:pt x="1450" y="2840"/>
                          </a:lnTo>
                          <a:lnTo>
                            <a:pt x="1433" y="2840"/>
                          </a:lnTo>
                          <a:lnTo>
                            <a:pt x="1410" y="2842"/>
                          </a:lnTo>
                          <a:lnTo>
                            <a:pt x="1392" y="2847"/>
                          </a:lnTo>
                          <a:lnTo>
                            <a:pt x="1372" y="2852"/>
                          </a:lnTo>
                          <a:lnTo>
                            <a:pt x="1354" y="2860"/>
                          </a:lnTo>
                          <a:lnTo>
                            <a:pt x="1336" y="2868"/>
                          </a:lnTo>
                          <a:lnTo>
                            <a:pt x="1321" y="2880"/>
                          </a:lnTo>
                          <a:lnTo>
                            <a:pt x="1313" y="2898"/>
                          </a:lnTo>
                          <a:lnTo>
                            <a:pt x="1311" y="2916"/>
                          </a:lnTo>
                          <a:lnTo>
                            <a:pt x="1308" y="2934"/>
                          </a:lnTo>
                          <a:lnTo>
                            <a:pt x="1308" y="2951"/>
                          </a:lnTo>
                          <a:lnTo>
                            <a:pt x="1308" y="2967"/>
                          </a:lnTo>
                          <a:lnTo>
                            <a:pt x="1308" y="2984"/>
                          </a:lnTo>
                          <a:lnTo>
                            <a:pt x="1311" y="3002"/>
                          </a:lnTo>
                          <a:lnTo>
                            <a:pt x="1313" y="3020"/>
                          </a:lnTo>
                          <a:lnTo>
                            <a:pt x="1313" y="3035"/>
                          </a:lnTo>
                          <a:lnTo>
                            <a:pt x="1318" y="3050"/>
                          </a:lnTo>
                          <a:lnTo>
                            <a:pt x="1321" y="3068"/>
                          </a:lnTo>
                          <a:lnTo>
                            <a:pt x="1326" y="3086"/>
                          </a:lnTo>
                          <a:lnTo>
                            <a:pt x="1329" y="3101"/>
                          </a:lnTo>
                          <a:lnTo>
                            <a:pt x="1336" y="3121"/>
                          </a:lnTo>
                          <a:lnTo>
                            <a:pt x="1339" y="3139"/>
                          </a:lnTo>
                          <a:lnTo>
                            <a:pt x="1346" y="3159"/>
                          </a:lnTo>
                          <a:lnTo>
                            <a:pt x="1311" y="3159"/>
                          </a:lnTo>
                          <a:close/>
                        </a:path>
                      </a:pathLst>
                    </a:custGeom>
                    <a:solidFill>
                      <a:srgbClr val="80bfb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5" name=""/>
                    <p:cNvSpPr/>
                    <p:nvPr/>
                  </p:nvSpPr>
                  <p:spPr>
                    <a:xfrm>
                      <a:off x="848160" y="6918480"/>
                      <a:ext cx="47880" cy="68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8" h="497">
                          <a:moveTo>
                            <a:pt x="25" y="312"/>
                          </a:moveTo>
                          <a:lnTo>
                            <a:pt x="23" y="294"/>
                          </a:lnTo>
                          <a:lnTo>
                            <a:pt x="20" y="279"/>
                          </a:lnTo>
                          <a:lnTo>
                            <a:pt x="17" y="264"/>
                          </a:lnTo>
                          <a:lnTo>
                            <a:pt x="17" y="249"/>
                          </a:lnTo>
                          <a:lnTo>
                            <a:pt x="12" y="231"/>
                          </a:lnTo>
                          <a:lnTo>
                            <a:pt x="10" y="216"/>
                          </a:lnTo>
                          <a:lnTo>
                            <a:pt x="5" y="201"/>
                          </a:lnTo>
                          <a:lnTo>
                            <a:pt x="5" y="185"/>
                          </a:lnTo>
                          <a:lnTo>
                            <a:pt x="2" y="170"/>
                          </a:lnTo>
                          <a:lnTo>
                            <a:pt x="0" y="155"/>
                          </a:lnTo>
                          <a:lnTo>
                            <a:pt x="0" y="140"/>
                          </a:lnTo>
                          <a:lnTo>
                            <a:pt x="2" y="125"/>
                          </a:lnTo>
                          <a:lnTo>
                            <a:pt x="2" y="109"/>
                          </a:lnTo>
                          <a:lnTo>
                            <a:pt x="10" y="94"/>
                          </a:lnTo>
                          <a:lnTo>
                            <a:pt x="15" y="81"/>
                          </a:lnTo>
                          <a:lnTo>
                            <a:pt x="25" y="69"/>
                          </a:lnTo>
                          <a:lnTo>
                            <a:pt x="38" y="51"/>
                          </a:lnTo>
                          <a:lnTo>
                            <a:pt x="53" y="41"/>
                          </a:lnTo>
                          <a:lnTo>
                            <a:pt x="71" y="31"/>
                          </a:lnTo>
                          <a:lnTo>
                            <a:pt x="91" y="26"/>
                          </a:lnTo>
                          <a:lnTo>
                            <a:pt x="106" y="18"/>
                          </a:lnTo>
                          <a:lnTo>
                            <a:pt x="127" y="13"/>
                          </a:lnTo>
                          <a:lnTo>
                            <a:pt x="144" y="5"/>
                          </a:lnTo>
                          <a:lnTo>
                            <a:pt x="165" y="0"/>
                          </a:lnTo>
                          <a:lnTo>
                            <a:pt x="180" y="5"/>
                          </a:lnTo>
                          <a:lnTo>
                            <a:pt x="198" y="13"/>
                          </a:lnTo>
                          <a:lnTo>
                            <a:pt x="215" y="21"/>
                          </a:lnTo>
                          <a:lnTo>
                            <a:pt x="233" y="31"/>
                          </a:lnTo>
                          <a:lnTo>
                            <a:pt x="248" y="38"/>
                          </a:lnTo>
                          <a:lnTo>
                            <a:pt x="263" y="51"/>
                          </a:lnTo>
                          <a:lnTo>
                            <a:pt x="279" y="61"/>
                          </a:lnTo>
                          <a:lnTo>
                            <a:pt x="294" y="74"/>
                          </a:lnTo>
                          <a:lnTo>
                            <a:pt x="307" y="84"/>
                          </a:lnTo>
                          <a:lnTo>
                            <a:pt x="319" y="97"/>
                          </a:lnTo>
                          <a:lnTo>
                            <a:pt x="332" y="109"/>
                          </a:lnTo>
                          <a:lnTo>
                            <a:pt x="345" y="125"/>
                          </a:lnTo>
                          <a:lnTo>
                            <a:pt x="355" y="137"/>
                          </a:lnTo>
                          <a:lnTo>
                            <a:pt x="365" y="152"/>
                          </a:lnTo>
                          <a:lnTo>
                            <a:pt x="375" y="168"/>
                          </a:lnTo>
                          <a:lnTo>
                            <a:pt x="385" y="183"/>
                          </a:lnTo>
                          <a:lnTo>
                            <a:pt x="388" y="196"/>
                          </a:lnTo>
                          <a:lnTo>
                            <a:pt x="393" y="208"/>
                          </a:lnTo>
                          <a:lnTo>
                            <a:pt x="395" y="223"/>
                          </a:lnTo>
                          <a:lnTo>
                            <a:pt x="400" y="239"/>
                          </a:lnTo>
                          <a:lnTo>
                            <a:pt x="400" y="254"/>
                          </a:lnTo>
                          <a:lnTo>
                            <a:pt x="403" y="272"/>
                          </a:lnTo>
                          <a:lnTo>
                            <a:pt x="406" y="287"/>
                          </a:lnTo>
                          <a:lnTo>
                            <a:pt x="408" y="305"/>
                          </a:lnTo>
                          <a:lnTo>
                            <a:pt x="406" y="320"/>
                          </a:lnTo>
                          <a:lnTo>
                            <a:pt x="406" y="335"/>
                          </a:lnTo>
                          <a:lnTo>
                            <a:pt x="403" y="350"/>
                          </a:lnTo>
                          <a:lnTo>
                            <a:pt x="400" y="368"/>
                          </a:lnTo>
                          <a:lnTo>
                            <a:pt x="395" y="381"/>
                          </a:lnTo>
                          <a:lnTo>
                            <a:pt x="393" y="396"/>
                          </a:lnTo>
                          <a:lnTo>
                            <a:pt x="388" y="411"/>
                          </a:lnTo>
                          <a:lnTo>
                            <a:pt x="385" y="426"/>
                          </a:lnTo>
                          <a:lnTo>
                            <a:pt x="362" y="436"/>
                          </a:lnTo>
                          <a:lnTo>
                            <a:pt x="347" y="449"/>
                          </a:lnTo>
                          <a:lnTo>
                            <a:pt x="329" y="464"/>
                          </a:lnTo>
                          <a:lnTo>
                            <a:pt x="314" y="480"/>
                          </a:lnTo>
                          <a:lnTo>
                            <a:pt x="294" y="490"/>
                          </a:lnTo>
                          <a:lnTo>
                            <a:pt x="276" y="497"/>
                          </a:lnTo>
                          <a:lnTo>
                            <a:pt x="253" y="497"/>
                          </a:lnTo>
                          <a:lnTo>
                            <a:pt x="231" y="495"/>
                          </a:lnTo>
                          <a:lnTo>
                            <a:pt x="215" y="485"/>
                          </a:lnTo>
                          <a:lnTo>
                            <a:pt x="200" y="477"/>
                          </a:lnTo>
                          <a:lnTo>
                            <a:pt x="185" y="467"/>
                          </a:lnTo>
                          <a:lnTo>
                            <a:pt x="172" y="459"/>
                          </a:lnTo>
                          <a:lnTo>
                            <a:pt x="157" y="449"/>
                          </a:lnTo>
                          <a:lnTo>
                            <a:pt x="142" y="439"/>
                          </a:lnTo>
                          <a:lnTo>
                            <a:pt x="127" y="429"/>
                          </a:lnTo>
                          <a:lnTo>
                            <a:pt x="114" y="419"/>
                          </a:lnTo>
                          <a:lnTo>
                            <a:pt x="86" y="393"/>
                          </a:lnTo>
                          <a:lnTo>
                            <a:pt x="63" y="368"/>
                          </a:lnTo>
                          <a:lnTo>
                            <a:pt x="50" y="353"/>
                          </a:lnTo>
                          <a:lnTo>
                            <a:pt x="40" y="340"/>
                          </a:lnTo>
                          <a:lnTo>
                            <a:pt x="33" y="325"/>
                          </a:lnTo>
                          <a:lnTo>
                            <a:pt x="25" y="312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1960" bIns="21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6" name=""/>
                    <p:cNvSpPr/>
                    <p:nvPr/>
                  </p:nvSpPr>
                  <p:spPr>
                    <a:xfrm>
                      <a:off x="857880" y="6931080"/>
                      <a:ext cx="2988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54" h="299">
                          <a:moveTo>
                            <a:pt x="13" y="162"/>
                          </a:moveTo>
                          <a:lnTo>
                            <a:pt x="8" y="144"/>
                          </a:lnTo>
                          <a:lnTo>
                            <a:pt x="5" y="129"/>
                          </a:lnTo>
                          <a:lnTo>
                            <a:pt x="3" y="114"/>
                          </a:lnTo>
                          <a:lnTo>
                            <a:pt x="3" y="98"/>
                          </a:lnTo>
                          <a:lnTo>
                            <a:pt x="0" y="81"/>
                          </a:lnTo>
                          <a:lnTo>
                            <a:pt x="0" y="65"/>
                          </a:lnTo>
                          <a:lnTo>
                            <a:pt x="0" y="48"/>
                          </a:lnTo>
                          <a:lnTo>
                            <a:pt x="0" y="33"/>
                          </a:lnTo>
                          <a:lnTo>
                            <a:pt x="16" y="12"/>
                          </a:lnTo>
                          <a:lnTo>
                            <a:pt x="38" y="2"/>
                          </a:lnTo>
                          <a:lnTo>
                            <a:pt x="49" y="0"/>
                          </a:lnTo>
                          <a:lnTo>
                            <a:pt x="64" y="0"/>
                          </a:lnTo>
                          <a:lnTo>
                            <a:pt x="77" y="0"/>
                          </a:lnTo>
                          <a:lnTo>
                            <a:pt x="92" y="0"/>
                          </a:lnTo>
                          <a:lnTo>
                            <a:pt x="104" y="5"/>
                          </a:lnTo>
                          <a:lnTo>
                            <a:pt x="120" y="12"/>
                          </a:lnTo>
                          <a:lnTo>
                            <a:pt x="135" y="22"/>
                          </a:lnTo>
                          <a:lnTo>
                            <a:pt x="150" y="35"/>
                          </a:lnTo>
                          <a:lnTo>
                            <a:pt x="160" y="45"/>
                          </a:lnTo>
                          <a:lnTo>
                            <a:pt x="173" y="58"/>
                          </a:lnTo>
                          <a:lnTo>
                            <a:pt x="186" y="73"/>
                          </a:lnTo>
                          <a:lnTo>
                            <a:pt x="198" y="88"/>
                          </a:lnTo>
                          <a:lnTo>
                            <a:pt x="206" y="104"/>
                          </a:lnTo>
                          <a:lnTo>
                            <a:pt x="213" y="119"/>
                          </a:lnTo>
                          <a:lnTo>
                            <a:pt x="221" y="134"/>
                          </a:lnTo>
                          <a:lnTo>
                            <a:pt x="231" y="152"/>
                          </a:lnTo>
                          <a:lnTo>
                            <a:pt x="236" y="167"/>
                          </a:lnTo>
                          <a:lnTo>
                            <a:pt x="244" y="185"/>
                          </a:lnTo>
                          <a:lnTo>
                            <a:pt x="249" y="202"/>
                          </a:lnTo>
                          <a:lnTo>
                            <a:pt x="254" y="220"/>
                          </a:lnTo>
                          <a:lnTo>
                            <a:pt x="239" y="240"/>
                          </a:lnTo>
                          <a:lnTo>
                            <a:pt x="226" y="263"/>
                          </a:lnTo>
                          <a:lnTo>
                            <a:pt x="211" y="276"/>
                          </a:lnTo>
                          <a:lnTo>
                            <a:pt x="198" y="291"/>
                          </a:lnTo>
                          <a:lnTo>
                            <a:pt x="180" y="296"/>
                          </a:lnTo>
                          <a:lnTo>
                            <a:pt x="163" y="299"/>
                          </a:lnTo>
                          <a:lnTo>
                            <a:pt x="137" y="294"/>
                          </a:lnTo>
                          <a:lnTo>
                            <a:pt x="115" y="286"/>
                          </a:lnTo>
                          <a:lnTo>
                            <a:pt x="92" y="273"/>
                          </a:lnTo>
                          <a:lnTo>
                            <a:pt x="77" y="261"/>
                          </a:lnTo>
                          <a:lnTo>
                            <a:pt x="64" y="243"/>
                          </a:lnTo>
                          <a:lnTo>
                            <a:pt x="56" y="228"/>
                          </a:lnTo>
                          <a:lnTo>
                            <a:pt x="46" y="207"/>
                          </a:lnTo>
                          <a:lnTo>
                            <a:pt x="36" y="190"/>
                          </a:lnTo>
                          <a:lnTo>
                            <a:pt x="26" y="175"/>
                          </a:lnTo>
                          <a:lnTo>
                            <a:pt x="13" y="162"/>
                          </a:lnTo>
                          <a:close/>
                        </a:path>
                      </a:pathLst>
                    </a:custGeom>
                    <a:solidFill>
                      <a:srgbClr val="b34d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7" name=""/>
                    <p:cNvSpPr/>
                    <p:nvPr/>
                  </p:nvSpPr>
                  <p:spPr>
                    <a:xfrm>
                      <a:off x="1096200" y="6510960"/>
                      <a:ext cx="148680" cy="419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64" h="3020">
                          <a:moveTo>
                            <a:pt x="148" y="3020"/>
                          </a:moveTo>
                          <a:lnTo>
                            <a:pt x="140" y="3000"/>
                          </a:lnTo>
                          <a:lnTo>
                            <a:pt x="132" y="2982"/>
                          </a:lnTo>
                          <a:lnTo>
                            <a:pt x="127" y="2964"/>
                          </a:lnTo>
                          <a:lnTo>
                            <a:pt x="125" y="2946"/>
                          </a:lnTo>
                          <a:lnTo>
                            <a:pt x="117" y="2926"/>
                          </a:lnTo>
                          <a:lnTo>
                            <a:pt x="115" y="2911"/>
                          </a:lnTo>
                          <a:lnTo>
                            <a:pt x="110" y="2891"/>
                          </a:lnTo>
                          <a:lnTo>
                            <a:pt x="110" y="2875"/>
                          </a:lnTo>
                          <a:lnTo>
                            <a:pt x="104" y="2855"/>
                          </a:lnTo>
                          <a:lnTo>
                            <a:pt x="102" y="2840"/>
                          </a:lnTo>
                          <a:lnTo>
                            <a:pt x="102" y="2820"/>
                          </a:lnTo>
                          <a:lnTo>
                            <a:pt x="102" y="2804"/>
                          </a:lnTo>
                          <a:lnTo>
                            <a:pt x="102" y="2787"/>
                          </a:lnTo>
                          <a:lnTo>
                            <a:pt x="102" y="2769"/>
                          </a:lnTo>
                          <a:lnTo>
                            <a:pt x="102" y="2751"/>
                          </a:lnTo>
                          <a:lnTo>
                            <a:pt x="104" y="2736"/>
                          </a:lnTo>
                          <a:lnTo>
                            <a:pt x="104" y="2718"/>
                          </a:lnTo>
                          <a:lnTo>
                            <a:pt x="104" y="2700"/>
                          </a:lnTo>
                          <a:lnTo>
                            <a:pt x="104" y="2683"/>
                          </a:lnTo>
                          <a:lnTo>
                            <a:pt x="107" y="2668"/>
                          </a:lnTo>
                          <a:lnTo>
                            <a:pt x="107" y="2650"/>
                          </a:lnTo>
                          <a:lnTo>
                            <a:pt x="112" y="2632"/>
                          </a:lnTo>
                          <a:lnTo>
                            <a:pt x="115" y="2614"/>
                          </a:lnTo>
                          <a:lnTo>
                            <a:pt x="120" y="2599"/>
                          </a:lnTo>
                          <a:lnTo>
                            <a:pt x="122" y="2581"/>
                          </a:lnTo>
                          <a:lnTo>
                            <a:pt x="127" y="2566"/>
                          </a:lnTo>
                          <a:lnTo>
                            <a:pt x="130" y="2548"/>
                          </a:lnTo>
                          <a:lnTo>
                            <a:pt x="135" y="2533"/>
                          </a:lnTo>
                          <a:lnTo>
                            <a:pt x="140" y="2515"/>
                          </a:lnTo>
                          <a:lnTo>
                            <a:pt x="145" y="2500"/>
                          </a:lnTo>
                          <a:lnTo>
                            <a:pt x="150" y="2485"/>
                          </a:lnTo>
                          <a:lnTo>
                            <a:pt x="158" y="2470"/>
                          </a:lnTo>
                          <a:lnTo>
                            <a:pt x="160" y="2452"/>
                          </a:lnTo>
                          <a:lnTo>
                            <a:pt x="165" y="2437"/>
                          </a:lnTo>
                          <a:lnTo>
                            <a:pt x="170" y="2419"/>
                          </a:lnTo>
                          <a:lnTo>
                            <a:pt x="178" y="2404"/>
                          </a:lnTo>
                          <a:lnTo>
                            <a:pt x="183" y="2386"/>
                          </a:lnTo>
                          <a:lnTo>
                            <a:pt x="191" y="2371"/>
                          </a:lnTo>
                          <a:lnTo>
                            <a:pt x="198" y="2356"/>
                          </a:lnTo>
                          <a:lnTo>
                            <a:pt x="206" y="2340"/>
                          </a:lnTo>
                          <a:lnTo>
                            <a:pt x="211" y="2323"/>
                          </a:lnTo>
                          <a:lnTo>
                            <a:pt x="219" y="2307"/>
                          </a:lnTo>
                          <a:lnTo>
                            <a:pt x="226" y="2290"/>
                          </a:lnTo>
                          <a:lnTo>
                            <a:pt x="234" y="2275"/>
                          </a:lnTo>
                          <a:lnTo>
                            <a:pt x="241" y="2259"/>
                          </a:lnTo>
                          <a:lnTo>
                            <a:pt x="249" y="2244"/>
                          </a:lnTo>
                          <a:lnTo>
                            <a:pt x="257" y="2229"/>
                          </a:lnTo>
                          <a:lnTo>
                            <a:pt x="264" y="2214"/>
                          </a:lnTo>
                          <a:lnTo>
                            <a:pt x="272" y="2196"/>
                          </a:lnTo>
                          <a:lnTo>
                            <a:pt x="279" y="2181"/>
                          </a:lnTo>
                          <a:lnTo>
                            <a:pt x="287" y="2166"/>
                          </a:lnTo>
                          <a:lnTo>
                            <a:pt x="295" y="2150"/>
                          </a:lnTo>
                          <a:lnTo>
                            <a:pt x="302" y="2135"/>
                          </a:lnTo>
                          <a:lnTo>
                            <a:pt x="310" y="2120"/>
                          </a:lnTo>
                          <a:lnTo>
                            <a:pt x="318" y="2105"/>
                          </a:lnTo>
                          <a:lnTo>
                            <a:pt x="328" y="2089"/>
                          </a:lnTo>
                          <a:lnTo>
                            <a:pt x="335" y="2074"/>
                          </a:lnTo>
                          <a:lnTo>
                            <a:pt x="343" y="2059"/>
                          </a:lnTo>
                          <a:lnTo>
                            <a:pt x="350" y="2044"/>
                          </a:lnTo>
                          <a:lnTo>
                            <a:pt x="358" y="2029"/>
                          </a:lnTo>
                          <a:lnTo>
                            <a:pt x="366" y="2013"/>
                          </a:lnTo>
                          <a:lnTo>
                            <a:pt x="373" y="1998"/>
                          </a:lnTo>
                          <a:lnTo>
                            <a:pt x="381" y="1983"/>
                          </a:lnTo>
                          <a:lnTo>
                            <a:pt x="389" y="1970"/>
                          </a:lnTo>
                          <a:lnTo>
                            <a:pt x="391" y="1947"/>
                          </a:lnTo>
                          <a:lnTo>
                            <a:pt x="396" y="1930"/>
                          </a:lnTo>
                          <a:lnTo>
                            <a:pt x="399" y="1907"/>
                          </a:lnTo>
                          <a:lnTo>
                            <a:pt x="404" y="1889"/>
                          </a:lnTo>
                          <a:lnTo>
                            <a:pt x="404" y="1869"/>
                          </a:lnTo>
                          <a:lnTo>
                            <a:pt x="409" y="1849"/>
                          </a:lnTo>
                          <a:lnTo>
                            <a:pt x="409" y="1828"/>
                          </a:lnTo>
                          <a:lnTo>
                            <a:pt x="414" y="1811"/>
                          </a:lnTo>
                          <a:lnTo>
                            <a:pt x="414" y="1788"/>
                          </a:lnTo>
                          <a:lnTo>
                            <a:pt x="416" y="1770"/>
                          </a:lnTo>
                          <a:lnTo>
                            <a:pt x="416" y="1747"/>
                          </a:lnTo>
                          <a:lnTo>
                            <a:pt x="419" y="1729"/>
                          </a:lnTo>
                          <a:lnTo>
                            <a:pt x="419" y="1709"/>
                          </a:lnTo>
                          <a:lnTo>
                            <a:pt x="419" y="1689"/>
                          </a:lnTo>
                          <a:lnTo>
                            <a:pt x="419" y="1669"/>
                          </a:lnTo>
                          <a:lnTo>
                            <a:pt x="419" y="1651"/>
                          </a:lnTo>
                          <a:lnTo>
                            <a:pt x="416" y="1628"/>
                          </a:lnTo>
                          <a:lnTo>
                            <a:pt x="414" y="1610"/>
                          </a:lnTo>
                          <a:lnTo>
                            <a:pt x="411" y="1587"/>
                          </a:lnTo>
                          <a:lnTo>
                            <a:pt x="411" y="1570"/>
                          </a:lnTo>
                          <a:lnTo>
                            <a:pt x="406" y="1549"/>
                          </a:lnTo>
                          <a:lnTo>
                            <a:pt x="406" y="1532"/>
                          </a:lnTo>
                          <a:lnTo>
                            <a:pt x="401" y="1511"/>
                          </a:lnTo>
                          <a:lnTo>
                            <a:pt x="401" y="1494"/>
                          </a:lnTo>
                          <a:lnTo>
                            <a:pt x="396" y="1471"/>
                          </a:lnTo>
                          <a:lnTo>
                            <a:pt x="391" y="1453"/>
                          </a:lnTo>
                          <a:lnTo>
                            <a:pt x="386" y="1433"/>
                          </a:lnTo>
                          <a:lnTo>
                            <a:pt x="383" y="1415"/>
                          </a:lnTo>
                          <a:lnTo>
                            <a:pt x="376" y="1395"/>
                          </a:lnTo>
                          <a:lnTo>
                            <a:pt x="373" y="1377"/>
                          </a:lnTo>
                          <a:lnTo>
                            <a:pt x="366" y="1357"/>
                          </a:lnTo>
                          <a:lnTo>
                            <a:pt x="363" y="1341"/>
                          </a:lnTo>
                          <a:lnTo>
                            <a:pt x="356" y="1321"/>
                          </a:lnTo>
                          <a:lnTo>
                            <a:pt x="348" y="1303"/>
                          </a:lnTo>
                          <a:lnTo>
                            <a:pt x="340" y="1283"/>
                          </a:lnTo>
                          <a:lnTo>
                            <a:pt x="333" y="1265"/>
                          </a:lnTo>
                          <a:lnTo>
                            <a:pt x="325" y="1245"/>
                          </a:lnTo>
                          <a:lnTo>
                            <a:pt x="318" y="1227"/>
                          </a:lnTo>
                          <a:lnTo>
                            <a:pt x="310" y="1210"/>
                          </a:lnTo>
                          <a:lnTo>
                            <a:pt x="302" y="1194"/>
                          </a:lnTo>
                          <a:lnTo>
                            <a:pt x="292" y="1174"/>
                          </a:lnTo>
                          <a:lnTo>
                            <a:pt x="282" y="1156"/>
                          </a:lnTo>
                          <a:lnTo>
                            <a:pt x="272" y="1139"/>
                          </a:lnTo>
                          <a:lnTo>
                            <a:pt x="262" y="1123"/>
                          </a:lnTo>
                          <a:lnTo>
                            <a:pt x="252" y="1106"/>
                          </a:lnTo>
                          <a:lnTo>
                            <a:pt x="241" y="1090"/>
                          </a:lnTo>
                          <a:lnTo>
                            <a:pt x="231" y="1075"/>
                          </a:lnTo>
                          <a:lnTo>
                            <a:pt x="221" y="1060"/>
                          </a:lnTo>
                          <a:lnTo>
                            <a:pt x="208" y="1042"/>
                          </a:lnTo>
                          <a:lnTo>
                            <a:pt x="196" y="1027"/>
                          </a:lnTo>
                          <a:lnTo>
                            <a:pt x="183" y="1012"/>
                          </a:lnTo>
                          <a:lnTo>
                            <a:pt x="170" y="997"/>
                          </a:lnTo>
                          <a:lnTo>
                            <a:pt x="158" y="981"/>
                          </a:lnTo>
                          <a:lnTo>
                            <a:pt x="145" y="966"/>
                          </a:lnTo>
                          <a:lnTo>
                            <a:pt x="132" y="954"/>
                          </a:lnTo>
                          <a:lnTo>
                            <a:pt x="120" y="941"/>
                          </a:lnTo>
                          <a:lnTo>
                            <a:pt x="104" y="926"/>
                          </a:lnTo>
                          <a:lnTo>
                            <a:pt x="89" y="910"/>
                          </a:lnTo>
                          <a:lnTo>
                            <a:pt x="74" y="898"/>
                          </a:lnTo>
                          <a:lnTo>
                            <a:pt x="61" y="885"/>
                          </a:lnTo>
                          <a:lnTo>
                            <a:pt x="46" y="870"/>
                          </a:lnTo>
                          <a:lnTo>
                            <a:pt x="31" y="860"/>
                          </a:lnTo>
                          <a:lnTo>
                            <a:pt x="16" y="847"/>
                          </a:lnTo>
                          <a:lnTo>
                            <a:pt x="0" y="837"/>
                          </a:lnTo>
                          <a:lnTo>
                            <a:pt x="1091" y="10"/>
                          </a:lnTo>
                          <a:lnTo>
                            <a:pt x="1109" y="0"/>
                          </a:lnTo>
                          <a:lnTo>
                            <a:pt x="1132" y="8"/>
                          </a:lnTo>
                          <a:lnTo>
                            <a:pt x="1149" y="23"/>
                          </a:lnTo>
                          <a:lnTo>
                            <a:pt x="1170" y="43"/>
                          </a:lnTo>
                          <a:lnTo>
                            <a:pt x="1182" y="64"/>
                          </a:lnTo>
                          <a:lnTo>
                            <a:pt x="1193" y="89"/>
                          </a:lnTo>
                          <a:lnTo>
                            <a:pt x="1195" y="99"/>
                          </a:lnTo>
                          <a:lnTo>
                            <a:pt x="1200" y="112"/>
                          </a:lnTo>
                          <a:lnTo>
                            <a:pt x="1203" y="127"/>
                          </a:lnTo>
                          <a:lnTo>
                            <a:pt x="1208" y="142"/>
                          </a:lnTo>
                          <a:lnTo>
                            <a:pt x="1208" y="155"/>
                          </a:lnTo>
                          <a:lnTo>
                            <a:pt x="1210" y="170"/>
                          </a:lnTo>
                          <a:lnTo>
                            <a:pt x="1213" y="185"/>
                          </a:lnTo>
                          <a:lnTo>
                            <a:pt x="1215" y="200"/>
                          </a:lnTo>
                          <a:lnTo>
                            <a:pt x="1215" y="216"/>
                          </a:lnTo>
                          <a:lnTo>
                            <a:pt x="1215" y="231"/>
                          </a:lnTo>
                          <a:lnTo>
                            <a:pt x="1215" y="246"/>
                          </a:lnTo>
                          <a:lnTo>
                            <a:pt x="1218" y="264"/>
                          </a:lnTo>
                          <a:lnTo>
                            <a:pt x="1215" y="277"/>
                          </a:lnTo>
                          <a:lnTo>
                            <a:pt x="1213" y="292"/>
                          </a:lnTo>
                          <a:lnTo>
                            <a:pt x="1210" y="307"/>
                          </a:lnTo>
                          <a:lnTo>
                            <a:pt x="1210" y="322"/>
                          </a:lnTo>
                          <a:lnTo>
                            <a:pt x="1208" y="337"/>
                          </a:lnTo>
                          <a:lnTo>
                            <a:pt x="1208" y="353"/>
                          </a:lnTo>
                          <a:lnTo>
                            <a:pt x="1205" y="368"/>
                          </a:lnTo>
                          <a:lnTo>
                            <a:pt x="1205" y="383"/>
                          </a:lnTo>
                          <a:lnTo>
                            <a:pt x="1203" y="396"/>
                          </a:lnTo>
                          <a:lnTo>
                            <a:pt x="1200" y="411"/>
                          </a:lnTo>
                          <a:lnTo>
                            <a:pt x="1198" y="424"/>
                          </a:lnTo>
                          <a:lnTo>
                            <a:pt x="1198" y="439"/>
                          </a:lnTo>
                          <a:lnTo>
                            <a:pt x="1193" y="464"/>
                          </a:lnTo>
                          <a:lnTo>
                            <a:pt x="1193" y="492"/>
                          </a:lnTo>
                          <a:lnTo>
                            <a:pt x="1188" y="507"/>
                          </a:lnTo>
                          <a:lnTo>
                            <a:pt x="1185" y="522"/>
                          </a:lnTo>
                          <a:lnTo>
                            <a:pt x="1180" y="540"/>
                          </a:lnTo>
                          <a:lnTo>
                            <a:pt x="1177" y="558"/>
                          </a:lnTo>
                          <a:lnTo>
                            <a:pt x="1172" y="576"/>
                          </a:lnTo>
                          <a:lnTo>
                            <a:pt x="1170" y="593"/>
                          </a:lnTo>
                          <a:lnTo>
                            <a:pt x="1165" y="611"/>
                          </a:lnTo>
                          <a:lnTo>
                            <a:pt x="1162" y="632"/>
                          </a:lnTo>
                          <a:lnTo>
                            <a:pt x="1155" y="647"/>
                          </a:lnTo>
                          <a:lnTo>
                            <a:pt x="1149" y="667"/>
                          </a:lnTo>
                          <a:lnTo>
                            <a:pt x="1144" y="685"/>
                          </a:lnTo>
                          <a:lnTo>
                            <a:pt x="1139" y="705"/>
                          </a:lnTo>
                          <a:lnTo>
                            <a:pt x="1134" y="723"/>
                          </a:lnTo>
                          <a:lnTo>
                            <a:pt x="1129" y="743"/>
                          </a:lnTo>
                          <a:lnTo>
                            <a:pt x="1124" y="761"/>
                          </a:lnTo>
                          <a:lnTo>
                            <a:pt x="1119" y="781"/>
                          </a:lnTo>
                          <a:lnTo>
                            <a:pt x="1111" y="799"/>
                          </a:lnTo>
                          <a:lnTo>
                            <a:pt x="1106" y="819"/>
                          </a:lnTo>
                          <a:lnTo>
                            <a:pt x="1099" y="837"/>
                          </a:lnTo>
                          <a:lnTo>
                            <a:pt x="1094" y="857"/>
                          </a:lnTo>
                          <a:lnTo>
                            <a:pt x="1086" y="875"/>
                          </a:lnTo>
                          <a:lnTo>
                            <a:pt x="1081" y="898"/>
                          </a:lnTo>
                          <a:lnTo>
                            <a:pt x="1076" y="915"/>
                          </a:lnTo>
                          <a:lnTo>
                            <a:pt x="1073" y="938"/>
                          </a:lnTo>
                          <a:lnTo>
                            <a:pt x="1066" y="956"/>
                          </a:lnTo>
                          <a:lnTo>
                            <a:pt x="1061" y="976"/>
                          </a:lnTo>
                          <a:lnTo>
                            <a:pt x="1056" y="994"/>
                          </a:lnTo>
                          <a:lnTo>
                            <a:pt x="1053" y="1014"/>
                          </a:lnTo>
                          <a:lnTo>
                            <a:pt x="1048" y="1032"/>
                          </a:lnTo>
                          <a:lnTo>
                            <a:pt x="1045" y="1055"/>
                          </a:lnTo>
                          <a:lnTo>
                            <a:pt x="1040" y="1073"/>
                          </a:lnTo>
                          <a:lnTo>
                            <a:pt x="1040" y="1096"/>
                          </a:lnTo>
                          <a:lnTo>
                            <a:pt x="1035" y="1113"/>
                          </a:lnTo>
                          <a:lnTo>
                            <a:pt x="1033" y="1134"/>
                          </a:lnTo>
                          <a:lnTo>
                            <a:pt x="1028" y="1151"/>
                          </a:lnTo>
                          <a:lnTo>
                            <a:pt x="1028" y="1172"/>
                          </a:lnTo>
                          <a:lnTo>
                            <a:pt x="1025" y="1189"/>
                          </a:lnTo>
                          <a:lnTo>
                            <a:pt x="1025" y="1210"/>
                          </a:lnTo>
                          <a:lnTo>
                            <a:pt x="1025" y="1227"/>
                          </a:lnTo>
                          <a:lnTo>
                            <a:pt x="1028" y="1248"/>
                          </a:lnTo>
                          <a:lnTo>
                            <a:pt x="1028" y="1265"/>
                          </a:lnTo>
                          <a:lnTo>
                            <a:pt x="1028" y="1283"/>
                          </a:lnTo>
                          <a:lnTo>
                            <a:pt x="1028" y="1301"/>
                          </a:lnTo>
                          <a:lnTo>
                            <a:pt x="1033" y="1321"/>
                          </a:lnTo>
                          <a:lnTo>
                            <a:pt x="1033" y="1339"/>
                          </a:lnTo>
                          <a:lnTo>
                            <a:pt x="1038" y="1357"/>
                          </a:lnTo>
                          <a:lnTo>
                            <a:pt x="1043" y="1374"/>
                          </a:lnTo>
                          <a:lnTo>
                            <a:pt x="1051" y="1395"/>
                          </a:lnTo>
                          <a:lnTo>
                            <a:pt x="1056" y="1410"/>
                          </a:lnTo>
                          <a:lnTo>
                            <a:pt x="1061" y="1428"/>
                          </a:lnTo>
                          <a:lnTo>
                            <a:pt x="1068" y="1443"/>
                          </a:lnTo>
                          <a:lnTo>
                            <a:pt x="1078" y="1461"/>
                          </a:lnTo>
                          <a:lnTo>
                            <a:pt x="1086" y="1476"/>
                          </a:lnTo>
                          <a:lnTo>
                            <a:pt x="1096" y="1491"/>
                          </a:lnTo>
                          <a:lnTo>
                            <a:pt x="1106" y="1506"/>
                          </a:lnTo>
                          <a:lnTo>
                            <a:pt x="1119" y="1524"/>
                          </a:lnTo>
                          <a:lnTo>
                            <a:pt x="1129" y="1539"/>
                          </a:lnTo>
                          <a:lnTo>
                            <a:pt x="1144" y="1554"/>
                          </a:lnTo>
                          <a:lnTo>
                            <a:pt x="1160" y="1570"/>
                          </a:lnTo>
                          <a:lnTo>
                            <a:pt x="1175" y="1585"/>
                          </a:lnTo>
                          <a:lnTo>
                            <a:pt x="1190" y="1598"/>
                          </a:lnTo>
                          <a:lnTo>
                            <a:pt x="1210" y="1613"/>
                          </a:lnTo>
                          <a:lnTo>
                            <a:pt x="1228" y="1625"/>
                          </a:lnTo>
                          <a:lnTo>
                            <a:pt x="1251" y="1641"/>
                          </a:lnTo>
                          <a:lnTo>
                            <a:pt x="1248" y="1661"/>
                          </a:lnTo>
                          <a:lnTo>
                            <a:pt x="1248" y="1684"/>
                          </a:lnTo>
                          <a:lnTo>
                            <a:pt x="1248" y="1696"/>
                          </a:lnTo>
                          <a:lnTo>
                            <a:pt x="1248" y="1709"/>
                          </a:lnTo>
                          <a:lnTo>
                            <a:pt x="1248" y="1724"/>
                          </a:lnTo>
                          <a:lnTo>
                            <a:pt x="1248" y="1740"/>
                          </a:lnTo>
                          <a:lnTo>
                            <a:pt x="1248" y="1752"/>
                          </a:lnTo>
                          <a:lnTo>
                            <a:pt x="1248" y="1767"/>
                          </a:lnTo>
                          <a:lnTo>
                            <a:pt x="1248" y="1780"/>
                          </a:lnTo>
                          <a:lnTo>
                            <a:pt x="1251" y="1795"/>
                          </a:lnTo>
                          <a:lnTo>
                            <a:pt x="1253" y="1821"/>
                          </a:lnTo>
                          <a:lnTo>
                            <a:pt x="1264" y="1846"/>
                          </a:lnTo>
                          <a:lnTo>
                            <a:pt x="1241" y="1849"/>
                          </a:lnTo>
                          <a:lnTo>
                            <a:pt x="1220" y="1854"/>
                          </a:lnTo>
                          <a:lnTo>
                            <a:pt x="1200" y="1856"/>
                          </a:lnTo>
                          <a:lnTo>
                            <a:pt x="1180" y="1861"/>
                          </a:lnTo>
                          <a:lnTo>
                            <a:pt x="1160" y="1866"/>
                          </a:lnTo>
                          <a:lnTo>
                            <a:pt x="1142" y="1871"/>
                          </a:lnTo>
                          <a:lnTo>
                            <a:pt x="1122" y="1879"/>
                          </a:lnTo>
                          <a:lnTo>
                            <a:pt x="1104" y="1887"/>
                          </a:lnTo>
                          <a:lnTo>
                            <a:pt x="1084" y="1892"/>
                          </a:lnTo>
                          <a:lnTo>
                            <a:pt x="1066" y="1899"/>
                          </a:lnTo>
                          <a:lnTo>
                            <a:pt x="1045" y="1907"/>
                          </a:lnTo>
                          <a:lnTo>
                            <a:pt x="1028" y="1914"/>
                          </a:lnTo>
                          <a:lnTo>
                            <a:pt x="1010" y="1922"/>
                          </a:lnTo>
                          <a:lnTo>
                            <a:pt x="992" y="1930"/>
                          </a:lnTo>
                          <a:lnTo>
                            <a:pt x="977" y="1940"/>
                          </a:lnTo>
                          <a:lnTo>
                            <a:pt x="962" y="1953"/>
                          </a:lnTo>
                          <a:lnTo>
                            <a:pt x="977" y="2214"/>
                          </a:lnTo>
                          <a:lnTo>
                            <a:pt x="957" y="2219"/>
                          </a:lnTo>
                          <a:lnTo>
                            <a:pt x="936" y="2226"/>
                          </a:lnTo>
                          <a:lnTo>
                            <a:pt x="916" y="2231"/>
                          </a:lnTo>
                          <a:lnTo>
                            <a:pt x="898" y="2239"/>
                          </a:lnTo>
                          <a:lnTo>
                            <a:pt x="878" y="2244"/>
                          </a:lnTo>
                          <a:lnTo>
                            <a:pt x="860" y="2249"/>
                          </a:lnTo>
                          <a:lnTo>
                            <a:pt x="840" y="2254"/>
                          </a:lnTo>
                          <a:lnTo>
                            <a:pt x="822" y="2262"/>
                          </a:lnTo>
                          <a:lnTo>
                            <a:pt x="799" y="2267"/>
                          </a:lnTo>
                          <a:lnTo>
                            <a:pt x="782" y="2275"/>
                          </a:lnTo>
                          <a:lnTo>
                            <a:pt x="761" y="2282"/>
                          </a:lnTo>
                          <a:lnTo>
                            <a:pt x="744" y="2290"/>
                          </a:lnTo>
                          <a:lnTo>
                            <a:pt x="726" y="2297"/>
                          </a:lnTo>
                          <a:lnTo>
                            <a:pt x="708" y="2305"/>
                          </a:lnTo>
                          <a:lnTo>
                            <a:pt x="690" y="2315"/>
                          </a:lnTo>
                          <a:lnTo>
                            <a:pt x="675" y="2330"/>
                          </a:lnTo>
                          <a:lnTo>
                            <a:pt x="675" y="2348"/>
                          </a:lnTo>
                          <a:lnTo>
                            <a:pt x="675" y="2366"/>
                          </a:lnTo>
                          <a:lnTo>
                            <a:pt x="675" y="2384"/>
                          </a:lnTo>
                          <a:lnTo>
                            <a:pt x="675" y="2404"/>
                          </a:lnTo>
                          <a:lnTo>
                            <a:pt x="673" y="2422"/>
                          </a:lnTo>
                          <a:lnTo>
                            <a:pt x="673" y="2439"/>
                          </a:lnTo>
                          <a:lnTo>
                            <a:pt x="670" y="2457"/>
                          </a:lnTo>
                          <a:lnTo>
                            <a:pt x="670" y="2477"/>
                          </a:lnTo>
                          <a:lnTo>
                            <a:pt x="665" y="2493"/>
                          </a:lnTo>
                          <a:lnTo>
                            <a:pt x="662" y="2513"/>
                          </a:lnTo>
                          <a:lnTo>
                            <a:pt x="660" y="2528"/>
                          </a:lnTo>
                          <a:lnTo>
                            <a:pt x="657" y="2548"/>
                          </a:lnTo>
                          <a:lnTo>
                            <a:pt x="652" y="2566"/>
                          </a:lnTo>
                          <a:lnTo>
                            <a:pt x="650" y="2586"/>
                          </a:lnTo>
                          <a:lnTo>
                            <a:pt x="645" y="2604"/>
                          </a:lnTo>
                          <a:lnTo>
                            <a:pt x="642" y="2627"/>
                          </a:lnTo>
                          <a:lnTo>
                            <a:pt x="619" y="2629"/>
                          </a:lnTo>
                          <a:lnTo>
                            <a:pt x="597" y="2635"/>
                          </a:lnTo>
                          <a:lnTo>
                            <a:pt x="574" y="2640"/>
                          </a:lnTo>
                          <a:lnTo>
                            <a:pt x="553" y="2645"/>
                          </a:lnTo>
                          <a:lnTo>
                            <a:pt x="531" y="2647"/>
                          </a:lnTo>
                          <a:lnTo>
                            <a:pt x="508" y="2650"/>
                          </a:lnTo>
                          <a:lnTo>
                            <a:pt x="485" y="2652"/>
                          </a:lnTo>
                          <a:lnTo>
                            <a:pt x="465" y="2660"/>
                          </a:lnTo>
                          <a:lnTo>
                            <a:pt x="442" y="2662"/>
                          </a:lnTo>
                          <a:lnTo>
                            <a:pt x="419" y="2668"/>
                          </a:lnTo>
                          <a:lnTo>
                            <a:pt x="399" y="2675"/>
                          </a:lnTo>
                          <a:lnTo>
                            <a:pt x="383" y="2685"/>
                          </a:lnTo>
                          <a:lnTo>
                            <a:pt x="363" y="2693"/>
                          </a:lnTo>
                          <a:lnTo>
                            <a:pt x="348" y="2708"/>
                          </a:lnTo>
                          <a:lnTo>
                            <a:pt x="333" y="2721"/>
                          </a:lnTo>
                          <a:lnTo>
                            <a:pt x="323" y="2741"/>
                          </a:lnTo>
                          <a:lnTo>
                            <a:pt x="323" y="2761"/>
                          </a:lnTo>
                          <a:lnTo>
                            <a:pt x="328" y="2789"/>
                          </a:lnTo>
                          <a:lnTo>
                            <a:pt x="328" y="2804"/>
                          </a:lnTo>
                          <a:lnTo>
                            <a:pt x="333" y="2820"/>
                          </a:lnTo>
                          <a:lnTo>
                            <a:pt x="333" y="2835"/>
                          </a:lnTo>
                          <a:lnTo>
                            <a:pt x="338" y="2850"/>
                          </a:lnTo>
                          <a:lnTo>
                            <a:pt x="338" y="2863"/>
                          </a:lnTo>
                          <a:lnTo>
                            <a:pt x="338" y="2878"/>
                          </a:lnTo>
                          <a:lnTo>
                            <a:pt x="338" y="2893"/>
                          </a:lnTo>
                          <a:lnTo>
                            <a:pt x="340" y="2908"/>
                          </a:lnTo>
                          <a:lnTo>
                            <a:pt x="338" y="2921"/>
                          </a:lnTo>
                          <a:lnTo>
                            <a:pt x="338" y="2936"/>
                          </a:lnTo>
                          <a:lnTo>
                            <a:pt x="333" y="2949"/>
                          </a:lnTo>
                          <a:lnTo>
                            <a:pt x="330" y="2962"/>
                          </a:lnTo>
                          <a:lnTo>
                            <a:pt x="305" y="2962"/>
                          </a:lnTo>
                          <a:lnTo>
                            <a:pt x="282" y="2969"/>
                          </a:lnTo>
                          <a:lnTo>
                            <a:pt x="262" y="2979"/>
                          </a:lnTo>
                          <a:lnTo>
                            <a:pt x="241" y="2992"/>
                          </a:lnTo>
                          <a:lnTo>
                            <a:pt x="219" y="3002"/>
                          </a:lnTo>
                          <a:lnTo>
                            <a:pt x="196" y="3012"/>
                          </a:lnTo>
                          <a:lnTo>
                            <a:pt x="170" y="3017"/>
                          </a:lnTo>
                          <a:lnTo>
                            <a:pt x="148" y="3020"/>
                          </a:lnTo>
                          <a:close/>
                        </a:path>
                      </a:pathLst>
                    </a:custGeom>
                    <a:solidFill>
                      <a:srgbClr val="b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8" name=""/>
                    <p:cNvSpPr/>
                    <p:nvPr/>
                  </p:nvSpPr>
                  <p:spPr>
                    <a:xfrm>
                      <a:off x="1228320" y="6269760"/>
                      <a:ext cx="296640" cy="460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519" h="3319">
                          <a:moveTo>
                            <a:pt x="5" y="3076"/>
                          </a:moveTo>
                          <a:lnTo>
                            <a:pt x="3" y="3053"/>
                          </a:lnTo>
                          <a:lnTo>
                            <a:pt x="0" y="3030"/>
                          </a:lnTo>
                          <a:lnTo>
                            <a:pt x="0" y="3007"/>
                          </a:lnTo>
                          <a:lnTo>
                            <a:pt x="3" y="2985"/>
                          </a:lnTo>
                          <a:lnTo>
                            <a:pt x="3" y="2962"/>
                          </a:lnTo>
                          <a:lnTo>
                            <a:pt x="3" y="2939"/>
                          </a:lnTo>
                          <a:lnTo>
                            <a:pt x="5" y="2916"/>
                          </a:lnTo>
                          <a:lnTo>
                            <a:pt x="8" y="2896"/>
                          </a:lnTo>
                          <a:lnTo>
                            <a:pt x="8" y="2873"/>
                          </a:lnTo>
                          <a:lnTo>
                            <a:pt x="10" y="2850"/>
                          </a:lnTo>
                          <a:lnTo>
                            <a:pt x="13" y="2827"/>
                          </a:lnTo>
                          <a:lnTo>
                            <a:pt x="15" y="2807"/>
                          </a:lnTo>
                          <a:lnTo>
                            <a:pt x="18" y="2784"/>
                          </a:lnTo>
                          <a:lnTo>
                            <a:pt x="23" y="2764"/>
                          </a:lnTo>
                          <a:lnTo>
                            <a:pt x="25" y="2741"/>
                          </a:lnTo>
                          <a:lnTo>
                            <a:pt x="33" y="2721"/>
                          </a:lnTo>
                          <a:lnTo>
                            <a:pt x="36" y="2698"/>
                          </a:lnTo>
                          <a:lnTo>
                            <a:pt x="41" y="2675"/>
                          </a:lnTo>
                          <a:lnTo>
                            <a:pt x="43" y="2652"/>
                          </a:lnTo>
                          <a:lnTo>
                            <a:pt x="51" y="2632"/>
                          </a:lnTo>
                          <a:lnTo>
                            <a:pt x="53" y="2609"/>
                          </a:lnTo>
                          <a:lnTo>
                            <a:pt x="58" y="2589"/>
                          </a:lnTo>
                          <a:lnTo>
                            <a:pt x="63" y="2566"/>
                          </a:lnTo>
                          <a:lnTo>
                            <a:pt x="71" y="2546"/>
                          </a:lnTo>
                          <a:lnTo>
                            <a:pt x="76" y="2523"/>
                          </a:lnTo>
                          <a:lnTo>
                            <a:pt x="81" y="2503"/>
                          </a:lnTo>
                          <a:lnTo>
                            <a:pt x="86" y="2483"/>
                          </a:lnTo>
                          <a:lnTo>
                            <a:pt x="94" y="2462"/>
                          </a:lnTo>
                          <a:lnTo>
                            <a:pt x="99" y="2440"/>
                          </a:lnTo>
                          <a:lnTo>
                            <a:pt x="104" y="2419"/>
                          </a:lnTo>
                          <a:lnTo>
                            <a:pt x="109" y="2399"/>
                          </a:lnTo>
                          <a:lnTo>
                            <a:pt x="117" y="2379"/>
                          </a:lnTo>
                          <a:lnTo>
                            <a:pt x="119" y="2356"/>
                          </a:lnTo>
                          <a:lnTo>
                            <a:pt x="124" y="2336"/>
                          </a:lnTo>
                          <a:lnTo>
                            <a:pt x="129" y="2315"/>
                          </a:lnTo>
                          <a:lnTo>
                            <a:pt x="134" y="2295"/>
                          </a:lnTo>
                          <a:lnTo>
                            <a:pt x="137" y="2272"/>
                          </a:lnTo>
                          <a:lnTo>
                            <a:pt x="145" y="2252"/>
                          </a:lnTo>
                          <a:lnTo>
                            <a:pt x="147" y="2232"/>
                          </a:lnTo>
                          <a:lnTo>
                            <a:pt x="155" y="2211"/>
                          </a:lnTo>
                          <a:lnTo>
                            <a:pt x="157" y="2188"/>
                          </a:lnTo>
                          <a:lnTo>
                            <a:pt x="160" y="2168"/>
                          </a:lnTo>
                          <a:lnTo>
                            <a:pt x="162" y="2148"/>
                          </a:lnTo>
                          <a:lnTo>
                            <a:pt x="167" y="2128"/>
                          </a:lnTo>
                          <a:lnTo>
                            <a:pt x="167" y="2105"/>
                          </a:lnTo>
                          <a:lnTo>
                            <a:pt x="172" y="2085"/>
                          </a:lnTo>
                          <a:lnTo>
                            <a:pt x="172" y="2064"/>
                          </a:lnTo>
                          <a:lnTo>
                            <a:pt x="178" y="2047"/>
                          </a:lnTo>
                          <a:lnTo>
                            <a:pt x="178" y="2024"/>
                          </a:lnTo>
                          <a:lnTo>
                            <a:pt x="178" y="2003"/>
                          </a:lnTo>
                          <a:lnTo>
                            <a:pt x="178" y="1983"/>
                          </a:lnTo>
                          <a:lnTo>
                            <a:pt x="180" y="1963"/>
                          </a:lnTo>
                          <a:lnTo>
                            <a:pt x="178" y="1940"/>
                          </a:lnTo>
                          <a:lnTo>
                            <a:pt x="178" y="1922"/>
                          </a:lnTo>
                          <a:lnTo>
                            <a:pt x="178" y="1899"/>
                          </a:lnTo>
                          <a:lnTo>
                            <a:pt x="178" y="1882"/>
                          </a:lnTo>
                          <a:lnTo>
                            <a:pt x="172" y="1859"/>
                          </a:lnTo>
                          <a:lnTo>
                            <a:pt x="170" y="1841"/>
                          </a:lnTo>
                          <a:lnTo>
                            <a:pt x="167" y="1818"/>
                          </a:lnTo>
                          <a:lnTo>
                            <a:pt x="165" y="1801"/>
                          </a:lnTo>
                          <a:lnTo>
                            <a:pt x="160" y="1780"/>
                          </a:lnTo>
                          <a:lnTo>
                            <a:pt x="155" y="1760"/>
                          </a:lnTo>
                          <a:lnTo>
                            <a:pt x="150" y="1740"/>
                          </a:lnTo>
                          <a:lnTo>
                            <a:pt x="145" y="1722"/>
                          </a:lnTo>
                          <a:lnTo>
                            <a:pt x="89" y="1666"/>
                          </a:lnTo>
                          <a:lnTo>
                            <a:pt x="122" y="1638"/>
                          </a:lnTo>
                          <a:lnTo>
                            <a:pt x="157" y="1613"/>
                          </a:lnTo>
                          <a:lnTo>
                            <a:pt x="190" y="1588"/>
                          </a:lnTo>
                          <a:lnTo>
                            <a:pt x="226" y="1562"/>
                          </a:lnTo>
                          <a:lnTo>
                            <a:pt x="259" y="1534"/>
                          </a:lnTo>
                          <a:lnTo>
                            <a:pt x="294" y="1512"/>
                          </a:lnTo>
                          <a:lnTo>
                            <a:pt x="327" y="1484"/>
                          </a:lnTo>
                          <a:lnTo>
                            <a:pt x="363" y="1461"/>
                          </a:lnTo>
                          <a:lnTo>
                            <a:pt x="396" y="1433"/>
                          </a:lnTo>
                          <a:lnTo>
                            <a:pt x="431" y="1408"/>
                          </a:lnTo>
                          <a:lnTo>
                            <a:pt x="464" y="1382"/>
                          </a:lnTo>
                          <a:lnTo>
                            <a:pt x="500" y="1357"/>
                          </a:lnTo>
                          <a:lnTo>
                            <a:pt x="533" y="1329"/>
                          </a:lnTo>
                          <a:lnTo>
                            <a:pt x="568" y="1304"/>
                          </a:lnTo>
                          <a:lnTo>
                            <a:pt x="601" y="1278"/>
                          </a:lnTo>
                          <a:lnTo>
                            <a:pt x="637" y="1253"/>
                          </a:lnTo>
                          <a:lnTo>
                            <a:pt x="670" y="1225"/>
                          </a:lnTo>
                          <a:lnTo>
                            <a:pt x="705" y="1200"/>
                          </a:lnTo>
                          <a:lnTo>
                            <a:pt x="738" y="1172"/>
                          </a:lnTo>
                          <a:lnTo>
                            <a:pt x="774" y="1146"/>
                          </a:lnTo>
                          <a:lnTo>
                            <a:pt x="807" y="1119"/>
                          </a:lnTo>
                          <a:lnTo>
                            <a:pt x="842" y="1093"/>
                          </a:lnTo>
                          <a:lnTo>
                            <a:pt x="875" y="1065"/>
                          </a:lnTo>
                          <a:lnTo>
                            <a:pt x="911" y="1042"/>
                          </a:lnTo>
                          <a:lnTo>
                            <a:pt x="944" y="1015"/>
                          </a:lnTo>
                          <a:lnTo>
                            <a:pt x="979" y="989"/>
                          </a:lnTo>
                          <a:lnTo>
                            <a:pt x="1012" y="961"/>
                          </a:lnTo>
                          <a:lnTo>
                            <a:pt x="1048" y="936"/>
                          </a:lnTo>
                          <a:lnTo>
                            <a:pt x="1081" y="908"/>
                          </a:lnTo>
                          <a:lnTo>
                            <a:pt x="1116" y="883"/>
                          </a:lnTo>
                          <a:lnTo>
                            <a:pt x="1149" y="855"/>
                          </a:lnTo>
                          <a:lnTo>
                            <a:pt x="1187" y="832"/>
                          </a:lnTo>
                          <a:lnTo>
                            <a:pt x="1220" y="804"/>
                          </a:lnTo>
                          <a:lnTo>
                            <a:pt x="1256" y="779"/>
                          </a:lnTo>
                          <a:lnTo>
                            <a:pt x="1289" y="751"/>
                          </a:lnTo>
                          <a:lnTo>
                            <a:pt x="1324" y="726"/>
                          </a:lnTo>
                          <a:lnTo>
                            <a:pt x="1357" y="698"/>
                          </a:lnTo>
                          <a:lnTo>
                            <a:pt x="1393" y="672"/>
                          </a:lnTo>
                          <a:lnTo>
                            <a:pt x="1425" y="644"/>
                          </a:lnTo>
                          <a:lnTo>
                            <a:pt x="1461" y="619"/>
                          </a:lnTo>
                          <a:lnTo>
                            <a:pt x="1494" y="591"/>
                          </a:lnTo>
                          <a:lnTo>
                            <a:pt x="1529" y="566"/>
                          </a:lnTo>
                          <a:lnTo>
                            <a:pt x="1562" y="540"/>
                          </a:lnTo>
                          <a:lnTo>
                            <a:pt x="1598" y="515"/>
                          </a:lnTo>
                          <a:lnTo>
                            <a:pt x="1631" y="487"/>
                          </a:lnTo>
                          <a:lnTo>
                            <a:pt x="1666" y="464"/>
                          </a:lnTo>
                          <a:lnTo>
                            <a:pt x="1702" y="436"/>
                          </a:lnTo>
                          <a:lnTo>
                            <a:pt x="1737" y="414"/>
                          </a:lnTo>
                          <a:lnTo>
                            <a:pt x="1770" y="386"/>
                          </a:lnTo>
                          <a:lnTo>
                            <a:pt x="1806" y="360"/>
                          </a:lnTo>
                          <a:lnTo>
                            <a:pt x="1839" y="335"/>
                          </a:lnTo>
                          <a:lnTo>
                            <a:pt x="1874" y="310"/>
                          </a:lnTo>
                          <a:lnTo>
                            <a:pt x="1907" y="284"/>
                          </a:lnTo>
                          <a:lnTo>
                            <a:pt x="1943" y="259"/>
                          </a:lnTo>
                          <a:lnTo>
                            <a:pt x="1976" y="234"/>
                          </a:lnTo>
                          <a:lnTo>
                            <a:pt x="2014" y="211"/>
                          </a:lnTo>
                          <a:lnTo>
                            <a:pt x="2047" y="183"/>
                          </a:lnTo>
                          <a:lnTo>
                            <a:pt x="2082" y="158"/>
                          </a:lnTo>
                          <a:lnTo>
                            <a:pt x="2115" y="132"/>
                          </a:lnTo>
                          <a:lnTo>
                            <a:pt x="2151" y="109"/>
                          </a:lnTo>
                          <a:lnTo>
                            <a:pt x="2184" y="84"/>
                          </a:lnTo>
                          <a:lnTo>
                            <a:pt x="2219" y="61"/>
                          </a:lnTo>
                          <a:lnTo>
                            <a:pt x="2252" y="38"/>
                          </a:lnTo>
                          <a:lnTo>
                            <a:pt x="2290" y="16"/>
                          </a:lnTo>
                          <a:lnTo>
                            <a:pt x="2301" y="3"/>
                          </a:lnTo>
                          <a:lnTo>
                            <a:pt x="2313" y="0"/>
                          </a:lnTo>
                          <a:lnTo>
                            <a:pt x="2321" y="26"/>
                          </a:lnTo>
                          <a:lnTo>
                            <a:pt x="2328" y="54"/>
                          </a:lnTo>
                          <a:lnTo>
                            <a:pt x="2331" y="66"/>
                          </a:lnTo>
                          <a:lnTo>
                            <a:pt x="2336" y="79"/>
                          </a:lnTo>
                          <a:lnTo>
                            <a:pt x="2341" y="94"/>
                          </a:lnTo>
                          <a:lnTo>
                            <a:pt x="2346" y="109"/>
                          </a:lnTo>
                          <a:lnTo>
                            <a:pt x="2349" y="122"/>
                          </a:lnTo>
                          <a:lnTo>
                            <a:pt x="2354" y="137"/>
                          </a:lnTo>
                          <a:lnTo>
                            <a:pt x="2356" y="150"/>
                          </a:lnTo>
                          <a:lnTo>
                            <a:pt x="2361" y="165"/>
                          </a:lnTo>
                          <a:lnTo>
                            <a:pt x="2364" y="178"/>
                          </a:lnTo>
                          <a:lnTo>
                            <a:pt x="2369" y="193"/>
                          </a:lnTo>
                          <a:lnTo>
                            <a:pt x="2372" y="208"/>
                          </a:lnTo>
                          <a:lnTo>
                            <a:pt x="2377" y="223"/>
                          </a:lnTo>
                          <a:lnTo>
                            <a:pt x="2377" y="236"/>
                          </a:lnTo>
                          <a:lnTo>
                            <a:pt x="2382" y="251"/>
                          </a:lnTo>
                          <a:lnTo>
                            <a:pt x="2382" y="264"/>
                          </a:lnTo>
                          <a:lnTo>
                            <a:pt x="2387" y="279"/>
                          </a:lnTo>
                          <a:lnTo>
                            <a:pt x="2389" y="292"/>
                          </a:lnTo>
                          <a:lnTo>
                            <a:pt x="2392" y="307"/>
                          </a:lnTo>
                          <a:lnTo>
                            <a:pt x="2394" y="322"/>
                          </a:lnTo>
                          <a:lnTo>
                            <a:pt x="2399" y="338"/>
                          </a:lnTo>
                          <a:lnTo>
                            <a:pt x="2402" y="350"/>
                          </a:lnTo>
                          <a:lnTo>
                            <a:pt x="2405" y="365"/>
                          </a:lnTo>
                          <a:lnTo>
                            <a:pt x="2407" y="378"/>
                          </a:lnTo>
                          <a:lnTo>
                            <a:pt x="2412" y="393"/>
                          </a:lnTo>
                          <a:lnTo>
                            <a:pt x="2415" y="409"/>
                          </a:lnTo>
                          <a:lnTo>
                            <a:pt x="2417" y="424"/>
                          </a:lnTo>
                          <a:lnTo>
                            <a:pt x="2420" y="439"/>
                          </a:lnTo>
                          <a:lnTo>
                            <a:pt x="2425" y="454"/>
                          </a:lnTo>
                          <a:lnTo>
                            <a:pt x="2425" y="467"/>
                          </a:lnTo>
                          <a:lnTo>
                            <a:pt x="2427" y="482"/>
                          </a:lnTo>
                          <a:lnTo>
                            <a:pt x="2430" y="495"/>
                          </a:lnTo>
                          <a:lnTo>
                            <a:pt x="2432" y="510"/>
                          </a:lnTo>
                          <a:lnTo>
                            <a:pt x="2435" y="523"/>
                          </a:lnTo>
                          <a:lnTo>
                            <a:pt x="2438" y="538"/>
                          </a:lnTo>
                          <a:lnTo>
                            <a:pt x="2440" y="553"/>
                          </a:lnTo>
                          <a:lnTo>
                            <a:pt x="2445" y="568"/>
                          </a:lnTo>
                          <a:lnTo>
                            <a:pt x="2445" y="581"/>
                          </a:lnTo>
                          <a:lnTo>
                            <a:pt x="2450" y="596"/>
                          </a:lnTo>
                          <a:lnTo>
                            <a:pt x="2450" y="611"/>
                          </a:lnTo>
                          <a:lnTo>
                            <a:pt x="2455" y="627"/>
                          </a:lnTo>
                          <a:lnTo>
                            <a:pt x="2458" y="639"/>
                          </a:lnTo>
                          <a:lnTo>
                            <a:pt x="2460" y="655"/>
                          </a:lnTo>
                          <a:lnTo>
                            <a:pt x="2463" y="670"/>
                          </a:lnTo>
                          <a:lnTo>
                            <a:pt x="2468" y="685"/>
                          </a:lnTo>
                          <a:lnTo>
                            <a:pt x="2468" y="698"/>
                          </a:lnTo>
                          <a:lnTo>
                            <a:pt x="2473" y="713"/>
                          </a:lnTo>
                          <a:lnTo>
                            <a:pt x="2473" y="728"/>
                          </a:lnTo>
                          <a:lnTo>
                            <a:pt x="2478" y="743"/>
                          </a:lnTo>
                          <a:lnTo>
                            <a:pt x="2481" y="756"/>
                          </a:lnTo>
                          <a:lnTo>
                            <a:pt x="2483" y="771"/>
                          </a:lnTo>
                          <a:lnTo>
                            <a:pt x="2486" y="786"/>
                          </a:lnTo>
                          <a:lnTo>
                            <a:pt x="2491" y="802"/>
                          </a:lnTo>
                          <a:lnTo>
                            <a:pt x="2491" y="814"/>
                          </a:lnTo>
                          <a:lnTo>
                            <a:pt x="2496" y="829"/>
                          </a:lnTo>
                          <a:lnTo>
                            <a:pt x="2498" y="845"/>
                          </a:lnTo>
                          <a:lnTo>
                            <a:pt x="2503" y="860"/>
                          </a:lnTo>
                          <a:lnTo>
                            <a:pt x="2506" y="873"/>
                          </a:lnTo>
                          <a:lnTo>
                            <a:pt x="2511" y="888"/>
                          </a:lnTo>
                          <a:lnTo>
                            <a:pt x="2514" y="903"/>
                          </a:lnTo>
                          <a:lnTo>
                            <a:pt x="2519" y="918"/>
                          </a:lnTo>
                          <a:lnTo>
                            <a:pt x="2503" y="928"/>
                          </a:lnTo>
                          <a:lnTo>
                            <a:pt x="2491" y="936"/>
                          </a:lnTo>
                          <a:lnTo>
                            <a:pt x="2476" y="941"/>
                          </a:lnTo>
                          <a:lnTo>
                            <a:pt x="2460" y="944"/>
                          </a:lnTo>
                          <a:lnTo>
                            <a:pt x="2443" y="941"/>
                          </a:lnTo>
                          <a:lnTo>
                            <a:pt x="2427" y="938"/>
                          </a:lnTo>
                          <a:lnTo>
                            <a:pt x="2412" y="936"/>
                          </a:lnTo>
                          <a:lnTo>
                            <a:pt x="2397" y="936"/>
                          </a:lnTo>
                          <a:lnTo>
                            <a:pt x="2379" y="931"/>
                          </a:lnTo>
                          <a:lnTo>
                            <a:pt x="2361" y="931"/>
                          </a:lnTo>
                          <a:lnTo>
                            <a:pt x="2346" y="931"/>
                          </a:lnTo>
                          <a:lnTo>
                            <a:pt x="2331" y="936"/>
                          </a:lnTo>
                          <a:lnTo>
                            <a:pt x="2316" y="941"/>
                          </a:lnTo>
                          <a:lnTo>
                            <a:pt x="2306" y="951"/>
                          </a:lnTo>
                          <a:lnTo>
                            <a:pt x="2295" y="966"/>
                          </a:lnTo>
                          <a:lnTo>
                            <a:pt x="2290" y="992"/>
                          </a:lnTo>
                          <a:lnTo>
                            <a:pt x="2303" y="1253"/>
                          </a:lnTo>
                          <a:lnTo>
                            <a:pt x="2283" y="1258"/>
                          </a:lnTo>
                          <a:lnTo>
                            <a:pt x="2268" y="1263"/>
                          </a:lnTo>
                          <a:lnTo>
                            <a:pt x="2247" y="1266"/>
                          </a:lnTo>
                          <a:lnTo>
                            <a:pt x="2232" y="1271"/>
                          </a:lnTo>
                          <a:lnTo>
                            <a:pt x="2214" y="1271"/>
                          </a:lnTo>
                          <a:lnTo>
                            <a:pt x="2197" y="1273"/>
                          </a:lnTo>
                          <a:lnTo>
                            <a:pt x="2179" y="1273"/>
                          </a:lnTo>
                          <a:lnTo>
                            <a:pt x="2164" y="1276"/>
                          </a:lnTo>
                          <a:lnTo>
                            <a:pt x="2146" y="1273"/>
                          </a:lnTo>
                          <a:lnTo>
                            <a:pt x="2128" y="1273"/>
                          </a:lnTo>
                          <a:lnTo>
                            <a:pt x="2110" y="1273"/>
                          </a:lnTo>
                          <a:lnTo>
                            <a:pt x="2095" y="1273"/>
                          </a:lnTo>
                          <a:lnTo>
                            <a:pt x="2077" y="1273"/>
                          </a:lnTo>
                          <a:lnTo>
                            <a:pt x="2060" y="1273"/>
                          </a:lnTo>
                          <a:lnTo>
                            <a:pt x="2042" y="1276"/>
                          </a:lnTo>
                          <a:lnTo>
                            <a:pt x="2027" y="1278"/>
                          </a:lnTo>
                          <a:lnTo>
                            <a:pt x="1983" y="1344"/>
                          </a:lnTo>
                          <a:lnTo>
                            <a:pt x="1983" y="1631"/>
                          </a:lnTo>
                          <a:lnTo>
                            <a:pt x="1958" y="1638"/>
                          </a:lnTo>
                          <a:lnTo>
                            <a:pt x="1935" y="1646"/>
                          </a:lnTo>
                          <a:lnTo>
                            <a:pt x="1912" y="1648"/>
                          </a:lnTo>
                          <a:lnTo>
                            <a:pt x="1890" y="1651"/>
                          </a:lnTo>
                          <a:lnTo>
                            <a:pt x="1867" y="1651"/>
                          </a:lnTo>
                          <a:lnTo>
                            <a:pt x="1844" y="1651"/>
                          </a:lnTo>
                          <a:lnTo>
                            <a:pt x="1821" y="1651"/>
                          </a:lnTo>
                          <a:lnTo>
                            <a:pt x="1798" y="1651"/>
                          </a:lnTo>
                          <a:lnTo>
                            <a:pt x="1773" y="1651"/>
                          </a:lnTo>
                          <a:lnTo>
                            <a:pt x="1750" y="1651"/>
                          </a:lnTo>
                          <a:lnTo>
                            <a:pt x="1727" y="1651"/>
                          </a:lnTo>
                          <a:lnTo>
                            <a:pt x="1710" y="1659"/>
                          </a:lnTo>
                          <a:lnTo>
                            <a:pt x="1687" y="1666"/>
                          </a:lnTo>
                          <a:lnTo>
                            <a:pt x="1669" y="1679"/>
                          </a:lnTo>
                          <a:lnTo>
                            <a:pt x="1654" y="1692"/>
                          </a:lnTo>
                          <a:lnTo>
                            <a:pt x="1639" y="1714"/>
                          </a:lnTo>
                          <a:lnTo>
                            <a:pt x="1636" y="1732"/>
                          </a:lnTo>
                          <a:lnTo>
                            <a:pt x="1636" y="1752"/>
                          </a:lnTo>
                          <a:lnTo>
                            <a:pt x="1636" y="1773"/>
                          </a:lnTo>
                          <a:lnTo>
                            <a:pt x="1636" y="1793"/>
                          </a:lnTo>
                          <a:lnTo>
                            <a:pt x="1636" y="1811"/>
                          </a:lnTo>
                          <a:lnTo>
                            <a:pt x="1636" y="1831"/>
                          </a:lnTo>
                          <a:lnTo>
                            <a:pt x="1636" y="1849"/>
                          </a:lnTo>
                          <a:lnTo>
                            <a:pt x="1636" y="1869"/>
                          </a:lnTo>
                          <a:lnTo>
                            <a:pt x="1633" y="1887"/>
                          </a:lnTo>
                          <a:lnTo>
                            <a:pt x="1633" y="1905"/>
                          </a:lnTo>
                          <a:lnTo>
                            <a:pt x="1633" y="1922"/>
                          </a:lnTo>
                          <a:lnTo>
                            <a:pt x="1633" y="1943"/>
                          </a:lnTo>
                          <a:lnTo>
                            <a:pt x="1631" y="1960"/>
                          </a:lnTo>
                          <a:lnTo>
                            <a:pt x="1628" y="1981"/>
                          </a:lnTo>
                          <a:lnTo>
                            <a:pt x="1626" y="2001"/>
                          </a:lnTo>
                          <a:lnTo>
                            <a:pt x="1623" y="2024"/>
                          </a:lnTo>
                          <a:lnTo>
                            <a:pt x="1608" y="2026"/>
                          </a:lnTo>
                          <a:lnTo>
                            <a:pt x="1593" y="2031"/>
                          </a:lnTo>
                          <a:lnTo>
                            <a:pt x="1575" y="2034"/>
                          </a:lnTo>
                          <a:lnTo>
                            <a:pt x="1560" y="2039"/>
                          </a:lnTo>
                          <a:lnTo>
                            <a:pt x="1540" y="2041"/>
                          </a:lnTo>
                          <a:lnTo>
                            <a:pt x="1519" y="2044"/>
                          </a:lnTo>
                          <a:lnTo>
                            <a:pt x="1499" y="2047"/>
                          </a:lnTo>
                          <a:lnTo>
                            <a:pt x="1481" y="2049"/>
                          </a:lnTo>
                          <a:lnTo>
                            <a:pt x="1458" y="2049"/>
                          </a:lnTo>
                          <a:lnTo>
                            <a:pt x="1438" y="2052"/>
                          </a:lnTo>
                          <a:lnTo>
                            <a:pt x="1418" y="2054"/>
                          </a:lnTo>
                          <a:lnTo>
                            <a:pt x="1398" y="2059"/>
                          </a:lnTo>
                          <a:lnTo>
                            <a:pt x="1377" y="2064"/>
                          </a:lnTo>
                          <a:lnTo>
                            <a:pt x="1360" y="2069"/>
                          </a:lnTo>
                          <a:lnTo>
                            <a:pt x="1342" y="2077"/>
                          </a:lnTo>
                          <a:lnTo>
                            <a:pt x="1327" y="2090"/>
                          </a:lnTo>
                          <a:lnTo>
                            <a:pt x="1314" y="2353"/>
                          </a:lnTo>
                          <a:lnTo>
                            <a:pt x="1294" y="2356"/>
                          </a:lnTo>
                          <a:lnTo>
                            <a:pt x="1276" y="2361"/>
                          </a:lnTo>
                          <a:lnTo>
                            <a:pt x="1258" y="2366"/>
                          </a:lnTo>
                          <a:lnTo>
                            <a:pt x="1240" y="2371"/>
                          </a:lnTo>
                          <a:lnTo>
                            <a:pt x="1220" y="2374"/>
                          </a:lnTo>
                          <a:lnTo>
                            <a:pt x="1205" y="2379"/>
                          </a:lnTo>
                          <a:lnTo>
                            <a:pt x="1185" y="2381"/>
                          </a:lnTo>
                          <a:lnTo>
                            <a:pt x="1169" y="2386"/>
                          </a:lnTo>
                          <a:lnTo>
                            <a:pt x="1152" y="2389"/>
                          </a:lnTo>
                          <a:lnTo>
                            <a:pt x="1134" y="2394"/>
                          </a:lnTo>
                          <a:lnTo>
                            <a:pt x="1116" y="2399"/>
                          </a:lnTo>
                          <a:lnTo>
                            <a:pt x="1101" y="2407"/>
                          </a:lnTo>
                          <a:lnTo>
                            <a:pt x="1083" y="2414"/>
                          </a:lnTo>
                          <a:lnTo>
                            <a:pt x="1068" y="2422"/>
                          </a:lnTo>
                          <a:lnTo>
                            <a:pt x="1053" y="2432"/>
                          </a:lnTo>
                          <a:lnTo>
                            <a:pt x="1040" y="2445"/>
                          </a:lnTo>
                          <a:lnTo>
                            <a:pt x="1040" y="2460"/>
                          </a:lnTo>
                          <a:lnTo>
                            <a:pt x="1040" y="2475"/>
                          </a:lnTo>
                          <a:lnTo>
                            <a:pt x="1040" y="2490"/>
                          </a:lnTo>
                          <a:lnTo>
                            <a:pt x="1040" y="2505"/>
                          </a:lnTo>
                          <a:lnTo>
                            <a:pt x="1037" y="2518"/>
                          </a:lnTo>
                          <a:lnTo>
                            <a:pt x="1037" y="2533"/>
                          </a:lnTo>
                          <a:lnTo>
                            <a:pt x="1035" y="2546"/>
                          </a:lnTo>
                          <a:lnTo>
                            <a:pt x="1035" y="2561"/>
                          </a:lnTo>
                          <a:lnTo>
                            <a:pt x="1027" y="2584"/>
                          </a:lnTo>
                          <a:lnTo>
                            <a:pt x="1022" y="2607"/>
                          </a:lnTo>
                          <a:lnTo>
                            <a:pt x="1017" y="2630"/>
                          </a:lnTo>
                          <a:lnTo>
                            <a:pt x="1017" y="2655"/>
                          </a:lnTo>
                          <a:lnTo>
                            <a:pt x="720" y="2688"/>
                          </a:lnTo>
                          <a:lnTo>
                            <a:pt x="713" y="2703"/>
                          </a:lnTo>
                          <a:lnTo>
                            <a:pt x="708" y="2721"/>
                          </a:lnTo>
                          <a:lnTo>
                            <a:pt x="705" y="2739"/>
                          </a:lnTo>
                          <a:lnTo>
                            <a:pt x="705" y="2756"/>
                          </a:lnTo>
                          <a:lnTo>
                            <a:pt x="703" y="2772"/>
                          </a:lnTo>
                          <a:lnTo>
                            <a:pt x="703" y="2789"/>
                          </a:lnTo>
                          <a:lnTo>
                            <a:pt x="705" y="2807"/>
                          </a:lnTo>
                          <a:lnTo>
                            <a:pt x="708" y="2825"/>
                          </a:lnTo>
                          <a:lnTo>
                            <a:pt x="708" y="2840"/>
                          </a:lnTo>
                          <a:lnTo>
                            <a:pt x="713" y="2858"/>
                          </a:lnTo>
                          <a:lnTo>
                            <a:pt x="713" y="2876"/>
                          </a:lnTo>
                          <a:lnTo>
                            <a:pt x="718" y="2893"/>
                          </a:lnTo>
                          <a:lnTo>
                            <a:pt x="720" y="2909"/>
                          </a:lnTo>
                          <a:lnTo>
                            <a:pt x="723" y="2926"/>
                          </a:lnTo>
                          <a:lnTo>
                            <a:pt x="725" y="2944"/>
                          </a:lnTo>
                          <a:lnTo>
                            <a:pt x="728" y="2962"/>
                          </a:lnTo>
                          <a:lnTo>
                            <a:pt x="708" y="2964"/>
                          </a:lnTo>
                          <a:lnTo>
                            <a:pt x="687" y="2969"/>
                          </a:lnTo>
                          <a:lnTo>
                            <a:pt x="665" y="2975"/>
                          </a:lnTo>
                          <a:lnTo>
                            <a:pt x="644" y="2980"/>
                          </a:lnTo>
                          <a:lnTo>
                            <a:pt x="621" y="2982"/>
                          </a:lnTo>
                          <a:lnTo>
                            <a:pt x="601" y="2987"/>
                          </a:lnTo>
                          <a:lnTo>
                            <a:pt x="581" y="2990"/>
                          </a:lnTo>
                          <a:lnTo>
                            <a:pt x="561" y="2995"/>
                          </a:lnTo>
                          <a:lnTo>
                            <a:pt x="538" y="2997"/>
                          </a:lnTo>
                          <a:lnTo>
                            <a:pt x="517" y="3002"/>
                          </a:lnTo>
                          <a:lnTo>
                            <a:pt x="497" y="3010"/>
                          </a:lnTo>
                          <a:lnTo>
                            <a:pt x="482" y="3020"/>
                          </a:lnTo>
                          <a:lnTo>
                            <a:pt x="464" y="3028"/>
                          </a:lnTo>
                          <a:lnTo>
                            <a:pt x="452" y="3043"/>
                          </a:lnTo>
                          <a:lnTo>
                            <a:pt x="439" y="3056"/>
                          </a:lnTo>
                          <a:lnTo>
                            <a:pt x="431" y="3076"/>
                          </a:lnTo>
                          <a:lnTo>
                            <a:pt x="431" y="3091"/>
                          </a:lnTo>
                          <a:lnTo>
                            <a:pt x="431" y="3106"/>
                          </a:lnTo>
                          <a:lnTo>
                            <a:pt x="431" y="3122"/>
                          </a:lnTo>
                          <a:lnTo>
                            <a:pt x="431" y="3137"/>
                          </a:lnTo>
                          <a:lnTo>
                            <a:pt x="429" y="3152"/>
                          </a:lnTo>
                          <a:lnTo>
                            <a:pt x="426" y="3167"/>
                          </a:lnTo>
                          <a:lnTo>
                            <a:pt x="424" y="3182"/>
                          </a:lnTo>
                          <a:lnTo>
                            <a:pt x="424" y="3200"/>
                          </a:lnTo>
                          <a:lnTo>
                            <a:pt x="419" y="3213"/>
                          </a:lnTo>
                          <a:lnTo>
                            <a:pt x="416" y="3228"/>
                          </a:lnTo>
                          <a:lnTo>
                            <a:pt x="413" y="3243"/>
                          </a:lnTo>
                          <a:lnTo>
                            <a:pt x="411" y="3258"/>
                          </a:lnTo>
                          <a:lnTo>
                            <a:pt x="406" y="3274"/>
                          </a:lnTo>
                          <a:lnTo>
                            <a:pt x="401" y="3289"/>
                          </a:lnTo>
                          <a:lnTo>
                            <a:pt x="396" y="3304"/>
                          </a:lnTo>
                          <a:lnTo>
                            <a:pt x="393" y="3319"/>
                          </a:lnTo>
                          <a:lnTo>
                            <a:pt x="375" y="3317"/>
                          </a:lnTo>
                          <a:lnTo>
                            <a:pt x="360" y="3317"/>
                          </a:lnTo>
                          <a:lnTo>
                            <a:pt x="342" y="3317"/>
                          </a:lnTo>
                          <a:lnTo>
                            <a:pt x="327" y="3317"/>
                          </a:lnTo>
                          <a:lnTo>
                            <a:pt x="312" y="3314"/>
                          </a:lnTo>
                          <a:lnTo>
                            <a:pt x="297" y="3312"/>
                          </a:lnTo>
                          <a:lnTo>
                            <a:pt x="282" y="3309"/>
                          </a:lnTo>
                          <a:lnTo>
                            <a:pt x="266" y="3307"/>
                          </a:lnTo>
                          <a:lnTo>
                            <a:pt x="251" y="3302"/>
                          </a:lnTo>
                          <a:lnTo>
                            <a:pt x="236" y="3297"/>
                          </a:lnTo>
                          <a:lnTo>
                            <a:pt x="221" y="3291"/>
                          </a:lnTo>
                          <a:lnTo>
                            <a:pt x="208" y="3286"/>
                          </a:lnTo>
                          <a:lnTo>
                            <a:pt x="180" y="3271"/>
                          </a:lnTo>
                          <a:lnTo>
                            <a:pt x="157" y="3258"/>
                          </a:lnTo>
                          <a:lnTo>
                            <a:pt x="129" y="3241"/>
                          </a:lnTo>
                          <a:lnTo>
                            <a:pt x="107" y="3223"/>
                          </a:lnTo>
                          <a:lnTo>
                            <a:pt x="84" y="3200"/>
                          </a:lnTo>
                          <a:lnTo>
                            <a:pt x="66" y="3180"/>
                          </a:lnTo>
                          <a:lnTo>
                            <a:pt x="46" y="3155"/>
                          </a:lnTo>
                          <a:lnTo>
                            <a:pt x="30" y="3129"/>
                          </a:lnTo>
                          <a:lnTo>
                            <a:pt x="15" y="3101"/>
                          </a:lnTo>
                          <a:lnTo>
                            <a:pt x="5" y="3076"/>
                          </a:lnTo>
                          <a:close/>
                        </a:path>
                      </a:pathLst>
                    </a:custGeom>
                    <a:solidFill>
                      <a:srgbClr val="80bfb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9" name=""/>
                    <p:cNvSpPr/>
                    <p:nvPr/>
                  </p:nvSpPr>
                  <p:spPr>
                    <a:xfrm>
                      <a:off x="1449000" y="6329880"/>
                      <a:ext cx="42120" cy="5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8" h="370">
                          <a:moveTo>
                            <a:pt x="28" y="312"/>
                          </a:moveTo>
                          <a:lnTo>
                            <a:pt x="18" y="294"/>
                          </a:lnTo>
                          <a:lnTo>
                            <a:pt x="11" y="276"/>
                          </a:lnTo>
                          <a:lnTo>
                            <a:pt x="6" y="259"/>
                          </a:lnTo>
                          <a:lnTo>
                            <a:pt x="3" y="241"/>
                          </a:lnTo>
                          <a:lnTo>
                            <a:pt x="0" y="221"/>
                          </a:lnTo>
                          <a:lnTo>
                            <a:pt x="0" y="205"/>
                          </a:lnTo>
                          <a:lnTo>
                            <a:pt x="0" y="185"/>
                          </a:lnTo>
                          <a:lnTo>
                            <a:pt x="3" y="170"/>
                          </a:lnTo>
                          <a:lnTo>
                            <a:pt x="3" y="150"/>
                          </a:lnTo>
                          <a:lnTo>
                            <a:pt x="8" y="132"/>
                          </a:lnTo>
                          <a:lnTo>
                            <a:pt x="13" y="114"/>
                          </a:lnTo>
                          <a:lnTo>
                            <a:pt x="21" y="99"/>
                          </a:lnTo>
                          <a:lnTo>
                            <a:pt x="28" y="84"/>
                          </a:lnTo>
                          <a:lnTo>
                            <a:pt x="36" y="68"/>
                          </a:lnTo>
                          <a:lnTo>
                            <a:pt x="46" y="53"/>
                          </a:lnTo>
                          <a:lnTo>
                            <a:pt x="61" y="40"/>
                          </a:lnTo>
                          <a:lnTo>
                            <a:pt x="74" y="28"/>
                          </a:lnTo>
                          <a:lnTo>
                            <a:pt x="89" y="20"/>
                          </a:lnTo>
                          <a:lnTo>
                            <a:pt x="104" y="13"/>
                          </a:lnTo>
                          <a:lnTo>
                            <a:pt x="120" y="8"/>
                          </a:lnTo>
                          <a:lnTo>
                            <a:pt x="135" y="2"/>
                          </a:lnTo>
                          <a:lnTo>
                            <a:pt x="153" y="0"/>
                          </a:lnTo>
                          <a:lnTo>
                            <a:pt x="170" y="0"/>
                          </a:lnTo>
                          <a:lnTo>
                            <a:pt x="188" y="0"/>
                          </a:lnTo>
                          <a:lnTo>
                            <a:pt x="203" y="0"/>
                          </a:lnTo>
                          <a:lnTo>
                            <a:pt x="219" y="0"/>
                          </a:lnTo>
                          <a:lnTo>
                            <a:pt x="234" y="2"/>
                          </a:lnTo>
                          <a:lnTo>
                            <a:pt x="252" y="8"/>
                          </a:lnTo>
                          <a:lnTo>
                            <a:pt x="267" y="13"/>
                          </a:lnTo>
                          <a:lnTo>
                            <a:pt x="282" y="20"/>
                          </a:lnTo>
                          <a:lnTo>
                            <a:pt x="297" y="28"/>
                          </a:lnTo>
                          <a:lnTo>
                            <a:pt x="315" y="40"/>
                          </a:lnTo>
                          <a:lnTo>
                            <a:pt x="328" y="56"/>
                          </a:lnTo>
                          <a:lnTo>
                            <a:pt x="340" y="79"/>
                          </a:lnTo>
                          <a:lnTo>
                            <a:pt x="343" y="89"/>
                          </a:lnTo>
                          <a:lnTo>
                            <a:pt x="348" y="101"/>
                          </a:lnTo>
                          <a:lnTo>
                            <a:pt x="350" y="117"/>
                          </a:lnTo>
                          <a:lnTo>
                            <a:pt x="356" y="132"/>
                          </a:lnTo>
                          <a:lnTo>
                            <a:pt x="356" y="144"/>
                          </a:lnTo>
                          <a:lnTo>
                            <a:pt x="358" y="160"/>
                          </a:lnTo>
                          <a:lnTo>
                            <a:pt x="358" y="172"/>
                          </a:lnTo>
                          <a:lnTo>
                            <a:pt x="358" y="188"/>
                          </a:lnTo>
                          <a:lnTo>
                            <a:pt x="356" y="200"/>
                          </a:lnTo>
                          <a:lnTo>
                            <a:pt x="353" y="215"/>
                          </a:lnTo>
                          <a:lnTo>
                            <a:pt x="350" y="231"/>
                          </a:lnTo>
                          <a:lnTo>
                            <a:pt x="348" y="246"/>
                          </a:lnTo>
                          <a:lnTo>
                            <a:pt x="333" y="264"/>
                          </a:lnTo>
                          <a:lnTo>
                            <a:pt x="317" y="281"/>
                          </a:lnTo>
                          <a:lnTo>
                            <a:pt x="302" y="297"/>
                          </a:lnTo>
                          <a:lnTo>
                            <a:pt x="290" y="312"/>
                          </a:lnTo>
                          <a:lnTo>
                            <a:pt x="274" y="324"/>
                          </a:lnTo>
                          <a:lnTo>
                            <a:pt x="259" y="340"/>
                          </a:lnTo>
                          <a:lnTo>
                            <a:pt x="241" y="355"/>
                          </a:lnTo>
                          <a:lnTo>
                            <a:pt x="224" y="370"/>
                          </a:lnTo>
                          <a:lnTo>
                            <a:pt x="208" y="370"/>
                          </a:lnTo>
                          <a:lnTo>
                            <a:pt x="193" y="370"/>
                          </a:lnTo>
                          <a:lnTo>
                            <a:pt x="178" y="370"/>
                          </a:lnTo>
                          <a:lnTo>
                            <a:pt x="165" y="370"/>
                          </a:lnTo>
                          <a:lnTo>
                            <a:pt x="137" y="368"/>
                          </a:lnTo>
                          <a:lnTo>
                            <a:pt x="112" y="365"/>
                          </a:lnTo>
                          <a:lnTo>
                            <a:pt x="87" y="355"/>
                          </a:lnTo>
                          <a:lnTo>
                            <a:pt x="64" y="345"/>
                          </a:lnTo>
                          <a:lnTo>
                            <a:pt x="44" y="330"/>
                          </a:lnTo>
                          <a:lnTo>
                            <a:pt x="28" y="312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320" bIns="4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0" name=""/>
                    <p:cNvSpPr/>
                    <p:nvPr/>
                  </p:nvSpPr>
                  <p:spPr>
                    <a:xfrm>
                      <a:off x="1463760" y="6342480"/>
                      <a:ext cx="17640" cy="1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0" h="140">
                          <a:moveTo>
                            <a:pt x="15" y="15"/>
                          </a:moveTo>
                          <a:lnTo>
                            <a:pt x="0" y="26"/>
                          </a:lnTo>
                          <a:lnTo>
                            <a:pt x="8" y="10"/>
                          </a:lnTo>
                          <a:lnTo>
                            <a:pt x="21" y="3"/>
                          </a:lnTo>
                          <a:lnTo>
                            <a:pt x="33" y="0"/>
                          </a:lnTo>
                          <a:lnTo>
                            <a:pt x="48" y="0"/>
                          </a:lnTo>
                          <a:lnTo>
                            <a:pt x="61" y="0"/>
                          </a:lnTo>
                          <a:lnTo>
                            <a:pt x="76" y="3"/>
                          </a:lnTo>
                          <a:lnTo>
                            <a:pt x="92" y="3"/>
                          </a:lnTo>
                          <a:lnTo>
                            <a:pt x="107" y="5"/>
                          </a:lnTo>
                          <a:lnTo>
                            <a:pt x="119" y="15"/>
                          </a:lnTo>
                          <a:lnTo>
                            <a:pt x="132" y="33"/>
                          </a:lnTo>
                          <a:lnTo>
                            <a:pt x="142" y="48"/>
                          </a:lnTo>
                          <a:lnTo>
                            <a:pt x="150" y="69"/>
                          </a:lnTo>
                          <a:lnTo>
                            <a:pt x="150" y="86"/>
                          </a:lnTo>
                          <a:lnTo>
                            <a:pt x="147" y="104"/>
                          </a:lnTo>
                          <a:lnTo>
                            <a:pt x="140" y="122"/>
                          </a:lnTo>
                          <a:lnTo>
                            <a:pt x="130" y="140"/>
                          </a:lnTo>
                          <a:lnTo>
                            <a:pt x="114" y="119"/>
                          </a:lnTo>
                          <a:lnTo>
                            <a:pt x="102" y="104"/>
                          </a:lnTo>
                          <a:lnTo>
                            <a:pt x="86" y="84"/>
                          </a:lnTo>
                          <a:lnTo>
                            <a:pt x="76" y="69"/>
                          </a:lnTo>
                          <a:lnTo>
                            <a:pt x="61" y="53"/>
                          </a:lnTo>
                          <a:lnTo>
                            <a:pt x="48" y="38"/>
                          </a:lnTo>
                          <a:lnTo>
                            <a:pt x="31" y="23"/>
                          </a:lnTo>
                          <a:lnTo>
                            <a:pt x="15" y="15"/>
                          </a:lnTo>
                          <a:close/>
                        </a:path>
                      </a:pathLst>
                    </a:custGeom>
                    <a:solidFill>
                      <a:srgbClr val="80b3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1" name=""/>
                  <p:cNvSpPr/>
                  <p:nvPr/>
                </p:nvSpPr>
                <p:spPr>
                  <a:xfrm>
                    <a:off x="5198760" y="7397640"/>
                    <a:ext cx="663480" cy="775080"/>
                  </a:xfrm>
                  <a:prstGeom prst="blockArc">
                    <a:avLst>
                      <a:gd name="adj1" fmla="val 10800000"/>
                      <a:gd name="adj2" fmla="val 0"/>
                      <a:gd name="adj3" fmla="val 25000"/>
                    </a:avLst>
                  </a:prstGeom>
                  <a:solidFill>
                    <a:srgbClr val="ffff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"/>
                  <p:cNvSpPr/>
                  <p:nvPr/>
                </p:nvSpPr>
                <p:spPr>
                  <a:xfrm>
                    <a:off x="3650040" y="7397640"/>
                    <a:ext cx="663480" cy="775080"/>
                  </a:xfrm>
                  <a:prstGeom prst="blockArc">
                    <a:avLst>
                      <a:gd name="adj1" fmla="val 10800000"/>
                      <a:gd name="adj2" fmla="val 0"/>
                      <a:gd name="adj3" fmla="val 25000"/>
                    </a:avLst>
                  </a:prstGeom>
                  <a:solidFill>
                    <a:srgbClr val="ffff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"/>
                  <p:cNvSpPr/>
                  <p:nvPr/>
                </p:nvSpPr>
                <p:spPr>
                  <a:xfrm>
                    <a:off x="2211840" y="7397640"/>
                    <a:ext cx="663480" cy="775080"/>
                  </a:xfrm>
                  <a:prstGeom prst="blockArc">
                    <a:avLst>
                      <a:gd name="adj1" fmla="val 10800000"/>
                      <a:gd name="adj2" fmla="val 0"/>
                      <a:gd name="adj3" fmla="val 25000"/>
                    </a:avLst>
                  </a:prstGeom>
                  <a:solidFill>
                    <a:srgbClr val="ffff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"/>
                  <p:cNvSpPr/>
                  <p:nvPr/>
                </p:nvSpPr>
                <p:spPr>
                  <a:xfrm>
                    <a:off x="773640" y="7397640"/>
                    <a:ext cx="663480" cy="775080"/>
                  </a:xfrm>
                  <a:prstGeom prst="blockArc">
                    <a:avLst>
                      <a:gd name="adj1" fmla="val 10800000"/>
                      <a:gd name="adj2" fmla="val 0"/>
                      <a:gd name="adj3" fmla="val 25000"/>
                    </a:avLst>
                  </a:prstGeom>
                  <a:solidFill>
                    <a:srgbClr val="ffff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5" name=""/>
                <p:cNvGrpSpPr/>
                <p:nvPr/>
              </p:nvGrpSpPr>
              <p:grpSpPr>
                <a:xfrm>
                  <a:off x="1326600" y="4834800"/>
                  <a:ext cx="4518360" cy="1050840"/>
                  <a:chOff x="1326600" y="4834800"/>
                  <a:chExt cx="4518360" cy="1050840"/>
                </a:xfrm>
              </p:grpSpPr>
              <p:pic>
                <p:nvPicPr>
                  <p:cNvPr id="13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326600" y="4834800"/>
                    <a:ext cx="4518360" cy="105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37" name=""/>
                  <p:cNvSpPr/>
                  <p:nvPr/>
                </p:nvSpPr>
                <p:spPr>
                  <a:xfrm>
                    <a:off x="1507320" y="5044680"/>
                    <a:ext cx="4143960" cy="420120"/>
                  </a:xfrm>
                  <a:prstGeom prst="rect">
                    <a:avLst/>
                  </a:prstGeom>
                  <a:solidFill>
                    <a:srgbClr val="ffffff">
                      <a:alpha val="8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ar-SA" sz="2000" spc="-1" strike="noStrike">
                        <a:solidFill>
                          <a:srgbClr val="000000"/>
                        </a:solidFill>
                        <a:latin typeface="Times New Roman"/>
                        <a:cs typeface="Times New Roman"/>
                      </a:rPr>
                      <a:t>أكتب اسم الصورة و أحوط المقطع الممدود بالألف</a:t>
                    </a:r>
                    <a:r>
                      <a:rPr b="0" lang="ar-SA" sz="2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.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8" name=""/>
              <p:cNvGrpSpPr/>
              <p:nvPr/>
            </p:nvGrpSpPr>
            <p:grpSpPr>
              <a:xfrm>
                <a:off x="110160" y="210240"/>
                <a:ext cx="6389280" cy="4264200"/>
                <a:chOff x="110160" y="210240"/>
                <a:chExt cx="6389280" cy="4264200"/>
              </a:xfrm>
            </p:grpSpPr>
            <p:grpSp>
              <p:nvGrpSpPr>
                <p:cNvPr id="139" name=""/>
                <p:cNvGrpSpPr/>
                <p:nvPr/>
              </p:nvGrpSpPr>
              <p:grpSpPr>
                <a:xfrm>
                  <a:off x="110160" y="1261080"/>
                  <a:ext cx="6389280" cy="3213360"/>
                  <a:chOff x="110160" y="1261080"/>
                  <a:chExt cx="6389280" cy="3213360"/>
                </a:xfrm>
              </p:grpSpPr>
              <p:sp>
                <p:nvSpPr>
                  <p:cNvPr id="140" name=""/>
                  <p:cNvSpPr/>
                  <p:nvPr/>
                </p:nvSpPr>
                <p:spPr>
                  <a:xfrm>
                    <a:off x="4995000" y="1261080"/>
                    <a:ext cx="1175040" cy="556200"/>
                  </a:xfrm>
                  <a:prstGeom prst="rect">
                    <a:avLst/>
                  </a:prstGeom>
                  <a:solidFill>
                    <a:srgbClr val="ffffff"/>
                  </a:solidFill>
                  <a:ln w="381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ar-SA" sz="2000" spc="-1" strike="noStrike">
                        <a:solidFill>
                          <a:srgbClr val="000000"/>
                        </a:solidFill>
                        <a:latin typeface="Times New Roman"/>
                        <a:cs typeface="Times New Roman"/>
                      </a:rPr>
                      <a:t>مصباح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"/>
                  <p:cNvSpPr/>
                  <p:nvPr/>
                </p:nvSpPr>
                <p:spPr>
                  <a:xfrm>
                    <a:off x="3584880" y="1261080"/>
                    <a:ext cx="1174680" cy="556200"/>
                  </a:xfrm>
                  <a:prstGeom prst="rect">
                    <a:avLst/>
                  </a:prstGeom>
                  <a:solidFill>
                    <a:srgbClr val="ffffff"/>
                  </a:solidFill>
                  <a:ln w="38160">
                    <a:solidFill>
                      <a:srgbClr val="ff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ar-SA" sz="2000" spc="-1" strike="noStrike">
                        <a:solidFill>
                          <a:srgbClr val="000000"/>
                        </a:solidFill>
                        <a:latin typeface="Times New Roman"/>
                        <a:cs typeface="Times New Roman"/>
                      </a:rPr>
                      <a:t>ملاكم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"/>
                  <p:cNvSpPr/>
                  <p:nvPr/>
                </p:nvSpPr>
                <p:spPr>
                  <a:xfrm>
                    <a:off x="2174400" y="1261080"/>
                    <a:ext cx="1174680" cy="556200"/>
                  </a:xfrm>
                  <a:prstGeom prst="rect">
                    <a:avLst/>
                  </a:prstGeom>
                  <a:solidFill>
                    <a:srgbClr val="ffffff"/>
                  </a:solidFill>
                  <a:ln w="38160">
                    <a:solidFill>
                      <a:srgbClr val="ff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ar-SA" sz="2000" spc="-1" strike="noStrike">
                        <a:solidFill>
                          <a:srgbClr val="000000"/>
                        </a:solidFill>
                        <a:latin typeface="Times New Roman"/>
                        <a:cs typeface="Times New Roman"/>
                      </a:rPr>
                      <a:t>مزامير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"/>
                  <p:cNvSpPr/>
                  <p:nvPr/>
                </p:nvSpPr>
                <p:spPr>
                  <a:xfrm>
                    <a:off x="763920" y="1261080"/>
                    <a:ext cx="1175040" cy="556200"/>
                  </a:xfrm>
                  <a:prstGeom prst="rect">
                    <a:avLst/>
                  </a:prstGeom>
                  <a:solidFill>
                    <a:srgbClr val="ffffff"/>
                  </a:solidFill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ar-SA" sz="2000" spc="-1" strike="noStrike">
                        <a:solidFill>
                          <a:srgbClr val="000000"/>
                        </a:solidFill>
                        <a:latin typeface="Times New Roman"/>
                        <a:cs typeface="Times New Roman"/>
                      </a:rPr>
                      <a:t>ثعبان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"/>
                  <p:cNvSpPr/>
                  <p:nvPr/>
                </p:nvSpPr>
                <p:spPr>
                  <a:xfrm>
                    <a:off x="4289760" y="2039760"/>
                    <a:ext cx="1175400" cy="556200"/>
                  </a:xfrm>
                  <a:prstGeom prst="rect">
                    <a:avLst/>
                  </a:prstGeom>
                  <a:solidFill>
                    <a:srgbClr val="ffffff"/>
                  </a:solidFill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ar-SA" sz="2000" spc="-1" strike="noStrike">
                        <a:solidFill>
                          <a:srgbClr val="000000"/>
                        </a:solidFill>
                        <a:latin typeface="Times New Roman"/>
                        <a:cs typeface="Times New Roman"/>
                      </a:rPr>
                      <a:t>شادي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2879280" y="2039760"/>
                    <a:ext cx="1175400" cy="556200"/>
                  </a:xfrm>
                  <a:prstGeom prst="rect">
                    <a:avLst/>
                  </a:prstGeom>
                  <a:solidFill>
                    <a:srgbClr val="ffffff"/>
                  </a:solidFill>
                  <a:ln w="3816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ar-SA" sz="2000" spc="-1" strike="noStrike">
                        <a:solidFill>
                          <a:srgbClr val="000000"/>
                        </a:solidFill>
                        <a:latin typeface="Times New Roman"/>
                        <a:cs typeface="Times New Roman"/>
                      </a:rPr>
                      <a:t>هاتف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"/>
                  <p:cNvSpPr/>
                  <p:nvPr/>
                </p:nvSpPr>
                <p:spPr>
                  <a:xfrm>
                    <a:off x="1468800" y="2039760"/>
                    <a:ext cx="1175400" cy="556200"/>
                  </a:xfrm>
                  <a:prstGeom prst="rect">
                    <a:avLst/>
                  </a:prstGeom>
                  <a:solidFill>
                    <a:srgbClr val="ffffff"/>
                  </a:solidFill>
                  <a:ln w="38160">
                    <a:solidFill>
                      <a:srgbClr val="3366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ar-SA" sz="2000" spc="-1" strike="noStrike">
                        <a:solidFill>
                          <a:srgbClr val="000000"/>
                        </a:solidFill>
                        <a:latin typeface="Times New Roman"/>
                        <a:cs typeface="Times New Roman"/>
                      </a:rPr>
                      <a:t>مروان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"/>
                  <p:cNvSpPr/>
                  <p:nvPr/>
                </p:nvSpPr>
                <p:spPr>
                  <a:xfrm>
                    <a:off x="3701880" y="2818800"/>
                    <a:ext cx="1174680" cy="556200"/>
                  </a:xfrm>
                  <a:prstGeom prst="rect">
                    <a:avLst/>
                  </a:prstGeom>
                  <a:solidFill>
                    <a:srgbClr val="ffffff"/>
                  </a:solidFill>
                  <a:ln w="38160">
                    <a:solidFill>
                      <a:srgbClr val="99cc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ar-SA" sz="2000" spc="-1" strike="noStrike">
                        <a:solidFill>
                          <a:srgbClr val="000000"/>
                        </a:solidFill>
                        <a:latin typeface="Times New Roman"/>
                        <a:cs typeface="Times New Roman"/>
                      </a:rPr>
                      <a:t>أثاث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" name=""/>
                  <p:cNvSpPr/>
                  <p:nvPr/>
                </p:nvSpPr>
                <p:spPr>
                  <a:xfrm>
                    <a:off x="2291760" y="2818800"/>
                    <a:ext cx="1174680" cy="556200"/>
                  </a:xfrm>
                  <a:prstGeom prst="rect">
                    <a:avLst/>
                  </a:prstGeom>
                  <a:solidFill>
                    <a:srgbClr val="ffffff"/>
                  </a:solidFill>
                  <a:ln w="381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ar-SA" sz="2000" spc="-1" strike="noStrike">
                        <a:solidFill>
                          <a:srgbClr val="000000"/>
                        </a:solidFill>
                        <a:latin typeface="Times New Roman"/>
                        <a:cs typeface="Times New Roman"/>
                      </a:rPr>
                      <a:t>بلادي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"/>
                  <p:cNvSpPr/>
                  <p:nvPr/>
                </p:nvSpPr>
                <p:spPr>
                  <a:xfrm>
                    <a:off x="2996640" y="3597840"/>
                    <a:ext cx="1175400" cy="556200"/>
                  </a:xfrm>
                  <a:prstGeom prst="rect">
                    <a:avLst/>
                  </a:prstGeom>
                  <a:solidFill>
                    <a:srgbClr val="ffffff"/>
                  </a:solidFill>
                  <a:ln w="38160">
                    <a:solidFill>
                      <a:srgbClr val="ff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ar-SA" sz="2000" spc="-1" strike="noStrike">
                        <a:solidFill>
                          <a:srgbClr val="000000"/>
                        </a:solidFill>
                        <a:latin typeface="Times New Roman"/>
                        <a:cs typeface="Times New Roman"/>
                      </a:rPr>
                      <a:t>دكان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15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 flipH="1">
                    <a:off x="110160" y="2577600"/>
                    <a:ext cx="2101680" cy="189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5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 flipH="1">
                    <a:off x="5309280" y="2472480"/>
                    <a:ext cx="1190160" cy="199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152" name=""/>
                <p:cNvGrpSpPr/>
                <p:nvPr/>
              </p:nvGrpSpPr>
              <p:grpSpPr>
                <a:xfrm>
                  <a:off x="1216080" y="210240"/>
                  <a:ext cx="4756320" cy="945720"/>
                  <a:chOff x="1216080" y="210240"/>
                  <a:chExt cx="4756320" cy="945720"/>
                </a:xfrm>
              </p:grpSpPr>
              <p:pic>
                <p:nvPicPr>
                  <p:cNvPr id="15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216080" y="210240"/>
                    <a:ext cx="4756320" cy="94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54" name=""/>
                  <p:cNvSpPr/>
                  <p:nvPr/>
                </p:nvSpPr>
                <p:spPr>
                  <a:xfrm>
                    <a:off x="1326600" y="420480"/>
                    <a:ext cx="4424400" cy="420120"/>
                  </a:xfrm>
                  <a:prstGeom prst="rect">
                    <a:avLst/>
                  </a:prstGeom>
                  <a:solidFill>
                    <a:srgbClr val="ffffff">
                      <a:alpha val="8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ar-SA" sz="2000" spc="-1" strike="noStrike">
                        <a:solidFill>
                          <a:srgbClr val="000000"/>
                        </a:solidFill>
                        <a:latin typeface="Times New Roman"/>
                        <a:cs typeface="Times New Roman"/>
                      </a:rPr>
                      <a:t>اقرأ الكلمات ثم ارسم دائرة حول المقطع الممدود بالألف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0" y="0"/>
            <a:ext cx="6858000" cy="9144000"/>
            <a:chOff x="0" y="0"/>
            <a:chExt cx="6858000" cy="914400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6858000" cy="9144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7" name=""/>
            <p:cNvGrpSpPr/>
            <p:nvPr/>
          </p:nvGrpSpPr>
          <p:grpSpPr>
            <a:xfrm>
              <a:off x="110160" y="209880"/>
              <a:ext cx="6636600" cy="7987680"/>
              <a:chOff x="110160" y="209880"/>
              <a:chExt cx="6636600" cy="7987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110160" y="420120"/>
                <a:ext cx="6526080" cy="7777440"/>
                <a:chOff x="110160" y="420120"/>
                <a:chExt cx="6526080" cy="7777440"/>
              </a:xfrm>
            </p:grpSpPr>
            <p:grpSp>
              <p:nvGrpSpPr>
                <p:cNvPr id="159" name=""/>
                <p:cNvGrpSpPr/>
                <p:nvPr/>
              </p:nvGrpSpPr>
              <p:grpSpPr>
                <a:xfrm>
                  <a:off x="110160" y="420120"/>
                  <a:ext cx="6526080" cy="7777440"/>
                  <a:chOff x="110160" y="420120"/>
                  <a:chExt cx="6526080" cy="7777440"/>
                </a:xfrm>
              </p:grpSpPr>
              <p:sp>
                <p:nvSpPr>
                  <p:cNvPr id="160" name=""/>
                  <p:cNvSpPr/>
                  <p:nvPr/>
                </p:nvSpPr>
                <p:spPr>
                  <a:xfrm>
                    <a:off x="1258920" y="3045960"/>
                    <a:ext cx="2444760" cy="33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11" h="197">
                        <a:moveTo>
                          <a:pt x="0" y="167"/>
                        </a:moveTo>
                        <a:lnTo>
                          <a:pt x="2" y="166"/>
                        </a:lnTo>
                        <a:lnTo>
                          <a:pt x="10" y="163"/>
                        </a:lnTo>
                        <a:lnTo>
                          <a:pt x="21" y="157"/>
                        </a:lnTo>
                        <a:lnTo>
                          <a:pt x="37" y="151"/>
                        </a:lnTo>
                        <a:lnTo>
                          <a:pt x="59" y="143"/>
                        </a:lnTo>
                        <a:lnTo>
                          <a:pt x="83" y="134"/>
                        </a:lnTo>
                        <a:lnTo>
                          <a:pt x="112" y="122"/>
                        </a:lnTo>
                        <a:lnTo>
                          <a:pt x="145" y="112"/>
                        </a:lnTo>
                        <a:lnTo>
                          <a:pt x="181" y="101"/>
                        </a:lnTo>
                        <a:lnTo>
                          <a:pt x="222" y="88"/>
                        </a:lnTo>
                        <a:lnTo>
                          <a:pt x="266" y="76"/>
                        </a:lnTo>
                        <a:lnTo>
                          <a:pt x="313" y="65"/>
                        </a:lnTo>
                        <a:lnTo>
                          <a:pt x="363" y="53"/>
                        </a:lnTo>
                        <a:lnTo>
                          <a:pt x="416" y="42"/>
                        </a:lnTo>
                        <a:lnTo>
                          <a:pt x="471" y="31"/>
                        </a:lnTo>
                        <a:lnTo>
                          <a:pt x="530" y="21"/>
                        </a:lnTo>
                        <a:lnTo>
                          <a:pt x="592" y="14"/>
                        </a:lnTo>
                        <a:lnTo>
                          <a:pt x="656" y="8"/>
                        </a:lnTo>
                        <a:lnTo>
                          <a:pt x="721" y="3"/>
                        </a:lnTo>
                        <a:lnTo>
                          <a:pt x="788" y="0"/>
                        </a:lnTo>
                        <a:lnTo>
                          <a:pt x="859" y="0"/>
                        </a:lnTo>
                        <a:lnTo>
                          <a:pt x="930" y="1"/>
                        </a:lnTo>
                        <a:lnTo>
                          <a:pt x="1003" y="6"/>
                        </a:lnTo>
                        <a:lnTo>
                          <a:pt x="1078" y="13"/>
                        </a:lnTo>
                        <a:lnTo>
                          <a:pt x="1155" y="23"/>
                        </a:lnTo>
                        <a:lnTo>
                          <a:pt x="1231" y="36"/>
                        </a:lnTo>
                        <a:lnTo>
                          <a:pt x="1310" y="53"/>
                        </a:lnTo>
                        <a:lnTo>
                          <a:pt x="1388" y="73"/>
                        </a:lnTo>
                        <a:lnTo>
                          <a:pt x="1469" y="98"/>
                        </a:lnTo>
                        <a:lnTo>
                          <a:pt x="1550" y="127"/>
                        </a:lnTo>
                        <a:lnTo>
                          <a:pt x="1630" y="160"/>
                        </a:lnTo>
                        <a:lnTo>
                          <a:pt x="1711" y="197"/>
                        </a:lnTo>
                        <a:lnTo>
                          <a:pt x="0" y="167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"/>
                  <p:cNvSpPr/>
                  <p:nvPr/>
                </p:nvSpPr>
                <p:spPr>
                  <a:xfrm>
                    <a:off x="1254600" y="3029400"/>
                    <a:ext cx="2509200" cy="36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56" h="216">
                        <a:moveTo>
                          <a:pt x="1714" y="216"/>
                        </a:moveTo>
                        <a:lnTo>
                          <a:pt x="1719" y="199"/>
                        </a:lnTo>
                        <a:lnTo>
                          <a:pt x="1636" y="161"/>
                        </a:lnTo>
                        <a:lnTo>
                          <a:pt x="1556" y="128"/>
                        </a:lnTo>
                        <a:lnTo>
                          <a:pt x="1475" y="99"/>
                        </a:lnTo>
                        <a:lnTo>
                          <a:pt x="1393" y="75"/>
                        </a:lnTo>
                        <a:lnTo>
                          <a:pt x="1315" y="54"/>
                        </a:lnTo>
                        <a:lnTo>
                          <a:pt x="1235" y="37"/>
                        </a:lnTo>
                        <a:lnTo>
                          <a:pt x="1159" y="24"/>
                        </a:lnTo>
                        <a:lnTo>
                          <a:pt x="1081" y="14"/>
                        </a:lnTo>
                        <a:lnTo>
                          <a:pt x="1006" y="7"/>
                        </a:lnTo>
                        <a:lnTo>
                          <a:pt x="933" y="3"/>
                        </a:lnTo>
                        <a:lnTo>
                          <a:pt x="862" y="0"/>
                        </a:lnTo>
                        <a:lnTo>
                          <a:pt x="791" y="0"/>
                        </a:lnTo>
                        <a:lnTo>
                          <a:pt x="724" y="4"/>
                        </a:lnTo>
                        <a:lnTo>
                          <a:pt x="659" y="10"/>
                        </a:lnTo>
                        <a:lnTo>
                          <a:pt x="595" y="16"/>
                        </a:lnTo>
                        <a:lnTo>
                          <a:pt x="533" y="23"/>
                        </a:lnTo>
                        <a:lnTo>
                          <a:pt x="473" y="33"/>
                        </a:lnTo>
                        <a:lnTo>
                          <a:pt x="418" y="43"/>
                        </a:lnTo>
                        <a:lnTo>
                          <a:pt x="365" y="54"/>
                        </a:lnTo>
                        <a:lnTo>
                          <a:pt x="314" y="66"/>
                        </a:lnTo>
                        <a:lnTo>
                          <a:pt x="268" y="78"/>
                        </a:lnTo>
                        <a:lnTo>
                          <a:pt x="223" y="89"/>
                        </a:lnTo>
                        <a:lnTo>
                          <a:pt x="181" y="102"/>
                        </a:lnTo>
                        <a:lnTo>
                          <a:pt x="145" y="114"/>
                        </a:lnTo>
                        <a:lnTo>
                          <a:pt x="112" y="124"/>
                        </a:lnTo>
                        <a:lnTo>
                          <a:pt x="83" y="135"/>
                        </a:lnTo>
                        <a:lnTo>
                          <a:pt x="59" y="144"/>
                        </a:lnTo>
                        <a:lnTo>
                          <a:pt x="37" y="153"/>
                        </a:lnTo>
                        <a:lnTo>
                          <a:pt x="21" y="158"/>
                        </a:lnTo>
                        <a:lnTo>
                          <a:pt x="10" y="164"/>
                        </a:lnTo>
                        <a:lnTo>
                          <a:pt x="3" y="167"/>
                        </a:lnTo>
                        <a:lnTo>
                          <a:pt x="0" y="168"/>
                        </a:lnTo>
                        <a:lnTo>
                          <a:pt x="5" y="186"/>
                        </a:lnTo>
                        <a:lnTo>
                          <a:pt x="8" y="184"/>
                        </a:lnTo>
                        <a:lnTo>
                          <a:pt x="16" y="181"/>
                        </a:lnTo>
                        <a:lnTo>
                          <a:pt x="27" y="176"/>
                        </a:lnTo>
                        <a:lnTo>
                          <a:pt x="43" y="170"/>
                        </a:lnTo>
                        <a:lnTo>
                          <a:pt x="65" y="161"/>
                        </a:lnTo>
                        <a:lnTo>
                          <a:pt x="89" y="153"/>
                        </a:lnTo>
                        <a:lnTo>
                          <a:pt x="118" y="141"/>
                        </a:lnTo>
                        <a:lnTo>
                          <a:pt x="151" y="131"/>
                        </a:lnTo>
                        <a:lnTo>
                          <a:pt x="187" y="119"/>
                        </a:lnTo>
                        <a:lnTo>
                          <a:pt x="226" y="106"/>
                        </a:lnTo>
                        <a:lnTo>
                          <a:pt x="271" y="95"/>
                        </a:lnTo>
                        <a:lnTo>
                          <a:pt x="317" y="83"/>
                        </a:lnTo>
                        <a:lnTo>
                          <a:pt x="367" y="72"/>
                        </a:lnTo>
                        <a:lnTo>
                          <a:pt x="421" y="60"/>
                        </a:lnTo>
                        <a:lnTo>
                          <a:pt x="476" y="50"/>
                        </a:lnTo>
                        <a:lnTo>
                          <a:pt x="533" y="40"/>
                        </a:lnTo>
                        <a:lnTo>
                          <a:pt x="595" y="33"/>
                        </a:lnTo>
                        <a:lnTo>
                          <a:pt x="659" y="27"/>
                        </a:lnTo>
                        <a:lnTo>
                          <a:pt x="724" y="21"/>
                        </a:lnTo>
                        <a:lnTo>
                          <a:pt x="791" y="20"/>
                        </a:lnTo>
                        <a:lnTo>
                          <a:pt x="862" y="20"/>
                        </a:lnTo>
                        <a:lnTo>
                          <a:pt x="933" y="20"/>
                        </a:lnTo>
                        <a:lnTo>
                          <a:pt x="1006" y="24"/>
                        </a:lnTo>
                        <a:lnTo>
                          <a:pt x="1081" y="31"/>
                        </a:lnTo>
                        <a:lnTo>
                          <a:pt x="1156" y="41"/>
                        </a:lnTo>
                        <a:lnTo>
                          <a:pt x="1233" y="54"/>
                        </a:lnTo>
                        <a:lnTo>
                          <a:pt x="1312" y="72"/>
                        </a:lnTo>
                        <a:lnTo>
                          <a:pt x="1390" y="92"/>
                        </a:lnTo>
                        <a:lnTo>
                          <a:pt x="1469" y="116"/>
                        </a:lnTo>
                        <a:lnTo>
                          <a:pt x="1550" y="145"/>
                        </a:lnTo>
                        <a:lnTo>
                          <a:pt x="1631" y="178"/>
                        </a:lnTo>
                        <a:lnTo>
                          <a:pt x="1710" y="216"/>
                        </a:lnTo>
                        <a:lnTo>
                          <a:pt x="1714" y="199"/>
                        </a:lnTo>
                        <a:lnTo>
                          <a:pt x="1714" y="216"/>
                        </a:lnTo>
                        <a:lnTo>
                          <a:pt x="1756" y="216"/>
                        </a:lnTo>
                        <a:lnTo>
                          <a:pt x="1719" y="199"/>
                        </a:lnTo>
                        <a:lnTo>
                          <a:pt x="1714" y="2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" name=""/>
                  <p:cNvSpPr/>
                  <p:nvPr/>
                </p:nvSpPr>
                <p:spPr>
                  <a:xfrm>
                    <a:off x="1200240" y="3312000"/>
                    <a:ext cx="2503440" cy="80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52" h="48">
                        <a:moveTo>
                          <a:pt x="38" y="0"/>
                        </a:moveTo>
                        <a:lnTo>
                          <a:pt x="41" y="18"/>
                        </a:lnTo>
                        <a:lnTo>
                          <a:pt x="1752" y="48"/>
                        </a:lnTo>
                        <a:lnTo>
                          <a:pt x="1752" y="31"/>
                        </a:lnTo>
                        <a:lnTo>
                          <a:pt x="41" y="0"/>
                        </a:lnTo>
                        <a:lnTo>
                          <a:pt x="43" y="18"/>
                        </a:lnTo>
                        <a:lnTo>
                          <a:pt x="38" y="0"/>
                        </a:lnTo>
                        <a:lnTo>
                          <a:pt x="0" y="18"/>
                        </a:lnTo>
                        <a:lnTo>
                          <a:pt x="41" y="18"/>
                        </a:lnTo>
                        <a:lnTo>
                          <a:pt x="3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3840" bIns="33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" name=""/>
                  <p:cNvSpPr/>
                  <p:nvPr/>
                </p:nvSpPr>
                <p:spPr>
                  <a:xfrm>
                    <a:off x="723240" y="3273480"/>
                    <a:ext cx="5898960" cy="4907520"/>
                  </a:xfrm>
                  <a:custGeom>
                    <a:avLst/>
                    <a:gdLst/>
                    <a:ahLst/>
                    <a:rect l="l" t="t" r="r" b="b"/>
                    <a:pathLst>
                      <a:path w="4128" h="2919">
                        <a:moveTo>
                          <a:pt x="4003" y="2919"/>
                        </a:moveTo>
                        <a:lnTo>
                          <a:pt x="4029" y="2916"/>
                        </a:lnTo>
                        <a:lnTo>
                          <a:pt x="4052" y="2909"/>
                        </a:lnTo>
                        <a:lnTo>
                          <a:pt x="4073" y="2897"/>
                        </a:lnTo>
                        <a:lnTo>
                          <a:pt x="4092" y="2882"/>
                        </a:lnTo>
                        <a:lnTo>
                          <a:pt x="4106" y="2864"/>
                        </a:lnTo>
                        <a:lnTo>
                          <a:pt x="4118" y="2843"/>
                        </a:lnTo>
                        <a:lnTo>
                          <a:pt x="4125" y="2819"/>
                        </a:lnTo>
                        <a:lnTo>
                          <a:pt x="4128" y="2794"/>
                        </a:lnTo>
                        <a:lnTo>
                          <a:pt x="4128" y="126"/>
                        </a:lnTo>
                        <a:lnTo>
                          <a:pt x="4125" y="100"/>
                        </a:lnTo>
                        <a:lnTo>
                          <a:pt x="4118" y="77"/>
                        </a:lnTo>
                        <a:lnTo>
                          <a:pt x="4106" y="55"/>
                        </a:lnTo>
                        <a:lnTo>
                          <a:pt x="4092" y="36"/>
                        </a:lnTo>
                        <a:lnTo>
                          <a:pt x="4073" y="22"/>
                        </a:lnTo>
                        <a:lnTo>
                          <a:pt x="4052" y="10"/>
                        </a:lnTo>
                        <a:lnTo>
                          <a:pt x="4029" y="3"/>
                        </a:lnTo>
                        <a:lnTo>
                          <a:pt x="4003" y="0"/>
                        </a:lnTo>
                        <a:lnTo>
                          <a:pt x="125" y="0"/>
                        </a:lnTo>
                        <a:lnTo>
                          <a:pt x="99" y="3"/>
                        </a:lnTo>
                        <a:lnTo>
                          <a:pt x="76" y="10"/>
                        </a:lnTo>
                        <a:lnTo>
                          <a:pt x="54" y="22"/>
                        </a:lnTo>
                        <a:lnTo>
                          <a:pt x="37" y="36"/>
                        </a:lnTo>
                        <a:lnTo>
                          <a:pt x="21" y="55"/>
                        </a:lnTo>
                        <a:lnTo>
                          <a:pt x="10" y="77"/>
                        </a:lnTo>
                        <a:lnTo>
                          <a:pt x="3" y="100"/>
                        </a:lnTo>
                        <a:lnTo>
                          <a:pt x="0" y="126"/>
                        </a:lnTo>
                        <a:lnTo>
                          <a:pt x="0" y="2794"/>
                        </a:lnTo>
                        <a:lnTo>
                          <a:pt x="3" y="2819"/>
                        </a:lnTo>
                        <a:lnTo>
                          <a:pt x="10" y="2843"/>
                        </a:lnTo>
                        <a:lnTo>
                          <a:pt x="21" y="2864"/>
                        </a:lnTo>
                        <a:lnTo>
                          <a:pt x="37" y="2882"/>
                        </a:lnTo>
                        <a:lnTo>
                          <a:pt x="54" y="2897"/>
                        </a:lnTo>
                        <a:lnTo>
                          <a:pt x="76" y="2909"/>
                        </a:lnTo>
                        <a:lnTo>
                          <a:pt x="99" y="2916"/>
                        </a:lnTo>
                        <a:lnTo>
                          <a:pt x="125" y="2919"/>
                        </a:lnTo>
                        <a:lnTo>
                          <a:pt x="4003" y="2919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6443640" y="7970400"/>
                    <a:ext cx="192600" cy="227160"/>
                  </a:xfrm>
                  <a:custGeom>
                    <a:avLst/>
                    <a:gdLst/>
                    <a:ahLst/>
                    <a:rect l="l" t="t" r="r" b="b"/>
                    <a:pathLst>
                      <a:path w="135" h="135">
                        <a:moveTo>
                          <a:pt x="115" y="0"/>
                        </a:moveTo>
                        <a:lnTo>
                          <a:pt x="115" y="0"/>
                        </a:lnTo>
                        <a:lnTo>
                          <a:pt x="113" y="24"/>
                        </a:lnTo>
                        <a:lnTo>
                          <a:pt x="106" y="46"/>
                        </a:lnTo>
                        <a:lnTo>
                          <a:pt x="96" y="66"/>
                        </a:lnTo>
                        <a:lnTo>
                          <a:pt x="83" y="82"/>
                        </a:lnTo>
                        <a:lnTo>
                          <a:pt x="66" y="96"/>
                        </a:lnTo>
                        <a:lnTo>
                          <a:pt x="46" y="106"/>
                        </a:lnTo>
                        <a:lnTo>
                          <a:pt x="24" y="113"/>
                        </a:lnTo>
                        <a:lnTo>
                          <a:pt x="0" y="115"/>
                        </a:lnTo>
                        <a:lnTo>
                          <a:pt x="0" y="135"/>
                        </a:lnTo>
                        <a:lnTo>
                          <a:pt x="27" y="131"/>
                        </a:lnTo>
                        <a:lnTo>
                          <a:pt x="51" y="124"/>
                        </a:lnTo>
                        <a:lnTo>
                          <a:pt x="75" y="111"/>
                        </a:lnTo>
                        <a:lnTo>
                          <a:pt x="95" y="93"/>
                        </a:lnTo>
                        <a:lnTo>
                          <a:pt x="111" y="75"/>
                        </a:lnTo>
                        <a:lnTo>
                          <a:pt x="124" y="51"/>
                        </a:lnTo>
                        <a:lnTo>
                          <a:pt x="131" y="27"/>
                        </a:lnTo>
                        <a:lnTo>
                          <a:pt x="135" y="0"/>
                        </a:lnTo>
                        <a:lnTo>
                          <a:pt x="135" y="0"/>
                        </a:lnTo>
                        <a:lnTo>
                          <a:pt x="115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" name=""/>
                  <p:cNvSpPr/>
                  <p:nvPr/>
                </p:nvSpPr>
                <p:spPr>
                  <a:xfrm>
                    <a:off x="6607800" y="3484800"/>
                    <a:ext cx="28440" cy="448524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668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2668"/>
                        </a:lnTo>
                        <a:lnTo>
                          <a:pt x="20" y="2668"/>
                        </a:lnTo>
                        <a:lnTo>
                          <a:pt x="20" y="0"/>
                        </a:lnTo>
                        <a:lnTo>
                          <a:pt x="2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"/>
                  <p:cNvSpPr/>
                  <p:nvPr/>
                </p:nvSpPr>
                <p:spPr>
                  <a:xfrm>
                    <a:off x="6443640" y="3256560"/>
                    <a:ext cx="192600" cy="228240"/>
                  </a:xfrm>
                  <a:custGeom>
                    <a:avLst/>
                    <a:gdLst/>
                    <a:ahLst/>
                    <a:rect l="l" t="t" r="r" b="b"/>
                    <a:pathLst>
                      <a:path w="135" h="136">
                        <a:moveTo>
                          <a:pt x="0" y="20"/>
                        </a:moveTo>
                        <a:lnTo>
                          <a:pt x="0" y="20"/>
                        </a:lnTo>
                        <a:lnTo>
                          <a:pt x="24" y="22"/>
                        </a:lnTo>
                        <a:lnTo>
                          <a:pt x="46" y="29"/>
                        </a:lnTo>
                        <a:lnTo>
                          <a:pt x="66" y="39"/>
                        </a:lnTo>
                        <a:lnTo>
                          <a:pt x="83" y="52"/>
                        </a:lnTo>
                        <a:lnTo>
                          <a:pt x="96" y="69"/>
                        </a:lnTo>
                        <a:lnTo>
                          <a:pt x="106" y="90"/>
                        </a:lnTo>
                        <a:lnTo>
                          <a:pt x="113" y="111"/>
                        </a:lnTo>
                        <a:lnTo>
                          <a:pt x="115" y="136"/>
                        </a:lnTo>
                        <a:lnTo>
                          <a:pt x="135" y="136"/>
                        </a:lnTo>
                        <a:lnTo>
                          <a:pt x="131" y="108"/>
                        </a:lnTo>
                        <a:lnTo>
                          <a:pt x="124" y="84"/>
                        </a:lnTo>
                        <a:lnTo>
                          <a:pt x="111" y="61"/>
                        </a:lnTo>
                        <a:lnTo>
                          <a:pt x="95" y="41"/>
                        </a:lnTo>
                        <a:lnTo>
                          <a:pt x="75" y="25"/>
                        </a:lnTo>
                        <a:lnTo>
                          <a:pt x="51" y="12"/>
                        </a:lnTo>
                        <a:lnTo>
                          <a:pt x="27" y="5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2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"/>
                  <p:cNvSpPr/>
                  <p:nvPr/>
                </p:nvSpPr>
                <p:spPr>
                  <a:xfrm>
                    <a:off x="901800" y="3256560"/>
                    <a:ext cx="55418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3878" h="20">
                        <a:moveTo>
                          <a:pt x="0" y="20"/>
                        </a:moveTo>
                        <a:lnTo>
                          <a:pt x="0" y="20"/>
                        </a:lnTo>
                        <a:lnTo>
                          <a:pt x="3878" y="20"/>
                        </a:lnTo>
                        <a:lnTo>
                          <a:pt x="3878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2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" name=""/>
                  <p:cNvSpPr/>
                  <p:nvPr/>
                </p:nvSpPr>
                <p:spPr>
                  <a:xfrm>
                    <a:off x="708480" y="3256560"/>
                    <a:ext cx="192960" cy="228240"/>
                  </a:xfrm>
                  <a:custGeom>
                    <a:avLst/>
                    <a:gdLst/>
                    <a:ahLst/>
                    <a:rect l="l" t="t" r="r" b="b"/>
                    <a:pathLst>
                      <a:path w="135" h="136">
                        <a:moveTo>
                          <a:pt x="20" y="136"/>
                        </a:moveTo>
                        <a:lnTo>
                          <a:pt x="20" y="136"/>
                        </a:lnTo>
                        <a:lnTo>
                          <a:pt x="21" y="111"/>
                        </a:lnTo>
                        <a:lnTo>
                          <a:pt x="28" y="90"/>
                        </a:lnTo>
                        <a:lnTo>
                          <a:pt x="39" y="69"/>
                        </a:lnTo>
                        <a:lnTo>
                          <a:pt x="53" y="52"/>
                        </a:lnTo>
                        <a:lnTo>
                          <a:pt x="69" y="39"/>
                        </a:lnTo>
                        <a:lnTo>
                          <a:pt x="89" y="29"/>
                        </a:lnTo>
                        <a:lnTo>
                          <a:pt x="111" y="22"/>
                        </a:lnTo>
                        <a:lnTo>
                          <a:pt x="135" y="20"/>
                        </a:lnTo>
                        <a:lnTo>
                          <a:pt x="135" y="0"/>
                        </a:lnTo>
                        <a:lnTo>
                          <a:pt x="108" y="5"/>
                        </a:lnTo>
                        <a:lnTo>
                          <a:pt x="83" y="12"/>
                        </a:lnTo>
                        <a:lnTo>
                          <a:pt x="60" y="25"/>
                        </a:lnTo>
                        <a:lnTo>
                          <a:pt x="41" y="41"/>
                        </a:lnTo>
                        <a:lnTo>
                          <a:pt x="24" y="61"/>
                        </a:lnTo>
                        <a:lnTo>
                          <a:pt x="11" y="84"/>
                        </a:lnTo>
                        <a:lnTo>
                          <a:pt x="4" y="108"/>
                        </a:lnTo>
                        <a:lnTo>
                          <a:pt x="0" y="136"/>
                        </a:lnTo>
                        <a:lnTo>
                          <a:pt x="0" y="136"/>
                        </a:lnTo>
                        <a:lnTo>
                          <a:pt x="20" y="13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" name=""/>
                  <p:cNvSpPr/>
                  <p:nvPr/>
                </p:nvSpPr>
                <p:spPr>
                  <a:xfrm>
                    <a:off x="708480" y="3484800"/>
                    <a:ext cx="28800" cy="448524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668">
                        <a:moveTo>
                          <a:pt x="20" y="2668"/>
                        </a:moveTo>
                        <a:lnTo>
                          <a:pt x="20" y="2668"/>
                        </a:lnTo>
                        <a:lnTo>
                          <a:pt x="20" y="0"/>
                        </a:lnTo>
                        <a:lnTo>
                          <a:pt x="0" y="0"/>
                        </a:lnTo>
                        <a:lnTo>
                          <a:pt x="0" y="2668"/>
                        </a:lnTo>
                        <a:lnTo>
                          <a:pt x="0" y="2668"/>
                        </a:lnTo>
                        <a:lnTo>
                          <a:pt x="20" y="266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"/>
                  <p:cNvSpPr/>
                  <p:nvPr/>
                </p:nvSpPr>
                <p:spPr>
                  <a:xfrm>
                    <a:off x="708480" y="7970400"/>
                    <a:ext cx="192960" cy="227160"/>
                  </a:xfrm>
                  <a:custGeom>
                    <a:avLst/>
                    <a:gdLst/>
                    <a:ahLst/>
                    <a:rect l="l" t="t" r="r" b="b"/>
                    <a:pathLst>
                      <a:path w="135" h="135">
                        <a:moveTo>
                          <a:pt x="135" y="115"/>
                        </a:moveTo>
                        <a:lnTo>
                          <a:pt x="135" y="115"/>
                        </a:lnTo>
                        <a:lnTo>
                          <a:pt x="111" y="113"/>
                        </a:lnTo>
                        <a:lnTo>
                          <a:pt x="89" y="106"/>
                        </a:lnTo>
                        <a:lnTo>
                          <a:pt x="70" y="96"/>
                        </a:lnTo>
                        <a:lnTo>
                          <a:pt x="53" y="82"/>
                        </a:lnTo>
                        <a:lnTo>
                          <a:pt x="39" y="64"/>
                        </a:lnTo>
                        <a:lnTo>
                          <a:pt x="28" y="46"/>
                        </a:lnTo>
                        <a:lnTo>
                          <a:pt x="21" y="24"/>
                        </a:lnTo>
                        <a:lnTo>
                          <a:pt x="20" y="0"/>
                        </a:lnTo>
                        <a:lnTo>
                          <a:pt x="0" y="0"/>
                        </a:lnTo>
                        <a:lnTo>
                          <a:pt x="4" y="27"/>
                        </a:lnTo>
                        <a:lnTo>
                          <a:pt x="11" y="51"/>
                        </a:lnTo>
                        <a:lnTo>
                          <a:pt x="24" y="76"/>
                        </a:lnTo>
                        <a:lnTo>
                          <a:pt x="41" y="93"/>
                        </a:lnTo>
                        <a:lnTo>
                          <a:pt x="59" y="111"/>
                        </a:lnTo>
                        <a:lnTo>
                          <a:pt x="83" y="124"/>
                        </a:lnTo>
                        <a:lnTo>
                          <a:pt x="108" y="131"/>
                        </a:lnTo>
                        <a:lnTo>
                          <a:pt x="135" y="135"/>
                        </a:lnTo>
                        <a:lnTo>
                          <a:pt x="135" y="135"/>
                        </a:lnTo>
                        <a:lnTo>
                          <a:pt x="135" y="11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901800" y="8164080"/>
                    <a:ext cx="55418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3878" h="20">
                        <a:moveTo>
                          <a:pt x="3878" y="0"/>
                        </a:moveTo>
                        <a:lnTo>
                          <a:pt x="3878" y="0"/>
                        </a:lnTo>
                        <a:lnTo>
                          <a:pt x="0" y="0"/>
                        </a:lnTo>
                        <a:lnTo>
                          <a:pt x="0" y="20"/>
                        </a:lnTo>
                        <a:lnTo>
                          <a:pt x="3878" y="20"/>
                        </a:lnTo>
                        <a:lnTo>
                          <a:pt x="3878" y="20"/>
                        </a:lnTo>
                        <a:lnTo>
                          <a:pt x="387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901800" y="3468240"/>
                    <a:ext cx="5541840" cy="45194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"/>
                  <p:cNvSpPr/>
                  <p:nvPr/>
                </p:nvSpPr>
                <p:spPr>
                  <a:xfrm>
                    <a:off x="6427800" y="3451320"/>
                    <a:ext cx="29880" cy="45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2698">
                        <a:moveTo>
                          <a:pt x="11" y="20"/>
                        </a:moveTo>
                        <a:lnTo>
                          <a:pt x="0" y="10"/>
                        </a:lnTo>
                        <a:lnTo>
                          <a:pt x="0" y="2698"/>
                        </a:lnTo>
                        <a:lnTo>
                          <a:pt x="21" y="2698"/>
                        </a:lnTo>
                        <a:lnTo>
                          <a:pt x="21" y="10"/>
                        </a:lnTo>
                        <a:lnTo>
                          <a:pt x="11" y="0"/>
                        </a:lnTo>
                        <a:lnTo>
                          <a:pt x="21" y="10"/>
                        </a:lnTo>
                        <a:lnTo>
                          <a:pt x="21" y="0"/>
                        </a:lnTo>
                        <a:lnTo>
                          <a:pt x="11" y="0"/>
                        </a:lnTo>
                        <a:lnTo>
                          <a:pt x="11" y="2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" name=""/>
                  <p:cNvSpPr/>
                  <p:nvPr/>
                </p:nvSpPr>
                <p:spPr>
                  <a:xfrm>
                    <a:off x="887400" y="3451320"/>
                    <a:ext cx="555588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3888" h="20">
                        <a:moveTo>
                          <a:pt x="20" y="10"/>
                        </a:moveTo>
                        <a:lnTo>
                          <a:pt x="10" y="20"/>
                        </a:lnTo>
                        <a:lnTo>
                          <a:pt x="3888" y="20"/>
                        </a:lnTo>
                        <a:lnTo>
                          <a:pt x="3888" y="0"/>
                        </a:lnTo>
                        <a:lnTo>
                          <a:pt x="10" y="0"/>
                        </a:lnTo>
                        <a:lnTo>
                          <a:pt x="0" y="1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2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" name=""/>
                  <p:cNvSpPr/>
                  <p:nvPr/>
                </p:nvSpPr>
                <p:spPr>
                  <a:xfrm>
                    <a:off x="887400" y="3468240"/>
                    <a:ext cx="28440" cy="45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698">
                        <a:moveTo>
                          <a:pt x="10" y="2678"/>
                        </a:moveTo>
                        <a:lnTo>
                          <a:pt x="20" y="2688"/>
                        </a:lnTo>
                        <a:lnTo>
                          <a:pt x="20" y="0"/>
                        </a:lnTo>
                        <a:lnTo>
                          <a:pt x="0" y="0"/>
                        </a:lnTo>
                        <a:lnTo>
                          <a:pt x="0" y="2688"/>
                        </a:lnTo>
                        <a:lnTo>
                          <a:pt x="10" y="2698"/>
                        </a:lnTo>
                        <a:lnTo>
                          <a:pt x="0" y="2688"/>
                        </a:lnTo>
                        <a:lnTo>
                          <a:pt x="0" y="2698"/>
                        </a:lnTo>
                        <a:lnTo>
                          <a:pt x="10" y="2698"/>
                        </a:lnTo>
                        <a:lnTo>
                          <a:pt x="10" y="267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"/>
                  <p:cNvSpPr/>
                  <p:nvPr/>
                </p:nvSpPr>
                <p:spPr>
                  <a:xfrm>
                    <a:off x="901800" y="7970400"/>
                    <a:ext cx="5555880" cy="33840"/>
                  </a:xfrm>
                  <a:custGeom>
                    <a:avLst/>
                    <a:gdLst/>
                    <a:ahLst/>
                    <a:rect l="l" t="t" r="r" b="b"/>
                    <a:pathLst>
                      <a:path w="3888" h="20">
                        <a:moveTo>
                          <a:pt x="3867" y="10"/>
                        </a:moveTo>
                        <a:lnTo>
                          <a:pt x="3878" y="0"/>
                        </a:lnTo>
                        <a:lnTo>
                          <a:pt x="0" y="0"/>
                        </a:lnTo>
                        <a:lnTo>
                          <a:pt x="0" y="20"/>
                        </a:lnTo>
                        <a:lnTo>
                          <a:pt x="3878" y="20"/>
                        </a:lnTo>
                        <a:lnTo>
                          <a:pt x="3888" y="10"/>
                        </a:lnTo>
                        <a:lnTo>
                          <a:pt x="3878" y="20"/>
                        </a:lnTo>
                        <a:lnTo>
                          <a:pt x="3888" y="20"/>
                        </a:lnTo>
                        <a:lnTo>
                          <a:pt x="3888" y="10"/>
                        </a:lnTo>
                        <a:lnTo>
                          <a:pt x="3867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960" bIns="-12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"/>
                  <p:cNvSpPr/>
                  <p:nvPr/>
                </p:nvSpPr>
                <p:spPr>
                  <a:xfrm>
                    <a:off x="3704040" y="2563920"/>
                    <a:ext cx="1425960" cy="1717920"/>
                  </a:xfrm>
                  <a:custGeom>
                    <a:avLst/>
                    <a:gdLst/>
                    <a:ahLst/>
                    <a:rect l="l" t="t" r="r" b="b"/>
                    <a:pathLst>
                      <a:path w="998" h="1022">
                        <a:moveTo>
                          <a:pt x="405" y="490"/>
                        </a:moveTo>
                        <a:lnTo>
                          <a:pt x="401" y="530"/>
                        </a:lnTo>
                        <a:lnTo>
                          <a:pt x="398" y="568"/>
                        </a:lnTo>
                        <a:lnTo>
                          <a:pt x="398" y="605"/>
                        </a:lnTo>
                        <a:lnTo>
                          <a:pt x="401" y="644"/>
                        </a:lnTo>
                        <a:lnTo>
                          <a:pt x="407" y="669"/>
                        </a:lnTo>
                        <a:lnTo>
                          <a:pt x="418" y="689"/>
                        </a:lnTo>
                        <a:lnTo>
                          <a:pt x="431" y="704"/>
                        </a:lnTo>
                        <a:lnTo>
                          <a:pt x="449" y="714"/>
                        </a:lnTo>
                        <a:lnTo>
                          <a:pt x="469" y="718"/>
                        </a:lnTo>
                        <a:lnTo>
                          <a:pt x="492" y="719"/>
                        </a:lnTo>
                        <a:lnTo>
                          <a:pt x="518" y="716"/>
                        </a:lnTo>
                        <a:lnTo>
                          <a:pt x="545" y="711"/>
                        </a:lnTo>
                        <a:lnTo>
                          <a:pt x="560" y="702"/>
                        </a:lnTo>
                        <a:lnTo>
                          <a:pt x="574" y="686"/>
                        </a:lnTo>
                        <a:lnTo>
                          <a:pt x="587" y="665"/>
                        </a:lnTo>
                        <a:lnTo>
                          <a:pt x="597" y="640"/>
                        </a:lnTo>
                        <a:lnTo>
                          <a:pt x="603" y="611"/>
                        </a:lnTo>
                        <a:lnTo>
                          <a:pt x="604" y="582"/>
                        </a:lnTo>
                        <a:lnTo>
                          <a:pt x="600" y="554"/>
                        </a:lnTo>
                        <a:lnTo>
                          <a:pt x="589" y="526"/>
                        </a:lnTo>
                        <a:lnTo>
                          <a:pt x="593" y="554"/>
                        </a:lnTo>
                        <a:lnTo>
                          <a:pt x="599" y="582"/>
                        </a:lnTo>
                        <a:lnTo>
                          <a:pt x="603" y="610"/>
                        </a:lnTo>
                        <a:lnTo>
                          <a:pt x="612" y="636"/>
                        </a:lnTo>
                        <a:lnTo>
                          <a:pt x="622" y="657"/>
                        </a:lnTo>
                        <a:lnTo>
                          <a:pt x="636" y="675"/>
                        </a:lnTo>
                        <a:lnTo>
                          <a:pt x="656" y="685"/>
                        </a:lnTo>
                        <a:lnTo>
                          <a:pt x="682" y="686"/>
                        </a:lnTo>
                        <a:lnTo>
                          <a:pt x="715" y="680"/>
                        </a:lnTo>
                        <a:lnTo>
                          <a:pt x="740" y="670"/>
                        </a:lnTo>
                        <a:lnTo>
                          <a:pt x="757" y="656"/>
                        </a:lnTo>
                        <a:lnTo>
                          <a:pt x="769" y="637"/>
                        </a:lnTo>
                        <a:lnTo>
                          <a:pt x="775" y="617"/>
                        </a:lnTo>
                        <a:lnTo>
                          <a:pt x="777" y="594"/>
                        </a:lnTo>
                        <a:lnTo>
                          <a:pt x="776" y="569"/>
                        </a:lnTo>
                        <a:lnTo>
                          <a:pt x="773" y="545"/>
                        </a:lnTo>
                        <a:lnTo>
                          <a:pt x="782" y="585"/>
                        </a:lnTo>
                        <a:lnTo>
                          <a:pt x="799" y="616"/>
                        </a:lnTo>
                        <a:lnTo>
                          <a:pt x="824" y="636"/>
                        </a:lnTo>
                        <a:lnTo>
                          <a:pt x="851" y="647"/>
                        </a:lnTo>
                        <a:lnTo>
                          <a:pt x="881" y="650"/>
                        </a:lnTo>
                        <a:lnTo>
                          <a:pt x="910" y="642"/>
                        </a:lnTo>
                        <a:lnTo>
                          <a:pt x="936" y="624"/>
                        </a:lnTo>
                        <a:lnTo>
                          <a:pt x="955" y="598"/>
                        </a:lnTo>
                        <a:lnTo>
                          <a:pt x="971" y="559"/>
                        </a:lnTo>
                        <a:lnTo>
                          <a:pt x="984" y="522"/>
                        </a:lnTo>
                        <a:lnTo>
                          <a:pt x="992" y="481"/>
                        </a:lnTo>
                        <a:lnTo>
                          <a:pt x="997" y="443"/>
                        </a:lnTo>
                        <a:lnTo>
                          <a:pt x="998" y="404"/>
                        </a:lnTo>
                        <a:lnTo>
                          <a:pt x="995" y="365"/>
                        </a:lnTo>
                        <a:lnTo>
                          <a:pt x="989" y="327"/>
                        </a:lnTo>
                        <a:lnTo>
                          <a:pt x="981" y="290"/>
                        </a:lnTo>
                        <a:lnTo>
                          <a:pt x="968" y="255"/>
                        </a:lnTo>
                        <a:lnTo>
                          <a:pt x="953" y="220"/>
                        </a:lnTo>
                        <a:lnTo>
                          <a:pt x="935" y="187"/>
                        </a:lnTo>
                        <a:lnTo>
                          <a:pt x="913" y="157"/>
                        </a:lnTo>
                        <a:lnTo>
                          <a:pt x="890" y="128"/>
                        </a:lnTo>
                        <a:lnTo>
                          <a:pt x="864" y="102"/>
                        </a:lnTo>
                        <a:lnTo>
                          <a:pt x="835" y="79"/>
                        </a:lnTo>
                        <a:lnTo>
                          <a:pt x="803" y="59"/>
                        </a:lnTo>
                        <a:lnTo>
                          <a:pt x="760" y="37"/>
                        </a:lnTo>
                        <a:lnTo>
                          <a:pt x="715" y="20"/>
                        </a:lnTo>
                        <a:lnTo>
                          <a:pt x="671" y="8"/>
                        </a:lnTo>
                        <a:lnTo>
                          <a:pt x="625" y="1"/>
                        </a:lnTo>
                        <a:lnTo>
                          <a:pt x="580" y="0"/>
                        </a:lnTo>
                        <a:lnTo>
                          <a:pt x="534" y="3"/>
                        </a:lnTo>
                        <a:lnTo>
                          <a:pt x="489" y="11"/>
                        </a:lnTo>
                        <a:lnTo>
                          <a:pt x="446" y="23"/>
                        </a:lnTo>
                        <a:lnTo>
                          <a:pt x="403" y="39"/>
                        </a:lnTo>
                        <a:lnTo>
                          <a:pt x="361" y="59"/>
                        </a:lnTo>
                        <a:lnTo>
                          <a:pt x="320" y="82"/>
                        </a:lnTo>
                        <a:lnTo>
                          <a:pt x="281" y="109"/>
                        </a:lnTo>
                        <a:lnTo>
                          <a:pt x="245" y="141"/>
                        </a:lnTo>
                        <a:lnTo>
                          <a:pt x="211" y="174"/>
                        </a:lnTo>
                        <a:lnTo>
                          <a:pt x="179" y="212"/>
                        </a:lnTo>
                        <a:lnTo>
                          <a:pt x="150" y="252"/>
                        </a:lnTo>
                        <a:lnTo>
                          <a:pt x="101" y="334"/>
                        </a:lnTo>
                        <a:lnTo>
                          <a:pt x="61" y="418"/>
                        </a:lnTo>
                        <a:lnTo>
                          <a:pt x="30" y="502"/>
                        </a:lnTo>
                        <a:lnTo>
                          <a:pt x="10" y="585"/>
                        </a:lnTo>
                        <a:lnTo>
                          <a:pt x="0" y="672"/>
                        </a:lnTo>
                        <a:lnTo>
                          <a:pt x="0" y="758"/>
                        </a:lnTo>
                        <a:lnTo>
                          <a:pt x="10" y="848"/>
                        </a:lnTo>
                        <a:lnTo>
                          <a:pt x="33" y="937"/>
                        </a:lnTo>
                        <a:lnTo>
                          <a:pt x="45" y="963"/>
                        </a:lnTo>
                        <a:lnTo>
                          <a:pt x="61" y="985"/>
                        </a:lnTo>
                        <a:lnTo>
                          <a:pt x="81" y="1001"/>
                        </a:lnTo>
                        <a:lnTo>
                          <a:pt x="105" y="1012"/>
                        </a:lnTo>
                        <a:lnTo>
                          <a:pt x="131" y="1019"/>
                        </a:lnTo>
                        <a:lnTo>
                          <a:pt x="159" y="1022"/>
                        </a:lnTo>
                        <a:lnTo>
                          <a:pt x="188" y="1022"/>
                        </a:lnTo>
                        <a:lnTo>
                          <a:pt x="215" y="1019"/>
                        </a:lnTo>
                        <a:lnTo>
                          <a:pt x="270" y="996"/>
                        </a:lnTo>
                        <a:lnTo>
                          <a:pt x="315" y="952"/>
                        </a:lnTo>
                        <a:lnTo>
                          <a:pt x="349" y="890"/>
                        </a:lnTo>
                        <a:lnTo>
                          <a:pt x="375" y="815"/>
                        </a:lnTo>
                        <a:lnTo>
                          <a:pt x="392" y="734"/>
                        </a:lnTo>
                        <a:lnTo>
                          <a:pt x="403" y="649"/>
                        </a:lnTo>
                        <a:lnTo>
                          <a:pt x="407" y="567"/>
                        </a:lnTo>
                        <a:lnTo>
                          <a:pt x="405" y="490"/>
                        </a:lnTo>
                        <a:close/>
                      </a:path>
                    </a:pathLst>
                  </a:custGeom>
                  <a:solidFill>
                    <a:srgbClr val="ffe5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"/>
                  <p:cNvSpPr/>
                  <p:nvPr/>
                </p:nvSpPr>
                <p:spPr>
                  <a:xfrm>
                    <a:off x="4261320" y="3387600"/>
                    <a:ext cx="34200" cy="26172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156">
                        <a:moveTo>
                          <a:pt x="20" y="153"/>
                        </a:moveTo>
                        <a:lnTo>
                          <a:pt x="20" y="154"/>
                        </a:lnTo>
                        <a:lnTo>
                          <a:pt x="17" y="115"/>
                        </a:lnTo>
                        <a:lnTo>
                          <a:pt x="17" y="78"/>
                        </a:lnTo>
                        <a:lnTo>
                          <a:pt x="20" y="40"/>
                        </a:lnTo>
                        <a:lnTo>
                          <a:pt x="24" y="0"/>
                        </a:lnTo>
                        <a:lnTo>
                          <a:pt x="7" y="0"/>
                        </a:lnTo>
                        <a:lnTo>
                          <a:pt x="2" y="40"/>
                        </a:lnTo>
                        <a:lnTo>
                          <a:pt x="0" y="78"/>
                        </a:lnTo>
                        <a:lnTo>
                          <a:pt x="0" y="115"/>
                        </a:lnTo>
                        <a:lnTo>
                          <a:pt x="2" y="154"/>
                        </a:lnTo>
                        <a:lnTo>
                          <a:pt x="2" y="156"/>
                        </a:lnTo>
                        <a:lnTo>
                          <a:pt x="20" y="15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"/>
                  <p:cNvSpPr/>
                  <p:nvPr/>
                </p:nvSpPr>
                <p:spPr>
                  <a:xfrm>
                    <a:off x="4264200" y="3644640"/>
                    <a:ext cx="22104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155" h="86">
                        <a:moveTo>
                          <a:pt x="152" y="59"/>
                        </a:moveTo>
                        <a:lnTo>
                          <a:pt x="152" y="59"/>
                        </a:lnTo>
                        <a:lnTo>
                          <a:pt x="124" y="65"/>
                        </a:lnTo>
                        <a:lnTo>
                          <a:pt x="100" y="66"/>
                        </a:lnTo>
                        <a:lnTo>
                          <a:pt x="77" y="66"/>
                        </a:lnTo>
                        <a:lnTo>
                          <a:pt x="60" y="62"/>
                        </a:lnTo>
                        <a:lnTo>
                          <a:pt x="45" y="53"/>
                        </a:lnTo>
                        <a:lnTo>
                          <a:pt x="34" y="40"/>
                        </a:lnTo>
                        <a:lnTo>
                          <a:pt x="23" y="23"/>
                        </a:lnTo>
                        <a:lnTo>
                          <a:pt x="18" y="0"/>
                        </a:lnTo>
                        <a:lnTo>
                          <a:pt x="0" y="3"/>
                        </a:lnTo>
                        <a:lnTo>
                          <a:pt x="6" y="29"/>
                        </a:lnTo>
                        <a:lnTo>
                          <a:pt x="19" y="52"/>
                        </a:lnTo>
                        <a:lnTo>
                          <a:pt x="34" y="68"/>
                        </a:lnTo>
                        <a:lnTo>
                          <a:pt x="54" y="79"/>
                        </a:lnTo>
                        <a:lnTo>
                          <a:pt x="77" y="84"/>
                        </a:lnTo>
                        <a:lnTo>
                          <a:pt x="100" y="86"/>
                        </a:lnTo>
                        <a:lnTo>
                          <a:pt x="127" y="82"/>
                        </a:lnTo>
                        <a:lnTo>
                          <a:pt x="155" y="76"/>
                        </a:lnTo>
                        <a:lnTo>
                          <a:pt x="155" y="76"/>
                        </a:lnTo>
                        <a:lnTo>
                          <a:pt x="152" y="5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"/>
                  <p:cNvSpPr/>
                  <p:nvPr/>
                </p:nvSpPr>
                <p:spPr>
                  <a:xfrm>
                    <a:off x="4481280" y="3360600"/>
                    <a:ext cx="98280" cy="41148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245">
                        <a:moveTo>
                          <a:pt x="53" y="51"/>
                        </a:moveTo>
                        <a:lnTo>
                          <a:pt x="37" y="56"/>
                        </a:lnTo>
                        <a:lnTo>
                          <a:pt x="47" y="81"/>
                        </a:lnTo>
                        <a:lnTo>
                          <a:pt x="52" y="108"/>
                        </a:lnTo>
                        <a:lnTo>
                          <a:pt x="50" y="137"/>
                        </a:lnTo>
                        <a:lnTo>
                          <a:pt x="45" y="165"/>
                        </a:lnTo>
                        <a:lnTo>
                          <a:pt x="34" y="186"/>
                        </a:lnTo>
                        <a:lnTo>
                          <a:pt x="23" y="206"/>
                        </a:lnTo>
                        <a:lnTo>
                          <a:pt x="10" y="221"/>
                        </a:lnTo>
                        <a:lnTo>
                          <a:pt x="0" y="228"/>
                        </a:lnTo>
                        <a:lnTo>
                          <a:pt x="3" y="245"/>
                        </a:lnTo>
                        <a:lnTo>
                          <a:pt x="21" y="235"/>
                        </a:lnTo>
                        <a:lnTo>
                          <a:pt x="37" y="218"/>
                        </a:lnTo>
                        <a:lnTo>
                          <a:pt x="52" y="195"/>
                        </a:lnTo>
                        <a:lnTo>
                          <a:pt x="62" y="168"/>
                        </a:lnTo>
                        <a:lnTo>
                          <a:pt x="68" y="137"/>
                        </a:lnTo>
                        <a:lnTo>
                          <a:pt x="69" y="108"/>
                        </a:lnTo>
                        <a:lnTo>
                          <a:pt x="65" y="78"/>
                        </a:lnTo>
                        <a:lnTo>
                          <a:pt x="52" y="48"/>
                        </a:lnTo>
                        <a:lnTo>
                          <a:pt x="36" y="54"/>
                        </a:lnTo>
                        <a:lnTo>
                          <a:pt x="53" y="48"/>
                        </a:lnTo>
                        <a:lnTo>
                          <a:pt x="26" y="0"/>
                        </a:lnTo>
                        <a:lnTo>
                          <a:pt x="36" y="54"/>
                        </a:lnTo>
                        <a:lnTo>
                          <a:pt x="53" y="5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" name=""/>
                  <p:cNvSpPr/>
                  <p:nvPr/>
                </p:nvSpPr>
                <p:spPr>
                  <a:xfrm>
                    <a:off x="4532760" y="3446280"/>
                    <a:ext cx="145800" cy="285840"/>
                  </a:xfrm>
                  <a:custGeom>
                    <a:avLst/>
                    <a:gdLst/>
                    <a:ahLst/>
                    <a:rect l="l" t="t" r="r" b="b"/>
                    <a:pathLst>
                      <a:path w="102" h="170">
                        <a:moveTo>
                          <a:pt x="102" y="153"/>
                        </a:moveTo>
                        <a:lnTo>
                          <a:pt x="102" y="153"/>
                        </a:lnTo>
                        <a:lnTo>
                          <a:pt x="78" y="151"/>
                        </a:lnTo>
                        <a:lnTo>
                          <a:pt x="62" y="142"/>
                        </a:lnTo>
                        <a:lnTo>
                          <a:pt x="49" y="128"/>
                        </a:lnTo>
                        <a:lnTo>
                          <a:pt x="40" y="108"/>
                        </a:lnTo>
                        <a:lnTo>
                          <a:pt x="32" y="83"/>
                        </a:lnTo>
                        <a:lnTo>
                          <a:pt x="27" y="56"/>
                        </a:lnTo>
                        <a:lnTo>
                          <a:pt x="21" y="27"/>
                        </a:lnTo>
                        <a:lnTo>
                          <a:pt x="17" y="0"/>
                        </a:lnTo>
                        <a:lnTo>
                          <a:pt x="0" y="3"/>
                        </a:lnTo>
                        <a:lnTo>
                          <a:pt x="4" y="30"/>
                        </a:lnTo>
                        <a:lnTo>
                          <a:pt x="10" y="59"/>
                        </a:lnTo>
                        <a:lnTo>
                          <a:pt x="14" y="86"/>
                        </a:lnTo>
                        <a:lnTo>
                          <a:pt x="23" y="114"/>
                        </a:lnTo>
                        <a:lnTo>
                          <a:pt x="34" y="137"/>
                        </a:lnTo>
                        <a:lnTo>
                          <a:pt x="50" y="157"/>
                        </a:lnTo>
                        <a:lnTo>
                          <a:pt x="75" y="168"/>
                        </a:lnTo>
                        <a:lnTo>
                          <a:pt x="102" y="170"/>
                        </a:lnTo>
                        <a:lnTo>
                          <a:pt x="102" y="170"/>
                        </a:lnTo>
                        <a:lnTo>
                          <a:pt x="102" y="15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" name=""/>
                  <p:cNvSpPr/>
                  <p:nvPr/>
                </p:nvSpPr>
                <p:spPr>
                  <a:xfrm>
                    <a:off x="4678920" y="3480120"/>
                    <a:ext cx="15120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06" h="150">
                        <a:moveTo>
                          <a:pt x="100" y="0"/>
                        </a:moveTo>
                        <a:lnTo>
                          <a:pt x="82" y="0"/>
                        </a:lnTo>
                        <a:lnTo>
                          <a:pt x="85" y="24"/>
                        </a:lnTo>
                        <a:lnTo>
                          <a:pt x="85" y="49"/>
                        </a:lnTo>
                        <a:lnTo>
                          <a:pt x="84" y="71"/>
                        </a:lnTo>
                        <a:lnTo>
                          <a:pt x="78" y="89"/>
                        </a:lnTo>
                        <a:lnTo>
                          <a:pt x="68" y="105"/>
                        </a:lnTo>
                        <a:lnTo>
                          <a:pt x="54" y="117"/>
                        </a:lnTo>
                        <a:lnTo>
                          <a:pt x="32" y="127"/>
                        </a:lnTo>
                        <a:lnTo>
                          <a:pt x="0" y="133"/>
                        </a:lnTo>
                        <a:lnTo>
                          <a:pt x="0" y="150"/>
                        </a:lnTo>
                        <a:lnTo>
                          <a:pt x="35" y="144"/>
                        </a:lnTo>
                        <a:lnTo>
                          <a:pt x="62" y="134"/>
                        </a:lnTo>
                        <a:lnTo>
                          <a:pt x="82" y="117"/>
                        </a:lnTo>
                        <a:lnTo>
                          <a:pt x="95" y="95"/>
                        </a:lnTo>
                        <a:lnTo>
                          <a:pt x="101" y="73"/>
                        </a:lnTo>
                        <a:lnTo>
                          <a:pt x="106" y="49"/>
                        </a:lnTo>
                        <a:lnTo>
                          <a:pt x="103" y="24"/>
                        </a:lnTo>
                        <a:lnTo>
                          <a:pt x="100" y="0"/>
                        </a:lnTo>
                        <a:lnTo>
                          <a:pt x="82" y="0"/>
                        </a:lnTo>
                        <a:lnTo>
                          <a:pt x="10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" name=""/>
                  <p:cNvSpPr/>
                  <p:nvPr/>
                </p:nvSpPr>
                <p:spPr>
                  <a:xfrm>
                    <a:off x="4795560" y="3480120"/>
                    <a:ext cx="284400" cy="19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99" h="114">
                        <a:moveTo>
                          <a:pt x="182" y="49"/>
                        </a:moveTo>
                        <a:lnTo>
                          <a:pt x="182" y="49"/>
                        </a:lnTo>
                        <a:lnTo>
                          <a:pt x="166" y="72"/>
                        </a:lnTo>
                        <a:lnTo>
                          <a:pt x="143" y="88"/>
                        </a:lnTo>
                        <a:lnTo>
                          <a:pt x="117" y="97"/>
                        </a:lnTo>
                        <a:lnTo>
                          <a:pt x="88" y="94"/>
                        </a:lnTo>
                        <a:lnTo>
                          <a:pt x="64" y="84"/>
                        </a:lnTo>
                        <a:lnTo>
                          <a:pt x="42" y="65"/>
                        </a:lnTo>
                        <a:lnTo>
                          <a:pt x="26" y="37"/>
                        </a:lnTo>
                        <a:lnTo>
                          <a:pt x="18" y="0"/>
                        </a:lnTo>
                        <a:lnTo>
                          <a:pt x="0" y="0"/>
                        </a:lnTo>
                        <a:lnTo>
                          <a:pt x="9" y="43"/>
                        </a:lnTo>
                        <a:lnTo>
                          <a:pt x="28" y="76"/>
                        </a:lnTo>
                        <a:lnTo>
                          <a:pt x="55" y="98"/>
                        </a:lnTo>
                        <a:lnTo>
                          <a:pt x="86" y="111"/>
                        </a:lnTo>
                        <a:lnTo>
                          <a:pt x="117" y="114"/>
                        </a:lnTo>
                        <a:lnTo>
                          <a:pt x="149" y="105"/>
                        </a:lnTo>
                        <a:lnTo>
                          <a:pt x="178" y="86"/>
                        </a:lnTo>
                        <a:lnTo>
                          <a:pt x="199" y="58"/>
                        </a:lnTo>
                        <a:lnTo>
                          <a:pt x="199" y="58"/>
                        </a:lnTo>
                        <a:lnTo>
                          <a:pt x="182" y="4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4845960" y="2647800"/>
                    <a:ext cx="298440" cy="929880"/>
                  </a:xfrm>
                  <a:custGeom>
                    <a:avLst/>
                    <a:gdLst/>
                    <a:ahLst/>
                    <a:rect l="l" t="t" r="r" b="b"/>
                    <a:pathLst>
                      <a:path w="209" h="553">
                        <a:moveTo>
                          <a:pt x="0" y="18"/>
                        </a:moveTo>
                        <a:lnTo>
                          <a:pt x="0" y="18"/>
                        </a:lnTo>
                        <a:lnTo>
                          <a:pt x="30" y="36"/>
                        </a:lnTo>
                        <a:lnTo>
                          <a:pt x="59" y="59"/>
                        </a:lnTo>
                        <a:lnTo>
                          <a:pt x="84" y="84"/>
                        </a:lnTo>
                        <a:lnTo>
                          <a:pt x="107" y="113"/>
                        </a:lnTo>
                        <a:lnTo>
                          <a:pt x="128" y="142"/>
                        </a:lnTo>
                        <a:lnTo>
                          <a:pt x="146" y="175"/>
                        </a:lnTo>
                        <a:lnTo>
                          <a:pt x="160" y="208"/>
                        </a:lnTo>
                        <a:lnTo>
                          <a:pt x="173" y="241"/>
                        </a:lnTo>
                        <a:lnTo>
                          <a:pt x="182" y="279"/>
                        </a:lnTo>
                        <a:lnTo>
                          <a:pt x="187" y="315"/>
                        </a:lnTo>
                        <a:lnTo>
                          <a:pt x="189" y="354"/>
                        </a:lnTo>
                        <a:lnTo>
                          <a:pt x="189" y="393"/>
                        </a:lnTo>
                        <a:lnTo>
                          <a:pt x="185" y="430"/>
                        </a:lnTo>
                        <a:lnTo>
                          <a:pt x="176" y="470"/>
                        </a:lnTo>
                        <a:lnTo>
                          <a:pt x="163" y="506"/>
                        </a:lnTo>
                        <a:lnTo>
                          <a:pt x="147" y="544"/>
                        </a:lnTo>
                        <a:lnTo>
                          <a:pt x="164" y="553"/>
                        </a:lnTo>
                        <a:lnTo>
                          <a:pt x="180" y="512"/>
                        </a:lnTo>
                        <a:lnTo>
                          <a:pt x="193" y="473"/>
                        </a:lnTo>
                        <a:lnTo>
                          <a:pt x="202" y="433"/>
                        </a:lnTo>
                        <a:lnTo>
                          <a:pt x="206" y="393"/>
                        </a:lnTo>
                        <a:lnTo>
                          <a:pt x="209" y="354"/>
                        </a:lnTo>
                        <a:lnTo>
                          <a:pt x="205" y="315"/>
                        </a:lnTo>
                        <a:lnTo>
                          <a:pt x="199" y="276"/>
                        </a:lnTo>
                        <a:lnTo>
                          <a:pt x="190" y="238"/>
                        </a:lnTo>
                        <a:lnTo>
                          <a:pt x="177" y="202"/>
                        </a:lnTo>
                        <a:lnTo>
                          <a:pt x="163" y="166"/>
                        </a:lnTo>
                        <a:lnTo>
                          <a:pt x="143" y="133"/>
                        </a:lnTo>
                        <a:lnTo>
                          <a:pt x="121" y="101"/>
                        </a:lnTo>
                        <a:lnTo>
                          <a:pt x="98" y="72"/>
                        </a:lnTo>
                        <a:lnTo>
                          <a:pt x="71" y="45"/>
                        </a:lnTo>
                        <a:lnTo>
                          <a:pt x="42" y="22"/>
                        </a:lnTo>
                        <a:lnTo>
                          <a:pt x="9" y="0"/>
                        </a:lnTo>
                        <a:lnTo>
                          <a:pt x="9" y="0"/>
                        </a:lnTo>
                        <a:lnTo>
                          <a:pt x="0" y="1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"/>
                  <p:cNvSpPr/>
                  <p:nvPr/>
                </p:nvSpPr>
                <p:spPr>
                  <a:xfrm>
                    <a:off x="3908520" y="2547000"/>
                    <a:ext cx="950040" cy="447120"/>
                  </a:xfrm>
                  <a:custGeom>
                    <a:avLst/>
                    <a:gdLst/>
                    <a:ahLst/>
                    <a:rect l="l" t="t" r="r" b="b"/>
                    <a:pathLst>
                      <a:path w="665" h="266">
                        <a:moveTo>
                          <a:pt x="14" y="266"/>
                        </a:moveTo>
                        <a:lnTo>
                          <a:pt x="14" y="266"/>
                        </a:lnTo>
                        <a:lnTo>
                          <a:pt x="43" y="228"/>
                        </a:lnTo>
                        <a:lnTo>
                          <a:pt x="75" y="190"/>
                        </a:lnTo>
                        <a:lnTo>
                          <a:pt x="108" y="158"/>
                        </a:lnTo>
                        <a:lnTo>
                          <a:pt x="144" y="127"/>
                        </a:lnTo>
                        <a:lnTo>
                          <a:pt x="182" y="99"/>
                        </a:lnTo>
                        <a:lnTo>
                          <a:pt x="222" y="78"/>
                        </a:lnTo>
                        <a:lnTo>
                          <a:pt x="262" y="57"/>
                        </a:lnTo>
                        <a:lnTo>
                          <a:pt x="306" y="42"/>
                        </a:lnTo>
                        <a:lnTo>
                          <a:pt x="347" y="30"/>
                        </a:lnTo>
                        <a:lnTo>
                          <a:pt x="391" y="21"/>
                        </a:lnTo>
                        <a:lnTo>
                          <a:pt x="437" y="20"/>
                        </a:lnTo>
                        <a:lnTo>
                          <a:pt x="482" y="20"/>
                        </a:lnTo>
                        <a:lnTo>
                          <a:pt x="526" y="27"/>
                        </a:lnTo>
                        <a:lnTo>
                          <a:pt x="570" y="39"/>
                        </a:lnTo>
                        <a:lnTo>
                          <a:pt x="614" y="56"/>
                        </a:lnTo>
                        <a:lnTo>
                          <a:pt x="656" y="78"/>
                        </a:lnTo>
                        <a:lnTo>
                          <a:pt x="665" y="60"/>
                        </a:lnTo>
                        <a:lnTo>
                          <a:pt x="620" y="39"/>
                        </a:lnTo>
                        <a:lnTo>
                          <a:pt x="575" y="21"/>
                        </a:lnTo>
                        <a:lnTo>
                          <a:pt x="529" y="10"/>
                        </a:lnTo>
                        <a:lnTo>
                          <a:pt x="482" y="3"/>
                        </a:lnTo>
                        <a:lnTo>
                          <a:pt x="437" y="0"/>
                        </a:lnTo>
                        <a:lnTo>
                          <a:pt x="391" y="4"/>
                        </a:lnTo>
                        <a:lnTo>
                          <a:pt x="345" y="13"/>
                        </a:lnTo>
                        <a:lnTo>
                          <a:pt x="300" y="24"/>
                        </a:lnTo>
                        <a:lnTo>
                          <a:pt x="257" y="40"/>
                        </a:lnTo>
                        <a:lnTo>
                          <a:pt x="213" y="60"/>
                        </a:lnTo>
                        <a:lnTo>
                          <a:pt x="173" y="85"/>
                        </a:lnTo>
                        <a:lnTo>
                          <a:pt x="133" y="112"/>
                        </a:lnTo>
                        <a:lnTo>
                          <a:pt x="97" y="144"/>
                        </a:lnTo>
                        <a:lnTo>
                          <a:pt x="61" y="179"/>
                        </a:lnTo>
                        <a:lnTo>
                          <a:pt x="29" y="216"/>
                        </a:lnTo>
                        <a:lnTo>
                          <a:pt x="0" y="258"/>
                        </a:lnTo>
                        <a:lnTo>
                          <a:pt x="0" y="258"/>
                        </a:lnTo>
                        <a:lnTo>
                          <a:pt x="14" y="26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"/>
                  <p:cNvSpPr/>
                  <p:nvPr/>
                </p:nvSpPr>
                <p:spPr>
                  <a:xfrm>
                    <a:off x="3692520" y="2980440"/>
                    <a:ext cx="235800" cy="116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65" h="692">
                        <a:moveTo>
                          <a:pt x="50" y="688"/>
                        </a:moveTo>
                        <a:lnTo>
                          <a:pt x="50" y="686"/>
                        </a:lnTo>
                        <a:lnTo>
                          <a:pt x="27" y="598"/>
                        </a:lnTo>
                        <a:lnTo>
                          <a:pt x="17" y="510"/>
                        </a:lnTo>
                        <a:lnTo>
                          <a:pt x="17" y="424"/>
                        </a:lnTo>
                        <a:lnTo>
                          <a:pt x="27" y="339"/>
                        </a:lnTo>
                        <a:lnTo>
                          <a:pt x="47" y="255"/>
                        </a:lnTo>
                        <a:lnTo>
                          <a:pt x="77" y="173"/>
                        </a:lnTo>
                        <a:lnTo>
                          <a:pt x="118" y="91"/>
                        </a:lnTo>
                        <a:lnTo>
                          <a:pt x="165" y="8"/>
                        </a:lnTo>
                        <a:lnTo>
                          <a:pt x="151" y="0"/>
                        </a:lnTo>
                        <a:lnTo>
                          <a:pt x="100" y="82"/>
                        </a:lnTo>
                        <a:lnTo>
                          <a:pt x="60" y="167"/>
                        </a:lnTo>
                        <a:lnTo>
                          <a:pt x="30" y="252"/>
                        </a:lnTo>
                        <a:lnTo>
                          <a:pt x="10" y="336"/>
                        </a:lnTo>
                        <a:lnTo>
                          <a:pt x="0" y="424"/>
                        </a:lnTo>
                        <a:lnTo>
                          <a:pt x="0" y="510"/>
                        </a:lnTo>
                        <a:lnTo>
                          <a:pt x="10" y="601"/>
                        </a:lnTo>
                        <a:lnTo>
                          <a:pt x="33" y="692"/>
                        </a:lnTo>
                        <a:lnTo>
                          <a:pt x="33" y="691"/>
                        </a:lnTo>
                        <a:lnTo>
                          <a:pt x="50" y="68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" name=""/>
                  <p:cNvSpPr/>
                  <p:nvPr/>
                </p:nvSpPr>
                <p:spPr>
                  <a:xfrm>
                    <a:off x="3740040" y="4137120"/>
                    <a:ext cx="27252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191" h="95">
                        <a:moveTo>
                          <a:pt x="189" y="75"/>
                        </a:moveTo>
                        <a:lnTo>
                          <a:pt x="189" y="75"/>
                        </a:lnTo>
                        <a:lnTo>
                          <a:pt x="163" y="78"/>
                        </a:lnTo>
                        <a:lnTo>
                          <a:pt x="134" y="78"/>
                        </a:lnTo>
                        <a:lnTo>
                          <a:pt x="108" y="75"/>
                        </a:lnTo>
                        <a:lnTo>
                          <a:pt x="83" y="67"/>
                        </a:lnTo>
                        <a:lnTo>
                          <a:pt x="60" y="57"/>
                        </a:lnTo>
                        <a:lnTo>
                          <a:pt x="43" y="43"/>
                        </a:lnTo>
                        <a:lnTo>
                          <a:pt x="29" y="23"/>
                        </a:lnTo>
                        <a:lnTo>
                          <a:pt x="17" y="0"/>
                        </a:lnTo>
                        <a:lnTo>
                          <a:pt x="0" y="3"/>
                        </a:lnTo>
                        <a:lnTo>
                          <a:pt x="11" y="31"/>
                        </a:lnTo>
                        <a:lnTo>
                          <a:pt x="29" y="54"/>
                        </a:lnTo>
                        <a:lnTo>
                          <a:pt x="52" y="72"/>
                        </a:lnTo>
                        <a:lnTo>
                          <a:pt x="78" y="85"/>
                        </a:lnTo>
                        <a:lnTo>
                          <a:pt x="105" y="92"/>
                        </a:lnTo>
                        <a:lnTo>
                          <a:pt x="134" y="95"/>
                        </a:lnTo>
                        <a:lnTo>
                          <a:pt x="163" y="95"/>
                        </a:lnTo>
                        <a:lnTo>
                          <a:pt x="191" y="92"/>
                        </a:lnTo>
                        <a:lnTo>
                          <a:pt x="191" y="92"/>
                        </a:lnTo>
                        <a:lnTo>
                          <a:pt x="189" y="7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" name=""/>
                  <p:cNvSpPr/>
                  <p:nvPr/>
                </p:nvSpPr>
                <p:spPr>
                  <a:xfrm>
                    <a:off x="4009680" y="3387600"/>
                    <a:ext cx="289800" cy="90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03" h="538">
                        <a:moveTo>
                          <a:pt x="200" y="0"/>
                        </a:moveTo>
                        <a:lnTo>
                          <a:pt x="183" y="0"/>
                        </a:lnTo>
                        <a:lnTo>
                          <a:pt x="183" y="77"/>
                        </a:lnTo>
                        <a:lnTo>
                          <a:pt x="180" y="159"/>
                        </a:lnTo>
                        <a:lnTo>
                          <a:pt x="170" y="242"/>
                        </a:lnTo>
                        <a:lnTo>
                          <a:pt x="152" y="323"/>
                        </a:lnTo>
                        <a:lnTo>
                          <a:pt x="127" y="397"/>
                        </a:lnTo>
                        <a:lnTo>
                          <a:pt x="93" y="456"/>
                        </a:lnTo>
                        <a:lnTo>
                          <a:pt x="52" y="499"/>
                        </a:lnTo>
                        <a:lnTo>
                          <a:pt x="0" y="521"/>
                        </a:lnTo>
                        <a:lnTo>
                          <a:pt x="2" y="538"/>
                        </a:lnTo>
                        <a:lnTo>
                          <a:pt x="60" y="513"/>
                        </a:lnTo>
                        <a:lnTo>
                          <a:pt x="108" y="467"/>
                        </a:lnTo>
                        <a:lnTo>
                          <a:pt x="144" y="402"/>
                        </a:lnTo>
                        <a:lnTo>
                          <a:pt x="170" y="326"/>
                        </a:lnTo>
                        <a:lnTo>
                          <a:pt x="187" y="245"/>
                        </a:lnTo>
                        <a:lnTo>
                          <a:pt x="197" y="159"/>
                        </a:lnTo>
                        <a:lnTo>
                          <a:pt x="203" y="77"/>
                        </a:lnTo>
                        <a:lnTo>
                          <a:pt x="200" y="0"/>
                        </a:lnTo>
                        <a:lnTo>
                          <a:pt x="183" y="0"/>
                        </a:lnTo>
                        <a:lnTo>
                          <a:pt x="20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" name=""/>
                  <p:cNvSpPr/>
                  <p:nvPr/>
                </p:nvSpPr>
                <p:spPr>
                  <a:xfrm>
                    <a:off x="3835440" y="3885120"/>
                    <a:ext cx="286920" cy="258840"/>
                  </a:xfrm>
                  <a:custGeom>
                    <a:avLst/>
                    <a:gdLst/>
                    <a:ahLst/>
                    <a:rect l="l" t="t" r="r" b="b"/>
                    <a:pathLst>
                      <a:path w="201" h="154">
                        <a:moveTo>
                          <a:pt x="101" y="154"/>
                        </a:moveTo>
                        <a:lnTo>
                          <a:pt x="122" y="153"/>
                        </a:lnTo>
                        <a:lnTo>
                          <a:pt x="140" y="148"/>
                        </a:lnTo>
                        <a:lnTo>
                          <a:pt x="158" y="141"/>
                        </a:lnTo>
                        <a:lnTo>
                          <a:pt x="172" y="131"/>
                        </a:lnTo>
                        <a:lnTo>
                          <a:pt x="184" y="121"/>
                        </a:lnTo>
                        <a:lnTo>
                          <a:pt x="194" y="108"/>
                        </a:lnTo>
                        <a:lnTo>
                          <a:pt x="199" y="93"/>
                        </a:lnTo>
                        <a:lnTo>
                          <a:pt x="201" y="78"/>
                        </a:lnTo>
                        <a:lnTo>
                          <a:pt x="199" y="62"/>
                        </a:lnTo>
                        <a:lnTo>
                          <a:pt x="194" y="47"/>
                        </a:lnTo>
                        <a:lnTo>
                          <a:pt x="184" y="34"/>
                        </a:lnTo>
                        <a:lnTo>
                          <a:pt x="172" y="23"/>
                        </a:lnTo>
                        <a:lnTo>
                          <a:pt x="158" y="13"/>
                        </a:lnTo>
                        <a:lnTo>
                          <a:pt x="140" y="5"/>
                        </a:lnTo>
                        <a:lnTo>
                          <a:pt x="122" y="1"/>
                        </a:lnTo>
                        <a:lnTo>
                          <a:pt x="101" y="0"/>
                        </a:lnTo>
                        <a:lnTo>
                          <a:pt x="81" y="1"/>
                        </a:lnTo>
                        <a:lnTo>
                          <a:pt x="62" y="5"/>
                        </a:lnTo>
                        <a:lnTo>
                          <a:pt x="45" y="13"/>
                        </a:lnTo>
                        <a:lnTo>
                          <a:pt x="29" y="23"/>
                        </a:lnTo>
                        <a:lnTo>
                          <a:pt x="18" y="34"/>
                        </a:lnTo>
                        <a:lnTo>
                          <a:pt x="8" y="47"/>
                        </a:lnTo>
                        <a:lnTo>
                          <a:pt x="2" y="62"/>
                        </a:lnTo>
                        <a:lnTo>
                          <a:pt x="0" y="78"/>
                        </a:lnTo>
                        <a:lnTo>
                          <a:pt x="2" y="93"/>
                        </a:lnTo>
                        <a:lnTo>
                          <a:pt x="8" y="108"/>
                        </a:lnTo>
                        <a:lnTo>
                          <a:pt x="18" y="121"/>
                        </a:lnTo>
                        <a:lnTo>
                          <a:pt x="29" y="131"/>
                        </a:lnTo>
                        <a:lnTo>
                          <a:pt x="45" y="141"/>
                        </a:lnTo>
                        <a:lnTo>
                          <a:pt x="62" y="148"/>
                        </a:lnTo>
                        <a:lnTo>
                          <a:pt x="81" y="153"/>
                        </a:lnTo>
                        <a:lnTo>
                          <a:pt x="101" y="15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"/>
                  <p:cNvSpPr/>
                  <p:nvPr/>
                </p:nvSpPr>
                <p:spPr>
                  <a:xfrm>
                    <a:off x="3979800" y="4016520"/>
                    <a:ext cx="15696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110" h="86">
                        <a:moveTo>
                          <a:pt x="90" y="0"/>
                        </a:moveTo>
                        <a:lnTo>
                          <a:pt x="90" y="0"/>
                        </a:lnTo>
                        <a:lnTo>
                          <a:pt x="90" y="14"/>
                        </a:lnTo>
                        <a:lnTo>
                          <a:pt x="84" y="26"/>
                        </a:lnTo>
                        <a:lnTo>
                          <a:pt x="75" y="37"/>
                        </a:lnTo>
                        <a:lnTo>
                          <a:pt x="65" y="46"/>
                        </a:lnTo>
                        <a:lnTo>
                          <a:pt x="52" y="54"/>
                        </a:lnTo>
                        <a:lnTo>
                          <a:pt x="36" y="62"/>
                        </a:lnTo>
                        <a:lnTo>
                          <a:pt x="19" y="66"/>
                        </a:lnTo>
                        <a:lnTo>
                          <a:pt x="0" y="66"/>
                        </a:lnTo>
                        <a:lnTo>
                          <a:pt x="0" y="86"/>
                        </a:lnTo>
                        <a:lnTo>
                          <a:pt x="22" y="83"/>
                        </a:lnTo>
                        <a:lnTo>
                          <a:pt x="42" y="79"/>
                        </a:lnTo>
                        <a:lnTo>
                          <a:pt x="61" y="72"/>
                        </a:lnTo>
                        <a:lnTo>
                          <a:pt x="77" y="60"/>
                        </a:lnTo>
                        <a:lnTo>
                          <a:pt x="90" y="49"/>
                        </a:lnTo>
                        <a:lnTo>
                          <a:pt x="101" y="34"/>
                        </a:lnTo>
                        <a:lnTo>
                          <a:pt x="107" y="17"/>
                        </a:lnTo>
                        <a:lnTo>
                          <a:pt x="110" y="0"/>
                        </a:lnTo>
                        <a:lnTo>
                          <a:pt x="110" y="0"/>
                        </a:lnTo>
                        <a:lnTo>
                          <a:pt x="9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"/>
                  <p:cNvSpPr/>
                  <p:nvPr/>
                </p:nvSpPr>
                <p:spPr>
                  <a:xfrm>
                    <a:off x="3979800" y="3868560"/>
                    <a:ext cx="156960" cy="147600"/>
                  </a:xfrm>
                  <a:custGeom>
                    <a:avLst/>
                    <a:gdLst/>
                    <a:ahLst/>
                    <a:rect l="l" t="t" r="r" b="b"/>
                    <a:pathLst>
                      <a:path w="110" h="88">
                        <a:moveTo>
                          <a:pt x="0" y="20"/>
                        </a:moveTo>
                        <a:lnTo>
                          <a:pt x="0" y="20"/>
                        </a:lnTo>
                        <a:lnTo>
                          <a:pt x="19" y="20"/>
                        </a:lnTo>
                        <a:lnTo>
                          <a:pt x="36" y="24"/>
                        </a:lnTo>
                        <a:lnTo>
                          <a:pt x="52" y="31"/>
                        </a:lnTo>
                        <a:lnTo>
                          <a:pt x="65" y="40"/>
                        </a:lnTo>
                        <a:lnTo>
                          <a:pt x="75" y="50"/>
                        </a:lnTo>
                        <a:lnTo>
                          <a:pt x="84" y="62"/>
                        </a:lnTo>
                        <a:lnTo>
                          <a:pt x="90" y="73"/>
                        </a:lnTo>
                        <a:lnTo>
                          <a:pt x="90" y="88"/>
                        </a:lnTo>
                        <a:lnTo>
                          <a:pt x="110" y="88"/>
                        </a:lnTo>
                        <a:lnTo>
                          <a:pt x="107" y="70"/>
                        </a:lnTo>
                        <a:lnTo>
                          <a:pt x="101" y="53"/>
                        </a:lnTo>
                        <a:lnTo>
                          <a:pt x="90" y="39"/>
                        </a:lnTo>
                        <a:lnTo>
                          <a:pt x="77" y="26"/>
                        </a:lnTo>
                        <a:lnTo>
                          <a:pt x="61" y="14"/>
                        </a:lnTo>
                        <a:lnTo>
                          <a:pt x="42" y="7"/>
                        </a:lnTo>
                        <a:lnTo>
                          <a:pt x="22" y="3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2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" name=""/>
                  <p:cNvSpPr/>
                  <p:nvPr/>
                </p:nvSpPr>
                <p:spPr>
                  <a:xfrm>
                    <a:off x="3821400" y="3868560"/>
                    <a:ext cx="158400" cy="147600"/>
                  </a:xfrm>
                  <a:custGeom>
                    <a:avLst/>
                    <a:gdLst/>
                    <a:ahLst/>
                    <a:rect l="l" t="t" r="r" b="b"/>
                    <a:pathLst>
                      <a:path w="111" h="88">
                        <a:moveTo>
                          <a:pt x="21" y="88"/>
                        </a:moveTo>
                        <a:lnTo>
                          <a:pt x="21" y="88"/>
                        </a:lnTo>
                        <a:lnTo>
                          <a:pt x="21" y="73"/>
                        </a:lnTo>
                        <a:lnTo>
                          <a:pt x="26" y="62"/>
                        </a:lnTo>
                        <a:lnTo>
                          <a:pt x="35" y="50"/>
                        </a:lnTo>
                        <a:lnTo>
                          <a:pt x="45" y="40"/>
                        </a:lnTo>
                        <a:lnTo>
                          <a:pt x="60" y="31"/>
                        </a:lnTo>
                        <a:lnTo>
                          <a:pt x="75" y="24"/>
                        </a:lnTo>
                        <a:lnTo>
                          <a:pt x="93" y="20"/>
                        </a:lnTo>
                        <a:lnTo>
                          <a:pt x="111" y="20"/>
                        </a:lnTo>
                        <a:lnTo>
                          <a:pt x="111" y="0"/>
                        </a:lnTo>
                        <a:lnTo>
                          <a:pt x="90" y="3"/>
                        </a:lnTo>
                        <a:lnTo>
                          <a:pt x="70" y="7"/>
                        </a:lnTo>
                        <a:lnTo>
                          <a:pt x="51" y="14"/>
                        </a:lnTo>
                        <a:lnTo>
                          <a:pt x="34" y="26"/>
                        </a:lnTo>
                        <a:lnTo>
                          <a:pt x="21" y="39"/>
                        </a:lnTo>
                        <a:lnTo>
                          <a:pt x="9" y="53"/>
                        </a:lnTo>
                        <a:lnTo>
                          <a:pt x="3" y="70"/>
                        </a:lnTo>
                        <a:lnTo>
                          <a:pt x="0" y="88"/>
                        </a:lnTo>
                        <a:lnTo>
                          <a:pt x="0" y="88"/>
                        </a:lnTo>
                        <a:lnTo>
                          <a:pt x="21" y="8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"/>
                  <p:cNvSpPr/>
                  <p:nvPr/>
                </p:nvSpPr>
                <p:spPr>
                  <a:xfrm>
                    <a:off x="3821400" y="4016520"/>
                    <a:ext cx="15840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111" h="86">
                        <a:moveTo>
                          <a:pt x="111" y="66"/>
                        </a:moveTo>
                        <a:lnTo>
                          <a:pt x="111" y="66"/>
                        </a:lnTo>
                        <a:lnTo>
                          <a:pt x="93" y="66"/>
                        </a:lnTo>
                        <a:lnTo>
                          <a:pt x="75" y="62"/>
                        </a:lnTo>
                        <a:lnTo>
                          <a:pt x="60" y="54"/>
                        </a:lnTo>
                        <a:lnTo>
                          <a:pt x="45" y="46"/>
                        </a:lnTo>
                        <a:lnTo>
                          <a:pt x="35" y="37"/>
                        </a:lnTo>
                        <a:lnTo>
                          <a:pt x="26" y="26"/>
                        </a:lnTo>
                        <a:lnTo>
                          <a:pt x="21" y="14"/>
                        </a:lnTo>
                        <a:lnTo>
                          <a:pt x="21" y="0"/>
                        </a:lnTo>
                        <a:lnTo>
                          <a:pt x="0" y="0"/>
                        </a:lnTo>
                        <a:lnTo>
                          <a:pt x="3" y="17"/>
                        </a:lnTo>
                        <a:lnTo>
                          <a:pt x="9" y="34"/>
                        </a:lnTo>
                        <a:lnTo>
                          <a:pt x="21" y="49"/>
                        </a:lnTo>
                        <a:lnTo>
                          <a:pt x="34" y="60"/>
                        </a:lnTo>
                        <a:lnTo>
                          <a:pt x="51" y="72"/>
                        </a:lnTo>
                        <a:lnTo>
                          <a:pt x="70" y="79"/>
                        </a:lnTo>
                        <a:lnTo>
                          <a:pt x="90" y="83"/>
                        </a:lnTo>
                        <a:lnTo>
                          <a:pt x="111" y="86"/>
                        </a:lnTo>
                        <a:lnTo>
                          <a:pt x="111" y="86"/>
                        </a:lnTo>
                        <a:lnTo>
                          <a:pt x="111" y="6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" name=""/>
                  <p:cNvSpPr/>
                  <p:nvPr/>
                </p:nvSpPr>
                <p:spPr>
                  <a:xfrm>
                    <a:off x="1213200" y="957960"/>
                    <a:ext cx="2460960" cy="2456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22" h="1461">
                        <a:moveTo>
                          <a:pt x="1465" y="479"/>
                        </a:moveTo>
                        <a:lnTo>
                          <a:pt x="1475" y="457"/>
                        </a:lnTo>
                        <a:lnTo>
                          <a:pt x="1488" y="440"/>
                        </a:lnTo>
                        <a:lnTo>
                          <a:pt x="1507" y="428"/>
                        </a:lnTo>
                        <a:lnTo>
                          <a:pt x="1525" y="421"/>
                        </a:lnTo>
                        <a:lnTo>
                          <a:pt x="1547" y="418"/>
                        </a:lnTo>
                        <a:lnTo>
                          <a:pt x="1567" y="418"/>
                        </a:lnTo>
                        <a:lnTo>
                          <a:pt x="1587" y="421"/>
                        </a:lnTo>
                        <a:lnTo>
                          <a:pt x="1606" y="427"/>
                        </a:lnTo>
                        <a:lnTo>
                          <a:pt x="1619" y="433"/>
                        </a:lnTo>
                        <a:lnTo>
                          <a:pt x="1632" y="440"/>
                        </a:lnTo>
                        <a:lnTo>
                          <a:pt x="1644" y="450"/>
                        </a:lnTo>
                        <a:lnTo>
                          <a:pt x="1655" y="460"/>
                        </a:lnTo>
                        <a:lnTo>
                          <a:pt x="1665" y="472"/>
                        </a:lnTo>
                        <a:lnTo>
                          <a:pt x="1675" y="483"/>
                        </a:lnTo>
                        <a:lnTo>
                          <a:pt x="1683" y="496"/>
                        </a:lnTo>
                        <a:lnTo>
                          <a:pt x="1690" y="509"/>
                        </a:lnTo>
                        <a:lnTo>
                          <a:pt x="1710" y="561"/>
                        </a:lnTo>
                        <a:lnTo>
                          <a:pt x="1720" y="613"/>
                        </a:lnTo>
                        <a:lnTo>
                          <a:pt x="1722" y="666"/>
                        </a:lnTo>
                        <a:lnTo>
                          <a:pt x="1713" y="717"/>
                        </a:lnTo>
                        <a:lnTo>
                          <a:pt x="1694" y="764"/>
                        </a:lnTo>
                        <a:lnTo>
                          <a:pt x="1665" y="808"/>
                        </a:lnTo>
                        <a:lnTo>
                          <a:pt x="1626" y="845"/>
                        </a:lnTo>
                        <a:lnTo>
                          <a:pt x="1577" y="875"/>
                        </a:lnTo>
                        <a:lnTo>
                          <a:pt x="1566" y="880"/>
                        </a:lnTo>
                        <a:lnTo>
                          <a:pt x="1554" y="884"/>
                        </a:lnTo>
                        <a:lnTo>
                          <a:pt x="1544" y="886"/>
                        </a:lnTo>
                        <a:lnTo>
                          <a:pt x="1534" y="886"/>
                        </a:lnTo>
                        <a:lnTo>
                          <a:pt x="1523" y="886"/>
                        </a:lnTo>
                        <a:lnTo>
                          <a:pt x="1512" y="883"/>
                        </a:lnTo>
                        <a:lnTo>
                          <a:pt x="1501" y="880"/>
                        </a:lnTo>
                        <a:lnTo>
                          <a:pt x="1489" y="874"/>
                        </a:lnTo>
                        <a:lnTo>
                          <a:pt x="1482" y="917"/>
                        </a:lnTo>
                        <a:lnTo>
                          <a:pt x="1472" y="962"/>
                        </a:lnTo>
                        <a:lnTo>
                          <a:pt x="1461" y="1004"/>
                        </a:lnTo>
                        <a:lnTo>
                          <a:pt x="1445" y="1046"/>
                        </a:lnTo>
                        <a:lnTo>
                          <a:pt x="1426" y="1087"/>
                        </a:lnTo>
                        <a:lnTo>
                          <a:pt x="1406" y="1126"/>
                        </a:lnTo>
                        <a:lnTo>
                          <a:pt x="1383" y="1165"/>
                        </a:lnTo>
                        <a:lnTo>
                          <a:pt x="1358" y="1201"/>
                        </a:lnTo>
                        <a:lnTo>
                          <a:pt x="1331" y="1237"/>
                        </a:lnTo>
                        <a:lnTo>
                          <a:pt x="1301" y="1269"/>
                        </a:lnTo>
                        <a:lnTo>
                          <a:pt x="1270" y="1299"/>
                        </a:lnTo>
                        <a:lnTo>
                          <a:pt x="1237" y="1328"/>
                        </a:lnTo>
                        <a:lnTo>
                          <a:pt x="1202" y="1353"/>
                        </a:lnTo>
                        <a:lnTo>
                          <a:pt x="1165" y="1376"/>
                        </a:lnTo>
                        <a:lnTo>
                          <a:pt x="1127" y="1396"/>
                        </a:lnTo>
                        <a:lnTo>
                          <a:pt x="1089" y="1412"/>
                        </a:lnTo>
                        <a:lnTo>
                          <a:pt x="1040" y="1428"/>
                        </a:lnTo>
                        <a:lnTo>
                          <a:pt x="991" y="1442"/>
                        </a:lnTo>
                        <a:lnTo>
                          <a:pt x="939" y="1451"/>
                        </a:lnTo>
                        <a:lnTo>
                          <a:pt x="887" y="1458"/>
                        </a:lnTo>
                        <a:lnTo>
                          <a:pt x="835" y="1461"/>
                        </a:lnTo>
                        <a:lnTo>
                          <a:pt x="783" y="1460"/>
                        </a:lnTo>
                        <a:lnTo>
                          <a:pt x="731" y="1452"/>
                        </a:lnTo>
                        <a:lnTo>
                          <a:pt x="679" y="1442"/>
                        </a:lnTo>
                        <a:lnTo>
                          <a:pt x="627" y="1425"/>
                        </a:lnTo>
                        <a:lnTo>
                          <a:pt x="578" y="1403"/>
                        </a:lnTo>
                        <a:lnTo>
                          <a:pt x="529" y="1376"/>
                        </a:lnTo>
                        <a:lnTo>
                          <a:pt x="483" y="1341"/>
                        </a:lnTo>
                        <a:lnTo>
                          <a:pt x="438" y="1301"/>
                        </a:lnTo>
                        <a:lnTo>
                          <a:pt x="396" y="1253"/>
                        </a:lnTo>
                        <a:lnTo>
                          <a:pt x="357" y="1197"/>
                        </a:lnTo>
                        <a:lnTo>
                          <a:pt x="321" y="1135"/>
                        </a:lnTo>
                        <a:lnTo>
                          <a:pt x="317" y="1134"/>
                        </a:lnTo>
                        <a:lnTo>
                          <a:pt x="310" y="1135"/>
                        </a:lnTo>
                        <a:lnTo>
                          <a:pt x="298" y="1138"/>
                        </a:lnTo>
                        <a:lnTo>
                          <a:pt x="283" y="1142"/>
                        </a:lnTo>
                        <a:lnTo>
                          <a:pt x="265" y="1148"/>
                        </a:lnTo>
                        <a:lnTo>
                          <a:pt x="245" y="1152"/>
                        </a:lnTo>
                        <a:lnTo>
                          <a:pt x="225" y="1158"/>
                        </a:lnTo>
                        <a:lnTo>
                          <a:pt x="202" y="1161"/>
                        </a:lnTo>
                        <a:lnTo>
                          <a:pt x="179" y="1164"/>
                        </a:lnTo>
                        <a:lnTo>
                          <a:pt x="156" y="1162"/>
                        </a:lnTo>
                        <a:lnTo>
                          <a:pt x="133" y="1160"/>
                        </a:lnTo>
                        <a:lnTo>
                          <a:pt x="109" y="1152"/>
                        </a:lnTo>
                        <a:lnTo>
                          <a:pt x="89" y="1141"/>
                        </a:lnTo>
                        <a:lnTo>
                          <a:pt x="71" y="1125"/>
                        </a:lnTo>
                        <a:lnTo>
                          <a:pt x="55" y="1105"/>
                        </a:lnTo>
                        <a:lnTo>
                          <a:pt x="42" y="1077"/>
                        </a:lnTo>
                        <a:lnTo>
                          <a:pt x="19" y="1008"/>
                        </a:lnTo>
                        <a:lnTo>
                          <a:pt x="4" y="945"/>
                        </a:lnTo>
                        <a:lnTo>
                          <a:pt x="0" y="890"/>
                        </a:lnTo>
                        <a:lnTo>
                          <a:pt x="7" y="847"/>
                        </a:lnTo>
                        <a:lnTo>
                          <a:pt x="27" y="815"/>
                        </a:lnTo>
                        <a:lnTo>
                          <a:pt x="60" y="795"/>
                        </a:lnTo>
                        <a:lnTo>
                          <a:pt x="111" y="790"/>
                        </a:lnTo>
                        <a:lnTo>
                          <a:pt x="177" y="802"/>
                        </a:lnTo>
                        <a:lnTo>
                          <a:pt x="176" y="795"/>
                        </a:lnTo>
                        <a:lnTo>
                          <a:pt x="174" y="772"/>
                        </a:lnTo>
                        <a:lnTo>
                          <a:pt x="171" y="737"/>
                        </a:lnTo>
                        <a:lnTo>
                          <a:pt x="170" y="692"/>
                        </a:lnTo>
                        <a:lnTo>
                          <a:pt x="171" y="638"/>
                        </a:lnTo>
                        <a:lnTo>
                          <a:pt x="174" y="577"/>
                        </a:lnTo>
                        <a:lnTo>
                          <a:pt x="183" y="512"/>
                        </a:lnTo>
                        <a:lnTo>
                          <a:pt x="196" y="444"/>
                        </a:lnTo>
                        <a:lnTo>
                          <a:pt x="215" y="375"/>
                        </a:lnTo>
                        <a:lnTo>
                          <a:pt x="241" y="306"/>
                        </a:lnTo>
                        <a:lnTo>
                          <a:pt x="277" y="241"/>
                        </a:lnTo>
                        <a:lnTo>
                          <a:pt x="320" y="180"/>
                        </a:lnTo>
                        <a:lnTo>
                          <a:pt x="375" y="127"/>
                        </a:lnTo>
                        <a:lnTo>
                          <a:pt x="441" y="82"/>
                        </a:lnTo>
                        <a:lnTo>
                          <a:pt x="519" y="48"/>
                        </a:lnTo>
                        <a:lnTo>
                          <a:pt x="611" y="26"/>
                        </a:lnTo>
                        <a:lnTo>
                          <a:pt x="618" y="25"/>
                        </a:lnTo>
                        <a:lnTo>
                          <a:pt x="642" y="19"/>
                        </a:lnTo>
                        <a:lnTo>
                          <a:pt x="675" y="13"/>
                        </a:lnTo>
                        <a:lnTo>
                          <a:pt x="721" y="7"/>
                        </a:lnTo>
                        <a:lnTo>
                          <a:pt x="774" y="3"/>
                        </a:lnTo>
                        <a:lnTo>
                          <a:pt x="835" y="0"/>
                        </a:lnTo>
                        <a:lnTo>
                          <a:pt x="903" y="2"/>
                        </a:lnTo>
                        <a:lnTo>
                          <a:pt x="972" y="9"/>
                        </a:lnTo>
                        <a:lnTo>
                          <a:pt x="1044" y="23"/>
                        </a:lnTo>
                        <a:lnTo>
                          <a:pt x="1116" y="45"/>
                        </a:lnTo>
                        <a:lnTo>
                          <a:pt x="1188" y="77"/>
                        </a:lnTo>
                        <a:lnTo>
                          <a:pt x="1254" y="120"/>
                        </a:lnTo>
                        <a:lnTo>
                          <a:pt x="1318" y="175"/>
                        </a:lnTo>
                        <a:lnTo>
                          <a:pt x="1373" y="244"/>
                        </a:lnTo>
                        <a:lnTo>
                          <a:pt x="1420" y="328"/>
                        </a:lnTo>
                        <a:lnTo>
                          <a:pt x="1456" y="427"/>
                        </a:lnTo>
                        <a:lnTo>
                          <a:pt x="1465" y="479"/>
                        </a:lnTo>
                        <a:close/>
                      </a:path>
                    </a:pathLst>
                  </a:custGeom>
                  <a:solidFill>
                    <a:srgbClr val="ffe5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" name=""/>
                  <p:cNvSpPr/>
                  <p:nvPr/>
                </p:nvSpPr>
                <p:spPr>
                  <a:xfrm>
                    <a:off x="3294000" y="1647360"/>
                    <a:ext cx="218160" cy="117720"/>
                  </a:xfrm>
                  <a:custGeom>
                    <a:avLst/>
                    <a:gdLst/>
                    <a:ahLst/>
                    <a:rect l="l" t="t" r="r" b="b"/>
                    <a:pathLst>
                      <a:path w="153" h="70">
                        <a:moveTo>
                          <a:pt x="153" y="8"/>
                        </a:moveTo>
                        <a:lnTo>
                          <a:pt x="153" y="8"/>
                        </a:lnTo>
                        <a:lnTo>
                          <a:pt x="133" y="3"/>
                        </a:lnTo>
                        <a:lnTo>
                          <a:pt x="111" y="0"/>
                        </a:lnTo>
                        <a:lnTo>
                          <a:pt x="91" y="0"/>
                        </a:lnTo>
                        <a:lnTo>
                          <a:pt x="68" y="3"/>
                        </a:lnTo>
                        <a:lnTo>
                          <a:pt x="46" y="10"/>
                        </a:lnTo>
                        <a:lnTo>
                          <a:pt x="26" y="23"/>
                        </a:lnTo>
                        <a:lnTo>
                          <a:pt x="10" y="43"/>
                        </a:lnTo>
                        <a:lnTo>
                          <a:pt x="0" y="67"/>
                        </a:lnTo>
                        <a:lnTo>
                          <a:pt x="18" y="70"/>
                        </a:lnTo>
                        <a:lnTo>
                          <a:pt x="28" y="52"/>
                        </a:lnTo>
                        <a:lnTo>
                          <a:pt x="38" y="37"/>
                        </a:lnTo>
                        <a:lnTo>
                          <a:pt x="55" y="27"/>
                        </a:lnTo>
                        <a:lnTo>
                          <a:pt x="71" y="20"/>
                        </a:lnTo>
                        <a:lnTo>
                          <a:pt x="91" y="17"/>
                        </a:lnTo>
                        <a:lnTo>
                          <a:pt x="111" y="17"/>
                        </a:lnTo>
                        <a:lnTo>
                          <a:pt x="130" y="20"/>
                        </a:lnTo>
                        <a:lnTo>
                          <a:pt x="147" y="26"/>
                        </a:lnTo>
                        <a:lnTo>
                          <a:pt x="147" y="26"/>
                        </a:lnTo>
                        <a:lnTo>
                          <a:pt x="153" y="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>
                    <a:off x="3503880" y="1661040"/>
                    <a:ext cx="13680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96">
                        <a:moveTo>
                          <a:pt x="96" y="87"/>
                        </a:moveTo>
                        <a:lnTo>
                          <a:pt x="96" y="88"/>
                        </a:lnTo>
                        <a:lnTo>
                          <a:pt x="88" y="74"/>
                        </a:lnTo>
                        <a:lnTo>
                          <a:pt x="80" y="59"/>
                        </a:lnTo>
                        <a:lnTo>
                          <a:pt x="70" y="48"/>
                        </a:lnTo>
                        <a:lnTo>
                          <a:pt x="58" y="36"/>
                        </a:lnTo>
                        <a:lnTo>
                          <a:pt x="46" y="25"/>
                        </a:lnTo>
                        <a:lnTo>
                          <a:pt x="35" y="15"/>
                        </a:lnTo>
                        <a:lnTo>
                          <a:pt x="21" y="6"/>
                        </a:lnTo>
                        <a:lnTo>
                          <a:pt x="6" y="0"/>
                        </a:lnTo>
                        <a:lnTo>
                          <a:pt x="0" y="18"/>
                        </a:lnTo>
                        <a:lnTo>
                          <a:pt x="12" y="23"/>
                        </a:lnTo>
                        <a:lnTo>
                          <a:pt x="23" y="29"/>
                        </a:lnTo>
                        <a:lnTo>
                          <a:pt x="35" y="39"/>
                        </a:lnTo>
                        <a:lnTo>
                          <a:pt x="46" y="48"/>
                        </a:lnTo>
                        <a:lnTo>
                          <a:pt x="55" y="59"/>
                        </a:lnTo>
                        <a:lnTo>
                          <a:pt x="65" y="71"/>
                        </a:lnTo>
                        <a:lnTo>
                          <a:pt x="71" y="83"/>
                        </a:lnTo>
                        <a:lnTo>
                          <a:pt x="78" y="94"/>
                        </a:lnTo>
                        <a:lnTo>
                          <a:pt x="78" y="96"/>
                        </a:lnTo>
                        <a:lnTo>
                          <a:pt x="96" y="8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>
                    <a:off x="3461040" y="1806840"/>
                    <a:ext cx="223920" cy="637200"/>
                  </a:xfrm>
                  <a:custGeom>
                    <a:avLst/>
                    <a:gdLst/>
                    <a:ahLst/>
                    <a:rect l="l" t="t" r="r" b="b"/>
                    <a:pathLst>
                      <a:path w="157" h="379">
                        <a:moveTo>
                          <a:pt x="7" y="379"/>
                        </a:moveTo>
                        <a:lnTo>
                          <a:pt x="9" y="379"/>
                        </a:lnTo>
                        <a:lnTo>
                          <a:pt x="59" y="347"/>
                        </a:lnTo>
                        <a:lnTo>
                          <a:pt x="100" y="308"/>
                        </a:lnTo>
                        <a:lnTo>
                          <a:pt x="130" y="264"/>
                        </a:lnTo>
                        <a:lnTo>
                          <a:pt x="149" y="213"/>
                        </a:lnTo>
                        <a:lnTo>
                          <a:pt x="157" y="161"/>
                        </a:lnTo>
                        <a:lnTo>
                          <a:pt x="156" y="108"/>
                        </a:lnTo>
                        <a:lnTo>
                          <a:pt x="146" y="55"/>
                        </a:lnTo>
                        <a:lnTo>
                          <a:pt x="126" y="0"/>
                        </a:lnTo>
                        <a:lnTo>
                          <a:pt x="108" y="9"/>
                        </a:lnTo>
                        <a:lnTo>
                          <a:pt x="128" y="58"/>
                        </a:lnTo>
                        <a:lnTo>
                          <a:pt x="138" y="108"/>
                        </a:lnTo>
                        <a:lnTo>
                          <a:pt x="140" y="161"/>
                        </a:lnTo>
                        <a:lnTo>
                          <a:pt x="131" y="210"/>
                        </a:lnTo>
                        <a:lnTo>
                          <a:pt x="113" y="255"/>
                        </a:lnTo>
                        <a:lnTo>
                          <a:pt x="85" y="297"/>
                        </a:lnTo>
                        <a:lnTo>
                          <a:pt x="48" y="333"/>
                        </a:lnTo>
                        <a:lnTo>
                          <a:pt x="0" y="362"/>
                        </a:lnTo>
                        <a:lnTo>
                          <a:pt x="1" y="362"/>
                        </a:lnTo>
                        <a:lnTo>
                          <a:pt x="7" y="37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" name=""/>
                  <p:cNvSpPr/>
                  <p:nvPr/>
                </p:nvSpPr>
                <p:spPr>
                  <a:xfrm>
                    <a:off x="3329640" y="2404080"/>
                    <a:ext cx="141120" cy="6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9" h="36">
                        <a:moveTo>
                          <a:pt x="17" y="14"/>
                        </a:moveTo>
                        <a:lnTo>
                          <a:pt x="4" y="23"/>
                        </a:lnTo>
                        <a:lnTo>
                          <a:pt x="17" y="28"/>
                        </a:lnTo>
                        <a:lnTo>
                          <a:pt x="30" y="31"/>
                        </a:lnTo>
                        <a:lnTo>
                          <a:pt x="42" y="34"/>
                        </a:lnTo>
                        <a:lnTo>
                          <a:pt x="53" y="36"/>
                        </a:lnTo>
                        <a:lnTo>
                          <a:pt x="63" y="34"/>
                        </a:lnTo>
                        <a:lnTo>
                          <a:pt x="75" y="33"/>
                        </a:lnTo>
                        <a:lnTo>
                          <a:pt x="88" y="28"/>
                        </a:lnTo>
                        <a:lnTo>
                          <a:pt x="99" y="24"/>
                        </a:lnTo>
                        <a:lnTo>
                          <a:pt x="93" y="7"/>
                        </a:lnTo>
                        <a:lnTo>
                          <a:pt x="82" y="11"/>
                        </a:lnTo>
                        <a:lnTo>
                          <a:pt x="72" y="15"/>
                        </a:lnTo>
                        <a:lnTo>
                          <a:pt x="63" y="17"/>
                        </a:lnTo>
                        <a:lnTo>
                          <a:pt x="53" y="15"/>
                        </a:lnTo>
                        <a:lnTo>
                          <a:pt x="42" y="17"/>
                        </a:lnTo>
                        <a:lnTo>
                          <a:pt x="33" y="14"/>
                        </a:lnTo>
                        <a:lnTo>
                          <a:pt x="23" y="11"/>
                        </a:lnTo>
                        <a:lnTo>
                          <a:pt x="13" y="5"/>
                        </a:lnTo>
                        <a:lnTo>
                          <a:pt x="0" y="14"/>
                        </a:lnTo>
                        <a:lnTo>
                          <a:pt x="13" y="5"/>
                        </a:lnTo>
                        <a:lnTo>
                          <a:pt x="1" y="0"/>
                        </a:lnTo>
                        <a:lnTo>
                          <a:pt x="0" y="14"/>
                        </a:lnTo>
                        <a:lnTo>
                          <a:pt x="17" y="1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" name=""/>
                  <p:cNvSpPr/>
                  <p:nvPr/>
                </p:nvSpPr>
                <p:spPr>
                  <a:xfrm>
                    <a:off x="2765160" y="2427840"/>
                    <a:ext cx="588600" cy="9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412" h="547">
                        <a:moveTo>
                          <a:pt x="5" y="547"/>
                        </a:moveTo>
                        <a:lnTo>
                          <a:pt x="5" y="547"/>
                        </a:lnTo>
                        <a:lnTo>
                          <a:pt x="44" y="531"/>
                        </a:lnTo>
                        <a:lnTo>
                          <a:pt x="83" y="511"/>
                        </a:lnTo>
                        <a:lnTo>
                          <a:pt x="121" y="486"/>
                        </a:lnTo>
                        <a:lnTo>
                          <a:pt x="157" y="462"/>
                        </a:lnTo>
                        <a:lnTo>
                          <a:pt x="190" y="433"/>
                        </a:lnTo>
                        <a:lnTo>
                          <a:pt x="222" y="401"/>
                        </a:lnTo>
                        <a:lnTo>
                          <a:pt x="252" y="369"/>
                        </a:lnTo>
                        <a:lnTo>
                          <a:pt x="279" y="333"/>
                        </a:lnTo>
                        <a:lnTo>
                          <a:pt x="304" y="296"/>
                        </a:lnTo>
                        <a:lnTo>
                          <a:pt x="328" y="257"/>
                        </a:lnTo>
                        <a:lnTo>
                          <a:pt x="349" y="218"/>
                        </a:lnTo>
                        <a:lnTo>
                          <a:pt x="367" y="175"/>
                        </a:lnTo>
                        <a:lnTo>
                          <a:pt x="383" y="133"/>
                        </a:lnTo>
                        <a:lnTo>
                          <a:pt x="395" y="89"/>
                        </a:lnTo>
                        <a:lnTo>
                          <a:pt x="405" y="45"/>
                        </a:lnTo>
                        <a:lnTo>
                          <a:pt x="412" y="0"/>
                        </a:lnTo>
                        <a:lnTo>
                          <a:pt x="395" y="0"/>
                        </a:lnTo>
                        <a:lnTo>
                          <a:pt x="388" y="42"/>
                        </a:lnTo>
                        <a:lnTo>
                          <a:pt x="377" y="87"/>
                        </a:lnTo>
                        <a:lnTo>
                          <a:pt x="366" y="127"/>
                        </a:lnTo>
                        <a:lnTo>
                          <a:pt x="350" y="169"/>
                        </a:lnTo>
                        <a:lnTo>
                          <a:pt x="331" y="209"/>
                        </a:lnTo>
                        <a:lnTo>
                          <a:pt x="311" y="248"/>
                        </a:lnTo>
                        <a:lnTo>
                          <a:pt x="290" y="287"/>
                        </a:lnTo>
                        <a:lnTo>
                          <a:pt x="265" y="322"/>
                        </a:lnTo>
                        <a:lnTo>
                          <a:pt x="238" y="358"/>
                        </a:lnTo>
                        <a:lnTo>
                          <a:pt x="207" y="389"/>
                        </a:lnTo>
                        <a:lnTo>
                          <a:pt x="178" y="418"/>
                        </a:lnTo>
                        <a:lnTo>
                          <a:pt x="145" y="447"/>
                        </a:lnTo>
                        <a:lnTo>
                          <a:pt x="112" y="472"/>
                        </a:lnTo>
                        <a:lnTo>
                          <a:pt x="75" y="493"/>
                        </a:lnTo>
                        <a:lnTo>
                          <a:pt x="39" y="513"/>
                        </a:lnTo>
                        <a:lnTo>
                          <a:pt x="0" y="529"/>
                        </a:lnTo>
                        <a:lnTo>
                          <a:pt x="0" y="529"/>
                        </a:lnTo>
                        <a:lnTo>
                          <a:pt x="5" y="54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" name=""/>
                  <p:cNvSpPr/>
                  <p:nvPr/>
                </p:nvSpPr>
                <p:spPr>
                  <a:xfrm>
                    <a:off x="1660320" y="2859480"/>
                    <a:ext cx="1111680" cy="57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78" h="340">
                        <a:moveTo>
                          <a:pt x="0" y="8"/>
                        </a:moveTo>
                        <a:lnTo>
                          <a:pt x="0" y="8"/>
                        </a:lnTo>
                        <a:lnTo>
                          <a:pt x="37" y="70"/>
                        </a:lnTo>
                        <a:lnTo>
                          <a:pt x="76" y="128"/>
                        </a:lnTo>
                        <a:lnTo>
                          <a:pt x="119" y="176"/>
                        </a:lnTo>
                        <a:lnTo>
                          <a:pt x="164" y="217"/>
                        </a:lnTo>
                        <a:lnTo>
                          <a:pt x="212" y="252"/>
                        </a:lnTo>
                        <a:lnTo>
                          <a:pt x="261" y="281"/>
                        </a:lnTo>
                        <a:lnTo>
                          <a:pt x="311" y="303"/>
                        </a:lnTo>
                        <a:lnTo>
                          <a:pt x="365" y="320"/>
                        </a:lnTo>
                        <a:lnTo>
                          <a:pt x="417" y="330"/>
                        </a:lnTo>
                        <a:lnTo>
                          <a:pt x="470" y="337"/>
                        </a:lnTo>
                        <a:lnTo>
                          <a:pt x="522" y="340"/>
                        </a:lnTo>
                        <a:lnTo>
                          <a:pt x="574" y="336"/>
                        </a:lnTo>
                        <a:lnTo>
                          <a:pt x="627" y="329"/>
                        </a:lnTo>
                        <a:lnTo>
                          <a:pt x="679" y="320"/>
                        </a:lnTo>
                        <a:lnTo>
                          <a:pt x="729" y="305"/>
                        </a:lnTo>
                        <a:lnTo>
                          <a:pt x="778" y="290"/>
                        </a:lnTo>
                        <a:lnTo>
                          <a:pt x="773" y="272"/>
                        </a:lnTo>
                        <a:lnTo>
                          <a:pt x="724" y="288"/>
                        </a:lnTo>
                        <a:lnTo>
                          <a:pt x="676" y="303"/>
                        </a:lnTo>
                        <a:lnTo>
                          <a:pt x="624" y="311"/>
                        </a:lnTo>
                        <a:lnTo>
                          <a:pt x="574" y="318"/>
                        </a:lnTo>
                        <a:lnTo>
                          <a:pt x="522" y="320"/>
                        </a:lnTo>
                        <a:lnTo>
                          <a:pt x="470" y="320"/>
                        </a:lnTo>
                        <a:lnTo>
                          <a:pt x="419" y="313"/>
                        </a:lnTo>
                        <a:lnTo>
                          <a:pt x="367" y="303"/>
                        </a:lnTo>
                        <a:lnTo>
                          <a:pt x="317" y="285"/>
                        </a:lnTo>
                        <a:lnTo>
                          <a:pt x="269" y="264"/>
                        </a:lnTo>
                        <a:lnTo>
                          <a:pt x="220" y="238"/>
                        </a:lnTo>
                        <a:lnTo>
                          <a:pt x="176" y="203"/>
                        </a:lnTo>
                        <a:lnTo>
                          <a:pt x="131" y="164"/>
                        </a:lnTo>
                        <a:lnTo>
                          <a:pt x="91" y="117"/>
                        </a:lnTo>
                        <a:lnTo>
                          <a:pt x="52" y="62"/>
                        </a:lnTo>
                        <a:lnTo>
                          <a:pt x="17" y="0"/>
                        </a:lnTo>
                        <a:lnTo>
                          <a:pt x="17" y="0"/>
                        </a:lnTo>
                        <a:lnTo>
                          <a:pt x="0" y="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1260360" y="2764080"/>
                    <a:ext cx="424080" cy="167400"/>
                  </a:xfrm>
                  <a:custGeom>
                    <a:avLst/>
                    <a:gdLst/>
                    <a:ahLst/>
                    <a:rect l="l" t="t" r="r" b="b"/>
                    <a:pathLst>
                      <a:path w="297" h="100">
                        <a:moveTo>
                          <a:pt x="0" y="6"/>
                        </a:moveTo>
                        <a:lnTo>
                          <a:pt x="0" y="6"/>
                        </a:lnTo>
                        <a:lnTo>
                          <a:pt x="14" y="35"/>
                        </a:lnTo>
                        <a:lnTo>
                          <a:pt x="30" y="57"/>
                        </a:lnTo>
                        <a:lnTo>
                          <a:pt x="51" y="74"/>
                        </a:lnTo>
                        <a:lnTo>
                          <a:pt x="74" y="87"/>
                        </a:lnTo>
                        <a:lnTo>
                          <a:pt x="98" y="94"/>
                        </a:lnTo>
                        <a:lnTo>
                          <a:pt x="123" y="97"/>
                        </a:lnTo>
                        <a:lnTo>
                          <a:pt x="146" y="100"/>
                        </a:lnTo>
                        <a:lnTo>
                          <a:pt x="169" y="96"/>
                        </a:lnTo>
                        <a:lnTo>
                          <a:pt x="193" y="93"/>
                        </a:lnTo>
                        <a:lnTo>
                          <a:pt x="213" y="87"/>
                        </a:lnTo>
                        <a:lnTo>
                          <a:pt x="234" y="83"/>
                        </a:lnTo>
                        <a:lnTo>
                          <a:pt x="252" y="77"/>
                        </a:lnTo>
                        <a:lnTo>
                          <a:pt x="267" y="73"/>
                        </a:lnTo>
                        <a:lnTo>
                          <a:pt x="278" y="70"/>
                        </a:lnTo>
                        <a:lnTo>
                          <a:pt x="284" y="70"/>
                        </a:lnTo>
                        <a:lnTo>
                          <a:pt x="280" y="65"/>
                        </a:lnTo>
                        <a:lnTo>
                          <a:pt x="297" y="57"/>
                        </a:lnTo>
                        <a:lnTo>
                          <a:pt x="284" y="50"/>
                        </a:lnTo>
                        <a:lnTo>
                          <a:pt x="275" y="52"/>
                        </a:lnTo>
                        <a:lnTo>
                          <a:pt x="264" y="55"/>
                        </a:lnTo>
                        <a:lnTo>
                          <a:pt x="247" y="60"/>
                        </a:lnTo>
                        <a:lnTo>
                          <a:pt x="231" y="65"/>
                        </a:lnTo>
                        <a:lnTo>
                          <a:pt x="211" y="70"/>
                        </a:lnTo>
                        <a:lnTo>
                          <a:pt x="190" y="75"/>
                        </a:lnTo>
                        <a:lnTo>
                          <a:pt x="169" y="78"/>
                        </a:lnTo>
                        <a:lnTo>
                          <a:pt x="146" y="80"/>
                        </a:lnTo>
                        <a:lnTo>
                          <a:pt x="123" y="80"/>
                        </a:lnTo>
                        <a:lnTo>
                          <a:pt x="101" y="77"/>
                        </a:lnTo>
                        <a:lnTo>
                          <a:pt x="79" y="70"/>
                        </a:lnTo>
                        <a:lnTo>
                          <a:pt x="62" y="60"/>
                        </a:lnTo>
                        <a:lnTo>
                          <a:pt x="45" y="45"/>
                        </a:lnTo>
                        <a:lnTo>
                          <a:pt x="29" y="26"/>
                        </a:lnTo>
                        <a:lnTo>
                          <a:pt x="17" y="0"/>
                        </a:lnTo>
                        <a:lnTo>
                          <a:pt x="17" y="0"/>
                        </a:lnTo>
                        <a:lnTo>
                          <a:pt x="0" y="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1198800" y="2273040"/>
                    <a:ext cx="279720" cy="500760"/>
                  </a:xfrm>
                  <a:custGeom>
                    <a:avLst/>
                    <a:gdLst/>
                    <a:ahLst/>
                    <a:rect l="l" t="t" r="r" b="b"/>
                    <a:pathLst>
                      <a:path w="196" h="298">
                        <a:moveTo>
                          <a:pt x="179" y="20"/>
                        </a:moveTo>
                        <a:lnTo>
                          <a:pt x="189" y="11"/>
                        </a:lnTo>
                        <a:lnTo>
                          <a:pt x="121" y="0"/>
                        </a:lnTo>
                        <a:lnTo>
                          <a:pt x="69" y="4"/>
                        </a:lnTo>
                        <a:lnTo>
                          <a:pt x="32" y="26"/>
                        </a:lnTo>
                        <a:lnTo>
                          <a:pt x="8" y="62"/>
                        </a:lnTo>
                        <a:lnTo>
                          <a:pt x="0" y="108"/>
                        </a:lnTo>
                        <a:lnTo>
                          <a:pt x="6" y="164"/>
                        </a:lnTo>
                        <a:lnTo>
                          <a:pt x="20" y="228"/>
                        </a:lnTo>
                        <a:lnTo>
                          <a:pt x="43" y="298"/>
                        </a:lnTo>
                        <a:lnTo>
                          <a:pt x="60" y="292"/>
                        </a:lnTo>
                        <a:lnTo>
                          <a:pt x="37" y="225"/>
                        </a:lnTo>
                        <a:lnTo>
                          <a:pt x="23" y="161"/>
                        </a:lnTo>
                        <a:lnTo>
                          <a:pt x="20" y="108"/>
                        </a:lnTo>
                        <a:lnTo>
                          <a:pt x="26" y="68"/>
                        </a:lnTo>
                        <a:lnTo>
                          <a:pt x="43" y="40"/>
                        </a:lnTo>
                        <a:lnTo>
                          <a:pt x="72" y="21"/>
                        </a:lnTo>
                        <a:lnTo>
                          <a:pt x="121" y="17"/>
                        </a:lnTo>
                        <a:lnTo>
                          <a:pt x="186" y="29"/>
                        </a:lnTo>
                        <a:lnTo>
                          <a:pt x="196" y="20"/>
                        </a:lnTo>
                        <a:lnTo>
                          <a:pt x="179" y="2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" name=""/>
                  <p:cNvSpPr/>
                  <p:nvPr/>
                </p:nvSpPr>
                <p:spPr>
                  <a:xfrm>
                    <a:off x="1441800" y="986400"/>
                    <a:ext cx="646920" cy="1319760"/>
                  </a:xfrm>
                  <a:custGeom>
                    <a:avLst/>
                    <a:gdLst/>
                    <a:ahLst/>
                    <a:rect l="l" t="t" r="r" b="b"/>
                    <a:pathLst>
                      <a:path w="453" h="785">
                        <a:moveTo>
                          <a:pt x="450" y="0"/>
                        </a:moveTo>
                        <a:lnTo>
                          <a:pt x="450" y="0"/>
                        </a:lnTo>
                        <a:lnTo>
                          <a:pt x="356" y="22"/>
                        </a:lnTo>
                        <a:lnTo>
                          <a:pt x="277" y="57"/>
                        </a:lnTo>
                        <a:lnTo>
                          <a:pt x="209" y="103"/>
                        </a:lnTo>
                        <a:lnTo>
                          <a:pt x="153" y="158"/>
                        </a:lnTo>
                        <a:lnTo>
                          <a:pt x="110" y="220"/>
                        </a:lnTo>
                        <a:lnTo>
                          <a:pt x="72" y="286"/>
                        </a:lnTo>
                        <a:lnTo>
                          <a:pt x="46" y="355"/>
                        </a:lnTo>
                        <a:lnTo>
                          <a:pt x="27" y="426"/>
                        </a:lnTo>
                        <a:lnTo>
                          <a:pt x="14" y="494"/>
                        </a:lnTo>
                        <a:lnTo>
                          <a:pt x="6" y="560"/>
                        </a:lnTo>
                        <a:lnTo>
                          <a:pt x="3" y="621"/>
                        </a:lnTo>
                        <a:lnTo>
                          <a:pt x="0" y="675"/>
                        </a:lnTo>
                        <a:lnTo>
                          <a:pt x="3" y="720"/>
                        </a:lnTo>
                        <a:lnTo>
                          <a:pt x="6" y="755"/>
                        </a:lnTo>
                        <a:lnTo>
                          <a:pt x="7" y="778"/>
                        </a:lnTo>
                        <a:lnTo>
                          <a:pt x="9" y="785"/>
                        </a:lnTo>
                        <a:lnTo>
                          <a:pt x="26" y="785"/>
                        </a:lnTo>
                        <a:lnTo>
                          <a:pt x="24" y="778"/>
                        </a:lnTo>
                        <a:lnTo>
                          <a:pt x="23" y="755"/>
                        </a:lnTo>
                        <a:lnTo>
                          <a:pt x="20" y="720"/>
                        </a:lnTo>
                        <a:lnTo>
                          <a:pt x="20" y="675"/>
                        </a:lnTo>
                        <a:lnTo>
                          <a:pt x="20" y="621"/>
                        </a:lnTo>
                        <a:lnTo>
                          <a:pt x="23" y="560"/>
                        </a:lnTo>
                        <a:lnTo>
                          <a:pt x="32" y="497"/>
                        </a:lnTo>
                        <a:lnTo>
                          <a:pt x="45" y="429"/>
                        </a:lnTo>
                        <a:lnTo>
                          <a:pt x="63" y="361"/>
                        </a:lnTo>
                        <a:lnTo>
                          <a:pt x="89" y="292"/>
                        </a:lnTo>
                        <a:lnTo>
                          <a:pt x="124" y="228"/>
                        </a:lnTo>
                        <a:lnTo>
                          <a:pt x="167" y="169"/>
                        </a:lnTo>
                        <a:lnTo>
                          <a:pt x="221" y="117"/>
                        </a:lnTo>
                        <a:lnTo>
                          <a:pt x="285" y="74"/>
                        </a:lnTo>
                        <a:lnTo>
                          <a:pt x="362" y="39"/>
                        </a:lnTo>
                        <a:lnTo>
                          <a:pt x="453" y="18"/>
                        </a:lnTo>
                        <a:lnTo>
                          <a:pt x="453" y="18"/>
                        </a:lnTo>
                        <a:lnTo>
                          <a:pt x="45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"/>
                  <p:cNvSpPr/>
                  <p:nvPr/>
                </p:nvSpPr>
                <p:spPr>
                  <a:xfrm>
                    <a:off x="2084760" y="941040"/>
                    <a:ext cx="1221480" cy="73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55" h="438">
                        <a:moveTo>
                          <a:pt x="855" y="436"/>
                        </a:moveTo>
                        <a:lnTo>
                          <a:pt x="855" y="436"/>
                        </a:lnTo>
                        <a:lnTo>
                          <a:pt x="819" y="335"/>
                        </a:lnTo>
                        <a:lnTo>
                          <a:pt x="770" y="250"/>
                        </a:lnTo>
                        <a:lnTo>
                          <a:pt x="715" y="179"/>
                        </a:lnTo>
                        <a:lnTo>
                          <a:pt x="650" y="123"/>
                        </a:lnTo>
                        <a:lnTo>
                          <a:pt x="582" y="78"/>
                        </a:lnTo>
                        <a:lnTo>
                          <a:pt x="509" y="46"/>
                        </a:lnTo>
                        <a:lnTo>
                          <a:pt x="435" y="25"/>
                        </a:lnTo>
                        <a:lnTo>
                          <a:pt x="363" y="10"/>
                        </a:lnTo>
                        <a:lnTo>
                          <a:pt x="293" y="3"/>
                        </a:lnTo>
                        <a:lnTo>
                          <a:pt x="225" y="0"/>
                        </a:lnTo>
                        <a:lnTo>
                          <a:pt x="164" y="4"/>
                        </a:lnTo>
                        <a:lnTo>
                          <a:pt x="111" y="9"/>
                        </a:lnTo>
                        <a:lnTo>
                          <a:pt x="65" y="15"/>
                        </a:lnTo>
                        <a:lnTo>
                          <a:pt x="30" y="20"/>
                        </a:lnTo>
                        <a:lnTo>
                          <a:pt x="7" y="26"/>
                        </a:lnTo>
                        <a:lnTo>
                          <a:pt x="0" y="27"/>
                        </a:lnTo>
                        <a:lnTo>
                          <a:pt x="3" y="45"/>
                        </a:lnTo>
                        <a:lnTo>
                          <a:pt x="10" y="43"/>
                        </a:lnTo>
                        <a:lnTo>
                          <a:pt x="33" y="38"/>
                        </a:lnTo>
                        <a:lnTo>
                          <a:pt x="65" y="32"/>
                        </a:lnTo>
                        <a:lnTo>
                          <a:pt x="111" y="26"/>
                        </a:lnTo>
                        <a:lnTo>
                          <a:pt x="164" y="22"/>
                        </a:lnTo>
                        <a:lnTo>
                          <a:pt x="225" y="20"/>
                        </a:lnTo>
                        <a:lnTo>
                          <a:pt x="293" y="20"/>
                        </a:lnTo>
                        <a:lnTo>
                          <a:pt x="360" y="27"/>
                        </a:lnTo>
                        <a:lnTo>
                          <a:pt x="432" y="42"/>
                        </a:lnTo>
                        <a:lnTo>
                          <a:pt x="503" y="64"/>
                        </a:lnTo>
                        <a:lnTo>
                          <a:pt x="574" y="95"/>
                        </a:lnTo>
                        <a:lnTo>
                          <a:pt x="639" y="137"/>
                        </a:lnTo>
                        <a:lnTo>
                          <a:pt x="701" y="190"/>
                        </a:lnTo>
                        <a:lnTo>
                          <a:pt x="755" y="258"/>
                        </a:lnTo>
                        <a:lnTo>
                          <a:pt x="802" y="340"/>
                        </a:lnTo>
                        <a:lnTo>
                          <a:pt x="838" y="438"/>
                        </a:lnTo>
                        <a:lnTo>
                          <a:pt x="838" y="438"/>
                        </a:lnTo>
                        <a:lnTo>
                          <a:pt x="855" y="43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>
                    <a:off x="3282480" y="1674360"/>
                    <a:ext cx="3708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96">
                        <a:moveTo>
                          <a:pt x="8" y="51"/>
                        </a:moveTo>
                        <a:lnTo>
                          <a:pt x="26" y="51"/>
                        </a:lnTo>
                        <a:lnTo>
                          <a:pt x="17" y="0"/>
                        </a:lnTo>
                        <a:lnTo>
                          <a:pt x="0" y="2"/>
                        </a:lnTo>
                        <a:lnTo>
                          <a:pt x="8" y="54"/>
                        </a:lnTo>
                        <a:lnTo>
                          <a:pt x="26" y="54"/>
                        </a:lnTo>
                        <a:lnTo>
                          <a:pt x="8" y="54"/>
                        </a:lnTo>
                        <a:lnTo>
                          <a:pt x="15" y="96"/>
                        </a:lnTo>
                        <a:lnTo>
                          <a:pt x="26" y="54"/>
                        </a:lnTo>
                        <a:lnTo>
                          <a:pt x="8" y="5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" name=""/>
                  <p:cNvSpPr/>
                  <p:nvPr/>
                </p:nvSpPr>
                <p:spPr>
                  <a:xfrm>
                    <a:off x="2197800" y="2157120"/>
                    <a:ext cx="372960" cy="711000"/>
                  </a:xfrm>
                  <a:custGeom>
                    <a:avLst/>
                    <a:gdLst/>
                    <a:ahLst/>
                    <a:rect l="l" t="t" r="r" b="b"/>
                    <a:pathLst>
                      <a:path w="261" h="423">
                        <a:moveTo>
                          <a:pt x="101" y="0"/>
                        </a:moveTo>
                        <a:lnTo>
                          <a:pt x="97" y="43"/>
                        </a:lnTo>
                        <a:lnTo>
                          <a:pt x="82" y="89"/>
                        </a:lnTo>
                        <a:lnTo>
                          <a:pt x="62" y="135"/>
                        </a:lnTo>
                        <a:lnTo>
                          <a:pt x="39" y="183"/>
                        </a:lnTo>
                        <a:lnTo>
                          <a:pt x="19" y="230"/>
                        </a:lnTo>
                        <a:lnTo>
                          <a:pt x="4" y="276"/>
                        </a:lnTo>
                        <a:lnTo>
                          <a:pt x="0" y="321"/>
                        </a:lnTo>
                        <a:lnTo>
                          <a:pt x="12" y="363"/>
                        </a:lnTo>
                        <a:lnTo>
                          <a:pt x="25" y="386"/>
                        </a:lnTo>
                        <a:lnTo>
                          <a:pt x="39" y="403"/>
                        </a:lnTo>
                        <a:lnTo>
                          <a:pt x="55" y="415"/>
                        </a:lnTo>
                        <a:lnTo>
                          <a:pt x="72" y="422"/>
                        </a:lnTo>
                        <a:lnTo>
                          <a:pt x="90" y="423"/>
                        </a:lnTo>
                        <a:lnTo>
                          <a:pt x="107" y="422"/>
                        </a:lnTo>
                        <a:lnTo>
                          <a:pt x="126" y="418"/>
                        </a:lnTo>
                        <a:lnTo>
                          <a:pt x="144" y="409"/>
                        </a:lnTo>
                        <a:lnTo>
                          <a:pt x="162" y="398"/>
                        </a:lnTo>
                        <a:lnTo>
                          <a:pt x="180" y="385"/>
                        </a:lnTo>
                        <a:lnTo>
                          <a:pt x="196" y="370"/>
                        </a:lnTo>
                        <a:lnTo>
                          <a:pt x="212" y="353"/>
                        </a:lnTo>
                        <a:lnTo>
                          <a:pt x="227" y="336"/>
                        </a:lnTo>
                        <a:lnTo>
                          <a:pt x="241" y="318"/>
                        </a:lnTo>
                        <a:lnTo>
                          <a:pt x="251" y="299"/>
                        </a:lnTo>
                        <a:lnTo>
                          <a:pt x="261" y="282"/>
                        </a:lnTo>
                        <a:lnTo>
                          <a:pt x="101" y="0"/>
                        </a:lnTo>
                        <a:close/>
                      </a:path>
                    </a:pathLst>
                  </a:custGeom>
                  <a:solidFill>
                    <a:srgbClr val="ffe5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" name=""/>
                  <p:cNvSpPr/>
                  <p:nvPr/>
                </p:nvSpPr>
                <p:spPr>
                  <a:xfrm>
                    <a:off x="2184840" y="2157120"/>
                    <a:ext cx="169560" cy="615240"/>
                  </a:xfrm>
                  <a:custGeom>
                    <a:avLst/>
                    <a:gdLst/>
                    <a:ahLst/>
                    <a:rect l="l" t="t" r="r" b="b"/>
                    <a:pathLst>
                      <a:path w="119" h="366">
                        <a:moveTo>
                          <a:pt x="29" y="360"/>
                        </a:moveTo>
                        <a:lnTo>
                          <a:pt x="29" y="360"/>
                        </a:lnTo>
                        <a:lnTo>
                          <a:pt x="18" y="321"/>
                        </a:lnTo>
                        <a:lnTo>
                          <a:pt x="22" y="278"/>
                        </a:lnTo>
                        <a:lnTo>
                          <a:pt x="37" y="233"/>
                        </a:lnTo>
                        <a:lnTo>
                          <a:pt x="57" y="186"/>
                        </a:lnTo>
                        <a:lnTo>
                          <a:pt x="80" y="138"/>
                        </a:lnTo>
                        <a:lnTo>
                          <a:pt x="100" y="92"/>
                        </a:lnTo>
                        <a:lnTo>
                          <a:pt x="114" y="44"/>
                        </a:lnTo>
                        <a:lnTo>
                          <a:pt x="119" y="0"/>
                        </a:lnTo>
                        <a:lnTo>
                          <a:pt x="101" y="0"/>
                        </a:lnTo>
                        <a:lnTo>
                          <a:pt x="97" y="41"/>
                        </a:lnTo>
                        <a:lnTo>
                          <a:pt x="83" y="86"/>
                        </a:lnTo>
                        <a:lnTo>
                          <a:pt x="62" y="132"/>
                        </a:lnTo>
                        <a:lnTo>
                          <a:pt x="39" y="180"/>
                        </a:lnTo>
                        <a:lnTo>
                          <a:pt x="19" y="227"/>
                        </a:lnTo>
                        <a:lnTo>
                          <a:pt x="5" y="275"/>
                        </a:lnTo>
                        <a:lnTo>
                          <a:pt x="0" y="321"/>
                        </a:lnTo>
                        <a:lnTo>
                          <a:pt x="12" y="366"/>
                        </a:lnTo>
                        <a:lnTo>
                          <a:pt x="12" y="366"/>
                        </a:lnTo>
                        <a:lnTo>
                          <a:pt x="29" y="36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"/>
                  <p:cNvSpPr/>
                  <p:nvPr/>
                </p:nvSpPr>
                <p:spPr>
                  <a:xfrm>
                    <a:off x="2202120" y="2624040"/>
                    <a:ext cx="381240" cy="26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67" h="156">
                        <a:moveTo>
                          <a:pt x="249" y="0"/>
                        </a:moveTo>
                        <a:lnTo>
                          <a:pt x="239" y="17"/>
                        </a:lnTo>
                        <a:lnTo>
                          <a:pt x="231" y="36"/>
                        </a:lnTo>
                        <a:lnTo>
                          <a:pt x="216" y="52"/>
                        </a:lnTo>
                        <a:lnTo>
                          <a:pt x="202" y="69"/>
                        </a:lnTo>
                        <a:lnTo>
                          <a:pt x="187" y="86"/>
                        </a:lnTo>
                        <a:lnTo>
                          <a:pt x="172" y="99"/>
                        </a:lnTo>
                        <a:lnTo>
                          <a:pt x="154" y="112"/>
                        </a:lnTo>
                        <a:lnTo>
                          <a:pt x="137" y="122"/>
                        </a:lnTo>
                        <a:lnTo>
                          <a:pt x="120" y="131"/>
                        </a:lnTo>
                        <a:lnTo>
                          <a:pt x="102" y="135"/>
                        </a:lnTo>
                        <a:lnTo>
                          <a:pt x="87" y="135"/>
                        </a:lnTo>
                        <a:lnTo>
                          <a:pt x="71" y="135"/>
                        </a:lnTo>
                        <a:lnTo>
                          <a:pt x="56" y="128"/>
                        </a:lnTo>
                        <a:lnTo>
                          <a:pt x="42" y="118"/>
                        </a:lnTo>
                        <a:lnTo>
                          <a:pt x="29" y="104"/>
                        </a:lnTo>
                        <a:lnTo>
                          <a:pt x="17" y="82"/>
                        </a:lnTo>
                        <a:lnTo>
                          <a:pt x="0" y="88"/>
                        </a:lnTo>
                        <a:lnTo>
                          <a:pt x="14" y="112"/>
                        </a:lnTo>
                        <a:lnTo>
                          <a:pt x="30" y="133"/>
                        </a:lnTo>
                        <a:lnTo>
                          <a:pt x="48" y="145"/>
                        </a:lnTo>
                        <a:lnTo>
                          <a:pt x="68" y="153"/>
                        </a:lnTo>
                        <a:lnTo>
                          <a:pt x="87" y="156"/>
                        </a:lnTo>
                        <a:lnTo>
                          <a:pt x="105" y="153"/>
                        </a:lnTo>
                        <a:lnTo>
                          <a:pt x="125" y="148"/>
                        </a:lnTo>
                        <a:lnTo>
                          <a:pt x="146" y="140"/>
                        </a:lnTo>
                        <a:lnTo>
                          <a:pt x="163" y="127"/>
                        </a:lnTo>
                        <a:lnTo>
                          <a:pt x="183" y="114"/>
                        </a:lnTo>
                        <a:lnTo>
                          <a:pt x="199" y="98"/>
                        </a:lnTo>
                        <a:lnTo>
                          <a:pt x="216" y="81"/>
                        </a:lnTo>
                        <a:lnTo>
                          <a:pt x="231" y="63"/>
                        </a:lnTo>
                        <a:lnTo>
                          <a:pt x="245" y="45"/>
                        </a:lnTo>
                        <a:lnTo>
                          <a:pt x="257" y="26"/>
                        </a:lnTo>
                        <a:lnTo>
                          <a:pt x="267" y="9"/>
                        </a:lnTo>
                        <a:lnTo>
                          <a:pt x="24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" name=""/>
                  <p:cNvSpPr/>
                  <p:nvPr/>
                </p:nvSpPr>
                <p:spPr>
                  <a:xfrm>
                    <a:off x="2019240" y="2864520"/>
                    <a:ext cx="111240" cy="77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46">
                        <a:moveTo>
                          <a:pt x="0" y="0"/>
                        </a:moveTo>
                        <a:lnTo>
                          <a:pt x="8" y="7"/>
                        </a:lnTo>
                        <a:lnTo>
                          <a:pt x="18" y="13"/>
                        </a:lnTo>
                        <a:lnTo>
                          <a:pt x="29" y="20"/>
                        </a:lnTo>
                        <a:lnTo>
                          <a:pt x="37" y="26"/>
                        </a:lnTo>
                        <a:lnTo>
                          <a:pt x="47" y="31"/>
                        </a:lnTo>
                        <a:lnTo>
                          <a:pt x="57" y="36"/>
                        </a:lnTo>
                        <a:lnTo>
                          <a:pt x="67" y="41"/>
                        </a:lnTo>
                        <a:lnTo>
                          <a:pt x="78" y="4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240" bIns="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" name=""/>
                  <p:cNvSpPr/>
                  <p:nvPr/>
                </p:nvSpPr>
                <p:spPr>
                  <a:xfrm>
                    <a:off x="2010600" y="2851200"/>
                    <a:ext cx="122760" cy="10404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62">
                        <a:moveTo>
                          <a:pt x="86" y="45"/>
                        </a:moveTo>
                        <a:lnTo>
                          <a:pt x="78" y="41"/>
                        </a:lnTo>
                        <a:lnTo>
                          <a:pt x="68" y="35"/>
                        </a:lnTo>
                        <a:lnTo>
                          <a:pt x="58" y="31"/>
                        </a:lnTo>
                        <a:lnTo>
                          <a:pt x="48" y="26"/>
                        </a:lnTo>
                        <a:lnTo>
                          <a:pt x="39" y="21"/>
                        </a:lnTo>
                        <a:lnTo>
                          <a:pt x="29" y="13"/>
                        </a:lnTo>
                        <a:lnTo>
                          <a:pt x="19" y="8"/>
                        </a:lnTo>
                        <a:lnTo>
                          <a:pt x="11" y="0"/>
                        </a:lnTo>
                        <a:lnTo>
                          <a:pt x="0" y="15"/>
                        </a:lnTo>
                        <a:lnTo>
                          <a:pt x="10" y="22"/>
                        </a:lnTo>
                        <a:lnTo>
                          <a:pt x="20" y="28"/>
                        </a:lnTo>
                        <a:lnTo>
                          <a:pt x="30" y="35"/>
                        </a:lnTo>
                        <a:lnTo>
                          <a:pt x="39" y="41"/>
                        </a:lnTo>
                        <a:lnTo>
                          <a:pt x="49" y="48"/>
                        </a:lnTo>
                        <a:lnTo>
                          <a:pt x="59" y="52"/>
                        </a:lnTo>
                        <a:lnTo>
                          <a:pt x="69" y="58"/>
                        </a:lnTo>
                        <a:lnTo>
                          <a:pt x="81" y="62"/>
                        </a:lnTo>
                        <a:lnTo>
                          <a:pt x="86" y="4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>
                    <a:off x="2845080" y="2533320"/>
                    <a:ext cx="93960" cy="188280"/>
                  </a:xfrm>
                  <a:custGeom>
                    <a:avLst/>
                    <a:gdLst/>
                    <a:ahLst/>
                    <a:rect l="l" t="t" r="r" b="b"/>
                    <a:pathLst>
                      <a:path w="66" h="112">
                        <a:moveTo>
                          <a:pt x="0" y="112"/>
                        </a:moveTo>
                        <a:lnTo>
                          <a:pt x="10" y="99"/>
                        </a:lnTo>
                        <a:lnTo>
                          <a:pt x="20" y="86"/>
                        </a:lnTo>
                        <a:lnTo>
                          <a:pt x="29" y="73"/>
                        </a:lnTo>
                        <a:lnTo>
                          <a:pt x="37" y="58"/>
                        </a:lnTo>
                        <a:lnTo>
                          <a:pt x="45" y="45"/>
                        </a:lnTo>
                        <a:lnTo>
                          <a:pt x="52" y="31"/>
                        </a:lnTo>
                        <a:lnTo>
                          <a:pt x="59" y="15"/>
                        </a:lnTo>
                        <a:lnTo>
                          <a:pt x="66" y="0"/>
                        </a:lnTo>
                        <a:lnTo>
                          <a:pt x="0" y="112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2835000" y="2530080"/>
                    <a:ext cx="117000" cy="199440"/>
                  </a:xfrm>
                  <a:custGeom>
                    <a:avLst/>
                    <a:gdLst/>
                    <a:ahLst/>
                    <a:rect l="l" t="t" r="r" b="b"/>
                    <a:pathLst>
                      <a:path w="82" h="119">
                        <a:moveTo>
                          <a:pt x="65" y="0"/>
                        </a:moveTo>
                        <a:lnTo>
                          <a:pt x="57" y="13"/>
                        </a:lnTo>
                        <a:lnTo>
                          <a:pt x="50" y="28"/>
                        </a:lnTo>
                        <a:lnTo>
                          <a:pt x="43" y="43"/>
                        </a:lnTo>
                        <a:lnTo>
                          <a:pt x="36" y="56"/>
                        </a:lnTo>
                        <a:lnTo>
                          <a:pt x="29" y="70"/>
                        </a:lnTo>
                        <a:lnTo>
                          <a:pt x="20" y="82"/>
                        </a:lnTo>
                        <a:lnTo>
                          <a:pt x="10" y="95"/>
                        </a:lnTo>
                        <a:lnTo>
                          <a:pt x="0" y="108"/>
                        </a:lnTo>
                        <a:lnTo>
                          <a:pt x="14" y="119"/>
                        </a:lnTo>
                        <a:lnTo>
                          <a:pt x="24" y="106"/>
                        </a:lnTo>
                        <a:lnTo>
                          <a:pt x="34" y="93"/>
                        </a:lnTo>
                        <a:lnTo>
                          <a:pt x="43" y="79"/>
                        </a:lnTo>
                        <a:lnTo>
                          <a:pt x="53" y="65"/>
                        </a:lnTo>
                        <a:lnTo>
                          <a:pt x="60" y="52"/>
                        </a:lnTo>
                        <a:lnTo>
                          <a:pt x="67" y="37"/>
                        </a:lnTo>
                        <a:lnTo>
                          <a:pt x="75" y="21"/>
                        </a:lnTo>
                        <a:lnTo>
                          <a:pt x="82" y="5"/>
                        </a:lnTo>
                        <a:lnTo>
                          <a:pt x="65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2126520" y="2721600"/>
                    <a:ext cx="718560" cy="484200"/>
                  </a:xfrm>
                  <a:custGeom>
                    <a:avLst/>
                    <a:gdLst/>
                    <a:ahLst/>
                    <a:rect l="l" t="t" r="r" b="b"/>
                    <a:pathLst>
                      <a:path w="503" h="288">
                        <a:moveTo>
                          <a:pt x="503" y="0"/>
                        </a:moveTo>
                        <a:lnTo>
                          <a:pt x="494" y="30"/>
                        </a:lnTo>
                        <a:lnTo>
                          <a:pt x="483" y="60"/>
                        </a:lnTo>
                        <a:lnTo>
                          <a:pt x="470" y="90"/>
                        </a:lnTo>
                        <a:lnTo>
                          <a:pt x="454" y="119"/>
                        </a:lnTo>
                        <a:lnTo>
                          <a:pt x="435" y="147"/>
                        </a:lnTo>
                        <a:lnTo>
                          <a:pt x="416" y="173"/>
                        </a:lnTo>
                        <a:lnTo>
                          <a:pt x="395" y="197"/>
                        </a:lnTo>
                        <a:lnTo>
                          <a:pt x="370" y="219"/>
                        </a:lnTo>
                        <a:lnTo>
                          <a:pt x="346" y="239"/>
                        </a:lnTo>
                        <a:lnTo>
                          <a:pt x="320" y="256"/>
                        </a:lnTo>
                        <a:lnTo>
                          <a:pt x="292" y="269"/>
                        </a:lnTo>
                        <a:lnTo>
                          <a:pt x="264" y="279"/>
                        </a:lnTo>
                        <a:lnTo>
                          <a:pt x="235" y="287"/>
                        </a:lnTo>
                        <a:lnTo>
                          <a:pt x="204" y="288"/>
                        </a:lnTo>
                        <a:lnTo>
                          <a:pt x="174" y="285"/>
                        </a:lnTo>
                        <a:lnTo>
                          <a:pt x="142" y="278"/>
                        </a:lnTo>
                        <a:lnTo>
                          <a:pt x="109" y="265"/>
                        </a:lnTo>
                        <a:lnTo>
                          <a:pt x="80" y="249"/>
                        </a:lnTo>
                        <a:lnTo>
                          <a:pt x="56" y="232"/>
                        </a:lnTo>
                        <a:lnTo>
                          <a:pt x="36" y="212"/>
                        </a:lnTo>
                        <a:lnTo>
                          <a:pt x="20" y="191"/>
                        </a:lnTo>
                        <a:lnTo>
                          <a:pt x="10" y="171"/>
                        </a:lnTo>
                        <a:lnTo>
                          <a:pt x="3" y="151"/>
                        </a:lnTo>
                        <a:lnTo>
                          <a:pt x="0" y="132"/>
                        </a:lnTo>
                        <a:lnTo>
                          <a:pt x="33" y="145"/>
                        </a:lnTo>
                        <a:lnTo>
                          <a:pt x="66" y="155"/>
                        </a:lnTo>
                        <a:lnTo>
                          <a:pt x="101" y="161"/>
                        </a:lnTo>
                        <a:lnTo>
                          <a:pt x="135" y="165"/>
                        </a:lnTo>
                        <a:lnTo>
                          <a:pt x="170" y="165"/>
                        </a:lnTo>
                        <a:lnTo>
                          <a:pt x="206" y="162"/>
                        </a:lnTo>
                        <a:lnTo>
                          <a:pt x="239" y="158"/>
                        </a:lnTo>
                        <a:lnTo>
                          <a:pt x="274" y="150"/>
                        </a:lnTo>
                        <a:lnTo>
                          <a:pt x="307" y="139"/>
                        </a:lnTo>
                        <a:lnTo>
                          <a:pt x="339" y="126"/>
                        </a:lnTo>
                        <a:lnTo>
                          <a:pt x="370" y="111"/>
                        </a:lnTo>
                        <a:lnTo>
                          <a:pt x="401" y="93"/>
                        </a:lnTo>
                        <a:lnTo>
                          <a:pt x="428" y="73"/>
                        </a:lnTo>
                        <a:lnTo>
                          <a:pt x="455" y="50"/>
                        </a:lnTo>
                        <a:lnTo>
                          <a:pt x="480" y="25"/>
                        </a:lnTo>
                        <a:lnTo>
                          <a:pt x="503" y="0"/>
                        </a:lnTo>
                        <a:close/>
                      </a:path>
                    </a:pathLst>
                  </a:custGeom>
                  <a:solidFill>
                    <a:srgbClr val="ff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>
                    <a:off x="2326320" y="2718360"/>
                    <a:ext cx="531720" cy="504360"/>
                  </a:xfrm>
                  <a:custGeom>
                    <a:avLst/>
                    <a:gdLst/>
                    <a:ahLst/>
                    <a:rect l="l" t="t" r="r" b="b"/>
                    <a:pathLst>
                      <a:path w="372" h="300">
                        <a:moveTo>
                          <a:pt x="0" y="289"/>
                        </a:moveTo>
                        <a:lnTo>
                          <a:pt x="0" y="289"/>
                        </a:lnTo>
                        <a:lnTo>
                          <a:pt x="33" y="296"/>
                        </a:lnTo>
                        <a:lnTo>
                          <a:pt x="64" y="300"/>
                        </a:lnTo>
                        <a:lnTo>
                          <a:pt x="96" y="297"/>
                        </a:lnTo>
                        <a:lnTo>
                          <a:pt x="125" y="290"/>
                        </a:lnTo>
                        <a:lnTo>
                          <a:pt x="155" y="280"/>
                        </a:lnTo>
                        <a:lnTo>
                          <a:pt x="184" y="267"/>
                        </a:lnTo>
                        <a:lnTo>
                          <a:pt x="212" y="248"/>
                        </a:lnTo>
                        <a:lnTo>
                          <a:pt x="236" y="228"/>
                        </a:lnTo>
                        <a:lnTo>
                          <a:pt x="261" y="205"/>
                        </a:lnTo>
                        <a:lnTo>
                          <a:pt x="284" y="180"/>
                        </a:lnTo>
                        <a:lnTo>
                          <a:pt x="302" y="154"/>
                        </a:lnTo>
                        <a:lnTo>
                          <a:pt x="321" y="126"/>
                        </a:lnTo>
                        <a:lnTo>
                          <a:pt x="338" y="97"/>
                        </a:lnTo>
                        <a:lnTo>
                          <a:pt x="351" y="65"/>
                        </a:lnTo>
                        <a:lnTo>
                          <a:pt x="363" y="35"/>
                        </a:lnTo>
                        <a:lnTo>
                          <a:pt x="372" y="3"/>
                        </a:lnTo>
                        <a:lnTo>
                          <a:pt x="354" y="0"/>
                        </a:lnTo>
                        <a:lnTo>
                          <a:pt x="346" y="29"/>
                        </a:lnTo>
                        <a:lnTo>
                          <a:pt x="334" y="59"/>
                        </a:lnTo>
                        <a:lnTo>
                          <a:pt x="321" y="88"/>
                        </a:lnTo>
                        <a:lnTo>
                          <a:pt x="307" y="117"/>
                        </a:lnTo>
                        <a:lnTo>
                          <a:pt x="288" y="143"/>
                        </a:lnTo>
                        <a:lnTo>
                          <a:pt x="269" y="169"/>
                        </a:lnTo>
                        <a:lnTo>
                          <a:pt x="249" y="193"/>
                        </a:lnTo>
                        <a:lnTo>
                          <a:pt x="224" y="214"/>
                        </a:lnTo>
                        <a:lnTo>
                          <a:pt x="200" y="234"/>
                        </a:lnTo>
                        <a:lnTo>
                          <a:pt x="175" y="250"/>
                        </a:lnTo>
                        <a:lnTo>
                          <a:pt x="150" y="263"/>
                        </a:lnTo>
                        <a:lnTo>
                          <a:pt x="122" y="273"/>
                        </a:lnTo>
                        <a:lnTo>
                          <a:pt x="93" y="280"/>
                        </a:lnTo>
                        <a:lnTo>
                          <a:pt x="64" y="280"/>
                        </a:lnTo>
                        <a:lnTo>
                          <a:pt x="36" y="278"/>
                        </a:lnTo>
                        <a:lnTo>
                          <a:pt x="5" y="271"/>
                        </a:lnTo>
                        <a:lnTo>
                          <a:pt x="5" y="271"/>
                        </a:lnTo>
                        <a:lnTo>
                          <a:pt x="0" y="28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2112120" y="2920320"/>
                    <a:ext cx="221040" cy="284040"/>
                  </a:xfrm>
                  <a:custGeom>
                    <a:avLst/>
                    <a:gdLst/>
                    <a:ahLst/>
                    <a:rect l="l" t="t" r="r" b="b"/>
                    <a:pathLst>
                      <a:path w="155" h="169">
                        <a:moveTo>
                          <a:pt x="13" y="6"/>
                        </a:moveTo>
                        <a:lnTo>
                          <a:pt x="1" y="14"/>
                        </a:lnTo>
                        <a:lnTo>
                          <a:pt x="4" y="34"/>
                        </a:lnTo>
                        <a:lnTo>
                          <a:pt x="11" y="56"/>
                        </a:lnTo>
                        <a:lnTo>
                          <a:pt x="23" y="78"/>
                        </a:lnTo>
                        <a:lnTo>
                          <a:pt x="39" y="99"/>
                        </a:lnTo>
                        <a:lnTo>
                          <a:pt x="60" y="121"/>
                        </a:lnTo>
                        <a:lnTo>
                          <a:pt x="86" y="138"/>
                        </a:lnTo>
                        <a:lnTo>
                          <a:pt x="116" y="156"/>
                        </a:lnTo>
                        <a:lnTo>
                          <a:pt x="150" y="169"/>
                        </a:lnTo>
                        <a:lnTo>
                          <a:pt x="155" y="151"/>
                        </a:lnTo>
                        <a:lnTo>
                          <a:pt x="122" y="138"/>
                        </a:lnTo>
                        <a:lnTo>
                          <a:pt x="95" y="124"/>
                        </a:lnTo>
                        <a:lnTo>
                          <a:pt x="72" y="106"/>
                        </a:lnTo>
                        <a:lnTo>
                          <a:pt x="53" y="88"/>
                        </a:lnTo>
                        <a:lnTo>
                          <a:pt x="37" y="69"/>
                        </a:lnTo>
                        <a:lnTo>
                          <a:pt x="28" y="50"/>
                        </a:lnTo>
                        <a:lnTo>
                          <a:pt x="21" y="32"/>
                        </a:lnTo>
                        <a:lnTo>
                          <a:pt x="18" y="14"/>
                        </a:lnTo>
                        <a:lnTo>
                          <a:pt x="7" y="23"/>
                        </a:lnTo>
                        <a:lnTo>
                          <a:pt x="13" y="6"/>
                        </a:lnTo>
                        <a:lnTo>
                          <a:pt x="0" y="0"/>
                        </a:lnTo>
                        <a:lnTo>
                          <a:pt x="0" y="14"/>
                        </a:lnTo>
                        <a:lnTo>
                          <a:pt x="13" y="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"/>
                  <p:cNvSpPr/>
                  <p:nvPr/>
                </p:nvSpPr>
                <p:spPr>
                  <a:xfrm>
                    <a:off x="2122200" y="2656080"/>
                    <a:ext cx="749880" cy="358200"/>
                  </a:xfrm>
                  <a:custGeom>
                    <a:avLst/>
                    <a:gdLst/>
                    <a:ahLst/>
                    <a:rect l="l" t="t" r="r" b="b"/>
                    <a:pathLst>
                      <a:path w="525" h="213">
                        <a:moveTo>
                          <a:pt x="515" y="40"/>
                        </a:moveTo>
                        <a:lnTo>
                          <a:pt x="499" y="33"/>
                        </a:lnTo>
                        <a:lnTo>
                          <a:pt x="476" y="59"/>
                        </a:lnTo>
                        <a:lnTo>
                          <a:pt x="453" y="82"/>
                        </a:lnTo>
                        <a:lnTo>
                          <a:pt x="425" y="105"/>
                        </a:lnTo>
                        <a:lnTo>
                          <a:pt x="399" y="125"/>
                        </a:lnTo>
                        <a:lnTo>
                          <a:pt x="369" y="141"/>
                        </a:lnTo>
                        <a:lnTo>
                          <a:pt x="339" y="157"/>
                        </a:lnTo>
                        <a:lnTo>
                          <a:pt x="307" y="170"/>
                        </a:lnTo>
                        <a:lnTo>
                          <a:pt x="275" y="180"/>
                        </a:lnTo>
                        <a:lnTo>
                          <a:pt x="241" y="189"/>
                        </a:lnTo>
                        <a:lnTo>
                          <a:pt x="209" y="193"/>
                        </a:lnTo>
                        <a:lnTo>
                          <a:pt x="173" y="196"/>
                        </a:lnTo>
                        <a:lnTo>
                          <a:pt x="138" y="196"/>
                        </a:lnTo>
                        <a:lnTo>
                          <a:pt x="104" y="191"/>
                        </a:lnTo>
                        <a:lnTo>
                          <a:pt x="70" y="186"/>
                        </a:lnTo>
                        <a:lnTo>
                          <a:pt x="39" y="176"/>
                        </a:lnTo>
                        <a:lnTo>
                          <a:pt x="6" y="163"/>
                        </a:lnTo>
                        <a:lnTo>
                          <a:pt x="0" y="180"/>
                        </a:lnTo>
                        <a:lnTo>
                          <a:pt x="33" y="193"/>
                        </a:lnTo>
                        <a:lnTo>
                          <a:pt x="68" y="203"/>
                        </a:lnTo>
                        <a:lnTo>
                          <a:pt x="104" y="209"/>
                        </a:lnTo>
                        <a:lnTo>
                          <a:pt x="138" y="213"/>
                        </a:lnTo>
                        <a:lnTo>
                          <a:pt x="173" y="213"/>
                        </a:lnTo>
                        <a:lnTo>
                          <a:pt x="209" y="210"/>
                        </a:lnTo>
                        <a:lnTo>
                          <a:pt x="243" y="206"/>
                        </a:lnTo>
                        <a:lnTo>
                          <a:pt x="278" y="197"/>
                        </a:lnTo>
                        <a:lnTo>
                          <a:pt x="313" y="187"/>
                        </a:lnTo>
                        <a:lnTo>
                          <a:pt x="344" y="174"/>
                        </a:lnTo>
                        <a:lnTo>
                          <a:pt x="378" y="158"/>
                        </a:lnTo>
                        <a:lnTo>
                          <a:pt x="408" y="139"/>
                        </a:lnTo>
                        <a:lnTo>
                          <a:pt x="437" y="119"/>
                        </a:lnTo>
                        <a:lnTo>
                          <a:pt x="464" y="96"/>
                        </a:lnTo>
                        <a:lnTo>
                          <a:pt x="490" y="70"/>
                        </a:lnTo>
                        <a:lnTo>
                          <a:pt x="513" y="44"/>
                        </a:lnTo>
                        <a:lnTo>
                          <a:pt x="497" y="37"/>
                        </a:lnTo>
                        <a:lnTo>
                          <a:pt x="515" y="40"/>
                        </a:lnTo>
                        <a:lnTo>
                          <a:pt x="525" y="0"/>
                        </a:lnTo>
                        <a:lnTo>
                          <a:pt x="499" y="33"/>
                        </a:lnTo>
                        <a:lnTo>
                          <a:pt x="515" y="4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" name=""/>
                  <p:cNvSpPr/>
                  <p:nvPr/>
                </p:nvSpPr>
                <p:spPr>
                  <a:xfrm>
                    <a:off x="3306600" y="2005560"/>
                    <a:ext cx="41400" cy="421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251">
                        <a:moveTo>
                          <a:pt x="24" y="251"/>
                        </a:moveTo>
                        <a:lnTo>
                          <a:pt x="29" y="188"/>
                        </a:lnTo>
                        <a:lnTo>
                          <a:pt x="27" y="124"/>
                        </a:lnTo>
                        <a:lnTo>
                          <a:pt x="17" y="62"/>
                        </a:lnTo>
                        <a:lnTo>
                          <a:pt x="0" y="0"/>
                        </a:lnTo>
                        <a:lnTo>
                          <a:pt x="24" y="251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" name=""/>
                  <p:cNvSpPr/>
                  <p:nvPr/>
                </p:nvSpPr>
                <p:spPr>
                  <a:xfrm>
                    <a:off x="3294000" y="2000160"/>
                    <a:ext cx="68040" cy="42732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254">
                        <a:moveTo>
                          <a:pt x="0" y="6"/>
                        </a:moveTo>
                        <a:lnTo>
                          <a:pt x="18" y="67"/>
                        </a:lnTo>
                        <a:lnTo>
                          <a:pt x="28" y="127"/>
                        </a:lnTo>
                        <a:lnTo>
                          <a:pt x="28" y="191"/>
                        </a:lnTo>
                        <a:lnTo>
                          <a:pt x="25" y="254"/>
                        </a:lnTo>
                        <a:lnTo>
                          <a:pt x="42" y="254"/>
                        </a:lnTo>
                        <a:lnTo>
                          <a:pt x="48" y="191"/>
                        </a:lnTo>
                        <a:lnTo>
                          <a:pt x="45" y="127"/>
                        </a:lnTo>
                        <a:lnTo>
                          <a:pt x="35" y="64"/>
                        </a:lnTo>
                        <a:lnTo>
                          <a:pt x="18" y="0"/>
                        </a:lnTo>
                        <a:lnTo>
                          <a:pt x="0" y="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"/>
                  <p:cNvSpPr/>
                  <p:nvPr/>
                </p:nvSpPr>
                <p:spPr>
                  <a:xfrm>
                    <a:off x="1100520" y="463680"/>
                    <a:ext cx="2329200" cy="18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630" h="1082">
                        <a:moveTo>
                          <a:pt x="131" y="1077"/>
                        </a:moveTo>
                        <a:lnTo>
                          <a:pt x="177" y="1082"/>
                        </a:lnTo>
                        <a:lnTo>
                          <a:pt x="226" y="1074"/>
                        </a:lnTo>
                        <a:lnTo>
                          <a:pt x="274" y="1056"/>
                        </a:lnTo>
                        <a:lnTo>
                          <a:pt x="324" y="1028"/>
                        </a:lnTo>
                        <a:lnTo>
                          <a:pt x="372" y="991"/>
                        </a:lnTo>
                        <a:lnTo>
                          <a:pt x="421" y="947"/>
                        </a:lnTo>
                        <a:lnTo>
                          <a:pt x="468" y="900"/>
                        </a:lnTo>
                        <a:lnTo>
                          <a:pt x="514" y="846"/>
                        </a:lnTo>
                        <a:lnTo>
                          <a:pt x="558" y="790"/>
                        </a:lnTo>
                        <a:lnTo>
                          <a:pt x="599" y="733"/>
                        </a:lnTo>
                        <a:lnTo>
                          <a:pt x="638" y="675"/>
                        </a:lnTo>
                        <a:lnTo>
                          <a:pt x="673" y="619"/>
                        </a:lnTo>
                        <a:lnTo>
                          <a:pt x="705" y="565"/>
                        </a:lnTo>
                        <a:lnTo>
                          <a:pt x="732" y="515"/>
                        </a:lnTo>
                        <a:lnTo>
                          <a:pt x="755" y="469"/>
                        </a:lnTo>
                        <a:lnTo>
                          <a:pt x="772" y="430"/>
                        </a:lnTo>
                        <a:lnTo>
                          <a:pt x="758" y="483"/>
                        </a:lnTo>
                        <a:lnTo>
                          <a:pt x="745" y="536"/>
                        </a:lnTo>
                        <a:lnTo>
                          <a:pt x="731" y="590"/>
                        </a:lnTo>
                        <a:lnTo>
                          <a:pt x="715" y="642"/>
                        </a:lnTo>
                        <a:lnTo>
                          <a:pt x="695" y="692"/>
                        </a:lnTo>
                        <a:lnTo>
                          <a:pt x="669" y="741"/>
                        </a:lnTo>
                        <a:lnTo>
                          <a:pt x="638" y="787"/>
                        </a:lnTo>
                        <a:lnTo>
                          <a:pt x="599" y="831"/>
                        </a:lnTo>
                        <a:lnTo>
                          <a:pt x="630" y="812"/>
                        </a:lnTo>
                        <a:lnTo>
                          <a:pt x="659" y="792"/>
                        </a:lnTo>
                        <a:lnTo>
                          <a:pt x="685" y="769"/>
                        </a:lnTo>
                        <a:lnTo>
                          <a:pt x="709" y="746"/>
                        </a:lnTo>
                        <a:lnTo>
                          <a:pt x="732" y="722"/>
                        </a:lnTo>
                        <a:lnTo>
                          <a:pt x="755" y="697"/>
                        </a:lnTo>
                        <a:lnTo>
                          <a:pt x="775" y="671"/>
                        </a:lnTo>
                        <a:lnTo>
                          <a:pt x="794" y="643"/>
                        </a:lnTo>
                        <a:lnTo>
                          <a:pt x="813" y="616"/>
                        </a:lnTo>
                        <a:lnTo>
                          <a:pt x="830" y="587"/>
                        </a:lnTo>
                        <a:lnTo>
                          <a:pt x="846" y="557"/>
                        </a:lnTo>
                        <a:lnTo>
                          <a:pt x="862" y="526"/>
                        </a:lnTo>
                        <a:lnTo>
                          <a:pt x="876" y="496"/>
                        </a:lnTo>
                        <a:lnTo>
                          <a:pt x="889" y="464"/>
                        </a:lnTo>
                        <a:lnTo>
                          <a:pt x="902" y="433"/>
                        </a:lnTo>
                        <a:lnTo>
                          <a:pt x="915" y="401"/>
                        </a:lnTo>
                        <a:lnTo>
                          <a:pt x="922" y="424"/>
                        </a:lnTo>
                        <a:lnTo>
                          <a:pt x="931" y="447"/>
                        </a:lnTo>
                        <a:lnTo>
                          <a:pt x="940" y="470"/>
                        </a:lnTo>
                        <a:lnTo>
                          <a:pt x="951" y="492"/>
                        </a:lnTo>
                        <a:lnTo>
                          <a:pt x="963" y="512"/>
                        </a:lnTo>
                        <a:lnTo>
                          <a:pt x="976" y="532"/>
                        </a:lnTo>
                        <a:lnTo>
                          <a:pt x="990" y="552"/>
                        </a:lnTo>
                        <a:lnTo>
                          <a:pt x="1006" y="570"/>
                        </a:lnTo>
                        <a:lnTo>
                          <a:pt x="1022" y="585"/>
                        </a:lnTo>
                        <a:lnTo>
                          <a:pt x="1041" y="601"/>
                        </a:lnTo>
                        <a:lnTo>
                          <a:pt x="1059" y="616"/>
                        </a:lnTo>
                        <a:lnTo>
                          <a:pt x="1080" y="627"/>
                        </a:lnTo>
                        <a:lnTo>
                          <a:pt x="1101" y="637"/>
                        </a:lnTo>
                        <a:lnTo>
                          <a:pt x="1123" y="647"/>
                        </a:lnTo>
                        <a:lnTo>
                          <a:pt x="1147" y="653"/>
                        </a:lnTo>
                        <a:lnTo>
                          <a:pt x="1172" y="659"/>
                        </a:lnTo>
                        <a:lnTo>
                          <a:pt x="1159" y="624"/>
                        </a:lnTo>
                        <a:lnTo>
                          <a:pt x="1150" y="588"/>
                        </a:lnTo>
                        <a:lnTo>
                          <a:pt x="1144" y="552"/>
                        </a:lnTo>
                        <a:lnTo>
                          <a:pt x="1140" y="516"/>
                        </a:lnTo>
                        <a:lnTo>
                          <a:pt x="1136" y="480"/>
                        </a:lnTo>
                        <a:lnTo>
                          <a:pt x="1132" y="444"/>
                        </a:lnTo>
                        <a:lnTo>
                          <a:pt x="1126" y="408"/>
                        </a:lnTo>
                        <a:lnTo>
                          <a:pt x="1116" y="372"/>
                        </a:lnTo>
                        <a:lnTo>
                          <a:pt x="1139" y="407"/>
                        </a:lnTo>
                        <a:lnTo>
                          <a:pt x="1162" y="441"/>
                        </a:lnTo>
                        <a:lnTo>
                          <a:pt x="1186" y="476"/>
                        </a:lnTo>
                        <a:lnTo>
                          <a:pt x="1212" y="509"/>
                        </a:lnTo>
                        <a:lnTo>
                          <a:pt x="1238" y="542"/>
                        </a:lnTo>
                        <a:lnTo>
                          <a:pt x="1266" y="572"/>
                        </a:lnTo>
                        <a:lnTo>
                          <a:pt x="1294" y="601"/>
                        </a:lnTo>
                        <a:lnTo>
                          <a:pt x="1323" y="627"/>
                        </a:lnTo>
                        <a:lnTo>
                          <a:pt x="1354" y="650"/>
                        </a:lnTo>
                        <a:lnTo>
                          <a:pt x="1385" y="669"/>
                        </a:lnTo>
                        <a:lnTo>
                          <a:pt x="1417" y="685"/>
                        </a:lnTo>
                        <a:lnTo>
                          <a:pt x="1450" y="697"/>
                        </a:lnTo>
                        <a:lnTo>
                          <a:pt x="1485" y="702"/>
                        </a:lnTo>
                        <a:lnTo>
                          <a:pt x="1519" y="704"/>
                        </a:lnTo>
                        <a:lnTo>
                          <a:pt x="1555" y="699"/>
                        </a:lnTo>
                        <a:lnTo>
                          <a:pt x="1591" y="688"/>
                        </a:lnTo>
                        <a:lnTo>
                          <a:pt x="1606" y="675"/>
                        </a:lnTo>
                        <a:lnTo>
                          <a:pt x="1613" y="652"/>
                        </a:lnTo>
                        <a:lnTo>
                          <a:pt x="1612" y="622"/>
                        </a:lnTo>
                        <a:lnTo>
                          <a:pt x="1604" y="585"/>
                        </a:lnTo>
                        <a:lnTo>
                          <a:pt x="1591" y="547"/>
                        </a:lnTo>
                        <a:lnTo>
                          <a:pt x="1577" y="506"/>
                        </a:lnTo>
                        <a:lnTo>
                          <a:pt x="1561" y="466"/>
                        </a:lnTo>
                        <a:lnTo>
                          <a:pt x="1544" y="430"/>
                        </a:lnTo>
                        <a:lnTo>
                          <a:pt x="1553" y="440"/>
                        </a:lnTo>
                        <a:lnTo>
                          <a:pt x="1563" y="450"/>
                        </a:lnTo>
                        <a:lnTo>
                          <a:pt x="1573" y="457"/>
                        </a:lnTo>
                        <a:lnTo>
                          <a:pt x="1583" y="464"/>
                        </a:lnTo>
                        <a:lnTo>
                          <a:pt x="1594" y="470"/>
                        </a:lnTo>
                        <a:lnTo>
                          <a:pt x="1606" y="476"/>
                        </a:lnTo>
                        <a:lnTo>
                          <a:pt x="1619" y="482"/>
                        </a:lnTo>
                        <a:lnTo>
                          <a:pt x="1630" y="487"/>
                        </a:lnTo>
                        <a:lnTo>
                          <a:pt x="1620" y="466"/>
                        </a:lnTo>
                        <a:lnTo>
                          <a:pt x="1607" y="446"/>
                        </a:lnTo>
                        <a:lnTo>
                          <a:pt x="1593" y="428"/>
                        </a:lnTo>
                        <a:lnTo>
                          <a:pt x="1577" y="411"/>
                        </a:lnTo>
                        <a:lnTo>
                          <a:pt x="1560" y="395"/>
                        </a:lnTo>
                        <a:lnTo>
                          <a:pt x="1541" y="381"/>
                        </a:lnTo>
                        <a:lnTo>
                          <a:pt x="1521" y="368"/>
                        </a:lnTo>
                        <a:lnTo>
                          <a:pt x="1499" y="356"/>
                        </a:lnTo>
                        <a:lnTo>
                          <a:pt x="1478" y="346"/>
                        </a:lnTo>
                        <a:lnTo>
                          <a:pt x="1455" y="337"/>
                        </a:lnTo>
                        <a:lnTo>
                          <a:pt x="1431" y="330"/>
                        </a:lnTo>
                        <a:lnTo>
                          <a:pt x="1408" y="324"/>
                        </a:lnTo>
                        <a:lnTo>
                          <a:pt x="1385" y="320"/>
                        </a:lnTo>
                        <a:lnTo>
                          <a:pt x="1362" y="317"/>
                        </a:lnTo>
                        <a:lnTo>
                          <a:pt x="1339" y="316"/>
                        </a:lnTo>
                        <a:lnTo>
                          <a:pt x="1316" y="316"/>
                        </a:lnTo>
                        <a:lnTo>
                          <a:pt x="1330" y="296"/>
                        </a:lnTo>
                        <a:lnTo>
                          <a:pt x="1354" y="284"/>
                        </a:lnTo>
                        <a:lnTo>
                          <a:pt x="1380" y="278"/>
                        </a:lnTo>
                        <a:lnTo>
                          <a:pt x="1407" y="277"/>
                        </a:lnTo>
                        <a:lnTo>
                          <a:pt x="1430" y="275"/>
                        </a:lnTo>
                        <a:lnTo>
                          <a:pt x="1446" y="271"/>
                        </a:lnTo>
                        <a:lnTo>
                          <a:pt x="1450" y="262"/>
                        </a:lnTo>
                        <a:lnTo>
                          <a:pt x="1440" y="245"/>
                        </a:lnTo>
                        <a:lnTo>
                          <a:pt x="1423" y="229"/>
                        </a:lnTo>
                        <a:lnTo>
                          <a:pt x="1403" y="216"/>
                        </a:lnTo>
                        <a:lnTo>
                          <a:pt x="1381" y="206"/>
                        </a:lnTo>
                        <a:lnTo>
                          <a:pt x="1358" y="199"/>
                        </a:lnTo>
                        <a:lnTo>
                          <a:pt x="1333" y="195"/>
                        </a:lnTo>
                        <a:lnTo>
                          <a:pt x="1309" y="192"/>
                        </a:lnTo>
                        <a:lnTo>
                          <a:pt x="1281" y="190"/>
                        </a:lnTo>
                        <a:lnTo>
                          <a:pt x="1254" y="192"/>
                        </a:lnTo>
                        <a:lnTo>
                          <a:pt x="1227" y="193"/>
                        </a:lnTo>
                        <a:lnTo>
                          <a:pt x="1198" y="195"/>
                        </a:lnTo>
                        <a:lnTo>
                          <a:pt x="1169" y="198"/>
                        </a:lnTo>
                        <a:lnTo>
                          <a:pt x="1142" y="199"/>
                        </a:lnTo>
                        <a:lnTo>
                          <a:pt x="1113" y="202"/>
                        </a:lnTo>
                        <a:lnTo>
                          <a:pt x="1084" y="202"/>
                        </a:lnTo>
                        <a:lnTo>
                          <a:pt x="1057" y="202"/>
                        </a:lnTo>
                        <a:lnTo>
                          <a:pt x="1029" y="200"/>
                        </a:lnTo>
                        <a:lnTo>
                          <a:pt x="1051" y="179"/>
                        </a:lnTo>
                        <a:lnTo>
                          <a:pt x="1071" y="154"/>
                        </a:lnTo>
                        <a:lnTo>
                          <a:pt x="1088" y="130"/>
                        </a:lnTo>
                        <a:lnTo>
                          <a:pt x="1106" y="104"/>
                        </a:lnTo>
                        <a:lnTo>
                          <a:pt x="1121" y="76"/>
                        </a:lnTo>
                        <a:lnTo>
                          <a:pt x="1137" y="50"/>
                        </a:lnTo>
                        <a:lnTo>
                          <a:pt x="1153" y="25"/>
                        </a:lnTo>
                        <a:lnTo>
                          <a:pt x="1172" y="0"/>
                        </a:lnTo>
                        <a:lnTo>
                          <a:pt x="1143" y="3"/>
                        </a:lnTo>
                        <a:lnTo>
                          <a:pt x="1113" y="10"/>
                        </a:lnTo>
                        <a:lnTo>
                          <a:pt x="1084" y="17"/>
                        </a:lnTo>
                        <a:lnTo>
                          <a:pt x="1055" y="27"/>
                        </a:lnTo>
                        <a:lnTo>
                          <a:pt x="1026" y="40"/>
                        </a:lnTo>
                        <a:lnTo>
                          <a:pt x="999" y="55"/>
                        </a:lnTo>
                        <a:lnTo>
                          <a:pt x="973" y="71"/>
                        </a:lnTo>
                        <a:lnTo>
                          <a:pt x="948" y="88"/>
                        </a:lnTo>
                        <a:lnTo>
                          <a:pt x="925" y="108"/>
                        </a:lnTo>
                        <a:lnTo>
                          <a:pt x="905" y="130"/>
                        </a:lnTo>
                        <a:lnTo>
                          <a:pt x="885" y="151"/>
                        </a:lnTo>
                        <a:lnTo>
                          <a:pt x="869" y="176"/>
                        </a:lnTo>
                        <a:lnTo>
                          <a:pt x="855" y="202"/>
                        </a:lnTo>
                        <a:lnTo>
                          <a:pt x="843" y="229"/>
                        </a:lnTo>
                        <a:lnTo>
                          <a:pt x="834" y="258"/>
                        </a:lnTo>
                        <a:lnTo>
                          <a:pt x="829" y="287"/>
                        </a:lnTo>
                        <a:lnTo>
                          <a:pt x="823" y="251"/>
                        </a:lnTo>
                        <a:lnTo>
                          <a:pt x="823" y="215"/>
                        </a:lnTo>
                        <a:lnTo>
                          <a:pt x="827" y="179"/>
                        </a:lnTo>
                        <a:lnTo>
                          <a:pt x="833" y="141"/>
                        </a:lnTo>
                        <a:lnTo>
                          <a:pt x="836" y="105"/>
                        </a:lnTo>
                        <a:lnTo>
                          <a:pt x="834" y="69"/>
                        </a:lnTo>
                        <a:lnTo>
                          <a:pt x="823" y="35"/>
                        </a:lnTo>
                        <a:lnTo>
                          <a:pt x="800" y="0"/>
                        </a:lnTo>
                        <a:lnTo>
                          <a:pt x="798" y="33"/>
                        </a:lnTo>
                        <a:lnTo>
                          <a:pt x="794" y="68"/>
                        </a:lnTo>
                        <a:lnTo>
                          <a:pt x="785" y="101"/>
                        </a:lnTo>
                        <a:lnTo>
                          <a:pt x="774" y="131"/>
                        </a:lnTo>
                        <a:lnTo>
                          <a:pt x="761" y="159"/>
                        </a:lnTo>
                        <a:lnTo>
                          <a:pt x="744" y="182"/>
                        </a:lnTo>
                        <a:lnTo>
                          <a:pt x="726" y="199"/>
                        </a:lnTo>
                        <a:lnTo>
                          <a:pt x="708" y="209"/>
                        </a:lnTo>
                        <a:lnTo>
                          <a:pt x="692" y="212"/>
                        </a:lnTo>
                        <a:lnTo>
                          <a:pt x="676" y="212"/>
                        </a:lnTo>
                        <a:lnTo>
                          <a:pt x="660" y="208"/>
                        </a:lnTo>
                        <a:lnTo>
                          <a:pt x="646" y="200"/>
                        </a:lnTo>
                        <a:lnTo>
                          <a:pt x="630" y="192"/>
                        </a:lnTo>
                        <a:lnTo>
                          <a:pt x="614" y="182"/>
                        </a:lnTo>
                        <a:lnTo>
                          <a:pt x="598" y="169"/>
                        </a:lnTo>
                        <a:lnTo>
                          <a:pt x="582" y="156"/>
                        </a:lnTo>
                        <a:lnTo>
                          <a:pt x="565" y="143"/>
                        </a:lnTo>
                        <a:lnTo>
                          <a:pt x="548" y="130"/>
                        </a:lnTo>
                        <a:lnTo>
                          <a:pt x="530" y="118"/>
                        </a:lnTo>
                        <a:lnTo>
                          <a:pt x="511" y="107"/>
                        </a:lnTo>
                        <a:lnTo>
                          <a:pt x="491" y="98"/>
                        </a:lnTo>
                        <a:lnTo>
                          <a:pt x="471" y="91"/>
                        </a:lnTo>
                        <a:lnTo>
                          <a:pt x="451" y="87"/>
                        </a:lnTo>
                        <a:lnTo>
                          <a:pt x="428" y="87"/>
                        </a:lnTo>
                        <a:lnTo>
                          <a:pt x="448" y="108"/>
                        </a:lnTo>
                        <a:lnTo>
                          <a:pt x="462" y="133"/>
                        </a:lnTo>
                        <a:lnTo>
                          <a:pt x="474" y="160"/>
                        </a:lnTo>
                        <a:lnTo>
                          <a:pt x="483" y="187"/>
                        </a:lnTo>
                        <a:lnTo>
                          <a:pt x="493" y="216"/>
                        </a:lnTo>
                        <a:lnTo>
                          <a:pt x="504" y="242"/>
                        </a:lnTo>
                        <a:lnTo>
                          <a:pt x="520" y="267"/>
                        </a:lnTo>
                        <a:lnTo>
                          <a:pt x="543" y="287"/>
                        </a:lnTo>
                        <a:lnTo>
                          <a:pt x="523" y="287"/>
                        </a:lnTo>
                        <a:lnTo>
                          <a:pt x="503" y="286"/>
                        </a:lnTo>
                        <a:lnTo>
                          <a:pt x="484" y="284"/>
                        </a:lnTo>
                        <a:lnTo>
                          <a:pt x="464" y="281"/>
                        </a:lnTo>
                        <a:lnTo>
                          <a:pt x="444" y="280"/>
                        </a:lnTo>
                        <a:lnTo>
                          <a:pt x="425" y="277"/>
                        </a:lnTo>
                        <a:lnTo>
                          <a:pt x="405" y="274"/>
                        </a:lnTo>
                        <a:lnTo>
                          <a:pt x="386" y="270"/>
                        </a:lnTo>
                        <a:lnTo>
                          <a:pt x="366" y="267"/>
                        </a:lnTo>
                        <a:lnTo>
                          <a:pt x="346" y="265"/>
                        </a:lnTo>
                        <a:lnTo>
                          <a:pt x="327" y="262"/>
                        </a:lnTo>
                        <a:lnTo>
                          <a:pt x="307" y="260"/>
                        </a:lnTo>
                        <a:lnTo>
                          <a:pt x="287" y="258"/>
                        </a:lnTo>
                        <a:lnTo>
                          <a:pt x="268" y="258"/>
                        </a:lnTo>
                        <a:lnTo>
                          <a:pt x="248" y="258"/>
                        </a:lnTo>
                        <a:lnTo>
                          <a:pt x="227" y="258"/>
                        </a:lnTo>
                        <a:lnTo>
                          <a:pt x="243" y="261"/>
                        </a:lnTo>
                        <a:lnTo>
                          <a:pt x="259" y="264"/>
                        </a:lnTo>
                        <a:lnTo>
                          <a:pt x="276" y="267"/>
                        </a:lnTo>
                        <a:lnTo>
                          <a:pt x="292" y="270"/>
                        </a:lnTo>
                        <a:lnTo>
                          <a:pt x="308" y="274"/>
                        </a:lnTo>
                        <a:lnTo>
                          <a:pt x="324" y="277"/>
                        </a:lnTo>
                        <a:lnTo>
                          <a:pt x="341" y="280"/>
                        </a:lnTo>
                        <a:lnTo>
                          <a:pt x="357" y="284"/>
                        </a:lnTo>
                        <a:lnTo>
                          <a:pt x="373" y="287"/>
                        </a:lnTo>
                        <a:lnTo>
                          <a:pt x="389" y="291"/>
                        </a:lnTo>
                        <a:lnTo>
                          <a:pt x="405" y="294"/>
                        </a:lnTo>
                        <a:lnTo>
                          <a:pt x="422" y="299"/>
                        </a:lnTo>
                        <a:lnTo>
                          <a:pt x="438" y="303"/>
                        </a:lnTo>
                        <a:lnTo>
                          <a:pt x="454" y="307"/>
                        </a:lnTo>
                        <a:lnTo>
                          <a:pt x="470" y="311"/>
                        </a:lnTo>
                        <a:lnTo>
                          <a:pt x="486" y="316"/>
                        </a:lnTo>
                        <a:lnTo>
                          <a:pt x="434" y="324"/>
                        </a:lnTo>
                        <a:lnTo>
                          <a:pt x="385" y="337"/>
                        </a:lnTo>
                        <a:lnTo>
                          <a:pt x="337" y="355"/>
                        </a:lnTo>
                        <a:lnTo>
                          <a:pt x="291" y="375"/>
                        </a:lnTo>
                        <a:lnTo>
                          <a:pt x="249" y="401"/>
                        </a:lnTo>
                        <a:lnTo>
                          <a:pt x="209" y="430"/>
                        </a:lnTo>
                        <a:lnTo>
                          <a:pt x="170" y="461"/>
                        </a:lnTo>
                        <a:lnTo>
                          <a:pt x="137" y="496"/>
                        </a:lnTo>
                        <a:lnTo>
                          <a:pt x="105" y="535"/>
                        </a:lnTo>
                        <a:lnTo>
                          <a:pt x="77" y="575"/>
                        </a:lnTo>
                        <a:lnTo>
                          <a:pt x="54" y="619"/>
                        </a:lnTo>
                        <a:lnTo>
                          <a:pt x="34" y="663"/>
                        </a:lnTo>
                        <a:lnTo>
                          <a:pt x="18" y="711"/>
                        </a:lnTo>
                        <a:lnTo>
                          <a:pt x="7" y="759"/>
                        </a:lnTo>
                        <a:lnTo>
                          <a:pt x="1" y="809"/>
                        </a:lnTo>
                        <a:lnTo>
                          <a:pt x="0" y="859"/>
                        </a:lnTo>
                        <a:lnTo>
                          <a:pt x="21" y="828"/>
                        </a:lnTo>
                        <a:lnTo>
                          <a:pt x="41" y="795"/>
                        </a:lnTo>
                        <a:lnTo>
                          <a:pt x="60" y="761"/>
                        </a:lnTo>
                        <a:lnTo>
                          <a:pt x="80" y="728"/>
                        </a:lnTo>
                        <a:lnTo>
                          <a:pt x="103" y="698"/>
                        </a:lnTo>
                        <a:lnTo>
                          <a:pt x="129" y="671"/>
                        </a:lnTo>
                        <a:lnTo>
                          <a:pt x="161" y="647"/>
                        </a:lnTo>
                        <a:lnTo>
                          <a:pt x="200" y="630"/>
                        </a:lnTo>
                        <a:lnTo>
                          <a:pt x="174" y="682"/>
                        </a:lnTo>
                        <a:lnTo>
                          <a:pt x="144" y="734"/>
                        </a:lnTo>
                        <a:lnTo>
                          <a:pt x="113" y="784"/>
                        </a:lnTo>
                        <a:lnTo>
                          <a:pt x="85" y="835"/>
                        </a:lnTo>
                        <a:lnTo>
                          <a:pt x="59" y="888"/>
                        </a:lnTo>
                        <a:lnTo>
                          <a:pt x="40" y="942"/>
                        </a:lnTo>
                        <a:lnTo>
                          <a:pt x="28" y="999"/>
                        </a:lnTo>
                        <a:lnTo>
                          <a:pt x="27" y="1060"/>
                        </a:lnTo>
                        <a:lnTo>
                          <a:pt x="41" y="1041"/>
                        </a:lnTo>
                        <a:lnTo>
                          <a:pt x="54" y="1022"/>
                        </a:lnTo>
                        <a:lnTo>
                          <a:pt x="67" y="1004"/>
                        </a:lnTo>
                        <a:lnTo>
                          <a:pt x="82" y="985"/>
                        </a:lnTo>
                        <a:lnTo>
                          <a:pt x="95" y="968"/>
                        </a:lnTo>
                        <a:lnTo>
                          <a:pt x="111" y="949"/>
                        </a:lnTo>
                        <a:lnTo>
                          <a:pt x="125" y="933"/>
                        </a:lnTo>
                        <a:lnTo>
                          <a:pt x="142" y="917"/>
                        </a:lnTo>
                        <a:lnTo>
                          <a:pt x="125" y="970"/>
                        </a:lnTo>
                        <a:lnTo>
                          <a:pt x="124" y="996"/>
                        </a:lnTo>
                        <a:lnTo>
                          <a:pt x="128" y="1022"/>
                        </a:lnTo>
                        <a:lnTo>
                          <a:pt x="131" y="107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"/>
                  <p:cNvSpPr/>
                  <p:nvPr/>
                </p:nvSpPr>
                <p:spPr>
                  <a:xfrm>
                    <a:off x="1284840" y="1181880"/>
                    <a:ext cx="931680" cy="1117800"/>
                  </a:xfrm>
                  <a:custGeom>
                    <a:avLst/>
                    <a:gdLst/>
                    <a:ahLst/>
                    <a:rect l="l" t="t" r="r" b="b"/>
                    <a:pathLst>
                      <a:path w="652" h="665">
                        <a:moveTo>
                          <a:pt x="652" y="4"/>
                        </a:moveTo>
                        <a:lnTo>
                          <a:pt x="635" y="0"/>
                        </a:lnTo>
                        <a:lnTo>
                          <a:pt x="618" y="39"/>
                        </a:lnTo>
                        <a:lnTo>
                          <a:pt x="594" y="83"/>
                        </a:lnTo>
                        <a:lnTo>
                          <a:pt x="567" y="134"/>
                        </a:lnTo>
                        <a:lnTo>
                          <a:pt x="537" y="187"/>
                        </a:lnTo>
                        <a:lnTo>
                          <a:pt x="502" y="244"/>
                        </a:lnTo>
                        <a:lnTo>
                          <a:pt x="463" y="301"/>
                        </a:lnTo>
                        <a:lnTo>
                          <a:pt x="421" y="357"/>
                        </a:lnTo>
                        <a:lnTo>
                          <a:pt x="378" y="414"/>
                        </a:lnTo>
                        <a:lnTo>
                          <a:pt x="332" y="467"/>
                        </a:lnTo>
                        <a:lnTo>
                          <a:pt x="286" y="513"/>
                        </a:lnTo>
                        <a:lnTo>
                          <a:pt x="237" y="556"/>
                        </a:lnTo>
                        <a:lnTo>
                          <a:pt x="191" y="594"/>
                        </a:lnTo>
                        <a:lnTo>
                          <a:pt x="142" y="620"/>
                        </a:lnTo>
                        <a:lnTo>
                          <a:pt x="96" y="639"/>
                        </a:lnTo>
                        <a:lnTo>
                          <a:pt x="48" y="644"/>
                        </a:lnTo>
                        <a:lnTo>
                          <a:pt x="3" y="642"/>
                        </a:lnTo>
                        <a:lnTo>
                          <a:pt x="0" y="659"/>
                        </a:lnTo>
                        <a:lnTo>
                          <a:pt x="48" y="665"/>
                        </a:lnTo>
                        <a:lnTo>
                          <a:pt x="98" y="656"/>
                        </a:lnTo>
                        <a:lnTo>
                          <a:pt x="147" y="637"/>
                        </a:lnTo>
                        <a:lnTo>
                          <a:pt x="199" y="608"/>
                        </a:lnTo>
                        <a:lnTo>
                          <a:pt x="248" y="571"/>
                        </a:lnTo>
                        <a:lnTo>
                          <a:pt x="297" y="528"/>
                        </a:lnTo>
                        <a:lnTo>
                          <a:pt x="346" y="479"/>
                        </a:lnTo>
                        <a:lnTo>
                          <a:pt x="393" y="425"/>
                        </a:lnTo>
                        <a:lnTo>
                          <a:pt x="436" y="369"/>
                        </a:lnTo>
                        <a:lnTo>
                          <a:pt x="478" y="310"/>
                        </a:lnTo>
                        <a:lnTo>
                          <a:pt x="517" y="252"/>
                        </a:lnTo>
                        <a:lnTo>
                          <a:pt x="551" y="196"/>
                        </a:lnTo>
                        <a:lnTo>
                          <a:pt x="584" y="143"/>
                        </a:lnTo>
                        <a:lnTo>
                          <a:pt x="612" y="92"/>
                        </a:lnTo>
                        <a:lnTo>
                          <a:pt x="635" y="45"/>
                        </a:lnTo>
                        <a:lnTo>
                          <a:pt x="652" y="6"/>
                        </a:lnTo>
                        <a:lnTo>
                          <a:pt x="635" y="1"/>
                        </a:lnTo>
                        <a:lnTo>
                          <a:pt x="652" y="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"/>
                  <p:cNvSpPr/>
                  <p:nvPr/>
                </p:nvSpPr>
                <p:spPr>
                  <a:xfrm>
                    <a:off x="1872000" y="1183320"/>
                    <a:ext cx="344160" cy="751680"/>
                  </a:xfrm>
                  <a:custGeom>
                    <a:avLst/>
                    <a:gdLst/>
                    <a:ahLst/>
                    <a:rect l="l" t="t" r="r" b="b"/>
                    <a:pathLst>
                      <a:path w="241" h="447">
                        <a:moveTo>
                          <a:pt x="55" y="394"/>
                        </a:moveTo>
                        <a:lnTo>
                          <a:pt x="65" y="410"/>
                        </a:lnTo>
                        <a:lnTo>
                          <a:pt x="106" y="365"/>
                        </a:lnTo>
                        <a:lnTo>
                          <a:pt x="137" y="318"/>
                        </a:lnTo>
                        <a:lnTo>
                          <a:pt x="163" y="267"/>
                        </a:lnTo>
                        <a:lnTo>
                          <a:pt x="183" y="217"/>
                        </a:lnTo>
                        <a:lnTo>
                          <a:pt x="199" y="163"/>
                        </a:lnTo>
                        <a:lnTo>
                          <a:pt x="214" y="110"/>
                        </a:lnTo>
                        <a:lnTo>
                          <a:pt x="227" y="57"/>
                        </a:lnTo>
                        <a:lnTo>
                          <a:pt x="241" y="3"/>
                        </a:lnTo>
                        <a:lnTo>
                          <a:pt x="224" y="0"/>
                        </a:lnTo>
                        <a:lnTo>
                          <a:pt x="209" y="54"/>
                        </a:lnTo>
                        <a:lnTo>
                          <a:pt x="196" y="107"/>
                        </a:lnTo>
                        <a:lnTo>
                          <a:pt x="182" y="160"/>
                        </a:lnTo>
                        <a:lnTo>
                          <a:pt x="166" y="211"/>
                        </a:lnTo>
                        <a:lnTo>
                          <a:pt x="146" y="261"/>
                        </a:lnTo>
                        <a:lnTo>
                          <a:pt x="120" y="309"/>
                        </a:lnTo>
                        <a:lnTo>
                          <a:pt x="91" y="354"/>
                        </a:lnTo>
                        <a:lnTo>
                          <a:pt x="54" y="395"/>
                        </a:lnTo>
                        <a:lnTo>
                          <a:pt x="64" y="411"/>
                        </a:lnTo>
                        <a:lnTo>
                          <a:pt x="54" y="395"/>
                        </a:lnTo>
                        <a:lnTo>
                          <a:pt x="0" y="447"/>
                        </a:lnTo>
                        <a:lnTo>
                          <a:pt x="64" y="411"/>
                        </a:lnTo>
                        <a:lnTo>
                          <a:pt x="55" y="39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1950840" y="1083960"/>
                    <a:ext cx="469800" cy="79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29" h="470">
                        <a:moveTo>
                          <a:pt x="329" y="30"/>
                        </a:moveTo>
                        <a:lnTo>
                          <a:pt x="312" y="29"/>
                        </a:lnTo>
                        <a:lnTo>
                          <a:pt x="299" y="61"/>
                        </a:lnTo>
                        <a:lnTo>
                          <a:pt x="286" y="92"/>
                        </a:lnTo>
                        <a:lnTo>
                          <a:pt x="273" y="124"/>
                        </a:lnTo>
                        <a:lnTo>
                          <a:pt x="258" y="153"/>
                        </a:lnTo>
                        <a:lnTo>
                          <a:pt x="242" y="183"/>
                        </a:lnTo>
                        <a:lnTo>
                          <a:pt x="226" y="214"/>
                        </a:lnTo>
                        <a:lnTo>
                          <a:pt x="211" y="242"/>
                        </a:lnTo>
                        <a:lnTo>
                          <a:pt x="192" y="270"/>
                        </a:lnTo>
                        <a:lnTo>
                          <a:pt x="173" y="296"/>
                        </a:lnTo>
                        <a:lnTo>
                          <a:pt x="153" y="322"/>
                        </a:lnTo>
                        <a:lnTo>
                          <a:pt x="130" y="348"/>
                        </a:lnTo>
                        <a:lnTo>
                          <a:pt x="108" y="369"/>
                        </a:lnTo>
                        <a:lnTo>
                          <a:pt x="84" y="392"/>
                        </a:lnTo>
                        <a:lnTo>
                          <a:pt x="58" y="415"/>
                        </a:lnTo>
                        <a:lnTo>
                          <a:pt x="30" y="436"/>
                        </a:lnTo>
                        <a:lnTo>
                          <a:pt x="0" y="453"/>
                        </a:lnTo>
                        <a:lnTo>
                          <a:pt x="9" y="470"/>
                        </a:lnTo>
                        <a:lnTo>
                          <a:pt x="39" y="450"/>
                        </a:lnTo>
                        <a:lnTo>
                          <a:pt x="69" y="430"/>
                        </a:lnTo>
                        <a:lnTo>
                          <a:pt x="95" y="407"/>
                        </a:lnTo>
                        <a:lnTo>
                          <a:pt x="120" y="384"/>
                        </a:lnTo>
                        <a:lnTo>
                          <a:pt x="144" y="359"/>
                        </a:lnTo>
                        <a:lnTo>
                          <a:pt x="167" y="333"/>
                        </a:lnTo>
                        <a:lnTo>
                          <a:pt x="188" y="307"/>
                        </a:lnTo>
                        <a:lnTo>
                          <a:pt x="206" y="278"/>
                        </a:lnTo>
                        <a:lnTo>
                          <a:pt x="225" y="251"/>
                        </a:lnTo>
                        <a:lnTo>
                          <a:pt x="244" y="222"/>
                        </a:lnTo>
                        <a:lnTo>
                          <a:pt x="260" y="192"/>
                        </a:lnTo>
                        <a:lnTo>
                          <a:pt x="276" y="162"/>
                        </a:lnTo>
                        <a:lnTo>
                          <a:pt x="290" y="130"/>
                        </a:lnTo>
                        <a:lnTo>
                          <a:pt x="303" y="98"/>
                        </a:lnTo>
                        <a:lnTo>
                          <a:pt x="316" y="66"/>
                        </a:lnTo>
                        <a:lnTo>
                          <a:pt x="329" y="35"/>
                        </a:lnTo>
                        <a:lnTo>
                          <a:pt x="312" y="33"/>
                        </a:lnTo>
                        <a:lnTo>
                          <a:pt x="329" y="30"/>
                        </a:lnTo>
                        <a:lnTo>
                          <a:pt x="322" y="0"/>
                        </a:lnTo>
                        <a:lnTo>
                          <a:pt x="312" y="29"/>
                        </a:lnTo>
                        <a:lnTo>
                          <a:pt x="329" y="3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2396160" y="1134360"/>
                    <a:ext cx="401760" cy="457200"/>
                  </a:xfrm>
                  <a:custGeom>
                    <a:avLst/>
                    <a:gdLst/>
                    <a:ahLst/>
                    <a:rect l="l" t="t" r="r" b="b"/>
                    <a:pathLst>
                      <a:path w="281" h="272">
                        <a:moveTo>
                          <a:pt x="256" y="263"/>
                        </a:moveTo>
                        <a:lnTo>
                          <a:pt x="266" y="251"/>
                        </a:lnTo>
                        <a:lnTo>
                          <a:pt x="242" y="246"/>
                        </a:lnTo>
                        <a:lnTo>
                          <a:pt x="219" y="240"/>
                        </a:lnTo>
                        <a:lnTo>
                          <a:pt x="197" y="230"/>
                        </a:lnTo>
                        <a:lnTo>
                          <a:pt x="177" y="220"/>
                        </a:lnTo>
                        <a:lnTo>
                          <a:pt x="157" y="210"/>
                        </a:lnTo>
                        <a:lnTo>
                          <a:pt x="139" y="195"/>
                        </a:lnTo>
                        <a:lnTo>
                          <a:pt x="121" y="179"/>
                        </a:lnTo>
                        <a:lnTo>
                          <a:pt x="106" y="165"/>
                        </a:lnTo>
                        <a:lnTo>
                          <a:pt x="90" y="148"/>
                        </a:lnTo>
                        <a:lnTo>
                          <a:pt x="76" y="129"/>
                        </a:lnTo>
                        <a:lnTo>
                          <a:pt x="63" y="109"/>
                        </a:lnTo>
                        <a:lnTo>
                          <a:pt x="53" y="88"/>
                        </a:lnTo>
                        <a:lnTo>
                          <a:pt x="41" y="68"/>
                        </a:lnTo>
                        <a:lnTo>
                          <a:pt x="33" y="45"/>
                        </a:lnTo>
                        <a:lnTo>
                          <a:pt x="24" y="22"/>
                        </a:lnTo>
                        <a:lnTo>
                          <a:pt x="17" y="0"/>
                        </a:lnTo>
                        <a:lnTo>
                          <a:pt x="0" y="3"/>
                        </a:lnTo>
                        <a:lnTo>
                          <a:pt x="7" y="28"/>
                        </a:lnTo>
                        <a:lnTo>
                          <a:pt x="15" y="51"/>
                        </a:lnTo>
                        <a:lnTo>
                          <a:pt x="24" y="74"/>
                        </a:lnTo>
                        <a:lnTo>
                          <a:pt x="36" y="97"/>
                        </a:lnTo>
                        <a:lnTo>
                          <a:pt x="49" y="117"/>
                        </a:lnTo>
                        <a:lnTo>
                          <a:pt x="62" y="137"/>
                        </a:lnTo>
                        <a:lnTo>
                          <a:pt x="76" y="159"/>
                        </a:lnTo>
                        <a:lnTo>
                          <a:pt x="92" y="176"/>
                        </a:lnTo>
                        <a:lnTo>
                          <a:pt x="109" y="194"/>
                        </a:lnTo>
                        <a:lnTo>
                          <a:pt x="128" y="210"/>
                        </a:lnTo>
                        <a:lnTo>
                          <a:pt x="148" y="224"/>
                        </a:lnTo>
                        <a:lnTo>
                          <a:pt x="168" y="237"/>
                        </a:lnTo>
                        <a:lnTo>
                          <a:pt x="191" y="247"/>
                        </a:lnTo>
                        <a:lnTo>
                          <a:pt x="213" y="257"/>
                        </a:lnTo>
                        <a:lnTo>
                          <a:pt x="239" y="263"/>
                        </a:lnTo>
                        <a:lnTo>
                          <a:pt x="263" y="269"/>
                        </a:lnTo>
                        <a:lnTo>
                          <a:pt x="274" y="257"/>
                        </a:lnTo>
                        <a:lnTo>
                          <a:pt x="263" y="269"/>
                        </a:lnTo>
                        <a:lnTo>
                          <a:pt x="281" y="272"/>
                        </a:lnTo>
                        <a:lnTo>
                          <a:pt x="274" y="257"/>
                        </a:lnTo>
                        <a:lnTo>
                          <a:pt x="256" y="26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2655360" y="986400"/>
                    <a:ext cx="132840" cy="590040"/>
                  </a:xfrm>
                  <a:custGeom>
                    <a:avLst/>
                    <a:gdLst/>
                    <a:ahLst/>
                    <a:rect l="l" t="t" r="r" b="b"/>
                    <a:pathLst>
                      <a:path w="93" h="351">
                        <a:moveTo>
                          <a:pt x="35" y="57"/>
                        </a:moveTo>
                        <a:lnTo>
                          <a:pt x="19" y="64"/>
                        </a:lnTo>
                        <a:lnTo>
                          <a:pt x="29" y="99"/>
                        </a:lnTo>
                        <a:lnTo>
                          <a:pt x="35" y="133"/>
                        </a:lnTo>
                        <a:lnTo>
                          <a:pt x="39" y="169"/>
                        </a:lnTo>
                        <a:lnTo>
                          <a:pt x="44" y="205"/>
                        </a:lnTo>
                        <a:lnTo>
                          <a:pt x="48" y="241"/>
                        </a:lnTo>
                        <a:lnTo>
                          <a:pt x="54" y="279"/>
                        </a:lnTo>
                        <a:lnTo>
                          <a:pt x="62" y="316"/>
                        </a:lnTo>
                        <a:lnTo>
                          <a:pt x="75" y="351"/>
                        </a:lnTo>
                        <a:lnTo>
                          <a:pt x="93" y="345"/>
                        </a:lnTo>
                        <a:lnTo>
                          <a:pt x="80" y="311"/>
                        </a:lnTo>
                        <a:lnTo>
                          <a:pt x="71" y="276"/>
                        </a:lnTo>
                        <a:lnTo>
                          <a:pt x="65" y="241"/>
                        </a:lnTo>
                        <a:lnTo>
                          <a:pt x="61" y="205"/>
                        </a:lnTo>
                        <a:lnTo>
                          <a:pt x="56" y="169"/>
                        </a:lnTo>
                        <a:lnTo>
                          <a:pt x="52" y="133"/>
                        </a:lnTo>
                        <a:lnTo>
                          <a:pt x="46" y="96"/>
                        </a:lnTo>
                        <a:lnTo>
                          <a:pt x="36" y="58"/>
                        </a:lnTo>
                        <a:lnTo>
                          <a:pt x="20" y="65"/>
                        </a:lnTo>
                        <a:lnTo>
                          <a:pt x="35" y="57"/>
                        </a:lnTo>
                        <a:lnTo>
                          <a:pt x="0" y="0"/>
                        </a:lnTo>
                        <a:lnTo>
                          <a:pt x="19" y="64"/>
                        </a:lnTo>
                        <a:lnTo>
                          <a:pt x="35" y="5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>
                    <a:off x="2683800" y="1082520"/>
                    <a:ext cx="694440" cy="578160"/>
                  </a:xfrm>
                  <a:custGeom>
                    <a:avLst/>
                    <a:gdLst/>
                    <a:ahLst/>
                    <a:rect l="l" t="t" r="r" b="b"/>
                    <a:pathLst>
                      <a:path w="486" h="344">
                        <a:moveTo>
                          <a:pt x="481" y="311"/>
                        </a:moveTo>
                        <a:lnTo>
                          <a:pt x="481" y="311"/>
                        </a:lnTo>
                        <a:lnTo>
                          <a:pt x="446" y="323"/>
                        </a:lnTo>
                        <a:lnTo>
                          <a:pt x="411" y="327"/>
                        </a:lnTo>
                        <a:lnTo>
                          <a:pt x="377" y="326"/>
                        </a:lnTo>
                        <a:lnTo>
                          <a:pt x="344" y="320"/>
                        </a:lnTo>
                        <a:lnTo>
                          <a:pt x="312" y="308"/>
                        </a:lnTo>
                        <a:lnTo>
                          <a:pt x="282" y="292"/>
                        </a:lnTo>
                        <a:lnTo>
                          <a:pt x="250" y="275"/>
                        </a:lnTo>
                        <a:lnTo>
                          <a:pt x="221" y="252"/>
                        </a:lnTo>
                        <a:lnTo>
                          <a:pt x="192" y="226"/>
                        </a:lnTo>
                        <a:lnTo>
                          <a:pt x="165" y="199"/>
                        </a:lnTo>
                        <a:lnTo>
                          <a:pt x="137" y="168"/>
                        </a:lnTo>
                        <a:lnTo>
                          <a:pt x="111" y="135"/>
                        </a:lnTo>
                        <a:lnTo>
                          <a:pt x="86" y="102"/>
                        </a:lnTo>
                        <a:lnTo>
                          <a:pt x="61" y="69"/>
                        </a:lnTo>
                        <a:lnTo>
                          <a:pt x="38" y="34"/>
                        </a:lnTo>
                        <a:lnTo>
                          <a:pt x="15" y="0"/>
                        </a:lnTo>
                        <a:lnTo>
                          <a:pt x="0" y="8"/>
                        </a:lnTo>
                        <a:lnTo>
                          <a:pt x="24" y="43"/>
                        </a:lnTo>
                        <a:lnTo>
                          <a:pt x="47" y="78"/>
                        </a:lnTo>
                        <a:lnTo>
                          <a:pt x="71" y="114"/>
                        </a:lnTo>
                        <a:lnTo>
                          <a:pt x="97" y="147"/>
                        </a:lnTo>
                        <a:lnTo>
                          <a:pt x="123" y="180"/>
                        </a:lnTo>
                        <a:lnTo>
                          <a:pt x="150" y="210"/>
                        </a:lnTo>
                        <a:lnTo>
                          <a:pt x="181" y="241"/>
                        </a:lnTo>
                        <a:lnTo>
                          <a:pt x="210" y="266"/>
                        </a:lnTo>
                        <a:lnTo>
                          <a:pt x="241" y="290"/>
                        </a:lnTo>
                        <a:lnTo>
                          <a:pt x="273" y="310"/>
                        </a:lnTo>
                        <a:lnTo>
                          <a:pt x="306" y="326"/>
                        </a:lnTo>
                        <a:lnTo>
                          <a:pt x="341" y="337"/>
                        </a:lnTo>
                        <a:lnTo>
                          <a:pt x="377" y="343"/>
                        </a:lnTo>
                        <a:lnTo>
                          <a:pt x="411" y="344"/>
                        </a:lnTo>
                        <a:lnTo>
                          <a:pt x="449" y="340"/>
                        </a:lnTo>
                        <a:lnTo>
                          <a:pt x="486" y="329"/>
                        </a:lnTo>
                        <a:lnTo>
                          <a:pt x="486" y="329"/>
                        </a:lnTo>
                        <a:lnTo>
                          <a:pt x="481" y="31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" name=""/>
                  <p:cNvSpPr/>
                  <p:nvPr/>
                </p:nvSpPr>
                <p:spPr>
                  <a:xfrm>
                    <a:off x="3294000" y="1176840"/>
                    <a:ext cx="123840" cy="45900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73">
                        <a:moveTo>
                          <a:pt x="16" y="0"/>
                        </a:moveTo>
                        <a:lnTo>
                          <a:pt x="0" y="10"/>
                        </a:lnTo>
                        <a:lnTo>
                          <a:pt x="18" y="45"/>
                        </a:lnTo>
                        <a:lnTo>
                          <a:pt x="33" y="85"/>
                        </a:lnTo>
                        <a:lnTo>
                          <a:pt x="48" y="125"/>
                        </a:lnTo>
                        <a:lnTo>
                          <a:pt x="61" y="163"/>
                        </a:lnTo>
                        <a:lnTo>
                          <a:pt x="68" y="198"/>
                        </a:lnTo>
                        <a:lnTo>
                          <a:pt x="69" y="228"/>
                        </a:lnTo>
                        <a:lnTo>
                          <a:pt x="64" y="247"/>
                        </a:lnTo>
                        <a:lnTo>
                          <a:pt x="54" y="255"/>
                        </a:lnTo>
                        <a:lnTo>
                          <a:pt x="59" y="273"/>
                        </a:lnTo>
                        <a:lnTo>
                          <a:pt x="78" y="255"/>
                        </a:lnTo>
                        <a:lnTo>
                          <a:pt x="87" y="228"/>
                        </a:lnTo>
                        <a:lnTo>
                          <a:pt x="85" y="198"/>
                        </a:lnTo>
                        <a:lnTo>
                          <a:pt x="78" y="160"/>
                        </a:lnTo>
                        <a:lnTo>
                          <a:pt x="65" y="120"/>
                        </a:lnTo>
                        <a:lnTo>
                          <a:pt x="51" y="79"/>
                        </a:lnTo>
                        <a:lnTo>
                          <a:pt x="35" y="39"/>
                        </a:lnTo>
                        <a:lnTo>
                          <a:pt x="18" y="1"/>
                        </a:lnTo>
                        <a:lnTo>
                          <a:pt x="2" y="11"/>
                        </a:lnTo>
                        <a:lnTo>
                          <a:pt x="16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" name=""/>
                  <p:cNvSpPr/>
                  <p:nvPr/>
                </p:nvSpPr>
                <p:spPr>
                  <a:xfrm>
                    <a:off x="3296520" y="1176840"/>
                    <a:ext cx="159840" cy="13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82">
                        <a:moveTo>
                          <a:pt x="85" y="66"/>
                        </a:moveTo>
                        <a:lnTo>
                          <a:pt x="96" y="55"/>
                        </a:lnTo>
                        <a:lnTo>
                          <a:pt x="85" y="49"/>
                        </a:lnTo>
                        <a:lnTo>
                          <a:pt x="72" y="43"/>
                        </a:lnTo>
                        <a:lnTo>
                          <a:pt x="62" y="37"/>
                        </a:lnTo>
                        <a:lnTo>
                          <a:pt x="50" y="33"/>
                        </a:lnTo>
                        <a:lnTo>
                          <a:pt x="42" y="26"/>
                        </a:lnTo>
                        <a:lnTo>
                          <a:pt x="31" y="19"/>
                        </a:lnTo>
                        <a:lnTo>
                          <a:pt x="23" y="10"/>
                        </a:lnTo>
                        <a:lnTo>
                          <a:pt x="14" y="0"/>
                        </a:lnTo>
                        <a:lnTo>
                          <a:pt x="0" y="11"/>
                        </a:lnTo>
                        <a:lnTo>
                          <a:pt x="8" y="22"/>
                        </a:lnTo>
                        <a:lnTo>
                          <a:pt x="20" y="33"/>
                        </a:lnTo>
                        <a:lnTo>
                          <a:pt x="30" y="40"/>
                        </a:lnTo>
                        <a:lnTo>
                          <a:pt x="42" y="48"/>
                        </a:lnTo>
                        <a:lnTo>
                          <a:pt x="53" y="55"/>
                        </a:lnTo>
                        <a:lnTo>
                          <a:pt x="66" y="61"/>
                        </a:lnTo>
                        <a:lnTo>
                          <a:pt x="79" y="66"/>
                        </a:lnTo>
                        <a:lnTo>
                          <a:pt x="91" y="72"/>
                        </a:lnTo>
                        <a:lnTo>
                          <a:pt x="102" y="61"/>
                        </a:lnTo>
                        <a:lnTo>
                          <a:pt x="91" y="72"/>
                        </a:lnTo>
                        <a:lnTo>
                          <a:pt x="112" y="82"/>
                        </a:lnTo>
                        <a:lnTo>
                          <a:pt x="102" y="61"/>
                        </a:lnTo>
                        <a:lnTo>
                          <a:pt x="85" y="6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"/>
                  <p:cNvSpPr/>
                  <p:nvPr/>
                </p:nvSpPr>
                <p:spPr>
                  <a:xfrm>
                    <a:off x="2961000" y="978120"/>
                    <a:ext cx="481320" cy="309240"/>
                  </a:xfrm>
                  <a:custGeom>
                    <a:avLst/>
                    <a:gdLst/>
                    <a:ahLst/>
                    <a:rect l="l" t="t" r="r" b="b"/>
                    <a:pathLst>
                      <a:path w="337" h="184">
                        <a:moveTo>
                          <a:pt x="5" y="7"/>
                        </a:moveTo>
                        <a:lnTo>
                          <a:pt x="14" y="18"/>
                        </a:lnTo>
                        <a:lnTo>
                          <a:pt x="37" y="20"/>
                        </a:lnTo>
                        <a:lnTo>
                          <a:pt x="60" y="20"/>
                        </a:lnTo>
                        <a:lnTo>
                          <a:pt x="82" y="23"/>
                        </a:lnTo>
                        <a:lnTo>
                          <a:pt x="105" y="27"/>
                        </a:lnTo>
                        <a:lnTo>
                          <a:pt x="128" y="33"/>
                        </a:lnTo>
                        <a:lnTo>
                          <a:pt x="150" y="40"/>
                        </a:lnTo>
                        <a:lnTo>
                          <a:pt x="173" y="49"/>
                        </a:lnTo>
                        <a:lnTo>
                          <a:pt x="193" y="59"/>
                        </a:lnTo>
                        <a:lnTo>
                          <a:pt x="215" y="70"/>
                        </a:lnTo>
                        <a:lnTo>
                          <a:pt x="233" y="82"/>
                        </a:lnTo>
                        <a:lnTo>
                          <a:pt x="252" y="96"/>
                        </a:lnTo>
                        <a:lnTo>
                          <a:pt x="269" y="111"/>
                        </a:lnTo>
                        <a:lnTo>
                          <a:pt x="284" y="128"/>
                        </a:lnTo>
                        <a:lnTo>
                          <a:pt x="298" y="145"/>
                        </a:lnTo>
                        <a:lnTo>
                          <a:pt x="310" y="164"/>
                        </a:lnTo>
                        <a:lnTo>
                          <a:pt x="320" y="184"/>
                        </a:lnTo>
                        <a:lnTo>
                          <a:pt x="337" y="179"/>
                        </a:lnTo>
                        <a:lnTo>
                          <a:pt x="327" y="155"/>
                        </a:lnTo>
                        <a:lnTo>
                          <a:pt x="313" y="134"/>
                        </a:lnTo>
                        <a:lnTo>
                          <a:pt x="298" y="117"/>
                        </a:lnTo>
                        <a:lnTo>
                          <a:pt x="281" y="99"/>
                        </a:lnTo>
                        <a:lnTo>
                          <a:pt x="264" y="82"/>
                        </a:lnTo>
                        <a:lnTo>
                          <a:pt x="245" y="67"/>
                        </a:lnTo>
                        <a:lnTo>
                          <a:pt x="223" y="53"/>
                        </a:lnTo>
                        <a:lnTo>
                          <a:pt x="202" y="42"/>
                        </a:lnTo>
                        <a:lnTo>
                          <a:pt x="178" y="31"/>
                        </a:lnTo>
                        <a:lnTo>
                          <a:pt x="155" y="23"/>
                        </a:lnTo>
                        <a:lnTo>
                          <a:pt x="131" y="16"/>
                        </a:lnTo>
                        <a:lnTo>
                          <a:pt x="108" y="10"/>
                        </a:lnTo>
                        <a:lnTo>
                          <a:pt x="85" y="5"/>
                        </a:lnTo>
                        <a:lnTo>
                          <a:pt x="60" y="3"/>
                        </a:lnTo>
                        <a:lnTo>
                          <a:pt x="37" y="0"/>
                        </a:lnTo>
                        <a:lnTo>
                          <a:pt x="14" y="1"/>
                        </a:lnTo>
                        <a:lnTo>
                          <a:pt x="23" y="13"/>
                        </a:lnTo>
                        <a:lnTo>
                          <a:pt x="5" y="7"/>
                        </a:lnTo>
                        <a:lnTo>
                          <a:pt x="0" y="20"/>
                        </a:lnTo>
                        <a:lnTo>
                          <a:pt x="14" y="18"/>
                        </a:lnTo>
                        <a:lnTo>
                          <a:pt x="5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" name=""/>
                  <p:cNvSpPr/>
                  <p:nvPr/>
                </p:nvSpPr>
                <p:spPr>
                  <a:xfrm>
                    <a:off x="2967840" y="865800"/>
                    <a:ext cx="217440" cy="134280"/>
                  </a:xfrm>
                  <a:custGeom>
                    <a:avLst/>
                    <a:gdLst/>
                    <a:ahLst/>
                    <a:rect l="l" t="t" r="r" b="b"/>
                    <a:pathLst>
                      <a:path w="152" h="80">
                        <a:moveTo>
                          <a:pt x="126" y="12"/>
                        </a:moveTo>
                        <a:lnTo>
                          <a:pt x="126" y="12"/>
                        </a:lnTo>
                        <a:lnTo>
                          <a:pt x="135" y="25"/>
                        </a:lnTo>
                        <a:lnTo>
                          <a:pt x="135" y="25"/>
                        </a:lnTo>
                        <a:lnTo>
                          <a:pt x="122" y="28"/>
                        </a:lnTo>
                        <a:lnTo>
                          <a:pt x="100" y="29"/>
                        </a:lnTo>
                        <a:lnTo>
                          <a:pt x="73" y="31"/>
                        </a:lnTo>
                        <a:lnTo>
                          <a:pt x="44" y="36"/>
                        </a:lnTo>
                        <a:lnTo>
                          <a:pt x="18" y="49"/>
                        </a:lnTo>
                        <a:lnTo>
                          <a:pt x="0" y="74"/>
                        </a:lnTo>
                        <a:lnTo>
                          <a:pt x="18" y="80"/>
                        </a:lnTo>
                        <a:lnTo>
                          <a:pt x="29" y="64"/>
                        </a:lnTo>
                        <a:lnTo>
                          <a:pt x="49" y="54"/>
                        </a:lnTo>
                        <a:lnTo>
                          <a:pt x="73" y="48"/>
                        </a:lnTo>
                        <a:lnTo>
                          <a:pt x="100" y="47"/>
                        </a:lnTo>
                        <a:lnTo>
                          <a:pt x="124" y="45"/>
                        </a:lnTo>
                        <a:lnTo>
                          <a:pt x="143" y="39"/>
                        </a:lnTo>
                        <a:lnTo>
                          <a:pt x="152" y="22"/>
                        </a:lnTo>
                        <a:lnTo>
                          <a:pt x="140" y="0"/>
                        </a:lnTo>
                        <a:lnTo>
                          <a:pt x="140" y="0"/>
                        </a:lnTo>
                        <a:lnTo>
                          <a:pt x="126" y="1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"/>
                  <p:cNvSpPr/>
                  <p:nvPr/>
                </p:nvSpPr>
                <p:spPr>
                  <a:xfrm>
                    <a:off x="2538000" y="766440"/>
                    <a:ext cx="630000" cy="119160"/>
                  </a:xfrm>
                  <a:custGeom>
                    <a:avLst/>
                    <a:gdLst/>
                    <a:ahLst/>
                    <a:rect l="l" t="t" r="r" b="b"/>
                    <a:pathLst>
                      <a:path w="441" h="71">
                        <a:moveTo>
                          <a:pt x="17" y="13"/>
                        </a:moveTo>
                        <a:lnTo>
                          <a:pt x="23" y="29"/>
                        </a:lnTo>
                        <a:lnTo>
                          <a:pt x="51" y="32"/>
                        </a:lnTo>
                        <a:lnTo>
                          <a:pt x="78" y="32"/>
                        </a:lnTo>
                        <a:lnTo>
                          <a:pt x="107" y="31"/>
                        </a:lnTo>
                        <a:lnTo>
                          <a:pt x="136" y="28"/>
                        </a:lnTo>
                        <a:lnTo>
                          <a:pt x="163" y="26"/>
                        </a:lnTo>
                        <a:lnTo>
                          <a:pt x="192" y="23"/>
                        </a:lnTo>
                        <a:lnTo>
                          <a:pt x="221" y="22"/>
                        </a:lnTo>
                        <a:lnTo>
                          <a:pt x="248" y="20"/>
                        </a:lnTo>
                        <a:lnTo>
                          <a:pt x="275" y="20"/>
                        </a:lnTo>
                        <a:lnTo>
                          <a:pt x="303" y="20"/>
                        </a:lnTo>
                        <a:lnTo>
                          <a:pt x="326" y="23"/>
                        </a:lnTo>
                        <a:lnTo>
                          <a:pt x="350" y="28"/>
                        </a:lnTo>
                        <a:lnTo>
                          <a:pt x="372" y="35"/>
                        </a:lnTo>
                        <a:lnTo>
                          <a:pt x="392" y="45"/>
                        </a:lnTo>
                        <a:lnTo>
                          <a:pt x="411" y="56"/>
                        </a:lnTo>
                        <a:lnTo>
                          <a:pt x="427" y="71"/>
                        </a:lnTo>
                        <a:lnTo>
                          <a:pt x="441" y="59"/>
                        </a:lnTo>
                        <a:lnTo>
                          <a:pt x="423" y="42"/>
                        </a:lnTo>
                        <a:lnTo>
                          <a:pt x="401" y="28"/>
                        </a:lnTo>
                        <a:lnTo>
                          <a:pt x="378" y="18"/>
                        </a:lnTo>
                        <a:lnTo>
                          <a:pt x="353" y="10"/>
                        </a:lnTo>
                        <a:lnTo>
                          <a:pt x="329" y="6"/>
                        </a:lnTo>
                        <a:lnTo>
                          <a:pt x="303" y="3"/>
                        </a:lnTo>
                        <a:lnTo>
                          <a:pt x="275" y="0"/>
                        </a:lnTo>
                        <a:lnTo>
                          <a:pt x="248" y="3"/>
                        </a:lnTo>
                        <a:lnTo>
                          <a:pt x="221" y="5"/>
                        </a:lnTo>
                        <a:lnTo>
                          <a:pt x="192" y="6"/>
                        </a:lnTo>
                        <a:lnTo>
                          <a:pt x="163" y="9"/>
                        </a:lnTo>
                        <a:lnTo>
                          <a:pt x="136" y="10"/>
                        </a:lnTo>
                        <a:lnTo>
                          <a:pt x="107" y="13"/>
                        </a:lnTo>
                        <a:lnTo>
                          <a:pt x="78" y="12"/>
                        </a:lnTo>
                        <a:lnTo>
                          <a:pt x="51" y="12"/>
                        </a:lnTo>
                        <a:lnTo>
                          <a:pt x="23" y="12"/>
                        </a:lnTo>
                        <a:lnTo>
                          <a:pt x="29" y="28"/>
                        </a:lnTo>
                        <a:lnTo>
                          <a:pt x="17" y="13"/>
                        </a:lnTo>
                        <a:lnTo>
                          <a:pt x="0" y="28"/>
                        </a:lnTo>
                        <a:lnTo>
                          <a:pt x="23" y="29"/>
                        </a:lnTo>
                        <a:lnTo>
                          <a:pt x="17" y="1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"/>
                  <p:cNvSpPr/>
                  <p:nvPr/>
                </p:nvSpPr>
                <p:spPr>
                  <a:xfrm>
                    <a:off x="2562120" y="443520"/>
                    <a:ext cx="244080" cy="36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1" h="220">
                        <a:moveTo>
                          <a:pt x="149" y="21"/>
                        </a:moveTo>
                        <a:lnTo>
                          <a:pt x="142" y="6"/>
                        </a:lnTo>
                        <a:lnTo>
                          <a:pt x="123" y="32"/>
                        </a:lnTo>
                        <a:lnTo>
                          <a:pt x="107" y="58"/>
                        </a:lnTo>
                        <a:lnTo>
                          <a:pt x="91" y="84"/>
                        </a:lnTo>
                        <a:lnTo>
                          <a:pt x="75" y="112"/>
                        </a:lnTo>
                        <a:lnTo>
                          <a:pt x="58" y="137"/>
                        </a:lnTo>
                        <a:lnTo>
                          <a:pt x="41" y="161"/>
                        </a:lnTo>
                        <a:lnTo>
                          <a:pt x="21" y="185"/>
                        </a:lnTo>
                        <a:lnTo>
                          <a:pt x="0" y="205"/>
                        </a:lnTo>
                        <a:lnTo>
                          <a:pt x="12" y="220"/>
                        </a:lnTo>
                        <a:lnTo>
                          <a:pt x="35" y="197"/>
                        </a:lnTo>
                        <a:lnTo>
                          <a:pt x="55" y="172"/>
                        </a:lnTo>
                        <a:lnTo>
                          <a:pt x="72" y="146"/>
                        </a:lnTo>
                        <a:lnTo>
                          <a:pt x="90" y="120"/>
                        </a:lnTo>
                        <a:lnTo>
                          <a:pt x="106" y="93"/>
                        </a:lnTo>
                        <a:lnTo>
                          <a:pt x="121" y="67"/>
                        </a:lnTo>
                        <a:lnTo>
                          <a:pt x="137" y="41"/>
                        </a:lnTo>
                        <a:lnTo>
                          <a:pt x="156" y="18"/>
                        </a:lnTo>
                        <a:lnTo>
                          <a:pt x="149" y="3"/>
                        </a:lnTo>
                        <a:lnTo>
                          <a:pt x="156" y="18"/>
                        </a:lnTo>
                        <a:lnTo>
                          <a:pt x="171" y="0"/>
                        </a:lnTo>
                        <a:lnTo>
                          <a:pt x="149" y="3"/>
                        </a:lnTo>
                        <a:lnTo>
                          <a:pt x="149" y="2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" name=""/>
                  <p:cNvSpPr/>
                  <p:nvPr/>
                </p:nvSpPr>
                <p:spPr>
                  <a:xfrm>
                    <a:off x="2272320" y="448560"/>
                    <a:ext cx="502920" cy="569880"/>
                  </a:xfrm>
                  <a:custGeom>
                    <a:avLst/>
                    <a:gdLst/>
                    <a:ahLst/>
                    <a:rect l="l" t="t" r="r" b="b"/>
                    <a:pathLst>
                      <a:path w="352" h="339">
                        <a:moveTo>
                          <a:pt x="0" y="299"/>
                        </a:moveTo>
                        <a:lnTo>
                          <a:pt x="17" y="296"/>
                        </a:lnTo>
                        <a:lnTo>
                          <a:pt x="23" y="269"/>
                        </a:lnTo>
                        <a:lnTo>
                          <a:pt x="32" y="241"/>
                        </a:lnTo>
                        <a:lnTo>
                          <a:pt x="43" y="215"/>
                        </a:lnTo>
                        <a:lnTo>
                          <a:pt x="56" y="189"/>
                        </a:lnTo>
                        <a:lnTo>
                          <a:pt x="72" y="166"/>
                        </a:lnTo>
                        <a:lnTo>
                          <a:pt x="92" y="145"/>
                        </a:lnTo>
                        <a:lnTo>
                          <a:pt x="111" y="124"/>
                        </a:lnTo>
                        <a:lnTo>
                          <a:pt x="134" y="104"/>
                        </a:lnTo>
                        <a:lnTo>
                          <a:pt x="157" y="87"/>
                        </a:lnTo>
                        <a:lnTo>
                          <a:pt x="183" y="72"/>
                        </a:lnTo>
                        <a:lnTo>
                          <a:pt x="211" y="58"/>
                        </a:lnTo>
                        <a:lnTo>
                          <a:pt x="238" y="45"/>
                        </a:lnTo>
                        <a:lnTo>
                          <a:pt x="265" y="35"/>
                        </a:lnTo>
                        <a:lnTo>
                          <a:pt x="294" y="28"/>
                        </a:lnTo>
                        <a:lnTo>
                          <a:pt x="324" y="21"/>
                        </a:lnTo>
                        <a:lnTo>
                          <a:pt x="352" y="18"/>
                        </a:lnTo>
                        <a:lnTo>
                          <a:pt x="352" y="0"/>
                        </a:lnTo>
                        <a:lnTo>
                          <a:pt x="322" y="3"/>
                        </a:lnTo>
                        <a:lnTo>
                          <a:pt x="291" y="10"/>
                        </a:lnTo>
                        <a:lnTo>
                          <a:pt x="262" y="18"/>
                        </a:lnTo>
                        <a:lnTo>
                          <a:pt x="232" y="28"/>
                        </a:lnTo>
                        <a:lnTo>
                          <a:pt x="202" y="41"/>
                        </a:lnTo>
                        <a:lnTo>
                          <a:pt x="175" y="55"/>
                        </a:lnTo>
                        <a:lnTo>
                          <a:pt x="149" y="72"/>
                        </a:lnTo>
                        <a:lnTo>
                          <a:pt x="123" y="90"/>
                        </a:lnTo>
                        <a:lnTo>
                          <a:pt x="100" y="110"/>
                        </a:lnTo>
                        <a:lnTo>
                          <a:pt x="78" y="133"/>
                        </a:lnTo>
                        <a:lnTo>
                          <a:pt x="58" y="155"/>
                        </a:lnTo>
                        <a:lnTo>
                          <a:pt x="42" y="181"/>
                        </a:lnTo>
                        <a:lnTo>
                          <a:pt x="26" y="207"/>
                        </a:lnTo>
                        <a:lnTo>
                          <a:pt x="14" y="235"/>
                        </a:lnTo>
                        <a:lnTo>
                          <a:pt x="6" y="266"/>
                        </a:lnTo>
                        <a:lnTo>
                          <a:pt x="0" y="296"/>
                        </a:lnTo>
                        <a:lnTo>
                          <a:pt x="17" y="293"/>
                        </a:lnTo>
                        <a:lnTo>
                          <a:pt x="0" y="299"/>
                        </a:lnTo>
                        <a:lnTo>
                          <a:pt x="12" y="339"/>
                        </a:lnTo>
                        <a:lnTo>
                          <a:pt x="17" y="296"/>
                        </a:lnTo>
                        <a:lnTo>
                          <a:pt x="0" y="29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"/>
                  <p:cNvSpPr/>
                  <p:nvPr/>
                </p:nvSpPr>
                <p:spPr>
                  <a:xfrm>
                    <a:off x="2229120" y="420120"/>
                    <a:ext cx="79920" cy="53136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316">
                        <a:moveTo>
                          <a:pt x="19" y="26"/>
                        </a:moveTo>
                        <a:lnTo>
                          <a:pt x="3" y="32"/>
                        </a:lnTo>
                        <a:lnTo>
                          <a:pt x="24" y="65"/>
                        </a:lnTo>
                        <a:lnTo>
                          <a:pt x="36" y="97"/>
                        </a:lnTo>
                        <a:lnTo>
                          <a:pt x="36" y="131"/>
                        </a:lnTo>
                        <a:lnTo>
                          <a:pt x="34" y="167"/>
                        </a:lnTo>
                        <a:lnTo>
                          <a:pt x="29" y="205"/>
                        </a:lnTo>
                        <a:lnTo>
                          <a:pt x="24" y="241"/>
                        </a:lnTo>
                        <a:lnTo>
                          <a:pt x="24" y="277"/>
                        </a:lnTo>
                        <a:lnTo>
                          <a:pt x="30" y="316"/>
                        </a:lnTo>
                        <a:lnTo>
                          <a:pt x="47" y="310"/>
                        </a:lnTo>
                        <a:lnTo>
                          <a:pt x="42" y="277"/>
                        </a:lnTo>
                        <a:lnTo>
                          <a:pt x="42" y="241"/>
                        </a:lnTo>
                        <a:lnTo>
                          <a:pt x="46" y="205"/>
                        </a:lnTo>
                        <a:lnTo>
                          <a:pt x="52" y="167"/>
                        </a:lnTo>
                        <a:lnTo>
                          <a:pt x="56" y="131"/>
                        </a:lnTo>
                        <a:lnTo>
                          <a:pt x="53" y="94"/>
                        </a:lnTo>
                        <a:lnTo>
                          <a:pt x="42" y="56"/>
                        </a:lnTo>
                        <a:lnTo>
                          <a:pt x="17" y="20"/>
                        </a:lnTo>
                        <a:lnTo>
                          <a:pt x="1" y="26"/>
                        </a:lnTo>
                        <a:lnTo>
                          <a:pt x="17" y="20"/>
                        </a:lnTo>
                        <a:lnTo>
                          <a:pt x="0" y="0"/>
                        </a:lnTo>
                        <a:lnTo>
                          <a:pt x="1" y="26"/>
                        </a:lnTo>
                        <a:lnTo>
                          <a:pt x="19" y="2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2107800" y="463680"/>
                    <a:ext cx="148320" cy="36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04" h="218">
                        <a:moveTo>
                          <a:pt x="5" y="218"/>
                        </a:moveTo>
                        <a:lnTo>
                          <a:pt x="5" y="218"/>
                        </a:lnTo>
                        <a:lnTo>
                          <a:pt x="27" y="206"/>
                        </a:lnTo>
                        <a:lnTo>
                          <a:pt x="46" y="187"/>
                        </a:lnTo>
                        <a:lnTo>
                          <a:pt x="63" y="163"/>
                        </a:lnTo>
                        <a:lnTo>
                          <a:pt x="78" y="134"/>
                        </a:lnTo>
                        <a:lnTo>
                          <a:pt x="89" y="104"/>
                        </a:lnTo>
                        <a:lnTo>
                          <a:pt x="98" y="69"/>
                        </a:lnTo>
                        <a:lnTo>
                          <a:pt x="102" y="33"/>
                        </a:lnTo>
                        <a:lnTo>
                          <a:pt x="104" y="0"/>
                        </a:lnTo>
                        <a:lnTo>
                          <a:pt x="86" y="0"/>
                        </a:lnTo>
                        <a:lnTo>
                          <a:pt x="85" y="33"/>
                        </a:lnTo>
                        <a:lnTo>
                          <a:pt x="80" y="66"/>
                        </a:lnTo>
                        <a:lnTo>
                          <a:pt x="72" y="98"/>
                        </a:lnTo>
                        <a:lnTo>
                          <a:pt x="60" y="128"/>
                        </a:lnTo>
                        <a:lnTo>
                          <a:pt x="49" y="154"/>
                        </a:lnTo>
                        <a:lnTo>
                          <a:pt x="31" y="176"/>
                        </a:lnTo>
                        <a:lnTo>
                          <a:pt x="16" y="192"/>
                        </a:lnTo>
                        <a:lnTo>
                          <a:pt x="0" y="200"/>
                        </a:lnTo>
                        <a:lnTo>
                          <a:pt x="0" y="200"/>
                        </a:lnTo>
                        <a:lnTo>
                          <a:pt x="5" y="21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1674720" y="595080"/>
                    <a:ext cx="440280" cy="240480"/>
                  </a:xfrm>
                  <a:custGeom>
                    <a:avLst/>
                    <a:gdLst/>
                    <a:ahLst/>
                    <a:rect l="l" t="t" r="r" b="b"/>
                    <a:pathLst>
                      <a:path w="308" h="143">
                        <a:moveTo>
                          <a:pt x="32" y="1"/>
                        </a:moveTo>
                        <a:lnTo>
                          <a:pt x="26" y="17"/>
                        </a:lnTo>
                        <a:lnTo>
                          <a:pt x="49" y="17"/>
                        </a:lnTo>
                        <a:lnTo>
                          <a:pt x="68" y="22"/>
                        </a:lnTo>
                        <a:lnTo>
                          <a:pt x="86" y="29"/>
                        </a:lnTo>
                        <a:lnTo>
                          <a:pt x="105" y="37"/>
                        </a:lnTo>
                        <a:lnTo>
                          <a:pt x="124" y="47"/>
                        </a:lnTo>
                        <a:lnTo>
                          <a:pt x="140" y="59"/>
                        </a:lnTo>
                        <a:lnTo>
                          <a:pt x="157" y="72"/>
                        </a:lnTo>
                        <a:lnTo>
                          <a:pt x="174" y="85"/>
                        </a:lnTo>
                        <a:lnTo>
                          <a:pt x="190" y="98"/>
                        </a:lnTo>
                        <a:lnTo>
                          <a:pt x="206" y="111"/>
                        </a:lnTo>
                        <a:lnTo>
                          <a:pt x="223" y="122"/>
                        </a:lnTo>
                        <a:lnTo>
                          <a:pt x="239" y="131"/>
                        </a:lnTo>
                        <a:lnTo>
                          <a:pt x="255" y="138"/>
                        </a:lnTo>
                        <a:lnTo>
                          <a:pt x="274" y="143"/>
                        </a:lnTo>
                        <a:lnTo>
                          <a:pt x="290" y="143"/>
                        </a:lnTo>
                        <a:lnTo>
                          <a:pt x="308" y="140"/>
                        </a:lnTo>
                        <a:lnTo>
                          <a:pt x="303" y="122"/>
                        </a:lnTo>
                        <a:lnTo>
                          <a:pt x="290" y="125"/>
                        </a:lnTo>
                        <a:lnTo>
                          <a:pt x="274" y="125"/>
                        </a:lnTo>
                        <a:lnTo>
                          <a:pt x="261" y="121"/>
                        </a:lnTo>
                        <a:lnTo>
                          <a:pt x="248" y="114"/>
                        </a:lnTo>
                        <a:lnTo>
                          <a:pt x="232" y="105"/>
                        </a:lnTo>
                        <a:lnTo>
                          <a:pt x="218" y="96"/>
                        </a:lnTo>
                        <a:lnTo>
                          <a:pt x="202" y="84"/>
                        </a:lnTo>
                        <a:lnTo>
                          <a:pt x="186" y="71"/>
                        </a:lnTo>
                        <a:lnTo>
                          <a:pt x="169" y="58"/>
                        </a:lnTo>
                        <a:lnTo>
                          <a:pt x="151" y="45"/>
                        </a:lnTo>
                        <a:lnTo>
                          <a:pt x="133" y="33"/>
                        </a:lnTo>
                        <a:lnTo>
                          <a:pt x="114" y="20"/>
                        </a:lnTo>
                        <a:lnTo>
                          <a:pt x="92" y="11"/>
                        </a:lnTo>
                        <a:lnTo>
                          <a:pt x="71" y="4"/>
                        </a:lnTo>
                        <a:lnTo>
                          <a:pt x="49" y="0"/>
                        </a:lnTo>
                        <a:lnTo>
                          <a:pt x="26" y="0"/>
                        </a:lnTo>
                        <a:lnTo>
                          <a:pt x="20" y="16"/>
                        </a:lnTo>
                        <a:lnTo>
                          <a:pt x="26" y="0"/>
                        </a:lnTo>
                        <a:lnTo>
                          <a:pt x="0" y="1"/>
                        </a:lnTo>
                        <a:lnTo>
                          <a:pt x="20" y="16"/>
                        </a:lnTo>
                        <a:lnTo>
                          <a:pt x="32" y="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" name=""/>
                  <p:cNvSpPr/>
                  <p:nvPr/>
                </p:nvSpPr>
                <p:spPr>
                  <a:xfrm>
                    <a:off x="1703520" y="596520"/>
                    <a:ext cx="218160" cy="366480"/>
                  </a:xfrm>
                  <a:custGeom>
                    <a:avLst/>
                    <a:gdLst/>
                    <a:ahLst/>
                    <a:rect l="l" t="t" r="r" b="b"/>
                    <a:pathLst>
                      <a:path w="153" h="218">
                        <a:moveTo>
                          <a:pt x="121" y="218"/>
                        </a:moveTo>
                        <a:lnTo>
                          <a:pt x="126" y="201"/>
                        </a:lnTo>
                        <a:lnTo>
                          <a:pt x="105" y="182"/>
                        </a:lnTo>
                        <a:lnTo>
                          <a:pt x="91" y="159"/>
                        </a:lnTo>
                        <a:lnTo>
                          <a:pt x="79" y="134"/>
                        </a:lnTo>
                        <a:lnTo>
                          <a:pt x="69" y="106"/>
                        </a:lnTo>
                        <a:lnTo>
                          <a:pt x="61" y="78"/>
                        </a:lnTo>
                        <a:lnTo>
                          <a:pt x="49" y="49"/>
                        </a:lnTo>
                        <a:lnTo>
                          <a:pt x="33" y="23"/>
                        </a:lnTo>
                        <a:lnTo>
                          <a:pt x="12" y="0"/>
                        </a:lnTo>
                        <a:lnTo>
                          <a:pt x="0" y="15"/>
                        </a:lnTo>
                        <a:lnTo>
                          <a:pt x="19" y="35"/>
                        </a:lnTo>
                        <a:lnTo>
                          <a:pt x="32" y="58"/>
                        </a:lnTo>
                        <a:lnTo>
                          <a:pt x="43" y="84"/>
                        </a:lnTo>
                        <a:lnTo>
                          <a:pt x="52" y="111"/>
                        </a:lnTo>
                        <a:lnTo>
                          <a:pt x="62" y="140"/>
                        </a:lnTo>
                        <a:lnTo>
                          <a:pt x="74" y="168"/>
                        </a:lnTo>
                        <a:lnTo>
                          <a:pt x="91" y="194"/>
                        </a:lnTo>
                        <a:lnTo>
                          <a:pt x="117" y="215"/>
                        </a:lnTo>
                        <a:lnTo>
                          <a:pt x="121" y="198"/>
                        </a:lnTo>
                        <a:lnTo>
                          <a:pt x="121" y="218"/>
                        </a:lnTo>
                        <a:lnTo>
                          <a:pt x="153" y="218"/>
                        </a:lnTo>
                        <a:lnTo>
                          <a:pt x="126" y="201"/>
                        </a:lnTo>
                        <a:lnTo>
                          <a:pt x="121" y="21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"/>
                  <p:cNvSpPr/>
                  <p:nvPr/>
                </p:nvSpPr>
                <p:spPr>
                  <a:xfrm>
                    <a:off x="1324440" y="880920"/>
                    <a:ext cx="551520" cy="82080"/>
                  </a:xfrm>
                  <a:custGeom>
                    <a:avLst/>
                    <a:gdLst/>
                    <a:ahLst/>
                    <a:rect l="l" t="t" r="r" b="b"/>
                    <a:pathLst>
                      <a:path w="386" h="49">
                        <a:moveTo>
                          <a:pt x="72" y="1"/>
                        </a:moveTo>
                        <a:lnTo>
                          <a:pt x="70" y="19"/>
                        </a:lnTo>
                        <a:lnTo>
                          <a:pt x="91" y="20"/>
                        </a:lnTo>
                        <a:lnTo>
                          <a:pt x="111" y="20"/>
                        </a:lnTo>
                        <a:lnTo>
                          <a:pt x="130" y="20"/>
                        </a:lnTo>
                        <a:lnTo>
                          <a:pt x="150" y="20"/>
                        </a:lnTo>
                        <a:lnTo>
                          <a:pt x="168" y="23"/>
                        </a:lnTo>
                        <a:lnTo>
                          <a:pt x="189" y="26"/>
                        </a:lnTo>
                        <a:lnTo>
                          <a:pt x="209" y="27"/>
                        </a:lnTo>
                        <a:lnTo>
                          <a:pt x="228" y="30"/>
                        </a:lnTo>
                        <a:lnTo>
                          <a:pt x="246" y="35"/>
                        </a:lnTo>
                        <a:lnTo>
                          <a:pt x="267" y="38"/>
                        </a:lnTo>
                        <a:lnTo>
                          <a:pt x="287" y="40"/>
                        </a:lnTo>
                        <a:lnTo>
                          <a:pt x="307" y="42"/>
                        </a:lnTo>
                        <a:lnTo>
                          <a:pt x="327" y="45"/>
                        </a:lnTo>
                        <a:lnTo>
                          <a:pt x="346" y="46"/>
                        </a:lnTo>
                        <a:lnTo>
                          <a:pt x="366" y="49"/>
                        </a:lnTo>
                        <a:lnTo>
                          <a:pt x="386" y="49"/>
                        </a:lnTo>
                        <a:lnTo>
                          <a:pt x="386" y="29"/>
                        </a:lnTo>
                        <a:lnTo>
                          <a:pt x="366" y="29"/>
                        </a:lnTo>
                        <a:lnTo>
                          <a:pt x="346" y="29"/>
                        </a:lnTo>
                        <a:lnTo>
                          <a:pt x="327" y="27"/>
                        </a:lnTo>
                        <a:lnTo>
                          <a:pt x="307" y="25"/>
                        </a:lnTo>
                        <a:lnTo>
                          <a:pt x="287" y="23"/>
                        </a:lnTo>
                        <a:lnTo>
                          <a:pt x="269" y="20"/>
                        </a:lnTo>
                        <a:lnTo>
                          <a:pt x="249" y="17"/>
                        </a:lnTo>
                        <a:lnTo>
                          <a:pt x="230" y="13"/>
                        </a:lnTo>
                        <a:lnTo>
                          <a:pt x="209" y="10"/>
                        </a:lnTo>
                        <a:lnTo>
                          <a:pt x="189" y="9"/>
                        </a:lnTo>
                        <a:lnTo>
                          <a:pt x="171" y="6"/>
                        </a:lnTo>
                        <a:lnTo>
                          <a:pt x="150" y="3"/>
                        </a:lnTo>
                        <a:lnTo>
                          <a:pt x="130" y="0"/>
                        </a:lnTo>
                        <a:lnTo>
                          <a:pt x="111" y="0"/>
                        </a:lnTo>
                        <a:lnTo>
                          <a:pt x="91" y="0"/>
                        </a:lnTo>
                        <a:lnTo>
                          <a:pt x="70" y="1"/>
                        </a:lnTo>
                        <a:lnTo>
                          <a:pt x="69" y="19"/>
                        </a:lnTo>
                        <a:lnTo>
                          <a:pt x="70" y="1"/>
                        </a:lnTo>
                        <a:lnTo>
                          <a:pt x="0" y="6"/>
                        </a:lnTo>
                        <a:lnTo>
                          <a:pt x="69" y="19"/>
                        </a:lnTo>
                        <a:lnTo>
                          <a:pt x="72" y="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5280" bIns="35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"/>
                  <p:cNvSpPr/>
                  <p:nvPr/>
                </p:nvSpPr>
                <p:spPr>
                  <a:xfrm>
                    <a:off x="1423080" y="882360"/>
                    <a:ext cx="44280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310" h="75">
                        <a:moveTo>
                          <a:pt x="260" y="75"/>
                        </a:moveTo>
                        <a:lnTo>
                          <a:pt x="261" y="58"/>
                        </a:lnTo>
                        <a:lnTo>
                          <a:pt x="245" y="54"/>
                        </a:lnTo>
                        <a:lnTo>
                          <a:pt x="229" y="50"/>
                        </a:lnTo>
                        <a:lnTo>
                          <a:pt x="213" y="45"/>
                        </a:lnTo>
                        <a:lnTo>
                          <a:pt x="198" y="41"/>
                        </a:lnTo>
                        <a:lnTo>
                          <a:pt x="180" y="37"/>
                        </a:lnTo>
                        <a:lnTo>
                          <a:pt x="164" y="34"/>
                        </a:lnTo>
                        <a:lnTo>
                          <a:pt x="148" y="29"/>
                        </a:lnTo>
                        <a:lnTo>
                          <a:pt x="133" y="26"/>
                        </a:lnTo>
                        <a:lnTo>
                          <a:pt x="117" y="22"/>
                        </a:lnTo>
                        <a:lnTo>
                          <a:pt x="99" y="19"/>
                        </a:lnTo>
                        <a:lnTo>
                          <a:pt x="84" y="16"/>
                        </a:lnTo>
                        <a:lnTo>
                          <a:pt x="68" y="12"/>
                        </a:lnTo>
                        <a:lnTo>
                          <a:pt x="52" y="9"/>
                        </a:lnTo>
                        <a:lnTo>
                          <a:pt x="35" y="6"/>
                        </a:lnTo>
                        <a:lnTo>
                          <a:pt x="19" y="3"/>
                        </a:lnTo>
                        <a:lnTo>
                          <a:pt x="3" y="0"/>
                        </a:lnTo>
                        <a:lnTo>
                          <a:pt x="0" y="18"/>
                        </a:lnTo>
                        <a:lnTo>
                          <a:pt x="16" y="21"/>
                        </a:lnTo>
                        <a:lnTo>
                          <a:pt x="32" y="24"/>
                        </a:lnTo>
                        <a:lnTo>
                          <a:pt x="49" y="26"/>
                        </a:lnTo>
                        <a:lnTo>
                          <a:pt x="65" y="29"/>
                        </a:lnTo>
                        <a:lnTo>
                          <a:pt x="81" y="34"/>
                        </a:lnTo>
                        <a:lnTo>
                          <a:pt x="97" y="37"/>
                        </a:lnTo>
                        <a:lnTo>
                          <a:pt x="114" y="39"/>
                        </a:lnTo>
                        <a:lnTo>
                          <a:pt x="130" y="44"/>
                        </a:lnTo>
                        <a:lnTo>
                          <a:pt x="146" y="47"/>
                        </a:lnTo>
                        <a:lnTo>
                          <a:pt x="161" y="51"/>
                        </a:lnTo>
                        <a:lnTo>
                          <a:pt x="177" y="54"/>
                        </a:lnTo>
                        <a:lnTo>
                          <a:pt x="195" y="58"/>
                        </a:lnTo>
                        <a:lnTo>
                          <a:pt x="210" y="62"/>
                        </a:lnTo>
                        <a:lnTo>
                          <a:pt x="226" y="67"/>
                        </a:lnTo>
                        <a:lnTo>
                          <a:pt x="242" y="71"/>
                        </a:lnTo>
                        <a:lnTo>
                          <a:pt x="258" y="75"/>
                        </a:lnTo>
                        <a:lnTo>
                          <a:pt x="260" y="58"/>
                        </a:lnTo>
                        <a:lnTo>
                          <a:pt x="260" y="75"/>
                        </a:lnTo>
                        <a:lnTo>
                          <a:pt x="310" y="70"/>
                        </a:lnTo>
                        <a:lnTo>
                          <a:pt x="261" y="58"/>
                        </a:lnTo>
                        <a:lnTo>
                          <a:pt x="260" y="7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" name=""/>
                  <p:cNvSpPr/>
                  <p:nvPr/>
                </p:nvSpPr>
                <p:spPr>
                  <a:xfrm>
                    <a:off x="1087200" y="979920"/>
                    <a:ext cx="707400" cy="974880"/>
                  </a:xfrm>
                  <a:custGeom>
                    <a:avLst/>
                    <a:gdLst/>
                    <a:ahLst/>
                    <a:rect l="l" t="t" r="r" b="b"/>
                    <a:pathLst>
                      <a:path w="495" h="580">
                        <a:moveTo>
                          <a:pt x="1" y="547"/>
                        </a:moveTo>
                        <a:lnTo>
                          <a:pt x="17" y="552"/>
                        </a:lnTo>
                        <a:lnTo>
                          <a:pt x="19" y="502"/>
                        </a:lnTo>
                        <a:lnTo>
                          <a:pt x="24" y="453"/>
                        </a:lnTo>
                        <a:lnTo>
                          <a:pt x="36" y="405"/>
                        </a:lnTo>
                        <a:lnTo>
                          <a:pt x="52" y="359"/>
                        </a:lnTo>
                        <a:lnTo>
                          <a:pt x="72" y="316"/>
                        </a:lnTo>
                        <a:lnTo>
                          <a:pt x="94" y="273"/>
                        </a:lnTo>
                        <a:lnTo>
                          <a:pt x="121" y="234"/>
                        </a:lnTo>
                        <a:lnTo>
                          <a:pt x="153" y="195"/>
                        </a:lnTo>
                        <a:lnTo>
                          <a:pt x="184" y="162"/>
                        </a:lnTo>
                        <a:lnTo>
                          <a:pt x="223" y="130"/>
                        </a:lnTo>
                        <a:lnTo>
                          <a:pt x="262" y="101"/>
                        </a:lnTo>
                        <a:lnTo>
                          <a:pt x="304" y="77"/>
                        </a:lnTo>
                        <a:lnTo>
                          <a:pt x="349" y="56"/>
                        </a:lnTo>
                        <a:lnTo>
                          <a:pt x="396" y="39"/>
                        </a:lnTo>
                        <a:lnTo>
                          <a:pt x="444" y="26"/>
                        </a:lnTo>
                        <a:lnTo>
                          <a:pt x="495" y="17"/>
                        </a:lnTo>
                        <a:lnTo>
                          <a:pt x="495" y="0"/>
                        </a:lnTo>
                        <a:lnTo>
                          <a:pt x="441" y="9"/>
                        </a:lnTo>
                        <a:lnTo>
                          <a:pt x="391" y="22"/>
                        </a:lnTo>
                        <a:lnTo>
                          <a:pt x="343" y="39"/>
                        </a:lnTo>
                        <a:lnTo>
                          <a:pt x="296" y="59"/>
                        </a:lnTo>
                        <a:lnTo>
                          <a:pt x="254" y="87"/>
                        </a:lnTo>
                        <a:lnTo>
                          <a:pt x="212" y="116"/>
                        </a:lnTo>
                        <a:lnTo>
                          <a:pt x="173" y="147"/>
                        </a:lnTo>
                        <a:lnTo>
                          <a:pt x="138" y="183"/>
                        </a:lnTo>
                        <a:lnTo>
                          <a:pt x="107" y="222"/>
                        </a:lnTo>
                        <a:lnTo>
                          <a:pt x="79" y="264"/>
                        </a:lnTo>
                        <a:lnTo>
                          <a:pt x="55" y="307"/>
                        </a:lnTo>
                        <a:lnTo>
                          <a:pt x="35" y="353"/>
                        </a:lnTo>
                        <a:lnTo>
                          <a:pt x="19" y="402"/>
                        </a:lnTo>
                        <a:lnTo>
                          <a:pt x="7" y="450"/>
                        </a:lnTo>
                        <a:lnTo>
                          <a:pt x="1" y="502"/>
                        </a:lnTo>
                        <a:lnTo>
                          <a:pt x="0" y="552"/>
                        </a:lnTo>
                        <a:lnTo>
                          <a:pt x="16" y="558"/>
                        </a:lnTo>
                        <a:lnTo>
                          <a:pt x="0" y="552"/>
                        </a:lnTo>
                        <a:lnTo>
                          <a:pt x="0" y="580"/>
                        </a:lnTo>
                        <a:lnTo>
                          <a:pt x="16" y="558"/>
                        </a:lnTo>
                        <a:lnTo>
                          <a:pt x="1" y="54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"/>
                  <p:cNvSpPr/>
                  <p:nvPr/>
                </p:nvSpPr>
                <p:spPr>
                  <a:xfrm>
                    <a:off x="1088640" y="1496160"/>
                    <a:ext cx="321480" cy="421560"/>
                  </a:xfrm>
                  <a:custGeom>
                    <a:avLst/>
                    <a:gdLst/>
                    <a:ahLst/>
                    <a:rect l="l" t="t" r="r" b="b"/>
                    <a:pathLst>
                      <a:path w="225" h="251">
                        <a:moveTo>
                          <a:pt x="217" y="19"/>
                        </a:moveTo>
                        <a:lnTo>
                          <a:pt x="205" y="8"/>
                        </a:lnTo>
                        <a:lnTo>
                          <a:pt x="165" y="25"/>
                        </a:lnTo>
                        <a:lnTo>
                          <a:pt x="132" y="49"/>
                        </a:lnTo>
                        <a:lnTo>
                          <a:pt x="104" y="78"/>
                        </a:lnTo>
                        <a:lnTo>
                          <a:pt x="81" y="110"/>
                        </a:lnTo>
                        <a:lnTo>
                          <a:pt x="59" y="143"/>
                        </a:lnTo>
                        <a:lnTo>
                          <a:pt x="41" y="176"/>
                        </a:lnTo>
                        <a:lnTo>
                          <a:pt x="22" y="209"/>
                        </a:lnTo>
                        <a:lnTo>
                          <a:pt x="0" y="240"/>
                        </a:lnTo>
                        <a:lnTo>
                          <a:pt x="15" y="251"/>
                        </a:lnTo>
                        <a:lnTo>
                          <a:pt x="36" y="218"/>
                        </a:lnTo>
                        <a:lnTo>
                          <a:pt x="58" y="185"/>
                        </a:lnTo>
                        <a:lnTo>
                          <a:pt x="77" y="152"/>
                        </a:lnTo>
                        <a:lnTo>
                          <a:pt x="96" y="119"/>
                        </a:lnTo>
                        <a:lnTo>
                          <a:pt x="119" y="90"/>
                        </a:lnTo>
                        <a:lnTo>
                          <a:pt x="143" y="64"/>
                        </a:lnTo>
                        <a:lnTo>
                          <a:pt x="173" y="42"/>
                        </a:lnTo>
                        <a:lnTo>
                          <a:pt x="211" y="25"/>
                        </a:lnTo>
                        <a:lnTo>
                          <a:pt x="199" y="13"/>
                        </a:lnTo>
                        <a:lnTo>
                          <a:pt x="217" y="19"/>
                        </a:lnTo>
                        <a:lnTo>
                          <a:pt x="225" y="0"/>
                        </a:lnTo>
                        <a:lnTo>
                          <a:pt x="205" y="8"/>
                        </a:lnTo>
                        <a:lnTo>
                          <a:pt x="217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" name=""/>
                  <p:cNvSpPr/>
                  <p:nvPr/>
                </p:nvSpPr>
                <p:spPr>
                  <a:xfrm>
                    <a:off x="1126080" y="1518120"/>
                    <a:ext cx="272520" cy="771480"/>
                  </a:xfrm>
                  <a:custGeom>
                    <a:avLst/>
                    <a:gdLst/>
                    <a:ahLst/>
                    <a:rect l="l" t="t" r="r" b="b"/>
                    <a:pathLst>
                      <a:path w="191" h="459">
                        <a:moveTo>
                          <a:pt x="2" y="427"/>
                        </a:moveTo>
                        <a:lnTo>
                          <a:pt x="18" y="433"/>
                        </a:lnTo>
                        <a:lnTo>
                          <a:pt x="19" y="372"/>
                        </a:lnTo>
                        <a:lnTo>
                          <a:pt x="31" y="316"/>
                        </a:lnTo>
                        <a:lnTo>
                          <a:pt x="49" y="264"/>
                        </a:lnTo>
                        <a:lnTo>
                          <a:pt x="75" y="212"/>
                        </a:lnTo>
                        <a:lnTo>
                          <a:pt x="104" y="162"/>
                        </a:lnTo>
                        <a:lnTo>
                          <a:pt x="134" y="111"/>
                        </a:lnTo>
                        <a:lnTo>
                          <a:pt x="165" y="59"/>
                        </a:lnTo>
                        <a:lnTo>
                          <a:pt x="191" y="6"/>
                        </a:lnTo>
                        <a:lnTo>
                          <a:pt x="173" y="0"/>
                        </a:lnTo>
                        <a:lnTo>
                          <a:pt x="147" y="51"/>
                        </a:lnTo>
                        <a:lnTo>
                          <a:pt x="117" y="103"/>
                        </a:lnTo>
                        <a:lnTo>
                          <a:pt x="87" y="153"/>
                        </a:lnTo>
                        <a:lnTo>
                          <a:pt x="58" y="204"/>
                        </a:lnTo>
                        <a:lnTo>
                          <a:pt x="32" y="258"/>
                        </a:lnTo>
                        <a:lnTo>
                          <a:pt x="13" y="313"/>
                        </a:lnTo>
                        <a:lnTo>
                          <a:pt x="2" y="372"/>
                        </a:lnTo>
                        <a:lnTo>
                          <a:pt x="0" y="433"/>
                        </a:lnTo>
                        <a:lnTo>
                          <a:pt x="16" y="439"/>
                        </a:lnTo>
                        <a:lnTo>
                          <a:pt x="0" y="433"/>
                        </a:lnTo>
                        <a:lnTo>
                          <a:pt x="2" y="459"/>
                        </a:lnTo>
                        <a:lnTo>
                          <a:pt x="16" y="439"/>
                        </a:lnTo>
                        <a:lnTo>
                          <a:pt x="2" y="42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" name=""/>
                  <p:cNvSpPr/>
                  <p:nvPr/>
                </p:nvSpPr>
                <p:spPr>
                  <a:xfrm>
                    <a:off x="1128960" y="1954800"/>
                    <a:ext cx="204480" cy="300960"/>
                  </a:xfrm>
                  <a:custGeom>
                    <a:avLst/>
                    <a:gdLst/>
                    <a:ahLst/>
                    <a:rect l="l" t="t" r="r" b="b"/>
                    <a:pathLst>
                      <a:path w="143" h="179">
                        <a:moveTo>
                          <a:pt x="131" y="33"/>
                        </a:moveTo>
                        <a:lnTo>
                          <a:pt x="117" y="23"/>
                        </a:lnTo>
                        <a:lnTo>
                          <a:pt x="99" y="40"/>
                        </a:lnTo>
                        <a:lnTo>
                          <a:pt x="83" y="56"/>
                        </a:lnTo>
                        <a:lnTo>
                          <a:pt x="68" y="75"/>
                        </a:lnTo>
                        <a:lnTo>
                          <a:pt x="55" y="92"/>
                        </a:lnTo>
                        <a:lnTo>
                          <a:pt x="40" y="111"/>
                        </a:lnTo>
                        <a:lnTo>
                          <a:pt x="27" y="131"/>
                        </a:lnTo>
                        <a:lnTo>
                          <a:pt x="14" y="148"/>
                        </a:lnTo>
                        <a:lnTo>
                          <a:pt x="0" y="167"/>
                        </a:lnTo>
                        <a:lnTo>
                          <a:pt x="14" y="179"/>
                        </a:lnTo>
                        <a:lnTo>
                          <a:pt x="29" y="160"/>
                        </a:lnTo>
                        <a:lnTo>
                          <a:pt x="42" y="140"/>
                        </a:lnTo>
                        <a:lnTo>
                          <a:pt x="55" y="122"/>
                        </a:lnTo>
                        <a:lnTo>
                          <a:pt x="69" y="104"/>
                        </a:lnTo>
                        <a:lnTo>
                          <a:pt x="82" y="86"/>
                        </a:lnTo>
                        <a:lnTo>
                          <a:pt x="98" y="68"/>
                        </a:lnTo>
                        <a:lnTo>
                          <a:pt x="111" y="52"/>
                        </a:lnTo>
                        <a:lnTo>
                          <a:pt x="128" y="37"/>
                        </a:lnTo>
                        <a:lnTo>
                          <a:pt x="114" y="27"/>
                        </a:lnTo>
                        <a:lnTo>
                          <a:pt x="131" y="33"/>
                        </a:lnTo>
                        <a:lnTo>
                          <a:pt x="143" y="0"/>
                        </a:lnTo>
                        <a:lnTo>
                          <a:pt x="117" y="23"/>
                        </a:lnTo>
                        <a:lnTo>
                          <a:pt x="131" y="3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" name=""/>
                  <p:cNvSpPr/>
                  <p:nvPr/>
                </p:nvSpPr>
                <p:spPr>
                  <a:xfrm>
                    <a:off x="1264680" y="2000160"/>
                    <a:ext cx="51480" cy="28908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172">
                        <a:moveTo>
                          <a:pt x="17" y="155"/>
                        </a:moveTo>
                        <a:lnTo>
                          <a:pt x="26" y="163"/>
                        </a:lnTo>
                        <a:lnTo>
                          <a:pt x="22" y="108"/>
                        </a:lnTo>
                        <a:lnTo>
                          <a:pt x="17" y="82"/>
                        </a:lnTo>
                        <a:lnTo>
                          <a:pt x="19" y="58"/>
                        </a:lnTo>
                        <a:lnTo>
                          <a:pt x="36" y="6"/>
                        </a:lnTo>
                        <a:lnTo>
                          <a:pt x="19" y="0"/>
                        </a:lnTo>
                        <a:lnTo>
                          <a:pt x="1" y="55"/>
                        </a:lnTo>
                        <a:lnTo>
                          <a:pt x="0" y="82"/>
                        </a:lnTo>
                        <a:lnTo>
                          <a:pt x="4" y="108"/>
                        </a:lnTo>
                        <a:lnTo>
                          <a:pt x="6" y="163"/>
                        </a:lnTo>
                        <a:lnTo>
                          <a:pt x="14" y="172"/>
                        </a:lnTo>
                        <a:lnTo>
                          <a:pt x="6" y="163"/>
                        </a:lnTo>
                        <a:lnTo>
                          <a:pt x="6" y="170"/>
                        </a:lnTo>
                        <a:lnTo>
                          <a:pt x="14" y="172"/>
                        </a:lnTo>
                        <a:lnTo>
                          <a:pt x="17" y="15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"/>
                  <p:cNvSpPr/>
                  <p:nvPr/>
                </p:nvSpPr>
                <p:spPr>
                  <a:xfrm>
                    <a:off x="1986480" y="1608840"/>
                    <a:ext cx="240120" cy="280440"/>
                  </a:xfrm>
                  <a:custGeom>
                    <a:avLst/>
                    <a:gdLst/>
                    <a:ahLst/>
                    <a:rect l="l" t="t" r="r" b="b"/>
                    <a:pathLst>
                      <a:path w="168" h="167">
                        <a:moveTo>
                          <a:pt x="0" y="167"/>
                        </a:moveTo>
                        <a:lnTo>
                          <a:pt x="5" y="147"/>
                        </a:lnTo>
                        <a:lnTo>
                          <a:pt x="18" y="127"/>
                        </a:lnTo>
                        <a:lnTo>
                          <a:pt x="37" y="108"/>
                        </a:lnTo>
                        <a:lnTo>
                          <a:pt x="60" y="89"/>
                        </a:lnTo>
                        <a:lnTo>
                          <a:pt x="86" y="75"/>
                        </a:lnTo>
                        <a:lnTo>
                          <a:pt x="114" y="65"/>
                        </a:lnTo>
                        <a:lnTo>
                          <a:pt x="141" y="57"/>
                        </a:lnTo>
                        <a:lnTo>
                          <a:pt x="168" y="56"/>
                        </a:lnTo>
                        <a:lnTo>
                          <a:pt x="161" y="43"/>
                        </a:lnTo>
                        <a:lnTo>
                          <a:pt x="155" y="30"/>
                        </a:lnTo>
                        <a:lnTo>
                          <a:pt x="150" y="16"/>
                        </a:lnTo>
                        <a:lnTo>
                          <a:pt x="151" y="0"/>
                        </a:lnTo>
                        <a:lnTo>
                          <a:pt x="119" y="11"/>
                        </a:lnTo>
                        <a:lnTo>
                          <a:pt x="90" y="27"/>
                        </a:lnTo>
                        <a:lnTo>
                          <a:pt x="67" y="44"/>
                        </a:lnTo>
                        <a:lnTo>
                          <a:pt x="47" y="66"/>
                        </a:lnTo>
                        <a:lnTo>
                          <a:pt x="31" y="89"/>
                        </a:lnTo>
                        <a:lnTo>
                          <a:pt x="18" y="114"/>
                        </a:lnTo>
                        <a:lnTo>
                          <a:pt x="8" y="140"/>
                        </a:lnTo>
                        <a:lnTo>
                          <a:pt x="0" y="16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1973520" y="1687680"/>
                    <a:ext cx="274320" cy="20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92" h="120">
                        <a:moveTo>
                          <a:pt x="169" y="12"/>
                        </a:moveTo>
                        <a:lnTo>
                          <a:pt x="177" y="0"/>
                        </a:lnTo>
                        <a:lnTo>
                          <a:pt x="148" y="2"/>
                        </a:lnTo>
                        <a:lnTo>
                          <a:pt x="120" y="9"/>
                        </a:lnTo>
                        <a:lnTo>
                          <a:pt x="92" y="19"/>
                        </a:lnTo>
                        <a:lnTo>
                          <a:pt x="65" y="35"/>
                        </a:lnTo>
                        <a:lnTo>
                          <a:pt x="40" y="54"/>
                        </a:lnTo>
                        <a:lnTo>
                          <a:pt x="20" y="74"/>
                        </a:lnTo>
                        <a:lnTo>
                          <a:pt x="6" y="97"/>
                        </a:lnTo>
                        <a:lnTo>
                          <a:pt x="0" y="120"/>
                        </a:lnTo>
                        <a:lnTo>
                          <a:pt x="17" y="120"/>
                        </a:lnTo>
                        <a:lnTo>
                          <a:pt x="23" y="103"/>
                        </a:lnTo>
                        <a:lnTo>
                          <a:pt x="35" y="85"/>
                        </a:lnTo>
                        <a:lnTo>
                          <a:pt x="52" y="68"/>
                        </a:lnTo>
                        <a:lnTo>
                          <a:pt x="74" y="49"/>
                        </a:lnTo>
                        <a:lnTo>
                          <a:pt x="98" y="36"/>
                        </a:lnTo>
                        <a:lnTo>
                          <a:pt x="125" y="26"/>
                        </a:lnTo>
                        <a:lnTo>
                          <a:pt x="151" y="19"/>
                        </a:lnTo>
                        <a:lnTo>
                          <a:pt x="177" y="18"/>
                        </a:lnTo>
                        <a:lnTo>
                          <a:pt x="186" y="6"/>
                        </a:lnTo>
                        <a:lnTo>
                          <a:pt x="177" y="18"/>
                        </a:lnTo>
                        <a:lnTo>
                          <a:pt x="192" y="19"/>
                        </a:lnTo>
                        <a:lnTo>
                          <a:pt x="186" y="6"/>
                        </a:lnTo>
                        <a:lnTo>
                          <a:pt x="169" y="1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2188080" y="1586880"/>
                    <a:ext cx="51120" cy="1206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72">
                        <a:moveTo>
                          <a:pt x="11" y="21"/>
                        </a:moveTo>
                        <a:lnTo>
                          <a:pt x="1" y="11"/>
                        </a:lnTo>
                        <a:lnTo>
                          <a:pt x="0" y="29"/>
                        </a:lnTo>
                        <a:lnTo>
                          <a:pt x="6" y="46"/>
                        </a:lnTo>
                        <a:lnTo>
                          <a:pt x="11" y="60"/>
                        </a:lnTo>
                        <a:lnTo>
                          <a:pt x="19" y="72"/>
                        </a:lnTo>
                        <a:lnTo>
                          <a:pt x="36" y="66"/>
                        </a:lnTo>
                        <a:lnTo>
                          <a:pt x="29" y="52"/>
                        </a:lnTo>
                        <a:lnTo>
                          <a:pt x="23" y="40"/>
                        </a:lnTo>
                        <a:lnTo>
                          <a:pt x="17" y="29"/>
                        </a:lnTo>
                        <a:lnTo>
                          <a:pt x="19" y="14"/>
                        </a:lnTo>
                        <a:lnTo>
                          <a:pt x="9" y="4"/>
                        </a:lnTo>
                        <a:lnTo>
                          <a:pt x="19" y="14"/>
                        </a:lnTo>
                        <a:lnTo>
                          <a:pt x="23" y="0"/>
                        </a:lnTo>
                        <a:lnTo>
                          <a:pt x="9" y="4"/>
                        </a:lnTo>
                        <a:lnTo>
                          <a:pt x="11" y="2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"/>
                  <p:cNvSpPr/>
                  <p:nvPr/>
                </p:nvSpPr>
                <p:spPr>
                  <a:xfrm>
                    <a:off x="1973520" y="1593360"/>
                    <a:ext cx="230040" cy="297720"/>
                  </a:xfrm>
                  <a:custGeom>
                    <a:avLst/>
                    <a:gdLst/>
                    <a:ahLst/>
                    <a:rect l="l" t="t" r="r" b="b"/>
                    <a:pathLst>
                      <a:path w="161" h="177">
                        <a:moveTo>
                          <a:pt x="0" y="176"/>
                        </a:moveTo>
                        <a:lnTo>
                          <a:pt x="17" y="177"/>
                        </a:lnTo>
                        <a:lnTo>
                          <a:pt x="26" y="151"/>
                        </a:lnTo>
                        <a:lnTo>
                          <a:pt x="36" y="125"/>
                        </a:lnTo>
                        <a:lnTo>
                          <a:pt x="48" y="102"/>
                        </a:lnTo>
                        <a:lnTo>
                          <a:pt x="63" y="81"/>
                        </a:lnTo>
                        <a:lnTo>
                          <a:pt x="82" y="61"/>
                        </a:lnTo>
                        <a:lnTo>
                          <a:pt x="104" y="43"/>
                        </a:lnTo>
                        <a:lnTo>
                          <a:pt x="131" y="29"/>
                        </a:lnTo>
                        <a:lnTo>
                          <a:pt x="161" y="17"/>
                        </a:lnTo>
                        <a:lnTo>
                          <a:pt x="159" y="0"/>
                        </a:lnTo>
                        <a:lnTo>
                          <a:pt x="125" y="12"/>
                        </a:lnTo>
                        <a:lnTo>
                          <a:pt x="95" y="29"/>
                        </a:lnTo>
                        <a:lnTo>
                          <a:pt x="71" y="46"/>
                        </a:lnTo>
                        <a:lnTo>
                          <a:pt x="49" y="69"/>
                        </a:lnTo>
                        <a:lnTo>
                          <a:pt x="33" y="94"/>
                        </a:lnTo>
                        <a:lnTo>
                          <a:pt x="19" y="120"/>
                        </a:lnTo>
                        <a:lnTo>
                          <a:pt x="9" y="146"/>
                        </a:lnTo>
                        <a:lnTo>
                          <a:pt x="0" y="174"/>
                        </a:lnTo>
                        <a:lnTo>
                          <a:pt x="17" y="176"/>
                        </a:lnTo>
                        <a:lnTo>
                          <a:pt x="0" y="17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" name=""/>
                  <p:cNvSpPr/>
                  <p:nvPr/>
                </p:nvSpPr>
                <p:spPr>
                  <a:xfrm>
                    <a:off x="1954800" y="1864080"/>
                    <a:ext cx="368280" cy="452520"/>
                  </a:xfrm>
                  <a:custGeom>
                    <a:avLst/>
                    <a:gdLst/>
                    <a:ahLst/>
                    <a:rect l="l" t="t" r="r" b="b"/>
                    <a:pathLst>
                      <a:path w="258" h="269">
                        <a:moveTo>
                          <a:pt x="108" y="269"/>
                        </a:moveTo>
                        <a:lnTo>
                          <a:pt x="134" y="267"/>
                        </a:lnTo>
                        <a:lnTo>
                          <a:pt x="160" y="260"/>
                        </a:lnTo>
                        <a:lnTo>
                          <a:pt x="183" y="249"/>
                        </a:lnTo>
                        <a:lnTo>
                          <a:pt x="205" y="233"/>
                        </a:lnTo>
                        <a:lnTo>
                          <a:pt x="223" y="212"/>
                        </a:lnTo>
                        <a:lnTo>
                          <a:pt x="238" y="191"/>
                        </a:lnTo>
                        <a:lnTo>
                          <a:pt x="249" y="166"/>
                        </a:lnTo>
                        <a:lnTo>
                          <a:pt x="257" y="139"/>
                        </a:lnTo>
                        <a:lnTo>
                          <a:pt x="258" y="112"/>
                        </a:lnTo>
                        <a:lnTo>
                          <a:pt x="254" y="86"/>
                        </a:lnTo>
                        <a:lnTo>
                          <a:pt x="245" y="63"/>
                        </a:lnTo>
                        <a:lnTo>
                          <a:pt x="234" y="42"/>
                        </a:lnTo>
                        <a:lnTo>
                          <a:pt x="216" y="25"/>
                        </a:lnTo>
                        <a:lnTo>
                          <a:pt x="196" y="12"/>
                        </a:lnTo>
                        <a:lnTo>
                          <a:pt x="174" y="3"/>
                        </a:lnTo>
                        <a:lnTo>
                          <a:pt x="149" y="0"/>
                        </a:lnTo>
                        <a:lnTo>
                          <a:pt x="123" y="2"/>
                        </a:lnTo>
                        <a:lnTo>
                          <a:pt x="97" y="9"/>
                        </a:lnTo>
                        <a:lnTo>
                          <a:pt x="74" y="21"/>
                        </a:lnTo>
                        <a:lnTo>
                          <a:pt x="52" y="37"/>
                        </a:lnTo>
                        <a:lnTo>
                          <a:pt x="33" y="57"/>
                        </a:lnTo>
                        <a:lnTo>
                          <a:pt x="19" y="78"/>
                        </a:lnTo>
                        <a:lnTo>
                          <a:pt x="7" y="103"/>
                        </a:lnTo>
                        <a:lnTo>
                          <a:pt x="1" y="130"/>
                        </a:lnTo>
                        <a:lnTo>
                          <a:pt x="0" y="158"/>
                        </a:lnTo>
                        <a:lnTo>
                          <a:pt x="3" y="184"/>
                        </a:lnTo>
                        <a:lnTo>
                          <a:pt x="12" y="207"/>
                        </a:lnTo>
                        <a:lnTo>
                          <a:pt x="25" y="227"/>
                        </a:lnTo>
                        <a:lnTo>
                          <a:pt x="40" y="244"/>
                        </a:lnTo>
                        <a:lnTo>
                          <a:pt x="61" y="257"/>
                        </a:lnTo>
                        <a:lnTo>
                          <a:pt x="82" y="266"/>
                        </a:lnTo>
                        <a:lnTo>
                          <a:pt x="108" y="269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>
                    <a:off x="2109240" y="2094480"/>
                    <a:ext cx="223920" cy="235440"/>
                  </a:xfrm>
                  <a:custGeom>
                    <a:avLst/>
                    <a:gdLst/>
                    <a:ahLst/>
                    <a:rect l="l" t="t" r="r" b="b"/>
                    <a:pathLst>
                      <a:path w="157" h="140">
                        <a:moveTo>
                          <a:pt x="140" y="2"/>
                        </a:moveTo>
                        <a:lnTo>
                          <a:pt x="140" y="0"/>
                        </a:lnTo>
                        <a:lnTo>
                          <a:pt x="133" y="26"/>
                        </a:lnTo>
                        <a:lnTo>
                          <a:pt x="121" y="50"/>
                        </a:lnTo>
                        <a:lnTo>
                          <a:pt x="108" y="70"/>
                        </a:lnTo>
                        <a:lnTo>
                          <a:pt x="91" y="88"/>
                        </a:lnTo>
                        <a:lnTo>
                          <a:pt x="71" y="104"/>
                        </a:lnTo>
                        <a:lnTo>
                          <a:pt x="49" y="114"/>
                        </a:lnTo>
                        <a:lnTo>
                          <a:pt x="25" y="122"/>
                        </a:lnTo>
                        <a:lnTo>
                          <a:pt x="0" y="123"/>
                        </a:lnTo>
                        <a:lnTo>
                          <a:pt x="0" y="140"/>
                        </a:lnTo>
                        <a:lnTo>
                          <a:pt x="28" y="139"/>
                        </a:lnTo>
                        <a:lnTo>
                          <a:pt x="55" y="132"/>
                        </a:lnTo>
                        <a:lnTo>
                          <a:pt x="79" y="119"/>
                        </a:lnTo>
                        <a:lnTo>
                          <a:pt x="103" y="103"/>
                        </a:lnTo>
                        <a:lnTo>
                          <a:pt x="123" y="81"/>
                        </a:lnTo>
                        <a:lnTo>
                          <a:pt x="139" y="58"/>
                        </a:lnTo>
                        <a:lnTo>
                          <a:pt x="150" y="32"/>
                        </a:lnTo>
                        <a:lnTo>
                          <a:pt x="157" y="3"/>
                        </a:lnTo>
                        <a:lnTo>
                          <a:pt x="157" y="2"/>
                        </a:lnTo>
                        <a:lnTo>
                          <a:pt x="140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>
                    <a:off x="2167920" y="1850760"/>
                    <a:ext cx="168480" cy="246960"/>
                  </a:xfrm>
                  <a:custGeom>
                    <a:avLst/>
                    <a:gdLst/>
                    <a:ahLst/>
                    <a:rect l="l" t="t" r="r" b="b"/>
                    <a:pathLst>
                      <a:path w="118" h="147">
                        <a:moveTo>
                          <a:pt x="0" y="17"/>
                        </a:moveTo>
                        <a:lnTo>
                          <a:pt x="0" y="17"/>
                        </a:lnTo>
                        <a:lnTo>
                          <a:pt x="24" y="20"/>
                        </a:lnTo>
                        <a:lnTo>
                          <a:pt x="43" y="29"/>
                        </a:lnTo>
                        <a:lnTo>
                          <a:pt x="62" y="40"/>
                        </a:lnTo>
                        <a:lnTo>
                          <a:pt x="77" y="56"/>
                        </a:lnTo>
                        <a:lnTo>
                          <a:pt x="87" y="73"/>
                        </a:lnTo>
                        <a:lnTo>
                          <a:pt x="96" y="95"/>
                        </a:lnTo>
                        <a:lnTo>
                          <a:pt x="100" y="120"/>
                        </a:lnTo>
                        <a:lnTo>
                          <a:pt x="99" y="147"/>
                        </a:lnTo>
                        <a:lnTo>
                          <a:pt x="116" y="147"/>
                        </a:lnTo>
                        <a:lnTo>
                          <a:pt x="118" y="120"/>
                        </a:lnTo>
                        <a:lnTo>
                          <a:pt x="113" y="92"/>
                        </a:lnTo>
                        <a:lnTo>
                          <a:pt x="105" y="68"/>
                        </a:lnTo>
                        <a:lnTo>
                          <a:pt x="92" y="45"/>
                        </a:lnTo>
                        <a:lnTo>
                          <a:pt x="73" y="26"/>
                        </a:lnTo>
                        <a:lnTo>
                          <a:pt x="51" y="11"/>
                        </a:lnTo>
                        <a:lnTo>
                          <a:pt x="27" y="3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1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>
                    <a:off x="1944720" y="1850760"/>
                    <a:ext cx="222840" cy="23508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140">
                        <a:moveTo>
                          <a:pt x="17" y="140"/>
                        </a:moveTo>
                        <a:lnTo>
                          <a:pt x="17" y="138"/>
                        </a:lnTo>
                        <a:lnTo>
                          <a:pt x="23" y="114"/>
                        </a:lnTo>
                        <a:lnTo>
                          <a:pt x="34" y="91"/>
                        </a:lnTo>
                        <a:lnTo>
                          <a:pt x="47" y="71"/>
                        </a:lnTo>
                        <a:lnTo>
                          <a:pt x="65" y="52"/>
                        </a:lnTo>
                        <a:lnTo>
                          <a:pt x="85" y="36"/>
                        </a:lnTo>
                        <a:lnTo>
                          <a:pt x="106" y="26"/>
                        </a:lnTo>
                        <a:lnTo>
                          <a:pt x="131" y="19"/>
                        </a:lnTo>
                        <a:lnTo>
                          <a:pt x="156" y="17"/>
                        </a:lnTo>
                        <a:lnTo>
                          <a:pt x="156" y="0"/>
                        </a:lnTo>
                        <a:lnTo>
                          <a:pt x="128" y="1"/>
                        </a:lnTo>
                        <a:lnTo>
                          <a:pt x="101" y="8"/>
                        </a:lnTo>
                        <a:lnTo>
                          <a:pt x="76" y="21"/>
                        </a:lnTo>
                        <a:lnTo>
                          <a:pt x="53" y="37"/>
                        </a:lnTo>
                        <a:lnTo>
                          <a:pt x="33" y="59"/>
                        </a:lnTo>
                        <a:lnTo>
                          <a:pt x="17" y="82"/>
                        </a:lnTo>
                        <a:lnTo>
                          <a:pt x="6" y="108"/>
                        </a:lnTo>
                        <a:lnTo>
                          <a:pt x="0" y="138"/>
                        </a:lnTo>
                        <a:lnTo>
                          <a:pt x="0" y="137"/>
                        </a:lnTo>
                        <a:lnTo>
                          <a:pt x="17" y="14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"/>
                  <p:cNvSpPr/>
                  <p:nvPr/>
                </p:nvSpPr>
                <p:spPr>
                  <a:xfrm>
                    <a:off x="1940760" y="2081160"/>
                    <a:ext cx="168480" cy="248760"/>
                  </a:xfrm>
                  <a:custGeom>
                    <a:avLst/>
                    <a:gdLst/>
                    <a:ahLst/>
                    <a:rect l="l" t="t" r="r" b="b"/>
                    <a:pathLst>
                      <a:path w="118" h="148">
                        <a:moveTo>
                          <a:pt x="118" y="131"/>
                        </a:moveTo>
                        <a:lnTo>
                          <a:pt x="118" y="131"/>
                        </a:lnTo>
                        <a:lnTo>
                          <a:pt x="94" y="128"/>
                        </a:lnTo>
                        <a:lnTo>
                          <a:pt x="75" y="120"/>
                        </a:lnTo>
                        <a:lnTo>
                          <a:pt x="56" y="108"/>
                        </a:lnTo>
                        <a:lnTo>
                          <a:pt x="42" y="92"/>
                        </a:lnTo>
                        <a:lnTo>
                          <a:pt x="30" y="73"/>
                        </a:lnTo>
                        <a:lnTo>
                          <a:pt x="22" y="53"/>
                        </a:lnTo>
                        <a:lnTo>
                          <a:pt x="20" y="29"/>
                        </a:lnTo>
                        <a:lnTo>
                          <a:pt x="20" y="3"/>
                        </a:lnTo>
                        <a:lnTo>
                          <a:pt x="3" y="0"/>
                        </a:lnTo>
                        <a:lnTo>
                          <a:pt x="0" y="29"/>
                        </a:lnTo>
                        <a:lnTo>
                          <a:pt x="4" y="56"/>
                        </a:lnTo>
                        <a:lnTo>
                          <a:pt x="13" y="82"/>
                        </a:lnTo>
                        <a:lnTo>
                          <a:pt x="27" y="104"/>
                        </a:lnTo>
                        <a:lnTo>
                          <a:pt x="45" y="122"/>
                        </a:lnTo>
                        <a:lnTo>
                          <a:pt x="66" y="137"/>
                        </a:lnTo>
                        <a:lnTo>
                          <a:pt x="91" y="145"/>
                        </a:lnTo>
                        <a:lnTo>
                          <a:pt x="118" y="148"/>
                        </a:lnTo>
                        <a:lnTo>
                          <a:pt x="118" y="148"/>
                        </a:lnTo>
                        <a:lnTo>
                          <a:pt x="118" y="13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2425320" y="1847520"/>
                    <a:ext cx="372960" cy="443520"/>
                  </a:xfrm>
                  <a:custGeom>
                    <a:avLst/>
                    <a:gdLst/>
                    <a:ahLst/>
                    <a:rect l="l" t="t" r="r" b="b"/>
                    <a:pathLst>
                      <a:path w="261" h="264">
                        <a:moveTo>
                          <a:pt x="164" y="264"/>
                        </a:moveTo>
                        <a:lnTo>
                          <a:pt x="138" y="264"/>
                        </a:lnTo>
                        <a:lnTo>
                          <a:pt x="112" y="260"/>
                        </a:lnTo>
                        <a:lnTo>
                          <a:pt x="88" y="251"/>
                        </a:lnTo>
                        <a:lnTo>
                          <a:pt x="65" y="237"/>
                        </a:lnTo>
                        <a:lnTo>
                          <a:pt x="44" y="220"/>
                        </a:lnTo>
                        <a:lnTo>
                          <a:pt x="27" y="198"/>
                        </a:lnTo>
                        <a:lnTo>
                          <a:pt x="14" y="175"/>
                        </a:lnTo>
                        <a:lnTo>
                          <a:pt x="4" y="149"/>
                        </a:lnTo>
                        <a:lnTo>
                          <a:pt x="0" y="122"/>
                        </a:lnTo>
                        <a:lnTo>
                          <a:pt x="1" y="96"/>
                        </a:lnTo>
                        <a:lnTo>
                          <a:pt x="7" y="73"/>
                        </a:lnTo>
                        <a:lnTo>
                          <a:pt x="17" y="51"/>
                        </a:lnTo>
                        <a:lnTo>
                          <a:pt x="31" y="32"/>
                        </a:lnTo>
                        <a:lnTo>
                          <a:pt x="50" y="16"/>
                        </a:lnTo>
                        <a:lnTo>
                          <a:pt x="72" y="6"/>
                        </a:lnTo>
                        <a:lnTo>
                          <a:pt x="96" y="0"/>
                        </a:lnTo>
                        <a:lnTo>
                          <a:pt x="122" y="0"/>
                        </a:lnTo>
                        <a:lnTo>
                          <a:pt x="148" y="5"/>
                        </a:lnTo>
                        <a:lnTo>
                          <a:pt x="173" y="15"/>
                        </a:lnTo>
                        <a:lnTo>
                          <a:pt x="196" y="28"/>
                        </a:lnTo>
                        <a:lnTo>
                          <a:pt x="216" y="45"/>
                        </a:lnTo>
                        <a:lnTo>
                          <a:pt x="233" y="67"/>
                        </a:lnTo>
                        <a:lnTo>
                          <a:pt x="248" y="91"/>
                        </a:lnTo>
                        <a:lnTo>
                          <a:pt x="256" y="117"/>
                        </a:lnTo>
                        <a:lnTo>
                          <a:pt x="261" y="143"/>
                        </a:lnTo>
                        <a:lnTo>
                          <a:pt x="259" y="169"/>
                        </a:lnTo>
                        <a:lnTo>
                          <a:pt x="254" y="194"/>
                        </a:lnTo>
                        <a:lnTo>
                          <a:pt x="243" y="214"/>
                        </a:lnTo>
                        <a:lnTo>
                          <a:pt x="229" y="233"/>
                        </a:lnTo>
                        <a:lnTo>
                          <a:pt x="212" y="248"/>
                        </a:lnTo>
                        <a:lnTo>
                          <a:pt x="189" y="259"/>
                        </a:lnTo>
                        <a:lnTo>
                          <a:pt x="164" y="26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" name=""/>
                  <p:cNvSpPr/>
                  <p:nvPr/>
                </p:nvSpPr>
                <p:spPr>
                  <a:xfrm>
                    <a:off x="2418120" y="2094480"/>
                    <a:ext cx="241200" cy="211680"/>
                  </a:xfrm>
                  <a:custGeom>
                    <a:avLst/>
                    <a:gdLst/>
                    <a:ahLst/>
                    <a:rect l="l" t="t" r="r" b="b"/>
                    <a:pathLst>
                      <a:path w="169" h="126">
                        <a:moveTo>
                          <a:pt x="0" y="3"/>
                        </a:moveTo>
                        <a:lnTo>
                          <a:pt x="0" y="3"/>
                        </a:lnTo>
                        <a:lnTo>
                          <a:pt x="11" y="31"/>
                        </a:lnTo>
                        <a:lnTo>
                          <a:pt x="25" y="55"/>
                        </a:lnTo>
                        <a:lnTo>
                          <a:pt x="42" y="78"/>
                        </a:lnTo>
                        <a:lnTo>
                          <a:pt x="64" y="97"/>
                        </a:lnTo>
                        <a:lnTo>
                          <a:pt x="88" y="113"/>
                        </a:lnTo>
                        <a:lnTo>
                          <a:pt x="116" y="122"/>
                        </a:lnTo>
                        <a:lnTo>
                          <a:pt x="143" y="126"/>
                        </a:lnTo>
                        <a:lnTo>
                          <a:pt x="169" y="126"/>
                        </a:lnTo>
                        <a:lnTo>
                          <a:pt x="169" y="109"/>
                        </a:lnTo>
                        <a:lnTo>
                          <a:pt x="143" y="109"/>
                        </a:lnTo>
                        <a:lnTo>
                          <a:pt x="119" y="104"/>
                        </a:lnTo>
                        <a:lnTo>
                          <a:pt x="97" y="96"/>
                        </a:lnTo>
                        <a:lnTo>
                          <a:pt x="75" y="83"/>
                        </a:lnTo>
                        <a:lnTo>
                          <a:pt x="57" y="67"/>
                        </a:lnTo>
                        <a:lnTo>
                          <a:pt x="39" y="47"/>
                        </a:lnTo>
                        <a:lnTo>
                          <a:pt x="28" y="25"/>
                        </a:lnTo>
                        <a:lnTo>
                          <a:pt x="18" y="0"/>
                        </a:lnTo>
                        <a:lnTo>
                          <a:pt x="18" y="0"/>
                        </a:lnTo>
                        <a:lnTo>
                          <a:pt x="0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"/>
                  <p:cNvSpPr/>
                  <p:nvPr/>
                </p:nvSpPr>
                <p:spPr>
                  <a:xfrm>
                    <a:off x="2412360" y="1834200"/>
                    <a:ext cx="149760" cy="265680"/>
                  </a:xfrm>
                  <a:custGeom>
                    <a:avLst/>
                    <a:gdLst/>
                    <a:ahLst/>
                    <a:rect l="l" t="t" r="r" b="b"/>
                    <a:pathLst>
                      <a:path w="105" h="158">
                        <a:moveTo>
                          <a:pt x="105" y="0"/>
                        </a:moveTo>
                        <a:lnTo>
                          <a:pt x="105" y="0"/>
                        </a:lnTo>
                        <a:lnTo>
                          <a:pt x="78" y="6"/>
                        </a:lnTo>
                        <a:lnTo>
                          <a:pt x="55" y="17"/>
                        </a:lnTo>
                        <a:lnTo>
                          <a:pt x="33" y="34"/>
                        </a:lnTo>
                        <a:lnTo>
                          <a:pt x="19" y="55"/>
                        </a:lnTo>
                        <a:lnTo>
                          <a:pt x="7" y="78"/>
                        </a:lnTo>
                        <a:lnTo>
                          <a:pt x="2" y="102"/>
                        </a:lnTo>
                        <a:lnTo>
                          <a:pt x="0" y="130"/>
                        </a:lnTo>
                        <a:lnTo>
                          <a:pt x="4" y="158"/>
                        </a:lnTo>
                        <a:lnTo>
                          <a:pt x="22" y="155"/>
                        </a:lnTo>
                        <a:lnTo>
                          <a:pt x="17" y="130"/>
                        </a:lnTo>
                        <a:lnTo>
                          <a:pt x="19" y="105"/>
                        </a:lnTo>
                        <a:lnTo>
                          <a:pt x="25" y="83"/>
                        </a:lnTo>
                        <a:lnTo>
                          <a:pt x="33" y="63"/>
                        </a:lnTo>
                        <a:lnTo>
                          <a:pt x="48" y="46"/>
                        </a:lnTo>
                        <a:lnTo>
                          <a:pt x="64" y="31"/>
                        </a:lnTo>
                        <a:lnTo>
                          <a:pt x="84" y="23"/>
                        </a:lnTo>
                        <a:lnTo>
                          <a:pt x="105" y="17"/>
                        </a:lnTo>
                        <a:lnTo>
                          <a:pt x="105" y="17"/>
                        </a:lnTo>
                        <a:lnTo>
                          <a:pt x="105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2562120" y="1834200"/>
                    <a:ext cx="241200" cy="213480"/>
                  </a:xfrm>
                  <a:custGeom>
                    <a:avLst/>
                    <a:gdLst/>
                    <a:ahLst/>
                    <a:rect l="l" t="t" r="r" b="b"/>
                    <a:pathLst>
                      <a:path w="169" h="127">
                        <a:moveTo>
                          <a:pt x="169" y="124"/>
                        </a:moveTo>
                        <a:lnTo>
                          <a:pt x="169" y="124"/>
                        </a:lnTo>
                        <a:lnTo>
                          <a:pt x="160" y="96"/>
                        </a:lnTo>
                        <a:lnTo>
                          <a:pt x="145" y="70"/>
                        </a:lnTo>
                        <a:lnTo>
                          <a:pt x="127" y="47"/>
                        </a:lnTo>
                        <a:lnTo>
                          <a:pt x="104" y="29"/>
                        </a:lnTo>
                        <a:lnTo>
                          <a:pt x="81" y="14"/>
                        </a:lnTo>
                        <a:lnTo>
                          <a:pt x="54" y="4"/>
                        </a:lnTo>
                        <a:lnTo>
                          <a:pt x="26" y="0"/>
                        </a:lnTo>
                        <a:lnTo>
                          <a:pt x="0" y="0"/>
                        </a:lnTo>
                        <a:lnTo>
                          <a:pt x="0" y="17"/>
                        </a:lnTo>
                        <a:lnTo>
                          <a:pt x="26" y="17"/>
                        </a:lnTo>
                        <a:lnTo>
                          <a:pt x="51" y="21"/>
                        </a:lnTo>
                        <a:lnTo>
                          <a:pt x="72" y="31"/>
                        </a:lnTo>
                        <a:lnTo>
                          <a:pt x="96" y="43"/>
                        </a:lnTo>
                        <a:lnTo>
                          <a:pt x="113" y="59"/>
                        </a:lnTo>
                        <a:lnTo>
                          <a:pt x="130" y="79"/>
                        </a:lnTo>
                        <a:lnTo>
                          <a:pt x="143" y="102"/>
                        </a:lnTo>
                        <a:lnTo>
                          <a:pt x="152" y="127"/>
                        </a:lnTo>
                        <a:lnTo>
                          <a:pt x="152" y="127"/>
                        </a:lnTo>
                        <a:lnTo>
                          <a:pt x="169" y="12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2659320" y="2042640"/>
                    <a:ext cx="149760" cy="26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5" h="157">
                        <a:moveTo>
                          <a:pt x="0" y="157"/>
                        </a:moveTo>
                        <a:lnTo>
                          <a:pt x="0" y="157"/>
                        </a:lnTo>
                        <a:lnTo>
                          <a:pt x="28" y="151"/>
                        </a:lnTo>
                        <a:lnTo>
                          <a:pt x="52" y="140"/>
                        </a:lnTo>
                        <a:lnTo>
                          <a:pt x="72" y="122"/>
                        </a:lnTo>
                        <a:lnTo>
                          <a:pt x="87" y="102"/>
                        </a:lnTo>
                        <a:lnTo>
                          <a:pt x="98" y="81"/>
                        </a:lnTo>
                        <a:lnTo>
                          <a:pt x="104" y="53"/>
                        </a:lnTo>
                        <a:lnTo>
                          <a:pt x="105" y="27"/>
                        </a:lnTo>
                        <a:lnTo>
                          <a:pt x="101" y="0"/>
                        </a:lnTo>
                        <a:lnTo>
                          <a:pt x="84" y="3"/>
                        </a:lnTo>
                        <a:lnTo>
                          <a:pt x="88" y="27"/>
                        </a:lnTo>
                        <a:lnTo>
                          <a:pt x="87" y="53"/>
                        </a:lnTo>
                        <a:lnTo>
                          <a:pt x="81" y="75"/>
                        </a:lnTo>
                        <a:lnTo>
                          <a:pt x="72" y="93"/>
                        </a:lnTo>
                        <a:lnTo>
                          <a:pt x="58" y="111"/>
                        </a:lnTo>
                        <a:lnTo>
                          <a:pt x="43" y="125"/>
                        </a:lnTo>
                        <a:lnTo>
                          <a:pt x="22" y="134"/>
                        </a:lnTo>
                        <a:lnTo>
                          <a:pt x="0" y="140"/>
                        </a:lnTo>
                        <a:lnTo>
                          <a:pt x="0" y="140"/>
                        </a:lnTo>
                        <a:lnTo>
                          <a:pt x="0" y="15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" name=""/>
                  <p:cNvSpPr/>
                  <p:nvPr/>
                </p:nvSpPr>
                <p:spPr>
                  <a:xfrm>
                    <a:off x="2200680" y="2143080"/>
                    <a:ext cx="65520" cy="90720"/>
                  </a:xfrm>
                  <a:custGeom>
                    <a:avLst/>
                    <a:gdLst/>
                    <a:ahLst/>
                    <a:rect l="l" t="t" r="r" b="b"/>
                    <a:pathLst>
                      <a:path w="46" h="54">
                        <a:moveTo>
                          <a:pt x="18" y="54"/>
                        </a:moveTo>
                        <a:lnTo>
                          <a:pt x="27" y="52"/>
                        </a:lnTo>
                        <a:lnTo>
                          <a:pt x="36" y="46"/>
                        </a:lnTo>
                        <a:lnTo>
                          <a:pt x="41" y="38"/>
                        </a:lnTo>
                        <a:lnTo>
                          <a:pt x="46" y="28"/>
                        </a:lnTo>
                        <a:lnTo>
                          <a:pt x="46" y="18"/>
                        </a:lnTo>
                        <a:lnTo>
                          <a:pt x="41" y="9"/>
                        </a:lnTo>
                        <a:lnTo>
                          <a:pt x="34" y="3"/>
                        </a:lnTo>
                        <a:lnTo>
                          <a:pt x="26" y="0"/>
                        </a:lnTo>
                        <a:lnTo>
                          <a:pt x="17" y="2"/>
                        </a:lnTo>
                        <a:lnTo>
                          <a:pt x="8" y="8"/>
                        </a:lnTo>
                        <a:lnTo>
                          <a:pt x="2" y="16"/>
                        </a:lnTo>
                        <a:lnTo>
                          <a:pt x="0" y="26"/>
                        </a:lnTo>
                        <a:lnTo>
                          <a:pt x="0" y="36"/>
                        </a:lnTo>
                        <a:lnTo>
                          <a:pt x="2" y="45"/>
                        </a:lnTo>
                        <a:lnTo>
                          <a:pt x="10" y="51"/>
                        </a:lnTo>
                        <a:lnTo>
                          <a:pt x="18" y="5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920" bIns="43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"/>
                  <p:cNvSpPr/>
                  <p:nvPr/>
                </p:nvSpPr>
                <p:spPr>
                  <a:xfrm>
                    <a:off x="2226600" y="2187000"/>
                    <a:ext cx="51120" cy="637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38">
                        <a:moveTo>
                          <a:pt x="19" y="2"/>
                        </a:moveTo>
                        <a:lnTo>
                          <a:pt x="19" y="0"/>
                        </a:lnTo>
                        <a:lnTo>
                          <a:pt x="15" y="7"/>
                        </a:lnTo>
                        <a:lnTo>
                          <a:pt x="12" y="15"/>
                        </a:lnTo>
                        <a:lnTo>
                          <a:pt x="6" y="18"/>
                        </a:lnTo>
                        <a:lnTo>
                          <a:pt x="0" y="18"/>
                        </a:lnTo>
                        <a:lnTo>
                          <a:pt x="0" y="38"/>
                        </a:lnTo>
                        <a:lnTo>
                          <a:pt x="12" y="35"/>
                        </a:lnTo>
                        <a:lnTo>
                          <a:pt x="23" y="26"/>
                        </a:lnTo>
                        <a:lnTo>
                          <a:pt x="32" y="16"/>
                        </a:lnTo>
                        <a:lnTo>
                          <a:pt x="36" y="3"/>
                        </a:lnTo>
                        <a:lnTo>
                          <a:pt x="36" y="2"/>
                        </a:lnTo>
                        <a:lnTo>
                          <a:pt x="19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"/>
                  <p:cNvSpPr/>
                  <p:nvPr/>
                </p:nvSpPr>
                <p:spPr>
                  <a:xfrm>
                    <a:off x="2237760" y="2126520"/>
                    <a:ext cx="39600" cy="6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38">
                        <a:moveTo>
                          <a:pt x="0" y="20"/>
                        </a:moveTo>
                        <a:lnTo>
                          <a:pt x="0" y="19"/>
                        </a:lnTo>
                        <a:lnTo>
                          <a:pt x="4" y="22"/>
                        </a:lnTo>
                        <a:lnTo>
                          <a:pt x="8" y="25"/>
                        </a:lnTo>
                        <a:lnTo>
                          <a:pt x="11" y="29"/>
                        </a:lnTo>
                        <a:lnTo>
                          <a:pt x="11" y="38"/>
                        </a:lnTo>
                        <a:lnTo>
                          <a:pt x="28" y="38"/>
                        </a:lnTo>
                        <a:lnTo>
                          <a:pt x="28" y="26"/>
                        </a:lnTo>
                        <a:lnTo>
                          <a:pt x="23" y="13"/>
                        </a:lnTo>
                        <a:lnTo>
                          <a:pt x="13" y="5"/>
                        </a:lnTo>
                        <a:lnTo>
                          <a:pt x="0" y="2"/>
                        </a:lnTo>
                        <a:lnTo>
                          <a:pt x="0" y="0"/>
                        </a:lnTo>
                        <a:lnTo>
                          <a:pt x="0" y="2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>
                    <a:off x="2188080" y="2126520"/>
                    <a:ext cx="49680" cy="6372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38">
                        <a:moveTo>
                          <a:pt x="17" y="38"/>
                        </a:moveTo>
                        <a:lnTo>
                          <a:pt x="17" y="36"/>
                        </a:lnTo>
                        <a:lnTo>
                          <a:pt x="20" y="29"/>
                        </a:lnTo>
                        <a:lnTo>
                          <a:pt x="23" y="23"/>
                        </a:lnTo>
                        <a:lnTo>
                          <a:pt x="29" y="20"/>
                        </a:lnTo>
                        <a:lnTo>
                          <a:pt x="35" y="20"/>
                        </a:lnTo>
                        <a:lnTo>
                          <a:pt x="35" y="0"/>
                        </a:lnTo>
                        <a:lnTo>
                          <a:pt x="23" y="3"/>
                        </a:lnTo>
                        <a:lnTo>
                          <a:pt x="11" y="12"/>
                        </a:lnTo>
                        <a:lnTo>
                          <a:pt x="3" y="23"/>
                        </a:lnTo>
                        <a:lnTo>
                          <a:pt x="0" y="36"/>
                        </a:lnTo>
                        <a:lnTo>
                          <a:pt x="0" y="35"/>
                        </a:lnTo>
                        <a:lnTo>
                          <a:pt x="17" y="3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2188080" y="2185560"/>
                    <a:ext cx="38520" cy="6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39">
                        <a:moveTo>
                          <a:pt x="27" y="19"/>
                        </a:moveTo>
                        <a:lnTo>
                          <a:pt x="27" y="19"/>
                        </a:lnTo>
                        <a:lnTo>
                          <a:pt x="23" y="17"/>
                        </a:lnTo>
                        <a:lnTo>
                          <a:pt x="19" y="14"/>
                        </a:lnTo>
                        <a:lnTo>
                          <a:pt x="17" y="10"/>
                        </a:lnTo>
                        <a:lnTo>
                          <a:pt x="17" y="3"/>
                        </a:lnTo>
                        <a:lnTo>
                          <a:pt x="0" y="0"/>
                        </a:lnTo>
                        <a:lnTo>
                          <a:pt x="0" y="13"/>
                        </a:lnTo>
                        <a:lnTo>
                          <a:pt x="4" y="26"/>
                        </a:lnTo>
                        <a:lnTo>
                          <a:pt x="14" y="34"/>
                        </a:lnTo>
                        <a:lnTo>
                          <a:pt x="27" y="39"/>
                        </a:lnTo>
                        <a:lnTo>
                          <a:pt x="27" y="39"/>
                        </a:lnTo>
                        <a:lnTo>
                          <a:pt x="27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720" bIns="18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3" name=""/>
                  <p:cNvSpPr/>
                  <p:nvPr/>
                </p:nvSpPr>
                <p:spPr>
                  <a:xfrm>
                    <a:off x="2554920" y="2131560"/>
                    <a:ext cx="65520" cy="87480"/>
                  </a:xfrm>
                  <a:custGeom>
                    <a:avLst/>
                    <a:gdLst/>
                    <a:ahLst/>
                    <a:rect l="l" t="t" r="r" b="b"/>
                    <a:pathLst>
                      <a:path w="46" h="52">
                        <a:moveTo>
                          <a:pt x="30" y="52"/>
                        </a:moveTo>
                        <a:lnTo>
                          <a:pt x="20" y="51"/>
                        </a:lnTo>
                        <a:lnTo>
                          <a:pt x="11" y="46"/>
                        </a:lnTo>
                        <a:lnTo>
                          <a:pt x="4" y="39"/>
                        </a:lnTo>
                        <a:lnTo>
                          <a:pt x="0" y="29"/>
                        </a:lnTo>
                        <a:lnTo>
                          <a:pt x="0" y="19"/>
                        </a:lnTo>
                        <a:lnTo>
                          <a:pt x="1" y="10"/>
                        </a:lnTo>
                        <a:lnTo>
                          <a:pt x="7" y="3"/>
                        </a:lnTo>
                        <a:lnTo>
                          <a:pt x="15" y="0"/>
                        </a:lnTo>
                        <a:lnTo>
                          <a:pt x="26" y="2"/>
                        </a:lnTo>
                        <a:lnTo>
                          <a:pt x="34" y="6"/>
                        </a:lnTo>
                        <a:lnTo>
                          <a:pt x="41" y="13"/>
                        </a:lnTo>
                        <a:lnTo>
                          <a:pt x="46" y="23"/>
                        </a:lnTo>
                        <a:lnTo>
                          <a:pt x="46" y="33"/>
                        </a:lnTo>
                        <a:lnTo>
                          <a:pt x="43" y="42"/>
                        </a:lnTo>
                        <a:lnTo>
                          <a:pt x="37" y="49"/>
                        </a:lnTo>
                        <a:lnTo>
                          <a:pt x="30" y="5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680" bIns="40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" name=""/>
                  <p:cNvSpPr/>
                  <p:nvPr/>
                </p:nvSpPr>
                <p:spPr>
                  <a:xfrm>
                    <a:off x="2541960" y="2178720"/>
                    <a:ext cx="55440" cy="55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33">
                        <a:moveTo>
                          <a:pt x="0" y="2"/>
                        </a:moveTo>
                        <a:lnTo>
                          <a:pt x="0" y="2"/>
                        </a:lnTo>
                        <a:lnTo>
                          <a:pt x="6" y="15"/>
                        </a:lnTo>
                        <a:lnTo>
                          <a:pt x="14" y="25"/>
                        </a:lnTo>
                        <a:lnTo>
                          <a:pt x="26" y="31"/>
                        </a:lnTo>
                        <a:lnTo>
                          <a:pt x="39" y="33"/>
                        </a:lnTo>
                        <a:lnTo>
                          <a:pt x="39" y="15"/>
                        </a:lnTo>
                        <a:lnTo>
                          <a:pt x="32" y="14"/>
                        </a:lnTo>
                        <a:lnTo>
                          <a:pt x="26" y="11"/>
                        </a:lnTo>
                        <a:lnTo>
                          <a:pt x="20" y="7"/>
                        </a:lnTo>
                        <a:lnTo>
                          <a:pt x="17" y="0"/>
                        </a:lnTo>
                        <a:lnTo>
                          <a:pt x="17" y="0"/>
                        </a:lnTo>
                        <a:lnTo>
                          <a:pt x="0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280" bIns="8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" name=""/>
                  <p:cNvSpPr/>
                  <p:nvPr/>
                </p:nvSpPr>
                <p:spPr>
                  <a:xfrm>
                    <a:off x="2541960" y="2116440"/>
                    <a:ext cx="34200" cy="6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39">
                        <a:moveTo>
                          <a:pt x="24" y="0"/>
                        </a:moveTo>
                        <a:lnTo>
                          <a:pt x="24" y="0"/>
                        </a:lnTo>
                        <a:lnTo>
                          <a:pt x="10" y="5"/>
                        </a:lnTo>
                        <a:lnTo>
                          <a:pt x="1" y="16"/>
                        </a:lnTo>
                        <a:lnTo>
                          <a:pt x="0" y="28"/>
                        </a:lnTo>
                        <a:lnTo>
                          <a:pt x="0" y="39"/>
                        </a:lnTo>
                        <a:lnTo>
                          <a:pt x="17" y="37"/>
                        </a:lnTo>
                        <a:lnTo>
                          <a:pt x="17" y="28"/>
                        </a:lnTo>
                        <a:lnTo>
                          <a:pt x="19" y="22"/>
                        </a:lnTo>
                        <a:lnTo>
                          <a:pt x="22" y="19"/>
                        </a:lnTo>
                        <a:lnTo>
                          <a:pt x="24" y="18"/>
                        </a:lnTo>
                        <a:lnTo>
                          <a:pt x="24" y="18"/>
                        </a:lnTo>
                        <a:lnTo>
                          <a:pt x="2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720" bIns="18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" name=""/>
                  <p:cNvSpPr/>
                  <p:nvPr/>
                </p:nvSpPr>
                <p:spPr>
                  <a:xfrm>
                    <a:off x="2576520" y="2116440"/>
                    <a:ext cx="5544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34">
                        <a:moveTo>
                          <a:pt x="39" y="31"/>
                        </a:moveTo>
                        <a:lnTo>
                          <a:pt x="39" y="31"/>
                        </a:lnTo>
                        <a:lnTo>
                          <a:pt x="34" y="18"/>
                        </a:lnTo>
                        <a:lnTo>
                          <a:pt x="25" y="8"/>
                        </a:lnTo>
                        <a:lnTo>
                          <a:pt x="13" y="2"/>
                        </a:lnTo>
                        <a:lnTo>
                          <a:pt x="0" y="0"/>
                        </a:lnTo>
                        <a:lnTo>
                          <a:pt x="0" y="18"/>
                        </a:lnTo>
                        <a:lnTo>
                          <a:pt x="8" y="19"/>
                        </a:lnTo>
                        <a:lnTo>
                          <a:pt x="13" y="22"/>
                        </a:lnTo>
                        <a:lnTo>
                          <a:pt x="19" y="26"/>
                        </a:lnTo>
                        <a:lnTo>
                          <a:pt x="22" y="34"/>
                        </a:lnTo>
                        <a:lnTo>
                          <a:pt x="22" y="34"/>
                        </a:lnTo>
                        <a:lnTo>
                          <a:pt x="39" y="3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2597760" y="2168280"/>
                    <a:ext cx="34200" cy="6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39">
                        <a:moveTo>
                          <a:pt x="0" y="39"/>
                        </a:moveTo>
                        <a:lnTo>
                          <a:pt x="0" y="39"/>
                        </a:lnTo>
                        <a:lnTo>
                          <a:pt x="13" y="34"/>
                        </a:lnTo>
                        <a:lnTo>
                          <a:pt x="22" y="24"/>
                        </a:lnTo>
                        <a:lnTo>
                          <a:pt x="24" y="13"/>
                        </a:lnTo>
                        <a:lnTo>
                          <a:pt x="24" y="0"/>
                        </a:lnTo>
                        <a:lnTo>
                          <a:pt x="7" y="3"/>
                        </a:lnTo>
                        <a:lnTo>
                          <a:pt x="7" y="10"/>
                        </a:lnTo>
                        <a:lnTo>
                          <a:pt x="4" y="16"/>
                        </a:lnTo>
                        <a:lnTo>
                          <a:pt x="1" y="20"/>
                        </a:lnTo>
                        <a:lnTo>
                          <a:pt x="0" y="21"/>
                        </a:lnTo>
                        <a:lnTo>
                          <a:pt x="0" y="21"/>
                        </a:lnTo>
                        <a:lnTo>
                          <a:pt x="0" y="3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720" bIns="18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2487960" y="1591920"/>
                    <a:ext cx="258480" cy="253800"/>
                  </a:xfrm>
                  <a:custGeom>
                    <a:avLst/>
                    <a:gdLst/>
                    <a:ahLst/>
                    <a:rect l="l" t="t" r="r" b="b"/>
                    <a:pathLst>
                      <a:path w="181" h="151">
                        <a:moveTo>
                          <a:pt x="181" y="151"/>
                        </a:moveTo>
                        <a:lnTo>
                          <a:pt x="172" y="131"/>
                        </a:lnTo>
                        <a:lnTo>
                          <a:pt x="156" y="112"/>
                        </a:lnTo>
                        <a:lnTo>
                          <a:pt x="136" y="95"/>
                        </a:lnTo>
                        <a:lnTo>
                          <a:pt x="111" y="80"/>
                        </a:lnTo>
                        <a:lnTo>
                          <a:pt x="84" y="67"/>
                        </a:lnTo>
                        <a:lnTo>
                          <a:pt x="55" y="60"/>
                        </a:lnTo>
                        <a:lnTo>
                          <a:pt x="26" y="56"/>
                        </a:lnTo>
                        <a:lnTo>
                          <a:pt x="0" y="57"/>
                        </a:lnTo>
                        <a:lnTo>
                          <a:pt x="5" y="43"/>
                        </a:lnTo>
                        <a:lnTo>
                          <a:pt x="11" y="28"/>
                        </a:lnTo>
                        <a:lnTo>
                          <a:pt x="15" y="14"/>
                        </a:lnTo>
                        <a:lnTo>
                          <a:pt x="12" y="0"/>
                        </a:lnTo>
                        <a:lnTo>
                          <a:pt x="45" y="8"/>
                        </a:lnTo>
                        <a:lnTo>
                          <a:pt x="74" y="21"/>
                        </a:lnTo>
                        <a:lnTo>
                          <a:pt x="100" y="37"/>
                        </a:lnTo>
                        <a:lnTo>
                          <a:pt x="122" y="56"/>
                        </a:lnTo>
                        <a:lnTo>
                          <a:pt x="140" y="77"/>
                        </a:lnTo>
                        <a:lnTo>
                          <a:pt x="156" y="100"/>
                        </a:lnTo>
                        <a:lnTo>
                          <a:pt x="169" y="125"/>
                        </a:lnTo>
                        <a:lnTo>
                          <a:pt x="181" y="15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2469240" y="1670760"/>
                    <a:ext cx="288720" cy="176400"/>
                  </a:xfrm>
                  <a:custGeom>
                    <a:avLst/>
                    <a:gdLst/>
                    <a:ahLst/>
                    <a:rect l="l" t="t" r="r" b="b"/>
                    <a:pathLst>
                      <a:path w="202" h="105">
                        <a:moveTo>
                          <a:pt x="5" y="9"/>
                        </a:moveTo>
                        <a:lnTo>
                          <a:pt x="15" y="19"/>
                        </a:lnTo>
                        <a:lnTo>
                          <a:pt x="39" y="17"/>
                        </a:lnTo>
                        <a:lnTo>
                          <a:pt x="67" y="22"/>
                        </a:lnTo>
                        <a:lnTo>
                          <a:pt x="94" y="29"/>
                        </a:lnTo>
                        <a:lnTo>
                          <a:pt x="120" y="42"/>
                        </a:lnTo>
                        <a:lnTo>
                          <a:pt x="143" y="55"/>
                        </a:lnTo>
                        <a:lnTo>
                          <a:pt x="163" y="71"/>
                        </a:lnTo>
                        <a:lnTo>
                          <a:pt x="178" y="88"/>
                        </a:lnTo>
                        <a:lnTo>
                          <a:pt x="185" y="105"/>
                        </a:lnTo>
                        <a:lnTo>
                          <a:pt x="202" y="103"/>
                        </a:lnTo>
                        <a:lnTo>
                          <a:pt x="192" y="79"/>
                        </a:lnTo>
                        <a:lnTo>
                          <a:pt x="175" y="59"/>
                        </a:lnTo>
                        <a:lnTo>
                          <a:pt x="155" y="41"/>
                        </a:lnTo>
                        <a:lnTo>
                          <a:pt x="129" y="25"/>
                        </a:lnTo>
                        <a:lnTo>
                          <a:pt x="100" y="12"/>
                        </a:lnTo>
                        <a:lnTo>
                          <a:pt x="70" y="4"/>
                        </a:lnTo>
                        <a:lnTo>
                          <a:pt x="39" y="0"/>
                        </a:lnTo>
                        <a:lnTo>
                          <a:pt x="12" y="2"/>
                        </a:lnTo>
                        <a:lnTo>
                          <a:pt x="22" y="12"/>
                        </a:lnTo>
                        <a:lnTo>
                          <a:pt x="5" y="9"/>
                        </a:lnTo>
                        <a:lnTo>
                          <a:pt x="0" y="22"/>
                        </a:lnTo>
                        <a:lnTo>
                          <a:pt x="15" y="19"/>
                        </a:lnTo>
                        <a:lnTo>
                          <a:pt x="5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>
                    <a:off x="2476440" y="1570320"/>
                    <a:ext cx="47160" cy="120600"/>
                  </a:xfrm>
                  <a:custGeom>
                    <a:avLst/>
                    <a:gdLst/>
                    <a:ahLst/>
                    <a:rect l="l" t="t" r="r" b="b"/>
                    <a:pathLst>
                      <a:path w="33" h="72">
                        <a:moveTo>
                          <a:pt x="21" y="4"/>
                        </a:moveTo>
                        <a:lnTo>
                          <a:pt x="11" y="15"/>
                        </a:lnTo>
                        <a:lnTo>
                          <a:pt x="13" y="27"/>
                        </a:lnTo>
                        <a:lnTo>
                          <a:pt x="10" y="39"/>
                        </a:lnTo>
                        <a:lnTo>
                          <a:pt x="4" y="53"/>
                        </a:lnTo>
                        <a:lnTo>
                          <a:pt x="0" y="69"/>
                        </a:lnTo>
                        <a:lnTo>
                          <a:pt x="17" y="72"/>
                        </a:lnTo>
                        <a:lnTo>
                          <a:pt x="21" y="59"/>
                        </a:lnTo>
                        <a:lnTo>
                          <a:pt x="27" y="44"/>
                        </a:lnTo>
                        <a:lnTo>
                          <a:pt x="33" y="27"/>
                        </a:lnTo>
                        <a:lnTo>
                          <a:pt x="29" y="10"/>
                        </a:lnTo>
                        <a:lnTo>
                          <a:pt x="19" y="21"/>
                        </a:lnTo>
                        <a:lnTo>
                          <a:pt x="21" y="4"/>
                        </a:lnTo>
                        <a:lnTo>
                          <a:pt x="4" y="0"/>
                        </a:lnTo>
                        <a:lnTo>
                          <a:pt x="11" y="15"/>
                        </a:lnTo>
                        <a:lnTo>
                          <a:pt x="21" y="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>
                    <a:off x="2503440" y="1576800"/>
                    <a:ext cx="254160" cy="273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8" h="163">
                        <a:moveTo>
                          <a:pt x="161" y="161"/>
                        </a:moveTo>
                        <a:lnTo>
                          <a:pt x="178" y="157"/>
                        </a:lnTo>
                        <a:lnTo>
                          <a:pt x="167" y="130"/>
                        </a:lnTo>
                        <a:lnTo>
                          <a:pt x="152" y="105"/>
                        </a:lnTo>
                        <a:lnTo>
                          <a:pt x="137" y="81"/>
                        </a:lnTo>
                        <a:lnTo>
                          <a:pt x="116" y="59"/>
                        </a:lnTo>
                        <a:lnTo>
                          <a:pt x="95" y="39"/>
                        </a:lnTo>
                        <a:lnTo>
                          <a:pt x="67" y="22"/>
                        </a:lnTo>
                        <a:lnTo>
                          <a:pt x="37" y="9"/>
                        </a:lnTo>
                        <a:lnTo>
                          <a:pt x="2" y="0"/>
                        </a:lnTo>
                        <a:lnTo>
                          <a:pt x="0" y="17"/>
                        </a:lnTo>
                        <a:lnTo>
                          <a:pt x="31" y="26"/>
                        </a:lnTo>
                        <a:lnTo>
                          <a:pt x="59" y="39"/>
                        </a:lnTo>
                        <a:lnTo>
                          <a:pt x="83" y="53"/>
                        </a:lnTo>
                        <a:lnTo>
                          <a:pt x="105" y="71"/>
                        </a:lnTo>
                        <a:lnTo>
                          <a:pt x="122" y="92"/>
                        </a:lnTo>
                        <a:lnTo>
                          <a:pt x="138" y="114"/>
                        </a:lnTo>
                        <a:lnTo>
                          <a:pt x="150" y="138"/>
                        </a:lnTo>
                        <a:lnTo>
                          <a:pt x="161" y="163"/>
                        </a:lnTo>
                        <a:lnTo>
                          <a:pt x="178" y="159"/>
                        </a:lnTo>
                        <a:lnTo>
                          <a:pt x="161" y="16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>
                    <a:off x="125640" y="5410080"/>
                    <a:ext cx="1400400" cy="1730160"/>
                  </a:xfrm>
                  <a:custGeom>
                    <a:avLst/>
                    <a:gdLst/>
                    <a:ahLst/>
                    <a:rect l="l" t="t" r="r" b="b"/>
                    <a:pathLst>
                      <a:path w="980" h="1029">
                        <a:moveTo>
                          <a:pt x="471" y="428"/>
                        </a:moveTo>
                        <a:lnTo>
                          <a:pt x="491" y="424"/>
                        </a:lnTo>
                        <a:lnTo>
                          <a:pt x="511" y="419"/>
                        </a:lnTo>
                        <a:lnTo>
                          <a:pt x="530" y="417"/>
                        </a:lnTo>
                        <a:lnTo>
                          <a:pt x="547" y="414"/>
                        </a:lnTo>
                        <a:lnTo>
                          <a:pt x="566" y="412"/>
                        </a:lnTo>
                        <a:lnTo>
                          <a:pt x="585" y="409"/>
                        </a:lnTo>
                        <a:lnTo>
                          <a:pt x="604" y="409"/>
                        </a:lnTo>
                        <a:lnTo>
                          <a:pt x="624" y="409"/>
                        </a:lnTo>
                        <a:lnTo>
                          <a:pt x="650" y="414"/>
                        </a:lnTo>
                        <a:lnTo>
                          <a:pt x="670" y="422"/>
                        </a:lnTo>
                        <a:lnTo>
                          <a:pt x="686" y="434"/>
                        </a:lnTo>
                        <a:lnTo>
                          <a:pt x="697" y="450"/>
                        </a:lnTo>
                        <a:lnTo>
                          <a:pt x="705" y="470"/>
                        </a:lnTo>
                        <a:lnTo>
                          <a:pt x="709" y="493"/>
                        </a:lnTo>
                        <a:lnTo>
                          <a:pt x="709" y="519"/>
                        </a:lnTo>
                        <a:lnTo>
                          <a:pt x="705" y="548"/>
                        </a:lnTo>
                        <a:lnTo>
                          <a:pt x="697" y="564"/>
                        </a:lnTo>
                        <a:lnTo>
                          <a:pt x="683" y="579"/>
                        </a:lnTo>
                        <a:lnTo>
                          <a:pt x="663" y="594"/>
                        </a:lnTo>
                        <a:lnTo>
                          <a:pt x="640" y="605"/>
                        </a:lnTo>
                        <a:lnTo>
                          <a:pt x="611" y="616"/>
                        </a:lnTo>
                        <a:lnTo>
                          <a:pt x="582" y="618"/>
                        </a:lnTo>
                        <a:lnTo>
                          <a:pt x="553" y="617"/>
                        </a:lnTo>
                        <a:lnTo>
                          <a:pt x="526" y="608"/>
                        </a:lnTo>
                        <a:lnTo>
                          <a:pt x="555" y="611"/>
                        </a:lnTo>
                        <a:lnTo>
                          <a:pt x="584" y="613"/>
                        </a:lnTo>
                        <a:lnTo>
                          <a:pt x="611" y="616"/>
                        </a:lnTo>
                        <a:lnTo>
                          <a:pt x="637" y="621"/>
                        </a:lnTo>
                        <a:lnTo>
                          <a:pt x="660" y="628"/>
                        </a:lnTo>
                        <a:lnTo>
                          <a:pt x="677" y="641"/>
                        </a:lnTo>
                        <a:lnTo>
                          <a:pt x="689" y="660"/>
                        </a:lnTo>
                        <a:lnTo>
                          <a:pt x="693" y="686"/>
                        </a:lnTo>
                        <a:lnTo>
                          <a:pt x="692" y="719"/>
                        </a:lnTo>
                        <a:lnTo>
                          <a:pt x="683" y="745"/>
                        </a:lnTo>
                        <a:lnTo>
                          <a:pt x="671" y="764"/>
                        </a:lnTo>
                        <a:lnTo>
                          <a:pt x="654" y="777"/>
                        </a:lnTo>
                        <a:lnTo>
                          <a:pt x="634" y="786"/>
                        </a:lnTo>
                        <a:lnTo>
                          <a:pt x="612" y="790"/>
                        </a:lnTo>
                        <a:lnTo>
                          <a:pt x="588" y="791"/>
                        </a:lnTo>
                        <a:lnTo>
                          <a:pt x="562" y="791"/>
                        </a:lnTo>
                        <a:lnTo>
                          <a:pt x="602" y="796"/>
                        </a:lnTo>
                        <a:lnTo>
                          <a:pt x="634" y="810"/>
                        </a:lnTo>
                        <a:lnTo>
                          <a:pt x="657" y="832"/>
                        </a:lnTo>
                        <a:lnTo>
                          <a:pt x="671" y="859"/>
                        </a:lnTo>
                        <a:lnTo>
                          <a:pt x="677" y="888"/>
                        </a:lnTo>
                        <a:lnTo>
                          <a:pt x="671" y="917"/>
                        </a:lnTo>
                        <a:lnTo>
                          <a:pt x="657" y="944"/>
                        </a:lnTo>
                        <a:lnTo>
                          <a:pt x="633" y="966"/>
                        </a:lnTo>
                        <a:lnTo>
                          <a:pt x="597" y="986"/>
                        </a:lnTo>
                        <a:lnTo>
                          <a:pt x="559" y="1003"/>
                        </a:lnTo>
                        <a:lnTo>
                          <a:pt x="522" y="1015"/>
                        </a:lnTo>
                        <a:lnTo>
                          <a:pt x="483" y="1024"/>
                        </a:lnTo>
                        <a:lnTo>
                          <a:pt x="444" y="1029"/>
                        </a:lnTo>
                        <a:lnTo>
                          <a:pt x="405" y="1029"/>
                        </a:lnTo>
                        <a:lnTo>
                          <a:pt x="367" y="1028"/>
                        </a:lnTo>
                        <a:lnTo>
                          <a:pt x="328" y="1022"/>
                        </a:lnTo>
                        <a:lnTo>
                          <a:pt x="292" y="1014"/>
                        </a:lnTo>
                        <a:lnTo>
                          <a:pt x="256" y="1002"/>
                        </a:lnTo>
                        <a:lnTo>
                          <a:pt x="222" y="986"/>
                        </a:lnTo>
                        <a:lnTo>
                          <a:pt x="188" y="969"/>
                        </a:lnTo>
                        <a:lnTo>
                          <a:pt x="158" y="947"/>
                        </a:lnTo>
                        <a:lnTo>
                          <a:pt x="129" y="923"/>
                        </a:lnTo>
                        <a:lnTo>
                          <a:pt x="103" y="897"/>
                        </a:lnTo>
                        <a:lnTo>
                          <a:pt x="80" y="868"/>
                        </a:lnTo>
                        <a:lnTo>
                          <a:pt x="54" y="826"/>
                        </a:lnTo>
                        <a:lnTo>
                          <a:pt x="33" y="784"/>
                        </a:lnTo>
                        <a:lnTo>
                          <a:pt x="17" y="741"/>
                        </a:lnTo>
                        <a:lnTo>
                          <a:pt x="7" y="696"/>
                        </a:lnTo>
                        <a:lnTo>
                          <a:pt x="1" y="652"/>
                        </a:lnTo>
                        <a:lnTo>
                          <a:pt x="0" y="605"/>
                        </a:lnTo>
                        <a:lnTo>
                          <a:pt x="2" y="561"/>
                        </a:lnTo>
                        <a:lnTo>
                          <a:pt x="10" y="515"/>
                        </a:lnTo>
                        <a:lnTo>
                          <a:pt x="21" y="471"/>
                        </a:lnTo>
                        <a:lnTo>
                          <a:pt x="37" y="427"/>
                        </a:lnTo>
                        <a:lnTo>
                          <a:pt x="57" y="385"/>
                        </a:lnTo>
                        <a:lnTo>
                          <a:pt x="82" y="343"/>
                        </a:lnTo>
                        <a:lnTo>
                          <a:pt x="108" y="304"/>
                        </a:lnTo>
                        <a:lnTo>
                          <a:pt x="139" y="268"/>
                        </a:lnTo>
                        <a:lnTo>
                          <a:pt x="173" y="232"/>
                        </a:lnTo>
                        <a:lnTo>
                          <a:pt x="210" y="200"/>
                        </a:lnTo>
                        <a:lnTo>
                          <a:pt x="249" y="170"/>
                        </a:lnTo>
                        <a:lnTo>
                          <a:pt x="286" y="143"/>
                        </a:lnTo>
                        <a:lnTo>
                          <a:pt x="325" y="118"/>
                        </a:lnTo>
                        <a:lnTo>
                          <a:pt x="366" y="95"/>
                        </a:lnTo>
                        <a:lnTo>
                          <a:pt x="405" y="75"/>
                        </a:lnTo>
                        <a:lnTo>
                          <a:pt x="445" y="56"/>
                        </a:lnTo>
                        <a:lnTo>
                          <a:pt x="487" y="40"/>
                        </a:lnTo>
                        <a:lnTo>
                          <a:pt x="527" y="27"/>
                        </a:lnTo>
                        <a:lnTo>
                          <a:pt x="569" y="17"/>
                        </a:lnTo>
                        <a:lnTo>
                          <a:pt x="612" y="8"/>
                        </a:lnTo>
                        <a:lnTo>
                          <a:pt x="656" y="3"/>
                        </a:lnTo>
                        <a:lnTo>
                          <a:pt x="699" y="0"/>
                        </a:lnTo>
                        <a:lnTo>
                          <a:pt x="742" y="0"/>
                        </a:lnTo>
                        <a:lnTo>
                          <a:pt x="787" y="3"/>
                        </a:lnTo>
                        <a:lnTo>
                          <a:pt x="833" y="7"/>
                        </a:lnTo>
                        <a:lnTo>
                          <a:pt x="879" y="16"/>
                        </a:lnTo>
                        <a:lnTo>
                          <a:pt x="907" y="24"/>
                        </a:lnTo>
                        <a:lnTo>
                          <a:pt x="930" y="39"/>
                        </a:lnTo>
                        <a:lnTo>
                          <a:pt x="947" y="57"/>
                        </a:lnTo>
                        <a:lnTo>
                          <a:pt x="961" y="81"/>
                        </a:lnTo>
                        <a:lnTo>
                          <a:pt x="971" y="106"/>
                        </a:lnTo>
                        <a:lnTo>
                          <a:pt x="977" y="132"/>
                        </a:lnTo>
                        <a:lnTo>
                          <a:pt x="980" y="161"/>
                        </a:lnTo>
                        <a:lnTo>
                          <a:pt x="980" y="189"/>
                        </a:lnTo>
                        <a:lnTo>
                          <a:pt x="974" y="219"/>
                        </a:lnTo>
                        <a:lnTo>
                          <a:pt x="963" y="246"/>
                        </a:lnTo>
                        <a:lnTo>
                          <a:pt x="944" y="271"/>
                        </a:lnTo>
                        <a:lnTo>
                          <a:pt x="922" y="294"/>
                        </a:lnTo>
                        <a:lnTo>
                          <a:pt x="895" y="316"/>
                        </a:lnTo>
                        <a:lnTo>
                          <a:pt x="863" y="334"/>
                        </a:lnTo>
                        <a:lnTo>
                          <a:pt x="829" y="352"/>
                        </a:lnTo>
                        <a:lnTo>
                          <a:pt x="793" y="366"/>
                        </a:lnTo>
                        <a:lnTo>
                          <a:pt x="752" y="379"/>
                        </a:lnTo>
                        <a:lnTo>
                          <a:pt x="712" y="391"/>
                        </a:lnTo>
                        <a:lnTo>
                          <a:pt x="671" y="401"/>
                        </a:lnTo>
                        <a:lnTo>
                          <a:pt x="630" y="409"/>
                        </a:lnTo>
                        <a:lnTo>
                          <a:pt x="588" y="417"/>
                        </a:lnTo>
                        <a:lnTo>
                          <a:pt x="547" y="422"/>
                        </a:lnTo>
                        <a:lnTo>
                          <a:pt x="509" y="425"/>
                        </a:lnTo>
                        <a:lnTo>
                          <a:pt x="471" y="428"/>
                        </a:lnTo>
                        <a:close/>
                      </a:path>
                    </a:pathLst>
                  </a:custGeom>
                  <a:solidFill>
                    <a:srgbClr val="ffe5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>
                    <a:off x="797400" y="6081120"/>
                    <a:ext cx="21996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154" h="38">
                        <a:moveTo>
                          <a:pt x="154" y="2"/>
                        </a:moveTo>
                        <a:lnTo>
                          <a:pt x="154" y="2"/>
                        </a:lnTo>
                        <a:lnTo>
                          <a:pt x="134" y="0"/>
                        </a:lnTo>
                        <a:lnTo>
                          <a:pt x="115" y="2"/>
                        </a:lnTo>
                        <a:lnTo>
                          <a:pt x="96" y="5"/>
                        </a:lnTo>
                        <a:lnTo>
                          <a:pt x="77" y="6"/>
                        </a:lnTo>
                        <a:lnTo>
                          <a:pt x="59" y="9"/>
                        </a:lnTo>
                        <a:lnTo>
                          <a:pt x="40" y="12"/>
                        </a:lnTo>
                        <a:lnTo>
                          <a:pt x="20" y="16"/>
                        </a:lnTo>
                        <a:lnTo>
                          <a:pt x="0" y="20"/>
                        </a:lnTo>
                        <a:lnTo>
                          <a:pt x="2" y="38"/>
                        </a:lnTo>
                        <a:lnTo>
                          <a:pt x="23" y="33"/>
                        </a:lnTo>
                        <a:lnTo>
                          <a:pt x="43" y="29"/>
                        </a:lnTo>
                        <a:lnTo>
                          <a:pt x="62" y="26"/>
                        </a:lnTo>
                        <a:lnTo>
                          <a:pt x="77" y="23"/>
                        </a:lnTo>
                        <a:lnTo>
                          <a:pt x="96" y="22"/>
                        </a:lnTo>
                        <a:lnTo>
                          <a:pt x="115" y="19"/>
                        </a:lnTo>
                        <a:lnTo>
                          <a:pt x="134" y="20"/>
                        </a:lnTo>
                        <a:lnTo>
                          <a:pt x="154" y="19"/>
                        </a:lnTo>
                        <a:lnTo>
                          <a:pt x="154" y="19"/>
                        </a:lnTo>
                        <a:lnTo>
                          <a:pt x="154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>
                    <a:off x="1017360" y="6084360"/>
                    <a:ext cx="134280" cy="2484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48">
                        <a:moveTo>
                          <a:pt x="89" y="148"/>
                        </a:moveTo>
                        <a:lnTo>
                          <a:pt x="89" y="148"/>
                        </a:lnTo>
                        <a:lnTo>
                          <a:pt x="94" y="118"/>
                        </a:lnTo>
                        <a:lnTo>
                          <a:pt x="94" y="92"/>
                        </a:lnTo>
                        <a:lnTo>
                          <a:pt x="89" y="67"/>
                        </a:lnTo>
                        <a:lnTo>
                          <a:pt x="82" y="44"/>
                        </a:lnTo>
                        <a:lnTo>
                          <a:pt x="68" y="27"/>
                        </a:lnTo>
                        <a:lnTo>
                          <a:pt x="50" y="13"/>
                        </a:lnTo>
                        <a:lnTo>
                          <a:pt x="27" y="4"/>
                        </a:lnTo>
                        <a:lnTo>
                          <a:pt x="0" y="0"/>
                        </a:lnTo>
                        <a:lnTo>
                          <a:pt x="0" y="17"/>
                        </a:lnTo>
                        <a:lnTo>
                          <a:pt x="24" y="21"/>
                        </a:lnTo>
                        <a:lnTo>
                          <a:pt x="42" y="30"/>
                        </a:lnTo>
                        <a:lnTo>
                          <a:pt x="56" y="39"/>
                        </a:lnTo>
                        <a:lnTo>
                          <a:pt x="65" y="53"/>
                        </a:lnTo>
                        <a:lnTo>
                          <a:pt x="72" y="70"/>
                        </a:lnTo>
                        <a:lnTo>
                          <a:pt x="76" y="92"/>
                        </a:lnTo>
                        <a:lnTo>
                          <a:pt x="76" y="118"/>
                        </a:lnTo>
                        <a:lnTo>
                          <a:pt x="72" y="145"/>
                        </a:lnTo>
                        <a:lnTo>
                          <a:pt x="72" y="145"/>
                        </a:lnTo>
                        <a:lnTo>
                          <a:pt x="89" y="14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>
                    <a:off x="803160" y="6328080"/>
                    <a:ext cx="34092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39" h="82">
                        <a:moveTo>
                          <a:pt x="52" y="54"/>
                        </a:moveTo>
                        <a:lnTo>
                          <a:pt x="48" y="71"/>
                        </a:lnTo>
                        <a:lnTo>
                          <a:pt x="78" y="80"/>
                        </a:lnTo>
                        <a:lnTo>
                          <a:pt x="108" y="82"/>
                        </a:lnTo>
                        <a:lnTo>
                          <a:pt x="138" y="78"/>
                        </a:lnTo>
                        <a:lnTo>
                          <a:pt x="169" y="68"/>
                        </a:lnTo>
                        <a:lnTo>
                          <a:pt x="193" y="55"/>
                        </a:lnTo>
                        <a:lnTo>
                          <a:pt x="215" y="41"/>
                        </a:lnTo>
                        <a:lnTo>
                          <a:pt x="231" y="22"/>
                        </a:lnTo>
                        <a:lnTo>
                          <a:pt x="239" y="3"/>
                        </a:lnTo>
                        <a:lnTo>
                          <a:pt x="222" y="0"/>
                        </a:lnTo>
                        <a:lnTo>
                          <a:pt x="216" y="13"/>
                        </a:lnTo>
                        <a:lnTo>
                          <a:pt x="203" y="26"/>
                        </a:lnTo>
                        <a:lnTo>
                          <a:pt x="185" y="41"/>
                        </a:lnTo>
                        <a:lnTo>
                          <a:pt x="163" y="51"/>
                        </a:lnTo>
                        <a:lnTo>
                          <a:pt x="135" y="61"/>
                        </a:lnTo>
                        <a:lnTo>
                          <a:pt x="108" y="62"/>
                        </a:lnTo>
                        <a:lnTo>
                          <a:pt x="81" y="62"/>
                        </a:lnTo>
                        <a:lnTo>
                          <a:pt x="56" y="54"/>
                        </a:lnTo>
                        <a:lnTo>
                          <a:pt x="52" y="71"/>
                        </a:lnTo>
                        <a:lnTo>
                          <a:pt x="52" y="54"/>
                        </a:lnTo>
                        <a:lnTo>
                          <a:pt x="0" y="48"/>
                        </a:lnTo>
                        <a:lnTo>
                          <a:pt x="48" y="71"/>
                        </a:lnTo>
                        <a:lnTo>
                          <a:pt x="52" y="5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"/>
                  <p:cNvSpPr/>
                  <p:nvPr/>
                </p:nvSpPr>
                <p:spPr>
                  <a:xfrm>
                    <a:off x="877320" y="6418800"/>
                    <a:ext cx="2527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7" h="86">
                        <a:moveTo>
                          <a:pt x="176" y="86"/>
                        </a:moveTo>
                        <a:lnTo>
                          <a:pt x="177" y="86"/>
                        </a:lnTo>
                        <a:lnTo>
                          <a:pt x="171" y="57"/>
                        </a:lnTo>
                        <a:lnTo>
                          <a:pt x="158" y="36"/>
                        </a:lnTo>
                        <a:lnTo>
                          <a:pt x="138" y="20"/>
                        </a:lnTo>
                        <a:lnTo>
                          <a:pt x="112" y="13"/>
                        </a:lnTo>
                        <a:lnTo>
                          <a:pt x="86" y="7"/>
                        </a:lnTo>
                        <a:lnTo>
                          <a:pt x="58" y="4"/>
                        </a:lnTo>
                        <a:lnTo>
                          <a:pt x="29" y="3"/>
                        </a:lnTo>
                        <a:lnTo>
                          <a:pt x="0" y="0"/>
                        </a:lnTo>
                        <a:lnTo>
                          <a:pt x="0" y="17"/>
                        </a:lnTo>
                        <a:lnTo>
                          <a:pt x="29" y="20"/>
                        </a:lnTo>
                        <a:lnTo>
                          <a:pt x="58" y="21"/>
                        </a:lnTo>
                        <a:lnTo>
                          <a:pt x="83" y="24"/>
                        </a:lnTo>
                        <a:lnTo>
                          <a:pt x="109" y="30"/>
                        </a:lnTo>
                        <a:lnTo>
                          <a:pt x="130" y="37"/>
                        </a:lnTo>
                        <a:lnTo>
                          <a:pt x="144" y="47"/>
                        </a:lnTo>
                        <a:lnTo>
                          <a:pt x="154" y="63"/>
                        </a:lnTo>
                        <a:lnTo>
                          <a:pt x="157" y="86"/>
                        </a:lnTo>
                        <a:lnTo>
                          <a:pt x="158" y="86"/>
                        </a:lnTo>
                        <a:lnTo>
                          <a:pt x="176" y="8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7" name=""/>
                  <p:cNvSpPr/>
                  <p:nvPr/>
                </p:nvSpPr>
                <p:spPr>
                  <a:xfrm>
                    <a:off x="928800" y="6563160"/>
                    <a:ext cx="199800" cy="195120"/>
                  </a:xfrm>
                  <a:custGeom>
                    <a:avLst/>
                    <a:gdLst/>
                    <a:ahLst/>
                    <a:rect l="l" t="t" r="r" b="b"/>
                    <a:pathLst>
                      <a:path w="140" h="116">
                        <a:moveTo>
                          <a:pt x="0" y="97"/>
                        </a:moveTo>
                        <a:lnTo>
                          <a:pt x="0" y="114"/>
                        </a:lnTo>
                        <a:lnTo>
                          <a:pt x="26" y="116"/>
                        </a:lnTo>
                        <a:lnTo>
                          <a:pt x="50" y="113"/>
                        </a:lnTo>
                        <a:lnTo>
                          <a:pt x="75" y="108"/>
                        </a:lnTo>
                        <a:lnTo>
                          <a:pt x="97" y="100"/>
                        </a:lnTo>
                        <a:lnTo>
                          <a:pt x="117" y="84"/>
                        </a:lnTo>
                        <a:lnTo>
                          <a:pt x="130" y="62"/>
                        </a:lnTo>
                        <a:lnTo>
                          <a:pt x="138" y="35"/>
                        </a:lnTo>
                        <a:lnTo>
                          <a:pt x="140" y="0"/>
                        </a:lnTo>
                        <a:lnTo>
                          <a:pt x="122" y="0"/>
                        </a:lnTo>
                        <a:lnTo>
                          <a:pt x="121" y="32"/>
                        </a:lnTo>
                        <a:lnTo>
                          <a:pt x="112" y="56"/>
                        </a:lnTo>
                        <a:lnTo>
                          <a:pt x="102" y="72"/>
                        </a:lnTo>
                        <a:lnTo>
                          <a:pt x="88" y="82"/>
                        </a:lnTo>
                        <a:lnTo>
                          <a:pt x="69" y="91"/>
                        </a:lnTo>
                        <a:lnTo>
                          <a:pt x="50" y="95"/>
                        </a:lnTo>
                        <a:lnTo>
                          <a:pt x="26" y="95"/>
                        </a:lnTo>
                        <a:lnTo>
                          <a:pt x="0" y="97"/>
                        </a:lnTo>
                        <a:lnTo>
                          <a:pt x="0" y="114"/>
                        </a:lnTo>
                        <a:lnTo>
                          <a:pt x="0" y="9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928800" y="6726600"/>
                    <a:ext cx="178560" cy="319320"/>
                  </a:xfrm>
                  <a:custGeom>
                    <a:avLst/>
                    <a:gdLst/>
                    <a:ahLst/>
                    <a:rect l="l" t="t" r="r" b="b"/>
                    <a:pathLst>
                      <a:path w="125" h="190">
                        <a:moveTo>
                          <a:pt x="75" y="190"/>
                        </a:moveTo>
                        <a:lnTo>
                          <a:pt x="75" y="190"/>
                        </a:lnTo>
                        <a:lnTo>
                          <a:pt x="102" y="167"/>
                        </a:lnTo>
                        <a:lnTo>
                          <a:pt x="118" y="137"/>
                        </a:lnTo>
                        <a:lnTo>
                          <a:pt x="125" y="105"/>
                        </a:lnTo>
                        <a:lnTo>
                          <a:pt x="118" y="73"/>
                        </a:lnTo>
                        <a:lnTo>
                          <a:pt x="102" y="43"/>
                        </a:lnTo>
                        <a:lnTo>
                          <a:pt x="76" y="20"/>
                        </a:lnTo>
                        <a:lnTo>
                          <a:pt x="42" y="4"/>
                        </a:lnTo>
                        <a:lnTo>
                          <a:pt x="0" y="0"/>
                        </a:lnTo>
                        <a:lnTo>
                          <a:pt x="0" y="17"/>
                        </a:lnTo>
                        <a:lnTo>
                          <a:pt x="39" y="21"/>
                        </a:lnTo>
                        <a:lnTo>
                          <a:pt x="68" y="34"/>
                        </a:lnTo>
                        <a:lnTo>
                          <a:pt x="88" y="55"/>
                        </a:lnTo>
                        <a:lnTo>
                          <a:pt x="101" y="79"/>
                        </a:lnTo>
                        <a:lnTo>
                          <a:pt x="105" y="105"/>
                        </a:lnTo>
                        <a:lnTo>
                          <a:pt x="101" y="131"/>
                        </a:lnTo>
                        <a:lnTo>
                          <a:pt x="88" y="156"/>
                        </a:lnTo>
                        <a:lnTo>
                          <a:pt x="66" y="176"/>
                        </a:lnTo>
                        <a:lnTo>
                          <a:pt x="66" y="176"/>
                        </a:lnTo>
                        <a:lnTo>
                          <a:pt x="75" y="19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30040" y="6859440"/>
                    <a:ext cx="805680" cy="297360"/>
                  </a:xfrm>
                  <a:custGeom>
                    <a:avLst/>
                    <a:gdLst/>
                    <a:ahLst/>
                    <a:rect l="l" t="t" r="r" b="b"/>
                    <a:pathLst>
                      <a:path w="564" h="177">
                        <a:moveTo>
                          <a:pt x="0" y="12"/>
                        </a:moveTo>
                        <a:lnTo>
                          <a:pt x="0" y="12"/>
                        </a:lnTo>
                        <a:lnTo>
                          <a:pt x="23" y="40"/>
                        </a:lnTo>
                        <a:lnTo>
                          <a:pt x="51" y="68"/>
                        </a:lnTo>
                        <a:lnTo>
                          <a:pt x="79" y="92"/>
                        </a:lnTo>
                        <a:lnTo>
                          <a:pt x="111" y="114"/>
                        </a:lnTo>
                        <a:lnTo>
                          <a:pt x="144" y="133"/>
                        </a:lnTo>
                        <a:lnTo>
                          <a:pt x="180" y="149"/>
                        </a:lnTo>
                        <a:lnTo>
                          <a:pt x="218" y="160"/>
                        </a:lnTo>
                        <a:lnTo>
                          <a:pt x="254" y="169"/>
                        </a:lnTo>
                        <a:lnTo>
                          <a:pt x="294" y="175"/>
                        </a:lnTo>
                        <a:lnTo>
                          <a:pt x="332" y="177"/>
                        </a:lnTo>
                        <a:lnTo>
                          <a:pt x="371" y="176"/>
                        </a:lnTo>
                        <a:lnTo>
                          <a:pt x="411" y="170"/>
                        </a:lnTo>
                        <a:lnTo>
                          <a:pt x="450" y="162"/>
                        </a:lnTo>
                        <a:lnTo>
                          <a:pt x="489" y="150"/>
                        </a:lnTo>
                        <a:lnTo>
                          <a:pt x="528" y="133"/>
                        </a:lnTo>
                        <a:lnTo>
                          <a:pt x="564" y="111"/>
                        </a:lnTo>
                        <a:lnTo>
                          <a:pt x="555" y="97"/>
                        </a:lnTo>
                        <a:lnTo>
                          <a:pt x="519" y="115"/>
                        </a:lnTo>
                        <a:lnTo>
                          <a:pt x="483" y="133"/>
                        </a:lnTo>
                        <a:lnTo>
                          <a:pt x="447" y="144"/>
                        </a:lnTo>
                        <a:lnTo>
                          <a:pt x="408" y="153"/>
                        </a:lnTo>
                        <a:lnTo>
                          <a:pt x="371" y="159"/>
                        </a:lnTo>
                        <a:lnTo>
                          <a:pt x="332" y="157"/>
                        </a:lnTo>
                        <a:lnTo>
                          <a:pt x="294" y="157"/>
                        </a:lnTo>
                        <a:lnTo>
                          <a:pt x="257" y="152"/>
                        </a:lnTo>
                        <a:lnTo>
                          <a:pt x="221" y="143"/>
                        </a:lnTo>
                        <a:lnTo>
                          <a:pt x="186" y="131"/>
                        </a:lnTo>
                        <a:lnTo>
                          <a:pt x="153" y="115"/>
                        </a:lnTo>
                        <a:lnTo>
                          <a:pt x="120" y="100"/>
                        </a:lnTo>
                        <a:lnTo>
                          <a:pt x="91" y="78"/>
                        </a:lnTo>
                        <a:lnTo>
                          <a:pt x="62" y="53"/>
                        </a:lnTo>
                        <a:lnTo>
                          <a:pt x="38" y="29"/>
                        </a:lnTo>
                        <a:lnTo>
                          <a:pt x="14" y="0"/>
                        </a:lnTo>
                        <a:lnTo>
                          <a:pt x="14" y="0"/>
                        </a:lnTo>
                        <a:lnTo>
                          <a:pt x="0" y="1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"/>
                  <p:cNvSpPr/>
                  <p:nvPr/>
                </p:nvSpPr>
                <p:spPr>
                  <a:xfrm>
                    <a:off x="110160" y="5734440"/>
                    <a:ext cx="324360" cy="114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27" h="681">
                        <a:moveTo>
                          <a:pt x="215" y="0"/>
                        </a:moveTo>
                        <a:lnTo>
                          <a:pt x="215" y="0"/>
                        </a:lnTo>
                        <a:lnTo>
                          <a:pt x="178" y="32"/>
                        </a:lnTo>
                        <a:lnTo>
                          <a:pt x="143" y="69"/>
                        </a:lnTo>
                        <a:lnTo>
                          <a:pt x="111" y="105"/>
                        </a:lnTo>
                        <a:lnTo>
                          <a:pt x="86" y="146"/>
                        </a:lnTo>
                        <a:lnTo>
                          <a:pt x="60" y="187"/>
                        </a:lnTo>
                        <a:lnTo>
                          <a:pt x="39" y="231"/>
                        </a:lnTo>
                        <a:lnTo>
                          <a:pt x="24" y="275"/>
                        </a:lnTo>
                        <a:lnTo>
                          <a:pt x="12" y="320"/>
                        </a:lnTo>
                        <a:lnTo>
                          <a:pt x="5" y="368"/>
                        </a:lnTo>
                        <a:lnTo>
                          <a:pt x="0" y="412"/>
                        </a:lnTo>
                        <a:lnTo>
                          <a:pt x="3" y="459"/>
                        </a:lnTo>
                        <a:lnTo>
                          <a:pt x="9" y="505"/>
                        </a:lnTo>
                        <a:lnTo>
                          <a:pt x="19" y="549"/>
                        </a:lnTo>
                        <a:lnTo>
                          <a:pt x="35" y="594"/>
                        </a:lnTo>
                        <a:lnTo>
                          <a:pt x="57" y="637"/>
                        </a:lnTo>
                        <a:lnTo>
                          <a:pt x="84" y="681"/>
                        </a:lnTo>
                        <a:lnTo>
                          <a:pt x="98" y="669"/>
                        </a:lnTo>
                        <a:lnTo>
                          <a:pt x="74" y="629"/>
                        </a:lnTo>
                        <a:lnTo>
                          <a:pt x="52" y="588"/>
                        </a:lnTo>
                        <a:lnTo>
                          <a:pt x="36" y="547"/>
                        </a:lnTo>
                        <a:lnTo>
                          <a:pt x="26" y="502"/>
                        </a:lnTo>
                        <a:lnTo>
                          <a:pt x="21" y="459"/>
                        </a:lnTo>
                        <a:lnTo>
                          <a:pt x="21" y="412"/>
                        </a:lnTo>
                        <a:lnTo>
                          <a:pt x="22" y="368"/>
                        </a:lnTo>
                        <a:lnTo>
                          <a:pt x="29" y="323"/>
                        </a:lnTo>
                        <a:lnTo>
                          <a:pt x="41" y="281"/>
                        </a:lnTo>
                        <a:lnTo>
                          <a:pt x="57" y="236"/>
                        </a:lnTo>
                        <a:lnTo>
                          <a:pt x="77" y="196"/>
                        </a:lnTo>
                        <a:lnTo>
                          <a:pt x="100" y="154"/>
                        </a:lnTo>
                        <a:lnTo>
                          <a:pt x="126" y="117"/>
                        </a:lnTo>
                        <a:lnTo>
                          <a:pt x="158" y="81"/>
                        </a:lnTo>
                        <a:lnTo>
                          <a:pt x="189" y="46"/>
                        </a:lnTo>
                        <a:lnTo>
                          <a:pt x="227" y="14"/>
                        </a:lnTo>
                        <a:lnTo>
                          <a:pt x="227" y="14"/>
                        </a:lnTo>
                        <a:lnTo>
                          <a:pt x="215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1" name=""/>
                  <p:cNvSpPr/>
                  <p:nvPr/>
                </p:nvSpPr>
                <p:spPr>
                  <a:xfrm>
                    <a:off x="417240" y="5394960"/>
                    <a:ext cx="967320" cy="362880"/>
                  </a:xfrm>
                  <a:custGeom>
                    <a:avLst/>
                    <a:gdLst/>
                    <a:ahLst/>
                    <a:rect l="l" t="t" r="r" b="b"/>
                    <a:pathLst>
                      <a:path w="677" h="216">
                        <a:moveTo>
                          <a:pt x="677" y="16"/>
                        </a:moveTo>
                        <a:lnTo>
                          <a:pt x="677" y="16"/>
                        </a:lnTo>
                        <a:lnTo>
                          <a:pt x="629" y="7"/>
                        </a:lnTo>
                        <a:lnTo>
                          <a:pt x="583" y="3"/>
                        </a:lnTo>
                        <a:lnTo>
                          <a:pt x="538" y="0"/>
                        </a:lnTo>
                        <a:lnTo>
                          <a:pt x="495" y="0"/>
                        </a:lnTo>
                        <a:lnTo>
                          <a:pt x="452" y="3"/>
                        </a:lnTo>
                        <a:lnTo>
                          <a:pt x="407" y="9"/>
                        </a:lnTo>
                        <a:lnTo>
                          <a:pt x="364" y="17"/>
                        </a:lnTo>
                        <a:lnTo>
                          <a:pt x="322" y="27"/>
                        </a:lnTo>
                        <a:lnTo>
                          <a:pt x="280" y="40"/>
                        </a:lnTo>
                        <a:lnTo>
                          <a:pt x="238" y="56"/>
                        </a:lnTo>
                        <a:lnTo>
                          <a:pt x="196" y="75"/>
                        </a:lnTo>
                        <a:lnTo>
                          <a:pt x="157" y="95"/>
                        </a:lnTo>
                        <a:lnTo>
                          <a:pt x="117" y="120"/>
                        </a:lnTo>
                        <a:lnTo>
                          <a:pt x="78" y="144"/>
                        </a:lnTo>
                        <a:lnTo>
                          <a:pt x="39" y="172"/>
                        </a:lnTo>
                        <a:lnTo>
                          <a:pt x="0" y="202"/>
                        </a:lnTo>
                        <a:lnTo>
                          <a:pt x="12" y="216"/>
                        </a:lnTo>
                        <a:lnTo>
                          <a:pt x="51" y="186"/>
                        </a:lnTo>
                        <a:lnTo>
                          <a:pt x="87" y="159"/>
                        </a:lnTo>
                        <a:lnTo>
                          <a:pt x="126" y="134"/>
                        </a:lnTo>
                        <a:lnTo>
                          <a:pt x="166" y="113"/>
                        </a:lnTo>
                        <a:lnTo>
                          <a:pt x="205" y="92"/>
                        </a:lnTo>
                        <a:lnTo>
                          <a:pt x="244" y="74"/>
                        </a:lnTo>
                        <a:lnTo>
                          <a:pt x="286" y="58"/>
                        </a:lnTo>
                        <a:lnTo>
                          <a:pt x="325" y="45"/>
                        </a:lnTo>
                        <a:lnTo>
                          <a:pt x="367" y="35"/>
                        </a:lnTo>
                        <a:lnTo>
                          <a:pt x="410" y="26"/>
                        </a:lnTo>
                        <a:lnTo>
                          <a:pt x="452" y="20"/>
                        </a:lnTo>
                        <a:lnTo>
                          <a:pt x="495" y="17"/>
                        </a:lnTo>
                        <a:lnTo>
                          <a:pt x="538" y="17"/>
                        </a:lnTo>
                        <a:lnTo>
                          <a:pt x="583" y="20"/>
                        </a:lnTo>
                        <a:lnTo>
                          <a:pt x="629" y="25"/>
                        </a:lnTo>
                        <a:lnTo>
                          <a:pt x="674" y="33"/>
                        </a:lnTo>
                        <a:lnTo>
                          <a:pt x="674" y="33"/>
                        </a:lnTo>
                        <a:lnTo>
                          <a:pt x="677" y="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" name=""/>
                  <p:cNvSpPr/>
                  <p:nvPr/>
                </p:nvSpPr>
                <p:spPr>
                  <a:xfrm>
                    <a:off x="1380240" y="5421600"/>
                    <a:ext cx="158760" cy="30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11" h="182">
                        <a:moveTo>
                          <a:pt x="111" y="182"/>
                        </a:moveTo>
                        <a:lnTo>
                          <a:pt x="111" y="182"/>
                        </a:lnTo>
                        <a:lnTo>
                          <a:pt x="111" y="154"/>
                        </a:lnTo>
                        <a:lnTo>
                          <a:pt x="108" y="124"/>
                        </a:lnTo>
                        <a:lnTo>
                          <a:pt x="102" y="97"/>
                        </a:lnTo>
                        <a:lnTo>
                          <a:pt x="92" y="69"/>
                        </a:lnTo>
                        <a:lnTo>
                          <a:pt x="76" y="45"/>
                        </a:lnTo>
                        <a:lnTo>
                          <a:pt x="57" y="24"/>
                        </a:lnTo>
                        <a:lnTo>
                          <a:pt x="31" y="9"/>
                        </a:lnTo>
                        <a:lnTo>
                          <a:pt x="3" y="0"/>
                        </a:lnTo>
                        <a:lnTo>
                          <a:pt x="0" y="17"/>
                        </a:lnTo>
                        <a:lnTo>
                          <a:pt x="26" y="26"/>
                        </a:lnTo>
                        <a:lnTo>
                          <a:pt x="46" y="39"/>
                        </a:lnTo>
                        <a:lnTo>
                          <a:pt x="62" y="56"/>
                        </a:lnTo>
                        <a:lnTo>
                          <a:pt x="75" y="78"/>
                        </a:lnTo>
                        <a:lnTo>
                          <a:pt x="85" y="102"/>
                        </a:lnTo>
                        <a:lnTo>
                          <a:pt x="91" y="127"/>
                        </a:lnTo>
                        <a:lnTo>
                          <a:pt x="93" y="154"/>
                        </a:lnTo>
                        <a:lnTo>
                          <a:pt x="93" y="182"/>
                        </a:lnTo>
                        <a:lnTo>
                          <a:pt x="93" y="182"/>
                        </a:lnTo>
                        <a:lnTo>
                          <a:pt x="111" y="18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"/>
                  <p:cNvSpPr/>
                  <p:nvPr/>
                </p:nvSpPr>
                <p:spPr>
                  <a:xfrm>
                    <a:off x="797400" y="5727960"/>
                    <a:ext cx="741600" cy="416520"/>
                  </a:xfrm>
                  <a:custGeom>
                    <a:avLst/>
                    <a:gdLst/>
                    <a:ahLst/>
                    <a:rect l="l" t="t" r="r" b="b"/>
                    <a:pathLst>
                      <a:path w="519" h="248">
                        <a:moveTo>
                          <a:pt x="0" y="230"/>
                        </a:moveTo>
                        <a:lnTo>
                          <a:pt x="1" y="248"/>
                        </a:lnTo>
                        <a:lnTo>
                          <a:pt x="39" y="245"/>
                        </a:lnTo>
                        <a:lnTo>
                          <a:pt x="77" y="242"/>
                        </a:lnTo>
                        <a:lnTo>
                          <a:pt x="119" y="236"/>
                        </a:lnTo>
                        <a:lnTo>
                          <a:pt x="161" y="229"/>
                        </a:lnTo>
                        <a:lnTo>
                          <a:pt x="203" y="220"/>
                        </a:lnTo>
                        <a:lnTo>
                          <a:pt x="243" y="210"/>
                        </a:lnTo>
                        <a:lnTo>
                          <a:pt x="285" y="199"/>
                        </a:lnTo>
                        <a:lnTo>
                          <a:pt x="325" y="186"/>
                        </a:lnTo>
                        <a:lnTo>
                          <a:pt x="362" y="171"/>
                        </a:lnTo>
                        <a:lnTo>
                          <a:pt x="398" y="154"/>
                        </a:lnTo>
                        <a:lnTo>
                          <a:pt x="429" y="134"/>
                        </a:lnTo>
                        <a:lnTo>
                          <a:pt x="458" y="112"/>
                        </a:lnTo>
                        <a:lnTo>
                          <a:pt x="481" y="88"/>
                        </a:lnTo>
                        <a:lnTo>
                          <a:pt x="501" y="62"/>
                        </a:lnTo>
                        <a:lnTo>
                          <a:pt x="513" y="31"/>
                        </a:lnTo>
                        <a:lnTo>
                          <a:pt x="519" y="0"/>
                        </a:lnTo>
                        <a:lnTo>
                          <a:pt x="501" y="0"/>
                        </a:lnTo>
                        <a:lnTo>
                          <a:pt x="496" y="29"/>
                        </a:lnTo>
                        <a:lnTo>
                          <a:pt x="484" y="53"/>
                        </a:lnTo>
                        <a:lnTo>
                          <a:pt x="467" y="76"/>
                        </a:lnTo>
                        <a:lnTo>
                          <a:pt x="447" y="98"/>
                        </a:lnTo>
                        <a:lnTo>
                          <a:pt x="421" y="119"/>
                        </a:lnTo>
                        <a:lnTo>
                          <a:pt x="389" y="137"/>
                        </a:lnTo>
                        <a:lnTo>
                          <a:pt x="356" y="154"/>
                        </a:lnTo>
                        <a:lnTo>
                          <a:pt x="320" y="168"/>
                        </a:lnTo>
                        <a:lnTo>
                          <a:pt x="279" y="181"/>
                        </a:lnTo>
                        <a:lnTo>
                          <a:pt x="240" y="193"/>
                        </a:lnTo>
                        <a:lnTo>
                          <a:pt x="200" y="203"/>
                        </a:lnTo>
                        <a:lnTo>
                          <a:pt x="158" y="212"/>
                        </a:lnTo>
                        <a:lnTo>
                          <a:pt x="116" y="219"/>
                        </a:lnTo>
                        <a:lnTo>
                          <a:pt x="77" y="225"/>
                        </a:lnTo>
                        <a:lnTo>
                          <a:pt x="39" y="228"/>
                        </a:lnTo>
                        <a:lnTo>
                          <a:pt x="1" y="230"/>
                        </a:lnTo>
                        <a:lnTo>
                          <a:pt x="2" y="248"/>
                        </a:lnTo>
                        <a:lnTo>
                          <a:pt x="0" y="23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"/>
                  <p:cNvSpPr/>
                  <p:nvPr/>
                </p:nvSpPr>
                <p:spPr>
                  <a:xfrm>
                    <a:off x="1190520" y="5549400"/>
                    <a:ext cx="219960" cy="33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54" h="197">
                        <a:moveTo>
                          <a:pt x="154" y="91"/>
                        </a:moveTo>
                        <a:lnTo>
                          <a:pt x="154" y="111"/>
                        </a:lnTo>
                        <a:lnTo>
                          <a:pt x="151" y="130"/>
                        </a:lnTo>
                        <a:lnTo>
                          <a:pt x="146" y="147"/>
                        </a:lnTo>
                        <a:lnTo>
                          <a:pt x="138" y="163"/>
                        </a:lnTo>
                        <a:lnTo>
                          <a:pt x="128" y="176"/>
                        </a:lnTo>
                        <a:lnTo>
                          <a:pt x="115" y="186"/>
                        </a:lnTo>
                        <a:lnTo>
                          <a:pt x="102" y="194"/>
                        </a:lnTo>
                        <a:lnTo>
                          <a:pt x="87" y="197"/>
                        </a:lnTo>
                        <a:lnTo>
                          <a:pt x="71" y="197"/>
                        </a:lnTo>
                        <a:lnTo>
                          <a:pt x="56" y="192"/>
                        </a:lnTo>
                        <a:lnTo>
                          <a:pt x="42" y="185"/>
                        </a:lnTo>
                        <a:lnTo>
                          <a:pt x="29" y="173"/>
                        </a:lnTo>
                        <a:lnTo>
                          <a:pt x="19" y="160"/>
                        </a:lnTo>
                        <a:lnTo>
                          <a:pt x="10" y="145"/>
                        </a:lnTo>
                        <a:lnTo>
                          <a:pt x="3" y="127"/>
                        </a:lnTo>
                        <a:lnTo>
                          <a:pt x="0" y="107"/>
                        </a:lnTo>
                        <a:lnTo>
                          <a:pt x="0" y="87"/>
                        </a:lnTo>
                        <a:lnTo>
                          <a:pt x="1" y="68"/>
                        </a:lnTo>
                        <a:lnTo>
                          <a:pt x="7" y="51"/>
                        </a:lnTo>
                        <a:lnTo>
                          <a:pt x="16" y="35"/>
                        </a:lnTo>
                        <a:lnTo>
                          <a:pt x="26" y="22"/>
                        </a:lnTo>
                        <a:lnTo>
                          <a:pt x="38" y="10"/>
                        </a:lnTo>
                        <a:lnTo>
                          <a:pt x="52" y="3"/>
                        </a:lnTo>
                        <a:lnTo>
                          <a:pt x="68" y="0"/>
                        </a:lnTo>
                        <a:lnTo>
                          <a:pt x="84" y="0"/>
                        </a:lnTo>
                        <a:lnTo>
                          <a:pt x="98" y="5"/>
                        </a:lnTo>
                        <a:lnTo>
                          <a:pt x="112" y="13"/>
                        </a:lnTo>
                        <a:lnTo>
                          <a:pt x="124" y="23"/>
                        </a:lnTo>
                        <a:lnTo>
                          <a:pt x="136" y="38"/>
                        </a:lnTo>
                        <a:lnTo>
                          <a:pt x="144" y="54"/>
                        </a:lnTo>
                        <a:lnTo>
                          <a:pt x="150" y="71"/>
                        </a:lnTo>
                        <a:lnTo>
                          <a:pt x="154" y="91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>
                    <a:off x="1314720" y="5702760"/>
                    <a:ext cx="108360" cy="1911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14">
                        <a:moveTo>
                          <a:pt x="0" y="114"/>
                        </a:moveTo>
                        <a:lnTo>
                          <a:pt x="0" y="114"/>
                        </a:lnTo>
                        <a:lnTo>
                          <a:pt x="18" y="111"/>
                        </a:lnTo>
                        <a:lnTo>
                          <a:pt x="33" y="103"/>
                        </a:lnTo>
                        <a:lnTo>
                          <a:pt x="47" y="91"/>
                        </a:lnTo>
                        <a:lnTo>
                          <a:pt x="59" y="77"/>
                        </a:lnTo>
                        <a:lnTo>
                          <a:pt x="67" y="59"/>
                        </a:lnTo>
                        <a:lnTo>
                          <a:pt x="73" y="41"/>
                        </a:lnTo>
                        <a:lnTo>
                          <a:pt x="76" y="20"/>
                        </a:lnTo>
                        <a:lnTo>
                          <a:pt x="76" y="0"/>
                        </a:lnTo>
                        <a:lnTo>
                          <a:pt x="59" y="0"/>
                        </a:lnTo>
                        <a:lnTo>
                          <a:pt x="59" y="20"/>
                        </a:lnTo>
                        <a:lnTo>
                          <a:pt x="56" y="38"/>
                        </a:lnTo>
                        <a:lnTo>
                          <a:pt x="50" y="54"/>
                        </a:lnTo>
                        <a:lnTo>
                          <a:pt x="44" y="68"/>
                        </a:lnTo>
                        <a:lnTo>
                          <a:pt x="36" y="80"/>
                        </a:lnTo>
                        <a:lnTo>
                          <a:pt x="24" y="88"/>
                        </a:lnTo>
                        <a:lnTo>
                          <a:pt x="13" y="94"/>
                        </a:lnTo>
                        <a:lnTo>
                          <a:pt x="0" y="97"/>
                        </a:lnTo>
                        <a:lnTo>
                          <a:pt x="0" y="97"/>
                        </a:lnTo>
                        <a:lnTo>
                          <a:pt x="0" y="11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1177560" y="5729400"/>
                    <a:ext cx="136800" cy="16452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98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3" y="22"/>
                        </a:lnTo>
                        <a:lnTo>
                          <a:pt x="10" y="42"/>
                        </a:lnTo>
                        <a:lnTo>
                          <a:pt x="21" y="58"/>
                        </a:lnTo>
                        <a:lnTo>
                          <a:pt x="31" y="72"/>
                        </a:lnTo>
                        <a:lnTo>
                          <a:pt x="47" y="85"/>
                        </a:lnTo>
                        <a:lnTo>
                          <a:pt x="62" y="94"/>
                        </a:lnTo>
                        <a:lnTo>
                          <a:pt x="80" y="98"/>
                        </a:lnTo>
                        <a:lnTo>
                          <a:pt x="96" y="98"/>
                        </a:lnTo>
                        <a:lnTo>
                          <a:pt x="96" y="81"/>
                        </a:lnTo>
                        <a:lnTo>
                          <a:pt x="80" y="81"/>
                        </a:lnTo>
                        <a:lnTo>
                          <a:pt x="68" y="77"/>
                        </a:lnTo>
                        <a:lnTo>
                          <a:pt x="55" y="71"/>
                        </a:lnTo>
                        <a:lnTo>
                          <a:pt x="45" y="61"/>
                        </a:lnTo>
                        <a:lnTo>
                          <a:pt x="35" y="49"/>
                        </a:lnTo>
                        <a:lnTo>
                          <a:pt x="28" y="33"/>
                        </a:lnTo>
                        <a:lnTo>
                          <a:pt x="21" y="19"/>
                        </a:lnTo>
                        <a:lnTo>
                          <a:pt x="18" y="0"/>
                        </a:lnTo>
                        <a:lnTo>
                          <a:pt x="18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>
                    <a:off x="1175760" y="5536080"/>
                    <a:ext cx="111240" cy="19296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115">
                        <a:moveTo>
                          <a:pt x="78" y="0"/>
                        </a:moveTo>
                        <a:lnTo>
                          <a:pt x="78" y="0"/>
                        </a:lnTo>
                        <a:lnTo>
                          <a:pt x="59" y="3"/>
                        </a:lnTo>
                        <a:lnTo>
                          <a:pt x="42" y="11"/>
                        </a:lnTo>
                        <a:lnTo>
                          <a:pt x="29" y="24"/>
                        </a:lnTo>
                        <a:lnTo>
                          <a:pt x="19" y="39"/>
                        </a:lnTo>
                        <a:lnTo>
                          <a:pt x="9" y="56"/>
                        </a:lnTo>
                        <a:lnTo>
                          <a:pt x="3" y="75"/>
                        </a:lnTo>
                        <a:lnTo>
                          <a:pt x="0" y="95"/>
                        </a:lnTo>
                        <a:lnTo>
                          <a:pt x="1" y="115"/>
                        </a:lnTo>
                        <a:lnTo>
                          <a:pt x="19" y="115"/>
                        </a:lnTo>
                        <a:lnTo>
                          <a:pt x="20" y="95"/>
                        </a:lnTo>
                        <a:lnTo>
                          <a:pt x="20" y="78"/>
                        </a:lnTo>
                        <a:lnTo>
                          <a:pt x="26" y="62"/>
                        </a:lnTo>
                        <a:lnTo>
                          <a:pt x="33" y="47"/>
                        </a:lnTo>
                        <a:lnTo>
                          <a:pt x="43" y="36"/>
                        </a:lnTo>
                        <a:lnTo>
                          <a:pt x="53" y="26"/>
                        </a:lnTo>
                        <a:lnTo>
                          <a:pt x="65" y="20"/>
                        </a:lnTo>
                        <a:lnTo>
                          <a:pt x="78" y="17"/>
                        </a:lnTo>
                        <a:lnTo>
                          <a:pt x="78" y="17"/>
                        </a:lnTo>
                        <a:lnTo>
                          <a:pt x="7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1287360" y="5536080"/>
                    <a:ext cx="135720" cy="166320"/>
                  </a:xfrm>
                  <a:custGeom>
                    <a:avLst/>
                    <a:gdLst/>
                    <a:ahLst/>
                    <a:rect l="l" t="t" r="r" b="b"/>
                    <a:pathLst>
                      <a:path w="95" h="99">
                        <a:moveTo>
                          <a:pt x="95" y="99"/>
                        </a:moveTo>
                        <a:lnTo>
                          <a:pt x="95" y="99"/>
                        </a:lnTo>
                        <a:lnTo>
                          <a:pt x="91" y="78"/>
                        </a:lnTo>
                        <a:lnTo>
                          <a:pt x="85" y="59"/>
                        </a:lnTo>
                        <a:lnTo>
                          <a:pt x="75" y="42"/>
                        </a:lnTo>
                        <a:lnTo>
                          <a:pt x="63" y="26"/>
                        </a:lnTo>
                        <a:lnTo>
                          <a:pt x="50" y="14"/>
                        </a:lnTo>
                        <a:lnTo>
                          <a:pt x="33" y="4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lnTo>
                          <a:pt x="0" y="17"/>
                        </a:lnTo>
                        <a:lnTo>
                          <a:pt x="16" y="17"/>
                        </a:lnTo>
                        <a:lnTo>
                          <a:pt x="27" y="21"/>
                        </a:lnTo>
                        <a:lnTo>
                          <a:pt x="39" y="29"/>
                        </a:lnTo>
                        <a:lnTo>
                          <a:pt x="49" y="37"/>
                        </a:lnTo>
                        <a:lnTo>
                          <a:pt x="60" y="50"/>
                        </a:lnTo>
                        <a:lnTo>
                          <a:pt x="68" y="65"/>
                        </a:lnTo>
                        <a:lnTo>
                          <a:pt x="73" y="80"/>
                        </a:lnTo>
                        <a:lnTo>
                          <a:pt x="78" y="99"/>
                        </a:lnTo>
                        <a:lnTo>
                          <a:pt x="78" y="99"/>
                        </a:lnTo>
                        <a:lnTo>
                          <a:pt x="95" y="9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9" name=""/>
                <p:cNvGrpSpPr/>
                <p:nvPr/>
              </p:nvGrpSpPr>
              <p:grpSpPr>
                <a:xfrm>
                  <a:off x="1658880" y="4519080"/>
                  <a:ext cx="4535280" cy="2837520"/>
                  <a:chOff x="1658880" y="4519080"/>
                  <a:chExt cx="4535280" cy="2837520"/>
                </a:xfrm>
              </p:grpSpPr>
              <p:sp>
                <p:nvSpPr>
                  <p:cNvPr id="290" name=""/>
                  <p:cNvSpPr txBox="1"/>
                  <p:nvPr/>
                </p:nvSpPr>
                <p:spPr>
                  <a:xfrm>
                    <a:off x="5004000" y="4562640"/>
                    <a:ext cx="1084680" cy="64728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hi-IN" sz="18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ffffff"/>
                        </a:solidFill>
                        <a:latin typeface="Arial Black"/>
                      </a:rPr>
                      <a:t>طوابع</a:t>
                    </a:r>
                    <a:endParaRPr b="0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ff"/>
                      </a:solidFill>
                      <a:latin typeface="Arial Black"/>
                      <a:ea typeface="Arial Black"/>
                    </a:endParaRPr>
                  </a:p>
                </p:txBody>
              </p:sp>
              <p:sp>
                <p:nvSpPr>
                  <p:cNvPr id="291" name=""/>
                  <p:cNvSpPr txBox="1"/>
                  <p:nvPr/>
                </p:nvSpPr>
                <p:spPr>
                  <a:xfrm>
                    <a:off x="3195720" y="4519080"/>
                    <a:ext cx="1265400" cy="69120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hi-IN" sz="18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ffffff"/>
                        </a:solidFill>
                        <a:latin typeface="Arial Black"/>
                      </a:rPr>
                      <a:t>مدارس</a:t>
                    </a:r>
                    <a:endParaRPr b="0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ff"/>
                      </a:solidFill>
                      <a:latin typeface="Arial Black"/>
                      <a:ea typeface="Arial Black"/>
                    </a:endParaRPr>
                  </a:p>
                </p:txBody>
              </p:sp>
              <p:sp>
                <p:nvSpPr>
                  <p:cNvPr id="292" name=""/>
                  <p:cNvSpPr txBox="1"/>
                  <p:nvPr/>
                </p:nvSpPr>
                <p:spPr>
                  <a:xfrm>
                    <a:off x="1658880" y="4562640"/>
                    <a:ext cx="1009440" cy="64728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hi-IN" sz="18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ffffff"/>
                        </a:solidFill>
                        <a:latin typeface="Arial Black"/>
                      </a:rPr>
                      <a:t>ثياب</a:t>
                    </a:r>
                    <a:endParaRPr b="0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ff"/>
                      </a:solidFill>
                      <a:latin typeface="Arial Black"/>
                      <a:ea typeface="Arial Black"/>
                    </a:endParaRPr>
                  </a:p>
                </p:txBody>
              </p:sp>
              <p:sp>
                <p:nvSpPr>
                  <p:cNvPr id="293" name=""/>
                  <p:cNvSpPr txBox="1"/>
                  <p:nvPr/>
                </p:nvSpPr>
                <p:spPr>
                  <a:xfrm>
                    <a:off x="5094000" y="5533200"/>
                    <a:ext cx="1009440" cy="64728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hi-IN" sz="18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ffffff"/>
                        </a:solidFill>
                        <a:latin typeface="Arial Black"/>
                      </a:rPr>
                      <a:t>صالح</a:t>
                    </a:r>
                    <a:endParaRPr b="0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ff"/>
                      </a:solidFill>
                      <a:latin typeface="Arial Black"/>
                      <a:ea typeface="Arial Black"/>
                    </a:endParaRPr>
                  </a:p>
                </p:txBody>
              </p:sp>
              <p:sp>
                <p:nvSpPr>
                  <p:cNvPr id="294" name=""/>
                  <p:cNvSpPr txBox="1"/>
                  <p:nvPr/>
                </p:nvSpPr>
                <p:spPr>
                  <a:xfrm>
                    <a:off x="3195720" y="5533200"/>
                    <a:ext cx="1355760" cy="72504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hi-IN" sz="18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ffffff"/>
                        </a:solidFill>
                        <a:latin typeface="Arial Black"/>
                      </a:rPr>
                      <a:t>الإنسان</a:t>
                    </a:r>
                    <a:endParaRPr b="0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ff"/>
                      </a:solidFill>
                      <a:latin typeface="Arial Black"/>
                      <a:ea typeface="Arial Black"/>
                    </a:endParaRPr>
                  </a:p>
                </p:txBody>
              </p:sp>
              <p:sp>
                <p:nvSpPr>
                  <p:cNvPr id="295" name=""/>
                  <p:cNvSpPr txBox="1"/>
                  <p:nvPr/>
                </p:nvSpPr>
                <p:spPr>
                  <a:xfrm>
                    <a:off x="1749240" y="5533200"/>
                    <a:ext cx="813240" cy="64728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hi-IN" sz="18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ffffff"/>
                        </a:solidFill>
                        <a:latin typeface="Arial Black"/>
                      </a:rPr>
                      <a:t>نار</a:t>
                    </a:r>
                    <a:endParaRPr b="0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ff"/>
                      </a:solidFill>
                      <a:latin typeface="Arial Black"/>
                      <a:ea typeface="Arial Black"/>
                    </a:endParaRPr>
                  </a:p>
                </p:txBody>
              </p:sp>
              <p:sp>
                <p:nvSpPr>
                  <p:cNvPr id="296" name=""/>
                  <p:cNvSpPr txBox="1"/>
                  <p:nvPr/>
                </p:nvSpPr>
                <p:spPr>
                  <a:xfrm>
                    <a:off x="5004000" y="6600600"/>
                    <a:ext cx="1190160" cy="64728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hi-IN" sz="18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ffffff"/>
                        </a:solidFill>
                        <a:latin typeface="Arial Black"/>
                      </a:rPr>
                      <a:t>شوارع</a:t>
                    </a:r>
                    <a:endParaRPr b="0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ff"/>
                      </a:solidFill>
                      <a:latin typeface="Arial Black"/>
                      <a:ea typeface="Arial Black"/>
                    </a:endParaRPr>
                  </a:p>
                </p:txBody>
              </p:sp>
              <p:sp>
                <p:nvSpPr>
                  <p:cNvPr id="297" name=""/>
                  <p:cNvSpPr txBox="1"/>
                  <p:nvPr/>
                </p:nvSpPr>
                <p:spPr>
                  <a:xfrm>
                    <a:off x="3376440" y="6624720"/>
                    <a:ext cx="1099800" cy="72036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hi-IN" sz="18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ffffff"/>
                        </a:solidFill>
                        <a:latin typeface="Arial Black"/>
                      </a:rPr>
                      <a:t>سلام</a:t>
                    </a:r>
                    <a:endParaRPr b="0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ff"/>
                      </a:solidFill>
                      <a:latin typeface="Arial Black"/>
                      <a:ea typeface="Arial Black"/>
                    </a:endParaRPr>
                  </a:p>
                </p:txBody>
              </p:sp>
              <p:sp>
                <p:nvSpPr>
                  <p:cNvPr id="298" name=""/>
                  <p:cNvSpPr txBox="1"/>
                  <p:nvPr/>
                </p:nvSpPr>
                <p:spPr>
                  <a:xfrm>
                    <a:off x="1658880" y="6697800"/>
                    <a:ext cx="1009440" cy="65880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hi-IN" sz="18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ffffff"/>
                        </a:solidFill>
                        <a:latin typeface="Arial Black"/>
                      </a:rPr>
                      <a:t>حافلة</a:t>
                    </a:r>
                    <a:endParaRPr b="0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ff"/>
                      </a:solidFill>
                      <a:latin typeface="Arial Black"/>
                      <a:ea typeface="Arial Black"/>
                    </a:endParaRPr>
                  </a:p>
                </p:txBody>
              </p:sp>
            </p:grpSp>
          </p:grpSp>
          <p:grpSp>
            <p:nvGrpSpPr>
              <p:cNvPr id="299" name=""/>
              <p:cNvGrpSpPr/>
              <p:nvPr/>
            </p:nvGrpSpPr>
            <p:grpSpPr>
              <a:xfrm>
                <a:off x="3539160" y="209880"/>
                <a:ext cx="3207600" cy="1681560"/>
                <a:chOff x="3539160" y="209880"/>
                <a:chExt cx="3207600" cy="1681560"/>
              </a:xfrm>
            </p:grpSpPr>
            <p:sp>
              <p:nvSpPr>
                <p:cNvPr id="300" name=""/>
                <p:cNvSpPr/>
                <p:nvPr/>
              </p:nvSpPr>
              <p:spPr>
                <a:xfrm>
                  <a:off x="3539160" y="209880"/>
                  <a:ext cx="3207600" cy="1681560"/>
                </a:xfrm>
                <a:prstGeom prst="cloudCallout">
                  <a:avLst>
                    <a:gd name="adj1" fmla="val -69388"/>
                    <a:gd name="adj2" fmla="val 98611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ffff"/>
                    </a:gs>
                  </a:gsLst>
                  <a:path path="rect">
                    <a:fillToRect l="50000" t="50000" r="50000" b="50000"/>
                  </a:path>
                </a:gradFill>
                <a:ln w="64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3760200" y="630000"/>
                  <a:ext cx="2765160" cy="94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2200" spc="-1" strike="noStrike">
                      <a:solidFill>
                        <a:srgbClr val="000000"/>
                      </a:solidFill>
                      <a:latin typeface="Times New Roman"/>
                      <a:cs typeface="Times New Roman"/>
                    </a:rPr>
                    <a:t>ألون المقطع الممدود بالألف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2200" spc="-1" strike="noStrike">
                      <a:solidFill>
                        <a:srgbClr val="000000"/>
                      </a:solidFill>
                      <a:latin typeface="Times New Roman"/>
                      <a:cs typeface="Times New Roman"/>
                    </a:rPr>
                    <a:t>في الكلمات التالية</a:t>
                  </a:r>
                  <a:r>
                    <a:rPr b="0" lang="ar-SA" sz="2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.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2" name=""/>
          <p:cNvGrpSpPr/>
          <p:nvPr/>
        </p:nvGrpSpPr>
        <p:grpSpPr>
          <a:xfrm>
            <a:off x="0" y="0"/>
            <a:ext cx="6858000" cy="9144000"/>
            <a:chOff x="0" y="0"/>
            <a:chExt cx="6858000" cy="9144000"/>
          </a:xfrm>
        </p:grpSpPr>
        <p:pic>
          <p:nvPicPr>
            <p:cNvPr id="303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6858000" cy="9144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04" name=""/>
            <p:cNvGrpSpPr/>
            <p:nvPr/>
          </p:nvGrpSpPr>
          <p:grpSpPr>
            <a:xfrm>
              <a:off x="0" y="105120"/>
              <a:ext cx="6083280" cy="7988040"/>
              <a:chOff x="0" y="105120"/>
              <a:chExt cx="6083280" cy="7988040"/>
            </a:xfrm>
          </p:grpSpPr>
          <p:grpSp>
            <p:nvGrpSpPr>
              <p:cNvPr id="305" name=""/>
              <p:cNvGrpSpPr/>
              <p:nvPr/>
            </p:nvGrpSpPr>
            <p:grpSpPr>
              <a:xfrm>
                <a:off x="4092480" y="2312280"/>
                <a:ext cx="1990800" cy="5780880"/>
                <a:chOff x="4092480" y="2312280"/>
                <a:chExt cx="1990800" cy="5780880"/>
              </a:xfrm>
            </p:grpSpPr>
            <p:grpSp>
              <p:nvGrpSpPr>
                <p:cNvPr id="306" name=""/>
                <p:cNvGrpSpPr/>
                <p:nvPr/>
              </p:nvGrpSpPr>
              <p:grpSpPr>
                <a:xfrm>
                  <a:off x="4092480" y="2312280"/>
                  <a:ext cx="1990800" cy="5780880"/>
                  <a:chOff x="4092480" y="2312280"/>
                  <a:chExt cx="1990800" cy="5780880"/>
                </a:xfrm>
              </p:grpSpPr>
              <p:sp>
                <p:nvSpPr>
                  <p:cNvPr id="307" name=""/>
                  <p:cNvSpPr/>
                  <p:nvPr/>
                </p:nvSpPr>
                <p:spPr>
                  <a:xfrm>
                    <a:off x="4092480" y="2312280"/>
                    <a:ext cx="1990800" cy="7048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ar-SA" sz="2000" spc="-1" strike="noStrike">
                        <a:solidFill>
                          <a:srgbClr val="000000"/>
                        </a:solidFill>
                        <a:latin typeface="Times New Roman"/>
                        <a:cs typeface="Times New Roman"/>
                      </a:rPr>
                      <a:t>أ.....حو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" name=""/>
                  <p:cNvSpPr/>
                  <p:nvPr/>
                </p:nvSpPr>
                <p:spPr>
                  <a:xfrm>
                    <a:off x="4092480" y="3158280"/>
                    <a:ext cx="1990800" cy="7048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ar-SA" sz="1800" spc="-1" strike="noStrike">
                        <a:solidFill>
                          <a:srgbClr val="000000"/>
                        </a:solidFill>
                        <a:latin typeface="Arial"/>
                      </a:rPr>
                      <a:t>.....</a:t>
                    </a:r>
                    <a:r>
                      <a:rPr b="0" lang="ar-SA" sz="2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 </a:t>
                    </a:r>
                    <a:r>
                      <a:rPr b="0" lang="ar-SA" sz="2000" spc="-1" strike="noStrike">
                        <a:solidFill>
                          <a:srgbClr val="000000"/>
                        </a:solidFill>
                        <a:latin typeface="Times New Roman"/>
                        <a:cs typeface="Times New Roman"/>
                      </a:rPr>
                      <a:t>ملابــ</a:t>
                    </a:r>
                    <a:r>
                      <a:rPr b="0" lang="ar-SA" sz="2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 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9" name=""/>
                  <p:cNvSpPr/>
                  <p:nvPr/>
                </p:nvSpPr>
                <p:spPr>
                  <a:xfrm>
                    <a:off x="4092480" y="4004280"/>
                    <a:ext cx="1990800" cy="7048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ar-SA" sz="2000" spc="-1" strike="noStrike">
                        <a:solidFill>
                          <a:srgbClr val="000000"/>
                        </a:solidFill>
                        <a:latin typeface="Times New Roman"/>
                        <a:cs typeface="Times New Roman"/>
                      </a:rPr>
                      <a:t>عـــ.....فور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0" name=""/>
                  <p:cNvSpPr/>
                  <p:nvPr/>
                </p:nvSpPr>
                <p:spPr>
                  <a:xfrm>
                    <a:off x="4092480" y="4850280"/>
                    <a:ext cx="1990800" cy="7048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ar-SA" sz="2000" spc="-1" strike="noStrike">
                        <a:solidFill>
                          <a:srgbClr val="000000"/>
                        </a:solidFill>
                        <a:latin typeface="Times New Roman"/>
                        <a:cs typeface="Times New Roman"/>
                      </a:rPr>
                      <a:t>قــ.....ـير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4092480" y="5696280"/>
                    <a:ext cx="1990800" cy="7048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ar-SA" sz="2000" spc="-1" strike="noStrike">
                        <a:solidFill>
                          <a:srgbClr val="000000"/>
                        </a:solidFill>
                        <a:latin typeface="Times New Roman"/>
                        <a:cs typeface="Times New Roman"/>
                      </a:rPr>
                      <a:t>مــ.....ـكين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>
                    <a:off x="4092480" y="6542280"/>
                    <a:ext cx="1990800" cy="7048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ar-SA" sz="2000" spc="-1" strike="noStrike">
                        <a:solidFill>
                          <a:srgbClr val="000000"/>
                        </a:solidFill>
                        <a:latin typeface="Times New Roman"/>
                        <a:cs typeface="Times New Roman"/>
                      </a:rPr>
                      <a:t>ــلام</a:t>
                    </a:r>
                    <a:r>
                      <a:rPr b="0" lang="ar-SA" sz="2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 </a:t>
                    </a:r>
                    <a:r>
                      <a:rPr b="0" lang="ar-SA" sz="2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.....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>
                    <a:off x="4092480" y="7388280"/>
                    <a:ext cx="1990800" cy="7048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ar-SA" sz="2000" spc="-1" strike="noStrike">
                        <a:solidFill>
                          <a:srgbClr val="000000"/>
                        </a:solidFill>
                        <a:latin typeface="Times New Roman"/>
                        <a:cs typeface="Times New Roman"/>
                      </a:rPr>
                      <a:t>ـــفارة</a:t>
                    </a:r>
                    <a:r>
                      <a:rPr b="0" lang="ar-SA" sz="2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 </a:t>
                    </a:r>
                    <a:r>
                      <a:rPr b="0" lang="ar-SA" sz="2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.....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4" name=""/>
                <p:cNvGrpSpPr/>
                <p:nvPr/>
              </p:nvGrpSpPr>
              <p:grpSpPr>
                <a:xfrm>
                  <a:off x="4202640" y="2942640"/>
                  <a:ext cx="1658520" cy="315000"/>
                  <a:chOff x="4202640" y="2942640"/>
                  <a:chExt cx="1658520" cy="31500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 rot="5400000">
                    <a:off x="5396040" y="2792520"/>
                    <a:ext cx="315000" cy="615240"/>
                  </a:xfrm>
                  <a:prstGeom prst="blockArc">
                    <a:avLst>
                      <a:gd name="adj1" fmla="val 10800000"/>
                      <a:gd name="adj2" fmla="val 0"/>
                      <a:gd name="adj3" fmla="val 25000"/>
                    </a:avLst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 rot="5400000">
                    <a:off x="4352760" y="2792520"/>
                    <a:ext cx="315000" cy="615240"/>
                  </a:xfrm>
                  <a:prstGeom prst="blockArc">
                    <a:avLst>
                      <a:gd name="adj1" fmla="val 10800000"/>
                      <a:gd name="adj2" fmla="val 0"/>
                      <a:gd name="adj3" fmla="val 25000"/>
                    </a:avLst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7" name=""/>
                <p:cNvGrpSpPr/>
                <p:nvPr/>
              </p:nvGrpSpPr>
              <p:grpSpPr>
                <a:xfrm>
                  <a:off x="4202640" y="3783600"/>
                  <a:ext cx="1658520" cy="315000"/>
                  <a:chOff x="4202640" y="3783600"/>
                  <a:chExt cx="1658520" cy="315000"/>
                </a:xfrm>
              </p:grpSpPr>
              <p:sp>
                <p:nvSpPr>
                  <p:cNvPr id="318" name=""/>
                  <p:cNvSpPr/>
                  <p:nvPr/>
                </p:nvSpPr>
                <p:spPr>
                  <a:xfrm rot="5400000">
                    <a:off x="5396040" y="3633480"/>
                    <a:ext cx="315000" cy="615240"/>
                  </a:xfrm>
                  <a:prstGeom prst="blockArc">
                    <a:avLst>
                      <a:gd name="adj1" fmla="val 10800000"/>
                      <a:gd name="adj2" fmla="val 0"/>
                      <a:gd name="adj3" fmla="val 25000"/>
                    </a:avLst>
                  </a:prstGeom>
                  <a:solidFill>
                    <a:srgbClr val="00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9" name=""/>
                  <p:cNvSpPr/>
                  <p:nvPr/>
                </p:nvSpPr>
                <p:spPr>
                  <a:xfrm rot="5400000">
                    <a:off x="4352760" y="3633480"/>
                    <a:ext cx="315000" cy="615240"/>
                  </a:xfrm>
                  <a:prstGeom prst="blockArc">
                    <a:avLst>
                      <a:gd name="adj1" fmla="val 10800000"/>
                      <a:gd name="adj2" fmla="val 0"/>
                      <a:gd name="adj3" fmla="val 25000"/>
                    </a:avLst>
                  </a:prstGeom>
                  <a:solidFill>
                    <a:srgbClr val="00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0" name=""/>
                <p:cNvGrpSpPr/>
                <p:nvPr/>
              </p:nvGrpSpPr>
              <p:grpSpPr>
                <a:xfrm>
                  <a:off x="4202640" y="4624560"/>
                  <a:ext cx="1658520" cy="315000"/>
                  <a:chOff x="4202640" y="4624560"/>
                  <a:chExt cx="1658520" cy="315000"/>
                </a:xfrm>
              </p:grpSpPr>
              <p:sp>
                <p:nvSpPr>
                  <p:cNvPr id="321" name=""/>
                  <p:cNvSpPr/>
                  <p:nvPr/>
                </p:nvSpPr>
                <p:spPr>
                  <a:xfrm rot="5400000">
                    <a:off x="5396040" y="4474440"/>
                    <a:ext cx="315000" cy="615240"/>
                  </a:xfrm>
                  <a:prstGeom prst="blockArc">
                    <a:avLst>
                      <a:gd name="adj1" fmla="val 10800000"/>
                      <a:gd name="adj2" fmla="val 0"/>
                      <a:gd name="adj3" fmla="val 25000"/>
                    </a:avLst>
                  </a:prstGeom>
                  <a:solidFill>
                    <a:srgbClr val="ff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2" name=""/>
                  <p:cNvSpPr/>
                  <p:nvPr/>
                </p:nvSpPr>
                <p:spPr>
                  <a:xfrm rot="5400000">
                    <a:off x="4352760" y="4474440"/>
                    <a:ext cx="315000" cy="615240"/>
                  </a:xfrm>
                  <a:prstGeom prst="blockArc">
                    <a:avLst>
                      <a:gd name="adj1" fmla="val 10800000"/>
                      <a:gd name="adj2" fmla="val 0"/>
                      <a:gd name="adj3" fmla="val 25000"/>
                    </a:avLst>
                  </a:prstGeom>
                  <a:solidFill>
                    <a:srgbClr val="ff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3" name=""/>
                <p:cNvGrpSpPr/>
                <p:nvPr/>
              </p:nvGrpSpPr>
              <p:grpSpPr>
                <a:xfrm>
                  <a:off x="4202640" y="5465520"/>
                  <a:ext cx="1658520" cy="315000"/>
                  <a:chOff x="4202640" y="5465520"/>
                  <a:chExt cx="1658520" cy="315000"/>
                </a:xfrm>
              </p:grpSpPr>
              <p:sp>
                <p:nvSpPr>
                  <p:cNvPr id="324" name=""/>
                  <p:cNvSpPr/>
                  <p:nvPr/>
                </p:nvSpPr>
                <p:spPr>
                  <a:xfrm rot="5400000">
                    <a:off x="5396040" y="5315400"/>
                    <a:ext cx="315000" cy="615240"/>
                  </a:xfrm>
                  <a:prstGeom prst="blockArc">
                    <a:avLst>
                      <a:gd name="adj1" fmla="val 10800000"/>
                      <a:gd name="adj2" fmla="val 0"/>
                      <a:gd name="adj3" fmla="val 25000"/>
                    </a:avLst>
                  </a:prstGeom>
                  <a:solidFill>
                    <a:srgbClr val="00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5" name=""/>
                  <p:cNvSpPr/>
                  <p:nvPr/>
                </p:nvSpPr>
                <p:spPr>
                  <a:xfrm rot="5400000">
                    <a:off x="4352760" y="5315400"/>
                    <a:ext cx="315000" cy="615240"/>
                  </a:xfrm>
                  <a:prstGeom prst="blockArc">
                    <a:avLst>
                      <a:gd name="adj1" fmla="val 10800000"/>
                      <a:gd name="adj2" fmla="val 0"/>
                      <a:gd name="adj3" fmla="val 25000"/>
                    </a:avLst>
                  </a:prstGeom>
                  <a:solidFill>
                    <a:srgbClr val="00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6" name=""/>
                <p:cNvGrpSpPr/>
                <p:nvPr/>
              </p:nvGrpSpPr>
              <p:grpSpPr>
                <a:xfrm>
                  <a:off x="4202640" y="6306120"/>
                  <a:ext cx="1658520" cy="315000"/>
                  <a:chOff x="4202640" y="6306120"/>
                  <a:chExt cx="1658520" cy="315000"/>
                </a:xfrm>
              </p:grpSpPr>
              <p:sp>
                <p:nvSpPr>
                  <p:cNvPr id="327" name=""/>
                  <p:cNvSpPr/>
                  <p:nvPr/>
                </p:nvSpPr>
                <p:spPr>
                  <a:xfrm rot="5400000">
                    <a:off x="5396040" y="6156000"/>
                    <a:ext cx="315000" cy="615240"/>
                  </a:xfrm>
                  <a:prstGeom prst="blockArc">
                    <a:avLst>
                      <a:gd name="adj1" fmla="val 10800000"/>
                      <a:gd name="adj2" fmla="val 0"/>
                      <a:gd name="adj3" fmla="val 25000"/>
                    </a:avLst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 rot="5400000">
                    <a:off x="4352760" y="6156000"/>
                    <a:ext cx="315000" cy="615240"/>
                  </a:xfrm>
                  <a:prstGeom prst="blockArc">
                    <a:avLst>
                      <a:gd name="adj1" fmla="val 10800000"/>
                      <a:gd name="adj2" fmla="val 0"/>
                      <a:gd name="adj3" fmla="val 25000"/>
                    </a:avLst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9" name=""/>
                <p:cNvGrpSpPr/>
                <p:nvPr/>
              </p:nvGrpSpPr>
              <p:grpSpPr>
                <a:xfrm>
                  <a:off x="4202640" y="7147080"/>
                  <a:ext cx="1658520" cy="315000"/>
                  <a:chOff x="4202640" y="7147080"/>
                  <a:chExt cx="1658520" cy="315000"/>
                </a:xfrm>
              </p:grpSpPr>
              <p:sp>
                <p:nvSpPr>
                  <p:cNvPr id="330" name=""/>
                  <p:cNvSpPr/>
                  <p:nvPr/>
                </p:nvSpPr>
                <p:spPr>
                  <a:xfrm rot="5400000">
                    <a:off x="5396040" y="6996960"/>
                    <a:ext cx="315000" cy="615240"/>
                  </a:xfrm>
                  <a:prstGeom prst="blockArc">
                    <a:avLst>
                      <a:gd name="adj1" fmla="val 10800000"/>
                      <a:gd name="adj2" fmla="val 0"/>
                      <a:gd name="adj3" fmla="val 25000"/>
                    </a:avLst>
                  </a:prstGeom>
                  <a:solidFill>
                    <a:srgbClr val="cc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 rot="5400000">
                    <a:off x="4352760" y="6996960"/>
                    <a:ext cx="315000" cy="615240"/>
                  </a:xfrm>
                  <a:prstGeom prst="blockArc">
                    <a:avLst>
                      <a:gd name="adj1" fmla="val 10800000"/>
                      <a:gd name="adj2" fmla="val 0"/>
                      <a:gd name="adj3" fmla="val 25000"/>
                    </a:avLst>
                  </a:prstGeom>
                  <a:solidFill>
                    <a:srgbClr val="cc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32" name=""/>
              <p:cNvGrpSpPr/>
              <p:nvPr/>
            </p:nvGrpSpPr>
            <p:grpSpPr>
              <a:xfrm>
                <a:off x="0" y="1996920"/>
                <a:ext cx="3808800" cy="5637240"/>
                <a:chOff x="0" y="1996920"/>
                <a:chExt cx="3808800" cy="5637240"/>
              </a:xfrm>
            </p:grpSpPr>
            <p:pic>
              <p:nvPicPr>
                <p:cNvPr id="333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10520" y="3783600"/>
                  <a:ext cx="3698280" cy="3850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34" name=""/>
                <p:cNvSpPr/>
                <p:nvPr/>
              </p:nvSpPr>
              <p:spPr>
                <a:xfrm>
                  <a:off x="2654640" y="3152880"/>
                  <a:ext cx="995400" cy="945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bd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3600" spc="-1" strike="noStrike">
                      <a:solidFill>
                        <a:srgbClr val="000000"/>
                      </a:solidFill>
                      <a:latin typeface="Times New Roman"/>
                      <a:cs typeface="Times New Roman"/>
                    </a:rPr>
                    <a:t>س</a:t>
                  </a: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1880280" y="1996920"/>
                  <a:ext cx="995400" cy="945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ffff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3600" spc="-1" strike="noStrike">
                      <a:solidFill>
                        <a:srgbClr val="000000"/>
                      </a:solidFill>
                      <a:latin typeface="Times New Roman"/>
                      <a:cs typeface="Times New Roman"/>
                    </a:rPr>
                    <a:t>ص</a:t>
                  </a: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0" y="3573360"/>
                  <a:ext cx="995400" cy="945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ffcc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3600" spc="-1" strike="noStrike">
                      <a:solidFill>
                        <a:srgbClr val="000000"/>
                      </a:solidFill>
                      <a:latin typeface="Times New Roman"/>
                      <a:cs typeface="Times New Roman"/>
                    </a:rPr>
                    <a:t>ص</a:t>
                  </a: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442440" y="2101680"/>
                  <a:ext cx="995400" cy="945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cccc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3600" spc="-1" strike="noStrike">
                      <a:solidFill>
                        <a:srgbClr val="000000"/>
                      </a:solidFill>
                      <a:latin typeface="Times New Roman"/>
                      <a:cs typeface="Times New Roman"/>
                    </a:rPr>
                    <a:t>س</a:t>
                  </a: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8" name=""/>
              <p:cNvGrpSpPr/>
              <p:nvPr/>
            </p:nvGrpSpPr>
            <p:grpSpPr>
              <a:xfrm>
                <a:off x="110520" y="105120"/>
                <a:ext cx="5850720" cy="2251440"/>
                <a:chOff x="110520" y="105120"/>
                <a:chExt cx="5850720" cy="2251440"/>
              </a:xfrm>
            </p:grpSpPr>
            <p:sp>
              <p:nvSpPr>
                <p:cNvPr id="339" name=""/>
                <p:cNvSpPr/>
                <p:nvPr/>
              </p:nvSpPr>
              <p:spPr>
                <a:xfrm>
                  <a:off x="110520" y="840600"/>
                  <a:ext cx="4534920" cy="630360"/>
                </a:xfrm>
                <a:prstGeom prst="rect">
                  <a:avLst/>
                </a:prstGeom>
                <a:solidFill>
                  <a:srgbClr val="ffffff">
                    <a:alpha val="90000"/>
                  </a:srgbClr>
                </a:solidFill>
                <a:ln w="381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2000" spc="-1" strike="noStrike">
                      <a:solidFill>
                        <a:srgbClr val="000000"/>
                      </a:solidFill>
                      <a:latin typeface="Times New Roman"/>
                      <a:cs typeface="Times New Roman"/>
                    </a:rPr>
                    <a:t>أضع الحرف الناقص ( س ، ص ) مكان النقط</a:t>
                  </a:r>
                  <a:r>
                    <a:rPr b="0" lang="ar-SA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.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340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4388040" y="105120"/>
                  <a:ext cx="1573200" cy="2251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1" name=""/>
          <p:cNvGrpSpPr/>
          <p:nvPr/>
        </p:nvGrpSpPr>
        <p:grpSpPr>
          <a:xfrm>
            <a:off x="0" y="0"/>
            <a:ext cx="6858000" cy="9144000"/>
            <a:chOff x="0" y="0"/>
            <a:chExt cx="6858000" cy="9144000"/>
          </a:xfrm>
        </p:grpSpPr>
        <p:pic>
          <p:nvPicPr>
            <p:cNvPr id="342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6858000" cy="9144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43" name=""/>
            <p:cNvGrpSpPr/>
            <p:nvPr/>
          </p:nvGrpSpPr>
          <p:grpSpPr>
            <a:xfrm>
              <a:off x="110520" y="630360"/>
              <a:ext cx="6194160" cy="7932600"/>
              <a:chOff x="110520" y="630360"/>
              <a:chExt cx="6194160" cy="7932600"/>
            </a:xfrm>
          </p:grpSpPr>
          <p:grpSp>
            <p:nvGrpSpPr>
              <p:cNvPr id="344" name=""/>
              <p:cNvGrpSpPr/>
              <p:nvPr/>
            </p:nvGrpSpPr>
            <p:grpSpPr>
              <a:xfrm>
                <a:off x="3871440" y="1891440"/>
                <a:ext cx="1880280" cy="1177560"/>
                <a:chOff x="3871440" y="1891440"/>
                <a:chExt cx="1880280" cy="1177560"/>
              </a:xfrm>
            </p:grpSpPr>
            <p:sp>
              <p:nvSpPr>
                <p:cNvPr id="345" name=""/>
                <p:cNvSpPr/>
                <p:nvPr/>
              </p:nvSpPr>
              <p:spPr>
                <a:xfrm>
                  <a:off x="3871440" y="1891440"/>
                  <a:ext cx="1880280" cy="117756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34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4015800" y="1998360"/>
                  <a:ext cx="1419840" cy="1070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347" name=""/>
              <p:cNvGrpSpPr/>
              <p:nvPr/>
            </p:nvGrpSpPr>
            <p:grpSpPr>
              <a:xfrm>
                <a:off x="552960" y="5044680"/>
                <a:ext cx="1880280" cy="1177560"/>
                <a:chOff x="552960" y="5044680"/>
                <a:chExt cx="1880280" cy="1177560"/>
              </a:xfrm>
            </p:grpSpPr>
            <p:sp>
              <p:nvSpPr>
                <p:cNvPr id="348" name=""/>
                <p:cNvSpPr/>
                <p:nvPr/>
              </p:nvSpPr>
              <p:spPr>
                <a:xfrm>
                  <a:off x="552960" y="5044680"/>
                  <a:ext cx="1880280" cy="117756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49" name=""/>
                <p:cNvGrpSpPr/>
                <p:nvPr/>
              </p:nvGrpSpPr>
              <p:grpSpPr>
                <a:xfrm>
                  <a:off x="697320" y="5151600"/>
                  <a:ext cx="1590480" cy="948960"/>
                  <a:chOff x="697320" y="5151600"/>
                  <a:chExt cx="1590480" cy="948960"/>
                </a:xfrm>
              </p:grpSpPr>
              <p:sp>
                <p:nvSpPr>
                  <p:cNvPr id="350" name=""/>
                  <p:cNvSpPr/>
                  <p:nvPr/>
                </p:nvSpPr>
                <p:spPr>
                  <a:xfrm>
                    <a:off x="1400400" y="5247360"/>
                    <a:ext cx="887400" cy="46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817" h="876">
                        <a:moveTo>
                          <a:pt x="678" y="21"/>
                        </a:moveTo>
                        <a:lnTo>
                          <a:pt x="680" y="26"/>
                        </a:lnTo>
                        <a:lnTo>
                          <a:pt x="682" y="31"/>
                        </a:lnTo>
                        <a:lnTo>
                          <a:pt x="682" y="36"/>
                        </a:lnTo>
                        <a:lnTo>
                          <a:pt x="682" y="41"/>
                        </a:lnTo>
                        <a:lnTo>
                          <a:pt x="681" y="46"/>
                        </a:lnTo>
                        <a:lnTo>
                          <a:pt x="680" y="51"/>
                        </a:lnTo>
                        <a:lnTo>
                          <a:pt x="678" y="56"/>
                        </a:lnTo>
                        <a:lnTo>
                          <a:pt x="676" y="61"/>
                        </a:lnTo>
                        <a:lnTo>
                          <a:pt x="674" y="66"/>
                        </a:lnTo>
                        <a:lnTo>
                          <a:pt x="672" y="70"/>
                        </a:lnTo>
                        <a:lnTo>
                          <a:pt x="713" y="68"/>
                        </a:lnTo>
                        <a:lnTo>
                          <a:pt x="754" y="68"/>
                        </a:lnTo>
                        <a:lnTo>
                          <a:pt x="797" y="69"/>
                        </a:lnTo>
                        <a:lnTo>
                          <a:pt x="839" y="72"/>
                        </a:lnTo>
                        <a:lnTo>
                          <a:pt x="883" y="75"/>
                        </a:lnTo>
                        <a:lnTo>
                          <a:pt x="926" y="79"/>
                        </a:lnTo>
                        <a:lnTo>
                          <a:pt x="970" y="84"/>
                        </a:lnTo>
                        <a:lnTo>
                          <a:pt x="1013" y="90"/>
                        </a:lnTo>
                        <a:lnTo>
                          <a:pt x="1055" y="97"/>
                        </a:lnTo>
                        <a:lnTo>
                          <a:pt x="1097" y="103"/>
                        </a:lnTo>
                        <a:lnTo>
                          <a:pt x="1103" y="105"/>
                        </a:lnTo>
                        <a:lnTo>
                          <a:pt x="1108" y="106"/>
                        </a:lnTo>
                        <a:lnTo>
                          <a:pt x="1114" y="107"/>
                        </a:lnTo>
                        <a:lnTo>
                          <a:pt x="1120" y="109"/>
                        </a:lnTo>
                        <a:lnTo>
                          <a:pt x="1125" y="111"/>
                        </a:lnTo>
                        <a:lnTo>
                          <a:pt x="1131" y="113"/>
                        </a:lnTo>
                        <a:lnTo>
                          <a:pt x="1136" y="114"/>
                        </a:lnTo>
                        <a:lnTo>
                          <a:pt x="1142" y="116"/>
                        </a:lnTo>
                        <a:lnTo>
                          <a:pt x="1148" y="117"/>
                        </a:lnTo>
                        <a:lnTo>
                          <a:pt x="1154" y="117"/>
                        </a:lnTo>
                        <a:lnTo>
                          <a:pt x="1157" y="118"/>
                        </a:lnTo>
                        <a:lnTo>
                          <a:pt x="1158" y="119"/>
                        </a:lnTo>
                        <a:lnTo>
                          <a:pt x="1161" y="120"/>
                        </a:lnTo>
                        <a:lnTo>
                          <a:pt x="1164" y="121"/>
                        </a:lnTo>
                        <a:lnTo>
                          <a:pt x="1166" y="122"/>
                        </a:lnTo>
                        <a:lnTo>
                          <a:pt x="1168" y="123"/>
                        </a:lnTo>
                        <a:lnTo>
                          <a:pt x="1171" y="123"/>
                        </a:lnTo>
                        <a:lnTo>
                          <a:pt x="1174" y="124"/>
                        </a:lnTo>
                        <a:lnTo>
                          <a:pt x="1177" y="125"/>
                        </a:lnTo>
                        <a:lnTo>
                          <a:pt x="1179" y="126"/>
                        </a:lnTo>
                        <a:lnTo>
                          <a:pt x="1185" y="130"/>
                        </a:lnTo>
                        <a:lnTo>
                          <a:pt x="1192" y="134"/>
                        </a:lnTo>
                        <a:lnTo>
                          <a:pt x="1198" y="138"/>
                        </a:lnTo>
                        <a:lnTo>
                          <a:pt x="1204" y="141"/>
                        </a:lnTo>
                        <a:lnTo>
                          <a:pt x="1210" y="146"/>
                        </a:lnTo>
                        <a:lnTo>
                          <a:pt x="1215" y="151"/>
                        </a:lnTo>
                        <a:lnTo>
                          <a:pt x="1219" y="156"/>
                        </a:lnTo>
                        <a:lnTo>
                          <a:pt x="1222" y="161"/>
                        </a:lnTo>
                        <a:lnTo>
                          <a:pt x="1224" y="166"/>
                        </a:lnTo>
                        <a:lnTo>
                          <a:pt x="1224" y="173"/>
                        </a:lnTo>
                        <a:lnTo>
                          <a:pt x="1230" y="178"/>
                        </a:lnTo>
                        <a:lnTo>
                          <a:pt x="1231" y="186"/>
                        </a:lnTo>
                        <a:lnTo>
                          <a:pt x="1232" y="195"/>
                        </a:lnTo>
                        <a:lnTo>
                          <a:pt x="1232" y="203"/>
                        </a:lnTo>
                        <a:lnTo>
                          <a:pt x="1232" y="212"/>
                        </a:lnTo>
                        <a:lnTo>
                          <a:pt x="1232" y="220"/>
                        </a:lnTo>
                        <a:lnTo>
                          <a:pt x="1231" y="229"/>
                        </a:lnTo>
                        <a:lnTo>
                          <a:pt x="1230" y="237"/>
                        </a:lnTo>
                        <a:lnTo>
                          <a:pt x="1228" y="245"/>
                        </a:lnTo>
                        <a:lnTo>
                          <a:pt x="1227" y="253"/>
                        </a:lnTo>
                        <a:lnTo>
                          <a:pt x="1224" y="261"/>
                        </a:lnTo>
                        <a:lnTo>
                          <a:pt x="1226" y="272"/>
                        </a:lnTo>
                        <a:lnTo>
                          <a:pt x="1241" y="270"/>
                        </a:lnTo>
                        <a:lnTo>
                          <a:pt x="1257" y="267"/>
                        </a:lnTo>
                        <a:lnTo>
                          <a:pt x="1273" y="265"/>
                        </a:lnTo>
                        <a:lnTo>
                          <a:pt x="1290" y="263"/>
                        </a:lnTo>
                        <a:lnTo>
                          <a:pt x="1306" y="261"/>
                        </a:lnTo>
                        <a:lnTo>
                          <a:pt x="1323" y="261"/>
                        </a:lnTo>
                        <a:lnTo>
                          <a:pt x="1339" y="262"/>
                        </a:lnTo>
                        <a:lnTo>
                          <a:pt x="1355" y="263"/>
                        </a:lnTo>
                        <a:lnTo>
                          <a:pt x="1370" y="267"/>
                        </a:lnTo>
                        <a:lnTo>
                          <a:pt x="1384" y="274"/>
                        </a:lnTo>
                        <a:lnTo>
                          <a:pt x="1388" y="274"/>
                        </a:lnTo>
                        <a:lnTo>
                          <a:pt x="1391" y="275"/>
                        </a:lnTo>
                        <a:lnTo>
                          <a:pt x="1395" y="276"/>
                        </a:lnTo>
                        <a:lnTo>
                          <a:pt x="1398" y="278"/>
                        </a:lnTo>
                        <a:lnTo>
                          <a:pt x="1401" y="280"/>
                        </a:lnTo>
                        <a:lnTo>
                          <a:pt x="1404" y="282"/>
                        </a:lnTo>
                        <a:lnTo>
                          <a:pt x="1407" y="283"/>
                        </a:lnTo>
                        <a:lnTo>
                          <a:pt x="1410" y="285"/>
                        </a:lnTo>
                        <a:lnTo>
                          <a:pt x="1412" y="287"/>
                        </a:lnTo>
                        <a:lnTo>
                          <a:pt x="1415" y="288"/>
                        </a:lnTo>
                        <a:lnTo>
                          <a:pt x="1419" y="293"/>
                        </a:lnTo>
                        <a:lnTo>
                          <a:pt x="1423" y="297"/>
                        </a:lnTo>
                        <a:lnTo>
                          <a:pt x="1427" y="302"/>
                        </a:lnTo>
                        <a:lnTo>
                          <a:pt x="1430" y="307"/>
                        </a:lnTo>
                        <a:lnTo>
                          <a:pt x="1432" y="312"/>
                        </a:lnTo>
                        <a:lnTo>
                          <a:pt x="1435" y="317"/>
                        </a:lnTo>
                        <a:lnTo>
                          <a:pt x="1437" y="322"/>
                        </a:lnTo>
                        <a:lnTo>
                          <a:pt x="1438" y="328"/>
                        </a:lnTo>
                        <a:lnTo>
                          <a:pt x="1440" y="333"/>
                        </a:lnTo>
                        <a:lnTo>
                          <a:pt x="1441" y="338"/>
                        </a:lnTo>
                        <a:lnTo>
                          <a:pt x="1440" y="343"/>
                        </a:lnTo>
                        <a:lnTo>
                          <a:pt x="1438" y="349"/>
                        </a:lnTo>
                        <a:lnTo>
                          <a:pt x="1438" y="355"/>
                        </a:lnTo>
                        <a:lnTo>
                          <a:pt x="1438" y="360"/>
                        </a:lnTo>
                        <a:lnTo>
                          <a:pt x="1437" y="366"/>
                        </a:lnTo>
                        <a:lnTo>
                          <a:pt x="1436" y="372"/>
                        </a:lnTo>
                        <a:lnTo>
                          <a:pt x="1435" y="378"/>
                        </a:lnTo>
                        <a:lnTo>
                          <a:pt x="1434" y="384"/>
                        </a:lnTo>
                        <a:lnTo>
                          <a:pt x="1432" y="389"/>
                        </a:lnTo>
                        <a:lnTo>
                          <a:pt x="1429" y="395"/>
                        </a:lnTo>
                        <a:lnTo>
                          <a:pt x="1422" y="412"/>
                        </a:lnTo>
                        <a:lnTo>
                          <a:pt x="1413" y="429"/>
                        </a:lnTo>
                        <a:lnTo>
                          <a:pt x="1402" y="445"/>
                        </a:lnTo>
                        <a:lnTo>
                          <a:pt x="1390" y="461"/>
                        </a:lnTo>
                        <a:lnTo>
                          <a:pt x="1377" y="477"/>
                        </a:lnTo>
                        <a:lnTo>
                          <a:pt x="1362" y="492"/>
                        </a:lnTo>
                        <a:lnTo>
                          <a:pt x="1346" y="507"/>
                        </a:lnTo>
                        <a:lnTo>
                          <a:pt x="1329" y="521"/>
                        </a:lnTo>
                        <a:lnTo>
                          <a:pt x="1313" y="534"/>
                        </a:lnTo>
                        <a:lnTo>
                          <a:pt x="1294" y="546"/>
                        </a:lnTo>
                        <a:lnTo>
                          <a:pt x="1310" y="548"/>
                        </a:lnTo>
                        <a:lnTo>
                          <a:pt x="1326" y="550"/>
                        </a:lnTo>
                        <a:lnTo>
                          <a:pt x="1342" y="552"/>
                        </a:lnTo>
                        <a:lnTo>
                          <a:pt x="1359" y="555"/>
                        </a:lnTo>
                        <a:lnTo>
                          <a:pt x="1374" y="558"/>
                        </a:lnTo>
                        <a:lnTo>
                          <a:pt x="1390" y="561"/>
                        </a:lnTo>
                        <a:lnTo>
                          <a:pt x="1405" y="564"/>
                        </a:lnTo>
                        <a:lnTo>
                          <a:pt x="1420" y="567"/>
                        </a:lnTo>
                        <a:lnTo>
                          <a:pt x="1435" y="571"/>
                        </a:lnTo>
                        <a:lnTo>
                          <a:pt x="1450" y="574"/>
                        </a:lnTo>
                        <a:lnTo>
                          <a:pt x="1477" y="567"/>
                        </a:lnTo>
                        <a:lnTo>
                          <a:pt x="1507" y="560"/>
                        </a:lnTo>
                        <a:lnTo>
                          <a:pt x="1535" y="555"/>
                        </a:lnTo>
                        <a:lnTo>
                          <a:pt x="1565" y="550"/>
                        </a:lnTo>
                        <a:lnTo>
                          <a:pt x="1595" y="546"/>
                        </a:lnTo>
                        <a:lnTo>
                          <a:pt x="1625" y="543"/>
                        </a:lnTo>
                        <a:lnTo>
                          <a:pt x="1655" y="541"/>
                        </a:lnTo>
                        <a:lnTo>
                          <a:pt x="1686" y="541"/>
                        </a:lnTo>
                        <a:lnTo>
                          <a:pt x="1717" y="541"/>
                        </a:lnTo>
                        <a:lnTo>
                          <a:pt x="1748" y="543"/>
                        </a:lnTo>
                        <a:lnTo>
                          <a:pt x="1755" y="545"/>
                        </a:lnTo>
                        <a:lnTo>
                          <a:pt x="1763" y="546"/>
                        </a:lnTo>
                        <a:lnTo>
                          <a:pt x="1771" y="547"/>
                        </a:lnTo>
                        <a:lnTo>
                          <a:pt x="1779" y="549"/>
                        </a:lnTo>
                        <a:lnTo>
                          <a:pt x="1787" y="551"/>
                        </a:lnTo>
                        <a:lnTo>
                          <a:pt x="1794" y="553"/>
                        </a:lnTo>
                        <a:lnTo>
                          <a:pt x="1800" y="556"/>
                        </a:lnTo>
                        <a:lnTo>
                          <a:pt x="1807" y="559"/>
                        </a:lnTo>
                        <a:lnTo>
                          <a:pt x="1812" y="563"/>
                        </a:lnTo>
                        <a:lnTo>
                          <a:pt x="1817" y="568"/>
                        </a:lnTo>
                        <a:lnTo>
                          <a:pt x="1817" y="570"/>
                        </a:lnTo>
                        <a:lnTo>
                          <a:pt x="1817" y="572"/>
                        </a:lnTo>
                        <a:lnTo>
                          <a:pt x="1817" y="574"/>
                        </a:lnTo>
                        <a:lnTo>
                          <a:pt x="1817" y="576"/>
                        </a:lnTo>
                        <a:lnTo>
                          <a:pt x="1817" y="578"/>
                        </a:lnTo>
                        <a:lnTo>
                          <a:pt x="1816" y="580"/>
                        </a:lnTo>
                        <a:lnTo>
                          <a:pt x="1815" y="582"/>
                        </a:lnTo>
                        <a:lnTo>
                          <a:pt x="1814" y="584"/>
                        </a:lnTo>
                        <a:lnTo>
                          <a:pt x="1813" y="587"/>
                        </a:lnTo>
                        <a:lnTo>
                          <a:pt x="1813" y="589"/>
                        </a:lnTo>
                        <a:lnTo>
                          <a:pt x="1803" y="593"/>
                        </a:lnTo>
                        <a:lnTo>
                          <a:pt x="1793" y="597"/>
                        </a:lnTo>
                        <a:lnTo>
                          <a:pt x="1782" y="600"/>
                        </a:lnTo>
                        <a:lnTo>
                          <a:pt x="1771" y="603"/>
                        </a:lnTo>
                        <a:lnTo>
                          <a:pt x="1759" y="605"/>
                        </a:lnTo>
                        <a:lnTo>
                          <a:pt x="1748" y="607"/>
                        </a:lnTo>
                        <a:lnTo>
                          <a:pt x="1736" y="609"/>
                        </a:lnTo>
                        <a:lnTo>
                          <a:pt x="1724" y="610"/>
                        </a:lnTo>
                        <a:lnTo>
                          <a:pt x="1712" y="611"/>
                        </a:lnTo>
                        <a:lnTo>
                          <a:pt x="1700" y="613"/>
                        </a:lnTo>
                        <a:lnTo>
                          <a:pt x="1686" y="613"/>
                        </a:lnTo>
                        <a:lnTo>
                          <a:pt x="1672" y="614"/>
                        </a:lnTo>
                        <a:lnTo>
                          <a:pt x="1657" y="614"/>
                        </a:lnTo>
                        <a:lnTo>
                          <a:pt x="1642" y="615"/>
                        </a:lnTo>
                        <a:lnTo>
                          <a:pt x="1627" y="616"/>
                        </a:lnTo>
                        <a:lnTo>
                          <a:pt x="1612" y="617"/>
                        </a:lnTo>
                        <a:lnTo>
                          <a:pt x="1596" y="618"/>
                        </a:lnTo>
                        <a:lnTo>
                          <a:pt x="1580" y="619"/>
                        </a:lnTo>
                        <a:lnTo>
                          <a:pt x="1564" y="620"/>
                        </a:lnTo>
                        <a:lnTo>
                          <a:pt x="1548" y="621"/>
                        </a:lnTo>
                        <a:lnTo>
                          <a:pt x="1547" y="622"/>
                        </a:lnTo>
                        <a:lnTo>
                          <a:pt x="1549" y="622"/>
                        </a:lnTo>
                        <a:lnTo>
                          <a:pt x="1550" y="623"/>
                        </a:lnTo>
                        <a:lnTo>
                          <a:pt x="1553" y="624"/>
                        </a:lnTo>
                        <a:lnTo>
                          <a:pt x="1554" y="625"/>
                        </a:lnTo>
                        <a:lnTo>
                          <a:pt x="1556" y="626"/>
                        </a:lnTo>
                        <a:lnTo>
                          <a:pt x="1558" y="627"/>
                        </a:lnTo>
                        <a:lnTo>
                          <a:pt x="1560" y="627"/>
                        </a:lnTo>
                        <a:lnTo>
                          <a:pt x="1562" y="628"/>
                        </a:lnTo>
                        <a:lnTo>
                          <a:pt x="1564" y="628"/>
                        </a:lnTo>
                        <a:lnTo>
                          <a:pt x="1566" y="628"/>
                        </a:lnTo>
                        <a:lnTo>
                          <a:pt x="1572" y="635"/>
                        </a:lnTo>
                        <a:lnTo>
                          <a:pt x="1576" y="642"/>
                        </a:lnTo>
                        <a:lnTo>
                          <a:pt x="1579" y="650"/>
                        </a:lnTo>
                        <a:lnTo>
                          <a:pt x="1580" y="658"/>
                        </a:lnTo>
                        <a:lnTo>
                          <a:pt x="1582" y="666"/>
                        </a:lnTo>
                        <a:lnTo>
                          <a:pt x="1582" y="674"/>
                        </a:lnTo>
                        <a:lnTo>
                          <a:pt x="1581" y="683"/>
                        </a:lnTo>
                        <a:lnTo>
                          <a:pt x="1579" y="691"/>
                        </a:lnTo>
                        <a:lnTo>
                          <a:pt x="1576" y="698"/>
                        </a:lnTo>
                        <a:lnTo>
                          <a:pt x="1573" y="706"/>
                        </a:lnTo>
                        <a:lnTo>
                          <a:pt x="1565" y="712"/>
                        </a:lnTo>
                        <a:lnTo>
                          <a:pt x="1557" y="719"/>
                        </a:lnTo>
                        <a:lnTo>
                          <a:pt x="1549" y="725"/>
                        </a:lnTo>
                        <a:lnTo>
                          <a:pt x="1540" y="731"/>
                        </a:lnTo>
                        <a:lnTo>
                          <a:pt x="1531" y="737"/>
                        </a:lnTo>
                        <a:lnTo>
                          <a:pt x="1522" y="743"/>
                        </a:lnTo>
                        <a:lnTo>
                          <a:pt x="1513" y="749"/>
                        </a:lnTo>
                        <a:lnTo>
                          <a:pt x="1504" y="754"/>
                        </a:lnTo>
                        <a:lnTo>
                          <a:pt x="1493" y="760"/>
                        </a:lnTo>
                        <a:lnTo>
                          <a:pt x="1483" y="766"/>
                        </a:lnTo>
                        <a:lnTo>
                          <a:pt x="1467" y="771"/>
                        </a:lnTo>
                        <a:lnTo>
                          <a:pt x="1451" y="776"/>
                        </a:lnTo>
                        <a:lnTo>
                          <a:pt x="1435" y="782"/>
                        </a:lnTo>
                        <a:lnTo>
                          <a:pt x="1418" y="786"/>
                        </a:lnTo>
                        <a:lnTo>
                          <a:pt x="1402" y="791"/>
                        </a:lnTo>
                        <a:lnTo>
                          <a:pt x="1385" y="795"/>
                        </a:lnTo>
                        <a:lnTo>
                          <a:pt x="1369" y="800"/>
                        </a:lnTo>
                        <a:lnTo>
                          <a:pt x="1352" y="803"/>
                        </a:lnTo>
                        <a:lnTo>
                          <a:pt x="1336" y="807"/>
                        </a:lnTo>
                        <a:lnTo>
                          <a:pt x="1319" y="810"/>
                        </a:lnTo>
                        <a:lnTo>
                          <a:pt x="1293" y="823"/>
                        </a:lnTo>
                        <a:lnTo>
                          <a:pt x="1266" y="834"/>
                        </a:lnTo>
                        <a:lnTo>
                          <a:pt x="1238" y="843"/>
                        </a:lnTo>
                        <a:lnTo>
                          <a:pt x="1209" y="850"/>
                        </a:lnTo>
                        <a:lnTo>
                          <a:pt x="1180" y="855"/>
                        </a:lnTo>
                        <a:lnTo>
                          <a:pt x="1150" y="859"/>
                        </a:lnTo>
                        <a:lnTo>
                          <a:pt x="1120" y="863"/>
                        </a:lnTo>
                        <a:lnTo>
                          <a:pt x="1089" y="866"/>
                        </a:lnTo>
                        <a:lnTo>
                          <a:pt x="1058" y="868"/>
                        </a:lnTo>
                        <a:lnTo>
                          <a:pt x="1027" y="871"/>
                        </a:lnTo>
                        <a:lnTo>
                          <a:pt x="1023" y="871"/>
                        </a:lnTo>
                        <a:lnTo>
                          <a:pt x="1018" y="871"/>
                        </a:lnTo>
                        <a:lnTo>
                          <a:pt x="1013" y="871"/>
                        </a:lnTo>
                        <a:lnTo>
                          <a:pt x="1008" y="871"/>
                        </a:lnTo>
                        <a:lnTo>
                          <a:pt x="1003" y="871"/>
                        </a:lnTo>
                        <a:lnTo>
                          <a:pt x="997" y="871"/>
                        </a:lnTo>
                        <a:lnTo>
                          <a:pt x="992" y="872"/>
                        </a:lnTo>
                        <a:lnTo>
                          <a:pt x="986" y="872"/>
                        </a:lnTo>
                        <a:lnTo>
                          <a:pt x="981" y="873"/>
                        </a:lnTo>
                        <a:lnTo>
                          <a:pt x="976" y="874"/>
                        </a:lnTo>
                        <a:lnTo>
                          <a:pt x="951" y="875"/>
                        </a:lnTo>
                        <a:lnTo>
                          <a:pt x="926" y="876"/>
                        </a:lnTo>
                        <a:lnTo>
                          <a:pt x="898" y="876"/>
                        </a:lnTo>
                        <a:lnTo>
                          <a:pt x="871" y="875"/>
                        </a:lnTo>
                        <a:lnTo>
                          <a:pt x="843" y="875"/>
                        </a:lnTo>
                        <a:lnTo>
                          <a:pt x="814" y="873"/>
                        </a:lnTo>
                        <a:lnTo>
                          <a:pt x="786" y="872"/>
                        </a:lnTo>
                        <a:lnTo>
                          <a:pt x="758" y="871"/>
                        </a:lnTo>
                        <a:lnTo>
                          <a:pt x="731" y="868"/>
                        </a:lnTo>
                        <a:lnTo>
                          <a:pt x="705" y="866"/>
                        </a:lnTo>
                        <a:lnTo>
                          <a:pt x="689" y="865"/>
                        </a:lnTo>
                        <a:lnTo>
                          <a:pt x="673" y="864"/>
                        </a:lnTo>
                        <a:lnTo>
                          <a:pt x="657" y="864"/>
                        </a:lnTo>
                        <a:lnTo>
                          <a:pt x="640" y="863"/>
                        </a:lnTo>
                        <a:lnTo>
                          <a:pt x="624" y="862"/>
                        </a:lnTo>
                        <a:lnTo>
                          <a:pt x="607" y="860"/>
                        </a:lnTo>
                        <a:lnTo>
                          <a:pt x="590" y="859"/>
                        </a:lnTo>
                        <a:lnTo>
                          <a:pt x="574" y="858"/>
                        </a:lnTo>
                        <a:lnTo>
                          <a:pt x="557" y="857"/>
                        </a:lnTo>
                        <a:lnTo>
                          <a:pt x="541" y="856"/>
                        </a:lnTo>
                        <a:lnTo>
                          <a:pt x="515" y="851"/>
                        </a:lnTo>
                        <a:lnTo>
                          <a:pt x="490" y="847"/>
                        </a:lnTo>
                        <a:lnTo>
                          <a:pt x="465" y="843"/>
                        </a:lnTo>
                        <a:lnTo>
                          <a:pt x="440" y="839"/>
                        </a:lnTo>
                        <a:lnTo>
                          <a:pt x="415" y="835"/>
                        </a:lnTo>
                        <a:lnTo>
                          <a:pt x="390" y="829"/>
                        </a:lnTo>
                        <a:lnTo>
                          <a:pt x="367" y="824"/>
                        </a:lnTo>
                        <a:lnTo>
                          <a:pt x="343" y="816"/>
                        </a:lnTo>
                        <a:lnTo>
                          <a:pt x="321" y="808"/>
                        </a:lnTo>
                        <a:lnTo>
                          <a:pt x="298" y="798"/>
                        </a:lnTo>
                        <a:lnTo>
                          <a:pt x="282" y="791"/>
                        </a:lnTo>
                        <a:lnTo>
                          <a:pt x="265" y="785"/>
                        </a:lnTo>
                        <a:lnTo>
                          <a:pt x="248" y="779"/>
                        </a:lnTo>
                        <a:lnTo>
                          <a:pt x="231" y="773"/>
                        </a:lnTo>
                        <a:lnTo>
                          <a:pt x="214" y="767"/>
                        </a:lnTo>
                        <a:lnTo>
                          <a:pt x="196" y="762"/>
                        </a:lnTo>
                        <a:lnTo>
                          <a:pt x="179" y="757"/>
                        </a:lnTo>
                        <a:lnTo>
                          <a:pt x="162" y="751"/>
                        </a:lnTo>
                        <a:lnTo>
                          <a:pt x="145" y="745"/>
                        </a:lnTo>
                        <a:lnTo>
                          <a:pt x="128" y="739"/>
                        </a:lnTo>
                        <a:lnTo>
                          <a:pt x="122" y="742"/>
                        </a:lnTo>
                        <a:lnTo>
                          <a:pt x="106" y="734"/>
                        </a:lnTo>
                        <a:lnTo>
                          <a:pt x="89" y="725"/>
                        </a:lnTo>
                        <a:lnTo>
                          <a:pt x="71" y="716"/>
                        </a:lnTo>
                        <a:lnTo>
                          <a:pt x="54" y="705"/>
                        </a:lnTo>
                        <a:lnTo>
                          <a:pt x="37" y="694"/>
                        </a:lnTo>
                        <a:lnTo>
                          <a:pt x="23" y="682"/>
                        </a:lnTo>
                        <a:lnTo>
                          <a:pt x="11" y="669"/>
                        </a:lnTo>
                        <a:lnTo>
                          <a:pt x="3" y="656"/>
                        </a:lnTo>
                        <a:lnTo>
                          <a:pt x="0" y="642"/>
                        </a:lnTo>
                        <a:lnTo>
                          <a:pt x="1" y="627"/>
                        </a:lnTo>
                        <a:lnTo>
                          <a:pt x="4" y="621"/>
                        </a:lnTo>
                        <a:lnTo>
                          <a:pt x="6" y="614"/>
                        </a:lnTo>
                        <a:lnTo>
                          <a:pt x="9" y="608"/>
                        </a:lnTo>
                        <a:lnTo>
                          <a:pt x="12" y="602"/>
                        </a:lnTo>
                        <a:lnTo>
                          <a:pt x="16" y="596"/>
                        </a:lnTo>
                        <a:lnTo>
                          <a:pt x="21" y="589"/>
                        </a:lnTo>
                        <a:lnTo>
                          <a:pt x="25" y="584"/>
                        </a:lnTo>
                        <a:lnTo>
                          <a:pt x="32" y="578"/>
                        </a:lnTo>
                        <a:lnTo>
                          <a:pt x="39" y="574"/>
                        </a:lnTo>
                        <a:lnTo>
                          <a:pt x="48" y="569"/>
                        </a:lnTo>
                        <a:lnTo>
                          <a:pt x="70" y="559"/>
                        </a:lnTo>
                        <a:lnTo>
                          <a:pt x="93" y="550"/>
                        </a:lnTo>
                        <a:lnTo>
                          <a:pt x="117" y="542"/>
                        </a:lnTo>
                        <a:lnTo>
                          <a:pt x="140" y="536"/>
                        </a:lnTo>
                        <a:lnTo>
                          <a:pt x="165" y="530"/>
                        </a:lnTo>
                        <a:lnTo>
                          <a:pt x="189" y="526"/>
                        </a:lnTo>
                        <a:lnTo>
                          <a:pt x="213" y="521"/>
                        </a:lnTo>
                        <a:lnTo>
                          <a:pt x="238" y="517"/>
                        </a:lnTo>
                        <a:lnTo>
                          <a:pt x="264" y="513"/>
                        </a:lnTo>
                        <a:lnTo>
                          <a:pt x="291" y="508"/>
                        </a:lnTo>
                        <a:lnTo>
                          <a:pt x="302" y="507"/>
                        </a:lnTo>
                        <a:lnTo>
                          <a:pt x="314" y="505"/>
                        </a:lnTo>
                        <a:lnTo>
                          <a:pt x="325" y="504"/>
                        </a:lnTo>
                        <a:lnTo>
                          <a:pt x="337" y="503"/>
                        </a:lnTo>
                        <a:lnTo>
                          <a:pt x="348" y="501"/>
                        </a:lnTo>
                        <a:lnTo>
                          <a:pt x="360" y="500"/>
                        </a:lnTo>
                        <a:lnTo>
                          <a:pt x="371" y="499"/>
                        </a:lnTo>
                        <a:lnTo>
                          <a:pt x="383" y="497"/>
                        </a:lnTo>
                        <a:lnTo>
                          <a:pt x="394" y="495"/>
                        </a:lnTo>
                        <a:lnTo>
                          <a:pt x="405" y="494"/>
                        </a:lnTo>
                        <a:lnTo>
                          <a:pt x="397" y="478"/>
                        </a:lnTo>
                        <a:lnTo>
                          <a:pt x="389" y="462"/>
                        </a:lnTo>
                        <a:lnTo>
                          <a:pt x="381" y="446"/>
                        </a:lnTo>
                        <a:lnTo>
                          <a:pt x="374" y="429"/>
                        </a:lnTo>
                        <a:lnTo>
                          <a:pt x="366" y="414"/>
                        </a:lnTo>
                        <a:lnTo>
                          <a:pt x="360" y="397"/>
                        </a:lnTo>
                        <a:lnTo>
                          <a:pt x="354" y="381"/>
                        </a:lnTo>
                        <a:lnTo>
                          <a:pt x="350" y="365"/>
                        </a:lnTo>
                        <a:lnTo>
                          <a:pt x="347" y="348"/>
                        </a:lnTo>
                        <a:lnTo>
                          <a:pt x="346" y="333"/>
                        </a:lnTo>
                        <a:lnTo>
                          <a:pt x="341" y="317"/>
                        </a:lnTo>
                        <a:lnTo>
                          <a:pt x="338" y="300"/>
                        </a:lnTo>
                        <a:lnTo>
                          <a:pt x="334" y="284"/>
                        </a:lnTo>
                        <a:lnTo>
                          <a:pt x="332" y="267"/>
                        </a:lnTo>
                        <a:lnTo>
                          <a:pt x="330" y="250"/>
                        </a:lnTo>
                        <a:lnTo>
                          <a:pt x="328" y="234"/>
                        </a:lnTo>
                        <a:lnTo>
                          <a:pt x="327" y="217"/>
                        </a:lnTo>
                        <a:lnTo>
                          <a:pt x="326" y="200"/>
                        </a:lnTo>
                        <a:lnTo>
                          <a:pt x="327" y="183"/>
                        </a:lnTo>
                        <a:lnTo>
                          <a:pt x="327" y="167"/>
                        </a:lnTo>
                        <a:lnTo>
                          <a:pt x="329" y="162"/>
                        </a:lnTo>
                        <a:lnTo>
                          <a:pt x="332" y="157"/>
                        </a:lnTo>
                        <a:lnTo>
                          <a:pt x="336" y="153"/>
                        </a:lnTo>
                        <a:lnTo>
                          <a:pt x="341" y="149"/>
                        </a:lnTo>
                        <a:lnTo>
                          <a:pt x="346" y="145"/>
                        </a:lnTo>
                        <a:lnTo>
                          <a:pt x="351" y="143"/>
                        </a:lnTo>
                        <a:lnTo>
                          <a:pt x="357" y="139"/>
                        </a:lnTo>
                        <a:lnTo>
                          <a:pt x="363" y="136"/>
                        </a:lnTo>
                        <a:lnTo>
                          <a:pt x="369" y="132"/>
                        </a:lnTo>
                        <a:lnTo>
                          <a:pt x="374" y="129"/>
                        </a:lnTo>
                        <a:lnTo>
                          <a:pt x="393" y="121"/>
                        </a:lnTo>
                        <a:lnTo>
                          <a:pt x="413" y="113"/>
                        </a:lnTo>
                        <a:lnTo>
                          <a:pt x="433" y="107"/>
                        </a:lnTo>
                        <a:lnTo>
                          <a:pt x="453" y="101"/>
                        </a:lnTo>
                        <a:lnTo>
                          <a:pt x="475" y="97"/>
                        </a:lnTo>
                        <a:lnTo>
                          <a:pt x="496" y="92"/>
                        </a:lnTo>
                        <a:lnTo>
                          <a:pt x="518" y="89"/>
                        </a:lnTo>
                        <a:lnTo>
                          <a:pt x="539" y="85"/>
                        </a:lnTo>
                        <a:lnTo>
                          <a:pt x="561" y="82"/>
                        </a:lnTo>
                        <a:lnTo>
                          <a:pt x="582" y="79"/>
                        </a:lnTo>
                        <a:lnTo>
                          <a:pt x="581" y="76"/>
                        </a:lnTo>
                        <a:lnTo>
                          <a:pt x="581" y="74"/>
                        </a:lnTo>
                        <a:lnTo>
                          <a:pt x="578" y="72"/>
                        </a:lnTo>
                        <a:lnTo>
                          <a:pt x="576" y="71"/>
                        </a:lnTo>
                        <a:lnTo>
                          <a:pt x="573" y="69"/>
                        </a:lnTo>
                        <a:lnTo>
                          <a:pt x="570" y="68"/>
                        </a:lnTo>
                        <a:lnTo>
                          <a:pt x="567" y="67"/>
                        </a:lnTo>
                        <a:lnTo>
                          <a:pt x="564" y="66"/>
                        </a:lnTo>
                        <a:lnTo>
                          <a:pt x="561" y="64"/>
                        </a:lnTo>
                        <a:lnTo>
                          <a:pt x="559" y="63"/>
                        </a:lnTo>
                        <a:lnTo>
                          <a:pt x="548" y="63"/>
                        </a:lnTo>
                        <a:lnTo>
                          <a:pt x="538" y="63"/>
                        </a:lnTo>
                        <a:lnTo>
                          <a:pt x="527" y="63"/>
                        </a:lnTo>
                        <a:lnTo>
                          <a:pt x="516" y="62"/>
                        </a:lnTo>
                        <a:lnTo>
                          <a:pt x="506" y="62"/>
                        </a:lnTo>
                        <a:lnTo>
                          <a:pt x="496" y="62"/>
                        </a:lnTo>
                        <a:lnTo>
                          <a:pt x="486" y="63"/>
                        </a:lnTo>
                        <a:lnTo>
                          <a:pt x="476" y="63"/>
                        </a:lnTo>
                        <a:lnTo>
                          <a:pt x="466" y="65"/>
                        </a:lnTo>
                        <a:lnTo>
                          <a:pt x="456" y="67"/>
                        </a:lnTo>
                        <a:lnTo>
                          <a:pt x="453" y="68"/>
                        </a:lnTo>
                        <a:lnTo>
                          <a:pt x="449" y="68"/>
                        </a:lnTo>
                        <a:lnTo>
                          <a:pt x="446" y="67"/>
                        </a:lnTo>
                        <a:lnTo>
                          <a:pt x="442" y="66"/>
                        </a:lnTo>
                        <a:lnTo>
                          <a:pt x="439" y="65"/>
                        </a:lnTo>
                        <a:lnTo>
                          <a:pt x="436" y="64"/>
                        </a:lnTo>
                        <a:lnTo>
                          <a:pt x="433" y="62"/>
                        </a:lnTo>
                        <a:lnTo>
                          <a:pt x="430" y="60"/>
                        </a:lnTo>
                        <a:lnTo>
                          <a:pt x="428" y="59"/>
                        </a:lnTo>
                        <a:lnTo>
                          <a:pt x="426" y="58"/>
                        </a:lnTo>
                        <a:lnTo>
                          <a:pt x="428" y="49"/>
                        </a:lnTo>
                        <a:lnTo>
                          <a:pt x="432" y="42"/>
                        </a:lnTo>
                        <a:lnTo>
                          <a:pt x="439" y="36"/>
                        </a:lnTo>
                        <a:lnTo>
                          <a:pt x="446" y="31"/>
                        </a:lnTo>
                        <a:lnTo>
                          <a:pt x="455" y="27"/>
                        </a:lnTo>
                        <a:lnTo>
                          <a:pt x="465" y="24"/>
                        </a:lnTo>
                        <a:lnTo>
                          <a:pt x="475" y="21"/>
                        </a:lnTo>
                        <a:lnTo>
                          <a:pt x="485" y="17"/>
                        </a:lnTo>
                        <a:lnTo>
                          <a:pt x="495" y="14"/>
                        </a:lnTo>
                        <a:lnTo>
                          <a:pt x="504" y="11"/>
                        </a:lnTo>
                        <a:lnTo>
                          <a:pt x="521" y="8"/>
                        </a:lnTo>
                        <a:lnTo>
                          <a:pt x="538" y="5"/>
                        </a:lnTo>
                        <a:lnTo>
                          <a:pt x="558" y="3"/>
                        </a:lnTo>
                        <a:lnTo>
                          <a:pt x="576" y="1"/>
                        </a:lnTo>
                        <a:lnTo>
                          <a:pt x="595" y="0"/>
                        </a:lnTo>
                        <a:lnTo>
                          <a:pt x="614" y="0"/>
                        </a:lnTo>
                        <a:lnTo>
                          <a:pt x="631" y="3"/>
                        </a:lnTo>
                        <a:lnTo>
                          <a:pt x="648" y="7"/>
                        </a:lnTo>
                        <a:lnTo>
                          <a:pt x="664" y="13"/>
                        </a:lnTo>
                        <a:lnTo>
                          <a:pt x="678" y="22"/>
                        </a:lnTo>
                        <a:lnTo>
                          <a:pt x="678" y="22"/>
                        </a:lnTo>
                        <a:lnTo>
                          <a:pt x="678" y="21"/>
                        </a:lnTo>
                        <a:close/>
                        <a:moveTo>
                          <a:pt x="1243" y="322"/>
                        </a:moveTo>
                        <a:lnTo>
                          <a:pt x="1240" y="323"/>
                        </a:lnTo>
                        <a:lnTo>
                          <a:pt x="1237" y="323"/>
                        </a:lnTo>
                        <a:lnTo>
                          <a:pt x="1234" y="325"/>
                        </a:lnTo>
                        <a:lnTo>
                          <a:pt x="1230" y="325"/>
                        </a:lnTo>
                        <a:lnTo>
                          <a:pt x="1227" y="325"/>
                        </a:lnTo>
                        <a:lnTo>
                          <a:pt x="1224" y="326"/>
                        </a:lnTo>
                        <a:lnTo>
                          <a:pt x="1221" y="326"/>
                        </a:lnTo>
                        <a:lnTo>
                          <a:pt x="1219" y="327"/>
                        </a:lnTo>
                        <a:lnTo>
                          <a:pt x="1216" y="328"/>
                        </a:lnTo>
                        <a:lnTo>
                          <a:pt x="1214" y="329"/>
                        </a:lnTo>
                        <a:lnTo>
                          <a:pt x="1210" y="344"/>
                        </a:lnTo>
                        <a:lnTo>
                          <a:pt x="1204" y="359"/>
                        </a:lnTo>
                        <a:lnTo>
                          <a:pt x="1199" y="375"/>
                        </a:lnTo>
                        <a:lnTo>
                          <a:pt x="1194" y="390"/>
                        </a:lnTo>
                        <a:lnTo>
                          <a:pt x="1187" y="406"/>
                        </a:lnTo>
                        <a:lnTo>
                          <a:pt x="1181" y="421"/>
                        </a:lnTo>
                        <a:lnTo>
                          <a:pt x="1174" y="437"/>
                        </a:lnTo>
                        <a:lnTo>
                          <a:pt x="1168" y="452"/>
                        </a:lnTo>
                        <a:lnTo>
                          <a:pt x="1161" y="467"/>
                        </a:lnTo>
                        <a:lnTo>
                          <a:pt x="1154" y="483"/>
                        </a:lnTo>
                        <a:lnTo>
                          <a:pt x="1151" y="488"/>
                        </a:lnTo>
                        <a:lnTo>
                          <a:pt x="1148" y="494"/>
                        </a:lnTo>
                        <a:lnTo>
                          <a:pt x="1145" y="499"/>
                        </a:lnTo>
                        <a:lnTo>
                          <a:pt x="1142" y="505"/>
                        </a:lnTo>
                        <a:lnTo>
                          <a:pt x="1139" y="511"/>
                        </a:lnTo>
                        <a:lnTo>
                          <a:pt x="1136" y="516"/>
                        </a:lnTo>
                        <a:lnTo>
                          <a:pt x="1134" y="522"/>
                        </a:lnTo>
                        <a:lnTo>
                          <a:pt x="1131" y="527"/>
                        </a:lnTo>
                        <a:lnTo>
                          <a:pt x="1129" y="532"/>
                        </a:lnTo>
                        <a:lnTo>
                          <a:pt x="1128" y="537"/>
                        </a:lnTo>
                        <a:lnTo>
                          <a:pt x="1152" y="533"/>
                        </a:lnTo>
                        <a:lnTo>
                          <a:pt x="1178" y="527"/>
                        </a:lnTo>
                        <a:lnTo>
                          <a:pt x="1202" y="520"/>
                        </a:lnTo>
                        <a:lnTo>
                          <a:pt x="1227" y="512"/>
                        </a:lnTo>
                        <a:lnTo>
                          <a:pt x="1250" y="502"/>
                        </a:lnTo>
                        <a:lnTo>
                          <a:pt x="1273" y="491"/>
                        </a:lnTo>
                        <a:lnTo>
                          <a:pt x="1293" y="478"/>
                        </a:lnTo>
                        <a:lnTo>
                          <a:pt x="1311" y="463"/>
                        </a:lnTo>
                        <a:lnTo>
                          <a:pt x="1326" y="447"/>
                        </a:lnTo>
                        <a:lnTo>
                          <a:pt x="1339" y="428"/>
                        </a:lnTo>
                        <a:lnTo>
                          <a:pt x="1345" y="418"/>
                        </a:lnTo>
                        <a:lnTo>
                          <a:pt x="1349" y="408"/>
                        </a:lnTo>
                        <a:lnTo>
                          <a:pt x="1354" y="397"/>
                        </a:lnTo>
                        <a:lnTo>
                          <a:pt x="1358" y="386"/>
                        </a:lnTo>
                        <a:lnTo>
                          <a:pt x="1361" y="374"/>
                        </a:lnTo>
                        <a:lnTo>
                          <a:pt x="1362" y="363"/>
                        </a:lnTo>
                        <a:lnTo>
                          <a:pt x="1362" y="351"/>
                        </a:lnTo>
                        <a:lnTo>
                          <a:pt x="1359" y="340"/>
                        </a:lnTo>
                        <a:lnTo>
                          <a:pt x="1353" y="330"/>
                        </a:lnTo>
                        <a:lnTo>
                          <a:pt x="1346" y="320"/>
                        </a:lnTo>
                        <a:lnTo>
                          <a:pt x="1336" y="317"/>
                        </a:lnTo>
                        <a:lnTo>
                          <a:pt x="1326" y="314"/>
                        </a:lnTo>
                        <a:lnTo>
                          <a:pt x="1316" y="313"/>
                        </a:lnTo>
                        <a:lnTo>
                          <a:pt x="1305" y="312"/>
                        </a:lnTo>
                        <a:lnTo>
                          <a:pt x="1294" y="313"/>
                        </a:lnTo>
                        <a:lnTo>
                          <a:pt x="1283" y="313"/>
                        </a:lnTo>
                        <a:lnTo>
                          <a:pt x="1272" y="315"/>
                        </a:lnTo>
                        <a:lnTo>
                          <a:pt x="1262" y="317"/>
                        </a:lnTo>
                        <a:lnTo>
                          <a:pt x="1252" y="319"/>
                        </a:lnTo>
                        <a:lnTo>
                          <a:pt x="1243" y="322"/>
                        </a:lnTo>
                        <a:lnTo>
                          <a:pt x="1243" y="32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1" name=""/>
                  <p:cNvSpPr/>
                  <p:nvPr/>
                </p:nvSpPr>
                <p:spPr>
                  <a:xfrm>
                    <a:off x="1567080" y="5355360"/>
                    <a:ext cx="355320" cy="254160"/>
                  </a:xfrm>
                  <a:custGeom>
                    <a:avLst/>
                    <a:gdLst/>
                    <a:ahLst/>
                    <a:rect l="l" t="t" r="r" b="b"/>
                    <a:pathLst>
                      <a:path w="728" h="476">
                        <a:moveTo>
                          <a:pt x="171" y="399"/>
                        </a:moveTo>
                        <a:lnTo>
                          <a:pt x="178" y="407"/>
                        </a:lnTo>
                        <a:lnTo>
                          <a:pt x="187" y="415"/>
                        </a:lnTo>
                        <a:lnTo>
                          <a:pt x="196" y="422"/>
                        </a:lnTo>
                        <a:lnTo>
                          <a:pt x="205" y="429"/>
                        </a:lnTo>
                        <a:lnTo>
                          <a:pt x="214" y="435"/>
                        </a:lnTo>
                        <a:lnTo>
                          <a:pt x="225" y="441"/>
                        </a:lnTo>
                        <a:lnTo>
                          <a:pt x="235" y="446"/>
                        </a:lnTo>
                        <a:lnTo>
                          <a:pt x="247" y="450"/>
                        </a:lnTo>
                        <a:lnTo>
                          <a:pt x="257" y="455"/>
                        </a:lnTo>
                        <a:lnTo>
                          <a:pt x="270" y="458"/>
                        </a:lnTo>
                        <a:lnTo>
                          <a:pt x="291" y="464"/>
                        </a:lnTo>
                        <a:lnTo>
                          <a:pt x="313" y="468"/>
                        </a:lnTo>
                        <a:lnTo>
                          <a:pt x="336" y="472"/>
                        </a:lnTo>
                        <a:lnTo>
                          <a:pt x="358" y="474"/>
                        </a:lnTo>
                        <a:lnTo>
                          <a:pt x="381" y="475"/>
                        </a:lnTo>
                        <a:lnTo>
                          <a:pt x="403" y="476"/>
                        </a:lnTo>
                        <a:lnTo>
                          <a:pt x="426" y="476"/>
                        </a:lnTo>
                        <a:lnTo>
                          <a:pt x="448" y="475"/>
                        </a:lnTo>
                        <a:lnTo>
                          <a:pt x="471" y="475"/>
                        </a:lnTo>
                        <a:lnTo>
                          <a:pt x="495" y="474"/>
                        </a:lnTo>
                        <a:lnTo>
                          <a:pt x="526" y="457"/>
                        </a:lnTo>
                        <a:lnTo>
                          <a:pt x="555" y="439"/>
                        </a:lnTo>
                        <a:lnTo>
                          <a:pt x="582" y="419"/>
                        </a:lnTo>
                        <a:lnTo>
                          <a:pt x="607" y="397"/>
                        </a:lnTo>
                        <a:lnTo>
                          <a:pt x="629" y="374"/>
                        </a:lnTo>
                        <a:lnTo>
                          <a:pt x="649" y="349"/>
                        </a:lnTo>
                        <a:lnTo>
                          <a:pt x="667" y="324"/>
                        </a:lnTo>
                        <a:lnTo>
                          <a:pt x="682" y="297"/>
                        </a:lnTo>
                        <a:lnTo>
                          <a:pt x="694" y="269"/>
                        </a:lnTo>
                        <a:lnTo>
                          <a:pt x="703" y="241"/>
                        </a:lnTo>
                        <a:lnTo>
                          <a:pt x="708" y="223"/>
                        </a:lnTo>
                        <a:lnTo>
                          <a:pt x="714" y="205"/>
                        </a:lnTo>
                        <a:lnTo>
                          <a:pt x="718" y="187"/>
                        </a:lnTo>
                        <a:lnTo>
                          <a:pt x="721" y="170"/>
                        </a:lnTo>
                        <a:lnTo>
                          <a:pt x="724" y="152"/>
                        </a:lnTo>
                        <a:lnTo>
                          <a:pt x="727" y="135"/>
                        </a:lnTo>
                        <a:lnTo>
                          <a:pt x="728" y="117"/>
                        </a:lnTo>
                        <a:lnTo>
                          <a:pt x="728" y="99"/>
                        </a:lnTo>
                        <a:lnTo>
                          <a:pt x="728" y="82"/>
                        </a:lnTo>
                        <a:lnTo>
                          <a:pt x="727" y="64"/>
                        </a:lnTo>
                        <a:lnTo>
                          <a:pt x="716" y="66"/>
                        </a:lnTo>
                        <a:lnTo>
                          <a:pt x="705" y="68"/>
                        </a:lnTo>
                        <a:lnTo>
                          <a:pt x="695" y="70"/>
                        </a:lnTo>
                        <a:lnTo>
                          <a:pt x="683" y="72"/>
                        </a:lnTo>
                        <a:lnTo>
                          <a:pt x="672" y="73"/>
                        </a:lnTo>
                        <a:lnTo>
                          <a:pt x="662" y="74"/>
                        </a:lnTo>
                        <a:lnTo>
                          <a:pt x="651" y="76"/>
                        </a:lnTo>
                        <a:lnTo>
                          <a:pt x="639" y="77"/>
                        </a:lnTo>
                        <a:lnTo>
                          <a:pt x="629" y="78"/>
                        </a:lnTo>
                        <a:lnTo>
                          <a:pt x="619" y="79"/>
                        </a:lnTo>
                        <a:lnTo>
                          <a:pt x="582" y="83"/>
                        </a:lnTo>
                        <a:lnTo>
                          <a:pt x="545" y="86"/>
                        </a:lnTo>
                        <a:lnTo>
                          <a:pt x="508" y="87"/>
                        </a:lnTo>
                        <a:lnTo>
                          <a:pt x="471" y="87"/>
                        </a:lnTo>
                        <a:lnTo>
                          <a:pt x="434" y="86"/>
                        </a:lnTo>
                        <a:lnTo>
                          <a:pt x="397" y="85"/>
                        </a:lnTo>
                        <a:lnTo>
                          <a:pt x="359" y="83"/>
                        </a:lnTo>
                        <a:lnTo>
                          <a:pt x="322" y="80"/>
                        </a:lnTo>
                        <a:lnTo>
                          <a:pt x="284" y="78"/>
                        </a:lnTo>
                        <a:lnTo>
                          <a:pt x="247" y="76"/>
                        </a:lnTo>
                        <a:lnTo>
                          <a:pt x="220" y="72"/>
                        </a:lnTo>
                        <a:lnTo>
                          <a:pt x="194" y="67"/>
                        </a:lnTo>
                        <a:lnTo>
                          <a:pt x="168" y="63"/>
                        </a:lnTo>
                        <a:lnTo>
                          <a:pt x="141" y="57"/>
                        </a:lnTo>
                        <a:lnTo>
                          <a:pt x="116" y="51"/>
                        </a:lnTo>
                        <a:lnTo>
                          <a:pt x="92" y="44"/>
                        </a:lnTo>
                        <a:lnTo>
                          <a:pt x="67" y="35"/>
                        </a:lnTo>
                        <a:lnTo>
                          <a:pt x="44" y="26"/>
                        </a:lnTo>
                        <a:lnTo>
                          <a:pt x="22" y="14"/>
                        </a:lnTo>
                        <a:lnTo>
                          <a:pt x="0" y="0"/>
                        </a:lnTo>
                        <a:lnTo>
                          <a:pt x="1" y="18"/>
                        </a:lnTo>
                        <a:lnTo>
                          <a:pt x="2" y="35"/>
                        </a:lnTo>
                        <a:lnTo>
                          <a:pt x="4" y="53"/>
                        </a:lnTo>
                        <a:lnTo>
                          <a:pt x="6" y="70"/>
                        </a:lnTo>
                        <a:lnTo>
                          <a:pt x="9" y="88"/>
                        </a:lnTo>
                        <a:lnTo>
                          <a:pt x="13" y="106"/>
                        </a:lnTo>
                        <a:lnTo>
                          <a:pt x="16" y="123"/>
                        </a:lnTo>
                        <a:lnTo>
                          <a:pt x="19" y="141"/>
                        </a:lnTo>
                        <a:lnTo>
                          <a:pt x="23" y="159"/>
                        </a:lnTo>
                        <a:lnTo>
                          <a:pt x="27" y="178"/>
                        </a:lnTo>
                        <a:lnTo>
                          <a:pt x="36" y="201"/>
                        </a:lnTo>
                        <a:lnTo>
                          <a:pt x="46" y="225"/>
                        </a:lnTo>
                        <a:lnTo>
                          <a:pt x="56" y="248"/>
                        </a:lnTo>
                        <a:lnTo>
                          <a:pt x="68" y="272"/>
                        </a:lnTo>
                        <a:lnTo>
                          <a:pt x="81" y="294"/>
                        </a:lnTo>
                        <a:lnTo>
                          <a:pt x="95" y="317"/>
                        </a:lnTo>
                        <a:lnTo>
                          <a:pt x="112" y="338"/>
                        </a:lnTo>
                        <a:lnTo>
                          <a:pt x="129" y="359"/>
                        </a:lnTo>
                        <a:lnTo>
                          <a:pt x="149" y="379"/>
                        </a:lnTo>
                        <a:lnTo>
                          <a:pt x="171" y="399"/>
                        </a:lnTo>
                        <a:lnTo>
                          <a:pt x="171" y="399"/>
                        </a:lnTo>
                        <a:close/>
                      </a:path>
                    </a:pathLst>
                  </a:custGeom>
                  <a:solidFill>
                    <a:srgbClr val="ffb83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1809000" y="5357160"/>
                    <a:ext cx="186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382" h="471">
                        <a:moveTo>
                          <a:pt x="168" y="431"/>
                        </a:moveTo>
                        <a:lnTo>
                          <a:pt x="173" y="428"/>
                        </a:lnTo>
                        <a:lnTo>
                          <a:pt x="177" y="425"/>
                        </a:lnTo>
                        <a:lnTo>
                          <a:pt x="181" y="422"/>
                        </a:lnTo>
                        <a:lnTo>
                          <a:pt x="185" y="418"/>
                        </a:lnTo>
                        <a:lnTo>
                          <a:pt x="189" y="416"/>
                        </a:lnTo>
                        <a:lnTo>
                          <a:pt x="192" y="412"/>
                        </a:lnTo>
                        <a:lnTo>
                          <a:pt x="196" y="409"/>
                        </a:lnTo>
                        <a:lnTo>
                          <a:pt x="199" y="406"/>
                        </a:lnTo>
                        <a:lnTo>
                          <a:pt x="203" y="403"/>
                        </a:lnTo>
                        <a:lnTo>
                          <a:pt x="206" y="399"/>
                        </a:lnTo>
                        <a:lnTo>
                          <a:pt x="208" y="401"/>
                        </a:lnTo>
                        <a:lnTo>
                          <a:pt x="212" y="396"/>
                        </a:lnTo>
                        <a:lnTo>
                          <a:pt x="216" y="391"/>
                        </a:lnTo>
                        <a:lnTo>
                          <a:pt x="221" y="386"/>
                        </a:lnTo>
                        <a:lnTo>
                          <a:pt x="226" y="382"/>
                        </a:lnTo>
                        <a:lnTo>
                          <a:pt x="232" y="376"/>
                        </a:lnTo>
                        <a:lnTo>
                          <a:pt x="237" y="372"/>
                        </a:lnTo>
                        <a:lnTo>
                          <a:pt x="243" y="367"/>
                        </a:lnTo>
                        <a:lnTo>
                          <a:pt x="247" y="362"/>
                        </a:lnTo>
                        <a:lnTo>
                          <a:pt x="253" y="357"/>
                        </a:lnTo>
                        <a:lnTo>
                          <a:pt x="257" y="352"/>
                        </a:lnTo>
                        <a:lnTo>
                          <a:pt x="279" y="319"/>
                        </a:lnTo>
                        <a:lnTo>
                          <a:pt x="298" y="286"/>
                        </a:lnTo>
                        <a:lnTo>
                          <a:pt x="315" y="251"/>
                        </a:lnTo>
                        <a:lnTo>
                          <a:pt x="330" y="216"/>
                        </a:lnTo>
                        <a:lnTo>
                          <a:pt x="344" y="180"/>
                        </a:lnTo>
                        <a:lnTo>
                          <a:pt x="355" y="144"/>
                        </a:lnTo>
                        <a:lnTo>
                          <a:pt x="365" y="108"/>
                        </a:lnTo>
                        <a:lnTo>
                          <a:pt x="372" y="72"/>
                        </a:lnTo>
                        <a:lnTo>
                          <a:pt x="378" y="36"/>
                        </a:lnTo>
                        <a:lnTo>
                          <a:pt x="382" y="0"/>
                        </a:lnTo>
                        <a:lnTo>
                          <a:pt x="369" y="9"/>
                        </a:lnTo>
                        <a:lnTo>
                          <a:pt x="355" y="17"/>
                        </a:lnTo>
                        <a:lnTo>
                          <a:pt x="342" y="25"/>
                        </a:lnTo>
                        <a:lnTo>
                          <a:pt x="327" y="32"/>
                        </a:lnTo>
                        <a:lnTo>
                          <a:pt x="312" y="38"/>
                        </a:lnTo>
                        <a:lnTo>
                          <a:pt x="296" y="44"/>
                        </a:lnTo>
                        <a:lnTo>
                          <a:pt x="281" y="49"/>
                        </a:lnTo>
                        <a:lnTo>
                          <a:pt x="265" y="53"/>
                        </a:lnTo>
                        <a:lnTo>
                          <a:pt x="249" y="57"/>
                        </a:lnTo>
                        <a:lnTo>
                          <a:pt x="232" y="61"/>
                        </a:lnTo>
                        <a:lnTo>
                          <a:pt x="233" y="79"/>
                        </a:lnTo>
                        <a:lnTo>
                          <a:pt x="233" y="96"/>
                        </a:lnTo>
                        <a:lnTo>
                          <a:pt x="233" y="114"/>
                        </a:lnTo>
                        <a:lnTo>
                          <a:pt x="232" y="132"/>
                        </a:lnTo>
                        <a:lnTo>
                          <a:pt x="229" y="149"/>
                        </a:lnTo>
                        <a:lnTo>
                          <a:pt x="226" y="167"/>
                        </a:lnTo>
                        <a:lnTo>
                          <a:pt x="223" y="184"/>
                        </a:lnTo>
                        <a:lnTo>
                          <a:pt x="219" y="202"/>
                        </a:lnTo>
                        <a:lnTo>
                          <a:pt x="213" y="220"/>
                        </a:lnTo>
                        <a:lnTo>
                          <a:pt x="208" y="238"/>
                        </a:lnTo>
                        <a:lnTo>
                          <a:pt x="199" y="266"/>
                        </a:lnTo>
                        <a:lnTo>
                          <a:pt x="187" y="294"/>
                        </a:lnTo>
                        <a:lnTo>
                          <a:pt x="172" y="321"/>
                        </a:lnTo>
                        <a:lnTo>
                          <a:pt x="154" y="346"/>
                        </a:lnTo>
                        <a:lnTo>
                          <a:pt x="134" y="371"/>
                        </a:lnTo>
                        <a:lnTo>
                          <a:pt x="112" y="394"/>
                        </a:lnTo>
                        <a:lnTo>
                          <a:pt x="87" y="416"/>
                        </a:lnTo>
                        <a:lnTo>
                          <a:pt x="60" y="436"/>
                        </a:lnTo>
                        <a:lnTo>
                          <a:pt x="31" y="454"/>
                        </a:lnTo>
                        <a:lnTo>
                          <a:pt x="0" y="471"/>
                        </a:lnTo>
                        <a:lnTo>
                          <a:pt x="2" y="471"/>
                        </a:lnTo>
                        <a:lnTo>
                          <a:pt x="5" y="471"/>
                        </a:lnTo>
                        <a:lnTo>
                          <a:pt x="7" y="471"/>
                        </a:lnTo>
                        <a:lnTo>
                          <a:pt x="10" y="471"/>
                        </a:lnTo>
                        <a:lnTo>
                          <a:pt x="12" y="471"/>
                        </a:lnTo>
                        <a:lnTo>
                          <a:pt x="15" y="471"/>
                        </a:lnTo>
                        <a:lnTo>
                          <a:pt x="17" y="471"/>
                        </a:lnTo>
                        <a:lnTo>
                          <a:pt x="20" y="471"/>
                        </a:lnTo>
                        <a:lnTo>
                          <a:pt x="22" y="470"/>
                        </a:lnTo>
                        <a:lnTo>
                          <a:pt x="25" y="470"/>
                        </a:lnTo>
                        <a:lnTo>
                          <a:pt x="38" y="465"/>
                        </a:lnTo>
                        <a:lnTo>
                          <a:pt x="52" y="460"/>
                        </a:lnTo>
                        <a:lnTo>
                          <a:pt x="66" y="455"/>
                        </a:lnTo>
                        <a:lnTo>
                          <a:pt x="80" y="450"/>
                        </a:lnTo>
                        <a:lnTo>
                          <a:pt x="94" y="446"/>
                        </a:lnTo>
                        <a:lnTo>
                          <a:pt x="108" y="442"/>
                        </a:lnTo>
                        <a:lnTo>
                          <a:pt x="123" y="439"/>
                        </a:lnTo>
                        <a:lnTo>
                          <a:pt x="138" y="436"/>
                        </a:lnTo>
                        <a:lnTo>
                          <a:pt x="153" y="433"/>
                        </a:lnTo>
                        <a:lnTo>
                          <a:pt x="168" y="431"/>
                        </a:lnTo>
                        <a:lnTo>
                          <a:pt x="168" y="431"/>
                        </a:lnTo>
                        <a:close/>
                      </a:path>
                    </a:pathLst>
                  </a:custGeom>
                  <a:solidFill>
                    <a:srgbClr val="e3a9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3" name=""/>
                  <p:cNvSpPr/>
                  <p:nvPr/>
                </p:nvSpPr>
                <p:spPr>
                  <a:xfrm>
                    <a:off x="1405080" y="5517360"/>
                    <a:ext cx="735480" cy="180720"/>
                  </a:xfrm>
                  <a:custGeom>
                    <a:avLst/>
                    <a:gdLst/>
                    <a:ahLst/>
                    <a:rect l="l" t="t" r="r" b="b"/>
                    <a:pathLst>
                      <a:path w="1506" h="338">
                        <a:moveTo>
                          <a:pt x="291" y="210"/>
                        </a:moveTo>
                        <a:lnTo>
                          <a:pt x="285" y="207"/>
                        </a:lnTo>
                        <a:lnTo>
                          <a:pt x="282" y="204"/>
                        </a:lnTo>
                        <a:lnTo>
                          <a:pt x="277" y="201"/>
                        </a:lnTo>
                        <a:lnTo>
                          <a:pt x="274" y="197"/>
                        </a:lnTo>
                        <a:lnTo>
                          <a:pt x="271" y="192"/>
                        </a:lnTo>
                        <a:lnTo>
                          <a:pt x="269" y="188"/>
                        </a:lnTo>
                        <a:lnTo>
                          <a:pt x="266" y="182"/>
                        </a:lnTo>
                        <a:lnTo>
                          <a:pt x="265" y="177"/>
                        </a:lnTo>
                        <a:lnTo>
                          <a:pt x="264" y="172"/>
                        </a:lnTo>
                        <a:lnTo>
                          <a:pt x="264" y="167"/>
                        </a:lnTo>
                        <a:lnTo>
                          <a:pt x="262" y="165"/>
                        </a:lnTo>
                        <a:lnTo>
                          <a:pt x="259" y="163"/>
                        </a:lnTo>
                        <a:lnTo>
                          <a:pt x="257" y="161"/>
                        </a:lnTo>
                        <a:lnTo>
                          <a:pt x="255" y="160"/>
                        </a:lnTo>
                        <a:lnTo>
                          <a:pt x="253" y="158"/>
                        </a:lnTo>
                        <a:lnTo>
                          <a:pt x="251" y="156"/>
                        </a:lnTo>
                        <a:lnTo>
                          <a:pt x="249" y="154"/>
                        </a:lnTo>
                        <a:lnTo>
                          <a:pt x="248" y="152"/>
                        </a:lnTo>
                        <a:lnTo>
                          <a:pt x="246" y="150"/>
                        </a:lnTo>
                        <a:lnTo>
                          <a:pt x="244" y="147"/>
                        </a:lnTo>
                        <a:lnTo>
                          <a:pt x="246" y="146"/>
                        </a:lnTo>
                        <a:lnTo>
                          <a:pt x="246" y="143"/>
                        </a:lnTo>
                        <a:lnTo>
                          <a:pt x="246" y="141"/>
                        </a:lnTo>
                        <a:lnTo>
                          <a:pt x="246" y="138"/>
                        </a:lnTo>
                        <a:lnTo>
                          <a:pt x="246" y="136"/>
                        </a:lnTo>
                        <a:lnTo>
                          <a:pt x="246" y="133"/>
                        </a:lnTo>
                        <a:lnTo>
                          <a:pt x="246" y="130"/>
                        </a:lnTo>
                        <a:lnTo>
                          <a:pt x="247" y="127"/>
                        </a:lnTo>
                        <a:lnTo>
                          <a:pt x="249" y="125"/>
                        </a:lnTo>
                        <a:lnTo>
                          <a:pt x="250" y="123"/>
                        </a:lnTo>
                        <a:lnTo>
                          <a:pt x="265" y="110"/>
                        </a:lnTo>
                        <a:lnTo>
                          <a:pt x="281" y="99"/>
                        </a:lnTo>
                        <a:lnTo>
                          <a:pt x="299" y="89"/>
                        </a:lnTo>
                        <a:lnTo>
                          <a:pt x="319" y="82"/>
                        </a:lnTo>
                        <a:lnTo>
                          <a:pt x="340" y="76"/>
                        </a:lnTo>
                        <a:lnTo>
                          <a:pt x="361" y="72"/>
                        </a:lnTo>
                        <a:lnTo>
                          <a:pt x="383" y="69"/>
                        </a:lnTo>
                        <a:lnTo>
                          <a:pt x="405" y="67"/>
                        </a:lnTo>
                        <a:lnTo>
                          <a:pt x="427" y="65"/>
                        </a:lnTo>
                        <a:lnTo>
                          <a:pt x="447" y="63"/>
                        </a:lnTo>
                        <a:lnTo>
                          <a:pt x="442" y="57"/>
                        </a:lnTo>
                        <a:lnTo>
                          <a:pt x="437" y="51"/>
                        </a:lnTo>
                        <a:lnTo>
                          <a:pt x="433" y="45"/>
                        </a:lnTo>
                        <a:lnTo>
                          <a:pt x="428" y="39"/>
                        </a:lnTo>
                        <a:lnTo>
                          <a:pt x="424" y="33"/>
                        </a:lnTo>
                        <a:lnTo>
                          <a:pt x="420" y="27"/>
                        </a:lnTo>
                        <a:lnTo>
                          <a:pt x="415" y="20"/>
                        </a:lnTo>
                        <a:lnTo>
                          <a:pt x="411" y="14"/>
                        </a:lnTo>
                        <a:lnTo>
                          <a:pt x="407" y="8"/>
                        </a:lnTo>
                        <a:lnTo>
                          <a:pt x="402" y="2"/>
                        </a:lnTo>
                        <a:lnTo>
                          <a:pt x="390" y="0"/>
                        </a:lnTo>
                        <a:lnTo>
                          <a:pt x="375" y="3"/>
                        </a:lnTo>
                        <a:lnTo>
                          <a:pt x="360" y="6"/>
                        </a:lnTo>
                        <a:lnTo>
                          <a:pt x="345" y="7"/>
                        </a:lnTo>
                        <a:lnTo>
                          <a:pt x="328" y="9"/>
                        </a:lnTo>
                        <a:lnTo>
                          <a:pt x="313" y="10"/>
                        </a:lnTo>
                        <a:lnTo>
                          <a:pt x="297" y="12"/>
                        </a:lnTo>
                        <a:lnTo>
                          <a:pt x="282" y="14"/>
                        </a:lnTo>
                        <a:lnTo>
                          <a:pt x="267" y="16"/>
                        </a:lnTo>
                        <a:lnTo>
                          <a:pt x="252" y="18"/>
                        </a:lnTo>
                        <a:lnTo>
                          <a:pt x="238" y="21"/>
                        </a:lnTo>
                        <a:lnTo>
                          <a:pt x="236" y="23"/>
                        </a:lnTo>
                        <a:lnTo>
                          <a:pt x="214" y="27"/>
                        </a:lnTo>
                        <a:lnTo>
                          <a:pt x="193" y="30"/>
                        </a:lnTo>
                        <a:lnTo>
                          <a:pt x="170" y="34"/>
                        </a:lnTo>
                        <a:lnTo>
                          <a:pt x="149" y="38"/>
                        </a:lnTo>
                        <a:lnTo>
                          <a:pt x="127" y="43"/>
                        </a:lnTo>
                        <a:lnTo>
                          <a:pt x="106" y="49"/>
                        </a:lnTo>
                        <a:lnTo>
                          <a:pt x="85" y="56"/>
                        </a:lnTo>
                        <a:lnTo>
                          <a:pt x="65" y="64"/>
                        </a:lnTo>
                        <a:lnTo>
                          <a:pt x="47" y="74"/>
                        </a:lnTo>
                        <a:lnTo>
                          <a:pt x="28" y="86"/>
                        </a:lnTo>
                        <a:lnTo>
                          <a:pt x="24" y="89"/>
                        </a:lnTo>
                        <a:lnTo>
                          <a:pt x="20" y="93"/>
                        </a:lnTo>
                        <a:lnTo>
                          <a:pt x="17" y="97"/>
                        </a:lnTo>
                        <a:lnTo>
                          <a:pt x="15" y="102"/>
                        </a:lnTo>
                        <a:lnTo>
                          <a:pt x="12" y="107"/>
                        </a:lnTo>
                        <a:lnTo>
                          <a:pt x="11" y="112"/>
                        </a:lnTo>
                        <a:lnTo>
                          <a:pt x="9" y="116"/>
                        </a:lnTo>
                        <a:lnTo>
                          <a:pt x="6" y="121"/>
                        </a:lnTo>
                        <a:lnTo>
                          <a:pt x="4" y="125"/>
                        </a:lnTo>
                        <a:lnTo>
                          <a:pt x="0" y="129"/>
                        </a:lnTo>
                        <a:lnTo>
                          <a:pt x="1" y="136"/>
                        </a:lnTo>
                        <a:lnTo>
                          <a:pt x="3" y="143"/>
                        </a:lnTo>
                        <a:lnTo>
                          <a:pt x="5" y="149"/>
                        </a:lnTo>
                        <a:lnTo>
                          <a:pt x="9" y="155"/>
                        </a:lnTo>
                        <a:lnTo>
                          <a:pt x="14" y="161"/>
                        </a:lnTo>
                        <a:lnTo>
                          <a:pt x="19" y="167"/>
                        </a:lnTo>
                        <a:lnTo>
                          <a:pt x="25" y="172"/>
                        </a:lnTo>
                        <a:lnTo>
                          <a:pt x="31" y="177"/>
                        </a:lnTo>
                        <a:lnTo>
                          <a:pt x="37" y="182"/>
                        </a:lnTo>
                        <a:lnTo>
                          <a:pt x="43" y="187"/>
                        </a:lnTo>
                        <a:lnTo>
                          <a:pt x="47" y="189"/>
                        </a:lnTo>
                        <a:lnTo>
                          <a:pt x="50" y="191"/>
                        </a:lnTo>
                        <a:lnTo>
                          <a:pt x="54" y="193"/>
                        </a:lnTo>
                        <a:lnTo>
                          <a:pt x="57" y="196"/>
                        </a:lnTo>
                        <a:lnTo>
                          <a:pt x="60" y="198"/>
                        </a:lnTo>
                        <a:lnTo>
                          <a:pt x="64" y="199"/>
                        </a:lnTo>
                        <a:lnTo>
                          <a:pt x="68" y="201"/>
                        </a:lnTo>
                        <a:lnTo>
                          <a:pt x="71" y="202"/>
                        </a:lnTo>
                        <a:lnTo>
                          <a:pt x="75" y="203"/>
                        </a:lnTo>
                        <a:lnTo>
                          <a:pt x="80" y="204"/>
                        </a:lnTo>
                        <a:lnTo>
                          <a:pt x="130" y="224"/>
                        </a:lnTo>
                        <a:lnTo>
                          <a:pt x="180" y="243"/>
                        </a:lnTo>
                        <a:lnTo>
                          <a:pt x="233" y="260"/>
                        </a:lnTo>
                        <a:lnTo>
                          <a:pt x="285" y="276"/>
                        </a:lnTo>
                        <a:lnTo>
                          <a:pt x="340" y="290"/>
                        </a:lnTo>
                        <a:lnTo>
                          <a:pt x="395" y="302"/>
                        </a:lnTo>
                        <a:lnTo>
                          <a:pt x="451" y="312"/>
                        </a:lnTo>
                        <a:lnTo>
                          <a:pt x="508" y="320"/>
                        </a:lnTo>
                        <a:lnTo>
                          <a:pt x="566" y="326"/>
                        </a:lnTo>
                        <a:lnTo>
                          <a:pt x="624" y="331"/>
                        </a:lnTo>
                        <a:lnTo>
                          <a:pt x="711" y="336"/>
                        </a:lnTo>
                        <a:lnTo>
                          <a:pt x="797" y="338"/>
                        </a:lnTo>
                        <a:lnTo>
                          <a:pt x="884" y="338"/>
                        </a:lnTo>
                        <a:lnTo>
                          <a:pt x="971" y="336"/>
                        </a:lnTo>
                        <a:lnTo>
                          <a:pt x="1056" y="330"/>
                        </a:lnTo>
                        <a:lnTo>
                          <a:pt x="1141" y="322"/>
                        </a:lnTo>
                        <a:lnTo>
                          <a:pt x="1225" y="310"/>
                        </a:lnTo>
                        <a:lnTo>
                          <a:pt x="1306" y="295"/>
                        </a:lnTo>
                        <a:lnTo>
                          <a:pt x="1385" y="276"/>
                        </a:lnTo>
                        <a:lnTo>
                          <a:pt x="1462" y="253"/>
                        </a:lnTo>
                        <a:lnTo>
                          <a:pt x="1465" y="252"/>
                        </a:lnTo>
                        <a:lnTo>
                          <a:pt x="1470" y="249"/>
                        </a:lnTo>
                        <a:lnTo>
                          <a:pt x="1475" y="248"/>
                        </a:lnTo>
                        <a:lnTo>
                          <a:pt x="1479" y="245"/>
                        </a:lnTo>
                        <a:lnTo>
                          <a:pt x="1484" y="243"/>
                        </a:lnTo>
                        <a:lnTo>
                          <a:pt x="1488" y="241"/>
                        </a:lnTo>
                        <a:lnTo>
                          <a:pt x="1493" y="239"/>
                        </a:lnTo>
                        <a:lnTo>
                          <a:pt x="1498" y="236"/>
                        </a:lnTo>
                        <a:lnTo>
                          <a:pt x="1502" y="233"/>
                        </a:lnTo>
                        <a:lnTo>
                          <a:pt x="1506" y="231"/>
                        </a:lnTo>
                        <a:lnTo>
                          <a:pt x="1387" y="264"/>
                        </a:lnTo>
                        <a:lnTo>
                          <a:pt x="1265" y="290"/>
                        </a:lnTo>
                        <a:lnTo>
                          <a:pt x="1141" y="309"/>
                        </a:lnTo>
                        <a:lnTo>
                          <a:pt x="1015" y="321"/>
                        </a:lnTo>
                        <a:lnTo>
                          <a:pt x="889" y="325"/>
                        </a:lnTo>
                        <a:lnTo>
                          <a:pt x="764" y="320"/>
                        </a:lnTo>
                        <a:lnTo>
                          <a:pt x="641" y="307"/>
                        </a:lnTo>
                        <a:lnTo>
                          <a:pt x="520" y="284"/>
                        </a:lnTo>
                        <a:lnTo>
                          <a:pt x="403" y="252"/>
                        </a:lnTo>
                        <a:lnTo>
                          <a:pt x="291" y="210"/>
                        </a:lnTo>
                        <a:lnTo>
                          <a:pt x="291" y="210"/>
                        </a:lnTo>
                        <a:close/>
                      </a:path>
                    </a:pathLst>
                  </a:custGeom>
                  <a:solidFill>
                    <a:srgbClr val="ffd9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4" name=""/>
                  <p:cNvSpPr/>
                  <p:nvPr/>
                </p:nvSpPr>
                <p:spPr>
                  <a:xfrm>
                    <a:off x="1533960" y="558108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297" h="206">
                        <a:moveTo>
                          <a:pt x="1296" y="39"/>
                        </a:moveTo>
                        <a:lnTo>
                          <a:pt x="1294" y="34"/>
                        </a:lnTo>
                        <a:lnTo>
                          <a:pt x="1292" y="29"/>
                        </a:lnTo>
                        <a:lnTo>
                          <a:pt x="1289" y="24"/>
                        </a:lnTo>
                        <a:lnTo>
                          <a:pt x="1285" y="19"/>
                        </a:lnTo>
                        <a:lnTo>
                          <a:pt x="1280" y="15"/>
                        </a:lnTo>
                        <a:lnTo>
                          <a:pt x="1275" y="11"/>
                        </a:lnTo>
                        <a:lnTo>
                          <a:pt x="1270" y="8"/>
                        </a:lnTo>
                        <a:lnTo>
                          <a:pt x="1263" y="4"/>
                        </a:lnTo>
                        <a:lnTo>
                          <a:pt x="1256" y="2"/>
                        </a:lnTo>
                        <a:lnTo>
                          <a:pt x="1249" y="0"/>
                        </a:lnTo>
                        <a:lnTo>
                          <a:pt x="1234" y="1"/>
                        </a:lnTo>
                        <a:lnTo>
                          <a:pt x="1218" y="3"/>
                        </a:lnTo>
                        <a:lnTo>
                          <a:pt x="1203" y="5"/>
                        </a:lnTo>
                        <a:lnTo>
                          <a:pt x="1188" y="7"/>
                        </a:lnTo>
                        <a:lnTo>
                          <a:pt x="1173" y="10"/>
                        </a:lnTo>
                        <a:lnTo>
                          <a:pt x="1158" y="13"/>
                        </a:lnTo>
                        <a:lnTo>
                          <a:pt x="1144" y="16"/>
                        </a:lnTo>
                        <a:lnTo>
                          <a:pt x="1129" y="19"/>
                        </a:lnTo>
                        <a:lnTo>
                          <a:pt x="1115" y="22"/>
                        </a:lnTo>
                        <a:lnTo>
                          <a:pt x="1101" y="25"/>
                        </a:lnTo>
                        <a:lnTo>
                          <a:pt x="1099" y="27"/>
                        </a:lnTo>
                        <a:lnTo>
                          <a:pt x="1096" y="27"/>
                        </a:lnTo>
                        <a:lnTo>
                          <a:pt x="1094" y="27"/>
                        </a:lnTo>
                        <a:lnTo>
                          <a:pt x="1091" y="27"/>
                        </a:lnTo>
                        <a:lnTo>
                          <a:pt x="1089" y="27"/>
                        </a:lnTo>
                        <a:lnTo>
                          <a:pt x="1086" y="28"/>
                        </a:lnTo>
                        <a:lnTo>
                          <a:pt x="1082" y="28"/>
                        </a:lnTo>
                        <a:lnTo>
                          <a:pt x="1080" y="29"/>
                        </a:lnTo>
                        <a:lnTo>
                          <a:pt x="1077" y="29"/>
                        </a:lnTo>
                        <a:lnTo>
                          <a:pt x="1075" y="31"/>
                        </a:lnTo>
                        <a:lnTo>
                          <a:pt x="1073" y="32"/>
                        </a:lnTo>
                        <a:lnTo>
                          <a:pt x="1073" y="36"/>
                        </a:lnTo>
                        <a:lnTo>
                          <a:pt x="1072" y="41"/>
                        </a:lnTo>
                        <a:lnTo>
                          <a:pt x="1069" y="46"/>
                        </a:lnTo>
                        <a:lnTo>
                          <a:pt x="1066" y="51"/>
                        </a:lnTo>
                        <a:lnTo>
                          <a:pt x="1063" y="56"/>
                        </a:lnTo>
                        <a:lnTo>
                          <a:pt x="1059" y="61"/>
                        </a:lnTo>
                        <a:lnTo>
                          <a:pt x="1054" y="65"/>
                        </a:lnTo>
                        <a:lnTo>
                          <a:pt x="1049" y="69"/>
                        </a:lnTo>
                        <a:lnTo>
                          <a:pt x="1044" y="73"/>
                        </a:lnTo>
                        <a:lnTo>
                          <a:pt x="1040" y="77"/>
                        </a:lnTo>
                        <a:lnTo>
                          <a:pt x="1014" y="88"/>
                        </a:lnTo>
                        <a:lnTo>
                          <a:pt x="987" y="97"/>
                        </a:lnTo>
                        <a:lnTo>
                          <a:pt x="961" y="106"/>
                        </a:lnTo>
                        <a:lnTo>
                          <a:pt x="934" y="114"/>
                        </a:lnTo>
                        <a:lnTo>
                          <a:pt x="905" y="121"/>
                        </a:lnTo>
                        <a:lnTo>
                          <a:pt x="877" y="126"/>
                        </a:lnTo>
                        <a:lnTo>
                          <a:pt x="848" y="131"/>
                        </a:lnTo>
                        <a:lnTo>
                          <a:pt x="819" y="136"/>
                        </a:lnTo>
                        <a:lnTo>
                          <a:pt x="790" y="140"/>
                        </a:lnTo>
                        <a:lnTo>
                          <a:pt x="760" y="143"/>
                        </a:lnTo>
                        <a:lnTo>
                          <a:pt x="727" y="146"/>
                        </a:lnTo>
                        <a:lnTo>
                          <a:pt x="695" y="147"/>
                        </a:lnTo>
                        <a:lnTo>
                          <a:pt x="662" y="149"/>
                        </a:lnTo>
                        <a:lnTo>
                          <a:pt x="629" y="149"/>
                        </a:lnTo>
                        <a:lnTo>
                          <a:pt x="596" y="148"/>
                        </a:lnTo>
                        <a:lnTo>
                          <a:pt x="563" y="147"/>
                        </a:lnTo>
                        <a:lnTo>
                          <a:pt x="531" y="146"/>
                        </a:lnTo>
                        <a:lnTo>
                          <a:pt x="498" y="145"/>
                        </a:lnTo>
                        <a:lnTo>
                          <a:pt x="466" y="144"/>
                        </a:lnTo>
                        <a:lnTo>
                          <a:pt x="434" y="142"/>
                        </a:lnTo>
                        <a:lnTo>
                          <a:pt x="397" y="138"/>
                        </a:lnTo>
                        <a:lnTo>
                          <a:pt x="358" y="134"/>
                        </a:lnTo>
                        <a:lnTo>
                          <a:pt x="321" y="130"/>
                        </a:lnTo>
                        <a:lnTo>
                          <a:pt x="283" y="125"/>
                        </a:lnTo>
                        <a:lnTo>
                          <a:pt x="246" y="120"/>
                        </a:lnTo>
                        <a:lnTo>
                          <a:pt x="208" y="113"/>
                        </a:lnTo>
                        <a:lnTo>
                          <a:pt x="172" y="107"/>
                        </a:lnTo>
                        <a:lnTo>
                          <a:pt x="136" y="98"/>
                        </a:lnTo>
                        <a:lnTo>
                          <a:pt x="101" y="88"/>
                        </a:lnTo>
                        <a:lnTo>
                          <a:pt x="67" y="77"/>
                        </a:lnTo>
                        <a:lnTo>
                          <a:pt x="59" y="74"/>
                        </a:lnTo>
                        <a:lnTo>
                          <a:pt x="52" y="72"/>
                        </a:lnTo>
                        <a:lnTo>
                          <a:pt x="45" y="69"/>
                        </a:lnTo>
                        <a:lnTo>
                          <a:pt x="38" y="67"/>
                        </a:lnTo>
                        <a:lnTo>
                          <a:pt x="31" y="64"/>
                        </a:lnTo>
                        <a:lnTo>
                          <a:pt x="25" y="61"/>
                        </a:lnTo>
                        <a:lnTo>
                          <a:pt x="18" y="58"/>
                        </a:lnTo>
                        <a:lnTo>
                          <a:pt x="12" y="55"/>
                        </a:lnTo>
                        <a:lnTo>
                          <a:pt x="5" y="52"/>
                        </a:lnTo>
                        <a:lnTo>
                          <a:pt x="0" y="48"/>
                        </a:lnTo>
                        <a:lnTo>
                          <a:pt x="0" y="53"/>
                        </a:lnTo>
                        <a:lnTo>
                          <a:pt x="1" y="58"/>
                        </a:lnTo>
                        <a:lnTo>
                          <a:pt x="2" y="63"/>
                        </a:lnTo>
                        <a:lnTo>
                          <a:pt x="5" y="69"/>
                        </a:lnTo>
                        <a:lnTo>
                          <a:pt x="7" y="73"/>
                        </a:lnTo>
                        <a:lnTo>
                          <a:pt x="10" y="78"/>
                        </a:lnTo>
                        <a:lnTo>
                          <a:pt x="13" y="82"/>
                        </a:lnTo>
                        <a:lnTo>
                          <a:pt x="18" y="85"/>
                        </a:lnTo>
                        <a:lnTo>
                          <a:pt x="21" y="88"/>
                        </a:lnTo>
                        <a:lnTo>
                          <a:pt x="27" y="91"/>
                        </a:lnTo>
                        <a:lnTo>
                          <a:pt x="139" y="133"/>
                        </a:lnTo>
                        <a:lnTo>
                          <a:pt x="256" y="165"/>
                        </a:lnTo>
                        <a:lnTo>
                          <a:pt x="377" y="188"/>
                        </a:lnTo>
                        <a:lnTo>
                          <a:pt x="500" y="201"/>
                        </a:lnTo>
                        <a:lnTo>
                          <a:pt x="625" y="206"/>
                        </a:lnTo>
                        <a:lnTo>
                          <a:pt x="751" y="202"/>
                        </a:lnTo>
                        <a:lnTo>
                          <a:pt x="877" y="190"/>
                        </a:lnTo>
                        <a:lnTo>
                          <a:pt x="1001" y="171"/>
                        </a:lnTo>
                        <a:lnTo>
                          <a:pt x="1123" y="145"/>
                        </a:lnTo>
                        <a:lnTo>
                          <a:pt x="1242" y="112"/>
                        </a:lnTo>
                        <a:lnTo>
                          <a:pt x="1252" y="106"/>
                        </a:lnTo>
                        <a:lnTo>
                          <a:pt x="1261" y="100"/>
                        </a:lnTo>
                        <a:lnTo>
                          <a:pt x="1269" y="93"/>
                        </a:lnTo>
                        <a:lnTo>
                          <a:pt x="1277" y="86"/>
                        </a:lnTo>
                        <a:lnTo>
                          <a:pt x="1283" y="79"/>
                        </a:lnTo>
                        <a:lnTo>
                          <a:pt x="1289" y="71"/>
                        </a:lnTo>
                        <a:lnTo>
                          <a:pt x="1293" y="64"/>
                        </a:lnTo>
                        <a:lnTo>
                          <a:pt x="1296" y="56"/>
                        </a:lnTo>
                        <a:lnTo>
                          <a:pt x="1297" y="48"/>
                        </a:lnTo>
                        <a:lnTo>
                          <a:pt x="1296" y="39"/>
                        </a:lnTo>
                        <a:lnTo>
                          <a:pt x="1296" y="39"/>
                        </a:lnTo>
                        <a:close/>
                      </a:path>
                    </a:pathLst>
                  </a:custGeom>
                  <a:solidFill>
                    <a:srgbClr val="ffb83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1566720" y="5289840"/>
                    <a:ext cx="425880" cy="87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2" h="164">
                        <a:moveTo>
                          <a:pt x="785" y="41"/>
                        </a:moveTo>
                        <a:lnTo>
                          <a:pt x="787" y="43"/>
                        </a:lnTo>
                        <a:lnTo>
                          <a:pt x="788" y="43"/>
                        </a:lnTo>
                        <a:lnTo>
                          <a:pt x="789" y="44"/>
                        </a:lnTo>
                        <a:lnTo>
                          <a:pt x="791" y="44"/>
                        </a:lnTo>
                        <a:lnTo>
                          <a:pt x="792" y="44"/>
                        </a:lnTo>
                        <a:lnTo>
                          <a:pt x="793" y="44"/>
                        </a:lnTo>
                        <a:lnTo>
                          <a:pt x="795" y="44"/>
                        </a:lnTo>
                        <a:lnTo>
                          <a:pt x="796" y="44"/>
                        </a:lnTo>
                        <a:lnTo>
                          <a:pt x="798" y="44"/>
                        </a:lnTo>
                        <a:lnTo>
                          <a:pt x="800" y="44"/>
                        </a:lnTo>
                        <a:lnTo>
                          <a:pt x="809" y="46"/>
                        </a:lnTo>
                        <a:lnTo>
                          <a:pt x="818" y="49"/>
                        </a:lnTo>
                        <a:lnTo>
                          <a:pt x="827" y="52"/>
                        </a:lnTo>
                        <a:lnTo>
                          <a:pt x="835" y="57"/>
                        </a:lnTo>
                        <a:lnTo>
                          <a:pt x="843" y="61"/>
                        </a:lnTo>
                        <a:lnTo>
                          <a:pt x="850" y="66"/>
                        </a:lnTo>
                        <a:lnTo>
                          <a:pt x="857" y="71"/>
                        </a:lnTo>
                        <a:lnTo>
                          <a:pt x="863" y="77"/>
                        </a:lnTo>
                        <a:lnTo>
                          <a:pt x="867" y="82"/>
                        </a:lnTo>
                        <a:lnTo>
                          <a:pt x="872" y="88"/>
                        </a:lnTo>
                        <a:lnTo>
                          <a:pt x="872" y="93"/>
                        </a:lnTo>
                        <a:lnTo>
                          <a:pt x="872" y="97"/>
                        </a:lnTo>
                        <a:lnTo>
                          <a:pt x="872" y="102"/>
                        </a:lnTo>
                        <a:lnTo>
                          <a:pt x="871" y="106"/>
                        </a:lnTo>
                        <a:lnTo>
                          <a:pt x="870" y="110"/>
                        </a:lnTo>
                        <a:lnTo>
                          <a:pt x="869" y="114"/>
                        </a:lnTo>
                        <a:lnTo>
                          <a:pt x="867" y="117"/>
                        </a:lnTo>
                        <a:lnTo>
                          <a:pt x="864" y="121"/>
                        </a:lnTo>
                        <a:lnTo>
                          <a:pt x="861" y="124"/>
                        </a:lnTo>
                        <a:lnTo>
                          <a:pt x="857" y="128"/>
                        </a:lnTo>
                        <a:lnTo>
                          <a:pt x="849" y="132"/>
                        </a:lnTo>
                        <a:lnTo>
                          <a:pt x="841" y="136"/>
                        </a:lnTo>
                        <a:lnTo>
                          <a:pt x="833" y="140"/>
                        </a:lnTo>
                        <a:lnTo>
                          <a:pt x="824" y="145"/>
                        </a:lnTo>
                        <a:lnTo>
                          <a:pt x="816" y="149"/>
                        </a:lnTo>
                        <a:lnTo>
                          <a:pt x="808" y="153"/>
                        </a:lnTo>
                        <a:lnTo>
                          <a:pt x="798" y="156"/>
                        </a:lnTo>
                        <a:lnTo>
                          <a:pt x="790" y="159"/>
                        </a:lnTo>
                        <a:lnTo>
                          <a:pt x="781" y="162"/>
                        </a:lnTo>
                        <a:lnTo>
                          <a:pt x="772" y="164"/>
                        </a:lnTo>
                        <a:lnTo>
                          <a:pt x="771" y="161"/>
                        </a:lnTo>
                        <a:lnTo>
                          <a:pt x="769" y="158"/>
                        </a:lnTo>
                        <a:lnTo>
                          <a:pt x="768" y="155"/>
                        </a:lnTo>
                        <a:lnTo>
                          <a:pt x="765" y="153"/>
                        </a:lnTo>
                        <a:lnTo>
                          <a:pt x="762" y="150"/>
                        </a:lnTo>
                        <a:lnTo>
                          <a:pt x="760" y="148"/>
                        </a:lnTo>
                        <a:lnTo>
                          <a:pt x="757" y="146"/>
                        </a:lnTo>
                        <a:lnTo>
                          <a:pt x="753" y="144"/>
                        </a:lnTo>
                        <a:lnTo>
                          <a:pt x="750" y="141"/>
                        </a:lnTo>
                        <a:lnTo>
                          <a:pt x="747" y="140"/>
                        </a:lnTo>
                        <a:lnTo>
                          <a:pt x="744" y="140"/>
                        </a:lnTo>
                        <a:lnTo>
                          <a:pt x="741" y="140"/>
                        </a:lnTo>
                        <a:lnTo>
                          <a:pt x="739" y="138"/>
                        </a:lnTo>
                        <a:lnTo>
                          <a:pt x="735" y="137"/>
                        </a:lnTo>
                        <a:lnTo>
                          <a:pt x="732" y="136"/>
                        </a:lnTo>
                        <a:lnTo>
                          <a:pt x="730" y="134"/>
                        </a:lnTo>
                        <a:lnTo>
                          <a:pt x="727" y="133"/>
                        </a:lnTo>
                        <a:lnTo>
                          <a:pt x="724" y="132"/>
                        </a:lnTo>
                        <a:lnTo>
                          <a:pt x="721" y="131"/>
                        </a:lnTo>
                        <a:lnTo>
                          <a:pt x="718" y="131"/>
                        </a:lnTo>
                        <a:lnTo>
                          <a:pt x="673" y="120"/>
                        </a:lnTo>
                        <a:lnTo>
                          <a:pt x="628" y="112"/>
                        </a:lnTo>
                        <a:lnTo>
                          <a:pt x="581" y="107"/>
                        </a:lnTo>
                        <a:lnTo>
                          <a:pt x="534" y="104"/>
                        </a:lnTo>
                        <a:lnTo>
                          <a:pt x="485" y="103"/>
                        </a:lnTo>
                        <a:lnTo>
                          <a:pt x="437" y="103"/>
                        </a:lnTo>
                        <a:lnTo>
                          <a:pt x="388" y="103"/>
                        </a:lnTo>
                        <a:lnTo>
                          <a:pt x="339" y="104"/>
                        </a:lnTo>
                        <a:lnTo>
                          <a:pt x="291" y="106"/>
                        </a:lnTo>
                        <a:lnTo>
                          <a:pt x="242" y="106"/>
                        </a:lnTo>
                        <a:lnTo>
                          <a:pt x="224" y="108"/>
                        </a:lnTo>
                        <a:lnTo>
                          <a:pt x="205" y="110"/>
                        </a:lnTo>
                        <a:lnTo>
                          <a:pt x="188" y="112"/>
                        </a:lnTo>
                        <a:lnTo>
                          <a:pt x="169" y="114"/>
                        </a:lnTo>
                        <a:lnTo>
                          <a:pt x="152" y="116"/>
                        </a:lnTo>
                        <a:lnTo>
                          <a:pt x="134" y="119"/>
                        </a:lnTo>
                        <a:lnTo>
                          <a:pt x="117" y="123"/>
                        </a:lnTo>
                        <a:lnTo>
                          <a:pt x="101" y="128"/>
                        </a:lnTo>
                        <a:lnTo>
                          <a:pt x="86" y="135"/>
                        </a:lnTo>
                        <a:lnTo>
                          <a:pt x="71" y="144"/>
                        </a:lnTo>
                        <a:lnTo>
                          <a:pt x="71" y="148"/>
                        </a:lnTo>
                        <a:lnTo>
                          <a:pt x="63" y="142"/>
                        </a:lnTo>
                        <a:lnTo>
                          <a:pt x="53" y="138"/>
                        </a:lnTo>
                        <a:lnTo>
                          <a:pt x="43" y="133"/>
                        </a:lnTo>
                        <a:lnTo>
                          <a:pt x="33" y="128"/>
                        </a:lnTo>
                        <a:lnTo>
                          <a:pt x="23" y="123"/>
                        </a:lnTo>
                        <a:lnTo>
                          <a:pt x="14" y="117"/>
                        </a:lnTo>
                        <a:lnTo>
                          <a:pt x="7" y="111"/>
                        </a:lnTo>
                        <a:lnTo>
                          <a:pt x="2" y="104"/>
                        </a:lnTo>
                        <a:lnTo>
                          <a:pt x="0" y="96"/>
                        </a:lnTo>
                        <a:lnTo>
                          <a:pt x="1" y="88"/>
                        </a:lnTo>
                        <a:lnTo>
                          <a:pt x="9" y="79"/>
                        </a:lnTo>
                        <a:lnTo>
                          <a:pt x="17" y="72"/>
                        </a:lnTo>
                        <a:lnTo>
                          <a:pt x="27" y="65"/>
                        </a:lnTo>
                        <a:lnTo>
                          <a:pt x="38" y="60"/>
                        </a:lnTo>
                        <a:lnTo>
                          <a:pt x="50" y="55"/>
                        </a:lnTo>
                        <a:lnTo>
                          <a:pt x="63" y="51"/>
                        </a:lnTo>
                        <a:lnTo>
                          <a:pt x="75" y="46"/>
                        </a:lnTo>
                        <a:lnTo>
                          <a:pt x="87" y="42"/>
                        </a:lnTo>
                        <a:lnTo>
                          <a:pt x="99" y="37"/>
                        </a:lnTo>
                        <a:lnTo>
                          <a:pt x="110" y="32"/>
                        </a:lnTo>
                        <a:lnTo>
                          <a:pt x="123" y="29"/>
                        </a:lnTo>
                        <a:lnTo>
                          <a:pt x="134" y="26"/>
                        </a:lnTo>
                        <a:lnTo>
                          <a:pt x="146" y="24"/>
                        </a:lnTo>
                        <a:lnTo>
                          <a:pt x="159" y="22"/>
                        </a:lnTo>
                        <a:lnTo>
                          <a:pt x="172" y="20"/>
                        </a:lnTo>
                        <a:lnTo>
                          <a:pt x="184" y="18"/>
                        </a:lnTo>
                        <a:lnTo>
                          <a:pt x="197" y="17"/>
                        </a:lnTo>
                        <a:lnTo>
                          <a:pt x="210" y="15"/>
                        </a:lnTo>
                        <a:lnTo>
                          <a:pt x="223" y="13"/>
                        </a:lnTo>
                        <a:lnTo>
                          <a:pt x="236" y="12"/>
                        </a:lnTo>
                        <a:lnTo>
                          <a:pt x="234" y="18"/>
                        </a:lnTo>
                        <a:lnTo>
                          <a:pt x="230" y="25"/>
                        </a:lnTo>
                        <a:lnTo>
                          <a:pt x="226" y="32"/>
                        </a:lnTo>
                        <a:lnTo>
                          <a:pt x="222" y="39"/>
                        </a:lnTo>
                        <a:lnTo>
                          <a:pt x="218" y="46"/>
                        </a:lnTo>
                        <a:lnTo>
                          <a:pt x="216" y="53"/>
                        </a:lnTo>
                        <a:lnTo>
                          <a:pt x="215" y="61"/>
                        </a:lnTo>
                        <a:lnTo>
                          <a:pt x="218" y="68"/>
                        </a:lnTo>
                        <a:lnTo>
                          <a:pt x="223" y="74"/>
                        </a:lnTo>
                        <a:lnTo>
                          <a:pt x="231" y="81"/>
                        </a:lnTo>
                        <a:lnTo>
                          <a:pt x="233" y="82"/>
                        </a:lnTo>
                        <a:lnTo>
                          <a:pt x="235" y="83"/>
                        </a:lnTo>
                        <a:lnTo>
                          <a:pt x="237" y="85"/>
                        </a:lnTo>
                        <a:lnTo>
                          <a:pt x="238" y="86"/>
                        </a:lnTo>
                        <a:lnTo>
                          <a:pt x="241" y="87"/>
                        </a:lnTo>
                        <a:lnTo>
                          <a:pt x="242" y="87"/>
                        </a:lnTo>
                        <a:lnTo>
                          <a:pt x="244" y="89"/>
                        </a:lnTo>
                        <a:lnTo>
                          <a:pt x="247" y="89"/>
                        </a:lnTo>
                        <a:lnTo>
                          <a:pt x="249" y="89"/>
                        </a:lnTo>
                        <a:lnTo>
                          <a:pt x="252" y="88"/>
                        </a:lnTo>
                        <a:lnTo>
                          <a:pt x="253" y="88"/>
                        </a:lnTo>
                        <a:lnTo>
                          <a:pt x="254" y="87"/>
                        </a:lnTo>
                        <a:lnTo>
                          <a:pt x="254" y="87"/>
                        </a:lnTo>
                        <a:lnTo>
                          <a:pt x="254" y="86"/>
                        </a:lnTo>
                        <a:lnTo>
                          <a:pt x="254" y="86"/>
                        </a:lnTo>
                        <a:lnTo>
                          <a:pt x="254" y="85"/>
                        </a:lnTo>
                        <a:lnTo>
                          <a:pt x="254" y="84"/>
                        </a:lnTo>
                        <a:lnTo>
                          <a:pt x="254" y="83"/>
                        </a:lnTo>
                        <a:lnTo>
                          <a:pt x="254" y="83"/>
                        </a:lnTo>
                        <a:lnTo>
                          <a:pt x="254" y="82"/>
                        </a:lnTo>
                        <a:lnTo>
                          <a:pt x="251" y="81"/>
                        </a:lnTo>
                        <a:lnTo>
                          <a:pt x="248" y="79"/>
                        </a:lnTo>
                        <a:lnTo>
                          <a:pt x="246" y="78"/>
                        </a:lnTo>
                        <a:lnTo>
                          <a:pt x="245" y="76"/>
                        </a:lnTo>
                        <a:lnTo>
                          <a:pt x="245" y="73"/>
                        </a:lnTo>
                        <a:lnTo>
                          <a:pt x="245" y="70"/>
                        </a:lnTo>
                        <a:lnTo>
                          <a:pt x="246" y="68"/>
                        </a:lnTo>
                        <a:lnTo>
                          <a:pt x="247" y="65"/>
                        </a:lnTo>
                        <a:lnTo>
                          <a:pt x="248" y="62"/>
                        </a:lnTo>
                        <a:lnTo>
                          <a:pt x="248" y="61"/>
                        </a:lnTo>
                        <a:lnTo>
                          <a:pt x="253" y="55"/>
                        </a:lnTo>
                        <a:lnTo>
                          <a:pt x="258" y="48"/>
                        </a:lnTo>
                        <a:lnTo>
                          <a:pt x="264" y="43"/>
                        </a:lnTo>
                        <a:lnTo>
                          <a:pt x="271" y="37"/>
                        </a:lnTo>
                        <a:lnTo>
                          <a:pt x="279" y="31"/>
                        </a:lnTo>
                        <a:lnTo>
                          <a:pt x="287" y="26"/>
                        </a:lnTo>
                        <a:lnTo>
                          <a:pt x="294" y="21"/>
                        </a:lnTo>
                        <a:lnTo>
                          <a:pt x="303" y="15"/>
                        </a:lnTo>
                        <a:lnTo>
                          <a:pt x="310" y="10"/>
                        </a:lnTo>
                        <a:lnTo>
                          <a:pt x="317" y="5"/>
                        </a:lnTo>
                        <a:lnTo>
                          <a:pt x="366" y="1"/>
                        </a:lnTo>
                        <a:lnTo>
                          <a:pt x="414" y="0"/>
                        </a:lnTo>
                        <a:lnTo>
                          <a:pt x="462" y="1"/>
                        </a:lnTo>
                        <a:lnTo>
                          <a:pt x="509" y="3"/>
                        </a:lnTo>
                        <a:lnTo>
                          <a:pt x="557" y="7"/>
                        </a:lnTo>
                        <a:lnTo>
                          <a:pt x="604" y="12"/>
                        </a:lnTo>
                        <a:lnTo>
                          <a:pt x="650" y="18"/>
                        </a:lnTo>
                        <a:lnTo>
                          <a:pt x="696" y="25"/>
                        </a:lnTo>
                        <a:lnTo>
                          <a:pt x="741" y="33"/>
                        </a:lnTo>
                        <a:lnTo>
                          <a:pt x="785" y="41"/>
                        </a:lnTo>
                        <a:lnTo>
                          <a:pt x="785" y="41"/>
                        </a:lnTo>
                        <a:close/>
                      </a:path>
                    </a:pathLst>
                  </a:custGeom>
                  <a:solidFill>
                    <a:srgbClr val="ffd9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680" bIns="40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6" name=""/>
                  <p:cNvSpPr/>
                  <p:nvPr/>
                </p:nvSpPr>
                <p:spPr>
                  <a:xfrm>
                    <a:off x="1607760" y="5350680"/>
                    <a:ext cx="328680" cy="45360"/>
                  </a:xfrm>
                  <a:custGeom>
                    <a:avLst/>
                    <a:gdLst/>
                    <a:ahLst/>
                    <a:rect l="l" t="t" r="r" b="b"/>
                    <a:pathLst>
                      <a:path w="673" h="85">
                        <a:moveTo>
                          <a:pt x="650" y="36"/>
                        </a:moveTo>
                        <a:lnTo>
                          <a:pt x="655" y="36"/>
                        </a:lnTo>
                        <a:lnTo>
                          <a:pt x="658" y="37"/>
                        </a:lnTo>
                        <a:lnTo>
                          <a:pt x="661" y="38"/>
                        </a:lnTo>
                        <a:lnTo>
                          <a:pt x="664" y="40"/>
                        </a:lnTo>
                        <a:lnTo>
                          <a:pt x="665" y="42"/>
                        </a:lnTo>
                        <a:lnTo>
                          <a:pt x="667" y="45"/>
                        </a:lnTo>
                        <a:lnTo>
                          <a:pt x="668" y="47"/>
                        </a:lnTo>
                        <a:lnTo>
                          <a:pt x="670" y="50"/>
                        </a:lnTo>
                        <a:lnTo>
                          <a:pt x="671" y="52"/>
                        </a:lnTo>
                        <a:lnTo>
                          <a:pt x="673" y="55"/>
                        </a:lnTo>
                        <a:lnTo>
                          <a:pt x="641" y="62"/>
                        </a:lnTo>
                        <a:lnTo>
                          <a:pt x="609" y="68"/>
                        </a:lnTo>
                        <a:lnTo>
                          <a:pt x="576" y="73"/>
                        </a:lnTo>
                        <a:lnTo>
                          <a:pt x="543" y="77"/>
                        </a:lnTo>
                        <a:lnTo>
                          <a:pt x="510" y="80"/>
                        </a:lnTo>
                        <a:lnTo>
                          <a:pt x="475" y="82"/>
                        </a:lnTo>
                        <a:lnTo>
                          <a:pt x="441" y="84"/>
                        </a:lnTo>
                        <a:lnTo>
                          <a:pt x="407" y="85"/>
                        </a:lnTo>
                        <a:lnTo>
                          <a:pt x="372" y="85"/>
                        </a:lnTo>
                        <a:lnTo>
                          <a:pt x="338" y="85"/>
                        </a:lnTo>
                        <a:lnTo>
                          <a:pt x="303" y="84"/>
                        </a:lnTo>
                        <a:lnTo>
                          <a:pt x="269" y="82"/>
                        </a:lnTo>
                        <a:lnTo>
                          <a:pt x="233" y="80"/>
                        </a:lnTo>
                        <a:lnTo>
                          <a:pt x="199" y="77"/>
                        </a:lnTo>
                        <a:lnTo>
                          <a:pt x="164" y="74"/>
                        </a:lnTo>
                        <a:lnTo>
                          <a:pt x="130" y="69"/>
                        </a:lnTo>
                        <a:lnTo>
                          <a:pt x="96" y="63"/>
                        </a:lnTo>
                        <a:lnTo>
                          <a:pt x="63" y="56"/>
                        </a:lnTo>
                        <a:lnTo>
                          <a:pt x="31" y="48"/>
                        </a:lnTo>
                        <a:lnTo>
                          <a:pt x="0" y="38"/>
                        </a:lnTo>
                        <a:lnTo>
                          <a:pt x="0" y="36"/>
                        </a:lnTo>
                        <a:lnTo>
                          <a:pt x="1" y="35"/>
                        </a:lnTo>
                        <a:lnTo>
                          <a:pt x="2" y="34"/>
                        </a:lnTo>
                        <a:lnTo>
                          <a:pt x="3" y="32"/>
                        </a:lnTo>
                        <a:lnTo>
                          <a:pt x="5" y="31"/>
                        </a:lnTo>
                        <a:lnTo>
                          <a:pt x="6" y="30"/>
                        </a:lnTo>
                        <a:lnTo>
                          <a:pt x="9" y="28"/>
                        </a:lnTo>
                        <a:lnTo>
                          <a:pt x="10" y="27"/>
                        </a:lnTo>
                        <a:lnTo>
                          <a:pt x="12" y="27"/>
                        </a:lnTo>
                        <a:lnTo>
                          <a:pt x="14" y="26"/>
                        </a:lnTo>
                        <a:lnTo>
                          <a:pt x="55" y="16"/>
                        </a:lnTo>
                        <a:lnTo>
                          <a:pt x="97" y="9"/>
                        </a:lnTo>
                        <a:lnTo>
                          <a:pt x="140" y="5"/>
                        </a:lnTo>
                        <a:lnTo>
                          <a:pt x="183" y="2"/>
                        </a:lnTo>
                        <a:lnTo>
                          <a:pt x="227" y="0"/>
                        </a:lnTo>
                        <a:lnTo>
                          <a:pt x="271" y="0"/>
                        </a:lnTo>
                        <a:lnTo>
                          <a:pt x="315" y="0"/>
                        </a:lnTo>
                        <a:lnTo>
                          <a:pt x="359" y="0"/>
                        </a:lnTo>
                        <a:lnTo>
                          <a:pt x="402" y="1"/>
                        </a:lnTo>
                        <a:lnTo>
                          <a:pt x="445" y="0"/>
                        </a:lnTo>
                        <a:lnTo>
                          <a:pt x="466" y="1"/>
                        </a:lnTo>
                        <a:lnTo>
                          <a:pt x="487" y="3"/>
                        </a:lnTo>
                        <a:lnTo>
                          <a:pt x="509" y="5"/>
                        </a:lnTo>
                        <a:lnTo>
                          <a:pt x="530" y="7"/>
                        </a:lnTo>
                        <a:lnTo>
                          <a:pt x="551" y="10"/>
                        </a:lnTo>
                        <a:lnTo>
                          <a:pt x="572" y="14"/>
                        </a:lnTo>
                        <a:lnTo>
                          <a:pt x="592" y="18"/>
                        </a:lnTo>
                        <a:lnTo>
                          <a:pt x="612" y="23"/>
                        </a:lnTo>
                        <a:lnTo>
                          <a:pt x="632" y="29"/>
                        </a:lnTo>
                        <a:lnTo>
                          <a:pt x="651" y="36"/>
                        </a:lnTo>
                        <a:lnTo>
                          <a:pt x="651" y="36"/>
                        </a:lnTo>
                        <a:lnTo>
                          <a:pt x="650" y="36"/>
                        </a:lnTo>
                        <a:close/>
                      </a:path>
                    </a:pathLst>
                  </a:custGeom>
                  <a:solidFill>
                    <a:srgbClr val="7a312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" bIns="-1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7" name=""/>
                  <p:cNvSpPr/>
                  <p:nvPr/>
                </p:nvSpPr>
                <p:spPr>
                  <a:xfrm>
                    <a:off x="1791000" y="5353200"/>
                    <a:ext cx="114480" cy="28080"/>
                  </a:xfrm>
                  <a:custGeom>
                    <a:avLst/>
                    <a:gdLst/>
                    <a:ahLst/>
                    <a:rect l="l" t="t" r="r" b="b"/>
                    <a:pathLst>
                      <a:path w="235" h="53">
                        <a:moveTo>
                          <a:pt x="234" y="37"/>
                        </a:moveTo>
                        <a:lnTo>
                          <a:pt x="234" y="39"/>
                        </a:lnTo>
                        <a:lnTo>
                          <a:pt x="235" y="42"/>
                        </a:lnTo>
                        <a:lnTo>
                          <a:pt x="235" y="43"/>
                        </a:lnTo>
                        <a:lnTo>
                          <a:pt x="235" y="45"/>
                        </a:lnTo>
                        <a:lnTo>
                          <a:pt x="234" y="47"/>
                        </a:lnTo>
                        <a:lnTo>
                          <a:pt x="234" y="48"/>
                        </a:lnTo>
                        <a:lnTo>
                          <a:pt x="233" y="50"/>
                        </a:lnTo>
                        <a:lnTo>
                          <a:pt x="231" y="51"/>
                        </a:lnTo>
                        <a:lnTo>
                          <a:pt x="229" y="52"/>
                        </a:lnTo>
                        <a:lnTo>
                          <a:pt x="226" y="53"/>
                        </a:lnTo>
                        <a:lnTo>
                          <a:pt x="224" y="52"/>
                        </a:lnTo>
                        <a:lnTo>
                          <a:pt x="223" y="52"/>
                        </a:lnTo>
                        <a:lnTo>
                          <a:pt x="221" y="52"/>
                        </a:lnTo>
                        <a:lnTo>
                          <a:pt x="220" y="52"/>
                        </a:lnTo>
                        <a:lnTo>
                          <a:pt x="218" y="52"/>
                        </a:lnTo>
                        <a:lnTo>
                          <a:pt x="217" y="52"/>
                        </a:lnTo>
                        <a:lnTo>
                          <a:pt x="215" y="52"/>
                        </a:lnTo>
                        <a:lnTo>
                          <a:pt x="214" y="52"/>
                        </a:lnTo>
                        <a:lnTo>
                          <a:pt x="213" y="52"/>
                        </a:lnTo>
                        <a:lnTo>
                          <a:pt x="212" y="51"/>
                        </a:lnTo>
                        <a:lnTo>
                          <a:pt x="212" y="50"/>
                        </a:lnTo>
                        <a:lnTo>
                          <a:pt x="213" y="48"/>
                        </a:lnTo>
                        <a:lnTo>
                          <a:pt x="214" y="48"/>
                        </a:lnTo>
                        <a:lnTo>
                          <a:pt x="215" y="47"/>
                        </a:lnTo>
                        <a:lnTo>
                          <a:pt x="217" y="47"/>
                        </a:lnTo>
                        <a:lnTo>
                          <a:pt x="219" y="47"/>
                        </a:lnTo>
                        <a:lnTo>
                          <a:pt x="220" y="46"/>
                        </a:lnTo>
                        <a:lnTo>
                          <a:pt x="222" y="46"/>
                        </a:lnTo>
                        <a:lnTo>
                          <a:pt x="223" y="45"/>
                        </a:lnTo>
                        <a:lnTo>
                          <a:pt x="224" y="43"/>
                        </a:lnTo>
                        <a:lnTo>
                          <a:pt x="218" y="39"/>
                        </a:lnTo>
                        <a:lnTo>
                          <a:pt x="211" y="36"/>
                        </a:lnTo>
                        <a:lnTo>
                          <a:pt x="204" y="32"/>
                        </a:lnTo>
                        <a:lnTo>
                          <a:pt x="197" y="30"/>
                        </a:lnTo>
                        <a:lnTo>
                          <a:pt x="190" y="28"/>
                        </a:lnTo>
                        <a:lnTo>
                          <a:pt x="181" y="26"/>
                        </a:lnTo>
                        <a:lnTo>
                          <a:pt x="174" y="25"/>
                        </a:lnTo>
                        <a:lnTo>
                          <a:pt x="166" y="23"/>
                        </a:lnTo>
                        <a:lnTo>
                          <a:pt x="158" y="21"/>
                        </a:lnTo>
                        <a:lnTo>
                          <a:pt x="150" y="19"/>
                        </a:lnTo>
                        <a:lnTo>
                          <a:pt x="135" y="17"/>
                        </a:lnTo>
                        <a:lnTo>
                          <a:pt x="121" y="15"/>
                        </a:lnTo>
                        <a:lnTo>
                          <a:pt x="106" y="14"/>
                        </a:lnTo>
                        <a:lnTo>
                          <a:pt x="91" y="12"/>
                        </a:lnTo>
                        <a:lnTo>
                          <a:pt x="75" y="11"/>
                        </a:lnTo>
                        <a:lnTo>
                          <a:pt x="61" y="9"/>
                        </a:lnTo>
                        <a:lnTo>
                          <a:pt x="46" y="8"/>
                        </a:lnTo>
                        <a:lnTo>
                          <a:pt x="31" y="7"/>
                        </a:lnTo>
                        <a:lnTo>
                          <a:pt x="16" y="5"/>
                        </a:lnTo>
                        <a:lnTo>
                          <a:pt x="3" y="4"/>
                        </a:lnTo>
                        <a:lnTo>
                          <a:pt x="0" y="2"/>
                        </a:lnTo>
                        <a:lnTo>
                          <a:pt x="6" y="0"/>
                        </a:lnTo>
                        <a:lnTo>
                          <a:pt x="30" y="1"/>
                        </a:lnTo>
                        <a:lnTo>
                          <a:pt x="55" y="2"/>
                        </a:lnTo>
                        <a:lnTo>
                          <a:pt x="79" y="4"/>
                        </a:lnTo>
                        <a:lnTo>
                          <a:pt x="102" y="5"/>
                        </a:lnTo>
                        <a:lnTo>
                          <a:pt x="125" y="8"/>
                        </a:lnTo>
                        <a:lnTo>
                          <a:pt x="148" y="11"/>
                        </a:lnTo>
                        <a:lnTo>
                          <a:pt x="171" y="15"/>
                        </a:lnTo>
                        <a:lnTo>
                          <a:pt x="193" y="21"/>
                        </a:lnTo>
                        <a:lnTo>
                          <a:pt x="214" y="29"/>
                        </a:lnTo>
                        <a:lnTo>
                          <a:pt x="234" y="38"/>
                        </a:lnTo>
                        <a:lnTo>
                          <a:pt x="234" y="38"/>
                        </a:lnTo>
                        <a:lnTo>
                          <a:pt x="234" y="3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720" bIns="-18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1673640" y="5359680"/>
                    <a:ext cx="19728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404" h="47">
                        <a:moveTo>
                          <a:pt x="398" y="15"/>
                        </a:moveTo>
                        <a:lnTo>
                          <a:pt x="400" y="15"/>
                        </a:lnTo>
                        <a:lnTo>
                          <a:pt x="401" y="15"/>
                        </a:lnTo>
                        <a:lnTo>
                          <a:pt x="403" y="17"/>
                        </a:lnTo>
                        <a:lnTo>
                          <a:pt x="404" y="17"/>
                        </a:lnTo>
                        <a:lnTo>
                          <a:pt x="404" y="18"/>
                        </a:lnTo>
                        <a:lnTo>
                          <a:pt x="404" y="19"/>
                        </a:lnTo>
                        <a:lnTo>
                          <a:pt x="404" y="20"/>
                        </a:lnTo>
                        <a:lnTo>
                          <a:pt x="404" y="22"/>
                        </a:lnTo>
                        <a:lnTo>
                          <a:pt x="404" y="23"/>
                        </a:lnTo>
                        <a:lnTo>
                          <a:pt x="402" y="24"/>
                        </a:lnTo>
                        <a:lnTo>
                          <a:pt x="375" y="20"/>
                        </a:lnTo>
                        <a:lnTo>
                          <a:pt x="345" y="18"/>
                        </a:lnTo>
                        <a:lnTo>
                          <a:pt x="317" y="15"/>
                        </a:lnTo>
                        <a:lnTo>
                          <a:pt x="288" y="14"/>
                        </a:lnTo>
                        <a:lnTo>
                          <a:pt x="259" y="12"/>
                        </a:lnTo>
                        <a:lnTo>
                          <a:pt x="230" y="11"/>
                        </a:lnTo>
                        <a:lnTo>
                          <a:pt x="200" y="10"/>
                        </a:lnTo>
                        <a:lnTo>
                          <a:pt x="170" y="9"/>
                        </a:lnTo>
                        <a:lnTo>
                          <a:pt x="141" y="8"/>
                        </a:lnTo>
                        <a:lnTo>
                          <a:pt x="111" y="7"/>
                        </a:lnTo>
                        <a:lnTo>
                          <a:pt x="103" y="8"/>
                        </a:lnTo>
                        <a:lnTo>
                          <a:pt x="95" y="9"/>
                        </a:lnTo>
                        <a:lnTo>
                          <a:pt x="86" y="10"/>
                        </a:lnTo>
                        <a:lnTo>
                          <a:pt x="78" y="11"/>
                        </a:lnTo>
                        <a:lnTo>
                          <a:pt x="69" y="12"/>
                        </a:lnTo>
                        <a:lnTo>
                          <a:pt x="60" y="14"/>
                        </a:lnTo>
                        <a:lnTo>
                          <a:pt x="52" y="15"/>
                        </a:lnTo>
                        <a:lnTo>
                          <a:pt x="43" y="17"/>
                        </a:lnTo>
                        <a:lnTo>
                          <a:pt x="35" y="19"/>
                        </a:lnTo>
                        <a:lnTo>
                          <a:pt x="27" y="21"/>
                        </a:lnTo>
                        <a:lnTo>
                          <a:pt x="25" y="22"/>
                        </a:lnTo>
                        <a:lnTo>
                          <a:pt x="23" y="23"/>
                        </a:lnTo>
                        <a:lnTo>
                          <a:pt x="21" y="23"/>
                        </a:lnTo>
                        <a:lnTo>
                          <a:pt x="19" y="24"/>
                        </a:lnTo>
                        <a:lnTo>
                          <a:pt x="17" y="25"/>
                        </a:lnTo>
                        <a:lnTo>
                          <a:pt x="16" y="26"/>
                        </a:lnTo>
                        <a:lnTo>
                          <a:pt x="14" y="27"/>
                        </a:lnTo>
                        <a:lnTo>
                          <a:pt x="12" y="28"/>
                        </a:lnTo>
                        <a:lnTo>
                          <a:pt x="11" y="30"/>
                        </a:lnTo>
                        <a:lnTo>
                          <a:pt x="10" y="31"/>
                        </a:lnTo>
                        <a:lnTo>
                          <a:pt x="11" y="33"/>
                        </a:lnTo>
                        <a:lnTo>
                          <a:pt x="12" y="35"/>
                        </a:lnTo>
                        <a:lnTo>
                          <a:pt x="13" y="36"/>
                        </a:lnTo>
                        <a:lnTo>
                          <a:pt x="15" y="38"/>
                        </a:lnTo>
                        <a:lnTo>
                          <a:pt x="16" y="40"/>
                        </a:lnTo>
                        <a:lnTo>
                          <a:pt x="16" y="41"/>
                        </a:lnTo>
                        <a:lnTo>
                          <a:pt x="16" y="43"/>
                        </a:lnTo>
                        <a:lnTo>
                          <a:pt x="15" y="44"/>
                        </a:lnTo>
                        <a:lnTo>
                          <a:pt x="13" y="45"/>
                        </a:lnTo>
                        <a:lnTo>
                          <a:pt x="10" y="47"/>
                        </a:lnTo>
                        <a:lnTo>
                          <a:pt x="9" y="45"/>
                        </a:lnTo>
                        <a:lnTo>
                          <a:pt x="8" y="45"/>
                        </a:lnTo>
                        <a:lnTo>
                          <a:pt x="6" y="44"/>
                        </a:lnTo>
                        <a:lnTo>
                          <a:pt x="6" y="43"/>
                        </a:lnTo>
                        <a:lnTo>
                          <a:pt x="4" y="41"/>
                        </a:lnTo>
                        <a:lnTo>
                          <a:pt x="3" y="40"/>
                        </a:lnTo>
                        <a:lnTo>
                          <a:pt x="2" y="39"/>
                        </a:lnTo>
                        <a:lnTo>
                          <a:pt x="1" y="38"/>
                        </a:lnTo>
                        <a:lnTo>
                          <a:pt x="1" y="36"/>
                        </a:lnTo>
                        <a:lnTo>
                          <a:pt x="0" y="35"/>
                        </a:lnTo>
                        <a:lnTo>
                          <a:pt x="3" y="28"/>
                        </a:lnTo>
                        <a:lnTo>
                          <a:pt x="8" y="22"/>
                        </a:lnTo>
                        <a:lnTo>
                          <a:pt x="15" y="17"/>
                        </a:lnTo>
                        <a:lnTo>
                          <a:pt x="22" y="14"/>
                        </a:lnTo>
                        <a:lnTo>
                          <a:pt x="31" y="11"/>
                        </a:lnTo>
                        <a:lnTo>
                          <a:pt x="40" y="9"/>
                        </a:lnTo>
                        <a:lnTo>
                          <a:pt x="49" y="6"/>
                        </a:lnTo>
                        <a:lnTo>
                          <a:pt x="59" y="5"/>
                        </a:lnTo>
                        <a:lnTo>
                          <a:pt x="69" y="4"/>
                        </a:lnTo>
                        <a:lnTo>
                          <a:pt x="78" y="2"/>
                        </a:lnTo>
                        <a:lnTo>
                          <a:pt x="90" y="1"/>
                        </a:lnTo>
                        <a:lnTo>
                          <a:pt x="101" y="0"/>
                        </a:lnTo>
                        <a:lnTo>
                          <a:pt x="114" y="0"/>
                        </a:lnTo>
                        <a:lnTo>
                          <a:pt x="125" y="0"/>
                        </a:lnTo>
                        <a:lnTo>
                          <a:pt x="137" y="0"/>
                        </a:lnTo>
                        <a:lnTo>
                          <a:pt x="149" y="0"/>
                        </a:lnTo>
                        <a:lnTo>
                          <a:pt x="161" y="0"/>
                        </a:lnTo>
                        <a:lnTo>
                          <a:pt x="174" y="1"/>
                        </a:lnTo>
                        <a:lnTo>
                          <a:pt x="185" y="1"/>
                        </a:lnTo>
                        <a:lnTo>
                          <a:pt x="197" y="1"/>
                        </a:lnTo>
                        <a:lnTo>
                          <a:pt x="217" y="2"/>
                        </a:lnTo>
                        <a:lnTo>
                          <a:pt x="237" y="2"/>
                        </a:lnTo>
                        <a:lnTo>
                          <a:pt x="257" y="3"/>
                        </a:lnTo>
                        <a:lnTo>
                          <a:pt x="277" y="5"/>
                        </a:lnTo>
                        <a:lnTo>
                          <a:pt x="298" y="6"/>
                        </a:lnTo>
                        <a:lnTo>
                          <a:pt x="318" y="8"/>
                        </a:lnTo>
                        <a:lnTo>
                          <a:pt x="338" y="10"/>
                        </a:lnTo>
                        <a:lnTo>
                          <a:pt x="358" y="11"/>
                        </a:lnTo>
                        <a:lnTo>
                          <a:pt x="378" y="13"/>
                        </a:lnTo>
                        <a:lnTo>
                          <a:pt x="398" y="15"/>
                        </a:lnTo>
                        <a:lnTo>
                          <a:pt x="398" y="1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9" name=""/>
                  <p:cNvSpPr/>
                  <p:nvPr/>
                </p:nvSpPr>
                <p:spPr>
                  <a:xfrm>
                    <a:off x="1745640" y="5370480"/>
                    <a:ext cx="8028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165" h="27">
                        <a:moveTo>
                          <a:pt x="165" y="16"/>
                        </a:moveTo>
                        <a:lnTo>
                          <a:pt x="165" y="18"/>
                        </a:lnTo>
                        <a:lnTo>
                          <a:pt x="165" y="19"/>
                        </a:lnTo>
                        <a:lnTo>
                          <a:pt x="165" y="21"/>
                        </a:lnTo>
                        <a:lnTo>
                          <a:pt x="164" y="22"/>
                        </a:lnTo>
                        <a:lnTo>
                          <a:pt x="162" y="23"/>
                        </a:lnTo>
                        <a:lnTo>
                          <a:pt x="161" y="24"/>
                        </a:lnTo>
                        <a:lnTo>
                          <a:pt x="158" y="25"/>
                        </a:lnTo>
                        <a:lnTo>
                          <a:pt x="157" y="26"/>
                        </a:lnTo>
                        <a:lnTo>
                          <a:pt x="155" y="27"/>
                        </a:lnTo>
                        <a:lnTo>
                          <a:pt x="153" y="27"/>
                        </a:lnTo>
                        <a:lnTo>
                          <a:pt x="146" y="26"/>
                        </a:lnTo>
                        <a:lnTo>
                          <a:pt x="140" y="26"/>
                        </a:lnTo>
                        <a:lnTo>
                          <a:pt x="133" y="26"/>
                        </a:lnTo>
                        <a:lnTo>
                          <a:pt x="126" y="25"/>
                        </a:lnTo>
                        <a:lnTo>
                          <a:pt x="120" y="25"/>
                        </a:lnTo>
                        <a:lnTo>
                          <a:pt x="113" y="25"/>
                        </a:lnTo>
                        <a:lnTo>
                          <a:pt x="107" y="24"/>
                        </a:lnTo>
                        <a:lnTo>
                          <a:pt x="101" y="24"/>
                        </a:lnTo>
                        <a:lnTo>
                          <a:pt x="95" y="23"/>
                        </a:lnTo>
                        <a:lnTo>
                          <a:pt x="89" y="21"/>
                        </a:lnTo>
                        <a:lnTo>
                          <a:pt x="89" y="20"/>
                        </a:lnTo>
                        <a:lnTo>
                          <a:pt x="89" y="19"/>
                        </a:lnTo>
                        <a:lnTo>
                          <a:pt x="89" y="19"/>
                        </a:lnTo>
                        <a:lnTo>
                          <a:pt x="90" y="19"/>
                        </a:lnTo>
                        <a:lnTo>
                          <a:pt x="90" y="18"/>
                        </a:lnTo>
                        <a:lnTo>
                          <a:pt x="91" y="18"/>
                        </a:lnTo>
                        <a:lnTo>
                          <a:pt x="92" y="17"/>
                        </a:lnTo>
                        <a:lnTo>
                          <a:pt x="93" y="17"/>
                        </a:lnTo>
                        <a:lnTo>
                          <a:pt x="93" y="16"/>
                        </a:lnTo>
                        <a:lnTo>
                          <a:pt x="93" y="16"/>
                        </a:lnTo>
                        <a:lnTo>
                          <a:pt x="99" y="15"/>
                        </a:lnTo>
                        <a:lnTo>
                          <a:pt x="104" y="15"/>
                        </a:lnTo>
                        <a:lnTo>
                          <a:pt x="109" y="16"/>
                        </a:lnTo>
                        <a:lnTo>
                          <a:pt x="114" y="16"/>
                        </a:lnTo>
                        <a:lnTo>
                          <a:pt x="119" y="16"/>
                        </a:lnTo>
                        <a:lnTo>
                          <a:pt x="123" y="17"/>
                        </a:lnTo>
                        <a:lnTo>
                          <a:pt x="127" y="18"/>
                        </a:lnTo>
                        <a:lnTo>
                          <a:pt x="132" y="18"/>
                        </a:lnTo>
                        <a:lnTo>
                          <a:pt x="137" y="17"/>
                        </a:lnTo>
                        <a:lnTo>
                          <a:pt x="142" y="16"/>
                        </a:lnTo>
                        <a:lnTo>
                          <a:pt x="130" y="12"/>
                        </a:lnTo>
                        <a:lnTo>
                          <a:pt x="117" y="9"/>
                        </a:lnTo>
                        <a:lnTo>
                          <a:pt x="103" y="7"/>
                        </a:lnTo>
                        <a:lnTo>
                          <a:pt x="89" y="6"/>
                        </a:lnTo>
                        <a:lnTo>
                          <a:pt x="76" y="7"/>
                        </a:lnTo>
                        <a:lnTo>
                          <a:pt x="62" y="7"/>
                        </a:lnTo>
                        <a:lnTo>
                          <a:pt x="48" y="9"/>
                        </a:lnTo>
                        <a:lnTo>
                          <a:pt x="35" y="11"/>
                        </a:lnTo>
                        <a:lnTo>
                          <a:pt x="21" y="14"/>
                        </a:lnTo>
                        <a:lnTo>
                          <a:pt x="9" y="18"/>
                        </a:lnTo>
                        <a:lnTo>
                          <a:pt x="9" y="19"/>
                        </a:lnTo>
                        <a:lnTo>
                          <a:pt x="9" y="19"/>
                        </a:lnTo>
                        <a:lnTo>
                          <a:pt x="9" y="20"/>
                        </a:lnTo>
                        <a:lnTo>
                          <a:pt x="9" y="21"/>
                        </a:lnTo>
                        <a:lnTo>
                          <a:pt x="9" y="23"/>
                        </a:lnTo>
                        <a:lnTo>
                          <a:pt x="9" y="23"/>
                        </a:lnTo>
                        <a:lnTo>
                          <a:pt x="9" y="24"/>
                        </a:lnTo>
                        <a:lnTo>
                          <a:pt x="9" y="25"/>
                        </a:lnTo>
                        <a:lnTo>
                          <a:pt x="8" y="26"/>
                        </a:lnTo>
                        <a:lnTo>
                          <a:pt x="7" y="27"/>
                        </a:lnTo>
                        <a:lnTo>
                          <a:pt x="6" y="26"/>
                        </a:lnTo>
                        <a:lnTo>
                          <a:pt x="4" y="25"/>
                        </a:lnTo>
                        <a:lnTo>
                          <a:pt x="4" y="24"/>
                        </a:lnTo>
                        <a:lnTo>
                          <a:pt x="2" y="23"/>
                        </a:lnTo>
                        <a:lnTo>
                          <a:pt x="2" y="21"/>
                        </a:lnTo>
                        <a:lnTo>
                          <a:pt x="1" y="19"/>
                        </a:lnTo>
                        <a:lnTo>
                          <a:pt x="0" y="18"/>
                        </a:lnTo>
                        <a:lnTo>
                          <a:pt x="0" y="16"/>
                        </a:lnTo>
                        <a:lnTo>
                          <a:pt x="0" y="15"/>
                        </a:lnTo>
                        <a:lnTo>
                          <a:pt x="1" y="13"/>
                        </a:lnTo>
                        <a:lnTo>
                          <a:pt x="17" y="7"/>
                        </a:lnTo>
                        <a:lnTo>
                          <a:pt x="33" y="3"/>
                        </a:lnTo>
                        <a:lnTo>
                          <a:pt x="50" y="1"/>
                        </a:lnTo>
                        <a:lnTo>
                          <a:pt x="66" y="0"/>
                        </a:lnTo>
                        <a:lnTo>
                          <a:pt x="84" y="0"/>
                        </a:lnTo>
                        <a:lnTo>
                          <a:pt x="101" y="2"/>
                        </a:lnTo>
                        <a:lnTo>
                          <a:pt x="118" y="4"/>
                        </a:lnTo>
                        <a:lnTo>
                          <a:pt x="135" y="7"/>
                        </a:lnTo>
                        <a:lnTo>
                          <a:pt x="150" y="11"/>
                        </a:lnTo>
                        <a:lnTo>
                          <a:pt x="165" y="16"/>
                        </a:lnTo>
                        <a:lnTo>
                          <a:pt x="165" y="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0" name=""/>
                  <p:cNvSpPr/>
                  <p:nvPr/>
                </p:nvSpPr>
                <p:spPr>
                  <a:xfrm>
                    <a:off x="1829520" y="5374080"/>
                    <a:ext cx="2772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28">
                        <a:moveTo>
                          <a:pt x="56" y="11"/>
                        </a:moveTo>
                        <a:lnTo>
                          <a:pt x="57" y="12"/>
                        </a:lnTo>
                        <a:lnTo>
                          <a:pt x="57" y="14"/>
                        </a:lnTo>
                        <a:lnTo>
                          <a:pt x="57" y="16"/>
                        </a:lnTo>
                        <a:lnTo>
                          <a:pt x="56" y="17"/>
                        </a:lnTo>
                        <a:lnTo>
                          <a:pt x="56" y="19"/>
                        </a:lnTo>
                        <a:lnTo>
                          <a:pt x="55" y="21"/>
                        </a:lnTo>
                        <a:lnTo>
                          <a:pt x="54" y="22"/>
                        </a:lnTo>
                        <a:lnTo>
                          <a:pt x="52" y="24"/>
                        </a:lnTo>
                        <a:lnTo>
                          <a:pt x="50" y="25"/>
                        </a:lnTo>
                        <a:lnTo>
                          <a:pt x="49" y="26"/>
                        </a:lnTo>
                        <a:lnTo>
                          <a:pt x="44" y="26"/>
                        </a:lnTo>
                        <a:lnTo>
                          <a:pt x="39" y="27"/>
                        </a:lnTo>
                        <a:lnTo>
                          <a:pt x="34" y="27"/>
                        </a:lnTo>
                        <a:lnTo>
                          <a:pt x="29" y="28"/>
                        </a:lnTo>
                        <a:lnTo>
                          <a:pt x="24" y="28"/>
                        </a:lnTo>
                        <a:lnTo>
                          <a:pt x="19" y="28"/>
                        </a:lnTo>
                        <a:lnTo>
                          <a:pt x="13" y="27"/>
                        </a:lnTo>
                        <a:lnTo>
                          <a:pt x="9" y="27"/>
                        </a:lnTo>
                        <a:lnTo>
                          <a:pt x="4" y="26"/>
                        </a:lnTo>
                        <a:lnTo>
                          <a:pt x="0" y="26"/>
                        </a:lnTo>
                        <a:lnTo>
                          <a:pt x="0" y="21"/>
                        </a:lnTo>
                        <a:lnTo>
                          <a:pt x="5" y="20"/>
                        </a:lnTo>
                        <a:lnTo>
                          <a:pt x="10" y="20"/>
                        </a:lnTo>
                        <a:lnTo>
                          <a:pt x="15" y="20"/>
                        </a:lnTo>
                        <a:lnTo>
                          <a:pt x="20" y="20"/>
                        </a:lnTo>
                        <a:lnTo>
                          <a:pt x="25" y="20"/>
                        </a:lnTo>
                        <a:lnTo>
                          <a:pt x="30" y="19"/>
                        </a:lnTo>
                        <a:lnTo>
                          <a:pt x="35" y="18"/>
                        </a:lnTo>
                        <a:lnTo>
                          <a:pt x="39" y="18"/>
                        </a:lnTo>
                        <a:lnTo>
                          <a:pt x="44" y="16"/>
                        </a:lnTo>
                        <a:lnTo>
                          <a:pt x="49" y="14"/>
                        </a:lnTo>
                        <a:lnTo>
                          <a:pt x="20" y="3"/>
                        </a:lnTo>
                        <a:lnTo>
                          <a:pt x="23" y="1"/>
                        </a:lnTo>
                        <a:lnTo>
                          <a:pt x="27" y="0"/>
                        </a:lnTo>
                        <a:lnTo>
                          <a:pt x="31" y="0"/>
                        </a:lnTo>
                        <a:lnTo>
                          <a:pt x="36" y="0"/>
                        </a:lnTo>
                        <a:lnTo>
                          <a:pt x="39" y="1"/>
                        </a:lnTo>
                        <a:lnTo>
                          <a:pt x="44" y="2"/>
                        </a:lnTo>
                        <a:lnTo>
                          <a:pt x="48" y="4"/>
                        </a:lnTo>
                        <a:lnTo>
                          <a:pt x="52" y="5"/>
                        </a:lnTo>
                        <a:lnTo>
                          <a:pt x="54" y="8"/>
                        </a:lnTo>
                        <a:lnTo>
                          <a:pt x="57" y="11"/>
                        </a:lnTo>
                        <a:lnTo>
                          <a:pt x="57" y="11"/>
                        </a:lnTo>
                        <a:lnTo>
                          <a:pt x="56" y="1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1925640" y="5393160"/>
                    <a:ext cx="17172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" h="321">
                        <a:moveTo>
                          <a:pt x="340" y="34"/>
                        </a:moveTo>
                        <a:lnTo>
                          <a:pt x="346" y="45"/>
                        </a:lnTo>
                        <a:lnTo>
                          <a:pt x="350" y="56"/>
                        </a:lnTo>
                        <a:lnTo>
                          <a:pt x="352" y="67"/>
                        </a:lnTo>
                        <a:lnTo>
                          <a:pt x="352" y="79"/>
                        </a:lnTo>
                        <a:lnTo>
                          <a:pt x="350" y="91"/>
                        </a:lnTo>
                        <a:lnTo>
                          <a:pt x="347" y="102"/>
                        </a:lnTo>
                        <a:lnTo>
                          <a:pt x="344" y="114"/>
                        </a:lnTo>
                        <a:lnTo>
                          <a:pt x="340" y="125"/>
                        </a:lnTo>
                        <a:lnTo>
                          <a:pt x="335" y="136"/>
                        </a:lnTo>
                        <a:lnTo>
                          <a:pt x="330" y="147"/>
                        </a:lnTo>
                        <a:lnTo>
                          <a:pt x="320" y="160"/>
                        </a:lnTo>
                        <a:lnTo>
                          <a:pt x="310" y="173"/>
                        </a:lnTo>
                        <a:lnTo>
                          <a:pt x="300" y="187"/>
                        </a:lnTo>
                        <a:lnTo>
                          <a:pt x="288" y="201"/>
                        </a:lnTo>
                        <a:lnTo>
                          <a:pt x="276" y="214"/>
                        </a:lnTo>
                        <a:lnTo>
                          <a:pt x="263" y="227"/>
                        </a:lnTo>
                        <a:lnTo>
                          <a:pt x="249" y="239"/>
                        </a:lnTo>
                        <a:lnTo>
                          <a:pt x="234" y="250"/>
                        </a:lnTo>
                        <a:lnTo>
                          <a:pt x="217" y="261"/>
                        </a:lnTo>
                        <a:lnTo>
                          <a:pt x="198" y="270"/>
                        </a:lnTo>
                        <a:lnTo>
                          <a:pt x="196" y="270"/>
                        </a:lnTo>
                        <a:lnTo>
                          <a:pt x="194" y="269"/>
                        </a:lnTo>
                        <a:lnTo>
                          <a:pt x="191" y="270"/>
                        </a:lnTo>
                        <a:lnTo>
                          <a:pt x="189" y="270"/>
                        </a:lnTo>
                        <a:lnTo>
                          <a:pt x="188" y="271"/>
                        </a:lnTo>
                        <a:lnTo>
                          <a:pt x="185" y="271"/>
                        </a:lnTo>
                        <a:lnTo>
                          <a:pt x="184" y="273"/>
                        </a:lnTo>
                        <a:lnTo>
                          <a:pt x="183" y="274"/>
                        </a:lnTo>
                        <a:lnTo>
                          <a:pt x="182" y="275"/>
                        </a:lnTo>
                        <a:lnTo>
                          <a:pt x="182" y="277"/>
                        </a:lnTo>
                        <a:lnTo>
                          <a:pt x="165" y="284"/>
                        </a:lnTo>
                        <a:lnTo>
                          <a:pt x="146" y="290"/>
                        </a:lnTo>
                        <a:lnTo>
                          <a:pt x="129" y="295"/>
                        </a:lnTo>
                        <a:lnTo>
                          <a:pt x="110" y="300"/>
                        </a:lnTo>
                        <a:lnTo>
                          <a:pt x="93" y="304"/>
                        </a:lnTo>
                        <a:lnTo>
                          <a:pt x="74" y="308"/>
                        </a:lnTo>
                        <a:lnTo>
                          <a:pt x="56" y="311"/>
                        </a:lnTo>
                        <a:lnTo>
                          <a:pt x="37" y="315"/>
                        </a:lnTo>
                        <a:lnTo>
                          <a:pt x="18" y="318"/>
                        </a:lnTo>
                        <a:lnTo>
                          <a:pt x="0" y="321"/>
                        </a:lnTo>
                        <a:lnTo>
                          <a:pt x="3" y="319"/>
                        </a:lnTo>
                        <a:lnTo>
                          <a:pt x="7" y="316"/>
                        </a:lnTo>
                        <a:lnTo>
                          <a:pt x="10" y="312"/>
                        </a:lnTo>
                        <a:lnTo>
                          <a:pt x="14" y="308"/>
                        </a:lnTo>
                        <a:lnTo>
                          <a:pt x="18" y="303"/>
                        </a:lnTo>
                        <a:lnTo>
                          <a:pt x="23" y="299"/>
                        </a:lnTo>
                        <a:lnTo>
                          <a:pt x="27" y="294"/>
                        </a:lnTo>
                        <a:lnTo>
                          <a:pt x="30" y="289"/>
                        </a:lnTo>
                        <a:lnTo>
                          <a:pt x="34" y="284"/>
                        </a:lnTo>
                        <a:lnTo>
                          <a:pt x="38" y="281"/>
                        </a:lnTo>
                        <a:lnTo>
                          <a:pt x="65" y="275"/>
                        </a:lnTo>
                        <a:lnTo>
                          <a:pt x="92" y="269"/>
                        </a:lnTo>
                        <a:lnTo>
                          <a:pt x="119" y="262"/>
                        </a:lnTo>
                        <a:lnTo>
                          <a:pt x="145" y="254"/>
                        </a:lnTo>
                        <a:lnTo>
                          <a:pt x="171" y="245"/>
                        </a:lnTo>
                        <a:lnTo>
                          <a:pt x="195" y="235"/>
                        </a:lnTo>
                        <a:lnTo>
                          <a:pt x="218" y="222"/>
                        </a:lnTo>
                        <a:lnTo>
                          <a:pt x="238" y="208"/>
                        </a:lnTo>
                        <a:lnTo>
                          <a:pt x="255" y="192"/>
                        </a:lnTo>
                        <a:lnTo>
                          <a:pt x="271" y="173"/>
                        </a:lnTo>
                        <a:lnTo>
                          <a:pt x="278" y="161"/>
                        </a:lnTo>
                        <a:lnTo>
                          <a:pt x="285" y="148"/>
                        </a:lnTo>
                        <a:lnTo>
                          <a:pt x="291" y="135"/>
                        </a:lnTo>
                        <a:lnTo>
                          <a:pt x="296" y="122"/>
                        </a:lnTo>
                        <a:lnTo>
                          <a:pt x="299" y="108"/>
                        </a:lnTo>
                        <a:lnTo>
                          <a:pt x="301" y="95"/>
                        </a:lnTo>
                        <a:lnTo>
                          <a:pt x="300" y="81"/>
                        </a:lnTo>
                        <a:lnTo>
                          <a:pt x="298" y="68"/>
                        </a:lnTo>
                        <a:lnTo>
                          <a:pt x="294" y="55"/>
                        </a:lnTo>
                        <a:lnTo>
                          <a:pt x="287" y="42"/>
                        </a:lnTo>
                        <a:lnTo>
                          <a:pt x="274" y="36"/>
                        </a:lnTo>
                        <a:lnTo>
                          <a:pt x="261" y="32"/>
                        </a:lnTo>
                        <a:lnTo>
                          <a:pt x="246" y="29"/>
                        </a:lnTo>
                        <a:lnTo>
                          <a:pt x="231" y="28"/>
                        </a:lnTo>
                        <a:lnTo>
                          <a:pt x="216" y="28"/>
                        </a:lnTo>
                        <a:lnTo>
                          <a:pt x="201" y="30"/>
                        </a:lnTo>
                        <a:lnTo>
                          <a:pt x="186" y="33"/>
                        </a:lnTo>
                        <a:lnTo>
                          <a:pt x="172" y="36"/>
                        </a:lnTo>
                        <a:lnTo>
                          <a:pt x="159" y="40"/>
                        </a:lnTo>
                        <a:lnTo>
                          <a:pt x="145" y="44"/>
                        </a:lnTo>
                        <a:lnTo>
                          <a:pt x="145" y="41"/>
                        </a:lnTo>
                        <a:lnTo>
                          <a:pt x="145" y="38"/>
                        </a:lnTo>
                        <a:lnTo>
                          <a:pt x="145" y="34"/>
                        </a:lnTo>
                        <a:lnTo>
                          <a:pt x="145" y="32"/>
                        </a:lnTo>
                        <a:lnTo>
                          <a:pt x="146" y="28"/>
                        </a:lnTo>
                        <a:lnTo>
                          <a:pt x="146" y="24"/>
                        </a:lnTo>
                        <a:lnTo>
                          <a:pt x="147" y="21"/>
                        </a:lnTo>
                        <a:lnTo>
                          <a:pt x="148" y="17"/>
                        </a:lnTo>
                        <a:lnTo>
                          <a:pt x="149" y="13"/>
                        </a:lnTo>
                        <a:lnTo>
                          <a:pt x="149" y="11"/>
                        </a:lnTo>
                        <a:lnTo>
                          <a:pt x="168" y="7"/>
                        </a:lnTo>
                        <a:lnTo>
                          <a:pt x="188" y="4"/>
                        </a:lnTo>
                        <a:lnTo>
                          <a:pt x="210" y="2"/>
                        </a:lnTo>
                        <a:lnTo>
                          <a:pt x="231" y="0"/>
                        </a:lnTo>
                        <a:lnTo>
                          <a:pt x="253" y="0"/>
                        </a:lnTo>
                        <a:lnTo>
                          <a:pt x="274" y="2"/>
                        </a:lnTo>
                        <a:lnTo>
                          <a:pt x="293" y="6"/>
                        </a:lnTo>
                        <a:lnTo>
                          <a:pt x="310" y="12"/>
                        </a:lnTo>
                        <a:lnTo>
                          <a:pt x="327" y="22"/>
                        </a:lnTo>
                        <a:lnTo>
                          <a:pt x="340" y="34"/>
                        </a:lnTo>
                        <a:lnTo>
                          <a:pt x="340" y="34"/>
                        </a:lnTo>
                        <a:close/>
                      </a:path>
                    </a:pathLst>
                  </a:custGeom>
                  <a:solidFill>
                    <a:srgbClr val="ffd9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2" name=""/>
                  <p:cNvSpPr/>
                  <p:nvPr/>
                </p:nvSpPr>
                <p:spPr>
                  <a:xfrm>
                    <a:off x="1996560" y="5542200"/>
                    <a:ext cx="282600" cy="57600"/>
                  </a:xfrm>
                  <a:custGeom>
                    <a:avLst/>
                    <a:gdLst/>
                    <a:ahLst/>
                    <a:rect l="l" t="t" r="r" b="b"/>
                    <a:pathLst>
                      <a:path w="579" h="108">
                        <a:moveTo>
                          <a:pt x="578" y="13"/>
                        </a:moveTo>
                        <a:lnTo>
                          <a:pt x="577" y="16"/>
                        </a:lnTo>
                        <a:lnTo>
                          <a:pt x="576" y="19"/>
                        </a:lnTo>
                        <a:lnTo>
                          <a:pt x="573" y="21"/>
                        </a:lnTo>
                        <a:lnTo>
                          <a:pt x="570" y="23"/>
                        </a:lnTo>
                        <a:lnTo>
                          <a:pt x="567" y="24"/>
                        </a:lnTo>
                        <a:lnTo>
                          <a:pt x="564" y="25"/>
                        </a:lnTo>
                        <a:lnTo>
                          <a:pt x="560" y="27"/>
                        </a:lnTo>
                        <a:lnTo>
                          <a:pt x="557" y="28"/>
                        </a:lnTo>
                        <a:lnTo>
                          <a:pt x="554" y="29"/>
                        </a:lnTo>
                        <a:lnTo>
                          <a:pt x="550" y="30"/>
                        </a:lnTo>
                        <a:lnTo>
                          <a:pt x="495" y="33"/>
                        </a:lnTo>
                        <a:lnTo>
                          <a:pt x="440" y="36"/>
                        </a:lnTo>
                        <a:lnTo>
                          <a:pt x="385" y="40"/>
                        </a:lnTo>
                        <a:lnTo>
                          <a:pt x="331" y="43"/>
                        </a:lnTo>
                        <a:lnTo>
                          <a:pt x="277" y="49"/>
                        </a:lnTo>
                        <a:lnTo>
                          <a:pt x="224" y="55"/>
                        </a:lnTo>
                        <a:lnTo>
                          <a:pt x="172" y="63"/>
                        </a:lnTo>
                        <a:lnTo>
                          <a:pt x="119" y="74"/>
                        </a:lnTo>
                        <a:lnTo>
                          <a:pt x="69" y="87"/>
                        </a:lnTo>
                        <a:lnTo>
                          <a:pt x="18" y="103"/>
                        </a:lnTo>
                        <a:lnTo>
                          <a:pt x="12" y="108"/>
                        </a:lnTo>
                        <a:lnTo>
                          <a:pt x="13" y="106"/>
                        </a:lnTo>
                        <a:lnTo>
                          <a:pt x="12" y="105"/>
                        </a:lnTo>
                        <a:lnTo>
                          <a:pt x="10" y="104"/>
                        </a:lnTo>
                        <a:lnTo>
                          <a:pt x="9" y="102"/>
                        </a:lnTo>
                        <a:lnTo>
                          <a:pt x="7" y="101"/>
                        </a:lnTo>
                        <a:lnTo>
                          <a:pt x="6" y="98"/>
                        </a:lnTo>
                        <a:lnTo>
                          <a:pt x="4" y="97"/>
                        </a:lnTo>
                        <a:lnTo>
                          <a:pt x="3" y="95"/>
                        </a:lnTo>
                        <a:lnTo>
                          <a:pt x="1" y="93"/>
                        </a:lnTo>
                        <a:lnTo>
                          <a:pt x="0" y="91"/>
                        </a:lnTo>
                        <a:lnTo>
                          <a:pt x="16" y="92"/>
                        </a:lnTo>
                        <a:lnTo>
                          <a:pt x="30" y="90"/>
                        </a:lnTo>
                        <a:lnTo>
                          <a:pt x="45" y="88"/>
                        </a:lnTo>
                        <a:lnTo>
                          <a:pt x="58" y="84"/>
                        </a:lnTo>
                        <a:lnTo>
                          <a:pt x="72" y="79"/>
                        </a:lnTo>
                        <a:lnTo>
                          <a:pt x="86" y="75"/>
                        </a:lnTo>
                        <a:lnTo>
                          <a:pt x="99" y="70"/>
                        </a:lnTo>
                        <a:lnTo>
                          <a:pt x="112" y="66"/>
                        </a:lnTo>
                        <a:lnTo>
                          <a:pt x="127" y="63"/>
                        </a:lnTo>
                        <a:lnTo>
                          <a:pt x="142" y="60"/>
                        </a:lnTo>
                        <a:lnTo>
                          <a:pt x="180" y="47"/>
                        </a:lnTo>
                        <a:lnTo>
                          <a:pt x="220" y="34"/>
                        </a:lnTo>
                        <a:lnTo>
                          <a:pt x="262" y="24"/>
                        </a:lnTo>
                        <a:lnTo>
                          <a:pt x="305" y="15"/>
                        </a:lnTo>
                        <a:lnTo>
                          <a:pt x="350" y="8"/>
                        </a:lnTo>
                        <a:lnTo>
                          <a:pt x="394" y="3"/>
                        </a:lnTo>
                        <a:lnTo>
                          <a:pt x="439" y="0"/>
                        </a:lnTo>
                        <a:lnTo>
                          <a:pt x="483" y="0"/>
                        </a:lnTo>
                        <a:lnTo>
                          <a:pt x="527" y="3"/>
                        </a:lnTo>
                        <a:lnTo>
                          <a:pt x="569" y="9"/>
                        </a:lnTo>
                        <a:lnTo>
                          <a:pt x="579" y="13"/>
                        </a:lnTo>
                        <a:lnTo>
                          <a:pt x="579" y="13"/>
                        </a:lnTo>
                        <a:lnTo>
                          <a:pt x="578" y="13"/>
                        </a:lnTo>
                        <a:close/>
                      </a:path>
                    </a:pathLst>
                  </a:custGeom>
                  <a:solidFill>
                    <a:srgbClr val="cfcf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0" bIns="10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3" name=""/>
                  <p:cNvSpPr/>
                  <p:nvPr/>
                </p:nvSpPr>
                <p:spPr>
                  <a:xfrm>
                    <a:off x="1973520" y="5543640"/>
                    <a:ext cx="122760" cy="33120"/>
                  </a:xfrm>
                  <a:custGeom>
                    <a:avLst/>
                    <a:gdLst/>
                    <a:ahLst/>
                    <a:rect l="l" t="t" r="r" b="b"/>
                    <a:pathLst>
                      <a:path w="252" h="62">
                        <a:moveTo>
                          <a:pt x="108" y="3"/>
                        </a:moveTo>
                        <a:lnTo>
                          <a:pt x="123" y="2"/>
                        </a:lnTo>
                        <a:lnTo>
                          <a:pt x="138" y="3"/>
                        </a:lnTo>
                        <a:lnTo>
                          <a:pt x="153" y="4"/>
                        </a:lnTo>
                        <a:lnTo>
                          <a:pt x="166" y="6"/>
                        </a:lnTo>
                        <a:lnTo>
                          <a:pt x="181" y="8"/>
                        </a:lnTo>
                        <a:lnTo>
                          <a:pt x="196" y="10"/>
                        </a:lnTo>
                        <a:lnTo>
                          <a:pt x="210" y="13"/>
                        </a:lnTo>
                        <a:lnTo>
                          <a:pt x="225" y="17"/>
                        </a:lnTo>
                        <a:lnTo>
                          <a:pt x="238" y="20"/>
                        </a:lnTo>
                        <a:lnTo>
                          <a:pt x="252" y="23"/>
                        </a:lnTo>
                        <a:lnTo>
                          <a:pt x="240" y="27"/>
                        </a:lnTo>
                        <a:lnTo>
                          <a:pt x="228" y="32"/>
                        </a:lnTo>
                        <a:lnTo>
                          <a:pt x="215" y="37"/>
                        </a:lnTo>
                        <a:lnTo>
                          <a:pt x="202" y="41"/>
                        </a:lnTo>
                        <a:lnTo>
                          <a:pt x="189" y="45"/>
                        </a:lnTo>
                        <a:lnTo>
                          <a:pt x="176" y="49"/>
                        </a:lnTo>
                        <a:lnTo>
                          <a:pt x="163" y="53"/>
                        </a:lnTo>
                        <a:lnTo>
                          <a:pt x="150" y="56"/>
                        </a:lnTo>
                        <a:lnTo>
                          <a:pt x="136" y="59"/>
                        </a:lnTo>
                        <a:lnTo>
                          <a:pt x="123" y="62"/>
                        </a:lnTo>
                        <a:lnTo>
                          <a:pt x="119" y="59"/>
                        </a:lnTo>
                        <a:lnTo>
                          <a:pt x="107" y="56"/>
                        </a:lnTo>
                        <a:lnTo>
                          <a:pt x="95" y="54"/>
                        </a:lnTo>
                        <a:lnTo>
                          <a:pt x="84" y="51"/>
                        </a:lnTo>
                        <a:lnTo>
                          <a:pt x="71" y="48"/>
                        </a:lnTo>
                        <a:lnTo>
                          <a:pt x="59" y="46"/>
                        </a:lnTo>
                        <a:lnTo>
                          <a:pt x="47" y="43"/>
                        </a:lnTo>
                        <a:lnTo>
                          <a:pt x="35" y="40"/>
                        </a:lnTo>
                        <a:lnTo>
                          <a:pt x="24" y="37"/>
                        </a:lnTo>
                        <a:lnTo>
                          <a:pt x="11" y="35"/>
                        </a:lnTo>
                        <a:lnTo>
                          <a:pt x="0" y="32"/>
                        </a:lnTo>
                        <a:lnTo>
                          <a:pt x="11" y="30"/>
                        </a:lnTo>
                        <a:lnTo>
                          <a:pt x="21" y="27"/>
                        </a:lnTo>
                        <a:lnTo>
                          <a:pt x="32" y="24"/>
                        </a:lnTo>
                        <a:lnTo>
                          <a:pt x="43" y="21"/>
                        </a:lnTo>
                        <a:lnTo>
                          <a:pt x="54" y="18"/>
                        </a:lnTo>
                        <a:lnTo>
                          <a:pt x="64" y="15"/>
                        </a:lnTo>
                        <a:lnTo>
                          <a:pt x="74" y="12"/>
                        </a:lnTo>
                        <a:lnTo>
                          <a:pt x="84" y="8"/>
                        </a:lnTo>
                        <a:lnTo>
                          <a:pt x="94" y="4"/>
                        </a:lnTo>
                        <a:lnTo>
                          <a:pt x="104" y="0"/>
                        </a:lnTo>
                        <a:lnTo>
                          <a:pt x="109" y="3"/>
                        </a:lnTo>
                        <a:lnTo>
                          <a:pt x="109" y="3"/>
                        </a:lnTo>
                        <a:lnTo>
                          <a:pt x="108" y="3"/>
                        </a:lnTo>
                        <a:close/>
                      </a:path>
                    </a:pathLst>
                  </a:custGeom>
                  <a:solidFill>
                    <a:srgbClr val="ffd9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1531440" y="5555880"/>
                    <a:ext cx="338400" cy="9864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185">
                        <a:moveTo>
                          <a:pt x="219" y="22"/>
                        </a:moveTo>
                        <a:lnTo>
                          <a:pt x="208" y="23"/>
                        </a:lnTo>
                        <a:lnTo>
                          <a:pt x="197" y="23"/>
                        </a:lnTo>
                        <a:lnTo>
                          <a:pt x="185" y="24"/>
                        </a:lnTo>
                        <a:lnTo>
                          <a:pt x="174" y="24"/>
                        </a:lnTo>
                        <a:lnTo>
                          <a:pt x="162" y="25"/>
                        </a:lnTo>
                        <a:lnTo>
                          <a:pt x="151" y="26"/>
                        </a:lnTo>
                        <a:lnTo>
                          <a:pt x="139" y="27"/>
                        </a:lnTo>
                        <a:lnTo>
                          <a:pt x="128" y="28"/>
                        </a:lnTo>
                        <a:lnTo>
                          <a:pt x="117" y="29"/>
                        </a:lnTo>
                        <a:lnTo>
                          <a:pt x="106" y="30"/>
                        </a:lnTo>
                        <a:lnTo>
                          <a:pt x="99" y="31"/>
                        </a:lnTo>
                        <a:lnTo>
                          <a:pt x="92" y="32"/>
                        </a:lnTo>
                        <a:lnTo>
                          <a:pt x="84" y="34"/>
                        </a:lnTo>
                        <a:lnTo>
                          <a:pt x="76" y="36"/>
                        </a:lnTo>
                        <a:lnTo>
                          <a:pt x="69" y="38"/>
                        </a:lnTo>
                        <a:lnTo>
                          <a:pt x="63" y="41"/>
                        </a:lnTo>
                        <a:lnTo>
                          <a:pt x="56" y="44"/>
                        </a:lnTo>
                        <a:lnTo>
                          <a:pt x="51" y="48"/>
                        </a:lnTo>
                        <a:lnTo>
                          <a:pt x="46" y="52"/>
                        </a:lnTo>
                        <a:lnTo>
                          <a:pt x="43" y="57"/>
                        </a:lnTo>
                        <a:lnTo>
                          <a:pt x="43" y="59"/>
                        </a:lnTo>
                        <a:lnTo>
                          <a:pt x="43" y="61"/>
                        </a:lnTo>
                        <a:lnTo>
                          <a:pt x="43" y="63"/>
                        </a:lnTo>
                        <a:lnTo>
                          <a:pt x="43" y="65"/>
                        </a:lnTo>
                        <a:lnTo>
                          <a:pt x="43" y="67"/>
                        </a:lnTo>
                        <a:lnTo>
                          <a:pt x="43" y="69"/>
                        </a:lnTo>
                        <a:lnTo>
                          <a:pt x="43" y="70"/>
                        </a:lnTo>
                        <a:lnTo>
                          <a:pt x="45" y="72"/>
                        </a:lnTo>
                        <a:lnTo>
                          <a:pt x="47" y="73"/>
                        </a:lnTo>
                        <a:lnTo>
                          <a:pt x="51" y="74"/>
                        </a:lnTo>
                        <a:lnTo>
                          <a:pt x="53" y="72"/>
                        </a:lnTo>
                        <a:lnTo>
                          <a:pt x="53" y="71"/>
                        </a:lnTo>
                        <a:lnTo>
                          <a:pt x="55" y="69"/>
                        </a:lnTo>
                        <a:lnTo>
                          <a:pt x="56" y="67"/>
                        </a:lnTo>
                        <a:lnTo>
                          <a:pt x="56" y="65"/>
                        </a:lnTo>
                        <a:lnTo>
                          <a:pt x="56" y="63"/>
                        </a:lnTo>
                        <a:lnTo>
                          <a:pt x="57" y="61"/>
                        </a:lnTo>
                        <a:lnTo>
                          <a:pt x="57" y="59"/>
                        </a:lnTo>
                        <a:lnTo>
                          <a:pt x="58" y="58"/>
                        </a:lnTo>
                        <a:lnTo>
                          <a:pt x="59" y="56"/>
                        </a:lnTo>
                        <a:lnTo>
                          <a:pt x="68" y="50"/>
                        </a:lnTo>
                        <a:lnTo>
                          <a:pt x="77" y="47"/>
                        </a:lnTo>
                        <a:lnTo>
                          <a:pt x="86" y="44"/>
                        </a:lnTo>
                        <a:lnTo>
                          <a:pt x="97" y="42"/>
                        </a:lnTo>
                        <a:lnTo>
                          <a:pt x="107" y="42"/>
                        </a:lnTo>
                        <a:lnTo>
                          <a:pt x="119" y="41"/>
                        </a:lnTo>
                        <a:lnTo>
                          <a:pt x="129" y="40"/>
                        </a:lnTo>
                        <a:lnTo>
                          <a:pt x="140" y="40"/>
                        </a:lnTo>
                        <a:lnTo>
                          <a:pt x="151" y="38"/>
                        </a:lnTo>
                        <a:lnTo>
                          <a:pt x="162" y="36"/>
                        </a:lnTo>
                        <a:lnTo>
                          <a:pt x="231" y="34"/>
                        </a:lnTo>
                        <a:lnTo>
                          <a:pt x="244" y="45"/>
                        </a:lnTo>
                        <a:lnTo>
                          <a:pt x="244" y="50"/>
                        </a:lnTo>
                        <a:lnTo>
                          <a:pt x="243" y="57"/>
                        </a:lnTo>
                        <a:lnTo>
                          <a:pt x="242" y="63"/>
                        </a:lnTo>
                        <a:lnTo>
                          <a:pt x="241" y="70"/>
                        </a:lnTo>
                        <a:lnTo>
                          <a:pt x="241" y="78"/>
                        </a:lnTo>
                        <a:lnTo>
                          <a:pt x="243" y="84"/>
                        </a:lnTo>
                        <a:lnTo>
                          <a:pt x="245" y="91"/>
                        </a:lnTo>
                        <a:lnTo>
                          <a:pt x="249" y="96"/>
                        </a:lnTo>
                        <a:lnTo>
                          <a:pt x="255" y="101"/>
                        </a:lnTo>
                        <a:lnTo>
                          <a:pt x="264" y="104"/>
                        </a:lnTo>
                        <a:lnTo>
                          <a:pt x="291" y="114"/>
                        </a:lnTo>
                        <a:lnTo>
                          <a:pt x="320" y="122"/>
                        </a:lnTo>
                        <a:lnTo>
                          <a:pt x="349" y="129"/>
                        </a:lnTo>
                        <a:lnTo>
                          <a:pt x="379" y="133"/>
                        </a:lnTo>
                        <a:lnTo>
                          <a:pt x="409" y="137"/>
                        </a:lnTo>
                        <a:lnTo>
                          <a:pt x="442" y="139"/>
                        </a:lnTo>
                        <a:lnTo>
                          <a:pt x="474" y="142"/>
                        </a:lnTo>
                        <a:lnTo>
                          <a:pt x="506" y="143"/>
                        </a:lnTo>
                        <a:lnTo>
                          <a:pt x="538" y="144"/>
                        </a:lnTo>
                        <a:lnTo>
                          <a:pt x="570" y="145"/>
                        </a:lnTo>
                        <a:lnTo>
                          <a:pt x="572" y="144"/>
                        </a:lnTo>
                        <a:lnTo>
                          <a:pt x="583" y="149"/>
                        </a:lnTo>
                        <a:lnTo>
                          <a:pt x="595" y="154"/>
                        </a:lnTo>
                        <a:lnTo>
                          <a:pt x="606" y="158"/>
                        </a:lnTo>
                        <a:lnTo>
                          <a:pt x="618" y="163"/>
                        </a:lnTo>
                        <a:lnTo>
                          <a:pt x="630" y="167"/>
                        </a:lnTo>
                        <a:lnTo>
                          <a:pt x="643" y="171"/>
                        </a:lnTo>
                        <a:lnTo>
                          <a:pt x="655" y="173"/>
                        </a:lnTo>
                        <a:lnTo>
                          <a:pt x="667" y="176"/>
                        </a:lnTo>
                        <a:lnTo>
                          <a:pt x="680" y="178"/>
                        </a:lnTo>
                        <a:lnTo>
                          <a:pt x="693" y="180"/>
                        </a:lnTo>
                        <a:lnTo>
                          <a:pt x="685" y="181"/>
                        </a:lnTo>
                        <a:lnTo>
                          <a:pt x="676" y="182"/>
                        </a:lnTo>
                        <a:lnTo>
                          <a:pt x="667" y="183"/>
                        </a:lnTo>
                        <a:lnTo>
                          <a:pt x="659" y="184"/>
                        </a:lnTo>
                        <a:lnTo>
                          <a:pt x="650" y="184"/>
                        </a:lnTo>
                        <a:lnTo>
                          <a:pt x="641" y="185"/>
                        </a:lnTo>
                        <a:lnTo>
                          <a:pt x="633" y="185"/>
                        </a:lnTo>
                        <a:lnTo>
                          <a:pt x="623" y="185"/>
                        </a:lnTo>
                        <a:lnTo>
                          <a:pt x="614" y="185"/>
                        </a:lnTo>
                        <a:lnTo>
                          <a:pt x="605" y="185"/>
                        </a:lnTo>
                        <a:lnTo>
                          <a:pt x="604" y="184"/>
                        </a:lnTo>
                        <a:lnTo>
                          <a:pt x="603" y="183"/>
                        </a:lnTo>
                        <a:lnTo>
                          <a:pt x="603" y="183"/>
                        </a:lnTo>
                        <a:lnTo>
                          <a:pt x="602" y="183"/>
                        </a:lnTo>
                        <a:lnTo>
                          <a:pt x="601" y="183"/>
                        </a:lnTo>
                        <a:lnTo>
                          <a:pt x="600" y="183"/>
                        </a:lnTo>
                        <a:lnTo>
                          <a:pt x="599" y="184"/>
                        </a:lnTo>
                        <a:lnTo>
                          <a:pt x="597" y="184"/>
                        </a:lnTo>
                        <a:lnTo>
                          <a:pt x="596" y="184"/>
                        </a:lnTo>
                        <a:lnTo>
                          <a:pt x="595" y="185"/>
                        </a:lnTo>
                        <a:lnTo>
                          <a:pt x="536" y="182"/>
                        </a:lnTo>
                        <a:lnTo>
                          <a:pt x="478" y="178"/>
                        </a:lnTo>
                        <a:lnTo>
                          <a:pt x="419" y="174"/>
                        </a:lnTo>
                        <a:lnTo>
                          <a:pt x="360" y="169"/>
                        </a:lnTo>
                        <a:lnTo>
                          <a:pt x="302" y="162"/>
                        </a:lnTo>
                        <a:lnTo>
                          <a:pt x="245" y="154"/>
                        </a:lnTo>
                        <a:lnTo>
                          <a:pt x="188" y="143"/>
                        </a:lnTo>
                        <a:lnTo>
                          <a:pt x="134" y="130"/>
                        </a:lnTo>
                        <a:lnTo>
                          <a:pt x="80" y="114"/>
                        </a:lnTo>
                        <a:lnTo>
                          <a:pt x="29" y="95"/>
                        </a:lnTo>
                        <a:lnTo>
                          <a:pt x="25" y="93"/>
                        </a:lnTo>
                        <a:lnTo>
                          <a:pt x="20" y="90"/>
                        </a:lnTo>
                        <a:lnTo>
                          <a:pt x="17" y="88"/>
                        </a:lnTo>
                        <a:lnTo>
                          <a:pt x="12" y="85"/>
                        </a:lnTo>
                        <a:lnTo>
                          <a:pt x="8" y="82"/>
                        </a:lnTo>
                        <a:lnTo>
                          <a:pt x="5" y="79"/>
                        </a:lnTo>
                        <a:lnTo>
                          <a:pt x="3" y="75"/>
                        </a:lnTo>
                        <a:lnTo>
                          <a:pt x="1" y="72"/>
                        </a:lnTo>
                        <a:lnTo>
                          <a:pt x="0" y="69"/>
                        </a:lnTo>
                        <a:lnTo>
                          <a:pt x="2" y="65"/>
                        </a:lnTo>
                        <a:lnTo>
                          <a:pt x="3" y="62"/>
                        </a:lnTo>
                        <a:lnTo>
                          <a:pt x="6" y="58"/>
                        </a:lnTo>
                        <a:lnTo>
                          <a:pt x="8" y="54"/>
                        </a:lnTo>
                        <a:lnTo>
                          <a:pt x="10" y="51"/>
                        </a:lnTo>
                        <a:lnTo>
                          <a:pt x="13" y="48"/>
                        </a:lnTo>
                        <a:lnTo>
                          <a:pt x="17" y="45"/>
                        </a:lnTo>
                        <a:lnTo>
                          <a:pt x="20" y="42"/>
                        </a:lnTo>
                        <a:lnTo>
                          <a:pt x="25" y="39"/>
                        </a:lnTo>
                        <a:lnTo>
                          <a:pt x="30" y="37"/>
                        </a:lnTo>
                        <a:lnTo>
                          <a:pt x="35" y="34"/>
                        </a:lnTo>
                        <a:lnTo>
                          <a:pt x="50" y="29"/>
                        </a:lnTo>
                        <a:lnTo>
                          <a:pt x="64" y="24"/>
                        </a:lnTo>
                        <a:lnTo>
                          <a:pt x="79" y="20"/>
                        </a:lnTo>
                        <a:lnTo>
                          <a:pt x="95" y="16"/>
                        </a:lnTo>
                        <a:lnTo>
                          <a:pt x="111" y="14"/>
                        </a:lnTo>
                        <a:lnTo>
                          <a:pt x="126" y="11"/>
                        </a:lnTo>
                        <a:lnTo>
                          <a:pt x="143" y="8"/>
                        </a:lnTo>
                        <a:lnTo>
                          <a:pt x="159" y="6"/>
                        </a:lnTo>
                        <a:lnTo>
                          <a:pt x="176" y="4"/>
                        </a:lnTo>
                        <a:lnTo>
                          <a:pt x="193" y="3"/>
                        </a:lnTo>
                        <a:lnTo>
                          <a:pt x="197" y="0"/>
                        </a:lnTo>
                        <a:lnTo>
                          <a:pt x="219" y="23"/>
                        </a:lnTo>
                        <a:lnTo>
                          <a:pt x="219" y="23"/>
                        </a:lnTo>
                        <a:lnTo>
                          <a:pt x="219" y="22"/>
                        </a:lnTo>
                        <a:close/>
                      </a:path>
                    </a:pathLst>
                  </a:custGeom>
                  <a:solidFill>
                    <a:srgbClr val="fff09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5" name=""/>
                  <p:cNvSpPr/>
                  <p:nvPr/>
                </p:nvSpPr>
                <p:spPr>
                  <a:xfrm>
                    <a:off x="2008440" y="5559120"/>
                    <a:ext cx="27180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557" h="86">
                        <a:moveTo>
                          <a:pt x="269" y="30"/>
                        </a:moveTo>
                        <a:lnTo>
                          <a:pt x="242" y="34"/>
                        </a:lnTo>
                        <a:lnTo>
                          <a:pt x="214" y="38"/>
                        </a:lnTo>
                        <a:lnTo>
                          <a:pt x="186" y="42"/>
                        </a:lnTo>
                        <a:lnTo>
                          <a:pt x="159" y="47"/>
                        </a:lnTo>
                        <a:lnTo>
                          <a:pt x="131" y="52"/>
                        </a:lnTo>
                        <a:lnTo>
                          <a:pt x="105" y="58"/>
                        </a:lnTo>
                        <a:lnTo>
                          <a:pt x="78" y="64"/>
                        </a:lnTo>
                        <a:lnTo>
                          <a:pt x="52" y="71"/>
                        </a:lnTo>
                        <a:lnTo>
                          <a:pt x="26" y="78"/>
                        </a:lnTo>
                        <a:lnTo>
                          <a:pt x="0" y="86"/>
                        </a:lnTo>
                        <a:lnTo>
                          <a:pt x="9" y="81"/>
                        </a:lnTo>
                        <a:lnTo>
                          <a:pt x="19" y="76"/>
                        </a:lnTo>
                        <a:lnTo>
                          <a:pt x="29" y="72"/>
                        </a:lnTo>
                        <a:lnTo>
                          <a:pt x="39" y="68"/>
                        </a:lnTo>
                        <a:lnTo>
                          <a:pt x="50" y="65"/>
                        </a:lnTo>
                        <a:lnTo>
                          <a:pt x="61" y="62"/>
                        </a:lnTo>
                        <a:lnTo>
                          <a:pt x="72" y="60"/>
                        </a:lnTo>
                        <a:lnTo>
                          <a:pt x="83" y="57"/>
                        </a:lnTo>
                        <a:lnTo>
                          <a:pt x="95" y="54"/>
                        </a:lnTo>
                        <a:lnTo>
                          <a:pt x="105" y="51"/>
                        </a:lnTo>
                        <a:lnTo>
                          <a:pt x="142" y="45"/>
                        </a:lnTo>
                        <a:lnTo>
                          <a:pt x="179" y="39"/>
                        </a:lnTo>
                        <a:lnTo>
                          <a:pt x="217" y="33"/>
                        </a:lnTo>
                        <a:lnTo>
                          <a:pt x="253" y="28"/>
                        </a:lnTo>
                        <a:lnTo>
                          <a:pt x="292" y="25"/>
                        </a:lnTo>
                        <a:lnTo>
                          <a:pt x="329" y="21"/>
                        </a:lnTo>
                        <a:lnTo>
                          <a:pt x="367" y="18"/>
                        </a:lnTo>
                        <a:lnTo>
                          <a:pt x="405" y="16"/>
                        </a:lnTo>
                        <a:lnTo>
                          <a:pt x="443" y="14"/>
                        </a:lnTo>
                        <a:lnTo>
                          <a:pt x="480" y="14"/>
                        </a:lnTo>
                        <a:lnTo>
                          <a:pt x="487" y="14"/>
                        </a:lnTo>
                        <a:lnTo>
                          <a:pt x="492" y="14"/>
                        </a:lnTo>
                        <a:lnTo>
                          <a:pt x="497" y="13"/>
                        </a:lnTo>
                        <a:lnTo>
                          <a:pt x="503" y="13"/>
                        </a:lnTo>
                        <a:lnTo>
                          <a:pt x="508" y="11"/>
                        </a:lnTo>
                        <a:lnTo>
                          <a:pt x="514" y="10"/>
                        </a:lnTo>
                        <a:lnTo>
                          <a:pt x="520" y="9"/>
                        </a:lnTo>
                        <a:lnTo>
                          <a:pt x="525" y="8"/>
                        </a:lnTo>
                        <a:lnTo>
                          <a:pt x="531" y="7"/>
                        </a:lnTo>
                        <a:lnTo>
                          <a:pt x="536" y="8"/>
                        </a:lnTo>
                        <a:lnTo>
                          <a:pt x="557" y="0"/>
                        </a:lnTo>
                        <a:lnTo>
                          <a:pt x="530" y="8"/>
                        </a:lnTo>
                        <a:lnTo>
                          <a:pt x="501" y="14"/>
                        </a:lnTo>
                        <a:lnTo>
                          <a:pt x="473" y="18"/>
                        </a:lnTo>
                        <a:lnTo>
                          <a:pt x="444" y="21"/>
                        </a:lnTo>
                        <a:lnTo>
                          <a:pt x="415" y="22"/>
                        </a:lnTo>
                        <a:lnTo>
                          <a:pt x="386" y="23"/>
                        </a:lnTo>
                        <a:lnTo>
                          <a:pt x="357" y="24"/>
                        </a:lnTo>
                        <a:lnTo>
                          <a:pt x="328" y="25"/>
                        </a:lnTo>
                        <a:lnTo>
                          <a:pt x="299" y="27"/>
                        </a:lnTo>
                        <a:lnTo>
                          <a:pt x="270" y="30"/>
                        </a:lnTo>
                        <a:lnTo>
                          <a:pt x="270" y="30"/>
                        </a:lnTo>
                        <a:lnTo>
                          <a:pt x="269" y="30"/>
                        </a:lnTo>
                        <a:close/>
                      </a:path>
                    </a:pathLst>
                  </a:custGeom>
                  <a:solidFill>
                    <a:srgbClr val="f0f0f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" bIns="-1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6" name=""/>
                  <p:cNvSpPr/>
                  <p:nvPr/>
                </p:nvSpPr>
                <p:spPr>
                  <a:xfrm>
                    <a:off x="1931760" y="5564520"/>
                    <a:ext cx="9072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86" h="37">
                        <a:moveTo>
                          <a:pt x="104" y="8"/>
                        </a:moveTo>
                        <a:lnTo>
                          <a:pt x="186" y="29"/>
                        </a:lnTo>
                        <a:lnTo>
                          <a:pt x="182" y="31"/>
                        </a:lnTo>
                        <a:lnTo>
                          <a:pt x="178" y="33"/>
                        </a:lnTo>
                        <a:lnTo>
                          <a:pt x="173" y="34"/>
                        </a:lnTo>
                        <a:lnTo>
                          <a:pt x="168" y="35"/>
                        </a:lnTo>
                        <a:lnTo>
                          <a:pt x="163" y="36"/>
                        </a:lnTo>
                        <a:lnTo>
                          <a:pt x="158" y="37"/>
                        </a:lnTo>
                        <a:lnTo>
                          <a:pt x="153" y="37"/>
                        </a:lnTo>
                        <a:lnTo>
                          <a:pt x="148" y="37"/>
                        </a:lnTo>
                        <a:lnTo>
                          <a:pt x="143" y="37"/>
                        </a:lnTo>
                        <a:lnTo>
                          <a:pt x="137" y="37"/>
                        </a:lnTo>
                        <a:lnTo>
                          <a:pt x="125" y="32"/>
                        </a:lnTo>
                        <a:lnTo>
                          <a:pt x="112" y="28"/>
                        </a:lnTo>
                        <a:lnTo>
                          <a:pt x="99" y="24"/>
                        </a:lnTo>
                        <a:lnTo>
                          <a:pt x="84" y="21"/>
                        </a:lnTo>
                        <a:lnTo>
                          <a:pt x="71" y="20"/>
                        </a:lnTo>
                        <a:lnTo>
                          <a:pt x="56" y="18"/>
                        </a:lnTo>
                        <a:lnTo>
                          <a:pt x="42" y="17"/>
                        </a:lnTo>
                        <a:lnTo>
                          <a:pt x="28" y="15"/>
                        </a:lnTo>
                        <a:lnTo>
                          <a:pt x="14" y="13"/>
                        </a:lnTo>
                        <a:lnTo>
                          <a:pt x="0" y="11"/>
                        </a:lnTo>
                        <a:lnTo>
                          <a:pt x="8" y="11"/>
                        </a:lnTo>
                        <a:lnTo>
                          <a:pt x="16" y="9"/>
                        </a:lnTo>
                        <a:lnTo>
                          <a:pt x="24" y="7"/>
                        </a:lnTo>
                        <a:lnTo>
                          <a:pt x="31" y="5"/>
                        </a:lnTo>
                        <a:lnTo>
                          <a:pt x="40" y="3"/>
                        </a:lnTo>
                        <a:lnTo>
                          <a:pt x="48" y="1"/>
                        </a:lnTo>
                        <a:lnTo>
                          <a:pt x="55" y="0"/>
                        </a:lnTo>
                        <a:lnTo>
                          <a:pt x="63" y="0"/>
                        </a:lnTo>
                        <a:lnTo>
                          <a:pt x="70" y="1"/>
                        </a:lnTo>
                        <a:lnTo>
                          <a:pt x="77" y="5"/>
                        </a:lnTo>
                        <a:lnTo>
                          <a:pt x="104" y="8"/>
                        </a:lnTo>
                        <a:lnTo>
                          <a:pt x="104" y="8"/>
                        </a:lnTo>
                        <a:close/>
                      </a:path>
                    </a:pathLst>
                  </a:custGeom>
                  <a:solidFill>
                    <a:srgbClr val="fff09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1904400" y="5575680"/>
                    <a:ext cx="66240" cy="1008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19">
                        <a:moveTo>
                          <a:pt x="136" y="12"/>
                        </a:moveTo>
                        <a:lnTo>
                          <a:pt x="122" y="12"/>
                        </a:lnTo>
                        <a:lnTo>
                          <a:pt x="108" y="11"/>
                        </a:lnTo>
                        <a:lnTo>
                          <a:pt x="95" y="11"/>
                        </a:lnTo>
                        <a:lnTo>
                          <a:pt x="81" y="12"/>
                        </a:lnTo>
                        <a:lnTo>
                          <a:pt x="68" y="12"/>
                        </a:lnTo>
                        <a:lnTo>
                          <a:pt x="54" y="13"/>
                        </a:lnTo>
                        <a:lnTo>
                          <a:pt x="41" y="14"/>
                        </a:lnTo>
                        <a:lnTo>
                          <a:pt x="28" y="16"/>
                        </a:lnTo>
                        <a:lnTo>
                          <a:pt x="14" y="17"/>
                        </a:lnTo>
                        <a:lnTo>
                          <a:pt x="0" y="19"/>
                        </a:lnTo>
                        <a:lnTo>
                          <a:pt x="21" y="1"/>
                        </a:lnTo>
                        <a:lnTo>
                          <a:pt x="34" y="0"/>
                        </a:lnTo>
                        <a:lnTo>
                          <a:pt x="46" y="1"/>
                        </a:lnTo>
                        <a:lnTo>
                          <a:pt x="58" y="1"/>
                        </a:lnTo>
                        <a:lnTo>
                          <a:pt x="68" y="3"/>
                        </a:lnTo>
                        <a:lnTo>
                          <a:pt x="79" y="5"/>
                        </a:lnTo>
                        <a:lnTo>
                          <a:pt x="90" y="7"/>
                        </a:lnTo>
                        <a:lnTo>
                          <a:pt x="100" y="9"/>
                        </a:lnTo>
                        <a:lnTo>
                          <a:pt x="112" y="11"/>
                        </a:lnTo>
                        <a:lnTo>
                          <a:pt x="123" y="12"/>
                        </a:lnTo>
                        <a:lnTo>
                          <a:pt x="136" y="13"/>
                        </a:lnTo>
                        <a:lnTo>
                          <a:pt x="136" y="13"/>
                        </a:lnTo>
                        <a:lnTo>
                          <a:pt x="136" y="12"/>
                        </a:lnTo>
                        <a:close/>
                      </a:path>
                    </a:pathLst>
                  </a:custGeom>
                  <a:solidFill>
                    <a:srgbClr val="fff09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8" name=""/>
                  <p:cNvSpPr/>
                  <p:nvPr/>
                </p:nvSpPr>
                <p:spPr>
                  <a:xfrm>
                    <a:off x="1656720" y="5586480"/>
                    <a:ext cx="148320" cy="40320"/>
                  </a:xfrm>
                  <a:custGeom>
                    <a:avLst/>
                    <a:gdLst/>
                    <a:ahLst/>
                    <a:rect l="l" t="t" r="r" b="b"/>
                    <a:pathLst>
                      <a:path w="304" h="76">
                        <a:moveTo>
                          <a:pt x="189" y="53"/>
                        </a:moveTo>
                        <a:lnTo>
                          <a:pt x="193" y="56"/>
                        </a:lnTo>
                        <a:lnTo>
                          <a:pt x="198" y="56"/>
                        </a:lnTo>
                        <a:lnTo>
                          <a:pt x="202" y="56"/>
                        </a:lnTo>
                        <a:lnTo>
                          <a:pt x="207" y="55"/>
                        </a:lnTo>
                        <a:lnTo>
                          <a:pt x="212" y="55"/>
                        </a:lnTo>
                        <a:lnTo>
                          <a:pt x="216" y="55"/>
                        </a:lnTo>
                        <a:lnTo>
                          <a:pt x="221" y="55"/>
                        </a:lnTo>
                        <a:lnTo>
                          <a:pt x="225" y="55"/>
                        </a:lnTo>
                        <a:lnTo>
                          <a:pt x="228" y="56"/>
                        </a:lnTo>
                        <a:lnTo>
                          <a:pt x="231" y="57"/>
                        </a:lnTo>
                        <a:lnTo>
                          <a:pt x="232" y="60"/>
                        </a:lnTo>
                        <a:lnTo>
                          <a:pt x="234" y="60"/>
                        </a:lnTo>
                        <a:lnTo>
                          <a:pt x="235" y="60"/>
                        </a:lnTo>
                        <a:lnTo>
                          <a:pt x="236" y="59"/>
                        </a:lnTo>
                        <a:lnTo>
                          <a:pt x="237" y="59"/>
                        </a:lnTo>
                        <a:lnTo>
                          <a:pt x="238" y="58"/>
                        </a:lnTo>
                        <a:lnTo>
                          <a:pt x="238" y="57"/>
                        </a:lnTo>
                        <a:lnTo>
                          <a:pt x="238" y="56"/>
                        </a:lnTo>
                        <a:lnTo>
                          <a:pt x="238" y="55"/>
                        </a:lnTo>
                        <a:lnTo>
                          <a:pt x="238" y="55"/>
                        </a:lnTo>
                        <a:lnTo>
                          <a:pt x="238" y="55"/>
                        </a:lnTo>
                        <a:lnTo>
                          <a:pt x="302" y="55"/>
                        </a:lnTo>
                        <a:lnTo>
                          <a:pt x="301" y="57"/>
                        </a:lnTo>
                        <a:lnTo>
                          <a:pt x="301" y="59"/>
                        </a:lnTo>
                        <a:lnTo>
                          <a:pt x="300" y="61"/>
                        </a:lnTo>
                        <a:lnTo>
                          <a:pt x="300" y="64"/>
                        </a:lnTo>
                        <a:lnTo>
                          <a:pt x="300" y="66"/>
                        </a:lnTo>
                        <a:lnTo>
                          <a:pt x="300" y="68"/>
                        </a:lnTo>
                        <a:lnTo>
                          <a:pt x="300" y="70"/>
                        </a:lnTo>
                        <a:lnTo>
                          <a:pt x="301" y="73"/>
                        </a:lnTo>
                        <a:lnTo>
                          <a:pt x="302" y="74"/>
                        </a:lnTo>
                        <a:lnTo>
                          <a:pt x="304" y="76"/>
                        </a:lnTo>
                        <a:lnTo>
                          <a:pt x="280" y="76"/>
                        </a:lnTo>
                        <a:lnTo>
                          <a:pt x="255" y="76"/>
                        </a:lnTo>
                        <a:lnTo>
                          <a:pt x="231" y="75"/>
                        </a:lnTo>
                        <a:lnTo>
                          <a:pt x="206" y="74"/>
                        </a:lnTo>
                        <a:lnTo>
                          <a:pt x="182" y="72"/>
                        </a:lnTo>
                        <a:lnTo>
                          <a:pt x="158" y="69"/>
                        </a:lnTo>
                        <a:lnTo>
                          <a:pt x="134" y="66"/>
                        </a:lnTo>
                        <a:lnTo>
                          <a:pt x="110" y="63"/>
                        </a:lnTo>
                        <a:lnTo>
                          <a:pt x="87" y="59"/>
                        </a:lnTo>
                        <a:lnTo>
                          <a:pt x="64" y="55"/>
                        </a:lnTo>
                        <a:lnTo>
                          <a:pt x="57" y="52"/>
                        </a:lnTo>
                        <a:lnTo>
                          <a:pt x="51" y="50"/>
                        </a:lnTo>
                        <a:lnTo>
                          <a:pt x="44" y="48"/>
                        </a:lnTo>
                        <a:lnTo>
                          <a:pt x="37" y="46"/>
                        </a:lnTo>
                        <a:lnTo>
                          <a:pt x="30" y="44"/>
                        </a:lnTo>
                        <a:lnTo>
                          <a:pt x="23" y="42"/>
                        </a:lnTo>
                        <a:lnTo>
                          <a:pt x="16" y="39"/>
                        </a:lnTo>
                        <a:lnTo>
                          <a:pt x="11" y="35"/>
                        </a:lnTo>
                        <a:lnTo>
                          <a:pt x="5" y="31"/>
                        </a:lnTo>
                        <a:lnTo>
                          <a:pt x="0" y="26"/>
                        </a:lnTo>
                        <a:lnTo>
                          <a:pt x="4" y="0"/>
                        </a:lnTo>
                        <a:lnTo>
                          <a:pt x="20" y="10"/>
                        </a:lnTo>
                        <a:lnTo>
                          <a:pt x="37" y="19"/>
                        </a:lnTo>
                        <a:lnTo>
                          <a:pt x="54" y="27"/>
                        </a:lnTo>
                        <a:lnTo>
                          <a:pt x="72" y="34"/>
                        </a:lnTo>
                        <a:lnTo>
                          <a:pt x="91" y="39"/>
                        </a:lnTo>
                        <a:lnTo>
                          <a:pt x="110" y="43"/>
                        </a:lnTo>
                        <a:lnTo>
                          <a:pt x="130" y="47"/>
                        </a:lnTo>
                        <a:lnTo>
                          <a:pt x="150" y="49"/>
                        </a:lnTo>
                        <a:lnTo>
                          <a:pt x="169" y="52"/>
                        </a:lnTo>
                        <a:lnTo>
                          <a:pt x="189" y="53"/>
                        </a:lnTo>
                        <a:lnTo>
                          <a:pt x="189" y="53"/>
                        </a:lnTo>
                        <a:close/>
                      </a:path>
                    </a:pathLst>
                  </a:custGeom>
                  <a:solidFill>
                    <a:srgbClr val="e3a9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480" bIns="-6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9" name=""/>
                  <p:cNvSpPr/>
                  <p:nvPr/>
                </p:nvSpPr>
                <p:spPr>
                  <a:xfrm>
                    <a:off x="1820160" y="5594400"/>
                    <a:ext cx="174600" cy="34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8" h="65">
                        <a:moveTo>
                          <a:pt x="346" y="0"/>
                        </a:moveTo>
                        <a:lnTo>
                          <a:pt x="348" y="2"/>
                        </a:lnTo>
                        <a:lnTo>
                          <a:pt x="350" y="3"/>
                        </a:lnTo>
                        <a:lnTo>
                          <a:pt x="351" y="4"/>
                        </a:lnTo>
                        <a:lnTo>
                          <a:pt x="354" y="6"/>
                        </a:lnTo>
                        <a:lnTo>
                          <a:pt x="355" y="7"/>
                        </a:lnTo>
                        <a:lnTo>
                          <a:pt x="356" y="9"/>
                        </a:lnTo>
                        <a:lnTo>
                          <a:pt x="357" y="11"/>
                        </a:lnTo>
                        <a:lnTo>
                          <a:pt x="358" y="13"/>
                        </a:lnTo>
                        <a:lnTo>
                          <a:pt x="358" y="15"/>
                        </a:lnTo>
                        <a:lnTo>
                          <a:pt x="357" y="17"/>
                        </a:lnTo>
                        <a:lnTo>
                          <a:pt x="350" y="23"/>
                        </a:lnTo>
                        <a:lnTo>
                          <a:pt x="342" y="28"/>
                        </a:lnTo>
                        <a:lnTo>
                          <a:pt x="335" y="32"/>
                        </a:lnTo>
                        <a:lnTo>
                          <a:pt x="326" y="35"/>
                        </a:lnTo>
                        <a:lnTo>
                          <a:pt x="317" y="38"/>
                        </a:lnTo>
                        <a:lnTo>
                          <a:pt x="308" y="40"/>
                        </a:lnTo>
                        <a:lnTo>
                          <a:pt x="299" y="42"/>
                        </a:lnTo>
                        <a:lnTo>
                          <a:pt x="289" y="44"/>
                        </a:lnTo>
                        <a:lnTo>
                          <a:pt x="280" y="45"/>
                        </a:lnTo>
                        <a:lnTo>
                          <a:pt x="271" y="46"/>
                        </a:lnTo>
                        <a:lnTo>
                          <a:pt x="269" y="47"/>
                        </a:lnTo>
                        <a:lnTo>
                          <a:pt x="268" y="48"/>
                        </a:lnTo>
                        <a:lnTo>
                          <a:pt x="266" y="49"/>
                        </a:lnTo>
                        <a:lnTo>
                          <a:pt x="265" y="49"/>
                        </a:lnTo>
                        <a:lnTo>
                          <a:pt x="262" y="50"/>
                        </a:lnTo>
                        <a:lnTo>
                          <a:pt x="260" y="50"/>
                        </a:lnTo>
                        <a:lnTo>
                          <a:pt x="258" y="50"/>
                        </a:lnTo>
                        <a:lnTo>
                          <a:pt x="256" y="51"/>
                        </a:lnTo>
                        <a:lnTo>
                          <a:pt x="254" y="52"/>
                        </a:lnTo>
                        <a:lnTo>
                          <a:pt x="253" y="52"/>
                        </a:lnTo>
                        <a:lnTo>
                          <a:pt x="228" y="55"/>
                        </a:lnTo>
                        <a:lnTo>
                          <a:pt x="203" y="58"/>
                        </a:lnTo>
                        <a:lnTo>
                          <a:pt x="179" y="61"/>
                        </a:lnTo>
                        <a:lnTo>
                          <a:pt x="154" y="62"/>
                        </a:lnTo>
                        <a:lnTo>
                          <a:pt x="130" y="64"/>
                        </a:lnTo>
                        <a:lnTo>
                          <a:pt x="104" y="65"/>
                        </a:lnTo>
                        <a:lnTo>
                          <a:pt x="80" y="64"/>
                        </a:lnTo>
                        <a:lnTo>
                          <a:pt x="55" y="62"/>
                        </a:lnTo>
                        <a:lnTo>
                          <a:pt x="30" y="59"/>
                        </a:lnTo>
                        <a:lnTo>
                          <a:pt x="6" y="54"/>
                        </a:lnTo>
                        <a:lnTo>
                          <a:pt x="0" y="49"/>
                        </a:lnTo>
                        <a:lnTo>
                          <a:pt x="5" y="45"/>
                        </a:lnTo>
                        <a:lnTo>
                          <a:pt x="10" y="42"/>
                        </a:lnTo>
                        <a:lnTo>
                          <a:pt x="16" y="39"/>
                        </a:lnTo>
                        <a:lnTo>
                          <a:pt x="22" y="37"/>
                        </a:lnTo>
                        <a:lnTo>
                          <a:pt x="29" y="34"/>
                        </a:lnTo>
                        <a:lnTo>
                          <a:pt x="35" y="32"/>
                        </a:lnTo>
                        <a:lnTo>
                          <a:pt x="42" y="30"/>
                        </a:lnTo>
                        <a:lnTo>
                          <a:pt x="48" y="28"/>
                        </a:lnTo>
                        <a:lnTo>
                          <a:pt x="55" y="27"/>
                        </a:lnTo>
                        <a:lnTo>
                          <a:pt x="62" y="25"/>
                        </a:lnTo>
                        <a:lnTo>
                          <a:pt x="89" y="17"/>
                        </a:lnTo>
                        <a:lnTo>
                          <a:pt x="117" y="12"/>
                        </a:lnTo>
                        <a:lnTo>
                          <a:pt x="144" y="8"/>
                        </a:lnTo>
                        <a:lnTo>
                          <a:pt x="172" y="4"/>
                        </a:lnTo>
                        <a:lnTo>
                          <a:pt x="200" y="2"/>
                        </a:lnTo>
                        <a:lnTo>
                          <a:pt x="229" y="1"/>
                        </a:lnTo>
                        <a:lnTo>
                          <a:pt x="257" y="0"/>
                        </a:lnTo>
                        <a:lnTo>
                          <a:pt x="286" y="0"/>
                        </a:lnTo>
                        <a:lnTo>
                          <a:pt x="316" y="0"/>
                        </a:lnTo>
                        <a:lnTo>
                          <a:pt x="347" y="0"/>
                        </a:lnTo>
                        <a:lnTo>
                          <a:pt x="347" y="0"/>
                        </a:lnTo>
                        <a:lnTo>
                          <a:pt x="346" y="0"/>
                        </a:lnTo>
                        <a:close/>
                      </a:path>
                    </a:pathLst>
                  </a:custGeom>
                  <a:solidFill>
                    <a:srgbClr val="cfcf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1975680" y="5600520"/>
                    <a:ext cx="7416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152" h="71">
                        <a:moveTo>
                          <a:pt x="152" y="5"/>
                        </a:moveTo>
                        <a:lnTo>
                          <a:pt x="149" y="9"/>
                        </a:lnTo>
                        <a:lnTo>
                          <a:pt x="147" y="13"/>
                        </a:lnTo>
                        <a:lnTo>
                          <a:pt x="143" y="17"/>
                        </a:lnTo>
                        <a:lnTo>
                          <a:pt x="139" y="21"/>
                        </a:lnTo>
                        <a:lnTo>
                          <a:pt x="136" y="24"/>
                        </a:lnTo>
                        <a:lnTo>
                          <a:pt x="131" y="27"/>
                        </a:lnTo>
                        <a:lnTo>
                          <a:pt x="126" y="31"/>
                        </a:lnTo>
                        <a:lnTo>
                          <a:pt x="121" y="34"/>
                        </a:lnTo>
                        <a:lnTo>
                          <a:pt x="116" y="37"/>
                        </a:lnTo>
                        <a:lnTo>
                          <a:pt x="111" y="39"/>
                        </a:lnTo>
                        <a:lnTo>
                          <a:pt x="100" y="43"/>
                        </a:lnTo>
                        <a:lnTo>
                          <a:pt x="89" y="46"/>
                        </a:lnTo>
                        <a:lnTo>
                          <a:pt x="79" y="50"/>
                        </a:lnTo>
                        <a:lnTo>
                          <a:pt x="68" y="53"/>
                        </a:lnTo>
                        <a:lnTo>
                          <a:pt x="57" y="56"/>
                        </a:lnTo>
                        <a:lnTo>
                          <a:pt x="46" y="60"/>
                        </a:lnTo>
                        <a:lnTo>
                          <a:pt x="34" y="63"/>
                        </a:lnTo>
                        <a:lnTo>
                          <a:pt x="23" y="67"/>
                        </a:lnTo>
                        <a:lnTo>
                          <a:pt x="11" y="69"/>
                        </a:lnTo>
                        <a:lnTo>
                          <a:pt x="0" y="71"/>
                        </a:lnTo>
                        <a:lnTo>
                          <a:pt x="10" y="69"/>
                        </a:lnTo>
                        <a:lnTo>
                          <a:pt x="20" y="64"/>
                        </a:lnTo>
                        <a:lnTo>
                          <a:pt x="27" y="59"/>
                        </a:lnTo>
                        <a:lnTo>
                          <a:pt x="34" y="52"/>
                        </a:lnTo>
                        <a:lnTo>
                          <a:pt x="41" y="44"/>
                        </a:lnTo>
                        <a:lnTo>
                          <a:pt x="48" y="37"/>
                        </a:lnTo>
                        <a:lnTo>
                          <a:pt x="56" y="30"/>
                        </a:lnTo>
                        <a:lnTo>
                          <a:pt x="65" y="23"/>
                        </a:lnTo>
                        <a:lnTo>
                          <a:pt x="76" y="18"/>
                        </a:lnTo>
                        <a:lnTo>
                          <a:pt x="88" y="15"/>
                        </a:lnTo>
                        <a:lnTo>
                          <a:pt x="103" y="10"/>
                        </a:lnTo>
                        <a:lnTo>
                          <a:pt x="105" y="12"/>
                        </a:lnTo>
                        <a:lnTo>
                          <a:pt x="106" y="14"/>
                        </a:lnTo>
                        <a:lnTo>
                          <a:pt x="106" y="17"/>
                        </a:lnTo>
                        <a:lnTo>
                          <a:pt x="106" y="20"/>
                        </a:lnTo>
                        <a:lnTo>
                          <a:pt x="106" y="23"/>
                        </a:lnTo>
                        <a:lnTo>
                          <a:pt x="106" y="25"/>
                        </a:lnTo>
                        <a:lnTo>
                          <a:pt x="107" y="27"/>
                        </a:lnTo>
                        <a:lnTo>
                          <a:pt x="108" y="29"/>
                        </a:lnTo>
                        <a:lnTo>
                          <a:pt x="111" y="29"/>
                        </a:lnTo>
                        <a:lnTo>
                          <a:pt x="115" y="29"/>
                        </a:lnTo>
                        <a:lnTo>
                          <a:pt x="118" y="27"/>
                        </a:lnTo>
                        <a:lnTo>
                          <a:pt x="119" y="26"/>
                        </a:lnTo>
                        <a:lnTo>
                          <a:pt x="121" y="24"/>
                        </a:lnTo>
                        <a:lnTo>
                          <a:pt x="122" y="22"/>
                        </a:lnTo>
                        <a:lnTo>
                          <a:pt x="122" y="20"/>
                        </a:lnTo>
                        <a:lnTo>
                          <a:pt x="122" y="17"/>
                        </a:lnTo>
                        <a:lnTo>
                          <a:pt x="121" y="15"/>
                        </a:lnTo>
                        <a:lnTo>
                          <a:pt x="120" y="13"/>
                        </a:lnTo>
                        <a:lnTo>
                          <a:pt x="119" y="11"/>
                        </a:lnTo>
                        <a:lnTo>
                          <a:pt x="119" y="9"/>
                        </a:lnTo>
                        <a:lnTo>
                          <a:pt x="117" y="8"/>
                        </a:lnTo>
                        <a:lnTo>
                          <a:pt x="120" y="6"/>
                        </a:lnTo>
                        <a:lnTo>
                          <a:pt x="124" y="5"/>
                        </a:lnTo>
                        <a:lnTo>
                          <a:pt x="127" y="4"/>
                        </a:lnTo>
                        <a:lnTo>
                          <a:pt x="131" y="3"/>
                        </a:lnTo>
                        <a:lnTo>
                          <a:pt x="134" y="1"/>
                        </a:lnTo>
                        <a:lnTo>
                          <a:pt x="138" y="1"/>
                        </a:lnTo>
                        <a:lnTo>
                          <a:pt x="141" y="0"/>
                        </a:lnTo>
                        <a:lnTo>
                          <a:pt x="145" y="0"/>
                        </a:lnTo>
                        <a:lnTo>
                          <a:pt x="148" y="0"/>
                        </a:lnTo>
                        <a:lnTo>
                          <a:pt x="152" y="0"/>
                        </a:lnTo>
                        <a:lnTo>
                          <a:pt x="152" y="5"/>
                        </a:lnTo>
                        <a:lnTo>
                          <a:pt x="152" y="5"/>
                        </a:lnTo>
                        <a:close/>
                      </a:path>
                    </a:pathLst>
                  </a:custGeom>
                  <a:solidFill>
                    <a:srgbClr val="fff09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000" bIns="-9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1" name=""/>
                  <p:cNvSpPr/>
                  <p:nvPr/>
                </p:nvSpPr>
                <p:spPr>
                  <a:xfrm>
                    <a:off x="1810800" y="5616360"/>
                    <a:ext cx="1742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7" h="37">
                        <a:moveTo>
                          <a:pt x="6" y="17"/>
                        </a:moveTo>
                        <a:lnTo>
                          <a:pt x="24" y="24"/>
                        </a:lnTo>
                        <a:lnTo>
                          <a:pt x="43" y="28"/>
                        </a:lnTo>
                        <a:lnTo>
                          <a:pt x="61" y="31"/>
                        </a:lnTo>
                        <a:lnTo>
                          <a:pt x="80" y="33"/>
                        </a:lnTo>
                        <a:lnTo>
                          <a:pt x="99" y="34"/>
                        </a:lnTo>
                        <a:lnTo>
                          <a:pt x="118" y="34"/>
                        </a:lnTo>
                        <a:lnTo>
                          <a:pt x="138" y="34"/>
                        </a:lnTo>
                        <a:lnTo>
                          <a:pt x="157" y="33"/>
                        </a:lnTo>
                        <a:lnTo>
                          <a:pt x="177" y="31"/>
                        </a:lnTo>
                        <a:lnTo>
                          <a:pt x="198" y="31"/>
                        </a:lnTo>
                        <a:lnTo>
                          <a:pt x="213" y="28"/>
                        </a:lnTo>
                        <a:lnTo>
                          <a:pt x="230" y="26"/>
                        </a:lnTo>
                        <a:lnTo>
                          <a:pt x="246" y="24"/>
                        </a:lnTo>
                        <a:lnTo>
                          <a:pt x="263" y="22"/>
                        </a:lnTo>
                        <a:lnTo>
                          <a:pt x="279" y="20"/>
                        </a:lnTo>
                        <a:lnTo>
                          <a:pt x="295" y="17"/>
                        </a:lnTo>
                        <a:lnTo>
                          <a:pt x="311" y="14"/>
                        </a:lnTo>
                        <a:lnTo>
                          <a:pt x="328" y="11"/>
                        </a:lnTo>
                        <a:lnTo>
                          <a:pt x="343" y="7"/>
                        </a:lnTo>
                        <a:lnTo>
                          <a:pt x="357" y="2"/>
                        </a:lnTo>
                        <a:lnTo>
                          <a:pt x="351" y="5"/>
                        </a:lnTo>
                        <a:lnTo>
                          <a:pt x="344" y="9"/>
                        </a:lnTo>
                        <a:lnTo>
                          <a:pt x="338" y="12"/>
                        </a:lnTo>
                        <a:lnTo>
                          <a:pt x="331" y="14"/>
                        </a:lnTo>
                        <a:lnTo>
                          <a:pt x="324" y="17"/>
                        </a:lnTo>
                        <a:lnTo>
                          <a:pt x="317" y="19"/>
                        </a:lnTo>
                        <a:lnTo>
                          <a:pt x="310" y="21"/>
                        </a:lnTo>
                        <a:lnTo>
                          <a:pt x="302" y="22"/>
                        </a:lnTo>
                        <a:lnTo>
                          <a:pt x="295" y="23"/>
                        </a:lnTo>
                        <a:lnTo>
                          <a:pt x="288" y="23"/>
                        </a:lnTo>
                        <a:lnTo>
                          <a:pt x="286" y="24"/>
                        </a:lnTo>
                        <a:lnTo>
                          <a:pt x="284" y="25"/>
                        </a:lnTo>
                        <a:lnTo>
                          <a:pt x="282" y="26"/>
                        </a:lnTo>
                        <a:lnTo>
                          <a:pt x="279" y="26"/>
                        </a:lnTo>
                        <a:lnTo>
                          <a:pt x="277" y="27"/>
                        </a:lnTo>
                        <a:lnTo>
                          <a:pt x="275" y="28"/>
                        </a:lnTo>
                        <a:lnTo>
                          <a:pt x="272" y="28"/>
                        </a:lnTo>
                        <a:lnTo>
                          <a:pt x="269" y="28"/>
                        </a:lnTo>
                        <a:lnTo>
                          <a:pt x="267" y="28"/>
                        </a:lnTo>
                        <a:lnTo>
                          <a:pt x="265" y="28"/>
                        </a:lnTo>
                        <a:lnTo>
                          <a:pt x="250" y="29"/>
                        </a:lnTo>
                        <a:lnTo>
                          <a:pt x="235" y="31"/>
                        </a:lnTo>
                        <a:lnTo>
                          <a:pt x="219" y="32"/>
                        </a:lnTo>
                        <a:lnTo>
                          <a:pt x="203" y="33"/>
                        </a:lnTo>
                        <a:lnTo>
                          <a:pt x="187" y="34"/>
                        </a:lnTo>
                        <a:lnTo>
                          <a:pt x="171" y="35"/>
                        </a:lnTo>
                        <a:lnTo>
                          <a:pt x="154" y="35"/>
                        </a:lnTo>
                        <a:lnTo>
                          <a:pt x="138" y="36"/>
                        </a:lnTo>
                        <a:lnTo>
                          <a:pt x="122" y="37"/>
                        </a:lnTo>
                        <a:lnTo>
                          <a:pt x="105" y="37"/>
                        </a:lnTo>
                        <a:lnTo>
                          <a:pt x="94" y="35"/>
                        </a:lnTo>
                        <a:lnTo>
                          <a:pt x="83" y="34"/>
                        </a:lnTo>
                        <a:lnTo>
                          <a:pt x="71" y="33"/>
                        </a:lnTo>
                        <a:lnTo>
                          <a:pt x="60" y="31"/>
                        </a:lnTo>
                        <a:lnTo>
                          <a:pt x="48" y="31"/>
                        </a:lnTo>
                        <a:lnTo>
                          <a:pt x="37" y="29"/>
                        </a:lnTo>
                        <a:lnTo>
                          <a:pt x="26" y="27"/>
                        </a:lnTo>
                        <a:lnTo>
                          <a:pt x="16" y="24"/>
                        </a:lnTo>
                        <a:lnTo>
                          <a:pt x="8" y="19"/>
                        </a:lnTo>
                        <a:lnTo>
                          <a:pt x="0" y="13"/>
                        </a:lnTo>
                        <a:lnTo>
                          <a:pt x="0" y="11"/>
                        </a:lnTo>
                        <a:lnTo>
                          <a:pt x="0" y="10"/>
                        </a:lnTo>
                        <a:lnTo>
                          <a:pt x="0" y="8"/>
                        </a:lnTo>
                        <a:lnTo>
                          <a:pt x="1" y="7"/>
                        </a:lnTo>
                        <a:lnTo>
                          <a:pt x="1" y="6"/>
                        </a:lnTo>
                        <a:lnTo>
                          <a:pt x="1" y="4"/>
                        </a:lnTo>
                        <a:lnTo>
                          <a:pt x="2" y="3"/>
                        </a:lnTo>
                        <a:lnTo>
                          <a:pt x="3" y="2"/>
                        </a:lnTo>
                        <a:lnTo>
                          <a:pt x="5" y="1"/>
                        </a:lnTo>
                        <a:lnTo>
                          <a:pt x="6" y="0"/>
                        </a:lnTo>
                        <a:lnTo>
                          <a:pt x="7" y="1"/>
                        </a:lnTo>
                        <a:lnTo>
                          <a:pt x="7" y="3"/>
                        </a:lnTo>
                        <a:lnTo>
                          <a:pt x="7" y="4"/>
                        </a:lnTo>
                        <a:lnTo>
                          <a:pt x="6" y="6"/>
                        </a:lnTo>
                        <a:lnTo>
                          <a:pt x="5" y="8"/>
                        </a:lnTo>
                        <a:lnTo>
                          <a:pt x="5" y="10"/>
                        </a:lnTo>
                        <a:lnTo>
                          <a:pt x="5" y="12"/>
                        </a:lnTo>
                        <a:lnTo>
                          <a:pt x="5" y="13"/>
                        </a:lnTo>
                        <a:lnTo>
                          <a:pt x="5" y="16"/>
                        </a:lnTo>
                        <a:lnTo>
                          <a:pt x="6" y="17"/>
                        </a:lnTo>
                        <a:lnTo>
                          <a:pt x="6" y="17"/>
                        </a:lnTo>
                        <a:close/>
                      </a:path>
                    </a:pathLst>
                  </a:custGeom>
                  <a:solidFill>
                    <a:srgbClr val="f0f0f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2" name=""/>
                  <p:cNvSpPr/>
                  <p:nvPr/>
                </p:nvSpPr>
                <p:spPr>
                  <a:xfrm>
                    <a:off x="1847160" y="5628240"/>
                    <a:ext cx="13464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6" h="41">
                        <a:moveTo>
                          <a:pt x="80" y="39"/>
                        </a:moveTo>
                        <a:lnTo>
                          <a:pt x="72" y="38"/>
                        </a:lnTo>
                        <a:lnTo>
                          <a:pt x="64" y="36"/>
                        </a:lnTo>
                        <a:lnTo>
                          <a:pt x="56" y="35"/>
                        </a:lnTo>
                        <a:lnTo>
                          <a:pt x="48" y="34"/>
                        </a:lnTo>
                        <a:lnTo>
                          <a:pt x="39" y="32"/>
                        </a:lnTo>
                        <a:lnTo>
                          <a:pt x="32" y="31"/>
                        </a:lnTo>
                        <a:lnTo>
                          <a:pt x="23" y="29"/>
                        </a:lnTo>
                        <a:lnTo>
                          <a:pt x="16" y="28"/>
                        </a:lnTo>
                        <a:lnTo>
                          <a:pt x="8" y="26"/>
                        </a:lnTo>
                        <a:lnTo>
                          <a:pt x="0" y="24"/>
                        </a:lnTo>
                        <a:lnTo>
                          <a:pt x="21" y="25"/>
                        </a:lnTo>
                        <a:lnTo>
                          <a:pt x="43" y="25"/>
                        </a:lnTo>
                        <a:lnTo>
                          <a:pt x="65" y="25"/>
                        </a:lnTo>
                        <a:lnTo>
                          <a:pt x="88" y="25"/>
                        </a:lnTo>
                        <a:lnTo>
                          <a:pt x="111" y="25"/>
                        </a:lnTo>
                        <a:lnTo>
                          <a:pt x="135" y="24"/>
                        </a:lnTo>
                        <a:lnTo>
                          <a:pt x="158" y="22"/>
                        </a:lnTo>
                        <a:lnTo>
                          <a:pt x="181" y="20"/>
                        </a:lnTo>
                        <a:lnTo>
                          <a:pt x="203" y="17"/>
                        </a:lnTo>
                        <a:lnTo>
                          <a:pt x="224" y="13"/>
                        </a:lnTo>
                        <a:lnTo>
                          <a:pt x="227" y="15"/>
                        </a:lnTo>
                        <a:lnTo>
                          <a:pt x="229" y="15"/>
                        </a:lnTo>
                        <a:lnTo>
                          <a:pt x="231" y="15"/>
                        </a:lnTo>
                        <a:lnTo>
                          <a:pt x="233" y="15"/>
                        </a:lnTo>
                        <a:lnTo>
                          <a:pt x="234" y="13"/>
                        </a:lnTo>
                        <a:lnTo>
                          <a:pt x="237" y="12"/>
                        </a:lnTo>
                        <a:lnTo>
                          <a:pt x="238" y="11"/>
                        </a:lnTo>
                        <a:lnTo>
                          <a:pt x="240" y="11"/>
                        </a:lnTo>
                        <a:lnTo>
                          <a:pt x="242" y="9"/>
                        </a:lnTo>
                        <a:lnTo>
                          <a:pt x="244" y="9"/>
                        </a:lnTo>
                        <a:lnTo>
                          <a:pt x="276" y="0"/>
                        </a:lnTo>
                        <a:lnTo>
                          <a:pt x="257" y="8"/>
                        </a:lnTo>
                        <a:lnTo>
                          <a:pt x="239" y="16"/>
                        </a:lnTo>
                        <a:lnTo>
                          <a:pt x="221" y="23"/>
                        </a:lnTo>
                        <a:lnTo>
                          <a:pt x="201" y="29"/>
                        </a:lnTo>
                        <a:lnTo>
                          <a:pt x="182" y="34"/>
                        </a:lnTo>
                        <a:lnTo>
                          <a:pt x="162" y="37"/>
                        </a:lnTo>
                        <a:lnTo>
                          <a:pt x="142" y="40"/>
                        </a:lnTo>
                        <a:lnTo>
                          <a:pt x="122" y="41"/>
                        </a:lnTo>
                        <a:lnTo>
                          <a:pt x="101" y="41"/>
                        </a:lnTo>
                        <a:lnTo>
                          <a:pt x="80" y="39"/>
                        </a:lnTo>
                        <a:lnTo>
                          <a:pt x="80" y="39"/>
                        </a:lnTo>
                        <a:close/>
                      </a:path>
                    </a:pathLst>
                  </a:custGeom>
                  <a:solidFill>
                    <a:srgbClr val="9e9e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1573560" y="5679000"/>
                    <a:ext cx="44964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921" h="58">
                        <a:moveTo>
                          <a:pt x="252" y="38"/>
                        </a:moveTo>
                        <a:lnTo>
                          <a:pt x="310" y="41"/>
                        </a:lnTo>
                        <a:lnTo>
                          <a:pt x="367" y="44"/>
                        </a:lnTo>
                        <a:lnTo>
                          <a:pt x="424" y="47"/>
                        </a:lnTo>
                        <a:lnTo>
                          <a:pt x="480" y="48"/>
                        </a:lnTo>
                        <a:lnTo>
                          <a:pt x="536" y="49"/>
                        </a:lnTo>
                        <a:lnTo>
                          <a:pt x="592" y="48"/>
                        </a:lnTo>
                        <a:lnTo>
                          <a:pt x="648" y="47"/>
                        </a:lnTo>
                        <a:lnTo>
                          <a:pt x="704" y="43"/>
                        </a:lnTo>
                        <a:lnTo>
                          <a:pt x="760" y="36"/>
                        </a:lnTo>
                        <a:lnTo>
                          <a:pt x="817" y="27"/>
                        </a:lnTo>
                        <a:lnTo>
                          <a:pt x="827" y="27"/>
                        </a:lnTo>
                        <a:lnTo>
                          <a:pt x="837" y="26"/>
                        </a:lnTo>
                        <a:lnTo>
                          <a:pt x="848" y="25"/>
                        </a:lnTo>
                        <a:lnTo>
                          <a:pt x="859" y="23"/>
                        </a:lnTo>
                        <a:lnTo>
                          <a:pt x="869" y="22"/>
                        </a:lnTo>
                        <a:lnTo>
                          <a:pt x="880" y="20"/>
                        </a:lnTo>
                        <a:lnTo>
                          <a:pt x="890" y="18"/>
                        </a:lnTo>
                        <a:lnTo>
                          <a:pt x="900" y="16"/>
                        </a:lnTo>
                        <a:lnTo>
                          <a:pt x="911" y="14"/>
                        </a:lnTo>
                        <a:lnTo>
                          <a:pt x="921" y="13"/>
                        </a:lnTo>
                        <a:lnTo>
                          <a:pt x="888" y="24"/>
                        </a:lnTo>
                        <a:lnTo>
                          <a:pt x="853" y="34"/>
                        </a:lnTo>
                        <a:lnTo>
                          <a:pt x="817" y="41"/>
                        </a:lnTo>
                        <a:lnTo>
                          <a:pt x="780" y="46"/>
                        </a:lnTo>
                        <a:lnTo>
                          <a:pt x="741" y="49"/>
                        </a:lnTo>
                        <a:lnTo>
                          <a:pt x="703" y="52"/>
                        </a:lnTo>
                        <a:lnTo>
                          <a:pt x="665" y="54"/>
                        </a:lnTo>
                        <a:lnTo>
                          <a:pt x="626" y="55"/>
                        </a:lnTo>
                        <a:lnTo>
                          <a:pt x="587" y="56"/>
                        </a:lnTo>
                        <a:lnTo>
                          <a:pt x="550" y="58"/>
                        </a:lnTo>
                        <a:lnTo>
                          <a:pt x="514" y="58"/>
                        </a:lnTo>
                        <a:lnTo>
                          <a:pt x="477" y="57"/>
                        </a:lnTo>
                        <a:lnTo>
                          <a:pt x="440" y="56"/>
                        </a:lnTo>
                        <a:lnTo>
                          <a:pt x="402" y="54"/>
                        </a:lnTo>
                        <a:lnTo>
                          <a:pt x="365" y="52"/>
                        </a:lnTo>
                        <a:lnTo>
                          <a:pt x="327" y="49"/>
                        </a:lnTo>
                        <a:lnTo>
                          <a:pt x="290" y="47"/>
                        </a:lnTo>
                        <a:lnTo>
                          <a:pt x="251" y="44"/>
                        </a:lnTo>
                        <a:lnTo>
                          <a:pt x="213" y="41"/>
                        </a:lnTo>
                        <a:lnTo>
                          <a:pt x="174" y="38"/>
                        </a:lnTo>
                        <a:lnTo>
                          <a:pt x="156" y="35"/>
                        </a:lnTo>
                        <a:lnTo>
                          <a:pt x="138" y="31"/>
                        </a:lnTo>
                        <a:lnTo>
                          <a:pt x="121" y="28"/>
                        </a:lnTo>
                        <a:lnTo>
                          <a:pt x="102" y="26"/>
                        </a:lnTo>
                        <a:lnTo>
                          <a:pt x="85" y="23"/>
                        </a:lnTo>
                        <a:lnTo>
                          <a:pt x="68" y="19"/>
                        </a:lnTo>
                        <a:lnTo>
                          <a:pt x="50" y="15"/>
                        </a:lnTo>
                        <a:lnTo>
                          <a:pt x="33" y="11"/>
                        </a:lnTo>
                        <a:lnTo>
                          <a:pt x="16" y="6"/>
                        </a:lnTo>
                        <a:lnTo>
                          <a:pt x="0" y="0"/>
                        </a:lnTo>
                        <a:lnTo>
                          <a:pt x="25" y="6"/>
                        </a:lnTo>
                        <a:lnTo>
                          <a:pt x="49" y="11"/>
                        </a:lnTo>
                        <a:lnTo>
                          <a:pt x="75" y="16"/>
                        </a:lnTo>
                        <a:lnTo>
                          <a:pt x="99" y="21"/>
                        </a:lnTo>
                        <a:lnTo>
                          <a:pt x="125" y="25"/>
                        </a:lnTo>
                        <a:lnTo>
                          <a:pt x="150" y="28"/>
                        </a:lnTo>
                        <a:lnTo>
                          <a:pt x="175" y="32"/>
                        </a:lnTo>
                        <a:lnTo>
                          <a:pt x="201" y="34"/>
                        </a:lnTo>
                        <a:lnTo>
                          <a:pt x="227" y="36"/>
                        </a:lnTo>
                        <a:lnTo>
                          <a:pt x="253" y="38"/>
                        </a:lnTo>
                        <a:lnTo>
                          <a:pt x="253" y="38"/>
                        </a:lnTo>
                        <a:lnTo>
                          <a:pt x="252" y="38"/>
                        </a:lnTo>
                        <a:close/>
                      </a:path>
                    </a:pathLst>
                  </a:custGeom>
                  <a:solidFill>
                    <a:srgbClr val="ffb83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4" name=""/>
                  <p:cNvSpPr/>
                  <p:nvPr/>
                </p:nvSpPr>
                <p:spPr>
                  <a:xfrm>
                    <a:off x="1580400" y="5382720"/>
                    <a:ext cx="198000" cy="200880"/>
                  </a:xfrm>
                  <a:custGeom>
                    <a:avLst/>
                    <a:gdLst/>
                    <a:ahLst/>
                    <a:rect l="l" t="t" r="r" b="b"/>
                    <a:pathLst>
                      <a:path w="406" h="376">
                        <a:moveTo>
                          <a:pt x="9" y="0"/>
                        </a:moveTo>
                        <a:lnTo>
                          <a:pt x="20" y="4"/>
                        </a:lnTo>
                        <a:lnTo>
                          <a:pt x="31" y="8"/>
                        </a:lnTo>
                        <a:lnTo>
                          <a:pt x="42" y="13"/>
                        </a:lnTo>
                        <a:lnTo>
                          <a:pt x="53" y="17"/>
                        </a:lnTo>
                        <a:lnTo>
                          <a:pt x="65" y="22"/>
                        </a:lnTo>
                        <a:lnTo>
                          <a:pt x="76" y="26"/>
                        </a:lnTo>
                        <a:lnTo>
                          <a:pt x="88" y="31"/>
                        </a:lnTo>
                        <a:lnTo>
                          <a:pt x="99" y="35"/>
                        </a:lnTo>
                        <a:lnTo>
                          <a:pt x="111" y="39"/>
                        </a:lnTo>
                        <a:lnTo>
                          <a:pt x="124" y="42"/>
                        </a:lnTo>
                        <a:lnTo>
                          <a:pt x="126" y="42"/>
                        </a:lnTo>
                        <a:lnTo>
                          <a:pt x="128" y="42"/>
                        </a:lnTo>
                        <a:lnTo>
                          <a:pt x="131" y="42"/>
                        </a:lnTo>
                        <a:lnTo>
                          <a:pt x="133" y="41"/>
                        </a:lnTo>
                        <a:lnTo>
                          <a:pt x="135" y="41"/>
                        </a:lnTo>
                        <a:lnTo>
                          <a:pt x="137" y="41"/>
                        </a:lnTo>
                        <a:lnTo>
                          <a:pt x="140" y="41"/>
                        </a:lnTo>
                        <a:lnTo>
                          <a:pt x="142" y="41"/>
                        </a:lnTo>
                        <a:lnTo>
                          <a:pt x="144" y="42"/>
                        </a:lnTo>
                        <a:lnTo>
                          <a:pt x="147" y="42"/>
                        </a:lnTo>
                        <a:lnTo>
                          <a:pt x="167" y="49"/>
                        </a:lnTo>
                        <a:lnTo>
                          <a:pt x="189" y="55"/>
                        </a:lnTo>
                        <a:lnTo>
                          <a:pt x="210" y="58"/>
                        </a:lnTo>
                        <a:lnTo>
                          <a:pt x="233" y="60"/>
                        </a:lnTo>
                        <a:lnTo>
                          <a:pt x="255" y="60"/>
                        </a:lnTo>
                        <a:lnTo>
                          <a:pt x="276" y="61"/>
                        </a:lnTo>
                        <a:lnTo>
                          <a:pt x="299" y="60"/>
                        </a:lnTo>
                        <a:lnTo>
                          <a:pt x="321" y="60"/>
                        </a:lnTo>
                        <a:lnTo>
                          <a:pt x="343" y="61"/>
                        </a:lnTo>
                        <a:lnTo>
                          <a:pt x="365" y="62"/>
                        </a:lnTo>
                        <a:lnTo>
                          <a:pt x="370" y="63"/>
                        </a:lnTo>
                        <a:lnTo>
                          <a:pt x="375" y="64"/>
                        </a:lnTo>
                        <a:lnTo>
                          <a:pt x="379" y="65"/>
                        </a:lnTo>
                        <a:lnTo>
                          <a:pt x="383" y="66"/>
                        </a:lnTo>
                        <a:lnTo>
                          <a:pt x="388" y="67"/>
                        </a:lnTo>
                        <a:lnTo>
                          <a:pt x="391" y="68"/>
                        </a:lnTo>
                        <a:lnTo>
                          <a:pt x="394" y="70"/>
                        </a:lnTo>
                        <a:lnTo>
                          <a:pt x="398" y="72"/>
                        </a:lnTo>
                        <a:lnTo>
                          <a:pt x="401" y="74"/>
                        </a:lnTo>
                        <a:lnTo>
                          <a:pt x="404" y="76"/>
                        </a:lnTo>
                        <a:lnTo>
                          <a:pt x="405" y="80"/>
                        </a:lnTo>
                        <a:lnTo>
                          <a:pt x="406" y="82"/>
                        </a:lnTo>
                        <a:lnTo>
                          <a:pt x="406" y="85"/>
                        </a:lnTo>
                        <a:lnTo>
                          <a:pt x="405" y="88"/>
                        </a:lnTo>
                        <a:lnTo>
                          <a:pt x="403" y="91"/>
                        </a:lnTo>
                        <a:lnTo>
                          <a:pt x="401" y="93"/>
                        </a:lnTo>
                        <a:lnTo>
                          <a:pt x="398" y="95"/>
                        </a:lnTo>
                        <a:lnTo>
                          <a:pt x="395" y="97"/>
                        </a:lnTo>
                        <a:lnTo>
                          <a:pt x="391" y="98"/>
                        </a:lnTo>
                        <a:lnTo>
                          <a:pt x="388" y="99"/>
                        </a:lnTo>
                        <a:lnTo>
                          <a:pt x="369" y="101"/>
                        </a:lnTo>
                        <a:lnTo>
                          <a:pt x="349" y="103"/>
                        </a:lnTo>
                        <a:lnTo>
                          <a:pt x="331" y="104"/>
                        </a:lnTo>
                        <a:lnTo>
                          <a:pt x="312" y="105"/>
                        </a:lnTo>
                        <a:lnTo>
                          <a:pt x="293" y="107"/>
                        </a:lnTo>
                        <a:lnTo>
                          <a:pt x="274" y="108"/>
                        </a:lnTo>
                        <a:lnTo>
                          <a:pt x="256" y="110"/>
                        </a:lnTo>
                        <a:lnTo>
                          <a:pt x="237" y="112"/>
                        </a:lnTo>
                        <a:lnTo>
                          <a:pt x="219" y="115"/>
                        </a:lnTo>
                        <a:lnTo>
                          <a:pt x="200" y="119"/>
                        </a:lnTo>
                        <a:lnTo>
                          <a:pt x="191" y="141"/>
                        </a:lnTo>
                        <a:lnTo>
                          <a:pt x="184" y="164"/>
                        </a:lnTo>
                        <a:lnTo>
                          <a:pt x="180" y="187"/>
                        </a:lnTo>
                        <a:lnTo>
                          <a:pt x="179" y="211"/>
                        </a:lnTo>
                        <a:lnTo>
                          <a:pt x="180" y="234"/>
                        </a:lnTo>
                        <a:lnTo>
                          <a:pt x="184" y="258"/>
                        </a:lnTo>
                        <a:lnTo>
                          <a:pt x="192" y="280"/>
                        </a:lnTo>
                        <a:lnTo>
                          <a:pt x="203" y="303"/>
                        </a:lnTo>
                        <a:lnTo>
                          <a:pt x="217" y="324"/>
                        </a:lnTo>
                        <a:lnTo>
                          <a:pt x="235" y="345"/>
                        </a:lnTo>
                        <a:lnTo>
                          <a:pt x="237" y="348"/>
                        </a:lnTo>
                        <a:lnTo>
                          <a:pt x="239" y="351"/>
                        </a:lnTo>
                        <a:lnTo>
                          <a:pt x="241" y="353"/>
                        </a:lnTo>
                        <a:lnTo>
                          <a:pt x="243" y="357"/>
                        </a:lnTo>
                        <a:lnTo>
                          <a:pt x="245" y="360"/>
                        </a:lnTo>
                        <a:lnTo>
                          <a:pt x="246" y="362"/>
                        </a:lnTo>
                        <a:lnTo>
                          <a:pt x="247" y="365"/>
                        </a:lnTo>
                        <a:lnTo>
                          <a:pt x="247" y="368"/>
                        </a:lnTo>
                        <a:lnTo>
                          <a:pt x="247" y="371"/>
                        </a:lnTo>
                        <a:lnTo>
                          <a:pt x="246" y="374"/>
                        </a:lnTo>
                        <a:lnTo>
                          <a:pt x="245" y="374"/>
                        </a:lnTo>
                        <a:lnTo>
                          <a:pt x="243" y="375"/>
                        </a:lnTo>
                        <a:lnTo>
                          <a:pt x="241" y="375"/>
                        </a:lnTo>
                        <a:lnTo>
                          <a:pt x="239" y="376"/>
                        </a:lnTo>
                        <a:lnTo>
                          <a:pt x="236" y="376"/>
                        </a:lnTo>
                        <a:lnTo>
                          <a:pt x="234" y="375"/>
                        </a:lnTo>
                        <a:lnTo>
                          <a:pt x="233" y="375"/>
                        </a:lnTo>
                        <a:lnTo>
                          <a:pt x="230" y="375"/>
                        </a:lnTo>
                        <a:lnTo>
                          <a:pt x="229" y="374"/>
                        </a:lnTo>
                        <a:lnTo>
                          <a:pt x="227" y="374"/>
                        </a:lnTo>
                        <a:lnTo>
                          <a:pt x="217" y="367"/>
                        </a:lnTo>
                        <a:lnTo>
                          <a:pt x="207" y="360"/>
                        </a:lnTo>
                        <a:lnTo>
                          <a:pt x="197" y="353"/>
                        </a:lnTo>
                        <a:lnTo>
                          <a:pt x="187" y="346"/>
                        </a:lnTo>
                        <a:lnTo>
                          <a:pt x="178" y="339"/>
                        </a:lnTo>
                        <a:lnTo>
                          <a:pt x="169" y="332"/>
                        </a:lnTo>
                        <a:lnTo>
                          <a:pt x="160" y="324"/>
                        </a:lnTo>
                        <a:lnTo>
                          <a:pt x="152" y="317"/>
                        </a:lnTo>
                        <a:lnTo>
                          <a:pt x="144" y="309"/>
                        </a:lnTo>
                        <a:lnTo>
                          <a:pt x="135" y="300"/>
                        </a:lnTo>
                        <a:lnTo>
                          <a:pt x="123" y="285"/>
                        </a:lnTo>
                        <a:lnTo>
                          <a:pt x="112" y="271"/>
                        </a:lnTo>
                        <a:lnTo>
                          <a:pt x="101" y="256"/>
                        </a:lnTo>
                        <a:lnTo>
                          <a:pt x="92" y="242"/>
                        </a:lnTo>
                        <a:lnTo>
                          <a:pt x="83" y="228"/>
                        </a:lnTo>
                        <a:lnTo>
                          <a:pt x="75" y="213"/>
                        </a:lnTo>
                        <a:lnTo>
                          <a:pt x="67" y="199"/>
                        </a:lnTo>
                        <a:lnTo>
                          <a:pt x="59" y="184"/>
                        </a:lnTo>
                        <a:lnTo>
                          <a:pt x="51" y="170"/>
                        </a:lnTo>
                        <a:lnTo>
                          <a:pt x="43" y="156"/>
                        </a:lnTo>
                        <a:lnTo>
                          <a:pt x="39" y="150"/>
                        </a:lnTo>
                        <a:lnTo>
                          <a:pt x="36" y="145"/>
                        </a:lnTo>
                        <a:lnTo>
                          <a:pt x="33" y="140"/>
                        </a:lnTo>
                        <a:lnTo>
                          <a:pt x="30" y="135"/>
                        </a:lnTo>
                        <a:lnTo>
                          <a:pt x="27" y="129"/>
                        </a:lnTo>
                        <a:lnTo>
                          <a:pt x="24" y="124"/>
                        </a:lnTo>
                        <a:lnTo>
                          <a:pt x="22" y="119"/>
                        </a:lnTo>
                        <a:lnTo>
                          <a:pt x="19" y="113"/>
                        </a:lnTo>
                        <a:lnTo>
                          <a:pt x="18" y="107"/>
                        </a:lnTo>
                        <a:lnTo>
                          <a:pt x="16" y="102"/>
                        </a:lnTo>
                        <a:lnTo>
                          <a:pt x="13" y="91"/>
                        </a:lnTo>
                        <a:lnTo>
                          <a:pt x="10" y="82"/>
                        </a:lnTo>
                        <a:lnTo>
                          <a:pt x="7" y="72"/>
                        </a:lnTo>
                        <a:lnTo>
                          <a:pt x="5" y="63"/>
                        </a:lnTo>
                        <a:lnTo>
                          <a:pt x="2" y="53"/>
                        </a:lnTo>
                        <a:lnTo>
                          <a:pt x="1" y="44"/>
                        </a:lnTo>
                        <a:lnTo>
                          <a:pt x="0" y="35"/>
                        </a:lnTo>
                        <a:lnTo>
                          <a:pt x="0" y="25"/>
                        </a:lnTo>
                        <a:lnTo>
                          <a:pt x="0" y="15"/>
                        </a:lnTo>
                        <a:lnTo>
                          <a:pt x="1" y="5"/>
                        </a:lnTo>
                        <a:lnTo>
                          <a:pt x="3" y="5"/>
                        </a:lnTo>
                        <a:lnTo>
                          <a:pt x="5" y="5"/>
                        </a:lnTo>
                        <a:lnTo>
                          <a:pt x="6" y="4"/>
                        </a:lnTo>
                        <a:lnTo>
                          <a:pt x="7" y="3"/>
                        </a:lnTo>
                        <a:lnTo>
                          <a:pt x="8" y="2"/>
                        </a:lnTo>
                        <a:lnTo>
                          <a:pt x="8" y="1"/>
                        </a:lnTo>
                        <a:lnTo>
                          <a:pt x="9" y="1"/>
                        </a:lnTo>
                        <a:lnTo>
                          <a:pt x="9" y="0"/>
                        </a:lnTo>
                        <a:lnTo>
                          <a:pt x="9" y="0"/>
                        </a:lnTo>
                        <a:lnTo>
                          <a:pt x="9" y="0"/>
                        </a:lnTo>
                        <a:lnTo>
                          <a:pt x="9" y="0"/>
                        </a:lnTo>
                        <a:close/>
                      </a:path>
                    </a:pathLst>
                  </a:custGeom>
                  <a:solidFill>
                    <a:srgbClr val="fff09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" name=""/>
                  <p:cNvSpPr/>
                  <p:nvPr/>
                </p:nvSpPr>
                <p:spPr>
                  <a:xfrm>
                    <a:off x="1580400" y="5382720"/>
                    <a:ext cx="198000" cy="200880"/>
                  </a:xfrm>
                  <a:custGeom>
                    <a:avLst/>
                    <a:gdLst/>
                    <a:ahLst/>
                    <a:rect l="l" t="t" r="r" b="b"/>
                    <a:pathLst>
                      <a:path w="406" h="376">
                        <a:moveTo>
                          <a:pt x="9" y="0"/>
                        </a:moveTo>
                        <a:lnTo>
                          <a:pt x="20" y="4"/>
                        </a:lnTo>
                        <a:lnTo>
                          <a:pt x="31" y="8"/>
                        </a:lnTo>
                        <a:lnTo>
                          <a:pt x="42" y="13"/>
                        </a:lnTo>
                        <a:lnTo>
                          <a:pt x="53" y="17"/>
                        </a:lnTo>
                        <a:lnTo>
                          <a:pt x="65" y="22"/>
                        </a:lnTo>
                        <a:lnTo>
                          <a:pt x="76" y="26"/>
                        </a:lnTo>
                        <a:lnTo>
                          <a:pt x="88" y="31"/>
                        </a:lnTo>
                        <a:lnTo>
                          <a:pt x="99" y="35"/>
                        </a:lnTo>
                        <a:lnTo>
                          <a:pt x="111" y="39"/>
                        </a:lnTo>
                        <a:lnTo>
                          <a:pt x="124" y="42"/>
                        </a:lnTo>
                        <a:lnTo>
                          <a:pt x="126" y="42"/>
                        </a:lnTo>
                        <a:lnTo>
                          <a:pt x="128" y="42"/>
                        </a:lnTo>
                        <a:lnTo>
                          <a:pt x="131" y="42"/>
                        </a:lnTo>
                        <a:lnTo>
                          <a:pt x="133" y="41"/>
                        </a:lnTo>
                        <a:lnTo>
                          <a:pt x="135" y="41"/>
                        </a:lnTo>
                        <a:lnTo>
                          <a:pt x="137" y="41"/>
                        </a:lnTo>
                        <a:lnTo>
                          <a:pt x="140" y="41"/>
                        </a:lnTo>
                        <a:lnTo>
                          <a:pt x="142" y="41"/>
                        </a:lnTo>
                        <a:lnTo>
                          <a:pt x="144" y="42"/>
                        </a:lnTo>
                        <a:lnTo>
                          <a:pt x="147" y="42"/>
                        </a:lnTo>
                        <a:lnTo>
                          <a:pt x="167" y="49"/>
                        </a:lnTo>
                        <a:lnTo>
                          <a:pt x="189" y="55"/>
                        </a:lnTo>
                        <a:lnTo>
                          <a:pt x="210" y="58"/>
                        </a:lnTo>
                        <a:lnTo>
                          <a:pt x="233" y="60"/>
                        </a:lnTo>
                        <a:lnTo>
                          <a:pt x="255" y="60"/>
                        </a:lnTo>
                        <a:lnTo>
                          <a:pt x="276" y="61"/>
                        </a:lnTo>
                        <a:lnTo>
                          <a:pt x="299" y="60"/>
                        </a:lnTo>
                        <a:lnTo>
                          <a:pt x="321" y="60"/>
                        </a:lnTo>
                        <a:lnTo>
                          <a:pt x="343" y="61"/>
                        </a:lnTo>
                        <a:lnTo>
                          <a:pt x="365" y="62"/>
                        </a:lnTo>
                        <a:lnTo>
                          <a:pt x="370" y="63"/>
                        </a:lnTo>
                        <a:lnTo>
                          <a:pt x="375" y="64"/>
                        </a:lnTo>
                        <a:lnTo>
                          <a:pt x="379" y="65"/>
                        </a:lnTo>
                        <a:lnTo>
                          <a:pt x="383" y="66"/>
                        </a:lnTo>
                        <a:lnTo>
                          <a:pt x="388" y="67"/>
                        </a:lnTo>
                        <a:lnTo>
                          <a:pt x="391" y="68"/>
                        </a:lnTo>
                        <a:lnTo>
                          <a:pt x="394" y="70"/>
                        </a:lnTo>
                        <a:lnTo>
                          <a:pt x="398" y="72"/>
                        </a:lnTo>
                        <a:lnTo>
                          <a:pt x="401" y="74"/>
                        </a:lnTo>
                        <a:lnTo>
                          <a:pt x="404" y="76"/>
                        </a:lnTo>
                        <a:lnTo>
                          <a:pt x="405" y="80"/>
                        </a:lnTo>
                        <a:lnTo>
                          <a:pt x="406" y="82"/>
                        </a:lnTo>
                        <a:lnTo>
                          <a:pt x="406" y="85"/>
                        </a:lnTo>
                        <a:lnTo>
                          <a:pt x="405" y="88"/>
                        </a:lnTo>
                        <a:lnTo>
                          <a:pt x="403" y="91"/>
                        </a:lnTo>
                        <a:lnTo>
                          <a:pt x="401" y="93"/>
                        </a:lnTo>
                        <a:lnTo>
                          <a:pt x="398" y="95"/>
                        </a:lnTo>
                        <a:lnTo>
                          <a:pt x="395" y="97"/>
                        </a:lnTo>
                        <a:lnTo>
                          <a:pt x="391" y="98"/>
                        </a:lnTo>
                        <a:lnTo>
                          <a:pt x="388" y="99"/>
                        </a:lnTo>
                        <a:lnTo>
                          <a:pt x="369" y="101"/>
                        </a:lnTo>
                        <a:lnTo>
                          <a:pt x="349" y="103"/>
                        </a:lnTo>
                        <a:lnTo>
                          <a:pt x="331" y="104"/>
                        </a:lnTo>
                        <a:lnTo>
                          <a:pt x="312" y="105"/>
                        </a:lnTo>
                        <a:lnTo>
                          <a:pt x="293" y="107"/>
                        </a:lnTo>
                        <a:lnTo>
                          <a:pt x="274" y="108"/>
                        </a:lnTo>
                        <a:lnTo>
                          <a:pt x="256" y="110"/>
                        </a:lnTo>
                        <a:lnTo>
                          <a:pt x="237" y="112"/>
                        </a:lnTo>
                        <a:lnTo>
                          <a:pt x="219" y="115"/>
                        </a:lnTo>
                        <a:lnTo>
                          <a:pt x="200" y="119"/>
                        </a:lnTo>
                        <a:lnTo>
                          <a:pt x="191" y="141"/>
                        </a:lnTo>
                        <a:lnTo>
                          <a:pt x="184" y="164"/>
                        </a:lnTo>
                        <a:lnTo>
                          <a:pt x="180" y="187"/>
                        </a:lnTo>
                        <a:lnTo>
                          <a:pt x="179" y="211"/>
                        </a:lnTo>
                        <a:lnTo>
                          <a:pt x="180" y="234"/>
                        </a:lnTo>
                        <a:lnTo>
                          <a:pt x="184" y="258"/>
                        </a:lnTo>
                        <a:lnTo>
                          <a:pt x="192" y="280"/>
                        </a:lnTo>
                        <a:lnTo>
                          <a:pt x="203" y="303"/>
                        </a:lnTo>
                        <a:lnTo>
                          <a:pt x="217" y="324"/>
                        </a:lnTo>
                        <a:lnTo>
                          <a:pt x="235" y="345"/>
                        </a:lnTo>
                        <a:lnTo>
                          <a:pt x="237" y="348"/>
                        </a:lnTo>
                        <a:lnTo>
                          <a:pt x="239" y="351"/>
                        </a:lnTo>
                        <a:lnTo>
                          <a:pt x="241" y="353"/>
                        </a:lnTo>
                        <a:lnTo>
                          <a:pt x="243" y="357"/>
                        </a:lnTo>
                        <a:lnTo>
                          <a:pt x="245" y="360"/>
                        </a:lnTo>
                        <a:lnTo>
                          <a:pt x="246" y="362"/>
                        </a:lnTo>
                        <a:lnTo>
                          <a:pt x="247" y="365"/>
                        </a:lnTo>
                        <a:lnTo>
                          <a:pt x="247" y="368"/>
                        </a:lnTo>
                        <a:lnTo>
                          <a:pt x="247" y="371"/>
                        </a:lnTo>
                        <a:lnTo>
                          <a:pt x="246" y="374"/>
                        </a:lnTo>
                        <a:lnTo>
                          <a:pt x="245" y="374"/>
                        </a:lnTo>
                        <a:lnTo>
                          <a:pt x="243" y="375"/>
                        </a:lnTo>
                        <a:lnTo>
                          <a:pt x="241" y="375"/>
                        </a:lnTo>
                        <a:lnTo>
                          <a:pt x="239" y="376"/>
                        </a:lnTo>
                        <a:lnTo>
                          <a:pt x="236" y="376"/>
                        </a:lnTo>
                        <a:lnTo>
                          <a:pt x="234" y="375"/>
                        </a:lnTo>
                        <a:lnTo>
                          <a:pt x="233" y="375"/>
                        </a:lnTo>
                        <a:lnTo>
                          <a:pt x="230" y="375"/>
                        </a:lnTo>
                        <a:lnTo>
                          <a:pt x="229" y="374"/>
                        </a:lnTo>
                        <a:lnTo>
                          <a:pt x="227" y="374"/>
                        </a:lnTo>
                        <a:lnTo>
                          <a:pt x="217" y="367"/>
                        </a:lnTo>
                        <a:lnTo>
                          <a:pt x="207" y="360"/>
                        </a:lnTo>
                        <a:lnTo>
                          <a:pt x="197" y="353"/>
                        </a:lnTo>
                        <a:lnTo>
                          <a:pt x="187" y="346"/>
                        </a:lnTo>
                        <a:lnTo>
                          <a:pt x="178" y="339"/>
                        </a:lnTo>
                        <a:lnTo>
                          <a:pt x="169" y="332"/>
                        </a:lnTo>
                        <a:lnTo>
                          <a:pt x="160" y="324"/>
                        </a:lnTo>
                        <a:lnTo>
                          <a:pt x="152" y="317"/>
                        </a:lnTo>
                        <a:lnTo>
                          <a:pt x="144" y="309"/>
                        </a:lnTo>
                        <a:lnTo>
                          <a:pt x="135" y="300"/>
                        </a:lnTo>
                        <a:lnTo>
                          <a:pt x="123" y="285"/>
                        </a:lnTo>
                        <a:lnTo>
                          <a:pt x="112" y="271"/>
                        </a:lnTo>
                        <a:lnTo>
                          <a:pt x="101" y="256"/>
                        </a:lnTo>
                        <a:lnTo>
                          <a:pt x="92" y="242"/>
                        </a:lnTo>
                        <a:lnTo>
                          <a:pt x="83" y="228"/>
                        </a:lnTo>
                        <a:lnTo>
                          <a:pt x="75" y="213"/>
                        </a:lnTo>
                        <a:lnTo>
                          <a:pt x="67" y="199"/>
                        </a:lnTo>
                        <a:lnTo>
                          <a:pt x="59" y="184"/>
                        </a:lnTo>
                        <a:lnTo>
                          <a:pt x="51" y="170"/>
                        </a:lnTo>
                        <a:lnTo>
                          <a:pt x="43" y="156"/>
                        </a:lnTo>
                        <a:lnTo>
                          <a:pt x="39" y="150"/>
                        </a:lnTo>
                        <a:lnTo>
                          <a:pt x="36" y="145"/>
                        </a:lnTo>
                        <a:lnTo>
                          <a:pt x="33" y="140"/>
                        </a:lnTo>
                        <a:lnTo>
                          <a:pt x="30" y="135"/>
                        </a:lnTo>
                        <a:lnTo>
                          <a:pt x="27" y="129"/>
                        </a:lnTo>
                        <a:lnTo>
                          <a:pt x="24" y="124"/>
                        </a:lnTo>
                        <a:lnTo>
                          <a:pt x="22" y="119"/>
                        </a:lnTo>
                        <a:lnTo>
                          <a:pt x="19" y="113"/>
                        </a:lnTo>
                        <a:lnTo>
                          <a:pt x="18" y="107"/>
                        </a:lnTo>
                        <a:lnTo>
                          <a:pt x="16" y="102"/>
                        </a:lnTo>
                        <a:lnTo>
                          <a:pt x="13" y="91"/>
                        </a:lnTo>
                        <a:lnTo>
                          <a:pt x="10" y="82"/>
                        </a:lnTo>
                        <a:lnTo>
                          <a:pt x="7" y="72"/>
                        </a:lnTo>
                        <a:lnTo>
                          <a:pt x="5" y="63"/>
                        </a:lnTo>
                        <a:lnTo>
                          <a:pt x="2" y="53"/>
                        </a:lnTo>
                        <a:lnTo>
                          <a:pt x="1" y="44"/>
                        </a:lnTo>
                        <a:lnTo>
                          <a:pt x="0" y="35"/>
                        </a:lnTo>
                        <a:lnTo>
                          <a:pt x="0" y="25"/>
                        </a:lnTo>
                        <a:lnTo>
                          <a:pt x="0" y="15"/>
                        </a:lnTo>
                        <a:lnTo>
                          <a:pt x="1" y="5"/>
                        </a:lnTo>
                        <a:lnTo>
                          <a:pt x="3" y="5"/>
                        </a:lnTo>
                        <a:lnTo>
                          <a:pt x="5" y="5"/>
                        </a:lnTo>
                        <a:lnTo>
                          <a:pt x="6" y="4"/>
                        </a:lnTo>
                        <a:lnTo>
                          <a:pt x="7" y="3"/>
                        </a:lnTo>
                        <a:lnTo>
                          <a:pt x="8" y="2"/>
                        </a:lnTo>
                        <a:lnTo>
                          <a:pt x="8" y="1"/>
                        </a:lnTo>
                        <a:lnTo>
                          <a:pt x="9" y="1"/>
                        </a:lnTo>
                        <a:lnTo>
                          <a:pt x="9" y="0"/>
                        </a:lnTo>
                        <a:lnTo>
                          <a:pt x="9" y="0"/>
                        </a:lnTo>
                        <a:lnTo>
                          <a:pt x="9" y="0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5040">
                    <a:solidFill>
                      <a:srgbClr val="e3a93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1437120" y="5539320"/>
                    <a:ext cx="204840" cy="129240"/>
                  </a:xfrm>
                  <a:custGeom>
                    <a:avLst/>
                    <a:gdLst/>
                    <a:ahLst/>
                    <a:rect l="l" t="t" r="r" b="b"/>
                    <a:pathLst>
                      <a:path w="420" h="242">
                        <a:moveTo>
                          <a:pt x="48" y="24"/>
                        </a:moveTo>
                        <a:lnTo>
                          <a:pt x="42" y="26"/>
                        </a:lnTo>
                        <a:lnTo>
                          <a:pt x="36" y="29"/>
                        </a:lnTo>
                        <a:lnTo>
                          <a:pt x="32" y="32"/>
                        </a:lnTo>
                        <a:lnTo>
                          <a:pt x="27" y="35"/>
                        </a:lnTo>
                        <a:lnTo>
                          <a:pt x="23" y="39"/>
                        </a:lnTo>
                        <a:lnTo>
                          <a:pt x="19" y="43"/>
                        </a:lnTo>
                        <a:lnTo>
                          <a:pt x="16" y="48"/>
                        </a:lnTo>
                        <a:lnTo>
                          <a:pt x="13" y="52"/>
                        </a:lnTo>
                        <a:lnTo>
                          <a:pt x="9" y="56"/>
                        </a:lnTo>
                        <a:lnTo>
                          <a:pt x="6" y="61"/>
                        </a:lnTo>
                        <a:lnTo>
                          <a:pt x="4" y="66"/>
                        </a:lnTo>
                        <a:lnTo>
                          <a:pt x="2" y="71"/>
                        </a:lnTo>
                        <a:lnTo>
                          <a:pt x="2" y="76"/>
                        </a:lnTo>
                        <a:lnTo>
                          <a:pt x="1" y="81"/>
                        </a:lnTo>
                        <a:lnTo>
                          <a:pt x="0" y="86"/>
                        </a:lnTo>
                        <a:lnTo>
                          <a:pt x="1" y="92"/>
                        </a:lnTo>
                        <a:lnTo>
                          <a:pt x="2" y="97"/>
                        </a:lnTo>
                        <a:lnTo>
                          <a:pt x="2" y="102"/>
                        </a:lnTo>
                        <a:lnTo>
                          <a:pt x="4" y="107"/>
                        </a:lnTo>
                        <a:lnTo>
                          <a:pt x="6" y="112"/>
                        </a:lnTo>
                        <a:lnTo>
                          <a:pt x="8" y="117"/>
                        </a:lnTo>
                        <a:lnTo>
                          <a:pt x="10" y="122"/>
                        </a:lnTo>
                        <a:lnTo>
                          <a:pt x="13" y="126"/>
                        </a:lnTo>
                        <a:lnTo>
                          <a:pt x="17" y="130"/>
                        </a:lnTo>
                        <a:lnTo>
                          <a:pt x="22" y="134"/>
                        </a:lnTo>
                        <a:lnTo>
                          <a:pt x="26" y="137"/>
                        </a:lnTo>
                        <a:lnTo>
                          <a:pt x="32" y="141"/>
                        </a:lnTo>
                        <a:lnTo>
                          <a:pt x="37" y="145"/>
                        </a:lnTo>
                        <a:lnTo>
                          <a:pt x="42" y="148"/>
                        </a:lnTo>
                        <a:lnTo>
                          <a:pt x="48" y="152"/>
                        </a:lnTo>
                        <a:lnTo>
                          <a:pt x="83" y="166"/>
                        </a:lnTo>
                        <a:lnTo>
                          <a:pt x="119" y="179"/>
                        </a:lnTo>
                        <a:lnTo>
                          <a:pt x="155" y="191"/>
                        </a:lnTo>
                        <a:lnTo>
                          <a:pt x="191" y="202"/>
                        </a:lnTo>
                        <a:lnTo>
                          <a:pt x="229" y="211"/>
                        </a:lnTo>
                        <a:lnTo>
                          <a:pt x="266" y="219"/>
                        </a:lnTo>
                        <a:lnTo>
                          <a:pt x="305" y="226"/>
                        </a:lnTo>
                        <a:lnTo>
                          <a:pt x="343" y="232"/>
                        </a:lnTo>
                        <a:lnTo>
                          <a:pt x="381" y="238"/>
                        </a:lnTo>
                        <a:lnTo>
                          <a:pt x="420" y="242"/>
                        </a:lnTo>
                        <a:lnTo>
                          <a:pt x="417" y="240"/>
                        </a:lnTo>
                        <a:lnTo>
                          <a:pt x="414" y="237"/>
                        </a:lnTo>
                        <a:lnTo>
                          <a:pt x="410" y="235"/>
                        </a:lnTo>
                        <a:lnTo>
                          <a:pt x="407" y="232"/>
                        </a:lnTo>
                        <a:lnTo>
                          <a:pt x="403" y="230"/>
                        </a:lnTo>
                        <a:lnTo>
                          <a:pt x="400" y="228"/>
                        </a:lnTo>
                        <a:lnTo>
                          <a:pt x="396" y="225"/>
                        </a:lnTo>
                        <a:lnTo>
                          <a:pt x="393" y="223"/>
                        </a:lnTo>
                        <a:lnTo>
                          <a:pt x="389" y="221"/>
                        </a:lnTo>
                        <a:lnTo>
                          <a:pt x="386" y="220"/>
                        </a:lnTo>
                        <a:lnTo>
                          <a:pt x="384" y="219"/>
                        </a:lnTo>
                        <a:lnTo>
                          <a:pt x="381" y="218"/>
                        </a:lnTo>
                        <a:lnTo>
                          <a:pt x="379" y="218"/>
                        </a:lnTo>
                        <a:lnTo>
                          <a:pt x="377" y="217"/>
                        </a:lnTo>
                        <a:lnTo>
                          <a:pt x="375" y="217"/>
                        </a:lnTo>
                        <a:lnTo>
                          <a:pt x="373" y="217"/>
                        </a:lnTo>
                        <a:lnTo>
                          <a:pt x="371" y="217"/>
                        </a:lnTo>
                        <a:lnTo>
                          <a:pt x="369" y="217"/>
                        </a:lnTo>
                        <a:lnTo>
                          <a:pt x="368" y="217"/>
                        </a:lnTo>
                        <a:lnTo>
                          <a:pt x="367" y="217"/>
                        </a:lnTo>
                        <a:lnTo>
                          <a:pt x="345" y="207"/>
                        </a:lnTo>
                        <a:lnTo>
                          <a:pt x="322" y="199"/>
                        </a:lnTo>
                        <a:lnTo>
                          <a:pt x="300" y="191"/>
                        </a:lnTo>
                        <a:lnTo>
                          <a:pt x="278" y="183"/>
                        </a:lnTo>
                        <a:lnTo>
                          <a:pt x="255" y="176"/>
                        </a:lnTo>
                        <a:lnTo>
                          <a:pt x="233" y="169"/>
                        </a:lnTo>
                        <a:lnTo>
                          <a:pt x="210" y="162"/>
                        </a:lnTo>
                        <a:lnTo>
                          <a:pt x="187" y="155"/>
                        </a:lnTo>
                        <a:lnTo>
                          <a:pt x="163" y="147"/>
                        </a:lnTo>
                        <a:lnTo>
                          <a:pt x="140" y="137"/>
                        </a:lnTo>
                        <a:lnTo>
                          <a:pt x="137" y="136"/>
                        </a:lnTo>
                        <a:lnTo>
                          <a:pt x="134" y="134"/>
                        </a:lnTo>
                        <a:lnTo>
                          <a:pt x="131" y="131"/>
                        </a:lnTo>
                        <a:lnTo>
                          <a:pt x="127" y="129"/>
                        </a:lnTo>
                        <a:lnTo>
                          <a:pt x="124" y="127"/>
                        </a:lnTo>
                        <a:lnTo>
                          <a:pt x="121" y="123"/>
                        </a:lnTo>
                        <a:lnTo>
                          <a:pt x="117" y="120"/>
                        </a:lnTo>
                        <a:lnTo>
                          <a:pt x="114" y="117"/>
                        </a:lnTo>
                        <a:lnTo>
                          <a:pt x="112" y="113"/>
                        </a:lnTo>
                        <a:lnTo>
                          <a:pt x="110" y="109"/>
                        </a:lnTo>
                        <a:lnTo>
                          <a:pt x="107" y="104"/>
                        </a:lnTo>
                        <a:lnTo>
                          <a:pt x="104" y="98"/>
                        </a:lnTo>
                        <a:lnTo>
                          <a:pt x="103" y="93"/>
                        </a:lnTo>
                        <a:lnTo>
                          <a:pt x="102" y="88"/>
                        </a:lnTo>
                        <a:lnTo>
                          <a:pt x="101" y="82"/>
                        </a:lnTo>
                        <a:lnTo>
                          <a:pt x="101" y="77"/>
                        </a:lnTo>
                        <a:lnTo>
                          <a:pt x="101" y="71"/>
                        </a:lnTo>
                        <a:lnTo>
                          <a:pt x="102" y="65"/>
                        </a:lnTo>
                        <a:lnTo>
                          <a:pt x="102" y="60"/>
                        </a:lnTo>
                        <a:lnTo>
                          <a:pt x="102" y="55"/>
                        </a:lnTo>
                        <a:lnTo>
                          <a:pt x="103" y="54"/>
                        </a:lnTo>
                        <a:lnTo>
                          <a:pt x="104" y="52"/>
                        </a:lnTo>
                        <a:lnTo>
                          <a:pt x="106" y="50"/>
                        </a:lnTo>
                        <a:lnTo>
                          <a:pt x="107" y="48"/>
                        </a:lnTo>
                        <a:lnTo>
                          <a:pt x="108" y="47"/>
                        </a:lnTo>
                        <a:lnTo>
                          <a:pt x="110" y="45"/>
                        </a:lnTo>
                        <a:lnTo>
                          <a:pt x="111" y="43"/>
                        </a:lnTo>
                        <a:lnTo>
                          <a:pt x="113" y="42"/>
                        </a:lnTo>
                        <a:lnTo>
                          <a:pt x="115" y="40"/>
                        </a:lnTo>
                        <a:lnTo>
                          <a:pt x="117" y="38"/>
                        </a:lnTo>
                        <a:lnTo>
                          <a:pt x="126" y="34"/>
                        </a:lnTo>
                        <a:lnTo>
                          <a:pt x="134" y="31"/>
                        </a:lnTo>
                        <a:lnTo>
                          <a:pt x="143" y="28"/>
                        </a:lnTo>
                        <a:lnTo>
                          <a:pt x="152" y="26"/>
                        </a:lnTo>
                        <a:lnTo>
                          <a:pt x="160" y="23"/>
                        </a:lnTo>
                        <a:lnTo>
                          <a:pt x="169" y="20"/>
                        </a:lnTo>
                        <a:lnTo>
                          <a:pt x="177" y="17"/>
                        </a:lnTo>
                        <a:lnTo>
                          <a:pt x="185" y="13"/>
                        </a:lnTo>
                        <a:lnTo>
                          <a:pt x="192" y="8"/>
                        </a:lnTo>
                        <a:lnTo>
                          <a:pt x="198" y="1"/>
                        </a:lnTo>
                        <a:lnTo>
                          <a:pt x="182" y="0"/>
                        </a:lnTo>
                        <a:lnTo>
                          <a:pt x="166" y="0"/>
                        </a:lnTo>
                        <a:lnTo>
                          <a:pt x="150" y="1"/>
                        </a:lnTo>
                        <a:lnTo>
                          <a:pt x="135" y="4"/>
                        </a:lnTo>
                        <a:lnTo>
                          <a:pt x="120" y="7"/>
                        </a:lnTo>
                        <a:lnTo>
                          <a:pt x="104" y="9"/>
                        </a:lnTo>
                        <a:lnTo>
                          <a:pt x="90" y="13"/>
                        </a:lnTo>
                        <a:lnTo>
                          <a:pt x="75" y="17"/>
                        </a:lnTo>
                        <a:lnTo>
                          <a:pt x="59" y="21"/>
                        </a:lnTo>
                        <a:lnTo>
                          <a:pt x="45" y="24"/>
                        </a:lnTo>
                        <a:lnTo>
                          <a:pt x="48" y="24"/>
                        </a:lnTo>
                        <a:lnTo>
                          <a:pt x="48" y="24"/>
                        </a:lnTo>
                        <a:close/>
                      </a:path>
                    </a:pathLst>
                  </a:custGeom>
                  <a:solidFill>
                    <a:srgbClr val="fff09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7" name=""/>
                  <p:cNvSpPr/>
                  <p:nvPr/>
                </p:nvSpPr>
                <p:spPr>
                  <a:xfrm>
                    <a:off x="1437120" y="5539320"/>
                    <a:ext cx="204840" cy="129240"/>
                  </a:xfrm>
                  <a:custGeom>
                    <a:avLst/>
                    <a:gdLst/>
                    <a:ahLst/>
                    <a:rect l="l" t="t" r="r" b="b"/>
                    <a:pathLst>
                      <a:path w="420" h="242">
                        <a:moveTo>
                          <a:pt x="48" y="24"/>
                        </a:moveTo>
                        <a:lnTo>
                          <a:pt x="42" y="26"/>
                        </a:lnTo>
                        <a:lnTo>
                          <a:pt x="36" y="29"/>
                        </a:lnTo>
                        <a:lnTo>
                          <a:pt x="32" y="32"/>
                        </a:lnTo>
                        <a:lnTo>
                          <a:pt x="27" y="35"/>
                        </a:lnTo>
                        <a:lnTo>
                          <a:pt x="23" y="39"/>
                        </a:lnTo>
                        <a:lnTo>
                          <a:pt x="19" y="43"/>
                        </a:lnTo>
                        <a:lnTo>
                          <a:pt x="16" y="48"/>
                        </a:lnTo>
                        <a:lnTo>
                          <a:pt x="13" y="52"/>
                        </a:lnTo>
                        <a:lnTo>
                          <a:pt x="9" y="56"/>
                        </a:lnTo>
                        <a:lnTo>
                          <a:pt x="6" y="61"/>
                        </a:lnTo>
                        <a:lnTo>
                          <a:pt x="4" y="66"/>
                        </a:lnTo>
                        <a:lnTo>
                          <a:pt x="2" y="71"/>
                        </a:lnTo>
                        <a:lnTo>
                          <a:pt x="2" y="76"/>
                        </a:lnTo>
                        <a:lnTo>
                          <a:pt x="1" y="81"/>
                        </a:lnTo>
                        <a:lnTo>
                          <a:pt x="0" y="86"/>
                        </a:lnTo>
                        <a:lnTo>
                          <a:pt x="1" y="92"/>
                        </a:lnTo>
                        <a:lnTo>
                          <a:pt x="2" y="97"/>
                        </a:lnTo>
                        <a:lnTo>
                          <a:pt x="2" y="102"/>
                        </a:lnTo>
                        <a:lnTo>
                          <a:pt x="4" y="107"/>
                        </a:lnTo>
                        <a:lnTo>
                          <a:pt x="6" y="112"/>
                        </a:lnTo>
                        <a:lnTo>
                          <a:pt x="8" y="117"/>
                        </a:lnTo>
                        <a:lnTo>
                          <a:pt x="10" y="122"/>
                        </a:lnTo>
                        <a:lnTo>
                          <a:pt x="13" y="126"/>
                        </a:lnTo>
                        <a:lnTo>
                          <a:pt x="17" y="130"/>
                        </a:lnTo>
                        <a:lnTo>
                          <a:pt x="22" y="134"/>
                        </a:lnTo>
                        <a:lnTo>
                          <a:pt x="26" y="137"/>
                        </a:lnTo>
                        <a:lnTo>
                          <a:pt x="32" y="141"/>
                        </a:lnTo>
                        <a:lnTo>
                          <a:pt x="37" y="145"/>
                        </a:lnTo>
                        <a:lnTo>
                          <a:pt x="42" y="148"/>
                        </a:lnTo>
                        <a:lnTo>
                          <a:pt x="48" y="152"/>
                        </a:lnTo>
                        <a:lnTo>
                          <a:pt x="83" y="166"/>
                        </a:lnTo>
                        <a:lnTo>
                          <a:pt x="119" y="179"/>
                        </a:lnTo>
                        <a:lnTo>
                          <a:pt x="155" y="191"/>
                        </a:lnTo>
                        <a:lnTo>
                          <a:pt x="191" y="202"/>
                        </a:lnTo>
                        <a:lnTo>
                          <a:pt x="229" y="211"/>
                        </a:lnTo>
                        <a:lnTo>
                          <a:pt x="266" y="219"/>
                        </a:lnTo>
                        <a:lnTo>
                          <a:pt x="305" y="226"/>
                        </a:lnTo>
                        <a:lnTo>
                          <a:pt x="343" y="232"/>
                        </a:lnTo>
                        <a:lnTo>
                          <a:pt x="381" y="238"/>
                        </a:lnTo>
                        <a:lnTo>
                          <a:pt x="420" y="242"/>
                        </a:lnTo>
                        <a:lnTo>
                          <a:pt x="417" y="240"/>
                        </a:lnTo>
                        <a:lnTo>
                          <a:pt x="414" y="237"/>
                        </a:lnTo>
                        <a:lnTo>
                          <a:pt x="410" y="235"/>
                        </a:lnTo>
                        <a:lnTo>
                          <a:pt x="407" y="232"/>
                        </a:lnTo>
                        <a:lnTo>
                          <a:pt x="403" y="230"/>
                        </a:lnTo>
                        <a:lnTo>
                          <a:pt x="400" y="228"/>
                        </a:lnTo>
                        <a:lnTo>
                          <a:pt x="396" y="225"/>
                        </a:lnTo>
                        <a:lnTo>
                          <a:pt x="393" y="223"/>
                        </a:lnTo>
                        <a:lnTo>
                          <a:pt x="389" y="221"/>
                        </a:lnTo>
                        <a:lnTo>
                          <a:pt x="386" y="220"/>
                        </a:lnTo>
                        <a:lnTo>
                          <a:pt x="384" y="219"/>
                        </a:lnTo>
                        <a:lnTo>
                          <a:pt x="381" y="218"/>
                        </a:lnTo>
                        <a:lnTo>
                          <a:pt x="379" y="218"/>
                        </a:lnTo>
                        <a:lnTo>
                          <a:pt x="377" y="217"/>
                        </a:lnTo>
                        <a:lnTo>
                          <a:pt x="375" y="217"/>
                        </a:lnTo>
                        <a:lnTo>
                          <a:pt x="373" y="217"/>
                        </a:lnTo>
                        <a:lnTo>
                          <a:pt x="371" y="217"/>
                        </a:lnTo>
                        <a:lnTo>
                          <a:pt x="369" y="217"/>
                        </a:lnTo>
                        <a:lnTo>
                          <a:pt x="368" y="217"/>
                        </a:lnTo>
                        <a:lnTo>
                          <a:pt x="367" y="217"/>
                        </a:lnTo>
                        <a:lnTo>
                          <a:pt x="345" y="207"/>
                        </a:lnTo>
                        <a:lnTo>
                          <a:pt x="322" y="199"/>
                        </a:lnTo>
                        <a:lnTo>
                          <a:pt x="300" y="191"/>
                        </a:lnTo>
                        <a:lnTo>
                          <a:pt x="278" y="183"/>
                        </a:lnTo>
                        <a:lnTo>
                          <a:pt x="255" y="176"/>
                        </a:lnTo>
                        <a:lnTo>
                          <a:pt x="233" y="169"/>
                        </a:lnTo>
                        <a:lnTo>
                          <a:pt x="210" y="162"/>
                        </a:lnTo>
                        <a:lnTo>
                          <a:pt x="187" y="155"/>
                        </a:lnTo>
                        <a:lnTo>
                          <a:pt x="163" y="147"/>
                        </a:lnTo>
                        <a:lnTo>
                          <a:pt x="140" y="137"/>
                        </a:lnTo>
                        <a:lnTo>
                          <a:pt x="137" y="136"/>
                        </a:lnTo>
                        <a:lnTo>
                          <a:pt x="134" y="134"/>
                        </a:lnTo>
                        <a:lnTo>
                          <a:pt x="131" y="131"/>
                        </a:lnTo>
                        <a:lnTo>
                          <a:pt x="127" y="129"/>
                        </a:lnTo>
                        <a:lnTo>
                          <a:pt x="124" y="127"/>
                        </a:lnTo>
                        <a:lnTo>
                          <a:pt x="121" y="123"/>
                        </a:lnTo>
                        <a:lnTo>
                          <a:pt x="117" y="120"/>
                        </a:lnTo>
                        <a:lnTo>
                          <a:pt x="114" y="117"/>
                        </a:lnTo>
                        <a:lnTo>
                          <a:pt x="112" y="113"/>
                        </a:lnTo>
                        <a:lnTo>
                          <a:pt x="110" y="109"/>
                        </a:lnTo>
                        <a:lnTo>
                          <a:pt x="107" y="104"/>
                        </a:lnTo>
                        <a:lnTo>
                          <a:pt x="104" y="98"/>
                        </a:lnTo>
                        <a:lnTo>
                          <a:pt x="103" y="93"/>
                        </a:lnTo>
                        <a:lnTo>
                          <a:pt x="102" y="88"/>
                        </a:lnTo>
                        <a:lnTo>
                          <a:pt x="101" y="82"/>
                        </a:lnTo>
                        <a:lnTo>
                          <a:pt x="101" y="77"/>
                        </a:lnTo>
                        <a:lnTo>
                          <a:pt x="101" y="71"/>
                        </a:lnTo>
                        <a:lnTo>
                          <a:pt x="102" y="65"/>
                        </a:lnTo>
                        <a:lnTo>
                          <a:pt x="102" y="60"/>
                        </a:lnTo>
                        <a:lnTo>
                          <a:pt x="102" y="55"/>
                        </a:lnTo>
                        <a:lnTo>
                          <a:pt x="103" y="54"/>
                        </a:lnTo>
                        <a:lnTo>
                          <a:pt x="104" y="52"/>
                        </a:lnTo>
                        <a:lnTo>
                          <a:pt x="106" y="50"/>
                        </a:lnTo>
                        <a:lnTo>
                          <a:pt x="107" y="48"/>
                        </a:lnTo>
                        <a:lnTo>
                          <a:pt x="108" y="47"/>
                        </a:lnTo>
                        <a:lnTo>
                          <a:pt x="110" y="45"/>
                        </a:lnTo>
                        <a:lnTo>
                          <a:pt x="111" y="43"/>
                        </a:lnTo>
                        <a:lnTo>
                          <a:pt x="113" y="42"/>
                        </a:lnTo>
                        <a:lnTo>
                          <a:pt x="115" y="40"/>
                        </a:lnTo>
                        <a:lnTo>
                          <a:pt x="117" y="38"/>
                        </a:lnTo>
                        <a:lnTo>
                          <a:pt x="126" y="34"/>
                        </a:lnTo>
                        <a:lnTo>
                          <a:pt x="134" y="31"/>
                        </a:lnTo>
                        <a:lnTo>
                          <a:pt x="143" y="28"/>
                        </a:lnTo>
                        <a:lnTo>
                          <a:pt x="152" y="26"/>
                        </a:lnTo>
                        <a:lnTo>
                          <a:pt x="160" y="23"/>
                        </a:lnTo>
                        <a:lnTo>
                          <a:pt x="169" y="20"/>
                        </a:lnTo>
                        <a:lnTo>
                          <a:pt x="177" y="17"/>
                        </a:lnTo>
                        <a:lnTo>
                          <a:pt x="185" y="13"/>
                        </a:lnTo>
                        <a:lnTo>
                          <a:pt x="192" y="8"/>
                        </a:lnTo>
                        <a:lnTo>
                          <a:pt x="198" y="1"/>
                        </a:lnTo>
                        <a:lnTo>
                          <a:pt x="182" y="0"/>
                        </a:lnTo>
                        <a:lnTo>
                          <a:pt x="166" y="0"/>
                        </a:lnTo>
                        <a:lnTo>
                          <a:pt x="150" y="1"/>
                        </a:lnTo>
                        <a:lnTo>
                          <a:pt x="135" y="4"/>
                        </a:lnTo>
                        <a:lnTo>
                          <a:pt x="120" y="7"/>
                        </a:lnTo>
                        <a:lnTo>
                          <a:pt x="104" y="9"/>
                        </a:lnTo>
                        <a:lnTo>
                          <a:pt x="90" y="13"/>
                        </a:lnTo>
                        <a:lnTo>
                          <a:pt x="75" y="17"/>
                        </a:lnTo>
                        <a:lnTo>
                          <a:pt x="59" y="21"/>
                        </a:lnTo>
                        <a:lnTo>
                          <a:pt x="45" y="24"/>
                        </a:lnTo>
                        <a:lnTo>
                          <a:pt x="48" y="24"/>
                        </a:lnTo>
                        <a:lnTo>
                          <a:pt x="48" y="24"/>
                        </a:lnTo>
                      </a:path>
                    </a:pathLst>
                  </a:custGeom>
                  <a:noFill/>
                  <a:ln w="5040">
                    <a:solidFill>
                      <a:srgbClr val="ffb83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37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85160" y="5151600"/>
                    <a:ext cx="776520" cy="70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3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88600" y="5343840"/>
                    <a:ext cx="776520" cy="70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80" name=""/>
                  <p:cNvSpPr/>
                  <p:nvPr/>
                </p:nvSpPr>
                <p:spPr>
                  <a:xfrm>
                    <a:off x="697320" y="5632560"/>
                    <a:ext cx="887400" cy="46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817" h="876">
                        <a:moveTo>
                          <a:pt x="678" y="21"/>
                        </a:moveTo>
                        <a:lnTo>
                          <a:pt x="680" y="26"/>
                        </a:lnTo>
                        <a:lnTo>
                          <a:pt x="682" y="31"/>
                        </a:lnTo>
                        <a:lnTo>
                          <a:pt x="682" y="36"/>
                        </a:lnTo>
                        <a:lnTo>
                          <a:pt x="682" y="41"/>
                        </a:lnTo>
                        <a:lnTo>
                          <a:pt x="681" y="46"/>
                        </a:lnTo>
                        <a:lnTo>
                          <a:pt x="680" y="51"/>
                        </a:lnTo>
                        <a:lnTo>
                          <a:pt x="678" y="56"/>
                        </a:lnTo>
                        <a:lnTo>
                          <a:pt x="676" y="61"/>
                        </a:lnTo>
                        <a:lnTo>
                          <a:pt x="674" y="66"/>
                        </a:lnTo>
                        <a:lnTo>
                          <a:pt x="672" y="70"/>
                        </a:lnTo>
                        <a:lnTo>
                          <a:pt x="713" y="68"/>
                        </a:lnTo>
                        <a:lnTo>
                          <a:pt x="754" y="68"/>
                        </a:lnTo>
                        <a:lnTo>
                          <a:pt x="797" y="69"/>
                        </a:lnTo>
                        <a:lnTo>
                          <a:pt x="839" y="72"/>
                        </a:lnTo>
                        <a:lnTo>
                          <a:pt x="883" y="75"/>
                        </a:lnTo>
                        <a:lnTo>
                          <a:pt x="926" y="79"/>
                        </a:lnTo>
                        <a:lnTo>
                          <a:pt x="970" y="84"/>
                        </a:lnTo>
                        <a:lnTo>
                          <a:pt x="1013" y="90"/>
                        </a:lnTo>
                        <a:lnTo>
                          <a:pt x="1055" y="97"/>
                        </a:lnTo>
                        <a:lnTo>
                          <a:pt x="1097" y="103"/>
                        </a:lnTo>
                        <a:lnTo>
                          <a:pt x="1103" y="105"/>
                        </a:lnTo>
                        <a:lnTo>
                          <a:pt x="1108" y="106"/>
                        </a:lnTo>
                        <a:lnTo>
                          <a:pt x="1114" y="107"/>
                        </a:lnTo>
                        <a:lnTo>
                          <a:pt x="1120" y="109"/>
                        </a:lnTo>
                        <a:lnTo>
                          <a:pt x="1125" y="111"/>
                        </a:lnTo>
                        <a:lnTo>
                          <a:pt x="1131" y="113"/>
                        </a:lnTo>
                        <a:lnTo>
                          <a:pt x="1136" y="114"/>
                        </a:lnTo>
                        <a:lnTo>
                          <a:pt x="1142" y="116"/>
                        </a:lnTo>
                        <a:lnTo>
                          <a:pt x="1148" y="117"/>
                        </a:lnTo>
                        <a:lnTo>
                          <a:pt x="1154" y="117"/>
                        </a:lnTo>
                        <a:lnTo>
                          <a:pt x="1157" y="118"/>
                        </a:lnTo>
                        <a:lnTo>
                          <a:pt x="1158" y="119"/>
                        </a:lnTo>
                        <a:lnTo>
                          <a:pt x="1161" y="120"/>
                        </a:lnTo>
                        <a:lnTo>
                          <a:pt x="1164" y="121"/>
                        </a:lnTo>
                        <a:lnTo>
                          <a:pt x="1166" y="122"/>
                        </a:lnTo>
                        <a:lnTo>
                          <a:pt x="1168" y="123"/>
                        </a:lnTo>
                        <a:lnTo>
                          <a:pt x="1171" y="123"/>
                        </a:lnTo>
                        <a:lnTo>
                          <a:pt x="1174" y="124"/>
                        </a:lnTo>
                        <a:lnTo>
                          <a:pt x="1177" y="125"/>
                        </a:lnTo>
                        <a:lnTo>
                          <a:pt x="1179" y="126"/>
                        </a:lnTo>
                        <a:lnTo>
                          <a:pt x="1185" y="130"/>
                        </a:lnTo>
                        <a:lnTo>
                          <a:pt x="1192" y="134"/>
                        </a:lnTo>
                        <a:lnTo>
                          <a:pt x="1198" y="138"/>
                        </a:lnTo>
                        <a:lnTo>
                          <a:pt x="1204" y="141"/>
                        </a:lnTo>
                        <a:lnTo>
                          <a:pt x="1210" y="146"/>
                        </a:lnTo>
                        <a:lnTo>
                          <a:pt x="1215" y="151"/>
                        </a:lnTo>
                        <a:lnTo>
                          <a:pt x="1219" y="156"/>
                        </a:lnTo>
                        <a:lnTo>
                          <a:pt x="1222" y="161"/>
                        </a:lnTo>
                        <a:lnTo>
                          <a:pt x="1224" y="166"/>
                        </a:lnTo>
                        <a:lnTo>
                          <a:pt x="1224" y="173"/>
                        </a:lnTo>
                        <a:lnTo>
                          <a:pt x="1230" y="178"/>
                        </a:lnTo>
                        <a:lnTo>
                          <a:pt x="1231" y="186"/>
                        </a:lnTo>
                        <a:lnTo>
                          <a:pt x="1232" y="195"/>
                        </a:lnTo>
                        <a:lnTo>
                          <a:pt x="1232" y="203"/>
                        </a:lnTo>
                        <a:lnTo>
                          <a:pt x="1232" y="212"/>
                        </a:lnTo>
                        <a:lnTo>
                          <a:pt x="1232" y="220"/>
                        </a:lnTo>
                        <a:lnTo>
                          <a:pt x="1231" y="229"/>
                        </a:lnTo>
                        <a:lnTo>
                          <a:pt x="1230" y="237"/>
                        </a:lnTo>
                        <a:lnTo>
                          <a:pt x="1228" y="245"/>
                        </a:lnTo>
                        <a:lnTo>
                          <a:pt x="1227" y="253"/>
                        </a:lnTo>
                        <a:lnTo>
                          <a:pt x="1224" y="261"/>
                        </a:lnTo>
                        <a:lnTo>
                          <a:pt x="1226" y="272"/>
                        </a:lnTo>
                        <a:lnTo>
                          <a:pt x="1241" y="270"/>
                        </a:lnTo>
                        <a:lnTo>
                          <a:pt x="1257" y="267"/>
                        </a:lnTo>
                        <a:lnTo>
                          <a:pt x="1273" y="265"/>
                        </a:lnTo>
                        <a:lnTo>
                          <a:pt x="1290" y="263"/>
                        </a:lnTo>
                        <a:lnTo>
                          <a:pt x="1306" y="261"/>
                        </a:lnTo>
                        <a:lnTo>
                          <a:pt x="1323" y="261"/>
                        </a:lnTo>
                        <a:lnTo>
                          <a:pt x="1339" y="262"/>
                        </a:lnTo>
                        <a:lnTo>
                          <a:pt x="1355" y="263"/>
                        </a:lnTo>
                        <a:lnTo>
                          <a:pt x="1370" y="267"/>
                        </a:lnTo>
                        <a:lnTo>
                          <a:pt x="1384" y="274"/>
                        </a:lnTo>
                        <a:lnTo>
                          <a:pt x="1388" y="274"/>
                        </a:lnTo>
                        <a:lnTo>
                          <a:pt x="1391" y="275"/>
                        </a:lnTo>
                        <a:lnTo>
                          <a:pt x="1395" y="276"/>
                        </a:lnTo>
                        <a:lnTo>
                          <a:pt x="1398" y="278"/>
                        </a:lnTo>
                        <a:lnTo>
                          <a:pt x="1401" y="280"/>
                        </a:lnTo>
                        <a:lnTo>
                          <a:pt x="1404" y="282"/>
                        </a:lnTo>
                        <a:lnTo>
                          <a:pt x="1407" y="283"/>
                        </a:lnTo>
                        <a:lnTo>
                          <a:pt x="1410" y="285"/>
                        </a:lnTo>
                        <a:lnTo>
                          <a:pt x="1412" y="287"/>
                        </a:lnTo>
                        <a:lnTo>
                          <a:pt x="1415" y="288"/>
                        </a:lnTo>
                        <a:lnTo>
                          <a:pt x="1419" y="293"/>
                        </a:lnTo>
                        <a:lnTo>
                          <a:pt x="1423" y="297"/>
                        </a:lnTo>
                        <a:lnTo>
                          <a:pt x="1427" y="302"/>
                        </a:lnTo>
                        <a:lnTo>
                          <a:pt x="1430" y="307"/>
                        </a:lnTo>
                        <a:lnTo>
                          <a:pt x="1432" y="312"/>
                        </a:lnTo>
                        <a:lnTo>
                          <a:pt x="1435" y="317"/>
                        </a:lnTo>
                        <a:lnTo>
                          <a:pt x="1437" y="322"/>
                        </a:lnTo>
                        <a:lnTo>
                          <a:pt x="1438" y="328"/>
                        </a:lnTo>
                        <a:lnTo>
                          <a:pt x="1440" y="333"/>
                        </a:lnTo>
                        <a:lnTo>
                          <a:pt x="1441" y="338"/>
                        </a:lnTo>
                        <a:lnTo>
                          <a:pt x="1440" y="343"/>
                        </a:lnTo>
                        <a:lnTo>
                          <a:pt x="1438" y="349"/>
                        </a:lnTo>
                        <a:lnTo>
                          <a:pt x="1438" y="355"/>
                        </a:lnTo>
                        <a:lnTo>
                          <a:pt x="1438" y="360"/>
                        </a:lnTo>
                        <a:lnTo>
                          <a:pt x="1437" y="366"/>
                        </a:lnTo>
                        <a:lnTo>
                          <a:pt x="1436" y="372"/>
                        </a:lnTo>
                        <a:lnTo>
                          <a:pt x="1435" y="378"/>
                        </a:lnTo>
                        <a:lnTo>
                          <a:pt x="1434" y="384"/>
                        </a:lnTo>
                        <a:lnTo>
                          <a:pt x="1432" y="389"/>
                        </a:lnTo>
                        <a:lnTo>
                          <a:pt x="1429" y="395"/>
                        </a:lnTo>
                        <a:lnTo>
                          <a:pt x="1422" y="412"/>
                        </a:lnTo>
                        <a:lnTo>
                          <a:pt x="1413" y="429"/>
                        </a:lnTo>
                        <a:lnTo>
                          <a:pt x="1402" y="445"/>
                        </a:lnTo>
                        <a:lnTo>
                          <a:pt x="1390" y="461"/>
                        </a:lnTo>
                        <a:lnTo>
                          <a:pt x="1377" y="477"/>
                        </a:lnTo>
                        <a:lnTo>
                          <a:pt x="1362" y="492"/>
                        </a:lnTo>
                        <a:lnTo>
                          <a:pt x="1346" y="507"/>
                        </a:lnTo>
                        <a:lnTo>
                          <a:pt x="1329" y="521"/>
                        </a:lnTo>
                        <a:lnTo>
                          <a:pt x="1313" y="534"/>
                        </a:lnTo>
                        <a:lnTo>
                          <a:pt x="1294" y="546"/>
                        </a:lnTo>
                        <a:lnTo>
                          <a:pt x="1310" y="548"/>
                        </a:lnTo>
                        <a:lnTo>
                          <a:pt x="1326" y="550"/>
                        </a:lnTo>
                        <a:lnTo>
                          <a:pt x="1342" y="552"/>
                        </a:lnTo>
                        <a:lnTo>
                          <a:pt x="1359" y="555"/>
                        </a:lnTo>
                        <a:lnTo>
                          <a:pt x="1374" y="558"/>
                        </a:lnTo>
                        <a:lnTo>
                          <a:pt x="1390" y="561"/>
                        </a:lnTo>
                        <a:lnTo>
                          <a:pt x="1405" y="564"/>
                        </a:lnTo>
                        <a:lnTo>
                          <a:pt x="1420" y="567"/>
                        </a:lnTo>
                        <a:lnTo>
                          <a:pt x="1435" y="571"/>
                        </a:lnTo>
                        <a:lnTo>
                          <a:pt x="1450" y="574"/>
                        </a:lnTo>
                        <a:lnTo>
                          <a:pt x="1477" y="567"/>
                        </a:lnTo>
                        <a:lnTo>
                          <a:pt x="1507" y="560"/>
                        </a:lnTo>
                        <a:lnTo>
                          <a:pt x="1535" y="555"/>
                        </a:lnTo>
                        <a:lnTo>
                          <a:pt x="1565" y="550"/>
                        </a:lnTo>
                        <a:lnTo>
                          <a:pt x="1595" y="546"/>
                        </a:lnTo>
                        <a:lnTo>
                          <a:pt x="1625" y="543"/>
                        </a:lnTo>
                        <a:lnTo>
                          <a:pt x="1655" y="541"/>
                        </a:lnTo>
                        <a:lnTo>
                          <a:pt x="1686" y="541"/>
                        </a:lnTo>
                        <a:lnTo>
                          <a:pt x="1717" y="541"/>
                        </a:lnTo>
                        <a:lnTo>
                          <a:pt x="1748" y="543"/>
                        </a:lnTo>
                        <a:lnTo>
                          <a:pt x="1755" y="545"/>
                        </a:lnTo>
                        <a:lnTo>
                          <a:pt x="1763" y="546"/>
                        </a:lnTo>
                        <a:lnTo>
                          <a:pt x="1771" y="547"/>
                        </a:lnTo>
                        <a:lnTo>
                          <a:pt x="1779" y="549"/>
                        </a:lnTo>
                        <a:lnTo>
                          <a:pt x="1787" y="551"/>
                        </a:lnTo>
                        <a:lnTo>
                          <a:pt x="1794" y="553"/>
                        </a:lnTo>
                        <a:lnTo>
                          <a:pt x="1800" y="556"/>
                        </a:lnTo>
                        <a:lnTo>
                          <a:pt x="1807" y="559"/>
                        </a:lnTo>
                        <a:lnTo>
                          <a:pt x="1812" y="563"/>
                        </a:lnTo>
                        <a:lnTo>
                          <a:pt x="1817" y="568"/>
                        </a:lnTo>
                        <a:lnTo>
                          <a:pt x="1817" y="570"/>
                        </a:lnTo>
                        <a:lnTo>
                          <a:pt x="1817" y="572"/>
                        </a:lnTo>
                        <a:lnTo>
                          <a:pt x="1817" y="574"/>
                        </a:lnTo>
                        <a:lnTo>
                          <a:pt x="1817" y="576"/>
                        </a:lnTo>
                        <a:lnTo>
                          <a:pt x="1817" y="578"/>
                        </a:lnTo>
                        <a:lnTo>
                          <a:pt x="1816" y="580"/>
                        </a:lnTo>
                        <a:lnTo>
                          <a:pt x="1815" y="582"/>
                        </a:lnTo>
                        <a:lnTo>
                          <a:pt x="1814" y="584"/>
                        </a:lnTo>
                        <a:lnTo>
                          <a:pt x="1813" y="587"/>
                        </a:lnTo>
                        <a:lnTo>
                          <a:pt x="1813" y="589"/>
                        </a:lnTo>
                        <a:lnTo>
                          <a:pt x="1803" y="593"/>
                        </a:lnTo>
                        <a:lnTo>
                          <a:pt x="1793" y="597"/>
                        </a:lnTo>
                        <a:lnTo>
                          <a:pt x="1782" y="600"/>
                        </a:lnTo>
                        <a:lnTo>
                          <a:pt x="1771" y="603"/>
                        </a:lnTo>
                        <a:lnTo>
                          <a:pt x="1759" y="605"/>
                        </a:lnTo>
                        <a:lnTo>
                          <a:pt x="1748" y="607"/>
                        </a:lnTo>
                        <a:lnTo>
                          <a:pt x="1736" y="609"/>
                        </a:lnTo>
                        <a:lnTo>
                          <a:pt x="1724" y="610"/>
                        </a:lnTo>
                        <a:lnTo>
                          <a:pt x="1712" y="611"/>
                        </a:lnTo>
                        <a:lnTo>
                          <a:pt x="1700" y="613"/>
                        </a:lnTo>
                        <a:lnTo>
                          <a:pt x="1686" y="613"/>
                        </a:lnTo>
                        <a:lnTo>
                          <a:pt x="1672" y="614"/>
                        </a:lnTo>
                        <a:lnTo>
                          <a:pt x="1657" y="614"/>
                        </a:lnTo>
                        <a:lnTo>
                          <a:pt x="1642" y="615"/>
                        </a:lnTo>
                        <a:lnTo>
                          <a:pt x="1627" y="616"/>
                        </a:lnTo>
                        <a:lnTo>
                          <a:pt x="1612" y="617"/>
                        </a:lnTo>
                        <a:lnTo>
                          <a:pt x="1596" y="618"/>
                        </a:lnTo>
                        <a:lnTo>
                          <a:pt x="1580" y="619"/>
                        </a:lnTo>
                        <a:lnTo>
                          <a:pt x="1564" y="620"/>
                        </a:lnTo>
                        <a:lnTo>
                          <a:pt x="1548" y="621"/>
                        </a:lnTo>
                        <a:lnTo>
                          <a:pt x="1547" y="622"/>
                        </a:lnTo>
                        <a:lnTo>
                          <a:pt x="1549" y="622"/>
                        </a:lnTo>
                        <a:lnTo>
                          <a:pt x="1550" y="623"/>
                        </a:lnTo>
                        <a:lnTo>
                          <a:pt x="1553" y="624"/>
                        </a:lnTo>
                        <a:lnTo>
                          <a:pt x="1554" y="625"/>
                        </a:lnTo>
                        <a:lnTo>
                          <a:pt x="1556" y="626"/>
                        </a:lnTo>
                        <a:lnTo>
                          <a:pt x="1558" y="627"/>
                        </a:lnTo>
                        <a:lnTo>
                          <a:pt x="1560" y="627"/>
                        </a:lnTo>
                        <a:lnTo>
                          <a:pt x="1562" y="628"/>
                        </a:lnTo>
                        <a:lnTo>
                          <a:pt x="1564" y="628"/>
                        </a:lnTo>
                        <a:lnTo>
                          <a:pt x="1566" y="628"/>
                        </a:lnTo>
                        <a:lnTo>
                          <a:pt x="1572" y="635"/>
                        </a:lnTo>
                        <a:lnTo>
                          <a:pt x="1576" y="642"/>
                        </a:lnTo>
                        <a:lnTo>
                          <a:pt x="1579" y="650"/>
                        </a:lnTo>
                        <a:lnTo>
                          <a:pt x="1580" y="658"/>
                        </a:lnTo>
                        <a:lnTo>
                          <a:pt x="1582" y="666"/>
                        </a:lnTo>
                        <a:lnTo>
                          <a:pt x="1582" y="674"/>
                        </a:lnTo>
                        <a:lnTo>
                          <a:pt x="1581" y="683"/>
                        </a:lnTo>
                        <a:lnTo>
                          <a:pt x="1579" y="691"/>
                        </a:lnTo>
                        <a:lnTo>
                          <a:pt x="1576" y="698"/>
                        </a:lnTo>
                        <a:lnTo>
                          <a:pt x="1573" y="706"/>
                        </a:lnTo>
                        <a:lnTo>
                          <a:pt x="1565" y="712"/>
                        </a:lnTo>
                        <a:lnTo>
                          <a:pt x="1557" y="719"/>
                        </a:lnTo>
                        <a:lnTo>
                          <a:pt x="1549" y="725"/>
                        </a:lnTo>
                        <a:lnTo>
                          <a:pt x="1540" y="731"/>
                        </a:lnTo>
                        <a:lnTo>
                          <a:pt x="1531" y="737"/>
                        </a:lnTo>
                        <a:lnTo>
                          <a:pt x="1522" y="743"/>
                        </a:lnTo>
                        <a:lnTo>
                          <a:pt x="1513" y="749"/>
                        </a:lnTo>
                        <a:lnTo>
                          <a:pt x="1504" y="754"/>
                        </a:lnTo>
                        <a:lnTo>
                          <a:pt x="1493" y="760"/>
                        </a:lnTo>
                        <a:lnTo>
                          <a:pt x="1483" y="766"/>
                        </a:lnTo>
                        <a:lnTo>
                          <a:pt x="1467" y="771"/>
                        </a:lnTo>
                        <a:lnTo>
                          <a:pt x="1451" y="776"/>
                        </a:lnTo>
                        <a:lnTo>
                          <a:pt x="1435" y="782"/>
                        </a:lnTo>
                        <a:lnTo>
                          <a:pt x="1418" y="786"/>
                        </a:lnTo>
                        <a:lnTo>
                          <a:pt x="1402" y="791"/>
                        </a:lnTo>
                        <a:lnTo>
                          <a:pt x="1385" y="795"/>
                        </a:lnTo>
                        <a:lnTo>
                          <a:pt x="1369" y="800"/>
                        </a:lnTo>
                        <a:lnTo>
                          <a:pt x="1352" y="803"/>
                        </a:lnTo>
                        <a:lnTo>
                          <a:pt x="1336" y="807"/>
                        </a:lnTo>
                        <a:lnTo>
                          <a:pt x="1319" y="810"/>
                        </a:lnTo>
                        <a:lnTo>
                          <a:pt x="1293" y="823"/>
                        </a:lnTo>
                        <a:lnTo>
                          <a:pt x="1266" y="834"/>
                        </a:lnTo>
                        <a:lnTo>
                          <a:pt x="1238" y="843"/>
                        </a:lnTo>
                        <a:lnTo>
                          <a:pt x="1209" y="850"/>
                        </a:lnTo>
                        <a:lnTo>
                          <a:pt x="1180" y="855"/>
                        </a:lnTo>
                        <a:lnTo>
                          <a:pt x="1150" y="859"/>
                        </a:lnTo>
                        <a:lnTo>
                          <a:pt x="1120" y="863"/>
                        </a:lnTo>
                        <a:lnTo>
                          <a:pt x="1089" y="866"/>
                        </a:lnTo>
                        <a:lnTo>
                          <a:pt x="1058" y="868"/>
                        </a:lnTo>
                        <a:lnTo>
                          <a:pt x="1027" y="871"/>
                        </a:lnTo>
                        <a:lnTo>
                          <a:pt x="1023" y="871"/>
                        </a:lnTo>
                        <a:lnTo>
                          <a:pt x="1018" y="871"/>
                        </a:lnTo>
                        <a:lnTo>
                          <a:pt x="1013" y="871"/>
                        </a:lnTo>
                        <a:lnTo>
                          <a:pt x="1008" y="871"/>
                        </a:lnTo>
                        <a:lnTo>
                          <a:pt x="1003" y="871"/>
                        </a:lnTo>
                        <a:lnTo>
                          <a:pt x="997" y="871"/>
                        </a:lnTo>
                        <a:lnTo>
                          <a:pt x="992" y="872"/>
                        </a:lnTo>
                        <a:lnTo>
                          <a:pt x="986" y="872"/>
                        </a:lnTo>
                        <a:lnTo>
                          <a:pt x="981" y="873"/>
                        </a:lnTo>
                        <a:lnTo>
                          <a:pt x="976" y="874"/>
                        </a:lnTo>
                        <a:lnTo>
                          <a:pt x="951" y="875"/>
                        </a:lnTo>
                        <a:lnTo>
                          <a:pt x="926" y="876"/>
                        </a:lnTo>
                        <a:lnTo>
                          <a:pt x="898" y="876"/>
                        </a:lnTo>
                        <a:lnTo>
                          <a:pt x="871" y="875"/>
                        </a:lnTo>
                        <a:lnTo>
                          <a:pt x="843" y="875"/>
                        </a:lnTo>
                        <a:lnTo>
                          <a:pt x="814" y="873"/>
                        </a:lnTo>
                        <a:lnTo>
                          <a:pt x="786" y="872"/>
                        </a:lnTo>
                        <a:lnTo>
                          <a:pt x="758" y="871"/>
                        </a:lnTo>
                        <a:lnTo>
                          <a:pt x="731" y="868"/>
                        </a:lnTo>
                        <a:lnTo>
                          <a:pt x="705" y="866"/>
                        </a:lnTo>
                        <a:lnTo>
                          <a:pt x="689" y="865"/>
                        </a:lnTo>
                        <a:lnTo>
                          <a:pt x="673" y="864"/>
                        </a:lnTo>
                        <a:lnTo>
                          <a:pt x="657" y="864"/>
                        </a:lnTo>
                        <a:lnTo>
                          <a:pt x="640" y="863"/>
                        </a:lnTo>
                        <a:lnTo>
                          <a:pt x="624" y="862"/>
                        </a:lnTo>
                        <a:lnTo>
                          <a:pt x="607" y="860"/>
                        </a:lnTo>
                        <a:lnTo>
                          <a:pt x="590" y="859"/>
                        </a:lnTo>
                        <a:lnTo>
                          <a:pt x="574" y="858"/>
                        </a:lnTo>
                        <a:lnTo>
                          <a:pt x="557" y="857"/>
                        </a:lnTo>
                        <a:lnTo>
                          <a:pt x="541" y="856"/>
                        </a:lnTo>
                        <a:lnTo>
                          <a:pt x="515" y="851"/>
                        </a:lnTo>
                        <a:lnTo>
                          <a:pt x="490" y="847"/>
                        </a:lnTo>
                        <a:lnTo>
                          <a:pt x="465" y="843"/>
                        </a:lnTo>
                        <a:lnTo>
                          <a:pt x="440" y="839"/>
                        </a:lnTo>
                        <a:lnTo>
                          <a:pt x="415" y="835"/>
                        </a:lnTo>
                        <a:lnTo>
                          <a:pt x="390" y="829"/>
                        </a:lnTo>
                        <a:lnTo>
                          <a:pt x="367" y="824"/>
                        </a:lnTo>
                        <a:lnTo>
                          <a:pt x="343" y="816"/>
                        </a:lnTo>
                        <a:lnTo>
                          <a:pt x="321" y="808"/>
                        </a:lnTo>
                        <a:lnTo>
                          <a:pt x="298" y="798"/>
                        </a:lnTo>
                        <a:lnTo>
                          <a:pt x="282" y="791"/>
                        </a:lnTo>
                        <a:lnTo>
                          <a:pt x="265" y="785"/>
                        </a:lnTo>
                        <a:lnTo>
                          <a:pt x="248" y="779"/>
                        </a:lnTo>
                        <a:lnTo>
                          <a:pt x="231" y="773"/>
                        </a:lnTo>
                        <a:lnTo>
                          <a:pt x="214" y="767"/>
                        </a:lnTo>
                        <a:lnTo>
                          <a:pt x="196" y="762"/>
                        </a:lnTo>
                        <a:lnTo>
                          <a:pt x="179" y="757"/>
                        </a:lnTo>
                        <a:lnTo>
                          <a:pt x="162" y="751"/>
                        </a:lnTo>
                        <a:lnTo>
                          <a:pt x="145" y="745"/>
                        </a:lnTo>
                        <a:lnTo>
                          <a:pt x="128" y="739"/>
                        </a:lnTo>
                        <a:lnTo>
                          <a:pt x="122" y="742"/>
                        </a:lnTo>
                        <a:lnTo>
                          <a:pt x="106" y="734"/>
                        </a:lnTo>
                        <a:lnTo>
                          <a:pt x="89" y="725"/>
                        </a:lnTo>
                        <a:lnTo>
                          <a:pt x="71" y="716"/>
                        </a:lnTo>
                        <a:lnTo>
                          <a:pt x="54" y="705"/>
                        </a:lnTo>
                        <a:lnTo>
                          <a:pt x="37" y="694"/>
                        </a:lnTo>
                        <a:lnTo>
                          <a:pt x="23" y="682"/>
                        </a:lnTo>
                        <a:lnTo>
                          <a:pt x="11" y="669"/>
                        </a:lnTo>
                        <a:lnTo>
                          <a:pt x="3" y="656"/>
                        </a:lnTo>
                        <a:lnTo>
                          <a:pt x="0" y="642"/>
                        </a:lnTo>
                        <a:lnTo>
                          <a:pt x="1" y="627"/>
                        </a:lnTo>
                        <a:lnTo>
                          <a:pt x="4" y="621"/>
                        </a:lnTo>
                        <a:lnTo>
                          <a:pt x="6" y="614"/>
                        </a:lnTo>
                        <a:lnTo>
                          <a:pt x="9" y="608"/>
                        </a:lnTo>
                        <a:lnTo>
                          <a:pt x="12" y="602"/>
                        </a:lnTo>
                        <a:lnTo>
                          <a:pt x="16" y="596"/>
                        </a:lnTo>
                        <a:lnTo>
                          <a:pt x="21" y="589"/>
                        </a:lnTo>
                        <a:lnTo>
                          <a:pt x="25" y="584"/>
                        </a:lnTo>
                        <a:lnTo>
                          <a:pt x="32" y="578"/>
                        </a:lnTo>
                        <a:lnTo>
                          <a:pt x="39" y="574"/>
                        </a:lnTo>
                        <a:lnTo>
                          <a:pt x="48" y="569"/>
                        </a:lnTo>
                        <a:lnTo>
                          <a:pt x="70" y="559"/>
                        </a:lnTo>
                        <a:lnTo>
                          <a:pt x="93" y="550"/>
                        </a:lnTo>
                        <a:lnTo>
                          <a:pt x="117" y="542"/>
                        </a:lnTo>
                        <a:lnTo>
                          <a:pt x="140" y="536"/>
                        </a:lnTo>
                        <a:lnTo>
                          <a:pt x="165" y="530"/>
                        </a:lnTo>
                        <a:lnTo>
                          <a:pt x="189" y="526"/>
                        </a:lnTo>
                        <a:lnTo>
                          <a:pt x="213" y="521"/>
                        </a:lnTo>
                        <a:lnTo>
                          <a:pt x="238" y="517"/>
                        </a:lnTo>
                        <a:lnTo>
                          <a:pt x="264" y="513"/>
                        </a:lnTo>
                        <a:lnTo>
                          <a:pt x="291" y="508"/>
                        </a:lnTo>
                        <a:lnTo>
                          <a:pt x="302" y="507"/>
                        </a:lnTo>
                        <a:lnTo>
                          <a:pt x="314" y="505"/>
                        </a:lnTo>
                        <a:lnTo>
                          <a:pt x="325" y="504"/>
                        </a:lnTo>
                        <a:lnTo>
                          <a:pt x="337" y="503"/>
                        </a:lnTo>
                        <a:lnTo>
                          <a:pt x="348" y="501"/>
                        </a:lnTo>
                        <a:lnTo>
                          <a:pt x="360" y="500"/>
                        </a:lnTo>
                        <a:lnTo>
                          <a:pt x="371" y="499"/>
                        </a:lnTo>
                        <a:lnTo>
                          <a:pt x="383" y="497"/>
                        </a:lnTo>
                        <a:lnTo>
                          <a:pt x="394" y="495"/>
                        </a:lnTo>
                        <a:lnTo>
                          <a:pt x="405" y="494"/>
                        </a:lnTo>
                        <a:lnTo>
                          <a:pt x="397" y="478"/>
                        </a:lnTo>
                        <a:lnTo>
                          <a:pt x="389" y="462"/>
                        </a:lnTo>
                        <a:lnTo>
                          <a:pt x="381" y="446"/>
                        </a:lnTo>
                        <a:lnTo>
                          <a:pt x="374" y="429"/>
                        </a:lnTo>
                        <a:lnTo>
                          <a:pt x="366" y="414"/>
                        </a:lnTo>
                        <a:lnTo>
                          <a:pt x="360" y="397"/>
                        </a:lnTo>
                        <a:lnTo>
                          <a:pt x="354" y="381"/>
                        </a:lnTo>
                        <a:lnTo>
                          <a:pt x="350" y="365"/>
                        </a:lnTo>
                        <a:lnTo>
                          <a:pt x="347" y="348"/>
                        </a:lnTo>
                        <a:lnTo>
                          <a:pt x="346" y="333"/>
                        </a:lnTo>
                        <a:lnTo>
                          <a:pt x="341" y="317"/>
                        </a:lnTo>
                        <a:lnTo>
                          <a:pt x="338" y="300"/>
                        </a:lnTo>
                        <a:lnTo>
                          <a:pt x="334" y="284"/>
                        </a:lnTo>
                        <a:lnTo>
                          <a:pt x="332" y="267"/>
                        </a:lnTo>
                        <a:lnTo>
                          <a:pt x="330" y="250"/>
                        </a:lnTo>
                        <a:lnTo>
                          <a:pt x="328" y="234"/>
                        </a:lnTo>
                        <a:lnTo>
                          <a:pt x="327" y="217"/>
                        </a:lnTo>
                        <a:lnTo>
                          <a:pt x="326" y="200"/>
                        </a:lnTo>
                        <a:lnTo>
                          <a:pt x="327" y="183"/>
                        </a:lnTo>
                        <a:lnTo>
                          <a:pt x="327" y="167"/>
                        </a:lnTo>
                        <a:lnTo>
                          <a:pt x="329" y="162"/>
                        </a:lnTo>
                        <a:lnTo>
                          <a:pt x="332" y="157"/>
                        </a:lnTo>
                        <a:lnTo>
                          <a:pt x="336" y="153"/>
                        </a:lnTo>
                        <a:lnTo>
                          <a:pt x="341" y="149"/>
                        </a:lnTo>
                        <a:lnTo>
                          <a:pt x="346" y="145"/>
                        </a:lnTo>
                        <a:lnTo>
                          <a:pt x="351" y="143"/>
                        </a:lnTo>
                        <a:lnTo>
                          <a:pt x="357" y="139"/>
                        </a:lnTo>
                        <a:lnTo>
                          <a:pt x="363" y="136"/>
                        </a:lnTo>
                        <a:lnTo>
                          <a:pt x="369" y="132"/>
                        </a:lnTo>
                        <a:lnTo>
                          <a:pt x="374" y="129"/>
                        </a:lnTo>
                        <a:lnTo>
                          <a:pt x="393" y="121"/>
                        </a:lnTo>
                        <a:lnTo>
                          <a:pt x="413" y="113"/>
                        </a:lnTo>
                        <a:lnTo>
                          <a:pt x="433" y="107"/>
                        </a:lnTo>
                        <a:lnTo>
                          <a:pt x="453" y="101"/>
                        </a:lnTo>
                        <a:lnTo>
                          <a:pt x="475" y="97"/>
                        </a:lnTo>
                        <a:lnTo>
                          <a:pt x="496" y="92"/>
                        </a:lnTo>
                        <a:lnTo>
                          <a:pt x="518" y="89"/>
                        </a:lnTo>
                        <a:lnTo>
                          <a:pt x="539" y="85"/>
                        </a:lnTo>
                        <a:lnTo>
                          <a:pt x="561" y="82"/>
                        </a:lnTo>
                        <a:lnTo>
                          <a:pt x="582" y="79"/>
                        </a:lnTo>
                        <a:lnTo>
                          <a:pt x="581" y="76"/>
                        </a:lnTo>
                        <a:lnTo>
                          <a:pt x="581" y="74"/>
                        </a:lnTo>
                        <a:lnTo>
                          <a:pt x="578" y="72"/>
                        </a:lnTo>
                        <a:lnTo>
                          <a:pt x="576" y="71"/>
                        </a:lnTo>
                        <a:lnTo>
                          <a:pt x="573" y="69"/>
                        </a:lnTo>
                        <a:lnTo>
                          <a:pt x="570" y="68"/>
                        </a:lnTo>
                        <a:lnTo>
                          <a:pt x="567" y="67"/>
                        </a:lnTo>
                        <a:lnTo>
                          <a:pt x="564" y="66"/>
                        </a:lnTo>
                        <a:lnTo>
                          <a:pt x="561" y="64"/>
                        </a:lnTo>
                        <a:lnTo>
                          <a:pt x="559" y="63"/>
                        </a:lnTo>
                        <a:lnTo>
                          <a:pt x="548" y="63"/>
                        </a:lnTo>
                        <a:lnTo>
                          <a:pt x="538" y="63"/>
                        </a:lnTo>
                        <a:lnTo>
                          <a:pt x="527" y="63"/>
                        </a:lnTo>
                        <a:lnTo>
                          <a:pt x="516" y="62"/>
                        </a:lnTo>
                        <a:lnTo>
                          <a:pt x="506" y="62"/>
                        </a:lnTo>
                        <a:lnTo>
                          <a:pt x="496" y="62"/>
                        </a:lnTo>
                        <a:lnTo>
                          <a:pt x="486" y="63"/>
                        </a:lnTo>
                        <a:lnTo>
                          <a:pt x="476" y="63"/>
                        </a:lnTo>
                        <a:lnTo>
                          <a:pt x="466" y="65"/>
                        </a:lnTo>
                        <a:lnTo>
                          <a:pt x="456" y="67"/>
                        </a:lnTo>
                        <a:lnTo>
                          <a:pt x="453" y="68"/>
                        </a:lnTo>
                        <a:lnTo>
                          <a:pt x="449" y="68"/>
                        </a:lnTo>
                        <a:lnTo>
                          <a:pt x="446" y="67"/>
                        </a:lnTo>
                        <a:lnTo>
                          <a:pt x="442" y="66"/>
                        </a:lnTo>
                        <a:lnTo>
                          <a:pt x="439" y="65"/>
                        </a:lnTo>
                        <a:lnTo>
                          <a:pt x="436" y="64"/>
                        </a:lnTo>
                        <a:lnTo>
                          <a:pt x="433" y="62"/>
                        </a:lnTo>
                        <a:lnTo>
                          <a:pt x="430" y="60"/>
                        </a:lnTo>
                        <a:lnTo>
                          <a:pt x="428" y="59"/>
                        </a:lnTo>
                        <a:lnTo>
                          <a:pt x="426" y="58"/>
                        </a:lnTo>
                        <a:lnTo>
                          <a:pt x="428" y="49"/>
                        </a:lnTo>
                        <a:lnTo>
                          <a:pt x="432" y="42"/>
                        </a:lnTo>
                        <a:lnTo>
                          <a:pt x="439" y="36"/>
                        </a:lnTo>
                        <a:lnTo>
                          <a:pt x="446" y="31"/>
                        </a:lnTo>
                        <a:lnTo>
                          <a:pt x="455" y="27"/>
                        </a:lnTo>
                        <a:lnTo>
                          <a:pt x="465" y="24"/>
                        </a:lnTo>
                        <a:lnTo>
                          <a:pt x="475" y="21"/>
                        </a:lnTo>
                        <a:lnTo>
                          <a:pt x="485" y="17"/>
                        </a:lnTo>
                        <a:lnTo>
                          <a:pt x="495" y="14"/>
                        </a:lnTo>
                        <a:lnTo>
                          <a:pt x="504" y="11"/>
                        </a:lnTo>
                        <a:lnTo>
                          <a:pt x="521" y="8"/>
                        </a:lnTo>
                        <a:lnTo>
                          <a:pt x="538" y="5"/>
                        </a:lnTo>
                        <a:lnTo>
                          <a:pt x="558" y="3"/>
                        </a:lnTo>
                        <a:lnTo>
                          <a:pt x="576" y="1"/>
                        </a:lnTo>
                        <a:lnTo>
                          <a:pt x="595" y="0"/>
                        </a:lnTo>
                        <a:lnTo>
                          <a:pt x="614" y="0"/>
                        </a:lnTo>
                        <a:lnTo>
                          <a:pt x="631" y="3"/>
                        </a:lnTo>
                        <a:lnTo>
                          <a:pt x="648" y="7"/>
                        </a:lnTo>
                        <a:lnTo>
                          <a:pt x="664" y="13"/>
                        </a:lnTo>
                        <a:lnTo>
                          <a:pt x="678" y="22"/>
                        </a:lnTo>
                        <a:lnTo>
                          <a:pt x="678" y="22"/>
                        </a:lnTo>
                        <a:lnTo>
                          <a:pt x="678" y="21"/>
                        </a:lnTo>
                        <a:close/>
                        <a:moveTo>
                          <a:pt x="1243" y="322"/>
                        </a:moveTo>
                        <a:lnTo>
                          <a:pt x="1240" y="323"/>
                        </a:lnTo>
                        <a:lnTo>
                          <a:pt x="1237" y="323"/>
                        </a:lnTo>
                        <a:lnTo>
                          <a:pt x="1234" y="325"/>
                        </a:lnTo>
                        <a:lnTo>
                          <a:pt x="1230" y="325"/>
                        </a:lnTo>
                        <a:lnTo>
                          <a:pt x="1227" y="325"/>
                        </a:lnTo>
                        <a:lnTo>
                          <a:pt x="1224" y="326"/>
                        </a:lnTo>
                        <a:lnTo>
                          <a:pt x="1221" y="326"/>
                        </a:lnTo>
                        <a:lnTo>
                          <a:pt x="1219" y="327"/>
                        </a:lnTo>
                        <a:lnTo>
                          <a:pt x="1216" y="328"/>
                        </a:lnTo>
                        <a:lnTo>
                          <a:pt x="1214" y="329"/>
                        </a:lnTo>
                        <a:lnTo>
                          <a:pt x="1210" y="344"/>
                        </a:lnTo>
                        <a:lnTo>
                          <a:pt x="1204" y="359"/>
                        </a:lnTo>
                        <a:lnTo>
                          <a:pt x="1199" y="375"/>
                        </a:lnTo>
                        <a:lnTo>
                          <a:pt x="1194" y="390"/>
                        </a:lnTo>
                        <a:lnTo>
                          <a:pt x="1187" y="406"/>
                        </a:lnTo>
                        <a:lnTo>
                          <a:pt x="1181" y="421"/>
                        </a:lnTo>
                        <a:lnTo>
                          <a:pt x="1174" y="437"/>
                        </a:lnTo>
                        <a:lnTo>
                          <a:pt x="1168" y="452"/>
                        </a:lnTo>
                        <a:lnTo>
                          <a:pt x="1161" y="467"/>
                        </a:lnTo>
                        <a:lnTo>
                          <a:pt x="1154" y="483"/>
                        </a:lnTo>
                        <a:lnTo>
                          <a:pt x="1151" y="488"/>
                        </a:lnTo>
                        <a:lnTo>
                          <a:pt x="1148" y="494"/>
                        </a:lnTo>
                        <a:lnTo>
                          <a:pt x="1145" y="499"/>
                        </a:lnTo>
                        <a:lnTo>
                          <a:pt x="1142" y="505"/>
                        </a:lnTo>
                        <a:lnTo>
                          <a:pt x="1139" y="511"/>
                        </a:lnTo>
                        <a:lnTo>
                          <a:pt x="1136" y="516"/>
                        </a:lnTo>
                        <a:lnTo>
                          <a:pt x="1134" y="522"/>
                        </a:lnTo>
                        <a:lnTo>
                          <a:pt x="1131" y="527"/>
                        </a:lnTo>
                        <a:lnTo>
                          <a:pt x="1129" y="532"/>
                        </a:lnTo>
                        <a:lnTo>
                          <a:pt x="1128" y="537"/>
                        </a:lnTo>
                        <a:lnTo>
                          <a:pt x="1152" y="533"/>
                        </a:lnTo>
                        <a:lnTo>
                          <a:pt x="1178" y="527"/>
                        </a:lnTo>
                        <a:lnTo>
                          <a:pt x="1202" y="520"/>
                        </a:lnTo>
                        <a:lnTo>
                          <a:pt x="1227" y="512"/>
                        </a:lnTo>
                        <a:lnTo>
                          <a:pt x="1250" y="502"/>
                        </a:lnTo>
                        <a:lnTo>
                          <a:pt x="1273" y="491"/>
                        </a:lnTo>
                        <a:lnTo>
                          <a:pt x="1293" y="478"/>
                        </a:lnTo>
                        <a:lnTo>
                          <a:pt x="1311" y="463"/>
                        </a:lnTo>
                        <a:lnTo>
                          <a:pt x="1326" y="447"/>
                        </a:lnTo>
                        <a:lnTo>
                          <a:pt x="1339" y="428"/>
                        </a:lnTo>
                        <a:lnTo>
                          <a:pt x="1345" y="418"/>
                        </a:lnTo>
                        <a:lnTo>
                          <a:pt x="1349" y="408"/>
                        </a:lnTo>
                        <a:lnTo>
                          <a:pt x="1354" y="397"/>
                        </a:lnTo>
                        <a:lnTo>
                          <a:pt x="1358" y="386"/>
                        </a:lnTo>
                        <a:lnTo>
                          <a:pt x="1361" y="374"/>
                        </a:lnTo>
                        <a:lnTo>
                          <a:pt x="1362" y="363"/>
                        </a:lnTo>
                        <a:lnTo>
                          <a:pt x="1362" y="351"/>
                        </a:lnTo>
                        <a:lnTo>
                          <a:pt x="1359" y="340"/>
                        </a:lnTo>
                        <a:lnTo>
                          <a:pt x="1353" y="330"/>
                        </a:lnTo>
                        <a:lnTo>
                          <a:pt x="1346" y="320"/>
                        </a:lnTo>
                        <a:lnTo>
                          <a:pt x="1336" y="317"/>
                        </a:lnTo>
                        <a:lnTo>
                          <a:pt x="1326" y="314"/>
                        </a:lnTo>
                        <a:lnTo>
                          <a:pt x="1316" y="313"/>
                        </a:lnTo>
                        <a:lnTo>
                          <a:pt x="1305" y="312"/>
                        </a:lnTo>
                        <a:lnTo>
                          <a:pt x="1294" y="313"/>
                        </a:lnTo>
                        <a:lnTo>
                          <a:pt x="1283" y="313"/>
                        </a:lnTo>
                        <a:lnTo>
                          <a:pt x="1272" y="315"/>
                        </a:lnTo>
                        <a:lnTo>
                          <a:pt x="1262" y="317"/>
                        </a:lnTo>
                        <a:lnTo>
                          <a:pt x="1252" y="319"/>
                        </a:lnTo>
                        <a:lnTo>
                          <a:pt x="1243" y="322"/>
                        </a:lnTo>
                        <a:lnTo>
                          <a:pt x="1243" y="32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" name=""/>
                  <p:cNvSpPr/>
                  <p:nvPr/>
                </p:nvSpPr>
                <p:spPr>
                  <a:xfrm>
                    <a:off x="863640" y="5740560"/>
                    <a:ext cx="355320" cy="254160"/>
                  </a:xfrm>
                  <a:custGeom>
                    <a:avLst/>
                    <a:gdLst/>
                    <a:ahLst/>
                    <a:rect l="l" t="t" r="r" b="b"/>
                    <a:pathLst>
                      <a:path w="728" h="476">
                        <a:moveTo>
                          <a:pt x="171" y="399"/>
                        </a:moveTo>
                        <a:lnTo>
                          <a:pt x="178" y="407"/>
                        </a:lnTo>
                        <a:lnTo>
                          <a:pt x="187" y="415"/>
                        </a:lnTo>
                        <a:lnTo>
                          <a:pt x="196" y="422"/>
                        </a:lnTo>
                        <a:lnTo>
                          <a:pt x="205" y="429"/>
                        </a:lnTo>
                        <a:lnTo>
                          <a:pt x="214" y="435"/>
                        </a:lnTo>
                        <a:lnTo>
                          <a:pt x="225" y="441"/>
                        </a:lnTo>
                        <a:lnTo>
                          <a:pt x="235" y="446"/>
                        </a:lnTo>
                        <a:lnTo>
                          <a:pt x="247" y="450"/>
                        </a:lnTo>
                        <a:lnTo>
                          <a:pt x="257" y="455"/>
                        </a:lnTo>
                        <a:lnTo>
                          <a:pt x="270" y="458"/>
                        </a:lnTo>
                        <a:lnTo>
                          <a:pt x="291" y="464"/>
                        </a:lnTo>
                        <a:lnTo>
                          <a:pt x="313" y="468"/>
                        </a:lnTo>
                        <a:lnTo>
                          <a:pt x="336" y="472"/>
                        </a:lnTo>
                        <a:lnTo>
                          <a:pt x="358" y="474"/>
                        </a:lnTo>
                        <a:lnTo>
                          <a:pt x="381" y="475"/>
                        </a:lnTo>
                        <a:lnTo>
                          <a:pt x="403" y="476"/>
                        </a:lnTo>
                        <a:lnTo>
                          <a:pt x="426" y="476"/>
                        </a:lnTo>
                        <a:lnTo>
                          <a:pt x="448" y="475"/>
                        </a:lnTo>
                        <a:lnTo>
                          <a:pt x="471" y="475"/>
                        </a:lnTo>
                        <a:lnTo>
                          <a:pt x="495" y="474"/>
                        </a:lnTo>
                        <a:lnTo>
                          <a:pt x="526" y="457"/>
                        </a:lnTo>
                        <a:lnTo>
                          <a:pt x="555" y="439"/>
                        </a:lnTo>
                        <a:lnTo>
                          <a:pt x="582" y="419"/>
                        </a:lnTo>
                        <a:lnTo>
                          <a:pt x="607" y="397"/>
                        </a:lnTo>
                        <a:lnTo>
                          <a:pt x="629" y="374"/>
                        </a:lnTo>
                        <a:lnTo>
                          <a:pt x="649" y="349"/>
                        </a:lnTo>
                        <a:lnTo>
                          <a:pt x="667" y="324"/>
                        </a:lnTo>
                        <a:lnTo>
                          <a:pt x="682" y="297"/>
                        </a:lnTo>
                        <a:lnTo>
                          <a:pt x="694" y="269"/>
                        </a:lnTo>
                        <a:lnTo>
                          <a:pt x="703" y="241"/>
                        </a:lnTo>
                        <a:lnTo>
                          <a:pt x="708" y="223"/>
                        </a:lnTo>
                        <a:lnTo>
                          <a:pt x="714" y="205"/>
                        </a:lnTo>
                        <a:lnTo>
                          <a:pt x="718" y="187"/>
                        </a:lnTo>
                        <a:lnTo>
                          <a:pt x="721" y="170"/>
                        </a:lnTo>
                        <a:lnTo>
                          <a:pt x="724" y="152"/>
                        </a:lnTo>
                        <a:lnTo>
                          <a:pt x="727" y="135"/>
                        </a:lnTo>
                        <a:lnTo>
                          <a:pt x="728" y="117"/>
                        </a:lnTo>
                        <a:lnTo>
                          <a:pt x="728" y="99"/>
                        </a:lnTo>
                        <a:lnTo>
                          <a:pt x="728" y="82"/>
                        </a:lnTo>
                        <a:lnTo>
                          <a:pt x="727" y="64"/>
                        </a:lnTo>
                        <a:lnTo>
                          <a:pt x="716" y="66"/>
                        </a:lnTo>
                        <a:lnTo>
                          <a:pt x="705" y="68"/>
                        </a:lnTo>
                        <a:lnTo>
                          <a:pt x="695" y="70"/>
                        </a:lnTo>
                        <a:lnTo>
                          <a:pt x="683" y="72"/>
                        </a:lnTo>
                        <a:lnTo>
                          <a:pt x="672" y="73"/>
                        </a:lnTo>
                        <a:lnTo>
                          <a:pt x="662" y="74"/>
                        </a:lnTo>
                        <a:lnTo>
                          <a:pt x="651" y="76"/>
                        </a:lnTo>
                        <a:lnTo>
                          <a:pt x="639" y="77"/>
                        </a:lnTo>
                        <a:lnTo>
                          <a:pt x="629" y="78"/>
                        </a:lnTo>
                        <a:lnTo>
                          <a:pt x="619" y="79"/>
                        </a:lnTo>
                        <a:lnTo>
                          <a:pt x="582" y="83"/>
                        </a:lnTo>
                        <a:lnTo>
                          <a:pt x="545" y="86"/>
                        </a:lnTo>
                        <a:lnTo>
                          <a:pt x="508" y="87"/>
                        </a:lnTo>
                        <a:lnTo>
                          <a:pt x="471" y="87"/>
                        </a:lnTo>
                        <a:lnTo>
                          <a:pt x="434" y="86"/>
                        </a:lnTo>
                        <a:lnTo>
                          <a:pt x="397" y="85"/>
                        </a:lnTo>
                        <a:lnTo>
                          <a:pt x="359" y="83"/>
                        </a:lnTo>
                        <a:lnTo>
                          <a:pt x="322" y="80"/>
                        </a:lnTo>
                        <a:lnTo>
                          <a:pt x="284" y="78"/>
                        </a:lnTo>
                        <a:lnTo>
                          <a:pt x="247" y="76"/>
                        </a:lnTo>
                        <a:lnTo>
                          <a:pt x="220" y="72"/>
                        </a:lnTo>
                        <a:lnTo>
                          <a:pt x="194" y="67"/>
                        </a:lnTo>
                        <a:lnTo>
                          <a:pt x="168" y="63"/>
                        </a:lnTo>
                        <a:lnTo>
                          <a:pt x="141" y="57"/>
                        </a:lnTo>
                        <a:lnTo>
                          <a:pt x="116" y="51"/>
                        </a:lnTo>
                        <a:lnTo>
                          <a:pt x="92" y="44"/>
                        </a:lnTo>
                        <a:lnTo>
                          <a:pt x="67" y="35"/>
                        </a:lnTo>
                        <a:lnTo>
                          <a:pt x="44" y="26"/>
                        </a:lnTo>
                        <a:lnTo>
                          <a:pt x="22" y="14"/>
                        </a:lnTo>
                        <a:lnTo>
                          <a:pt x="0" y="0"/>
                        </a:lnTo>
                        <a:lnTo>
                          <a:pt x="1" y="18"/>
                        </a:lnTo>
                        <a:lnTo>
                          <a:pt x="2" y="35"/>
                        </a:lnTo>
                        <a:lnTo>
                          <a:pt x="4" y="53"/>
                        </a:lnTo>
                        <a:lnTo>
                          <a:pt x="6" y="70"/>
                        </a:lnTo>
                        <a:lnTo>
                          <a:pt x="9" y="88"/>
                        </a:lnTo>
                        <a:lnTo>
                          <a:pt x="13" y="106"/>
                        </a:lnTo>
                        <a:lnTo>
                          <a:pt x="16" y="123"/>
                        </a:lnTo>
                        <a:lnTo>
                          <a:pt x="19" y="141"/>
                        </a:lnTo>
                        <a:lnTo>
                          <a:pt x="23" y="159"/>
                        </a:lnTo>
                        <a:lnTo>
                          <a:pt x="27" y="178"/>
                        </a:lnTo>
                        <a:lnTo>
                          <a:pt x="36" y="201"/>
                        </a:lnTo>
                        <a:lnTo>
                          <a:pt x="46" y="225"/>
                        </a:lnTo>
                        <a:lnTo>
                          <a:pt x="56" y="248"/>
                        </a:lnTo>
                        <a:lnTo>
                          <a:pt x="68" y="272"/>
                        </a:lnTo>
                        <a:lnTo>
                          <a:pt x="81" y="294"/>
                        </a:lnTo>
                        <a:lnTo>
                          <a:pt x="95" y="317"/>
                        </a:lnTo>
                        <a:lnTo>
                          <a:pt x="112" y="338"/>
                        </a:lnTo>
                        <a:lnTo>
                          <a:pt x="129" y="359"/>
                        </a:lnTo>
                        <a:lnTo>
                          <a:pt x="149" y="379"/>
                        </a:lnTo>
                        <a:lnTo>
                          <a:pt x="171" y="399"/>
                        </a:lnTo>
                        <a:lnTo>
                          <a:pt x="171" y="399"/>
                        </a:lnTo>
                        <a:close/>
                      </a:path>
                    </a:pathLst>
                  </a:custGeom>
                  <a:solidFill>
                    <a:srgbClr val="ffb83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" name=""/>
                  <p:cNvSpPr/>
                  <p:nvPr/>
                </p:nvSpPr>
                <p:spPr>
                  <a:xfrm>
                    <a:off x="1105560" y="5742000"/>
                    <a:ext cx="186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382" h="471">
                        <a:moveTo>
                          <a:pt x="168" y="431"/>
                        </a:moveTo>
                        <a:lnTo>
                          <a:pt x="173" y="428"/>
                        </a:lnTo>
                        <a:lnTo>
                          <a:pt x="177" y="425"/>
                        </a:lnTo>
                        <a:lnTo>
                          <a:pt x="181" y="422"/>
                        </a:lnTo>
                        <a:lnTo>
                          <a:pt x="185" y="418"/>
                        </a:lnTo>
                        <a:lnTo>
                          <a:pt x="189" y="416"/>
                        </a:lnTo>
                        <a:lnTo>
                          <a:pt x="192" y="412"/>
                        </a:lnTo>
                        <a:lnTo>
                          <a:pt x="196" y="409"/>
                        </a:lnTo>
                        <a:lnTo>
                          <a:pt x="199" y="406"/>
                        </a:lnTo>
                        <a:lnTo>
                          <a:pt x="203" y="403"/>
                        </a:lnTo>
                        <a:lnTo>
                          <a:pt x="206" y="399"/>
                        </a:lnTo>
                        <a:lnTo>
                          <a:pt x="208" y="401"/>
                        </a:lnTo>
                        <a:lnTo>
                          <a:pt x="212" y="396"/>
                        </a:lnTo>
                        <a:lnTo>
                          <a:pt x="216" y="391"/>
                        </a:lnTo>
                        <a:lnTo>
                          <a:pt x="221" y="386"/>
                        </a:lnTo>
                        <a:lnTo>
                          <a:pt x="226" y="382"/>
                        </a:lnTo>
                        <a:lnTo>
                          <a:pt x="232" y="376"/>
                        </a:lnTo>
                        <a:lnTo>
                          <a:pt x="237" y="372"/>
                        </a:lnTo>
                        <a:lnTo>
                          <a:pt x="243" y="367"/>
                        </a:lnTo>
                        <a:lnTo>
                          <a:pt x="247" y="362"/>
                        </a:lnTo>
                        <a:lnTo>
                          <a:pt x="253" y="357"/>
                        </a:lnTo>
                        <a:lnTo>
                          <a:pt x="257" y="352"/>
                        </a:lnTo>
                        <a:lnTo>
                          <a:pt x="279" y="319"/>
                        </a:lnTo>
                        <a:lnTo>
                          <a:pt x="298" y="286"/>
                        </a:lnTo>
                        <a:lnTo>
                          <a:pt x="315" y="251"/>
                        </a:lnTo>
                        <a:lnTo>
                          <a:pt x="330" y="216"/>
                        </a:lnTo>
                        <a:lnTo>
                          <a:pt x="344" y="180"/>
                        </a:lnTo>
                        <a:lnTo>
                          <a:pt x="355" y="144"/>
                        </a:lnTo>
                        <a:lnTo>
                          <a:pt x="365" y="108"/>
                        </a:lnTo>
                        <a:lnTo>
                          <a:pt x="372" y="72"/>
                        </a:lnTo>
                        <a:lnTo>
                          <a:pt x="378" y="36"/>
                        </a:lnTo>
                        <a:lnTo>
                          <a:pt x="382" y="0"/>
                        </a:lnTo>
                        <a:lnTo>
                          <a:pt x="369" y="9"/>
                        </a:lnTo>
                        <a:lnTo>
                          <a:pt x="355" y="17"/>
                        </a:lnTo>
                        <a:lnTo>
                          <a:pt x="342" y="25"/>
                        </a:lnTo>
                        <a:lnTo>
                          <a:pt x="327" y="32"/>
                        </a:lnTo>
                        <a:lnTo>
                          <a:pt x="312" y="38"/>
                        </a:lnTo>
                        <a:lnTo>
                          <a:pt x="296" y="44"/>
                        </a:lnTo>
                        <a:lnTo>
                          <a:pt x="281" y="49"/>
                        </a:lnTo>
                        <a:lnTo>
                          <a:pt x="265" y="53"/>
                        </a:lnTo>
                        <a:lnTo>
                          <a:pt x="249" y="57"/>
                        </a:lnTo>
                        <a:lnTo>
                          <a:pt x="232" y="61"/>
                        </a:lnTo>
                        <a:lnTo>
                          <a:pt x="233" y="79"/>
                        </a:lnTo>
                        <a:lnTo>
                          <a:pt x="233" y="96"/>
                        </a:lnTo>
                        <a:lnTo>
                          <a:pt x="233" y="114"/>
                        </a:lnTo>
                        <a:lnTo>
                          <a:pt x="232" y="132"/>
                        </a:lnTo>
                        <a:lnTo>
                          <a:pt x="229" y="149"/>
                        </a:lnTo>
                        <a:lnTo>
                          <a:pt x="226" y="167"/>
                        </a:lnTo>
                        <a:lnTo>
                          <a:pt x="223" y="184"/>
                        </a:lnTo>
                        <a:lnTo>
                          <a:pt x="219" y="202"/>
                        </a:lnTo>
                        <a:lnTo>
                          <a:pt x="213" y="220"/>
                        </a:lnTo>
                        <a:lnTo>
                          <a:pt x="208" y="238"/>
                        </a:lnTo>
                        <a:lnTo>
                          <a:pt x="199" y="266"/>
                        </a:lnTo>
                        <a:lnTo>
                          <a:pt x="187" y="294"/>
                        </a:lnTo>
                        <a:lnTo>
                          <a:pt x="172" y="321"/>
                        </a:lnTo>
                        <a:lnTo>
                          <a:pt x="154" y="346"/>
                        </a:lnTo>
                        <a:lnTo>
                          <a:pt x="134" y="371"/>
                        </a:lnTo>
                        <a:lnTo>
                          <a:pt x="112" y="394"/>
                        </a:lnTo>
                        <a:lnTo>
                          <a:pt x="87" y="416"/>
                        </a:lnTo>
                        <a:lnTo>
                          <a:pt x="60" y="436"/>
                        </a:lnTo>
                        <a:lnTo>
                          <a:pt x="31" y="454"/>
                        </a:lnTo>
                        <a:lnTo>
                          <a:pt x="0" y="471"/>
                        </a:lnTo>
                        <a:lnTo>
                          <a:pt x="2" y="471"/>
                        </a:lnTo>
                        <a:lnTo>
                          <a:pt x="5" y="471"/>
                        </a:lnTo>
                        <a:lnTo>
                          <a:pt x="7" y="471"/>
                        </a:lnTo>
                        <a:lnTo>
                          <a:pt x="10" y="471"/>
                        </a:lnTo>
                        <a:lnTo>
                          <a:pt x="12" y="471"/>
                        </a:lnTo>
                        <a:lnTo>
                          <a:pt x="15" y="471"/>
                        </a:lnTo>
                        <a:lnTo>
                          <a:pt x="17" y="471"/>
                        </a:lnTo>
                        <a:lnTo>
                          <a:pt x="20" y="471"/>
                        </a:lnTo>
                        <a:lnTo>
                          <a:pt x="22" y="470"/>
                        </a:lnTo>
                        <a:lnTo>
                          <a:pt x="25" y="470"/>
                        </a:lnTo>
                        <a:lnTo>
                          <a:pt x="38" y="465"/>
                        </a:lnTo>
                        <a:lnTo>
                          <a:pt x="52" y="460"/>
                        </a:lnTo>
                        <a:lnTo>
                          <a:pt x="66" y="455"/>
                        </a:lnTo>
                        <a:lnTo>
                          <a:pt x="80" y="450"/>
                        </a:lnTo>
                        <a:lnTo>
                          <a:pt x="94" y="446"/>
                        </a:lnTo>
                        <a:lnTo>
                          <a:pt x="108" y="442"/>
                        </a:lnTo>
                        <a:lnTo>
                          <a:pt x="123" y="439"/>
                        </a:lnTo>
                        <a:lnTo>
                          <a:pt x="138" y="436"/>
                        </a:lnTo>
                        <a:lnTo>
                          <a:pt x="153" y="433"/>
                        </a:lnTo>
                        <a:lnTo>
                          <a:pt x="168" y="431"/>
                        </a:lnTo>
                        <a:lnTo>
                          <a:pt x="168" y="431"/>
                        </a:lnTo>
                        <a:close/>
                      </a:path>
                    </a:pathLst>
                  </a:custGeom>
                  <a:solidFill>
                    <a:srgbClr val="e3a9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"/>
                  <p:cNvSpPr/>
                  <p:nvPr/>
                </p:nvSpPr>
                <p:spPr>
                  <a:xfrm>
                    <a:off x="701640" y="5902200"/>
                    <a:ext cx="735480" cy="180720"/>
                  </a:xfrm>
                  <a:custGeom>
                    <a:avLst/>
                    <a:gdLst/>
                    <a:ahLst/>
                    <a:rect l="l" t="t" r="r" b="b"/>
                    <a:pathLst>
                      <a:path w="1506" h="338">
                        <a:moveTo>
                          <a:pt x="291" y="210"/>
                        </a:moveTo>
                        <a:lnTo>
                          <a:pt x="285" y="207"/>
                        </a:lnTo>
                        <a:lnTo>
                          <a:pt x="282" y="204"/>
                        </a:lnTo>
                        <a:lnTo>
                          <a:pt x="277" y="201"/>
                        </a:lnTo>
                        <a:lnTo>
                          <a:pt x="274" y="197"/>
                        </a:lnTo>
                        <a:lnTo>
                          <a:pt x="271" y="192"/>
                        </a:lnTo>
                        <a:lnTo>
                          <a:pt x="269" y="188"/>
                        </a:lnTo>
                        <a:lnTo>
                          <a:pt x="266" y="182"/>
                        </a:lnTo>
                        <a:lnTo>
                          <a:pt x="265" y="177"/>
                        </a:lnTo>
                        <a:lnTo>
                          <a:pt x="264" y="172"/>
                        </a:lnTo>
                        <a:lnTo>
                          <a:pt x="264" y="167"/>
                        </a:lnTo>
                        <a:lnTo>
                          <a:pt x="262" y="165"/>
                        </a:lnTo>
                        <a:lnTo>
                          <a:pt x="259" y="163"/>
                        </a:lnTo>
                        <a:lnTo>
                          <a:pt x="257" y="161"/>
                        </a:lnTo>
                        <a:lnTo>
                          <a:pt x="255" y="160"/>
                        </a:lnTo>
                        <a:lnTo>
                          <a:pt x="253" y="158"/>
                        </a:lnTo>
                        <a:lnTo>
                          <a:pt x="251" y="156"/>
                        </a:lnTo>
                        <a:lnTo>
                          <a:pt x="249" y="154"/>
                        </a:lnTo>
                        <a:lnTo>
                          <a:pt x="248" y="152"/>
                        </a:lnTo>
                        <a:lnTo>
                          <a:pt x="246" y="150"/>
                        </a:lnTo>
                        <a:lnTo>
                          <a:pt x="244" y="147"/>
                        </a:lnTo>
                        <a:lnTo>
                          <a:pt x="246" y="146"/>
                        </a:lnTo>
                        <a:lnTo>
                          <a:pt x="246" y="143"/>
                        </a:lnTo>
                        <a:lnTo>
                          <a:pt x="246" y="141"/>
                        </a:lnTo>
                        <a:lnTo>
                          <a:pt x="246" y="138"/>
                        </a:lnTo>
                        <a:lnTo>
                          <a:pt x="246" y="136"/>
                        </a:lnTo>
                        <a:lnTo>
                          <a:pt x="246" y="133"/>
                        </a:lnTo>
                        <a:lnTo>
                          <a:pt x="246" y="130"/>
                        </a:lnTo>
                        <a:lnTo>
                          <a:pt x="247" y="127"/>
                        </a:lnTo>
                        <a:lnTo>
                          <a:pt x="249" y="125"/>
                        </a:lnTo>
                        <a:lnTo>
                          <a:pt x="250" y="123"/>
                        </a:lnTo>
                        <a:lnTo>
                          <a:pt x="265" y="110"/>
                        </a:lnTo>
                        <a:lnTo>
                          <a:pt x="281" y="99"/>
                        </a:lnTo>
                        <a:lnTo>
                          <a:pt x="299" y="89"/>
                        </a:lnTo>
                        <a:lnTo>
                          <a:pt x="319" y="82"/>
                        </a:lnTo>
                        <a:lnTo>
                          <a:pt x="340" y="76"/>
                        </a:lnTo>
                        <a:lnTo>
                          <a:pt x="361" y="72"/>
                        </a:lnTo>
                        <a:lnTo>
                          <a:pt x="383" y="69"/>
                        </a:lnTo>
                        <a:lnTo>
                          <a:pt x="405" y="67"/>
                        </a:lnTo>
                        <a:lnTo>
                          <a:pt x="427" y="65"/>
                        </a:lnTo>
                        <a:lnTo>
                          <a:pt x="447" y="63"/>
                        </a:lnTo>
                        <a:lnTo>
                          <a:pt x="442" y="57"/>
                        </a:lnTo>
                        <a:lnTo>
                          <a:pt x="437" y="51"/>
                        </a:lnTo>
                        <a:lnTo>
                          <a:pt x="433" y="45"/>
                        </a:lnTo>
                        <a:lnTo>
                          <a:pt x="428" y="39"/>
                        </a:lnTo>
                        <a:lnTo>
                          <a:pt x="424" y="33"/>
                        </a:lnTo>
                        <a:lnTo>
                          <a:pt x="420" y="27"/>
                        </a:lnTo>
                        <a:lnTo>
                          <a:pt x="415" y="20"/>
                        </a:lnTo>
                        <a:lnTo>
                          <a:pt x="411" y="14"/>
                        </a:lnTo>
                        <a:lnTo>
                          <a:pt x="407" y="8"/>
                        </a:lnTo>
                        <a:lnTo>
                          <a:pt x="402" y="2"/>
                        </a:lnTo>
                        <a:lnTo>
                          <a:pt x="390" y="0"/>
                        </a:lnTo>
                        <a:lnTo>
                          <a:pt x="375" y="3"/>
                        </a:lnTo>
                        <a:lnTo>
                          <a:pt x="360" y="6"/>
                        </a:lnTo>
                        <a:lnTo>
                          <a:pt x="345" y="7"/>
                        </a:lnTo>
                        <a:lnTo>
                          <a:pt x="328" y="9"/>
                        </a:lnTo>
                        <a:lnTo>
                          <a:pt x="313" y="10"/>
                        </a:lnTo>
                        <a:lnTo>
                          <a:pt x="297" y="12"/>
                        </a:lnTo>
                        <a:lnTo>
                          <a:pt x="282" y="14"/>
                        </a:lnTo>
                        <a:lnTo>
                          <a:pt x="267" y="16"/>
                        </a:lnTo>
                        <a:lnTo>
                          <a:pt x="252" y="18"/>
                        </a:lnTo>
                        <a:lnTo>
                          <a:pt x="238" y="21"/>
                        </a:lnTo>
                        <a:lnTo>
                          <a:pt x="236" y="23"/>
                        </a:lnTo>
                        <a:lnTo>
                          <a:pt x="214" y="27"/>
                        </a:lnTo>
                        <a:lnTo>
                          <a:pt x="193" y="30"/>
                        </a:lnTo>
                        <a:lnTo>
                          <a:pt x="170" y="34"/>
                        </a:lnTo>
                        <a:lnTo>
                          <a:pt x="149" y="38"/>
                        </a:lnTo>
                        <a:lnTo>
                          <a:pt x="127" y="43"/>
                        </a:lnTo>
                        <a:lnTo>
                          <a:pt x="106" y="49"/>
                        </a:lnTo>
                        <a:lnTo>
                          <a:pt x="85" y="56"/>
                        </a:lnTo>
                        <a:lnTo>
                          <a:pt x="65" y="64"/>
                        </a:lnTo>
                        <a:lnTo>
                          <a:pt x="47" y="74"/>
                        </a:lnTo>
                        <a:lnTo>
                          <a:pt x="28" y="86"/>
                        </a:lnTo>
                        <a:lnTo>
                          <a:pt x="24" y="89"/>
                        </a:lnTo>
                        <a:lnTo>
                          <a:pt x="20" y="93"/>
                        </a:lnTo>
                        <a:lnTo>
                          <a:pt x="17" y="97"/>
                        </a:lnTo>
                        <a:lnTo>
                          <a:pt x="15" y="102"/>
                        </a:lnTo>
                        <a:lnTo>
                          <a:pt x="12" y="107"/>
                        </a:lnTo>
                        <a:lnTo>
                          <a:pt x="11" y="112"/>
                        </a:lnTo>
                        <a:lnTo>
                          <a:pt x="9" y="116"/>
                        </a:lnTo>
                        <a:lnTo>
                          <a:pt x="6" y="121"/>
                        </a:lnTo>
                        <a:lnTo>
                          <a:pt x="4" y="125"/>
                        </a:lnTo>
                        <a:lnTo>
                          <a:pt x="0" y="129"/>
                        </a:lnTo>
                        <a:lnTo>
                          <a:pt x="1" y="136"/>
                        </a:lnTo>
                        <a:lnTo>
                          <a:pt x="3" y="143"/>
                        </a:lnTo>
                        <a:lnTo>
                          <a:pt x="5" y="149"/>
                        </a:lnTo>
                        <a:lnTo>
                          <a:pt x="9" y="155"/>
                        </a:lnTo>
                        <a:lnTo>
                          <a:pt x="14" y="161"/>
                        </a:lnTo>
                        <a:lnTo>
                          <a:pt x="19" y="167"/>
                        </a:lnTo>
                        <a:lnTo>
                          <a:pt x="25" y="172"/>
                        </a:lnTo>
                        <a:lnTo>
                          <a:pt x="31" y="177"/>
                        </a:lnTo>
                        <a:lnTo>
                          <a:pt x="37" y="182"/>
                        </a:lnTo>
                        <a:lnTo>
                          <a:pt x="43" y="187"/>
                        </a:lnTo>
                        <a:lnTo>
                          <a:pt x="47" y="189"/>
                        </a:lnTo>
                        <a:lnTo>
                          <a:pt x="50" y="191"/>
                        </a:lnTo>
                        <a:lnTo>
                          <a:pt x="54" y="193"/>
                        </a:lnTo>
                        <a:lnTo>
                          <a:pt x="57" y="196"/>
                        </a:lnTo>
                        <a:lnTo>
                          <a:pt x="60" y="198"/>
                        </a:lnTo>
                        <a:lnTo>
                          <a:pt x="64" y="199"/>
                        </a:lnTo>
                        <a:lnTo>
                          <a:pt x="68" y="201"/>
                        </a:lnTo>
                        <a:lnTo>
                          <a:pt x="71" y="202"/>
                        </a:lnTo>
                        <a:lnTo>
                          <a:pt x="75" y="203"/>
                        </a:lnTo>
                        <a:lnTo>
                          <a:pt x="80" y="204"/>
                        </a:lnTo>
                        <a:lnTo>
                          <a:pt x="130" y="224"/>
                        </a:lnTo>
                        <a:lnTo>
                          <a:pt x="180" y="243"/>
                        </a:lnTo>
                        <a:lnTo>
                          <a:pt x="233" y="260"/>
                        </a:lnTo>
                        <a:lnTo>
                          <a:pt x="285" y="276"/>
                        </a:lnTo>
                        <a:lnTo>
                          <a:pt x="340" y="290"/>
                        </a:lnTo>
                        <a:lnTo>
                          <a:pt x="395" y="302"/>
                        </a:lnTo>
                        <a:lnTo>
                          <a:pt x="451" y="312"/>
                        </a:lnTo>
                        <a:lnTo>
                          <a:pt x="508" y="320"/>
                        </a:lnTo>
                        <a:lnTo>
                          <a:pt x="566" y="326"/>
                        </a:lnTo>
                        <a:lnTo>
                          <a:pt x="624" y="331"/>
                        </a:lnTo>
                        <a:lnTo>
                          <a:pt x="711" y="336"/>
                        </a:lnTo>
                        <a:lnTo>
                          <a:pt x="797" y="338"/>
                        </a:lnTo>
                        <a:lnTo>
                          <a:pt x="884" y="338"/>
                        </a:lnTo>
                        <a:lnTo>
                          <a:pt x="971" y="336"/>
                        </a:lnTo>
                        <a:lnTo>
                          <a:pt x="1056" y="330"/>
                        </a:lnTo>
                        <a:lnTo>
                          <a:pt x="1141" y="322"/>
                        </a:lnTo>
                        <a:lnTo>
                          <a:pt x="1225" y="310"/>
                        </a:lnTo>
                        <a:lnTo>
                          <a:pt x="1306" y="295"/>
                        </a:lnTo>
                        <a:lnTo>
                          <a:pt x="1385" y="276"/>
                        </a:lnTo>
                        <a:lnTo>
                          <a:pt x="1462" y="253"/>
                        </a:lnTo>
                        <a:lnTo>
                          <a:pt x="1465" y="252"/>
                        </a:lnTo>
                        <a:lnTo>
                          <a:pt x="1470" y="249"/>
                        </a:lnTo>
                        <a:lnTo>
                          <a:pt x="1475" y="248"/>
                        </a:lnTo>
                        <a:lnTo>
                          <a:pt x="1479" y="245"/>
                        </a:lnTo>
                        <a:lnTo>
                          <a:pt x="1484" y="243"/>
                        </a:lnTo>
                        <a:lnTo>
                          <a:pt x="1488" y="241"/>
                        </a:lnTo>
                        <a:lnTo>
                          <a:pt x="1493" y="239"/>
                        </a:lnTo>
                        <a:lnTo>
                          <a:pt x="1498" y="236"/>
                        </a:lnTo>
                        <a:lnTo>
                          <a:pt x="1502" y="233"/>
                        </a:lnTo>
                        <a:lnTo>
                          <a:pt x="1506" y="231"/>
                        </a:lnTo>
                        <a:lnTo>
                          <a:pt x="1387" y="264"/>
                        </a:lnTo>
                        <a:lnTo>
                          <a:pt x="1265" y="290"/>
                        </a:lnTo>
                        <a:lnTo>
                          <a:pt x="1141" y="309"/>
                        </a:lnTo>
                        <a:lnTo>
                          <a:pt x="1015" y="321"/>
                        </a:lnTo>
                        <a:lnTo>
                          <a:pt x="889" y="325"/>
                        </a:lnTo>
                        <a:lnTo>
                          <a:pt x="764" y="320"/>
                        </a:lnTo>
                        <a:lnTo>
                          <a:pt x="641" y="307"/>
                        </a:lnTo>
                        <a:lnTo>
                          <a:pt x="520" y="284"/>
                        </a:lnTo>
                        <a:lnTo>
                          <a:pt x="403" y="252"/>
                        </a:lnTo>
                        <a:lnTo>
                          <a:pt x="291" y="210"/>
                        </a:lnTo>
                        <a:lnTo>
                          <a:pt x="291" y="210"/>
                        </a:lnTo>
                        <a:close/>
                      </a:path>
                    </a:pathLst>
                  </a:custGeom>
                  <a:solidFill>
                    <a:srgbClr val="ffd9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4" name=""/>
                  <p:cNvSpPr/>
                  <p:nvPr/>
                </p:nvSpPr>
                <p:spPr>
                  <a:xfrm>
                    <a:off x="830520" y="596592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297" h="206">
                        <a:moveTo>
                          <a:pt x="1296" y="39"/>
                        </a:moveTo>
                        <a:lnTo>
                          <a:pt x="1294" y="34"/>
                        </a:lnTo>
                        <a:lnTo>
                          <a:pt x="1292" y="29"/>
                        </a:lnTo>
                        <a:lnTo>
                          <a:pt x="1289" y="24"/>
                        </a:lnTo>
                        <a:lnTo>
                          <a:pt x="1285" y="19"/>
                        </a:lnTo>
                        <a:lnTo>
                          <a:pt x="1280" y="15"/>
                        </a:lnTo>
                        <a:lnTo>
                          <a:pt x="1275" y="11"/>
                        </a:lnTo>
                        <a:lnTo>
                          <a:pt x="1270" y="8"/>
                        </a:lnTo>
                        <a:lnTo>
                          <a:pt x="1263" y="4"/>
                        </a:lnTo>
                        <a:lnTo>
                          <a:pt x="1256" y="2"/>
                        </a:lnTo>
                        <a:lnTo>
                          <a:pt x="1249" y="0"/>
                        </a:lnTo>
                        <a:lnTo>
                          <a:pt x="1234" y="1"/>
                        </a:lnTo>
                        <a:lnTo>
                          <a:pt x="1218" y="3"/>
                        </a:lnTo>
                        <a:lnTo>
                          <a:pt x="1203" y="5"/>
                        </a:lnTo>
                        <a:lnTo>
                          <a:pt x="1188" y="7"/>
                        </a:lnTo>
                        <a:lnTo>
                          <a:pt x="1173" y="10"/>
                        </a:lnTo>
                        <a:lnTo>
                          <a:pt x="1158" y="13"/>
                        </a:lnTo>
                        <a:lnTo>
                          <a:pt x="1144" y="16"/>
                        </a:lnTo>
                        <a:lnTo>
                          <a:pt x="1129" y="19"/>
                        </a:lnTo>
                        <a:lnTo>
                          <a:pt x="1115" y="22"/>
                        </a:lnTo>
                        <a:lnTo>
                          <a:pt x="1101" y="25"/>
                        </a:lnTo>
                        <a:lnTo>
                          <a:pt x="1099" y="27"/>
                        </a:lnTo>
                        <a:lnTo>
                          <a:pt x="1096" y="27"/>
                        </a:lnTo>
                        <a:lnTo>
                          <a:pt x="1094" y="27"/>
                        </a:lnTo>
                        <a:lnTo>
                          <a:pt x="1091" y="27"/>
                        </a:lnTo>
                        <a:lnTo>
                          <a:pt x="1089" y="27"/>
                        </a:lnTo>
                        <a:lnTo>
                          <a:pt x="1086" y="28"/>
                        </a:lnTo>
                        <a:lnTo>
                          <a:pt x="1082" y="28"/>
                        </a:lnTo>
                        <a:lnTo>
                          <a:pt x="1080" y="29"/>
                        </a:lnTo>
                        <a:lnTo>
                          <a:pt x="1077" y="29"/>
                        </a:lnTo>
                        <a:lnTo>
                          <a:pt x="1075" y="31"/>
                        </a:lnTo>
                        <a:lnTo>
                          <a:pt x="1073" y="32"/>
                        </a:lnTo>
                        <a:lnTo>
                          <a:pt x="1073" y="36"/>
                        </a:lnTo>
                        <a:lnTo>
                          <a:pt x="1072" y="41"/>
                        </a:lnTo>
                        <a:lnTo>
                          <a:pt x="1069" y="46"/>
                        </a:lnTo>
                        <a:lnTo>
                          <a:pt x="1066" y="51"/>
                        </a:lnTo>
                        <a:lnTo>
                          <a:pt x="1063" y="56"/>
                        </a:lnTo>
                        <a:lnTo>
                          <a:pt x="1059" y="61"/>
                        </a:lnTo>
                        <a:lnTo>
                          <a:pt x="1054" y="65"/>
                        </a:lnTo>
                        <a:lnTo>
                          <a:pt x="1049" y="69"/>
                        </a:lnTo>
                        <a:lnTo>
                          <a:pt x="1044" y="73"/>
                        </a:lnTo>
                        <a:lnTo>
                          <a:pt x="1040" y="77"/>
                        </a:lnTo>
                        <a:lnTo>
                          <a:pt x="1014" y="88"/>
                        </a:lnTo>
                        <a:lnTo>
                          <a:pt x="987" y="97"/>
                        </a:lnTo>
                        <a:lnTo>
                          <a:pt x="961" y="106"/>
                        </a:lnTo>
                        <a:lnTo>
                          <a:pt x="934" y="114"/>
                        </a:lnTo>
                        <a:lnTo>
                          <a:pt x="905" y="121"/>
                        </a:lnTo>
                        <a:lnTo>
                          <a:pt x="877" y="126"/>
                        </a:lnTo>
                        <a:lnTo>
                          <a:pt x="848" y="131"/>
                        </a:lnTo>
                        <a:lnTo>
                          <a:pt x="819" y="136"/>
                        </a:lnTo>
                        <a:lnTo>
                          <a:pt x="790" y="140"/>
                        </a:lnTo>
                        <a:lnTo>
                          <a:pt x="760" y="143"/>
                        </a:lnTo>
                        <a:lnTo>
                          <a:pt x="727" y="146"/>
                        </a:lnTo>
                        <a:lnTo>
                          <a:pt x="695" y="147"/>
                        </a:lnTo>
                        <a:lnTo>
                          <a:pt x="662" y="149"/>
                        </a:lnTo>
                        <a:lnTo>
                          <a:pt x="629" y="149"/>
                        </a:lnTo>
                        <a:lnTo>
                          <a:pt x="596" y="148"/>
                        </a:lnTo>
                        <a:lnTo>
                          <a:pt x="563" y="147"/>
                        </a:lnTo>
                        <a:lnTo>
                          <a:pt x="531" y="146"/>
                        </a:lnTo>
                        <a:lnTo>
                          <a:pt x="498" y="145"/>
                        </a:lnTo>
                        <a:lnTo>
                          <a:pt x="466" y="144"/>
                        </a:lnTo>
                        <a:lnTo>
                          <a:pt x="434" y="142"/>
                        </a:lnTo>
                        <a:lnTo>
                          <a:pt x="397" y="138"/>
                        </a:lnTo>
                        <a:lnTo>
                          <a:pt x="358" y="134"/>
                        </a:lnTo>
                        <a:lnTo>
                          <a:pt x="321" y="130"/>
                        </a:lnTo>
                        <a:lnTo>
                          <a:pt x="283" y="125"/>
                        </a:lnTo>
                        <a:lnTo>
                          <a:pt x="246" y="120"/>
                        </a:lnTo>
                        <a:lnTo>
                          <a:pt x="208" y="113"/>
                        </a:lnTo>
                        <a:lnTo>
                          <a:pt x="172" y="107"/>
                        </a:lnTo>
                        <a:lnTo>
                          <a:pt x="136" y="98"/>
                        </a:lnTo>
                        <a:lnTo>
                          <a:pt x="101" y="88"/>
                        </a:lnTo>
                        <a:lnTo>
                          <a:pt x="67" y="77"/>
                        </a:lnTo>
                        <a:lnTo>
                          <a:pt x="59" y="74"/>
                        </a:lnTo>
                        <a:lnTo>
                          <a:pt x="52" y="72"/>
                        </a:lnTo>
                        <a:lnTo>
                          <a:pt x="45" y="69"/>
                        </a:lnTo>
                        <a:lnTo>
                          <a:pt x="38" y="67"/>
                        </a:lnTo>
                        <a:lnTo>
                          <a:pt x="31" y="64"/>
                        </a:lnTo>
                        <a:lnTo>
                          <a:pt x="25" y="61"/>
                        </a:lnTo>
                        <a:lnTo>
                          <a:pt x="18" y="58"/>
                        </a:lnTo>
                        <a:lnTo>
                          <a:pt x="12" y="55"/>
                        </a:lnTo>
                        <a:lnTo>
                          <a:pt x="5" y="52"/>
                        </a:lnTo>
                        <a:lnTo>
                          <a:pt x="0" y="48"/>
                        </a:lnTo>
                        <a:lnTo>
                          <a:pt x="0" y="53"/>
                        </a:lnTo>
                        <a:lnTo>
                          <a:pt x="1" y="58"/>
                        </a:lnTo>
                        <a:lnTo>
                          <a:pt x="2" y="63"/>
                        </a:lnTo>
                        <a:lnTo>
                          <a:pt x="5" y="69"/>
                        </a:lnTo>
                        <a:lnTo>
                          <a:pt x="7" y="73"/>
                        </a:lnTo>
                        <a:lnTo>
                          <a:pt x="10" y="78"/>
                        </a:lnTo>
                        <a:lnTo>
                          <a:pt x="13" y="82"/>
                        </a:lnTo>
                        <a:lnTo>
                          <a:pt x="18" y="85"/>
                        </a:lnTo>
                        <a:lnTo>
                          <a:pt x="21" y="88"/>
                        </a:lnTo>
                        <a:lnTo>
                          <a:pt x="27" y="91"/>
                        </a:lnTo>
                        <a:lnTo>
                          <a:pt x="139" y="133"/>
                        </a:lnTo>
                        <a:lnTo>
                          <a:pt x="256" y="165"/>
                        </a:lnTo>
                        <a:lnTo>
                          <a:pt x="377" y="188"/>
                        </a:lnTo>
                        <a:lnTo>
                          <a:pt x="500" y="201"/>
                        </a:lnTo>
                        <a:lnTo>
                          <a:pt x="625" y="206"/>
                        </a:lnTo>
                        <a:lnTo>
                          <a:pt x="751" y="202"/>
                        </a:lnTo>
                        <a:lnTo>
                          <a:pt x="877" y="190"/>
                        </a:lnTo>
                        <a:lnTo>
                          <a:pt x="1001" y="171"/>
                        </a:lnTo>
                        <a:lnTo>
                          <a:pt x="1123" y="145"/>
                        </a:lnTo>
                        <a:lnTo>
                          <a:pt x="1242" y="112"/>
                        </a:lnTo>
                        <a:lnTo>
                          <a:pt x="1252" y="106"/>
                        </a:lnTo>
                        <a:lnTo>
                          <a:pt x="1261" y="100"/>
                        </a:lnTo>
                        <a:lnTo>
                          <a:pt x="1269" y="93"/>
                        </a:lnTo>
                        <a:lnTo>
                          <a:pt x="1277" y="86"/>
                        </a:lnTo>
                        <a:lnTo>
                          <a:pt x="1283" y="79"/>
                        </a:lnTo>
                        <a:lnTo>
                          <a:pt x="1289" y="71"/>
                        </a:lnTo>
                        <a:lnTo>
                          <a:pt x="1293" y="64"/>
                        </a:lnTo>
                        <a:lnTo>
                          <a:pt x="1296" y="56"/>
                        </a:lnTo>
                        <a:lnTo>
                          <a:pt x="1297" y="48"/>
                        </a:lnTo>
                        <a:lnTo>
                          <a:pt x="1296" y="39"/>
                        </a:lnTo>
                        <a:lnTo>
                          <a:pt x="1296" y="39"/>
                        </a:lnTo>
                        <a:close/>
                      </a:path>
                    </a:pathLst>
                  </a:custGeom>
                  <a:solidFill>
                    <a:srgbClr val="ffb83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5" name=""/>
                  <p:cNvSpPr/>
                  <p:nvPr/>
                </p:nvSpPr>
                <p:spPr>
                  <a:xfrm>
                    <a:off x="863280" y="5674680"/>
                    <a:ext cx="425880" cy="87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2" h="164">
                        <a:moveTo>
                          <a:pt x="785" y="41"/>
                        </a:moveTo>
                        <a:lnTo>
                          <a:pt x="787" y="43"/>
                        </a:lnTo>
                        <a:lnTo>
                          <a:pt x="788" y="43"/>
                        </a:lnTo>
                        <a:lnTo>
                          <a:pt x="789" y="44"/>
                        </a:lnTo>
                        <a:lnTo>
                          <a:pt x="791" y="44"/>
                        </a:lnTo>
                        <a:lnTo>
                          <a:pt x="792" y="44"/>
                        </a:lnTo>
                        <a:lnTo>
                          <a:pt x="793" y="44"/>
                        </a:lnTo>
                        <a:lnTo>
                          <a:pt x="795" y="44"/>
                        </a:lnTo>
                        <a:lnTo>
                          <a:pt x="796" y="44"/>
                        </a:lnTo>
                        <a:lnTo>
                          <a:pt x="798" y="44"/>
                        </a:lnTo>
                        <a:lnTo>
                          <a:pt x="800" y="44"/>
                        </a:lnTo>
                        <a:lnTo>
                          <a:pt x="809" y="46"/>
                        </a:lnTo>
                        <a:lnTo>
                          <a:pt x="818" y="49"/>
                        </a:lnTo>
                        <a:lnTo>
                          <a:pt x="827" y="52"/>
                        </a:lnTo>
                        <a:lnTo>
                          <a:pt x="835" y="57"/>
                        </a:lnTo>
                        <a:lnTo>
                          <a:pt x="843" y="61"/>
                        </a:lnTo>
                        <a:lnTo>
                          <a:pt x="850" y="66"/>
                        </a:lnTo>
                        <a:lnTo>
                          <a:pt x="857" y="71"/>
                        </a:lnTo>
                        <a:lnTo>
                          <a:pt x="863" y="77"/>
                        </a:lnTo>
                        <a:lnTo>
                          <a:pt x="867" y="82"/>
                        </a:lnTo>
                        <a:lnTo>
                          <a:pt x="872" y="88"/>
                        </a:lnTo>
                        <a:lnTo>
                          <a:pt x="872" y="93"/>
                        </a:lnTo>
                        <a:lnTo>
                          <a:pt x="872" y="97"/>
                        </a:lnTo>
                        <a:lnTo>
                          <a:pt x="872" y="102"/>
                        </a:lnTo>
                        <a:lnTo>
                          <a:pt x="871" y="106"/>
                        </a:lnTo>
                        <a:lnTo>
                          <a:pt x="870" y="110"/>
                        </a:lnTo>
                        <a:lnTo>
                          <a:pt x="869" y="114"/>
                        </a:lnTo>
                        <a:lnTo>
                          <a:pt x="867" y="117"/>
                        </a:lnTo>
                        <a:lnTo>
                          <a:pt x="864" y="121"/>
                        </a:lnTo>
                        <a:lnTo>
                          <a:pt x="861" y="124"/>
                        </a:lnTo>
                        <a:lnTo>
                          <a:pt x="857" y="128"/>
                        </a:lnTo>
                        <a:lnTo>
                          <a:pt x="849" y="132"/>
                        </a:lnTo>
                        <a:lnTo>
                          <a:pt x="841" y="136"/>
                        </a:lnTo>
                        <a:lnTo>
                          <a:pt x="833" y="140"/>
                        </a:lnTo>
                        <a:lnTo>
                          <a:pt x="824" y="145"/>
                        </a:lnTo>
                        <a:lnTo>
                          <a:pt x="816" y="149"/>
                        </a:lnTo>
                        <a:lnTo>
                          <a:pt x="808" y="153"/>
                        </a:lnTo>
                        <a:lnTo>
                          <a:pt x="798" y="156"/>
                        </a:lnTo>
                        <a:lnTo>
                          <a:pt x="790" y="159"/>
                        </a:lnTo>
                        <a:lnTo>
                          <a:pt x="781" y="162"/>
                        </a:lnTo>
                        <a:lnTo>
                          <a:pt x="772" y="164"/>
                        </a:lnTo>
                        <a:lnTo>
                          <a:pt x="771" y="161"/>
                        </a:lnTo>
                        <a:lnTo>
                          <a:pt x="769" y="158"/>
                        </a:lnTo>
                        <a:lnTo>
                          <a:pt x="768" y="155"/>
                        </a:lnTo>
                        <a:lnTo>
                          <a:pt x="765" y="153"/>
                        </a:lnTo>
                        <a:lnTo>
                          <a:pt x="762" y="150"/>
                        </a:lnTo>
                        <a:lnTo>
                          <a:pt x="760" y="148"/>
                        </a:lnTo>
                        <a:lnTo>
                          <a:pt x="757" y="146"/>
                        </a:lnTo>
                        <a:lnTo>
                          <a:pt x="753" y="144"/>
                        </a:lnTo>
                        <a:lnTo>
                          <a:pt x="750" y="141"/>
                        </a:lnTo>
                        <a:lnTo>
                          <a:pt x="747" y="140"/>
                        </a:lnTo>
                        <a:lnTo>
                          <a:pt x="744" y="140"/>
                        </a:lnTo>
                        <a:lnTo>
                          <a:pt x="741" y="140"/>
                        </a:lnTo>
                        <a:lnTo>
                          <a:pt x="739" y="138"/>
                        </a:lnTo>
                        <a:lnTo>
                          <a:pt x="735" y="137"/>
                        </a:lnTo>
                        <a:lnTo>
                          <a:pt x="732" y="136"/>
                        </a:lnTo>
                        <a:lnTo>
                          <a:pt x="730" y="134"/>
                        </a:lnTo>
                        <a:lnTo>
                          <a:pt x="727" y="133"/>
                        </a:lnTo>
                        <a:lnTo>
                          <a:pt x="724" y="132"/>
                        </a:lnTo>
                        <a:lnTo>
                          <a:pt x="721" y="131"/>
                        </a:lnTo>
                        <a:lnTo>
                          <a:pt x="718" y="131"/>
                        </a:lnTo>
                        <a:lnTo>
                          <a:pt x="673" y="120"/>
                        </a:lnTo>
                        <a:lnTo>
                          <a:pt x="628" y="112"/>
                        </a:lnTo>
                        <a:lnTo>
                          <a:pt x="581" y="107"/>
                        </a:lnTo>
                        <a:lnTo>
                          <a:pt x="534" y="104"/>
                        </a:lnTo>
                        <a:lnTo>
                          <a:pt x="485" y="103"/>
                        </a:lnTo>
                        <a:lnTo>
                          <a:pt x="437" y="103"/>
                        </a:lnTo>
                        <a:lnTo>
                          <a:pt x="388" y="103"/>
                        </a:lnTo>
                        <a:lnTo>
                          <a:pt x="339" y="104"/>
                        </a:lnTo>
                        <a:lnTo>
                          <a:pt x="291" y="106"/>
                        </a:lnTo>
                        <a:lnTo>
                          <a:pt x="242" y="106"/>
                        </a:lnTo>
                        <a:lnTo>
                          <a:pt x="224" y="108"/>
                        </a:lnTo>
                        <a:lnTo>
                          <a:pt x="205" y="110"/>
                        </a:lnTo>
                        <a:lnTo>
                          <a:pt x="188" y="112"/>
                        </a:lnTo>
                        <a:lnTo>
                          <a:pt x="169" y="114"/>
                        </a:lnTo>
                        <a:lnTo>
                          <a:pt x="152" y="116"/>
                        </a:lnTo>
                        <a:lnTo>
                          <a:pt x="134" y="119"/>
                        </a:lnTo>
                        <a:lnTo>
                          <a:pt x="117" y="123"/>
                        </a:lnTo>
                        <a:lnTo>
                          <a:pt x="101" y="128"/>
                        </a:lnTo>
                        <a:lnTo>
                          <a:pt x="86" y="135"/>
                        </a:lnTo>
                        <a:lnTo>
                          <a:pt x="71" y="144"/>
                        </a:lnTo>
                        <a:lnTo>
                          <a:pt x="71" y="148"/>
                        </a:lnTo>
                        <a:lnTo>
                          <a:pt x="63" y="142"/>
                        </a:lnTo>
                        <a:lnTo>
                          <a:pt x="53" y="138"/>
                        </a:lnTo>
                        <a:lnTo>
                          <a:pt x="43" y="133"/>
                        </a:lnTo>
                        <a:lnTo>
                          <a:pt x="33" y="128"/>
                        </a:lnTo>
                        <a:lnTo>
                          <a:pt x="23" y="123"/>
                        </a:lnTo>
                        <a:lnTo>
                          <a:pt x="14" y="117"/>
                        </a:lnTo>
                        <a:lnTo>
                          <a:pt x="7" y="111"/>
                        </a:lnTo>
                        <a:lnTo>
                          <a:pt x="2" y="104"/>
                        </a:lnTo>
                        <a:lnTo>
                          <a:pt x="0" y="96"/>
                        </a:lnTo>
                        <a:lnTo>
                          <a:pt x="1" y="88"/>
                        </a:lnTo>
                        <a:lnTo>
                          <a:pt x="9" y="79"/>
                        </a:lnTo>
                        <a:lnTo>
                          <a:pt x="17" y="72"/>
                        </a:lnTo>
                        <a:lnTo>
                          <a:pt x="27" y="65"/>
                        </a:lnTo>
                        <a:lnTo>
                          <a:pt x="38" y="60"/>
                        </a:lnTo>
                        <a:lnTo>
                          <a:pt x="50" y="55"/>
                        </a:lnTo>
                        <a:lnTo>
                          <a:pt x="63" y="51"/>
                        </a:lnTo>
                        <a:lnTo>
                          <a:pt x="75" y="46"/>
                        </a:lnTo>
                        <a:lnTo>
                          <a:pt x="87" y="42"/>
                        </a:lnTo>
                        <a:lnTo>
                          <a:pt x="99" y="37"/>
                        </a:lnTo>
                        <a:lnTo>
                          <a:pt x="110" y="32"/>
                        </a:lnTo>
                        <a:lnTo>
                          <a:pt x="123" y="29"/>
                        </a:lnTo>
                        <a:lnTo>
                          <a:pt x="134" y="26"/>
                        </a:lnTo>
                        <a:lnTo>
                          <a:pt x="146" y="24"/>
                        </a:lnTo>
                        <a:lnTo>
                          <a:pt x="159" y="22"/>
                        </a:lnTo>
                        <a:lnTo>
                          <a:pt x="172" y="20"/>
                        </a:lnTo>
                        <a:lnTo>
                          <a:pt x="184" y="18"/>
                        </a:lnTo>
                        <a:lnTo>
                          <a:pt x="197" y="17"/>
                        </a:lnTo>
                        <a:lnTo>
                          <a:pt x="210" y="15"/>
                        </a:lnTo>
                        <a:lnTo>
                          <a:pt x="223" y="13"/>
                        </a:lnTo>
                        <a:lnTo>
                          <a:pt x="236" y="12"/>
                        </a:lnTo>
                        <a:lnTo>
                          <a:pt x="234" y="18"/>
                        </a:lnTo>
                        <a:lnTo>
                          <a:pt x="230" y="25"/>
                        </a:lnTo>
                        <a:lnTo>
                          <a:pt x="226" y="32"/>
                        </a:lnTo>
                        <a:lnTo>
                          <a:pt x="222" y="39"/>
                        </a:lnTo>
                        <a:lnTo>
                          <a:pt x="218" y="46"/>
                        </a:lnTo>
                        <a:lnTo>
                          <a:pt x="216" y="53"/>
                        </a:lnTo>
                        <a:lnTo>
                          <a:pt x="215" y="61"/>
                        </a:lnTo>
                        <a:lnTo>
                          <a:pt x="218" y="68"/>
                        </a:lnTo>
                        <a:lnTo>
                          <a:pt x="223" y="74"/>
                        </a:lnTo>
                        <a:lnTo>
                          <a:pt x="231" y="81"/>
                        </a:lnTo>
                        <a:lnTo>
                          <a:pt x="233" y="82"/>
                        </a:lnTo>
                        <a:lnTo>
                          <a:pt x="235" y="83"/>
                        </a:lnTo>
                        <a:lnTo>
                          <a:pt x="237" y="85"/>
                        </a:lnTo>
                        <a:lnTo>
                          <a:pt x="238" y="86"/>
                        </a:lnTo>
                        <a:lnTo>
                          <a:pt x="241" y="87"/>
                        </a:lnTo>
                        <a:lnTo>
                          <a:pt x="242" y="87"/>
                        </a:lnTo>
                        <a:lnTo>
                          <a:pt x="244" y="89"/>
                        </a:lnTo>
                        <a:lnTo>
                          <a:pt x="247" y="89"/>
                        </a:lnTo>
                        <a:lnTo>
                          <a:pt x="249" y="89"/>
                        </a:lnTo>
                        <a:lnTo>
                          <a:pt x="252" y="88"/>
                        </a:lnTo>
                        <a:lnTo>
                          <a:pt x="253" y="88"/>
                        </a:lnTo>
                        <a:lnTo>
                          <a:pt x="254" y="87"/>
                        </a:lnTo>
                        <a:lnTo>
                          <a:pt x="254" y="87"/>
                        </a:lnTo>
                        <a:lnTo>
                          <a:pt x="254" y="86"/>
                        </a:lnTo>
                        <a:lnTo>
                          <a:pt x="254" y="86"/>
                        </a:lnTo>
                        <a:lnTo>
                          <a:pt x="254" y="85"/>
                        </a:lnTo>
                        <a:lnTo>
                          <a:pt x="254" y="84"/>
                        </a:lnTo>
                        <a:lnTo>
                          <a:pt x="254" y="83"/>
                        </a:lnTo>
                        <a:lnTo>
                          <a:pt x="254" y="83"/>
                        </a:lnTo>
                        <a:lnTo>
                          <a:pt x="254" y="82"/>
                        </a:lnTo>
                        <a:lnTo>
                          <a:pt x="251" y="81"/>
                        </a:lnTo>
                        <a:lnTo>
                          <a:pt x="248" y="79"/>
                        </a:lnTo>
                        <a:lnTo>
                          <a:pt x="246" y="78"/>
                        </a:lnTo>
                        <a:lnTo>
                          <a:pt x="245" y="76"/>
                        </a:lnTo>
                        <a:lnTo>
                          <a:pt x="245" y="73"/>
                        </a:lnTo>
                        <a:lnTo>
                          <a:pt x="245" y="70"/>
                        </a:lnTo>
                        <a:lnTo>
                          <a:pt x="246" y="68"/>
                        </a:lnTo>
                        <a:lnTo>
                          <a:pt x="247" y="65"/>
                        </a:lnTo>
                        <a:lnTo>
                          <a:pt x="248" y="62"/>
                        </a:lnTo>
                        <a:lnTo>
                          <a:pt x="248" y="61"/>
                        </a:lnTo>
                        <a:lnTo>
                          <a:pt x="253" y="55"/>
                        </a:lnTo>
                        <a:lnTo>
                          <a:pt x="258" y="48"/>
                        </a:lnTo>
                        <a:lnTo>
                          <a:pt x="264" y="43"/>
                        </a:lnTo>
                        <a:lnTo>
                          <a:pt x="271" y="37"/>
                        </a:lnTo>
                        <a:lnTo>
                          <a:pt x="279" y="31"/>
                        </a:lnTo>
                        <a:lnTo>
                          <a:pt x="287" y="26"/>
                        </a:lnTo>
                        <a:lnTo>
                          <a:pt x="294" y="21"/>
                        </a:lnTo>
                        <a:lnTo>
                          <a:pt x="303" y="15"/>
                        </a:lnTo>
                        <a:lnTo>
                          <a:pt x="310" y="10"/>
                        </a:lnTo>
                        <a:lnTo>
                          <a:pt x="317" y="5"/>
                        </a:lnTo>
                        <a:lnTo>
                          <a:pt x="366" y="1"/>
                        </a:lnTo>
                        <a:lnTo>
                          <a:pt x="414" y="0"/>
                        </a:lnTo>
                        <a:lnTo>
                          <a:pt x="462" y="1"/>
                        </a:lnTo>
                        <a:lnTo>
                          <a:pt x="509" y="3"/>
                        </a:lnTo>
                        <a:lnTo>
                          <a:pt x="557" y="7"/>
                        </a:lnTo>
                        <a:lnTo>
                          <a:pt x="604" y="12"/>
                        </a:lnTo>
                        <a:lnTo>
                          <a:pt x="650" y="18"/>
                        </a:lnTo>
                        <a:lnTo>
                          <a:pt x="696" y="25"/>
                        </a:lnTo>
                        <a:lnTo>
                          <a:pt x="741" y="33"/>
                        </a:lnTo>
                        <a:lnTo>
                          <a:pt x="785" y="41"/>
                        </a:lnTo>
                        <a:lnTo>
                          <a:pt x="785" y="41"/>
                        </a:lnTo>
                        <a:close/>
                      </a:path>
                    </a:pathLst>
                  </a:custGeom>
                  <a:solidFill>
                    <a:srgbClr val="ffd9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680" bIns="40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" name=""/>
                  <p:cNvSpPr/>
                  <p:nvPr/>
                </p:nvSpPr>
                <p:spPr>
                  <a:xfrm>
                    <a:off x="904320" y="5735520"/>
                    <a:ext cx="328680" cy="45360"/>
                  </a:xfrm>
                  <a:custGeom>
                    <a:avLst/>
                    <a:gdLst/>
                    <a:ahLst/>
                    <a:rect l="l" t="t" r="r" b="b"/>
                    <a:pathLst>
                      <a:path w="673" h="85">
                        <a:moveTo>
                          <a:pt x="650" y="36"/>
                        </a:moveTo>
                        <a:lnTo>
                          <a:pt x="655" y="36"/>
                        </a:lnTo>
                        <a:lnTo>
                          <a:pt x="658" y="37"/>
                        </a:lnTo>
                        <a:lnTo>
                          <a:pt x="661" y="38"/>
                        </a:lnTo>
                        <a:lnTo>
                          <a:pt x="664" y="40"/>
                        </a:lnTo>
                        <a:lnTo>
                          <a:pt x="665" y="42"/>
                        </a:lnTo>
                        <a:lnTo>
                          <a:pt x="667" y="45"/>
                        </a:lnTo>
                        <a:lnTo>
                          <a:pt x="668" y="47"/>
                        </a:lnTo>
                        <a:lnTo>
                          <a:pt x="670" y="50"/>
                        </a:lnTo>
                        <a:lnTo>
                          <a:pt x="671" y="52"/>
                        </a:lnTo>
                        <a:lnTo>
                          <a:pt x="673" y="55"/>
                        </a:lnTo>
                        <a:lnTo>
                          <a:pt x="641" y="62"/>
                        </a:lnTo>
                        <a:lnTo>
                          <a:pt x="609" y="68"/>
                        </a:lnTo>
                        <a:lnTo>
                          <a:pt x="576" y="73"/>
                        </a:lnTo>
                        <a:lnTo>
                          <a:pt x="543" y="77"/>
                        </a:lnTo>
                        <a:lnTo>
                          <a:pt x="510" y="80"/>
                        </a:lnTo>
                        <a:lnTo>
                          <a:pt x="475" y="82"/>
                        </a:lnTo>
                        <a:lnTo>
                          <a:pt x="441" y="84"/>
                        </a:lnTo>
                        <a:lnTo>
                          <a:pt x="407" y="85"/>
                        </a:lnTo>
                        <a:lnTo>
                          <a:pt x="372" y="85"/>
                        </a:lnTo>
                        <a:lnTo>
                          <a:pt x="338" y="85"/>
                        </a:lnTo>
                        <a:lnTo>
                          <a:pt x="303" y="84"/>
                        </a:lnTo>
                        <a:lnTo>
                          <a:pt x="269" y="82"/>
                        </a:lnTo>
                        <a:lnTo>
                          <a:pt x="233" y="80"/>
                        </a:lnTo>
                        <a:lnTo>
                          <a:pt x="199" y="77"/>
                        </a:lnTo>
                        <a:lnTo>
                          <a:pt x="164" y="74"/>
                        </a:lnTo>
                        <a:lnTo>
                          <a:pt x="130" y="69"/>
                        </a:lnTo>
                        <a:lnTo>
                          <a:pt x="96" y="63"/>
                        </a:lnTo>
                        <a:lnTo>
                          <a:pt x="63" y="56"/>
                        </a:lnTo>
                        <a:lnTo>
                          <a:pt x="31" y="48"/>
                        </a:lnTo>
                        <a:lnTo>
                          <a:pt x="0" y="38"/>
                        </a:lnTo>
                        <a:lnTo>
                          <a:pt x="0" y="36"/>
                        </a:lnTo>
                        <a:lnTo>
                          <a:pt x="1" y="35"/>
                        </a:lnTo>
                        <a:lnTo>
                          <a:pt x="2" y="34"/>
                        </a:lnTo>
                        <a:lnTo>
                          <a:pt x="3" y="32"/>
                        </a:lnTo>
                        <a:lnTo>
                          <a:pt x="5" y="31"/>
                        </a:lnTo>
                        <a:lnTo>
                          <a:pt x="6" y="30"/>
                        </a:lnTo>
                        <a:lnTo>
                          <a:pt x="9" y="28"/>
                        </a:lnTo>
                        <a:lnTo>
                          <a:pt x="10" y="27"/>
                        </a:lnTo>
                        <a:lnTo>
                          <a:pt x="12" y="27"/>
                        </a:lnTo>
                        <a:lnTo>
                          <a:pt x="14" y="26"/>
                        </a:lnTo>
                        <a:lnTo>
                          <a:pt x="55" y="16"/>
                        </a:lnTo>
                        <a:lnTo>
                          <a:pt x="97" y="9"/>
                        </a:lnTo>
                        <a:lnTo>
                          <a:pt x="140" y="5"/>
                        </a:lnTo>
                        <a:lnTo>
                          <a:pt x="183" y="2"/>
                        </a:lnTo>
                        <a:lnTo>
                          <a:pt x="227" y="0"/>
                        </a:lnTo>
                        <a:lnTo>
                          <a:pt x="271" y="0"/>
                        </a:lnTo>
                        <a:lnTo>
                          <a:pt x="315" y="0"/>
                        </a:lnTo>
                        <a:lnTo>
                          <a:pt x="359" y="0"/>
                        </a:lnTo>
                        <a:lnTo>
                          <a:pt x="402" y="1"/>
                        </a:lnTo>
                        <a:lnTo>
                          <a:pt x="445" y="0"/>
                        </a:lnTo>
                        <a:lnTo>
                          <a:pt x="466" y="1"/>
                        </a:lnTo>
                        <a:lnTo>
                          <a:pt x="487" y="3"/>
                        </a:lnTo>
                        <a:lnTo>
                          <a:pt x="509" y="5"/>
                        </a:lnTo>
                        <a:lnTo>
                          <a:pt x="530" y="7"/>
                        </a:lnTo>
                        <a:lnTo>
                          <a:pt x="551" y="10"/>
                        </a:lnTo>
                        <a:lnTo>
                          <a:pt x="572" y="14"/>
                        </a:lnTo>
                        <a:lnTo>
                          <a:pt x="592" y="18"/>
                        </a:lnTo>
                        <a:lnTo>
                          <a:pt x="612" y="23"/>
                        </a:lnTo>
                        <a:lnTo>
                          <a:pt x="632" y="29"/>
                        </a:lnTo>
                        <a:lnTo>
                          <a:pt x="651" y="36"/>
                        </a:lnTo>
                        <a:lnTo>
                          <a:pt x="651" y="36"/>
                        </a:lnTo>
                        <a:lnTo>
                          <a:pt x="650" y="36"/>
                        </a:lnTo>
                        <a:close/>
                      </a:path>
                    </a:pathLst>
                  </a:custGeom>
                  <a:solidFill>
                    <a:srgbClr val="7a312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" bIns="-1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" name=""/>
                  <p:cNvSpPr/>
                  <p:nvPr/>
                </p:nvSpPr>
                <p:spPr>
                  <a:xfrm>
                    <a:off x="1087560" y="5738040"/>
                    <a:ext cx="114480" cy="28080"/>
                  </a:xfrm>
                  <a:custGeom>
                    <a:avLst/>
                    <a:gdLst/>
                    <a:ahLst/>
                    <a:rect l="l" t="t" r="r" b="b"/>
                    <a:pathLst>
                      <a:path w="235" h="53">
                        <a:moveTo>
                          <a:pt x="234" y="37"/>
                        </a:moveTo>
                        <a:lnTo>
                          <a:pt x="234" y="39"/>
                        </a:lnTo>
                        <a:lnTo>
                          <a:pt x="235" y="42"/>
                        </a:lnTo>
                        <a:lnTo>
                          <a:pt x="235" y="43"/>
                        </a:lnTo>
                        <a:lnTo>
                          <a:pt x="235" y="45"/>
                        </a:lnTo>
                        <a:lnTo>
                          <a:pt x="234" y="47"/>
                        </a:lnTo>
                        <a:lnTo>
                          <a:pt x="234" y="48"/>
                        </a:lnTo>
                        <a:lnTo>
                          <a:pt x="233" y="50"/>
                        </a:lnTo>
                        <a:lnTo>
                          <a:pt x="231" y="51"/>
                        </a:lnTo>
                        <a:lnTo>
                          <a:pt x="229" y="52"/>
                        </a:lnTo>
                        <a:lnTo>
                          <a:pt x="226" y="53"/>
                        </a:lnTo>
                        <a:lnTo>
                          <a:pt x="224" y="52"/>
                        </a:lnTo>
                        <a:lnTo>
                          <a:pt x="223" y="52"/>
                        </a:lnTo>
                        <a:lnTo>
                          <a:pt x="221" y="52"/>
                        </a:lnTo>
                        <a:lnTo>
                          <a:pt x="220" y="52"/>
                        </a:lnTo>
                        <a:lnTo>
                          <a:pt x="218" y="52"/>
                        </a:lnTo>
                        <a:lnTo>
                          <a:pt x="217" y="52"/>
                        </a:lnTo>
                        <a:lnTo>
                          <a:pt x="215" y="52"/>
                        </a:lnTo>
                        <a:lnTo>
                          <a:pt x="214" y="52"/>
                        </a:lnTo>
                        <a:lnTo>
                          <a:pt x="213" y="52"/>
                        </a:lnTo>
                        <a:lnTo>
                          <a:pt x="212" y="51"/>
                        </a:lnTo>
                        <a:lnTo>
                          <a:pt x="212" y="50"/>
                        </a:lnTo>
                        <a:lnTo>
                          <a:pt x="213" y="48"/>
                        </a:lnTo>
                        <a:lnTo>
                          <a:pt x="214" y="48"/>
                        </a:lnTo>
                        <a:lnTo>
                          <a:pt x="215" y="47"/>
                        </a:lnTo>
                        <a:lnTo>
                          <a:pt x="217" y="47"/>
                        </a:lnTo>
                        <a:lnTo>
                          <a:pt x="219" y="47"/>
                        </a:lnTo>
                        <a:lnTo>
                          <a:pt x="220" y="46"/>
                        </a:lnTo>
                        <a:lnTo>
                          <a:pt x="222" y="46"/>
                        </a:lnTo>
                        <a:lnTo>
                          <a:pt x="223" y="45"/>
                        </a:lnTo>
                        <a:lnTo>
                          <a:pt x="224" y="43"/>
                        </a:lnTo>
                        <a:lnTo>
                          <a:pt x="218" y="39"/>
                        </a:lnTo>
                        <a:lnTo>
                          <a:pt x="211" y="36"/>
                        </a:lnTo>
                        <a:lnTo>
                          <a:pt x="204" y="32"/>
                        </a:lnTo>
                        <a:lnTo>
                          <a:pt x="197" y="30"/>
                        </a:lnTo>
                        <a:lnTo>
                          <a:pt x="190" y="28"/>
                        </a:lnTo>
                        <a:lnTo>
                          <a:pt x="181" y="26"/>
                        </a:lnTo>
                        <a:lnTo>
                          <a:pt x="174" y="25"/>
                        </a:lnTo>
                        <a:lnTo>
                          <a:pt x="166" y="23"/>
                        </a:lnTo>
                        <a:lnTo>
                          <a:pt x="158" y="21"/>
                        </a:lnTo>
                        <a:lnTo>
                          <a:pt x="150" y="19"/>
                        </a:lnTo>
                        <a:lnTo>
                          <a:pt x="135" y="17"/>
                        </a:lnTo>
                        <a:lnTo>
                          <a:pt x="121" y="15"/>
                        </a:lnTo>
                        <a:lnTo>
                          <a:pt x="106" y="14"/>
                        </a:lnTo>
                        <a:lnTo>
                          <a:pt x="91" y="12"/>
                        </a:lnTo>
                        <a:lnTo>
                          <a:pt x="75" y="11"/>
                        </a:lnTo>
                        <a:lnTo>
                          <a:pt x="61" y="9"/>
                        </a:lnTo>
                        <a:lnTo>
                          <a:pt x="46" y="8"/>
                        </a:lnTo>
                        <a:lnTo>
                          <a:pt x="31" y="7"/>
                        </a:lnTo>
                        <a:lnTo>
                          <a:pt x="16" y="5"/>
                        </a:lnTo>
                        <a:lnTo>
                          <a:pt x="3" y="4"/>
                        </a:lnTo>
                        <a:lnTo>
                          <a:pt x="0" y="2"/>
                        </a:lnTo>
                        <a:lnTo>
                          <a:pt x="6" y="0"/>
                        </a:lnTo>
                        <a:lnTo>
                          <a:pt x="30" y="1"/>
                        </a:lnTo>
                        <a:lnTo>
                          <a:pt x="55" y="2"/>
                        </a:lnTo>
                        <a:lnTo>
                          <a:pt x="79" y="4"/>
                        </a:lnTo>
                        <a:lnTo>
                          <a:pt x="102" y="5"/>
                        </a:lnTo>
                        <a:lnTo>
                          <a:pt x="125" y="8"/>
                        </a:lnTo>
                        <a:lnTo>
                          <a:pt x="148" y="11"/>
                        </a:lnTo>
                        <a:lnTo>
                          <a:pt x="171" y="15"/>
                        </a:lnTo>
                        <a:lnTo>
                          <a:pt x="193" y="21"/>
                        </a:lnTo>
                        <a:lnTo>
                          <a:pt x="214" y="29"/>
                        </a:lnTo>
                        <a:lnTo>
                          <a:pt x="234" y="38"/>
                        </a:lnTo>
                        <a:lnTo>
                          <a:pt x="234" y="38"/>
                        </a:lnTo>
                        <a:lnTo>
                          <a:pt x="234" y="3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720" bIns="-18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" name=""/>
                  <p:cNvSpPr/>
                  <p:nvPr/>
                </p:nvSpPr>
                <p:spPr>
                  <a:xfrm>
                    <a:off x="970200" y="5744520"/>
                    <a:ext cx="19728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404" h="47">
                        <a:moveTo>
                          <a:pt x="398" y="15"/>
                        </a:moveTo>
                        <a:lnTo>
                          <a:pt x="400" y="15"/>
                        </a:lnTo>
                        <a:lnTo>
                          <a:pt x="401" y="15"/>
                        </a:lnTo>
                        <a:lnTo>
                          <a:pt x="403" y="17"/>
                        </a:lnTo>
                        <a:lnTo>
                          <a:pt x="404" y="17"/>
                        </a:lnTo>
                        <a:lnTo>
                          <a:pt x="404" y="18"/>
                        </a:lnTo>
                        <a:lnTo>
                          <a:pt x="404" y="19"/>
                        </a:lnTo>
                        <a:lnTo>
                          <a:pt x="404" y="20"/>
                        </a:lnTo>
                        <a:lnTo>
                          <a:pt x="404" y="22"/>
                        </a:lnTo>
                        <a:lnTo>
                          <a:pt x="404" y="23"/>
                        </a:lnTo>
                        <a:lnTo>
                          <a:pt x="402" y="24"/>
                        </a:lnTo>
                        <a:lnTo>
                          <a:pt x="375" y="20"/>
                        </a:lnTo>
                        <a:lnTo>
                          <a:pt x="345" y="18"/>
                        </a:lnTo>
                        <a:lnTo>
                          <a:pt x="317" y="15"/>
                        </a:lnTo>
                        <a:lnTo>
                          <a:pt x="288" y="14"/>
                        </a:lnTo>
                        <a:lnTo>
                          <a:pt x="259" y="12"/>
                        </a:lnTo>
                        <a:lnTo>
                          <a:pt x="230" y="11"/>
                        </a:lnTo>
                        <a:lnTo>
                          <a:pt x="200" y="10"/>
                        </a:lnTo>
                        <a:lnTo>
                          <a:pt x="170" y="9"/>
                        </a:lnTo>
                        <a:lnTo>
                          <a:pt x="141" y="8"/>
                        </a:lnTo>
                        <a:lnTo>
                          <a:pt x="111" y="7"/>
                        </a:lnTo>
                        <a:lnTo>
                          <a:pt x="103" y="8"/>
                        </a:lnTo>
                        <a:lnTo>
                          <a:pt x="95" y="9"/>
                        </a:lnTo>
                        <a:lnTo>
                          <a:pt x="86" y="10"/>
                        </a:lnTo>
                        <a:lnTo>
                          <a:pt x="78" y="11"/>
                        </a:lnTo>
                        <a:lnTo>
                          <a:pt x="69" y="12"/>
                        </a:lnTo>
                        <a:lnTo>
                          <a:pt x="60" y="14"/>
                        </a:lnTo>
                        <a:lnTo>
                          <a:pt x="52" y="15"/>
                        </a:lnTo>
                        <a:lnTo>
                          <a:pt x="43" y="17"/>
                        </a:lnTo>
                        <a:lnTo>
                          <a:pt x="35" y="19"/>
                        </a:lnTo>
                        <a:lnTo>
                          <a:pt x="27" y="21"/>
                        </a:lnTo>
                        <a:lnTo>
                          <a:pt x="25" y="22"/>
                        </a:lnTo>
                        <a:lnTo>
                          <a:pt x="23" y="23"/>
                        </a:lnTo>
                        <a:lnTo>
                          <a:pt x="21" y="23"/>
                        </a:lnTo>
                        <a:lnTo>
                          <a:pt x="19" y="24"/>
                        </a:lnTo>
                        <a:lnTo>
                          <a:pt x="17" y="25"/>
                        </a:lnTo>
                        <a:lnTo>
                          <a:pt x="16" y="26"/>
                        </a:lnTo>
                        <a:lnTo>
                          <a:pt x="14" y="27"/>
                        </a:lnTo>
                        <a:lnTo>
                          <a:pt x="12" y="28"/>
                        </a:lnTo>
                        <a:lnTo>
                          <a:pt x="11" y="30"/>
                        </a:lnTo>
                        <a:lnTo>
                          <a:pt x="10" y="31"/>
                        </a:lnTo>
                        <a:lnTo>
                          <a:pt x="11" y="33"/>
                        </a:lnTo>
                        <a:lnTo>
                          <a:pt x="12" y="35"/>
                        </a:lnTo>
                        <a:lnTo>
                          <a:pt x="13" y="36"/>
                        </a:lnTo>
                        <a:lnTo>
                          <a:pt x="15" y="38"/>
                        </a:lnTo>
                        <a:lnTo>
                          <a:pt x="16" y="40"/>
                        </a:lnTo>
                        <a:lnTo>
                          <a:pt x="16" y="41"/>
                        </a:lnTo>
                        <a:lnTo>
                          <a:pt x="16" y="43"/>
                        </a:lnTo>
                        <a:lnTo>
                          <a:pt x="15" y="44"/>
                        </a:lnTo>
                        <a:lnTo>
                          <a:pt x="13" y="45"/>
                        </a:lnTo>
                        <a:lnTo>
                          <a:pt x="10" y="47"/>
                        </a:lnTo>
                        <a:lnTo>
                          <a:pt x="9" y="45"/>
                        </a:lnTo>
                        <a:lnTo>
                          <a:pt x="8" y="45"/>
                        </a:lnTo>
                        <a:lnTo>
                          <a:pt x="6" y="44"/>
                        </a:lnTo>
                        <a:lnTo>
                          <a:pt x="6" y="43"/>
                        </a:lnTo>
                        <a:lnTo>
                          <a:pt x="4" y="41"/>
                        </a:lnTo>
                        <a:lnTo>
                          <a:pt x="3" y="40"/>
                        </a:lnTo>
                        <a:lnTo>
                          <a:pt x="2" y="39"/>
                        </a:lnTo>
                        <a:lnTo>
                          <a:pt x="1" y="38"/>
                        </a:lnTo>
                        <a:lnTo>
                          <a:pt x="1" y="36"/>
                        </a:lnTo>
                        <a:lnTo>
                          <a:pt x="0" y="35"/>
                        </a:lnTo>
                        <a:lnTo>
                          <a:pt x="3" y="28"/>
                        </a:lnTo>
                        <a:lnTo>
                          <a:pt x="8" y="22"/>
                        </a:lnTo>
                        <a:lnTo>
                          <a:pt x="15" y="17"/>
                        </a:lnTo>
                        <a:lnTo>
                          <a:pt x="22" y="14"/>
                        </a:lnTo>
                        <a:lnTo>
                          <a:pt x="31" y="11"/>
                        </a:lnTo>
                        <a:lnTo>
                          <a:pt x="40" y="9"/>
                        </a:lnTo>
                        <a:lnTo>
                          <a:pt x="49" y="6"/>
                        </a:lnTo>
                        <a:lnTo>
                          <a:pt x="59" y="5"/>
                        </a:lnTo>
                        <a:lnTo>
                          <a:pt x="69" y="4"/>
                        </a:lnTo>
                        <a:lnTo>
                          <a:pt x="78" y="2"/>
                        </a:lnTo>
                        <a:lnTo>
                          <a:pt x="90" y="1"/>
                        </a:lnTo>
                        <a:lnTo>
                          <a:pt x="101" y="0"/>
                        </a:lnTo>
                        <a:lnTo>
                          <a:pt x="114" y="0"/>
                        </a:lnTo>
                        <a:lnTo>
                          <a:pt x="125" y="0"/>
                        </a:lnTo>
                        <a:lnTo>
                          <a:pt x="137" y="0"/>
                        </a:lnTo>
                        <a:lnTo>
                          <a:pt x="149" y="0"/>
                        </a:lnTo>
                        <a:lnTo>
                          <a:pt x="161" y="0"/>
                        </a:lnTo>
                        <a:lnTo>
                          <a:pt x="174" y="1"/>
                        </a:lnTo>
                        <a:lnTo>
                          <a:pt x="185" y="1"/>
                        </a:lnTo>
                        <a:lnTo>
                          <a:pt x="197" y="1"/>
                        </a:lnTo>
                        <a:lnTo>
                          <a:pt x="217" y="2"/>
                        </a:lnTo>
                        <a:lnTo>
                          <a:pt x="237" y="2"/>
                        </a:lnTo>
                        <a:lnTo>
                          <a:pt x="257" y="3"/>
                        </a:lnTo>
                        <a:lnTo>
                          <a:pt x="277" y="5"/>
                        </a:lnTo>
                        <a:lnTo>
                          <a:pt x="298" y="6"/>
                        </a:lnTo>
                        <a:lnTo>
                          <a:pt x="318" y="8"/>
                        </a:lnTo>
                        <a:lnTo>
                          <a:pt x="338" y="10"/>
                        </a:lnTo>
                        <a:lnTo>
                          <a:pt x="358" y="11"/>
                        </a:lnTo>
                        <a:lnTo>
                          <a:pt x="378" y="13"/>
                        </a:lnTo>
                        <a:lnTo>
                          <a:pt x="398" y="15"/>
                        </a:lnTo>
                        <a:lnTo>
                          <a:pt x="398" y="1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" name=""/>
                  <p:cNvSpPr/>
                  <p:nvPr/>
                </p:nvSpPr>
                <p:spPr>
                  <a:xfrm>
                    <a:off x="1042200" y="5755320"/>
                    <a:ext cx="8028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165" h="27">
                        <a:moveTo>
                          <a:pt x="165" y="16"/>
                        </a:moveTo>
                        <a:lnTo>
                          <a:pt x="165" y="18"/>
                        </a:lnTo>
                        <a:lnTo>
                          <a:pt x="165" y="19"/>
                        </a:lnTo>
                        <a:lnTo>
                          <a:pt x="165" y="21"/>
                        </a:lnTo>
                        <a:lnTo>
                          <a:pt x="164" y="22"/>
                        </a:lnTo>
                        <a:lnTo>
                          <a:pt x="162" y="23"/>
                        </a:lnTo>
                        <a:lnTo>
                          <a:pt x="161" y="24"/>
                        </a:lnTo>
                        <a:lnTo>
                          <a:pt x="158" y="25"/>
                        </a:lnTo>
                        <a:lnTo>
                          <a:pt x="157" y="26"/>
                        </a:lnTo>
                        <a:lnTo>
                          <a:pt x="155" y="27"/>
                        </a:lnTo>
                        <a:lnTo>
                          <a:pt x="153" y="27"/>
                        </a:lnTo>
                        <a:lnTo>
                          <a:pt x="146" y="26"/>
                        </a:lnTo>
                        <a:lnTo>
                          <a:pt x="140" y="26"/>
                        </a:lnTo>
                        <a:lnTo>
                          <a:pt x="133" y="26"/>
                        </a:lnTo>
                        <a:lnTo>
                          <a:pt x="126" y="25"/>
                        </a:lnTo>
                        <a:lnTo>
                          <a:pt x="120" y="25"/>
                        </a:lnTo>
                        <a:lnTo>
                          <a:pt x="113" y="25"/>
                        </a:lnTo>
                        <a:lnTo>
                          <a:pt x="107" y="24"/>
                        </a:lnTo>
                        <a:lnTo>
                          <a:pt x="101" y="24"/>
                        </a:lnTo>
                        <a:lnTo>
                          <a:pt x="95" y="23"/>
                        </a:lnTo>
                        <a:lnTo>
                          <a:pt x="89" y="21"/>
                        </a:lnTo>
                        <a:lnTo>
                          <a:pt x="89" y="20"/>
                        </a:lnTo>
                        <a:lnTo>
                          <a:pt x="89" y="19"/>
                        </a:lnTo>
                        <a:lnTo>
                          <a:pt x="89" y="19"/>
                        </a:lnTo>
                        <a:lnTo>
                          <a:pt x="90" y="19"/>
                        </a:lnTo>
                        <a:lnTo>
                          <a:pt x="90" y="18"/>
                        </a:lnTo>
                        <a:lnTo>
                          <a:pt x="91" y="18"/>
                        </a:lnTo>
                        <a:lnTo>
                          <a:pt x="92" y="17"/>
                        </a:lnTo>
                        <a:lnTo>
                          <a:pt x="93" y="17"/>
                        </a:lnTo>
                        <a:lnTo>
                          <a:pt x="93" y="16"/>
                        </a:lnTo>
                        <a:lnTo>
                          <a:pt x="93" y="16"/>
                        </a:lnTo>
                        <a:lnTo>
                          <a:pt x="99" y="15"/>
                        </a:lnTo>
                        <a:lnTo>
                          <a:pt x="104" y="15"/>
                        </a:lnTo>
                        <a:lnTo>
                          <a:pt x="109" y="16"/>
                        </a:lnTo>
                        <a:lnTo>
                          <a:pt x="114" y="16"/>
                        </a:lnTo>
                        <a:lnTo>
                          <a:pt x="119" y="16"/>
                        </a:lnTo>
                        <a:lnTo>
                          <a:pt x="123" y="17"/>
                        </a:lnTo>
                        <a:lnTo>
                          <a:pt x="127" y="18"/>
                        </a:lnTo>
                        <a:lnTo>
                          <a:pt x="132" y="18"/>
                        </a:lnTo>
                        <a:lnTo>
                          <a:pt x="137" y="17"/>
                        </a:lnTo>
                        <a:lnTo>
                          <a:pt x="142" y="16"/>
                        </a:lnTo>
                        <a:lnTo>
                          <a:pt x="130" y="12"/>
                        </a:lnTo>
                        <a:lnTo>
                          <a:pt x="117" y="9"/>
                        </a:lnTo>
                        <a:lnTo>
                          <a:pt x="103" y="7"/>
                        </a:lnTo>
                        <a:lnTo>
                          <a:pt x="89" y="6"/>
                        </a:lnTo>
                        <a:lnTo>
                          <a:pt x="76" y="7"/>
                        </a:lnTo>
                        <a:lnTo>
                          <a:pt x="62" y="7"/>
                        </a:lnTo>
                        <a:lnTo>
                          <a:pt x="48" y="9"/>
                        </a:lnTo>
                        <a:lnTo>
                          <a:pt x="35" y="11"/>
                        </a:lnTo>
                        <a:lnTo>
                          <a:pt x="21" y="14"/>
                        </a:lnTo>
                        <a:lnTo>
                          <a:pt x="9" y="18"/>
                        </a:lnTo>
                        <a:lnTo>
                          <a:pt x="9" y="19"/>
                        </a:lnTo>
                        <a:lnTo>
                          <a:pt x="9" y="19"/>
                        </a:lnTo>
                        <a:lnTo>
                          <a:pt x="9" y="20"/>
                        </a:lnTo>
                        <a:lnTo>
                          <a:pt x="9" y="21"/>
                        </a:lnTo>
                        <a:lnTo>
                          <a:pt x="9" y="23"/>
                        </a:lnTo>
                        <a:lnTo>
                          <a:pt x="9" y="23"/>
                        </a:lnTo>
                        <a:lnTo>
                          <a:pt x="9" y="24"/>
                        </a:lnTo>
                        <a:lnTo>
                          <a:pt x="9" y="25"/>
                        </a:lnTo>
                        <a:lnTo>
                          <a:pt x="8" y="26"/>
                        </a:lnTo>
                        <a:lnTo>
                          <a:pt x="7" y="27"/>
                        </a:lnTo>
                        <a:lnTo>
                          <a:pt x="6" y="26"/>
                        </a:lnTo>
                        <a:lnTo>
                          <a:pt x="4" y="25"/>
                        </a:lnTo>
                        <a:lnTo>
                          <a:pt x="4" y="24"/>
                        </a:lnTo>
                        <a:lnTo>
                          <a:pt x="2" y="23"/>
                        </a:lnTo>
                        <a:lnTo>
                          <a:pt x="2" y="21"/>
                        </a:lnTo>
                        <a:lnTo>
                          <a:pt x="1" y="19"/>
                        </a:lnTo>
                        <a:lnTo>
                          <a:pt x="0" y="18"/>
                        </a:lnTo>
                        <a:lnTo>
                          <a:pt x="0" y="16"/>
                        </a:lnTo>
                        <a:lnTo>
                          <a:pt x="0" y="15"/>
                        </a:lnTo>
                        <a:lnTo>
                          <a:pt x="1" y="13"/>
                        </a:lnTo>
                        <a:lnTo>
                          <a:pt x="17" y="7"/>
                        </a:lnTo>
                        <a:lnTo>
                          <a:pt x="33" y="3"/>
                        </a:lnTo>
                        <a:lnTo>
                          <a:pt x="50" y="1"/>
                        </a:lnTo>
                        <a:lnTo>
                          <a:pt x="66" y="0"/>
                        </a:lnTo>
                        <a:lnTo>
                          <a:pt x="84" y="0"/>
                        </a:lnTo>
                        <a:lnTo>
                          <a:pt x="101" y="2"/>
                        </a:lnTo>
                        <a:lnTo>
                          <a:pt x="118" y="4"/>
                        </a:lnTo>
                        <a:lnTo>
                          <a:pt x="135" y="7"/>
                        </a:lnTo>
                        <a:lnTo>
                          <a:pt x="150" y="11"/>
                        </a:lnTo>
                        <a:lnTo>
                          <a:pt x="165" y="16"/>
                        </a:lnTo>
                        <a:lnTo>
                          <a:pt x="165" y="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"/>
                  <p:cNvSpPr/>
                  <p:nvPr/>
                </p:nvSpPr>
                <p:spPr>
                  <a:xfrm>
                    <a:off x="1126080" y="5758920"/>
                    <a:ext cx="2772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28">
                        <a:moveTo>
                          <a:pt x="56" y="11"/>
                        </a:moveTo>
                        <a:lnTo>
                          <a:pt x="57" y="12"/>
                        </a:lnTo>
                        <a:lnTo>
                          <a:pt x="57" y="14"/>
                        </a:lnTo>
                        <a:lnTo>
                          <a:pt x="57" y="16"/>
                        </a:lnTo>
                        <a:lnTo>
                          <a:pt x="56" y="17"/>
                        </a:lnTo>
                        <a:lnTo>
                          <a:pt x="56" y="19"/>
                        </a:lnTo>
                        <a:lnTo>
                          <a:pt x="55" y="21"/>
                        </a:lnTo>
                        <a:lnTo>
                          <a:pt x="54" y="22"/>
                        </a:lnTo>
                        <a:lnTo>
                          <a:pt x="52" y="24"/>
                        </a:lnTo>
                        <a:lnTo>
                          <a:pt x="50" y="25"/>
                        </a:lnTo>
                        <a:lnTo>
                          <a:pt x="49" y="26"/>
                        </a:lnTo>
                        <a:lnTo>
                          <a:pt x="44" y="26"/>
                        </a:lnTo>
                        <a:lnTo>
                          <a:pt x="39" y="27"/>
                        </a:lnTo>
                        <a:lnTo>
                          <a:pt x="34" y="27"/>
                        </a:lnTo>
                        <a:lnTo>
                          <a:pt x="29" y="28"/>
                        </a:lnTo>
                        <a:lnTo>
                          <a:pt x="24" y="28"/>
                        </a:lnTo>
                        <a:lnTo>
                          <a:pt x="19" y="28"/>
                        </a:lnTo>
                        <a:lnTo>
                          <a:pt x="13" y="27"/>
                        </a:lnTo>
                        <a:lnTo>
                          <a:pt x="9" y="27"/>
                        </a:lnTo>
                        <a:lnTo>
                          <a:pt x="4" y="26"/>
                        </a:lnTo>
                        <a:lnTo>
                          <a:pt x="0" y="26"/>
                        </a:lnTo>
                        <a:lnTo>
                          <a:pt x="0" y="21"/>
                        </a:lnTo>
                        <a:lnTo>
                          <a:pt x="5" y="20"/>
                        </a:lnTo>
                        <a:lnTo>
                          <a:pt x="10" y="20"/>
                        </a:lnTo>
                        <a:lnTo>
                          <a:pt x="15" y="20"/>
                        </a:lnTo>
                        <a:lnTo>
                          <a:pt x="20" y="20"/>
                        </a:lnTo>
                        <a:lnTo>
                          <a:pt x="25" y="20"/>
                        </a:lnTo>
                        <a:lnTo>
                          <a:pt x="30" y="19"/>
                        </a:lnTo>
                        <a:lnTo>
                          <a:pt x="35" y="18"/>
                        </a:lnTo>
                        <a:lnTo>
                          <a:pt x="39" y="18"/>
                        </a:lnTo>
                        <a:lnTo>
                          <a:pt x="44" y="16"/>
                        </a:lnTo>
                        <a:lnTo>
                          <a:pt x="49" y="14"/>
                        </a:lnTo>
                        <a:lnTo>
                          <a:pt x="20" y="3"/>
                        </a:lnTo>
                        <a:lnTo>
                          <a:pt x="23" y="1"/>
                        </a:lnTo>
                        <a:lnTo>
                          <a:pt x="27" y="0"/>
                        </a:lnTo>
                        <a:lnTo>
                          <a:pt x="31" y="0"/>
                        </a:lnTo>
                        <a:lnTo>
                          <a:pt x="36" y="0"/>
                        </a:lnTo>
                        <a:lnTo>
                          <a:pt x="39" y="1"/>
                        </a:lnTo>
                        <a:lnTo>
                          <a:pt x="44" y="2"/>
                        </a:lnTo>
                        <a:lnTo>
                          <a:pt x="48" y="4"/>
                        </a:lnTo>
                        <a:lnTo>
                          <a:pt x="52" y="5"/>
                        </a:lnTo>
                        <a:lnTo>
                          <a:pt x="54" y="8"/>
                        </a:lnTo>
                        <a:lnTo>
                          <a:pt x="57" y="11"/>
                        </a:lnTo>
                        <a:lnTo>
                          <a:pt x="57" y="11"/>
                        </a:lnTo>
                        <a:lnTo>
                          <a:pt x="56" y="1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" name=""/>
                  <p:cNvSpPr/>
                  <p:nvPr/>
                </p:nvSpPr>
                <p:spPr>
                  <a:xfrm>
                    <a:off x="1222200" y="5778000"/>
                    <a:ext cx="17172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" h="321">
                        <a:moveTo>
                          <a:pt x="340" y="34"/>
                        </a:moveTo>
                        <a:lnTo>
                          <a:pt x="346" y="45"/>
                        </a:lnTo>
                        <a:lnTo>
                          <a:pt x="350" y="56"/>
                        </a:lnTo>
                        <a:lnTo>
                          <a:pt x="352" y="67"/>
                        </a:lnTo>
                        <a:lnTo>
                          <a:pt x="352" y="79"/>
                        </a:lnTo>
                        <a:lnTo>
                          <a:pt x="350" y="91"/>
                        </a:lnTo>
                        <a:lnTo>
                          <a:pt x="347" y="102"/>
                        </a:lnTo>
                        <a:lnTo>
                          <a:pt x="344" y="114"/>
                        </a:lnTo>
                        <a:lnTo>
                          <a:pt x="340" y="125"/>
                        </a:lnTo>
                        <a:lnTo>
                          <a:pt x="335" y="136"/>
                        </a:lnTo>
                        <a:lnTo>
                          <a:pt x="330" y="147"/>
                        </a:lnTo>
                        <a:lnTo>
                          <a:pt x="320" y="160"/>
                        </a:lnTo>
                        <a:lnTo>
                          <a:pt x="310" y="173"/>
                        </a:lnTo>
                        <a:lnTo>
                          <a:pt x="300" y="187"/>
                        </a:lnTo>
                        <a:lnTo>
                          <a:pt x="288" y="201"/>
                        </a:lnTo>
                        <a:lnTo>
                          <a:pt x="276" y="214"/>
                        </a:lnTo>
                        <a:lnTo>
                          <a:pt x="263" y="227"/>
                        </a:lnTo>
                        <a:lnTo>
                          <a:pt x="249" y="239"/>
                        </a:lnTo>
                        <a:lnTo>
                          <a:pt x="234" y="250"/>
                        </a:lnTo>
                        <a:lnTo>
                          <a:pt x="217" y="261"/>
                        </a:lnTo>
                        <a:lnTo>
                          <a:pt x="198" y="270"/>
                        </a:lnTo>
                        <a:lnTo>
                          <a:pt x="196" y="270"/>
                        </a:lnTo>
                        <a:lnTo>
                          <a:pt x="194" y="269"/>
                        </a:lnTo>
                        <a:lnTo>
                          <a:pt x="191" y="270"/>
                        </a:lnTo>
                        <a:lnTo>
                          <a:pt x="189" y="270"/>
                        </a:lnTo>
                        <a:lnTo>
                          <a:pt x="188" y="271"/>
                        </a:lnTo>
                        <a:lnTo>
                          <a:pt x="185" y="271"/>
                        </a:lnTo>
                        <a:lnTo>
                          <a:pt x="184" y="273"/>
                        </a:lnTo>
                        <a:lnTo>
                          <a:pt x="183" y="274"/>
                        </a:lnTo>
                        <a:lnTo>
                          <a:pt x="182" y="275"/>
                        </a:lnTo>
                        <a:lnTo>
                          <a:pt x="182" y="277"/>
                        </a:lnTo>
                        <a:lnTo>
                          <a:pt x="165" y="284"/>
                        </a:lnTo>
                        <a:lnTo>
                          <a:pt x="146" y="290"/>
                        </a:lnTo>
                        <a:lnTo>
                          <a:pt x="129" y="295"/>
                        </a:lnTo>
                        <a:lnTo>
                          <a:pt x="110" y="300"/>
                        </a:lnTo>
                        <a:lnTo>
                          <a:pt x="93" y="304"/>
                        </a:lnTo>
                        <a:lnTo>
                          <a:pt x="74" y="308"/>
                        </a:lnTo>
                        <a:lnTo>
                          <a:pt x="56" y="311"/>
                        </a:lnTo>
                        <a:lnTo>
                          <a:pt x="37" y="315"/>
                        </a:lnTo>
                        <a:lnTo>
                          <a:pt x="18" y="318"/>
                        </a:lnTo>
                        <a:lnTo>
                          <a:pt x="0" y="321"/>
                        </a:lnTo>
                        <a:lnTo>
                          <a:pt x="3" y="319"/>
                        </a:lnTo>
                        <a:lnTo>
                          <a:pt x="7" y="316"/>
                        </a:lnTo>
                        <a:lnTo>
                          <a:pt x="10" y="312"/>
                        </a:lnTo>
                        <a:lnTo>
                          <a:pt x="14" y="308"/>
                        </a:lnTo>
                        <a:lnTo>
                          <a:pt x="18" y="303"/>
                        </a:lnTo>
                        <a:lnTo>
                          <a:pt x="23" y="299"/>
                        </a:lnTo>
                        <a:lnTo>
                          <a:pt x="27" y="294"/>
                        </a:lnTo>
                        <a:lnTo>
                          <a:pt x="30" y="289"/>
                        </a:lnTo>
                        <a:lnTo>
                          <a:pt x="34" y="284"/>
                        </a:lnTo>
                        <a:lnTo>
                          <a:pt x="38" y="281"/>
                        </a:lnTo>
                        <a:lnTo>
                          <a:pt x="65" y="275"/>
                        </a:lnTo>
                        <a:lnTo>
                          <a:pt x="92" y="269"/>
                        </a:lnTo>
                        <a:lnTo>
                          <a:pt x="119" y="262"/>
                        </a:lnTo>
                        <a:lnTo>
                          <a:pt x="145" y="254"/>
                        </a:lnTo>
                        <a:lnTo>
                          <a:pt x="171" y="245"/>
                        </a:lnTo>
                        <a:lnTo>
                          <a:pt x="195" y="235"/>
                        </a:lnTo>
                        <a:lnTo>
                          <a:pt x="218" y="222"/>
                        </a:lnTo>
                        <a:lnTo>
                          <a:pt x="238" y="208"/>
                        </a:lnTo>
                        <a:lnTo>
                          <a:pt x="255" y="192"/>
                        </a:lnTo>
                        <a:lnTo>
                          <a:pt x="271" y="173"/>
                        </a:lnTo>
                        <a:lnTo>
                          <a:pt x="278" y="161"/>
                        </a:lnTo>
                        <a:lnTo>
                          <a:pt x="285" y="148"/>
                        </a:lnTo>
                        <a:lnTo>
                          <a:pt x="291" y="135"/>
                        </a:lnTo>
                        <a:lnTo>
                          <a:pt x="296" y="122"/>
                        </a:lnTo>
                        <a:lnTo>
                          <a:pt x="299" y="108"/>
                        </a:lnTo>
                        <a:lnTo>
                          <a:pt x="301" y="95"/>
                        </a:lnTo>
                        <a:lnTo>
                          <a:pt x="300" y="81"/>
                        </a:lnTo>
                        <a:lnTo>
                          <a:pt x="298" y="68"/>
                        </a:lnTo>
                        <a:lnTo>
                          <a:pt x="294" y="55"/>
                        </a:lnTo>
                        <a:lnTo>
                          <a:pt x="287" y="42"/>
                        </a:lnTo>
                        <a:lnTo>
                          <a:pt x="274" y="36"/>
                        </a:lnTo>
                        <a:lnTo>
                          <a:pt x="261" y="32"/>
                        </a:lnTo>
                        <a:lnTo>
                          <a:pt x="246" y="29"/>
                        </a:lnTo>
                        <a:lnTo>
                          <a:pt x="231" y="28"/>
                        </a:lnTo>
                        <a:lnTo>
                          <a:pt x="216" y="28"/>
                        </a:lnTo>
                        <a:lnTo>
                          <a:pt x="201" y="30"/>
                        </a:lnTo>
                        <a:lnTo>
                          <a:pt x="186" y="33"/>
                        </a:lnTo>
                        <a:lnTo>
                          <a:pt x="172" y="36"/>
                        </a:lnTo>
                        <a:lnTo>
                          <a:pt x="159" y="40"/>
                        </a:lnTo>
                        <a:lnTo>
                          <a:pt x="145" y="44"/>
                        </a:lnTo>
                        <a:lnTo>
                          <a:pt x="145" y="41"/>
                        </a:lnTo>
                        <a:lnTo>
                          <a:pt x="145" y="38"/>
                        </a:lnTo>
                        <a:lnTo>
                          <a:pt x="145" y="34"/>
                        </a:lnTo>
                        <a:lnTo>
                          <a:pt x="145" y="32"/>
                        </a:lnTo>
                        <a:lnTo>
                          <a:pt x="146" y="28"/>
                        </a:lnTo>
                        <a:lnTo>
                          <a:pt x="146" y="24"/>
                        </a:lnTo>
                        <a:lnTo>
                          <a:pt x="147" y="21"/>
                        </a:lnTo>
                        <a:lnTo>
                          <a:pt x="148" y="17"/>
                        </a:lnTo>
                        <a:lnTo>
                          <a:pt x="149" y="13"/>
                        </a:lnTo>
                        <a:lnTo>
                          <a:pt x="149" y="11"/>
                        </a:lnTo>
                        <a:lnTo>
                          <a:pt x="168" y="7"/>
                        </a:lnTo>
                        <a:lnTo>
                          <a:pt x="188" y="4"/>
                        </a:lnTo>
                        <a:lnTo>
                          <a:pt x="210" y="2"/>
                        </a:lnTo>
                        <a:lnTo>
                          <a:pt x="231" y="0"/>
                        </a:lnTo>
                        <a:lnTo>
                          <a:pt x="253" y="0"/>
                        </a:lnTo>
                        <a:lnTo>
                          <a:pt x="274" y="2"/>
                        </a:lnTo>
                        <a:lnTo>
                          <a:pt x="293" y="6"/>
                        </a:lnTo>
                        <a:lnTo>
                          <a:pt x="310" y="12"/>
                        </a:lnTo>
                        <a:lnTo>
                          <a:pt x="327" y="22"/>
                        </a:lnTo>
                        <a:lnTo>
                          <a:pt x="340" y="34"/>
                        </a:lnTo>
                        <a:lnTo>
                          <a:pt x="340" y="34"/>
                        </a:lnTo>
                        <a:close/>
                      </a:path>
                    </a:pathLst>
                  </a:custGeom>
                  <a:solidFill>
                    <a:srgbClr val="ffd9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" name=""/>
                  <p:cNvSpPr/>
                  <p:nvPr/>
                </p:nvSpPr>
                <p:spPr>
                  <a:xfrm>
                    <a:off x="1293120" y="5927040"/>
                    <a:ext cx="282600" cy="57600"/>
                  </a:xfrm>
                  <a:custGeom>
                    <a:avLst/>
                    <a:gdLst/>
                    <a:ahLst/>
                    <a:rect l="l" t="t" r="r" b="b"/>
                    <a:pathLst>
                      <a:path w="579" h="108">
                        <a:moveTo>
                          <a:pt x="578" y="13"/>
                        </a:moveTo>
                        <a:lnTo>
                          <a:pt x="577" y="16"/>
                        </a:lnTo>
                        <a:lnTo>
                          <a:pt x="576" y="19"/>
                        </a:lnTo>
                        <a:lnTo>
                          <a:pt x="573" y="21"/>
                        </a:lnTo>
                        <a:lnTo>
                          <a:pt x="570" y="23"/>
                        </a:lnTo>
                        <a:lnTo>
                          <a:pt x="567" y="24"/>
                        </a:lnTo>
                        <a:lnTo>
                          <a:pt x="564" y="25"/>
                        </a:lnTo>
                        <a:lnTo>
                          <a:pt x="560" y="27"/>
                        </a:lnTo>
                        <a:lnTo>
                          <a:pt x="557" y="28"/>
                        </a:lnTo>
                        <a:lnTo>
                          <a:pt x="554" y="29"/>
                        </a:lnTo>
                        <a:lnTo>
                          <a:pt x="550" y="30"/>
                        </a:lnTo>
                        <a:lnTo>
                          <a:pt x="495" y="33"/>
                        </a:lnTo>
                        <a:lnTo>
                          <a:pt x="440" y="36"/>
                        </a:lnTo>
                        <a:lnTo>
                          <a:pt x="385" y="40"/>
                        </a:lnTo>
                        <a:lnTo>
                          <a:pt x="331" y="43"/>
                        </a:lnTo>
                        <a:lnTo>
                          <a:pt x="277" y="49"/>
                        </a:lnTo>
                        <a:lnTo>
                          <a:pt x="224" y="55"/>
                        </a:lnTo>
                        <a:lnTo>
                          <a:pt x="172" y="63"/>
                        </a:lnTo>
                        <a:lnTo>
                          <a:pt x="119" y="74"/>
                        </a:lnTo>
                        <a:lnTo>
                          <a:pt x="69" y="87"/>
                        </a:lnTo>
                        <a:lnTo>
                          <a:pt x="18" y="103"/>
                        </a:lnTo>
                        <a:lnTo>
                          <a:pt x="12" y="108"/>
                        </a:lnTo>
                        <a:lnTo>
                          <a:pt x="13" y="106"/>
                        </a:lnTo>
                        <a:lnTo>
                          <a:pt x="12" y="105"/>
                        </a:lnTo>
                        <a:lnTo>
                          <a:pt x="10" y="104"/>
                        </a:lnTo>
                        <a:lnTo>
                          <a:pt x="9" y="102"/>
                        </a:lnTo>
                        <a:lnTo>
                          <a:pt x="7" y="101"/>
                        </a:lnTo>
                        <a:lnTo>
                          <a:pt x="6" y="98"/>
                        </a:lnTo>
                        <a:lnTo>
                          <a:pt x="4" y="97"/>
                        </a:lnTo>
                        <a:lnTo>
                          <a:pt x="3" y="95"/>
                        </a:lnTo>
                        <a:lnTo>
                          <a:pt x="1" y="93"/>
                        </a:lnTo>
                        <a:lnTo>
                          <a:pt x="0" y="91"/>
                        </a:lnTo>
                        <a:lnTo>
                          <a:pt x="16" y="92"/>
                        </a:lnTo>
                        <a:lnTo>
                          <a:pt x="30" y="90"/>
                        </a:lnTo>
                        <a:lnTo>
                          <a:pt x="45" y="88"/>
                        </a:lnTo>
                        <a:lnTo>
                          <a:pt x="58" y="84"/>
                        </a:lnTo>
                        <a:lnTo>
                          <a:pt x="72" y="79"/>
                        </a:lnTo>
                        <a:lnTo>
                          <a:pt x="86" y="75"/>
                        </a:lnTo>
                        <a:lnTo>
                          <a:pt x="99" y="70"/>
                        </a:lnTo>
                        <a:lnTo>
                          <a:pt x="112" y="66"/>
                        </a:lnTo>
                        <a:lnTo>
                          <a:pt x="127" y="63"/>
                        </a:lnTo>
                        <a:lnTo>
                          <a:pt x="142" y="60"/>
                        </a:lnTo>
                        <a:lnTo>
                          <a:pt x="180" y="47"/>
                        </a:lnTo>
                        <a:lnTo>
                          <a:pt x="220" y="34"/>
                        </a:lnTo>
                        <a:lnTo>
                          <a:pt x="262" y="24"/>
                        </a:lnTo>
                        <a:lnTo>
                          <a:pt x="305" y="15"/>
                        </a:lnTo>
                        <a:lnTo>
                          <a:pt x="350" y="8"/>
                        </a:lnTo>
                        <a:lnTo>
                          <a:pt x="394" y="3"/>
                        </a:lnTo>
                        <a:lnTo>
                          <a:pt x="439" y="0"/>
                        </a:lnTo>
                        <a:lnTo>
                          <a:pt x="483" y="0"/>
                        </a:lnTo>
                        <a:lnTo>
                          <a:pt x="527" y="3"/>
                        </a:lnTo>
                        <a:lnTo>
                          <a:pt x="569" y="9"/>
                        </a:lnTo>
                        <a:lnTo>
                          <a:pt x="579" y="13"/>
                        </a:lnTo>
                        <a:lnTo>
                          <a:pt x="579" y="13"/>
                        </a:lnTo>
                        <a:lnTo>
                          <a:pt x="578" y="13"/>
                        </a:lnTo>
                        <a:close/>
                      </a:path>
                    </a:pathLst>
                  </a:custGeom>
                  <a:solidFill>
                    <a:srgbClr val="cfcf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0" bIns="10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" name=""/>
                  <p:cNvSpPr/>
                  <p:nvPr/>
                </p:nvSpPr>
                <p:spPr>
                  <a:xfrm>
                    <a:off x="1270080" y="5928480"/>
                    <a:ext cx="122760" cy="33120"/>
                  </a:xfrm>
                  <a:custGeom>
                    <a:avLst/>
                    <a:gdLst/>
                    <a:ahLst/>
                    <a:rect l="l" t="t" r="r" b="b"/>
                    <a:pathLst>
                      <a:path w="252" h="62">
                        <a:moveTo>
                          <a:pt x="108" y="3"/>
                        </a:moveTo>
                        <a:lnTo>
                          <a:pt x="123" y="2"/>
                        </a:lnTo>
                        <a:lnTo>
                          <a:pt x="138" y="3"/>
                        </a:lnTo>
                        <a:lnTo>
                          <a:pt x="153" y="4"/>
                        </a:lnTo>
                        <a:lnTo>
                          <a:pt x="166" y="6"/>
                        </a:lnTo>
                        <a:lnTo>
                          <a:pt x="181" y="8"/>
                        </a:lnTo>
                        <a:lnTo>
                          <a:pt x="196" y="10"/>
                        </a:lnTo>
                        <a:lnTo>
                          <a:pt x="210" y="13"/>
                        </a:lnTo>
                        <a:lnTo>
                          <a:pt x="225" y="17"/>
                        </a:lnTo>
                        <a:lnTo>
                          <a:pt x="238" y="20"/>
                        </a:lnTo>
                        <a:lnTo>
                          <a:pt x="252" y="23"/>
                        </a:lnTo>
                        <a:lnTo>
                          <a:pt x="240" y="27"/>
                        </a:lnTo>
                        <a:lnTo>
                          <a:pt x="228" y="32"/>
                        </a:lnTo>
                        <a:lnTo>
                          <a:pt x="215" y="37"/>
                        </a:lnTo>
                        <a:lnTo>
                          <a:pt x="202" y="41"/>
                        </a:lnTo>
                        <a:lnTo>
                          <a:pt x="189" y="45"/>
                        </a:lnTo>
                        <a:lnTo>
                          <a:pt x="176" y="49"/>
                        </a:lnTo>
                        <a:lnTo>
                          <a:pt x="163" y="53"/>
                        </a:lnTo>
                        <a:lnTo>
                          <a:pt x="150" y="56"/>
                        </a:lnTo>
                        <a:lnTo>
                          <a:pt x="136" y="59"/>
                        </a:lnTo>
                        <a:lnTo>
                          <a:pt x="123" y="62"/>
                        </a:lnTo>
                        <a:lnTo>
                          <a:pt x="119" y="59"/>
                        </a:lnTo>
                        <a:lnTo>
                          <a:pt x="107" y="56"/>
                        </a:lnTo>
                        <a:lnTo>
                          <a:pt x="95" y="54"/>
                        </a:lnTo>
                        <a:lnTo>
                          <a:pt x="84" y="51"/>
                        </a:lnTo>
                        <a:lnTo>
                          <a:pt x="71" y="48"/>
                        </a:lnTo>
                        <a:lnTo>
                          <a:pt x="59" y="46"/>
                        </a:lnTo>
                        <a:lnTo>
                          <a:pt x="47" y="43"/>
                        </a:lnTo>
                        <a:lnTo>
                          <a:pt x="35" y="40"/>
                        </a:lnTo>
                        <a:lnTo>
                          <a:pt x="24" y="37"/>
                        </a:lnTo>
                        <a:lnTo>
                          <a:pt x="11" y="35"/>
                        </a:lnTo>
                        <a:lnTo>
                          <a:pt x="0" y="32"/>
                        </a:lnTo>
                        <a:lnTo>
                          <a:pt x="11" y="30"/>
                        </a:lnTo>
                        <a:lnTo>
                          <a:pt x="21" y="27"/>
                        </a:lnTo>
                        <a:lnTo>
                          <a:pt x="32" y="24"/>
                        </a:lnTo>
                        <a:lnTo>
                          <a:pt x="43" y="21"/>
                        </a:lnTo>
                        <a:lnTo>
                          <a:pt x="54" y="18"/>
                        </a:lnTo>
                        <a:lnTo>
                          <a:pt x="64" y="15"/>
                        </a:lnTo>
                        <a:lnTo>
                          <a:pt x="74" y="12"/>
                        </a:lnTo>
                        <a:lnTo>
                          <a:pt x="84" y="8"/>
                        </a:lnTo>
                        <a:lnTo>
                          <a:pt x="94" y="4"/>
                        </a:lnTo>
                        <a:lnTo>
                          <a:pt x="104" y="0"/>
                        </a:lnTo>
                        <a:lnTo>
                          <a:pt x="109" y="3"/>
                        </a:lnTo>
                        <a:lnTo>
                          <a:pt x="109" y="3"/>
                        </a:lnTo>
                        <a:lnTo>
                          <a:pt x="108" y="3"/>
                        </a:lnTo>
                        <a:close/>
                      </a:path>
                    </a:pathLst>
                  </a:custGeom>
                  <a:solidFill>
                    <a:srgbClr val="ffd9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" name=""/>
                  <p:cNvSpPr/>
                  <p:nvPr/>
                </p:nvSpPr>
                <p:spPr>
                  <a:xfrm>
                    <a:off x="828000" y="5940720"/>
                    <a:ext cx="338400" cy="9864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185">
                        <a:moveTo>
                          <a:pt x="219" y="22"/>
                        </a:moveTo>
                        <a:lnTo>
                          <a:pt x="208" y="23"/>
                        </a:lnTo>
                        <a:lnTo>
                          <a:pt x="197" y="23"/>
                        </a:lnTo>
                        <a:lnTo>
                          <a:pt x="185" y="24"/>
                        </a:lnTo>
                        <a:lnTo>
                          <a:pt x="174" y="24"/>
                        </a:lnTo>
                        <a:lnTo>
                          <a:pt x="162" y="25"/>
                        </a:lnTo>
                        <a:lnTo>
                          <a:pt x="151" y="26"/>
                        </a:lnTo>
                        <a:lnTo>
                          <a:pt x="139" y="27"/>
                        </a:lnTo>
                        <a:lnTo>
                          <a:pt x="128" y="28"/>
                        </a:lnTo>
                        <a:lnTo>
                          <a:pt x="117" y="29"/>
                        </a:lnTo>
                        <a:lnTo>
                          <a:pt x="106" y="30"/>
                        </a:lnTo>
                        <a:lnTo>
                          <a:pt x="99" y="31"/>
                        </a:lnTo>
                        <a:lnTo>
                          <a:pt x="92" y="32"/>
                        </a:lnTo>
                        <a:lnTo>
                          <a:pt x="84" y="34"/>
                        </a:lnTo>
                        <a:lnTo>
                          <a:pt x="76" y="36"/>
                        </a:lnTo>
                        <a:lnTo>
                          <a:pt x="69" y="38"/>
                        </a:lnTo>
                        <a:lnTo>
                          <a:pt x="63" y="41"/>
                        </a:lnTo>
                        <a:lnTo>
                          <a:pt x="56" y="44"/>
                        </a:lnTo>
                        <a:lnTo>
                          <a:pt x="51" y="48"/>
                        </a:lnTo>
                        <a:lnTo>
                          <a:pt x="46" y="52"/>
                        </a:lnTo>
                        <a:lnTo>
                          <a:pt x="43" y="57"/>
                        </a:lnTo>
                        <a:lnTo>
                          <a:pt x="43" y="59"/>
                        </a:lnTo>
                        <a:lnTo>
                          <a:pt x="43" y="61"/>
                        </a:lnTo>
                        <a:lnTo>
                          <a:pt x="43" y="63"/>
                        </a:lnTo>
                        <a:lnTo>
                          <a:pt x="43" y="65"/>
                        </a:lnTo>
                        <a:lnTo>
                          <a:pt x="43" y="67"/>
                        </a:lnTo>
                        <a:lnTo>
                          <a:pt x="43" y="69"/>
                        </a:lnTo>
                        <a:lnTo>
                          <a:pt x="43" y="70"/>
                        </a:lnTo>
                        <a:lnTo>
                          <a:pt x="45" y="72"/>
                        </a:lnTo>
                        <a:lnTo>
                          <a:pt x="47" y="73"/>
                        </a:lnTo>
                        <a:lnTo>
                          <a:pt x="51" y="74"/>
                        </a:lnTo>
                        <a:lnTo>
                          <a:pt x="53" y="72"/>
                        </a:lnTo>
                        <a:lnTo>
                          <a:pt x="53" y="71"/>
                        </a:lnTo>
                        <a:lnTo>
                          <a:pt x="55" y="69"/>
                        </a:lnTo>
                        <a:lnTo>
                          <a:pt x="56" y="67"/>
                        </a:lnTo>
                        <a:lnTo>
                          <a:pt x="56" y="65"/>
                        </a:lnTo>
                        <a:lnTo>
                          <a:pt x="56" y="63"/>
                        </a:lnTo>
                        <a:lnTo>
                          <a:pt x="57" y="61"/>
                        </a:lnTo>
                        <a:lnTo>
                          <a:pt x="57" y="59"/>
                        </a:lnTo>
                        <a:lnTo>
                          <a:pt x="58" y="58"/>
                        </a:lnTo>
                        <a:lnTo>
                          <a:pt x="59" y="56"/>
                        </a:lnTo>
                        <a:lnTo>
                          <a:pt x="68" y="50"/>
                        </a:lnTo>
                        <a:lnTo>
                          <a:pt x="77" y="47"/>
                        </a:lnTo>
                        <a:lnTo>
                          <a:pt x="86" y="44"/>
                        </a:lnTo>
                        <a:lnTo>
                          <a:pt x="97" y="42"/>
                        </a:lnTo>
                        <a:lnTo>
                          <a:pt x="107" y="42"/>
                        </a:lnTo>
                        <a:lnTo>
                          <a:pt x="119" y="41"/>
                        </a:lnTo>
                        <a:lnTo>
                          <a:pt x="129" y="40"/>
                        </a:lnTo>
                        <a:lnTo>
                          <a:pt x="140" y="40"/>
                        </a:lnTo>
                        <a:lnTo>
                          <a:pt x="151" y="38"/>
                        </a:lnTo>
                        <a:lnTo>
                          <a:pt x="162" y="36"/>
                        </a:lnTo>
                        <a:lnTo>
                          <a:pt x="231" y="34"/>
                        </a:lnTo>
                        <a:lnTo>
                          <a:pt x="244" y="45"/>
                        </a:lnTo>
                        <a:lnTo>
                          <a:pt x="244" y="50"/>
                        </a:lnTo>
                        <a:lnTo>
                          <a:pt x="243" y="57"/>
                        </a:lnTo>
                        <a:lnTo>
                          <a:pt x="242" y="63"/>
                        </a:lnTo>
                        <a:lnTo>
                          <a:pt x="241" y="70"/>
                        </a:lnTo>
                        <a:lnTo>
                          <a:pt x="241" y="78"/>
                        </a:lnTo>
                        <a:lnTo>
                          <a:pt x="243" y="84"/>
                        </a:lnTo>
                        <a:lnTo>
                          <a:pt x="245" y="91"/>
                        </a:lnTo>
                        <a:lnTo>
                          <a:pt x="249" y="96"/>
                        </a:lnTo>
                        <a:lnTo>
                          <a:pt x="255" y="101"/>
                        </a:lnTo>
                        <a:lnTo>
                          <a:pt x="264" y="104"/>
                        </a:lnTo>
                        <a:lnTo>
                          <a:pt x="291" y="114"/>
                        </a:lnTo>
                        <a:lnTo>
                          <a:pt x="320" y="122"/>
                        </a:lnTo>
                        <a:lnTo>
                          <a:pt x="349" y="129"/>
                        </a:lnTo>
                        <a:lnTo>
                          <a:pt x="379" y="133"/>
                        </a:lnTo>
                        <a:lnTo>
                          <a:pt x="409" y="137"/>
                        </a:lnTo>
                        <a:lnTo>
                          <a:pt x="442" y="139"/>
                        </a:lnTo>
                        <a:lnTo>
                          <a:pt x="474" y="142"/>
                        </a:lnTo>
                        <a:lnTo>
                          <a:pt x="506" y="143"/>
                        </a:lnTo>
                        <a:lnTo>
                          <a:pt x="538" y="144"/>
                        </a:lnTo>
                        <a:lnTo>
                          <a:pt x="570" y="145"/>
                        </a:lnTo>
                        <a:lnTo>
                          <a:pt x="572" y="144"/>
                        </a:lnTo>
                        <a:lnTo>
                          <a:pt x="583" y="149"/>
                        </a:lnTo>
                        <a:lnTo>
                          <a:pt x="595" y="154"/>
                        </a:lnTo>
                        <a:lnTo>
                          <a:pt x="606" y="158"/>
                        </a:lnTo>
                        <a:lnTo>
                          <a:pt x="618" y="163"/>
                        </a:lnTo>
                        <a:lnTo>
                          <a:pt x="630" y="167"/>
                        </a:lnTo>
                        <a:lnTo>
                          <a:pt x="643" y="171"/>
                        </a:lnTo>
                        <a:lnTo>
                          <a:pt x="655" y="173"/>
                        </a:lnTo>
                        <a:lnTo>
                          <a:pt x="667" y="176"/>
                        </a:lnTo>
                        <a:lnTo>
                          <a:pt x="680" y="178"/>
                        </a:lnTo>
                        <a:lnTo>
                          <a:pt x="693" y="180"/>
                        </a:lnTo>
                        <a:lnTo>
                          <a:pt x="685" y="181"/>
                        </a:lnTo>
                        <a:lnTo>
                          <a:pt x="676" y="182"/>
                        </a:lnTo>
                        <a:lnTo>
                          <a:pt x="667" y="183"/>
                        </a:lnTo>
                        <a:lnTo>
                          <a:pt x="659" y="184"/>
                        </a:lnTo>
                        <a:lnTo>
                          <a:pt x="650" y="184"/>
                        </a:lnTo>
                        <a:lnTo>
                          <a:pt x="641" y="185"/>
                        </a:lnTo>
                        <a:lnTo>
                          <a:pt x="633" y="185"/>
                        </a:lnTo>
                        <a:lnTo>
                          <a:pt x="623" y="185"/>
                        </a:lnTo>
                        <a:lnTo>
                          <a:pt x="614" y="185"/>
                        </a:lnTo>
                        <a:lnTo>
                          <a:pt x="605" y="185"/>
                        </a:lnTo>
                        <a:lnTo>
                          <a:pt x="604" y="184"/>
                        </a:lnTo>
                        <a:lnTo>
                          <a:pt x="603" y="183"/>
                        </a:lnTo>
                        <a:lnTo>
                          <a:pt x="603" y="183"/>
                        </a:lnTo>
                        <a:lnTo>
                          <a:pt x="602" y="183"/>
                        </a:lnTo>
                        <a:lnTo>
                          <a:pt x="601" y="183"/>
                        </a:lnTo>
                        <a:lnTo>
                          <a:pt x="600" y="183"/>
                        </a:lnTo>
                        <a:lnTo>
                          <a:pt x="599" y="184"/>
                        </a:lnTo>
                        <a:lnTo>
                          <a:pt x="597" y="184"/>
                        </a:lnTo>
                        <a:lnTo>
                          <a:pt x="596" y="184"/>
                        </a:lnTo>
                        <a:lnTo>
                          <a:pt x="595" y="185"/>
                        </a:lnTo>
                        <a:lnTo>
                          <a:pt x="536" y="182"/>
                        </a:lnTo>
                        <a:lnTo>
                          <a:pt x="478" y="178"/>
                        </a:lnTo>
                        <a:lnTo>
                          <a:pt x="419" y="174"/>
                        </a:lnTo>
                        <a:lnTo>
                          <a:pt x="360" y="169"/>
                        </a:lnTo>
                        <a:lnTo>
                          <a:pt x="302" y="162"/>
                        </a:lnTo>
                        <a:lnTo>
                          <a:pt x="245" y="154"/>
                        </a:lnTo>
                        <a:lnTo>
                          <a:pt x="188" y="143"/>
                        </a:lnTo>
                        <a:lnTo>
                          <a:pt x="134" y="130"/>
                        </a:lnTo>
                        <a:lnTo>
                          <a:pt x="80" y="114"/>
                        </a:lnTo>
                        <a:lnTo>
                          <a:pt x="29" y="95"/>
                        </a:lnTo>
                        <a:lnTo>
                          <a:pt x="25" y="93"/>
                        </a:lnTo>
                        <a:lnTo>
                          <a:pt x="20" y="90"/>
                        </a:lnTo>
                        <a:lnTo>
                          <a:pt x="17" y="88"/>
                        </a:lnTo>
                        <a:lnTo>
                          <a:pt x="12" y="85"/>
                        </a:lnTo>
                        <a:lnTo>
                          <a:pt x="8" y="82"/>
                        </a:lnTo>
                        <a:lnTo>
                          <a:pt x="5" y="79"/>
                        </a:lnTo>
                        <a:lnTo>
                          <a:pt x="3" y="75"/>
                        </a:lnTo>
                        <a:lnTo>
                          <a:pt x="1" y="72"/>
                        </a:lnTo>
                        <a:lnTo>
                          <a:pt x="0" y="69"/>
                        </a:lnTo>
                        <a:lnTo>
                          <a:pt x="2" y="65"/>
                        </a:lnTo>
                        <a:lnTo>
                          <a:pt x="3" y="62"/>
                        </a:lnTo>
                        <a:lnTo>
                          <a:pt x="6" y="58"/>
                        </a:lnTo>
                        <a:lnTo>
                          <a:pt x="8" y="54"/>
                        </a:lnTo>
                        <a:lnTo>
                          <a:pt x="10" y="51"/>
                        </a:lnTo>
                        <a:lnTo>
                          <a:pt x="13" y="48"/>
                        </a:lnTo>
                        <a:lnTo>
                          <a:pt x="17" y="45"/>
                        </a:lnTo>
                        <a:lnTo>
                          <a:pt x="20" y="42"/>
                        </a:lnTo>
                        <a:lnTo>
                          <a:pt x="25" y="39"/>
                        </a:lnTo>
                        <a:lnTo>
                          <a:pt x="30" y="37"/>
                        </a:lnTo>
                        <a:lnTo>
                          <a:pt x="35" y="34"/>
                        </a:lnTo>
                        <a:lnTo>
                          <a:pt x="50" y="29"/>
                        </a:lnTo>
                        <a:lnTo>
                          <a:pt x="64" y="24"/>
                        </a:lnTo>
                        <a:lnTo>
                          <a:pt x="79" y="20"/>
                        </a:lnTo>
                        <a:lnTo>
                          <a:pt x="95" y="16"/>
                        </a:lnTo>
                        <a:lnTo>
                          <a:pt x="111" y="14"/>
                        </a:lnTo>
                        <a:lnTo>
                          <a:pt x="126" y="11"/>
                        </a:lnTo>
                        <a:lnTo>
                          <a:pt x="143" y="8"/>
                        </a:lnTo>
                        <a:lnTo>
                          <a:pt x="159" y="6"/>
                        </a:lnTo>
                        <a:lnTo>
                          <a:pt x="176" y="4"/>
                        </a:lnTo>
                        <a:lnTo>
                          <a:pt x="193" y="3"/>
                        </a:lnTo>
                        <a:lnTo>
                          <a:pt x="197" y="0"/>
                        </a:lnTo>
                        <a:lnTo>
                          <a:pt x="219" y="23"/>
                        </a:lnTo>
                        <a:lnTo>
                          <a:pt x="219" y="23"/>
                        </a:lnTo>
                        <a:lnTo>
                          <a:pt x="219" y="22"/>
                        </a:lnTo>
                        <a:close/>
                      </a:path>
                    </a:pathLst>
                  </a:custGeom>
                  <a:solidFill>
                    <a:srgbClr val="fff09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" name=""/>
                  <p:cNvSpPr/>
                  <p:nvPr/>
                </p:nvSpPr>
                <p:spPr>
                  <a:xfrm>
                    <a:off x="1305000" y="5943960"/>
                    <a:ext cx="27180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557" h="86">
                        <a:moveTo>
                          <a:pt x="269" y="30"/>
                        </a:moveTo>
                        <a:lnTo>
                          <a:pt x="242" y="34"/>
                        </a:lnTo>
                        <a:lnTo>
                          <a:pt x="214" y="38"/>
                        </a:lnTo>
                        <a:lnTo>
                          <a:pt x="186" y="42"/>
                        </a:lnTo>
                        <a:lnTo>
                          <a:pt x="159" y="47"/>
                        </a:lnTo>
                        <a:lnTo>
                          <a:pt x="131" y="52"/>
                        </a:lnTo>
                        <a:lnTo>
                          <a:pt x="105" y="58"/>
                        </a:lnTo>
                        <a:lnTo>
                          <a:pt x="78" y="64"/>
                        </a:lnTo>
                        <a:lnTo>
                          <a:pt x="52" y="71"/>
                        </a:lnTo>
                        <a:lnTo>
                          <a:pt x="26" y="78"/>
                        </a:lnTo>
                        <a:lnTo>
                          <a:pt x="0" y="86"/>
                        </a:lnTo>
                        <a:lnTo>
                          <a:pt x="9" y="81"/>
                        </a:lnTo>
                        <a:lnTo>
                          <a:pt x="19" y="76"/>
                        </a:lnTo>
                        <a:lnTo>
                          <a:pt x="29" y="72"/>
                        </a:lnTo>
                        <a:lnTo>
                          <a:pt x="39" y="68"/>
                        </a:lnTo>
                        <a:lnTo>
                          <a:pt x="50" y="65"/>
                        </a:lnTo>
                        <a:lnTo>
                          <a:pt x="61" y="62"/>
                        </a:lnTo>
                        <a:lnTo>
                          <a:pt x="72" y="60"/>
                        </a:lnTo>
                        <a:lnTo>
                          <a:pt x="83" y="57"/>
                        </a:lnTo>
                        <a:lnTo>
                          <a:pt x="95" y="54"/>
                        </a:lnTo>
                        <a:lnTo>
                          <a:pt x="105" y="51"/>
                        </a:lnTo>
                        <a:lnTo>
                          <a:pt x="142" y="45"/>
                        </a:lnTo>
                        <a:lnTo>
                          <a:pt x="179" y="39"/>
                        </a:lnTo>
                        <a:lnTo>
                          <a:pt x="217" y="33"/>
                        </a:lnTo>
                        <a:lnTo>
                          <a:pt x="253" y="28"/>
                        </a:lnTo>
                        <a:lnTo>
                          <a:pt x="292" y="25"/>
                        </a:lnTo>
                        <a:lnTo>
                          <a:pt x="329" y="21"/>
                        </a:lnTo>
                        <a:lnTo>
                          <a:pt x="367" y="18"/>
                        </a:lnTo>
                        <a:lnTo>
                          <a:pt x="405" y="16"/>
                        </a:lnTo>
                        <a:lnTo>
                          <a:pt x="443" y="14"/>
                        </a:lnTo>
                        <a:lnTo>
                          <a:pt x="480" y="14"/>
                        </a:lnTo>
                        <a:lnTo>
                          <a:pt x="487" y="14"/>
                        </a:lnTo>
                        <a:lnTo>
                          <a:pt x="492" y="14"/>
                        </a:lnTo>
                        <a:lnTo>
                          <a:pt x="497" y="13"/>
                        </a:lnTo>
                        <a:lnTo>
                          <a:pt x="503" y="13"/>
                        </a:lnTo>
                        <a:lnTo>
                          <a:pt x="508" y="11"/>
                        </a:lnTo>
                        <a:lnTo>
                          <a:pt x="514" y="10"/>
                        </a:lnTo>
                        <a:lnTo>
                          <a:pt x="520" y="9"/>
                        </a:lnTo>
                        <a:lnTo>
                          <a:pt x="525" y="8"/>
                        </a:lnTo>
                        <a:lnTo>
                          <a:pt x="531" y="7"/>
                        </a:lnTo>
                        <a:lnTo>
                          <a:pt x="536" y="8"/>
                        </a:lnTo>
                        <a:lnTo>
                          <a:pt x="557" y="0"/>
                        </a:lnTo>
                        <a:lnTo>
                          <a:pt x="530" y="8"/>
                        </a:lnTo>
                        <a:lnTo>
                          <a:pt x="501" y="14"/>
                        </a:lnTo>
                        <a:lnTo>
                          <a:pt x="473" y="18"/>
                        </a:lnTo>
                        <a:lnTo>
                          <a:pt x="444" y="21"/>
                        </a:lnTo>
                        <a:lnTo>
                          <a:pt x="415" y="22"/>
                        </a:lnTo>
                        <a:lnTo>
                          <a:pt x="386" y="23"/>
                        </a:lnTo>
                        <a:lnTo>
                          <a:pt x="357" y="24"/>
                        </a:lnTo>
                        <a:lnTo>
                          <a:pt x="328" y="25"/>
                        </a:lnTo>
                        <a:lnTo>
                          <a:pt x="299" y="27"/>
                        </a:lnTo>
                        <a:lnTo>
                          <a:pt x="270" y="30"/>
                        </a:lnTo>
                        <a:lnTo>
                          <a:pt x="270" y="30"/>
                        </a:lnTo>
                        <a:lnTo>
                          <a:pt x="269" y="30"/>
                        </a:lnTo>
                        <a:close/>
                      </a:path>
                    </a:pathLst>
                  </a:custGeom>
                  <a:solidFill>
                    <a:srgbClr val="f0f0f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" bIns="-1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" name=""/>
                  <p:cNvSpPr/>
                  <p:nvPr/>
                </p:nvSpPr>
                <p:spPr>
                  <a:xfrm>
                    <a:off x="1228320" y="5949360"/>
                    <a:ext cx="9072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86" h="37">
                        <a:moveTo>
                          <a:pt x="104" y="8"/>
                        </a:moveTo>
                        <a:lnTo>
                          <a:pt x="186" y="29"/>
                        </a:lnTo>
                        <a:lnTo>
                          <a:pt x="182" y="31"/>
                        </a:lnTo>
                        <a:lnTo>
                          <a:pt x="178" y="33"/>
                        </a:lnTo>
                        <a:lnTo>
                          <a:pt x="173" y="34"/>
                        </a:lnTo>
                        <a:lnTo>
                          <a:pt x="168" y="35"/>
                        </a:lnTo>
                        <a:lnTo>
                          <a:pt x="163" y="36"/>
                        </a:lnTo>
                        <a:lnTo>
                          <a:pt x="158" y="37"/>
                        </a:lnTo>
                        <a:lnTo>
                          <a:pt x="153" y="37"/>
                        </a:lnTo>
                        <a:lnTo>
                          <a:pt x="148" y="37"/>
                        </a:lnTo>
                        <a:lnTo>
                          <a:pt x="143" y="37"/>
                        </a:lnTo>
                        <a:lnTo>
                          <a:pt x="137" y="37"/>
                        </a:lnTo>
                        <a:lnTo>
                          <a:pt x="125" y="32"/>
                        </a:lnTo>
                        <a:lnTo>
                          <a:pt x="112" y="28"/>
                        </a:lnTo>
                        <a:lnTo>
                          <a:pt x="99" y="24"/>
                        </a:lnTo>
                        <a:lnTo>
                          <a:pt x="84" y="21"/>
                        </a:lnTo>
                        <a:lnTo>
                          <a:pt x="71" y="20"/>
                        </a:lnTo>
                        <a:lnTo>
                          <a:pt x="56" y="18"/>
                        </a:lnTo>
                        <a:lnTo>
                          <a:pt x="42" y="17"/>
                        </a:lnTo>
                        <a:lnTo>
                          <a:pt x="28" y="15"/>
                        </a:lnTo>
                        <a:lnTo>
                          <a:pt x="14" y="13"/>
                        </a:lnTo>
                        <a:lnTo>
                          <a:pt x="0" y="11"/>
                        </a:lnTo>
                        <a:lnTo>
                          <a:pt x="8" y="11"/>
                        </a:lnTo>
                        <a:lnTo>
                          <a:pt x="16" y="9"/>
                        </a:lnTo>
                        <a:lnTo>
                          <a:pt x="24" y="7"/>
                        </a:lnTo>
                        <a:lnTo>
                          <a:pt x="31" y="5"/>
                        </a:lnTo>
                        <a:lnTo>
                          <a:pt x="40" y="3"/>
                        </a:lnTo>
                        <a:lnTo>
                          <a:pt x="48" y="1"/>
                        </a:lnTo>
                        <a:lnTo>
                          <a:pt x="55" y="0"/>
                        </a:lnTo>
                        <a:lnTo>
                          <a:pt x="63" y="0"/>
                        </a:lnTo>
                        <a:lnTo>
                          <a:pt x="70" y="1"/>
                        </a:lnTo>
                        <a:lnTo>
                          <a:pt x="77" y="5"/>
                        </a:lnTo>
                        <a:lnTo>
                          <a:pt x="104" y="8"/>
                        </a:lnTo>
                        <a:lnTo>
                          <a:pt x="104" y="8"/>
                        </a:lnTo>
                        <a:close/>
                      </a:path>
                    </a:pathLst>
                  </a:custGeom>
                  <a:solidFill>
                    <a:srgbClr val="fff09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" name=""/>
                  <p:cNvSpPr/>
                  <p:nvPr/>
                </p:nvSpPr>
                <p:spPr>
                  <a:xfrm>
                    <a:off x="1200960" y="5960520"/>
                    <a:ext cx="66240" cy="1008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19">
                        <a:moveTo>
                          <a:pt x="136" y="12"/>
                        </a:moveTo>
                        <a:lnTo>
                          <a:pt x="122" y="12"/>
                        </a:lnTo>
                        <a:lnTo>
                          <a:pt x="108" y="11"/>
                        </a:lnTo>
                        <a:lnTo>
                          <a:pt x="95" y="11"/>
                        </a:lnTo>
                        <a:lnTo>
                          <a:pt x="81" y="12"/>
                        </a:lnTo>
                        <a:lnTo>
                          <a:pt x="68" y="12"/>
                        </a:lnTo>
                        <a:lnTo>
                          <a:pt x="54" y="13"/>
                        </a:lnTo>
                        <a:lnTo>
                          <a:pt x="41" y="14"/>
                        </a:lnTo>
                        <a:lnTo>
                          <a:pt x="28" y="16"/>
                        </a:lnTo>
                        <a:lnTo>
                          <a:pt x="14" y="17"/>
                        </a:lnTo>
                        <a:lnTo>
                          <a:pt x="0" y="19"/>
                        </a:lnTo>
                        <a:lnTo>
                          <a:pt x="21" y="1"/>
                        </a:lnTo>
                        <a:lnTo>
                          <a:pt x="34" y="0"/>
                        </a:lnTo>
                        <a:lnTo>
                          <a:pt x="46" y="1"/>
                        </a:lnTo>
                        <a:lnTo>
                          <a:pt x="58" y="1"/>
                        </a:lnTo>
                        <a:lnTo>
                          <a:pt x="68" y="3"/>
                        </a:lnTo>
                        <a:lnTo>
                          <a:pt x="79" y="5"/>
                        </a:lnTo>
                        <a:lnTo>
                          <a:pt x="90" y="7"/>
                        </a:lnTo>
                        <a:lnTo>
                          <a:pt x="100" y="9"/>
                        </a:lnTo>
                        <a:lnTo>
                          <a:pt x="112" y="11"/>
                        </a:lnTo>
                        <a:lnTo>
                          <a:pt x="123" y="12"/>
                        </a:lnTo>
                        <a:lnTo>
                          <a:pt x="136" y="13"/>
                        </a:lnTo>
                        <a:lnTo>
                          <a:pt x="136" y="13"/>
                        </a:lnTo>
                        <a:lnTo>
                          <a:pt x="136" y="12"/>
                        </a:lnTo>
                        <a:close/>
                      </a:path>
                    </a:pathLst>
                  </a:custGeom>
                  <a:solidFill>
                    <a:srgbClr val="fff09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" name=""/>
                  <p:cNvSpPr/>
                  <p:nvPr/>
                </p:nvSpPr>
                <p:spPr>
                  <a:xfrm>
                    <a:off x="953280" y="5971320"/>
                    <a:ext cx="148320" cy="40320"/>
                  </a:xfrm>
                  <a:custGeom>
                    <a:avLst/>
                    <a:gdLst/>
                    <a:ahLst/>
                    <a:rect l="l" t="t" r="r" b="b"/>
                    <a:pathLst>
                      <a:path w="304" h="76">
                        <a:moveTo>
                          <a:pt x="189" y="53"/>
                        </a:moveTo>
                        <a:lnTo>
                          <a:pt x="193" y="56"/>
                        </a:lnTo>
                        <a:lnTo>
                          <a:pt x="198" y="56"/>
                        </a:lnTo>
                        <a:lnTo>
                          <a:pt x="202" y="56"/>
                        </a:lnTo>
                        <a:lnTo>
                          <a:pt x="207" y="55"/>
                        </a:lnTo>
                        <a:lnTo>
                          <a:pt x="212" y="55"/>
                        </a:lnTo>
                        <a:lnTo>
                          <a:pt x="216" y="55"/>
                        </a:lnTo>
                        <a:lnTo>
                          <a:pt x="221" y="55"/>
                        </a:lnTo>
                        <a:lnTo>
                          <a:pt x="225" y="55"/>
                        </a:lnTo>
                        <a:lnTo>
                          <a:pt x="228" y="56"/>
                        </a:lnTo>
                        <a:lnTo>
                          <a:pt x="231" y="57"/>
                        </a:lnTo>
                        <a:lnTo>
                          <a:pt x="232" y="60"/>
                        </a:lnTo>
                        <a:lnTo>
                          <a:pt x="234" y="60"/>
                        </a:lnTo>
                        <a:lnTo>
                          <a:pt x="235" y="60"/>
                        </a:lnTo>
                        <a:lnTo>
                          <a:pt x="236" y="59"/>
                        </a:lnTo>
                        <a:lnTo>
                          <a:pt x="237" y="59"/>
                        </a:lnTo>
                        <a:lnTo>
                          <a:pt x="238" y="58"/>
                        </a:lnTo>
                        <a:lnTo>
                          <a:pt x="238" y="57"/>
                        </a:lnTo>
                        <a:lnTo>
                          <a:pt x="238" y="56"/>
                        </a:lnTo>
                        <a:lnTo>
                          <a:pt x="238" y="55"/>
                        </a:lnTo>
                        <a:lnTo>
                          <a:pt x="238" y="55"/>
                        </a:lnTo>
                        <a:lnTo>
                          <a:pt x="238" y="55"/>
                        </a:lnTo>
                        <a:lnTo>
                          <a:pt x="302" y="55"/>
                        </a:lnTo>
                        <a:lnTo>
                          <a:pt x="301" y="57"/>
                        </a:lnTo>
                        <a:lnTo>
                          <a:pt x="301" y="59"/>
                        </a:lnTo>
                        <a:lnTo>
                          <a:pt x="300" y="61"/>
                        </a:lnTo>
                        <a:lnTo>
                          <a:pt x="300" y="64"/>
                        </a:lnTo>
                        <a:lnTo>
                          <a:pt x="300" y="66"/>
                        </a:lnTo>
                        <a:lnTo>
                          <a:pt x="300" y="68"/>
                        </a:lnTo>
                        <a:lnTo>
                          <a:pt x="300" y="70"/>
                        </a:lnTo>
                        <a:lnTo>
                          <a:pt x="301" y="73"/>
                        </a:lnTo>
                        <a:lnTo>
                          <a:pt x="302" y="74"/>
                        </a:lnTo>
                        <a:lnTo>
                          <a:pt x="304" y="76"/>
                        </a:lnTo>
                        <a:lnTo>
                          <a:pt x="280" y="76"/>
                        </a:lnTo>
                        <a:lnTo>
                          <a:pt x="255" y="76"/>
                        </a:lnTo>
                        <a:lnTo>
                          <a:pt x="231" y="75"/>
                        </a:lnTo>
                        <a:lnTo>
                          <a:pt x="206" y="74"/>
                        </a:lnTo>
                        <a:lnTo>
                          <a:pt x="182" y="72"/>
                        </a:lnTo>
                        <a:lnTo>
                          <a:pt x="158" y="69"/>
                        </a:lnTo>
                        <a:lnTo>
                          <a:pt x="134" y="66"/>
                        </a:lnTo>
                        <a:lnTo>
                          <a:pt x="110" y="63"/>
                        </a:lnTo>
                        <a:lnTo>
                          <a:pt x="87" y="59"/>
                        </a:lnTo>
                        <a:lnTo>
                          <a:pt x="64" y="55"/>
                        </a:lnTo>
                        <a:lnTo>
                          <a:pt x="57" y="52"/>
                        </a:lnTo>
                        <a:lnTo>
                          <a:pt x="51" y="50"/>
                        </a:lnTo>
                        <a:lnTo>
                          <a:pt x="44" y="48"/>
                        </a:lnTo>
                        <a:lnTo>
                          <a:pt x="37" y="46"/>
                        </a:lnTo>
                        <a:lnTo>
                          <a:pt x="30" y="44"/>
                        </a:lnTo>
                        <a:lnTo>
                          <a:pt x="23" y="42"/>
                        </a:lnTo>
                        <a:lnTo>
                          <a:pt x="16" y="39"/>
                        </a:lnTo>
                        <a:lnTo>
                          <a:pt x="11" y="35"/>
                        </a:lnTo>
                        <a:lnTo>
                          <a:pt x="5" y="31"/>
                        </a:lnTo>
                        <a:lnTo>
                          <a:pt x="0" y="26"/>
                        </a:lnTo>
                        <a:lnTo>
                          <a:pt x="4" y="0"/>
                        </a:lnTo>
                        <a:lnTo>
                          <a:pt x="20" y="10"/>
                        </a:lnTo>
                        <a:lnTo>
                          <a:pt x="37" y="19"/>
                        </a:lnTo>
                        <a:lnTo>
                          <a:pt x="54" y="27"/>
                        </a:lnTo>
                        <a:lnTo>
                          <a:pt x="72" y="34"/>
                        </a:lnTo>
                        <a:lnTo>
                          <a:pt x="91" y="39"/>
                        </a:lnTo>
                        <a:lnTo>
                          <a:pt x="110" y="43"/>
                        </a:lnTo>
                        <a:lnTo>
                          <a:pt x="130" y="47"/>
                        </a:lnTo>
                        <a:lnTo>
                          <a:pt x="150" y="49"/>
                        </a:lnTo>
                        <a:lnTo>
                          <a:pt x="169" y="52"/>
                        </a:lnTo>
                        <a:lnTo>
                          <a:pt x="189" y="53"/>
                        </a:lnTo>
                        <a:lnTo>
                          <a:pt x="189" y="53"/>
                        </a:lnTo>
                        <a:close/>
                      </a:path>
                    </a:pathLst>
                  </a:custGeom>
                  <a:solidFill>
                    <a:srgbClr val="e3a9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480" bIns="-6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" name=""/>
                  <p:cNvSpPr/>
                  <p:nvPr/>
                </p:nvSpPr>
                <p:spPr>
                  <a:xfrm>
                    <a:off x="1116720" y="5979240"/>
                    <a:ext cx="174600" cy="34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8" h="65">
                        <a:moveTo>
                          <a:pt x="346" y="0"/>
                        </a:moveTo>
                        <a:lnTo>
                          <a:pt x="348" y="2"/>
                        </a:lnTo>
                        <a:lnTo>
                          <a:pt x="350" y="3"/>
                        </a:lnTo>
                        <a:lnTo>
                          <a:pt x="351" y="4"/>
                        </a:lnTo>
                        <a:lnTo>
                          <a:pt x="354" y="6"/>
                        </a:lnTo>
                        <a:lnTo>
                          <a:pt x="355" y="7"/>
                        </a:lnTo>
                        <a:lnTo>
                          <a:pt x="356" y="9"/>
                        </a:lnTo>
                        <a:lnTo>
                          <a:pt x="357" y="11"/>
                        </a:lnTo>
                        <a:lnTo>
                          <a:pt x="358" y="13"/>
                        </a:lnTo>
                        <a:lnTo>
                          <a:pt x="358" y="15"/>
                        </a:lnTo>
                        <a:lnTo>
                          <a:pt x="357" y="17"/>
                        </a:lnTo>
                        <a:lnTo>
                          <a:pt x="350" y="23"/>
                        </a:lnTo>
                        <a:lnTo>
                          <a:pt x="342" y="28"/>
                        </a:lnTo>
                        <a:lnTo>
                          <a:pt x="335" y="32"/>
                        </a:lnTo>
                        <a:lnTo>
                          <a:pt x="326" y="35"/>
                        </a:lnTo>
                        <a:lnTo>
                          <a:pt x="317" y="38"/>
                        </a:lnTo>
                        <a:lnTo>
                          <a:pt x="308" y="40"/>
                        </a:lnTo>
                        <a:lnTo>
                          <a:pt x="299" y="42"/>
                        </a:lnTo>
                        <a:lnTo>
                          <a:pt x="289" y="44"/>
                        </a:lnTo>
                        <a:lnTo>
                          <a:pt x="280" y="45"/>
                        </a:lnTo>
                        <a:lnTo>
                          <a:pt x="271" y="46"/>
                        </a:lnTo>
                        <a:lnTo>
                          <a:pt x="269" y="47"/>
                        </a:lnTo>
                        <a:lnTo>
                          <a:pt x="268" y="48"/>
                        </a:lnTo>
                        <a:lnTo>
                          <a:pt x="266" y="49"/>
                        </a:lnTo>
                        <a:lnTo>
                          <a:pt x="265" y="49"/>
                        </a:lnTo>
                        <a:lnTo>
                          <a:pt x="262" y="50"/>
                        </a:lnTo>
                        <a:lnTo>
                          <a:pt x="260" y="50"/>
                        </a:lnTo>
                        <a:lnTo>
                          <a:pt x="258" y="50"/>
                        </a:lnTo>
                        <a:lnTo>
                          <a:pt x="256" y="51"/>
                        </a:lnTo>
                        <a:lnTo>
                          <a:pt x="254" y="52"/>
                        </a:lnTo>
                        <a:lnTo>
                          <a:pt x="253" y="52"/>
                        </a:lnTo>
                        <a:lnTo>
                          <a:pt x="228" y="55"/>
                        </a:lnTo>
                        <a:lnTo>
                          <a:pt x="203" y="58"/>
                        </a:lnTo>
                        <a:lnTo>
                          <a:pt x="179" y="61"/>
                        </a:lnTo>
                        <a:lnTo>
                          <a:pt x="154" y="62"/>
                        </a:lnTo>
                        <a:lnTo>
                          <a:pt x="130" y="64"/>
                        </a:lnTo>
                        <a:lnTo>
                          <a:pt x="104" y="65"/>
                        </a:lnTo>
                        <a:lnTo>
                          <a:pt x="80" y="64"/>
                        </a:lnTo>
                        <a:lnTo>
                          <a:pt x="55" y="62"/>
                        </a:lnTo>
                        <a:lnTo>
                          <a:pt x="30" y="59"/>
                        </a:lnTo>
                        <a:lnTo>
                          <a:pt x="6" y="54"/>
                        </a:lnTo>
                        <a:lnTo>
                          <a:pt x="0" y="49"/>
                        </a:lnTo>
                        <a:lnTo>
                          <a:pt x="5" y="45"/>
                        </a:lnTo>
                        <a:lnTo>
                          <a:pt x="10" y="42"/>
                        </a:lnTo>
                        <a:lnTo>
                          <a:pt x="16" y="39"/>
                        </a:lnTo>
                        <a:lnTo>
                          <a:pt x="22" y="37"/>
                        </a:lnTo>
                        <a:lnTo>
                          <a:pt x="29" y="34"/>
                        </a:lnTo>
                        <a:lnTo>
                          <a:pt x="35" y="32"/>
                        </a:lnTo>
                        <a:lnTo>
                          <a:pt x="42" y="30"/>
                        </a:lnTo>
                        <a:lnTo>
                          <a:pt x="48" y="28"/>
                        </a:lnTo>
                        <a:lnTo>
                          <a:pt x="55" y="27"/>
                        </a:lnTo>
                        <a:lnTo>
                          <a:pt x="62" y="25"/>
                        </a:lnTo>
                        <a:lnTo>
                          <a:pt x="89" y="17"/>
                        </a:lnTo>
                        <a:lnTo>
                          <a:pt x="117" y="12"/>
                        </a:lnTo>
                        <a:lnTo>
                          <a:pt x="144" y="8"/>
                        </a:lnTo>
                        <a:lnTo>
                          <a:pt x="172" y="4"/>
                        </a:lnTo>
                        <a:lnTo>
                          <a:pt x="200" y="2"/>
                        </a:lnTo>
                        <a:lnTo>
                          <a:pt x="229" y="1"/>
                        </a:lnTo>
                        <a:lnTo>
                          <a:pt x="257" y="0"/>
                        </a:lnTo>
                        <a:lnTo>
                          <a:pt x="286" y="0"/>
                        </a:lnTo>
                        <a:lnTo>
                          <a:pt x="316" y="0"/>
                        </a:lnTo>
                        <a:lnTo>
                          <a:pt x="347" y="0"/>
                        </a:lnTo>
                        <a:lnTo>
                          <a:pt x="347" y="0"/>
                        </a:lnTo>
                        <a:lnTo>
                          <a:pt x="346" y="0"/>
                        </a:lnTo>
                        <a:close/>
                      </a:path>
                    </a:pathLst>
                  </a:custGeom>
                  <a:solidFill>
                    <a:srgbClr val="cfcf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"/>
                  <p:cNvSpPr/>
                  <p:nvPr/>
                </p:nvSpPr>
                <p:spPr>
                  <a:xfrm>
                    <a:off x="1272240" y="5985360"/>
                    <a:ext cx="7416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152" h="71">
                        <a:moveTo>
                          <a:pt x="152" y="5"/>
                        </a:moveTo>
                        <a:lnTo>
                          <a:pt x="149" y="9"/>
                        </a:lnTo>
                        <a:lnTo>
                          <a:pt x="147" y="13"/>
                        </a:lnTo>
                        <a:lnTo>
                          <a:pt x="143" y="17"/>
                        </a:lnTo>
                        <a:lnTo>
                          <a:pt x="139" y="21"/>
                        </a:lnTo>
                        <a:lnTo>
                          <a:pt x="136" y="24"/>
                        </a:lnTo>
                        <a:lnTo>
                          <a:pt x="131" y="27"/>
                        </a:lnTo>
                        <a:lnTo>
                          <a:pt x="126" y="31"/>
                        </a:lnTo>
                        <a:lnTo>
                          <a:pt x="121" y="34"/>
                        </a:lnTo>
                        <a:lnTo>
                          <a:pt x="116" y="37"/>
                        </a:lnTo>
                        <a:lnTo>
                          <a:pt x="111" y="39"/>
                        </a:lnTo>
                        <a:lnTo>
                          <a:pt x="100" y="43"/>
                        </a:lnTo>
                        <a:lnTo>
                          <a:pt x="89" y="46"/>
                        </a:lnTo>
                        <a:lnTo>
                          <a:pt x="79" y="50"/>
                        </a:lnTo>
                        <a:lnTo>
                          <a:pt x="68" y="53"/>
                        </a:lnTo>
                        <a:lnTo>
                          <a:pt x="57" y="56"/>
                        </a:lnTo>
                        <a:lnTo>
                          <a:pt x="46" y="60"/>
                        </a:lnTo>
                        <a:lnTo>
                          <a:pt x="34" y="63"/>
                        </a:lnTo>
                        <a:lnTo>
                          <a:pt x="23" y="67"/>
                        </a:lnTo>
                        <a:lnTo>
                          <a:pt x="11" y="69"/>
                        </a:lnTo>
                        <a:lnTo>
                          <a:pt x="0" y="71"/>
                        </a:lnTo>
                        <a:lnTo>
                          <a:pt x="10" y="69"/>
                        </a:lnTo>
                        <a:lnTo>
                          <a:pt x="20" y="64"/>
                        </a:lnTo>
                        <a:lnTo>
                          <a:pt x="27" y="59"/>
                        </a:lnTo>
                        <a:lnTo>
                          <a:pt x="34" y="52"/>
                        </a:lnTo>
                        <a:lnTo>
                          <a:pt x="41" y="44"/>
                        </a:lnTo>
                        <a:lnTo>
                          <a:pt x="48" y="37"/>
                        </a:lnTo>
                        <a:lnTo>
                          <a:pt x="56" y="30"/>
                        </a:lnTo>
                        <a:lnTo>
                          <a:pt x="65" y="23"/>
                        </a:lnTo>
                        <a:lnTo>
                          <a:pt x="76" y="18"/>
                        </a:lnTo>
                        <a:lnTo>
                          <a:pt x="88" y="15"/>
                        </a:lnTo>
                        <a:lnTo>
                          <a:pt x="103" y="10"/>
                        </a:lnTo>
                        <a:lnTo>
                          <a:pt x="105" y="12"/>
                        </a:lnTo>
                        <a:lnTo>
                          <a:pt x="106" y="14"/>
                        </a:lnTo>
                        <a:lnTo>
                          <a:pt x="106" y="17"/>
                        </a:lnTo>
                        <a:lnTo>
                          <a:pt x="106" y="20"/>
                        </a:lnTo>
                        <a:lnTo>
                          <a:pt x="106" y="23"/>
                        </a:lnTo>
                        <a:lnTo>
                          <a:pt x="106" y="25"/>
                        </a:lnTo>
                        <a:lnTo>
                          <a:pt x="107" y="27"/>
                        </a:lnTo>
                        <a:lnTo>
                          <a:pt x="108" y="29"/>
                        </a:lnTo>
                        <a:lnTo>
                          <a:pt x="111" y="29"/>
                        </a:lnTo>
                        <a:lnTo>
                          <a:pt x="115" y="29"/>
                        </a:lnTo>
                        <a:lnTo>
                          <a:pt x="118" y="27"/>
                        </a:lnTo>
                        <a:lnTo>
                          <a:pt x="119" y="26"/>
                        </a:lnTo>
                        <a:lnTo>
                          <a:pt x="121" y="24"/>
                        </a:lnTo>
                        <a:lnTo>
                          <a:pt x="122" y="22"/>
                        </a:lnTo>
                        <a:lnTo>
                          <a:pt x="122" y="20"/>
                        </a:lnTo>
                        <a:lnTo>
                          <a:pt x="122" y="17"/>
                        </a:lnTo>
                        <a:lnTo>
                          <a:pt x="121" y="15"/>
                        </a:lnTo>
                        <a:lnTo>
                          <a:pt x="120" y="13"/>
                        </a:lnTo>
                        <a:lnTo>
                          <a:pt x="119" y="11"/>
                        </a:lnTo>
                        <a:lnTo>
                          <a:pt x="119" y="9"/>
                        </a:lnTo>
                        <a:lnTo>
                          <a:pt x="117" y="8"/>
                        </a:lnTo>
                        <a:lnTo>
                          <a:pt x="120" y="6"/>
                        </a:lnTo>
                        <a:lnTo>
                          <a:pt x="124" y="5"/>
                        </a:lnTo>
                        <a:lnTo>
                          <a:pt x="127" y="4"/>
                        </a:lnTo>
                        <a:lnTo>
                          <a:pt x="131" y="3"/>
                        </a:lnTo>
                        <a:lnTo>
                          <a:pt x="134" y="1"/>
                        </a:lnTo>
                        <a:lnTo>
                          <a:pt x="138" y="1"/>
                        </a:lnTo>
                        <a:lnTo>
                          <a:pt x="141" y="0"/>
                        </a:lnTo>
                        <a:lnTo>
                          <a:pt x="145" y="0"/>
                        </a:lnTo>
                        <a:lnTo>
                          <a:pt x="148" y="0"/>
                        </a:lnTo>
                        <a:lnTo>
                          <a:pt x="152" y="0"/>
                        </a:lnTo>
                        <a:lnTo>
                          <a:pt x="152" y="5"/>
                        </a:lnTo>
                        <a:lnTo>
                          <a:pt x="152" y="5"/>
                        </a:lnTo>
                        <a:close/>
                      </a:path>
                    </a:pathLst>
                  </a:custGeom>
                  <a:solidFill>
                    <a:srgbClr val="fff09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000" bIns="-9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" name=""/>
                  <p:cNvSpPr/>
                  <p:nvPr/>
                </p:nvSpPr>
                <p:spPr>
                  <a:xfrm>
                    <a:off x="1107360" y="6001200"/>
                    <a:ext cx="1742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7" h="37">
                        <a:moveTo>
                          <a:pt x="6" y="17"/>
                        </a:moveTo>
                        <a:lnTo>
                          <a:pt x="24" y="24"/>
                        </a:lnTo>
                        <a:lnTo>
                          <a:pt x="43" y="28"/>
                        </a:lnTo>
                        <a:lnTo>
                          <a:pt x="61" y="31"/>
                        </a:lnTo>
                        <a:lnTo>
                          <a:pt x="80" y="33"/>
                        </a:lnTo>
                        <a:lnTo>
                          <a:pt x="99" y="34"/>
                        </a:lnTo>
                        <a:lnTo>
                          <a:pt x="118" y="34"/>
                        </a:lnTo>
                        <a:lnTo>
                          <a:pt x="138" y="34"/>
                        </a:lnTo>
                        <a:lnTo>
                          <a:pt x="157" y="33"/>
                        </a:lnTo>
                        <a:lnTo>
                          <a:pt x="177" y="31"/>
                        </a:lnTo>
                        <a:lnTo>
                          <a:pt x="198" y="31"/>
                        </a:lnTo>
                        <a:lnTo>
                          <a:pt x="213" y="28"/>
                        </a:lnTo>
                        <a:lnTo>
                          <a:pt x="230" y="26"/>
                        </a:lnTo>
                        <a:lnTo>
                          <a:pt x="246" y="24"/>
                        </a:lnTo>
                        <a:lnTo>
                          <a:pt x="263" y="22"/>
                        </a:lnTo>
                        <a:lnTo>
                          <a:pt x="279" y="20"/>
                        </a:lnTo>
                        <a:lnTo>
                          <a:pt x="295" y="17"/>
                        </a:lnTo>
                        <a:lnTo>
                          <a:pt x="311" y="14"/>
                        </a:lnTo>
                        <a:lnTo>
                          <a:pt x="328" y="11"/>
                        </a:lnTo>
                        <a:lnTo>
                          <a:pt x="343" y="7"/>
                        </a:lnTo>
                        <a:lnTo>
                          <a:pt x="357" y="2"/>
                        </a:lnTo>
                        <a:lnTo>
                          <a:pt x="351" y="5"/>
                        </a:lnTo>
                        <a:lnTo>
                          <a:pt x="344" y="9"/>
                        </a:lnTo>
                        <a:lnTo>
                          <a:pt x="338" y="12"/>
                        </a:lnTo>
                        <a:lnTo>
                          <a:pt x="331" y="14"/>
                        </a:lnTo>
                        <a:lnTo>
                          <a:pt x="324" y="17"/>
                        </a:lnTo>
                        <a:lnTo>
                          <a:pt x="317" y="19"/>
                        </a:lnTo>
                        <a:lnTo>
                          <a:pt x="310" y="21"/>
                        </a:lnTo>
                        <a:lnTo>
                          <a:pt x="302" y="22"/>
                        </a:lnTo>
                        <a:lnTo>
                          <a:pt x="295" y="23"/>
                        </a:lnTo>
                        <a:lnTo>
                          <a:pt x="288" y="23"/>
                        </a:lnTo>
                        <a:lnTo>
                          <a:pt x="286" y="24"/>
                        </a:lnTo>
                        <a:lnTo>
                          <a:pt x="284" y="25"/>
                        </a:lnTo>
                        <a:lnTo>
                          <a:pt x="282" y="26"/>
                        </a:lnTo>
                        <a:lnTo>
                          <a:pt x="279" y="26"/>
                        </a:lnTo>
                        <a:lnTo>
                          <a:pt x="277" y="27"/>
                        </a:lnTo>
                        <a:lnTo>
                          <a:pt x="275" y="28"/>
                        </a:lnTo>
                        <a:lnTo>
                          <a:pt x="272" y="28"/>
                        </a:lnTo>
                        <a:lnTo>
                          <a:pt x="269" y="28"/>
                        </a:lnTo>
                        <a:lnTo>
                          <a:pt x="267" y="28"/>
                        </a:lnTo>
                        <a:lnTo>
                          <a:pt x="265" y="28"/>
                        </a:lnTo>
                        <a:lnTo>
                          <a:pt x="250" y="29"/>
                        </a:lnTo>
                        <a:lnTo>
                          <a:pt x="235" y="31"/>
                        </a:lnTo>
                        <a:lnTo>
                          <a:pt x="219" y="32"/>
                        </a:lnTo>
                        <a:lnTo>
                          <a:pt x="203" y="33"/>
                        </a:lnTo>
                        <a:lnTo>
                          <a:pt x="187" y="34"/>
                        </a:lnTo>
                        <a:lnTo>
                          <a:pt x="171" y="35"/>
                        </a:lnTo>
                        <a:lnTo>
                          <a:pt x="154" y="35"/>
                        </a:lnTo>
                        <a:lnTo>
                          <a:pt x="138" y="36"/>
                        </a:lnTo>
                        <a:lnTo>
                          <a:pt x="122" y="37"/>
                        </a:lnTo>
                        <a:lnTo>
                          <a:pt x="105" y="37"/>
                        </a:lnTo>
                        <a:lnTo>
                          <a:pt x="94" y="35"/>
                        </a:lnTo>
                        <a:lnTo>
                          <a:pt x="83" y="34"/>
                        </a:lnTo>
                        <a:lnTo>
                          <a:pt x="71" y="33"/>
                        </a:lnTo>
                        <a:lnTo>
                          <a:pt x="60" y="31"/>
                        </a:lnTo>
                        <a:lnTo>
                          <a:pt x="48" y="31"/>
                        </a:lnTo>
                        <a:lnTo>
                          <a:pt x="37" y="29"/>
                        </a:lnTo>
                        <a:lnTo>
                          <a:pt x="26" y="27"/>
                        </a:lnTo>
                        <a:lnTo>
                          <a:pt x="16" y="24"/>
                        </a:lnTo>
                        <a:lnTo>
                          <a:pt x="8" y="19"/>
                        </a:lnTo>
                        <a:lnTo>
                          <a:pt x="0" y="13"/>
                        </a:lnTo>
                        <a:lnTo>
                          <a:pt x="0" y="11"/>
                        </a:lnTo>
                        <a:lnTo>
                          <a:pt x="0" y="10"/>
                        </a:lnTo>
                        <a:lnTo>
                          <a:pt x="0" y="8"/>
                        </a:lnTo>
                        <a:lnTo>
                          <a:pt x="1" y="7"/>
                        </a:lnTo>
                        <a:lnTo>
                          <a:pt x="1" y="6"/>
                        </a:lnTo>
                        <a:lnTo>
                          <a:pt x="1" y="4"/>
                        </a:lnTo>
                        <a:lnTo>
                          <a:pt x="2" y="3"/>
                        </a:lnTo>
                        <a:lnTo>
                          <a:pt x="3" y="2"/>
                        </a:lnTo>
                        <a:lnTo>
                          <a:pt x="5" y="1"/>
                        </a:lnTo>
                        <a:lnTo>
                          <a:pt x="6" y="0"/>
                        </a:lnTo>
                        <a:lnTo>
                          <a:pt x="7" y="1"/>
                        </a:lnTo>
                        <a:lnTo>
                          <a:pt x="7" y="3"/>
                        </a:lnTo>
                        <a:lnTo>
                          <a:pt x="7" y="4"/>
                        </a:lnTo>
                        <a:lnTo>
                          <a:pt x="6" y="6"/>
                        </a:lnTo>
                        <a:lnTo>
                          <a:pt x="5" y="8"/>
                        </a:lnTo>
                        <a:lnTo>
                          <a:pt x="5" y="10"/>
                        </a:lnTo>
                        <a:lnTo>
                          <a:pt x="5" y="12"/>
                        </a:lnTo>
                        <a:lnTo>
                          <a:pt x="5" y="13"/>
                        </a:lnTo>
                        <a:lnTo>
                          <a:pt x="5" y="16"/>
                        </a:lnTo>
                        <a:lnTo>
                          <a:pt x="6" y="17"/>
                        </a:lnTo>
                        <a:lnTo>
                          <a:pt x="6" y="17"/>
                        </a:lnTo>
                        <a:close/>
                      </a:path>
                    </a:pathLst>
                  </a:custGeom>
                  <a:solidFill>
                    <a:srgbClr val="f0f0f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" name=""/>
                  <p:cNvSpPr/>
                  <p:nvPr/>
                </p:nvSpPr>
                <p:spPr>
                  <a:xfrm>
                    <a:off x="1143720" y="6013080"/>
                    <a:ext cx="13464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6" h="41">
                        <a:moveTo>
                          <a:pt x="80" y="39"/>
                        </a:moveTo>
                        <a:lnTo>
                          <a:pt x="72" y="38"/>
                        </a:lnTo>
                        <a:lnTo>
                          <a:pt x="64" y="36"/>
                        </a:lnTo>
                        <a:lnTo>
                          <a:pt x="56" y="35"/>
                        </a:lnTo>
                        <a:lnTo>
                          <a:pt x="48" y="34"/>
                        </a:lnTo>
                        <a:lnTo>
                          <a:pt x="39" y="32"/>
                        </a:lnTo>
                        <a:lnTo>
                          <a:pt x="32" y="31"/>
                        </a:lnTo>
                        <a:lnTo>
                          <a:pt x="23" y="29"/>
                        </a:lnTo>
                        <a:lnTo>
                          <a:pt x="16" y="28"/>
                        </a:lnTo>
                        <a:lnTo>
                          <a:pt x="8" y="26"/>
                        </a:lnTo>
                        <a:lnTo>
                          <a:pt x="0" y="24"/>
                        </a:lnTo>
                        <a:lnTo>
                          <a:pt x="21" y="25"/>
                        </a:lnTo>
                        <a:lnTo>
                          <a:pt x="43" y="25"/>
                        </a:lnTo>
                        <a:lnTo>
                          <a:pt x="65" y="25"/>
                        </a:lnTo>
                        <a:lnTo>
                          <a:pt x="88" y="25"/>
                        </a:lnTo>
                        <a:lnTo>
                          <a:pt x="111" y="25"/>
                        </a:lnTo>
                        <a:lnTo>
                          <a:pt x="135" y="24"/>
                        </a:lnTo>
                        <a:lnTo>
                          <a:pt x="158" y="22"/>
                        </a:lnTo>
                        <a:lnTo>
                          <a:pt x="181" y="20"/>
                        </a:lnTo>
                        <a:lnTo>
                          <a:pt x="203" y="17"/>
                        </a:lnTo>
                        <a:lnTo>
                          <a:pt x="224" y="13"/>
                        </a:lnTo>
                        <a:lnTo>
                          <a:pt x="227" y="15"/>
                        </a:lnTo>
                        <a:lnTo>
                          <a:pt x="229" y="15"/>
                        </a:lnTo>
                        <a:lnTo>
                          <a:pt x="231" y="15"/>
                        </a:lnTo>
                        <a:lnTo>
                          <a:pt x="233" y="15"/>
                        </a:lnTo>
                        <a:lnTo>
                          <a:pt x="234" y="13"/>
                        </a:lnTo>
                        <a:lnTo>
                          <a:pt x="237" y="12"/>
                        </a:lnTo>
                        <a:lnTo>
                          <a:pt x="238" y="11"/>
                        </a:lnTo>
                        <a:lnTo>
                          <a:pt x="240" y="11"/>
                        </a:lnTo>
                        <a:lnTo>
                          <a:pt x="242" y="9"/>
                        </a:lnTo>
                        <a:lnTo>
                          <a:pt x="244" y="9"/>
                        </a:lnTo>
                        <a:lnTo>
                          <a:pt x="276" y="0"/>
                        </a:lnTo>
                        <a:lnTo>
                          <a:pt x="257" y="8"/>
                        </a:lnTo>
                        <a:lnTo>
                          <a:pt x="239" y="16"/>
                        </a:lnTo>
                        <a:lnTo>
                          <a:pt x="221" y="23"/>
                        </a:lnTo>
                        <a:lnTo>
                          <a:pt x="201" y="29"/>
                        </a:lnTo>
                        <a:lnTo>
                          <a:pt x="182" y="34"/>
                        </a:lnTo>
                        <a:lnTo>
                          <a:pt x="162" y="37"/>
                        </a:lnTo>
                        <a:lnTo>
                          <a:pt x="142" y="40"/>
                        </a:lnTo>
                        <a:lnTo>
                          <a:pt x="122" y="41"/>
                        </a:lnTo>
                        <a:lnTo>
                          <a:pt x="101" y="41"/>
                        </a:lnTo>
                        <a:lnTo>
                          <a:pt x="80" y="39"/>
                        </a:lnTo>
                        <a:lnTo>
                          <a:pt x="80" y="39"/>
                        </a:lnTo>
                        <a:close/>
                      </a:path>
                    </a:pathLst>
                  </a:custGeom>
                  <a:solidFill>
                    <a:srgbClr val="9e9e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" name=""/>
                  <p:cNvSpPr/>
                  <p:nvPr/>
                </p:nvSpPr>
                <p:spPr>
                  <a:xfrm>
                    <a:off x="870120" y="6063840"/>
                    <a:ext cx="44964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921" h="58">
                        <a:moveTo>
                          <a:pt x="252" y="38"/>
                        </a:moveTo>
                        <a:lnTo>
                          <a:pt x="310" y="41"/>
                        </a:lnTo>
                        <a:lnTo>
                          <a:pt x="367" y="44"/>
                        </a:lnTo>
                        <a:lnTo>
                          <a:pt x="424" y="47"/>
                        </a:lnTo>
                        <a:lnTo>
                          <a:pt x="480" y="48"/>
                        </a:lnTo>
                        <a:lnTo>
                          <a:pt x="536" y="49"/>
                        </a:lnTo>
                        <a:lnTo>
                          <a:pt x="592" y="48"/>
                        </a:lnTo>
                        <a:lnTo>
                          <a:pt x="648" y="47"/>
                        </a:lnTo>
                        <a:lnTo>
                          <a:pt x="704" y="43"/>
                        </a:lnTo>
                        <a:lnTo>
                          <a:pt x="760" y="36"/>
                        </a:lnTo>
                        <a:lnTo>
                          <a:pt x="817" y="27"/>
                        </a:lnTo>
                        <a:lnTo>
                          <a:pt x="827" y="27"/>
                        </a:lnTo>
                        <a:lnTo>
                          <a:pt x="837" y="26"/>
                        </a:lnTo>
                        <a:lnTo>
                          <a:pt x="848" y="25"/>
                        </a:lnTo>
                        <a:lnTo>
                          <a:pt x="859" y="23"/>
                        </a:lnTo>
                        <a:lnTo>
                          <a:pt x="869" y="22"/>
                        </a:lnTo>
                        <a:lnTo>
                          <a:pt x="880" y="20"/>
                        </a:lnTo>
                        <a:lnTo>
                          <a:pt x="890" y="18"/>
                        </a:lnTo>
                        <a:lnTo>
                          <a:pt x="900" y="16"/>
                        </a:lnTo>
                        <a:lnTo>
                          <a:pt x="911" y="14"/>
                        </a:lnTo>
                        <a:lnTo>
                          <a:pt x="921" y="13"/>
                        </a:lnTo>
                        <a:lnTo>
                          <a:pt x="888" y="24"/>
                        </a:lnTo>
                        <a:lnTo>
                          <a:pt x="853" y="34"/>
                        </a:lnTo>
                        <a:lnTo>
                          <a:pt x="817" y="41"/>
                        </a:lnTo>
                        <a:lnTo>
                          <a:pt x="780" y="46"/>
                        </a:lnTo>
                        <a:lnTo>
                          <a:pt x="741" y="49"/>
                        </a:lnTo>
                        <a:lnTo>
                          <a:pt x="703" y="52"/>
                        </a:lnTo>
                        <a:lnTo>
                          <a:pt x="665" y="54"/>
                        </a:lnTo>
                        <a:lnTo>
                          <a:pt x="626" y="55"/>
                        </a:lnTo>
                        <a:lnTo>
                          <a:pt x="587" y="56"/>
                        </a:lnTo>
                        <a:lnTo>
                          <a:pt x="550" y="58"/>
                        </a:lnTo>
                        <a:lnTo>
                          <a:pt x="514" y="58"/>
                        </a:lnTo>
                        <a:lnTo>
                          <a:pt x="477" y="57"/>
                        </a:lnTo>
                        <a:lnTo>
                          <a:pt x="440" y="56"/>
                        </a:lnTo>
                        <a:lnTo>
                          <a:pt x="402" y="54"/>
                        </a:lnTo>
                        <a:lnTo>
                          <a:pt x="365" y="52"/>
                        </a:lnTo>
                        <a:lnTo>
                          <a:pt x="327" y="49"/>
                        </a:lnTo>
                        <a:lnTo>
                          <a:pt x="290" y="47"/>
                        </a:lnTo>
                        <a:lnTo>
                          <a:pt x="251" y="44"/>
                        </a:lnTo>
                        <a:lnTo>
                          <a:pt x="213" y="41"/>
                        </a:lnTo>
                        <a:lnTo>
                          <a:pt x="174" y="38"/>
                        </a:lnTo>
                        <a:lnTo>
                          <a:pt x="156" y="35"/>
                        </a:lnTo>
                        <a:lnTo>
                          <a:pt x="138" y="31"/>
                        </a:lnTo>
                        <a:lnTo>
                          <a:pt x="121" y="28"/>
                        </a:lnTo>
                        <a:lnTo>
                          <a:pt x="102" y="26"/>
                        </a:lnTo>
                        <a:lnTo>
                          <a:pt x="85" y="23"/>
                        </a:lnTo>
                        <a:lnTo>
                          <a:pt x="68" y="19"/>
                        </a:lnTo>
                        <a:lnTo>
                          <a:pt x="50" y="15"/>
                        </a:lnTo>
                        <a:lnTo>
                          <a:pt x="33" y="11"/>
                        </a:lnTo>
                        <a:lnTo>
                          <a:pt x="16" y="6"/>
                        </a:lnTo>
                        <a:lnTo>
                          <a:pt x="0" y="0"/>
                        </a:lnTo>
                        <a:lnTo>
                          <a:pt x="25" y="6"/>
                        </a:lnTo>
                        <a:lnTo>
                          <a:pt x="49" y="11"/>
                        </a:lnTo>
                        <a:lnTo>
                          <a:pt x="75" y="16"/>
                        </a:lnTo>
                        <a:lnTo>
                          <a:pt x="99" y="21"/>
                        </a:lnTo>
                        <a:lnTo>
                          <a:pt x="125" y="25"/>
                        </a:lnTo>
                        <a:lnTo>
                          <a:pt x="150" y="28"/>
                        </a:lnTo>
                        <a:lnTo>
                          <a:pt x="175" y="32"/>
                        </a:lnTo>
                        <a:lnTo>
                          <a:pt x="201" y="34"/>
                        </a:lnTo>
                        <a:lnTo>
                          <a:pt x="227" y="36"/>
                        </a:lnTo>
                        <a:lnTo>
                          <a:pt x="253" y="38"/>
                        </a:lnTo>
                        <a:lnTo>
                          <a:pt x="253" y="38"/>
                        </a:lnTo>
                        <a:lnTo>
                          <a:pt x="252" y="38"/>
                        </a:lnTo>
                        <a:close/>
                      </a:path>
                    </a:pathLst>
                  </a:custGeom>
                  <a:solidFill>
                    <a:srgbClr val="ffb83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" name=""/>
                  <p:cNvSpPr/>
                  <p:nvPr/>
                </p:nvSpPr>
                <p:spPr>
                  <a:xfrm>
                    <a:off x="876960" y="5767560"/>
                    <a:ext cx="198000" cy="200880"/>
                  </a:xfrm>
                  <a:custGeom>
                    <a:avLst/>
                    <a:gdLst/>
                    <a:ahLst/>
                    <a:rect l="l" t="t" r="r" b="b"/>
                    <a:pathLst>
                      <a:path w="406" h="376">
                        <a:moveTo>
                          <a:pt x="9" y="0"/>
                        </a:moveTo>
                        <a:lnTo>
                          <a:pt x="20" y="4"/>
                        </a:lnTo>
                        <a:lnTo>
                          <a:pt x="31" y="8"/>
                        </a:lnTo>
                        <a:lnTo>
                          <a:pt x="42" y="13"/>
                        </a:lnTo>
                        <a:lnTo>
                          <a:pt x="53" y="17"/>
                        </a:lnTo>
                        <a:lnTo>
                          <a:pt x="65" y="22"/>
                        </a:lnTo>
                        <a:lnTo>
                          <a:pt x="76" y="26"/>
                        </a:lnTo>
                        <a:lnTo>
                          <a:pt x="88" y="31"/>
                        </a:lnTo>
                        <a:lnTo>
                          <a:pt x="99" y="35"/>
                        </a:lnTo>
                        <a:lnTo>
                          <a:pt x="111" y="39"/>
                        </a:lnTo>
                        <a:lnTo>
                          <a:pt x="124" y="42"/>
                        </a:lnTo>
                        <a:lnTo>
                          <a:pt x="126" y="42"/>
                        </a:lnTo>
                        <a:lnTo>
                          <a:pt x="128" y="42"/>
                        </a:lnTo>
                        <a:lnTo>
                          <a:pt x="131" y="42"/>
                        </a:lnTo>
                        <a:lnTo>
                          <a:pt x="133" y="41"/>
                        </a:lnTo>
                        <a:lnTo>
                          <a:pt x="135" y="41"/>
                        </a:lnTo>
                        <a:lnTo>
                          <a:pt x="137" y="41"/>
                        </a:lnTo>
                        <a:lnTo>
                          <a:pt x="140" y="41"/>
                        </a:lnTo>
                        <a:lnTo>
                          <a:pt x="142" y="41"/>
                        </a:lnTo>
                        <a:lnTo>
                          <a:pt x="144" y="42"/>
                        </a:lnTo>
                        <a:lnTo>
                          <a:pt x="147" y="42"/>
                        </a:lnTo>
                        <a:lnTo>
                          <a:pt x="167" y="49"/>
                        </a:lnTo>
                        <a:lnTo>
                          <a:pt x="189" y="55"/>
                        </a:lnTo>
                        <a:lnTo>
                          <a:pt x="210" y="58"/>
                        </a:lnTo>
                        <a:lnTo>
                          <a:pt x="233" y="60"/>
                        </a:lnTo>
                        <a:lnTo>
                          <a:pt x="255" y="60"/>
                        </a:lnTo>
                        <a:lnTo>
                          <a:pt x="276" y="61"/>
                        </a:lnTo>
                        <a:lnTo>
                          <a:pt x="299" y="60"/>
                        </a:lnTo>
                        <a:lnTo>
                          <a:pt x="321" y="60"/>
                        </a:lnTo>
                        <a:lnTo>
                          <a:pt x="343" y="61"/>
                        </a:lnTo>
                        <a:lnTo>
                          <a:pt x="365" y="62"/>
                        </a:lnTo>
                        <a:lnTo>
                          <a:pt x="370" y="63"/>
                        </a:lnTo>
                        <a:lnTo>
                          <a:pt x="375" y="64"/>
                        </a:lnTo>
                        <a:lnTo>
                          <a:pt x="379" y="65"/>
                        </a:lnTo>
                        <a:lnTo>
                          <a:pt x="383" y="66"/>
                        </a:lnTo>
                        <a:lnTo>
                          <a:pt x="388" y="67"/>
                        </a:lnTo>
                        <a:lnTo>
                          <a:pt x="391" y="68"/>
                        </a:lnTo>
                        <a:lnTo>
                          <a:pt x="394" y="70"/>
                        </a:lnTo>
                        <a:lnTo>
                          <a:pt x="398" y="72"/>
                        </a:lnTo>
                        <a:lnTo>
                          <a:pt x="401" y="74"/>
                        </a:lnTo>
                        <a:lnTo>
                          <a:pt x="404" y="76"/>
                        </a:lnTo>
                        <a:lnTo>
                          <a:pt x="405" y="80"/>
                        </a:lnTo>
                        <a:lnTo>
                          <a:pt x="406" y="82"/>
                        </a:lnTo>
                        <a:lnTo>
                          <a:pt x="406" y="85"/>
                        </a:lnTo>
                        <a:lnTo>
                          <a:pt x="405" y="88"/>
                        </a:lnTo>
                        <a:lnTo>
                          <a:pt x="403" y="91"/>
                        </a:lnTo>
                        <a:lnTo>
                          <a:pt x="401" y="93"/>
                        </a:lnTo>
                        <a:lnTo>
                          <a:pt x="398" y="95"/>
                        </a:lnTo>
                        <a:lnTo>
                          <a:pt x="395" y="97"/>
                        </a:lnTo>
                        <a:lnTo>
                          <a:pt x="391" y="98"/>
                        </a:lnTo>
                        <a:lnTo>
                          <a:pt x="388" y="99"/>
                        </a:lnTo>
                        <a:lnTo>
                          <a:pt x="369" y="101"/>
                        </a:lnTo>
                        <a:lnTo>
                          <a:pt x="349" y="103"/>
                        </a:lnTo>
                        <a:lnTo>
                          <a:pt x="331" y="104"/>
                        </a:lnTo>
                        <a:lnTo>
                          <a:pt x="312" y="105"/>
                        </a:lnTo>
                        <a:lnTo>
                          <a:pt x="293" y="107"/>
                        </a:lnTo>
                        <a:lnTo>
                          <a:pt x="274" y="108"/>
                        </a:lnTo>
                        <a:lnTo>
                          <a:pt x="256" y="110"/>
                        </a:lnTo>
                        <a:lnTo>
                          <a:pt x="237" y="112"/>
                        </a:lnTo>
                        <a:lnTo>
                          <a:pt x="219" y="115"/>
                        </a:lnTo>
                        <a:lnTo>
                          <a:pt x="200" y="119"/>
                        </a:lnTo>
                        <a:lnTo>
                          <a:pt x="191" y="141"/>
                        </a:lnTo>
                        <a:lnTo>
                          <a:pt x="184" y="164"/>
                        </a:lnTo>
                        <a:lnTo>
                          <a:pt x="180" y="187"/>
                        </a:lnTo>
                        <a:lnTo>
                          <a:pt x="179" y="211"/>
                        </a:lnTo>
                        <a:lnTo>
                          <a:pt x="180" y="234"/>
                        </a:lnTo>
                        <a:lnTo>
                          <a:pt x="184" y="258"/>
                        </a:lnTo>
                        <a:lnTo>
                          <a:pt x="192" y="280"/>
                        </a:lnTo>
                        <a:lnTo>
                          <a:pt x="203" y="303"/>
                        </a:lnTo>
                        <a:lnTo>
                          <a:pt x="217" y="324"/>
                        </a:lnTo>
                        <a:lnTo>
                          <a:pt x="235" y="345"/>
                        </a:lnTo>
                        <a:lnTo>
                          <a:pt x="237" y="348"/>
                        </a:lnTo>
                        <a:lnTo>
                          <a:pt x="239" y="351"/>
                        </a:lnTo>
                        <a:lnTo>
                          <a:pt x="241" y="353"/>
                        </a:lnTo>
                        <a:lnTo>
                          <a:pt x="243" y="357"/>
                        </a:lnTo>
                        <a:lnTo>
                          <a:pt x="245" y="360"/>
                        </a:lnTo>
                        <a:lnTo>
                          <a:pt x="246" y="362"/>
                        </a:lnTo>
                        <a:lnTo>
                          <a:pt x="247" y="365"/>
                        </a:lnTo>
                        <a:lnTo>
                          <a:pt x="247" y="368"/>
                        </a:lnTo>
                        <a:lnTo>
                          <a:pt x="247" y="371"/>
                        </a:lnTo>
                        <a:lnTo>
                          <a:pt x="246" y="374"/>
                        </a:lnTo>
                        <a:lnTo>
                          <a:pt x="245" y="374"/>
                        </a:lnTo>
                        <a:lnTo>
                          <a:pt x="243" y="375"/>
                        </a:lnTo>
                        <a:lnTo>
                          <a:pt x="241" y="375"/>
                        </a:lnTo>
                        <a:lnTo>
                          <a:pt x="239" y="376"/>
                        </a:lnTo>
                        <a:lnTo>
                          <a:pt x="236" y="376"/>
                        </a:lnTo>
                        <a:lnTo>
                          <a:pt x="234" y="375"/>
                        </a:lnTo>
                        <a:lnTo>
                          <a:pt x="233" y="375"/>
                        </a:lnTo>
                        <a:lnTo>
                          <a:pt x="230" y="375"/>
                        </a:lnTo>
                        <a:lnTo>
                          <a:pt x="229" y="374"/>
                        </a:lnTo>
                        <a:lnTo>
                          <a:pt x="227" y="374"/>
                        </a:lnTo>
                        <a:lnTo>
                          <a:pt x="217" y="367"/>
                        </a:lnTo>
                        <a:lnTo>
                          <a:pt x="207" y="360"/>
                        </a:lnTo>
                        <a:lnTo>
                          <a:pt x="197" y="353"/>
                        </a:lnTo>
                        <a:lnTo>
                          <a:pt x="187" y="346"/>
                        </a:lnTo>
                        <a:lnTo>
                          <a:pt x="178" y="339"/>
                        </a:lnTo>
                        <a:lnTo>
                          <a:pt x="169" y="332"/>
                        </a:lnTo>
                        <a:lnTo>
                          <a:pt x="160" y="324"/>
                        </a:lnTo>
                        <a:lnTo>
                          <a:pt x="152" y="317"/>
                        </a:lnTo>
                        <a:lnTo>
                          <a:pt x="144" y="309"/>
                        </a:lnTo>
                        <a:lnTo>
                          <a:pt x="135" y="300"/>
                        </a:lnTo>
                        <a:lnTo>
                          <a:pt x="123" y="285"/>
                        </a:lnTo>
                        <a:lnTo>
                          <a:pt x="112" y="271"/>
                        </a:lnTo>
                        <a:lnTo>
                          <a:pt x="101" y="256"/>
                        </a:lnTo>
                        <a:lnTo>
                          <a:pt x="92" y="242"/>
                        </a:lnTo>
                        <a:lnTo>
                          <a:pt x="83" y="228"/>
                        </a:lnTo>
                        <a:lnTo>
                          <a:pt x="75" y="213"/>
                        </a:lnTo>
                        <a:lnTo>
                          <a:pt x="67" y="199"/>
                        </a:lnTo>
                        <a:lnTo>
                          <a:pt x="59" y="184"/>
                        </a:lnTo>
                        <a:lnTo>
                          <a:pt x="51" y="170"/>
                        </a:lnTo>
                        <a:lnTo>
                          <a:pt x="43" y="156"/>
                        </a:lnTo>
                        <a:lnTo>
                          <a:pt x="39" y="150"/>
                        </a:lnTo>
                        <a:lnTo>
                          <a:pt x="36" y="145"/>
                        </a:lnTo>
                        <a:lnTo>
                          <a:pt x="33" y="140"/>
                        </a:lnTo>
                        <a:lnTo>
                          <a:pt x="30" y="135"/>
                        </a:lnTo>
                        <a:lnTo>
                          <a:pt x="27" y="129"/>
                        </a:lnTo>
                        <a:lnTo>
                          <a:pt x="24" y="124"/>
                        </a:lnTo>
                        <a:lnTo>
                          <a:pt x="22" y="119"/>
                        </a:lnTo>
                        <a:lnTo>
                          <a:pt x="19" y="113"/>
                        </a:lnTo>
                        <a:lnTo>
                          <a:pt x="18" y="107"/>
                        </a:lnTo>
                        <a:lnTo>
                          <a:pt x="16" y="102"/>
                        </a:lnTo>
                        <a:lnTo>
                          <a:pt x="13" y="91"/>
                        </a:lnTo>
                        <a:lnTo>
                          <a:pt x="10" y="82"/>
                        </a:lnTo>
                        <a:lnTo>
                          <a:pt x="7" y="72"/>
                        </a:lnTo>
                        <a:lnTo>
                          <a:pt x="5" y="63"/>
                        </a:lnTo>
                        <a:lnTo>
                          <a:pt x="2" y="53"/>
                        </a:lnTo>
                        <a:lnTo>
                          <a:pt x="1" y="44"/>
                        </a:lnTo>
                        <a:lnTo>
                          <a:pt x="0" y="35"/>
                        </a:lnTo>
                        <a:lnTo>
                          <a:pt x="0" y="25"/>
                        </a:lnTo>
                        <a:lnTo>
                          <a:pt x="0" y="15"/>
                        </a:lnTo>
                        <a:lnTo>
                          <a:pt x="1" y="5"/>
                        </a:lnTo>
                        <a:lnTo>
                          <a:pt x="3" y="5"/>
                        </a:lnTo>
                        <a:lnTo>
                          <a:pt x="5" y="5"/>
                        </a:lnTo>
                        <a:lnTo>
                          <a:pt x="6" y="4"/>
                        </a:lnTo>
                        <a:lnTo>
                          <a:pt x="7" y="3"/>
                        </a:lnTo>
                        <a:lnTo>
                          <a:pt x="8" y="2"/>
                        </a:lnTo>
                        <a:lnTo>
                          <a:pt x="8" y="1"/>
                        </a:lnTo>
                        <a:lnTo>
                          <a:pt x="9" y="1"/>
                        </a:lnTo>
                        <a:lnTo>
                          <a:pt x="9" y="0"/>
                        </a:lnTo>
                        <a:lnTo>
                          <a:pt x="9" y="0"/>
                        </a:lnTo>
                        <a:lnTo>
                          <a:pt x="9" y="0"/>
                        </a:lnTo>
                        <a:lnTo>
                          <a:pt x="9" y="0"/>
                        </a:lnTo>
                        <a:close/>
                      </a:path>
                    </a:pathLst>
                  </a:custGeom>
                  <a:solidFill>
                    <a:srgbClr val="fff09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" name=""/>
                  <p:cNvSpPr/>
                  <p:nvPr/>
                </p:nvSpPr>
                <p:spPr>
                  <a:xfrm>
                    <a:off x="876960" y="5767560"/>
                    <a:ext cx="198000" cy="200880"/>
                  </a:xfrm>
                  <a:custGeom>
                    <a:avLst/>
                    <a:gdLst/>
                    <a:ahLst/>
                    <a:rect l="l" t="t" r="r" b="b"/>
                    <a:pathLst>
                      <a:path w="406" h="376">
                        <a:moveTo>
                          <a:pt x="9" y="0"/>
                        </a:moveTo>
                        <a:lnTo>
                          <a:pt x="20" y="4"/>
                        </a:lnTo>
                        <a:lnTo>
                          <a:pt x="31" y="8"/>
                        </a:lnTo>
                        <a:lnTo>
                          <a:pt x="42" y="13"/>
                        </a:lnTo>
                        <a:lnTo>
                          <a:pt x="53" y="17"/>
                        </a:lnTo>
                        <a:lnTo>
                          <a:pt x="65" y="22"/>
                        </a:lnTo>
                        <a:lnTo>
                          <a:pt x="76" y="26"/>
                        </a:lnTo>
                        <a:lnTo>
                          <a:pt x="88" y="31"/>
                        </a:lnTo>
                        <a:lnTo>
                          <a:pt x="99" y="35"/>
                        </a:lnTo>
                        <a:lnTo>
                          <a:pt x="111" y="39"/>
                        </a:lnTo>
                        <a:lnTo>
                          <a:pt x="124" y="42"/>
                        </a:lnTo>
                        <a:lnTo>
                          <a:pt x="126" y="42"/>
                        </a:lnTo>
                        <a:lnTo>
                          <a:pt x="128" y="42"/>
                        </a:lnTo>
                        <a:lnTo>
                          <a:pt x="131" y="42"/>
                        </a:lnTo>
                        <a:lnTo>
                          <a:pt x="133" y="41"/>
                        </a:lnTo>
                        <a:lnTo>
                          <a:pt x="135" y="41"/>
                        </a:lnTo>
                        <a:lnTo>
                          <a:pt x="137" y="41"/>
                        </a:lnTo>
                        <a:lnTo>
                          <a:pt x="140" y="41"/>
                        </a:lnTo>
                        <a:lnTo>
                          <a:pt x="142" y="41"/>
                        </a:lnTo>
                        <a:lnTo>
                          <a:pt x="144" y="42"/>
                        </a:lnTo>
                        <a:lnTo>
                          <a:pt x="147" y="42"/>
                        </a:lnTo>
                        <a:lnTo>
                          <a:pt x="167" y="49"/>
                        </a:lnTo>
                        <a:lnTo>
                          <a:pt x="189" y="55"/>
                        </a:lnTo>
                        <a:lnTo>
                          <a:pt x="210" y="58"/>
                        </a:lnTo>
                        <a:lnTo>
                          <a:pt x="233" y="60"/>
                        </a:lnTo>
                        <a:lnTo>
                          <a:pt x="255" y="60"/>
                        </a:lnTo>
                        <a:lnTo>
                          <a:pt x="276" y="61"/>
                        </a:lnTo>
                        <a:lnTo>
                          <a:pt x="299" y="60"/>
                        </a:lnTo>
                        <a:lnTo>
                          <a:pt x="321" y="60"/>
                        </a:lnTo>
                        <a:lnTo>
                          <a:pt x="343" y="61"/>
                        </a:lnTo>
                        <a:lnTo>
                          <a:pt x="365" y="62"/>
                        </a:lnTo>
                        <a:lnTo>
                          <a:pt x="370" y="63"/>
                        </a:lnTo>
                        <a:lnTo>
                          <a:pt x="375" y="64"/>
                        </a:lnTo>
                        <a:lnTo>
                          <a:pt x="379" y="65"/>
                        </a:lnTo>
                        <a:lnTo>
                          <a:pt x="383" y="66"/>
                        </a:lnTo>
                        <a:lnTo>
                          <a:pt x="388" y="67"/>
                        </a:lnTo>
                        <a:lnTo>
                          <a:pt x="391" y="68"/>
                        </a:lnTo>
                        <a:lnTo>
                          <a:pt x="394" y="70"/>
                        </a:lnTo>
                        <a:lnTo>
                          <a:pt x="398" y="72"/>
                        </a:lnTo>
                        <a:lnTo>
                          <a:pt x="401" y="74"/>
                        </a:lnTo>
                        <a:lnTo>
                          <a:pt x="404" y="76"/>
                        </a:lnTo>
                        <a:lnTo>
                          <a:pt x="405" y="80"/>
                        </a:lnTo>
                        <a:lnTo>
                          <a:pt x="406" y="82"/>
                        </a:lnTo>
                        <a:lnTo>
                          <a:pt x="406" y="85"/>
                        </a:lnTo>
                        <a:lnTo>
                          <a:pt x="405" y="88"/>
                        </a:lnTo>
                        <a:lnTo>
                          <a:pt x="403" y="91"/>
                        </a:lnTo>
                        <a:lnTo>
                          <a:pt x="401" y="93"/>
                        </a:lnTo>
                        <a:lnTo>
                          <a:pt x="398" y="95"/>
                        </a:lnTo>
                        <a:lnTo>
                          <a:pt x="395" y="97"/>
                        </a:lnTo>
                        <a:lnTo>
                          <a:pt x="391" y="98"/>
                        </a:lnTo>
                        <a:lnTo>
                          <a:pt x="388" y="99"/>
                        </a:lnTo>
                        <a:lnTo>
                          <a:pt x="369" y="101"/>
                        </a:lnTo>
                        <a:lnTo>
                          <a:pt x="349" y="103"/>
                        </a:lnTo>
                        <a:lnTo>
                          <a:pt x="331" y="104"/>
                        </a:lnTo>
                        <a:lnTo>
                          <a:pt x="312" y="105"/>
                        </a:lnTo>
                        <a:lnTo>
                          <a:pt x="293" y="107"/>
                        </a:lnTo>
                        <a:lnTo>
                          <a:pt x="274" y="108"/>
                        </a:lnTo>
                        <a:lnTo>
                          <a:pt x="256" y="110"/>
                        </a:lnTo>
                        <a:lnTo>
                          <a:pt x="237" y="112"/>
                        </a:lnTo>
                        <a:lnTo>
                          <a:pt x="219" y="115"/>
                        </a:lnTo>
                        <a:lnTo>
                          <a:pt x="200" y="119"/>
                        </a:lnTo>
                        <a:lnTo>
                          <a:pt x="191" y="141"/>
                        </a:lnTo>
                        <a:lnTo>
                          <a:pt x="184" y="164"/>
                        </a:lnTo>
                        <a:lnTo>
                          <a:pt x="180" y="187"/>
                        </a:lnTo>
                        <a:lnTo>
                          <a:pt x="179" y="211"/>
                        </a:lnTo>
                        <a:lnTo>
                          <a:pt x="180" y="234"/>
                        </a:lnTo>
                        <a:lnTo>
                          <a:pt x="184" y="258"/>
                        </a:lnTo>
                        <a:lnTo>
                          <a:pt x="192" y="280"/>
                        </a:lnTo>
                        <a:lnTo>
                          <a:pt x="203" y="303"/>
                        </a:lnTo>
                        <a:lnTo>
                          <a:pt x="217" y="324"/>
                        </a:lnTo>
                        <a:lnTo>
                          <a:pt x="235" y="345"/>
                        </a:lnTo>
                        <a:lnTo>
                          <a:pt x="237" y="348"/>
                        </a:lnTo>
                        <a:lnTo>
                          <a:pt x="239" y="351"/>
                        </a:lnTo>
                        <a:lnTo>
                          <a:pt x="241" y="353"/>
                        </a:lnTo>
                        <a:lnTo>
                          <a:pt x="243" y="357"/>
                        </a:lnTo>
                        <a:lnTo>
                          <a:pt x="245" y="360"/>
                        </a:lnTo>
                        <a:lnTo>
                          <a:pt x="246" y="362"/>
                        </a:lnTo>
                        <a:lnTo>
                          <a:pt x="247" y="365"/>
                        </a:lnTo>
                        <a:lnTo>
                          <a:pt x="247" y="368"/>
                        </a:lnTo>
                        <a:lnTo>
                          <a:pt x="247" y="371"/>
                        </a:lnTo>
                        <a:lnTo>
                          <a:pt x="246" y="374"/>
                        </a:lnTo>
                        <a:lnTo>
                          <a:pt x="245" y="374"/>
                        </a:lnTo>
                        <a:lnTo>
                          <a:pt x="243" y="375"/>
                        </a:lnTo>
                        <a:lnTo>
                          <a:pt x="241" y="375"/>
                        </a:lnTo>
                        <a:lnTo>
                          <a:pt x="239" y="376"/>
                        </a:lnTo>
                        <a:lnTo>
                          <a:pt x="236" y="376"/>
                        </a:lnTo>
                        <a:lnTo>
                          <a:pt x="234" y="375"/>
                        </a:lnTo>
                        <a:lnTo>
                          <a:pt x="233" y="375"/>
                        </a:lnTo>
                        <a:lnTo>
                          <a:pt x="230" y="375"/>
                        </a:lnTo>
                        <a:lnTo>
                          <a:pt x="229" y="374"/>
                        </a:lnTo>
                        <a:lnTo>
                          <a:pt x="227" y="374"/>
                        </a:lnTo>
                        <a:lnTo>
                          <a:pt x="217" y="367"/>
                        </a:lnTo>
                        <a:lnTo>
                          <a:pt x="207" y="360"/>
                        </a:lnTo>
                        <a:lnTo>
                          <a:pt x="197" y="353"/>
                        </a:lnTo>
                        <a:lnTo>
                          <a:pt x="187" y="346"/>
                        </a:lnTo>
                        <a:lnTo>
                          <a:pt x="178" y="339"/>
                        </a:lnTo>
                        <a:lnTo>
                          <a:pt x="169" y="332"/>
                        </a:lnTo>
                        <a:lnTo>
                          <a:pt x="160" y="324"/>
                        </a:lnTo>
                        <a:lnTo>
                          <a:pt x="152" y="317"/>
                        </a:lnTo>
                        <a:lnTo>
                          <a:pt x="144" y="309"/>
                        </a:lnTo>
                        <a:lnTo>
                          <a:pt x="135" y="300"/>
                        </a:lnTo>
                        <a:lnTo>
                          <a:pt x="123" y="285"/>
                        </a:lnTo>
                        <a:lnTo>
                          <a:pt x="112" y="271"/>
                        </a:lnTo>
                        <a:lnTo>
                          <a:pt x="101" y="256"/>
                        </a:lnTo>
                        <a:lnTo>
                          <a:pt x="92" y="242"/>
                        </a:lnTo>
                        <a:lnTo>
                          <a:pt x="83" y="228"/>
                        </a:lnTo>
                        <a:lnTo>
                          <a:pt x="75" y="213"/>
                        </a:lnTo>
                        <a:lnTo>
                          <a:pt x="67" y="199"/>
                        </a:lnTo>
                        <a:lnTo>
                          <a:pt x="59" y="184"/>
                        </a:lnTo>
                        <a:lnTo>
                          <a:pt x="51" y="170"/>
                        </a:lnTo>
                        <a:lnTo>
                          <a:pt x="43" y="156"/>
                        </a:lnTo>
                        <a:lnTo>
                          <a:pt x="39" y="150"/>
                        </a:lnTo>
                        <a:lnTo>
                          <a:pt x="36" y="145"/>
                        </a:lnTo>
                        <a:lnTo>
                          <a:pt x="33" y="140"/>
                        </a:lnTo>
                        <a:lnTo>
                          <a:pt x="30" y="135"/>
                        </a:lnTo>
                        <a:lnTo>
                          <a:pt x="27" y="129"/>
                        </a:lnTo>
                        <a:lnTo>
                          <a:pt x="24" y="124"/>
                        </a:lnTo>
                        <a:lnTo>
                          <a:pt x="22" y="119"/>
                        </a:lnTo>
                        <a:lnTo>
                          <a:pt x="19" y="113"/>
                        </a:lnTo>
                        <a:lnTo>
                          <a:pt x="18" y="107"/>
                        </a:lnTo>
                        <a:lnTo>
                          <a:pt x="16" y="102"/>
                        </a:lnTo>
                        <a:lnTo>
                          <a:pt x="13" y="91"/>
                        </a:lnTo>
                        <a:lnTo>
                          <a:pt x="10" y="82"/>
                        </a:lnTo>
                        <a:lnTo>
                          <a:pt x="7" y="72"/>
                        </a:lnTo>
                        <a:lnTo>
                          <a:pt x="5" y="63"/>
                        </a:lnTo>
                        <a:lnTo>
                          <a:pt x="2" y="53"/>
                        </a:lnTo>
                        <a:lnTo>
                          <a:pt x="1" y="44"/>
                        </a:lnTo>
                        <a:lnTo>
                          <a:pt x="0" y="35"/>
                        </a:lnTo>
                        <a:lnTo>
                          <a:pt x="0" y="25"/>
                        </a:lnTo>
                        <a:lnTo>
                          <a:pt x="0" y="15"/>
                        </a:lnTo>
                        <a:lnTo>
                          <a:pt x="1" y="5"/>
                        </a:lnTo>
                        <a:lnTo>
                          <a:pt x="3" y="5"/>
                        </a:lnTo>
                        <a:lnTo>
                          <a:pt x="5" y="5"/>
                        </a:lnTo>
                        <a:lnTo>
                          <a:pt x="6" y="4"/>
                        </a:lnTo>
                        <a:lnTo>
                          <a:pt x="7" y="3"/>
                        </a:lnTo>
                        <a:lnTo>
                          <a:pt x="8" y="2"/>
                        </a:lnTo>
                        <a:lnTo>
                          <a:pt x="8" y="1"/>
                        </a:lnTo>
                        <a:lnTo>
                          <a:pt x="9" y="1"/>
                        </a:lnTo>
                        <a:lnTo>
                          <a:pt x="9" y="0"/>
                        </a:lnTo>
                        <a:lnTo>
                          <a:pt x="9" y="0"/>
                        </a:lnTo>
                        <a:lnTo>
                          <a:pt x="9" y="0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5040">
                    <a:solidFill>
                      <a:srgbClr val="e3a93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" name=""/>
                  <p:cNvSpPr/>
                  <p:nvPr/>
                </p:nvSpPr>
                <p:spPr>
                  <a:xfrm>
                    <a:off x="733680" y="5924160"/>
                    <a:ext cx="204840" cy="129240"/>
                  </a:xfrm>
                  <a:custGeom>
                    <a:avLst/>
                    <a:gdLst/>
                    <a:ahLst/>
                    <a:rect l="l" t="t" r="r" b="b"/>
                    <a:pathLst>
                      <a:path w="420" h="242">
                        <a:moveTo>
                          <a:pt x="48" y="24"/>
                        </a:moveTo>
                        <a:lnTo>
                          <a:pt x="42" y="26"/>
                        </a:lnTo>
                        <a:lnTo>
                          <a:pt x="36" y="29"/>
                        </a:lnTo>
                        <a:lnTo>
                          <a:pt x="32" y="32"/>
                        </a:lnTo>
                        <a:lnTo>
                          <a:pt x="27" y="35"/>
                        </a:lnTo>
                        <a:lnTo>
                          <a:pt x="23" y="39"/>
                        </a:lnTo>
                        <a:lnTo>
                          <a:pt x="19" y="43"/>
                        </a:lnTo>
                        <a:lnTo>
                          <a:pt x="16" y="48"/>
                        </a:lnTo>
                        <a:lnTo>
                          <a:pt x="13" y="52"/>
                        </a:lnTo>
                        <a:lnTo>
                          <a:pt x="9" y="56"/>
                        </a:lnTo>
                        <a:lnTo>
                          <a:pt x="6" y="61"/>
                        </a:lnTo>
                        <a:lnTo>
                          <a:pt x="4" y="66"/>
                        </a:lnTo>
                        <a:lnTo>
                          <a:pt x="2" y="71"/>
                        </a:lnTo>
                        <a:lnTo>
                          <a:pt x="2" y="76"/>
                        </a:lnTo>
                        <a:lnTo>
                          <a:pt x="1" y="81"/>
                        </a:lnTo>
                        <a:lnTo>
                          <a:pt x="0" y="86"/>
                        </a:lnTo>
                        <a:lnTo>
                          <a:pt x="1" y="92"/>
                        </a:lnTo>
                        <a:lnTo>
                          <a:pt x="2" y="97"/>
                        </a:lnTo>
                        <a:lnTo>
                          <a:pt x="2" y="102"/>
                        </a:lnTo>
                        <a:lnTo>
                          <a:pt x="4" y="107"/>
                        </a:lnTo>
                        <a:lnTo>
                          <a:pt x="6" y="112"/>
                        </a:lnTo>
                        <a:lnTo>
                          <a:pt x="8" y="117"/>
                        </a:lnTo>
                        <a:lnTo>
                          <a:pt x="10" y="122"/>
                        </a:lnTo>
                        <a:lnTo>
                          <a:pt x="13" y="126"/>
                        </a:lnTo>
                        <a:lnTo>
                          <a:pt x="17" y="130"/>
                        </a:lnTo>
                        <a:lnTo>
                          <a:pt x="22" y="134"/>
                        </a:lnTo>
                        <a:lnTo>
                          <a:pt x="26" y="137"/>
                        </a:lnTo>
                        <a:lnTo>
                          <a:pt x="32" y="141"/>
                        </a:lnTo>
                        <a:lnTo>
                          <a:pt x="37" y="145"/>
                        </a:lnTo>
                        <a:lnTo>
                          <a:pt x="42" y="148"/>
                        </a:lnTo>
                        <a:lnTo>
                          <a:pt x="48" y="152"/>
                        </a:lnTo>
                        <a:lnTo>
                          <a:pt x="83" y="166"/>
                        </a:lnTo>
                        <a:lnTo>
                          <a:pt x="119" y="179"/>
                        </a:lnTo>
                        <a:lnTo>
                          <a:pt x="155" y="191"/>
                        </a:lnTo>
                        <a:lnTo>
                          <a:pt x="191" y="202"/>
                        </a:lnTo>
                        <a:lnTo>
                          <a:pt x="229" y="211"/>
                        </a:lnTo>
                        <a:lnTo>
                          <a:pt x="266" y="219"/>
                        </a:lnTo>
                        <a:lnTo>
                          <a:pt x="305" y="226"/>
                        </a:lnTo>
                        <a:lnTo>
                          <a:pt x="343" y="232"/>
                        </a:lnTo>
                        <a:lnTo>
                          <a:pt x="381" y="238"/>
                        </a:lnTo>
                        <a:lnTo>
                          <a:pt x="420" y="242"/>
                        </a:lnTo>
                        <a:lnTo>
                          <a:pt x="417" y="240"/>
                        </a:lnTo>
                        <a:lnTo>
                          <a:pt x="414" y="237"/>
                        </a:lnTo>
                        <a:lnTo>
                          <a:pt x="410" y="235"/>
                        </a:lnTo>
                        <a:lnTo>
                          <a:pt x="407" y="232"/>
                        </a:lnTo>
                        <a:lnTo>
                          <a:pt x="403" y="230"/>
                        </a:lnTo>
                        <a:lnTo>
                          <a:pt x="400" y="228"/>
                        </a:lnTo>
                        <a:lnTo>
                          <a:pt x="396" y="225"/>
                        </a:lnTo>
                        <a:lnTo>
                          <a:pt x="393" y="223"/>
                        </a:lnTo>
                        <a:lnTo>
                          <a:pt x="389" y="221"/>
                        </a:lnTo>
                        <a:lnTo>
                          <a:pt x="386" y="220"/>
                        </a:lnTo>
                        <a:lnTo>
                          <a:pt x="384" y="219"/>
                        </a:lnTo>
                        <a:lnTo>
                          <a:pt x="381" y="218"/>
                        </a:lnTo>
                        <a:lnTo>
                          <a:pt x="379" y="218"/>
                        </a:lnTo>
                        <a:lnTo>
                          <a:pt x="377" y="217"/>
                        </a:lnTo>
                        <a:lnTo>
                          <a:pt x="375" y="217"/>
                        </a:lnTo>
                        <a:lnTo>
                          <a:pt x="373" y="217"/>
                        </a:lnTo>
                        <a:lnTo>
                          <a:pt x="371" y="217"/>
                        </a:lnTo>
                        <a:lnTo>
                          <a:pt x="369" y="217"/>
                        </a:lnTo>
                        <a:lnTo>
                          <a:pt x="368" y="217"/>
                        </a:lnTo>
                        <a:lnTo>
                          <a:pt x="367" y="217"/>
                        </a:lnTo>
                        <a:lnTo>
                          <a:pt x="345" y="207"/>
                        </a:lnTo>
                        <a:lnTo>
                          <a:pt x="322" y="199"/>
                        </a:lnTo>
                        <a:lnTo>
                          <a:pt x="300" y="191"/>
                        </a:lnTo>
                        <a:lnTo>
                          <a:pt x="278" y="183"/>
                        </a:lnTo>
                        <a:lnTo>
                          <a:pt x="255" y="176"/>
                        </a:lnTo>
                        <a:lnTo>
                          <a:pt x="233" y="169"/>
                        </a:lnTo>
                        <a:lnTo>
                          <a:pt x="210" y="162"/>
                        </a:lnTo>
                        <a:lnTo>
                          <a:pt x="187" y="155"/>
                        </a:lnTo>
                        <a:lnTo>
                          <a:pt x="163" y="147"/>
                        </a:lnTo>
                        <a:lnTo>
                          <a:pt x="140" y="137"/>
                        </a:lnTo>
                        <a:lnTo>
                          <a:pt x="137" y="136"/>
                        </a:lnTo>
                        <a:lnTo>
                          <a:pt x="134" y="134"/>
                        </a:lnTo>
                        <a:lnTo>
                          <a:pt x="131" y="131"/>
                        </a:lnTo>
                        <a:lnTo>
                          <a:pt x="127" y="129"/>
                        </a:lnTo>
                        <a:lnTo>
                          <a:pt x="124" y="127"/>
                        </a:lnTo>
                        <a:lnTo>
                          <a:pt x="121" y="123"/>
                        </a:lnTo>
                        <a:lnTo>
                          <a:pt x="117" y="120"/>
                        </a:lnTo>
                        <a:lnTo>
                          <a:pt x="114" y="117"/>
                        </a:lnTo>
                        <a:lnTo>
                          <a:pt x="112" y="113"/>
                        </a:lnTo>
                        <a:lnTo>
                          <a:pt x="110" y="109"/>
                        </a:lnTo>
                        <a:lnTo>
                          <a:pt x="107" y="104"/>
                        </a:lnTo>
                        <a:lnTo>
                          <a:pt x="104" y="98"/>
                        </a:lnTo>
                        <a:lnTo>
                          <a:pt x="103" y="93"/>
                        </a:lnTo>
                        <a:lnTo>
                          <a:pt x="102" y="88"/>
                        </a:lnTo>
                        <a:lnTo>
                          <a:pt x="101" y="82"/>
                        </a:lnTo>
                        <a:lnTo>
                          <a:pt x="101" y="77"/>
                        </a:lnTo>
                        <a:lnTo>
                          <a:pt x="101" y="71"/>
                        </a:lnTo>
                        <a:lnTo>
                          <a:pt x="102" y="65"/>
                        </a:lnTo>
                        <a:lnTo>
                          <a:pt x="102" y="60"/>
                        </a:lnTo>
                        <a:lnTo>
                          <a:pt x="102" y="55"/>
                        </a:lnTo>
                        <a:lnTo>
                          <a:pt x="103" y="54"/>
                        </a:lnTo>
                        <a:lnTo>
                          <a:pt x="104" y="52"/>
                        </a:lnTo>
                        <a:lnTo>
                          <a:pt x="106" y="50"/>
                        </a:lnTo>
                        <a:lnTo>
                          <a:pt x="107" y="48"/>
                        </a:lnTo>
                        <a:lnTo>
                          <a:pt x="108" y="47"/>
                        </a:lnTo>
                        <a:lnTo>
                          <a:pt x="110" y="45"/>
                        </a:lnTo>
                        <a:lnTo>
                          <a:pt x="111" y="43"/>
                        </a:lnTo>
                        <a:lnTo>
                          <a:pt x="113" y="42"/>
                        </a:lnTo>
                        <a:lnTo>
                          <a:pt x="115" y="40"/>
                        </a:lnTo>
                        <a:lnTo>
                          <a:pt x="117" y="38"/>
                        </a:lnTo>
                        <a:lnTo>
                          <a:pt x="126" y="34"/>
                        </a:lnTo>
                        <a:lnTo>
                          <a:pt x="134" y="31"/>
                        </a:lnTo>
                        <a:lnTo>
                          <a:pt x="143" y="28"/>
                        </a:lnTo>
                        <a:lnTo>
                          <a:pt x="152" y="26"/>
                        </a:lnTo>
                        <a:lnTo>
                          <a:pt x="160" y="23"/>
                        </a:lnTo>
                        <a:lnTo>
                          <a:pt x="169" y="20"/>
                        </a:lnTo>
                        <a:lnTo>
                          <a:pt x="177" y="17"/>
                        </a:lnTo>
                        <a:lnTo>
                          <a:pt x="185" y="13"/>
                        </a:lnTo>
                        <a:lnTo>
                          <a:pt x="192" y="8"/>
                        </a:lnTo>
                        <a:lnTo>
                          <a:pt x="198" y="1"/>
                        </a:lnTo>
                        <a:lnTo>
                          <a:pt x="182" y="0"/>
                        </a:lnTo>
                        <a:lnTo>
                          <a:pt x="166" y="0"/>
                        </a:lnTo>
                        <a:lnTo>
                          <a:pt x="150" y="1"/>
                        </a:lnTo>
                        <a:lnTo>
                          <a:pt x="135" y="4"/>
                        </a:lnTo>
                        <a:lnTo>
                          <a:pt x="120" y="7"/>
                        </a:lnTo>
                        <a:lnTo>
                          <a:pt x="104" y="9"/>
                        </a:lnTo>
                        <a:lnTo>
                          <a:pt x="90" y="13"/>
                        </a:lnTo>
                        <a:lnTo>
                          <a:pt x="75" y="17"/>
                        </a:lnTo>
                        <a:lnTo>
                          <a:pt x="59" y="21"/>
                        </a:lnTo>
                        <a:lnTo>
                          <a:pt x="45" y="24"/>
                        </a:lnTo>
                        <a:lnTo>
                          <a:pt x="48" y="24"/>
                        </a:lnTo>
                        <a:lnTo>
                          <a:pt x="48" y="24"/>
                        </a:lnTo>
                        <a:close/>
                      </a:path>
                    </a:pathLst>
                  </a:custGeom>
                  <a:solidFill>
                    <a:srgbClr val="fff09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" name=""/>
                  <p:cNvSpPr/>
                  <p:nvPr/>
                </p:nvSpPr>
                <p:spPr>
                  <a:xfrm>
                    <a:off x="733680" y="5924160"/>
                    <a:ext cx="204840" cy="129240"/>
                  </a:xfrm>
                  <a:custGeom>
                    <a:avLst/>
                    <a:gdLst/>
                    <a:ahLst/>
                    <a:rect l="l" t="t" r="r" b="b"/>
                    <a:pathLst>
                      <a:path w="420" h="242">
                        <a:moveTo>
                          <a:pt x="48" y="24"/>
                        </a:moveTo>
                        <a:lnTo>
                          <a:pt x="42" y="26"/>
                        </a:lnTo>
                        <a:lnTo>
                          <a:pt x="36" y="29"/>
                        </a:lnTo>
                        <a:lnTo>
                          <a:pt x="32" y="32"/>
                        </a:lnTo>
                        <a:lnTo>
                          <a:pt x="27" y="35"/>
                        </a:lnTo>
                        <a:lnTo>
                          <a:pt x="23" y="39"/>
                        </a:lnTo>
                        <a:lnTo>
                          <a:pt x="19" y="43"/>
                        </a:lnTo>
                        <a:lnTo>
                          <a:pt x="16" y="48"/>
                        </a:lnTo>
                        <a:lnTo>
                          <a:pt x="13" y="52"/>
                        </a:lnTo>
                        <a:lnTo>
                          <a:pt x="9" y="56"/>
                        </a:lnTo>
                        <a:lnTo>
                          <a:pt x="6" y="61"/>
                        </a:lnTo>
                        <a:lnTo>
                          <a:pt x="4" y="66"/>
                        </a:lnTo>
                        <a:lnTo>
                          <a:pt x="2" y="71"/>
                        </a:lnTo>
                        <a:lnTo>
                          <a:pt x="2" y="76"/>
                        </a:lnTo>
                        <a:lnTo>
                          <a:pt x="1" y="81"/>
                        </a:lnTo>
                        <a:lnTo>
                          <a:pt x="0" y="86"/>
                        </a:lnTo>
                        <a:lnTo>
                          <a:pt x="1" y="92"/>
                        </a:lnTo>
                        <a:lnTo>
                          <a:pt x="2" y="97"/>
                        </a:lnTo>
                        <a:lnTo>
                          <a:pt x="2" y="102"/>
                        </a:lnTo>
                        <a:lnTo>
                          <a:pt x="4" y="107"/>
                        </a:lnTo>
                        <a:lnTo>
                          <a:pt x="6" y="112"/>
                        </a:lnTo>
                        <a:lnTo>
                          <a:pt x="8" y="117"/>
                        </a:lnTo>
                        <a:lnTo>
                          <a:pt x="10" y="122"/>
                        </a:lnTo>
                        <a:lnTo>
                          <a:pt x="13" y="126"/>
                        </a:lnTo>
                        <a:lnTo>
                          <a:pt x="17" y="130"/>
                        </a:lnTo>
                        <a:lnTo>
                          <a:pt x="22" y="134"/>
                        </a:lnTo>
                        <a:lnTo>
                          <a:pt x="26" y="137"/>
                        </a:lnTo>
                        <a:lnTo>
                          <a:pt x="32" y="141"/>
                        </a:lnTo>
                        <a:lnTo>
                          <a:pt x="37" y="145"/>
                        </a:lnTo>
                        <a:lnTo>
                          <a:pt x="42" y="148"/>
                        </a:lnTo>
                        <a:lnTo>
                          <a:pt x="48" y="152"/>
                        </a:lnTo>
                        <a:lnTo>
                          <a:pt x="83" y="166"/>
                        </a:lnTo>
                        <a:lnTo>
                          <a:pt x="119" y="179"/>
                        </a:lnTo>
                        <a:lnTo>
                          <a:pt x="155" y="191"/>
                        </a:lnTo>
                        <a:lnTo>
                          <a:pt x="191" y="202"/>
                        </a:lnTo>
                        <a:lnTo>
                          <a:pt x="229" y="211"/>
                        </a:lnTo>
                        <a:lnTo>
                          <a:pt x="266" y="219"/>
                        </a:lnTo>
                        <a:lnTo>
                          <a:pt x="305" y="226"/>
                        </a:lnTo>
                        <a:lnTo>
                          <a:pt x="343" y="232"/>
                        </a:lnTo>
                        <a:lnTo>
                          <a:pt x="381" y="238"/>
                        </a:lnTo>
                        <a:lnTo>
                          <a:pt x="420" y="242"/>
                        </a:lnTo>
                        <a:lnTo>
                          <a:pt x="417" y="240"/>
                        </a:lnTo>
                        <a:lnTo>
                          <a:pt x="414" y="237"/>
                        </a:lnTo>
                        <a:lnTo>
                          <a:pt x="410" y="235"/>
                        </a:lnTo>
                        <a:lnTo>
                          <a:pt x="407" y="232"/>
                        </a:lnTo>
                        <a:lnTo>
                          <a:pt x="403" y="230"/>
                        </a:lnTo>
                        <a:lnTo>
                          <a:pt x="400" y="228"/>
                        </a:lnTo>
                        <a:lnTo>
                          <a:pt x="396" y="225"/>
                        </a:lnTo>
                        <a:lnTo>
                          <a:pt x="393" y="223"/>
                        </a:lnTo>
                        <a:lnTo>
                          <a:pt x="389" y="221"/>
                        </a:lnTo>
                        <a:lnTo>
                          <a:pt x="386" y="220"/>
                        </a:lnTo>
                        <a:lnTo>
                          <a:pt x="384" y="219"/>
                        </a:lnTo>
                        <a:lnTo>
                          <a:pt x="381" y="218"/>
                        </a:lnTo>
                        <a:lnTo>
                          <a:pt x="379" y="218"/>
                        </a:lnTo>
                        <a:lnTo>
                          <a:pt x="377" y="217"/>
                        </a:lnTo>
                        <a:lnTo>
                          <a:pt x="375" y="217"/>
                        </a:lnTo>
                        <a:lnTo>
                          <a:pt x="373" y="217"/>
                        </a:lnTo>
                        <a:lnTo>
                          <a:pt x="371" y="217"/>
                        </a:lnTo>
                        <a:lnTo>
                          <a:pt x="369" y="217"/>
                        </a:lnTo>
                        <a:lnTo>
                          <a:pt x="368" y="217"/>
                        </a:lnTo>
                        <a:lnTo>
                          <a:pt x="367" y="217"/>
                        </a:lnTo>
                        <a:lnTo>
                          <a:pt x="345" y="207"/>
                        </a:lnTo>
                        <a:lnTo>
                          <a:pt x="322" y="199"/>
                        </a:lnTo>
                        <a:lnTo>
                          <a:pt x="300" y="191"/>
                        </a:lnTo>
                        <a:lnTo>
                          <a:pt x="278" y="183"/>
                        </a:lnTo>
                        <a:lnTo>
                          <a:pt x="255" y="176"/>
                        </a:lnTo>
                        <a:lnTo>
                          <a:pt x="233" y="169"/>
                        </a:lnTo>
                        <a:lnTo>
                          <a:pt x="210" y="162"/>
                        </a:lnTo>
                        <a:lnTo>
                          <a:pt x="187" y="155"/>
                        </a:lnTo>
                        <a:lnTo>
                          <a:pt x="163" y="147"/>
                        </a:lnTo>
                        <a:lnTo>
                          <a:pt x="140" y="137"/>
                        </a:lnTo>
                        <a:lnTo>
                          <a:pt x="137" y="136"/>
                        </a:lnTo>
                        <a:lnTo>
                          <a:pt x="134" y="134"/>
                        </a:lnTo>
                        <a:lnTo>
                          <a:pt x="131" y="131"/>
                        </a:lnTo>
                        <a:lnTo>
                          <a:pt x="127" y="129"/>
                        </a:lnTo>
                        <a:lnTo>
                          <a:pt x="124" y="127"/>
                        </a:lnTo>
                        <a:lnTo>
                          <a:pt x="121" y="123"/>
                        </a:lnTo>
                        <a:lnTo>
                          <a:pt x="117" y="120"/>
                        </a:lnTo>
                        <a:lnTo>
                          <a:pt x="114" y="117"/>
                        </a:lnTo>
                        <a:lnTo>
                          <a:pt x="112" y="113"/>
                        </a:lnTo>
                        <a:lnTo>
                          <a:pt x="110" y="109"/>
                        </a:lnTo>
                        <a:lnTo>
                          <a:pt x="107" y="104"/>
                        </a:lnTo>
                        <a:lnTo>
                          <a:pt x="104" y="98"/>
                        </a:lnTo>
                        <a:lnTo>
                          <a:pt x="103" y="93"/>
                        </a:lnTo>
                        <a:lnTo>
                          <a:pt x="102" y="88"/>
                        </a:lnTo>
                        <a:lnTo>
                          <a:pt x="101" y="82"/>
                        </a:lnTo>
                        <a:lnTo>
                          <a:pt x="101" y="77"/>
                        </a:lnTo>
                        <a:lnTo>
                          <a:pt x="101" y="71"/>
                        </a:lnTo>
                        <a:lnTo>
                          <a:pt x="102" y="65"/>
                        </a:lnTo>
                        <a:lnTo>
                          <a:pt x="102" y="60"/>
                        </a:lnTo>
                        <a:lnTo>
                          <a:pt x="102" y="55"/>
                        </a:lnTo>
                        <a:lnTo>
                          <a:pt x="103" y="54"/>
                        </a:lnTo>
                        <a:lnTo>
                          <a:pt x="104" y="52"/>
                        </a:lnTo>
                        <a:lnTo>
                          <a:pt x="106" y="50"/>
                        </a:lnTo>
                        <a:lnTo>
                          <a:pt x="107" y="48"/>
                        </a:lnTo>
                        <a:lnTo>
                          <a:pt x="108" y="47"/>
                        </a:lnTo>
                        <a:lnTo>
                          <a:pt x="110" y="45"/>
                        </a:lnTo>
                        <a:lnTo>
                          <a:pt x="111" y="43"/>
                        </a:lnTo>
                        <a:lnTo>
                          <a:pt x="113" y="42"/>
                        </a:lnTo>
                        <a:lnTo>
                          <a:pt x="115" y="40"/>
                        </a:lnTo>
                        <a:lnTo>
                          <a:pt x="117" y="38"/>
                        </a:lnTo>
                        <a:lnTo>
                          <a:pt x="126" y="34"/>
                        </a:lnTo>
                        <a:lnTo>
                          <a:pt x="134" y="31"/>
                        </a:lnTo>
                        <a:lnTo>
                          <a:pt x="143" y="28"/>
                        </a:lnTo>
                        <a:lnTo>
                          <a:pt x="152" y="26"/>
                        </a:lnTo>
                        <a:lnTo>
                          <a:pt x="160" y="23"/>
                        </a:lnTo>
                        <a:lnTo>
                          <a:pt x="169" y="20"/>
                        </a:lnTo>
                        <a:lnTo>
                          <a:pt x="177" y="17"/>
                        </a:lnTo>
                        <a:lnTo>
                          <a:pt x="185" y="13"/>
                        </a:lnTo>
                        <a:lnTo>
                          <a:pt x="192" y="8"/>
                        </a:lnTo>
                        <a:lnTo>
                          <a:pt x="198" y="1"/>
                        </a:lnTo>
                        <a:lnTo>
                          <a:pt x="182" y="0"/>
                        </a:lnTo>
                        <a:lnTo>
                          <a:pt x="166" y="0"/>
                        </a:lnTo>
                        <a:lnTo>
                          <a:pt x="150" y="1"/>
                        </a:lnTo>
                        <a:lnTo>
                          <a:pt x="135" y="4"/>
                        </a:lnTo>
                        <a:lnTo>
                          <a:pt x="120" y="7"/>
                        </a:lnTo>
                        <a:lnTo>
                          <a:pt x="104" y="9"/>
                        </a:lnTo>
                        <a:lnTo>
                          <a:pt x="90" y="13"/>
                        </a:lnTo>
                        <a:lnTo>
                          <a:pt x="75" y="17"/>
                        </a:lnTo>
                        <a:lnTo>
                          <a:pt x="59" y="21"/>
                        </a:lnTo>
                        <a:lnTo>
                          <a:pt x="45" y="24"/>
                        </a:lnTo>
                        <a:lnTo>
                          <a:pt x="48" y="24"/>
                        </a:lnTo>
                        <a:lnTo>
                          <a:pt x="48" y="24"/>
                        </a:lnTo>
                      </a:path>
                    </a:pathLst>
                  </a:custGeom>
                  <a:noFill/>
                  <a:ln w="5040">
                    <a:solidFill>
                      <a:srgbClr val="ffb83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08" name=""/>
              <p:cNvGrpSpPr/>
              <p:nvPr/>
            </p:nvGrpSpPr>
            <p:grpSpPr>
              <a:xfrm>
                <a:off x="3871080" y="5044680"/>
                <a:ext cx="1880640" cy="1391760"/>
                <a:chOff x="3871080" y="5044680"/>
                <a:chExt cx="1880640" cy="1391760"/>
              </a:xfrm>
            </p:grpSpPr>
            <p:sp>
              <p:nvSpPr>
                <p:cNvPr id="409" name=""/>
                <p:cNvSpPr/>
                <p:nvPr/>
              </p:nvSpPr>
              <p:spPr>
                <a:xfrm>
                  <a:off x="3871440" y="5044680"/>
                  <a:ext cx="1880280" cy="117792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10" name=""/>
                <p:cNvGrpSpPr/>
                <p:nvPr/>
              </p:nvGrpSpPr>
              <p:grpSpPr>
                <a:xfrm>
                  <a:off x="4015800" y="5151600"/>
                  <a:ext cx="1735560" cy="1284840"/>
                  <a:chOff x="4015800" y="5151600"/>
                  <a:chExt cx="1735560" cy="1284840"/>
                </a:xfrm>
              </p:grpSpPr>
              <p:sp>
                <p:nvSpPr>
                  <p:cNvPr id="411" name=""/>
                  <p:cNvSpPr/>
                  <p:nvPr/>
                </p:nvSpPr>
                <p:spPr>
                  <a:xfrm>
                    <a:off x="4268520" y="5263560"/>
                    <a:ext cx="43560" cy="73440"/>
                  </a:xfrm>
                  <a:custGeom>
                    <a:avLst/>
                    <a:gdLst/>
                    <a:ahLst/>
                    <a:rect l="l" t="t" r="r" b="b"/>
                    <a:pathLst>
                      <a:path w="150" h="267">
                        <a:moveTo>
                          <a:pt x="0" y="0"/>
                        </a:moveTo>
                        <a:lnTo>
                          <a:pt x="7" y="13"/>
                        </a:lnTo>
                        <a:lnTo>
                          <a:pt x="7" y="30"/>
                        </a:lnTo>
                        <a:lnTo>
                          <a:pt x="7" y="42"/>
                        </a:lnTo>
                        <a:lnTo>
                          <a:pt x="7" y="55"/>
                        </a:lnTo>
                        <a:lnTo>
                          <a:pt x="15" y="72"/>
                        </a:lnTo>
                        <a:lnTo>
                          <a:pt x="15" y="85"/>
                        </a:lnTo>
                        <a:lnTo>
                          <a:pt x="22" y="97"/>
                        </a:lnTo>
                        <a:lnTo>
                          <a:pt x="29" y="110"/>
                        </a:lnTo>
                        <a:lnTo>
                          <a:pt x="36" y="127"/>
                        </a:lnTo>
                        <a:lnTo>
                          <a:pt x="43" y="140"/>
                        </a:lnTo>
                        <a:lnTo>
                          <a:pt x="43" y="153"/>
                        </a:lnTo>
                        <a:lnTo>
                          <a:pt x="50" y="161"/>
                        </a:lnTo>
                        <a:lnTo>
                          <a:pt x="57" y="170"/>
                        </a:lnTo>
                        <a:lnTo>
                          <a:pt x="65" y="182"/>
                        </a:lnTo>
                        <a:lnTo>
                          <a:pt x="72" y="191"/>
                        </a:lnTo>
                        <a:lnTo>
                          <a:pt x="79" y="199"/>
                        </a:lnTo>
                        <a:lnTo>
                          <a:pt x="93" y="208"/>
                        </a:lnTo>
                        <a:lnTo>
                          <a:pt x="100" y="216"/>
                        </a:lnTo>
                        <a:lnTo>
                          <a:pt x="115" y="225"/>
                        </a:lnTo>
                        <a:lnTo>
                          <a:pt x="122" y="233"/>
                        </a:lnTo>
                        <a:lnTo>
                          <a:pt x="129" y="233"/>
                        </a:lnTo>
                        <a:lnTo>
                          <a:pt x="129" y="237"/>
                        </a:lnTo>
                        <a:lnTo>
                          <a:pt x="136" y="242"/>
                        </a:lnTo>
                        <a:lnTo>
                          <a:pt x="136" y="246"/>
                        </a:lnTo>
                        <a:lnTo>
                          <a:pt x="143" y="246"/>
                        </a:lnTo>
                        <a:lnTo>
                          <a:pt x="143" y="250"/>
                        </a:lnTo>
                        <a:lnTo>
                          <a:pt x="143" y="254"/>
                        </a:lnTo>
                        <a:lnTo>
                          <a:pt x="143" y="259"/>
                        </a:lnTo>
                        <a:lnTo>
                          <a:pt x="150" y="263"/>
                        </a:lnTo>
                        <a:lnTo>
                          <a:pt x="150" y="26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640" bIns="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>
                    <a:off x="4191120" y="5357160"/>
                    <a:ext cx="27000" cy="52560"/>
                  </a:xfrm>
                  <a:custGeom>
                    <a:avLst/>
                    <a:gdLst/>
                    <a:ahLst/>
                    <a:rect l="l" t="t" r="r" b="b"/>
                    <a:pathLst>
                      <a:path w="93" h="191">
                        <a:moveTo>
                          <a:pt x="72" y="0"/>
                        </a:moveTo>
                        <a:lnTo>
                          <a:pt x="79" y="0"/>
                        </a:lnTo>
                        <a:lnTo>
                          <a:pt x="79" y="4"/>
                        </a:lnTo>
                        <a:lnTo>
                          <a:pt x="79" y="4"/>
                        </a:lnTo>
                        <a:lnTo>
                          <a:pt x="79" y="4"/>
                        </a:lnTo>
                        <a:lnTo>
                          <a:pt x="79" y="9"/>
                        </a:lnTo>
                        <a:lnTo>
                          <a:pt x="79" y="9"/>
                        </a:lnTo>
                        <a:lnTo>
                          <a:pt x="79" y="9"/>
                        </a:lnTo>
                        <a:lnTo>
                          <a:pt x="79" y="9"/>
                        </a:lnTo>
                        <a:lnTo>
                          <a:pt x="79" y="13"/>
                        </a:lnTo>
                        <a:lnTo>
                          <a:pt x="79" y="13"/>
                        </a:lnTo>
                        <a:lnTo>
                          <a:pt x="72" y="13"/>
                        </a:lnTo>
                        <a:lnTo>
                          <a:pt x="72" y="13"/>
                        </a:lnTo>
                        <a:lnTo>
                          <a:pt x="72" y="13"/>
                        </a:lnTo>
                        <a:lnTo>
                          <a:pt x="64" y="13"/>
                        </a:lnTo>
                        <a:lnTo>
                          <a:pt x="64" y="9"/>
                        </a:lnTo>
                        <a:lnTo>
                          <a:pt x="64" y="9"/>
                        </a:lnTo>
                        <a:lnTo>
                          <a:pt x="64" y="9"/>
                        </a:lnTo>
                        <a:lnTo>
                          <a:pt x="57" y="9"/>
                        </a:lnTo>
                        <a:lnTo>
                          <a:pt x="57" y="9"/>
                        </a:lnTo>
                        <a:lnTo>
                          <a:pt x="50" y="9"/>
                        </a:lnTo>
                        <a:lnTo>
                          <a:pt x="43" y="30"/>
                        </a:lnTo>
                        <a:lnTo>
                          <a:pt x="29" y="51"/>
                        </a:lnTo>
                        <a:lnTo>
                          <a:pt x="22" y="72"/>
                        </a:lnTo>
                        <a:lnTo>
                          <a:pt x="7" y="93"/>
                        </a:lnTo>
                        <a:lnTo>
                          <a:pt x="0" y="115"/>
                        </a:lnTo>
                        <a:lnTo>
                          <a:pt x="0" y="136"/>
                        </a:lnTo>
                        <a:lnTo>
                          <a:pt x="7" y="153"/>
                        </a:lnTo>
                        <a:lnTo>
                          <a:pt x="22" y="170"/>
                        </a:lnTo>
                        <a:lnTo>
                          <a:pt x="50" y="182"/>
                        </a:lnTo>
                        <a:lnTo>
                          <a:pt x="93" y="191"/>
                        </a:lnTo>
                        <a:lnTo>
                          <a:pt x="72" y="0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760" bIns="5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>
                    <a:off x="4205880" y="5254200"/>
                    <a:ext cx="118800" cy="184320"/>
                  </a:xfrm>
                  <a:custGeom>
                    <a:avLst/>
                    <a:gdLst/>
                    <a:ahLst/>
                    <a:rect l="l" t="t" r="r" b="b"/>
                    <a:pathLst>
                      <a:path w="407" h="670">
                        <a:moveTo>
                          <a:pt x="229" y="0"/>
                        </a:moveTo>
                        <a:lnTo>
                          <a:pt x="229" y="21"/>
                        </a:lnTo>
                        <a:lnTo>
                          <a:pt x="229" y="42"/>
                        </a:lnTo>
                        <a:lnTo>
                          <a:pt x="229" y="64"/>
                        </a:lnTo>
                        <a:lnTo>
                          <a:pt x="229" y="85"/>
                        </a:lnTo>
                        <a:lnTo>
                          <a:pt x="229" y="106"/>
                        </a:lnTo>
                        <a:lnTo>
                          <a:pt x="229" y="127"/>
                        </a:lnTo>
                        <a:lnTo>
                          <a:pt x="229" y="144"/>
                        </a:lnTo>
                        <a:lnTo>
                          <a:pt x="236" y="161"/>
                        </a:lnTo>
                        <a:lnTo>
                          <a:pt x="250" y="178"/>
                        </a:lnTo>
                        <a:lnTo>
                          <a:pt x="264" y="191"/>
                        </a:lnTo>
                        <a:lnTo>
                          <a:pt x="307" y="229"/>
                        </a:lnTo>
                        <a:lnTo>
                          <a:pt x="336" y="267"/>
                        </a:lnTo>
                        <a:lnTo>
                          <a:pt x="364" y="305"/>
                        </a:lnTo>
                        <a:lnTo>
                          <a:pt x="386" y="343"/>
                        </a:lnTo>
                        <a:lnTo>
                          <a:pt x="400" y="382"/>
                        </a:lnTo>
                        <a:lnTo>
                          <a:pt x="407" y="424"/>
                        </a:lnTo>
                        <a:lnTo>
                          <a:pt x="407" y="466"/>
                        </a:lnTo>
                        <a:lnTo>
                          <a:pt x="407" y="505"/>
                        </a:lnTo>
                        <a:lnTo>
                          <a:pt x="407" y="547"/>
                        </a:lnTo>
                        <a:lnTo>
                          <a:pt x="407" y="585"/>
                        </a:lnTo>
                        <a:lnTo>
                          <a:pt x="400" y="598"/>
                        </a:lnTo>
                        <a:lnTo>
                          <a:pt x="393" y="606"/>
                        </a:lnTo>
                        <a:lnTo>
                          <a:pt x="386" y="615"/>
                        </a:lnTo>
                        <a:lnTo>
                          <a:pt x="379" y="623"/>
                        </a:lnTo>
                        <a:lnTo>
                          <a:pt x="364" y="632"/>
                        </a:lnTo>
                        <a:lnTo>
                          <a:pt x="357" y="636"/>
                        </a:lnTo>
                        <a:lnTo>
                          <a:pt x="343" y="644"/>
                        </a:lnTo>
                        <a:lnTo>
                          <a:pt x="336" y="649"/>
                        </a:lnTo>
                        <a:lnTo>
                          <a:pt x="329" y="657"/>
                        </a:lnTo>
                        <a:lnTo>
                          <a:pt x="314" y="661"/>
                        </a:lnTo>
                        <a:lnTo>
                          <a:pt x="300" y="666"/>
                        </a:lnTo>
                        <a:lnTo>
                          <a:pt x="286" y="666"/>
                        </a:lnTo>
                        <a:lnTo>
                          <a:pt x="264" y="670"/>
                        </a:lnTo>
                        <a:lnTo>
                          <a:pt x="250" y="666"/>
                        </a:lnTo>
                        <a:lnTo>
                          <a:pt x="236" y="666"/>
                        </a:lnTo>
                        <a:lnTo>
                          <a:pt x="214" y="661"/>
                        </a:lnTo>
                        <a:lnTo>
                          <a:pt x="200" y="661"/>
                        </a:lnTo>
                        <a:lnTo>
                          <a:pt x="186" y="657"/>
                        </a:lnTo>
                        <a:lnTo>
                          <a:pt x="171" y="657"/>
                        </a:lnTo>
                        <a:lnTo>
                          <a:pt x="157" y="657"/>
                        </a:lnTo>
                        <a:lnTo>
                          <a:pt x="150" y="657"/>
                        </a:lnTo>
                        <a:lnTo>
                          <a:pt x="143" y="653"/>
                        </a:lnTo>
                        <a:lnTo>
                          <a:pt x="143" y="653"/>
                        </a:lnTo>
                        <a:lnTo>
                          <a:pt x="143" y="649"/>
                        </a:lnTo>
                        <a:lnTo>
                          <a:pt x="143" y="644"/>
                        </a:lnTo>
                        <a:lnTo>
                          <a:pt x="143" y="644"/>
                        </a:lnTo>
                        <a:lnTo>
                          <a:pt x="143" y="640"/>
                        </a:lnTo>
                        <a:lnTo>
                          <a:pt x="143" y="636"/>
                        </a:lnTo>
                        <a:lnTo>
                          <a:pt x="143" y="632"/>
                        </a:lnTo>
                        <a:lnTo>
                          <a:pt x="143" y="632"/>
                        </a:lnTo>
                        <a:lnTo>
                          <a:pt x="100" y="615"/>
                        </a:lnTo>
                        <a:lnTo>
                          <a:pt x="72" y="594"/>
                        </a:lnTo>
                        <a:lnTo>
                          <a:pt x="43" y="568"/>
                        </a:lnTo>
                        <a:lnTo>
                          <a:pt x="22" y="543"/>
                        </a:lnTo>
                        <a:lnTo>
                          <a:pt x="7" y="517"/>
                        </a:lnTo>
                        <a:lnTo>
                          <a:pt x="0" y="492"/>
                        </a:lnTo>
                        <a:lnTo>
                          <a:pt x="0" y="466"/>
                        </a:lnTo>
                        <a:lnTo>
                          <a:pt x="0" y="437"/>
                        </a:lnTo>
                        <a:lnTo>
                          <a:pt x="0" y="411"/>
                        </a:lnTo>
                        <a:lnTo>
                          <a:pt x="0" y="382"/>
                        </a:lnTo>
                        <a:lnTo>
                          <a:pt x="7" y="377"/>
                        </a:lnTo>
                        <a:lnTo>
                          <a:pt x="7" y="369"/>
                        </a:lnTo>
                        <a:lnTo>
                          <a:pt x="14" y="365"/>
                        </a:lnTo>
                        <a:lnTo>
                          <a:pt x="22" y="356"/>
                        </a:lnTo>
                        <a:lnTo>
                          <a:pt x="29" y="352"/>
                        </a:lnTo>
                        <a:lnTo>
                          <a:pt x="36" y="348"/>
                        </a:lnTo>
                        <a:lnTo>
                          <a:pt x="43" y="339"/>
                        </a:lnTo>
                        <a:lnTo>
                          <a:pt x="43" y="335"/>
                        </a:lnTo>
                        <a:lnTo>
                          <a:pt x="50" y="326"/>
                        </a:lnTo>
                        <a:lnTo>
                          <a:pt x="50" y="318"/>
                        </a:lnTo>
                        <a:lnTo>
                          <a:pt x="50" y="314"/>
                        </a:lnTo>
                        <a:lnTo>
                          <a:pt x="50" y="314"/>
                        </a:lnTo>
                        <a:lnTo>
                          <a:pt x="57" y="309"/>
                        </a:lnTo>
                        <a:lnTo>
                          <a:pt x="57" y="309"/>
                        </a:lnTo>
                        <a:lnTo>
                          <a:pt x="64" y="305"/>
                        </a:lnTo>
                        <a:lnTo>
                          <a:pt x="64" y="305"/>
                        </a:lnTo>
                        <a:lnTo>
                          <a:pt x="72" y="301"/>
                        </a:lnTo>
                        <a:lnTo>
                          <a:pt x="79" y="301"/>
                        </a:lnTo>
                        <a:lnTo>
                          <a:pt x="79" y="297"/>
                        </a:lnTo>
                        <a:lnTo>
                          <a:pt x="86" y="297"/>
                        </a:lnTo>
                        <a:lnTo>
                          <a:pt x="93" y="280"/>
                        </a:lnTo>
                        <a:lnTo>
                          <a:pt x="107" y="263"/>
                        </a:lnTo>
                        <a:lnTo>
                          <a:pt x="114" y="246"/>
                        </a:lnTo>
                        <a:lnTo>
                          <a:pt x="129" y="229"/>
                        </a:lnTo>
                        <a:lnTo>
                          <a:pt x="136" y="212"/>
                        </a:lnTo>
                        <a:lnTo>
                          <a:pt x="150" y="195"/>
                        </a:lnTo>
                        <a:lnTo>
                          <a:pt x="157" y="178"/>
                        </a:lnTo>
                        <a:lnTo>
                          <a:pt x="171" y="161"/>
                        </a:lnTo>
                        <a:lnTo>
                          <a:pt x="179" y="144"/>
                        </a:lnTo>
                        <a:lnTo>
                          <a:pt x="193" y="127"/>
                        </a:lnTo>
                        <a:lnTo>
                          <a:pt x="193" y="119"/>
                        </a:lnTo>
                        <a:lnTo>
                          <a:pt x="193" y="114"/>
                        </a:lnTo>
                        <a:lnTo>
                          <a:pt x="200" y="106"/>
                        </a:lnTo>
                        <a:lnTo>
                          <a:pt x="200" y="98"/>
                        </a:lnTo>
                        <a:lnTo>
                          <a:pt x="193" y="93"/>
                        </a:lnTo>
                        <a:lnTo>
                          <a:pt x="193" y="85"/>
                        </a:lnTo>
                        <a:lnTo>
                          <a:pt x="193" y="76"/>
                        </a:lnTo>
                        <a:lnTo>
                          <a:pt x="193" y="68"/>
                        </a:lnTo>
                        <a:lnTo>
                          <a:pt x="193" y="64"/>
                        </a:lnTo>
                        <a:lnTo>
                          <a:pt x="193" y="55"/>
                        </a:lnTo>
                        <a:lnTo>
                          <a:pt x="229" y="0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" name=""/>
                  <p:cNvSpPr/>
                  <p:nvPr/>
                </p:nvSpPr>
                <p:spPr>
                  <a:xfrm>
                    <a:off x="4285080" y="5291640"/>
                    <a:ext cx="2160" cy="1836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68">
                        <a:moveTo>
                          <a:pt x="0" y="68"/>
                        </a:moveTo>
                        <a:lnTo>
                          <a:pt x="8" y="68"/>
                        </a:lnTo>
                        <a:lnTo>
                          <a:pt x="8" y="63"/>
                        </a:lnTo>
                        <a:lnTo>
                          <a:pt x="8" y="55"/>
                        </a:lnTo>
                        <a:lnTo>
                          <a:pt x="8" y="46"/>
                        </a:lnTo>
                        <a:lnTo>
                          <a:pt x="8" y="42"/>
                        </a:lnTo>
                        <a:lnTo>
                          <a:pt x="0" y="34"/>
                        </a:lnTo>
                        <a:lnTo>
                          <a:pt x="0" y="25"/>
                        </a:lnTo>
                        <a:lnTo>
                          <a:pt x="0" y="21"/>
                        </a:lnTo>
                        <a:lnTo>
                          <a:pt x="0" y="12"/>
                        </a:lnTo>
                        <a:lnTo>
                          <a:pt x="0" y="4"/>
                        </a:lnTo>
                        <a:lnTo>
                          <a:pt x="0" y="0"/>
                        </a:lnTo>
                        <a:lnTo>
                          <a:pt x="0" y="4"/>
                        </a:lnTo>
                        <a:lnTo>
                          <a:pt x="0" y="12"/>
                        </a:lnTo>
                        <a:lnTo>
                          <a:pt x="0" y="21"/>
                        </a:lnTo>
                        <a:lnTo>
                          <a:pt x="0" y="25"/>
                        </a:lnTo>
                        <a:lnTo>
                          <a:pt x="0" y="34"/>
                        </a:lnTo>
                        <a:lnTo>
                          <a:pt x="0" y="38"/>
                        </a:lnTo>
                        <a:lnTo>
                          <a:pt x="0" y="46"/>
                        </a:lnTo>
                        <a:lnTo>
                          <a:pt x="0" y="55"/>
                        </a:lnTo>
                        <a:lnTo>
                          <a:pt x="0" y="59"/>
                        </a:lnTo>
                        <a:lnTo>
                          <a:pt x="0" y="68"/>
                        </a:lnTo>
                        <a:lnTo>
                          <a:pt x="0" y="6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" name=""/>
                  <p:cNvSpPr/>
                  <p:nvPr/>
                </p:nvSpPr>
                <p:spPr>
                  <a:xfrm>
                    <a:off x="4281120" y="5271840"/>
                    <a:ext cx="39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4" h="34">
                        <a:moveTo>
                          <a:pt x="7" y="29"/>
                        </a:moveTo>
                        <a:lnTo>
                          <a:pt x="14" y="29"/>
                        </a:lnTo>
                        <a:lnTo>
                          <a:pt x="14" y="25"/>
                        </a:lnTo>
                        <a:lnTo>
                          <a:pt x="14" y="21"/>
                        </a:lnTo>
                        <a:lnTo>
                          <a:pt x="7" y="17"/>
                        </a:lnTo>
                        <a:lnTo>
                          <a:pt x="7" y="17"/>
                        </a:lnTo>
                        <a:lnTo>
                          <a:pt x="7" y="12"/>
                        </a:lnTo>
                        <a:lnTo>
                          <a:pt x="7" y="8"/>
                        </a:lnTo>
                        <a:lnTo>
                          <a:pt x="0" y="4"/>
                        </a:lnTo>
                        <a:lnTo>
                          <a:pt x="0" y="4"/>
                        </a:lnTo>
                        <a:lnTo>
                          <a:pt x="0" y="0"/>
                        </a:lnTo>
                        <a:lnTo>
                          <a:pt x="0" y="4"/>
                        </a:lnTo>
                        <a:lnTo>
                          <a:pt x="0" y="4"/>
                        </a:lnTo>
                        <a:lnTo>
                          <a:pt x="7" y="8"/>
                        </a:lnTo>
                        <a:lnTo>
                          <a:pt x="7" y="12"/>
                        </a:lnTo>
                        <a:lnTo>
                          <a:pt x="7" y="17"/>
                        </a:lnTo>
                        <a:lnTo>
                          <a:pt x="7" y="21"/>
                        </a:lnTo>
                        <a:lnTo>
                          <a:pt x="7" y="21"/>
                        </a:lnTo>
                        <a:lnTo>
                          <a:pt x="14" y="25"/>
                        </a:lnTo>
                        <a:lnTo>
                          <a:pt x="14" y="29"/>
                        </a:lnTo>
                        <a:lnTo>
                          <a:pt x="14" y="34"/>
                        </a:lnTo>
                        <a:lnTo>
                          <a:pt x="14" y="34"/>
                        </a:lnTo>
                        <a:lnTo>
                          <a:pt x="7" y="2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" name=""/>
                  <p:cNvSpPr/>
                  <p:nvPr/>
                </p:nvSpPr>
                <p:spPr>
                  <a:xfrm>
                    <a:off x="5236560" y="5279760"/>
                    <a:ext cx="321120" cy="77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099" h="2828">
                        <a:moveTo>
                          <a:pt x="571" y="2654"/>
                        </a:moveTo>
                        <a:lnTo>
                          <a:pt x="585" y="2476"/>
                        </a:lnTo>
                        <a:lnTo>
                          <a:pt x="585" y="2306"/>
                        </a:lnTo>
                        <a:lnTo>
                          <a:pt x="571" y="2137"/>
                        </a:lnTo>
                        <a:lnTo>
                          <a:pt x="557" y="1972"/>
                        </a:lnTo>
                        <a:lnTo>
                          <a:pt x="535" y="1806"/>
                        </a:lnTo>
                        <a:lnTo>
                          <a:pt x="514" y="1641"/>
                        </a:lnTo>
                        <a:lnTo>
                          <a:pt x="499" y="1476"/>
                        </a:lnTo>
                        <a:lnTo>
                          <a:pt x="485" y="1306"/>
                        </a:lnTo>
                        <a:lnTo>
                          <a:pt x="485" y="1132"/>
                        </a:lnTo>
                        <a:lnTo>
                          <a:pt x="499" y="958"/>
                        </a:lnTo>
                        <a:lnTo>
                          <a:pt x="542" y="958"/>
                        </a:lnTo>
                        <a:lnTo>
                          <a:pt x="585" y="963"/>
                        </a:lnTo>
                        <a:lnTo>
                          <a:pt x="628" y="963"/>
                        </a:lnTo>
                        <a:lnTo>
                          <a:pt x="664" y="958"/>
                        </a:lnTo>
                        <a:lnTo>
                          <a:pt x="707" y="954"/>
                        </a:lnTo>
                        <a:lnTo>
                          <a:pt x="749" y="954"/>
                        </a:lnTo>
                        <a:lnTo>
                          <a:pt x="792" y="946"/>
                        </a:lnTo>
                        <a:lnTo>
                          <a:pt x="835" y="941"/>
                        </a:lnTo>
                        <a:lnTo>
                          <a:pt x="871" y="933"/>
                        </a:lnTo>
                        <a:lnTo>
                          <a:pt x="914" y="924"/>
                        </a:lnTo>
                        <a:lnTo>
                          <a:pt x="914" y="895"/>
                        </a:lnTo>
                        <a:lnTo>
                          <a:pt x="1085" y="814"/>
                        </a:lnTo>
                        <a:lnTo>
                          <a:pt x="1092" y="793"/>
                        </a:lnTo>
                        <a:lnTo>
                          <a:pt x="1099" y="768"/>
                        </a:lnTo>
                        <a:lnTo>
                          <a:pt x="1099" y="746"/>
                        </a:lnTo>
                        <a:lnTo>
                          <a:pt x="1092" y="725"/>
                        </a:lnTo>
                        <a:lnTo>
                          <a:pt x="1085" y="704"/>
                        </a:lnTo>
                        <a:lnTo>
                          <a:pt x="1071" y="683"/>
                        </a:lnTo>
                        <a:lnTo>
                          <a:pt x="1049" y="662"/>
                        </a:lnTo>
                        <a:lnTo>
                          <a:pt x="1028" y="645"/>
                        </a:lnTo>
                        <a:lnTo>
                          <a:pt x="1006" y="628"/>
                        </a:lnTo>
                        <a:lnTo>
                          <a:pt x="978" y="611"/>
                        </a:lnTo>
                        <a:lnTo>
                          <a:pt x="949" y="607"/>
                        </a:lnTo>
                        <a:lnTo>
                          <a:pt x="914" y="598"/>
                        </a:lnTo>
                        <a:lnTo>
                          <a:pt x="878" y="594"/>
                        </a:lnTo>
                        <a:lnTo>
                          <a:pt x="842" y="590"/>
                        </a:lnTo>
                        <a:lnTo>
                          <a:pt x="806" y="585"/>
                        </a:lnTo>
                        <a:lnTo>
                          <a:pt x="771" y="581"/>
                        </a:lnTo>
                        <a:lnTo>
                          <a:pt x="735" y="581"/>
                        </a:lnTo>
                        <a:lnTo>
                          <a:pt x="699" y="585"/>
                        </a:lnTo>
                        <a:lnTo>
                          <a:pt x="671" y="590"/>
                        </a:lnTo>
                        <a:lnTo>
                          <a:pt x="635" y="602"/>
                        </a:lnTo>
                        <a:lnTo>
                          <a:pt x="614" y="577"/>
                        </a:lnTo>
                        <a:lnTo>
                          <a:pt x="614" y="556"/>
                        </a:lnTo>
                        <a:lnTo>
                          <a:pt x="621" y="539"/>
                        </a:lnTo>
                        <a:lnTo>
                          <a:pt x="649" y="526"/>
                        </a:lnTo>
                        <a:lnTo>
                          <a:pt x="685" y="513"/>
                        </a:lnTo>
                        <a:lnTo>
                          <a:pt x="721" y="505"/>
                        </a:lnTo>
                        <a:lnTo>
                          <a:pt x="756" y="492"/>
                        </a:lnTo>
                        <a:lnTo>
                          <a:pt x="792" y="479"/>
                        </a:lnTo>
                        <a:lnTo>
                          <a:pt x="821" y="458"/>
                        </a:lnTo>
                        <a:lnTo>
                          <a:pt x="842" y="437"/>
                        </a:lnTo>
                        <a:lnTo>
                          <a:pt x="864" y="416"/>
                        </a:lnTo>
                        <a:lnTo>
                          <a:pt x="871" y="395"/>
                        </a:lnTo>
                        <a:lnTo>
                          <a:pt x="878" y="373"/>
                        </a:lnTo>
                        <a:lnTo>
                          <a:pt x="878" y="352"/>
                        </a:lnTo>
                        <a:lnTo>
                          <a:pt x="871" y="327"/>
                        </a:lnTo>
                        <a:lnTo>
                          <a:pt x="864" y="306"/>
                        </a:lnTo>
                        <a:lnTo>
                          <a:pt x="856" y="280"/>
                        </a:lnTo>
                        <a:lnTo>
                          <a:pt x="849" y="259"/>
                        </a:lnTo>
                        <a:lnTo>
                          <a:pt x="842" y="233"/>
                        </a:lnTo>
                        <a:lnTo>
                          <a:pt x="842" y="212"/>
                        </a:lnTo>
                        <a:lnTo>
                          <a:pt x="799" y="204"/>
                        </a:lnTo>
                        <a:lnTo>
                          <a:pt x="771" y="191"/>
                        </a:lnTo>
                        <a:lnTo>
                          <a:pt x="749" y="170"/>
                        </a:lnTo>
                        <a:lnTo>
                          <a:pt x="728" y="149"/>
                        </a:lnTo>
                        <a:lnTo>
                          <a:pt x="714" y="123"/>
                        </a:lnTo>
                        <a:lnTo>
                          <a:pt x="699" y="94"/>
                        </a:lnTo>
                        <a:lnTo>
                          <a:pt x="685" y="68"/>
                        </a:lnTo>
                        <a:lnTo>
                          <a:pt x="664" y="43"/>
                        </a:lnTo>
                        <a:lnTo>
                          <a:pt x="649" y="17"/>
                        </a:lnTo>
                        <a:lnTo>
                          <a:pt x="621" y="0"/>
                        </a:lnTo>
                        <a:lnTo>
                          <a:pt x="599" y="43"/>
                        </a:lnTo>
                        <a:lnTo>
                          <a:pt x="585" y="85"/>
                        </a:lnTo>
                        <a:lnTo>
                          <a:pt x="557" y="127"/>
                        </a:lnTo>
                        <a:lnTo>
                          <a:pt x="535" y="170"/>
                        </a:lnTo>
                        <a:lnTo>
                          <a:pt x="514" y="212"/>
                        </a:lnTo>
                        <a:lnTo>
                          <a:pt x="492" y="255"/>
                        </a:lnTo>
                        <a:lnTo>
                          <a:pt x="478" y="297"/>
                        </a:lnTo>
                        <a:lnTo>
                          <a:pt x="464" y="339"/>
                        </a:lnTo>
                        <a:lnTo>
                          <a:pt x="457" y="382"/>
                        </a:lnTo>
                        <a:lnTo>
                          <a:pt x="464" y="428"/>
                        </a:lnTo>
                        <a:lnTo>
                          <a:pt x="464" y="441"/>
                        </a:lnTo>
                        <a:lnTo>
                          <a:pt x="478" y="454"/>
                        </a:lnTo>
                        <a:lnTo>
                          <a:pt x="492" y="462"/>
                        </a:lnTo>
                        <a:lnTo>
                          <a:pt x="507" y="471"/>
                        </a:lnTo>
                        <a:lnTo>
                          <a:pt x="521" y="484"/>
                        </a:lnTo>
                        <a:lnTo>
                          <a:pt x="535" y="492"/>
                        </a:lnTo>
                        <a:lnTo>
                          <a:pt x="557" y="501"/>
                        </a:lnTo>
                        <a:lnTo>
                          <a:pt x="564" y="513"/>
                        </a:lnTo>
                        <a:lnTo>
                          <a:pt x="571" y="526"/>
                        </a:lnTo>
                        <a:lnTo>
                          <a:pt x="571" y="539"/>
                        </a:lnTo>
                        <a:lnTo>
                          <a:pt x="571" y="577"/>
                        </a:lnTo>
                        <a:lnTo>
                          <a:pt x="557" y="598"/>
                        </a:lnTo>
                        <a:lnTo>
                          <a:pt x="521" y="611"/>
                        </a:lnTo>
                        <a:lnTo>
                          <a:pt x="478" y="619"/>
                        </a:lnTo>
                        <a:lnTo>
                          <a:pt x="428" y="615"/>
                        </a:lnTo>
                        <a:lnTo>
                          <a:pt x="371" y="615"/>
                        </a:lnTo>
                        <a:lnTo>
                          <a:pt x="307" y="611"/>
                        </a:lnTo>
                        <a:lnTo>
                          <a:pt x="250" y="607"/>
                        </a:lnTo>
                        <a:lnTo>
                          <a:pt x="200" y="611"/>
                        </a:lnTo>
                        <a:lnTo>
                          <a:pt x="157" y="619"/>
                        </a:lnTo>
                        <a:lnTo>
                          <a:pt x="128" y="623"/>
                        </a:lnTo>
                        <a:lnTo>
                          <a:pt x="100" y="636"/>
                        </a:lnTo>
                        <a:lnTo>
                          <a:pt x="78" y="645"/>
                        </a:lnTo>
                        <a:lnTo>
                          <a:pt x="57" y="662"/>
                        </a:lnTo>
                        <a:lnTo>
                          <a:pt x="43" y="674"/>
                        </a:lnTo>
                        <a:lnTo>
                          <a:pt x="28" y="691"/>
                        </a:lnTo>
                        <a:lnTo>
                          <a:pt x="14" y="708"/>
                        </a:lnTo>
                        <a:lnTo>
                          <a:pt x="7" y="725"/>
                        </a:lnTo>
                        <a:lnTo>
                          <a:pt x="0" y="746"/>
                        </a:lnTo>
                        <a:lnTo>
                          <a:pt x="0" y="763"/>
                        </a:lnTo>
                        <a:lnTo>
                          <a:pt x="21" y="780"/>
                        </a:lnTo>
                        <a:lnTo>
                          <a:pt x="43" y="797"/>
                        </a:lnTo>
                        <a:lnTo>
                          <a:pt x="64" y="818"/>
                        </a:lnTo>
                        <a:lnTo>
                          <a:pt x="85" y="840"/>
                        </a:lnTo>
                        <a:lnTo>
                          <a:pt x="114" y="857"/>
                        </a:lnTo>
                        <a:lnTo>
                          <a:pt x="135" y="874"/>
                        </a:lnTo>
                        <a:lnTo>
                          <a:pt x="164" y="891"/>
                        </a:lnTo>
                        <a:lnTo>
                          <a:pt x="200" y="899"/>
                        </a:lnTo>
                        <a:lnTo>
                          <a:pt x="235" y="908"/>
                        </a:lnTo>
                        <a:lnTo>
                          <a:pt x="278" y="908"/>
                        </a:lnTo>
                        <a:lnTo>
                          <a:pt x="278" y="2442"/>
                        </a:lnTo>
                        <a:lnTo>
                          <a:pt x="278" y="2480"/>
                        </a:lnTo>
                        <a:lnTo>
                          <a:pt x="278" y="2523"/>
                        </a:lnTo>
                        <a:lnTo>
                          <a:pt x="278" y="2565"/>
                        </a:lnTo>
                        <a:lnTo>
                          <a:pt x="278" y="2603"/>
                        </a:lnTo>
                        <a:lnTo>
                          <a:pt x="271" y="2646"/>
                        </a:lnTo>
                        <a:lnTo>
                          <a:pt x="271" y="2684"/>
                        </a:lnTo>
                        <a:lnTo>
                          <a:pt x="264" y="2722"/>
                        </a:lnTo>
                        <a:lnTo>
                          <a:pt x="250" y="2760"/>
                        </a:lnTo>
                        <a:lnTo>
                          <a:pt x="235" y="2794"/>
                        </a:lnTo>
                        <a:lnTo>
                          <a:pt x="214" y="2828"/>
                        </a:lnTo>
                        <a:lnTo>
                          <a:pt x="271" y="2828"/>
                        </a:lnTo>
                        <a:lnTo>
                          <a:pt x="321" y="2828"/>
                        </a:lnTo>
                        <a:lnTo>
                          <a:pt x="371" y="2819"/>
                        </a:lnTo>
                        <a:lnTo>
                          <a:pt x="421" y="2811"/>
                        </a:lnTo>
                        <a:lnTo>
                          <a:pt x="464" y="2798"/>
                        </a:lnTo>
                        <a:lnTo>
                          <a:pt x="499" y="2781"/>
                        </a:lnTo>
                        <a:lnTo>
                          <a:pt x="528" y="2756"/>
                        </a:lnTo>
                        <a:lnTo>
                          <a:pt x="549" y="2730"/>
                        </a:lnTo>
                        <a:lnTo>
                          <a:pt x="564" y="2692"/>
                        </a:lnTo>
                        <a:lnTo>
                          <a:pt x="571" y="2654"/>
                        </a:lnTo>
                        <a:lnTo>
                          <a:pt x="571" y="265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7" name=""/>
                  <p:cNvSpPr/>
                  <p:nvPr/>
                </p:nvSpPr>
                <p:spPr>
                  <a:xfrm>
                    <a:off x="4667040" y="5259960"/>
                    <a:ext cx="321120" cy="7711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9" h="2798">
                        <a:moveTo>
                          <a:pt x="300" y="2769"/>
                        </a:moveTo>
                        <a:lnTo>
                          <a:pt x="428" y="2667"/>
                        </a:lnTo>
                        <a:lnTo>
                          <a:pt x="514" y="2548"/>
                        </a:lnTo>
                        <a:lnTo>
                          <a:pt x="557" y="2412"/>
                        </a:lnTo>
                        <a:lnTo>
                          <a:pt x="571" y="2260"/>
                        </a:lnTo>
                        <a:lnTo>
                          <a:pt x="557" y="2099"/>
                        </a:lnTo>
                        <a:lnTo>
                          <a:pt x="528" y="1933"/>
                        </a:lnTo>
                        <a:lnTo>
                          <a:pt x="485" y="1760"/>
                        </a:lnTo>
                        <a:lnTo>
                          <a:pt x="442" y="1586"/>
                        </a:lnTo>
                        <a:lnTo>
                          <a:pt x="407" y="1412"/>
                        </a:lnTo>
                        <a:lnTo>
                          <a:pt x="378" y="1242"/>
                        </a:lnTo>
                        <a:lnTo>
                          <a:pt x="421" y="1255"/>
                        </a:lnTo>
                        <a:lnTo>
                          <a:pt x="464" y="1272"/>
                        </a:lnTo>
                        <a:lnTo>
                          <a:pt x="500" y="1289"/>
                        </a:lnTo>
                        <a:lnTo>
                          <a:pt x="542" y="1302"/>
                        </a:lnTo>
                        <a:lnTo>
                          <a:pt x="571" y="1314"/>
                        </a:lnTo>
                        <a:lnTo>
                          <a:pt x="607" y="1327"/>
                        </a:lnTo>
                        <a:lnTo>
                          <a:pt x="628" y="1336"/>
                        </a:lnTo>
                        <a:lnTo>
                          <a:pt x="649" y="1340"/>
                        </a:lnTo>
                        <a:lnTo>
                          <a:pt x="657" y="1336"/>
                        </a:lnTo>
                        <a:lnTo>
                          <a:pt x="664" y="1327"/>
                        </a:lnTo>
                        <a:lnTo>
                          <a:pt x="699" y="1289"/>
                        </a:lnTo>
                        <a:lnTo>
                          <a:pt x="728" y="1251"/>
                        </a:lnTo>
                        <a:lnTo>
                          <a:pt x="749" y="1213"/>
                        </a:lnTo>
                        <a:lnTo>
                          <a:pt x="764" y="1179"/>
                        </a:lnTo>
                        <a:lnTo>
                          <a:pt x="778" y="1141"/>
                        </a:lnTo>
                        <a:lnTo>
                          <a:pt x="799" y="1107"/>
                        </a:lnTo>
                        <a:lnTo>
                          <a:pt x="821" y="1073"/>
                        </a:lnTo>
                        <a:lnTo>
                          <a:pt x="849" y="1043"/>
                        </a:lnTo>
                        <a:lnTo>
                          <a:pt x="892" y="1013"/>
                        </a:lnTo>
                        <a:lnTo>
                          <a:pt x="949" y="988"/>
                        </a:lnTo>
                        <a:lnTo>
                          <a:pt x="949" y="992"/>
                        </a:lnTo>
                        <a:lnTo>
                          <a:pt x="956" y="996"/>
                        </a:lnTo>
                        <a:lnTo>
                          <a:pt x="956" y="1001"/>
                        </a:lnTo>
                        <a:lnTo>
                          <a:pt x="964" y="1001"/>
                        </a:lnTo>
                        <a:lnTo>
                          <a:pt x="964" y="1005"/>
                        </a:lnTo>
                        <a:lnTo>
                          <a:pt x="964" y="1009"/>
                        </a:lnTo>
                        <a:lnTo>
                          <a:pt x="971" y="1013"/>
                        </a:lnTo>
                        <a:lnTo>
                          <a:pt x="971" y="1018"/>
                        </a:lnTo>
                        <a:lnTo>
                          <a:pt x="978" y="1022"/>
                        </a:lnTo>
                        <a:lnTo>
                          <a:pt x="978" y="1026"/>
                        </a:lnTo>
                        <a:lnTo>
                          <a:pt x="978" y="967"/>
                        </a:lnTo>
                        <a:lnTo>
                          <a:pt x="992" y="950"/>
                        </a:lnTo>
                        <a:lnTo>
                          <a:pt x="1006" y="933"/>
                        </a:lnTo>
                        <a:lnTo>
                          <a:pt x="1028" y="916"/>
                        </a:lnTo>
                        <a:lnTo>
                          <a:pt x="1049" y="899"/>
                        </a:lnTo>
                        <a:lnTo>
                          <a:pt x="1064" y="886"/>
                        </a:lnTo>
                        <a:lnTo>
                          <a:pt x="1085" y="869"/>
                        </a:lnTo>
                        <a:lnTo>
                          <a:pt x="1092" y="848"/>
                        </a:lnTo>
                        <a:lnTo>
                          <a:pt x="1099" y="831"/>
                        </a:lnTo>
                        <a:lnTo>
                          <a:pt x="1099" y="810"/>
                        </a:lnTo>
                        <a:lnTo>
                          <a:pt x="1092" y="784"/>
                        </a:lnTo>
                        <a:lnTo>
                          <a:pt x="1078" y="772"/>
                        </a:lnTo>
                        <a:lnTo>
                          <a:pt x="1071" y="759"/>
                        </a:lnTo>
                        <a:lnTo>
                          <a:pt x="1049" y="751"/>
                        </a:lnTo>
                        <a:lnTo>
                          <a:pt x="1035" y="742"/>
                        </a:lnTo>
                        <a:lnTo>
                          <a:pt x="1014" y="734"/>
                        </a:lnTo>
                        <a:lnTo>
                          <a:pt x="999" y="725"/>
                        </a:lnTo>
                        <a:lnTo>
                          <a:pt x="978" y="717"/>
                        </a:lnTo>
                        <a:lnTo>
                          <a:pt x="956" y="708"/>
                        </a:lnTo>
                        <a:lnTo>
                          <a:pt x="935" y="700"/>
                        </a:lnTo>
                        <a:lnTo>
                          <a:pt x="921" y="691"/>
                        </a:lnTo>
                        <a:lnTo>
                          <a:pt x="885" y="687"/>
                        </a:lnTo>
                        <a:lnTo>
                          <a:pt x="849" y="683"/>
                        </a:lnTo>
                        <a:lnTo>
                          <a:pt x="807" y="683"/>
                        </a:lnTo>
                        <a:lnTo>
                          <a:pt x="764" y="683"/>
                        </a:lnTo>
                        <a:lnTo>
                          <a:pt x="728" y="683"/>
                        </a:lnTo>
                        <a:lnTo>
                          <a:pt x="685" y="687"/>
                        </a:lnTo>
                        <a:lnTo>
                          <a:pt x="649" y="687"/>
                        </a:lnTo>
                        <a:lnTo>
                          <a:pt x="614" y="683"/>
                        </a:lnTo>
                        <a:lnTo>
                          <a:pt x="578" y="683"/>
                        </a:lnTo>
                        <a:lnTo>
                          <a:pt x="550" y="674"/>
                        </a:lnTo>
                        <a:lnTo>
                          <a:pt x="564" y="649"/>
                        </a:lnTo>
                        <a:lnTo>
                          <a:pt x="585" y="632"/>
                        </a:lnTo>
                        <a:lnTo>
                          <a:pt x="607" y="615"/>
                        </a:lnTo>
                        <a:lnTo>
                          <a:pt x="635" y="602"/>
                        </a:lnTo>
                        <a:lnTo>
                          <a:pt x="671" y="589"/>
                        </a:lnTo>
                        <a:lnTo>
                          <a:pt x="699" y="581"/>
                        </a:lnTo>
                        <a:lnTo>
                          <a:pt x="735" y="568"/>
                        </a:lnTo>
                        <a:lnTo>
                          <a:pt x="764" y="556"/>
                        </a:lnTo>
                        <a:lnTo>
                          <a:pt x="792" y="539"/>
                        </a:lnTo>
                        <a:lnTo>
                          <a:pt x="821" y="522"/>
                        </a:lnTo>
                        <a:lnTo>
                          <a:pt x="864" y="467"/>
                        </a:lnTo>
                        <a:lnTo>
                          <a:pt x="878" y="411"/>
                        </a:lnTo>
                        <a:lnTo>
                          <a:pt x="871" y="356"/>
                        </a:lnTo>
                        <a:lnTo>
                          <a:pt x="842" y="305"/>
                        </a:lnTo>
                        <a:lnTo>
                          <a:pt x="799" y="255"/>
                        </a:lnTo>
                        <a:lnTo>
                          <a:pt x="749" y="204"/>
                        </a:lnTo>
                        <a:lnTo>
                          <a:pt x="707" y="153"/>
                        </a:lnTo>
                        <a:lnTo>
                          <a:pt x="657" y="102"/>
                        </a:lnTo>
                        <a:lnTo>
                          <a:pt x="621" y="51"/>
                        </a:lnTo>
                        <a:lnTo>
                          <a:pt x="600" y="0"/>
                        </a:lnTo>
                        <a:lnTo>
                          <a:pt x="607" y="38"/>
                        </a:lnTo>
                        <a:lnTo>
                          <a:pt x="607" y="77"/>
                        </a:lnTo>
                        <a:lnTo>
                          <a:pt x="600" y="115"/>
                        </a:lnTo>
                        <a:lnTo>
                          <a:pt x="585" y="153"/>
                        </a:lnTo>
                        <a:lnTo>
                          <a:pt x="571" y="195"/>
                        </a:lnTo>
                        <a:lnTo>
                          <a:pt x="557" y="233"/>
                        </a:lnTo>
                        <a:lnTo>
                          <a:pt x="528" y="272"/>
                        </a:lnTo>
                        <a:lnTo>
                          <a:pt x="507" y="305"/>
                        </a:lnTo>
                        <a:lnTo>
                          <a:pt x="478" y="344"/>
                        </a:lnTo>
                        <a:lnTo>
                          <a:pt x="442" y="378"/>
                        </a:lnTo>
                        <a:lnTo>
                          <a:pt x="421" y="411"/>
                        </a:lnTo>
                        <a:lnTo>
                          <a:pt x="414" y="445"/>
                        </a:lnTo>
                        <a:lnTo>
                          <a:pt x="407" y="479"/>
                        </a:lnTo>
                        <a:lnTo>
                          <a:pt x="407" y="513"/>
                        </a:lnTo>
                        <a:lnTo>
                          <a:pt x="414" y="547"/>
                        </a:lnTo>
                        <a:lnTo>
                          <a:pt x="428" y="577"/>
                        </a:lnTo>
                        <a:lnTo>
                          <a:pt x="442" y="611"/>
                        </a:lnTo>
                        <a:lnTo>
                          <a:pt x="464" y="640"/>
                        </a:lnTo>
                        <a:lnTo>
                          <a:pt x="485" y="670"/>
                        </a:lnTo>
                        <a:lnTo>
                          <a:pt x="514" y="704"/>
                        </a:lnTo>
                        <a:lnTo>
                          <a:pt x="485" y="721"/>
                        </a:lnTo>
                        <a:lnTo>
                          <a:pt x="450" y="729"/>
                        </a:lnTo>
                        <a:lnTo>
                          <a:pt x="414" y="734"/>
                        </a:lnTo>
                        <a:lnTo>
                          <a:pt x="378" y="734"/>
                        </a:lnTo>
                        <a:lnTo>
                          <a:pt x="343" y="729"/>
                        </a:lnTo>
                        <a:lnTo>
                          <a:pt x="300" y="725"/>
                        </a:lnTo>
                        <a:lnTo>
                          <a:pt x="264" y="721"/>
                        </a:lnTo>
                        <a:lnTo>
                          <a:pt x="221" y="721"/>
                        </a:lnTo>
                        <a:lnTo>
                          <a:pt x="185" y="725"/>
                        </a:lnTo>
                        <a:lnTo>
                          <a:pt x="150" y="734"/>
                        </a:lnTo>
                        <a:lnTo>
                          <a:pt x="128" y="755"/>
                        </a:lnTo>
                        <a:lnTo>
                          <a:pt x="107" y="780"/>
                        </a:lnTo>
                        <a:lnTo>
                          <a:pt x="78" y="801"/>
                        </a:lnTo>
                        <a:lnTo>
                          <a:pt x="50" y="827"/>
                        </a:lnTo>
                        <a:lnTo>
                          <a:pt x="28" y="848"/>
                        </a:lnTo>
                        <a:lnTo>
                          <a:pt x="7" y="874"/>
                        </a:lnTo>
                        <a:lnTo>
                          <a:pt x="0" y="899"/>
                        </a:lnTo>
                        <a:lnTo>
                          <a:pt x="7" y="924"/>
                        </a:lnTo>
                        <a:lnTo>
                          <a:pt x="21" y="950"/>
                        </a:lnTo>
                        <a:lnTo>
                          <a:pt x="64" y="980"/>
                        </a:lnTo>
                        <a:lnTo>
                          <a:pt x="64" y="1022"/>
                        </a:lnTo>
                        <a:lnTo>
                          <a:pt x="57" y="1064"/>
                        </a:lnTo>
                        <a:lnTo>
                          <a:pt x="50" y="1111"/>
                        </a:lnTo>
                        <a:lnTo>
                          <a:pt x="50" y="1153"/>
                        </a:lnTo>
                        <a:lnTo>
                          <a:pt x="50" y="1196"/>
                        </a:lnTo>
                        <a:lnTo>
                          <a:pt x="57" y="1238"/>
                        </a:lnTo>
                        <a:lnTo>
                          <a:pt x="71" y="1276"/>
                        </a:lnTo>
                        <a:lnTo>
                          <a:pt x="107" y="1310"/>
                        </a:lnTo>
                        <a:lnTo>
                          <a:pt x="150" y="1340"/>
                        </a:lnTo>
                        <a:lnTo>
                          <a:pt x="207" y="1365"/>
                        </a:lnTo>
                        <a:lnTo>
                          <a:pt x="207" y="2239"/>
                        </a:lnTo>
                        <a:lnTo>
                          <a:pt x="207" y="2289"/>
                        </a:lnTo>
                        <a:lnTo>
                          <a:pt x="193" y="2336"/>
                        </a:lnTo>
                        <a:lnTo>
                          <a:pt x="178" y="2387"/>
                        </a:lnTo>
                        <a:lnTo>
                          <a:pt x="157" y="2434"/>
                        </a:lnTo>
                        <a:lnTo>
                          <a:pt x="143" y="2484"/>
                        </a:lnTo>
                        <a:lnTo>
                          <a:pt x="128" y="2531"/>
                        </a:lnTo>
                        <a:lnTo>
                          <a:pt x="114" y="2578"/>
                        </a:lnTo>
                        <a:lnTo>
                          <a:pt x="114" y="2624"/>
                        </a:lnTo>
                        <a:lnTo>
                          <a:pt x="128" y="2671"/>
                        </a:lnTo>
                        <a:lnTo>
                          <a:pt x="150" y="2718"/>
                        </a:lnTo>
                        <a:lnTo>
                          <a:pt x="143" y="2726"/>
                        </a:lnTo>
                        <a:lnTo>
                          <a:pt x="143" y="2730"/>
                        </a:lnTo>
                        <a:lnTo>
                          <a:pt x="143" y="2739"/>
                        </a:lnTo>
                        <a:lnTo>
                          <a:pt x="135" y="2747"/>
                        </a:lnTo>
                        <a:lnTo>
                          <a:pt x="135" y="2756"/>
                        </a:lnTo>
                        <a:lnTo>
                          <a:pt x="135" y="2764"/>
                        </a:lnTo>
                        <a:lnTo>
                          <a:pt x="128" y="2769"/>
                        </a:lnTo>
                        <a:lnTo>
                          <a:pt x="128" y="2777"/>
                        </a:lnTo>
                        <a:lnTo>
                          <a:pt x="128" y="2785"/>
                        </a:lnTo>
                        <a:lnTo>
                          <a:pt x="121" y="2794"/>
                        </a:lnTo>
                        <a:lnTo>
                          <a:pt x="143" y="2798"/>
                        </a:lnTo>
                        <a:lnTo>
                          <a:pt x="157" y="2798"/>
                        </a:lnTo>
                        <a:lnTo>
                          <a:pt x="171" y="2798"/>
                        </a:lnTo>
                        <a:lnTo>
                          <a:pt x="193" y="2798"/>
                        </a:lnTo>
                        <a:lnTo>
                          <a:pt x="214" y="2798"/>
                        </a:lnTo>
                        <a:lnTo>
                          <a:pt x="228" y="2794"/>
                        </a:lnTo>
                        <a:lnTo>
                          <a:pt x="250" y="2790"/>
                        </a:lnTo>
                        <a:lnTo>
                          <a:pt x="264" y="2785"/>
                        </a:lnTo>
                        <a:lnTo>
                          <a:pt x="285" y="2777"/>
                        </a:lnTo>
                        <a:lnTo>
                          <a:pt x="307" y="2769"/>
                        </a:lnTo>
                        <a:lnTo>
                          <a:pt x="307" y="2769"/>
                        </a:lnTo>
                        <a:lnTo>
                          <a:pt x="300" y="276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"/>
                  <p:cNvSpPr/>
                  <p:nvPr/>
                </p:nvSpPr>
                <p:spPr>
                  <a:xfrm>
                    <a:off x="5267880" y="5534640"/>
                    <a:ext cx="379440" cy="651960"/>
                  </a:xfrm>
                  <a:custGeom>
                    <a:avLst/>
                    <a:gdLst/>
                    <a:ahLst/>
                    <a:rect l="l" t="t" r="r" b="b"/>
                    <a:pathLst>
                      <a:path w="1299" h="2366">
                        <a:moveTo>
                          <a:pt x="1292" y="1976"/>
                        </a:moveTo>
                        <a:lnTo>
                          <a:pt x="1242" y="1942"/>
                        </a:lnTo>
                        <a:lnTo>
                          <a:pt x="1185" y="1908"/>
                        </a:lnTo>
                        <a:lnTo>
                          <a:pt x="1128" y="1874"/>
                        </a:lnTo>
                        <a:lnTo>
                          <a:pt x="1064" y="1836"/>
                        </a:lnTo>
                        <a:lnTo>
                          <a:pt x="1014" y="1798"/>
                        </a:lnTo>
                        <a:lnTo>
                          <a:pt x="956" y="1756"/>
                        </a:lnTo>
                        <a:lnTo>
                          <a:pt x="914" y="1709"/>
                        </a:lnTo>
                        <a:lnTo>
                          <a:pt x="885" y="1662"/>
                        </a:lnTo>
                        <a:lnTo>
                          <a:pt x="864" y="1611"/>
                        </a:lnTo>
                        <a:lnTo>
                          <a:pt x="857" y="1561"/>
                        </a:lnTo>
                        <a:lnTo>
                          <a:pt x="807" y="0"/>
                        </a:lnTo>
                        <a:lnTo>
                          <a:pt x="764" y="9"/>
                        </a:lnTo>
                        <a:lnTo>
                          <a:pt x="728" y="17"/>
                        </a:lnTo>
                        <a:lnTo>
                          <a:pt x="685" y="22"/>
                        </a:lnTo>
                        <a:lnTo>
                          <a:pt x="642" y="30"/>
                        </a:lnTo>
                        <a:lnTo>
                          <a:pt x="600" y="30"/>
                        </a:lnTo>
                        <a:lnTo>
                          <a:pt x="557" y="34"/>
                        </a:lnTo>
                        <a:lnTo>
                          <a:pt x="521" y="39"/>
                        </a:lnTo>
                        <a:lnTo>
                          <a:pt x="478" y="39"/>
                        </a:lnTo>
                        <a:lnTo>
                          <a:pt x="435" y="34"/>
                        </a:lnTo>
                        <a:lnTo>
                          <a:pt x="392" y="34"/>
                        </a:lnTo>
                        <a:lnTo>
                          <a:pt x="378" y="208"/>
                        </a:lnTo>
                        <a:lnTo>
                          <a:pt x="378" y="382"/>
                        </a:lnTo>
                        <a:lnTo>
                          <a:pt x="392" y="552"/>
                        </a:lnTo>
                        <a:lnTo>
                          <a:pt x="407" y="717"/>
                        </a:lnTo>
                        <a:lnTo>
                          <a:pt x="428" y="882"/>
                        </a:lnTo>
                        <a:lnTo>
                          <a:pt x="450" y="1048"/>
                        </a:lnTo>
                        <a:lnTo>
                          <a:pt x="464" y="1213"/>
                        </a:lnTo>
                        <a:lnTo>
                          <a:pt x="478" y="1382"/>
                        </a:lnTo>
                        <a:lnTo>
                          <a:pt x="478" y="1552"/>
                        </a:lnTo>
                        <a:lnTo>
                          <a:pt x="464" y="1730"/>
                        </a:lnTo>
                        <a:lnTo>
                          <a:pt x="457" y="1768"/>
                        </a:lnTo>
                        <a:lnTo>
                          <a:pt x="442" y="1806"/>
                        </a:lnTo>
                        <a:lnTo>
                          <a:pt x="421" y="1832"/>
                        </a:lnTo>
                        <a:lnTo>
                          <a:pt x="392" y="1857"/>
                        </a:lnTo>
                        <a:lnTo>
                          <a:pt x="357" y="1874"/>
                        </a:lnTo>
                        <a:lnTo>
                          <a:pt x="314" y="1887"/>
                        </a:lnTo>
                        <a:lnTo>
                          <a:pt x="264" y="1895"/>
                        </a:lnTo>
                        <a:lnTo>
                          <a:pt x="214" y="1904"/>
                        </a:lnTo>
                        <a:lnTo>
                          <a:pt x="164" y="1904"/>
                        </a:lnTo>
                        <a:lnTo>
                          <a:pt x="107" y="1904"/>
                        </a:lnTo>
                        <a:lnTo>
                          <a:pt x="93" y="1912"/>
                        </a:lnTo>
                        <a:lnTo>
                          <a:pt x="86" y="1921"/>
                        </a:lnTo>
                        <a:lnTo>
                          <a:pt x="78" y="1929"/>
                        </a:lnTo>
                        <a:lnTo>
                          <a:pt x="71" y="1938"/>
                        </a:lnTo>
                        <a:lnTo>
                          <a:pt x="57" y="1946"/>
                        </a:lnTo>
                        <a:lnTo>
                          <a:pt x="50" y="1955"/>
                        </a:lnTo>
                        <a:lnTo>
                          <a:pt x="36" y="1963"/>
                        </a:lnTo>
                        <a:lnTo>
                          <a:pt x="28" y="1972"/>
                        </a:lnTo>
                        <a:lnTo>
                          <a:pt x="14" y="1976"/>
                        </a:lnTo>
                        <a:lnTo>
                          <a:pt x="0" y="1984"/>
                        </a:lnTo>
                        <a:lnTo>
                          <a:pt x="14" y="2006"/>
                        </a:lnTo>
                        <a:lnTo>
                          <a:pt x="28" y="2023"/>
                        </a:lnTo>
                        <a:lnTo>
                          <a:pt x="50" y="2040"/>
                        </a:lnTo>
                        <a:lnTo>
                          <a:pt x="78" y="2052"/>
                        </a:lnTo>
                        <a:lnTo>
                          <a:pt x="107" y="2069"/>
                        </a:lnTo>
                        <a:lnTo>
                          <a:pt x="135" y="2082"/>
                        </a:lnTo>
                        <a:lnTo>
                          <a:pt x="164" y="2090"/>
                        </a:lnTo>
                        <a:lnTo>
                          <a:pt x="200" y="2103"/>
                        </a:lnTo>
                        <a:lnTo>
                          <a:pt x="228" y="2116"/>
                        </a:lnTo>
                        <a:lnTo>
                          <a:pt x="257" y="2129"/>
                        </a:lnTo>
                        <a:lnTo>
                          <a:pt x="250" y="2154"/>
                        </a:lnTo>
                        <a:lnTo>
                          <a:pt x="243" y="2179"/>
                        </a:lnTo>
                        <a:lnTo>
                          <a:pt x="243" y="2201"/>
                        </a:lnTo>
                        <a:lnTo>
                          <a:pt x="235" y="2226"/>
                        </a:lnTo>
                        <a:lnTo>
                          <a:pt x="228" y="2252"/>
                        </a:lnTo>
                        <a:lnTo>
                          <a:pt x="214" y="2277"/>
                        </a:lnTo>
                        <a:lnTo>
                          <a:pt x="200" y="2298"/>
                        </a:lnTo>
                        <a:lnTo>
                          <a:pt x="171" y="2319"/>
                        </a:lnTo>
                        <a:lnTo>
                          <a:pt x="143" y="2336"/>
                        </a:lnTo>
                        <a:lnTo>
                          <a:pt x="100" y="2353"/>
                        </a:lnTo>
                        <a:lnTo>
                          <a:pt x="93" y="2353"/>
                        </a:lnTo>
                        <a:lnTo>
                          <a:pt x="86" y="2358"/>
                        </a:lnTo>
                        <a:lnTo>
                          <a:pt x="78" y="2358"/>
                        </a:lnTo>
                        <a:lnTo>
                          <a:pt x="71" y="2358"/>
                        </a:lnTo>
                        <a:lnTo>
                          <a:pt x="64" y="2358"/>
                        </a:lnTo>
                        <a:lnTo>
                          <a:pt x="57" y="2362"/>
                        </a:lnTo>
                        <a:lnTo>
                          <a:pt x="50" y="2362"/>
                        </a:lnTo>
                        <a:lnTo>
                          <a:pt x="43" y="2362"/>
                        </a:lnTo>
                        <a:lnTo>
                          <a:pt x="36" y="2366"/>
                        </a:lnTo>
                        <a:lnTo>
                          <a:pt x="28" y="2366"/>
                        </a:lnTo>
                        <a:lnTo>
                          <a:pt x="28" y="2366"/>
                        </a:lnTo>
                        <a:lnTo>
                          <a:pt x="28" y="2366"/>
                        </a:lnTo>
                        <a:lnTo>
                          <a:pt x="36" y="2366"/>
                        </a:lnTo>
                        <a:lnTo>
                          <a:pt x="36" y="2366"/>
                        </a:lnTo>
                        <a:lnTo>
                          <a:pt x="36" y="2366"/>
                        </a:lnTo>
                        <a:lnTo>
                          <a:pt x="36" y="2366"/>
                        </a:lnTo>
                        <a:lnTo>
                          <a:pt x="36" y="2366"/>
                        </a:lnTo>
                        <a:lnTo>
                          <a:pt x="36" y="2366"/>
                        </a:lnTo>
                        <a:lnTo>
                          <a:pt x="36" y="2366"/>
                        </a:lnTo>
                        <a:lnTo>
                          <a:pt x="36" y="2366"/>
                        </a:lnTo>
                        <a:lnTo>
                          <a:pt x="107" y="2366"/>
                        </a:lnTo>
                        <a:lnTo>
                          <a:pt x="185" y="2358"/>
                        </a:lnTo>
                        <a:lnTo>
                          <a:pt x="264" y="2349"/>
                        </a:lnTo>
                        <a:lnTo>
                          <a:pt x="350" y="2336"/>
                        </a:lnTo>
                        <a:lnTo>
                          <a:pt x="428" y="2319"/>
                        </a:lnTo>
                        <a:lnTo>
                          <a:pt x="500" y="2294"/>
                        </a:lnTo>
                        <a:lnTo>
                          <a:pt x="557" y="2260"/>
                        </a:lnTo>
                        <a:lnTo>
                          <a:pt x="592" y="2218"/>
                        </a:lnTo>
                        <a:lnTo>
                          <a:pt x="614" y="2171"/>
                        </a:lnTo>
                        <a:lnTo>
                          <a:pt x="607" y="2112"/>
                        </a:lnTo>
                        <a:lnTo>
                          <a:pt x="649" y="2112"/>
                        </a:lnTo>
                        <a:lnTo>
                          <a:pt x="699" y="2112"/>
                        </a:lnTo>
                        <a:lnTo>
                          <a:pt x="742" y="2107"/>
                        </a:lnTo>
                        <a:lnTo>
                          <a:pt x="792" y="2107"/>
                        </a:lnTo>
                        <a:lnTo>
                          <a:pt x="842" y="2107"/>
                        </a:lnTo>
                        <a:lnTo>
                          <a:pt x="885" y="2103"/>
                        </a:lnTo>
                        <a:lnTo>
                          <a:pt x="935" y="2103"/>
                        </a:lnTo>
                        <a:lnTo>
                          <a:pt x="985" y="2099"/>
                        </a:lnTo>
                        <a:lnTo>
                          <a:pt x="1035" y="2095"/>
                        </a:lnTo>
                        <a:lnTo>
                          <a:pt x="1085" y="2090"/>
                        </a:lnTo>
                        <a:lnTo>
                          <a:pt x="1099" y="2078"/>
                        </a:lnTo>
                        <a:lnTo>
                          <a:pt x="1114" y="2065"/>
                        </a:lnTo>
                        <a:lnTo>
                          <a:pt x="1128" y="2048"/>
                        </a:lnTo>
                        <a:lnTo>
                          <a:pt x="1149" y="2035"/>
                        </a:lnTo>
                        <a:lnTo>
                          <a:pt x="1163" y="2023"/>
                        </a:lnTo>
                        <a:lnTo>
                          <a:pt x="1185" y="2014"/>
                        </a:lnTo>
                        <a:lnTo>
                          <a:pt x="1213" y="2001"/>
                        </a:lnTo>
                        <a:lnTo>
                          <a:pt x="1235" y="1993"/>
                        </a:lnTo>
                        <a:lnTo>
                          <a:pt x="1263" y="1984"/>
                        </a:lnTo>
                        <a:lnTo>
                          <a:pt x="1299" y="1976"/>
                        </a:lnTo>
                        <a:lnTo>
                          <a:pt x="1299" y="1976"/>
                        </a:lnTo>
                        <a:lnTo>
                          <a:pt x="1292" y="197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" name=""/>
                  <p:cNvSpPr/>
                  <p:nvPr/>
                </p:nvSpPr>
                <p:spPr>
                  <a:xfrm>
                    <a:off x="4101480" y="5252040"/>
                    <a:ext cx="339840" cy="684720"/>
                  </a:xfrm>
                  <a:custGeom>
                    <a:avLst/>
                    <a:gdLst/>
                    <a:ahLst/>
                    <a:rect l="l" t="t" r="r" b="b"/>
                    <a:pathLst>
                      <a:path w="1164" h="2484">
                        <a:moveTo>
                          <a:pt x="593" y="2374"/>
                        </a:moveTo>
                        <a:lnTo>
                          <a:pt x="643" y="2280"/>
                        </a:lnTo>
                        <a:lnTo>
                          <a:pt x="657" y="2187"/>
                        </a:lnTo>
                        <a:lnTo>
                          <a:pt x="643" y="2090"/>
                        </a:lnTo>
                        <a:lnTo>
                          <a:pt x="621" y="1988"/>
                        </a:lnTo>
                        <a:lnTo>
                          <a:pt x="593" y="1890"/>
                        </a:lnTo>
                        <a:lnTo>
                          <a:pt x="571" y="1793"/>
                        </a:lnTo>
                        <a:lnTo>
                          <a:pt x="564" y="1700"/>
                        </a:lnTo>
                        <a:lnTo>
                          <a:pt x="586" y="1606"/>
                        </a:lnTo>
                        <a:lnTo>
                          <a:pt x="643" y="1521"/>
                        </a:lnTo>
                        <a:lnTo>
                          <a:pt x="743" y="1441"/>
                        </a:lnTo>
                        <a:lnTo>
                          <a:pt x="764" y="1445"/>
                        </a:lnTo>
                        <a:lnTo>
                          <a:pt x="785" y="1454"/>
                        </a:lnTo>
                        <a:lnTo>
                          <a:pt x="800" y="1471"/>
                        </a:lnTo>
                        <a:lnTo>
                          <a:pt x="821" y="1492"/>
                        </a:lnTo>
                        <a:lnTo>
                          <a:pt x="850" y="1517"/>
                        </a:lnTo>
                        <a:lnTo>
                          <a:pt x="871" y="1538"/>
                        </a:lnTo>
                        <a:lnTo>
                          <a:pt x="900" y="1560"/>
                        </a:lnTo>
                        <a:lnTo>
                          <a:pt x="928" y="1581"/>
                        </a:lnTo>
                        <a:lnTo>
                          <a:pt x="964" y="1598"/>
                        </a:lnTo>
                        <a:lnTo>
                          <a:pt x="1000" y="1606"/>
                        </a:lnTo>
                        <a:lnTo>
                          <a:pt x="993" y="1098"/>
                        </a:lnTo>
                        <a:lnTo>
                          <a:pt x="1007" y="1098"/>
                        </a:lnTo>
                        <a:lnTo>
                          <a:pt x="1014" y="1102"/>
                        </a:lnTo>
                        <a:lnTo>
                          <a:pt x="1028" y="1102"/>
                        </a:lnTo>
                        <a:lnTo>
                          <a:pt x="1035" y="1106"/>
                        </a:lnTo>
                        <a:lnTo>
                          <a:pt x="1042" y="1110"/>
                        </a:lnTo>
                        <a:lnTo>
                          <a:pt x="1050" y="1114"/>
                        </a:lnTo>
                        <a:lnTo>
                          <a:pt x="1057" y="1114"/>
                        </a:lnTo>
                        <a:lnTo>
                          <a:pt x="1064" y="1114"/>
                        </a:lnTo>
                        <a:lnTo>
                          <a:pt x="1078" y="1110"/>
                        </a:lnTo>
                        <a:lnTo>
                          <a:pt x="1085" y="1106"/>
                        </a:lnTo>
                        <a:lnTo>
                          <a:pt x="1092" y="1098"/>
                        </a:lnTo>
                        <a:lnTo>
                          <a:pt x="1092" y="1059"/>
                        </a:lnTo>
                        <a:lnTo>
                          <a:pt x="1100" y="1017"/>
                        </a:lnTo>
                        <a:lnTo>
                          <a:pt x="1121" y="979"/>
                        </a:lnTo>
                        <a:lnTo>
                          <a:pt x="1142" y="936"/>
                        </a:lnTo>
                        <a:lnTo>
                          <a:pt x="1157" y="894"/>
                        </a:lnTo>
                        <a:lnTo>
                          <a:pt x="1164" y="856"/>
                        </a:lnTo>
                        <a:lnTo>
                          <a:pt x="1157" y="818"/>
                        </a:lnTo>
                        <a:lnTo>
                          <a:pt x="1135" y="784"/>
                        </a:lnTo>
                        <a:lnTo>
                          <a:pt x="1085" y="754"/>
                        </a:lnTo>
                        <a:lnTo>
                          <a:pt x="1007" y="733"/>
                        </a:lnTo>
                        <a:lnTo>
                          <a:pt x="971" y="724"/>
                        </a:lnTo>
                        <a:lnTo>
                          <a:pt x="935" y="716"/>
                        </a:lnTo>
                        <a:lnTo>
                          <a:pt x="893" y="712"/>
                        </a:lnTo>
                        <a:lnTo>
                          <a:pt x="850" y="712"/>
                        </a:lnTo>
                        <a:lnTo>
                          <a:pt x="814" y="708"/>
                        </a:lnTo>
                        <a:lnTo>
                          <a:pt x="771" y="703"/>
                        </a:lnTo>
                        <a:lnTo>
                          <a:pt x="736" y="699"/>
                        </a:lnTo>
                        <a:lnTo>
                          <a:pt x="700" y="691"/>
                        </a:lnTo>
                        <a:lnTo>
                          <a:pt x="678" y="678"/>
                        </a:lnTo>
                        <a:lnTo>
                          <a:pt x="664" y="661"/>
                        </a:lnTo>
                        <a:lnTo>
                          <a:pt x="736" y="623"/>
                        </a:lnTo>
                        <a:lnTo>
                          <a:pt x="778" y="585"/>
                        </a:lnTo>
                        <a:lnTo>
                          <a:pt x="800" y="542"/>
                        </a:lnTo>
                        <a:lnTo>
                          <a:pt x="807" y="500"/>
                        </a:lnTo>
                        <a:lnTo>
                          <a:pt x="800" y="453"/>
                        </a:lnTo>
                        <a:lnTo>
                          <a:pt x="785" y="407"/>
                        </a:lnTo>
                        <a:lnTo>
                          <a:pt x="764" y="360"/>
                        </a:lnTo>
                        <a:lnTo>
                          <a:pt x="743" y="313"/>
                        </a:lnTo>
                        <a:lnTo>
                          <a:pt x="721" y="271"/>
                        </a:lnTo>
                        <a:lnTo>
                          <a:pt x="714" y="224"/>
                        </a:lnTo>
                        <a:lnTo>
                          <a:pt x="636" y="212"/>
                        </a:lnTo>
                        <a:lnTo>
                          <a:pt x="643" y="216"/>
                        </a:lnTo>
                        <a:lnTo>
                          <a:pt x="643" y="216"/>
                        </a:lnTo>
                        <a:lnTo>
                          <a:pt x="643" y="220"/>
                        </a:lnTo>
                        <a:lnTo>
                          <a:pt x="643" y="220"/>
                        </a:lnTo>
                        <a:lnTo>
                          <a:pt x="643" y="224"/>
                        </a:lnTo>
                        <a:lnTo>
                          <a:pt x="643" y="224"/>
                        </a:lnTo>
                        <a:lnTo>
                          <a:pt x="643" y="228"/>
                        </a:lnTo>
                        <a:lnTo>
                          <a:pt x="650" y="228"/>
                        </a:lnTo>
                        <a:lnTo>
                          <a:pt x="650" y="228"/>
                        </a:lnTo>
                        <a:lnTo>
                          <a:pt x="650" y="233"/>
                        </a:lnTo>
                        <a:lnTo>
                          <a:pt x="700" y="224"/>
                        </a:lnTo>
                        <a:lnTo>
                          <a:pt x="707" y="254"/>
                        </a:lnTo>
                        <a:lnTo>
                          <a:pt x="714" y="284"/>
                        </a:lnTo>
                        <a:lnTo>
                          <a:pt x="728" y="317"/>
                        </a:lnTo>
                        <a:lnTo>
                          <a:pt x="743" y="347"/>
                        </a:lnTo>
                        <a:lnTo>
                          <a:pt x="757" y="377"/>
                        </a:lnTo>
                        <a:lnTo>
                          <a:pt x="764" y="411"/>
                        </a:lnTo>
                        <a:lnTo>
                          <a:pt x="771" y="440"/>
                        </a:lnTo>
                        <a:lnTo>
                          <a:pt x="771" y="470"/>
                        </a:lnTo>
                        <a:lnTo>
                          <a:pt x="764" y="500"/>
                        </a:lnTo>
                        <a:lnTo>
                          <a:pt x="750" y="529"/>
                        </a:lnTo>
                        <a:lnTo>
                          <a:pt x="614" y="313"/>
                        </a:lnTo>
                        <a:lnTo>
                          <a:pt x="586" y="343"/>
                        </a:lnTo>
                        <a:lnTo>
                          <a:pt x="557" y="373"/>
                        </a:lnTo>
                        <a:lnTo>
                          <a:pt x="536" y="402"/>
                        </a:lnTo>
                        <a:lnTo>
                          <a:pt x="521" y="432"/>
                        </a:lnTo>
                        <a:lnTo>
                          <a:pt x="507" y="466"/>
                        </a:lnTo>
                        <a:lnTo>
                          <a:pt x="500" y="500"/>
                        </a:lnTo>
                        <a:lnTo>
                          <a:pt x="493" y="529"/>
                        </a:lnTo>
                        <a:lnTo>
                          <a:pt x="486" y="563"/>
                        </a:lnTo>
                        <a:lnTo>
                          <a:pt x="486" y="597"/>
                        </a:lnTo>
                        <a:lnTo>
                          <a:pt x="493" y="631"/>
                        </a:lnTo>
                        <a:lnTo>
                          <a:pt x="386" y="572"/>
                        </a:lnTo>
                        <a:lnTo>
                          <a:pt x="336" y="513"/>
                        </a:lnTo>
                        <a:lnTo>
                          <a:pt x="336" y="457"/>
                        </a:lnTo>
                        <a:lnTo>
                          <a:pt x="364" y="398"/>
                        </a:lnTo>
                        <a:lnTo>
                          <a:pt x="414" y="334"/>
                        </a:lnTo>
                        <a:lnTo>
                          <a:pt x="471" y="275"/>
                        </a:lnTo>
                        <a:lnTo>
                          <a:pt x="528" y="207"/>
                        </a:lnTo>
                        <a:lnTo>
                          <a:pt x="571" y="144"/>
                        </a:lnTo>
                        <a:lnTo>
                          <a:pt x="593" y="72"/>
                        </a:lnTo>
                        <a:lnTo>
                          <a:pt x="578" y="0"/>
                        </a:lnTo>
                        <a:lnTo>
                          <a:pt x="578" y="55"/>
                        </a:lnTo>
                        <a:lnTo>
                          <a:pt x="564" y="106"/>
                        </a:lnTo>
                        <a:lnTo>
                          <a:pt x="543" y="156"/>
                        </a:lnTo>
                        <a:lnTo>
                          <a:pt x="507" y="203"/>
                        </a:lnTo>
                        <a:lnTo>
                          <a:pt x="471" y="250"/>
                        </a:lnTo>
                        <a:lnTo>
                          <a:pt x="436" y="296"/>
                        </a:lnTo>
                        <a:lnTo>
                          <a:pt x="393" y="343"/>
                        </a:lnTo>
                        <a:lnTo>
                          <a:pt x="357" y="390"/>
                        </a:lnTo>
                        <a:lnTo>
                          <a:pt x="329" y="436"/>
                        </a:lnTo>
                        <a:lnTo>
                          <a:pt x="307" y="487"/>
                        </a:lnTo>
                        <a:lnTo>
                          <a:pt x="314" y="513"/>
                        </a:lnTo>
                        <a:lnTo>
                          <a:pt x="329" y="538"/>
                        </a:lnTo>
                        <a:lnTo>
                          <a:pt x="350" y="563"/>
                        </a:lnTo>
                        <a:lnTo>
                          <a:pt x="379" y="585"/>
                        </a:lnTo>
                        <a:lnTo>
                          <a:pt x="407" y="606"/>
                        </a:lnTo>
                        <a:lnTo>
                          <a:pt x="436" y="627"/>
                        </a:lnTo>
                        <a:lnTo>
                          <a:pt x="471" y="648"/>
                        </a:lnTo>
                        <a:lnTo>
                          <a:pt x="507" y="665"/>
                        </a:lnTo>
                        <a:lnTo>
                          <a:pt x="543" y="686"/>
                        </a:lnTo>
                        <a:lnTo>
                          <a:pt x="578" y="703"/>
                        </a:lnTo>
                        <a:lnTo>
                          <a:pt x="543" y="708"/>
                        </a:lnTo>
                        <a:lnTo>
                          <a:pt x="514" y="720"/>
                        </a:lnTo>
                        <a:lnTo>
                          <a:pt x="486" y="729"/>
                        </a:lnTo>
                        <a:lnTo>
                          <a:pt x="457" y="737"/>
                        </a:lnTo>
                        <a:lnTo>
                          <a:pt x="429" y="750"/>
                        </a:lnTo>
                        <a:lnTo>
                          <a:pt x="393" y="758"/>
                        </a:lnTo>
                        <a:lnTo>
                          <a:pt x="364" y="763"/>
                        </a:lnTo>
                        <a:lnTo>
                          <a:pt x="329" y="763"/>
                        </a:lnTo>
                        <a:lnTo>
                          <a:pt x="293" y="763"/>
                        </a:lnTo>
                        <a:lnTo>
                          <a:pt x="257" y="754"/>
                        </a:lnTo>
                        <a:lnTo>
                          <a:pt x="229" y="763"/>
                        </a:lnTo>
                        <a:lnTo>
                          <a:pt x="200" y="771"/>
                        </a:lnTo>
                        <a:lnTo>
                          <a:pt x="172" y="780"/>
                        </a:lnTo>
                        <a:lnTo>
                          <a:pt x="150" y="792"/>
                        </a:lnTo>
                        <a:lnTo>
                          <a:pt x="129" y="805"/>
                        </a:lnTo>
                        <a:lnTo>
                          <a:pt x="107" y="818"/>
                        </a:lnTo>
                        <a:lnTo>
                          <a:pt x="86" y="830"/>
                        </a:lnTo>
                        <a:lnTo>
                          <a:pt x="72" y="847"/>
                        </a:lnTo>
                        <a:lnTo>
                          <a:pt x="64" y="864"/>
                        </a:lnTo>
                        <a:lnTo>
                          <a:pt x="64" y="886"/>
                        </a:lnTo>
                        <a:lnTo>
                          <a:pt x="93" y="924"/>
                        </a:lnTo>
                        <a:lnTo>
                          <a:pt x="114" y="958"/>
                        </a:lnTo>
                        <a:lnTo>
                          <a:pt x="114" y="996"/>
                        </a:lnTo>
                        <a:lnTo>
                          <a:pt x="107" y="1034"/>
                        </a:lnTo>
                        <a:lnTo>
                          <a:pt x="93" y="1068"/>
                        </a:lnTo>
                        <a:lnTo>
                          <a:pt x="79" y="1106"/>
                        </a:lnTo>
                        <a:lnTo>
                          <a:pt x="57" y="1140"/>
                        </a:lnTo>
                        <a:lnTo>
                          <a:pt x="36" y="1178"/>
                        </a:lnTo>
                        <a:lnTo>
                          <a:pt x="14" y="1212"/>
                        </a:lnTo>
                        <a:lnTo>
                          <a:pt x="0" y="1250"/>
                        </a:lnTo>
                        <a:lnTo>
                          <a:pt x="7" y="1267"/>
                        </a:lnTo>
                        <a:lnTo>
                          <a:pt x="22" y="1284"/>
                        </a:lnTo>
                        <a:lnTo>
                          <a:pt x="43" y="1297"/>
                        </a:lnTo>
                        <a:lnTo>
                          <a:pt x="64" y="1305"/>
                        </a:lnTo>
                        <a:lnTo>
                          <a:pt x="86" y="1314"/>
                        </a:lnTo>
                        <a:lnTo>
                          <a:pt x="114" y="1322"/>
                        </a:lnTo>
                        <a:lnTo>
                          <a:pt x="136" y="1322"/>
                        </a:lnTo>
                        <a:lnTo>
                          <a:pt x="164" y="1326"/>
                        </a:lnTo>
                        <a:lnTo>
                          <a:pt x="193" y="1326"/>
                        </a:lnTo>
                        <a:lnTo>
                          <a:pt x="222" y="1322"/>
                        </a:lnTo>
                        <a:lnTo>
                          <a:pt x="222" y="2484"/>
                        </a:lnTo>
                        <a:lnTo>
                          <a:pt x="222" y="2480"/>
                        </a:lnTo>
                        <a:lnTo>
                          <a:pt x="222" y="2480"/>
                        </a:lnTo>
                        <a:lnTo>
                          <a:pt x="229" y="2475"/>
                        </a:lnTo>
                        <a:lnTo>
                          <a:pt x="229" y="2475"/>
                        </a:lnTo>
                        <a:lnTo>
                          <a:pt x="229" y="2471"/>
                        </a:lnTo>
                        <a:lnTo>
                          <a:pt x="236" y="2467"/>
                        </a:lnTo>
                        <a:lnTo>
                          <a:pt x="236" y="2467"/>
                        </a:lnTo>
                        <a:lnTo>
                          <a:pt x="236" y="2463"/>
                        </a:lnTo>
                        <a:lnTo>
                          <a:pt x="243" y="2463"/>
                        </a:lnTo>
                        <a:lnTo>
                          <a:pt x="243" y="2458"/>
                        </a:lnTo>
                        <a:lnTo>
                          <a:pt x="264" y="2446"/>
                        </a:lnTo>
                        <a:lnTo>
                          <a:pt x="300" y="2441"/>
                        </a:lnTo>
                        <a:lnTo>
                          <a:pt x="336" y="2437"/>
                        </a:lnTo>
                        <a:lnTo>
                          <a:pt x="379" y="2433"/>
                        </a:lnTo>
                        <a:lnTo>
                          <a:pt x="421" y="2433"/>
                        </a:lnTo>
                        <a:lnTo>
                          <a:pt x="464" y="2429"/>
                        </a:lnTo>
                        <a:lnTo>
                          <a:pt x="507" y="2420"/>
                        </a:lnTo>
                        <a:lnTo>
                          <a:pt x="543" y="2412"/>
                        </a:lnTo>
                        <a:lnTo>
                          <a:pt x="571" y="2395"/>
                        </a:lnTo>
                        <a:lnTo>
                          <a:pt x="600" y="2374"/>
                        </a:lnTo>
                        <a:lnTo>
                          <a:pt x="600" y="2374"/>
                        </a:lnTo>
                        <a:lnTo>
                          <a:pt x="593" y="237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0" name=""/>
                  <p:cNvSpPr/>
                  <p:nvPr/>
                </p:nvSpPr>
                <p:spPr>
                  <a:xfrm>
                    <a:off x="4629240" y="5532480"/>
                    <a:ext cx="431640" cy="656640"/>
                  </a:xfrm>
                  <a:custGeom>
                    <a:avLst/>
                    <a:gdLst/>
                    <a:ahLst/>
                    <a:rect l="l" t="t" r="r" b="b"/>
                    <a:pathLst>
                      <a:path w="1478" h="2383">
                        <a:moveTo>
                          <a:pt x="93" y="1976"/>
                        </a:moveTo>
                        <a:lnTo>
                          <a:pt x="93" y="1997"/>
                        </a:lnTo>
                        <a:lnTo>
                          <a:pt x="93" y="2018"/>
                        </a:lnTo>
                        <a:lnTo>
                          <a:pt x="107" y="2035"/>
                        </a:lnTo>
                        <a:lnTo>
                          <a:pt x="122" y="2048"/>
                        </a:lnTo>
                        <a:lnTo>
                          <a:pt x="143" y="2065"/>
                        </a:lnTo>
                        <a:lnTo>
                          <a:pt x="165" y="2077"/>
                        </a:lnTo>
                        <a:lnTo>
                          <a:pt x="186" y="2090"/>
                        </a:lnTo>
                        <a:lnTo>
                          <a:pt x="215" y="2103"/>
                        </a:lnTo>
                        <a:lnTo>
                          <a:pt x="236" y="2120"/>
                        </a:lnTo>
                        <a:lnTo>
                          <a:pt x="264" y="2137"/>
                        </a:lnTo>
                        <a:lnTo>
                          <a:pt x="264" y="2162"/>
                        </a:lnTo>
                        <a:lnTo>
                          <a:pt x="272" y="2187"/>
                        </a:lnTo>
                        <a:lnTo>
                          <a:pt x="279" y="2217"/>
                        </a:lnTo>
                        <a:lnTo>
                          <a:pt x="286" y="2243"/>
                        </a:lnTo>
                        <a:lnTo>
                          <a:pt x="286" y="2272"/>
                        </a:lnTo>
                        <a:lnTo>
                          <a:pt x="286" y="2293"/>
                        </a:lnTo>
                        <a:lnTo>
                          <a:pt x="272" y="2319"/>
                        </a:lnTo>
                        <a:lnTo>
                          <a:pt x="250" y="2340"/>
                        </a:lnTo>
                        <a:lnTo>
                          <a:pt x="215" y="2357"/>
                        </a:lnTo>
                        <a:lnTo>
                          <a:pt x="165" y="2370"/>
                        </a:lnTo>
                        <a:lnTo>
                          <a:pt x="150" y="2370"/>
                        </a:lnTo>
                        <a:lnTo>
                          <a:pt x="129" y="2374"/>
                        </a:lnTo>
                        <a:lnTo>
                          <a:pt x="115" y="2374"/>
                        </a:lnTo>
                        <a:lnTo>
                          <a:pt x="100" y="2374"/>
                        </a:lnTo>
                        <a:lnTo>
                          <a:pt x="79" y="2378"/>
                        </a:lnTo>
                        <a:lnTo>
                          <a:pt x="65" y="2378"/>
                        </a:lnTo>
                        <a:lnTo>
                          <a:pt x="50" y="2378"/>
                        </a:lnTo>
                        <a:lnTo>
                          <a:pt x="29" y="2378"/>
                        </a:lnTo>
                        <a:lnTo>
                          <a:pt x="15" y="2383"/>
                        </a:lnTo>
                        <a:lnTo>
                          <a:pt x="0" y="2383"/>
                        </a:lnTo>
                        <a:lnTo>
                          <a:pt x="143" y="2383"/>
                        </a:lnTo>
                        <a:lnTo>
                          <a:pt x="293" y="2383"/>
                        </a:lnTo>
                        <a:lnTo>
                          <a:pt x="436" y="2383"/>
                        </a:lnTo>
                        <a:lnTo>
                          <a:pt x="586" y="2383"/>
                        </a:lnTo>
                        <a:lnTo>
                          <a:pt x="736" y="2378"/>
                        </a:lnTo>
                        <a:lnTo>
                          <a:pt x="886" y="2378"/>
                        </a:lnTo>
                        <a:lnTo>
                          <a:pt x="1028" y="2374"/>
                        </a:lnTo>
                        <a:lnTo>
                          <a:pt x="1178" y="2374"/>
                        </a:lnTo>
                        <a:lnTo>
                          <a:pt x="1328" y="2370"/>
                        </a:lnTo>
                        <a:lnTo>
                          <a:pt x="1478" y="2370"/>
                        </a:lnTo>
                        <a:lnTo>
                          <a:pt x="1450" y="2361"/>
                        </a:lnTo>
                        <a:lnTo>
                          <a:pt x="1421" y="2357"/>
                        </a:lnTo>
                        <a:lnTo>
                          <a:pt x="1392" y="2349"/>
                        </a:lnTo>
                        <a:lnTo>
                          <a:pt x="1371" y="2340"/>
                        </a:lnTo>
                        <a:lnTo>
                          <a:pt x="1342" y="2336"/>
                        </a:lnTo>
                        <a:lnTo>
                          <a:pt x="1314" y="2327"/>
                        </a:lnTo>
                        <a:lnTo>
                          <a:pt x="1292" y="2319"/>
                        </a:lnTo>
                        <a:lnTo>
                          <a:pt x="1264" y="2310"/>
                        </a:lnTo>
                        <a:lnTo>
                          <a:pt x="1243" y="2298"/>
                        </a:lnTo>
                        <a:lnTo>
                          <a:pt x="1221" y="2289"/>
                        </a:lnTo>
                        <a:lnTo>
                          <a:pt x="1200" y="2264"/>
                        </a:lnTo>
                        <a:lnTo>
                          <a:pt x="1193" y="2243"/>
                        </a:lnTo>
                        <a:lnTo>
                          <a:pt x="1185" y="2217"/>
                        </a:lnTo>
                        <a:lnTo>
                          <a:pt x="1193" y="2196"/>
                        </a:lnTo>
                        <a:lnTo>
                          <a:pt x="1200" y="2175"/>
                        </a:lnTo>
                        <a:lnTo>
                          <a:pt x="1214" y="2154"/>
                        </a:lnTo>
                        <a:lnTo>
                          <a:pt x="1243" y="2137"/>
                        </a:lnTo>
                        <a:lnTo>
                          <a:pt x="1264" y="2120"/>
                        </a:lnTo>
                        <a:lnTo>
                          <a:pt x="1300" y="2103"/>
                        </a:lnTo>
                        <a:lnTo>
                          <a:pt x="1342" y="2094"/>
                        </a:lnTo>
                        <a:lnTo>
                          <a:pt x="1342" y="2082"/>
                        </a:lnTo>
                        <a:lnTo>
                          <a:pt x="1350" y="2069"/>
                        </a:lnTo>
                        <a:lnTo>
                          <a:pt x="1357" y="2056"/>
                        </a:lnTo>
                        <a:lnTo>
                          <a:pt x="1371" y="2043"/>
                        </a:lnTo>
                        <a:lnTo>
                          <a:pt x="1385" y="2035"/>
                        </a:lnTo>
                        <a:lnTo>
                          <a:pt x="1392" y="2022"/>
                        </a:lnTo>
                        <a:lnTo>
                          <a:pt x="1392" y="2009"/>
                        </a:lnTo>
                        <a:lnTo>
                          <a:pt x="1392" y="1997"/>
                        </a:lnTo>
                        <a:lnTo>
                          <a:pt x="1385" y="1988"/>
                        </a:lnTo>
                        <a:lnTo>
                          <a:pt x="1364" y="1976"/>
                        </a:lnTo>
                        <a:lnTo>
                          <a:pt x="1307" y="1967"/>
                        </a:lnTo>
                        <a:lnTo>
                          <a:pt x="1264" y="1954"/>
                        </a:lnTo>
                        <a:lnTo>
                          <a:pt x="1235" y="1937"/>
                        </a:lnTo>
                        <a:lnTo>
                          <a:pt x="1207" y="1916"/>
                        </a:lnTo>
                        <a:lnTo>
                          <a:pt x="1193" y="1891"/>
                        </a:lnTo>
                        <a:lnTo>
                          <a:pt x="1171" y="1865"/>
                        </a:lnTo>
                        <a:lnTo>
                          <a:pt x="1157" y="1836"/>
                        </a:lnTo>
                        <a:lnTo>
                          <a:pt x="1143" y="1810"/>
                        </a:lnTo>
                        <a:lnTo>
                          <a:pt x="1128" y="1781"/>
                        </a:lnTo>
                        <a:lnTo>
                          <a:pt x="1107" y="1759"/>
                        </a:lnTo>
                        <a:lnTo>
                          <a:pt x="1107" y="38"/>
                        </a:lnTo>
                        <a:lnTo>
                          <a:pt x="1107" y="34"/>
                        </a:lnTo>
                        <a:lnTo>
                          <a:pt x="1100" y="30"/>
                        </a:lnTo>
                        <a:lnTo>
                          <a:pt x="1100" y="25"/>
                        </a:lnTo>
                        <a:lnTo>
                          <a:pt x="1093" y="21"/>
                        </a:lnTo>
                        <a:lnTo>
                          <a:pt x="1093" y="17"/>
                        </a:lnTo>
                        <a:lnTo>
                          <a:pt x="1093" y="13"/>
                        </a:lnTo>
                        <a:lnTo>
                          <a:pt x="1085" y="13"/>
                        </a:lnTo>
                        <a:lnTo>
                          <a:pt x="1085" y="8"/>
                        </a:lnTo>
                        <a:lnTo>
                          <a:pt x="1078" y="4"/>
                        </a:lnTo>
                        <a:lnTo>
                          <a:pt x="1078" y="0"/>
                        </a:lnTo>
                        <a:lnTo>
                          <a:pt x="1021" y="25"/>
                        </a:lnTo>
                        <a:lnTo>
                          <a:pt x="978" y="55"/>
                        </a:lnTo>
                        <a:lnTo>
                          <a:pt x="950" y="85"/>
                        </a:lnTo>
                        <a:lnTo>
                          <a:pt x="928" y="119"/>
                        </a:lnTo>
                        <a:lnTo>
                          <a:pt x="907" y="153"/>
                        </a:lnTo>
                        <a:lnTo>
                          <a:pt x="893" y="191"/>
                        </a:lnTo>
                        <a:lnTo>
                          <a:pt x="878" y="225"/>
                        </a:lnTo>
                        <a:lnTo>
                          <a:pt x="857" y="263"/>
                        </a:lnTo>
                        <a:lnTo>
                          <a:pt x="828" y="301"/>
                        </a:lnTo>
                        <a:lnTo>
                          <a:pt x="793" y="339"/>
                        </a:lnTo>
                        <a:lnTo>
                          <a:pt x="786" y="348"/>
                        </a:lnTo>
                        <a:lnTo>
                          <a:pt x="778" y="352"/>
                        </a:lnTo>
                        <a:lnTo>
                          <a:pt x="757" y="348"/>
                        </a:lnTo>
                        <a:lnTo>
                          <a:pt x="736" y="339"/>
                        </a:lnTo>
                        <a:lnTo>
                          <a:pt x="700" y="326"/>
                        </a:lnTo>
                        <a:lnTo>
                          <a:pt x="671" y="314"/>
                        </a:lnTo>
                        <a:lnTo>
                          <a:pt x="629" y="301"/>
                        </a:lnTo>
                        <a:lnTo>
                          <a:pt x="593" y="284"/>
                        </a:lnTo>
                        <a:lnTo>
                          <a:pt x="550" y="267"/>
                        </a:lnTo>
                        <a:lnTo>
                          <a:pt x="507" y="254"/>
                        </a:lnTo>
                        <a:lnTo>
                          <a:pt x="536" y="424"/>
                        </a:lnTo>
                        <a:lnTo>
                          <a:pt x="571" y="598"/>
                        </a:lnTo>
                        <a:lnTo>
                          <a:pt x="614" y="772"/>
                        </a:lnTo>
                        <a:lnTo>
                          <a:pt x="657" y="945"/>
                        </a:lnTo>
                        <a:lnTo>
                          <a:pt x="686" y="1111"/>
                        </a:lnTo>
                        <a:lnTo>
                          <a:pt x="700" y="1272"/>
                        </a:lnTo>
                        <a:lnTo>
                          <a:pt x="686" y="1424"/>
                        </a:lnTo>
                        <a:lnTo>
                          <a:pt x="643" y="1560"/>
                        </a:lnTo>
                        <a:lnTo>
                          <a:pt x="557" y="1679"/>
                        </a:lnTo>
                        <a:lnTo>
                          <a:pt x="436" y="1781"/>
                        </a:lnTo>
                        <a:lnTo>
                          <a:pt x="414" y="1789"/>
                        </a:lnTo>
                        <a:lnTo>
                          <a:pt x="393" y="1797"/>
                        </a:lnTo>
                        <a:lnTo>
                          <a:pt x="379" y="1802"/>
                        </a:lnTo>
                        <a:lnTo>
                          <a:pt x="357" y="1806"/>
                        </a:lnTo>
                        <a:lnTo>
                          <a:pt x="343" y="1810"/>
                        </a:lnTo>
                        <a:lnTo>
                          <a:pt x="322" y="1810"/>
                        </a:lnTo>
                        <a:lnTo>
                          <a:pt x="300" y="1810"/>
                        </a:lnTo>
                        <a:lnTo>
                          <a:pt x="286" y="1810"/>
                        </a:lnTo>
                        <a:lnTo>
                          <a:pt x="272" y="1810"/>
                        </a:lnTo>
                        <a:lnTo>
                          <a:pt x="250" y="1806"/>
                        </a:lnTo>
                        <a:lnTo>
                          <a:pt x="243" y="1827"/>
                        </a:lnTo>
                        <a:lnTo>
                          <a:pt x="236" y="1844"/>
                        </a:lnTo>
                        <a:lnTo>
                          <a:pt x="229" y="1865"/>
                        </a:lnTo>
                        <a:lnTo>
                          <a:pt x="215" y="1887"/>
                        </a:lnTo>
                        <a:lnTo>
                          <a:pt x="200" y="1903"/>
                        </a:lnTo>
                        <a:lnTo>
                          <a:pt x="186" y="1920"/>
                        </a:lnTo>
                        <a:lnTo>
                          <a:pt x="172" y="1937"/>
                        </a:lnTo>
                        <a:lnTo>
                          <a:pt x="143" y="1950"/>
                        </a:lnTo>
                        <a:lnTo>
                          <a:pt x="122" y="1963"/>
                        </a:lnTo>
                        <a:lnTo>
                          <a:pt x="93" y="1976"/>
                        </a:lnTo>
                        <a:lnTo>
                          <a:pt x="93" y="197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1" name=""/>
                  <p:cNvSpPr/>
                  <p:nvPr/>
                </p:nvSpPr>
                <p:spPr>
                  <a:xfrm>
                    <a:off x="4080600" y="5649120"/>
                    <a:ext cx="483840" cy="537480"/>
                  </a:xfrm>
                  <a:custGeom>
                    <a:avLst/>
                    <a:gdLst/>
                    <a:ahLst/>
                    <a:rect l="l" t="t" r="r" b="b"/>
                    <a:pathLst>
                      <a:path w="1656" h="1950">
                        <a:moveTo>
                          <a:pt x="1328" y="1568"/>
                        </a:moveTo>
                        <a:lnTo>
                          <a:pt x="1335" y="1552"/>
                        </a:lnTo>
                        <a:lnTo>
                          <a:pt x="1321" y="1535"/>
                        </a:lnTo>
                        <a:lnTo>
                          <a:pt x="1306" y="1522"/>
                        </a:lnTo>
                        <a:lnTo>
                          <a:pt x="1292" y="1513"/>
                        </a:lnTo>
                        <a:lnTo>
                          <a:pt x="1271" y="1509"/>
                        </a:lnTo>
                        <a:lnTo>
                          <a:pt x="1242" y="1501"/>
                        </a:lnTo>
                        <a:lnTo>
                          <a:pt x="1221" y="1496"/>
                        </a:lnTo>
                        <a:lnTo>
                          <a:pt x="1192" y="1492"/>
                        </a:lnTo>
                        <a:lnTo>
                          <a:pt x="1171" y="1488"/>
                        </a:lnTo>
                        <a:lnTo>
                          <a:pt x="1149" y="1479"/>
                        </a:lnTo>
                        <a:lnTo>
                          <a:pt x="1156" y="1463"/>
                        </a:lnTo>
                        <a:lnTo>
                          <a:pt x="1156" y="1450"/>
                        </a:lnTo>
                        <a:lnTo>
                          <a:pt x="1149" y="1433"/>
                        </a:lnTo>
                        <a:lnTo>
                          <a:pt x="1142" y="1416"/>
                        </a:lnTo>
                        <a:lnTo>
                          <a:pt x="1135" y="1403"/>
                        </a:lnTo>
                        <a:lnTo>
                          <a:pt x="1121" y="1386"/>
                        </a:lnTo>
                        <a:lnTo>
                          <a:pt x="1106" y="1373"/>
                        </a:lnTo>
                        <a:lnTo>
                          <a:pt x="1092" y="1357"/>
                        </a:lnTo>
                        <a:lnTo>
                          <a:pt x="1085" y="1340"/>
                        </a:lnTo>
                        <a:lnTo>
                          <a:pt x="1078" y="1327"/>
                        </a:lnTo>
                        <a:lnTo>
                          <a:pt x="1071" y="165"/>
                        </a:lnTo>
                        <a:lnTo>
                          <a:pt x="1035" y="157"/>
                        </a:lnTo>
                        <a:lnTo>
                          <a:pt x="999" y="140"/>
                        </a:lnTo>
                        <a:lnTo>
                          <a:pt x="971" y="119"/>
                        </a:lnTo>
                        <a:lnTo>
                          <a:pt x="942" y="97"/>
                        </a:lnTo>
                        <a:lnTo>
                          <a:pt x="921" y="76"/>
                        </a:lnTo>
                        <a:lnTo>
                          <a:pt x="892" y="51"/>
                        </a:lnTo>
                        <a:lnTo>
                          <a:pt x="871" y="30"/>
                        </a:lnTo>
                        <a:lnTo>
                          <a:pt x="856" y="13"/>
                        </a:lnTo>
                        <a:lnTo>
                          <a:pt x="835" y="4"/>
                        </a:lnTo>
                        <a:lnTo>
                          <a:pt x="814" y="0"/>
                        </a:lnTo>
                        <a:lnTo>
                          <a:pt x="714" y="80"/>
                        </a:lnTo>
                        <a:lnTo>
                          <a:pt x="657" y="165"/>
                        </a:lnTo>
                        <a:lnTo>
                          <a:pt x="635" y="259"/>
                        </a:lnTo>
                        <a:lnTo>
                          <a:pt x="642" y="352"/>
                        </a:lnTo>
                        <a:lnTo>
                          <a:pt x="664" y="449"/>
                        </a:lnTo>
                        <a:lnTo>
                          <a:pt x="692" y="547"/>
                        </a:lnTo>
                        <a:lnTo>
                          <a:pt x="714" y="649"/>
                        </a:lnTo>
                        <a:lnTo>
                          <a:pt x="728" y="746"/>
                        </a:lnTo>
                        <a:lnTo>
                          <a:pt x="714" y="839"/>
                        </a:lnTo>
                        <a:lnTo>
                          <a:pt x="671" y="933"/>
                        </a:lnTo>
                        <a:lnTo>
                          <a:pt x="642" y="954"/>
                        </a:lnTo>
                        <a:lnTo>
                          <a:pt x="614" y="971"/>
                        </a:lnTo>
                        <a:lnTo>
                          <a:pt x="578" y="979"/>
                        </a:lnTo>
                        <a:lnTo>
                          <a:pt x="535" y="988"/>
                        </a:lnTo>
                        <a:lnTo>
                          <a:pt x="492" y="992"/>
                        </a:lnTo>
                        <a:lnTo>
                          <a:pt x="450" y="992"/>
                        </a:lnTo>
                        <a:lnTo>
                          <a:pt x="407" y="996"/>
                        </a:lnTo>
                        <a:lnTo>
                          <a:pt x="371" y="1000"/>
                        </a:lnTo>
                        <a:lnTo>
                          <a:pt x="335" y="1005"/>
                        </a:lnTo>
                        <a:lnTo>
                          <a:pt x="314" y="1017"/>
                        </a:lnTo>
                        <a:lnTo>
                          <a:pt x="314" y="1022"/>
                        </a:lnTo>
                        <a:lnTo>
                          <a:pt x="307" y="1022"/>
                        </a:lnTo>
                        <a:lnTo>
                          <a:pt x="307" y="1026"/>
                        </a:lnTo>
                        <a:lnTo>
                          <a:pt x="307" y="1026"/>
                        </a:lnTo>
                        <a:lnTo>
                          <a:pt x="300" y="1030"/>
                        </a:lnTo>
                        <a:lnTo>
                          <a:pt x="300" y="1034"/>
                        </a:lnTo>
                        <a:lnTo>
                          <a:pt x="300" y="1034"/>
                        </a:lnTo>
                        <a:lnTo>
                          <a:pt x="293" y="1039"/>
                        </a:lnTo>
                        <a:lnTo>
                          <a:pt x="293" y="1039"/>
                        </a:lnTo>
                        <a:lnTo>
                          <a:pt x="293" y="1043"/>
                        </a:lnTo>
                        <a:lnTo>
                          <a:pt x="293" y="1306"/>
                        </a:lnTo>
                        <a:lnTo>
                          <a:pt x="243" y="1348"/>
                        </a:lnTo>
                        <a:lnTo>
                          <a:pt x="207" y="1357"/>
                        </a:lnTo>
                        <a:lnTo>
                          <a:pt x="185" y="1369"/>
                        </a:lnTo>
                        <a:lnTo>
                          <a:pt x="157" y="1382"/>
                        </a:lnTo>
                        <a:lnTo>
                          <a:pt x="135" y="1399"/>
                        </a:lnTo>
                        <a:lnTo>
                          <a:pt x="114" y="1420"/>
                        </a:lnTo>
                        <a:lnTo>
                          <a:pt x="100" y="1437"/>
                        </a:lnTo>
                        <a:lnTo>
                          <a:pt x="78" y="1458"/>
                        </a:lnTo>
                        <a:lnTo>
                          <a:pt x="57" y="1475"/>
                        </a:lnTo>
                        <a:lnTo>
                          <a:pt x="36" y="1488"/>
                        </a:lnTo>
                        <a:lnTo>
                          <a:pt x="14" y="1501"/>
                        </a:lnTo>
                        <a:lnTo>
                          <a:pt x="0" y="1526"/>
                        </a:lnTo>
                        <a:lnTo>
                          <a:pt x="0" y="1552"/>
                        </a:lnTo>
                        <a:lnTo>
                          <a:pt x="7" y="1577"/>
                        </a:lnTo>
                        <a:lnTo>
                          <a:pt x="28" y="1598"/>
                        </a:lnTo>
                        <a:lnTo>
                          <a:pt x="50" y="1619"/>
                        </a:lnTo>
                        <a:lnTo>
                          <a:pt x="85" y="1641"/>
                        </a:lnTo>
                        <a:lnTo>
                          <a:pt x="114" y="1662"/>
                        </a:lnTo>
                        <a:lnTo>
                          <a:pt x="150" y="1679"/>
                        </a:lnTo>
                        <a:lnTo>
                          <a:pt x="185" y="1696"/>
                        </a:lnTo>
                        <a:lnTo>
                          <a:pt x="221" y="1713"/>
                        </a:lnTo>
                        <a:lnTo>
                          <a:pt x="221" y="1717"/>
                        </a:lnTo>
                        <a:lnTo>
                          <a:pt x="228" y="1725"/>
                        </a:lnTo>
                        <a:lnTo>
                          <a:pt x="228" y="1730"/>
                        </a:lnTo>
                        <a:lnTo>
                          <a:pt x="228" y="1734"/>
                        </a:lnTo>
                        <a:lnTo>
                          <a:pt x="235" y="1738"/>
                        </a:lnTo>
                        <a:lnTo>
                          <a:pt x="235" y="1747"/>
                        </a:lnTo>
                        <a:lnTo>
                          <a:pt x="243" y="1751"/>
                        </a:lnTo>
                        <a:lnTo>
                          <a:pt x="243" y="1755"/>
                        </a:lnTo>
                        <a:lnTo>
                          <a:pt x="243" y="1759"/>
                        </a:lnTo>
                        <a:lnTo>
                          <a:pt x="250" y="1768"/>
                        </a:lnTo>
                        <a:lnTo>
                          <a:pt x="257" y="1768"/>
                        </a:lnTo>
                        <a:lnTo>
                          <a:pt x="264" y="1768"/>
                        </a:lnTo>
                        <a:lnTo>
                          <a:pt x="271" y="1772"/>
                        </a:lnTo>
                        <a:lnTo>
                          <a:pt x="278" y="1772"/>
                        </a:lnTo>
                        <a:lnTo>
                          <a:pt x="278" y="1772"/>
                        </a:lnTo>
                        <a:lnTo>
                          <a:pt x="285" y="1776"/>
                        </a:lnTo>
                        <a:lnTo>
                          <a:pt x="293" y="1776"/>
                        </a:lnTo>
                        <a:lnTo>
                          <a:pt x="300" y="1776"/>
                        </a:lnTo>
                        <a:lnTo>
                          <a:pt x="307" y="1780"/>
                        </a:lnTo>
                        <a:lnTo>
                          <a:pt x="314" y="1780"/>
                        </a:lnTo>
                        <a:lnTo>
                          <a:pt x="442" y="1810"/>
                        </a:lnTo>
                        <a:lnTo>
                          <a:pt x="578" y="1836"/>
                        </a:lnTo>
                        <a:lnTo>
                          <a:pt x="714" y="1861"/>
                        </a:lnTo>
                        <a:lnTo>
                          <a:pt x="849" y="1882"/>
                        </a:lnTo>
                        <a:lnTo>
                          <a:pt x="978" y="1899"/>
                        </a:lnTo>
                        <a:lnTo>
                          <a:pt x="1113" y="1916"/>
                        </a:lnTo>
                        <a:lnTo>
                          <a:pt x="1249" y="1929"/>
                        </a:lnTo>
                        <a:lnTo>
                          <a:pt x="1385" y="1937"/>
                        </a:lnTo>
                        <a:lnTo>
                          <a:pt x="1520" y="1946"/>
                        </a:lnTo>
                        <a:lnTo>
                          <a:pt x="1656" y="1950"/>
                        </a:lnTo>
                        <a:lnTo>
                          <a:pt x="1599" y="1946"/>
                        </a:lnTo>
                        <a:lnTo>
                          <a:pt x="1542" y="1937"/>
                        </a:lnTo>
                        <a:lnTo>
                          <a:pt x="1492" y="1929"/>
                        </a:lnTo>
                        <a:lnTo>
                          <a:pt x="1435" y="1916"/>
                        </a:lnTo>
                        <a:lnTo>
                          <a:pt x="1385" y="1903"/>
                        </a:lnTo>
                        <a:lnTo>
                          <a:pt x="1335" y="1886"/>
                        </a:lnTo>
                        <a:lnTo>
                          <a:pt x="1285" y="1869"/>
                        </a:lnTo>
                        <a:lnTo>
                          <a:pt x="1235" y="1853"/>
                        </a:lnTo>
                        <a:lnTo>
                          <a:pt x="1192" y="1836"/>
                        </a:lnTo>
                        <a:lnTo>
                          <a:pt x="1149" y="1814"/>
                        </a:lnTo>
                        <a:lnTo>
                          <a:pt x="1106" y="1780"/>
                        </a:lnTo>
                        <a:lnTo>
                          <a:pt x="1092" y="1751"/>
                        </a:lnTo>
                        <a:lnTo>
                          <a:pt x="1092" y="1725"/>
                        </a:lnTo>
                        <a:lnTo>
                          <a:pt x="1113" y="1700"/>
                        </a:lnTo>
                        <a:lnTo>
                          <a:pt x="1142" y="1679"/>
                        </a:lnTo>
                        <a:lnTo>
                          <a:pt x="1185" y="1658"/>
                        </a:lnTo>
                        <a:lnTo>
                          <a:pt x="1228" y="1636"/>
                        </a:lnTo>
                        <a:lnTo>
                          <a:pt x="1263" y="1615"/>
                        </a:lnTo>
                        <a:lnTo>
                          <a:pt x="1306" y="1594"/>
                        </a:lnTo>
                        <a:lnTo>
                          <a:pt x="1335" y="1568"/>
                        </a:lnTo>
                        <a:lnTo>
                          <a:pt x="1335" y="1568"/>
                        </a:lnTo>
                        <a:lnTo>
                          <a:pt x="1328" y="156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2" name=""/>
                  <p:cNvSpPr/>
                  <p:nvPr/>
                </p:nvSpPr>
                <p:spPr>
                  <a:xfrm>
                    <a:off x="4842360" y="5151600"/>
                    <a:ext cx="1008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89">
                        <a:moveTo>
                          <a:pt x="35" y="0"/>
                        </a:moveTo>
                        <a:lnTo>
                          <a:pt x="0" y="0"/>
                        </a:lnTo>
                        <a:lnTo>
                          <a:pt x="0" y="89"/>
                        </a:lnTo>
                        <a:lnTo>
                          <a:pt x="35" y="89"/>
                        </a:lnTo>
                        <a:lnTo>
                          <a:pt x="35" y="0"/>
                        </a:lnTo>
                        <a:lnTo>
                          <a:pt x="35" y="0"/>
                        </a:lnTo>
                        <a:close/>
                      </a:path>
                    </a:pathLst>
                  </a:custGeom>
                  <a:solidFill>
                    <a:srgbClr val="ffde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3" name=""/>
                  <p:cNvSpPr/>
                  <p:nvPr/>
                </p:nvSpPr>
                <p:spPr>
                  <a:xfrm>
                    <a:off x="4842360" y="5159520"/>
                    <a:ext cx="396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14" h="29">
                        <a:moveTo>
                          <a:pt x="14" y="0"/>
                        </a:moveTo>
                        <a:lnTo>
                          <a:pt x="0" y="0"/>
                        </a:lnTo>
                        <a:lnTo>
                          <a:pt x="14" y="29"/>
                        </a:lnTo>
                        <a:lnTo>
                          <a:pt x="14" y="0"/>
                        </a:lnTo>
                        <a:lnTo>
                          <a:pt x="14" y="0"/>
                        </a:lnTo>
                        <a:close/>
                      </a:path>
                    </a:pathLst>
                  </a:custGeom>
                  <a:solidFill>
                    <a:srgbClr val="ff1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4" name=""/>
                  <p:cNvSpPr/>
                  <p:nvPr/>
                </p:nvSpPr>
                <p:spPr>
                  <a:xfrm>
                    <a:off x="5391000" y="5171400"/>
                    <a:ext cx="41400" cy="88560"/>
                  </a:xfrm>
                  <a:custGeom>
                    <a:avLst/>
                    <a:gdLst/>
                    <a:ahLst/>
                    <a:rect l="l" t="t" r="r" b="b"/>
                    <a:pathLst>
                      <a:path w="143" h="322">
                        <a:moveTo>
                          <a:pt x="71" y="322"/>
                        </a:moveTo>
                        <a:lnTo>
                          <a:pt x="93" y="314"/>
                        </a:lnTo>
                        <a:lnTo>
                          <a:pt x="86" y="301"/>
                        </a:lnTo>
                        <a:lnTo>
                          <a:pt x="79" y="293"/>
                        </a:lnTo>
                        <a:lnTo>
                          <a:pt x="71" y="280"/>
                        </a:lnTo>
                        <a:lnTo>
                          <a:pt x="64" y="271"/>
                        </a:lnTo>
                        <a:lnTo>
                          <a:pt x="57" y="259"/>
                        </a:lnTo>
                        <a:lnTo>
                          <a:pt x="57" y="246"/>
                        </a:lnTo>
                        <a:lnTo>
                          <a:pt x="57" y="233"/>
                        </a:lnTo>
                        <a:lnTo>
                          <a:pt x="57" y="220"/>
                        </a:lnTo>
                        <a:lnTo>
                          <a:pt x="64" y="212"/>
                        </a:lnTo>
                        <a:lnTo>
                          <a:pt x="71" y="199"/>
                        </a:lnTo>
                        <a:lnTo>
                          <a:pt x="107" y="182"/>
                        </a:lnTo>
                        <a:lnTo>
                          <a:pt x="129" y="165"/>
                        </a:lnTo>
                        <a:lnTo>
                          <a:pt x="143" y="144"/>
                        </a:lnTo>
                        <a:lnTo>
                          <a:pt x="143" y="127"/>
                        </a:lnTo>
                        <a:lnTo>
                          <a:pt x="136" y="106"/>
                        </a:lnTo>
                        <a:lnTo>
                          <a:pt x="121" y="85"/>
                        </a:lnTo>
                        <a:lnTo>
                          <a:pt x="107" y="64"/>
                        </a:lnTo>
                        <a:lnTo>
                          <a:pt x="100" y="42"/>
                        </a:lnTo>
                        <a:lnTo>
                          <a:pt x="93" y="21"/>
                        </a:lnTo>
                        <a:lnTo>
                          <a:pt x="100" y="0"/>
                        </a:lnTo>
                        <a:lnTo>
                          <a:pt x="79" y="30"/>
                        </a:lnTo>
                        <a:lnTo>
                          <a:pt x="57" y="64"/>
                        </a:lnTo>
                        <a:lnTo>
                          <a:pt x="36" y="98"/>
                        </a:lnTo>
                        <a:lnTo>
                          <a:pt x="21" y="127"/>
                        </a:lnTo>
                        <a:lnTo>
                          <a:pt x="7" y="161"/>
                        </a:lnTo>
                        <a:lnTo>
                          <a:pt x="0" y="195"/>
                        </a:lnTo>
                        <a:lnTo>
                          <a:pt x="7" y="229"/>
                        </a:lnTo>
                        <a:lnTo>
                          <a:pt x="14" y="263"/>
                        </a:lnTo>
                        <a:lnTo>
                          <a:pt x="36" y="293"/>
                        </a:lnTo>
                        <a:lnTo>
                          <a:pt x="71" y="322"/>
                        </a:lnTo>
                        <a:lnTo>
                          <a:pt x="71" y="322"/>
                        </a:lnTo>
                        <a:close/>
                      </a:path>
                    </a:pathLst>
                  </a:custGeom>
                  <a:solidFill>
                    <a:srgbClr val="ffde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760" bIns="41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5" name=""/>
                  <p:cNvSpPr/>
                  <p:nvPr/>
                </p:nvSpPr>
                <p:spPr>
                  <a:xfrm>
                    <a:off x="4270320" y="5173560"/>
                    <a:ext cx="50040" cy="86040"/>
                  </a:xfrm>
                  <a:custGeom>
                    <a:avLst/>
                    <a:gdLst/>
                    <a:ahLst/>
                    <a:rect l="l" t="t" r="r" b="b"/>
                    <a:pathLst>
                      <a:path w="172" h="313">
                        <a:moveTo>
                          <a:pt x="29" y="76"/>
                        </a:moveTo>
                        <a:lnTo>
                          <a:pt x="15" y="101"/>
                        </a:lnTo>
                        <a:lnTo>
                          <a:pt x="8" y="127"/>
                        </a:lnTo>
                        <a:lnTo>
                          <a:pt x="0" y="152"/>
                        </a:lnTo>
                        <a:lnTo>
                          <a:pt x="0" y="173"/>
                        </a:lnTo>
                        <a:lnTo>
                          <a:pt x="8" y="199"/>
                        </a:lnTo>
                        <a:lnTo>
                          <a:pt x="22" y="224"/>
                        </a:lnTo>
                        <a:lnTo>
                          <a:pt x="36" y="245"/>
                        </a:lnTo>
                        <a:lnTo>
                          <a:pt x="50" y="271"/>
                        </a:lnTo>
                        <a:lnTo>
                          <a:pt x="65" y="292"/>
                        </a:lnTo>
                        <a:lnTo>
                          <a:pt x="86" y="313"/>
                        </a:lnTo>
                        <a:lnTo>
                          <a:pt x="136" y="288"/>
                        </a:lnTo>
                        <a:lnTo>
                          <a:pt x="165" y="262"/>
                        </a:lnTo>
                        <a:lnTo>
                          <a:pt x="172" y="233"/>
                        </a:lnTo>
                        <a:lnTo>
                          <a:pt x="172" y="199"/>
                        </a:lnTo>
                        <a:lnTo>
                          <a:pt x="158" y="165"/>
                        </a:lnTo>
                        <a:lnTo>
                          <a:pt x="143" y="131"/>
                        </a:lnTo>
                        <a:lnTo>
                          <a:pt x="129" y="97"/>
                        </a:lnTo>
                        <a:lnTo>
                          <a:pt x="115" y="63"/>
                        </a:lnTo>
                        <a:lnTo>
                          <a:pt x="115" y="29"/>
                        </a:lnTo>
                        <a:lnTo>
                          <a:pt x="122" y="0"/>
                        </a:lnTo>
                        <a:lnTo>
                          <a:pt x="36" y="80"/>
                        </a:lnTo>
                        <a:lnTo>
                          <a:pt x="36" y="80"/>
                        </a:lnTo>
                        <a:lnTo>
                          <a:pt x="29" y="76"/>
                        </a:lnTo>
                        <a:close/>
                      </a:path>
                    </a:pathLst>
                  </a:custGeom>
                  <a:solidFill>
                    <a:srgbClr val="ffde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240" bIns="39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6" name=""/>
                  <p:cNvSpPr/>
                  <p:nvPr/>
                </p:nvSpPr>
                <p:spPr>
                  <a:xfrm>
                    <a:off x="4785840" y="5187600"/>
                    <a:ext cx="4140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w="143" h="344">
                        <a:moveTo>
                          <a:pt x="35" y="293"/>
                        </a:moveTo>
                        <a:lnTo>
                          <a:pt x="71" y="267"/>
                        </a:lnTo>
                        <a:lnTo>
                          <a:pt x="100" y="242"/>
                        </a:lnTo>
                        <a:lnTo>
                          <a:pt x="121" y="212"/>
                        </a:lnTo>
                        <a:lnTo>
                          <a:pt x="135" y="183"/>
                        </a:lnTo>
                        <a:lnTo>
                          <a:pt x="143" y="153"/>
                        </a:lnTo>
                        <a:lnTo>
                          <a:pt x="143" y="119"/>
                        </a:lnTo>
                        <a:lnTo>
                          <a:pt x="135" y="89"/>
                        </a:lnTo>
                        <a:lnTo>
                          <a:pt x="128" y="60"/>
                        </a:lnTo>
                        <a:lnTo>
                          <a:pt x="121" y="30"/>
                        </a:lnTo>
                        <a:lnTo>
                          <a:pt x="107" y="0"/>
                        </a:lnTo>
                        <a:lnTo>
                          <a:pt x="93" y="34"/>
                        </a:lnTo>
                        <a:lnTo>
                          <a:pt x="78" y="68"/>
                        </a:lnTo>
                        <a:lnTo>
                          <a:pt x="64" y="102"/>
                        </a:lnTo>
                        <a:lnTo>
                          <a:pt x="43" y="136"/>
                        </a:lnTo>
                        <a:lnTo>
                          <a:pt x="21" y="170"/>
                        </a:lnTo>
                        <a:lnTo>
                          <a:pt x="7" y="204"/>
                        </a:lnTo>
                        <a:lnTo>
                          <a:pt x="0" y="238"/>
                        </a:lnTo>
                        <a:lnTo>
                          <a:pt x="0" y="272"/>
                        </a:lnTo>
                        <a:lnTo>
                          <a:pt x="7" y="310"/>
                        </a:lnTo>
                        <a:lnTo>
                          <a:pt x="35" y="344"/>
                        </a:lnTo>
                        <a:lnTo>
                          <a:pt x="35" y="293"/>
                        </a:lnTo>
                        <a:lnTo>
                          <a:pt x="35" y="293"/>
                        </a:lnTo>
                        <a:close/>
                      </a:path>
                    </a:pathLst>
                  </a:custGeom>
                  <a:solidFill>
                    <a:srgbClr val="ffde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7" name=""/>
                  <p:cNvSpPr/>
                  <p:nvPr/>
                </p:nvSpPr>
                <p:spPr>
                  <a:xfrm>
                    <a:off x="4854600" y="5186520"/>
                    <a:ext cx="41760" cy="7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43" h="259">
                        <a:moveTo>
                          <a:pt x="43" y="259"/>
                        </a:moveTo>
                        <a:lnTo>
                          <a:pt x="65" y="250"/>
                        </a:lnTo>
                        <a:lnTo>
                          <a:pt x="79" y="238"/>
                        </a:lnTo>
                        <a:lnTo>
                          <a:pt x="93" y="229"/>
                        </a:lnTo>
                        <a:lnTo>
                          <a:pt x="107" y="216"/>
                        </a:lnTo>
                        <a:lnTo>
                          <a:pt x="115" y="199"/>
                        </a:lnTo>
                        <a:lnTo>
                          <a:pt x="122" y="187"/>
                        </a:lnTo>
                        <a:lnTo>
                          <a:pt x="129" y="170"/>
                        </a:lnTo>
                        <a:lnTo>
                          <a:pt x="136" y="157"/>
                        </a:lnTo>
                        <a:lnTo>
                          <a:pt x="136" y="140"/>
                        </a:lnTo>
                        <a:lnTo>
                          <a:pt x="143" y="127"/>
                        </a:lnTo>
                        <a:lnTo>
                          <a:pt x="136" y="51"/>
                        </a:lnTo>
                        <a:lnTo>
                          <a:pt x="122" y="13"/>
                        </a:lnTo>
                        <a:lnTo>
                          <a:pt x="100" y="0"/>
                        </a:lnTo>
                        <a:lnTo>
                          <a:pt x="72" y="17"/>
                        </a:lnTo>
                        <a:lnTo>
                          <a:pt x="43" y="47"/>
                        </a:lnTo>
                        <a:lnTo>
                          <a:pt x="22" y="89"/>
                        </a:lnTo>
                        <a:lnTo>
                          <a:pt x="0" y="140"/>
                        </a:lnTo>
                        <a:lnTo>
                          <a:pt x="0" y="187"/>
                        </a:lnTo>
                        <a:lnTo>
                          <a:pt x="7" y="229"/>
                        </a:lnTo>
                        <a:lnTo>
                          <a:pt x="43" y="259"/>
                        </a:lnTo>
                        <a:lnTo>
                          <a:pt x="43" y="259"/>
                        </a:lnTo>
                        <a:close/>
                      </a:path>
                    </a:pathLst>
                  </a:custGeom>
                  <a:solidFill>
                    <a:srgbClr val="ffb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8" name=""/>
                  <p:cNvSpPr/>
                  <p:nvPr/>
                </p:nvSpPr>
                <p:spPr>
                  <a:xfrm>
                    <a:off x="5403600" y="5193720"/>
                    <a:ext cx="14400" cy="2772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101">
                        <a:moveTo>
                          <a:pt x="50" y="0"/>
                        </a:moveTo>
                        <a:lnTo>
                          <a:pt x="0" y="101"/>
                        </a:lnTo>
                        <a:lnTo>
                          <a:pt x="50" y="67"/>
                        </a:lnTo>
                        <a:lnTo>
                          <a:pt x="50" y="0"/>
                        </a:lnTo>
                        <a:lnTo>
                          <a:pt x="50" y="0"/>
                        </a:lnTo>
                        <a:close/>
                      </a:path>
                    </a:pathLst>
                  </a:custGeom>
                  <a:solidFill>
                    <a:srgbClr val="ff1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9" name=""/>
                  <p:cNvSpPr/>
                  <p:nvPr/>
                </p:nvSpPr>
                <p:spPr>
                  <a:xfrm>
                    <a:off x="4281120" y="5194800"/>
                    <a:ext cx="29160" cy="51120"/>
                  </a:xfrm>
                  <a:custGeom>
                    <a:avLst/>
                    <a:gdLst/>
                    <a:ahLst/>
                    <a:rect l="l" t="t" r="r" b="b"/>
                    <a:pathLst>
                      <a:path w="100" h="186">
                        <a:moveTo>
                          <a:pt x="50" y="0"/>
                        </a:moveTo>
                        <a:lnTo>
                          <a:pt x="36" y="13"/>
                        </a:lnTo>
                        <a:lnTo>
                          <a:pt x="22" y="29"/>
                        </a:lnTo>
                        <a:lnTo>
                          <a:pt x="7" y="46"/>
                        </a:lnTo>
                        <a:lnTo>
                          <a:pt x="0" y="63"/>
                        </a:lnTo>
                        <a:lnTo>
                          <a:pt x="0" y="85"/>
                        </a:lnTo>
                        <a:lnTo>
                          <a:pt x="0" y="102"/>
                        </a:lnTo>
                        <a:lnTo>
                          <a:pt x="7" y="123"/>
                        </a:lnTo>
                        <a:lnTo>
                          <a:pt x="22" y="140"/>
                        </a:lnTo>
                        <a:lnTo>
                          <a:pt x="36" y="157"/>
                        </a:lnTo>
                        <a:lnTo>
                          <a:pt x="50" y="174"/>
                        </a:lnTo>
                        <a:lnTo>
                          <a:pt x="72" y="186"/>
                        </a:lnTo>
                        <a:lnTo>
                          <a:pt x="93" y="169"/>
                        </a:lnTo>
                        <a:lnTo>
                          <a:pt x="100" y="148"/>
                        </a:lnTo>
                        <a:lnTo>
                          <a:pt x="100" y="131"/>
                        </a:lnTo>
                        <a:lnTo>
                          <a:pt x="100" y="114"/>
                        </a:lnTo>
                        <a:lnTo>
                          <a:pt x="93" y="97"/>
                        </a:lnTo>
                        <a:lnTo>
                          <a:pt x="79" y="76"/>
                        </a:lnTo>
                        <a:lnTo>
                          <a:pt x="64" y="59"/>
                        </a:lnTo>
                        <a:lnTo>
                          <a:pt x="57" y="42"/>
                        </a:lnTo>
                        <a:lnTo>
                          <a:pt x="50" y="21"/>
                        </a:lnTo>
                        <a:lnTo>
                          <a:pt x="50" y="4"/>
                        </a:lnTo>
                        <a:lnTo>
                          <a:pt x="50" y="4"/>
                        </a:lnTo>
                        <a:lnTo>
                          <a:pt x="50" y="0"/>
                        </a:lnTo>
                        <a:close/>
                      </a:path>
                    </a:pathLst>
                  </a:custGeom>
                  <a:solidFill>
                    <a:srgbClr val="ff1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0" name=""/>
                  <p:cNvSpPr/>
                  <p:nvPr/>
                </p:nvSpPr>
                <p:spPr>
                  <a:xfrm>
                    <a:off x="4863240" y="5209920"/>
                    <a:ext cx="1440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93">
                        <a:moveTo>
                          <a:pt x="50" y="93"/>
                        </a:moveTo>
                        <a:lnTo>
                          <a:pt x="28" y="0"/>
                        </a:lnTo>
                        <a:lnTo>
                          <a:pt x="28" y="8"/>
                        </a:lnTo>
                        <a:lnTo>
                          <a:pt x="21" y="21"/>
                        </a:lnTo>
                        <a:lnTo>
                          <a:pt x="14" y="30"/>
                        </a:lnTo>
                        <a:lnTo>
                          <a:pt x="7" y="38"/>
                        </a:lnTo>
                        <a:lnTo>
                          <a:pt x="7" y="51"/>
                        </a:lnTo>
                        <a:lnTo>
                          <a:pt x="0" y="59"/>
                        </a:lnTo>
                        <a:lnTo>
                          <a:pt x="7" y="68"/>
                        </a:lnTo>
                        <a:lnTo>
                          <a:pt x="14" y="76"/>
                        </a:lnTo>
                        <a:lnTo>
                          <a:pt x="28" y="85"/>
                        </a:lnTo>
                        <a:lnTo>
                          <a:pt x="50" y="93"/>
                        </a:lnTo>
                        <a:lnTo>
                          <a:pt x="50" y="93"/>
                        </a:lnTo>
                        <a:close/>
                      </a:path>
                    </a:pathLst>
                  </a:custGeom>
                  <a:solidFill>
                    <a:srgbClr val="ff1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1" name=""/>
                  <p:cNvSpPr/>
                  <p:nvPr/>
                </p:nvSpPr>
                <p:spPr>
                  <a:xfrm>
                    <a:off x="4791960" y="5215680"/>
                    <a:ext cx="2484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153">
                        <a:moveTo>
                          <a:pt x="57" y="0"/>
                        </a:moveTo>
                        <a:lnTo>
                          <a:pt x="0" y="153"/>
                        </a:lnTo>
                        <a:lnTo>
                          <a:pt x="14" y="140"/>
                        </a:lnTo>
                        <a:lnTo>
                          <a:pt x="29" y="123"/>
                        </a:lnTo>
                        <a:lnTo>
                          <a:pt x="43" y="106"/>
                        </a:lnTo>
                        <a:lnTo>
                          <a:pt x="57" y="93"/>
                        </a:lnTo>
                        <a:lnTo>
                          <a:pt x="72" y="76"/>
                        </a:lnTo>
                        <a:lnTo>
                          <a:pt x="79" y="59"/>
                        </a:lnTo>
                        <a:lnTo>
                          <a:pt x="86" y="43"/>
                        </a:lnTo>
                        <a:lnTo>
                          <a:pt x="86" y="30"/>
                        </a:lnTo>
                        <a:lnTo>
                          <a:pt x="79" y="13"/>
                        </a:lnTo>
                        <a:lnTo>
                          <a:pt x="64" y="0"/>
                        </a:lnTo>
                        <a:lnTo>
                          <a:pt x="64" y="0"/>
                        </a:lnTo>
                        <a:lnTo>
                          <a:pt x="57" y="0"/>
                        </a:lnTo>
                        <a:close/>
                      </a:path>
                    </a:pathLst>
                  </a:custGeom>
                  <a:solidFill>
                    <a:srgbClr val="ff1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" bIns="-4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2" name=""/>
                  <p:cNvSpPr/>
                  <p:nvPr/>
                </p:nvSpPr>
                <p:spPr>
                  <a:xfrm>
                    <a:off x="5453280" y="5252040"/>
                    <a:ext cx="30960" cy="45360"/>
                  </a:xfrm>
                  <a:custGeom>
                    <a:avLst/>
                    <a:gdLst/>
                    <a:ahLst/>
                    <a:rect l="l" t="t" r="r" b="b"/>
                    <a:pathLst>
                      <a:path w="107" h="165">
                        <a:moveTo>
                          <a:pt x="64" y="161"/>
                        </a:moveTo>
                        <a:lnTo>
                          <a:pt x="79" y="148"/>
                        </a:lnTo>
                        <a:lnTo>
                          <a:pt x="93" y="131"/>
                        </a:lnTo>
                        <a:lnTo>
                          <a:pt x="100" y="114"/>
                        </a:lnTo>
                        <a:lnTo>
                          <a:pt x="100" y="97"/>
                        </a:lnTo>
                        <a:lnTo>
                          <a:pt x="107" y="80"/>
                        </a:lnTo>
                        <a:lnTo>
                          <a:pt x="100" y="63"/>
                        </a:lnTo>
                        <a:lnTo>
                          <a:pt x="100" y="46"/>
                        </a:lnTo>
                        <a:lnTo>
                          <a:pt x="100" y="29"/>
                        </a:lnTo>
                        <a:lnTo>
                          <a:pt x="93" y="12"/>
                        </a:lnTo>
                        <a:lnTo>
                          <a:pt x="86" y="0"/>
                        </a:lnTo>
                        <a:lnTo>
                          <a:pt x="64" y="8"/>
                        </a:lnTo>
                        <a:lnTo>
                          <a:pt x="50" y="16"/>
                        </a:lnTo>
                        <a:lnTo>
                          <a:pt x="36" y="29"/>
                        </a:lnTo>
                        <a:lnTo>
                          <a:pt x="29" y="42"/>
                        </a:lnTo>
                        <a:lnTo>
                          <a:pt x="22" y="59"/>
                        </a:lnTo>
                        <a:lnTo>
                          <a:pt x="14" y="72"/>
                        </a:lnTo>
                        <a:lnTo>
                          <a:pt x="14" y="84"/>
                        </a:lnTo>
                        <a:lnTo>
                          <a:pt x="7" y="101"/>
                        </a:lnTo>
                        <a:lnTo>
                          <a:pt x="7" y="118"/>
                        </a:lnTo>
                        <a:lnTo>
                          <a:pt x="0" y="131"/>
                        </a:lnTo>
                        <a:lnTo>
                          <a:pt x="7" y="135"/>
                        </a:lnTo>
                        <a:lnTo>
                          <a:pt x="7" y="139"/>
                        </a:lnTo>
                        <a:lnTo>
                          <a:pt x="14" y="144"/>
                        </a:lnTo>
                        <a:lnTo>
                          <a:pt x="22" y="152"/>
                        </a:lnTo>
                        <a:lnTo>
                          <a:pt x="22" y="156"/>
                        </a:lnTo>
                        <a:lnTo>
                          <a:pt x="29" y="161"/>
                        </a:lnTo>
                        <a:lnTo>
                          <a:pt x="36" y="161"/>
                        </a:lnTo>
                        <a:lnTo>
                          <a:pt x="43" y="165"/>
                        </a:lnTo>
                        <a:lnTo>
                          <a:pt x="50" y="165"/>
                        </a:lnTo>
                        <a:lnTo>
                          <a:pt x="64" y="161"/>
                        </a:lnTo>
                        <a:lnTo>
                          <a:pt x="64" y="161"/>
                        </a:lnTo>
                        <a:close/>
                      </a:path>
                    </a:pathLst>
                  </a:custGeom>
                  <a:solidFill>
                    <a:srgbClr val="ffde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" bIns="-1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3" name=""/>
                  <p:cNvSpPr/>
                  <p:nvPr/>
                </p:nvSpPr>
                <p:spPr>
                  <a:xfrm>
                    <a:off x="4316760" y="5265720"/>
                    <a:ext cx="28800" cy="39600"/>
                  </a:xfrm>
                  <a:custGeom>
                    <a:avLst/>
                    <a:gdLst/>
                    <a:ahLst/>
                    <a:rect l="l" t="t" r="r" b="b"/>
                    <a:pathLst>
                      <a:path w="99" h="145">
                        <a:moveTo>
                          <a:pt x="42" y="145"/>
                        </a:moveTo>
                        <a:lnTo>
                          <a:pt x="57" y="132"/>
                        </a:lnTo>
                        <a:lnTo>
                          <a:pt x="64" y="115"/>
                        </a:lnTo>
                        <a:lnTo>
                          <a:pt x="71" y="102"/>
                        </a:lnTo>
                        <a:lnTo>
                          <a:pt x="85" y="89"/>
                        </a:lnTo>
                        <a:lnTo>
                          <a:pt x="92" y="72"/>
                        </a:lnTo>
                        <a:lnTo>
                          <a:pt x="99" y="60"/>
                        </a:lnTo>
                        <a:lnTo>
                          <a:pt x="99" y="43"/>
                        </a:lnTo>
                        <a:lnTo>
                          <a:pt x="99" y="30"/>
                        </a:lnTo>
                        <a:lnTo>
                          <a:pt x="99" y="13"/>
                        </a:lnTo>
                        <a:lnTo>
                          <a:pt x="85" y="0"/>
                        </a:lnTo>
                        <a:lnTo>
                          <a:pt x="57" y="9"/>
                        </a:lnTo>
                        <a:lnTo>
                          <a:pt x="35" y="22"/>
                        </a:lnTo>
                        <a:lnTo>
                          <a:pt x="21" y="34"/>
                        </a:lnTo>
                        <a:lnTo>
                          <a:pt x="7" y="51"/>
                        </a:lnTo>
                        <a:lnTo>
                          <a:pt x="0" y="68"/>
                        </a:lnTo>
                        <a:lnTo>
                          <a:pt x="0" y="85"/>
                        </a:lnTo>
                        <a:lnTo>
                          <a:pt x="7" y="102"/>
                        </a:lnTo>
                        <a:lnTo>
                          <a:pt x="14" y="119"/>
                        </a:lnTo>
                        <a:lnTo>
                          <a:pt x="28" y="132"/>
                        </a:lnTo>
                        <a:lnTo>
                          <a:pt x="49" y="145"/>
                        </a:lnTo>
                        <a:lnTo>
                          <a:pt x="49" y="145"/>
                        </a:lnTo>
                        <a:lnTo>
                          <a:pt x="42" y="145"/>
                        </a:lnTo>
                        <a:close/>
                      </a:path>
                    </a:pathLst>
                  </a:custGeom>
                  <a:solidFill>
                    <a:srgbClr val="ffde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4" name=""/>
                  <p:cNvSpPr/>
                  <p:nvPr/>
                </p:nvSpPr>
                <p:spPr>
                  <a:xfrm>
                    <a:off x="5461920" y="5274000"/>
                    <a:ext cx="612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64">
                        <a:moveTo>
                          <a:pt x="0" y="64"/>
                        </a:moveTo>
                        <a:lnTo>
                          <a:pt x="21" y="0"/>
                        </a:lnTo>
                        <a:lnTo>
                          <a:pt x="0" y="64"/>
                        </a:lnTo>
                        <a:close/>
                      </a:path>
                    </a:pathLst>
                  </a:custGeom>
                  <a:solidFill>
                    <a:srgbClr val="ff1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5" name=""/>
                  <p:cNvSpPr/>
                  <p:nvPr/>
                </p:nvSpPr>
                <p:spPr>
                  <a:xfrm>
                    <a:off x="4798440" y="5302080"/>
                    <a:ext cx="114480" cy="1155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420">
                        <a:moveTo>
                          <a:pt x="249" y="165"/>
                        </a:moveTo>
                        <a:lnTo>
                          <a:pt x="264" y="186"/>
                        </a:lnTo>
                        <a:lnTo>
                          <a:pt x="278" y="208"/>
                        </a:lnTo>
                        <a:lnTo>
                          <a:pt x="285" y="233"/>
                        </a:lnTo>
                        <a:lnTo>
                          <a:pt x="285" y="258"/>
                        </a:lnTo>
                        <a:lnTo>
                          <a:pt x="285" y="280"/>
                        </a:lnTo>
                        <a:lnTo>
                          <a:pt x="278" y="305"/>
                        </a:lnTo>
                        <a:lnTo>
                          <a:pt x="271" y="331"/>
                        </a:lnTo>
                        <a:lnTo>
                          <a:pt x="264" y="356"/>
                        </a:lnTo>
                        <a:lnTo>
                          <a:pt x="249" y="377"/>
                        </a:lnTo>
                        <a:lnTo>
                          <a:pt x="235" y="398"/>
                        </a:lnTo>
                        <a:lnTo>
                          <a:pt x="321" y="356"/>
                        </a:lnTo>
                        <a:lnTo>
                          <a:pt x="335" y="339"/>
                        </a:lnTo>
                        <a:lnTo>
                          <a:pt x="349" y="322"/>
                        </a:lnTo>
                        <a:lnTo>
                          <a:pt x="364" y="301"/>
                        </a:lnTo>
                        <a:lnTo>
                          <a:pt x="378" y="280"/>
                        </a:lnTo>
                        <a:lnTo>
                          <a:pt x="385" y="258"/>
                        </a:lnTo>
                        <a:lnTo>
                          <a:pt x="392" y="237"/>
                        </a:lnTo>
                        <a:lnTo>
                          <a:pt x="385" y="220"/>
                        </a:lnTo>
                        <a:lnTo>
                          <a:pt x="371" y="203"/>
                        </a:lnTo>
                        <a:lnTo>
                          <a:pt x="349" y="191"/>
                        </a:lnTo>
                        <a:lnTo>
                          <a:pt x="321" y="182"/>
                        </a:lnTo>
                        <a:lnTo>
                          <a:pt x="328" y="161"/>
                        </a:lnTo>
                        <a:lnTo>
                          <a:pt x="321" y="144"/>
                        </a:lnTo>
                        <a:lnTo>
                          <a:pt x="321" y="127"/>
                        </a:lnTo>
                        <a:lnTo>
                          <a:pt x="307" y="106"/>
                        </a:lnTo>
                        <a:lnTo>
                          <a:pt x="292" y="89"/>
                        </a:lnTo>
                        <a:lnTo>
                          <a:pt x="271" y="72"/>
                        </a:lnTo>
                        <a:lnTo>
                          <a:pt x="257" y="55"/>
                        </a:lnTo>
                        <a:lnTo>
                          <a:pt x="235" y="34"/>
                        </a:lnTo>
                        <a:lnTo>
                          <a:pt x="214" y="17"/>
                        </a:lnTo>
                        <a:lnTo>
                          <a:pt x="199" y="0"/>
                        </a:lnTo>
                        <a:lnTo>
                          <a:pt x="185" y="42"/>
                        </a:lnTo>
                        <a:lnTo>
                          <a:pt x="164" y="85"/>
                        </a:lnTo>
                        <a:lnTo>
                          <a:pt x="128" y="127"/>
                        </a:lnTo>
                        <a:lnTo>
                          <a:pt x="100" y="165"/>
                        </a:lnTo>
                        <a:lnTo>
                          <a:pt x="64" y="203"/>
                        </a:lnTo>
                        <a:lnTo>
                          <a:pt x="35" y="246"/>
                        </a:lnTo>
                        <a:lnTo>
                          <a:pt x="7" y="284"/>
                        </a:lnTo>
                        <a:lnTo>
                          <a:pt x="0" y="326"/>
                        </a:lnTo>
                        <a:lnTo>
                          <a:pt x="0" y="373"/>
                        </a:lnTo>
                        <a:lnTo>
                          <a:pt x="14" y="420"/>
                        </a:lnTo>
                        <a:lnTo>
                          <a:pt x="21" y="390"/>
                        </a:lnTo>
                        <a:lnTo>
                          <a:pt x="35" y="360"/>
                        </a:lnTo>
                        <a:lnTo>
                          <a:pt x="50" y="331"/>
                        </a:lnTo>
                        <a:lnTo>
                          <a:pt x="71" y="301"/>
                        </a:lnTo>
                        <a:lnTo>
                          <a:pt x="92" y="271"/>
                        </a:lnTo>
                        <a:lnTo>
                          <a:pt x="114" y="246"/>
                        </a:lnTo>
                        <a:lnTo>
                          <a:pt x="142" y="225"/>
                        </a:lnTo>
                        <a:lnTo>
                          <a:pt x="178" y="199"/>
                        </a:lnTo>
                        <a:lnTo>
                          <a:pt x="214" y="182"/>
                        </a:lnTo>
                        <a:lnTo>
                          <a:pt x="249" y="165"/>
                        </a:lnTo>
                        <a:lnTo>
                          <a:pt x="249" y="165"/>
                        </a:lnTo>
                        <a:close/>
                      </a:path>
                    </a:pathLst>
                  </a:custGeom>
                  <a:solidFill>
                    <a:srgbClr val="ff1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" name=""/>
                  <p:cNvSpPr/>
                  <p:nvPr/>
                </p:nvSpPr>
                <p:spPr>
                  <a:xfrm>
                    <a:off x="5380200" y="5308200"/>
                    <a:ext cx="97920" cy="10044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365">
                        <a:moveTo>
                          <a:pt x="157" y="161"/>
                        </a:moveTo>
                        <a:lnTo>
                          <a:pt x="179" y="174"/>
                        </a:lnTo>
                        <a:lnTo>
                          <a:pt x="200" y="191"/>
                        </a:lnTo>
                        <a:lnTo>
                          <a:pt x="215" y="212"/>
                        </a:lnTo>
                        <a:lnTo>
                          <a:pt x="229" y="233"/>
                        </a:lnTo>
                        <a:lnTo>
                          <a:pt x="236" y="254"/>
                        </a:lnTo>
                        <a:lnTo>
                          <a:pt x="236" y="276"/>
                        </a:lnTo>
                        <a:lnTo>
                          <a:pt x="243" y="297"/>
                        </a:lnTo>
                        <a:lnTo>
                          <a:pt x="236" y="318"/>
                        </a:lnTo>
                        <a:lnTo>
                          <a:pt x="236" y="335"/>
                        </a:lnTo>
                        <a:lnTo>
                          <a:pt x="222" y="352"/>
                        </a:lnTo>
                        <a:lnTo>
                          <a:pt x="215" y="365"/>
                        </a:lnTo>
                        <a:lnTo>
                          <a:pt x="300" y="314"/>
                        </a:lnTo>
                        <a:lnTo>
                          <a:pt x="329" y="271"/>
                        </a:lnTo>
                        <a:lnTo>
                          <a:pt x="336" y="237"/>
                        </a:lnTo>
                        <a:lnTo>
                          <a:pt x="322" y="204"/>
                        </a:lnTo>
                        <a:lnTo>
                          <a:pt x="300" y="174"/>
                        </a:lnTo>
                        <a:lnTo>
                          <a:pt x="272" y="148"/>
                        </a:lnTo>
                        <a:lnTo>
                          <a:pt x="236" y="119"/>
                        </a:lnTo>
                        <a:lnTo>
                          <a:pt x="200" y="93"/>
                        </a:lnTo>
                        <a:lnTo>
                          <a:pt x="172" y="64"/>
                        </a:lnTo>
                        <a:lnTo>
                          <a:pt x="150" y="34"/>
                        </a:lnTo>
                        <a:lnTo>
                          <a:pt x="143" y="0"/>
                        </a:lnTo>
                        <a:lnTo>
                          <a:pt x="129" y="38"/>
                        </a:lnTo>
                        <a:lnTo>
                          <a:pt x="107" y="72"/>
                        </a:lnTo>
                        <a:lnTo>
                          <a:pt x="86" y="110"/>
                        </a:lnTo>
                        <a:lnTo>
                          <a:pt x="57" y="144"/>
                        </a:lnTo>
                        <a:lnTo>
                          <a:pt x="36" y="182"/>
                        </a:lnTo>
                        <a:lnTo>
                          <a:pt x="15" y="216"/>
                        </a:lnTo>
                        <a:lnTo>
                          <a:pt x="0" y="254"/>
                        </a:lnTo>
                        <a:lnTo>
                          <a:pt x="7" y="288"/>
                        </a:lnTo>
                        <a:lnTo>
                          <a:pt x="22" y="326"/>
                        </a:lnTo>
                        <a:lnTo>
                          <a:pt x="57" y="365"/>
                        </a:lnTo>
                        <a:lnTo>
                          <a:pt x="57" y="339"/>
                        </a:lnTo>
                        <a:lnTo>
                          <a:pt x="57" y="318"/>
                        </a:lnTo>
                        <a:lnTo>
                          <a:pt x="57" y="293"/>
                        </a:lnTo>
                        <a:lnTo>
                          <a:pt x="57" y="271"/>
                        </a:lnTo>
                        <a:lnTo>
                          <a:pt x="65" y="250"/>
                        </a:lnTo>
                        <a:lnTo>
                          <a:pt x="79" y="229"/>
                        </a:lnTo>
                        <a:lnTo>
                          <a:pt x="93" y="208"/>
                        </a:lnTo>
                        <a:lnTo>
                          <a:pt x="107" y="191"/>
                        </a:lnTo>
                        <a:lnTo>
                          <a:pt x="136" y="174"/>
                        </a:lnTo>
                        <a:lnTo>
                          <a:pt x="165" y="161"/>
                        </a:lnTo>
                        <a:lnTo>
                          <a:pt x="165" y="161"/>
                        </a:lnTo>
                        <a:lnTo>
                          <a:pt x="157" y="161"/>
                        </a:lnTo>
                        <a:close/>
                      </a:path>
                    </a:pathLst>
                  </a:custGeom>
                  <a:solidFill>
                    <a:srgbClr val="ff1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7" name=""/>
                  <p:cNvSpPr/>
                  <p:nvPr/>
                </p:nvSpPr>
                <p:spPr>
                  <a:xfrm>
                    <a:off x="4255920" y="5356080"/>
                    <a:ext cx="46080" cy="78120"/>
                  </a:xfrm>
                  <a:custGeom>
                    <a:avLst/>
                    <a:gdLst/>
                    <a:ahLst/>
                    <a:rect l="l" t="t" r="r" b="b"/>
                    <a:pathLst>
                      <a:path w="158" h="284">
                        <a:moveTo>
                          <a:pt x="100" y="174"/>
                        </a:moveTo>
                        <a:lnTo>
                          <a:pt x="136" y="191"/>
                        </a:lnTo>
                        <a:lnTo>
                          <a:pt x="150" y="169"/>
                        </a:lnTo>
                        <a:lnTo>
                          <a:pt x="158" y="152"/>
                        </a:lnTo>
                        <a:lnTo>
                          <a:pt x="158" y="131"/>
                        </a:lnTo>
                        <a:lnTo>
                          <a:pt x="150" y="110"/>
                        </a:lnTo>
                        <a:lnTo>
                          <a:pt x="143" y="93"/>
                        </a:lnTo>
                        <a:lnTo>
                          <a:pt x="129" y="76"/>
                        </a:lnTo>
                        <a:lnTo>
                          <a:pt x="115" y="55"/>
                        </a:lnTo>
                        <a:lnTo>
                          <a:pt x="100" y="38"/>
                        </a:lnTo>
                        <a:lnTo>
                          <a:pt x="93" y="17"/>
                        </a:lnTo>
                        <a:lnTo>
                          <a:pt x="86" y="0"/>
                        </a:lnTo>
                        <a:lnTo>
                          <a:pt x="36" y="51"/>
                        </a:lnTo>
                        <a:lnTo>
                          <a:pt x="22" y="72"/>
                        </a:lnTo>
                        <a:lnTo>
                          <a:pt x="8" y="93"/>
                        </a:lnTo>
                        <a:lnTo>
                          <a:pt x="0" y="119"/>
                        </a:lnTo>
                        <a:lnTo>
                          <a:pt x="0" y="144"/>
                        </a:lnTo>
                        <a:lnTo>
                          <a:pt x="0" y="169"/>
                        </a:lnTo>
                        <a:lnTo>
                          <a:pt x="8" y="195"/>
                        </a:lnTo>
                        <a:lnTo>
                          <a:pt x="22" y="216"/>
                        </a:lnTo>
                        <a:lnTo>
                          <a:pt x="36" y="241"/>
                        </a:lnTo>
                        <a:lnTo>
                          <a:pt x="50" y="263"/>
                        </a:lnTo>
                        <a:lnTo>
                          <a:pt x="72" y="284"/>
                        </a:lnTo>
                        <a:lnTo>
                          <a:pt x="79" y="275"/>
                        </a:lnTo>
                        <a:lnTo>
                          <a:pt x="79" y="263"/>
                        </a:lnTo>
                        <a:lnTo>
                          <a:pt x="79" y="250"/>
                        </a:lnTo>
                        <a:lnTo>
                          <a:pt x="72" y="237"/>
                        </a:lnTo>
                        <a:lnTo>
                          <a:pt x="72" y="229"/>
                        </a:lnTo>
                        <a:lnTo>
                          <a:pt x="65" y="216"/>
                        </a:lnTo>
                        <a:lnTo>
                          <a:pt x="65" y="203"/>
                        </a:lnTo>
                        <a:lnTo>
                          <a:pt x="72" y="191"/>
                        </a:lnTo>
                        <a:lnTo>
                          <a:pt x="79" y="182"/>
                        </a:lnTo>
                        <a:lnTo>
                          <a:pt x="100" y="174"/>
                        </a:lnTo>
                        <a:lnTo>
                          <a:pt x="100" y="174"/>
                        </a:lnTo>
                        <a:close/>
                      </a:path>
                    </a:pathLst>
                  </a:custGeom>
                  <a:solidFill>
                    <a:srgbClr val="ffde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320" bIns="31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8" name=""/>
                  <p:cNvSpPr/>
                  <p:nvPr/>
                </p:nvSpPr>
                <p:spPr>
                  <a:xfrm>
                    <a:off x="4825440" y="5366520"/>
                    <a:ext cx="35640" cy="55800"/>
                  </a:xfrm>
                  <a:custGeom>
                    <a:avLst/>
                    <a:gdLst/>
                    <a:ahLst/>
                    <a:rect l="l" t="t" r="r" b="b"/>
                    <a:pathLst>
                      <a:path w="122" h="203">
                        <a:moveTo>
                          <a:pt x="107" y="0"/>
                        </a:moveTo>
                        <a:lnTo>
                          <a:pt x="86" y="21"/>
                        </a:lnTo>
                        <a:lnTo>
                          <a:pt x="72" y="38"/>
                        </a:lnTo>
                        <a:lnTo>
                          <a:pt x="50" y="59"/>
                        </a:lnTo>
                        <a:lnTo>
                          <a:pt x="36" y="81"/>
                        </a:lnTo>
                        <a:lnTo>
                          <a:pt x="22" y="102"/>
                        </a:lnTo>
                        <a:lnTo>
                          <a:pt x="8" y="123"/>
                        </a:lnTo>
                        <a:lnTo>
                          <a:pt x="0" y="144"/>
                        </a:lnTo>
                        <a:lnTo>
                          <a:pt x="0" y="165"/>
                        </a:lnTo>
                        <a:lnTo>
                          <a:pt x="0" y="187"/>
                        </a:lnTo>
                        <a:lnTo>
                          <a:pt x="8" y="203"/>
                        </a:lnTo>
                        <a:lnTo>
                          <a:pt x="29" y="187"/>
                        </a:lnTo>
                        <a:lnTo>
                          <a:pt x="43" y="170"/>
                        </a:lnTo>
                        <a:lnTo>
                          <a:pt x="65" y="148"/>
                        </a:lnTo>
                        <a:lnTo>
                          <a:pt x="86" y="131"/>
                        </a:lnTo>
                        <a:lnTo>
                          <a:pt x="100" y="110"/>
                        </a:lnTo>
                        <a:lnTo>
                          <a:pt x="115" y="89"/>
                        </a:lnTo>
                        <a:lnTo>
                          <a:pt x="122" y="68"/>
                        </a:lnTo>
                        <a:lnTo>
                          <a:pt x="122" y="47"/>
                        </a:lnTo>
                        <a:lnTo>
                          <a:pt x="115" y="25"/>
                        </a:lnTo>
                        <a:lnTo>
                          <a:pt x="107" y="0"/>
                        </a:lnTo>
                        <a:lnTo>
                          <a:pt x="107" y="0"/>
                        </a:lnTo>
                        <a:close/>
                      </a:path>
                    </a:pathLst>
                  </a:custGeom>
                  <a:solidFill>
                    <a:srgbClr val="ffde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000" bIns="9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9" name=""/>
                  <p:cNvSpPr/>
                  <p:nvPr/>
                </p:nvSpPr>
                <p:spPr>
                  <a:xfrm>
                    <a:off x="5411520" y="5372280"/>
                    <a:ext cx="1044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115">
                        <a:moveTo>
                          <a:pt x="36" y="0"/>
                        </a:moveTo>
                        <a:lnTo>
                          <a:pt x="36" y="13"/>
                        </a:lnTo>
                        <a:lnTo>
                          <a:pt x="29" y="26"/>
                        </a:lnTo>
                        <a:lnTo>
                          <a:pt x="22" y="38"/>
                        </a:lnTo>
                        <a:lnTo>
                          <a:pt x="15" y="51"/>
                        </a:lnTo>
                        <a:lnTo>
                          <a:pt x="8" y="64"/>
                        </a:lnTo>
                        <a:lnTo>
                          <a:pt x="0" y="72"/>
                        </a:lnTo>
                        <a:lnTo>
                          <a:pt x="0" y="85"/>
                        </a:lnTo>
                        <a:lnTo>
                          <a:pt x="8" y="98"/>
                        </a:lnTo>
                        <a:lnTo>
                          <a:pt x="15" y="106"/>
                        </a:lnTo>
                        <a:lnTo>
                          <a:pt x="36" y="115"/>
                        </a:lnTo>
                        <a:lnTo>
                          <a:pt x="36" y="0"/>
                        </a:lnTo>
                        <a:lnTo>
                          <a:pt x="36" y="0"/>
                        </a:lnTo>
                        <a:close/>
                      </a:path>
                    </a:pathLst>
                  </a:custGeom>
                  <a:solidFill>
                    <a:srgbClr val="ffde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0" name=""/>
                  <p:cNvSpPr/>
                  <p:nvPr/>
                </p:nvSpPr>
                <p:spPr>
                  <a:xfrm>
                    <a:off x="5251320" y="5448240"/>
                    <a:ext cx="291600" cy="77040"/>
                  </a:xfrm>
                  <a:custGeom>
                    <a:avLst/>
                    <a:gdLst/>
                    <a:ahLst/>
                    <a:rect l="l" t="t" r="r" b="b"/>
                    <a:pathLst>
                      <a:path w="999" h="280">
                        <a:moveTo>
                          <a:pt x="207" y="254"/>
                        </a:moveTo>
                        <a:lnTo>
                          <a:pt x="271" y="216"/>
                        </a:lnTo>
                        <a:lnTo>
                          <a:pt x="335" y="203"/>
                        </a:lnTo>
                        <a:lnTo>
                          <a:pt x="392" y="207"/>
                        </a:lnTo>
                        <a:lnTo>
                          <a:pt x="457" y="224"/>
                        </a:lnTo>
                        <a:lnTo>
                          <a:pt x="514" y="246"/>
                        </a:lnTo>
                        <a:lnTo>
                          <a:pt x="571" y="267"/>
                        </a:lnTo>
                        <a:lnTo>
                          <a:pt x="628" y="280"/>
                        </a:lnTo>
                        <a:lnTo>
                          <a:pt x="678" y="280"/>
                        </a:lnTo>
                        <a:lnTo>
                          <a:pt x="728" y="258"/>
                        </a:lnTo>
                        <a:lnTo>
                          <a:pt x="778" y="212"/>
                        </a:lnTo>
                        <a:lnTo>
                          <a:pt x="785" y="220"/>
                        </a:lnTo>
                        <a:lnTo>
                          <a:pt x="792" y="229"/>
                        </a:lnTo>
                        <a:lnTo>
                          <a:pt x="806" y="233"/>
                        </a:lnTo>
                        <a:lnTo>
                          <a:pt x="821" y="233"/>
                        </a:lnTo>
                        <a:lnTo>
                          <a:pt x="835" y="233"/>
                        </a:lnTo>
                        <a:lnTo>
                          <a:pt x="849" y="233"/>
                        </a:lnTo>
                        <a:lnTo>
                          <a:pt x="864" y="233"/>
                        </a:lnTo>
                        <a:lnTo>
                          <a:pt x="885" y="233"/>
                        </a:lnTo>
                        <a:lnTo>
                          <a:pt x="899" y="233"/>
                        </a:lnTo>
                        <a:lnTo>
                          <a:pt x="914" y="233"/>
                        </a:lnTo>
                        <a:lnTo>
                          <a:pt x="935" y="224"/>
                        </a:lnTo>
                        <a:lnTo>
                          <a:pt x="949" y="212"/>
                        </a:lnTo>
                        <a:lnTo>
                          <a:pt x="971" y="203"/>
                        </a:lnTo>
                        <a:lnTo>
                          <a:pt x="978" y="191"/>
                        </a:lnTo>
                        <a:lnTo>
                          <a:pt x="985" y="178"/>
                        </a:lnTo>
                        <a:lnTo>
                          <a:pt x="992" y="161"/>
                        </a:lnTo>
                        <a:lnTo>
                          <a:pt x="999" y="148"/>
                        </a:lnTo>
                        <a:lnTo>
                          <a:pt x="999" y="131"/>
                        </a:lnTo>
                        <a:lnTo>
                          <a:pt x="999" y="118"/>
                        </a:lnTo>
                        <a:lnTo>
                          <a:pt x="999" y="101"/>
                        </a:lnTo>
                        <a:lnTo>
                          <a:pt x="971" y="80"/>
                        </a:lnTo>
                        <a:lnTo>
                          <a:pt x="949" y="59"/>
                        </a:lnTo>
                        <a:lnTo>
                          <a:pt x="921" y="46"/>
                        </a:lnTo>
                        <a:lnTo>
                          <a:pt x="892" y="34"/>
                        </a:lnTo>
                        <a:lnTo>
                          <a:pt x="856" y="21"/>
                        </a:lnTo>
                        <a:lnTo>
                          <a:pt x="828" y="12"/>
                        </a:lnTo>
                        <a:lnTo>
                          <a:pt x="792" y="8"/>
                        </a:lnTo>
                        <a:lnTo>
                          <a:pt x="749" y="4"/>
                        </a:lnTo>
                        <a:lnTo>
                          <a:pt x="714" y="0"/>
                        </a:lnTo>
                        <a:lnTo>
                          <a:pt x="671" y="0"/>
                        </a:lnTo>
                        <a:lnTo>
                          <a:pt x="649" y="4"/>
                        </a:lnTo>
                        <a:lnTo>
                          <a:pt x="635" y="8"/>
                        </a:lnTo>
                        <a:lnTo>
                          <a:pt x="621" y="12"/>
                        </a:lnTo>
                        <a:lnTo>
                          <a:pt x="607" y="17"/>
                        </a:lnTo>
                        <a:lnTo>
                          <a:pt x="592" y="25"/>
                        </a:lnTo>
                        <a:lnTo>
                          <a:pt x="585" y="34"/>
                        </a:lnTo>
                        <a:lnTo>
                          <a:pt x="585" y="42"/>
                        </a:lnTo>
                        <a:lnTo>
                          <a:pt x="578" y="55"/>
                        </a:lnTo>
                        <a:lnTo>
                          <a:pt x="578" y="68"/>
                        </a:lnTo>
                        <a:lnTo>
                          <a:pt x="585" y="80"/>
                        </a:lnTo>
                        <a:lnTo>
                          <a:pt x="614" y="85"/>
                        </a:lnTo>
                        <a:lnTo>
                          <a:pt x="649" y="85"/>
                        </a:lnTo>
                        <a:lnTo>
                          <a:pt x="678" y="80"/>
                        </a:lnTo>
                        <a:lnTo>
                          <a:pt x="714" y="76"/>
                        </a:lnTo>
                        <a:lnTo>
                          <a:pt x="749" y="72"/>
                        </a:lnTo>
                        <a:lnTo>
                          <a:pt x="778" y="68"/>
                        </a:lnTo>
                        <a:lnTo>
                          <a:pt x="814" y="63"/>
                        </a:lnTo>
                        <a:lnTo>
                          <a:pt x="842" y="55"/>
                        </a:lnTo>
                        <a:lnTo>
                          <a:pt x="871" y="51"/>
                        </a:lnTo>
                        <a:lnTo>
                          <a:pt x="892" y="51"/>
                        </a:lnTo>
                        <a:lnTo>
                          <a:pt x="849" y="85"/>
                        </a:lnTo>
                        <a:lnTo>
                          <a:pt x="799" y="110"/>
                        </a:lnTo>
                        <a:lnTo>
                          <a:pt x="735" y="123"/>
                        </a:lnTo>
                        <a:lnTo>
                          <a:pt x="671" y="127"/>
                        </a:lnTo>
                        <a:lnTo>
                          <a:pt x="599" y="127"/>
                        </a:lnTo>
                        <a:lnTo>
                          <a:pt x="521" y="118"/>
                        </a:lnTo>
                        <a:lnTo>
                          <a:pt x="442" y="110"/>
                        </a:lnTo>
                        <a:lnTo>
                          <a:pt x="371" y="101"/>
                        </a:lnTo>
                        <a:lnTo>
                          <a:pt x="307" y="97"/>
                        </a:lnTo>
                        <a:lnTo>
                          <a:pt x="242" y="93"/>
                        </a:lnTo>
                        <a:lnTo>
                          <a:pt x="278" y="72"/>
                        </a:lnTo>
                        <a:lnTo>
                          <a:pt x="300" y="68"/>
                        </a:lnTo>
                        <a:lnTo>
                          <a:pt x="321" y="63"/>
                        </a:lnTo>
                        <a:lnTo>
                          <a:pt x="342" y="59"/>
                        </a:lnTo>
                        <a:lnTo>
                          <a:pt x="364" y="59"/>
                        </a:lnTo>
                        <a:lnTo>
                          <a:pt x="385" y="59"/>
                        </a:lnTo>
                        <a:lnTo>
                          <a:pt x="407" y="55"/>
                        </a:lnTo>
                        <a:lnTo>
                          <a:pt x="428" y="59"/>
                        </a:lnTo>
                        <a:lnTo>
                          <a:pt x="457" y="59"/>
                        </a:lnTo>
                        <a:lnTo>
                          <a:pt x="478" y="63"/>
                        </a:lnTo>
                        <a:lnTo>
                          <a:pt x="499" y="72"/>
                        </a:lnTo>
                        <a:lnTo>
                          <a:pt x="485" y="51"/>
                        </a:lnTo>
                        <a:lnTo>
                          <a:pt x="464" y="38"/>
                        </a:lnTo>
                        <a:lnTo>
                          <a:pt x="435" y="29"/>
                        </a:lnTo>
                        <a:lnTo>
                          <a:pt x="400" y="25"/>
                        </a:lnTo>
                        <a:lnTo>
                          <a:pt x="357" y="25"/>
                        </a:lnTo>
                        <a:lnTo>
                          <a:pt x="321" y="29"/>
                        </a:lnTo>
                        <a:lnTo>
                          <a:pt x="278" y="29"/>
                        </a:lnTo>
                        <a:lnTo>
                          <a:pt x="235" y="29"/>
                        </a:lnTo>
                        <a:lnTo>
                          <a:pt x="192" y="29"/>
                        </a:lnTo>
                        <a:lnTo>
                          <a:pt x="157" y="29"/>
                        </a:lnTo>
                        <a:lnTo>
                          <a:pt x="135" y="38"/>
                        </a:lnTo>
                        <a:lnTo>
                          <a:pt x="107" y="46"/>
                        </a:lnTo>
                        <a:lnTo>
                          <a:pt x="85" y="55"/>
                        </a:lnTo>
                        <a:lnTo>
                          <a:pt x="64" y="63"/>
                        </a:lnTo>
                        <a:lnTo>
                          <a:pt x="43" y="76"/>
                        </a:lnTo>
                        <a:lnTo>
                          <a:pt x="21" y="89"/>
                        </a:lnTo>
                        <a:lnTo>
                          <a:pt x="14" y="101"/>
                        </a:lnTo>
                        <a:lnTo>
                          <a:pt x="0" y="114"/>
                        </a:lnTo>
                        <a:lnTo>
                          <a:pt x="0" y="131"/>
                        </a:lnTo>
                        <a:lnTo>
                          <a:pt x="7" y="152"/>
                        </a:lnTo>
                        <a:lnTo>
                          <a:pt x="21" y="165"/>
                        </a:lnTo>
                        <a:lnTo>
                          <a:pt x="43" y="178"/>
                        </a:lnTo>
                        <a:lnTo>
                          <a:pt x="57" y="191"/>
                        </a:lnTo>
                        <a:lnTo>
                          <a:pt x="71" y="207"/>
                        </a:lnTo>
                        <a:lnTo>
                          <a:pt x="85" y="220"/>
                        </a:lnTo>
                        <a:lnTo>
                          <a:pt x="107" y="233"/>
                        </a:lnTo>
                        <a:lnTo>
                          <a:pt x="121" y="246"/>
                        </a:lnTo>
                        <a:lnTo>
                          <a:pt x="150" y="250"/>
                        </a:lnTo>
                        <a:lnTo>
                          <a:pt x="171" y="254"/>
                        </a:lnTo>
                        <a:lnTo>
                          <a:pt x="207" y="254"/>
                        </a:lnTo>
                        <a:lnTo>
                          <a:pt x="207" y="254"/>
                        </a:lnTo>
                        <a:close/>
                      </a:path>
                    </a:pathLst>
                  </a:custGeom>
                  <a:solidFill>
                    <a:srgbClr val="fff09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240" bIns="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1" name=""/>
                  <p:cNvSpPr/>
                  <p:nvPr/>
                </p:nvSpPr>
                <p:spPr>
                  <a:xfrm>
                    <a:off x="4116240" y="5454000"/>
                    <a:ext cx="31068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064" h="560">
                        <a:moveTo>
                          <a:pt x="114" y="560"/>
                        </a:moveTo>
                        <a:lnTo>
                          <a:pt x="164" y="521"/>
                        </a:lnTo>
                        <a:lnTo>
                          <a:pt x="193" y="487"/>
                        </a:lnTo>
                        <a:lnTo>
                          <a:pt x="214" y="445"/>
                        </a:lnTo>
                        <a:lnTo>
                          <a:pt x="229" y="407"/>
                        </a:lnTo>
                        <a:lnTo>
                          <a:pt x="243" y="365"/>
                        </a:lnTo>
                        <a:lnTo>
                          <a:pt x="250" y="326"/>
                        </a:lnTo>
                        <a:lnTo>
                          <a:pt x="271" y="288"/>
                        </a:lnTo>
                        <a:lnTo>
                          <a:pt x="293" y="250"/>
                        </a:lnTo>
                        <a:lnTo>
                          <a:pt x="329" y="212"/>
                        </a:lnTo>
                        <a:lnTo>
                          <a:pt x="379" y="182"/>
                        </a:lnTo>
                        <a:lnTo>
                          <a:pt x="429" y="170"/>
                        </a:lnTo>
                        <a:lnTo>
                          <a:pt x="464" y="174"/>
                        </a:lnTo>
                        <a:lnTo>
                          <a:pt x="493" y="182"/>
                        </a:lnTo>
                        <a:lnTo>
                          <a:pt x="514" y="199"/>
                        </a:lnTo>
                        <a:lnTo>
                          <a:pt x="528" y="220"/>
                        </a:lnTo>
                        <a:lnTo>
                          <a:pt x="543" y="242"/>
                        </a:lnTo>
                        <a:lnTo>
                          <a:pt x="557" y="267"/>
                        </a:lnTo>
                        <a:lnTo>
                          <a:pt x="578" y="292"/>
                        </a:lnTo>
                        <a:lnTo>
                          <a:pt x="600" y="309"/>
                        </a:lnTo>
                        <a:lnTo>
                          <a:pt x="636" y="326"/>
                        </a:lnTo>
                        <a:lnTo>
                          <a:pt x="700" y="339"/>
                        </a:lnTo>
                        <a:lnTo>
                          <a:pt x="750" y="339"/>
                        </a:lnTo>
                        <a:lnTo>
                          <a:pt x="771" y="326"/>
                        </a:lnTo>
                        <a:lnTo>
                          <a:pt x="785" y="305"/>
                        </a:lnTo>
                        <a:lnTo>
                          <a:pt x="785" y="276"/>
                        </a:lnTo>
                        <a:lnTo>
                          <a:pt x="785" y="242"/>
                        </a:lnTo>
                        <a:lnTo>
                          <a:pt x="785" y="208"/>
                        </a:lnTo>
                        <a:lnTo>
                          <a:pt x="793" y="174"/>
                        </a:lnTo>
                        <a:lnTo>
                          <a:pt x="814" y="148"/>
                        </a:lnTo>
                        <a:lnTo>
                          <a:pt x="857" y="131"/>
                        </a:lnTo>
                        <a:lnTo>
                          <a:pt x="885" y="140"/>
                        </a:lnTo>
                        <a:lnTo>
                          <a:pt x="914" y="153"/>
                        </a:lnTo>
                        <a:lnTo>
                          <a:pt x="928" y="170"/>
                        </a:lnTo>
                        <a:lnTo>
                          <a:pt x="943" y="191"/>
                        </a:lnTo>
                        <a:lnTo>
                          <a:pt x="957" y="216"/>
                        </a:lnTo>
                        <a:lnTo>
                          <a:pt x="964" y="242"/>
                        </a:lnTo>
                        <a:lnTo>
                          <a:pt x="964" y="263"/>
                        </a:lnTo>
                        <a:lnTo>
                          <a:pt x="971" y="288"/>
                        </a:lnTo>
                        <a:lnTo>
                          <a:pt x="978" y="314"/>
                        </a:lnTo>
                        <a:lnTo>
                          <a:pt x="992" y="335"/>
                        </a:lnTo>
                        <a:lnTo>
                          <a:pt x="1007" y="314"/>
                        </a:lnTo>
                        <a:lnTo>
                          <a:pt x="1021" y="288"/>
                        </a:lnTo>
                        <a:lnTo>
                          <a:pt x="1021" y="267"/>
                        </a:lnTo>
                        <a:lnTo>
                          <a:pt x="1028" y="237"/>
                        </a:lnTo>
                        <a:lnTo>
                          <a:pt x="1028" y="212"/>
                        </a:lnTo>
                        <a:lnTo>
                          <a:pt x="1028" y="186"/>
                        </a:lnTo>
                        <a:lnTo>
                          <a:pt x="1028" y="161"/>
                        </a:lnTo>
                        <a:lnTo>
                          <a:pt x="1035" y="136"/>
                        </a:lnTo>
                        <a:lnTo>
                          <a:pt x="1042" y="110"/>
                        </a:lnTo>
                        <a:lnTo>
                          <a:pt x="1064" y="89"/>
                        </a:lnTo>
                        <a:lnTo>
                          <a:pt x="1028" y="68"/>
                        </a:lnTo>
                        <a:lnTo>
                          <a:pt x="1000" y="47"/>
                        </a:lnTo>
                        <a:lnTo>
                          <a:pt x="957" y="34"/>
                        </a:lnTo>
                        <a:lnTo>
                          <a:pt x="914" y="25"/>
                        </a:lnTo>
                        <a:lnTo>
                          <a:pt x="878" y="17"/>
                        </a:lnTo>
                        <a:lnTo>
                          <a:pt x="828" y="13"/>
                        </a:lnTo>
                        <a:lnTo>
                          <a:pt x="785" y="8"/>
                        </a:lnTo>
                        <a:lnTo>
                          <a:pt x="743" y="4"/>
                        </a:lnTo>
                        <a:lnTo>
                          <a:pt x="693" y="4"/>
                        </a:lnTo>
                        <a:lnTo>
                          <a:pt x="650" y="0"/>
                        </a:lnTo>
                        <a:lnTo>
                          <a:pt x="650" y="30"/>
                        </a:lnTo>
                        <a:lnTo>
                          <a:pt x="650" y="51"/>
                        </a:lnTo>
                        <a:lnTo>
                          <a:pt x="664" y="64"/>
                        </a:lnTo>
                        <a:lnTo>
                          <a:pt x="678" y="72"/>
                        </a:lnTo>
                        <a:lnTo>
                          <a:pt x="700" y="68"/>
                        </a:lnTo>
                        <a:lnTo>
                          <a:pt x="721" y="64"/>
                        </a:lnTo>
                        <a:lnTo>
                          <a:pt x="743" y="59"/>
                        </a:lnTo>
                        <a:lnTo>
                          <a:pt x="771" y="51"/>
                        </a:lnTo>
                        <a:lnTo>
                          <a:pt x="793" y="47"/>
                        </a:lnTo>
                        <a:lnTo>
                          <a:pt x="814" y="47"/>
                        </a:lnTo>
                        <a:lnTo>
                          <a:pt x="835" y="51"/>
                        </a:lnTo>
                        <a:lnTo>
                          <a:pt x="835" y="59"/>
                        </a:lnTo>
                        <a:lnTo>
                          <a:pt x="828" y="68"/>
                        </a:lnTo>
                        <a:lnTo>
                          <a:pt x="821" y="76"/>
                        </a:lnTo>
                        <a:lnTo>
                          <a:pt x="814" y="85"/>
                        </a:lnTo>
                        <a:lnTo>
                          <a:pt x="800" y="93"/>
                        </a:lnTo>
                        <a:lnTo>
                          <a:pt x="785" y="102"/>
                        </a:lnTo>
                        <a:lnTo>
                          <a:pt x="778" y="106"/>
                        </a:lnTo>
                        <a:lnTo>
                          <a:pt x="764" y="114"/>
                        </a:lnTo>
                        <a:lnTo>
                          <a:pt x="750" y="119"/>
                        </a:lnTo>
                        <a:lnTo>
                          <a:pt x="735" y="123"/>
                        </a:lnTo>
                        <a:lnTo>
                          <a:pt x="686" y="106"/>
                        </a:lnTo>
                        <a:lnTo>
                          <a:pt x="643" y="93"/>
                        </a:lnTo>
                        <a:lnTo>
                          <a:pt x="593" y="89"/>
                        </a:lnTo>
                        <a:lnTo>
                          <a:pt x="543" y="93"/>
                        </a:lnTo>
                        <a:lnTo>
                          <a:pt x="493" y="97"/>
                        </a:lnTo>
                        <a:lnTo>
                          <a:pt x="443" y="106"/>
                        </a:lnTo>
                        <a:lnTo>
                          <a:pt x="393" y="114"/>
                        </a:lnTo>
                        <a:lnTo>
                          <a:pt x="343" y="123"/>
                        </a:lnTo>
                        <a:lnTo>
                          <a:pt x="300" y="127"/>
                        </a:lnTo>
                        <a:lnTo>
                          <a:pt x="257" y="131"/>
                        </a:lnTo>
                        <a:lnTo>
                          <a:pt x="321" y="89"/>
                        </a:lnTo>
                        <a:lnTo>
                          <a:pt x="343" y="80"/>
                        </a:lnTo>
                        <a:lnTo>
                          <a:pt x="371" y="72"/>
                        </a:lnTo>
                        <a:lnTo>
                          <a:pt x="400" y="68"/>
                        </a:lnTo>
                        <a:lnTo>
                          <a:pt x="436" y="64"/>
                        </a:lnTo>
                        <a:lnTo>
                          <a:pt x="464" y="59"/>
                        </a:lnTo>
                        <a:lnTo>
                          <a:pt x="493" y="51"/>
                        </a:lnTo>
                        <a:lnTo>
                          <a:pt x="521" y="47"/>
                        </a:lnTo>
                        <a:lnTo>
                          <a:pt x="543" y="38"/>
                        </a:lnTo>
                        <a:lnTo>
                          <a:pt x="557" y="25"/>
                        </a:lnTo>
                        <a:lnTo>
                          <a:pt x="564" y="8"/>
                        </a:lnTo>
                        <a:lnTo>
                          <a:pt x="521" y="4"/>
                        </a:lnTo>
                        <a:lnTo>
                          <a:pt x="486" y="8"/>
                        </a:lnTo>
                        <a:lnTo>
                          <a:pt x="457" y="17"/>
                        </a:lnTo>
                        <a:lnTo>
                          <a:pt x="421" y="25"/>
                        </a:lnTo>
                        <a:lnTo>
                          <a:pt x="393" y="42"/>
                        </a:lnTo>
                        <a:lnTo>
                          <a:pt x="364" y="51"/>
                        </a:lnTo>
                        <a:lnTo>
                          <a:pt x="329" y="64"/>
                        </a:lnTo>
                        <a:lnTo>
                          <a:pt x="293" y="68"/>
                        </a:lnTo>
                        <a:lnTo>
                          <a:pt x="250" y="64"/>
                        </a:lnTo>
                        <a:lnTo>
                          <a:pt x="207" y="51"/>
                        </a:lnTo>
                        <a:lnTo>
                          <a:pt x="179" y="59"/>
                        </a:lnTo>
                        <a:lnTo>
                          <a:pt x="157" y="68"/>
                        </a:lnTo>
                        <a:lnTo>
                          <a:pt x="129" y="76"/>
                        </a:lnTo>
                        <a:lnTo>
                          <a:pt x="107" y="89"/>
                        </a:lnTo>
                        <a:lnTo>
                          <a:pt x="93" y="102"/>
                        </a:lnTo>
                        <a:lnTo>
                          <a:pt x="72" y="114"/>
                        </a:lnTo>
                        <a:lnTo>
                          <a:pt x="64" y="131"/>
                        </a:lnTo>
                        <a:lnTo>
                          <a:pt x="64" y="148"/>
                        </a:lnTo>
                        <a:lnTo>
                          <a:pt x="72" y="165"/>
                        </a:lnTo>
                        <a:lnTo>
                          <a:pt x="86" y="182"/>
                        </a:lnTo>
                        <a:lnTo>
                          <a:pt x="107" y="216"/>
                        </a:lnTo>
                        <a:lnTo>
                          <a:pt x="122" y="254"/>
                        </a:lnTo>
                        <a:lnTo>
                          <a:pt x="114" y="288"/>
                        </a:lnTo>
                        <a:lnTo>
                          <a:pt x="100" y="318"/>
                        </a:lnTo>
                        <a:lnTo>
                          <a:pt x="86" y="352"/>
                        </a:lnTo>
                        <a:lnTo>
                          <a:pt x="64" y="386"/>
                        </a:lnTo>
                        <a:lnTo>
                          <a:pt x="43" y="415"/>
                        </a:lnTo>
                        <a:lnTo>
                          <a:pt x="22" y="449"/>
                        </a:lnTo>
                        <a:lnTo>
                          <a:pt x="7" y="483"/>
                        </a:lnTo>
                        <a:lnTo>
                          <a:pt x="0" y="517"/>
                        </a:lnTo>
                        <a:lnTo>
                          <a:pt x="7" y="526"/>
                        </a:lnTo>
                        <a:lnTo>
                          <a:pt x="14" y="534"/>
                        </a:lnTo>
                        <a:lnTo>
                          <a:pt x="22" y="543"/>
                        </a:lnTo>
                        <a:lnTo>
                          <a:pt x="29" y="547"/>
                        </a:lnTo>
                        <a:lnTo>
                          <a:pt x="43" y="551"/>
                        </a:lnTo>
                        <a:lnTo>
                          <a:pt x="57" y="555"/>
                        </a:lnTo>
                        <a:lnTo>
                          <a:pt x="72" y="560"/>
                        </a:lnTo>
                        <a:lnTo>
                          <a:pt x="86" y="560"/>
                        </a:lnTo>
                        <a:lnTo>
                          <a:pt x="107" y="560"/>
                        </a:lnTo>
                        <a:lnTo>
                          <a:pt x="122" y="560"/>
                        </a:lnTo>
                        <a:lnTo>
                          <a:pt x="122" y="560"/>
                        </a:lnTo>
                        <a:lnTo>
                          <a:pt x="114" y="560"/>
                        </a:lnTo>
                        <a:close/>
                      </a:path>
                    </a:pathLst>
                  </a:custGeom>
                  <a:solidFill>
                    <a:srgbClr val="fff09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2" name=""/>
                  <p:cNvSpPr/>
                  <p:nvPr/>
                </p:nvSpPr>
                <p:spPr>
                  <a:xfrm>
                    <a:off x="4681800" y="5456160"/>
                    <a:ext cx="28980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992" h="611">
                        <a:moveTo>
                          <a:pt x="93" y="611"/>
                        </a:moveTo>
                        <a:lnTo>
                          <a:pt x="185" y="590"/>
                        </a:lnTo>
                        <a:lnTo>
                          <a:pt x="235" y="560"/>
                        </a:lnTo>
                        <a:lnTo>
                          <a:pt x="250" y="522"/>
                        </a:lnTo>
                        <a:lnTo>
                          <a:pt x="250" y="484"/>
                        </a:lnTo>
                        <a:lnTo>
                          <a:pt x="243" y="437"/>
                        </a:lnTo>
                        <a:lnTo>
                          <a:pt x="228" y="395"/>
                        </a:lnTo>
                        <a:lnTo>
                          <a:pt x="221" y="352"/>
                        </a:lnTo>
                        <a:lnTo>
                          <a:pt x="228" y="314"/>
                        </a:lnTo>
                        <a:lnTo>
                          <a:pt x="271" y="280"/>
                        </a:lnTo>
                        <a:lnTo>
                          <a:pt x="342" y="255"/>
                        </a:lnTo>
                        <a:lnTo>
                          <a:pt x="350" y="259"/>
                        </a:lnTo>
                        <a:lnTo>
                          <a:pt x="357" y="263"/>
                        </a:lnTo>
                        <a:lnTo>
                          <a:pt x="364" y="268"/>
                        </a:lnTo>
                        <a:lnTo>
                          <a:pt x="378" y="276"/>
                        </a:lnTo>
                        <a:lnTo>
                          <a:pt x="385" y="280"/>
                        </a:lnTo>
                        <a:lnTo>
                          <a:pt x="392" y="284"/>
                        </a:lnTo>
                        <a:lnTo>
                          <a:pt x="400" y="289"/>
                        </a:lnTo>
                        <a:lnTo>
                          <a:pt x="400" y="293"/>
                        </a:lnTo>
                        <a:lnTo>
                          <a:pt x="407" y="301"/>
                        </a:lnTo>
                        <a:lnTo>
                          <a:pt x="414" y="306"/>
                        </a:lnTo>
                        <a:lnTo>
                          <a:pt x="428" y="293"/>
                        </a:lnTo>
                        <a:lnTo>
                          <a:pt x="450" y="276"/>
                        </a:lnTo>
                        <a:lnTo>
                          <a:pt x="464" y="263"/>
                        </a:lnTo>
                        <a:lnTo>
                          <a:pt x="492" y="251"/>
                        </a:lnTo>
                        <a:lnTo>
                          <a:pt x="514" y="238"/>
                        </a:lnTo>
                        <a:lnTo>
                          <a:pt x="535" y="229"/>
                        </a:lnTo>
                        <a:lnTo>
                          <a:pt x="564" y="217"/>
                        </a:lnTo>
                        <a:lnTo>
                          <a:pt x="592" y="212"/>
                        </a:lnTo>
                        <a:lnTo>
                          <a:pt x="621" y="208"/>
                        </a:lnTo>
                        <a:lnTo>
                          <a:pt x="649" y="204"/>
                        </a:lnTo>
                        <a:lnTo>
                          <a:pt x="678" y="208"/>
                        </a:lnTo>
                        <a:lnTo>
                          <a:pt x="699" y="217"/>
                        </a:lnTo>
                        <a:lnTo>
                          <a:pt x="721" y="225"/>
                        </a:lnTo>
                        <a:lnTo>
                          <a:pt x="735" y="238"/>
                        </a:lnTo>
                        <a:lnTo>
                          <a:pt x="749" y="251"/>
                        </a:lnTo>
                        <a:lnTo>
                          <a:pt x="764" y="263"/>
                        </a:lnTo>
                        <a:lnTo>
                          <a:pt x="771" y="276"/>
                        </a:lnTo>
                        <a:lnTo>
                          <a:pt x="785" y="289"/>
                        </a:lnTo>
                        <a:lnTo>
                          <a:pt x="799" y="297"/>
                        </a:lnTo>
                        <a:lnTo>
                          <a:pt x="821" y="306"/>
                        </a:lnTo>
                        <a:lnTo>
                          <a:pt x="821" y="280"/>
                        </a:lnTo>
                        <a:lnTo>
                          <a:pt x="828" y="259"/>
                        </a:lnTo>
                        <a:lnTo>
                          <a:pt x="849" y="238"/>
                        </a:lnTo>
                        <a:lnTo>
                          <a:pt x="871" y="221"/>
                        </a:lnTo>
                        <a:lnTo>
                          <a:pt x="892" y="200"/>
                        </a:lnTo>
                        <a:lnTo>
                          <a:pt x="921" y="183"/>
                        </a:lnTo>
                        <a:lnTo>
                          <a:pt x="949" y="162"/>
                        </a:lnTo>
                        <a:lnTo>
                          <a:pt x="971" y="145"/>
                        </a:lnTo>
                        <a:lnTo>
                          <a:pt x="985" y="119"/>
                        </a:lnTo>
                        <a:lnTo>
                          <a:pt x="992" y="94"/>
                        </a:lnTo>
                        <a:lnTo>
                          <a:pt x="964" y="68"/>
                        </a:lnTo>
                        <a:lnTo>
                          <a:pt x="921" y="43"/>
                        </a:lnTo>
                        <a:lnTo>
                          <a:pt x="878" y="26"/>
                        </a:lnTo>
                        <a:lnTo>
                          <a:pt x="835" y="13"/>
                        </a:lnTo>
                        <a:lnTo>
                          <a:pt x="778" y="5"/>
                        </a:lnTo>
                        <a:lnTo>
                          <a:pt x="728" y="0"/>
                        </a:lnTo>
                        <a:lnTo>
                          <a:pt x="671" y="0"/>
                        </a:lnTo>
                        <a:lnTo>
                          <a:pt x="621" y="5"/>
                        </a:lnTo>
                        <a:lnTo>
                          <a:pt x="571" y="17"/>
                        </a:lnTo>
                        <a:lnTo>
                          <a:pt x="528" y="30"/>
                        </a:lnTo>
                        <a:lnTo>
                          <a:pt x="528" y="39"/>
                        </a:lnTo>
                        <a:lnTo>
                          <a:pt x="528" y="47"/>
                        </a:lnTo>
                        <a:lnTo>
                          <a:pt x="528" y="56"/>
                        </a:lnTo>
                        <a:lnTo>
                          <a:pt x="535" y="60"/>
                        </a:lnTo>
                        <a:lnTo>
                          <a:pt x="535" y="68"/>
                        </a:lnTo>
                        <a:lnTo>
                          <a:pt x="542" y="72"/>
                        </a:lnTo>
                        <a:lnTo>
                          <a:pt x="542" y="81"/>
                        </a:lnTo>
                        <a:lnTo>
                          <a:pt x="542" y="89"/>
                        </a:lnTo>
                        <a:lnTo>
                          <a:pt x="550" y="94"/>
                        </a:lnTo>
                        <a:lnTo>
                          <a:pt x="550" y="102"/>
                        </a:lnTo>
                        <a:lnTo>
                          <a:pt x="585" y="106"/>
                        </a:lnTo>
                        <a:lnTo>
                          <a:pt x="614" y="106"/>
                        </a:lnTo>
                        <a:lnTo>
                          <a:pt x="642" y="102"/>
                        </a:lnTo>
                        <a:lnTo>
                          <a:pt x="671" y="98"/>
                        </a:lnTo>
                        <a:lnTo>
                          <a:pt x="699" y="89"/>
                        </a:lnTo>
                        <a:lnTo>
                          <a:pt x="721" y="77"/>
                        </a:lnTo>
                        <a:lnTo>
                          <a:pt x="749" y="68"/>
                        </a:lnTo>
                        <a:lnTo>
                          <a:pt x="771" y="64"/>
                        </a:lnTo>
                        <a:lnTo>
                          <a:pt x="792" y="60"/>
                        </a:lnTo>
                        <a:lnTo>
                          <a:pt x="821" y="64"/>
                        </a:lnTo>
                        <a:lnTo>
                          <a:pt x="807" y="89"/>
                        </a:lnTo>
                        <a:lnTo>
                          <a:pt x="785" y="106"/>
                        </a:lnTo>
                        <a:lnTo>
                          <a:pt x="764" y="119"/>
                        </a:lnTo>
                        <a:lnTo>
                          <a:pt x="735" y="132"/>
                        </a:lnTo>
                        <a:lnTo>
                          <a:pt x="699" y="136"/>
                        </a:lnTo>
                        <a:lnTo>
                          <a:pt x="664" y="140"/>
                        </a:lnTo>
                        <a:lnTo>
                          <a:pt x="621" y="145"/>
                        </a:lnTo>
                        <a:lnTo>
                          <a:pt x="585" y="149"/>
                        </a:lnTo>
                        <a:lnTo>
                          <a:pt x="550" y="149"/>
                        </a:lnTo>
                        <a:lnTo>
                          <a:pt x="514" y="153"/>
                        </a:lnTo>
                        <a:lnTo>
                          <a:pt x="492" y="140"/>
                        </a:lnTo>
                        <a:lnTo>
                          <a:pt x="471" y="132"/>
                        </a:lnTo>
                        <a:lnTo>
                          <a:pt x="450" y="123"/>
                        </a:lnTo>
                        <a:lnTo>
                          <a:pt x="421" y="119"/>
                        </a:lnTo>
                        <a:lnTo>
                          <a:pt x="400" y="115"/>
                        </a:lnTo>
                        <a:lnTo>
                          <a:pt x="371" y="115"/>
                        </a:lnTo>
                        <a:lnTo>
                          <a:pt x="342" y="115"/>
                        </a:lnTo>
                        <a:lnTo>
                          <a:pt x="321" y="111"/>
                        </a:lnTo>
                        <a:lnTo>
                          <a:pt x="293" y="115"/>
                        </a:lnTo>
                        <a:lnTo>
                          <a:pt x="271" y="115"/>
                        </a:lnTo>
                        <a:lnTo>
                          <a:pt x="285" y="106"/>
                        </a:lnTo>
                        <a:lnTo>
                          <a:pt x="300" y="102"/>
                        </a:lnTo>
                        <a:lnTo>
                          <a:pt x="314" y="94"/>
                        </a:lnTo>
                        <a:lnTo>
                          <a:pt x="335" y="89"/>
                        </a:lnTo>
                        <a:lnTo>
                          <a:pt x="350" y="85"/>
                        </a:lnTo>
                        <a:lnTo>
                          <a:pt x="371" y="85"/>
                        </a:lnTo>
                        <a:lnTo>
                          <a:pt x="385" y="81"/>
                        </a:lnTo>
                        <a:lnTo>
                          <a:pt x="407" y="81"/>
                        </a:lnTo>
                        <a:lnTo>
                          <a:pt x="421" y="81"/>
                        </a:lnTo>
                        <a:lnTo>
                          <a:pt x="442" y="81"/>
                        </a:lnTo>
                        <a:lnTo>
                          <a:pt x="442" y="51"/>
                        </a:lnTo>
                        <a:lnTo>
                          <a:pt x="414" y="56"/>
                        </a:lnTo>
                        <a:lnTo>
                          <a:pt x="378" y="56"/>
                        </a:lnTo>
                        <a:lnTo>
                          <a:pt x="335" y="51"/>
                        </a:lnTo>
                        <a:lnTo>
                          <a:pt x="293" y="47"/>
                        </a:lnTo>
                        <a:lnTo>
                          <a:pt x="250" y="43"/>
                        </a:lnTo>
                        <a:lnTo>
                          <a:pt x="207" y="43"/>
                        </a:lnTo>
                        <a:lnTo>
                          <a:pt x="171" y="43"/>
                        </a:lnTo>
                        <a:lnTo>
                          <a:pt x="143" y="51"/>
                        </a:lnTo>
                        <a:lnTo>
                          <a:pt x="135" y="68"/>
                        </a:lnTo>
                        <a:lnTo>
                          <a:pt x="135" y="94"/>
                        </a:lnTo>
                        <a:lnTo>
                          <a:pt x="114" y="98"/>
                        </a:lnTo>
                        <a:lnTo>
                          <a:pt x="93" y="102"/>
                        </a:lnTo>
                        <a:lnTo>
                          <a:pt x="71" y="111"/>
                        </a:lnTo>
                        <a:lnTo>
                          <a:pt x="50" y="119"/>
                        </a:lnTo>
                        <a:lnTo>
                          <a:pt x="36" y="128"/>
                        </a:lnTo>
                        <a:lnTo>
                          <a:pt x="21" y="140"/>
                        </a:lnTo>
                        <a:lnTo>
                          <a:pt x="7" y="153"/>
                        </a:lnTo>
                        <a:lnTo>
                          <a:pt x="0" y="166"/>
                        </a:lnTo>
                        <a:lnTo>
                          <a:pt x="0" y="178"/>
                        </a:lnTo>
                        <a:lnTo>
                          <a:pt x="0" y="195"/>
                        </a:lnTo>
                        <a:lnTo>
                          <a:pt x="43" y="234"/>
                        </a:lnTo>
                        <a:lnTo>
                          <a:pt x="64" y="276"/>
                        </a:lnTo>
                        <a:lnTo>
                          <a:pt x="64" y="318"/>
                        </a:lnTo>
                        <a:lnTo>
                          <a:pt x="64" y="361"/>
                        </a:lnTo>
                        <a:lnTo>
                          <a:pt x="50" y="403"/>
                        </a:lnTo>
                        <a:lnTo>
                          <a:pt x="36" y="446"/>
                        </a:lnTo>
                        <a:lnTo>
                          <a:pt x="28" y="488"/>
                        </a:lnTo>
                        <a:lnTo>
                          <a:pt x="36" y="530"/>
                        </a:lnTo>
                        <a:lnTo>
                          <a:pt x="57" y="573"/>
                        </a:lnTo>
                        <a:lnTo>
                          <a:pt x="100" y="611"/>
                        </a:lnTo>
                        <a:lnTo>
                          <a:pt x="100" y="611"/>
                        </a:lnTo>
                        <a:lnTo>
                          <a:pt x="93" y="611"/>
                        </a:lnTo>
                        <a:close/>
                      </a:path>
                    </a:pathLst>
                  </a:custGeom>
                  <a:solidFill>
                    <a:srgbClr val="fff09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3" name=""/>
                  <p:cNvSpPr/>
                  <p:nvPr/>
                </p:nvSpPr>
                <p:spPr>
                  <a:xfrm>
                    <a:off x="4364640" y="5506920"/>
                    <a:ext cx="6120" cy="33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123">
                        <a:moveTo>
                          <a:pt x="0" y="0"/>
                        </a:moveTo>
                        <a:lnTo>
                          <a:pt x="7" y="123"/>
                        </a:lnTo>
                        <a:lnTo>
                          <a:pt x="21" y="123"/>
                        </a:lnTo>
                        <a:lnTo>
                          <a:pt x="21" y="0"/>
                        </a:lnTo>
                        <a:lnTo>
                          <a:pt x="7" y="0"/>
                        </a:lnTo>
                        <a:lnTo>
                          <a:pt x="7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d9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960" bIns="-12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4" name=""/>
                  <p:cNvSpPr/>
                  <p:nvPr/>
                </p:nvSpPr>
                <p:spPr>
                  <a:xfrm>
                    <a:off x="4368600" y="5539320"/>
                    <a:ext cx="18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5">
                        <a:moveTo>
                          <a:pt x="0" y="0"/>
                        </a:moveTo>
                        <a:lnTo>
                          <a:pt x="7" y="5"/>
                        </a:lnTo>
                        <a:lnTo>
                          <a:pt x="7" y="5"/>
                        </a:lnTo>
                        <a:lnTo>
                          <a:pt x="7" y="5"/>
                        </a:lnTo>
                        <a:lnTo>
                          <a:pt x="7" y="5"/>
                        </a:lnTo>
                        <a:lnTo>
                          <a:pt x="7" y="5"/>
                        </a:lnTo>
                        <a:lnTo>
                          <a:pt x="7" y="5"/>
                        </a:lnTo>
                        <a:lnTo>
                          <a:pt x="7" y="5"/>
                        </a:lnTo>
                        <a:lnTo>
                          <a:pt x="7" y="5"/>
                        </a:lnTo>
                        <a:lnTo>
                          <a:pt x="7" y="5"/>
                        </a:lnTo>
                        <a:lnTo>
                          <a:pt x="7" y="5"/>
                        </a:lnTo>
                        <a:lnTo>
                          <a:pt x="7" y="5"/>
                        </a:lnTo>
                        <a:lnTo>
                          <a:pt x="7" y="5"/>
                        </a:lnTo>
                        <a:lnTo>
                          <a:pt x="7" y="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>
                    <a:off x="4180680" y="5512680"/>
                    <a:ext cx="189720" cy="413640"/>
                  </a:xfrm>
                  <a:custGeom>
                    <a:avLst/>
                    <a:gdLst/>
                    <a:ahLst/>
                    <a:rect l="l" t="t" r="r" b="b"/>
                    <a:pathLst>
                      <a:path w="650" h="1501">
                        <a:moveTo>
                          <a:pt x="322" y="1429"/>
                        </a:moveTo>
                        <a:lnTo>
                          <a:pt x="372" y="1335"/>
                        </a:lnTo>
                        <a:lnTo>
                          <a:pt x="386" y="1242"/>
                        </a:lnTo>
                        <a:lnTo>
                          <a:pt x="372" y="1145"/>
                        </a:lnTo>
                        <a:lnTo>
                          <a:pt x="350" y="1043"/>
                        </a:lnTo>
                        <a:lnTo>
                          <a:pt x="322" y="945"/>
                        </a:lnTo>
                        <a:lnTo>
                          <a:pt x="300" y="848"/>
                        </a:lnTo>
                        <a:lnTo>
                          <a:pt x="293" y="755"/>
                        </a:lnTo>
                        <a:lnTo>
                          <a:pt x="315" y="661"/>
                        </a:lnTo>
                        <a:lnTo>
                          <a:pt x="372" y="576"/>
                        </a:lnTo>
                        <a:lnTo>
                          <a:pt x="472" y="496"/>
                        </a:lnTo>
                        <a:lnTo>
                          <a:pt x="486" y="496"/>
                        </a:lnTo>
                        <a:lnTo>
                          <a:pt x="500" y="504"/>
                        </a:lnTo>
                        <a:lnTo>
                          <a:pt x="514" y="513"/>
                        </a:lnTo>
                        <a:lnTo>
                          <a:pt x="529" y="526"/>
                        </a:lnTo>
                        <a:lnTo>
                          <a:pt x="550" y="543"/>
                        </a:lnTo>
                        <a:lnTo>
                          <a:pt x="564" y="560"/>
                        </a:lnTo>
                        <a:lnTo>
                          <a:pt x="586" y="576"/>
                        </a:lnTo>
                        <a:lnTo>
                          <a:pt x="600" y="593"/>
                        </a:lnTo>
                        <a:lnTo>
                          <a:pt x="622" y="610"/>
                        </a:lnTo>
                        <a:lnTo>
                          <a:pt x="643" y="627"/>
                        </a:lnTo>
                        <a:lnTo>
                          <a:pt x="650" y="102"/>
                        </a:lnTo>
                        <a:lnTo>
                          <a:pt x="636" y="114"/>
                        </a:lnTo>
                        <a:lnTo>
                          <a:pt x="622" y="127"/>
                        </a:lnTo>
                        <a:lnTo>
                          <a:pt x="607" y="136"/>
                        </a:lnTo>
                        <a:lnTo>
                          <a:pt x="593" y="144"/>
                        </a:lnTo>
                        <a:lnTo>
                          <a:pt x="572" y="157"/>
                        </a:lnTo>
                        <a:lnTo>
                          <a:pt x="557" y="161"/>
                        </a:lnTo>
                        <a:lnTo>
                          <a:pt x="536" y="169"/>
                        </a:lnTo>
                        <a:lnTo>
                          <a:pt x="514" y="174"/>
                        </a:lnTo>
                        <a:lnTo>
                          <a:pt x="486" y="174"/>
                        </a:lnTo>
                        <a:lnTo>
                          <a:pt x="465" y="174"/>
                        </a:lnTo>
                        <a:lnTo>
                          <a:pt x="422" y="165"/>
                        </a:lnTo>
                        <a:lnTo>
                          <a:pt x="386" y="157"/>
                        </a:lnTo>
                        <a:lnTo>
                          <a:pt x="357" y="140"/>
                        </a:lnTo>
                        <a:lnTo>
                          <a:pt x="329" y="123"/>
                        </a:lnTo>
                        <a:lnTo>
                          <a:pt x="307" y="102"/>
                        </a:lnTo>
                        <a:lnTo>
                          <a:pt x="286" y="80"/>
                        </a:lnTo>
                        <a:lnTo>
                          <a:pt x="265" y="55"/>
                        </a:lnTo>
                        <a:lnTo>
                          <a:pt x="250" y="34"/>
                        </a:lnTo>
                        <a:lnTo>
                          <a:pt x="229" y="17"/>
                        </a:lnTo>
                        <a:lnTo>
                          <a:pt x="208" y="0"/>
                        </a:lnTo>
                        <a:lnTo>
                          <a:pt x="165" y="25"/>
                        </a:lnTo>
                        <a:lnTo>
                          <a:pt x="129" y="59"/>
                        </a:lnTo>
                        <a:lnTo>
                          <a:pt x="108" y="89"/>
                        </a:lnTo>
                        <a:lnTo>
                          <a:pt x="93" y="127"/>
                        </a:lnTo>
                        <a:lnTo>
                          <a:pt x="86" y="161"/>
                        </a:lnTo>
                        <a:lnTo>
                          <a:pt x="79" y="199"/>
                        </a:lnTo>
                        <a:lnTo>
                          <a:pt x="65" y="237"/>
                        </a:lnTo>
                        <a:lnTo>
                          <a:pt x="50" y="275"/>
                        </a:lnTo>
                        <a:lnTo>
                          <a:pt x="29" y="314"/>
                        </a:lnTo>
                        <a:lnTo>
                          <a:pt x="0" y="348"/>
                        </a:lnTo>
                        <a:lnTo>
                          <a:pt x="0" y="462"/>
                        </a:lnTo>
                        <a:lnTo>
                          <a:pt x="0" y="576"/>
                        </a:lnTo>
                        <a:lnTo>
                          <a:pt x="0" y="695"/>
                        </a:lnTo>
                        <a:lnTo>
                          <a:pt x="0" y="810"/>
                        </a:lnTo>
                        <a:lnTo>
                          <a:pt x="0" y="924"/>
                        </a:lnTo>
                        <a:lnTo>
                          <a:pt x="0" y="1043"/>
                        </a:lnTo>
                        <a:lnTo>
                          <a:pt x="0" y="1157"/>
                        </a:lnTo>
                        <a:lnTo>
                          <a:pt x="0" y="1272"/>
                        </a:lnTo>
                        <a:lnTo>
                          <a:pt x="0" y="1386"/>
                        </a:lnTo>
                        <a:lnTo>
                          <a:pt x="0" y="1501"/>
                        </a:lnTo>
                        <a:lnTo>
                          <a:pt x="29" y="1496"/>
                        </a:lnTo>
                        <a:lnTo>
                          <a:pt x="65" y="1492"/>
                        </a:lnTo>
                        <a:lnTo>
                          <a:pt x="100" y="1488"/>
                        </a:lnTo>
                        <a:lnTo>
                          <a:pt x="136" y="1488"/>
                        </a:lnTo>
                        <a:lnTo>
                          <a:pt x="172" y="1484"/>
                        </a:lnTo>
                        <a:lnTo>
                          <a:pt x="215" y="1479"/>
                        </a:lnTo>
                        <a:lnTo>
                          <a:pt x="243" y="1471"/>
                        </a:lnTo>
                        <a:lnTo>
                          <a:pt x="279" y="1462"/>
                        </a:lnTo>
                        <a:lnTo>
                          <a:pt x="307" y="1450"/>
                        </a:lnTo>
                        <a:lnTo>
                          <a:pt x="329" y="1429"/>
                        </a:lnTo>
                        <a:lnTo>
                          <a:pt x="329" y="1429"/>
                        </a:lnTo>
                        <a:lnTo>
                          <a:pt x="322" y="1429"/>
                        </a:lnTo>
                        <a:close/>
                      </a:path>
                    </a:pathLst>
                  </a:custGeom>
                  <a:solidFill>
                    <a:srgbClr val="ffd9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6" name=""/>
                  <p:cNvSpPr/>
                  <p:nvPr/>
                </p:nvSpPr>
                <p:spPr>
                  <a:xfrm>
                    <a:off x="4180680" y="5649120"/>
                    <a:ext cx="187920" cy="380880"/>
                  </a:xfrm>
                  <a:custGeom>
                    <a:avLst/>
                    <a:gdLst/>
                    <a:ahLst/>
                    <a:rect l="l" t="t" r="r" b="b"/>
                    <a:pathLst>
                      <a:path w="643" h="1382">
                        <a:moveTo>
                          <a:pt x="265" y="1327"/>
                        </a:moveTo>
                        <a:lnTo>
                          <a:pt x="286" y="1331"/>
                        </a:lnTo>
                        <a:lnTo>
                          <a:pt x="307" y="1335"/>
                        </a:lnTo>
                        <a:lnTo>
                          <a:pt x="322" y="1344"/>
                        </a:lnTo>
                        <a:lnTo>
                          <a:pt x="336" y="1352"/>
                        </a:lnTo>
                        <a:lnTo>
                          <a:pt x="350" y="1361"/>
                        </a:lnTo>
                        <a:lnTo>
                          <a:pt x="357" y="1369"/>
                        </a:lnTo>
                        <a:lnTo>
                          <a:pt x="372" y="1373"/>
                        </a:lnTo>
                        <a:lnTo>
                          <a:pt x="393" y="1378"/>
                        </a:lnTo>
                        <a:lnTo>
                          <a:pt x="407" y="1382"/>
                        </a:lnTo>
                        <a:lnTo>
                          <a:pt x="429" y="1378"/>
                        </a:lnTo>
                        <a:lnTo>
                          <a:pt x="465" y="1361"/>
                        </a:lnTo>
                        <a:lnTo>
                          <a:pt x="493" y="1340"/>
                        </a:lnTo>
                        <a:lnTo>
                          <a:pt x="522" y="1318"/>
                        </a:lnTo>
                        <a:lnTo>
                          <a:pt x="536" y="1289"/>
                        </a:lnTo>
                        <a:lnTo>
                          <a:pt x="550" y="1259"/>
                        </a:lnTo>
                        <a:lnTo>
                          <a:pt x="564" y="1229"/>
                        </a:lnTo>
                        <a:lnTo>
                          <a:pt x="579" y="1195"/>
                        </a:lnTo>
                        <a:lnTo>
                          <a:pt x="593" y="1166"/>
                        </a:lnTo>
                        <a:lnTo>
                          <a:pt x="614" y="1136"/>
                        </a:lnTo>
                        <a:lnTo>
                          <a:pt x="636" y="1111"/>
                        </a:lnTo>
                        <a:lnTo>
                          <a:pt x="643" y="131"/>
                        </a:lnTo>
                        <a:lnTo>
                          <a:pt x="622" y="114"/>
                        </a:lnTo>
                        <a:lnTo>
                          <a:pt x="600" y="97"/>
                        </a:lnTo>
                        <a:lnTo>
                          <a:pt x="586" y="80"/>
                        </a:lnTo>
                        <a:lnTo>
                          <a:pt x="564" y="64"/>
                        </a:lnTo>
                        <a:lnTo>
                          <a:pt x="550" y="47"/>
                        </a:lnTo>
                        <a:lnTo>
                          <a:pt x="529" y="30"/>
                        </a:lnTo>
                        <a:lnTo>
                          <a:pt x="514" y="17"/>
                        </a:lnTo>
                        <a:lnTo>
                          <a:pt x="500" y="8"/>
                        </a:lnTo>
                        <a:lnTo>
                          <a:pt x="486" y="0"/>
                        </a:lnTo>
                        <a:lnTo>
                          <a:pt x="472" y="0"/>
                        </a:lnTo>
                        <a:lnTo>
                          <a:pt x="372" y="80"/>
                        </a:lnTo>
                        <a:lnTo>
                          <a:pt x="315" y="165"/>
                        </a:lnTo>
                        <a:lnTo>
                          <a:pt x="293" y="259"/>
                        </a:lnTo>
                        <a:lnTo>
                          <a:pt x="300" y="352"/>
                        </a:lnTo>
                        <a:lnTo>
                          <a:pt x="322" y="449"/>
                        </a:lnTo>
                        <a:lnTo>
                          <a:pt x="350" y="547"/>
                        </a:lnTo>
                        <a:lnTo>
                          <a:pt x="372" y="649"/>
                        </a:lnTo>
                        <a:lnTo>
                          <a:pt x="386" y="746"/>
                        </a:lnTo>
                        <a:lnTo>
                          <a:pt x="372" y="839"/>
                        </a:lnTo>
                        <a:lnTo>
                          <a:pt x="329" y="933"/>
                        </a:lnTo>
                        <a:lnTo>
                          <a:pt x="307" y="954"/>
                        </a:lnTo>
                        <a:lnTo>
                          <a:pt x="279" y="966"/>
                        </a:lnTo>
                        <a:lnTo>
                          <a:pt x="243" y="975"/>
                        </a:lnTo>
                        <a:lnTo>
                          <a:pt x="215" y="983"/>
                        </a:lnTo>
                        <a:lnTo>
                          <a:pt x="172" y="988"/>
                        </a:lnTo>
                        <a:lnTo>
                          <a:pt x="136" y="992"/>
                        </a:lnTo>
                        <a:lnTo>
                          <a:pt x="100" y="992"/>
                        </a:lnTo>
                        <a:lnTo>
                          <a:pt x="65" y="996"/>
                        </a:lnTo>
                        <a:lnTo>
                          <a:pt x="29" y="1000"/>
                        </a:lnTo>
                        <a:lnTo>
                          <a:pt x="0" y="1005"/>
                        </a:lnTo>
                        <a:lnTo>
                          <a:pt x="0" y="1043"/>
                        </a:lnTo>
                        <a:lnTo>
                          <a:pt x="0" y="1081"/>
                        </a:lnTo>
                        <a:lnTo>
                          <a:pt x="0" y="1119"/>
                        </a:lnTo>
                        <a:lnTo>
                          <a:pt x="8" y="1157"/>
                        </a:lnTo>
                        <a:lnTo>
                          <a:pt x="8" y="1195"/>
                        </a:lnTo>
                        <a:lnTo>
                          <a:pt x="8" y="1229"/>
                        </a:lnTo>
                        <a:lnTo>
                          <a:pt x="8" y="1267"/>
                        </a:lnTo>
                        <a:lnTo>
                          <a:pt x="8" y="1306"/>
                        </a:lnTo>
                        <a:lnTo>
                          <a:pt x="15" y="1340"/>
                        </a:lnTo>
                        <a:lnTo>
                          <a:pt x="15" y="1378"/>
                        </a:lnTo>
                        <a:lnTo>
                          <a:pt x="50" y="1382"/>
                        </a:lnTo>
                        <a:lnTo>
                          <a:pt x="79" y="1382"/>
                        </a:lnTo>
                        <a:lnTo>
                          <a:pt x="108" y="1378"/>
                        </a:lnTo>
                        <a:lnTo>
                          <a:pt x="136" y="1373"/>
                        </a:lnTo>
                        <a:lnTo>
                          <a:pt x="158" y="1369"/>
                        </a:lnTo>
                        <a:lnTo>
                          <a:pt x="179" y="1361"/>
                        </a:lnTo>
                        <a:lnTo>
                          <a:pt x="200" y="1352"/>
                        </a:lnTo>
                        <a:lnTo>
                          <a:pt x="222" y="1344"/>
                        </a:lnTo>
                        <a:lnTo>
                          <a:pt x="243" y="1335"/>
                        </a:lnTo>
                        <a:lnTo>
                          <a:pt x="272" y="1327"/>
                        </a:lnTo>
                        <a:lnTo>
                          <a:pt x="272" y="1327"/>
                        </a:lnTo>
                        <a:lnTo>
                          <a:pt x="265" y="1327"/>
                        </a:lnTo>
                        <a:close/>
                      </a:path>
                    </a:pathLst>
                  </a:custGeom>
                  <a:solidFill>
                    <a:srgbClr val="ffb83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7" name=""/>
                  <p:cNvSpPr/>
                  <p:nvPr/>
                </p:nvSpPr>
                <p:spPr>
                  <a:xfrm>
                    <a:off x="5347080" y="5539320"/>
                    <a:ext cx="135360" cy="517680"/>
                  </a:xfrm>
                  <a:custGeom>
                    <a:avLst/>
                    <a:gdLst/>
                    <a:ahLst/>
                    <a:rect l="l" t="t" r="r" b="b"/>
                    <a:pathLst>
                      <a:path w="464" h="1878">
                        <a:moveTo>
                          <a:pt x="121" y="17"/>
                        </a:moveTo>
                        <a:lnTo>
                          <a:pt x="107" y="191"/>
                        </a:lnTo>
                        <a:lnTo>
                          <a:pt x="107" y="365"/>
                        </a:lnTo>
                        <a:lnTo>
                          <a:pt x="121" y="535"/>
                        </a:lnTo>
                        <a:lnTo>
                          <a:pt x="136" y="700"/>
                        </a:lnTo>
                        <a:lnTo>
                          <a:pt x="157" y="865"/>
                        </a:lnTo>
                        <a:lnTo>
                          <a:pt x="179" y="1031"/>
                        </a:lnTo>
                        <a:lnTo>
                          <a:pt x="193" y="1196"/>
                        </a:lnTo>
                        <a:lnTo>
                          <a:pt x="207" y="1365"/>
                        </a:lnTo>
                        <a:lnTo>
                          <a:pt x="207" y="1535"/>
                        </a:lnTo>
                        <a:lnTo>
                          <a:pt x="193" y="1713"/>
                        </a:lnTo>
                        <a:lnTo>
                          <a:pt x="193" y="1743"/>
                        </a:lnTo>
                        <a:lnTo>
                          <a:pt x="186" y="1768"/>
                        </a:lnTo>
                        <a:lnTo>
                          <a:pt x="171" y="1789"/>
                        </a:lnTo>
                        <a:lnTo>
                          <a:pt x="157" y="1811"/>
                        </a:lnTo>
                        <a:lnTo>
                          <a:pt x="136" y="1828"/>
                        </a:lnTo>
                        <a:lnTo>
                          <a:pt x="114" y="1840"/>
                        </a:lnTo>
                        <a:lnTo>
                          <a:pt x="93" y="1853"/>
                        </a:lnTo>
                        <a:lnTo>
                          <a:pt x="64" y="1866"/>
                        </a:lnTo>
                        <a:lnTo>
                          <a:pt x="29" y="1874"/>
                        </a:lnTo>
                        <a:lnTo>
                          <a:pt x="0" y="1878"/>
                        </a:lnTo>
                        <a:lnTo>
                          <a:pt x="50" y="1878"/>
                        </a:lnTo>
                        <a:lnTo>
                          <a:pt x="100" y="1878"/>
                        </a:lnTo>
                        <a:lnTo>
                          <a:pt x="150" y="1874"/>
                        </a:lnTo>
                        <a:lnTo>
                          <a:pt x="200" y="1866"/>
                        </a:lnTo>
                        <a:lnTo>
                          <a:pt x="250" y="1862"/>
                        </a:lnTo>
                        <a:lnTo>
                          <a:pt x="293" y="1853"/>
                        </a:lnTo>
                        <a:lnTo>
                          <a:pt x="343" y="1840"/>
                        </a:lnTo>
                        <a:lnTo>
                          <a:pt x="386" y="1828"/>
                        </a:lnTo>
                        <a:lnTo>
                          <a:pt x="428" y="1815"/>
                        </a:lnTo>
                        <a:lnTo>
                          <a:pt x="464" y="1798"/>
                        </a:lnTo>
                        <a:lnTo>
                          <a:pt x="464" y="0"/>
                        </a:lnTo>
                        <a:lnTo>
                          <a:pt x="428" y="5"/>
                        </a:lnTo>
                        <a:lnTo>
                          <a:pt x="393" y="9"/>
                        </a:lnTo>
                        <a:lnTo>
                          <a:pt x="364" y="13"/>
                        </a:lnTo>
                        <a:lnTo>
                          <a:pt x="329" y="17"/>
                        </a:lnTo>
                        <a:lnTo>
                          <a:pt x="293" y="17"/>
                        </a:lnTo>
                        <a:lnTo>
                          <a:pt x="257" y="17"/>
                        </a:lnTo>
                        <a:lnTo>
                          <a:pt x="221" y="22"/>
                        </a:lnTo>
                        <a:lnTo>
                          <a:pt x="193" y="22"/>
                        </a:lnTo>
                        <a:lnTo>
                          <a:pt x="157" y="17"/>
                        </a:lnTo>
                        <a:lnTo>
                          <a:pt x="121" y="17"/>
                        </a:lnTo>
                        <a:lnTo>
                          <a:pt x="121" y="17"/>
                        </a:lnTo>
                        <a:close/>
                      </a:path>
                    </a:pathLst>
                  </a:custGeom>
                  <a:solidFill>
                    <a:srgbClr val="ffb83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8" name=""/>
                  <p:cNvSpPr/>
                  <p:nvPr/>
                </p:nvSpPr>
                <p:spPr>
                  <a:xfrm>
                    <a:off x="5332320" y="5520960"/>
                    <a:ext cx="150120" cy="536040"/>
                  </a:xfrm>
                  <a:custGeom>
                    <a:avLst/>
                    <a:gdLst/>
                    <a:ahLst/>
                    <a:rect l="l" t="t" r="r" b="b"/>
                    <a:pathLst>
                      <a:path w="514" h="1945">
                        <a:moveTo>
                          <a:pt x="443" y="63"/>
                        </a:moveTo>
                        <a:lnTo>
                          <a:pt x="407" y="63"/>
                        </a:lnTo>
                        <a:lnTo>
                          <a:pt x="379" y="63"/>
                        </a:lnTo>
                        <a:lnTo>
                          <a:pt x="350" y="63"/>
                        </a:lnTo>
                        <a:lnTo>
                          <a:pt x="321" y="59"/>
                        </a:lnTo>
                        <a:lnTo>
                          <a:pt x="293" y="55"/>
                        </a:lnTo>
                        <a:lnTo>
                          <a:pt x="264" y="46"/>
                        </a:lnTo>
                        <a:lnTo>
                          <a:pt x="243" y="38"/>
                        </a:lnTo>
                        <a:lnTo>
                          <a:pt x="214" y="25"/>
                        </a:lnTo>
                        <a:lnTo>
                          <a:pt x="193" y="12"/>
                        </a:lnTo>
                        <a:lnTo>
                          <a:pt x="171" y="0"/>
                        </a:lnTo>
                        <a:lnTo>
                          <a:pt x="150" y="0"/>
                        </a:lnTo>
                        <a:lnTo>
                          <a:pt x="136" y="0"/>
                        </a:lnTo>
                        <a:lnTo>
                          <a:pt x="114" y="0"/>
                        </a:lnTo>
                        <a:lnTo>
                          <a:pt x="100" y="4"/>
                        </a:lnTo>
                        <a:lnTo>
                          <a:pt x="86" y="4"/>
                        </a:lnTo>
                        <a:lnTo>
                          <a:pt x="64" y="8"/>
                        </a:lnTo>
                        <a:lnTo>
                          <a:pt x="50" y="12"/>
                        </a:lnTo>
                        <a:lnTo>
                          <a:pt x="36" y="17"/>
                        </a:lnTo>
                        <a:lnTo>
                          <a:pt x="14" y="17"/>
                        </a:lnTo>
                        <a:lnTo>
                          <a:pt x="0" y="21"/>
                        </a:lnTo>
                        <a:lnTo>
                          <a:pt x="14" y="1945"/>
                        </a:lnTo>
                        <a:lnTo>
                          <a:pt x="14" y="1945"/>
                        </a:lnTo>
                        <a:lnTo>
                          <a:pt x="22" y="1945"/>
                        </a:lnTo>
                        <a:lnTo>
                          <a:pt x="22" y="1945"/>
                        </a:lnTo>
                        <a:lnTo>
                          <a:pt x="29" y="1945"/>
                        </a:lnTo>
                        <a:lnTo>
                          <a:pt x="29" y="1945"/>
                        </a:lnTo>
                        <a:lnTo>
                          <a:pt x="36" y="1945"/>
                        </a:lnTo>
                        <a:lnTo>
                          <a:pt x="36" y="1945"/>
                        </a:lnTo>
                        <a:lnTo>
                          <a:pt x="43" y="1945"/>
                        </a:lnTo>
                        <a:lnTo>
                          <a:pt x="43" y="1945"/>
                        </a:lnTo>
                        <a:lnTo>
                          <a:pt x="50" y="1945"/>
                        </a:lnTo>
                        <a:lnTo>
                          <a:pt x="79" y="1941"/>
                        </a:lnTo>
                        <a:lnTo>
                          <a:pt x="114" y="1933"/>
                        </a:lnTo>
                        <a:lnTo>
                          <a:pt x="143" y="1920"/>
                        </a:lnTo>
                        <a:lnTo>
                          <a:pt x="164" y="1907"/>
                        </a:lnTo>
                        <a:lnTo>
                          <a:pt x="186" y="1895"/>
                        </a:lnTo>
                        <a:lnTo>
                          <a:pt x="207" y="1878"/>
                        </a:lnTo>
                        <a:lnTo>
                          <a:pt x="221" y="1856"/>
                        </a:lnTo>
                        <a:lnTo>
                          <a:pt x="236" y="1835"/>
                        </a:lnTo>
                        <a:lnTo>
                          <a:pt x="243" y="1810"/>
                        </a:lnTo>
                        <a:lnTo>
                          <a:pt x="243" y="1780"/>
                        </a:lnTo>
                        <a:lnTo>
                          <a:pt x="257" y="1602"/>
                        </a:lnTo>
                        <a:lnTo>
                          <a:pt x="257" y="1432"/>
                        </a:lnTo>
                        <a:lnTo>
                          <a:pt x="243" y="1263"/>
                        </a:lnTo>
                        <a:lnTo>
                          <a:pt x="229" y="1098"/>
                        </a:lnTo>
                        <a:lnTo>
                          <a:pt x="207" y="932"/>
                        </a:lnTo>
                        <a:lnTo>
                          <a:pt x="186" y="767"/>
                        </a:lnTo>
                        <a:lnTo>
                          <a:pt x="171" y="602"/>
                        </a:lnTo>
                        <a:lnTo>
                          <a:pt x="157" y="432"/>
                        </a:lnTo>
                        <a:lnTo>
                          <a:pt x="157" y="258"/>
                        </a:lnTo>
                        <a:lnTo>
                          <a:pt x="171" y="84"/>
                        </a:lnTo>
                        <a:lnTo>
                          <a:pt x="207" y="84"/>
                        </a:lnTo>
                        <a:lnTo>
                          <a:pt x="243" y="89"/>
                        </a:lnTo>
                        <a:lnTo>
                          <a:pt x="271" y="89"/>
                        </a:lnTo>
                        <a:lnTo>
                          <a:pt x="307" y="84"/>
                        </a:lnTo>
                        <a:lnTo>
                          <a:pt x="343" y="84"/>
                        </a:lnTo>
                        <a:lnTo>
                          <a:pt x="379" y="84"/>
                        </a:lnTo>
                        <a:lnTo>
                          <a:pt x="414" y="80"/>
                        </a:lnTo>
                        <a:lnTo>
                          <a:pt x="443" y="76"/>
                        </a:lnTo>
                        <a:lnTo>
                          <a:pt x="478" y="72"/>
                        </a:lnTo>
                        <a:lnTo>
                          <a:pt x="514" y="67"/>
                        </a:lnTo>
                        <a:lnTo>
                          <a:pt x="514" y="0"/>
                        </a:lnTo>
                        <a:lnTo>
                          <a:pt x="443" y="63"/>
                        </a:lnTo>
                        <a:lnTo>
                          <a:pt x="443" y="63"/>
                        </a:lnTo>
                        <a:close/>
                      </a:path>
                    </a:pathLst>
                  </a:custGeom>
                  <a:solidFill>
                    <a:srgbClr val="ffd9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9" name=""/>
                  <p:cNvSpPr/>
                  <p:nvPr/>
                </p:nvSpPr>
                <p:spPr>
                  <a:xfrm>
                    <a:off x="4746240" y="5552280"/>
                    <a:ext cx="185400" cy="503280"/>
                  </a:xfrm>
                  <a:custGeom>
                    <a:avLst/>
                    <a:gdLst/>
                    <a:ahLst/>
                    <a:rect l="l" t="t" r="r" b="b"/>
                    <a:pathLst>
                      <a:path w="635" h="1827">
                        <a:moveTo>
                          <a:pt x="107" y="182"/>
                        </a:moveTo>
                        <a:lnTo>
                          <a:pt x="136" y="352"/>
                        </a:lnTo>
                        <a:lnTo>
                          <a:pt x="171" y="526"/>
                        </a:lnTo>
                        <a:lnTo>
                          <a:pt x="214" y="700"/>
                        </a:lnTo>
                        <a:lnTo>
                          <a:pt x="257" y="873"/>
                        </a:lnTo>
                        <a:lnTo>
                          <a:pt x="286" y="1039"/>
                        </a:lnTo>
                        <a:lnTo>
                          <a:pt x="300" y="1200"/>
                        </a:lnTo>
                        <a:lnTo>
                          <a:pt x="286" y="1352"/>
                        </a:lnTo>
                        <a:lnTo>
                          <a:pt x="243" y="1488"/>
                        </a:lnTo>
                        <a:lnTo>
                          <a:pt x="157" y="1607"/>
                        </a:lnTo>
                        <a:lnTo>
                          <a:pt x="36" y="1709"/>
                        </a:lnTo>
                        <a:lnTo>
                          <a:pt x="29" y="1709"/>
                        </a:lnTo>
                        <a:lnTo>
                          <a:pt x="29" y="1713"/>
                        </a:lnTo>
                        <a:lnTo>
                          <a:pt x="22" y="1713"/>
                        </a:lnTo>
                        <a:lnTo>
                          <a:pt x="22" y="1717"/>
                        </a:lnTo>
                        <a:lnTo>
                          <a:pt x="14" y="1717"/>
                        </a:lnTo>
                        <a:lnTo>
                          <a:pt x="14" y="1717"/>
                        </a:lnTo>
                        <a:lnTo>
                          <a:pt x="7" y="1721"/>
                        </a:lnTo>
                        <a:lnTo>
                          <a:pt x="7" y="1721"/>
                        </a:lnTo>
                        <a:lnTo>
                          <a:pt x="0" y="1721"/>
                        </a:lnTo>
                        <a:lnTo>
                          <a:pt x="0" y="1725"/>
                        </a:lnTo>
                        <a:lnTo>
                          <a:pt x="0" y="1802"/>
                        </a:lnTo>
                        <a:lnTo>
                          <a:pt x="72" y="1810"/>
                        </a:lnTo>
                        <a:lnTo>
                          <a:pt x="114" y="1776"/>
                        </a:lnTo>
                        <a:lnTo>
                          <a:pt x="157" y="1759"/>
                        </a:lnTo>
                        <a:lnTo>
                          <a:pt x="193" y="1755"/>
                        </a:lnTo>
                        <a:lnTo>
                          <a:pt x="229" y="1764"/>
                        </a:lnTo>
                        <a:lnTo>
                          <a:pt x="271" y="1776"/>
                        </a:lnTo>
                        <a:lnTo>
                          <a:pt x="307" y="1793"/>
                        </a:lnTo>
                        <a:lnTo>
                          <a:pt x="350" y="1810"/>
                        </a:lnTo>
                        <a:lnTo>
                          <a:pt x="393" y="1823"/>
                        </a:lnTo>
                        <a:lnTo>
                          <a:pt x="443" y="1827"/>
                        </a:lnTo>
                        <a:lnTo>
                          <a:pt x="500" y="1819"/>
                        </a:lnTo>
                        <a:lnTo>
                          <a:pt x="514" y="1815"/>
                        </a:lnTo>
                        <a:lnTo>
                          <a:pt x="521" y="1810"/>
                        </a:lnTo>
                        <a:lnTo>
                          <a:pt x="536" y="1806"/>
                        </a:lnTo>
                        <a:lnTo>
                          <a:pt x="550" y="1802"/>
                        </a:lnTo>
                        <a:lnTo>
                          <a:pt x="557" y="1793"/>
                        </a:lnTo>
                        <a:lnTo>
                          <a:pt x="571" y="1789"/>
                        </a:lnTo>
                        <a:lnTo>
                          <a:pt x="578" y="1781"/>
                        </a:lnTo>
                        <a:lnTo>
                          <a:pt x="586" y="1772"/>
                        </a:lnTo>
                        <a:lnTo>
                          <a:pt x="593" y="1768"/>
                        </a:lnTo>
                        <a:lnTo>
                          <a:pt x="600" y="1759"/>
                        </a:lnTo>
                        <a:lnTo>
                          <a:pt x="635" y="21"/>
                        </a:lnTo>
                        <a:lnTo>
                          <a:pt x="628" y="21"/>
                        </a:lnTo>
                        <a:lnTo>
                          <a:pt x="621" y="17"/>
                        </a:lnTo>
                        <a:lnTo>
                          <a:pt x="614" y="17"/>
                        </a:lnTo>
                        <a:lnTo>
                          <a:pt x="607" y="13"/>
                        </a:lnTo>
                        <a:lnTo>
                          <a:pt x="593" y="13"/>
                        </a:lnTo>
                        <a:lnTo>
                          <a:pt x="593" y="9"/>
                        </a:lnTo>
                        <a:lnTo>
                          <a:pt x="586" y="9"/>
                        </a:lnTo>
                        <a:lnTo>
                          <a:pt x="578" y="4"/>
                        </a:lnTo>
                        <a:lnTo>
                          <a:pt x="571" y="0"/>
                        </a:lnTo>
                        <a:lnTo>
                          <a:pt x="564" y="0"/>
                        </a:lnTo>
                        <a:lnTo>
                          <a:pt x="543" y="21"/>
                        </a:lnTo>
                        <a:lnTo>
                          <a:pt x="528" y="47"/>
                        </a:lnTo>
                        <a:lnTo>
                          <a:pt x="514" y="72"/>
                        </a:lnTo>
                        <a:lnTo>
                          <a:pt x="500" y="98"/>
                        </a:lnTo>
                        <a:lnTo>
                          <a:pt x="486" y="127"/>
                        </a:lnTo>
                        <a:lnTo>
                          <a:pt x="478" y="153"/>
                        </a:lnTo>
                        <a:lnTo>
                          <a:pt x="464" y="182"/>
                        </a:lnTo>
                        <a:lnTo>
                          <a:pt x="443" y="208"/>
                        </a:lnTo>
                        <a:lnTo>
                          <a:pt x="421" y="237"/>
                        </a:lnTo>
                        <a:lnTo>
                          <a:pt x="393" y="267"/>
                        </a:lnTo>
                        <a:lnTo>
                          <a:pt x="386" y="276"/>
                        </a:lnTo>
                        <a:lnTo>
                          <a:pt x="378" y="280"/>
                        </a:lnTo>
                        <a:lnTo>
                          <a:pt x="357" y="276"/>
                        </a:lnTo>
                        <a:lnTo>
                          <a:pt x="336" y="267"/>
                        </a:lnTo>
                        <a:lnTo>
                          <a:pt x="300" y="254"/>
                        </a:lnTo>
                        <a:lnTo>
                          <a:pt x="271" y="242"/>
                        </a:lnTo>
                        <a:lnTo>
                          <a:pt x="229" y="229"/>
                        </a:lnTo>
                        <a:lnTo>
                          <a:pt x="193" y="212"/>
                        </a:lnTo>
                        <a:lnTo>
                          <a:pt x="150" y="195"/>
                        </a:lnTo>
                        <a:lnTo>
                          <a:pt x="107" y="182"/>
                        </a:lnTo>
                        <a:lnTo>
                          <a:pt x="107" y="182"/>
                        </a:lnTo>
                        <a:close/>
                      </a:path>
                    </a:pathLst>
                  </a:custGeom>
                  <a:solidFill>
                    <a:srgbClr val="ffb83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0" name=""/>
                  <p:cNvSpPr/>
                  <p:nvPr/>
                </p:nvSpPr>
                <p:spPr>
                  <a:xfrm>
                    <a:off x="4741920" y="5525640"/>
                    <a:ext cx="168840" cy="502200"/>
                  </a:xfrm>
                  <a:custGeom>
                    <a:avLst/>
                    <a:gdLst/>
                    <a:ahLst/>
                    <a:rect l="l" t="t" r="r" b="b"/>
                    <a:pathLst>
                      <a:path w="578" h="1822">
                        <a:moveTo>
                          <a:pt x="464" y="4"/>
                        </a:moveTo>
                        <a:lnTo>
                          <a:pt x="421" y="0"/>
                        </a:lnTo>
                        <a:lnTo>
                          <a:pt x="392" y="0"/>
                        </a:lnTo>
                        <a:lnTo>
                          <a:pt x="364" y="8"/>
                        </a:lnTo>
                        <a:lnTo>
                          <a:pt x="343" y="21"/>
                        </a:lnTo>
                        <a:lnTo>
                          <a:pt x="321" y="38"/>
                        </a:lnTo>
                        <a:lnTo>
                          <a:pt x="300" y="55"/>
                        </a:lnTo>
                        <a:lnTo>
                          <a:pt x="278" y="72"/>
                        </a:lnTo>
                        <a:lnTo>
                          <a:pt x="250" y="89"/>
                        </a:lnTo>
                        <a:lnTo>
                          <a:pt x="221" y="97"/>
                        </a:lnTo>
                        <a:lnTo>
                          <a:pt x="185" y="106"/>
                        </a:lnTo>
                        <a:lnTo>
                          <a:pt x="171" y="101"/>
                        </a:lnTo>
                        <a:lnTo>
                          <a:pt x="164" y="101"/>
                        </a:lnTo>
                        <a:lnTo>
                          <a:pt x="157" y="97"/>
                        </a:lnTo>
                        <a:lnTo>
                          <a:pt x="150" y="93"/>
                        </a:lnTo>
                        <a:lnTo>
                          <a:pt x="143" y="89"/>
                        </a:lnTo>
                        <a:lnTo>
                          <a:pt x="135" y="80"/>
                        </a:lnTo>
                        <a:lnTo>
                          <a:pt x="135" y="76"/>
                        </a:lnTo>
                        <a:lnTo>
                          <a:pt x="128" y="67"/>
                        </a:lnTo>
                        <a:lnTo>
                          <a:pt x="128" y="63"/>
                        </a:lnTo>
                        <a:lnTo>
                          <a:pt x="135" y="55"/>
                        </a:lnTo>
                        <a:lnTo>
                          <a:pt x="100" y="55"/>
                        </a:lnTo>
                        <a:lnTo>
                          <a:pt x="86" y="89"/>
                        </a:lnTo>
                        <a:lnTo>
                          <a:pt x="86" y="122"/>
                        </a:lnTo>
                        <a:lnTo>
                          <a:pt x="86" y="161"/>
                        </a:lnTo>
                        <a:lnTo>
                          <a:pt x="93" y="195"/>
                        </a:lnTo>
                        <a:lnTo>
                          <a:pt x="100" y="228"/>
                        </a:lnTo>
                        <a:lnTo>
                          <a:pt x="100" y="262"/>
                        </a:lnTo>
                        <a:lnTo>
                          <a:pt x="100" y="296"/>
                        </a:lnTo>
                        <a:lnTo>
                          <a:pt x="78" y="326"/>
                        </a:lnTo>
                        <a:lnTo>
                          <a:pt x="50" y="356"/>
                        </a:lnTo>
                        <a:lnTo>
                          <a:pt x="0" y="381"/>
                        </a:lnTo>
                        <a:lnTo>
                          <a:pt x="14" y="1822"/>
                        </a:lnTo>
                        <a:lnTo>
                          <a:pt x="14" y="1818"/>
                        </a:lnTo>
                        <a:lnTo>
                          <a:pt x="21" y="1818"/>
                        </a:lnTo>
                        <a:lnTo>
                          <a:pt x="21" y="1818"/>
                        </a:lnTo>
                        <a:lnTo>
                          <a:pt x="28" y="1814"/>
                        </a:lnTo>
                        <a:lnTo>
                          <a:pt x="28" y="1814"/>
                        </a:lnTo>
                        <a:lnTo>
                          <a:pt x="36" y="1814"/>
                        </a:lnTo>
                        <a:lnTo>
                          <a:pt x="36" y="1810"/>
                        </a:lnTo>
                        <a:lnTo>
                          <a:pt x="43" y="1810"/>
                        </a:lnTo>
                        <a:lnTo>
                          <a:pt x="43" y="1806"/>
                        </a:lnTo>
                        <a:lnTo>
                          <a:pt x="50" y="1806"/>
                        </a:lnTo>
                        <a:lnTo>
                          <a:pt x="171" y="1704"/>
                        </a:lnTo>
                        <a:lnTo>
                          <a:pt x="257" y="1585"/>
                        </a:lnTo>
                        <a:lnTo>
                          <a:pt x="300" y="1449"/>
                        </a:lnTo>
                        <a:lnTo>
                          <a:pt x="314" y="1297"/>
                        </a:lnTo>
                        <a:lnTo>
                          <a:pt x="300" y="1136"/>
                        </a:lnTo>
                        <a:lnTo>
                          <a:pt x="271" y="970"/>
                        </a:lnTo>
                        <a:lnTo>
                          <a:pt x="228" y="797"/>
                        </a:lnTo>
                        <a:lnTo>
                          <a:pt x="185" y="623"/>
                        </a:lnTo>
                        <a:lnTo>
                          <a:pt x="150" y="449"/>
                        </a:lnTo>
                        <a:lnTo>
                          <a:pt x="121" y="279"/>
                        </a:lnTo>
                        <a:lnTo>
                          <a:pt x="164" y="292"/>
                        </a:lnTo>
                        <a:lnTo>
                          <a:pt x="207" y="309"/>
                        </a:lnTo>
                        <a:lnTo>
                          <a:pt x="243" y="326"/>
                        </a:lnTo>
                        <a:lnTo>
                          <a:pt x="285" y="339"/>
                        </a:lnTo>
                        <a:lnTo>
                          <a:pt x="314" y="351"/>
                        </a:lnTo>
                        <a:lnTo>
                          <a:pt x="350" y="364"/>
                        </a:lnTo>
                        <a:lnTo>
                          <a:pt x="371" y="373"/>
                        </a:lnTo>
                        <a:lnTo>
                          <a:pt x="392" y="377"/>
                        </a:lnTo>
                        <a:lnTo>
                          <a:pt x="400" y="373"/>
                        </a:lnTo>
                        <a:lnTo>
                          <a:pt x="407" y="364"/>
                        </a:lnTo>
                        <a:lnTo>
                          <a:pt x="435" y="334"/>
                        </a:lnTo>
                        <a:lnTo>
                          <a:pt x="457" y="305"/>
                        </a:lnTo>
                        <a:lnTo>
                          <a:pt x="478" y="279"/>
                        </a:lnTo>
                        <a:lnTo>
                          <a:pt x="492" y="250"/>
                        </a:lnTo>
                        <a:lnTo>
                          <a:pt x="500" y="224"/>
                        </a:lnTo>
                        <a:lnTo>
                          <a:pt x="514" y="195"/>
                        </a:lnTo>
                        <a:lnTo>
                          <a:pt x="528" y="169"/>
                        </a:lnTo>
                        <a:lnTo>
                          <a:pt x="542" y="144"/>
                        </a:lnTo>
                        <a:lnTo>
                          <a:pt x="557" y="118"/>
                        </a:lnTo>
                        <a:lnTo>
                          <a:pt x="578" y="97"/>
                        </a:lnTo>
                        <a:lnTo>
                          <a:pt x="564" y="89"/>
                        </a:lnTo>
                        <a:lnTo>
                          <a:pt x="550" y="80"/>
                        </a:lnTo>
                        <a:lnTo>
                          <a:pt x="535" y="72"/>
                        </a:lnTo>
                        <a:lnTo>
                          <a:pt x="528" y="59"/>
                        </a:lnTo>
                        <a:lnTo>
                          <a:pt x="514" y="50"/>
                        </a:lnTo>
                        <a:lnTo>
                          <a:pt x="507" y="42"/>
                        </a:lnTo>
                        <a:lnTo>
                          <a:pt x="492" y="33"/>
                        </a:lnTo>
                        <a:lnTo>
                          <a:pt x="485" y="21"/>
                        </a:lnTo>
                        <a:lnTo>
                          <a:pt x="471" y="12"/>
                        </a:lnTo>
                        <a:lnTo>
                          <a:pt x="464" y="4"/>
                        </a:lnTo>
                        <a:lnTo>
                          <a:pt x="464" y="4"/>
                        </a:lnTo>
                        <a:close/>
                      </a:path>
                    </a:pathLst>
                  </a:custGeom>
                  <a:solidFill>
                    <a:srgbClr val="ffd9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1" name=""/>
                  <p:cNvSpPr/>
                  <p:nvPr/>
                </p:nvSpPr>
                <p:spPr>
                  <a:xfrm>
                    <a:off x="5418000" y="5616360"/>
                    <a:ext cx="5832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00" h="399">
                        <a:moveTo>
                          <a:pt x="100" y="0"/>
                        </a:moveTo>
                        <a:lnTo>
                          <a:pt x="93" y="34"/>
                        </a:lnTo>
                        <a:lnTo>
                          <a:pt x="78" y="64"/>
                        </a:lnTo>
                        <a:lnTo>
                          <a:pt x="71" y="98"/>
                        </a:lnTo>
                        <a:lnTo>
                          <a:pt x="57" y="132"/>
                        </a:lnTo>
                        <a:lnTo>
                          <a:pt x="50" y="161"/>
                        </a:lnTo>
                        <a:lnTo>
                          <a:pt x="36" y="195"/>
                        </a:lnTo>
                        <a:lnTo>
                          <a:pt x="21" y="229"/>
                        </a:lnTo>
                        <a:lnTo>
                          <a:pt x="14" y="259"/>
                        </a:lnTo>
                        <a:lnTo>
                          <a:pt x="7" y="293"/>
                        </a:lnTo>
                        <a:lnTo>
                          <a:pt x="0" y="327"/>
                        </a:lnTo>
                        <a:lnTo>
                          <a:pt x="0" y="339"/>
                        </a:lnTo>
                        <a:lnTo>
                          <a:pt x="0" y="348"/>
                        </a:lnTo>
                        <a:lnTo>
                          <a:pt x="7" y="356"/>
                        </a:lnTo>
                        <a:lnTo>
                          <a:pt x="14" y="365"/>
                        </a:lnTo>
                        <a:lnTo>
                          <a:pt x="21" y="373"/>
                        </a:lnTo>
                        <a:lnTo>
                          <a:pt x="36" y="382"/>
                        </a:lnTo>
                        <a:lnTo>
                          <a:pt x="50" y="386"/>
                        </a:lnTo>
                        <a:lnTo>
                          <a:pt x="64" y="394"/>
                        </a:lnTo>
                        <a:lnTo>
                          <a:pt x="78" y="394"/>
                        </a:lnTo>
                        <a:lnTo>
                          <a:pt x="100" y="399"/>
                        </a:lnTo>
                        <a:lnTo>
                          <a:pt x="157" y="365"/>
                        </a:lnTo>
                        <a:lnTo>
                          <a:pt x="193" y="331"/>
                        </a:lnTo>
                        <a:lnTo>
                          <a:pt x="200" y="293"/>
                        </a:lnTo>
                        <a:lnTo>
                          <a:pt x="200" y="255"/>
                        </a:lnTo>
                        <a:lnTo>
                          <a:pt x="185" y="212"/>
                        </a:lnTo>
                        <a:lnTo>
                          <a:pt x="164" y="170"/>
                        </a:lnTo>
                        <a:lnTo>
                          <a:pt x="143" y="127"/>
                        </a:lnTo>
                        <a:lnTo>
                          <a:pt x="128" y="85"/>
                        </a:lnTo>
                        <a:lnTo>
                          <a:pt x="121" y="43"/>
                        </a:lnTo>
                        <a:lnTo>
                          <a:pt x="135" y="0"/>
                        </a:lnTo>
                        <a:lnTo>
                          <a:pt x="100" y="0"/>
                        </a:lnTo>
                        <a:lnTo>
                          <a:pt x="10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2" name=""/>
                  <p:cNvSpPr/>
                  <p:nvPr/>
                </p:nvSpPr>
                <p:spPr>
                  <a:xfrm>
                    <a:off x="5430600" y="5656320"/>
                    <a:ext cx="30960" cy="5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07" h="212">
                        <a:moveTo>
                          <a:pt x="21" y="212"/>
                        </a:moveTo>
                        <a:lnTo>
                          <a:pt x="78" y="212"/>
                        </a:lnTo>
                        <a:lnTo>
                          <a:pt x="92" y="191"/>
                        </a:lnTo>
                        <a:lnTo>
                          <a:pt x="107" y="170"/>
                        </a:lnTo>
                        <a:lnTo>
                          <a:pt x="107" y="149"/>
                        </a:lnTo>
                        <a:lnTo>
                          <a:pt x="107" y="128"/>
                        </a:lnTo>
                        <a:lnTo>
                          <a:pt x="107" y="106"/>
                        </a:lnTo>
                        <a:lnTo>
                          <a:pt x="100" y="85"/>
                        </a:lnTo>
                        <a:lnTo>
                          <a:pt x="85" y="60"/>
                        </a:lnTo>
                        <a:lnTo>
                          <a:pt x="78" y="39"/>
                        </a:lnTo>
                        <a:lnTo>
                          <a:pt x="64" y="22"/>
                        </a:lnTo>
                        <a:lnTo>
                          <a:pt x="57" y="0"/>
                        </a:lnTo>
                        <a:lnTo>
                          <a:pt x="57" y="22"/>
                        </a:lnTo>
                        <a:lnTo>
                          <a:pt x="50" y="43"/>
                        </a:lnTo>
                        <a:lnTo>
                          <a:pt x="43" y="64"/>
                        </a:lnTo>
                        <a:lnTo>
                          <a:pt x="28" y="85"/>
                        </a:lnTo>
                        <a:lnTo>
                          <a:pt x="21" y="106"/>
                        </a:lnTo>
                        <a:lnTo>
                          <a:pt x="7" y="128"/>
                        </a:lnTo>
                        <a:lnTo>
                          <a:pt x="0" y="149"/>
                        </a:lnTo>
                        <a:lnTo>
                          <a:pt x="0" y="170"/>
                        </a:lnTo>
                        <a:lnTo>
                          <a:pt x="7" y="191"/>
                        </a:lnTo>
                        <a:lnTo>
                          <a:pt x="21" y="212"/>
                        </a:lnTo>
                        <a:lnTo>
                          <a:pt x="21" y="212"/>
                        </a:lnTo>
                        <a:close/>
                      </a:path>
                    </a:pathLst>
                  </a:custGeom>
                  <a:solidFill>
                    <a:srgbClr val="fff09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520" bIns="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3" name=""/>
                  <p:cNvSpPr/>
                  <p:nvPr/>
                </p:nvSpPr>
                <p:spPr>
                  <a:xfrm>
                    <a:off x="4856760" y="5698440"/>
                    <a:ext cx="52200" cy="45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9" h="165">
                        <a:moveTo>
                          <a:pt x="15" y="81"/>
                        </a:moveTo>
                        <a:lnTo>
                          <a:pt x="0" y="81"/>
                        </a:lnTo>
                        <a:lnTo>
                          <a:pt x="0" y="110"/>
                        </a:lnTo>
                        <a:lnTo>
                          <a:pt x="15" y="110"/>
                        </a:lnTo>
                        <a:lnTo>
                          <a:pt x="15" y="119"/>
                        </a:lnTo>
                        <a:lnTo>
                          <a:pt x="15" y="127"/>
                        </a:lnTo>
                        <a:lnTo>
                          <a:pt x="15" y="136"/>
                        </a:lnTo>
                        <a:lnTo>
                          <a:pt x="15" y="144"/>
                        </a:lnTo>
                        <a:lnTo>
                          <a:pt x="22" y="153"/>
                        </a:lnTo>
                        <a:lnTo>
                          <a:pt x="29" y="157"/>
                        </a:lnTo>
                        <a:lnTo>
                          <a:pt x="43" y="161"/>
                        </a:lnTo>
                        <a:lnTo>
                          <a:pt x="50" y="165"/>
                        </a:lnTo>
                        <a:lnTo>
                          <a:pt x="65" y="165"/>
                        </a:lnTo>
                        <a:lnTo>
                          <a:pt x="86" y="161"/>
                        </a:lnTo>
                        <a:lnTo>
                          <a:pt x="100" y="157"/>
                        </a:lnTo>
                        <a:lnTo>
                          <a:pt x="115" y="153"/>
                        </a:lnTo>
                        <a:lnTo>
                          <a:pt x="129" y="144"/>
                        </a:lnTo>
                        <a:lnTo>
                          <a:pt x="143" y="140"/>
                        </a:lnTo>
                        <a:lnTo>
                          <a:pt x="158" y="131"/>
                        </a:lnTo>
                        <a:lnTo>
                          <a:pt x="165" y="123"/>
                        </a:lnTo>
                        <a:lnTo>
                          <a:pt x="172" y="114"/>
                        </a:lnTo>
                        <a:lnTo>
                          <a:pt x="179" y="102"/>
                        </a:lnTo>
                        <a:lnTo>
                          <a:pt x="179" y="93"/>
                        </a:lnTo>
                        <a:lnTo>
                          <a:pt x="172" y="81"/>
                        </a:lnTo>
                        <a:lnTo>
                          <a:pt x="165" y="68"/>
                        </a:lnTo>
                        <a:lnTo>
                          <a:pt x="158" y="59"/>
                        </a:lnTo>
                        <a:lnTo>
                          <a:pt x="158" y="47"/>
                        </a:lnTo>
                        <a:lnTo>
                          <a:pt x="150" y="34"/>
                        </a:lnTo>
                        <a:lnTo>
                          <a:pt x="143" y="25"/>
                        </a:lnTo>
                        <a:lnTo>
                          <a:pt x="136" y="13"/>
                        </a:lnTo>
                        <a:lnTo>
                          <a:pt x="129" y="8"/>
                        </a:lnTo>
                        <a:lnTo>
                          <a:pt x="115" y="0"/>
                        </a:lnTo>
                        <a:lnTo>
                          <a:pt x="93" y="0"/>
                        </a:lnTo>
                        <a:lnTo>
                          <a:pt x="72" y="0"/>
                        </a:lnTo>
                        <a:lnTo>
                          <a:pt x="86" y="4"/>
                        </a:lnTo>
                        <a:lnTo>
                          <a:pt x="100" y="13"/>
                        </a:lnTo>
                        <a:lnTo>
                          <a:pt x="115" y="21"/>
                        </a:lnTo>
                        <a:lnTo>
                          <a:pt x="122" y="34"/>
                        </a:lnTo>
                        <a:lnTo>
                          <a:pt x="129" y="42"/>
                        </a:lnTo>
                        <a:lnTo>
                          <a:pt x="136" y="55"/>
                        </a:lnTo>
                        <a:lnTo>
                          <a:pt x="136" y="68"/>
                        </a:lnTo>
                        <a:lnTo>
                          <a:pt x="136" y="81"/>
                        </a:lnTo>
                        <a:lnTo>
                          <a:pt x="136" y="97"/>
                        </a:lnTo>
                        <a:lnTo>
                          <a:pt x="136" y="110"/>
                        </a:lnTo>
                        <a:lnTo>
                          <a:pt x="136" y="119"/>
                        </a:lnTo>
                        <a:lnTo>
                          <a:pt x="129" y="123"/>
                        </a:lnTo>
                        <a:lnTo>
                          <a:pt x="122" y="127"/>
                        </a:lnTo>
                        <a:lnTo>
                          <a:pt x="115" y="131"/>
                        </a:lnTo>
                        <a:lnTo>
                          <a:pt x="100" y="136"/>
                        </a:lnTo>
                        <a:lnTo>
                          <a:pt x="93" y="140"/>
                        </a:lnTo>
                        <a:lnTo>
                          <a:pt x="79" y="140"/>
                        </a:lnTo>
                        <a:lnTo>
                          <a:pt x="72" y="144"/>
                        </a:lnTo>
                        <a:lnTo>
                          <a:pt x="58" y="148"/>
                        </a:lnTo>
                        <a:lnTo>
                          <a:pt x="50" y="153"/>
                        </a:lnTo>
                        <a:lnTo>
                          <a:pt x="36" y="148"/>
                        </a:lnTo>
                        <a:lnTo>
                          <a:pt x="29" y="144"/>
                        </a:lnTo>
                        <a:lnTo>
                          <a:pt x="22" y="136"/>
                        </a:lnTo>
                        <a:lnTo>
                          <a:pt x="15" y="127"/>
                        </a:lnTo>
                        <a:lnTo>
                          <a:pt x="15" y="123"/>
                        </a:lnTo>
                        <a:lnTo>
                          <a:pt x="15" y="114"/>
                        </a:lnTo>
                        <a:lnTo>
                          <a:pt x="15" y="106"/>
                        </a:lnTo>
                        <a:lnTo>
                          <a:pt x="15" y="97"/>
                        </a:lnTo>
                        <a:lnTo>
                          <a:pt x="15" y="89"/>
                        </a:lnTo>
                        <a:lnTo>
                          <a:pt x="15" y="81"/>
                        </a:lnTo>
                        <a:lnTo>
                          <a:pt x="15" y="8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" bIns="-1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4" name=""/>
                  <p:cNvSpPr/>
                  <p:nvPr/>
                </p:nvSpPr>
                <p:spPr>
                  <a:xfrm>
                    <a:off x="4721040" y="5954040"/>
                    <a:ext cx="6120" cy="3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128">
                        <a:moveTo>
                          <a:pt x="22" y="0"/>
                        </a:moveTo>
                        <a:lnTo>
                          <a:pt x="0" y="5"/>
                        </a:lnTo>
                        <a:lnTo>
                          <a:pt x="0" y="128"/>
                        </a:lnTo>
                        <a:lnTo>
                          <a:pt x="22" y="128"/>
                        </a:lnTo>
                        <a:lnTo>
                          <a:pt x="22" y="5"/>
                        </a:lnTo>
                        <a:lnTo>
                          <a:pt x="22" y="5"/>
                        </a:lnTo>
                        <a:lnTo>
                          <a:pt x="22" y="0"/>
                        </a:lnTo>
                        <a:close/>
                      </a:path>
                    </a:pathLst>
                  </a:custGeom>
                  <a:solidFill>
                    <a:srgbClr val="fff09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5" name=""/>
                  <p:cNvSpPr/>
                  <p:nvPr/>
                </p:nvSpPr>
                <p:spPr>
                  <a:xfrm>
                    <a:off x="4126680" y="5969520"/>
                    <a:ext cx="27504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942" h="347">
                        <a:moveTo>
                          <a:pt x="849" y="0"/>
                        </a:moveTo>
                        <a:lnTo>
                          <a:pt x="835" y="21"/>
                        </a:lnTo>
                        <a:lnTo>
                          <a:pt x="814" y="46"/>
                        </a:lnTo>
                        <a:lnTo>
                          <a:pt x="807" y="72"/>
                        </a:lnTo>
                        <a:lnTo>
                          <a:pt x="799" y="97"/>
                        </a:lnTo>
                        <a:lnTo>
                          <a:pt x="792" y="127"/>
                        </a:lnTo>
                        <a:lnTo>
                          <a:pt x="792" y="152"/>
                        </a:lnTo>
                        <a:lnTo>
                          <a:pt x="778" y="178"/>
                        </a:lnTo>
                        <a:lnTo>
                          <a:pt x="764" y="203"/>
                        </a:lnTo>
                        <a:lnTo>
                          <a:pt x="742" y="224"/>
                        </a:lnTo>
                        <a:lnTo>
                          <a:pt x="714" y="245"/>
                        </a:lnTo>
                        <a:lnTo>
                          <a:pt x="685" y="254"/>
                        </a:lnTo>
                        <a:lnTo>
                          <a:pt x="664" y="262"/>
                        </a:lnTo>
                        <a:lnTo>
                          <a:pt x="635" y="262"/>
                        </a:lnTo>
                        <a:lnTo>
                          <a:pt x="600" y="262"/>
                        </a:lnTo>
                        <a:lnTo>
                          <a:pt x="571" y="262"/>
                        </a:lnTo>
                        <a:lnTo>
                          <a:pt x="542" y="258"/>
                        </a:lnTo>
                        <a:lnTo>
                          <a:pt x="514" y="250"/>
                        </a:lnTo>
                        <a:lnTo>
                          <a:pt x="485" y="241"/>
                        </a:lnTo>
                        <a:lnTo>
                          <a:pt x="464" y="228"/>
                        </a:lnTo>
                        <a:lnTo>
                          <a:pt x="442" y="216"/>
                        </a:lnTo>
                        <a:lnTo>
                          <a:pt x="407" y="245"/>
                        </a:lnTo>
                        <a:lnTo>
                          <a:pt x="378" y="245"/>
                        </a:lnTo>
                        <a:lnTo>
                          <a:pt x="343" y="250"/>
                        </a:lnTo>
                        <a:lnTo>
                          <a:pt x="314" y="254"/>
                        </a:lnTo>
                        <a:lnTo>
                          <a:pt x="278" y="258"/>
                        </a:lnTo>
                        <a:lnTo>
                          <a:pt x="243" y="262"/>
                        </a:lnTo>
                        <a:lnTo>
                          <a:pt x="214" y="267"/>
                        </a:lnTo>
                        <a:lnTo>
                          <a:pt x="178" y="267"/>
                        </a:lnTo>
                        <a:lnTo>
                          <a:pt x="150" y="262"/>
                        </a:lnTo>
                        <a:lnTo>
                          <a:pt x="121" y="254"/>
                        </a:lnTo>
                        <a:lnTo>
                          <a:pt x="100" y="237"/>
                        </a:lnTo>
                        <a:lnTo>
                          <a:pt x="86" y="237"/>
                        </a:lnTo>
                        <a:lnTo>
                          <a:pt x="71" y="241"/>
                        </a:lnTo>
                        <a:lnTo>
                          <a:pt x="57" y="245"/>
                        </a:lnTo>
                        <a:lnTo>
                          <a:pt x="43" y="250"/>
                        </a:lnTo>
                        <a:lnTo>
                          <a:pt x="28" y="254"/>
                        </a:lnTo>
                        <a:lnTo>
                          <a:pt x="14" y="262"/>
                        </a:lnTo>
                        <a:lnTo>
                          <a:pt x="7" y="271"/>
                        </a:lnTo>
                        <a:lnTo>
                          <a:pt x="0" y="279"/>
                        </a:lnTo>
                        <a:lnTo>
                          <a:pt x="0" y="288"/>
                        </a:lnTo>
                        <a:lnTo>
                          <a:pt x="0" y="296"/>
                        </a:lnTo>
                        <a:lnTo>
                          <a:pt x="257" y="296"/>
                        </a:lnTo>
                        <a:lnTo>
                          <a:pt x="300" y="317"/>
                        </a:lnTo>
                        <a:lnTo>
                          <a:pt x="343" y="330"/>
                        </a:lnTo>
                        <a:lnTo>
                          <a:pt x="385" y="334"/>
                        </a:lnTo>
                        <a:lnTo>
                          <a:pt x="435" y="339"/>
                        </a:lnTo>
                        <a:lnTo>
                          <a:pt x="485" y="334"/>
                        </a:lnTo>
                        <a:lnTo>
                          <a:pt x="535" y="334"/>
                        </a:lnTo>
                        <a:lnTo>
                          <a:pt x="585" y="330"/>
                        </a:lnTo>
                        <a:lnTo>
                          <a:pt x="635" y="330"/>
                        </a:lnTo>
                        <a:lnTo>
                          <a:pt x="685" y="334"/>
                        </a:lnTo>
                        <a:lnTo>
                          <a:pt x="735" y="347"/>
                        </a:lnTo>
                        <a:lnTo>
                          <a:pt x="742" y="330"/>
                        </a:lnTo>
                        <a:lnTo>
                          <a:pt x="764" y="317"/>
                        </a:lnTo>
                        <a:lnTo>
                          <a:pt x="778" y="309"/>
                        </a:lnTo>
                        <a:lnTo>
                          <a:pt x="799" y="301"/>
                        </a:lnTo>
                        <a:lnTo>
                          <a:pt x="828" y="296"/>
                        </a:lnTo>
                        <a:lnTo>
                          <a:pt x="849" y="288"/>
                        </a:lnTo>
                        <a:lnTo>
                          <a:pt x="871" y="284"/>
                        </a:lnTo>
                        <a:lnTo>
                          <a:pt x="899" y="284"/>
                        </a:lnTo>
                        <a:lnTo>
                          <a:pt x="921" y="279"/>
                        </a:lnTo>
                        <a:lnTo>
                          <a:pt x="942" y="275"/>
                        </a:lnTo>
                        <a:lnTo>
                          <a:pt x="914" y="250"/>
                        </a:lnTo>
                        <a:lnTo>
                          <a:pt x="899" y="220"/>
                        </a:lnTo>
                        <a:lnTo>
                          <a:pt x="892" y="195"/>
                        </a:lnTo>
                        <a:lnTo>
                          <a:pt x="885" y="165"/>
                        </a:lnTo>
                        <a:lnTo>
                          <a:pt x="885" y="135"/>
                        </a:lnTo>
                        <a:lnTo>
                          <a:pt x="892" y="110"/>
                        </a:lnTo>
                        <a:lnTo>
                          <a:pt x="892" y="80"/>
                        </a:lnTo>
                        <a:lnTo>
                          <a:pt x="885" y="50"/>
                        </a:lnTo>
                        <a:lnTo>
                          <a:pt x="878" y="25"/>
                        </a:lnTo>
                        <a:lnTo>
                          <a:pt x="857" y="0"/>
                        </a:lnTo>
                        <a:lnTo>
                          <a:pt x="857" y="0"/>
                        </a:lnTo>
                        <a:lnTo>
                          <a:pt x="849" y="0"/>
                        </a:lnTo>
                        <a:close/>
                      </a:path>
                    </a:pathLst>
                  </a:custGeom>
                  <a:solidFill>
                    <a:srgbClr val="fff09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6" name=""/>
                  <p:cNvSpPr/>
                  <p:nvPr/>
                </p:nvSpPr>
                <p:spPr>
                  <a:xfrm>
                    <a:off x="5392800" y="5992920"/>
                    <a:ext cx="179280" cy="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614" h="289">
                        <a:moveTo>
                          <a:pt x="614" y="242"/>
                        </a:moveTo>
                        <a:lnTo>
                          <a:pt x="593" y="221"/>
                        </a:lnTo>
                        <a:lnTo>
                          <a:pt x="564" y="200"/>
                        </a:lnTo>
                        <a:lnTo>
                          <a:pt x="536" y="178"/>
                        </a:lnTo>
                        <a:lnTo>
                          <a:pt x="507" y="157"/>
                        </a:lnTo>
                        <a:lnTo>
                          <a:pt x="486" y="132"/>
                        </a:lnTo>
                        <a:lnTo>
                          <a:pt x="457" y="111"/>
                        </a:lnTo>
                        <a:lnTo>
                          <a:pt x="436" y="85"/>
                        </a:lnTo>
                        <a:lnTo>
                          <a:pt x="421" y="55"/>
                        </a:lnTo>
                        <a:lnTo>
                          <a:pt x="407" y="30"/>
                        </a:lnTo>
                        <a:lnTo>
                          <a:pt x="407" y="0"/>
                        </a:lnTo>
                        <a:lnTo>
                          <a:pt x="393" y="183"/>
                        </a:lnTo>
                        <a:lnTo>
                          <a:pt x="357" y="200"/>
                        </a:lnTo>
                        <a:lnTo>
                          <a:pt x="321" y="212"/>
                        </a:lnTo>
                        <a:lnTo>
                          <a:pt x="286" y="225"/>
                        </a:lnTo>
                        <a:lnTo>
                          <a:pt x="250" y="238"/>
                        </a:lnTo>
                        <a:lnTo>
                          <a:pt x="207" y="250"/>
                        </a:lnTo>
                        <a:lnTo>
                          <a:pt x="172" y="259"/>
                        </a:lnTo>
                        <a:lnTo>
                          <a:pt x="129" y="263"/>
                        </a:lnTo>
                        <a:lnTo>
                          <a:pt x="86" y="267"/>
                        </a:lnTo>
                        <a:lnTo>
                          <a:pt x="43" y="272"/>
                        </a:lnTo>
                        <a:lnTo>
                          <a:pt x="0" y="272"/>
                        </a:lnTo>
                        <a:lnTo>
                          <a:pt x="64" y="284"/>
                        </a:lnTo>
                        <a:lnTo>
                          <a:pt x="129" y="289"/>
                        </a:lnTo>
                        <a:lnTo>
                          <a:pt x="193" y="284"/>
                        </a:lnTo>
                        <a:lnTo>
                          <a:pt x="250" y="276"/>
                        </a:lnTo>
                        <a:lnTo>
                          <a:pt x="307" y="263"/>
                        </a:lnTo>
                        <a:lnTo>
                          <a:pt x="364" y="250"/>
                        </a:lnTo>
                        <a:lnTo>
                          <a:pt x="421" y="238"/>
                        </a:lnTo>
                        <a:lnTo>
                          <a:pt x="486" y="233"/>
                        </a:lnTo>
                        <a:lnTo>
                          <a:pt x="550" y="233"/>
                        </a:lnTo>
                        <a:lnTo>
                          <a:pt x="614" y="242"/>
                        </a:lnTo>
                        <a:lnTo>
                          <a:pt x="614" y="242"/>
                        </a:lnTo>
                        <a:close/>
                      </a:path>
                    </a:pathLst>
                  </a:custGeom>
                  <a:solidFill>
                    <a:srgbClr val="fff09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760" bIns="32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7" name=""/>
                  <p:cNvSpPr/>
                  <p:nvPr/>
                </p:nvSpPr>
                <p:spPr>
                  <a:xfrm>
                    <a:off x="4706280" y="6037200"/>
                    <a:ext cx="139680" cy="39960"/>
                  </a:xfrm>
                  <a:custGeom>
                    <a:avLst/>
                    <a:gdLst/>
                    <a:ahLst/>
                    <a:rect l="l" t="t" r="r" b="b"/>
                    <a:pathLst>
                      <a:path w="479" h="145">
                        <a:moveTo>
                          <a:pt x="8" y="98"/>
                        </a:moveTo>
                        <a:lnTo>
                          <a:pt x="36" y="102"/>
                        </a:lnTo>
                        <a:lnTo>
                          <a:pt x="50" y="98"/>
                        </a:lnTo>
                        <a:lnTo>
                          <a:pt x="72" y="98"/>
                        </a:lnTo>
                        <a:lnTo>
                          <a:pt x="86" y="98"/>
                        </a:lnTo>
                        <a:lnTo>
                          <a:pt x="108" y="98"/>
                        </a:lnTo>
                        <a:lnTo>
                          <a:pt x="129" y="102"/>
                        </a:lnTo>
                        <a:lnTo>
                          <a:pt x="143" y="106"/>
                        </a:lnTo>
                        <a:lnTo>
                          <a:pt x="165" y="115"/>
                        </a:lnTo>
                        <a:lnTo>
                          <a:pt x="179" y="123"/>
                        </a:lnTo>
                        <a:lnTo>
                          <a:pt x="193" y="132"/>
                        </a:lnTo>
                        <a:lnTo>
                          <a:pt x="208" y="145"/>
                        </a:lnTo>
                        <a:lnTo>
                          <a:pt x="236" y="145"/>
                        </a:lnTo>
                        <a:lnTo>
                          <a:pt x="272" y="145"/>
                        </a:lnTo>
                        <a:lnTo>
                          <a:pt x="300" y="140"/>
                        </a:lnTo>
                        <a:lnTo>
                          <a:pt x="336" y="136"/>
                        </a:lnTo>
                        <a:lnTo>
                          <a:pt x="365" y="132"/>
                        </a:lnTo>
                        <a:lnTo>
                          <a:pt x="393" y="123"/>
                        </a:lnTo>
                        <a:lnTo>
                          <a:pt x="415" y="119"/>
                        </a:lnTo>
                        <a:lnTo>
                          <a:pt x="443" y="115"/>
                        </a:lnTo>
                        <a:lnTo>
                          <a:pt x="465" y="111"/>
                        </a:lnTo>
                        <a:lnTo>
                          <a:pt x="479" y="111"/>
                        </a:lnTo>
                        <a:lnTo>
                          <a:pt x="472" y="106"/>
                        </a:lnTo>
                        <a:lnTo>
                          <a:pt x="457" y="98"/>
                        </a:lnTo>
                        <a:lnTo>
                          <a:pt x="450" y="94"/>
                        </a:lnTo>
                        <a:lnTo>
                          <a:pt x="443" y="89"/>
                        </a:lnTo>
                        <a:lnTo>
                          <a:pt x="429" y="85"/>
                        </a:lnTo>
                        <a:lnTo>
                          <a:pt x="422" y="77"/>
                        </a:lnTo>
                        <a:lnTo>
                          <a:pt x="415" y="72"/>
                        </a:lnTo>
                        <a:lnTo>
                          <a:pt x="407" y="64"/>
                        </a:lnTo>
                        <a:lnTo>
                          <a:pt x="400" y="60"/>
                        </a:lnTo>
                        <a:lnTo>
                          <a:pt x="393" y="51"/>
                        </a:lnTo>
                        <a:lnTo>
                          <a:pt x="365" y="47"/>
                        </a:lnTo>
                        <a:lnTo>
                          <a:pt x="343" y="47"/>
                        </a:lnTo>
                        <a:lnTo>
                          <a:pt x="329" y="51"/>
                        </a:lnTo>
                        <a:lnTo>
                          <a:pt x="307" y="56"/>
                        </a:lnTo>
                        <a:lnTo>
                          <a:pt x="293" y="64"/>
                        </a:lnTo>
                        <a:lnTo>
                          <a:pt x="272" y="72"/>
                        </a:lnTo>
                        <a:lnTo>
                          <a:pt x="257" y="81"/>
                        </a:lnTo>
                        <a:lnTo>
                          <a:pt x="243" y="89"/>
                        </a:lnTo>
                        <a:lnTo>
                          <a:pt x="222" y="94"/>
                        </a:lnTo>
                        <a:lnTo>
                          <a:pt x="208" y="102"/>
                        </a:lnTo>
                        <a:lnTo>
                          <a:pt x="193" y="89"/>
                        </a:lnTo>
                        <a:lnTo>
                          <a:pt x="172" y="81"/>
                        </a:lnTo>
                        <a:lnTo>
                          <a:pt x="150" y="72"/>
                        </a:lnTo>
                        <a:lnTo>
                          <a:pt x="122" y="68"/>
                        </a:lnTo>
                        <a:lnTo>
                          <a:pt x="100" y="60"/>
                        </a:lnTo>
                        <a:lnTo>
                          <a:pt x="79" y="56"/>
                        </a:lnTo>
                        <a:lnTo>
                          <a:pt x="58" y="47"/>
                        </a:lnTo>
                        <a:lnTo>
                          <a:pt x="50" y="34"/>
                        </a:lnTo>
                        <a:lnTo>
                          <a:pt x="43" y="17"/>
                        </a:lnTo>
                        <a:lnTo>
                          <a:pt x="50" y="0"/>
                        </a:lnTo>
                        <a:lnTo>
                          <a:pt x="36" y="9"/>
                        </a:lnTo>
                        <a:lnTo>
                          <a:pt x="29" y="17"/>
                        </a:lnTo>
                        <a:lnTo>
                          <a:pt x="22" y="30"/>
                        </a:lnTo>
                        <a:lnTo>
                          <a:pt x="15" y="39"/>
                        </a:lnTo>
                        <a:lnTo>
                          <a:pt x="8" y="51"/>
                        </a:lnTo>
                        <a:lnTo>
                          <a:pt x="0" y="60"/>
                        </a:lnTo>
                        <a:lnTo>
                          <a:pt x="0" y="72"/>
                        </a:lnTo>
                        <a:lnTo>
                          <a:pt x="0" y="81"/>
                        </a:lnTo>
                        <a:lnTo>
                          <a:pt x="8" y="89"/>
                        </a:lnTo>
                        <a:lnTo>
                          <a:pt x="15" y="102"/>
                        </a:lnTo>
                        <a:lnTo>
                          <a:pt x="15" y="102"/>
                        </a:lnTo>
                        <a:lnTo>
                          <a:pt x="8" y="98"/>
                        </a:lnTo>
                        <a:close/>
                      </a:path>
                    </a:pathLst>
                  </a:custGeom>
                  <a:solidFill>
                    <a:srgbClr val="fff09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8" name=""/>
                  <p:cNvSpPr/>
                  <p:nvPr/>
                </p:nvSpPr>
                <p:spPr>
                  <a:xfrm>
                    <a:off x="4917240" y="6043320"/>
                    <a:ext cx="457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157" h="80">
                        <a:moveTo>
                          <a:pt x="149" y="21"/>
                        </a:moveTo>
                        <a:lnTo>
                          <a:pt x="128" y="4"/>
                        </a:lnTo>
                        <a:lnTo>
                          <a:pt x="107" y="0"/>
                        </a:lnTo>
                        <a:lnTo>
                          <a:pt x="85" y="0"/>
                        </a:lnTo>
                        <a:lnTo>
                          <a:pt x="71" y="4"/>
                        </a:lnTo>
                        <a:lnTo>
                          <a:pt x="57" y="17"/>
                        </a:lnTo>
                        <a:lnTo>
                          <a:pt x="42" y="29"/>
                        </a:lnTo>
                        <a:lnTo>
                          <a:pt x="28" y="42"/>
                        </a:lnTo>
                        <a:lnTo>
                          <a:pt x="21" y="59"/>
                        </a:lnTo>
                        <a:lnTo>
                          <a:pt x="7" y="72"/>
                        </a:lnTo>
                        <a:lnTo>
                          <a:pt x="0" y="80"/>
                        </a:lnTo>
                        <a:lnTo>
                          <a:pt x="85" y="80"/>
                        </a:lnTo>
                        <a:lnTo>
                          <a:pt x="92" y="76"/>
                        </a:lnTo>
                        <a:lnTo>
                          <a:pt x="107" y="72"/>
                        </a:lnTo>
                        <a:lnTo>
                          <a:pt x="121" y="67"/>
                        </a:lnTo>
                        <a:lnTo>
                          <a:pt x="128" y="63"/>
                        </a:lnTo>
                        <a:lnTo>
                          <a:pt x="142" y="59"/>
                        </a:lnTo>
                        <a:lnTo>
                          <a:pt x="149" y="50"/>
                        </a:lnTo>
                        <a:lnTo>
                          <a:pt x="157" y="46"/>
                        </a:lnTo>
                        <a:lnTo>
                          <a:pt x="157" y="38"/>
                        </a:lnTo>
                        <a:lnTo>
                          <a:pt x="157" y="29"/>
                        </a:lnTo>
                        <a:lnTo>
                          <a:pt x="149" y="21"/>
                        </a:lnTo>
                        <a:lnTo>
                          <a:pt x="149" y="21"/>
                        </a:lnTo>
                        <a:close/>
                      </a:path>
                    </a:pathLst>
                  </a:custGeom>
                  <a:solidFill>
                    <a:srgbClr val="fff09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9" name=""/>
                  <p:cNvSpPr/>
                  <p:nvPr/>
                </p:nvSpPr>
                <p:spPr>
                  <a:xfrm>
                    <a:off x="5336640" y="6064200"/>
                    <a:ext cx="208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3">
                        <a:moveTo>
                          <a:pt x="0" y="0"/>
                        </a:moveTo>
                        <a:lnTo>
                          <a:pt x="72" y="13"/>
                        </a:lnTo>
                        <a:lnTo>
                          <a:pt x="58" y="4"/>
                        </a:lnTo>
                        <a:lnTo>
                          <a:pt x="0" y="4"/>
                        </a:lnTo>
                        <a:lnTo>
                          <a:pt x="0" y="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09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0" name=""/>
                  <p:cNvSpPr/>
                  <p:nvPr/>
                </p:nvSpPr>
                <p:spPr>
                  <a:xfrm>
                    <a:off x="4093200" y="6081480"/>
                    <a:ext cx="337680" cy="33840"/>
                  </a:xfrm>
                  <a:custGeom>
                    <a:avLst/>
                    <a:gdLst/>
                    <a:ahLst/>
                    <a:rect l="l" t="t" r="r" b="b"/>
                    <a:pathLst>
                      <a:path w="1156" h="123">
                        <a:moveTo>
                          <a:pt x="0" y="0"/>
                        </a:moveTo>
                        <a:lnTo>
                          <a:pt x="35" y="30"/>
                        </a:lnTo>
                        <a:lnTo>
                          <a:pt x="71" y="56"/>
                        </a:lnTo>
                        <a:lnTo>
                          <a:pt x="107" y="77"/>
                        </a:lnTo>
                        <a:lnTo>
                          <a:pt x="157" y="90"/>
                        </a:lnTo>
                        <a:lnTo>
                          <a:pt x="207" y="102"/>
                        </a:lnTo>
                        <a:lnTo>
                          <a:pt x="264" y="111"/>
                        </a:lnTo>
                        <a:lnTo>
                          <a:pt x="314" y="115"/>
                        </a:lnTo>
                        <a:lnTo>
                          <a:pt x="371" y="119"/>
                        </a:lnTo>
                        <a:lnTo>
                          <a:pt x="428" y="119"/>
                        </a:lnTo>
                        <a:lnTo>
                          <a:pt x="485" y="123"/>
                        </a:lnTo>
                        <a:lnTo>
                          <a:pt x="556" y="123"/>
                        </a:lnTo>
                        <a:lnTo>
                          <a:pt x="635" y="123"/>
                        </a:lnTo>
                        <a:lnTo>
                          <a:pt x="706" y="123"/>
                        </a:lnTo>
                        <a:lnTo>
                          <a:pt x="778" y="123"/>
                        </a:lnTo>
                        <a:lnTo>
                          <a:pt x="849" y="119"/>
                        </a:lnTo>
                        <a:lnTo>
                          <a:pt x="921" y="111"/>
                        </a:lnTo>
                        <a:lnTo>
                          <a:pt x="985" y="98"/>
                        </a:lnTo>
                        <a:lnTo>
                          <a:pt x="1042" y="85"/>
                        </a:lnTo>
                        <a:lnTo>
                          <a:pt x="1099" y="64"/>
                        </a:lnTo>
                        <a:lnTo>
                          <a:pt x="1156" y="34"/>
                        </a:lnTo>
                        <a:lnTo>
                          <a:pt x="1049" y="43"/>
                        </a:lnTo>
                        <a:lnTo>
                          <a:pt x="935" y="51"/>
                        </a:lnTo>
                        <a:lnTo>
                          <a:pt x="813" y="60"/>
                        </a:lnTo>
                        <a:lnTo>
                          <a:pt x="692" y="64"/>
                        </a:lnTo>
                        <a:lnTo>
                          <a:pt x="571" y="68"/>
                        </a:lnTo>
                        <a:lnTo>
                          <a:pt x="449" y="64"/>
                        </a:lnTo>
                        <a:lnTo>
                          <a:pt x="328" y="60"/>
                        </a:lnTo>
                        <a:lnTo>
                          <a:pt x="214" y="47"/>
                        </a:lnTo>
                        <a:lnTo>
                          <a:pt x="107" y="26"/>
                        </a:lnTo>
                        <a:lnTo>
                          <a:pt x="7" y="0"/>
                        </a:lnTo>
                        <a:lnTo>
                          <a:pt x="7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327d3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960" bIns="-12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1" name=""/>
                  <p:cNvSpPr/>
                  <p:nvPr/>
                </p:nvSpPr>
                <p:spPr>
                  <a:xfrm>
                    <a:off x="5293080" y="6090840"/>
                    <a:ext cx="314640" cy="1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077" h="72">
                        <a:moveTo>
                          <a:pt x="0" y="9"/>
                        </a:moveTo>
                        <a:lnTo>
                          <a:pt x="92" y="34"/>
                        </a:lnTo>
                        <a:lnTo>
                          <a:pt x="199" y="56"/>
                        </a:lnTo>
                        <a:lnTo>
                          <a:pt x="306" y="64"/>
                        </a:lnTo>
                        <a:lnTo>
                          <a:pt x="421" y="72"/>
                        </a:lnTo>
                        <a:lnTo>
                          <a:pt x="535" y="72"/>
                        </a:lnTo>
                        <a:lnTo>
                          <a:pt x="656" y="64"/>
                        </a:lnTo>
                        <a:lnTo>
                          <a:pt x="763" y="56"/>
                        </a:lnTo>
                        <a:lnTo>
                          <a:pt x="878" y="39"/>
                        </a:lnTo>
                        <a:lnTo>
                          <a:pt x="978" y="22"/>
                        </a:lnTo>
                        <a:lnTo>
                          <a:pt x="1077" y="0"/>
                        </a:lnTo>
                        <a:lnTo>
                          <a:pt x="985" y="17"/>
                        </a:lnTo>
                        <a:lnTo>
                          <a:pt x="878" y="30"/>
                        </a:lnTo>
                        <a:lnTo>
                          <a:pt x="771" y="39"/>
                        </a:lnTo>
                        <a:lnTo>
                          <a:pt x="663" y="43"/>
                        </a:lnTo>
                        <a:lnTo>
                          <a:pt x="549" y="43"/>
                        </a:lnTo>
                        <a:lnTo>
                          <a:pt x="435" y="43"/>
                        </a:lnTo>
                        <a:lnTo>
                          <a:pt x="321" y="39"/>
                        </a:lnTo>
                        <a:lnTo>
                          <a:pt x="207" y="30"/>
                        </a:lnTo>
                        <a:lnTo>
                          <a:pt x="99" y="22"/>
                        </a:lnTo>
                        <a:lnTo>
                          <a:pt x="0" y="9"/>
                        </a:lnTo>
                        <a:lnTo>
                          <a:pt x="0" y="9"/>
                        </a:lnTo>
                        <a:close/>
                      </a:path>
                    </a:pathLst>
                  </a:custGeom>
                  <a:solidFill>
                    <a:srgbClr val="327d3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2" name=""/>
                  <p:cNvSpPr/>
                  <p:nvPr/>
                </p:nvSpPr>
                <p:spPr>
                  <a:xfrm>
                    <a:off x="4696200" y="6101640"/>
                    <a:ext cx="308520" cy="20880"/>
                  </a:xfrm>
                  <a:custGeom>
                    <a:avLst/>
                    <a:gdLst/>
                    <a:ahLst/>
                    <a:rect l="l" t="t" r="r" b="b"/>
                    <a:pathLst>
                      <a:path w="1056" h="76">
                        <a:moveTo>
                          <a:pt x="978" y="50"/>
                        </a:moveTo>
                        <a:lnTo>
                          <a:pt x="985" y="46"/>
                        </a:lnTo>
                        <a:lnTo>
                          <a:pt x="999" y="46"/>
                        </a:lnTo>
                        <a:lnTo>
                          <a:pt x="1014" y="38"/>
                        </a:lnTo>
                        <a:lnTo>
                          <a:pt x="1028" y="33"/>
                        </a:lnTo>
                        <a:lnTo>
                          <a:pt x="1035" y="29"/>
                        </a:lnTo>
                        <a:lnTo>
                          <a:pt x="1049" y="21"/>
                        </a:lnTo>
                        <a:lnTo>
                          <a:pt x="1056" y="17"/>
                        </a:lnTo>
                        <a:lnTo>
                          <a:pt x="1056" y="8"/>
                        </a:lnTo>
                        <a:lnTo>
                          <a:pt x="1056" y="4"/>
                        </a:lnTo>
                        <a:lnTo>
                          <a:pt x="1049" y="0"/>
                        </a:lnTo>
                        <a:lnTo>
                          <a:pt x="949" y="12"/>
                        </a:lnTo>
                        <a:lnTo>
                          <a:pt x="842" y="25"/>
                        </a:lnTo>
                        <a:lnTo>
                          <a:pt x="735" y="29"/>
                        </a:lnTo>
                        <a:lnTo>
                          <a:pt x="628" y="33"/>
                        </a:lnTo>
                        <a:lnTo>
                          <a:pt x="514" y="33"/>
                        </a:lnTo>
                        <a:lnTo>
                          <a:pt x="407" y="33"/>
                        </a:lnTo>
                        <a:lnTo>
                          <a:pt x="300" y="29"/>
                        </a:lnTo>
                        <a:lnTo>
                          <a:pt x="193" y="25"/>
                        </a:lnTo>
                        <a:lnTo>
                          <a:pt x="93" y="25"/>
                        </a:lnTo>
                        <a:lnTo>
                          <a:pt x="0" y="21"/>
                        </a:lnTo>
                        <a:lnTo>
                          <a:pt x="85" y="42"/>
                        </a:lnTo>
                        <a:lnTo>
                          <a:pt x="178" y="59"/>
                        </a:lnTo>
                        <a:lnTo>
                          <a:pt x="271" y="67"/>
                        </a:lnTo>
                        <a:lnTo>
                          <a:pt x="371" y="72"/>
                        </a:lnTo>
                        <a:lnTo>
                          <a:pt x="478" y="76"/>
                        </a:lnTo>
                        <a:lnTo>
                          <a:pt x="578" y="72"/>
                        </a:lnTo>
                        <a:lnTo>
                          <a:pt x="685" y="67"/>
                        </a:lnTo>
                        <a:lnTo>
                          <a:pt x="785" y="63"/>
                        </a:lnTo>
                        <a:lnTo>
                          <a:pt x="885" y="55"/>
                        </a:lnTo>
                        <a:lnTo>
                          <a:pt x="978" y="50"/>
                        </a:lnTo>
                        <a:lnTo>
                          <a:pt x="978" y="50"/>
                        </a:lnTo>
                        <a:close/>
                      </a:path>
                    </a:pathLst>
                  </a:custGeom>
                  <a:solidFill>
                    <a:srgbClr val="327d3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3" name=""/>
                  <p:cNvSpPr/>
                  <p:nvPr/>
                </p:nvSpPr>
                <p:spPr>
                  <a:xfrm>
                    <a:off x="4015800" y="6089400"/>
                    <a:ext cx="578520" cy="3470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4" name=""/>
                  <p:cNvSpPr/>
                  <p:nvPr/>
                </p:nvSpPr>
                <p:spPr>
                  <a:xfrm>
                    <a:off x="4594320" y="6089400"/>
                    <a:ext cx="578520" cy="3470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5" name=""/>
                  <p:cNvSpPr/>
                  <p:nvPr/>
                </p:nvSpPr>
                <p:spPr>
                  <a:xfrm>
                    <a:off x="5172840" y="6089400"/>
                    <a:ext cx="578520" cy="3470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66" name=""/>
                <p:cNvSpPr/>
                <p:nvPr/>
              </p:nvSpPr>
              <p:spPr>
                <a:xfrm flipH="1">
                  <a:off x="3871080" y="6222600"/>
                  <a:ext cx="1880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7" name=""/>
              <p:cNvGrpSpPr/>
              <p:nvPr/>
            </p:nvGrpSpPr>
            <p:grpSpPr>
              <a:xfrm>
                <a:off x="552960" y="1891440"/>
                <a:ext cx="1880280" cy="1177560"/>
                <a:chOff x="552960" y="1891440"/>
                <a:chExt cx="1880280" cy="1177560"/>
              </a:xfrm>
            </p:grpSpPr>
            <p:sp>
              <p:nvSpPr>
                <p:cNvPr id="468" name=""/>
                <p:cNvSpPr/>
                <p:nvPr/>
              </p:nvSpPr>
              <p:spPr>
                <a:xfrm>
                  <a:off x="552960" y="1891440"/>
                  <a:ext cx="1880280" cy="117756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69" name=""/>
                <p:cNvGrpSpPr/>
                <p:nvPr/>
              </p:nvGrpSpPr>
              <p:grpSpPr>
                <a:xfrm>
                  <a:off x="697320" y="1998360"/>
                  <a:ext cx="1735560" cy="963360"/>
                  <a:chOff x="697320" y="1998360"/>
                  <a:chExt cx="1735560" cy="963360"/>
                </a:xfrm>
              </p:grpSpPr>
              <p:pic>
                <p:nvPicPr>
                  <p:cNvPr id="47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97320" y="1998360"/>
                    <a:ext cx="482040" cy="9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47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79360" y="2166840"/>
                    <a:ext cx="645840" cy="75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grpSp>
                <p:nvGrpSpPr>
                  <p:cNvPr id="472" name=""/>
                  <p:cNvGrpSpPr/>
                  <p:nvPr/>
                </p:nvGrpSpPr>
                <p:grpSpPr>
                  <a:xfrm>
                    <a:off x="1757880" y="1998360"/>
                    <a:ext cx="675000" cy="963360"/>
                    <a:chOff x="1757880" y="1998360"/>
                    <a:chExt cx="675000" cy="963360"/>
                  </a:xfrm>
                </p:grpSpPr>
                <p:sp>
                  <p:nvSpPr>
                    <p:cNvPr id="473" name=""/>
                    <p:cNvSpPr/>
                    <p:nvPr/>
                  </p:nvSpPr>
                  <p:spPr>
                    <a:xfrm>
                      <a:off x="1757880" y="1998360"/>
                      <a:ext cx="389520" cy="96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467" h="20803">
                          <a:moveTo>
                            <a:pt x="4137" y="2"/>
                          </a:moveTo>
                          <a:lnTo>
                            <a:pt x="4139" y="29"/>
                          </a:lnTo>
                          <a:lnTo>
                            <a:pt x="4141" y="59"/>
                          </a:lnTo>
                          <a:lnTo>
                            <a:pt x="4141" y="88"/>
                          </a:lnTo>
                          <a:lnTo>
                            <a:pt x="4139" y="117"/>
                          </a:lnTo>
                          <a:lnTo>
                            <a:pt x="4139" y="146"/>
                          </a:lnTo>
                          <a:lnTo>
                            <a:pt x="4137" y="178"/>
                          </a:lnTo>
                          <a:lnTo>
                            <a:pt x="4133" y="209"/>
                          </a:lnTo>
                          <a:lnTo>
                            <a:pt x="4131" y="240"/>
                          </a:lnTo>
                          <a:lnTo>
                            <a:pt x="4127" y="271"/>
                          </a:lnTo>
                          <a:lnTo>
                            <a:pt x="4123" y="302"/>
                          </a:lnTo>
                          <a:lnTo>
                            <a:pt x="4119" y="333"/>
                          </a:lnTo>
                          <a:lnTo>
                            <a:pt x="4116" y="365"/>
                          </a:lnTo>
                          <a:lnTo>
                            <a:pt x="4114" y="398"/>
                          </a:lnTo>
                          <a:lnTo>
                            <a:pt x="4110" y="429"/>
                          </a:lnTo>
                          <a:lnTo>
                            <a:pt x="4108" y="458"/>
                          </a:lnTo>
                          <a:lnTo>
                            <a:pt x="4106" y="489"/>
                          </a:lnTo>
                          <a:lnTo>
                            <a:pt x="4145" y="476"/>
                          </a:lnTo>
                          <a:lnTo>
                            <a:pt x="4186" y="460"/>
                          </a:lnTo>
                          <a:lnTo>
                            <a:pt x="4228" y="443"/>
                          </a:lnTo>
                          <a:lnTo>
                            <a:pt x="4271" y="423"/>
                          </a:lnTo>
                          <a:lnTo>
                            <a:pt x="4316" y="402"/>
                          </a:lnTo>
                          <a:lnTo>
                            <a:pt x="4361" y="382"/>
                          </a:lnTo>
                          <a:lnTo>
                            <a:pt x="4405" y="361"/>
                          </a:lnTo>
                          <a:lnTo>
                            <a:pt x="4452" y="343"/>
                          </a:lnTo>
                          <a:lnTo>
                            <a:pt x="4497" y="328"/>
                          </a:lnTo>
                          <a:lnTo>
                            <a:pt x="4543" y="314"/>
                          </a:lnTo>
                          <a:lnTo>
                            <a:pt x="4590" y="304"/>
                          </a:lnTo>
                          <a:lnTo>
                            <a:pt x="4639" y="298"/>
                          </a:lnTo>
                          <a:lnTo>
                            <a:pt x="4685" y="298"/>
                          </a:lnTo>
                          <a:lnTo>
                            <a:pt x="4732" y="304"/>
                          </a:lnTo>
                          <a:lnTo>
                            <a:pt x="4779" y="316"/>
                          </a:lnTo>
                          <a:lnTo>
                            <a:pt x="4825" y="335"/>
                          </a:lnTo>
                          <a:lnTo>
                            <a:pt x="4586" y="708"/>
                          </a:lnTo>
                          <a:lnTo>
                            <a:pt x="4995" y="862"/>
                          </a:lnTo>
                          <a:lnTo>
                            <a:pt x="5020" y="840"/>
                          </a:lnTo>
                          <a:lnTo>
                            <a:pt x="5045" y="819"/>
                          </a:lnTo>
                          <a:lnTo>
                            <a:pt x="5071" y="797"/>
                          </a:lnTo>
                          <a:lnTo>
                            <a:pt x="5096" y="774"/>
                          </a:lnTo>
                          <a:lnTo>
                            <a:pt x="5121" y="750"/>
                          </a:lnTo>
                          <a:lnTo>
                            <a:pt x="5146" y="727"/>
                          </a:lnTo>
                          <a:lnTo>
                            <a:pt x="5174" y="704"/>
                          </a:lnTo>
                          <a:lnTo>
                            <a:pt x="5199" y="680"/>
                          </a:lnTo>
                          <a:lnTo>
                            <a:pt x="5226" y="657"/>
                          </a:lnTo>
                          <a:lnTo>
                            <a:pt x="5253" y="634"/>
                          </a:lnTo>
                          <a:lnTo>
                            <a:pt x="5281" y="612"/>
                          </a:lnTo>
                          <a:lnTo>
                            <a:pt x="5308" y="591"/>
                          </a:lnTo>
                          <a:lnTo>
                            <a:pt x="5335" y="571"/>
                          </a:lnTo>
                          <a:lnTo>
                            <a:pt x="5364" y="554"/>
                          </a:lnTo>
                          <a:lnTo>
                            <a:pt x="5391" y="536"/>
                          </a:lnTo>
                          <a:lnTo>
                            <a:pt x="5421" y="521"/>
                          </a:lnTo>
                          <a:lnTo>
                            <a:pt x="5413" y="546"/>
                          </a:lnTo>
                          <a:lnTo>
                            <a:pt x="5405" y="569"/>
                          </a:lnTo>
                          <a:lnTo>
                            <a:pt x="5393" y="591"/>
                          </a:lnTo>
                          <a:lnTo>
                            <a:pt x="5380" y="612"/>
                          </a:lnTo>
                          <a:lnTo>
                            <a:pt x="5366" y="632"/>
                          </a:lnTo>
                          <a:lnTo>
                            <a:pt x="5351" y="651"/>
                          </a:lnTo>
                          <a:lnTo>
                            <a:pt x="5333" y="669"/>
                          </a:lnTo>
                          <a:lnTo>
                            <a:pt x="5316" y="686"/>
                          </a:lnTo>
                          <a:lnTo>
                            <a:pt x="5298" y="704"/>
                          </a:lnTo>
                          <a:lnTo>
                            <a:pt x="5281" y="721"/>
                          </a:lnTo>
                          <a:lnTo>
                            <a:pt x="5261" y="739"/>
                          </a:lnTo>
                          <a:lnTo>
                            <a:pt x="5244" y="756"/>
                          </a:lnTo>
                          <a:lnTo>
                            <a:pt x="5226" y="776"/>
                          </a:lnTo>
                          <a:lnTo>
                            <a:pt x="5211" y="795"/>
                          </a:lnTo>
                          <a:lnTo>
                            <a:pt x="5195" y="817"/>
                          </a:lnTo>
                          <a:lnTo>
                            <a:pt x="5181" y="838"/>
                          </a:lnTo>
                          <a:lnTo>
                            <a:pt x="5216" y="840"/>
                          </a:lnTo>
                          <a:lnTo>
                            <a:pt x="5255" y="830"/>
                          </a:lnTo>
                          <a:lnTo>
                            <a:pt x="5296" y="815"/>
                          </a:lnTo>
                          <a:lnTo>
                            <a:pt x="5339" y="799"/>
                          </a:lnTo>
                          <a:lnTo>
                            <a:pt x="5378" y="788"/>
                          </a:lnTo>
                          <a:lnTo>
                            <a:pt x="5411" y="784"/>
                          </a:lnTo>
                          <a:lnTo>
                            <a:pt x="5440" y="793"/>
                          </a:lnTo>
                          <a:lnTo>
                            <a:pt x="5460" y="823"/>
                          </a:lnTo>
                          <a:lnTo>
                            <a:pt x="5220" y="971"/>
                          </a:lnTo>
                          <a:lnTo>
                            <a:pt x="5290" y="1023"/>
                          </a:lnTo>
                          <a:lnTo>
                            <a:pt x="5358" y="1076"/>
                          </a:lnTo>
                          <a:lnTo>
                            <a:pt x="5423" y="1130"/>
                          </a:lnTo>
                          <a:lnTo>
                            <a:pt x="5485" y="1187"/>
                          </a:lnTo>
                          <a:lnTo>
                            <a:pt x="5543" y="1245"/>
                          </a:lnTo>
                          <a:lnTo>
                            <a:pt x="5600" y="1304"/>
                          </a:lnTo>
                          <a:lnTo>
                            <a:pt x="5652" y="1364"/>
                          </a:lnTo>
                          <a:lnTo>
                            <a:pt x="5703" y="1427"/>
                          </a:lnTo>
                          <a:lnTo>
                            <a:pt x="5751" y="1489"/>
                          </a:lnTo>
                          <a:lnTo>
                            <a:pt x="5796" y="1553"/>
                          </a:lnTo>
                          <a:lnTo>
                            <a:pt x="5839" y="1620"/>
                          </a:lnTo>
                          <a:lnTo>
                            <a:pt x="5880" y="1686"/>
                          </a:lnTo>
                          <a:lnTo>
                            <a:pt x="5919" y="1754"/>
                          </a:lnTo>
                          <a:lnTo>
                            <a:pt x="5954" y="1822"/>
                          </a:lnTo>
                          <a:lnTo>
                            <a:pt x="5987" y="1892"/>
                          </a:lnTo>
                          <a:lnTo>
                            <a:pt x="6018" y="1965"/>
                          </a:lnTo>
                          <a:lnTo>
                            <a:pt x="6047" y="2037"/>
                          </a:lnTo>
                          <a:lnTo>
                            <a:pt x="6074" y="2111"/>
                          </a:lnTo>
                          <a:lnTo>
                            <a:pt x="6097" y="2185"/>
                          </a:lnTo>
                          <a:lnTo>
                            <a:pt x="6121" y="2259"/>
                          </a:lnTo>
                          <a:lnTo>
                            <a:pt x="6140" y="2335"/>
                          </a:lnTo>
                          <a:lnTo>
                            <a:pt x="6160" y="2413"/>
                          </a:lnTo>
                          <a:lnTo>
                            <a:pt x="6175" y="2489"/>
                          </a:lnTo>
                          <a:lnTo>
                            <a:pt x="6189" y="2569"/>
                          </a:lnTo>
                          <a:lnTo>
                            <a:pt x="6202" y="2647"/>
                          </a:lnTo>
                          <a:lnTo>
                            <a:pt x="6212" y="2727"/>
                          </a:lnTo>
                          <a:lnTo>
                            <a:pt x="6222" y="2808"/>
                          </a:lnTo>
                          <a:lnTo>
                            <a:pt x="6230" y="2888"/>
                          </a:lnTo>
                          <a:lnTo>
                            <a:pt x="6234" y="2970"/>
                          </a:lnTo>
                          <a:lnTo>
                            <a:pt x="6238" y="3054"/>
                          </a:lnTo>
                          <a:lnTo>
                            <a:pt x="6241" y="3136"/>
                          </a:lnTo>
                          <a:lnTo>
                            <a:pt x="6241" y="3220"/>
                          </a:lnTo>
                          <a:lnTo>
                            <a:pt x="6280" y="3243"/>
                          </a:lnTo>
                          <a:lnTo>
                            <a:pt x="6317" y="3268"/>
                          </a:lnTo>
                          <a:lnTo>
                            <a:pt x="6352" y="3296"/>
                          </a:lnTo>
                          <a:lnTo>
                            <a:pt x="6385" y="3325"/>
                          </a:lnTo>
                          <a:lnTo>
                            <a:pt x="6416" y="3358"/>
                          </a:lnTo>
                          <a:lnTo>
                            <a:pt x="6444" y="3391"/>
                          </a:lnTo>
                          <a:lnTo>
                            <a:pt x="6471" y="3426"/>
                          </a:lnTo>
                          <a:lnTo>
                            <a:pt x="6498" y="3461"/>
                          </a:lnTo>
                          <a:lnTo>
                            <a:pt x="6521" y="3498"/>
                          </a:lnTo>
                          <a:lnTo>
                            <a:pt x="6545" y="3535"/>
                          </a:lnTo>
                          <a:lnTo>
                            <a:pt x="6568" y="3574"/>
                          </a:lnTo>
                          <a:lnTo>
                            <a:pt x="6588" y="3611"/>
                          </a:lnTo>
                          <a:lnTo>
                            <a:pt x="6609" y="3650"/>
                          </a:lnTo>
                          <a:lnTo>
                            <a:pt x="6628" y="3687"/>
                          </a:lnTo>
                          <a:lnTo>
                            <a:pt x="6648" y="3724"/>
                          </a:lnTo>
                          <a:lnTo>
                            <a:pt x="6667" y="3761"/>
                          </a:lnTo>
                          <a:lnTo>
                            <a:pt x="6677" y="3810"/>
                          </a:lnTo>
                          <a:lnTo>
                            <a:pt x="6685" y="3859"/>
                          </a:lnTo>
                          <a:lnTo>
                            <a:pt x="6687" y="3907"/>
                          </a:lnTo>
                          <a:lnTo>
                            <a:pt x="6689" y="3956"/>
                          </a:lnTo>
                          <a:lnTo>
                            <a:pt x="6687" y="4003"/>
                          </a:lnTo>
                          <a:lnTo>
                            <a:pt x="6681" y="4050"/>
                          </a:lnTo>
                          <a:lnTo>
                            <a:pt x="6675" y="4096"/>
                          </a:lnTo>
                          <a:lnTo>
                            <a:pt x="6665" y="4143"/>
                          </a:lnTo>
                          <a:lnTo>
                            <a:pt x="6654" y="4188"/>
                          </a:lnTo>
                          <a:lnTo>
                            <a:pt x="6642" y="4233"/>
                          </a:lnTo>
                          <a:lnTo>
                            <a:pt x="6627" y="4278"/>
                          </a:lnTo>
                          <a:lnTo>
                            <a:pt x="6611" y="4323"/>
                          </a:lnTo>
                          <a:lnTo>
                            <a:pt x="6593" y="4365"/>
                          </a:lnTo>
                          <a:lnTo>
                            <a:pt x="6574" y="4408"/>
                          </a:lnTo>
                          <a:lnTo>
                            <a:pt x="6555" y="4449"/>
                          </a:lnTo>
                          <a:lnTo>
                            <a:pt x="6535" y="4490"/>
                          </a:lnTo>
                          <a:lnTo>
                            <a:pt x="6512" y="4517"/>
                          </a:lnTo>
                          <a:lnTo>
                            <a:pt x="6485" y="4545"/>
                          </a:lnTo>
                          <a:lnTo>
                            <a:pt x="6451" y="4568"/>
                          </a:lnTo>
                          <a:lnTo>
                            <a:pt x="6418" y="4591"/>
                          </a:lnTo>
                          <a:lnTo>
                            <a:pt x="6381" y="4613"/>
                          </a:lnTo>
                          <a:lnTo>
                            <a:pt x="6344" y="4634"/>
                          </a:lnTo>
                          <a:lnTo>
                            <a:pt x="6309" y="4658"/>
                          </a:lnTo>
                          <a:lnTo>
                            <a:pt x="6276" y="4679"/>
                          </a:lnTo>
                          <a:lnTo>
                            <a:pt x="6245" y="4704"/>
                          </a:lnTo>
                          <a:lnTo>
                            <a:pt x="6218" y="4730"/>
                          </a:lnTo>
                          <a:lnTo>
                            <a:pt x="6195" y="4759"/>
                          </a:lnTo>
                          <a:lnTo>
                            <a:pt x="6179" y="4790"/>
                          </a:lnTo>
                          <a:lnTo>
                            <a:pt x="6171" y="4825"/>
                          </a:lnTo>
                          <a:lnTo>
                            <a:pt x="6171" y="4864"/>
                          </a:lnTo>
                          <a:lnTo>
                            <a:pt x="6181" y="4907"/>
                          </a:lnTo>
                          <a:lnTo>
                            <a:pt x="6202" y="4956"/>
                          </a:lnTo>
                          <a:lnTo>
                            <a:pt x="6191" y="4987"/>
                          </a:lnTo>
                          <a:lnTo>
                            <a:pt x="6175" y="5018"/>
                          </a:lnTo>
                          <a:lnTo>
                            <a:pt x="6158" y="5046"/>
                          </a:lnTo>
                          <a:lnTo>
                            <a:pt x="6138" y="5071"/>
                          </a:lnTo>
                          <a:lnTo>
                            <a:pt x="6117" y="5094"/>
                          </a:lnTo>
                          <a:lnTo>
                            <a:pt x="6092" y="5116"/>
                          </a:lnTo>
                          <a:lnTo>
                            <a:pt x="6066" y="5137"/>
                          </a:lnTo>
                          <a:lnTo>
                            <a:pt x="6039" y="5155"/>
                          </a:lnTo>
                          <a:lnTo>
                            <a:pt x="6010" y="5172"/>
                          </a:lnTo>
                          <a:lnTo>
                            <a:pt x="5979" y="5186"/>
                          </a:lnTo>
                          <a:lnTo>
                            <a:pt x="5950" y="5199"/>
                          </a:lnTo>
                          <a:lnTo>
                            <a:pt x="5917" y="5213"/>
                          </a:lnTo>
                          <a:lnTo>
                            <a:pt x="5885" y="5223"/>
                          </a:lnTo>
                          <a:lnTo>
                            <a:pt x="5854" y="5235"/>
                          </a:lnTo>
                          <a:lnTo>
                            <a:pt x="5823" y="5242"/>
                          </a:lnTo>
                          <a:lnTo>
                            <a:pt x="5792" y="5250"/>
                          </a:lnTo>
                          <a:lnTo>
                            <a:pt x="5788" y="5268"/>
                          </a:lnTo>
                          <a:lnTo>
                            <a:pt x="5784" y="5289"/>
                          </a:lnTo>
                          <a:lnTo>
                            <a:pt x="5780" y="5309"/>
                          </a:lnTo>
                          <a:lnTo>
                            <a:pt x="5777" y="5332"/>
                          </a:lnTo>
                          <a:lnTo>
                            <a:pt x="5775" y="5353"/>
                          </a:lnTo>
                          <a:lnTo>
                            <a:pt x="5771" y="5377"/>
                          </a:lnTo>
                          <a:lnTo>
                            <a:pt x="5769" y="5400"/>
                          </a:lnTo>
                          <a:lnTo>
                            <a:pt x="5769" y="5424"/>
                          </a:lnTo>
                          <a:lnTo>
                            <a:pt x="5769" y="5447"/>
                          </a:lnTo>
                          <a:lnTo>
                            <a:pt x="5771" y="5468"/>
                          </a:lnTo>
                          <a:lnTo>
                            <a:pt x="5775" y="5488"/>
                          </a:lnTo>
                          <a:lnTo>
                            <a:pt x="5780" y="5507"/>
                          </a:lnTo>
                          <a:lnTo>
                            <a:pt x="5788" y="5527"/>
                          </a:lnTo>
                          <a:lnTo>
                            <a:pt x="5800" y="5542"/>
                          </a:lnTo>
                          <a:lnTo>
                            <a:pt x="5813" y="5556"/>
                          </a:lnTo>
                          <a:lnTo>
                            <a:pt x="5831" y="5568"/>
                          </a:lnTo>
                          <a:lnTo>
                            <a:pt x="5905" y="5572"/>
                          </a:lnTo>
                          <a:lnTo>
                            <a:pt x="5979" y="5578"/>
                          </a:lnTo>
                          <a:lnTo>
                            <a:pt x="6055" y="5583"/>
                          </a:lnTo>
                          <a:lnTo>
                            <a:pt x="6129" y="5591"/>
                          </a:lnTo>
                          <a:lnTo>
                            <a:pt x="6201" y="5601"/>
                          </a:lnTo>
                          <a:lnTo>
                            <a:pt x="6274" y="5613"/>
                          </a:lnTo>
                          <a:lnTo>
                            <a:pt x="6344" y="5626"/>
                          </a:lnTo>
                          <a:lnTo>
                            <a:pt x="6415" y="5646"/>
                          </a:lnTo>
                          <a:lnTo>
                            <a:pt x="6481" y="5667"/>
                          </a:lnTo>
                          <a:lnTo>
                            <a:pt x="6545" y="5694"/>
                          </a:lnTo>
                          <a:lnTo>
                            <a:pt x="6607" y="5728"/>
                          </a:lnTo>
                          <a:lnTo>
                            <a:pt x="6667" y="5765"/>
                          </a:lnTo>
                          <a:lnTo>
                            <a:pt x="6724" y="5807"/>
                          </a:lnTo>
                          <a:lnTo>
                            <a:pt x="6774" y="5858"/>
                          </a:lnTo>
                          <a:lnTo>
                            <a:pt x="6823" y="5915"/>
                          </a:lnTo>
                          <a:lnTo>
                            <a:pt x="6868" y="5979"/>
                          </a:lnTo>
                          <a:lnTo>
                            <a:pt x="6881" y="6010"/>
                          </a:lnTo>
                          <a:lnTo>
                            <a:pt x="6893" y="6041"/>
                          </a:lnTo>
                          <a:lnTo>
                            <a:pt x="6905" y="6074"/>
                          </a:lnTo>
                          <a:lnTo>
                            <a:pt x="6914" y="6108"/>
                          </a:lnTo>
                          <a:lnTo>
                            <a:pt x="6920" y="6141"/>
                          </a:lnTo>
                          <a:lnTo>
                            <a:pt x="6926" y="6176"/>
                          </a:lnTo>
                          <a:lnTo>
                            <a:pt x="6930" y="6209"/>
                          </a:lnTo>
                          <a:lnTo>
                            <a:pt x="6932" y="6244"/>
                          </a:lnTo>
                          <a:lnTo>
                            <a:pt x="6930" y="6277"/>
                          </a:lnTo>
                          <a:lnTo>
                            <a:pt x="6928" y="6312"/>
                          </a:lnTo>
                          <a:lnTo>
                            <a:pt x="6922" y="6345"/>
                          </a:lnTo>
                          <a:lnTo>
                            <a:pt x="6914" y="6376"/>
                          </a:lnTo>
                          <a:lnTo>
                            <a:pt x="6903" y="6410"/>
                          </a:lnTo>
                          <a:lnTo>
                            <a:pt x="6889" y="6439"/>
                          </a:lnTo>
                          <a:lnTo>
                            <a:pt x="6872" y="6470"/>
                          </a:lnTo>
                          <a:lnTo>
                            <a:pt x="6852" y="6497"/>
                          </a:lnTo>
                          <a:lnTo>
                            <a:pt x="6800" y="6523"/>
                          </a:lnTo>
                          <a:lnTo>
                            <a:pt x="6759" y="6552"/>
                          </a:lnTo>
                          <a:lnTo>
                            <a:pt x="6728" y="6587"/>
                          </a:lnTo>
                          <a:lnTo>
                            <a:pt x="6704" y="6624"/>
                          </a:lnTo>
                          <a:lnTo>
                            <a:pt x="6689" y="6667"/>
                          </a:lnTo>
                          <a:lnTo>
                            <a:pt x="6677" y="6712"/>
                          </a:lnTo>
                          <a:lnTo>
                            <a:pt x="6671" y="6757"/>
                          </a:lnTo>
                          <a:lnTo>
                            <a:pt x="6669" y="6805"/>
                          </a:lnTo>
                          <a:lnTo>
                            <a:pt x="6667" y="6854"/>
                          </a:lnTo>
                          <a:lnTo>
                            <a:pt x="6665" y="6903"/>
                          </a:lnTo>
                          <a:lnTo>
                            <a:pt x="6663" y="6951"/>
                          </a:lnTo>
                          <a:lnTo>
                            <a:pt x="6658" y="6998"/>
                          </a:lnTo>
                          <a:lnTo>
                            <a:pt x="6650" y="7043"/>
                          </a:lnTo>
                          <a:lnTo>
                            <a:pt x="6636" y="7086"/>
                          </a:lnTo>
                          <a:lnTo>
                            <a:pt x="6617" y="7127"/>
                          </a:lnTo>
                          <a:lnTo>
                            <a:pt x="6590" y="7164"/>
                          </a:lnTo>
                          <a:lnTo>
                            <a:pt x="6621" y="7191"/>
                          </a:lnTo>
                          <a:lnTo>
                            <a:pt x="6650" y="7218"/>
                          </a:lnTo>
                          <a:lnTo>
                            <a:pt x="6679" y="7248"/>
                          </a:lnTo>
                          <a:lnTo>
                            <a:pt x="6706" y="7279"/>
                          </a:lnTo>
                          <a:lnTo>
                            <a:pt x="6733" y="7310"/>
                          </a:lnTo>
                          <a:lnTo>
                            <a:pt x="6759" y="7341"/>
                          </a:lnTo>
                          <a:lnTo>
                            <a:pt x="6784" y="7374"/>
                          </a:lnTo>
                          <a:lnTo>
                            <a:pt x="6807" y="7407"/>
                          </a:lnTo>
                          <a:lnTo>
                            <a:pt x="6829" y="7441"/>
                          </a:lnTo>
                          <a:lnTo>
                            <a:pt x="6850" y="7476"/>
                          </a:lnTo>
                          <a:lnTo>
                            <a:pt x="6870" y="7509"/>
                          </a:lnTo>
                          <a:lnTo>
                            <a:pt x="6889" y="7544"/>
                          </a:lnTo>
                          <a:lnTo>
                            <a:pt x="6909" y="7579"/>
                          </a:lnTo>
                          <a:lnTo>
                            <a:pt x="6926" y="7614"/>
                          </a:lnTo>
                          <a:lnTo>
                            <a:pt x="6944" y="7649"/>
                          </a:lnTo>
                          <a:lnTo>
                            <a:pt x="6959" y="7684"/>
                          </a:lnTo>
                          <a:lnTo>
                            <a:pt x="6986" y="7661"/>
                          </a:lnTo>
                          <a:lnTo>
                            <a:pt x="7014" y="7633"/>
                          </a:lnTo>
                          <a:lnTo>
                            <a:pt x="7039" y="7604"/>
                          </a:lnTo>
                          <a:lnTo>
                            <a:pt x="7064" y="7573"/>
                          </a:lnTo>
                          <a:lnTo>
                            <a:pt x="7089" y="7540"/>
                          </a:lnTo>
                          <a:lnTo>
                            <a:pt x="7115" y="7507"/>
                          </a:lnTo>
                          <a:lnTo>
                            <a:pt x="7140" y="7474"/>
                          </a:lnTo>
                          <a:lnTo>
                            <a:pt x="7165" y="7439"/>
                          </a:lnTo>
                          <a:lnTo>
                            <a:pt x="7191" y="7407"/>
                          </a:lnTo>
                          <a:lnTo>
                            <a:pt x="7218" y="7374"/>
                          </a:lnTo>
                          <a:lnTo>
                            <a:pt x="7247" y="7345"/>
                          </a:lnTo>
                          <a:lnTo>
                            <a:pt x="7278" y="7318"/>
                          </a:lnTo>
                          <a:lnTo>
                            <a:pt x="7311" y="7292"/>
                          </a:lnTo>
                          <a:lnTo>
                            <a:pt x="7346" y="7271"/>
                          </a:lnTo>
                          <a:lnTo>
                            <a:pt x="7383" y="7255"/>
                          </a:lnTo>
                          <a:lnTo>
                            <a:pt x="7424" y="7242"/>
                          </a:lnTo>
                          <a:lnTo>
                            <a:pt x="7447" y="7296"/>
                          </a:lnTo>
                          <a:lnTo>
                            <a:pt x="7430" y="7314"/>
                          </a:lnTo>
                          <a:lnTo>
                            <a:pt x="7410" y="7331"/>
                          </a:lnTo>
                          <a:lnTo>
                            <a:pt x="7393" y="7351"/>
                          </a:lnTo>
                          <a:lnTo>
                            <a:pt x="7373" y="7370"/>
                          </a:lnTo>
                          <a:lnTo>
                            <a:pt x="7354" y="7388"/>
                          </a:lnTo>
                          <a:lnTo>
                            <a:pt x="7334" y="7409"/>
                          </a:lnTo>
                          <a:lnTo>
                            <a:pt x="7317" y="7429"/>
                          </a:lnTo>
                          <a:lnTo>
                            <a:pt x="7298" y="7448"/>
                          </a:lnTo>
                          <a:lnTo>
                            <a:pt x="7280" y="7470"/>
                          </a:lnTo>
                          <a:lnTo>
                            <a:pt x="7263" y="7491"/>
                          </a:lnTo>
                          <a:lnTo>
                            <a:pt x="7247" y="7513"/>
                          </a:lnTo>
                          <a:lnTo>
                            <a:pt x="7231" y="7536"/>
                          </a:lnTo>
                          <a:lnTo>
                            <a:pt x="7216" y="7557"/>
                          </a:lnTo>
                          <a:lnTo>
                            <a:pt x="7204" y="7581"/>
                          </a:lnTo>
                          <a:lnTo>
                            <a:pt x="7193" y="7606"/>
                          </a:lnTo>
                          <a:lnTo>
                            <a:pt x="7183" y="7630"/>
                          </a:lnTo>
                          <a:lnTo>
                            <a:pt x="7424" y="7630"/>
                          </a:lnTo>
                          <a:lnTo>
                            <a:pt x="7408" y="7653"/>
                          </a:lnTo>
                          <a:lnTo>
                            <a:pt x="7389" y="7674"/>
                          </a:lnTo>
                          <a:lnTo>
                            <a:pt x="7366" y="7692"/>
                          </a:lnTo>
                          <a:lnTo>
                            <a:pt x="7336" y="7707"/>
                          </a:lnTo>
                          <a:lnTo>
                            <a:pt x="7307" y="7721"/>
                          </a:lnTo>
                          <a:lnTo>
                            <a:pt x="7276" y="7735"/>
                          </a:lnTo>
                          <a:lnTo>
                            <a:pt x="7243" y="7746"/>
                          </a:lnTo>
                          <a:lnTo>
                            <a:pt x="7212" y="7760"/>
                          </a:lnTo>
                          <a:lnTo>
                            <a:pt x="7183" y="7774"/>
                          </a:lnTo>
                          <a:lnTo>
                            <a:pt x="7156" y="7789"/>
                          </a:lnTo>
                          <a:lnTo>
                            <a:pt x="7132" y="7807"/>
                          </a:lnTo>
                          <a:lnTo>
                            <a:pt x="7115" y="7826"/>
                          </a:lnTo>
                          <a:lnTo>
                            <a:pt x="7101" y="7850"/>
                          </a:lnTo>
                          <a:lnTo>
                            <a:pt x="7095" y="7877"/>
                          </a:lnTo>
                          <a:lnTo>
                            <a:pt x="7095" y="7910"/>
                          </a:lnTo>
                          <a:lnTo>
                            <a:pt x="7105" y="7947"/>
                          </a:lnTo>
                          <a:lnTo>
                            <a:pt x="7126" y="8006"/>
                          </a:lnTo>
                          <a:lnTo>
                            <a:pt x="7146" y="8064"/>
                          </a:lnTo>
                          <a:lnTo>
                            <a:pt x="7165" y="8125"/>
                          </a:lnTo>
                          <a:lnTo>
                            <a:pt x="7183" y="8185"/>
                          </a:lnTo>
                          <a:lnTo>
                            <a:pt x="7200" y="8245"/>
                          </a:lnTo>
                          <a:lnTo>
                            <a:pt x="7216" y="8308"/>
                          </a:lnTo>
                          <a:lnTo>
                            <a:pt x="7231" y="8370"/>
                          </a:lnTo>
                          <a:lnTo>
                            <a:pt x="7245" y="8432"/>
                          </a:lnTo>
                          <a:lnTo>
                            <a:pt x="7259" y="8495"/>
                          </a:lnTo>
                          <a:lnTo>
                            <a:pt x="7272" y="8559"/>
                          </a:lnTo>
                          <a:lnTo>
                            <a:pt x="7284" y="8621"/>
                          </a:lnTo>
                          <a:lnTo>
                            <a:pt x="7294" y="8686"/>
                          </a:lnTo>
                          <a:lnTo>
                            <a:pt x="7303" y="8750"/>
                          </a:lnTo>
                          <a:lnTo>
                            <a:pt x="7313" y="8814"/>
                          </a:lnTo>
                          <a:lnTo>
                            <a:pt x="7321" y="8881"/>
                          </a:lnTo>
                          <a:lnTo>
                            <a:pt x="7329" y="8945"/>
                          </a:lnTo>
                          <a:lnTo>
                            <a:pt x="7334" y="9009"/>
                          </a:lnTo>
                          <a:lnTo>
                            <a:pt x="7340" y="9075"/>
                          </a:lnTo>
                          <a:lnTo>
                            <a:pt x="7346" y="9140"/>
                          </a:lnTo>
                          <a:lnTo>
                            <a:pt x="7350" y="9206"/>
                          </a:lnTo>
                          <a:lnTo>
                            <a:pt x="7352" y="9270"/>
                          </a:lnTo>
                          <a:lnTo>
                            <a:pt x="7354" y="9337"/>
                          </a:lnTo>
                          <a:lnTo>
                            <a:pt x="7356" y="9401"/>
                          </a:lnTo>
                          <a:lnTo>
                            <a:pt x="7356" y="9467"/>
                          </a:lnTo>
                          <a:lnTo>
                            <a:pt x="7356" y="9532"/>
                          </a:lnTo>
                          <a:lnTo>
                            <a:pt x="7356" y="9596"/>
                          </a:lnTo>
                          <a:lnTo>
                            <a:pt x="7354" y="9660"/>
                          </a:lnTo>
                          <a:lnTo>
                            <a:pt x="7350" y="9724"/>
                          </a:lnTo>
                          <a:lnTo>
                            <a:pt x="7346" y="9789"/>
                          </a:lnTo>
                          <a:lnTo>
                            <a:pt x="7342" y="9851"/>
                          </a:lnTo>
                          <a:lnTo>
                            <a:pt x="7336" y="9915"/>
                          </a:lnTo>
                          <a:lnTo>
                            <a:pt x="7331" y="9978"/>
                          </a:lnTo>
                          <a:lnTo>
                            <a:pt x="7352" y="9995"/>
                          </a:lnTo>
                          <a:lnTo>
                            <a:pt x="7371" y="10015"/>
                          </a:lnTo>
                          <a:lnTo>
                            <a:pt x="7387" y="10034"/>
                          </a:lnTo>
                          <a:lnTo>
                            <a:pt x="7403" y="10054"/>
                          </a:lnTo>
                          <a:lnTo>
                            <a:pt x="7418" y="10075"/>
                          </a:lnTo>
                          <a:lnTo>
                            <a:pt x="7430" y="10097"/>
                          </a:lnTo>
                          <a:lnTo>
                            <a:pt x="7440" y="10118"/>
                          </a:lnTo>
                          <a:lnTo>
                            <a:pt x="7449" y="10141"/>
                          </a:lnTo>
                          <a:lnTo>
                            <a:pt x="7455" y="10165"/>
                          </a:lnTo>
                          <a:lnTo>
                            <a:pt x="7461" y="10190"/>
                          </a:lnTo>
                          <a:lnTo>
                            <a:pt x="7465" y="10214"/>
                          </a:lnTo>
                          <a:lnTo>
                            <a:pt x="7467" y="10241"/>
                          </a:lnTo>
                          <a:lnTo>
                            <a:pt x="7467" y="10266"/>
                          </a:lnTo>
                          <a:lnTo>
                            <a:pt x="7467" y="10293"/>
                          </a:lnTo>
                          <a:lnTo>
                            <a:pt x="7465" y="10321"/>
                          </a:lnTo>
                          <a:lnTo>
                            <a:pt x="7461" y="10350"/>
                          </a:lnTo>
                          <a:lnTo>
                            <a:pt x="7426" y="10391"/>
                          </a:lnTo>
                          <a:lnTo>
                            <a:pt x="7401" y="10434"/>
                          </a:lnTo>
                          <a:lnTo>
                            <a:pt x="7383" y="10479"/>
                          </a:lnTo>
                          <a:lnTo>
                            <a:pt x="7373" y="10527"/>
                          </a:lnTo>
                          <a:lnTo>
                            <a:pt x="7370" y="10576"/>
                          </a:lnTo>
                          <a:lnTo>
                            <a:pt x="7370" y="10627"/>
                          </a:lnTo>
                          <a:lnTo>
                            <a:pt x="7373" y="10679"/>
                          </a:lnTo>
                          <a:lnTo>
                            <a:pt x="7381" y="10732"/>
                          </a:lnTo>
                          <a:lnTo>
                            <a:pt x="7391" y="10785"/>
                          </a:lnTo>
                          <a:lnTo>
                            <a:pt x="7401" y="10839"/>
                          </a:lnTo>
                          <a:lnTo>
                            <a:pt x="7410" y="10894"/>
                          </a:lnTo>
                          <a:lnTo>
                            <a:pt x="7420" y="10948"/>
                          </a:lnTo>
                          <a:lnTo>
                            <a:pt x="7426" y="11003"/>
                          </a:lnTo>
                          <a:lnTo>
                            <a:pt x="7430" y="11057"/>
                          </a:lnTo>
                          <a:lnTo>
                            <a:pt x="7430" y="11110"/>
                          </a:lnTo>
                          <a:lnTo>
                            <a:pt x="7424" y="11163"/>
                          </a:lnTo>
                          <a:lnTo>
                            <a:pt x="7424" y="11205"/>
                          </a:lnTo>
                          <a:lnTo>
                            <a:pt x="7422" y="11248"/>
                          </a:lnTo>
                          <a:lnTo>
                            <a:pt x="7422" y="11291"/>
                          </a:lnTo>
                          <a:lnTo>
                            <a:pt x="7420" y="11336"/>
                          </a:lnTo>
                          <a:lnTo>
                            <a:pt x="7418" y="11379"/>
                          </a:lnTo>
                          <a:lnTo>
                            <a:pt x="7414" y="11422"/>
                          </a:lnTo>
                          <a:lnTo>
                            <a:pt x="7410" y="11465"/>
                          </a:lnTo>
                          <a:lnTo>
                            <a:pt x="7406" y="11509"/>
                          </a:lnTo>
                          <a:lnTo>
                            <a:pt x="7401" y="11552"/>
                          </a:lnTo>
                          <a:lnTo>
                            <a:pt x="7395" y="11595"/>
                          </a:lnTo>
                          <a:lnTo>
                            <a:pt x="7389" y="11638"/>
                          </a:lnTo>
                          <a:lnTo>
                            <a:pt x="7381" y="11681"/>
                          </a:lnTo>
                          <a:lnTo>
                            <a:pt x="7373" y="11724"/>
                          </a:lnTo>
                          <a:lnTo>
                            <a:pt x="7364" y="11767"/>
                          </a:lnTo>
                          <a:lnTo>
                            <a:pt x="7354" y="11808"/>
                          </a:lnTo>
                          <a:lnTo>
                            <a:pt x="7344" y="11849"/>
                          </a:lnTo>
                          <a:lnTo>
                            <a:pt x="7333" y="11891"/>
                          </a:lnTo>
                          <a:lnTo>
                            <a:pt x="7319" y="11932"/>
                          </a:lnTo>
                          <a:lnTo>
                            <a:pt x="7305" y="11973"/>
                          </a:lnTo>
                          <a:lnTo>
                            <a:pt x="7292" y="12012"/>
                          </a:lnTo>
                          <a:lnTo>
                            <a:pt x="7276" y="12053"/>
                          </a:lnTo>
                          <a:lnTo>
                            <a:pt x="7261" y="12092"/>
                          </a:lnTo>
                          <a:lnTo>
                            <a:pt x="7243" y="12131"/>
                          </a:lnTo>
                          <a:lnTo>
                            <a:pt x="7224" y="12168"/>
                          </a:lnTo>
                          <a:lnTo>
                            <a:pt x="7204" y="12205"/>
                          </a:lnTo>
                          <a:lnTo>
                            <a:pt x="7185" y="12242"/>
                          </a:lnTo>
                          <a:lnTo>
                            <a:pt x="7163" y="12279"/>
                          </a:lnTo>
                          <a:lnTo>
                            <a:pt x="7140" y="12314"/>
                          </a:lnTo>
                          <a:lnTo>
                            <a:pt x="7117" y="12349"/>
                          </a:lnTo>
                          <a:lnTo>
                            <a:pt x="7091" y="12383"/>
                          </a:lnTo>
                          <a:lnTo>
                            <a:pt x="7064" y="12416"/>
                          </a:lnTo>
                          <a:lnTo>
                            <a:pt x="7037" y="12449"/>
                          </a:lnTo>
                          <a:lnTo>
                            <a:pt x="7025" y="12492"/>
                          </a:lnTo>
                          <a:lnTo>
                            <a:pt x="7027" y="12531"/>
                          </a:lnTo>
                          <a:lnTo>
                            <a:pt x="7041" y="12566"/>
                          </a:lnTo>
                          <a:lnTo>
                            <a:pt x="7060" y="12597"/>
                          </a:lnTo>
                          <a:lnTo>
                            <a:pt x="7082" y="12628"/>
                          </a:lnTo>
                          <a:lnTo>
                            <a:pt x="7103" y="12661"/>
                          </a:lnTo>
                          <a:lnTo>
                            <a:pt x="7121" y="12694"/>
                          </a:lnTo>
                          <a:lnTo>
                            <a:pt x="7128" y="12729"/>
                          </a:lnTo>
                          <a:lnTo>
                            <a:pt x="7130" y="12774"/>
                          </a:lnTo>
                          <a:lnTo>
                            <a:pt x="7132" y="12819"/>
                          </a:lnTo>
                          <a:lnTo>
                            <a:pt x="7136" y="12864"/>
                          </a:lnTo>
                          <a:lnTo>
                            <a:pt x="7138" y="12909"/>
                          </a:lnTo>
                          <a:lnTo>
                            <a:pt x="7140" y="12955"/>
                          </a:lnTo>
                          <a:lnTo>
                            <a:pt x="7144" y="13002"/>
                          </a:lnTo>
                          <a:lnTo>
                            <a:pt x="7146" y="13047"/>
                          </a:lnTo>
                          <a:lnTo>
                            <a:pt x="7148" y="13094"/>
                          </a:lnTo>
                          <a:lnTo>
                            <a:pt x="7148" y="13141"/>
                          </a:lnTo>
                          <a:lnTo>
                            <a:pt x="7150" y="13187"/>
                          </a:lnTo>
                          <a:lnTo>
                            <a:pt x="7150" y="13234"/>
                          </a:lnTo>
                          <a:lnTo>
                            <a:pt x="7150" y="13281"/>
                          </a:lnTo>
                          <a:lnTo>
                            <a:pt x="7148" y="13326"/>
                          </a:lnTo>
                          <a:lnTo>
                            <a:pt x="7146" y="13372"/>
                          </a:lnTo>
                          <a:lnTo>
                            <a:pt x="7144" y="13419"/>
                          </a:lnTo>
                          <a:lnTo>
                            <a:pt x="7140" y="13464"/>
                          </a:lnTo>
                          <a:lnTo>
                            <a:pt x="7134" y="13509"/>
                          </a:lnTo>
                          <a:lnTo>
                            <a:pt x="7128" y="13556"/>
                          </a:lnTo>
                          <a:lnTo>
                            <a:pt x="7121" y="13600"/>
                          </a:lnTo>
                          <a:lnTo>
                            <a:pt x="7113" y="13643"/>
                          </a:lnTo>
                          <a:lnTo>
                            <a:pt x="7101" y="13688"/>
                          </a:lnTo>
                          <a:lnTo>
                            <a:pt x="7089" y="13731"/>
                          </a:lnTo>
                          <a:lnTo>
                            <a:pt x="7076" y="13774"/>
                          </a:lnTo>
                          <a:lnTo>
                            <a:pt x="7060" y="13817"/>
                          </a:lnTo>
                          <a:lnTo>
                            <a:pt x="7045" y="13858"/>
                          </a:lnTo>
                          <a:lnTo>
                            <a:pt x="7025" y="13899"/>
                          </a:lnTo>
                          <a:lnTo>
                            <a:pt x="7004" y="13938"/>
                          </a:lnTo>
                          <a:lnTo>
                            <a:pt x="6982" y="13977"/>
                          </a:lnTo>
                          <a:lnTo>
                            <a:pt x="6957" y="14016"/>
                          </a:lnTo>
                          <a:lnTo>
                            <a:pt x="6930" y="14053"/>
                          </a:lnTo>
                          <a:lnTo>
                            <a:pt x="6899" y="14090"/>
                          </a:lnTo>
                          <a:lnTo>
                            <a:pt x="6868" y="14125"/>
                          </a:lnTo>
                          <a:lnTo>
                            <a:pt x="6870" y="14177"/>
                          </a:lnTo>
                          <a:lnTo>
                            <a:pt x="6870" y="14228"/>
                          </a:lnTo>
                          <a:lnTo>
                            <a:pt x="6872" y="14281"/>
                          </a:lnTo>
                          <a:lnTo>
                            <a:pt x="6870" y="14331"/>
                          </a:lnTo>
                          <a:lnTo>
                            <a:pt x="6870" y="14382"/>
                          </a:lnTo>
                          <a:lnTo>
                            <a:pt x="6868" y="14433"/>
                          </a:lnTo>
                          <a:lnTo>
                            <a:pt x="6864" y="14483"/>
                          </a:lnTo>
                          <a:lnTo>
                            <a:pt x="6862" y="14534"/>
                          </a:lnTo>
                          <a:lnTo>
                            <a:pt x="6856" y="14583"/>
                          </a:lnTo>
                          <a:lnTo>
                            <a:pt x="6852" y="14633"/>
                          </a:lnTo>
                          <a:lnTo>
                            <a:pt x="6846" y="14682"/>
                          </a:lnTo>
                          <a:lnTo>
                            <a:pt x="6839" y="14731"/>
                          </a:lnTo>
                          <a:lnTo>
                            <a:pt x="6831" y="14779"/>
                          </a:lnTo>
                          <a:lnTo>
                            <a:pt x="6823" y="14828"/>
                          </a:lnTo>
                          <a:lnTo>
                            <a:pt x="6813" y="14875"/>
                          </a:lnTo>
                          <a:lnTo>
                            <a:pt x="6804" y="14922"/>
                          </a:lnTo>
                          <a:lnTo>
                            <a:pt x="6792" y="14970"/>
                          </a:lnTo>
                          <a:lnTo>
                            <a:pt x="6780" y="15017"/>
                          </a:lnTo>
                          <a:lnTo>
                            <a:pt x="6768" y="15062"/>
                          </a:lnTo>
                          <a:lnTo>
                            <a:pt x="6755" y="15109"/>
                          </a:lnTo>
                          <a:lnTo>
                            <a:pt x="6739" y="15154"/>
                          </a:lnTo>
                          <a:lnTo>
                            <a:pt x="6726" y="15198"/>
                          </a:lnTo>
                          <a:lnTo>
                            <a:pt x="6708" y="15243"/>
                          </a:lnTo>
                          <a:lnTo>
                            <a:pt x="6691" y="15288"/>
                          </a:lnTo>
                          <a:lnTo>
                            <a:pt x="6673" y="15333"/>
                          </a:lnTo>
                          <a:lnTo>
                            <a:pt x="6654" y="15376"/>
                          </a:lnTo>
                          <a:lnTo>
                            <a:pt x="6634" y="15419"/>
                          </a:lnTo>
                          <a:lnTo>
                            <a:pt x="6613" y="15462"/>
                          </a:lnTo>
                          <a:lnTo>
                            <a:pt x="6591" y="15502"/>
                          </a:lnTo>
                          <a:lnTo>
                            <a:pt x="6568" y="15545"/>
                          </a:lnTo>
                          <a:lnTo>
                            <a:pt x="6545" y="15586"/>
                          </a:lnTo>
                          <a:lnTo>
                            <a:pt x="6520" y="15627"/>
                          </a:lnTo>
                          <a:lnTo>
                            <a:pt x="6549" y="15649"/>
                          </a:lnTo>
                          <a:lnTo>
                            <a:pt x="6572" y="15670"/>
                          </a:lnTo>
                          <a:lnTo>
                            <a:pt x="6591" y="15693"/>
                          </a:lnTo>
                          <a:lnTo>
                            <a:pt x="6607" y="15719"/>
                          </a:lnTo>
                          <a:lnTo>
                            <a:pt x="6619" y="15744"/>
                          </a:lnTo>
                          <a:lnTo>
                            <a:pt x="6627" y="15769"/>
                          </a:lnTo>
                          <a:lnTo>
                            <a:pt x="6630" y="15797"/>
                          </a:lnTo>
                          <a:lnTo>
                            <a:pt x="6634" y="15824"/>
                          </a:lnTo>
                          <a:lnTo>
                            <a:pt x="6634" y="15851"/>
                          </a:lnTo>
                          <a:lnTo>
                            <a:pt x="6632" y="15880"/>
                          </a:lnTo>
                          <a:lnTo>
                            <a:pt x="6628" y="15908"/>
                          </a:lnTo>
                          <a:lnTo>
                            <a:pt x="6627" y="15937"/>
                          </a:lnTo>
                          <a:lnTo>
                            <a:pt x="6623" y="15966"/>
                          </a:lnTo>
                          <a:lnTo>
                            <a:pt x="6619" y="15995"/>
                          </a:lnTo>
                          <a:lnTo>
                            <a:pt x="6615" y="16025"/>
                          </a:lnTo>
                          <a:lnTo>
                            <a:pt x="6613" y="16054"/>
                          </a:lnTo>
                          <a:lnTo>
                            <a:pt x="6520" y="16132"/>
                          </a:lnTo>
                          <a:lnTo>
                            <a:pt x="6570" y="16216"/>
                          </a:lnTo>
                          <a:lnTo>
                            <a:pt x="6619" y="16303"/>
                          </a:lnTo>
                          <a:lnTo>
                            <a:pt x="6663" y="16391"/>
                          </a:lnTo>
                          <a:lnTo>
                            <a:pt x="6706" y="16481"/>
                          </a:lnTo>
                          <a:lnTo>
                            <a:pt x="6747" y="16572"/>
                          </a:lnTo>
                          <a:lnTo>
                            <a:pt x="6784" y="16666"/>
                          </a:lnTo>
                          <a:lnTo>
                            <a:pt x="6819" y="16761"/>
                          </a:lnTo>
                          <a:lnTo>
                            <a:pt x="6852" y="16857"/>
                          </a:lnTo>
                          <a:lnTo>
                            <a:pt x="6881" y="16954"/>
                          </a:lnTo>
                          <a:lnTo>
                            <a:pt x="6909" y="17054"/>
                          </a:lnTo>
                          <a:lnTo>
                            <a:pt x="6934" y="17153"/>
                          </a:lnTo>
                          <a:lnTo>
                            <a:pt x="6957" y="17252"/>
                          </a:lnTo>
                          <a:lnTo>
                            <a:pt x="6977" y="17354"/>
                          </a:lnTo>
                          <a:lnTo>
                            <a:pt x="6996" y="17457"/>
                          </a:lnTo>
                          <a:lnTo>
                            <a:pt x="7012" y="17558"/>
                          </a:lnTo>
                          <a:lnTo>
                            <a:pt x="7023" y="17662"/>
                          </a:lnTo>
                          <a:lnTo>
                            <a:pt x="7035" y="17767"/>
                          </a:lnTo>
                          <a:lnTo>
                            <a:pt x="7043" y="17870"/>
                          </a:lnTo>
                          <a:lnTo>
                            <a:pt x="7051" y="17975"/>
                          </a:lnTo>
                          <a:lnTo>
                            <a:pt x="7054" y="18079"/>
                          </a:lnTo>
                          <a:lnTo>
                            <a:pt x="7056" y="18184"/>
                          </a:lnTo>
                          <a:lnTo>
                            <a:pt x="7056" y="18289"/>
                          </a:lnTo>
                          <a:lnTo>
                            <a:pt x="7054" y="18392"/>
                          </a:lnTo>
                          <a:lnTo>
                            <a:pt x="7051" y="18498"/>
                          </a:lnTo>
                          <a:lnTo>
                            <a:pt x="7043" y="18601"/>
                          </a:lnTo>
                          <a:lnTo>
                            <a:pt x="7035" y="18704"/>
                          </a:lnTo>
                          <a:lnTo>
                            <a:pt x="7025" y="18807"/>
                          </a:lnTo>
                          <a:lnTo>
                            <a:pt x="7012" y="18909"/>
                          </a:lnTo>
                          <a:lnTo>
                            <a:pt x="6998" y="19012"/>
                          </a:lnTo>
                          <a:lnTo>
                            <a:pt x="6982" y="19111"/>
                          </a:lnTo>
                          <a:lnTo>
                            <a:pt x="6963" y="19211"/>
                          </a:lnTo>
                          <a:lnTo>
                            <a:pt x="6944" y="19310"/>
                          </a:lnTo>
                          <a:lnTo>
                            <a:pt x="6949" y="19339"/>
                          </a:lnTo>
                          <a:lnTo>
                            <a:pt x="6951" y="19371"/>
                          </a:lnTo>
                          <a:lnTo>
                            <a:pt x="6951" y="19400"/>
                          </a:lnTo>
                          <a:lnTo>
                            <a:pt x="6949" y="19429"/>
                          </a:lnTo>
                          <a:lnTo>
                            <a:pt x="6945" y="19458"/>
                          </a:lnTo>
                          <a:lnTo>
                            <a:pt x="6938" y="19488"/>
                          </a:lnTo>
                          <a:lnTo>
                            <a:pt x="6930" y="19515"/>
                          </a:lnTo>
                          <a:lnTo>
                            <a:pt x="6920" y="19544"/>
                          </a:lnTo>
                          <a:lnTo>
                            <a:pt x="6909" y="19571"/>
                          </a:lnTo>
                          <a:lnTo>
                            <a:pt x="6895" y="19599"/>
                          </a:lnTo>
                          <a:lnTo>
                            <a:pt x="6883" y="19626"/>
                          </a:lnTo>
                          <a:lnTo>
                            <a:pt x="6868" y="19653"/>
                          </a:lnTo>
                          <a:lnTo>
                            <a:pt x="6854" y="19681"/>
                          </a:lnTo>
                          <a:lnTo>
                            <a:pt x="6840" y="19708"/>
                          </a:lnTo>
                          <a:lnTo>
                            <a:pt x="6827" y="19733"/>
                          </a:lnTo>
                          <a:lnTo>
                            <a:pt x="6813" y="19760"/>
                          </a:lnTo>
                          <a:lnTo>
                            <a:pt x="6757" y="19829"/>
                          </a:lnTo>
                          <a:lnTo>
                            <a:pt x="6695" y="19887"/>
                          </a:lnTo>
                          <a:lnTo>
                            <a:pt x="6632" y="19940"/>
                          </a:lnTo>
                          <a:lnTo>
                            <a:pt x="6564" y="19983"/>
                          </a:lnTo>
                          <a:lnTo>
                            <a:pt x="6494" y="20020"/>
                          </a:lnTo>
                          <a:lnTo>
                            <a:pt x="6422" y="20053"/>
                          </a:lnTo>
                          <a:lnTo>
                            <a:pt x="6348" y="20080"/>
                          </a:lnTo>
                          <a:lnTo>
                            <a:pt x="6273" y="20101"/>
                          </a:lnTo>
                          <a:lnTo>
                            <a:pt x="6195" y="20123"/>
                          </a:lnTo>
                          <a:lnTo>
                            <a:pt x="6117" y="20140"/>
                          </a:lnTo>
                          <a:lnTo>
                            <a:pt x="6039" y="20156"/>
                          </a:lnTo>
                          <a:lnTo>
                            <a:pt x="5959" y="20172"/>
                          </a:lnTo>
                          <a:lnTo>
                            <a:pt x="5880" y="20185"/>
                          </a:lnTo>
                          <a:lnTo>
                            <a:pt x="5802" y="20203"/>
                          </a:lnTo>
                          <a:lnTo>
                            <a:pt x="5724" y="20220"/>
                          </a:lnTo>
                          <a:lnTo>
                            <a:pt x="5646" y="20240"/>
                          </a:lnTo>
                          <a:lnTo>
                            <a:pt x="5582" y="20277"/>
                          </a:lnTo>
                          <a:lnTo>
                            <a:pt x="5516" y="20312"/>
                          </a:lnTo>
                          <a:lnTo>
                            <a:pt x="5450" y="20349"/>
                          </a:lnTo>
                          <a:lnTo>
                            <a:pt x="5384" y="20384"/>
                          </a:lnTo>
                          <a:lnTo>
                            <a:pt x="5316" y="20419"/>
                          </a:lnTo>
                          <a:lnTo>
                            <a:pt x="5246" y="20454"/>
                          </a:lnTo>
                          <a:lnTo>
                            <a:pt x="5176" y="20487"/>
                          </a:lnTo>
                          <a:lnTo>
                            <a:pt x="5106" y="20520"/>
                          </a:lnTo>
                          <a:lnTo>
                            <a:pt x="5034" y="20554"/>
                          </a:lnTo>
                          <a:lnTo>
                            <a:pt x="4962" y="20583"/>
                          </a:lnTo>
                          <a:lnTo>
                            <a:pt x="4890" y="20612"/>
                          </a:lnTo>
                          <a:lnTo>
                            <a:pt x="4816" y="20641"/>
                          </a:lnTo>
                          <a:lnTo>
                            <a:pt x="4742" y="20667"/>
                          </a:lnTo>
                          <a:lnTo>
                            <a:pt x="4668" y="20690"/>
                          </a:lnTo>
                          <a:lnTo>
                            <a:pt x="4594" y="20713"/>
                          </a:lnTo>
                          <a:lnTo>
                            <a:pt x="4518" y="20733"/>
                          </a:lnTo>
                          <a:lnTo>
                            <a:pt x="4442" y="20750"/>
                          </a:lnTo>
                          <a:lnTo>
                            <a:pt x="4366" y="20766"/>
                          </a:lnTo>
                          <a:lnTo>
                            <a:pt x="4291" y="20780"/>
                          </a:lnTo>
                          <a:lnTo>
                            <a:pt x="4213" y="20789"/>
                          </a:lnTo>
                          <a:lnTo>
                            <a:pt x="4137" y="20797"/>
                          </a:lnTo>
                          <a:lnTo>
                            <a:pt x="4059" y="20803"/>
                          </a:lnTo>
                          <a:lnTo>
                            <a:pt x="3981" y="20803"/>
                          </a:lnTo>
                          <a:lnTo>
                            <a:pt x="3905" y="20801"/>
                          </a:lnTo>
                          <a:lnTo>
                            <a:pt x="3828" y="20797"/>
                          </a:lnTo>
                          <a:lnTo>
                            <a:pt x="3750" y="20787"/>
                          </a:lnTo>
                          <a:lnTo>
                            <a:pt x="3672" y="20776"/>
                          </a:lnTo>
                          <a:lnTo>
                            <a:pt x="3594" y="20758"/>
                          </a:lnTo>
                          <a:lnTo>
                            <a:pt x="3516" y="20739"/>
                          </a:lnTo>
                          <a:lnTo>
                            <a:pt x="3439" y="20713"/>
                          </a:lnTo>
                          <a:lnTo>
                            <a:pt x="3363" y="20684"/>
                          </a:lnTo>
                          <a:lnTo>
                            <a:pt x="3285" y="20651"/>
                          </a:lnTo>
                          <a:lnTo>
                            <a:pt x="3252" y="20616"/>
                          </a:lnTo>
                          <a:lnTo>
                            <a:pt x="3221" y="20579"/>
                          </a:lnTo>
                          <a:lnTo>
                            <a:pt x="3194" y="20540"/>
                          </a:lnTo>
                          <a:lnTo>
                            <a:pt x="3168" y="20501"/>
                          </a:lnTo>
                          <a:lnTo>
                            <a:pt x="3145" y="20460"/>
                          </a:lnTo>
                          <a:lnTo>
                            <a:pt x="3122" y="20419"/>
                          </a:lnTo>
                          <a:lnTo>
                            <a:pt x="3100" y="20378"/>
                          </a:lnTo>
                          <a:lnTo>
                            <a:pt x="3081" y="20337"/>
                          </a:lnTo>
                          <a:lnTo>
                            <a:pt x="3059" y="20296"/>
                          </a:lnTo>
                          <a:lnTo>
                            <a:pt x="3040" y="20255"/>
                          </a:lnTo>
                          <a:lnTo>
                            <a:pt x="3019" y="20214"/>
                          </a:lnTo>
                          <a:lnTo>
                            <a:pt x="2997" y="20174"/>
                          </a:lnTo>
                          <a:lnTo>
                            <a:pt x="2976" y="20135"/>
                          </a:lnTo>
                          <a:lnTo>
                            <a:pt x="2952" y="20096"/>
                          </a:lnTo>
                          <a:lnTo>
                            <a:pt x="2925" y="20059"/>
                          </a:lnTo>
                          <a:lnTo>
                            <a:pt x="2898" y="20024"/>
                          </a:lnTo>
                          <a:lnTo>
                            <a:pt x="2820" y="20031"/>
                          </a:lnTo>
                          <a:lnTo>
                            <a:pt x="2742" y="20033"/>
                          </a:lnTo>
                          <a:lnTo>
                            <a:pt x="2666" y="20033"/>
                          </a:lnTo>
                          <a:lnTo>
                            <a:pt x="2593" y="20031"/>
                          </a:lnTo>
                          <a:lnTo>
                            <a:pt x="2517" y="20024"/>
                          </a:lnTo>
                          <a:lnTo>
                            <a:pt x="2443" y="20014"/>
                          </a:lnTo>
                          <a:lnTo>
                            <a:pt x="2371" y="20000"/>
                          </a:lnTo>
                          <a:lnTo>
                            <a:pt x="2299" y="19985"/>
                          </a:lnTo>
                          <a:lnTo>
                            <a:pt x="2227" y="19965"/>
                          </a:lnTo>
                          <a:lnTo>
                            <a:pt x="2159" y="19944"/>
                          </a:lnTo>
                          <a:lnTo>
                            <a:pt x="2089" y="19920"/>
                          </a:lnTo>
                          <a:lnTo>
                            <a:pt x="2021" y="19893"/>
                          </a:lnTo>
                          <a:lnTo>
                            <a:pt x="1955" y="19864"/>
                          </a:lnTo>
                          <a:lnTo>
                            <a:pt x="1888" y="19831"/>
                          </a:lnTo>
                          <a:lnTo>
                            <a:pt x="1824" y="19797"/>
                          </a:lnTo>
                          <a:lnTo>
                            <a:pt x="1762" y="19760"/>
                          </a:lnTo>
                          <a:lnTo>
                            <a:pt x="1746" y="19692"/>
                          </a:lnTo>
                          <a:lnTo>
                            <a:pt x="1733" y="19624"/>
                          </a:lnTo>
                          <a:lnTo>
                            <a:pt x="1721" y="19556"/>
                          </a:lnTo>
                          <a:lnTo>
                            <a:pt x="1711" y="19486"/>
                          </a:lnTo>
                          <a:lnTo>
                            <a:pt x="1706" y="19417"/>
                          </a:lnTo>
                          <a:lnTo>
                            <a:pt x="1702" y="19347"/>
                          </a:lnTo>
                          <a:lnTo>
                            <a:pt x="1702" y="19277"/>
                          </a:lnTo>
                          <a:lnTo>
                            <a:pt x="1704" y="19209"/>
                          </a:lnTo>
                          <a:lnTo>
                            <a:pt x="1710" y="19141"/>
                          </a:lnTo>
                          <a:lnTo>
                            <a:pt x="1719" y="19073"/>
                          </a:lnTo>
                          <a:lnTo>
                            <a:pt x="1733" y="19006"/>
                          </a:lnTo>
                          <a:lnTo>
                            <a:pt x="1752" y="18942"/>
                          </a:lnTo>
                          <a:lnTo>
                            <a:pt x="1776" y="18878"/>
                          </a:lnTo>
                          <a:lnTo>
                            <a:pt x="1805" y="18815"/>
                          </a:lnTo>
                          <a:lnTo>
                            <a:pt x="1838" y="18757"/>
                          </a:lnTo>
                          <a:lnTo>
                            <a:pt x="1877" y="18698"/>
                          </a:lnTo>
                          <a:lnTo>
                            <a:pt x="1929" y="18644"/>
                          </a:lnTo>
                          <a:lnTo>
                            <a:pt x="1988" y="18599"/>
                          </a:lnTo>
                          <a:lnTo>
                            <a:pt x="2048" y="18562"/>
                          </a:lnTo>
                          <a:lnTo>
                            <a:pt x="2110" y="18533"/>
                          </a:lnTo>
                          <a:lnTo>
                            <a:pt x="2176" y="18509"/>
                          </a:lnTo>
                          <a:lnTo>
                            <a:pt x="2244" y="18492"/>
                          </a:lnTo>
                          <a:lnTo>
                            <a:pt x="2312" y="18478"/>
                          </a:lnTo>
                          <a:lnTo>
                            <a:pt x="2383" y="18465"/>
                          </a:lnTo>
                          <a:lnTo>
                            <a:pt x="2454" y="18455"/>
                          </a:lnTo>
                          <a:lnTo>
                            <a:pt x="2524" y="18445"/>
                          </a:lnTo>
                          <a:lnTo>
                            <a:pt x="2596" y="18433"/>
                          </a:lnTo>
                          <a:lnTo>
                            <a:pt x="2666" y="18422"/>
                          </a:lnTo>
                          <a:lnTo>
                            <a:pt x="2735" y="18404"/>
                          </a:lnTo>
                          <a:lnTo>
                            <a:pt x="2803" y="18385"/>
                          </a:lnTo>
                          <a:lnTo>
                            <a:pt x="2867" y="18359"/>
                          </a:lnTo>
                          <a:lnTo>
                            <a:pt x="2929" y="18326"/>
                          </a:lnTo>
                          <a:lnTo>
                            <a:pt x="2927" y="18262"/>
                          </a:lnTo>
                          <a:lnTo>
                            <a:pt x="2929" y="18196"/>
                          </a:lnTo>
                          <a:lnTo>
                            <a:pt x="2931" y="18129"/>
                          </a:lnTo>
                          <a:lnTo>
                            <a:pt x="2935" y="18065"/>
                          </a:lnTo>
                          <a:lnTo>
                            <a:pt x="2941" y="17997"/>
                          </a:lnTo>
                          <a:lnTo>
                            <a:pt x="2947" y="17931"/>
                          </a:lnTo>
                          <a:lnTo>
                            <a:pt x="2954" y="17864"/>
                          </a:lnTo>
                          <a:lnTo>
                            <a:pt x="2964" y="17796"/>
                          </a:lnTo>
                          <a:lnTo>
                            <a:pt x="2972" y="17730"/>
                          </a:lnTo>
                          <a:lnTo>
                            <a:pt x="2982" y="17662"/>
                          </a:lnTo>
                          <a:lnTo>
                            <a:pt x="2991" y="17595"/>
                          </a:lnTo>
                          <a:lnTo>
                            <a:pt x="3001" y="17527"/>
                          </a:lnTo>
                          <a:lnTo>
                            <a:pt x="3011" y="17459"/>
                          </a:lnTo>
                          <a:lnTo>
                            <a:pt x="3020" y="17391"/>
                          </a:lnTo>
                          <a:lnTo>
                            <a:pt x="3028" y="17325"/>
                          </a:lnTo>
                          <a:lnTo>
                            <a:pt x="3038" y="17256"/>
                          </a:lnTo>
                          <a:lnTo>
                            <a:pt x="3044" y="17188"/>
                          </a:lnTo>
                          <a:lnTo>
                            <a:pt x="3050" y="17122"/>
                          </a:lnTo>
                          <a:lnTo>
                            <a:pt x="3055" y="17054"/>
                          </a:lnTo>
                          <a:lnTo>
                            <a:pt x="3059" y="16987"/>
                          </a:lnTo>
                          <a:lnTo>
                            <a:pt x="3059" y="16921"/>
                          </a:lnTo>
                          <a:lnTo>
                            <a:pt x="3059" y="16853"/>
                          </a:lnTo>
                          <a:lnTo>
                            <a:pt x="3057" y="16787"/>
                          </a:lnTo>
                          <a:lnTo>
                            <a:pt x="3054" y="16720"/>
                          </a:lnTo>
                          <a:lnTo>
                            <a:pt x="3046" y="16656"/>
                          </a:lnTo>
                          <a:lnTo>
                            <a:pt x="3036" y="16590"/>
                          </a:lnTo>
                          <a:lnTo>
                            <a:pt x="3024" y="16526"/>
                          </a:lnTo>
                          <a:lnTo>
                            <a:pt x="3009" y="16461"/>
                          </a:lnTo>
                          <a:lnTo>
                            <a:pt x="2989" y="16397"/>
                          </a:lnTo>
                          <a:lnTo>
                            <a:pt x="2968" y="16335"/>
                          </a:lnTo>
                          <a:lnTo>
                            <a:pt x="2943" y="16272"/>
                          </a:lnTo>
                          <a:lnTo>
                            <a:pt x="2913" y="16210"/>
                          </a:lnTo>
                          <a:lnTo>
                            <a:pt x="2877" y="16247"/>
                          </a:lnTo>
                          <a:lnTo>
                            <a:pt x="2843" y="16288"/>
                          </a:lnTo>
                          <a:lnTo>
                            <a:pt x="2810" y="16333"/>
                          </a:lnTo>
                          <a:lnTo>
                            <a:pt x="2775" y="16375"/>
                          </a:lnTo>
                          <a:lnTo>
                            <a:pt x="2740" y="16414"/>
                          </a:lnTo>
                          <a:lnTo>
                            <a:pt x="2703" y="16448"/>
                          </a:lnTo>
                          <a:lnTo>
                            <a:pt x="2665" y="16473"/>
                          </a:lnTo>
                          <a:lnTo>
                            <a:pt x="2620" y="16488"/>
                          </a:lnTo>
                          <a:lnTo>
                            <a:pt x="2807" y="16132"/>
                          </a:lnTo>
                          <a:lnTo>
                            <a:pt x="2674" y="16132"/>
                          </a:lnTo>
                          <a:lnTo>
                            <a:pt x="2709" y="16110"/>
                          </a:lnTo>
                          <a:lnTo>
                            <a:pt x="2738" y="16089"/>
                          </a:lnTo>
                          <a:lnTo>
                            <a:pt x="2760" y="16068"/>
                          </a:lnTo>
                          <a:lnTo>
                            <a:pt x="2777" y="16046"/>
                          </a:lnTo>
                          <a:lnTo>
                            <a:pt x="2787" y="16023"/>
                          </a:lnTo>
                          <a:lnTo>
                            <a:pt x="2795" y="15999"/>
                          </a:lnTo>
                          <a:lnTo>
                            <a:pt x="2797" y="15974"/>
                          </a:lnTo>
                          <a:lnTo>
                            <a:pt x="2797" y="15949"/>
                          </a:lnTo>
                          <a:lnTo>
                            <a:pt x="2795" y="15923"/>
                          </a:lnTo>
                          <a:lnTo>
                            <a:pt x="2791" y="15898"/>
                          </a:lnTo>
                          <a:lnTo>
                            <a:pt x="2785" y="15871"/>
                          </a:lnTo>
                          <a:lnTo>
                            <a:pt x="2779" y="15842"/>
                          </a:lnTo>
                          <a:lnTo>
                            <a:pt x="2773" y="15812"/>
                          </a:lnTo>
                          <a:lnTo>
                            <a:pt x="2770" y="15783"/>
                          </a:lnTo>
                          <a:lnTo>
                            <a:pt x="2768" y="15752"/>
                          </a:lnTo>
                          <a:lnTo>
                            <a:pt x="2768" y="15721"/>
                          </a:lnTo>
                          <a:lnTo>
                            <a:pt x="2781" y="15660"/>
                          </a:lnTo>
                          <a:lnTo>
                            <a:pt x="2791" y="15600"/>
                          </a:lnTo>
                          <a:lnTo>
                            <a:pt x="2799" y="15539"/>
                          </a:lnTo>
                          <a:lnTo>
                            <a:pt x="2803" y="15479"/>
                          </a:lnTo>
                          <a:lnTo>
                            <a:pt x="2807" y="15421"/>
                          </a:lnTo>
                          <a:lnTo>
                            <a:pt x="2805" y="15360"/>
                          </a:lnTo>
                          <a:lnTo>
                            <a:pt x="2803" y="15302"/>
                          </a:lnTo>
                          <a:lnTo>
                            <a:pt x="2799" y="15243"/>
                          </a:lnTo>
                          <a:lnTo>
                            <a:pt x="2793" y="15185"/>
                          </a:lnTo>
                          <a:lnTo>
                            <a:pt x="2785" y="15126"/>
                          </a:lnTo>
                          <a:lnTo>
                            <a:pt x="2777" y="15068"/>
                          </a:lnTo>
                          <a:lnTo>
                            <a:pt x="2766" y="15009"/>
                          </a:lnTo>
                          <a:lnTo>
                            <a:pt x="2756" y="14951"/>
                          </a:lnTo>
                          <a:lnTo>
                            <a:pt x="2744" y="14892"/>
                          </a:lnTo>
                          <a:lnTo>
                            <a:pt x="2731" y="14834"/>
                          </a:lnTo>
                          <a:lnTo>
                            <a:pt x="2719" y="14776"/>
                          </a:lnTo>
                          <a:lnTo>
                            <a:pt x="2705" y="14717"/>
                          </a:lnTo>
                          <a:lnTo>
                            <a:pt x="2694" y="14659"/>
                          </a:lnTo>
                          <a:lnTo>
                            <a:pt x="2682" y="14600"/>
                          </a:lnTo>
                          <a:lnTo>
                            <a:pt x="2668" y="14540"/>
                          </a:lnTo>
                          <a:lnTo>
                            <a:pt x="2659" y="14481"/>
                          </a:lnTo>
                          <a:lnTo>
                            <a:pt x="2647" y="14423"/>
                          </a:lnTo>
                          <a:lnTo>
                            <a:pt x="2639" y="14362"/>
                          </a:lnTo>
                          <a:lnTo>
                            <a:pt x="2630" y="14302"/>
                          </a:lnTo>
                          <a:lnTo>
                            <a:pt x="2624" y="14242"/>
                          </a:lnTo>
                          <a:lnTo>
                            <a:pt x="2618" y="14181"/>
                          </a:lnTo>
                          <a:lnTo>
                            <a:pt x="2616" y="14121"/>
                          </a:lnTo>
                          <a:lnTo>
                            <a:pt x="2614" y="14058"/>
                          </a:lnTo>
                          <a:lnTo>
                            <a:pt x="2616" y="13996"/>
                          </a:lnTo>
                          <a:lnTo>
                            <a:pt x="2620" y="13934"/>
                          </a:lnTo>
                          <a:lnTo>
                            <a:pt x="2626" y="13871"/>
                          </a:lnTo>
                          <a:lnTo>
                            <a:pt x="2635" y="13807"/>
                          </a:lnTo>
                          <a:lnTo>
                            <a:pt x="2466" y="13326"/>
                          </a:lnTo>
                          <a:lnTo>
                            <a:pt x="2427" y="13335"/>
                          </a:lnTo>
                          <a:lnTo>
                            <a:pt x="2386" y="13339"/>
                          </a:lnTo>
                          <a:lnTo>
                            <a:pt x="2347" y="13339"/>
                          </a:lnTo>
                          <a:lnTo>
                            <a:pt x="2307" y="13335"/>
                          </a:lnTo>
                          <a:lnTo>
                            <a:pt x="2268" y="13328"/>
                          </a:lnTo>
                          <a:lnTo>
                            <a:pt x="2229" y="13316"/>
                          </a:lnTo>
                          <a:lnTo>
                            <a:pt x="2190" y="13302"/>
                          </a:lnTo>
                          <a:lnTo>
                            <a:pt x="2151" y="13287"/>
                          </a:lnTo>
                          <a:lnTo>
                            <a:pt x="2114" y="13267"/>
                          </a:lnTo>
                          <a:lnTo>
                            <a:pt x="2077" y="13246"/>
                          </a:lnTo>
                          <a:lnTo>
                            <a:pt x="2040" y="13224"/>
                          </a:lnTo>
                          <a:lnTo>
                            <a:pt x="2005" y="13201"/>
                          </a:lnTo>
                          <a:lnTo>
                            <a:pt x="1970" y="13176"/>
                          </a:lnTo>
                          <a:lnTo>
                            <a:pt x="1939" y="13150"/>
                          </a:lnTo>
                          <a:lnTo>
                            <a:pt x="1906" y="13127"/>
                          </a:lnTo>
                          <a:lnTo>
                            <a:pt x="1877" y="13102"/>
                          </a:lnTo>
                          <a:lnTo>
                            <a:pt x="1848" y="13053"/>
                          </a:lnTo>
                          <a:lnTo>
                            <a:pt x="1826" y="13000"/>
                          </a:lnTo>
                          <a:lnTo>
                            <a:pt x="1815" y="12946"/>
                          </a:lnTo>
                          <a:lnTo>
                            <a:pt x="1807" y="12889"/>
                          </a:lnTo>
                          <a:lnTo>
                            <a:pt x="1803" y="12831"/>
                          </a:lnTo>
                          <a:lnTo>
                            <a:pt x="1803" y="12772"/>
                          </a:lnTo>
                          <a:lnTo>
                            <a:pt x="1801" y="12714"/>
                          </a:lnTo>
                          <a:lnTo>
                            <a:pt x="1801" y="12655"/>
                          </a:lnTo>
                          <a:lnTo>
                            <a:pt x="1795" y="12601"/>
                          </a:lnTo>
                          <a:lnTo>
                            <a:pt x="1785" y="12548"/>
                          </a:lnTo>
                          <a:lnTo>
                            <a:pt x="1770" y="12499"/>
                          </a:lnTo>
                          <a:lnTo>
                            <a:pt x="1746" y="12455"/>
                          </a:lnTo>
                          <a:lnTo>
                            <a:pt x="1713" y="12416"/>
                          </a:lnTo>
                          <a:lnTo>
                            <a:pt x="1669" y="12381"/>
                          </a:lnTo>
                          <a:lnTo>
                            <a:pt x="1610" y="12353"/>
                          </a:lnTo>
                          <a:lnTo>
                            <a:pt x="1536" y="12334"/>
                          </a:lnTo>
                          <a:lnTo>
                            <a:pt x="1484" y="12256"/>
                          </a:lnTo>
                          <a:lnTo>
                            <a:pt x="1439" y="12178"/>
                          </a:lnTo>
                          <a:lnTo>
                            <a:pt x="1402" y="12100"/>
                          </a:lnTo>
                          <a:lnTo>
                            <a:pt x="1369" y="12020"/>
                          </a:lnTo>
                          <a:lnTo>
                            <a:pt x="1344" y="11940"/>
                          </a:lnTo>
                          <a:lnTo>
                            <a:pt x="1324" y="11860"/>
                          </a:lnTo>
                          <a:lnTo>
                            <a:pt x="1311" y="11778"/>
                          </a:lnTo>
                          <a:lnTo>
                            <a:pt x="1301" y="11697"/>
                          </a:lnTo>
                          <a:lnTo>
                            <a:pt x="1297" y="11615"/>
                          </a:lnTo>
                          <a:lnTo>
                            <a:pt x="1295" y="11533"/>
                          </a:lnTo>
                          <a:lnTo>
                            <a:pt x="1299" y="11451"/>
                          </a:lnTo>
                          <a:lnTo>
                            <a:pt x="1305" y="11367"/>
                          </a:lnTo>
                          <a:lnTo>
                            <a:pt x="1315" y="11283"/>
                          </a:lnTo>
                          <a:lnTo>
                            <a:pt x="1328" y="11200"/>
                          </a:lnTo>
                          <a:lnTo>
                            <a:pt x="1342" y="11114"/>
                          </a:lnTo>
                          <a:lnTo>
                            <a:pt x="1359" y="11028"/>
                          </a:lnTo>
                          <a:lnTo>
                            <a:pt x="1377" y="10944"/>
                          </a:lnTo>
                          <a:lnTo>
                            <a:pt x="1396" y="10859"/>
                          </a:lnTo>
                          <a:lnTo>
                            <a:pt x="1416" y="10773"/>
                          </a:lnTo>
                          <a:lnTo>
                            <a:pt x="1437" y="10685"/>
                          </a:lnTo>
                          <a:lnTo>
                            <a:pt x="1457" y="10599"/>
                          </a:lnTo>
                          <a:lnTo>
                            <a:pt x="1478" y="10514"/>
                          </a:lnTo>
                          <a:lnTo>
                            <a:pt x="1498" y="10426"/>
                          </a:lnTo>
                          <a:lnTo>
                            <a:pt x="1515" y="10338"/>
                          </a:lnTo>
                          <a:lnTo>
                            <a:pt x="1533" y="10251"/>
                          </a:lnTo>
                          <a:lnTo>
                            <a:pt x="1546" y="10165"/>
                          </a:lnTo>
                          <a:lnTo>
                            <a:pt x="1560" y="10077"/>
                          </a:lnTo>
                          <a:lnTo>
                            <a:pt x="1569" y="9989"/>
                          </a:lnTo>
                          <a:lnTo>
                            <a:pt x="1577" y="9900"/>
                          </a:lnTo>
                          <a:lnTo>
                            <a:pt x="1579" y="9812"/>
                          </a:lnTo>
                          <a:lnTo>
                            <a:pt x="1579" y="9724"/>
                          </a:lnTo>
                          <a:lnTo>
                            <a:pt x="1575" y="9637"/>
                          </a:lnTo>
                          <a:lnTo>
                            <a:pt x="1534" y="9588"/>
                          </a:lnTo>
                          <a:lnTo>
                            <a:pt x="1496" y="9537"/>
                          </a:lnTo>
                          <a:lnTo>
                            <a:pt x="1459" y="9485"/>
                          </a:lnTo>
                          <a:lnTo>
                            <a:pt x="1426" y="9430"/>
                          </a:lnTo>
                          <a:lnTo>
                            <a:pt x="1392" y="9374"/>
                          </a:lnTo>
                          <a:lnTo>
                            <a:pt x="1363" y="9317"/>
                          </a:lnTo>
                          <a:lnTo>
                            <a:pt x="1336" y="9259"/>
                          </a:lnTo>
                          <a:lnTo>
                            <a:pt x="1311" y="9198"/>
                          </a:lnTo>
                          <a:lnTo>
                            <a:pt x="1286" y="9138"/>
                          </a:lnTo>
                          <a:lnTo>
                            <a:pt x="1266" y="9075"/>
                          </a:lnTo>
                          <a:lnTo>
                            <a:pt x="1247" y="9011"/>
                          </a:lnTo>
                          <a:lnTo>
                            <a:pt x="1229" y="8949"/>
                          </a:lnTo>
                          <a:lnTo>
                            <a:pt x="1214" y="8883"/>
                          </a:lnTo>
                          <a:lnTo>
                            <a:pt x="1202" y="8818"/>
                          </a:lnTo>
                          <a:lnTo>
                            <a:pt x="1190" y="8752"/>
                          </a:lnTo>
                          <a:lnTo>
                            <a:pt x="1182" y="8686"/>
                          </a:lnTo>
                          <a:lnTo>
                            <a:pt x="1175" y="8619"/>
                          </a:lnTo>
                          <a:lnTo>
                            <a:pt x="1171" y="8551"/>
                          </a:lnTo>
                          <a:lnTo>
                            <a:pt x="1169" y="8485"/>
                          </a:lnTo>
                          <a:lnTo>
                            <a:pt x="1167" y="8419"/>
                          </a:lnTo>
                          <a:lnTo>
                            <a:pt x="1169" y="8351"/>
                          </a:lnTo>
                          <a:lnTo>
                            <a:pt x="1173" y="8284"/>
                          </a:lnTo>
                          <a:lnTo>
                            <a:pt x="1179" y="8218"/>
                          </a:lnTo>
                          <a:lnTo>
                            <a:pt x="1186" y="8152"/>
                          </a:lnTo>
                          <a:lnTo>
                            <a:pt x="1196" y="8087"/>
                          </a:lnTo>
                          <a:lnTo>
                            <a:pt x="1208" y="8023"/>
                          </a:lnTo>
                          <a:lnTo>
                            <a:pt x="1221" y="7959"/>
                          </a:lnTo>
                          <a:lnTo>
                            <a:pt x="1237" y="7895"/>
                          </a:lnTo>
                          <a:lnTo>
                            <a:pt x="1256" y="7832"/>
                          </a:lnTo>
                          <a:lnTo>
                            <a:pt x="1276" y="7772"/>
                          </a:lnTo>
                          <a:lnTo>
                            <a:pt x="1297" y="7711"/>
                          </a:lnTo>
                          <a:lnTo>
                            <a:pt x="1321" y="7653"/>
                          </a:lnTo>
                          <a:lnTo>
                            <a:pt x="1377" y="7622"/>
                          </a:lnTo>
                          <a:lnTo>
                            <a:pt x="1418" y="7585"/>
                          </a:lnTo>
                          <a:lnTo>
                            <a:pt x="1449" y="7544"/>
                          </a:lnTo>
                          <a:lnTo>
                            <a:pt x="1470" y="7499"/>
                          </a:lnTo>
                          <a:lnTo>
                            <a:pt x="1484" y="7450"/>
                          </a:lnTo>
                          <a:lnTo>
                            <a:pt x="1490" y="7400"/>
                          </a:lnTo>
                          <a:lnTo>
                            <a:pt x="1490" y="7345"/>
                          </a:lnTo>
                          <a:lnTo>
                            <a:pt x="1486" y="7290"/>
                          </a:lnTo>
                          <a:lnTo>
                            <a:pt x="1480" y="7236"/>
                          </a:lnTo>
                          <a:lnTo>
                            <a:pt x="1472" y="7179"/>
                          </a:lnTo>
                          <a:lnTo>
                            <a:pt x="1464" y="7123"/>
                          </a:lnTo>
                          <a:lnTo>
                            <a:pt x="1459" y="7068"/>
                          </a:lnTo>
                          <a:lnTo>
                            <a:pt x="1457" y="7016"/>
                          </a:lnTo>
                          <a:lnTo>
                            <a:pt x="1459" y="6963"/>
                          </a:lnTo>
                          <a:lnTo>
                            <a:pt x="1466" y="6914"/>
                          </a:lnTo>
                          <a:lnTo>
                            <a:pt x="1482" y="6870"/>
                          </a:lnTo>
                          <a:lnTo>
                            <a:pt x="1406" y="6819"/>
                          </a:lnTo>
                          <a:lnTo>
                            <a:pt x="1330" y="6764"/>
                          </a:lnTo>
                          <a:lnTo>
                            <a:pt x="1254" y="6706"/>
                          </a:lnTo>
                          <a:lnTo>
                            <a:pt x="1179" y="6645"/>
                          </a:lnTo>
                          <a:lnTo>
                            <a:pt x="1107" y="6581"/>
                          </a:lnTo>
                          <a:lnTo>
                            <a:pt x="1037" y="6515"/>
                          </a:lnTo>
                          <a:lnTo>
                            <a:pt x="968" y="6445"/>
                          </a:lnTo>
                          <a:lnTo>
                            <a:pt x="908" y="6371"/>
                          </a:lnTo>
                          <a:lnTo>
                            <a:pt x="852" y="6293"/>
                          </a:lnTo>
                          <a:lnTo>
                            <a:pt x="801" y="6213"/>
                          </a:lnTo>
                          <a:lnTo>
                            <a:pt x="758" y="6129"/>
                          </a:lnTo>
                          <a:lnTo>
                            <a:pt x="725" y="6041"/>
                          </a:lnTo>
                          <a:lnTo>
                            <a:pt x="700" y="5952"/>
                          </a:lnTo>
                          <a:lnTo>
                            <a:pt x="685" y="5858"/>
                          </a:lnTo>
                          <a:lnTo>
                            <a:pt x="679" y="5761"/>
                          </a:lnTo>
                          <a:lnTo>
                            <a:pt x="686" y="5661"/>
                          </a:lnTo>
                          <a:lnTo>
                            <a:pt x="694" y="5615"/>
                          </a:lnTo>
                          <a:lnTo>
                            <a:pt x="700" y="5568"/>
                          </a:lnTo>
                          <a:lnTo>
                            <a:pt x="702" y="5521"/>
                          </a:lnTo>
                          <a:lnTo>
                            <a:pt x="704" y="5472"/>
                          </a:lnTo>
                          <a:lnTo>
                            <a:pt x="706" y="5424"/>
                          </a:lnTo>
                          <a:lnTo>
                            <a:pt x="706" y="5373"/>
                          </a:lnTo>
                          <a:lnTo>
                            <a:pt x="706" y="5324"/>
                          </a:lnTo>
                          <a:lnTo>
                            <a:pt x="706" y="5274"/>
                          </a:lnTo>
                          <a:lnTo>
                            <a:pt x="704" y="5225"/>
                          </a:lnTo>
                          <a:lnTo>
                            <a:pt x="706" y="5174"/>
                          </a:lnTo>
                          <a:lnTo>
                            <a:pt x="706" y="5125"/>
                          </a:lnTo>
                          <a:lnTo>
                            <a:pt x="710" y="5077"/>
                          </a:lnTo>
                          <a:lnTo>
                            <a:pt x="714" y="5030"/>
                          </a:lnTo>
                          <a:lnTo>
                            <a:pt x="720" y="4983"/>
                          </a:lnTo>
                          <a:lnTo>
                            <a:pt x="729" y="4938"/>
                          </a:lnTo>
                          <a:lnTo>
                            <a:pt x="741" y="4894"/>
                          </a:lnTo>
                          <a:lnTo>
                            <a:pt x="708" y="4890"/>
                          </a:lnTo>
                          <a:lnTo>
                            <a:pt x="677" y="4884"/>
                          </a:lnTo>
                          <a:lnTo>
                            <a:pt x="644" y="4878"/>
                          </a:lnTo>
                          <a:lnTo>
                            <a:pt x="611" y="4870"/>
                          </a:lnTo>
                          <a:lnTo>
                            <a:pt x="578" y="4862"/>
                          </a:lnTo>
                          <a:lnTo>
                            <a:pt x="546" y="4853"/>
                          </a:lnTo>
                          <a:lnTo>
                            <a:pt x="515" y="4841"/>
                          </a:lnTo>
                          <a:lnTo>
                            <a:pt x="486" y="4829"/>
                          </a:lnTo>
                          <a:lnTo>
                            <a:pt x="457" y="4814"/>
                          </a:lnTo>
                          <a:lnTo>
                            <a:pt x="428" y="4798"/>
                          </a:lnTo>
                          <a:lnTo>
                            <a:pt x="402" y="4780"/>
                          </a:lnTo>
                          <a:lnTo>
                            <a:pt x="377" y="4759"/>
                          </a:lnTo>
                          <a:lnTo>
                            <a:pt x="354" y="4738"/>
                          </a:lnTo>
                          <a:lnTo>
                            <a:pt x="334" y="4712"/>
                          </a:lnTo>
                          <a:lnTo>
                            <a:pt x="315" y="4685"/>
                          </a:lnTo>
                          <a:lnTo>
                            <a:pt x="299" y="4654"/>
                          </a:lnTo>
                          <a:lnTo>
                            <a:pt x="311" y="4572"/>
                          </a:lnTo>
                          <a:lnTo>
                            <a:pt x="309" y="4494"/>
                          </a:lnTo>
                          <a:lnTo>
                            <a:pt x="297" y="4418"/>
                          </a:lnTo>
                          <a:lnTo>
                            <a:pt x="276" y="4344"/>
                          </a:lnTo>
                          <a:lnTo>
                            <a:pt x="249" y="4272"/>
                          </a:lnTo>
                          <a:lnTo>
                            <a:pt x="218" y="4200"/>
                          </a:lnTo>
                          <a:lnTo>
                            <a:pt x="183" y="4128"/>
                          </a:lnTo>
                          <a:lnTo>
                            <a:pt x="146" y="4056"/>
                          </a:lnTo>
                          <a:lnTo>
                            <a:pt x="109" y="3983"/>
                          </a:lnTo>
                          <a:lnTo>
                            <a:pt x="76" y="3909"/>
                          </a:lnTo>
                          <a:lnTo>
                            <a:pt x="47" y="3831"/>
                          </a:lnTo>
                          <a:lnTo>
                            <a:pt x="21" y="3753"/>
                          </a:lnTo>
                          <a:lnTo>
                            <a:pt x="6" y="3672"/>
                          </a:lnTo>
                          <a:lnTo>
                            <a:pt x="0" y="3588"/>
                          </a:lnTo>
                          <a:lnTo>
                            <a:pt x="4" y="3498"/>
                          </a:lnTo>
                          <a:lnTo>
                            <a:pt x="21" y="3405"/>
                          </a:lnTo>
                          <a:lnTo>
                            <a:pt x="29" y="3360"/>
                          </a:lnTo>
                          <a:lnTo>
                            <a:pt x="37" y="3313"/>
                          </a:lnTo>
                          <a:lnTo>
                            <a:pt x="47" y="3264"/>
                          </a:lnTo>
                          <a:lnTo>
                            <a:pt x="58" y="3218"/>
                          </a:lnTo>
                          <a:lnTo>
                            <a:pt x="70" y="3171"/>
                          </a:lnTo>
                          <a:lnTo>
                            <a:pt x="84" y="3124"/>
                          </a:lnTo>
                          <a:lnTo>
                            <a:pt x="101" y="3077"/>
                          </a:lnTo>
                          <a:lnTo>
                            <a:pt x="120" y="3032"/>
                          </a:lnTo>
                          <a:lnTo>
                            <a:pt x="142" y="2992"/>
                          </a:lnTo>
                          <a:lnTo>
                            <a:pt x="165" y="2951"/>
                          </a:lnTo>
                          <a:lnTo>
                            <a:pt x="194" y="2912"/>
                          </a:lnTo>
                          <a:lnTo>
                            <a:pt x="225" y="2879"/>
                          </a:lnTo>
                          <a:lnTo>
                            <a:pt x="260" y="2847"/>
                          </a:lnTo>
                          <a:lnTo>
                            <a:pt x="299" y="2818"/>
                          </a:lnTo>
                          <a:lnTo>
                            <a:pt x="344" y="2797"/>
                          </a:lnTo>
                          <a:lnTo>
                            <a:pt x="393" y="2777"/>
                          </a:lnTo>
                          <a:lnTo>
                            <a:pt x="406" y="2723"/>
                          </a:lnTo>
                          <a:lnTo>
                            <a:pt x="418" y="2668"/>
                          </a:lnTo>
                          <a:lnTo>
                            <a:pt x="432" y="2613"/>
                          </a:lnTo>
                          <a:lnTo>
                            <a:pt x="443" y="2559"/>
                          </a:lnTo>
                          <a:lnTo>
                            <a:pt x="455" y="2504"/>
                          </a:lnTo>
                          <a:lnTo>
                            <a:pt x="467" y="2448"/>
                          </a:lnTo>
                          <a:lnTo>
                            <a:pt x="476" y="2391"/>
                          </a:lnTo>
                          <a:lnTo>
                            <a:pt x="488" y="2337"/>
                          </a:lnTo>
                          <a:lnTo>
                            <a:pt x="500" y="2280"/>
                          </a:lnTo>
                          <a:lnTo>
                            <a:pt x="511" y="2226"/>
                          </a:lnTo>
                          <a:lnTo>
                            <a:pt x="523" y="2169"/>
                          </a:lnTo>
                          <a:lnTo>
                            <a:pt x="537" y="2115"/>
                          </a:lnTo>
                          <a:lnTo>
                            <a:pt x="548" y="2058"/>
                          </a:lnTo>
                          <a:lnTo>
                            <a:pt x="562" y="2004"/>
                          </a:lnTo>
                          <a:lnTo>
                            <a:pt x="578" y="1949"/>
                          </a:lnTo>
                          <a:lnTo>
                            <a:pt x="593" y="1894"/>
                          </a:lnTo>
                          <a:lnTo>
                            <a:pt x="609" y="1842"/>
                          </a:lnTo>
                          <a:lnTo>
                            <a:pt x="626" y="1789"/>
                          </a:lnTo>
                          <a:lnTo>
                            <a:pt x="644" y="1737"/>
                          </a:lnTo>
                          <a:lnTo>
                            <a:pt x="665" y="1684"/>
                          </a:lnTo>
                          <a:lnTo>
                            <a:pt x="685" y="1633"/>
                          </a:lnTo>
                          <a:lnTo>
                            <a:pt x="708" y="1585"/>
                          </a:lnTo>
                          <a:lnTo>
                            <a:pt x="733" y="1534"/>
                          </a:lnTo>
                          <a:lnTo>
                            <a:pt x="758" y="1487"/>
                          </a:lnTo>
                          <a:lnTo>
                            <a:pt x="788" y="1438"/>
                          </a:lnTo>
                          <a:lnTo>
                            <a:pt x="817" y="1394"/>
                          </a:lnTo>
                          <a:lnTo>
                            <a:pt x="848" y="1349"/>
                          </a:lnTo>
                          <a:lnTo>
                            <a:pt x="883" y="1304"/>
                          </a:lnTo>
                          <a:lnTo>
                            <a:pt x="918" y="1261"/>
                          </a:lnTo>
                          <a:lnTo>
                            <a:pt x="957" y="1220"/>
                          </a:lnTo>
                          <a:lnTo>
                            <a:pt x="1000" y="1181"/>
                          </a:lnTo>
                          <a:lnTo>
                            <a:pt x="1042" y="1142"/>
                          </a:lnTo>
                          <a:lnTo>
                            <a:pt x="1048" y="1115"/>
                          </a:lnTo>
                          <a:lnTo>
                            <a:pt x="1042" y="1092"/>
                          </a:lnTo>
                          <a:lnTo>
                            <a:pt x="1031" y="1070"/>
                          </a:lnTo>
                          <a:lnTo>
                            <a:pt x="1017" y="1051"/>
                          </a:lnTo>
                          <a:lnTo>
                            <a:pt x="1003" y="1031"/>
                          </a:lnTo>
                          <a:lnTo>
                            <a:pt x="998" y="1014"/>
                          </a:lnTo>
                          <a:lnTo>
                            <a:pt x="1002" y="992"/>
                          </a:lnTo>
                          <a:lnTo>
                            <a:pt x="1019" y="971"/>
                          </a:lnTo>
                          <a:lnTo>
                            <a:pt x="1062" y="936"/>
                          </a:lnTo>
                          <a:lnTo>
                            <a:pt x="1105" y="901"/>
                          </a:lnTo>
                          <a:lnTo>
                            <a:pt x="1147" y="867"/>
                          </a:lnTo>
                          <a:lnTo>
                            <a:pt x="1192" y="834"/>
                          </a:lnTo>
                          <a:lnTo>
                            <a:pt x="1237" y="801"/>
                          </a:lnTo>
                          <a:lnTo>
                            <a:pt x="1282" y="770"/>
                          </a:lnTo>
                          <a:lnTo>
                            <a:pt x="1328" y="739"/>
                          </a:lnTo>
                          <a:lnTo>
                            <a:pt x="1375" y="710"/>
                          </a:lnTo>
                          <a:lnTo>
                            <a:pt x="1422" y="682"/>
                          </a:lnTo>
                          <a:lnTo>
                            <a:pt x="1468" y="655"/>
                          </a:lnTo>
                          <a:lnTo>
                            <a:pt x="1517" y="628"/>
                          </a:lnTo>
                          <a:lnTo>
                            <a:pt x="1566" y="602"/>
                          </a:lnTo>
                          <a:lnTo>
                            <a:pt x="1614" y="579"/>
                          </a:lnTo>
                          <a:lnTo>
                            <a:pt x="1665" y="556"/>
                          </a:lnTo>
                          <a:lnTo>
                            <a:pt x="1715" y="534"/>
                          </a:lnTo>
                          <a:lnTo>
                            <a:pt x="1766" y="515"/>
                          </a:lnTo>
                          <a:lnTo>
                            <a:pt x="1817" y="495"/>
                          </a:lnTo>
                          <a:lnTo>
                            <a:pt x="1869" y="478"/>
                          </a:lnTo>
                          <a:lnTo>
                            <a:pt x="1922" y="462"/>
                          </a:lnTo>
                          <a:lnTo>
                            <a:pt x="1974" y="448"/>
                          </a:lnTo>
                          <a:lnTo>
                            <a:pt x="2029" y="435"/>
                          </a:lnTo>
                          <a:lnTo>
                            <a:pt x="2081" y="425"/>
                          </a:lnTo>
                          <a:lnTo>
                            <a:pt x="2137" y="415"/>
                          </a:lnTo>
                          <a:lnTo>
                            <a:pt x="2192" y="408"/>
                          </a:lnTo>
                          <a:lnTo>
                            <a:pt x="2246" y="402"/>
                          </a:lnTo>
                          <a:lnTo>
                            <a:pt x="2303" y="398"/>
                          </a:lnTo>
                          <a:lnTo>
                            <a:pt x="2359" y="396"/>
                          </a:lnTo>
                          <a:lnTo>
                            <a:pt x="2418" y="396"/>
                          </a:lnTo>
                          <a:lnTo>
                            <a:pt x="2474" y="396"/>
                          </a:lnTo>
                          <a:lnTo>
                            <a:pt x="2532" y="400"/>
                          </a:lnTo>
                          <a:lnTo>
                            <a:pt x="2593" y="406"/>
                          </a:lnTo>
                          <a:lnTo>
                            <a:pt x="2651" y="413"/>
                          </a:lnTo>
                          <a:lnTo>
                            <a:pt x="2668" y="392"/>
                          </a:lnTo>
                          <a:lnTo>
                            <a:pt x="2674" y="370"/>
                          </a:lnTo>
                          <a:lnTo>
                            <a:pt x="2668" y="353"/>
                          </a:lnTo>
                          <a:lnTo>
                            <a:pt x="2659" y="333"/>
                          </a:lnTo>
                          <a:lnTo>
                            <a:pt x="2645" y="314"/>
                          </a:lnTo>
                          <a:lnTo>
                            <a:pt x="2635" y="293"/>
                          </a:lnTo>
                          <a:lnTo>
                            <a:pt x="2630" y="269"/>
                          </a:lnTo>
                          <a:lnTo>
                            <a:pt x="2635" y="242"/>
                          </a:lnTo>
                          <a:lnTo>
                            <a:pt x="2678" y="238"/>
                          </a:lnTo>
                          <a:lnTo>
                            <a:pt x="2721" y="236"/>
                          </a:lnTo>
                          <a:lnTo>
                            <a:pt x="2762" y="240"/>
                          </a:lnTo>
                          <a:lnTo>
                            <a:pt x="2805" y="248"/>
                          </a:lnTo>
                          <a:lnTo>
                            <a:pt x="2843" y="259"/>
                          </a:lnTo>
                          <a:lnTo>
                            <a:pt x="2884" y="273"/>
                          </a:lnTo>
                          <a:lnTo>
                            <a:pt x="2923" y="289"/>
                          </a:lnTo>
                          <a:lnTo>
                            <a:pt x="2962" y="306"/>
                          </a:lnTo>
                          <a:lnTo>
                            <a:pt x="3001" y="326"/>
                          </a:lnTo>
                          <a:lnTo>
                            <a:pt x="3038" y="345"/>
                          </a:lnTo>
                          <a:lnTo>
                            <a:pt x="3077" y="365"/>
                          </a:lnTo>
                          <a:lnTo>
                            <a:pt x="3116" y="384"/>
                          </a:lnTo>
                          <a:lnTo>
                            <a:pt x="3153" y="404"/>
                          </a:lnTo>
                          <a:lnTo>
                            <a:pt x="3192" y="421"/>
                          </a:lnTo>
                          <a:lnTo>
                            <a:pt x="3231" y="439"/>
                          </a:lnTo>
                          <a:lnTo>
                            <a:pt x="3269" y="452"/>
                          </a:lnTo>
                          <a:lnTo>
                            <a:pt x="3287" y="431"/>
                          </a:lnTo>
                          <a:lnTo>
                            <a:pt x="3304" y="408"/>
                          </a:lnTo>
                          <a:lnTo>
                            <a:pt x="3324" y="386"/>
                          </a:lnTo>
                          <a:lnTo>
                            <a:pt x="3343" y="363"/>
                          </a:lnTo>
                          <a:lnTo>
                            <a:pt x="3361" y="339"/>
                          </a:lnTo>
                          <a:lnTo>
                            <a:pt x="3380" y="316"/>
                          </a:lnTo>
                          <a:lnTo>
                            <a:pt x="3398" y="293"/>
                          </a:lnTo>
                          <a:lnTo>
                            <a:pt x="3415" y="269"/>
                          </a:lnTo>
                          <a:lnTo>
                            <a:pt x="3433" y="244"/>
                          </a:lnTo>
                          <a:lnTo>
                            <a:pt x="3448" y="218"/>
                          </a:lnTo>
                          <a:lnTo>
                            <a:pt x="3464" y="193"/>
                          </a:lnTo>
                          <a:lnTo>
                            <a:pt x="3479" y="168"/>
                          </a:lnTo>
                          <a:lnTo>
                            <a:pt x="3493" y="141"/>
                          </a:lnTo>
                          <a:lnTo>
                            <a:pt x="3505" y="113"/>
                          </a:lnTo>
                          <a:lnTo>
                            <a:pt x="3516" y="86"/>
                          </a:lnTo>
                          <a:lnTo>
                            <a:pt x="3526" y="57"/>
                          </a:lnTo>
                          <a:lnTo>
                            <a:pt x="3548" y="66"/>
                          </a:lnTo>
                          <a:lnTo>
                            <a:pt x="3565" y="80"/>
                          </a:lnTo>
                          <a:lnTo>
                            <a:pt x="3579" y="96"/>
                          </a:lnTo>
                          <a:lnTo>
                            <a:pt x="3590" y="113"/>
                          </a:lnTo>
                          <a:lnTo>
                            <a:pt x="3600" y="133"/>
                          </a:lnTo>
                          <a:lnTo>
                            <a:pt x="3606" y="154"/>
                          </a:lnTo>
                          <a:lnTo>
                            <a:pt x="3612" y="178"/>
                          </a:lnTo>
                          <a:lnTo>
                            <a:pt x="3616" y="201"/>
                          </a:lnTo>
                          <a:lnTo>
                            <a:pt x="3618" y="226"/>
                          </a:lnTo>
                          <a:lnTo>
                            <a:pt x="3620" y="252"/>
                          </a:lnTo>
                          <a:lnTo>
                            <a:pt x="3621" y="277"/>
                          </a:lnTo>
                          <a:lnTo>
                            <a:pt x="3623" y="302"/>
                          </a:lnTo>
                          <a:lnTo>
                            <a:pt x="3627" y="328"/>
                          </a:lnTo>
                          <a:lnTo>
                            <a:pt x="3629" y="351"/>
                          </a:lnTo>
                          <a:lnTo>
                            <a:pt x="3635" y="374"/>
                          </a:lnTo>
                          <a:lnTo>
                            <a:pt x="3641" y="398"/>
                          </a:lnTo>
                          <a:lnTo>
                            <a:pt x="3670" y="376"/>
                          </a:lnTo>
                          <a:lnTo>
                            <a:pt x="3699" y="351"/>
                          </a:lnTo>
                          <a:lnTo>
                            <a:pt x="3728" y="322"/>
                          </a:lnTo>
                          <a:lnTo>
                            <a:pt x="3756" y="289"/>
                          </a:lnTo>
                          <a:lnTo>
                            <a:pt x="3783" y="256"/>
                          </a:lnTo>
                          <a:lnTo>
                            <a:pt x="3810" y="220"/>
                          </a:lnTo>
                          <a:lnTo>
                            <a:pt x="3837" y="185"/>
                          </a:lnTo>
                          <a:lnTo>
                            <a:pt x="3867" y="150"/>
                          </a:lnTo>
                          <a:lnTo>
                            <a:pt x="3896" y="117"/>
                          </a:lnTo>
                          <a:lnTo>
                            <a:pt x="3925" y="86"/>
                          </a:lnTo>
                          <a:lnTo>
                            <a:pt x="3956" y="61"/>
                          </a:lnTo>
                          <a:lnTo>
                            <a:pt x="3987" y="37"/>
                          </a:lnTo>
                          <a:lnTo>
                            <a:pt x="4022" y="18"/>
                          </a:lnTo>
                          <a:lnTo>
                            <a:pt x="4057" y="6"/>
                          </a:lnTo>
                          <a:lnTo>
                            <a:pt x="4096" y="0"/>
                          </a:lnTo>
                          <a:lnTo>
                            <a:pt x="4137" y="2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474" name=""/>
                    <p:cNvGrpSpPr/>
                    <p:nvPr/>
                  </p:nvGrpSpPr>
                  <p:grpSpPr>
                    <a:xfrm>
                      <a:off x="1767600" y="2005920"/>
                      <a:ext cx="665280" cy="949320"/>
                      <a:chOff x="1767600" y="2005920"/>
                      <a:chExt cx="665280" cy="949320"/>
                    </a:xfrm>
                  </p:grpSpPr>
                  <p:sp>
                    <p:nvSpPr>
                      <p:cNvPr id="475" name=""/>
                      <p:cNvSpPr/>
                      <p:nvPr/>
                    </p:nvSpPr>
                    <p:spPr>
                      <a:xfrm>
                        <a:off x="1787760" y="2005920"/>
                        <a:ext cx="287280" cy="149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508" h="3233">
                            <a:moveTo>
                              <a:pt x="3504" y="481"/>
                            </a:moveTo>
                            <a:lnTo>
                              <a:pt x="3539" y="477"/>
                            </a:lnTo>
                            <a:lnTo>
                              <a:pt x="3574" y="469"/>
                            </a:lnTo>
                            <a:lnTo>
                              <a:pt x="3609" y="458"/>
                            </a:lnTo>
                            <a:lnTo>
                              <a:pt x="3641" y="446"/>
                            </a:lnTo>
                            <a:lnTo>
                              <a:pt x="3674" y="430"/>
                            </a:lnTo>
                            <a:lnTo>
                              <a:pt x="3705" y="415"/>
                            </a:lnTo>
                            <a:lnTo>
                              <a:pt x="3736" y="397"/>
                            </a:lnTo>
                            <a:lnTo>
                              <a:pt x="3767" y="380"/>
                            </a:lnTo>
                            <a:lnTo>
                              <a:pt x="3798" y="362"/>
                            </a:lnTo>
                            <a:lnTo>
                              <a:pt x="3829" y="343"/>
                            </a:lnTo>
                            <a:lnTo>
                              <a:pt x="3860" y="325"/>
                            </a:lnTo>
                            <a:lnTo>
                              <a:pt x="3891" y="310"/>
                            </a:lnTo>
                            <a:lnTo>
                              <a:pt x="3923" y="292"/>
                            </a:lnTo>
                            <a:lnTo>
                              <a:pt x="3956" y="278"/>
                            </a:lnTo>
                            <a:lnTo>
                              <a:pt x="3989" y="267"/>
                            </a:lnTo>
                            <a:lnTo>
                              <a:pt x="4024" y="257"/>
                            </a:lnTo>
                            <a:lnTo>
                              <a:pt x="4016" y="273"/>
                            </a:lnTo>
                            <a:lnTo>
                              <a:pt x="4008" y="290"/>
                            </a:lnTo>
                            <a:lnTo>
                              <a:pt x="3997" y="308"/>
                            </a:lnTo>
                            <a:lnTo>
                              <a:pt x="3985" y="327"/>
                            </a:lnTo>
                            <a:lnTo>
                              <a:pt x="3971" y="347"/>
                            </a:lnTo>
                            <a:lnTo>
                              <a:pt x="3958" y="368"/>
                            </a:lnTo>
                            <a:lnTo>
                              <a:pt x="3944" y="389"/>
                            </a:lnTo>
                            <a:lnTo>
                              <a:pt x="3930" y="411"/>
                            </a:lnTo>
                            <a:lnTo>
                              <a:pt x="3917" y="434"/>
                            </a:lnTo>
                            <a:lnTo>
                              <a:pt x="3905" y="458"/>
                            </a:lnTo>
                            <a:lnTo>
                              <a:pt x="3893" y="483"/>
                            </a:lnTo>
                            <a:lnTo>
                              <a:pt x="3886" y="506"/>
                            </a:lnTo>
                            <a:lnTo>
                              <a:pt x="3878" y="534"/>
                            </a:lnTo>
                            <a:lnTo>
                              <a:pt x="3874" y="559"/>
                            </a:lnTo>
                            <a:lnTo>
                              <a:pt x="3874" y="586"/>
                            </a:lnTo>
                            <a:lnTo>
                              <a:pt x="3876" y="614"/>
                            </a:lnTo>
                            <a:lnTo>
                              <a:pt x="3917" y="637"/>
                            </a:lnTo>
                            <a:lnTo>
                              <a:pt x="3958" y="658"/>
                            </a:lnTo>
                            <a:lnTo>
                              <a:pt x="4000" y="680"/>
                            </a:lnTo>
                            <a:lnTo>
                              <a:pt x="4041" y="699"/>
                            </a:lnTo>
                            <a:lnTo>
                              <a:pt x="4084" y="717"/>
                            </a:lnTo>
                            <a:lnTo>
                              <a:pt x="4127" y="734"/>
                            </a:lnTo>
                            <a:lnTo>
                              <a:pt x="4170" y="752"/>
                            </a:lnTo>
                            <a:lnTo>
                              <a:pt x="4212" y="769"/>
                            </a:lnTo>
                            <a:lnTo>
                              <a:pt x="4255" y="785"/>
                            </a:lnTo>
                            <a:lnTo>
                              <a:pt x="4298" y="803"/>
                            </a:lnTo>
                            <a:lnTo>
                              <a:pt x="4341" y="822"/>
                            </a:lnTo>
                            <a:lnTo>
                              <a:pt x="4384" y="842"/>
                            </a:lnTo>
                            <a:lnTo>
                              <a:pt x="4424" y="861"/>
                            </a:lnTo>
                            <a:lnTo>
                              <a:pt x="4467" y="882"/>
                            </a:lnTo>
                            <a:lnTo>
                              <a:pt x="4508" y="906"/>
                            </a:lnTo>
                            <a:lnTo>
                              <a:pt x="4549" y="931"/>
                            </a:lnTo>
                            <a:lnTo>
                              <a:pt x="4607" y="968"/>
                            </a:lnTo>
                            <a:lnTo>
                              <a:pt x="4664" y="1009"/>
                            </a:lnTo>
                            <a:lnTo>
                              <a:pt x="4716" y="1050"/>
                            </a:lnTo>
                            <a:lnTo>
                              <a:pt x="4769" y="1091"/>
                            </a:lnTo>
                            <a:lnTo>
                              <a:pt x="4817" y="1136"/>
                            </a:lnTo>
                            <a:lnTo>
                              <a:pt x="4864" y="1181"/>
                            </a:lnTo>
                            <a:lnTo>
                              <a:pt x="4909" y="1227"/>
                            </a:lnTo>
                            <a:lnTo>
                              <a:pt x="4952" y="1274"/>
                            </a:lnTo>
                            <a:lnTo>
                              <a:pt x="4992" y="1323"/>
                            </a:lnTo>
                            <a:lnTo>
                              <a:pt x="5033" y="1374"/>
                            </a:lnTo>
                            <a:lnTo>
                              <a:pt x="5070" y="1424"/>
                            </a:lnTo>
                            <a:lnTo>
                              <a:pt x="5105" y="1477"/>
                            </a:lnTo>
                            <a:lnTo>
                              <a:pt x="5138" y="1529"/>
                            </a:lnTo>
                            <a:lnTo>
                              <a:pt x="5169" y="1584"/>
                            </a:lnTo>
                            <a:lnTo>
                              <a:pt x="5200" y="1639"/>
                            </a:lnTo>
                            <a:lnTo>
                              <a:pt x="5230" y="1693"/>
                            </a:lnTo>
                            <a:lnTo>
                              <a:pt x="5257" y="1750"/>
                            </a:lnTo>
                            <a:lnTo>
                              <a:pt x="5282" y="1808"/>
                            </a:lnTo>
                            <a:lnTo>
                              <a:pt x="5306" y="1867"/>
                            </a:lnTo>
                            <a:lnTo>
                              <a:pt x="5329" y="1925"/>
                            </a:lnTo>
                            <a:lnTo>
                              <a:pt x="5348" y="1984"/>
                            </a:lnTo>
                            <a:lnTo>
                              <a:pt x="5370" y="2044"/>
                            </a:lnTo>
                            <a:lnTo>
                              <a:pt x="5387" y="2104"/>
                            </a:lnTo>
                            <a:lnTo>
                              <a:pt x="5405" y="2165"/>
                            </a:lnTo>
                            <a:lnTo>
                              <a:pt x="5422" y="2225"/>
                            </a:lnTo>
                            <a:lnTo>
                              <a:pt x="5438" y="2288"/>
                            </a:lnTo>
                            <a:lnTo>
                              <a:pt x="5451" y="2348"/>
                            </a:lnTo>
                            <a:lnTo>
                              <a:pt x="5465" y="2410"/>
                            </a:lnTo>
                            <a:lnTo>
                              <a:pt x="5477" y="2473"/>
                            </a:lnTo>
                            <a:lnTo>
                              <a:pt x="5488" y="2535"/>
                            </a:lnTo>
                            <a:lnTo>
                              <a:pt x="5498" y="2597"/>
                            </a:lnTo>
                            <a:lnTo>
                              <a:pt x="5508" y="2660"/>
                            </a:lnTo>
                            <a:lnTo>
                              <a:pt x="5492" y="2977"/>
                            </a:lnTo>
                            <a:lnTo>
                              <a:pt x="5440" y="2966"/>
                            </a:lnTo>
                            <a:lnTo>
                              <a:pt x="5389" y="2960"/>
                            </a:lnTo>
                            <a:lnTo>
                              <a:pt x="5341" y="2960"/>
                            </a:lnTo>
                            <a:lnTo>
                              <a:pt x="5292" y="2964"/>
                            </a:lnTo>
                            <a:lnTo>
                              <a:pt x="5245" y="2973"/>
                            </a:lnTo>
                            <a:lnTo>
                              <a:pt x="5199" y="2985"/>
                            </a:lnTo>
                            <a:lnTo>
                              <a:pt x="5154" y="3001"/>
                            </a:lnTo>
                            <a:lnTo>
                              <a:pt x="5109" y="3020"/>
                            </a:lnTo>
                            <a:lnTo>
                              <a:pt x="5066" y="3044"/>
                            </a:lnTo>
                            <a:lnTo>
                              <a:pt x="5023" y="3067"/>
                            </a:lnTo>
                            <a:lnTo>
                              <a:pt x="4981" y="3092"/>
                            </a:lnTo>
                            <a:lnTo>
                              <a:pt x="4942" y="3120"/>
                            </a:lnTo>
                            <a:lnTo>
                              <a:pt x="4901" y="3149"/>
                            </a:lnTo>
                            <a:lnTo>
                              <a:pt x="4862" y="3176"/>
                            </a:lnTo>
                            <a:lnTo>
                              <a:pt x="4825" y="3205"/>
                            </a:lnTo>
                            <a:lnTo>
                              <a:pt x="4788" y="3233"/>
                            </a:lnTo>
                            <a:lnTo>
                              <a:pt x="4784" y="3196"/>
                            </a:lnTo>
                            <a:lnTo>
                              <a:pt x="4776" y="3159"/>
                            </a:lnTo>
                            <a:lnTo>
                              <a:pt x="4767" y="3124"/>
                            </a:lnTo>
                            <a:lnTo>
                              <a:pt x="4755" y="3087"/>
                            </a:lnTo>
                            <a:lnTo>
                              <a:pt x="4738" y="3053"/>
                            </a:lnTo>
                            <a:lnTo>
                              <a:pt x="4720" y="3020"/>
                            </a:lnTo>
                            <a:lnTo>
                              <a:pt x="4699" y="2987"/>
                            </a:lnTo>
                            <a:lnTo>
                              <a:pt x="4673" y="2954"/>
                            </a:lnTo>
                            <a:lnTo>
                              <a:pt x="4636" y="2944"/>
                            </a:lnTo>
                            <a:lnTo>
                              <a:pt x="4609" y="2950"/>
                            </a:lnTo>
                            <a:lnTo>
                              <a:pt x="4590" y="2968"/>
                            </a:lnTo>
                            <a:lnTo>
                              <a:pt x="4576" y="2993"/>
                            </a:lnTo>
                            <a:lnTo>
                              <a:pt x="4566" y="3024"/>
                            </a:lnTo>
                            <a:lnTo>
                              <a:pt x="4555" y="3055"/>
                            </a:lnTo>
                            <a:lnTo>
                              <a:pt x="4543" y="3087"/>
                            </a:lnTo>
                            <a:lnTo>
                              <a:pt x="4526" y="3110"/>
                            </a:lnTo>
                            <a:lnTo>
                              <a:pt x="4500" y="3034"/>
                            </a:lnTo>
                            <a:lnTo>
                              <a:pt x="4475" y="2954"/>
                            </a:lnTo>
                            <a:lnTo>
                              <a:pt x="4448" y="2872"/>
                            </a:lnTo>
                            <a:lnTo>
                              <a:pt x="4419" y="2786"/>
                            </a:lnTo>
                            <a:lnTo>
                              <a:pt x="4387" y="2701"/>
                            </a:lnTo>
                            <a:lnTo>
                              <a:pt x="4354" y="2615"/>
                            </a:lnTo>
                            <a:lnTo>
                              <a:pt x="4317" y="2529"/>
                            </a:lnTo>
                            <a:lnTo>
                              <a:pt x="4277" y="2443"/>
                            </a:lnTo>
                            <a:lnTo>
                              <a:pt x="4232" y="2360"/>
                            </a:lnTo>
                            <a:lnTo>
                              <a:pt x="4183" y="2280"/>
                            </a:lnTo>
                            <a:lnTo>
                              <a:pt x="4131" y="2204"/>
                            </a:lnTo>
                            <a:lnTo>
                              <a:pt x="4072" y="2132"/>
                            </a:lnTo>
                            <a:lnTo>
                              <a:pt x="4010" y="2063"/>
                            </a:lnTo>
                            <a:lnTo>
                              <a:pt x="3940" y="2003"/>
                            </a:lnTo>
                            <a:lnTo>
                              <a:pt x="3864" y="1947"/>
                            </a:lnTo>
                            <a:lnTo>
                              <a:pt x="3783" y="1900"/>
                            </a:lnTo>
                            <a:lnTo>
                              <a:pt x="3769" y="1927"/>
                            </a:lnTo>
                            <a:lnTo>
                              <a:pt x="3761" y="1956"/>
                            </a:lnTo>
                            <a:lnTo>
                              <a:pt x="3759" y="1985"/>
                            </a:lnTo>
                            <a:lnTo>
                              <a:pt x="3759" y="2017"/>
                            </a:lnTo>
                            <a:lnTo>
                              <a:pt x="3763" y="2050"/>
                            </a:lnTo>
                            <a:lnTo>
                              <a:pt x="3769" y="2083"/>
                            </a:lnTo>
                            <a:lnTo>
                              <a:pt x="3775" y="2116"/>
                            </a:lnTo>
                            <a:lnTo>
                              <a:pt x="3783" y="2151"/>
                            </a:lnTo>
                            <a:lnTo>
                              <a:pt x="3790" y="2186"/>
                            </a:lnTo>
                            <a:lnTo>
                              <a:pt x="3798" y="2219"/>
                            </a:lnTo>
                            <a:lnTo>
                              <a:pt x="3804" y="2254"/>
                            </a:lnTo>
                            <a:lnTo>
                              <a:pt x="3808" y="2289"/>
                            </a:lnTo>
                            <a:lnTo>
                              <a:pt x="3808" y="2323"/>
                            </a:lnTo>
                            <a:lnTo>
                              <a:pt x="3804" y="2356"/>
                            </a:lnTo>
                            <a:lnTo>
                              <a:pt x="3796" y="2387"/>
                            </a:lnTo>
                            <a:lnTo>
                              <a:pt x="3783" y="2418"/>
                            </a:lnTo>
                            <a:lnTo>
                              <a:pt x="3783" y="2488"/>
                            </a:lnTo>
                            <a:lnTo>
                              <a:pt x="3763" y="2412"/>
                            </a:lnTo>
                            <a:lnTo>
                              <a:pt x="3740" y="2334"/>
                            </a:lnTo>
                            <a:lnTo>
                              <a:pt x="3709" y="2258"/>
                            </a:lnTo>
                            <a:lnTo>
                              <a:pt x="3674" y="2182"/>
                            </a:lnTo>
                            <a:lnTo>
                              <a:pt x="3633" y="2106"/>
                            </a:lnTo>
                            <a:lnTo>
                              <a:pt x="3588" y="2032"/>
                            </a:lnTo>
                            <a:lnTo>
                              <a:pt x="3538" y="1960"/>
                            </a:lnTo>
                            <a:lnTo>
                              <a:pt x="3483" y="1892"/>
                            </a:lnTo>
                            <a:lnTo>
                              <a:pt x="3425" y="1826"/>
                            </a:lnTo>
                            <a:lnTo>
                              <a:pt x="3362" y="1763"/>
                            </a:lnTo>
                            <a:lnTo>
                              <a:pt x="3298" y="1707"/>
                            </a:lnTo>
                            <a:lnTo>
                              <a:pt x="3230" y="1654"/>
                            </a:lnTo>
                            <a:lnTo>
                              <a:pt x="3158" y="1607"/>
                            </a:lnTo>
                            <a:lnTo>
                              <a:pt x="3086" y="1567"/>
                            </a:lnTo>
                            <a:lnTo>
                              <a:pt x="3010" y="1531"/>
                            </a:lnTo>
                            <a:lnTo>
                              <a:pt x="2933" y="1504"/>
                            </a:lnTo>
                            <a:lnTo>
                              <a:pt x="2866" y="1567"/>
                            </a:lnTo>
                            <a:lnTo>
                              <a:pt x="2804" y="1633"/>
                            </a:lnTo>
                            <a:lnTo>
                              <a:pt x="2750" y="1703"/>
                            </a:lnTo>
                            <a:lnTo>
                              <a:pt x="2699" y="1775"/>
                            </a:lnTo>
                            <a:lnTo>
                              <a:pt x="2653" y="1849"/>
                            </a:lnTo>
                            <a:lnTo>
                              <a:pt x="2610" y="1925"/>
                            </a:lnTo>
                            <a:lnTo>
                              <a:pt x="2571" y="2005"/>
                            </a:lnTo>
                            <a:lnTo>
                              <a:pt x="2534" y="2085"/>
                            </a:lnTo>
                            <a:lnTo>
                              <a:pt x="2501" y="2167"/>
                            </a:lnTo>
                            <a:lnTo>
                              <a:pt x="2470" y="2249"/>
                            </a:lnTo>
                            <a:lnTo>
                              <a:pt x="2439" y="2332"/>
                            </a:lnTo>
                            <a:lnTo>
                              <a:pt x="2409" y="2418"/>
                            </a:lnTo>
                            <a:lnTo>
                              <a:pt x="2382" y="2502"/>
                            </a:lnTo>
                            <a:lnTo>
                              <a:pt x="2355" y="2586"/>
                            </a:lnTo>
                            <a:lnTo>
                              <a:pt x="2328" y="2669"/>
                            </a:lnTo>
                            <a:lnTo>
                              <a:pt x="2299" y="2753"/>
                            </a:lnTo>
                            <a:lnTo>
                              <a:pt x="2297" y="2712"/>
                            </a:lnTo>
                            <a:lnTo>
                              <a:pt x="2293" y="2664"/>
                            </a:lnTo>
                            <a:lnTo>
                              <a:pt x="2291" y="2611"/>
                            </a:lnTo>
                            <a:lnTo>
                              <a:pt x="2287" y="2553"/>
                            </a:lnTo>
                            <a:lnTo>
                              <a:pt x="2283" y="2492"/>
                            </a:lnTo>
                            <a:lnTo>
                              <a:pt x="2279" y="2426"/>
                            </a:lnTo>
                            <a:lnTo>
                              <a:pt x="2277" y="2360"/>
                            </a:lnTo>
                            <a:lnTo>
                              <a:pt x="2275" y="2289"/>
                            </a:lnTo>
                            <a:lnTo>
                              <a:pt x="2277" y="2219"/>
                            </a:lnTo>
                            <a:lnTo>
                              <a:pt x="2279" y="2149"/>
                            </a:lnTo>
                            <a:lnTo>
                              <a:pt x="2283" y="2079"/>
                            </a:lnTo>
                            <a:lnTo>
                              <a:pt x="2291" y="2011"/>
                            </a:lnTo>
                            <a:lnTo>
                              <a:pt x="2300" y="1945"/>
                            </a:lnTo>
                            <a:lnTo>
                              <a:pt x="2314" y="1882"/>
                            </a:lnTo>
                            <a:lnTo>
                              <a:pt x="2330" y="1822"/>
                            </a:lnTo>
                            <a:lnTo>
                              <a:pt x="2351" y="1767"/>
                            </a:lnTo>
                            <a:lnTo>
                              <a:pt x="2334" y="1746"/>
                            </a:lnTo>
                            <a:lnTo>
                              <a:pt x="2314" y="1734"/>
                            </a:lnTo>
                            <a:lnTo>
                              <a:pt x="2293" y="1732"/>
                            </a:lnTo>
                            <a:lnTo>
                              <a:pt x="2271" y="1738"/>
                            </a:lnTo>
                            <a:lnTo>
                              <a:pt x="2250" y="1748"/>
                            </a:lnTo>
                            <a:lnTo>
                              <a:pt x="2229" y="1759"/>
                            </a:lnTo>
                            <a:lnTo>
                              <a:pt x="2209" y="1773"/>
                            </a:lnTo>
                            <a:lnTo>
                              <a:pt x="2190" y="1783"/>
                            </a:lnTo>
                            <a:lnTo>
                              <a:pt x="2125" y="1833"/>
                            </a:lnTo>
                            <a:lnTo>
                              <a:pt x="2063" y="1884"/>
                            </a:lnTo>
                            <a:lnTo>
                              <a:pt x="2005" y="1937"/>
                            </a:lnTo>
                            <a:lnTo>
                              <a:pt x="1946" y="1991"/>
                            </a:lnTo>
                            <a:lnTo>
                              <a:pt x="1892" y="2046"/>
                            </a:lnTo>
                            <a:lnTo>
                              <a:pt x="1838" y="2100"/>
                            </a:lnTo>
                            <a:lnTo>
                              <a:pt x="1785" y="2157"/>
                            </a:lnTo>
                            <a:lnTo>
                              <a:pt x="1734" y="2215"/>
                            </a:lnTo>
                            <a:lnTo>
                              <a:pt x="1684" y="2274"/>
                            </a:lnTo>
                            <a:lnTo>
                              <a:pt x="1635" y="2332"/>
                            </a:lnTo>
                            <a:lnTo>
                              <a:pt x="1587" y="2393"/>
                            </a:lnTo>
                            <a:lnTo>
                              <a:pt x="1540" y="2453"/>
                            </a:lnTo>
                            <a:lnTo>
                              <a:pt x="1493" y="2514"/>
                            </a:lnTo>
                            <a:lnTo>
                              <a:pt x="1447" y="2574"/>
                            </a:lnTo>
                            <a:lnTo>
                              <a:pt x="1400" y="2636"/>
                            </a:lnTo>
                            <a:lnTo>
                              <a:pt x="1353" y="2699"/>
                            </a:lnTo>
                            <a:lnTo>
                              <a:pt x="1345" y="2640"/>
                            </a:lnTo>
                            <a:lnTo>
                              <a:pt x="1344" y="2582"/>
                            </a:lnTo>
                            <a:lnTo>
                              <a:pt x="1342" y="2521"/>
                            </a:lnTo>
                            <a:lnTo>
                              <a:pt x="1344" y="2463"/>
                            </a:lnTo>
                            <a:lnTo>
                              <a:pt x="1349" y="2403"/>
                            </a:lnTo>
                            <a:lnTo>
                              <a:pt x="1355" y="2342"/>
                            </a:lnTo>
                            <a:lnTo>
                              <a:pt x="1365" y="2282"/>
                            </a:lnTo>
                            <a:lnTo>
                              <a:pt x="1377" y="2221"/>
                            </a:lnTo>
                            <a:lnTo>
                              <a:pt x="1388" y="2161"/>
                            </a:lnTo>
                            <a:lnTo>
                              <a:pt x="1400" y="2100"/>
                            </a:lnTo>
                            <a:lnTo>
                              <a:pt x="1414" y="2042"/>
                            </a:lnTo>
                            <a:lnTo>
                              <a:pt x="1429" y="1982"/>
                            </a:lnTo>
                            <a:lnTo>
                              <a:pt x="1443" y="1921"/>
                            </a:lnTo>
                            <a:lnTo>
                              <a:pt x="1458" y="1861"/>
                            </a:lnTo>
                            <a:lnTo>
                              <a:pt x="1472" y="1802"/>
                            </a:lnTo>
                            <a:lnTo>
                              <a:pt x="1486" y="1744"/>
                            </a:lnTo>
                            <a:lnTo>
                              <a:pt x="1451" y="1732"/>
                            </a:lnTo>
                            <a:lnTo>
                              <a:pt x="1415" y="1726"/>
                            </a:lnTo>
                            <a:lnTo>
                              <a:pt x="1382" y="1728"/>
                            </a:lnTo>
                            <a:lnTo>
                              <a:pt x="1351" y="1736"/>
                            </a:lnTo>
                            <a:lnTo>
                              <a:pt x="1320" y="1748"/>
                            </a:lnTo>
                            <a:lnTo>
                              <a:pt x="1291" y="1763"/>
                            </a:lnTo>
                            <a:lnTo>
                              <a:pt x="1264" y="1785"/>
                            </a:lnTo>
                            <a:lnTo>
                              <a:pt x="1237" y="1806"/>
                            </a:lnTo>
                            <a:lnTo>
                              <a:pt x="1211" y="1832"/>
                            </a:lnTo>
                            <a:lnTo>
                              <a:pt x="1186" y="1859"/>
                            </a:lnTo>
                            <a:lnTo>
                              <a:pt x="1161" y="1886"/>
                            </a:lnTo>
                            <a:lnTo>
                              <a:pt x="1137" y="1913"/>
                            </a:lnTo>
                            <a:lnTo>
                              <a:pt x="1116" y="1939"/>
                            </a:lnTo>
                            <a:lnTo>
                              <a:pt x="1095" y="1964"/>
                            </a:lnTo>
                            <a:lnTo>
                              <a:pt x="1073" y="1987"/>
                            </a:lnTo>
                            <a:lnTo>
                              <a:pt x="1052" y="2009"/>
                            </a:lnTo>
                            <a:lnTo>
                              <a:pt x="1025" y="2067"/>
                            </a:lnTo>
                            <a:lnTo>
                              <a:pt x="997" y="2124"/>
                            </a:lnTo>
                            <a:lnTo>
                              <a:pt x="970" y="2180"/>
                            </a:lnTo>
                            <a:lnTo>
                              <a:pt x="941" y="2239"/>
                            </a:lnTo>
                            <a:lnTo>
                              <a:pt x="914" y="2295"/>
                            </a:lnTo>
                            <a:lnTo>
                              <a:pt x="885" y="2352"/>
                            </a:lnTo>
                            <a:lnTo>
                              <a:pt x="857" y="2408"/>
                            </a:lnTo>
                            <a:lnTo>
                              <a:pt x="830" y="2465"/>
                            </a:lnTo>
                            <a:lnTo>
                              <a:pt x="803" y="2521"/>
                            </a:lnTo>
                            <a:lnTo>
                              <a:pt x="778" y="2580"/>
                            </a:lnTo>
                            <a:lnTo>
                              <a:pt x="752" y="2638"/>
                            </a:lnTo>
                            <a:lnTo>
                              <a:pt x="729" y="2697"/>
                            </a:lnTo>
                            <a:lnTo>
                              <a:pt x="706" y="2755"/>
                            </a:lnTo>
                            <a:lnTo>
                              <a:pt x="686" y="2816"/>
                            </a:lnTo>
                            <a:lnTo>
                              <a:pt x="667" y="2876"/>
                            </a:lnTo>
                            <a:lnTo>
                              <a:pt x="649" y="2938"/>
                            </a:lnTo>
                            <a:lnTo>
                              <a:pt x="618" y="2897"/>
                            </a:lnTo>
                            <a:lnTo>
                              <a:pt x="585" y="2859"/>
                            </a:lnTo>
                            <a:lnTo>
                              <a:pt x="550" y="2823"/>
                            </a:lnTo>
                            <a:lnTo>
                              <a:pt x="513" y="2790"/>
                            </a:lnTo>
                            <a:lnTo>
                              <a:pt x="476" y="2761"/>
                            </a:lnTo>
                            <a:lnTo>
                              <a:pt x="435" y="2736"/>
                            </a:lnTo>
                            <a:lnTo>
                              <a:pt x="394" y="2710"/>
                            </a:lnTo>
                            <a:lnTo>
                              <a:pt x="354" y="2689"/>
                            </a:lnTo>
                            <a:lnTo>
                              <a:pt x="311" y="2669"/>
                            </a:lnTo>
                            <a:lnTo>
                              <a:pt x="268" y="2650"/>
                            </a:lnTo>
                            <a:lnTo>
                              <a:pt x="223" y="2634"/>
                            </a:lnTo>
                            <a:lnTo>
                              <a:pt x="178" y="2619"/>
                            </a:lnTo>
                            <a:lnTo>
                              <a:pt x="134" y="2603"/>
                            </a:lnTo>
                            <a:lnTo>
                              <a:pt x="89" y="2592"/>
                            </a:lnTo>
                            <a:lnTo>
                              <a:pt x="44" y="2578"/>
                            </a:lnTo>
                            <a:lnTo>
                              <a:pt x="0" y="2566"/>
                            </a:lnTo>
                            <a:lnTo>
                              <a:pt x="3" y="2510"/>
                            </a:lnTo>
                            <a:lnTo>
                              <a:pt x="9" y="2455"/>
                            </a:lnTo>
                            <a:lnTo>
                              <a:pt x="15" y="2399"/>
                            </a:lnTo>
                            <a:lnTo>
                              <a:pt x="21" y="2344"/>
                            </a:lnTo>
                            <a:lnTo>
                              <a:pt x="29" y="2288"/>
                            </a:lnTo>
                            <a:lnTo>
                              <a:pt x="36" y="2233"/>
                            </a:lnTo>
                            <a:lnTo>
                              <a:pt x="44" y="2178"/>
                            </a:lnTo>
                            <a:lnTo>
                              <a:pt x="54" y="2124"/>
                            </a:lnTo>
                            <a:lnTo>
                              <a:pt x="64" y="2069"/>
                            </a:lnTo>
                            <a:lnTo>
                              <a:pt x="75" y="2017"/>
                            </a:lnTo>
                            <a:lnTo>
                              <a:pt x="87" y="1962"/>
                            </a:lnTo>
                            <a:lnTo>
                              <a:pt x="101" y="1909"/>
                            </a:lnTo>
                            <a:lnTo>
                              <a:pt x="114" y="1857"/>
                            </a:lnTo>
                            <a:lnTo>
                              <a:pt x="130" y="1804"/>
                            </a:lnTo>
                            <a:lnTo>
                              <a:pt x="145" y="1752"/>
                            </a:lnTo>
                            <a:lnTo>
                              <a:pt x="163" y="1701"/>
                            </a:lnTo>
                            <a:lnTo>
                              <a:pt x="180" y="1650"/>
                            </a:lnTo>
                            <a:lnTo>
                              <a:pt x="200" y="1600"/>
                            </a:lnTo>
                            <a:lnTo>
                              <a:pt x="221" y="1551"/>
                            </a:lnTo>
                            <a:lnTo>
                              <a:pt x="243" y="1500"/>
                            </a:lnTo>
                            <a:lnTo>
                              <a:pt x="266" y="1453"/>
                            </a:lnTo>
                            <a:lnTo>
                              <a:pt x="291" y="1405"/>
                            </a:lnTo>
                            <a:lnTo>
                              <a:pt x="319" y="1358"/>
                            </a:lnTo>
                            <a:lnTo>
                              <a:pt x="346" y="1311"/>
                            </a:lnTo>
                            <a:lnTo>
                              <a:pt x="375" y="1266"/>
                            </a:lnTo>
                            <a:lnTo>
                              <a:pt x="406" y="1222"/>
                            </a:lnTo>
                            <a:lnTo>
                              <a:pt x="439" y="1177"/>
                            </a:lnTo>
                            <a:lnTo>
                              <a:pt x="472" y="1134"/>
                            </a:lnTo>
                            <a:lnTo>
                              <a:pt x="507" y="1091"/>
                            </a:lnTo>
                            <a:lnTo>
                              <a:pt x="546" y="1050"/>
                            </a:lnTo>
                            <a:lnTo>
                              <a:pt x="585" y="1009"/>
                            </a:lnTo>
                            <a:lnTo>
                              <a:pt x="626" y="970"/>
                            </a:lnTo>
                            <a:lnTo>
                              <a:pt x="649" y="799"/>
                            </a:lnTo>
                            <a:lnTo>
                              <a:pt x="690" y="768"/>
                            </a:lnTo>
                            <a:lnTo>
                              <a:pt x="733" y="738"/>
                            </a:lnTo>
                            <a:lnTo>
                              <a:pt x="776" y="709"/>
                            </a:lnTo>
                            <a:lnTo>
                              <a:pt x="820" y="680"/>
                            </a:lnTo>
                            <a:lnTo>
                              <a:pt x="863" y="653"/>
                            </a:lnTo>
                            <a:lnTo>
                              <a:pt x="908" y="627"/>
                            </a:lnTo>
                            <a:lnTo>
                              <a:pt x="955" y="602"/>
                            </a:lnTo>
                            <a:lnTo>
                              <a:pt x="999" y="578"/>
                            </a:lnTo>
                            <a:lnTo>
                              <a:pt x="1046" y="555"/>
                            </a:lnTo>
                            <a:lnTo>
                              <a:pt x="1093" y="532"/>
                            </a:lnTo>
                            <a:lnTo>
                              <a:pt x="1139" y="512"/>
                            </a:lnTo>
                            <a:lnTo>
                              <a:pt x="1188" y="493"/>
                            </a:lnTo>
                            <a:lnTo>
                              <a:pt x="1237" y="473"/>
                            </a:lnTo>
                            <a:lnTo>
                              <a:pt x="1285" y="456"/>
                            </a:lnTo>
                            <a:lnTo>
                              <a:pt x="1334" y="440"/>
                            </a:lnTo>
                            <a:lnTo>
                              <a:pt x="1384" y="425"/>
                            </a:lnTo>
                            <a:lnTo>
                              <a:pt x="1433" y="411"/>
                            </a:lnTo>
                            <a:lnTo>
                              <a:pt x="1484" y="399"/>
                            </a:lnTo>
                            <a:lnTo>
                              <a:pt x="1534" y="389"/>
                            </a:lnTo>
                            <a:lnTo>
                              <a:pt x="1587" y="380"/>
                            </a:lnTo>
                            <a:lnTo>
                              <a:pt x="1637" y="372"/>
                            </a:lnTo>
                            <a:lnTo>
                              <a:pt x="1690" y="364"/>
                            </a:lnTo>
                            <a:lnTo>
                              <a:pt x="1742" y="360"/>
                            </a:lnTo>
                            <a:lnTo>
                              <a:pt x="1795" y="356"/>
                            </a:lnTo>
                            <a:lnTo>
                              <a:pt x="1849" y="354"/>
                            </a:lnTo>
                            <a:lnTo>
                              <a:pt x="1902" y="354"/>
                            </a:lnTo>
                            <a:lnTo>
                              <a:pt x="1956" y="356"/>
                            </a:lnTo>
                            <a:lnTo>
                              <a:pt x="2009" y="358"/>
                            </a:lnTo>
                            <a:lnTo>
                              <a:pt x="2063" y="364"/>
                            </a:lnTo>
                            <a:lnTo>
                              <a:pt x="2118" y="370"/>
                            </a:lnTo>
                            <a:lnTo>
                              <a:pt x="2174" y="378"/>
                            </a:lnTo>
                            <a:lnTo>
                              <a:pt x="2229" y="388"/>
                            </a:lnTo>
                            <a:lnTo>
                              <a:pt x="2242" y="376"/>
                            </a:lnTo>
                            <a:lnTo>
                              <a:pt x="2254" y="362"/>
                            </a:lnTo>
                            <a:lnTo>
                              <a:pt x="2265" y="349"/>
                            </a:lnTo>
                            <a:lnTo>
                              <a:pt x="2273" y="333"/>
                            </a:lnTo>
                            <a:lnTo>
                              <a:pt x="2279" y="317"/>
                            </a:lnTo>
                            <a:lnTo>
                              <a:pt x="2283" y="298"/>
                            </a:lnTo>
                            <a:lnTo>
                              <a:pt x="2285" y="278"/>
                            </a:lnTo>
                            <a:lnTo>
                              <a:pt x="2283" y="257"/>
                            </a:lnTo>
                            <a:lnTo>
                              <a:pt x="2260" y="241"/>
                            </a:lnTo>
                            <a:lnTo>
                              <a:pt x="2295" y="249"/>
                            </a:lnTo>
                            <a:lnTo>
                              <a:pt x="2328" y="259"/>
                            </a:lnTo>
                            <a:lnTo>
                              <a:pt x="2361" y="273"/>
                            </a:lnTo>
                            <a:lnTo>
                              <a:pt x="2394" y="286"/>
                            </a:lnTo>
                            <a:lnTo>
                              <a:pt x="2427" y="302"/>
                            </a:lnTo>
                            <a:lnTo>
                              <a:pt x="2460" y="317"/>
                            </a:lnTo>
                            <a:lnTo>
                              <a:pt x="2493" y="333"/>
                            </a:lnTo>
                            <a:lnTo>
                              <a:pt x="2526" y="349"/>
                            </a:lnTo>
                            <a:lnTo>
                              <a:pt x="2557" y="364"/>
                            </a:lnTo>
                            <a:lnTo>
                              <a:pt x="2590" y="378"/>
                            </a:lnTo>
                            <a:lnTo>
                              <a:pt x="2621" y="388"/>
                            </a:lnTo>
                            <a:lnTo>
                              <a:pt x="2654" y="395"/>
                            </a:lnTo>
                            <a:lnTo>
                              <a:pt x="2686" y="399"/>
                            </a:lnTo>
                            <a:lnTo>
                              <a:pt x="2719" y="401"/>
                            </a:lnTo>
                            <a:lnTo>
                              <a:pt x="2752" y="397"/>
                            </a:lnTo>
                            <a:lnTo>
                              <a:pt x="2785" y="388"/>
                            </a:lnTo>
                            <a:lnTo>
                              <a:pt x="2808" y="362"/>
                            </a:lnTo>
                            <a:lnTo>
                              <a:pt x="2828" y="337"/>
                            </a:lnTo>
                            <a:lnTo>
                              <a:pt x="2843" y="308"/>
                            </a:lnTo>
                            <a:lnTo>
                              <a:pt x="2859" y="278"/>
                            </a:lnTo>
                            <a:lnTo>
                              <a:pt x="2874" y="249"/>
                            </a:lnTo>
                            <a:lnTo>
                              <a:pt x="2890" y="220"/>
                            </a:lnTo>
                            <a:lnTo>
                              <a:pt x="2909" y="191"/>
                            </a:lnTo>
                            <a:lnTo>
                              <a:pt x="2933" y="163"/>
                            </a:lnTo>
                            <a:lnTo>
                              <a:pt x="2935" y="198"/>
                            </a:lnTo>
                            <a:lnTo>
                              <a:pt x="2940" y="232"/>
                            </a:lnTo>
                            <a:lnTo>
                              <a:pt x="2950" y="265"/>
                            </a:lnTo>
                            <a:lnTo>
                              <a:pt x="2964" y="296"/>
                            </a:lnTo>
                            <a:lnTo>
                              <a:pt x="2981" y="323"/>
                            </a:lnTo>
                            <a:lnTo>
                              <a:pt x="3005" y="349"/>
                            </a:lnTo>
                            <a:lnTo>
                              <a:pt x="3032" y="370"/>
                            </a:lnTo>
                            <a:lnTo>
                              <a:pt x="3063" y="388"/>
                            </a:lnTo>
                            <a:lnTo>
                              <a:pt x="3088" y="370"/>
                            </a:lnTo>
                            <a:lnTo>
                              <a:pt x="3113" y="350"/>
                            </a:lnTo>
                            <a:lnTo>
                              <a:pt x="3137" y="329"/>
                            </a:lnTo>
                            <a:lnTo>
                              <a:pt x="3160" y="308"/>
                            </a:lnTo>
                            <a:lnTo>
                              <a:pt x="3184" y="286"/>
                            </a:lnTo>
                            <a:lnTo>
                              <a:pt x="3205" y="261"/>
                            </a:lnTo>
                            <a:lnTo>
                              <a:pt x="3228" y="237"/>
                            </a:lnTo>
                            <a:lnTo>
                              <a:pt x="3250" y="212"/>
                            </a:lnTo>
                            <a:lnTo>
                              <a:pt x="3271" y="187"/>
                            </a:lnTo>
                            <a:lnTo>
                              <a:pt x="3292" y="160"/>
                            </a:lnTo>
                            <a:lnTo>
                              <a:pt x="3316" y="134"/>
                            </a:lnTo>
                            <a:lnTo>
                              <a:pt x="3337" y="107"/>
                            </a:lnTo>
                            <a:lnTo>
                              <a:pt x="3361" y="80"/>
                            </a:lnTo>
                            <a:lnTo>
                              <a:pt x="3384" y="52"/>
                            </a:lnTo>
                            <a:lnTo>
                              <a:pt x="3409" y="27"/>
                            </a:lnTo>
                            <a:lnTo>
                              <a:pt x="3434" y="0"/>
                            </a:lnTo>
                            <a:lnTo>
                              <a:pt x="3432" y="29"/>
                            </a:lnTo>
                            <a:lnTo>
                              <a:pt x="3429" y="62"/>
                            </a:lnTo>
                            <a:lnTo>
                              <a:pt x="3423" y="95"/>
                            </a:lnTo>
                            <a:lnTo>
                              <a:pt x="3417" y="128"/>
                            </a:lnTo>
                            <a:lnTo>
                              <a:pt x="3409" y="163"/>
                            </a:lnTo>
                            <a:lnTo>
                              <a:pt x="3401" y="198"/>
                            </a:lnTo>
                            <a:lnTo>
                              <a:pt x="3396" y="232"/>
                            </a:lnTo>
                            <a:lnTo>
                              <a:pt x="3392" y="267"/>
                            </a:lnTo>
                            <a:lnTo>
                              <a:pt x="3390" y="300"/>
                            </a:lnTo>
                            <a:lnTo>
                              <a:pt x="3392" y="333"/>
                            </a:lnTo>
                            <a:lnTo>
                              <a:pt x="3396" y="362"/>
                            </a:lnTo>
                            <a:lnTo>
                              <a:pt x="3405" y="391"/>
                            </a:lnTo>
                            <a:lnTo>
                              <a:pt x="3421" y="419"/>
                            </a:lnTo>
                            <a:lnTo>
                              <a:pt x="3442" y="442"/>
                            </a:lnTo>
                            <a:lnTo>
                              <a:pt x="3469" y="464"/>
                            </a:lnTo>
                            <a:lnTo>
                              <a:pt x="3504" y="481"/>
                            </a:lnTo>
                            <a:close/>
                          </a:path>
                        </a:pathLst>
                      </a:custGeom>
                      <a:solidFill>
                        <a:srgbClr val="ba63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76" name=""/>
                      <p:cNvSpPr/>
                      <p:nvPr/>
                    </p:nvSpPr>
                    <p:spPr>
                      <a:xfrm>
                        <a:off x="1801800" y="2083320"/>
                        <a:ext cx="249120" cy="251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779" h="5433">
                            <a:moveTo>
                              <a:pt x="3517" y="1262"/>
                            </a:moveTo>
                            <a:lnTo>
                              <a:pt x="3536" y="1262"/>
                            </a:lnTo>
                            <a:lnTo>
                              <a:pt x="3555" y="1257"/>
                            </a:lnTo>
                            <a:lnTo>
                              <a:pt x="3571" y="1247"/>
                            </a:lnTo>
                            <a:lnTo>
                              <a:pt x="3587" y="1233"/>
                            </a:lnTo>
                            <a:lnTo>
                              <a:pt x="3600" y="1218"/>
                            </a:lnTo>
                            <a:lnTo>
                              <a:pt x="3614" y="1200"/>
                            </a:lnTo>
                            <a:lnTo>
                              <a:pt x="3624" y="1184"/>
                            </a:lnTo>
                            <a:lnTo>
                              <a:pt x="3633" y="1169"/>
                            </a:lnTo>
                            <a:lnTo>
                              <a:pt x="3688" y="573"/>
                            </a:lnTo>
                            <a:lnTo>
                              <a:pt x="3713" y="610"/>
                            </a:lnTo>
                            <a:lnTo>
                              <a:pt x="3736" y="647"/>
                            </a:lnTo>
                            <a:lnTo>
                              <a:pt x="3762" y="684"/>
                            </a:lnTo>
                            <a:lnTo>
                              <a:pt x="3785" y="721"/>
                            </a:lnTo>
                            <a:lnTo>
                              <a:pt x="3806" y="758"/>
                            </a:lnTo>
                            <a:lnTo>
                              <a:pt x="3828" y="795"/>
                            </a:lnTo>
                            <a:lnTo>
                              <a:pt x="3849" y="834"/>
                            </a:lnTo>
                            <a:lnTo>
                              <a:pt x="3871" y="873"/>
                            </a:lnTo>
                            <a:lnTo>
                              <a:pt x="3890" y="912"/>
                            </a:lnTo>
                            <a:lnTo>
                              <a:pt x="3909" y="951"/>
                            </a:lnTo>
                            <a:lnTo>
                              <a:pt x="3927" y="990"/>
                            </a:lnTo>
                            <a:lnTo>
                              <a:pt x="3944" y="1029"/>
                            </a:lnTo>
                            <a:lnTo>
                              <a:pt x="3962" y="1068"/>
                            </a:lnTo>
                            <a:lnTo>
                              <a:pt x="3979" y="1108"/>
                            </a:lnTo>
                            <a:lnTo>
                              <a:pt x="3995" y="1149"/>
                            </a:lnTo>
                            <a:lnTo>
                              <a:pt x="4011" y="1188"/>
                            </a:lnTo>
                            <a:lnTo>
                              <a:pt x="4024" y="1229"/>
                            </a:lnTo>
                            <a:lnTo>
                              <a:pt x="4038" y="1270"/>
                            </a:lnTo>
                            <a:lnTo>
                              <a:pt x="4050" y="1313"/>
                            </a:lnTo>
                            <a:lnTo>
                              <a:pt x="4063" y="1354"/>
                            </a:lnTo>
                            <a:lnTo>
                              <a:pt x="4075" y="1397"/>
                            </a:lnTo>
                            <a:lnTo>
                              <a:pt x="4085" y="1438"/>
                            </a:lnTo>
                            <a:lnTo>
                              <a:pt x="4094" y="1481"/>
                            </a:lnTo>
                            <a:lnTo>
                              <a:pt x="4104" y="1524"/>
                            </a:lnTo>
                            <a:lnTo>
                              <a:pt x="4112" y="1566"/>
                            </a:lnTo>
                            <a:lnTo>
                              <a:pt x="4120" y="1609"/>
                            </a:lnTo>
                            <a:lnTo>
                              <a:pt x="4127" y="1652"/>
                            </a:lnTo>
                            <a:lnTo>
                              <a:pt x="4133" y="1697"/>
                            </a:lnTo>
                            <a:lnTo>
                              <a:pt x="4139" y="1740"/>
                            </a:lnTo>
                            <a:lnTo>
                              <a:pt x="4143" y="1785"/>
                            </a:lnTo>
                            <a:lnTo>
                              <a:pt x="4147" y="1829"/>
                            </a:lnTo>
                            <a:lnTo>
                              <a:pt x="4151" y="1874"/>
                            </a:lnTo>
                            <a:lnTo>
                              <a:pt x="4162" y="1886"/>
                            </a:lnTo>
                            <a:lnTo>
                              <a:pt x="4174" y="1900"/>
                            </a:lnTo>
                            <a:lnTo>
                              <a:pt x="4186" y="1911"/>
                            </a:lnTo>
                            <a:lnTo>
                              <a:pt x="4199" y="1921"/>
                            </a:lnTo>
                            <a:lnTo>
                              <a:pt x="4213" y="1931"/>
                            </a:lnTo>
                            <a:lnTo>
                              <a:pt x="4227" y="1935"/>
                            </a:lnTo>
                            <a:lnTo>
                              <a:pt x="4242" y="1935"/>
                            </a:lnTo>
                            <a:lnTo>
                              <a:pt x="4260" y="1929"/>
                            </a:lnTo>
                            <a:lnTo>
                              <a:pt x="4279" y="1907"/>
                            </a:lnTo>
                            <a:lnTo>
                              <a:pt x="4295" y="1886"/>
                            </a:lnTo>
                            <a:lnTo>
                              <a:pt x="4308" y="1861"/>
                            </a:lnTo>
                            <a:lnTo>
                              <a:pt x="4322" y="1837"/>
                            </a:lnTo>
                            <a:lnTo>
                              <a:pt x="4332" y="1810"/>
                            </a:lnTo>
                            <a:lnTo>
                              <a:pt x="4339" y="1785"/>
                            </a:lnTo>
                            <a:lnTo>
                              <a:pt x="4347" y="1755"/>
                            </a:lnTo>
                            <a:lnTo>
                              <a:pt x="4353" y="1728"/>
                            </a:lnTo>
                            <a:lnTo>
                              <a:pt x="4372" y="1773"/>
                            </a:lnTo>
                            <a:lnTo>
                              <a:pt x="4390" y="1820"/>
                            </a:lnTo>
                            <a:lnTo>
                              <a:pt x="4405" y="1867"/>
                            </a:lnTo>
                            <a:lnTo>
                              <a:pt x="4417" y="1915"/>
                            </a:lnTo>
                            <a:lnTo>
                              <a:pt x="4427" y="1964"/>
                            </a:lnTo>
                            <a:lnTo>
                              <a:pt x="4437" y="2013"/>
                            </a:lnTo>
                            <a:lnTo>
                              <a:pt x="4442" y="2063"/>
                            </a:lnTo>
                            <a:lnTo>
                              <a:pt x="4450" y="2112"/>
                            </a:lnTo>
                            <a:lnTo>
                              <a:pt x="4456" y="2163"/>
                            </a:lnTo>
                            <a:lnTo>
                              <a:pt x="4462" y="2213"/>
                            </a:lnTo>
                            <a:lnTo>
                              <a:pt x="4470" y="2264"/>
                            </a:lnTo>
                            <a:lnTo>
                              <a:pt x="4477" y="2313"/>
                            </a:lnTo>
                            <a:lnTo>
                              <a:pt x="4485" y="2363"/>
                            </a:lnTo>
                            <a:lnTo>
                              <a:pt x="4495" y="2412"/>
                            </a:lnTo>
                            <a:lnTo>
                              <a:pt x="4509" y="2461"/>
                            </a:lnTo>
                            <a:lnTo>
                              <a:pt x="4522" y="2510"/>
                            </a:lnTo>
                            <a:lnTo>
                              <a:pt x="4538" y="2560"/>
                            </a:lnTo>
                            <a:lnTo>
                              <a:pt x="4553" y="2613"/>
                            </a:lnTo>
                            <a:lnTo>
                              <a:pt x="4569" y="2666"/>
                            </a:lnTo>
                            <a:lnTo>
                              <a:pt x="4584" y="2718"/>
                            </a:lnTo>
                            <a:lnTo>
                              <a:pt x="4602" y="2771"/>
                            </a:lnTo>
                            <a:lnTo>
                              <a:pt x="4617" y="2823"/>
                            </a:lnTo>
                            <a:lnTo>
                              <a:pt x="4633" y="2878"/>
                            </a:lnTo>
                            <a:lnTo>
                              <a:pt x="4649" y="2932"/>
                            </a:lnTo>
                            <a:lnTo>
                              <a:pt x="4662" y="2987"/>
                            </a:lnTo>
                            <a:lnTo>
                              <a:pt x="4678" y="3042"/>
                            </a:lnTo>
                            <a:lnTo>
                              <a:pt x="4691" y="3096"/>
                            </a:lnTo>
                            <a:lnTo>
                              <a:pt x="4705" y="3153"/>
                            </a:lnTo>
                            <a:lnTo>
                              <a:pt x="4717" y="3209"/>
                            </a:lnTo>
                            <a:lnTo>
                              <a:pt x="4728" y="3264"/>
                            </a:lnTo>
                            <a:lnTo>
                              <a:pt x="4740" y="3320"/>
                            </a:lnTo>
                            <a:lnTo>
                              <a:pt x="4750" y="3377"/>
                            </a:lnTo>
                            <a:lnTo>
                              <a:pt x="4757" y="3433"/>
                            </a:lnTo>
                            <a:lnTo>
                              <a:pt x="4765" y="3490"/>
                            </a:lnTo>
                            <a:lnTo>
                              <a:pt x="4771" y="3546"/>
                            </a:lnTo>
                            <a:lnTo>
                              <a:pt x="4775" y="3603"/>
                            </a:lnTo>
                            <a:lnTo>
                              <a:pt x="4779" y="3659"/>
                            </a:lnTo>
                            <a:lnTo>
                              <a:pt x="4779" y="3716"/>
                            </a:lnTo>
                            <a:lnTo>
                              <a:pt x="4779" y="3772"/>
                            </a:lnTo>
                            <a:lnTo>
                              <a:pt x="4777" y="3829"/>
                            </a:lnTo>
                            <a:lnTo>
                              <a:pt x="4773" y="3885"/>
                            </a:lnTo>
                            <a:lnTo>
                              <a:pt x="4767" y="3942"/>
                            </a:lnTo>
                            <a:lnTo>
                              <a:pt x="4759" y="3998"/>
                            </a:lnTo>
                            <a:lnTo>
                              <a:pt x="4750" y="4055"/>
                            </a:lnTo>
                            <a:lnTo>
                              <a:pt x="4736" y="4110"/>
                            </a:lnTo>
                            <a:lnTo>
                              <a:pt x="4722" y="4166"/>
                            </a:lnTo>
                            <a:lnTo>
                              <a:pt x="4705" y="4223"/>
                            </a:lnTo>
                            <a:lnTo>
                              <a:pt x="4686" y="4277"/>
                            </a:lnTo>
                            <a:lnTo>
                              <a:pt x="4641" y="4363"/>
                            </a:lnTo>
                            <a:lnTo>
                              <a:pt x="4592" y="4445"/>
                            </a:lnTo>
                            <a:lnTo>
                              <a:pt x="4542" y="4521"/>
                            </a:lnTo>
                            <a:lnTo>
                              <a:pt x="4487" y="4593"/>
                            </a:lnTo>
                            <a:lnTo>
                              <a:pt x="4431" y="4661"/>
                            </a:lnTo>
                            <a:lnTo>
                              <a:pt x="4370" y="4723"/>
                            </a:lnTo>
                            <a:lnTo>
                              <a:pt x="4308" y="4782"/>
                            </a:lnTo>
                            <a:lnTo>
                              <a:pt x="4244" y="4838"/>
                            </a:lnTo>
                            <a:lnTo>
                              <a:pt x="4178" y="4889"/>
                            </a:lnTo>
                            <a:lnTo>
                              <a:pt x="4110" y="4938"/>
                            </a:lnTo>
                            <a:lnTo>
                              <a:pt x="4038" y="4981"/>
                            </a:lnTo>
                            <a:lnTo>
                              <a:pt x="3966" y="5022"/>
                            </a:lnTo>
                            <a:lnTo>
                              <a:pt x="3892" y="5061"/>
                            </a:lnTo>
                            <a:lnTo>
                              <a:pt x="3816" y="5096"/>
                            </a:lnTo>
                            <a:lnTo>
                              <a:pt x="3738" y="5129"/>
                            </a:lnTo>
                            <a:lnTo>
                              <a:pt x="3661" y="5158"/>
                            </a:lnTo>
                            <a:lnTo>
                              <a:pt x="3581" y="5185"/>
                            </a:lnTo>
                            <a:lnTo>
                              <a:pt x="3499" y="5211"/>
                            </a:lnTo>
                            <a:lnTo>
                              <a:pt x="3417" y="5234"/>
                            </a:lnTo>
                            <a:lnTo>
                              <a:pt x="3334" y="5255"/>
                            </a:lnTo>
                            <a:lnTo>
                              <a:pt x="3250" y="5275"/>
                            </a:lnTo>
                            <a:lnTo>
                              <a:pt x="3165" y="5294"/>
                            </a:lnTo>
                            <a:lnTo>
                              <a:pt x="3081" y="5312"/>
                            </a:lnTo>
                            <a:lnTo>
                              <a:pt x="2995" y="5327"/>
                            </a:lnTo>
                            <a:lnTo>
                              <a:pt x="2910" y="5341"/>
                            </a:lnTo>
                            <a:lnTo>
                              <a:pt x="2822" y="5357"/>
                            </a:lnTo>
                            <a:lnTo>
                              <a:pt x="2737" y="5368"/>
                            </a:lnTo>
                            <a:lnTo>
                              <a:pt x="2651" y="5382"/>
                            </a:lnTo>
                            <a:lnTo>
                              <a:pt x="2565" y="5396"/>
                            </a:lnTo>
                            <a:lnTo>
                              <a:pt x="2480" y="5407"/>
                            </a:lnTo>
                            <a:lnTo>
                              <a:pt x="2394" y="5419"/>
                            </a:lnTo>
                            <a:lnTo>
                              <a:pt x="2311" y="5433"/>
                            </a:lnTo>
                            <a:lnTo>
                              <a:pt x="2266" y="5429"/>
                            </a:lnTo>
                            <a:lnTo>
                              <a:pt x="2221" y="5425"/>
                            </a:lnTo>
                            <a:lnTo>
                              <a:pt x="2178" y="5419"/>
                            </a:lnTo>
                            <a:lnTo>
                              <a:pt x="2136" y="5411"/>
                            </a:lnTo>
                            <a:lnTo>
                              <a:pt x="2093" y="5403"/>
                            </a:lnTo>
                            <a:lnTo>
                              <a:pt x="2052" y="5394"/>
                            </a:lnTo>
                            <a:lnTo>
                              <a:pt x="2009" y="5384"/>
                            </a:lnTo>
                            <a:lnTo>
                              <a:pt x="1968" y="5372"/>
                            </a:lnTo>
                            <a:lnTo>
                              <a:pt x="1928" y="5359"/>
                            </a:lnTo>
                            <a:lnTo>
                              <a:pt x="1889" y="5347"/>
                            </a:lnTo>
                            <a:lnTo>
                              <a:pt x="1848" y="5333"/>
                            </a:lnTo>
                            <a:lnTo>
                              <a:pt x="1809" y="5318"/>
                            </a:lnTo>
                            <a:lnTo>
                              <a:pt x="1768" y="5302"/>
                            </a:lnTo>
                            <a:lnTo>
                              <a:pt x="1729" y="5287"/>
                            </a:lnTo>
                            <a:lnTo>
                              <a:pt x="1690" y="5271"/>
                            </a:lnTo>
                            <a:lnTo>
                              <a:pt x="1651" y="5255"/>
                            </a:lnTo>
                            <a:lnTo>
                              <a:pt x="1612" y="5240"/>
                            </a:lnTo>
                            <a:lnTo>
                              <a:pt x="1574" y="5222"/>
                            </a:lnTo>
                            <a:lnTo>
                              <a:pt x="1535" y="5207"/>
                            </a:lnTo>
                            <a:lnTo>
                              <a:pt x="1496" y="5191"/>
                            </a:lnTo>
                            <a:lnTo>
                              <a:pt x="1457" y="5174"/>
                            </a:lnTo>
                            <a:lnTo>
                              <a:pt x="1418" y="5158"/>
                            </a:lnTo>
                            <a:lnTo>
                              <a:pt x="1377" y="5144"/>
                            </a:lnTo>
                            <a:lnTo>
                              <a:pt x="1338" y="5129"/>
                            </a:lnTo>
                            <a:lnTo>
                              <a:pt x="1297" y="5115"/>
                            </a:lnTo>
                            <a:lnTo>
                              <a:pt x="1258" y="5101"/>
                            </a:lnTo>
                            <a:lnTo>
                              <a:pt x="1218" y="5088"/>
                            </a:lnTo>
                            <a:lnTo>
                              <a:pt x="1177" y="5076"/>
                            </a:lnTo>
                            <a:lnTo>
                              <a:pt x="1136" y="5064"/>
                            </a:lnTo>
                            <a:lnTo>
                              <a:pt x="1095" y="5055"/>
                            </a:lnTo>
                            <a:lnTo>
                              <a:pt x="1052" y="5045"/>
                            </a:lnTo>
                            <a:lnTo>
                              <a:pt x="1009" y="5037"/>
                            </a:lnTo>
                            <a:lnTo>
                              <a:pt x="937" y="5010"/>
                            </a:lnTo>
                            <a:lnTo>
                              <a:pt x="866" y="4979"/>
                            </a:lnTo>
                            <a:lnTo>
                              <a:pt x="796" y="4944"/>
                            </a:lnTo>
                            <a:lnTo>
                              <a:pt x="725" y="4907"/>
                            </a:lnTo>
                            <a:lnTo>
                              <a:pt x="657" y="4866"/>
                            </a:lnTo>
                            <a:lnTo>
                              <a:pt x="591" y="4821"/>
                            </a:lnTo>
                            <a:lnTo>
                              <a:pt x="527" y="4774"/>
                            </a:lnTo>
                            <a:lnTo>
                              <a:pt x="463" y="4723"/>
                            </a:lnTo>
                            <a:lnTo>
                              <a:pt x="403" y="4671"/>
                            </a:lnTo>
                            <a:lnTo>
                              <a:pt x="344" y="4614"/>
                            </a:lnTo>
                            <a:lnTo>
                              <a:pt x="290" y="4556"/>
                            </a:lnTo>
                            <a:lnTo>
                              <a:pt x="237" y="4495"/>
                            </a:lnTo>
                            <a:lnTo>
                              <a:pt x="189" y="4431"/>
                            </a:lnTo>
                            <a:lnTo>
                              <a:pt x="144" y="4365"/>
                            </a:lnTo>
                            <a:lnTo>
                              <a:pt x="103" y="4297"/>
                            </a:lnTo>
                            <a:lnTo>
                              <a:pt x="66" y="4224"/>
                            </a:lnTo>
                            <a:lnTo>
                              <a:pt x="47" y="4131"/>
                            </a:lnTo>
                            <a:lnTo>
                              <a:pt x="29" y="4039"/>
                            </a:lnTo>
                            <a:lnTo>
                              <a:pt x="18" y="3948"/>
                            </a:lnTo>
                            <a:lnTo>
                              <a:pt x="8" y="3856"/>
                            </a:lnTo>
                            <a:lnTo>
                              <a:pt x="4" y="3767"/>
                            </a:lnTo>
                            <a:lnTo>
                              <a:pt x="0" y="3677"/>
                            </a:lnTo>
                            <a:lnTo>
                              <a:pt x="2" y="3589"/>
                            </a:lnTo>
                            <a:lnTo>
                              <a:pt x="6" y="3500"/>
                            </a:lnTo>
                            <a:lnTo>
                              <a:pt x="12" y="3414"/>
                            </a:lnTo>
                            <a:lnTo>
                              <a:pt x="21" y="3326"/>
                            </a:lnTo>
                            <a:lnTo>
                              <a:pt x="33" y="3240"/>
                            </a:lnTo>
                            <a:lnTo>
                              <a:pt x="47" y="3155"/>
                            </a:lnTo>
                            <a:lnTo>
                              <a:pt x="60" y="3069"/>
                            </a:lnTo>
                            <a:lnTo>
                              <a:pt x="78" y="2983"/>
                            </a:lnTo>
                            <a:lnTo>
                              <a:pt x="95" y="2899"/>
                            </a:lnTo>
                            <a:lnTo>
                              <a:pt x="115" y="2814"/>
                            </a:lnTo>
                            <a:lnTo>
                              <a:pt x="136" y="2730"/>
                            </a:lnTo>
                            <a:lnTo>
                              <a:pt x="158" y="2646"/>
                            </a:lnTo>
                            <a:lnTo>
                              <a:pt x="179" y="2562"/>
                            </a:lnTo>
                            <a:lnTo>
                              <a:pt x="202" y="2478"/>
                            </a:lnTo>
                            <a:lnTo>
                              <a:pt x="226" y="2395"/>
                            </a:lnTo>
                            <a:lnTo>
                              <a:pt x="249" y="2311"/>
                            </a:lnTo>
                            <a:lnTo>
                              <a:pt x="270" y="2227"/>
                            </a:lnTo>
                            <a:lnTo>
                              <a:pt x="294" y="2143"/>
                            </a:lnTo>
                            <a:lnTo>
                              <a:pt x="315" y="2059"/>
                            </a:lnTo>
                            <a:lnTo>
                              <a:pt x="336" y="1976"/>
                            </a:lnTo>
                            <a:lnTo>
                              <a:pt x="358" y="1890"/>
                            </a:lnTo>
                            <a:lnTo>
                              <a:pt x="375" y="1806"/>
                            </a:lnTo>
                            <a:lnTo>
                              <a:pt x="395" y="1720"/>
                            </a:lnTo>
                            <a:lnTo>
                              <a:pt x="410" y="1635"/>
                            </a:lnTo>
                            <a:lnTo>
                              <a:pt x="424" y="1549"/>
                            </a:lnTo>
                            <a:lnTo>
                              <a:pt x="438" y="1463"/>
                            </a:lnTo>
                            <a:lnTo>
                              <a:pt x="478" y="1444"/>
                            </a:lnTo>
                            <a:lnTo>
                              <a:pt x="504" y="1420"/>
                            </a:lnTo>
                            <a:lnTo>
                              <a:pt x="517" y="1395"/>
                            </a:lnTo>
                            <a:lnTo>
                              <a:pt x="525" y="1364"/>
                            </a:lnTo>
                            <a:lnTo>
                              <a:pt x="527" y="1333"/>
                            </a:lnTo>
                            <a:lnTo>
                              <a:pt x="529" y="1297"/>
                            </a:lnTo>
                            <a:lnTo>
                              <a:pt x="533" y="1260"/>
                            </a:lnTo>
                            <a:lnTo>
                              <a:pt x="547" y="1223"/>
                            </a:lnTo>
                            <a:lnTo>
                              <a:pt x="570" y="1161"/>
                            </a:lnTo>
                            <a:lnTo>
                              <a:pt x="593" y="1099"/>
                            </a:lnTo>
                            <a:lnTo>
                              <a:pt x="617" y="1036"/>
                            </a:lnTo>
                            <a:lnTo>
                              <a:pt x="640" y="974"/>
                            </a:lnTo>
                            <a:lnTo>
                              <a:pt x="663" y="914"/>
                            </a:lnTo>
                            <a:lnTo>
                              <a:pt x="689" y="851"/>
                            </a:lnTo>
                            <a:lnTo>
                              <a:pt x="716" y="791"/>
                            </a:lnTo>
                            <a:lnTo>
                              <a:pt x="743" y="730"/>
                            </a:lnTo>
                            <a:lnTo>
                              <a:pt x="772" y="670"/>
                            </a:lnTo>
                            <a:lnTo>
                              <a:pt x="803" y="612"/>
                            </a:lnTo>
                            <a:lnTo>
                              <a:pt x="834" y="553"/>
                            </a:lnTo>
                            <a:lnTo>
                              <a:pt x="869" y="497"/>
                            </a:lnTo>
                            <a:lnTo>
                              <a:pt x="906" y="440"/>
                            </a:lnTo>
                            <a:lnTo>
                              <a:pt x="945" y="385"/>
                            </a:lnTo>
                            <a:lnTo>
                              <a:pt x="988" y="331"/>
                            </a:lnTo>
                            <a:lnTo>
                              <a:pt x="1033" y="278"/>
                            </a:lnTo>
                            <a:lnTo>
                              <a:pt x="1021" y="341"/>
                            </a:lnTo>
                            <a:lnTo>
                              <a:pt x="1008" y="407"/>
                            </a:lnTo>
                            <a:lnTo>
                              <a:pt x="994" y="473"/>
                            </a:lnTo>
                            <a:lnTo>
                              <a:pt x="978" y="543"/>
                            </a:lnTo>
                            <a:lnTo>
                              <a:pt x="963" y="613"/>
                            </a:lnTo>
                            <a:lnTo>
                              <a:pt x="949" y="686"/>
                            </a:lnTo>
                            <a:lnTo>
                              <a:pt x="937" y="756"/>
                            </a:lnTo>
                            <a:lnTo>
                              <a:pt x="930" y="826"/>
                            </a:lnTo>
                            <a:lnTo>
                              <a:pt x="926" y="896"/>
                            </a:lnTo>
                            <a:lnTo>
                              <a:pt x="928" y="966"/>
                            </a:lnTo>
                            <a:lnTo>
                              <a:pt x="934" y="1032"/>
                            </a:lnTo>
                            <a:lnTo>
                              <a:pt x="947" y="1097"/>
                            </a:lnTo>
                            <a:lnTo>
                              <a:pt x="969" y="1157"/>
                            </a:lnTo>
                            <a:lnTo>
                              <a:pt x="998" y="1214"/>
                            </a:lnTo>
                            <a:lnTo>
                              <a:pt x="1039" y="1268"/>
                            </a:lnTo>
                            <a:lnTo>
                              <a:pt x="1087" y="1317"/>
                            </a:lnTo>
                            <a:lnTo>
                              <a:pt x="1126" y="1249"/>
                            </a:lnTo>
                            <a:lnTo>
                              <a:pt x="1165" y="1181"/>
                            </a:lnTo>
                            <a:lnTo>
                              <a:pt x="1208" y="1112"/>
                            </a:lnTo>
                            <a:lnTo>
                              <a:pt x="1251" y="1046"/>
                            </a:lnTo>
                            <a:lnTo>
                              <a:pt x="1295" y="980"/>
                            </a:lnTo>
                            <a:lnTo>
                              <a:pt x="1342" y="914"/>
                            </a:lnTo>
                            <a:lnTo>
                              <a:pt x="1389" y="849"/>
                            </a:lnTo>
                            <a:lnTo>
                              <a:pt x="1439" y="785"/>
                            </a:lnTo>
                            <a:lnTo>
                              <a:pt x="1490" y="723"/>
                            </a:lnTo>
                            <a:lnTo>
                              <a:pt x="1544" y="660"/>
                            </a:lnTo>
                            <a:lnTo>
                              <a:pt x="1599" y="600"/>
                            </a:lnTo>
                            <a:lnTo>
                              <a:pt x="1655" y="539"/>
                            </a:lnTo>
                            <a:lnTo>
                              <a:pt x="1714" y="481"/>
                            </a:lnTo>
                            <a:lnTo>
                              <a:pt x="1774" y="424"/>
                            </a:lnTo>
                            <a:lnTo>
                              <a:pt x="1836" y="370"/>
                            </a:lnTo>
                            <a:lnTo>
                              <a:pt x="1900" y="317"/>
                            </a:lnTo>
                            <a:lnTo>
                              <a:pt x="1894" y="385"/>
                            </a:lnTo>
                            <a:lnTo>
                              <a:pt x="1889" y="458"/>
                            </a:lnTo>
                            <a:lnTo>
                              <a:pt x="1881" y="534"/>
                            </a:lnTo>
                            <a:lnTo>
                              <a:pt x="1873" y="612"/>
                            </a:lnTo>
                            <a:lnTo>
                              <a:pt x="1865" y="691"/>
                            </a:lnTo>
                            <a:lnTo>
                              <a:pt x="1861" y="771"/>
                            </a:lnTo>
                            <a:lnTo>
                              <a:pt x="1857" y="853"/>
                            </a:lnTo>
                            <a:lnTo>
                              <a:pt x="1859" y="933"/>
                            </a:lnTo>
                            <a:lnTo>
                              <a:pt x="1863" y="1013"/>
                            </a:lnTo>
                            <a:lnTo>
                              <a:pt x="1875" y="1091"/>
                            </a:lnTo>
                            <a:lnTo>
                              <a:pt x="1891" y="1165"/>
                            </a:lnTo>
                            <a:lnTo>
                              <a:pt x="1912" y="1235"/>
                            </a:lnTo>
                            <a:lnTo>
                              <a:pt x="1943" y="1301"/>
                            </a:lnTo>
                            <a:lnTo>
                              <a:pt x="1980" y="1362"/>
                            </a:lnTo>
                            <a:lnTo>
                              <a:pt x="2029" y="1416"/>
                            </a:lnTo>
                            <a:lnTo>
                              <a:pt x="2085" y="1463"/>
                            </a:lnTo>
                            <a:lnTo>
                              <a:pt x="2099" y="1426"/>
                            </a:lnTo>
                            <a:lnTo>
                              <a:pt x="2110" y="1387"/>
                            </a:lnTo>
                            <a:lnTo>
                              <a:pt x="2122" y="1348"/>
                            </a:lnTo>
                            <a:lnTo>
                              <a:pt x="2132" y="1309"/>
                            </a:lnTo>
                            <a:lnTo>
                              <a:pt x="2143" y="1270"/>
                            </a:lnTo>
                            <a:lnTo>
                              <a:pt x="2153" y="1231"/>
                            </a:lnTo>
                            <a:lnTo>
                              <a:pt x="2163" y="1192"/>
                            </a:lnTo>
                            <a:lnTo>
                              <a:pt x="2175" y="1153"/>
                            </a:lnTo>
                            <a:lnTo>
                              <a:pt x="2184" y="1114"/>
                            </a:lnTo>
                            <a:lnTo>
                              <a:pt x="2194" y="1073"/>
                            </a:lnTo>
                            <a:lnTo>
                              <a:pt x="2204" y="1034"/>
                            </a:lnTo>
                            <a:lnTo>
                              <a:pt x="2213" y="993"/>
                            </a:lnTo>
                            <a:lnTo>
                              <a:pt x="2223" y="955"/>
                            </a:lnTo>
                            <a:lnTo>
                              <a:pt x="2235" y="916"/>
                            </a:lnTo>
                            <a:lnTo>
                              <a:pt x="2245" y="875"/>
                            </a:lnTo>
                            <a:lnTo>
                              <a:pt x="2256" y="836"/>
                            </a:lnTo>
                            <a:lnTo>
                              <a:pt x="2280" y="783"/>
                            </a:lnTo>
                            <a:lnTo>
                              <a:pt x="2303" y="730"/>
                            </a:lnTo>
                            <a:lnTo>
                              <a:pt x="2324" y="676"/>
                            </a:lnTo>
                            <a:lnTo>
                              <a:pt x="2346" y="621"/>
                            </a:lnTo>
                            <a:lnTo>
                              <a:pt x="2367" y="569"/>
                            </a:lnTo>
                            <a:lnTo>
                              <a:pt x="2387" y="514"/>
                            </a:lnTo>
                            <a:lnTo>
                              <a:pt x="2408" y="460"/>
                            </a:lnTo>
                            <a:lnTo>
                              <a:pt x="2429" y="405"/>
                            </a:lnTo>
                            <a:lnTo>
                              <a:pt x="2453" y="352"/>
                            </a:lnTo>
                            <a:lnTo>
                              <a:pt x="2476" y="300"/>
                            </a:lnTo>
                            <a:lnTo>
                              <a:pt x="2501" y="247"/>
                            </a:lnTo>
                            <a:lnTo>
                              <a:pt x="2529" y="195"/>
                            </a:lnTo>
                            <a:lnTo>
                              <a:pt x="2560" y="144"/>
                            </a:lnTo>
                            <a:lnTo>
                              <a:pt x="2593" y="95"/>
                            </a:lnTo>
                            <a:lnTo>
                              <a:pt x="2628" y="46"/>
                            </a:lnTo>
                            <a:lnTo>
                              <a:pt x="2667" y="0"/>
                            </a:lnTo>
                            <a:lnTo>
                              <a:pt x="2766" y="41"/>
                            </a:lnTo>
                            <a:lnTo>
                              <a:pt x="2855" y="91"/>
                            </a:lnTo>
                            <a:lnTo>
                              <a:pt x="2935" y="148"/>
                            </a:lnTo>
                            <a:lnTo>
                              <a:pt x="3005" y="214"/>
                            </a:lnTo>
                            <a:lnTo>
                              <a:pt x="3069" y="286"/>
                            </a:lnTo>
                            <a:lnTo>
                              <a:pt x="3128" y="364"/>
                            </a:lnTo>
                            <a:lnTo>
                              <a:pt x="3178" y="446"/>
                            </a:lnTo>
                            <a:lnTo>
                              <a:pt x="3225" y="532"/>
                            </a:lnTo>
                            <a:lnTo>
                              <a:pt x="3268" y="621"/>
                            </a:lnTo>
                            <a:lnTo>
                              <a:pt x="3307" y="713"/>
                            </a:lnTo>
                            <a:lnTo>
                              <a:pt x="3343" y="806"/>
                            </a:lnTo>
                            <a:lnTo>
                              <a:pt x="3377" y="900"/>
                            </a:lnTo>
                            <a:lnTo>
                              <a:pt x="3412" y="992"/>
                            </a:lnTo>
                            <a:lnTo>
                              <a:pt x="3445" y="1085"/>
                            </a:lnTo>
                            <a:lnTo>
                              <a:pt x="3480" y="1175"/>
                            </a:lnTo>
                            <a:lnTo>
                              <a:pt x="3517" y="1262"/>
                            </a:lnTo>
                            <a:close/>
                          </a:path>
                        </a:pathLst>
                      </a:custGeom>
                      <a:solidFill>
                        <a:srgbClr val="ffd8b2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77" name=""/>
                      <p:cNvSpPr/>
                      <p:nvPr/>
                    </p:nvSpPr>
                    <p:spPr>
                      <a:xfrm>
                        <a:off x="1767600" y="2131560"/>
                        <a:ext cx="49320" cy="86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47" h="1869">
                            <a:moveTo>
                              <a:pt x="947" y="334"/>
                            </a:moveTo>
                            <a:lnTo>
                              <a:pt x="945" y="359"/>
                            </a:lnTo>
                            <a:lnTo>
                              <a:pt x="941" y="382"/>
                            </a:lnTo>
                            <a:lnTo>
                              <a:pt x="935" y="404"/>
                            </a:lnTo>
                            <a:lnTo>
                              <a:pt x="931" y="425"/>
                            </a:lnTo>
                            <a:lnTo>
                              <a:pt x="925" y="447"/>
                            </a:lnTo>
                            <a:lnTo>
                              <a:pt x="922" y="470"/>
                            </a:lnTo>
                            <a:lnTo>
                              <a:pt x="922" y="493"/>
                            </a:lnTo>
                            <a:lnTo>
                              <a:pt x="925" y="519"/>
                            </a:lnTo>
                            <a:lnTo>
                              <a:pt x="912" y="505"/>
                            </a:lnTo>
                            <a:lnTo>
                              <a:pt x="896" y="487"/>
                            </a:lnTo>
                            <a:lnTo>
                              <a:pt x="877" y="470"/>
                            </a:lnTo>
                            <a:lnTo>
                              <a:pt x="859" y="450"/>
                            </a:lnTo>
                            <a:lnTo>
                              <a:pt x="838" y="431"/>
                            </a:lnTo>
                            <a:lnTo>
                              <a:pt x="816" y="410"/>
                            </a:lnTo>
                            <a:lnTo>
                              <a:pt x="793" y="388"/>
                            </a:lnTo>
                            <a:lnTo>
                              <a:pt x="768" y="367"/>
                            </a:lnTo>
                            <a:lnTo>
                              <a:pt x="743" y="347"/>
                            </a:lnTo>
                            <a:lnTo>
                              <a:pt x="717" y="328"/>
                            </a:lnTo>
                            <a:lnTo>
                              <a:pt x="690" y="308"/>
                            </a:lnTo>
                            <a:lnTo>
                              <a:pt x="663" y="291"/>
                            </a:lnTo>
                            <a:lnTo>
                              <a:pt x="636" y="275"/>
                            </a:lnTo>
                            <a:lnTo>
                              <a:pt x="608" y="259"/>
                            </a:lnTo>
                            <a:lnTo>
                              <a:pt x="581" y="250"/>
                            </a:lnTo>
                            <a:lnTo>
                              <a:pt x="554" y="240"/>
                            </a:lnTo>
                            <a:lnTo>
                              <a:pt x="523" y="242"/>
                            </a:lnTo>
                            <a:lnTo>
                              <a:pt x="492" y="242"/>
                            </a:lnTo>
                            <a:lnTo>
                              <a:pt x="459" y="242"/>
                            </a:lnTo>
                            <a:lnTo>
                              <a:pt x="424" y="242"/>
                            </a:lnTo>
                            <a:lnTo>
                              <a:pt x="389" y="242"/>
                            </a:lnTo>
                            <a:lnTo>
                              <a:pt x="354" y="246"/>
                            </a:lnTo>
                            <a:lnTo>
                              <a:pt x="319" y="248"/>
                            </a:lnTo>
                            <a:lnTo>
                              <a:pt x="284" y="254"/>
                            </a:lnTo>
                            <a:lnTo>
                              <a:pt x="250" y="263"/>
                            </a:lnTo>
                            <a:lnTo>
                              <a:pt x="219" y="273"/>
                            </a:lnTo>
                            <a:lnTo>
                              <a:pt x="190" y="289"/>
                            </a:lnTo>
                            <a:lnTo>
                              <a:pt x="163" y="306"/>
                            </a:lnTo>
                            <a:lnTo>
                              <a:pt x="140" y="328"/>
                            </a:lnTo>
                            <a:lnTo>
                              <a:pt x="118" y="355"/>
                            </a:lnTo>
                            <a:lnTo>
                              <a:pt x="101" y="388"/>
                            </a:lnTo>
                            <a:lnTo>
                              <a:pt x="89" y="425"/>
                            </a:lnTo>
                            <a:lnTo>
                              <a:pt x="83" y="482"/>
                            </a:lnTo>
                            <a:lnTo>
                              <a:pt x="77" y="540"/>
                            </a:lnTo>
                            <a:lnTo>
                              <a:pt x="75" y="599"/>
                            </a:lnTo>
                            <a:lnTo>
                              <a:pt x="75" y="657"/>
                            </a:lnTo>
                            <a:lnTo>
                              <a:pt x="79" y="715"/>
                            </a:lnTo>
                            <a:lnTo>
                              <a:pt x="85" y="774"/>
                            </a:lnTo>
                            <a:lnTo>
                              <a:pt x="93" y="830"/>
                            </a:lnTo>
                            <a:lnTo>
                              <a:pt x="107" y="885"/>
                            </a:lnTo>
                            <a:lnTo>
                              <a:pt x="122" y="938"/>
                            </a:lnTo>
                            <a:lnTo>
                              <a:pt x="144" y="988"/>
                            </a:lnTo>
                            <a:lnTo>
                              <a:pt x="169" y="1037"/>
                            </a:lnTo>
                            <a:lnTo>
                              <a:pt x="198" y="1084"/>
                            </a:lnTo>
                            <a:lnTo>
                              <a:pt x="233" y="1127"/>
                            </a:lnTo>
                            <a:lnTo>
                              <a:pt x="272" y="1166"/>
                            </a:lnTo>
                            <a:lnTo>
                              <a:pt x="317" y="1201"/>
                            </a:lnTo>
                            <a:lnTo>
                              <a:pt x="367" y="1232"/>
                            </a:lnTo>
                            <a:lnTo>
                              <a:pt x="363" y="1283"/>
                            </a:lnTo>
                            <a:lnTo>
                              <a:pt x="363" y="1331"/>
                            </a:lnTo>
                            <a:lnTo>
                              <a:pt x="371" y="1380"/>
                            </a:lnTo>
                            <a:lnTo>
                              <a:pt x="383" y="1425"/>
                            </a:lnTo>
                            <a:lnTo>
                              <a:pt x="402" y="1466"/>
                            </a:lnTo>
                            <a:lnTo>
                              <a:pt x="431" y="1499"/>
                            </a:lnTo>
                            <a:lnTo>
                              <a:pt x="468" y="1524"/>
                            </a:lnTo>
                            <a:lnTo>
                              <a:pt x="515" y="1542"/>
                            </a:lnTo>
                            <a:lnTo>
                              <a:pt x="700" y="1450"/>
                            </a:lnTo>
                            <a:lnTo>
                              <a:pt x="686" y="1481"/>
                            </a:lnTo>
                            <a:lnTo>
                              <a:pt x="676" y="1516"/>
                            </a:lnTo>
                            <a:lnTo>
                              <a:pt x="667" y="1555"/>
                            </a:lnTo>
                            <a:lnTo>
                              <a:pt x="659" y="1596"/>
                            </a:lnTo>
                            <a:lnTo>
                              <a:pt x="649" y="1639"/>
                            </a:lnTo>
                            <a:lnTo>
                              <a:pt x="641" y="1680"/>
                            </a:lnTo>
                            <a:lnTo>
                              <a:pt x="632" y="1721"/>
                            </a:lnTo>
                            <a:lnTo>
                              <a:pt x="618" y="1760"/>
                            </a:lnTo>
                            <a:lnTo>
                              <a:pt x="603" y="1795"/>
                            </a:lnTo>
                            <a:lnTo>
                              <a:pt x="583" y="1824"/>
                            </a:lnTo>
                            <a:lnTo>
                              <a:pt x="560" y="1848"/>
                            </a:lnTo>
                            <a:lnTo>
                              <a:pt x="533" y="1861"/>
                            </a:lnTo>
                            <a:lnTo>
                              <a:pt x="498" y="1869"/>
                            </a:lnTo>
                            <a:lnTo>
                              <a:pt x="457" y="1863"/>
                            </a:lnTo>
                            <a:lnTo>
                              <a:pt x="408" y="1850"/>
                            </a:lnTo>
                            <a:lnTo>
                              <a:pt x="352" y="1820"/>
                            </a:lnTo>
                            <a:lnTo>
                              <a:pt x="326" y="1801"/>
                            </a:lnTo>
                            <a:lnTo>
                              <a:pt x="305" y="1780"/>
                            </a:lnTo>
                            <a:lnTo>
                              <a:pt x="289" y="1758"/>
                            </a:lnTo>
                            <a:lnTo>
                              <a:pt x="278" y="1735"/>
                            </a:lnTo>
                            <a:lnTo>
                              <a:pt x="270" y="1711"/>
                            </a:lnTo>
                            <a:lnTo>
                              <a:pt x="266" y="1686"/>
                            </a:lnTo>
                            <a:lnTo>
                              <a:pt x="266" y="1661"/>
                            </a:lnTo>
                            <a:lnTo>
                              <a:pt x="266" y="1633"/>
                            </a:lnTo>
                            <a:lnTo>
                              <a:pt x="270" y="1608"/>
                            </a:lnTo>
                            <a:lnTo>
                              <a:pt x="274" y="1581"/>
                            </a:lnTo>
                            <a:lnTo>
                              <a:pt x="280" y="1553"/>
                            </a:lnTo>
                            <a:lnTo>
                              <a:pt x="284" y="1526"/>
                            </a:lnTo>
                            <a:lnTo>
                              <a:pt x="289" y="1499"/>
                            </a:lnTo>
                            <a:lnTo>
                              <a:pt x="293" y="1472"/>
                            </a:lnTo>
                            <a:lnTo>
                              <a:pt x="295" y="1444"/>
                            </a:lnTo>
                            <a:lnTo>
                              <a:pt x="297" y="1419"/>
                            </a:lnTo>
                            <a:lnTo>
                              <a:pt x="241" y="1361"/>
                            </a:lnTo>
                            <a:lnTo>
                              <a:pt x="190" y="1296"/>
                            </a:lnTo>
                            <a:lnTo>
                              <a:pt x="147" y="1228"/>
                            </a:lnTo>
                            <a:lnTo>
                              <a:pt x="109" y="1158"/>
                            </a:lnTo>
                            <a:lnTo>
                              <a:pt x="77" y="1084"/>
                            </a:lnTo>
                            <a:lnTo>
                              <a:pt x="50" y="1006"/>
                            </a:lnTo>
                            <a:lnTo>
                              <a:pt x="29" y="928"/>
                            </a:lnTo>
                            <a:lnTo>
                              <a:pt x="13" y="848"/>
                            </a:lnTo>
                            <a:lnTo>
                              <a:pt x="3" y="766"/>
                            </a:lnTo>
                            <a:lnTo>
                              <a:pt x="0" y="686"/>
                            </a:lnTo>
                            <a:lnTo>
                              <a:pt x="0" y="604"/>
                            </a:lnTo>
                            <a:lnTo>
                              <a:pt x="5" y="523"/>
                            </a:lnTo>
                            <a:lnTo>
                              <a:pt x="15" y="441"/>
                            </a:lnTo>
                            <a:lnTo>
                              <a:pt x="31" y="363"/>
                            </a:lnTo>
                            <a:lnTo>
                              <a:pt x="50" y="285"/>
                            </a:lnTo>
                            <a:lnTo>
                              <a:pt x="73" y="209"/>
                            </a:lnTo>
                            <a:lnTo>
                              <a:pt x="93" y="162"/>
                            </a:lnTo>
                            <a:lnTo>
                              <a:pt x="118" y="121"/>
                            </a:lnTo>
                            <a:lnTo>
                              <a:pt x="151" y="86"/>
                            </a:lnTo>
                            <a:lnTo>
                              <a:pt x="188" y="57"/>
                            </a:lnTo>
                            <a:lnTo>
                              <a:pt x="229" y="35"/>
                            </a:lnTo>
                            <a:lnTo>
                              <a:pt x="274" y="18"/>
                            </a:lnTo>
                            <a:lnTo>
                              <a:pt x="321" y="6"/>
                            </a:lnTo>
                            <a:lnTo>
                              <a:pt x="367" y="0"/>
                            </a:lnTo>
                            <a:lnTo>
                              <a:pt x="410" y="6"/>
                            </a:lnTo>
                            <a:lnTo>
                              <a:pt x="453" y="14"/>
                            </a:lnTo>
                            <a:lnTo>
                              <a:pt x="494" y="24"/>
                            </a:lnTo>
                            <a:lnTo>
                              <a:pt x="534" y="37"/>
                            </a:lnTo>
                            <a:lnTo>
                              <a:pt x="575" y="51"/>
                            </a:lnTo>
                            <a:lnTo>
                              <a:pt x="614" y="69"/>
                            </a:lnTo>
                            <a:lnTo>
                              <a:pt x="651" y="88"/>
                            </a:lnTo>
                            <a:lnTo>
                              <a:pt x="690" y="107"/>
                            </a:lnTo>
                            <a:lnTo>
                              <a:pt x="725" y="131"/>
                            </a:lnTo>
                            <a:lnTo>
                              <a:pt x="760" y="156"/>
                            </a:lnTo>
                            <a:lnTo>
                              <a:pt x="795" y="182"/>
                            </a:lnTo>
                            <a:lnTo>
                              <a:pt x="828" y="209"/>
                            </a:lnTo>
                            <a:lnTo>
                              <a:pt x="859" y="238"/>
                            </a:lnTo>
                            <a:lnTo>
                              <a:pt x="890" y="269"/>
                            </a:lnTo>
                            <a:lnTo>
                              <a:pt x="920" y="300"/>
                            </a:lnTo>
                            <a:lnTo>
                              <a:pt x="947" y="334"/>
                            </a:lnTo>
                            <a:close/>
                          </a:path>
                        </a:pathLst>
                      </a:custGeom>
                      <a:solidFill>
                        <a:srgbClr val="ffd8b2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9600" bIns="396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78" name=""/>
                      <p:cNvSpPr/>
                      <p:nvPr/>
                    </p:nvSpPr>
                    <p:spPr>
                      <a:xfrm>
                        <a:off x="1937880" y="2142720"/>
                        <a:ext cx="73440" cy="86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12" h="1867">
                            <a:moveTo>
                              <a:pt x="1226" y="359"/>
                            </a:moveTo>
                            <a:lnTo>
                              <a:pt x="1263" y="419"/>
                            </a:lnTo>
                            <a:lnTo>
                              <a:pt x="1294" y="481"/>
                            </a:lnTo>
                            <a:lnTo>
                              <a:pt x="1323" y="548"/>
                            </a:lnTo>
                            <a:lnTo>
                              <a:pt x="1346" y="618"/>
                            </a:lnTo>
                            <a:lnTo>
                              <a:pt x="1368" y="688"/>
                            </a:lnTo>
                            <a:lnTo>
                              <a:pt x="1383" y="762"/>
                            </a:lnTo>
                            <a:lnTo>
                              <a:pt x="1397" y="836"/>
                            </a:lnTo>
                            <a:lnTo>
                              <a:pt x="1406" y="910"/>
                            </a:lnTo>
                            <a:lnTo>
                              <a:pt x="1410" y="986"/>
                            </a:lnTo>
                            <a:lnTo>
                              <a:pt x="1412" y="1060"/>
                            </a:lnTo>
                            <a:lnTo>
                              <a:pt x="1408" y="1136"/>
                            </a:lnTo>
                            <a:lnTo>
                              <a:pt x="1403" y="1210"/>
                            </a:lnTo>
                            <a:lnTo>
                              <a:pt x="1391" y="1284"/>
                            </a:lnTo>
                            <a:lnTo>
                              <a:pt x="1375" y="1354"/>
                            </a:lnTo>
                            <a:lnTo>
                              <a:pt x="1358" y="1425"/>
                            </a:lnTo>
                            <a:lnTo>
                              <a:pt x="1335" y="1491"/>
                            </a:lnTo>
                            <a:lnTo>
                              <a:pt x="1307" y="1526"/>
                            </a:lnTo>
                            <a:lnTo>
                              <a:pt x="1276" y="1561"/>
                            </a:lnTo>
                            <a:lnTo>
                              <a:pt x="1245" y="1592"/>
                            </a:lnTo>
                            <a:lnTo>
                              <a:pt x="1214" y="1623"/>
                            </a:lnTo>
                            <a:lnTo>
                              <a:pt x="1181" y="1653"/>
                            </a:lnTo>
                            <a:lnTo>
                              <a:pt x="1146" y="1682"/>
                            </a:lnTo>
                            <a:lnTo>
                              <a:pt x="1109" y="1707"/>
                            </a:lnTo>
                            <a:lnTo>
                              <a:pt x="1074" y="1732"/>
                            </a:lnTo>
                            <a:lnTo>
                              <a:pt x="1035" y="1754"/>
                            </a:lnTo>
                            <a:lnTo>
                              <a:pt x="996" y="1775"/>
                            </a:lnTo>
                            <a:lnTo>
                              <a:pt x="957" y="1795"/>
                            </a:lnTo>
                            <a:lnTo>
                              <a:pt x="916" y="1812"/>
                            </a:lnTo>
                            <a:lnTo>
                              <a:pt x="876" y="1828"/>
                            </a:lnTo>
                            <a:lnTo>
                              <a:pt x="833" y="1842"/>
                            </a:lnTo>
                            <a:lnTo>
                              <a:pt x="790" y="1853"/>
                            </a:lnTo>
                            <a:lnTo>
                              <a:pt x="747" y="1863"/>
                            </a:lnTo>
                            <a:lnTo>
                              <a:pt x="700" y="1867"/>
                            </a:lnTo>
                            <a:lnTo>
                              <a:pt x="656" y="1867"/>
                            </a:lnTo>
                            <a:lnTo>
                              <a:pt x="613" y="1865"/>
                            </a:lnTo>
                            <a:lnTo>
                              <a:pt x="570" y="1859"/>
                            </a:lnTo>
                            <a:lnTo>
                              <a:pt x="529" y="1851"/>
                            </a:lnTo>
                            <a:lnTo>
                              <a:pt x="490" y="1840"/>
                            </a:lnTo>
                            <a:lnTo>
                              <a:pt x="451" y="1826"/>
                            </a:lnTo>
                            <a:lnTo>
                              <a:pt x="415" y="1808"/>
                            </a:lnTo>
                            <a:lnTo>
                              <a:pt x="378" y="1791"/>
                            </a:lnTo>
                            <a:lnTo>
                              <a:pt x="343" y="1771"/>
                            </a:lnTo>
                            <a:lnTo>
                              <a:pt x="308" y="1750"/>
                            </a:lnTo>
                            <a:lnTo>
                              <a:pt x="275" y="1727"/>
                            </a:lnTo>
                            <a:lnTo>
                              <a:pt x="241" y="1701"/>
                            </a:lnTo>
                            <a:lnTo>
                              <a:pt x="210" y="1676"/>
                            </a:lnTo>
                            <a:lnTo>
                              <a:pt x="179" y="1649"/>
                            </a:lnTo>
                            <a:lnTo>
                              <a:pt x="150" y="1621"/>
                            </a:lnTo>
                            <a:lnTo>
                              <a:pt x="101" y="1553"/>
                            </a:lnTo>
                            <a:lnTo>
                              <a:pt x="64" y="1483"/>
                            </a:lnTo>
                            <a:lnTo>
                              <a:pt x="35" y="1409"/>
                            </a:lnTo>
                            <a:lnTo>
                              <a:pt x="16" y="1333"/>
                            </a:lnTo>
                            <a:lnTo>
                              <a:pt x="4" y="1253"/>
                            </a:lnTo>
                            <a:lnTo>
                              <a:pt x="0" y="1173"/>
                            </a:lnTo>
                            <a:lnTo>
                              <a:pt x="4" y="1091"/>
                            </a:lnTo>
                            <a:lnTo>
                              <a:pt x="12" y="1010"/>
                            </a:lnTo>
                            <a:lnTo>
                              <a:pt x="26" y="928"/>
                            </a:lnTo>
                            <a:lnTo>
                              <a:pt x="45" y="846"/>
                            </a:lnTo>
                            <a:lnTo>
                              <a:pt x="66" y="766"/>
                            </a:lnTo>
                            <a:lnTo>
                              <a:pt x="92" y="686"/>
                            </a:lnTo>
                            <a:lnTo>
                              <a:pt x="117" y="610"/>
                            </a:lnTo>
                            <a:lnTo>
                              <a:pt x="146" y="536"/>
                            </a:lnTo>
                            <a:lnTo>
                              <a:pt x="175" y="466"/>
                            </a:lnTo>
                            <a:lnTo>
                              <a:pt x="204" y="398"/>
                            </a:lnTo>
                            <a:lnTo>
                              <a:pt x="226" y="363"/>
                            </a:lnTo>
                            <a:lnTo>
                              <a:pt x="245" y="329"/>
                            </a:lnTo>
                            <a:lnTo>
                              <a:pt x="269" y="294"/>
                            </a:lnTo>
                            <a:lnTo>
                              <a:pt x="290" y="263"/>
                            </a:lnTo>
                            <a:lnTo>
                              <a:pt x="313" y="230"/>
                            </a:lnTo>
                            <a:lnTo>
                              <a:pt x="337" y="201"/>
                            </a:lnTo>
                            <a:lnTo>
                              <a:pt x="362" y="172"/>
                            </a:lnTo>
                            <a:lnTo>
                              <a:pt x="389" y="144"/>
                            </a:lnTo>
                            <a:lnTo>
                              <a:pt x="416" y="119"/>
                            </a:lnTo>
                            <a:lnTo>
                              <a:pt x="446" y="96"/>
                            </a:lnTo>
                            <a:lnTo>
                              <a:pt x="477" y="74"/>
                            </a:lnTo>
                            <a:lnTo>
                              <a:pt x="508" y="55"/>
                            </a:lnTo>
                            <a:lnTo>
                              <a:pt x="541" y="37"/>
                            </a:lnTo>
                            <a:lnTo>
                              <a:pt x="578" y="23"/>
                            </a:lnTo>
                            <a:lnTo>
                              <a:pt x="615" y="12"/>
                            </a:lnTo>
                            <a:lnTo>
                              <a:pt x="654" y="2"/>
                            </a:lnTo>
                            <a:lnTo>
                              <a:pt x="700" y="0"/>
                            </a:lnTo>
                            <a:lnTo>
                              <a:pt x="745" y="2"/>
                            </a:lnTo>
                            <a:lnTo>
                              <a:pt x="788" y="10"/>
                            </a:lnTo>
                            <a:lnTo>
                              <a:pt x="831" y="20"/>
                            </a:lnTo>
                            <a:lnTo>
                              <a:pt x="872" y="33"/>
                            </a:lnTo>
                            <a:lnTo>
                              <a:pt x="911" y="51"/>
                            </a:lnTo>
                            <a:lnTo>
                              <a:pt x="949" y="72"/>
                            </a:lnTo>
                            <a:lnTo>
                              <a:pt x="986" y="96"/>
                            </a:lnTo>
                            <a:lnTo>
                              <a:pt x="1021" y="123"/>
                            </a:lnTo>
                            <a:lnTo>
                              <a:pt x="1056" y="152"/>
                            </a:lnTo>
                            <a:lnTo>
                              <a:pt x="1088" y="181"/>
                            </a:lnTo>
                            <a:lnTo>
                              <a:pt x="1119" y="214"/>
                            </a:lnTo>
                            <a:lnTo>
                              <a:pt x="1148" y="249"/>
                            </a:lnTo>
                            <a:lnTo>
                              <a:pt x="1175" y="285"/>
                            </a:lnTo>
                            <a:lnTo>
                              <a:pt x="1202" y="322"/>
                            </a:lnTo>
                            <a:lnTo>
                              <a:pt x="1226" y="359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9600" bIns="396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79" name=""/>
                      <p:cNvSpPr/>
                      <p:nvPr/>
                    </p:nvSpPr>
                    <p:spPr>
                      <a:xfrm>
                        <a:off x="1834920" y="2143800"/>
                        <a:ext cx="70200" cy="81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46" h="1750">
                            <a:moveTo>
                              <a:pt x="1060" y="112"/>
                            </a:moveTo>
                            <a:lnTo>
                              <a:pt x="1113" y="168"/>
                            </a:lnTo>
                            <a:lnTo>
                              <a:pt x="1159" y="230"/>
                            </a:lnTo>
                            <a:lnTo>
                              <a:pt x="1200" y="295"/>
                            </a:lnTo>
                            <a:lnTo>
                              <a:pt x="1235" y="361"/>
                            </a:lnTo>
                            <a:lnTo>
                              <a:pt x="1266" y="431"/>
                            </a:lnTo>
                            <a:lnTo>
                              <a:pt x="1291" y="503"/>
                            </a:lnTo>
                            <a:lnTo>
                              <a:pt x="1311" y="577"/>
                            </a:lnTo>
                            <a:lnTo>
                              <a:pt x="1326" y="653"/>
                            </a:lnTo>
                            <a:lnTo>
                              <a:pt x="1338" y="729"/>
                            </a:lnTo>
                            <a:lnTo>
                              <a:pt x="1344" y="807"/>
                            </a:lnTo>
                            <a:lnTo>
                              <a:pt x="1346" y="885"/>
                            </a:lnTo>
                            <a:lnTo>
                              <a:pt x="1344" y="963"/>
                            </a:lnTo>
                            <a:lnTo>
                              <a:pt x="1338" y="1039"/>
                            </a:lnTo>
                            <a:lnTo>
                              <a:pt x="1330" y="1117"/>
                            </a:lnTo>
                            <a:lnTo>
                              <a:pt x="1317" y="1191"/>
                            </a:lnTo>
                            <a:lnTo>
                              <a:pt x="1301" y="1265"/>
                            </a:lnTo>
                            <a:lnTo>
                              <a:pt x="1272" y="1312"/>
                            </a:lnTo>
                            <a:lnTo>
                              <a:pt x="1241" y="1359"/>
                            </a:lnTo>
                            <a:lnTo>
                              <a:pt x="1210" y="1405"/>
                            </a:lnTo>
                            <a:lnTo>
                              <a:pt x="1179" y="1450"/>
                            </a:lnTo>
                            <a:lnTo>
                              <a:pt x="1146" y="1495"/>
                            </a:lnTo>
                            <a:lnTo>
                              <a:pt x="1111" y="1538"/>
                            </a:lnTo>
                            <a:lnTo>
                              <a:pt x="1074" y="1577"/>
                            </a:lnTo>
                            <a:lnTo>
                              <a:pt x="1035" y="1614"/>
                            </a:lnTo>
                            <a:lnTo>
                              <a:pt x="994" y="1647"/>
                            </a:lnTo>
                            <a:lnTo>
                              <a:pt x="951" y="1676"/>
                            </a:lnTo>
                            <a:lnTo>
                              <a:pt x="906" y="1702"/>
                            </a:lnTo>
                            <a:lnTo>
                              <a:pt x="858" y="1723"/>
                            </a:lnTo>
                            <a:lnTo>
                              <a:pt x="807" y="1739"/>
                            </a:lnTo>
                            <a:lnTo>
                              <a:pt x="755" y="1747"/>
                            </a:lnTo>
                            <a:lnTo>
                              <a:pt x="696" y="1750"/>
                            </a:lnTo>
                            <a:lnTo>
                              <a:pt x="636" y="1747"/>
                            </a:lnTo>
                            <a:lnTo>
                              <a:pt x="583" y="1739"/>
                            </a:lnTo>
                            <a:lnTo>
                              <a:pt x="533" y="1727"/>
                            </a:lnTo>
                            <a:lnTo>
                              <a:pt x="484" y="1711"/>
                            </a:lnTo>
                            <a:lnTo>
                              <a:pt x="436" y="1692"/>
                            </a:lnTo>
                            <a:lnTo>
                              <a:pt x="391" y="1667"/>
                            </a:lnTo>
                            <a:lnTo>
                              <a:pt x="346" y="1639"/>
                            </a:lnTo>
                            <a:lnTo>
                              <a:pt x="305" y="1608"/>
                            </a:lnTo>
                            <a:lnTo>
                              <a:pt x="264" y="1573"/>
                            </a:lnTo>
                            <a:lnTo>
                              <a:pt x="228" y="1538"/>
                            </a:lnTo>
                            <a:lnTo>
                              <a:pt x="193" y="1497"/>
                            </a:lnTo>
                            <a:lnTo>
                              <a:pt x="159" y="1456"/>
                            </a:lnTo>
                            <a:lnTo>
                              <a:pt x="128" y="1413"/>
                            </a:lnTo>
                            <a:lnTo>
                              <a:pt x="101" y="1368"/>
                            </a:lnTo>
                            <a:lnTo>
                              <a:pt x="78" y="1322"/>
                            </a:lnTo>
                            <a:lnTo>
                              <a:pt x="56" y="1275"/>
                            </a:lnTo>
                            <a:lnTo>
                              <a:pt x="39" y="1226"/>
                            </a:lnTo>
                            <a:lnTo>
                              <a:pt x="23" y="1154"/>
                            </a:lnTo>
                            <a:lnTo>
                              <a:pt x="10" y="1082"/>
                            </a:lnTo>
                            <a:lnTo>
                              <a:pt x="4" y="1010"/>
                            </a:lnTo>
                            <a:lnTo>
                              <a:pt x="0" y="938"/>
                            </a:lnTo>
                            <a:lnTo>
                              <a:pt x="2" y="868"/>
                            </a:lnTo>
                            <a:lnTo>
                              <a:pt x="8" y="796"/>
                            </a:lnTo>
                            <a:lnTo>
                              <a:pt x="19" y="727"/>
                            </a:lnTo>
                            <a:lnTo>
                              <a:pt x="33" y="657"/>
                            </a:lnTo>
                            <a:lnTo>
                              <a:pt x="52" y="591"/>
                            </a:lnTo>
                            <a:lnTo>
                              <a:pt x="78" y="525"/>
                            </a:lnTo>
                            <a:lnTo>
                              <a:pt x="107" y="462"/>
                            </a:lnTo>
                            <a:lnTo>
                              <a:pt x="140" y="402"/>
                            </a:lnTo>
                            <a:lnTo>
                              <a:pt x="177" y="343"/>
                            </a:lnTo>
                            <a:lnTo>
                              <a:pt x="220" y="289"/>
                            </a:lnTo>
                            <a:lnTo>
                              <a:pt x="266" y="236"/>
                            </a:lnTo>
                            <a:lnTo>
                              <a:pt x="319" y="188"/>
                            </a:lnTo>
                            <a:lnTo>
                              <a:pt x="352" y="143"/>
                            </a:lnTo>
                            <a:lnTo>
                              <a:pt x="391" y="104"/>
                            </a:lnTo>
                            <a:lnTo>
                              <a:pt x="432" y="71"/>
                            </a:lnTo>
                            <a:lnTo>
                              <a:pt x="476" y="45"/>
                            </a:lnTo>
                            <a:lnTo>
                              <a:pt x="523" y="26"/>
                            </a:lnTo>
                            <a:lnTo>
                              <a:pt x="574" y="12"/>
                            </a:lnTo>
                            <a:lnTo>
                              <a:pt x="624" y="4"/>
                            </a:lnTo>
                            <a:lnTo>
                              <a:pt x="675" y="0"/>
                            </a:lnTo>
                            <a:lnTo>
                              <a:pt x="727" y="2"/>
                            </a:lnTo>
                            <a:lnTo>
                              <a:pt x="778" y="8"/>
                            </a:lnTo>
                            <a:lnTo>
                              <a:pt x="830" y="18"/>
                            </a:lnTo>
                            <a:lnTo>
                              <a:pt x="881" y="30"/>
                            </a:lnTo>
                            <a:lnTo>
                              <a:pt x="930" y="47"/>
                            </a:lnTo>
                            <a:lnTo>
                              <a:pt x="974" y="67"/>
                            </a:lnTo>
                            <a:lnTo>
                              <a:pt x="1019" y="88"/>
                            </a:lnTo>
                            <a:lnTo>
                              <a:pt x="1060" y="112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4200" bIns="342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80" name=""/>
                      <p:cNvSpPr/>
                      <p:nvPr/>
                    </p:nvSpPr>
                    <p:spPr>
                      <a:xfrm>
                        <a:off x="1779840" y="2149200"/>
                        <a:ext cx="32760" cy="2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30" h="624">
                            <a:moveTo>
                              <a:pt x="630" y="363"/>
                            </a:moveTo>
                            <a:lnTo>
                              <a:pt x="626" y="386"/>
                            </a:lnTo>
                            <a:lnTo>
                              <a:pt x="624" y="411"/>
                            </a:lnTo>
                            <a:lnTo>
                              <a:pt x="622" y="435"/>
                            </a:lnTo>
                            <a:lnTo>
                              <a:pt x="620" y="460"/>
                            </a:lnTo>
                            <a:lnTo>
                              <a:pt x="616" y="485"/>
                            </a:lnTo>
                            <a:lnTo>
                              <a:pt x="609" y="507"/>
                            </a:lnTo>
                            <a:lnTo>
                              <a:pt x="595" y="528"/>
                            </a:lnTo>
                            <a:lnTo>
                              <a:pt x="575" y="548"/>
                            </a:lnTo>
                            <a:lnTo>
                              <a:pt x="537" y="530"/>
                            </a:lnTo>
                            <a:lnTo>
                              <a:pt x="496" y="523"/>
                            </a:lnTo>
                            <a:lnTo>
                              <a:pt x="455" y="523"/>
                            </a:lnTo>
                            <a:lnTo>
                              <a:pt x="414" y="530"/>
                            </a:lnTo>
                            <a:lnTo>
                              <a:pt x="373" y="542"/>
                            </a:lnTo>
                            <a:lnTo>
                              <a:pt x="334" y="558"/>
                            </a:lnTo>
                            <a:lnTo>
                              <a:pt x="295" y="575"/>
                            </a:lnTo>
                            <a:lnTo>
                              <a:pt x="258" y="593"/>
                            </a:lnTo>
                            <a:lnTo>
                              <a:pt x="221" y="606"/>
                            </a:lnTo>
                            <a:lnTo>
                              <a:pt x="186" y="618"/>
                            </a:lnTo>
                            <a:lnTo>
                              <a:pt x="153" y="624"/>
                            </a:lnTo>
                            <a:lnTo>
                              <a:pt x="124" y="622"/>
                            </a:lnTo>
                            <a:lnTo>
                              <a:pt x="97" y="610"/>
                            </a:lnTo>
                            <a:lnTo>
                              <a:pt x="72" y="591"/>
                            </a:lnTo>
                            <a:lnTo>
                              <a:pt x="50" y="556"/>
                            </a:lnTo>
                            <a:lnTo>
                              <a:pt x="33" y="509"/>
                            </a:lnTo>
                            <a:lnTo>
                              <a:pt x="33" y="482"/>
                            </a:lnTo>
                            <a:lnTo>
                              <a:pt x="29" y="454"/>
                            </a:lnTo>
                            <a:lnTo>
                              <a:pt x="27" y="425"/>
                            </a:lnTo>
                            <a:lnTo>
                              <a:pt x="23" y="396"/>
                            </a:lnTo>
                            <a:lnTo>
                              <a:pt x="17" y="369"/>
                            </a:lnTo>
                            <a:lnTo>
                              <a:pt x="13" y="339"/>
                            </a:lnTo>
                            <a:lnTo>
                              <a:pt x="8" y="310"/>
                            </a:lnTo>
                            <a:lnTo>
                              <a:pt x="4" y="283"/>
                            </a:lnTo>
                            <a:lnTo>
                              <a:pt x="2" y="254"/>
                            </a:lnTo>
                            <a:lnTo>
                              <a:pt x="0" y="226"/>
                            </a:lnTo>
                            <a:lnTo>
                              <a:pt x="0" y="199"/>
                            </a:lnTo>
                            <a:lnTo>
                              <a:pt x="2" y="172"/>
                            </a:lnTo>
                            <a:lnTo>
                              <a:pt x="6" y="144"/>
                            </a:lnTo>
                            <a:lnTo>
                              <a:pt x="11" y="117"/>
                            </a:lnTo>
                            <a:lnTo>
                              <a:pt x="21" y="92"/>
                            </a:lnTo>
                            <a:lnTo>
                              <a:pt x="33" y="67"/>
                            </a:lnTo>
                            <a:lnTo>
                              <a:pt x="78" y="35"/>
                            </a:lnTo>
                            <a:lnTo>
                              <a:pt x="122" y="16"/>
                            </a:lnTo>
                            <a:lnTo>
                              <a:pt x="167" y="4"/>
                            </a:lnTo>
                            <a:lnTo>
                              <a:pt x="212" y="0"/>
                            </a:lnTo>
                            <a:lnTo>
                              <a:pt x="258" y="6"/>
                            </a:lnTo>
                            <a:lnTo>
                              <a:pt x="301" y="18"/>
                            </a:lnTo>
                            <a:lnTo>
                              <a:pt x="344" y="37"/>
                            </a:lnTo>
                            <a:lnTo>
                              <a:pt x="387" y="61"/>
                            </a:lnTo>
                            <a:lnTo>
                              <a:pt x="428" y="90"/>
                            </a:lnTo>
                            <a:lnTo>
                              <a:pt x="465" y="123"/>
                            </a:lnTo>
                            <a:lnTo>
                              <a:pt x="500" y="158"/>
                            </a:lnTo>
                            <a:lnTo>
                              <a:pt x="533" y="197"/>
                            </a:lnTo>
                            <a:lnTo>
                              <a:pt x="564" y="238"/>
                            </a:lnTo>
                            <a:lnTo>
                              <a:pt x="589" y="279"/>
                            </a:lnTo>
                            <a:lnTo>
                              <a:pt x="612" y="322"/>
                            </a:lnTo>
                            <a:lnTo>
                              <a:pt x="630" y="363"/>
                            </a:lnTo>
                            <a:close/>
                          </a:path>
                        </a:pathLst>
                      </a:custGeom>
                      <a:solidFill>
                        <a:srgbClr val="ffd8b2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8000" bIns="-180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81" name=""/>
                      <p:cNvSpPr/>
                      <p:nvPr/>
                    </p:nvSpPr>
                    <p:spPr>
                      <a:xfrm>
                        <a:off x="1842480" y="2149560"/>
                        <a:ext cx="54000" cy="66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36" h="1450">
                            <a:moveTo>
                              <a:pt x="990" y="374"/>
                            </a:moveTo>
                            <a:lnTo>
                              <a:pt x="1001" y="433"/>
                            </a:lnTo>
                            <a:lnTo>
                              <a:pt x="1011" y="491"/>
                            </a:lnTo>
                            <a:lnTo>
                              <a:pt x="1021" y="553"/>
                            </a:lnTo>
                            <a:lnTo>
                              <a:pt x="1029" y="616"/>
                            </a:lnTo>
                            <a:lnTo>
                              <a:pt x="1033" y="678"/>
                            </a:lnTo>
                            <a:lnTo>
                              <a:pt x="1036" y="741"/>
                            </a:lnTo>
                            <a:lnTo>
                              <a:pt x="1035" y="803"/>
                            </a:lnTo>
                            <a:lnTo>
                              <a:pt x="1033" y="865"/>
                            </a:lnTo>
                            <a:lnTo>
                              <a:pt x="1025" y="928"/>
                            </a:lnTo>
                            <a:lnTo>
                              <a:pt x="1013" y="988"/>
                            </a:lnTo>
                            <a:lnTo>
                              <a:pt x="998" y="1046"/>
                            </a:lnTo>
                            <a:lnTo>
                              <a:pt x="976" y="1105"/>
                            </a:lnTo>
                            <a:lnTo>
                              <a:pt x="951" y="1160"/>
                            </a:lnTo>
                            <a:lnTo>
                              <a:pt x="918" y="1210"/>
                            </a:lnTo>
                            <a:lnTo>
                              <a:pt x="881" y="1261"/>
                            </a:lnTo>
                            <a:lnTo>
                              <a:pt x="836" y="1306"/>
                            </a:lnTo>
                            <a:lnTo>
                              <a:pt x="813" y="1327"/>
                            </a:lnTo>
                            <a:lnTo>
                              <a:pt x="788" y="1349"/>
                            </a:lnTo>
                            <a:lnTo>
                              <a:pt x="760" y="1368"/>
                            </a:lnTo>
                            <a:lnTo>
                              <a:pt x="733" y="1384"/>
                            </a:lnTo>
                            <a:lnTo>
                              <a:pt x="706" y="1399"/>
                            </a:lnTo>
                            <a:lnTo>
                              <a:pt x="677" y="1413"/>
                            </a:lnTo>
                            <a:lnTo>
                              <a:pt x="647" y="1425"/>
                            </a:lnTo>
                            <a:lnTo>
                              <a:pt x="616" y="1434"/>
                            </a:lnTo>
                            <a:lnTo>
                              <a:pt x="585" y="1440"/>
                            </a:lnTo>
                            <a:lnTo>
                              <a:pt x="554" y="1446"/>
                            </a:lnTo>
                            <a:lnTo>
                              <a:pt x="521" y="1448"/>
                            </a:lnTo>
                            <a:lnTo>
                              <a:pt x="488" y="1450"/>
                            </a:lnTo>
                            <a:lnTo>
                              <a:pt x="455" y="1448"/>
                            </a:lnTo>
                            <a:lnTo>
                              <a:pt x="422" y="1444"/>
                            </a:lnTo>
                            <a:lnTo>
                              <a:pt x="389" y="1438"/>
                            </a:lnTo>
                            <a:lnTo>
                              <a:pt x="356" y="1428"/>
                            </a:lnTo>
                            <a:lnTo>
                              <a:pt x="307" y="1399"/>
                            </a:lnTo>
                            <a:lnTo>
                              <a:pt x="264" y="1366"/>
                            </a:lnTo>
                            <a:lnTo>
                              <a:pt x="223" y="1331"/>
                            </a:lnTo>
                            <a:lnTo>
                              <a:pt x="188" y="1294"/>
                            </a:lnTo>
                            <a:lnTo>
                              <a:pt x="157" y="1253"/>
                            </a:lnTo>
                            <a:lnTo>
                              <a:pt x="128" y="1210"/>
                            </a:lnTo>
                            <a:lnTo>
                              <a:pt x="103" y="1165"/>
                            </a:lnTo>
                            <a:lnTo>
                              <a:pt x="81" y="1119"/>
                            </a:lnTo>
                            <a:lnTo>
                              <a:pt x="64" y="1070"/>
                            </a:lnTo>
                            <a:lnTo>
                              <a:pt x="48" y="1021"/>
                            </a:lnTo>
                            <a:lnTo>
                              <a:pt x="35" y="970"/>
                            </a:lnTo>
                            <a:lnTo>
                              <a:pt x="23" y="918"/>
                            </a:lnTo>
                            <a:lnTo>
                              <a:pt x="15" y="867"/>
                            </a:lnTo>
                            <a:lnTo>
                              <a:pt x="8" y="815"/>
                            </a:lnTo>
                            <a:lnTo>
                              <a:pt x="4" y="762"/>
                            </a:lnTo>
                            <a:lnTo>
                              <a:pt x="0" y="709"/>
                            </a:lnTo>
                            <a:lnTo>
                              <a:pt x="10" y="653"/>
                            </a:lnTo>
                            <a:lnTo>
                              <a:pt x="21" y="598"/>
                            </a:lnTo>
                            <a:lnTo>
                              <a:pt x="35" y="544"/>
                            </a:lnTo>
                            <a:lnTo>
                              <a:pt x="52" y="491"/>
                            </a:lnTo>
                            <a:lnTo>
                              <a:pt x="74" y="440"/>
                            </a:lnTo>
                            <a:lnTo>
                              <a:pt x="97" y="392"/>
                            </a:lnTo>
                            <a:lnTo>
                              <a:pt x="124" y="343"/>
                            </a:lnTo>
                            <a:lnTo>
                              <a:pt x="153" y="298"/>
                            </a:lnTo>
                            <a:lnTo>
                              <a:pt x="187" y="253"/>
                            </a:lnTo>
                            <a:lnTo>
                              <a:pt x="222" y="210"/>
                            </a:lnTo>
                            <a:lnTo>
                              <a:pt x="258" y="171"/>
                            </a:lnTo>
                            <a:lnTo>
                              <a:pt x="299" y="133"/>
                            </a:lnTo>
                            <a:lnTo>
                              <a:pt x="342" y="97"/>
                            </a:lnTo>
                            <a:lnTo>
                              <a:pt x="389" y="64"/>
                            </a:lnTo>
                            <a:lnTo>
                              <a:pt x="437" y="33"/>
                            </a:lnTo>
                            <a:lnTo>
                              <a:pt x="488" y="4"/>
                            </a:lnTo>
                            <a:lnTo>
                              <a:pt x="533" y="0"/>
                            </a:lnTo>
                            <a:lnTo>
                              <a:pt x="577" y="2"/>
                            </a:lnTo>
                            <a:lnTo>
                              <a:pt x="620" y="8"/>
                            </a:lnTo>
                            <a:lnTo>
                              <a:pt x="661" y="18"/>
                            </a:lnTo>
                            <a:lnTo>
                              <a:pt x="700" y="33"/>
                            </a:lnTo>
                            <a:lnTo>
                              <a:pt x="737" y="51"/>
                            </a:lnTo>
                            <a:lnTo>
                              <a:pt x="772" y="72"/>
                            </a:lnTo>
                            <a:lnTo>
                              <a:pt x="805" y="95"/>
                            </a:lnTo>
                            <a:lnTo>
                              <a:pt x="836" y="123"/>
                            </a:lnTo>
                            <a:lnTo>
                              <a:pt x="865" y="154"/>
                            </a:lnTo>
                            <a:lnTo>
                              <a:pt x="893" y="187"/>
                            </a:lnTo>
                            <a:lnTo>
                              <a:pt x="916" y="220"/>
                            </a:lnTo>
                            <a:lnTo>
                              <a:pt x="939" y="257"/>
                            </a:lnTo>
                            <a:lnTo>
                              <a:pt x="959" y="294"/>
                            </a:lnTo>
                            <a:lnTo>
                              <a:pt x="976" y="333"/>
                            </a:lnTo>
                            <a:lnTo>
                              <a:pt x="990" y="374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0160" bIns="201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82" name=""/>
                      <p:cNvSpPr/>
                      <p:nvPr/>
                    </p:nvSpPr>
                    <p:spPr>
                      <a:xfrm>
                        <a:off x="1947240" y="2149560"/>
                        <a:ext cx="55800" cy="71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76" h="1549">
                            <a:moveTo>
                              <a:pt x="938" y="302"/>
                            </a:moveTo>
                            <a:lnTo>
                              <a:pt x="961" y="361"/>
                            </a:lnTo>
                            <a:lnTo>
                              <a:pt x="982" y="425"/>
                            </a:lnTo>
                            <a:lnTo>
                              <a:pt x="1004" y="491"/>
                            </a:lnTo>
                            <a:lnTo>
                              <a:pt x="1025" y="561"/>
                            </a:lnTo>
                            <a:lnTo>
                              <a:pt x="1043" y="633"/>
                            </a:lnTo>
                            <a:lnTo>
                              <a:pt x="1056" y="706"/>
                            </a:lnTo>
                            <a:lnTo>
                              <a:pt x="1068" y="780"/>
                            </a:lnTo>
                            <a:lnTo>
                              <a:pt x="1074" y="856"/>
                            </a:lnTo>
                            <a:lnTo>
                              <a:pt x="1076" y="930"/>
                            </a:lnTo>
                            <a:lnTo>
                              <a:pt x="1072" y="1002"/>
                            </a:lnTo>
                            <a:lnTo>
                              <a:pt x="1062" y="1074"/>
                            </a:lnTo>
                            <a:lnTo>
                              <a:pt x="1047" y="1142"/>
                            </a:lnTo>
                            <a:lnTo>
                              <a:pt x="1021" y="1208"/>
                            </a:lnTo>
                            <a:lnTo>
                              <a:pt x="990" y="1271"/>
                            </a:lnTo>
                            <a:lnTo>
                              <a:pt x="949" y="1327"/>
                            </a:lnTo>
                            <a:lnTo>
                              <a:pt x="899" y="1380"/>
                            </a:lnTo>
                            <a:lnTo>
                              <a:pt x="864" y="1403"/>
                            </a:lnTo>
                            <a:lnTo>
                              <a:pt x="829" y="1425"/>
                            </a:lnTo>
                            <a:lnTo>
                              <a:pt x="794" y="1446"/>
                            </a:lnTo>
                            <a:lnTo>
                              <a:pt x="755" y="1466"/>
                            </a:lnTo>
                            <a:lnTo>
                              <a:pt x="718" y="1485"/>
                            </a:lnTo>
                            <a:lnTo>
                              <a:pt x="679" y="1503"/>
                            </a:lnTo>
                            <a:lnTo>
                              <a:pt x="638" y="1516"/>
                            </a:lnTo>
                            <a:lnTo>
                              <a:pt x="599" y="1530"/>
                            </a:lnTo>
                            <a:lnTo>
                              <a:pt x="558" y="1540"/>
                            </a:lnTo>
                            <a:lnTo>
                              <a:pt x="516" y="1545"/>
                            </a:lnTo>
                            <a:lnTo>
                              <a:pt x="475" y="1549"/>
                            </a:lnTo>
                            <a:lnTo>
                              <a:pt x="434" y="1549"/>
                            </a:lnTo>
                            <a:lnTo>
                              <a:pt x="391" y="1547"/>
                            </a:lnTo>
                            <a:lnTo>
                              <a:pt x="348" y="1540"/>
                            </a:lnTo>
                            <a:lnTo>
                              <a:pt x="307" y="1528"/>
                            </a:lnTo>
                            <a:lnTo>
                              <a:pt x="265" y="1510"/>
                            </a:lnTo>
                            <a:lnTo>
                              <a:pt x="243" y="1493"/>
                            </a:lnTo>
                            <a:lnTo>
                              <a:pt x="224" y="1477"/>
                            </a:lnTo>
                            <a:lnTo>
                              <a:pt x="202" y="1460"/>
                            </a:lnTo>
                            <a:lnTo>
                              <a:pt x="181" y="1442"/>
                            </a:lnTo>
                            <a:lnTo>
                              <a:pt x="162" y="1427"/>
                            </a:lnTo>
                            <a:lnTo>
                              <a:pt x="142" y="1409"/>
                            </a:lnTo>
                            <a:lnTo>
                              <a:pt x="123" y="1392"/>
                            </a:lnTo>
                            <a:lnTo>
                              <a:pt x="105" y="1372"/>
                            </a:lnTo>
                            <a:lnTo>
                              <a:pt x="88" y="1354"/>
                            </a:lnTo>
                            <a:lnTo>
                              <a:pt x="70" y="1335"/>
                            </a:lnTo>
                            <a:lnTo>
                              <a:pt x="57" y="1314"/>
                            </a:lnTo>
                            <a:lnTo>
                              <a:pt x="43" y="1292"/>
                            </a:lnTo>
                            <a:lnTo>
                              <a:pt x="31" y="1269"/>
                            </a:lnTo>
                            <a:lnTo>
                              <a:pt x="22" y="1245"/>
                            </a:lnTo>
                            <a:lnTo>
                              <a:pt x="14" y="1220"/>
                            </a:lnTo>
                            <a:lnTo>
                              <a:pt x="8" y="1193"/>
                            </a:lnTo>
                            <a:lnTo>
                              <a:pt x="2" y="1107"/>
                            </a:lnTo>
                            <a:lnTo>
                              <a:pt x="0" y="1019"/>
                            </a:lnTo>
                            <a:lnTo>
                              <a:pt x="2" y="934"/>
                            </a:lnTo>
                            <a:lnTo>
                              <a:pt x="8" y="848"/>
                            </a:lnTo>
                            <a:lnTo>
                              <a:pt x="20" y="764"/>
                            </a:lnTo>
                            <a:lnTo>
                              <a:pt x="35" y="680"/>
                            </a:lnTo>
                            <a:lnTo>
                              <a:pt x="55" y="598"/>
                            </a:lnTo>
                            <a:lnTo>
                              <a:pt x="80" y="518"/>
                            </a:lnTo>
                            <a:lnTo>
                              <a:pt x="109" y="441"/>
                            </a:lnTo>
                            <a:lnTo>
                              <a:pt x="146" y="366"/>
                            </a:lnTo>
                            <a:lnTo>
                              <a:pt x="187" y="296"/>
                            </a:lnTo>
                            <a:lnTo>
                              <a:pt x="235" y="230"/>
                            </a:lnTo>
                            <a:lnTo>
                              <a:pt x="288" y="168"/>
                            </a:lnTo>
                            <a:lnTo>
                              <a:pt x="348" y="109"/>
                            </a:lnTo>
                            <a:lnTo>
                              <a:pt x="414" y="57"/>
                            </a:lnTo>
                            <a:lnTo>
                              <a:pt x="488" y="8"/>
                            </a:lnTo>
                            <a:lnTo>
                              <a:pt x="527" y="2"/>
                            </a:lnTo>
                            <a:lnTo>
                              <a:pt x="564" y="0"/>
                            </a:lnTo>
                            <a:lnTo>
                              <a:pt x="601" y="4"/>
                            </a:lnTo>
                            <a:lnTo>
                              <a:pt x="634" y="12"/>
                            </a:lnTo>
                            <a:lnTo>
                              <a:pt x="665" y="23"/>
                            </a:lnTo>
                            <a:lnTo>
                              <a:pt x="696" y="39"/>
                            </a:lnTo>
                            <a:lnTo>
                              <a:pt x="726" y="59"/>
                            </a:lnTo>
                            <a:lnTo>
                              <a:pt x="753" y="78"/>
                            </a:lnTo>
                            <a:lnTo>
                              <a:pt x="780" y="103"/>
                            </a:lnTo>
                            <a:lnTo>
                              <a:pt x="805" y="129"/>
                            </a:lnTo>
                            <a:lnTo>
                              <a:pt x="829" y="156"/>
                            </a:lnTo>
                            <a:lnTo>
                              <a:pt x="852" y="183"/>
                            </a:lnTo>
                            <a:lnTo>
                              <a:pt x="873" y="213"/>
                            </a:lnTo>
                            <a:lnTo>
                              <a:pt x="897" y="244"/>
                            </a:lnTo>
                            <a:lnTo>
                              <a:pt x="916" y="273"/>
                            </a:lnTo>
                            <a:lnTo>
                              <a:pt x="938" y="302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4840" bIns="248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83" name=""/>
                      <p:cNvSpPr/>
                      <p:nvPr/>
                    </p:nvSpPr>
                    <p:spPr>
                      <a:xfrm>
                        <a:off x="2041200" y="2151360"/>
                        <a:ext cx="56160" cy="82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82" h="1791">
                            <a:moveTo>
                              <a:pt x="930" y="226"/>
                            </a:moveTo>
                            <a:lnTo>
                              <a:pt x="957" y="255"/>
                            </a:lnTo>
                            <a:lnTo>
                              <a:pt x="982" y="287"/>
                            </a:lnTo>
                            <a:lnTo>
                              <a:pt x="1004" y="320"/>
                            </a:lnTo>
                            <a:lnTo>
                              <a:pt x="1021" y="355"/>
                            </a:lnTo>
                            <a:lnTo>
                              <a:pt x="1037" y="390"/>
                            </a:lnTo>
                            <a:lnTo>
                              <a:pt x="1050" y="427"/>
                            </a:lnTo>
                            <a:lnTo>
                              <a:pt x="1062" y="466"/>
                            </a:lnTo>
                            <a:lnTo>
                              <a:pt x="1070" y="503"/>
                            </a:lnTo>
                            <a:lnTo>
                              <a:pt x="1076" y="544"/>
                            </a:lnTo>
                            <a:lnTo>
                              <a:pt x="1080" y="583"/>
                            </a:lnTo>
                            <a:lnTo>
                              <a:pt x="1082" y="624"/>
                            </a:lnTo>
                            <a:lnTo>
                              <a:pt x="1082" y="663"/>
                            </a:lnTo>
                            <a:lnTo>
                              <a:pt x="1078" y="704"/>
                            </a:lnTo>
                            <a:lnTo>
                              <a:pt x="1074" y="743"/>
                            </a:lnTo>
                            <a:lnTo>
                              <a:pt x="1068" y="784"/>
                            </a:lnTo>
                            <a:lnTo>
                              <a:pt x="1060" y="823"/>
                            </a:lnTo>
                            <a:lnTo>
                              <a:pt x="1054" y="873"/>
                            </a:lnTo>
                            <a:lnTo>
                              <a:pt x="1043" y="920"/>
                            </a:lnTo>
                            <a:lnTo>
                              <a:pt x="1025" y="963"/>
                            </a:lnTo>
                            <a:lnTo>
                              <a:pt x="1004" y="1002"/>
                            </a:lnTo>
                            <a:lnTo>
                              <a:pt x="979" y="1039"/>
                            </a:lnTo>
                            <a:lnTo>
                              <a:pt x="949" y="1074"/>
                            </a:lnTo>
                            <a:lnTo>
                              <a:pt x="916" y="1107"/>
                            </a:lnTo>
                            <a:lnTo>
                              <a:pt x="881" y="1140"/>
                            </a:lnTo>
                            <a:lnTo>
                              <a:pt x="844" y="1169"/>
                            </a:lnTo>
                            <a:lnTo>
                              <a:pt x="807" y="1199"/>
                            </a:lnTo>
                            <a:lnTo>
                              <a:pt x="768" y="1228"/>
                            </a:lnTo>
                            <a:lnTo>
                              <a:pt x="730" y="1257"/>
                            </a:lnTo>
                            <a:lnTo>
                              <a:pt x="691" y="1288"/>
                            </a:lnTo>
                            <a:lnTo>
                              <a:pt x="652" y="1317"/>
                            </a:lnTo>
                            <a:lnTo>
                              <a:pt x="617" y="1349"/>
                            </a:lnTo>
                            <a:lnTo>
                              <a:pt x="582" y="1382"/>
                            </a:lnTo>
                            <a:lnTo>
                              <a:pt x="590" y="1415"/>
                            </a:lnTo>
                            <a:lnTo>
                              <a:pt x="597" y="1450"/>
                            </a:lnTo>
                            <a:lnTo>
                              <a:pt x="605" y="1483"/>
                            </a:lnTo>
                            <a:lnTo>
                              <a:pt x="611" y="1516"/>
                            </a:lnTo>
                            <a:lnTo>
                              <a:pt x="613" y="1547"/>
                            </a:lnTo>
                            <a:lnTo>
                              <a:pt x="609" y="1581"/>
                            </a:lnTo>
                            <a:lnTo>
                              <a:pt x="599" y="1612"/>
                            </a:lnTo>
                            <a:lnTo>
                              <a:pt x="582" y="1645"/>
                            </a:lnTo>
                            <a:lnTo>
                              <a:pt x="554" y="1676"/>
                            </a:lnTo>
                            <a:lnTo>
                              <a:pt x="525" y="1703"/>
                            </a:lnTo>
                            <a:lnTo>
                              <a:pt x="494" y="1727"/>
                            </a:lnTo>
                            <a:lnTo>
                              <a:pt x="461" y="1746"/>
                            </a:lnTo>
                            <a:lnTo>
                              <a:pt x="426" y="1764"/>
                            </a:lnTo>
                            <a:lnTo>
                              <a:pt x="391" y="1777"/>
                            </a:lnTo>
                            <a:lnTo>
                              <a:pt x="354" y="1785"/>
                            </a:lnTo>
                            <a:lnTo>
                              <a:pt x="317" y="1791"/>
                            </a:lnTo>
                            <a:lnTo>
                              <a:pt x="249" y="1419"/>
                            </a:lnTo>
                            <a:lnTo>
                              <a:pt x="278" y="1409"/>
                            </a:lnTo>
                            <a:lnTo>
                              <a:pt x="309" y="1417"/>
                            </a:lnTo>
                            <a:lnTo>
                              <a:pt x="341" y="1434"/>
                            </a:lnTo>
                            <a:lnTo>
                              <a:pt x="372" y="1454"/>
                            </a:lnTo>
                            <a:lnTo>
                              <a:pt x="403" y="1469"/>
                            </a:lnTo>
                            <a:lnTo>
                              <a:pt x="432" y="1469"/>
                            </a:lnTo>
                            <a:lnTo>
                              <a:pt x="461" y="1448"/>
                            </a:lnTo>
                            <a:lnTo>
                              <a:pt x="488" y="1395"/>
                            </a:lnTo>
                            <a:lnTo>
                              <a:pt x="477" y="1327"/>
                            </a:lnTo>
                            <a:lnTo>
                              <a:pt x="477" y="1271"/>
                            </a:lnTo>
                            <a:lnTo>
                              <a:pt x="490" y="1224"/>
                            </a:lnTo>
                            <a:lnTo>
                              <a:pt x="512" y="1187"/>
                            </a:lnTo>
                            <a:lnTo>
                              <a:pt x="543" y="1156"/>
                            </a:lnTo>
                            <a:lnTo>
                              <a:pt x="580" y="1128"/>
                            </a:lnTo>
                            <a:lnTo>
                              <a:pt x="621" y="1105"/>
                            </a:lnTo>
                            <a:lnTo>
                              <a:pt x="665" y="1084"/>
                            </a:lnTo>
                            <a:lnTo>
                              <a:pt x="712" y="1064"/>
                            </a:lnTo>
                            <a:lnTo>
                              <a:pt x="757" y="1043"/>
                            </a:lnTo>
                            <a:lnTo>
                              <a:pt x="800" y="1019"/>
                            </a:lnTo>
                            <a:lnTo>
                              <a:pt x="840" y="990"/>
                            </a:lnTo>
                            <a:lnTo>
                              <a:pt x="875" y="957"/>
                            </a:lnTo>
                            <a:lnTo>
                              <a:pt x="903" y="916"/>
                            </a:lnTo>
                            <a:lnTo>
                              <a:pt x="922" y="867"/>
                            </a:lnTo>
                            <a:lnTo>
                              <a:pt x="930" y="807"/>
                            </a:lnTo>
                            <a:lnTo>
                              <a:pt x="942" y="772"/>
                            </a:lnTo>
                            <a:lnTo>
                              <a:pt x="947" y="739"/>
                            </a:lnTo>
                            <a:lnTo>
                              <a:pt x="951" y="706"/>
                            </a:lnTo>
                            <a:lnTo>
                              <a:pt x="951" y="674"/>
                            </a:lnTo>
                            <a:lnTo>
                              <a:pt x="947" y="641"/>
                            </a:lnTo>
                            <a:lnTo>
                              <a:pt x="942" y="612"/>
                            </a:lnTo>
                            <a:lnTo>
                              <a:pt x="934" y="581"/>
                            </a:lnTo>
                            <a:lnTo>
                              <a:pt x="922" y="552"/>
                            </a:lnTo>
                            <a:lnTo>
                              <a:pt x="908" y="522"/>
                            </a:lnTo>
                            <a:lnTo>
                              <a:pt x="895" y="495"/>
                            </a:lnTo>
                            <a:lnTo>
                              <a:pt x="877" y="468"/>
                            </a:lnTo>
                            <a:lnTo>
                              <a:pt x="860" y="441"/>
                            </a:lnTo>
                            <a:lnTo>
                              <a:pt x="842" y="415"/>
                            </a:lnTo>
                            <a:lnTo>
                              <a:pt x="823" y="390"/>
                            </a:lnTo>
                            <a:lnTo>
                              <a:pt x="802" y="365"/>
                            </a:lnTo>
                            <a:lnTo>
                              <a:pt x="782" y="341"/>
                            </a:lnTo>
                            <a:lnTo>
                              <a:pt x="763" y="322"/>
                            </a:lnTo>
                            <a:lnTo>
                              <a:pt x="743" y="302"/>
                            </a:lnTo>
                            <a:lnTo>
                              <a:pt x="722" y="283"/>
                            </a:lnTo>
                            <a:lnTo>
                              <a:pt x="700" y="265"/>
                            </a:lnTo>
                            <a:lnTo>
                              <a:pt x="679" y="250"/>
                            </a:lnTo>
                            <a:lnTo>
                              <a:pt x="656" y="234"/>
                            </a:lnTo>
                            <a:lnTo>
                              <a:pt x="632" y="220"/>
                            </a:lnTo>
                            <a:lnTo>
                              <a:pt x="609" y="209"/>
                            </a:lnTo>
                            <a:lnTo>
                              <a:pt x="584" y="201"/>
                            </a:lnTo>
                            <a:lnTo>
                              <a:pt x="558" y="193"/>
                            </a:lnTo>
                            <a:lnTo>
                              <a:pt x="533" y="189"/>
                            </a:lnTo>
                            <a:lnTo>
                              <a:pt x="508" y="187"/>
                            </a:lnTo>
                            <a:lnTo>
                              <a:pt x="481" y="187"/>
                            </a:lnTo>
                            <a:lnTo>
                              <a:pt x="451" y="191"/>
                            </a:lnTo>
                            <a:lnTo>
                              <a:pt x="424" y="199"/>
                            </a:lnTo>
                            <a:lnTo>
                              <a:pt x="395" y="211"/>
                            </a:lnTo>
                            <a:lnTo>
                              <a:pt x="364" y="218"/>
                            </a:lnTo>
                            <a:lnTo>
                              <a:pt x="335" y="230"/>
                            </a:lnTo>
                            <a:lnTo>
                              <a:pt x="307" y="244"/>
                            </a:lnTo>
                            <a:lnTo>
                              <a:pt x="282" y="257"/>
                            </a:lnTo>
                            <a:lnTo>
                              <a:pt x="257" y="275"/>
                            </a:lnTo>
                            <a:lnTo>
                              <a:pt x="234" y="292"/>
                            </a:lnTo>
                            <a:lnTo>
                              <a:pt x="212" y="314"/>
                            </a:lnTo>
                            <a:lnTo>
                              <a:pt x="189" y="333"/>
                            </a:lnTo>
                            <a:lnTo>
                              <a:pt x="169" y="357"/>
                            </a:lnTo>
                            <a:lnTo>
                              <a:pt x="148" y="380"/>
                            </a:lnTo>
                            <a:lnTo>
                              <a:pt x="127" y="404"/>
                            </a:lnTo>
                            <a:lnTo>
                              <a:pt x="107" y="429"/>
                            </a:lnTo>
                            <a:lnTo>
                              <a:pt x="86" y="452"/>
                            </a:lnTo>
                            <a:lnTo>
                              <a:pt x="66" y="478"/>
                            </a:lnTo>
                            <a:lnTo>
                              <a:pt x="45" y="503"/>
                            </a:lnTo>
                            <a:lnTo>
                              <a:pt x="24" y="528"/>
                            </a:lnTo>
                            <a:lnTo>
                              <a:pt x="18" y="507"/>
                            </a:lnTo>
                            <a:lnTo>
                              <a:pt x="12" y="476"/>
                            </a:lnTo>
                            <a:lnTo>
                              <a:pt x="4" y="441"/>
                            </a:lnTo>
                            <a:lnTo>
                              <a:pt x="0" y="400"/>
                            </a:lnTo>
                            <a:lnTo>
                              <a:pt x="0" y="359"/>
                            </a:lnTo>
                            <a:lnTo>
                              <a:pt x="10" y="320"/>
                            </a:lnTo>
                            <a:lnTo>
                              <a:pt x="29" y="283"/>
                            </a:lnTo>
                            <a:lnTo>
                              <a:pt x="62" y="250"/>
                            </a:lnTo>
                            <a:lnTo>
                              <a:pt x="84" y="232"/>
                            </a:lnTo>
                            <a:lnTo>
                              <a:pt x="103" y="213"/>
                            </a:lnTo>
                            <a:lnTo>
                              <a:pt x="125" y="193"/>
                            </a:lnTo>
                            <a:lnTo>
                              <a:pt x="146" y="174"/>
                            </a:lnTo>
                            <a:lnTo>
                              <a:pt x="169" y="154"/>
                            </a:lnTo>
                            <a:lnTo>
                              <a:pt x="191" y="137"/>
                            </a:lnTo>
                            <a:lnTo>
                              <a:pt x="214" y="117"/>
                            </a:lnTo>
                            <a:lnTo>
                              <a:pt x="239" y="98"/>
                            </a:lnTo>
                            <a:lnTo>
                              <a:pt x="263" y="82"/>
                            </a:lnTo>
                            <a:lnTo>
                              <a:pt x="288" y="64"/>
                            </a:lnTo>
                            <a:lnTo>
                              <a:pt x="313" y="49"/>
                            </a:lnTo>
                            <a:lnTo>
                              <a:pt x="339" y="35"/>
                            </a:lnTo>
                            <a:lnTo>
                              <a:pt x="366" y="24"/>
                            </a:lnTo>
                            <a:lnTo>
                              <a:pt x="393" y="14"/>
                            </a:lnTo>
                            <a:lnTo>
                              <a:pt x="420" y="6"/>
                            </a:lnTo>
                            <a:lnTo>
                              <a:pt x="449" y="0"/>
                            </a:lnTo>
                            <a:lnTo>
                              <a:pt x="484" y="0"/>
                            </a:lnTo>
                            <a:lnTo>
                              <a:pt x="519" y="2"/>
                            </a:lnTo>
                            <a:lnTo>
                              <a:pt x="554" y="4"/>
                            </a:lnTo>
                            <a:lnTo>
                              <a:pt x="588" y="10"/>
                            </a:lnTo>
                            <a:lnTo>
                              <a:pt x="621" y="18"/>
                            </a:lnTo>
                            <a:lnTo>
                              <a:pt x="654" y="27"/>
                            </a:lnTo>
                            <a:lnTo>
                              <a:pt x="685" y="39"/>
                            </a:lnTo>
                            <a:lnTo>
                              <a:pt x="716" y="51"/>
                            </a:lnTo>
                            <a:lnTo>
                              <a:pt x="745" y="66"/>
                            </a:lnTo>
                            <a:lnTo>
                              <a:pt x="774" y="84"/>
                            </a:lnTo>
                            <a:lnTo>
                              <a:pt x="802" y="103"/>
                            </a:lnTo>
                            <a:lnTo>
                              <a:pt x="829" y="125"/>
                            </a:lnTo>
                            <a:lnTo>
                              <a:pt x="856" y="146"/>
                            </a:lnTo>
                            <a:lnTo>
                              <a:pt x="881" y="172"/>
                            </a:lnTo>
                            <a:lnTo>
                              <a:pt x="907" y="197"/>
                            </a:lnTo>
                            <a:lnTo>
                              <a:pt x="930" y="226"/>
                            </a:lnTo>
                            <a:close/>
                          </a:path>
                        </a:pathLst>
                      </a:custGeom>
                      <a:solidFill>
                        <a:srgbClr val="ffd8b2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6000" bIns="360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84" name=""/>
                      <p:cNvSpPr/>
                      <p:nvPr/>
                    </p:nvSpPr>
                    <p:spPr>
                      <a:xfrm>
                        <a:off x="2044800" y="2167560"/>
                        <a:ext cx="36720" cy="28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04" h="620">
                            <a:moveTo>
                              <a:pt x="698" y="204"/>
                            </a:moveTo>
                            <a:lnTo>
                              <a:pt x="702" y="232"/>
                            </a:lnTo>
                            <a:lnTo>
                              <a:pt x="704" y="257"/>
                            </a:lnTo>
                            <a:lnTo>
                              <a:pt x="702" y="282"/>
                            </a:lnTo>
                            <a:lnTo>
                              <a:pt x="700" y="308"/>
                            </a:lnTo>
                            <a:lnTo>
                              <a:pt x="697" y="331"/>
                            </a:lnTo>
                            <a:lnTo>
                              <a:pt x="693" y="354"/>
                            </a:lnTo>
                            <a:lnTo>
                              <a:pt x="685" y="378"/>
                            </a:lnTo>
                            <a:lnTo>
                              <a:pt x="679" y="399"/>
                            </a:lnTo>
                            <a:lnTo>
                              <a:pt x="669" y="421"/>
                            </a:lnTo>
                            <a:lnTo>
                              <a:pt x="660" y="442"/>
                            </a:lnTo>
                            <a:lnTo>
                              <a:pt x="648" y="464"/>
                            </a:lnTo>
                            <a:lnTo>
                              <a:pt x="636" y="483"/>
                            </a:lnTo>
                            <a:lnTo>
                              <a:pt x="623" y="503"/>
                            </a:lnTo>
                            <a:lnTo>
                              <a:pt x="611" y="522"/>
                            </a:lnTo>
                            <a:lnTo>
                              <a:pt x="595" y="542"/>
                            </a:lnTo>
                            <a:lnTo>
                              <a:pt x="582" y="561"/>
                            </a:lnTo>
                            <a:lnTo>
                              <a:pt x="547" y="588"/>
                            </a:lnTo>
                            <a:lnTo>
                              <a:pt x="512" y="606"/>
                            </a:lnTo>
                            <a:lnTo>
                              <a:pt x="477" y="616"/>
                            </a:lnTo>
                            <a:lnTo>
                              <a:pt x="444" y="620"/>
                            </a:lnTo>
                            <a:lnTo>
                              <a:pt x="409" y="616"/>
                            </a:lnTo>
                            <a:lnTo>
                              <a:pt x="374" y="610"/>
                            </a:lnTo>
                            <a:lnTo>
                              <a:pt x="339" y="600"/>
                            </a:lnTo>
                            <a:lnTo>
                              <a:pt x="304" y="588"/>
                            </a:lnTo>
                            <a:lnTo>
                              <a:pt x="269" y="577"/>
                            </a:lnTo>
                            <a:lnTo>
                              <a:pt x="234" y="565"/>
                            </a:lnTo>
                            <a:lnTo>
                              <a:pt x="199" y="555"/>
                            </a:lnTo>
                            <a:lnTo>
                              <a:pt x="164" y="549"/>
                            </a:lnTo>
                            <a:lnTo>
                              <a:pt x="131" y="545"/>
                            </a:lnTo>
                            <a:lnTo>
                              <a:pt x="96" y="549"/>
                            </a:lnTo>
                            <a:lnTo>
                              <a:pt x="61" y="559"/>
                            </a:lnTo>
                            <a:lnTo>
                              <a:pt x="26" y="577"/>
                            </a:lnTo>
                            <a:lnTo>
                              <a:pt x="12" y="545"/>
                            </a:lnTo>
                            <a:lnTo>
                              <a:pt x="2" y="512"/>
                            </a:lnTo>
                            <a:lnTo>
                              <a:pt x="0" y="481"/>
                            </a:lnTo>
                            <a:lnTo>
                              <a:pt x="2" y="450"/>
                            </a:lnTo>
                            <a:lnTo>
                              <a:pt x="8" y="419"/>
                            </a:lnTo>
                            <a:lnTo>
                              <a:pt x="20" y="388"/>
                            </a:lnTo>
                            <a:lnTo>
                              <a:pt x="33" y="358"/>
                            </a:lnTo>
                            <a:lnTo>
                              <a:pt x="49" y="327"/>
                            </a:lnTo>
                            <a:lnTo>
                              <a:pt x="66" y="298"/>
                            </a:lnTo>
                            <a:lnTo>
                              <a:pt x="88" y="267"/>
                            </a:lnTo>
                            <a:lnTo>
                              <a:pt x="107" y="238"/>
                            </a:lnTo>
                            <a:lnTo>
                              <a:pt x="131" y="208"/>
                            </a:lnTo>
                            <a:lnTo>
                              <a:pt x="152" y="179"/>
                            </a:lnTo>
                            <a:lnTo>
                              <a:pt x="171" y="152"/>
                            </a:lnTo>
                            <a:lnTo>
                              <a:pt x="193" y="123"/>
                            </a:lnTo>
                            <a:lnTo>
                              <a:pt x="210" y="95"/>
                            </a:lnTo>
                            <a:lnTo>
                              <a:pt x="238" y="66"/>
                            </a:lnTo>
                            <a:lnTo>
                              <a:pt x="267" y="43"/>
                            </a:lnTo>
                            <a:lnTo>
                              <a:pt x="300" y="25"/>
                            </a:lnTo>
                            <a:lnTo>
                              <a:pt x="335" y="11"/>
                            </a:lnTo>
                            <a:lnTo>
                              <a:pt x="372" y="4"/>
                            </a:lnTo>
                            <a:lnTo>
                              <a:pt x="409" y="0"/>
                            </a:lnTo>
                            <a:lnTo>
                              <a:pt x="446" y="2"/>
                            </a:lnTo>
                            <a:lnTo>
                              <a:pt x="485" y="8"/>
                            </a:lnTo>
                            <a:lnTo>
                              <a:pt x="520" y="17"/>
                            </a:lnTo>
                            <a:lnTo>
                              <a:pt x="555" y="33"/>
                            </a:lnTo>
                            <a:lnTo>
                              <a:pt x="588" y="52"/>
                            </a:lnTo>
                            <a:lnTo>
                              <a:pt x="619" y="74"/>
                            </a:lnTo>
                            <a:lnTo>
                              <a:pt x="644" y="101"/>
                            </a:lnTo>
                            <a:lnTo>
                              <a:pt x="667" y="132"/>
                            </a:lnTo>
                            <a:lnTo>
                              <a:pt x="685" y="167"/>
                            </a:lnTo>
                            <a:lnTo>
                              <a:pt x="698" y="204"/>
                            </a:lnTo>
                            <a:close/>
                          </a:path>
                        </a:pathLst>
                      </a:custGeom>
                      <a:solidFill>
                        <a:srgbClr val="ffd8b2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8360" bIns="-183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85" name=""/>
                      <p:cNvSpPr/>
                      <p:nvPr/>
                    </p:nvSpPr>
                    <p:spPr>
                      <a:xfrm>
                        <a:off x="1858320" y="2176560"/>
                        <a:ext cx="17280" cy="18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33" h="413">
                            <a:moveTo>
                              <a:pt x="333" y="109"/>
                            </a:moveTo>
                            <a:lnTo>
                              <a:pt x="331" y="154"/>
                            </a:lnTo>
                            <a:lnTo>
                              <a:pt x="327" y="199"/>
                            </a:lnTo>
                            <a:lnTo>
                              <a:pt x="323" y="243"/>
                            </a:lnTo>
                            <a:lnTo>
                              <a:pt x="313" y="286"/>
                            </a:lnTo>
                            <a:lnTo>
                              <a:pt x="300" y="325"/>
                            </a:lnTo>
                            <a:lnTo>
                              <a:pt x="276" y="360"/>
                            </a:lnTo>
                            <a:lnTo>
                              <a:pt x="245" y="390"/>
                            </a:lnTo>
                            <a:lnTo>
                              <a:pt x="203" y="411"/>
                            </a:lnTo>
                            <a:lnTo>
                              <a:pt x="169" y="413"/>
                            </a:lnTo>
                            <a:lnTo>
                              <a:pt x="136" y="407"/>
                            </a:lnTo>
                            <a:lnTo>
                              <a:pt x="107" y="393"/>
                            </a:lnTo>
                            <a:lnTo>
                              <a:pt x="82" y="376"/>
                            </a:lnTo>
                            <a:lnTo>
                              <a:pt x="57" y="355"/>
                            </a:lnTo>
                            <a:lnTo>
                              <a:pt x="35" y="331"/>
                            </a:lnTo>
                            <a:lnTo>
                              <a:pt x="16" y="306"/>
                            </a:lnTo>
                            <a:lnTo>
                              <a:pt x="0" y="279"/>
                            </a:lnTo>
                            <a:lnTo>
                              <a:pt x="2" y="234"/>
                            </a:lnTo>
                            <a:lnTo>
                              <a:pt x="10" y="187"/>
                            </a:lnTo>
                            <a:lnTo>
                              <a:pt x="22" y="142"/>
                            </a:lnTo>
                            <a:lnTo>
                              <a:pt x="41" y="101"/>
                            </a:lnTo>
                            <a:lnTo>
                              <a:pt x="66" y="64"/>
                            </a:lnTo>
                            <a:lnTo>
                              <a:pt x="99" y="33"/>
                            </a:lnTo>
                            <a:lnTo>
                              <a:pt x="138" y="12"/>
                            </a:lnTo>
                            <a:lnTo>
                              <a:pt x="187" y="0"/>
                            </a:lnTo>
                            <a:lnTo>
                              <a:pt x="212" y="4"/>
                            </a:lnTo>
                            <a:lnTo>
                              <a:pt x="234" y="10"/>
                            </a:lnTo>
                            <a:lnTo>
                              <a:pt x="255" y="19"/>
                            </a:lnTo>
                            <a:lnTo>
                              <a:pt x="275" y="31"/>
                            </a:lnTo>
                            <a:lnTo>
                              <a:pt x="290" y="47"/>
                            </a:lnTo>
                            <a:lnTo>
                              <a:pt x="306" y="64"/>
                            </a:lnTo>
                            <a:lnTo>
                              <a:pt x="321" y="84"/>
                            </a:lnTo>
                            <a:lnTo>
                              <a:pt x="333" y="109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080" bIns="-280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86" name=""/>
                      <p:cNvSpPr/>
                      <p:nvPr/>
                    </p:nvSpPr>
                    <p:spPr>
                      <a:xfrm>
                        <a:off x="1964880" y="2180160"/>
                        <a:ext cx="19440" cy="19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75" h="415">
                            <a:moveTo>
                              <a:pt x="371" y="185"/>
                            </a:moveTo>
                            <a:lnTo>
                              <a:pt x="375" y="222"/>
                            </a:lnTo>
                            <a:lnTo>
                              <a:pt x="369" y="259"/>
                            </a:lnTo>
                            <a:lnTo>
                              <a:pt x="355" y="292"/>
                            </a:lnTo>
                            <a:lnTo>
                              <a:pt x="336" y="323"/>
                            </a:lnTo>
                            <a:lnTo>
                              <a:pt x="311" y="351"/>
                            </a:lnTo>
                            <a:lnTo>
                              <a:pt x="283" y="374"/>
                            </a:lnTo>
                            <a:lnTo>
                              <a:pt x="254" y="391"/>
                            </a:lnTo>
                            <a:lnTo>
                              <a:pt x="225" y="403"/>
                            </a:lnTo>
                            <a:lnTo>
                              <a:pt x="177" y="415"/>
                            </a:lnTo>
                            <a:lnTo>
                              <a:pt x="134" y="413"/>
                            </a:lnTo>
                            <a:lnTo>
                              <a:pt x="99" y="399"/>
                            </a:lnTo>
                            <a:lnTo>
                              <a:pt x="70" y="376"/>
                            </a:lnTo>
                            <a:lnTo>
                              <a:pt x="44" y="347"/>
                            </a:lnTo>
                            <a:lnTo>
                              <a:pt x="25" y="312"/>
                            </a:lnTo>
                            <a:lnTo>
                              <a:pt x="9" y="275"/>
                            </a:lnTo>
                            <a:lnTo>
                              <a:pt x="0" y="239"/>
                            </a:lnTo>
                            <a:lnTo>
                              <a:pt x="3" y="193"/>
                            </a:lnTo>
                            <a:lnTo>
                              <a:pt x="13" y="150"/>
                            </a:lnTo>
                            <a:lnTo>
                              <a:pt x="29" y="109"/>
                            </a:lnTo>
                            <a:lnTo>
                              <a:pt x="52" y="72"/>
                            </a:lnTo>
                            <a:lnTo>
                              <a:pt x="79" y="43"/>
                            </a:lnTo>
                            <a:lnTo>
                              <a:pt x="114" y="19"/>
                            </a:lnTo>
                            <a:lnTo>
                              <a:pt x="155" y="6"/>
                            </a:lnTo>
                            <a:lnTo>
                              <a:pt x="202" y="0"/>
                            </a:lnTo>
                            <a:lnTo>
                              <a:pt x="231" y="19"/>
                            </a:lnTo>
                            <a:lnTo>
                              <a:pt x="256" y="39"/>
                            </a:lnTo>
                            <a:lnTo>
                              <a:pt x="282" y="58"/>
                            </a:lnTo>
                            <a:lnTo>
                              <a:pt x="305" y="78"/>
                            </a:lnTo>
                            <a:lnTo>
                              <a:pt x="324" y="99"/>
                            </a:lnTo>
                            <a:lnTo>
                              <a:pt x="342" y="125"/>
                            </a:lnTo>
                            <a:lnTo>
                              <a:pt x="357" y="152"/>
                            </a:lnTo>
                            <a:lnTo>
                              <a:pt x="371" y="185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720" bIns="-277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87" name=""/>
                      <p:cNvSpPr/>
                      <p:nvPr/>
                    </p:nvSpPr>
                    <p:spPr>
                      <a:xfrm>
                        <a:off x="1794600" y="2181600"/>
                        <a:ext cx="14040" cy="11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74" h="263">
                            <a:moveTo>
                              <a:pt x="274" y="0"/>
                            </a:moveTo>
                            <a:lnTo>
                              <a:pt x="255" y="29"/>
                            </a:lnTo>
                            <a:lnTo>
                              <a:pt x="243" y="66"/>
                            </a:lnTo>
                            <a:lnTo>
                              <a:pt x="237" y="107"/>
                            </a:lnTo>
                            <a:lnTo>
                              <a:pt x="233" y="146"/>
                            </a:lnTo>
                            <a:lnTo>
                              <a:pt x="224" y="181"/>
                            </a:lnTo>
                            <a:lnTo>
                              <a:pt x="206" y="208"/>
                            </a:lnTo>
                            <a:lnTo>
                              <a:pt x="175" y="224"/>
                            </a:lnTo>
                            <a:lnTo>
                              <a:pt x="126" y="224"/>
                            </a:lnTo>
                            <a:lnTo>
                              <a:pt x="111" y="220"/>
                            </a:lnTo>
                            <a:lnTo>
                              <a:pt x="95" y="222"/>
                            </a:lnTo>
                            <a:lnTo>
                              <a:pt x="82" y="226"/>
                            </a:lnTo>
                            <a:lnTo>
                              <a:pt x="70" y="232"/>
                            </a:lnTo>
                            <a:lnTo>
                              <a:pt x="58" y="240"/>
                            </a:lnTo>
                            <a:lnTo>
                              <a:pt x="47" y="247"/>
                            </a:lnTo>
                            <a:lnTo>
                              <a:pt x="33" y="257"/>
                            </a:lnTo>
                            <a:lnTo>
                              <a:pt x="19" y="263"/>
                            </a:lnTo>
                            <a:lnTo>
                              <a:pt x="29" y="224"/>
                            </a:lnTo>
                            <a:lnTo>
                              <a:pt x="25" y="183"/>
                            </a:lnTo>
                            <a:lnTo>
                              <a:pt x="15" y="142"/>
                            </a:lnTo>
                            <a:lnTo>
                              <a:pt x="6" y="101"/>
                            </a:lnTo>
                            <a:lnTo>
                              <a:pt x="0" y="66"/>
                            </a:lnTo>
                            <a:lnTo>
                              <a:pt x="6" y="37"/>
                            </a:lnTo>
                            <a:lnTo>
                              <a:pt x="27" y="14"/>
                            </a:lnTo>
                            <a:lnTo>
                              <a:pt x="72" y="0"/>
                            </a:lnTo>
                            <a:lnTo>
                              <a:pt x="274" y="0"/>
                            </a:lnTo>
                            <a:close/>
                          </a:path>
                        </a:pathLst>
                      </a:custGeom>
                      <a:solidFill>
                        <a:srgbClr val="ffd8b2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920" bIns="-349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88" name=""/>
                      <p:cNvSpPr/>
                      <p:nvPr/>
                    </p:nvSpPr>
                    <p:spPr>
                      <a:xfrm>
                        <a:off x="2049120" y="2200320"/>
                        <a:ext cx="10800" cy="9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6" h="215">
                            <a:moveTo>
                              <a:pt x="189" y="24"/>
                            </a:moveTo>
                            <a:lnTo>
                              <a:pt x="202" y="45"/>
                            </a:lnTo>
                            <a:lnTo>
                              <a:pt x="206" y="66"/>
                            </a:lnTo>
                            <a:lnTo>
                              <a:pt x="204" y="90"/>
                            </a:lnTo>
                            <a:lnTo>
                              <a:pt x="198" y="113"/>
                            </a:lnTo>
                            <a:lnTo>
                              <a:pt x="189" y="139"/>
                            </a:lnTo>
                            <a:lnTo>
                              <a:pt x="179" y="162"/>
                            </a:lnTo>
                            <a:lnTo>
                              <a:pt x="171" y="187"/>
                            </a:lnTo>
                            <a:lnTo>
                              <a:pt x="165" y="211"/>
                            </a:lnTo>
                            <a:lnTo>
                              <a:pt x="117" y="215"/>
                            </a:lnTo>
                            <a:lnTo>
                              <a:pt x="76" y="205"/>
                            </a:lnTo>
                            <a:lnTo>
                              <a:pt x="47" y="183"/>
                            </a:lnTo>
                            <a:lnTo>
                              <a:pt x="23" y="152"/>
                            </a:lnTo>
                            <a:lnTo>
                              <a:pt x="10" y="115"/>
                            </a:lnTo>
                            <a:lnTo>
                              <a:pt x="2" y="76"/>
                            </a:lnTo>
                            <a:lnTo>
                              <a:pt x="0" y="37"/>
                            </a:lnTo>
                            <a:lnTo>
                              <a:pt x="4" y="0"/>
                            </a:lnTo>
                            <a:lnTo>
                              <a:pt x="189" y="24"/>
                            </a:lnTo>
                            <a:close/>
                          </a:path>
                        </a:pathLst>
                      </a:custGeom>
                      <a:solidFill>
                        <a:srgbClr val="ffd8b2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89" name=""/>
                      <p:cNvSpPr/>
                      <p:nvPr/>
                    </p:nvSpPr>
                    <p:spPr>
                      <a:xfrm>
                        <a:off x="1881360" y="2232000"/>
                        <a:ext cx="69840" cy="38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40" h="830">
                            <a:moveTo>
                              <a:pt x="278" y="8"/>
                            </a:moveTo>
                            <a:lnTo>
                              <a:pt x="272" y="35"/>
                            </a:lnTo>
                            <a:lnTo>
                              <a:pt x="264" y="61"/>
                            </a:lnTo>
                            <a:lnTo>
                              <a:pt x="253" y="86"/>
                            </a:lnTo>
                            <a:lnTo>
                              <a:pt x="241" y="111"/>
                            </a:lnTo>
                            <a:lnTo>
                              <a:pt x="225" y="135"/>
                            </a:lnTo>
                            <a:lnTo>
                              <a:pt x="210" y="158"/>
                            </a:lnTo>
                            <a:lnTo>
                              <a:pt x="194" y="181"/>
                            </a:lnTo>
                            <a:lnTo>
                              <a:pt x="181" y="205"/>
                            </a:lnTo>
                            <a:lnTo>
                              <a:pt x="167" y="230"/>
                            </a:lnTo>
                            <a:lnTo>
                              <a:pt x="155" y="254"/>
                            </a:lnTo>
                            <a:lnTo>
                              <a:pt x="148" y="279"/>
                            </a:lnTo>
                            <a:lnTo>
                              <a:pt x="142" y="304"/>
                            </a:lnTo>
                            <a:lnTo>
                              <a:pt x="142" y="332"/>
                            </a:lnTo>
                            <a:lnTo>
                              <a:pt x="144" y="359"/>
                            </a:lnTo>
                            <a:lnTo>
                              <a:pt x="153" y="388"/>
                            </a:lnTo>
                            <a:lnTo>
                              <a:pt x="169" y="419"/>
                            </a:lnTo>
                            <a:lnTo>
                              <a:pt x="194" y="448"/>
                            </a:lnTo>
                            <a:lnTo>
                              <a:pt x="222" y="472"/>
                            </a:lnTo>
                            <a:lnTo>
                              <a:pt x="251" y="493"/>
                            </a:lnTo>
                            <a:lnTo>
                              <a:pt x="280" y="511"/>
                            </a:lnTo>
                            <a:lnTo>
                              <a:pt x="311" y="526"/>
                            </a:lnTo>
                            <a:lnTo>
                              <a:pt x="342" y="540"/>
                            </a:lnTo>
                            <a:lnTo>
                              <a:pt x="375" y="554"/>
                            </a:lnTo>
                            <a:lnTo>
                              <a:pt x="406" y="565"/>
                            </a:lnTo>
                            <a:lnTo>
                              <a:pt x="439" y="577"/>
                            </a:lnTo>
                            <a:lnTo>
                              <a:pt x="472" y="589"/>
                            </a:lnTo>
                            <a:lnTo>
                              <a:pt x="504" y="602"/>
                            </a:lnTo>
                            <a:lnTo>
                              <a:pt x="535" y="616"/>
                            </a:lnTo>
                            <a:lnTo>
                              <a:pt x="566" y="632"/>
                            </a:lnTo>
                            <a:lnTo>
                              <a:pt x="595" y="651"/>
                            </a:lnTo>
                            <a:lnTo>
                              <a:pt x="622" y="673"/>
                            </a:lnTo>
                            <a:lnTo>
                              <a:pt x="649" y="698"/>
                            </a:lnTo>
                            <a:lnTo>
                              <a:pt x="686" y="708"/>
                            </a:lnTo>
                            <a:lnTo>
                              <a:pt x="719" y="710"/>
                            </a:lnTo>
                            <a:lnTo>
                              <a:pt x="749" y="708"/>
                            </a:lnTo>
                            <a:lnTo>
                              <a:pt x="778" y="700"/>
                            </a:lnTo>
                            <a:lnTo>
                              <a:pt x="805" y="688"/>
                            </a:lnTo>
                            <a:lnTo>
                              <a:pt x="828" y="673"/>
                            </a:lnTo>
                            <a:lnTo>
                              <a:pt x="854" y="657"/>
                            </a:lnTo>
                            <a:lnTo>
                              <a:pt x="877" y="637"/>
                            </a:lnTo>
                            <a:lnTo>
                              <a:pt x="900" y="620"/>
                            </a:lnTo>
                            <a:lnTo>
                              <a:pt x="924" y="602"/>
                            </a:lnTo>
                            <a:lnTo>
                              <a:pt x="949" y="587"/>
                            </a:lnTo>
                            <a:lnTo>
                              <a:pt x="974" y="575"/>
                            </a:lnTo>
                            <a:lnTo>
                              <a:pt x="1001" y="565"/>
                            </a:lnTo>
                            <a:lnTo>
                              <a:pt x="1033" y="560"/>
                            </a:lnTo>
                            <a:lnTo>
                              <a:pt x="1064" y="561"/>
                            </a:lnTo>
                            <a:lnTo>
                              <a:pt x="1099" y="567"/>
                            </a:lnTo>
                            <a:lnTo>
                              <a:pt x="1138" y="542"/>
                            </a:lnTo>
                            <a:lnTo>
                              <a:pt x="1169" y="515"/>
                            </a:lnTo>
                            <a:lnTo>
                              <a:pt x="1188" y="484"/>
                            </a:lnTo>
                            <a:lnTo>
                              <a:pt x="1202" y="450"/>
                            </a:lnTo>
                            <a:lnTo>
                              <a:pt x="1208" y="415"/>
                            </a:lnTo>
                            <a:lnTo>
                              <a:pt x="1210" y="380"/>
                            </a:lnTo>
                            <a:lnTo>
                              <a:pt x="1206" y="343"/>
                            </a:lnTo>
                            <a:lnTo>
                              <a:pt x="1198" y="306"/>
                            </a:lnTo>
                            <a:lnTo>
                              <a:pt x="1188" y="269"/>
                            </a:lnTo>
                            <a:lnTo>
                              <a:pt x="1178" y="234"/>
                            </a:lnTo>
                            <a:lnTo>
                              <a:pt x="1169" y="199"/>
                            </a:lnTo>
                            <a:lnTo>
                              <a:pt x="1159" y="166"/>
                            </a:lnTo>
                            <a:lnTo>
                              <a:pt x="1151" y="137"/>
                            </a:lnTo>
                            <a:lnTo>
                              <a:pt x="1147" y="107"/>
                            </a:lnTo>
                            <a:lnTo>
                              <a:pt x="1147" y="84"/>
                            </a:lnTo>
                            <a:lnTo>
                              <a:pt x="1153" y="63"/>
                            </a:lnTo>
                            <a:lnTo>
                              <a:pt x="1180" y="61"/>
                            </a:lnTo>
                            <a:lnTo>
                              <a:pt x="1208" y="68"/>
                            </a:lnTo>
                            <a:lnTo>
                              <a:pt x="1231" y="82"/>
                            </a:lnTo>
                            <a:lnTo>
                              <a:pt x="1254" y="102"/>
                            </a:lnTo>
                            <a:lnTo>
                              <a:pt x="1276" y="125"/>
                            </a:lnTo>
                            <a:lnTo>
                              <a:pt x="1293" y="152"/>
                            </a:lnTo>
                            <a:lnTo>
                              <a:pt x="1309" y="181"/>
                            </a:lnTo>
                            <a:lnTo>
                              <a:pt x="1322" y="211"/>
                            </a:lnTo>
                            <a:lnTo>
                              <a:pt x="1330" y="242"/>
                            </a:lnTo>
                            <a:lnTo>
                              <a:pt x="1336" y="271"/>
                            </a:lnTo>
                            <a:lnTo>
                              <a:pt x="1340" y="302"/>
                            </a:lnTo>
                            <a:lnTo>
                              <a:pt x="1340" y="332"/>
                            </a:lnTo>
                            <a:lnTo>
                              <a:pt x="1340" y="361"/>
                            </a:lnTo>
                            <a:lnTo>
                              <a:pt x="1338" y="392"/>
                            </a:lnTo>
                            <a:lnTo>
                              <a:pt x="1334" y="421"/>
                            </a:lnTo>
                            <a:lnTo>
                              <a:pt x="1328" y="450"/>
                            </a:lnTo>
                            <a:lnTo>
                              <a:pt x="1320" y="478"/>
                            </a:lnTo>
                            <a:lnTo>
                              <a:pt x="1313" y="507"/>
                            </a:lnTo>
                            <a:lnTo>
                              <a:pt x="1301" y="534"/>
                            </a:lnTo>
                            <a:lnTo>
                              <a:pt x="1289" y="561"/>
                            </a:lnTo>
                            <a:lnTo>
                              <a:pt x="1276" y="587"/>
                            </a:lnTo>
                            <a:lnTo>
                              <a:pt x="1262" y="612"/>
                            </a:lnTo>
                            <a:lnTo>
                              <a:pt x="1247" y="637"/>
                            </a:lnTo>
                            <a:lnTo>
                              <a:pt x="1229" y="661"/>
                            </a:lnTo>
                            <a:lnTo>
                              <a:pt x="1204" y="671"/>
                            </a:lnTo>
                            <a:lnTo>
                              <a:pt x="1180" y="680"/>
                            </a:lnTo>
                            <a:lnTo>
                              <a:pt x="1155" y="690"/>
                            </a:lnTo>
                            <a:lnTo>
                              <a:pt x="1132" y="700"/>
                            </a:lnTo>
                            <a:lnTo>
                              <a:pt x="1106" y="712"/>
                            </a:lnTo>
                            <a:lnTo>
                              <a:pt x="1081" y="721"/>
                            </a:lnTo>
                            <a:lnTo>
                              <a:pt x="1058" y="731"/>
                            </a:lnTo>
                            <a:lnTo>
                              <a:pt x="1033" y="743"/>
                            </a:lnTo>
                            <a:lnTo>
                              <a:pt x="1007" y="752"/>
                            </a:lnTo>
                            <a:lnTo>
                              <a:pt x="984" y="764"/>
                            </a:lnTo>
                            <a:lnTo>
                              <a:pt x="959" y="774"/>
                            </a:lnTo>
                            <a:lnTo>
                              <a:pt x="933" y="786"/>
                            </a:lnTo>
                            <a:lnTo>
                              <a:pt x="910" y="795"/>
                            </a:lnTo>
                            <a:lnTo>
                              <a:pt x="885" y="807"/>
                            </a:lnTo>
                            <a:lnTo>
                              <a:pt x="861" y="819"/>
                            </a:lnTo>
                            <a:lnTo>
                              <a:pt x="836" y="830"/>
                            </a:lnTo>
                            <a:lnTo>
                              <a:pt x="774" y="827"/>
                            </a:lnTo>
                            <a:lnTo>
                              <a:pt x="712" y="819"/>
                            </a:lnTo>
                            <a:lnTo>
                              <a:pt x="649" y="807"/>
                            </a:lnTo>
                            <a:lnTo>
                              <a:pt x="587" y="793"/>
                            </a:lnTo>
                            <a:lnTo>
                              <a:pt x="527" y="778"/>
                            </a:lnTo>
                            <a:lnTo>
                              <a:pt x="469" y="756"/>
                            </a:lnTo>
                            <a:lnTo>
                              <a:pt x="410" y="735"/>
                            </a:lnTo>
                            <a:lnTo>
                              <a:pt x="354" y="708"/>
                            </a:lnTo>
                            <a:lnTo>
                              <a:pt x="299" y="678"/>
                            </a:lnTo>
                            <a:lnTo>
                              <a:pt x="247" y="645"/>
                            </a:lnTo>
                            <a:lnTo>
                              <a:pt x="198" y="610"/>
                            </a:lnTo>
                            <a:lnTo>
                              <a:pt x="151" y="569"/>
                            </a:lnTo>
                            <a:lnTo>
                              <a:pt x="109" y="528"/>
                            </a:lnTo>
                            <a:lnTo>
                              <a:pt x="68" y="482"/>
                            </a:lnTo>
                            <a:lnTo>
                              <a:pt x="33" y="433"/>
                            </a:lnTo>
                            <a:lnTo>
                              <a:pt x="0" y="380"/>
                            </a:lnTo>
                            <a:lnTo>
                              <a:pt x="8" y="355"/>
                            </a:lnTo>
                            <a:lnTo>
                              <a:pt x="13" y="326"/>
                            </a:lnTo>
                            <a:lnTo>
                              <a:pt x="19" y="295"/>
                            </a:lnTo>
                            <a:lnTo>
                              <a:pt x="27" y="261"/>
                            </a:lnTo>
                            <a:lnTo>
                              <a:pt x="35" y="226"/>
                            </a:lnTo>
                            <a:lnTo>
                              <a:pt x="45" y="191"/>
                            </a:lnTo>
                            <a:lnTo>
                              <a:pt x="54" y="156"/>
                            </a:lnTo>
                            <a:lnTo>
                              <a:pt x="66" y="123"/>
                            </a:lnTo>
                            <a:lnTo>
                              <a:pt x="81" y="92"/>
                            </a:lnTo>
                            <a:lnTo>
                              <a:pt x="99" y="63"/>
                            </a:lnTo>
                            <a:lnTo>
                              <a:pt x="118" y="39"/>
                            </a:lnTo>
                            <a:lnTo>
                              <a:pt x="142" y="20"/>
                            </a:lnTo>
                            <a:lnTo>
                              <a:pt x="169" y="6"/>
                            </a:lnTo>
                            <a:lnTo>
                              <a:pt x="202" y="0"/>
                            </a:lnTo>
                            <a:lnTo>
                              <a:pt x="237" y="0"/>
                            </a:lnTo>
                            <a:lnTo>
                              <a:pt x="278" y="8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8640" bIns="-86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0" name=""/>
                      <p:cNvSpPr/>
                      <p:nvPr/>
                    </p:nvSpPr>
                    <p:spPr>
                      <a:xfrm>
                        <a:off x="2018160" y="2246040"/>
                        <a:ext cx="2880" cy="7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0" h="170">
                            <a:moveTo>
                              <a:pt x="43" y="170"/>
                            </a:moveTo>
                            <a:lnTo>
                              <a:pt x="23" y="156"/>
                            </a:lnTo>
                            <a:lnTo>
                              <a:pt x="11" y="137"/>
                            </a:lnTo>
                            <a:lnTo>
                              <a:pt x="4" y="115"/>
                            </a:lnTo>
                            <a:lnTo>
                              <a:pt x="0" y="90"/>
                            </a:lnTo>
                            <a:lnTo>
                              <a:pt x="2" y="65"/>
                            </a:lnTo>
                            <a:lnTo>
                              <a:pt x="6" y="41"/>
                            </a:lnTo>
                            <a:lnTo>
                              <a:pt x="11" y="20"/>
                            </a:lnTo>
                            <a:lnTo>
                              <a:pt x="19" y="0"/>
                            </a:lnTo>
                            <a:lnTo>
                              <a:pt x="25" y="22"/>
                            </a:lnTo>
                            <a:lnTo>
                              <a:pt x="33" y="45"/>
                            </a:lnTo>
                            <a:lnTo>
                              <a:pt x="43" y="67"/>
                            </a:lnTo>
                            <a:lnTo>
                              <a:pt x="52" y="88"/>
                            </a:lnTo>
                            <a:lnTo>
                              <a:pt x="58" y="107"/>
                            </a:lnTo>
                            <a:lnTo>
                              <a:pt x="60" y="129"/>
                            </a:lnTo>
                            <a:lnTo>
                              <a:pt x="56" y="148"/>
                            </a:lnTo>
                            <a:lnTo>
                              <a:pt x="43" y="170"/>
                            </a:lnTo>
                            <a:close/>
                          </a:path>
                        </a:pathLst>
                      </a:custGeom>
                      <a:solidFill>
                        <a:srgbClr val="ffd8b2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1" name=""/>
                      <p:cNvSpPr/>
                      <p:nvPr/>
                    </p:nvSpPr>
                    <p:spPr>
                      <a:xfrm>
                        <a:off x="1832040" y="2249640"/>
                        <a:ext cx="167760" cy="38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215" h="844">
                            <a:moveTo>
                              <a:pt x="134" y="16"/>
                            </a:moveTo>
                            <a:lnTo>
                              <a:pt x="145" y="59"/>
                            </a:lnTo>
                            <a:lnTo>
                              <a:pt x="165" y="96"/>
                            </a:lnTo>
                            <a:lnTo>
                              <a:pt x="188" y="131"/>
                            </a:lnTo>
                            <a:lnTo>
                              <a:pt x="217" y="164"/>
                            </a:lnTo>
                            <a:lnTo>
                              <a:pt x="250" y="193"/>
                            </a:lnTo>
                            <a:lnTo>
                              <a:pt x="287" y="222"/>
                            </a:lnTo>
                            <a:lnTo>
                              <a:pt x="326" y="248"/>
                            </a:lnTo>
                            <a:lnTo>
                              <a:pt x="369" y="273"/>
                            </a:lnTo>
                            <a:lnTo>
                              <a:pt x="412" y="296"/>
                            </a:lnTo>
                            <a:lnTo>
                              <a:pt x="457" y="320"/>
                            </a:lnTo>
                            <a:lnTo>
                              <a:pt x="501" y="343"/>
                            </a:lnTo>
                            <a:lnTo>
                              <a:pt x="546" y="367"/>
                            </a:lnTo>
                            <a:lnTo>
                              <a:pt x="589" y="390"/>
                            </a:lnTo>
                            <a:lnTo>
                              <a:pt x="632" y="413"/>
                            </a:lnTo>
                            <a:lnTo>
                              <a:pt x="671" y="439"/>
                            </a:lnTo>
                            <a:lnTo>
                              <a:pt x="708" y="466"/>
                            </a:lnTo>
                            <a:lnTo>
                              <a:pt x="770" y="499"/>
                            </a:lnTo>
                            <a:lnTo>
                              <a:pt x="836" y="528"/>
                            </a:lnTo>
                            <a:lnTo>
                              <a:pt x="902" y="556"/>
                            </a:lnTo>
                            <a:lnTo>
                              <a:pt x="970" y="581"/>
                            </a:lnTo>
                            <a:lnTo>
                              <a:pt x="1042" y="604"/>
                            </a:lnTo>
                            <a:lnTo>
                              <a:pt x="1114" y="624"/>
                            </a:lnTo>
                            <a:lnTo>
                              <a:pt x="1186" y="643"/>
                            </a:lnTo>
                            <a:lnTo>
                              <a:pt x="1262" y="659"/>
                            </a:lnTo>
                            <a:lnTo>
                              <a:pt x="1338" y="673"/>
                            </a:lnTo>
                            <a:lnTo>
                              <a:pt x="1414" y="684"/>
                            </a:lnTo>
                            <a:lnTo>
                              <a:pt x="1491" y="692"/>
                            </a:lnTo>
                            <a:lnTo>
                              <a:pt x="1569" y="698"/>
                            </a:lnTo>
                            <a:lnTo>
                              <a:pt x="1647" y="702"/>
                            </a:lnTo>
                            <a:lnTo>
                              <a:pt x="1727" y="704"/>
                            </a:lnTo>
                            <a:lnTo>
                              <a:pt x="1805" y="704"/>
                            </a:lnTo>
                            <a:lnTo>
                              <a:pt x="1884" y="700"/>
                            </a:lnTo>
                            <a:lnTo>
                              <a:pt x="1962" y="694"/>
                            </a:lnTo>
                            <a:lnTo>
                              <a:pt x="2040" y="686"/>
                            </a:lnTo>
                            <a:lnTo>
                              <a:pt x="2118" y="676"/>
                            </a:lnTo>
                            <a:lnTo>
                              <a:pt x="2195" y="663"/>
                            </a:lnTo>
                            <a:lnTo>
                              <a:pt x="2271" y="647"/>
                            </a:lnTo>
                            <a:lnTo>
                              <a:pt x="2347" y="630"/>
                            </a:lnTo>
                            <a:lnTo>
                              <a:pt x="2421" y="610"/>
                            </a:lnTo>
                            <a:lnTo>
                              <a:pt x="2493" y="587"/>
                            </a:lnTo>
                            <a:lnTo>
                              <a:pt x="2565" y="563"/>
                            </a:lnTo>
                            <a:lnTo>
                              <a:pt x="2635" y="534"/>
                            </a:lnTo>
                            <a:lnTo>
                              <a:pt x="2703" y="505"/>
                            </a:lnTo>
                            <a:lnTo>
                              <a:pt x="2769" y="472"/>
                            </a:lnTo>
                            <a:lnTo>
                              <a:pt x="2833" y="437"/>
                            </a:lnTo>
                            <a:lnTo>
                              <a:pt x="2896" y="400"/>
                            </a:lnTo>
                            <a:lnTo>
                              <a:pt x="2956" y="361"/>
                            </a:lnTo>
                            <a:lnTo>
                              <a:pt x="3012" y="318"/>
                            </a:lnTo>
                            <a:lnTo>
                              <a:pt x="3012" y="203"/>
                            </a:lnTo>
                            <a:lnTo>
                              <a:pt x="3051" y="205"/>
                            </a:lnTo>
                            <a:lnTo>
                              <a:pt x="3084" y="215"/>
                            </a:lnTo>
                            <a:lnTo>
                              <a:pt x="3114" y="230"/>
                            </a:lnTo>
                            <a:lnTo>
                              <a:pt x="3141" y="254"/>
                            </a:lnTo>
                            <a:lnTo>
                              <a:pt x="3162" y="281"/>
                            </a:lnTo>
                            <a:lnTo>
                              <a:pt x="3182" y="310"/>
                            </a:lnTo>
                            <a:lnTo>
                              <a:pt x="3199" y="341"/>
                            </a:lnTo>
                            <a:lnTo>
                              <a:pt x="3215" y="372"/>
                            </a:lnTo>
                            <a:lnTo>
                              <a:pt x="3211" y="394"/>
                            </a:lnTo>
                            <a:lnTo>
                              <a:pt x="3211" y="417"/>
                            </a:lnTo>
                            <a:lnTo>
                              <a:pt x="3213" y="441"/>
                            </a:lnTo>
                            <a:lnTo>
                              <a:pt x="3215" y="464"/>
                            </a:lnTo>
                            <a:lnTo>
                              <a:pt x="3215" y="487"/>
                            </a:lnTo>
                            <a:lnTo>
                              <a:pt x="3209" y="509"/>
                            </a:lnTo>
                            <a:lnTo>
                              <a:pt x="3197" y="528"/>
                            </a:lnTo>
                            <a:lnTo>
                              <a:pt x="3176" y="544"/>
                            </a:lnTo>
                            <a:lnTo>
                              <a:pt x="3106" y="544"/>
                            </a:lnTo>
                            <a:lnTo>
                              <a:pt x="3104" y="534"/>
                            </a:lnTo>
                            <a:lnTo>
                              <a:pt x="3104" y="524"/>
                            </a:lnTo>
                            <a:lnTo>
                              <a:pt x="3106" y="513"/>
                            </a:lnTo>
                            <a:lnTo>
                              <a:pt x="3106" y="501"/>
                            </a:lnTo>
                            <a:lnTo>
                              <a:pt x="3106" y="491"/>
                            </a:lnTo>
                            <a:lnTo>
                              <a:pt x="3102" y="482"/>
                            </a:lnTo>
                            <a:lnTo>
                              <a:pt x="3094" y="474"/>
                            </a:lnTo>
                            <a:lnTo>
                              <a:pt x="3082" y="466"/>
                            </a:lnTo>
                            <a:lnTo>
                              <a:pt x="3014" y="509"/>
                            </a:lnTo>
                            <a:lnTo>
                              <a:pt x="2942" y="548"/>
                            </a:lnTo>
                            <a:lnTo>
                              <a:pt x="2870" y="587"/>
                            </a:lnTo>
                            <a:lnTo>
                              <a:pt x="2795" y="622"/>
                            </a:lnTo>
                            <a:lnTo>
                              <a:pt x="2719" y="655"/>
                            </a:lnTo>
                            <a:lnTo>
                              <a:pt x="2639" y="684"/>
                            </a:lnTo>
                            <a:lnTo>
                              <a:pt x="2559" y="712"/>
                            </a:lnTo>
                            <a:lnTo>
                              <a:pt x="2477" y="737"/>
                            </a:lnTo>
                            <a:lnTo>
                              <a:pt x="2396" y="760"/>
                            </a:lnTo>
                            <a:lnTo>
                              <a:pt x="2312" y="780"/>
                            </a:lnTo>
                            <a:lnTo>
                              <a:pt x="2229" y="797"/>
                            </a:lnTo>
                            <a:lnTo>
                              <a:pt x="2143" y="813"/>
                            </a:lnTo>
                            <a:lnTo>
                              <a:pt x="2057" y="825"/>
                            </a:lnTo>
                            <a:lnTo>
                              <a:pt x="1970" y="832"/>
                            </a:lnTo>
                            <a:lnTo>
                              <a:pt x="1884" y="840"/>
                            </a:lnTo>
                            <a:lnTo>
                              <a:pt x="1797" y="844"/>
                            </a:lnTo>
                            <a:lnTo>
                              <a:pt x="1709" y="844"/>
                            </a:lnTo>
                            <a:lnTo>
                              <a:pt x="1624" y="842"/>
                            </a:lnTo>
                            <a:lnTo>
                              <a:pt x="1536" y="838"/>
                            </a:lnTo>
                            <a:lnTo>
                              <a:pt x="1451" y="830"/>
                            </a:lnTo>
                            <a:lnTo>
                              <a:pt x="1365" y="821"/>
                            </a:lnTo>
                            <a:lnTo>
                              <a:pt x="1281" y="807"/>
                            </a:lnTo>
                            <a:lnTo>
                              <a:pt x="1196" y="789"/>
                            </a:lnTo>
                            <a:lnTo>
                              <a:pt x="1114" y="770"/>
                            </a:lnTo>
                            <a:lnTo>
                              <a:pt x="1032" y="749"/>
                            </a:lnTo>
                            <a:lnTo>
                              <a:pt x="951" y="723"/>
                            </a:lnTo>
                            <a:lnTo>
                              <a:pt x="873" y="694"/>
                            </a:lnTo>
                            <a:lnTo>
                              <a:pt x="795" y="663"/>
                            </a:lnTo>
                            <a:lnTo>
                              <a:pt x="719" y="628"/>
                            </a:lnTo>
                            <a:lnTo>
                              <a:pt x="645" y="591"/>
                            </a:lnTo>
                            <a:lnTo>
                              <a:pt x="575" y="550"/>
                            </a:lnTo>
                            <a:lnTo>
                              <a:pt x="505" y="505"/>
                            </a:lnTo>
                            <a:lnTo>
                              <a:pt x="478" y="493"/>
                            </a:lnTo>
                            <a:lnTo>
                              <a:pt x="451" y="478"/>
                            </a:lnTo>
                            <a:lnTo>
                              <a:pt x="424" y="460"/>
                            </a:lnTo>
                            <a:lnTo>
                              <a:pt x="396" y="439"/>
                            </a:lnTo>
                            <a:lnTo>
                              <a:pt x="369" y="419"/>
                            </a:lnTo>
                            <a:lnTo>
                              <a:pt x="344" y="396"/>
                            </a:lnTo>
                            <a:lnTo>
                              <a:pt x="317" y="374"/>
                            </a:lnTo>
                            <a:lnTo>
                              <a:pt x="289" y="353"/>
                            </a:lnTo>
                            <a:lnTo>
                              <a:pt x="264" y="335"/>
                            </a:lnTo>
                            <a:lnTo>
                              <a:pt x="237" y="318"/>
                            </a:lnTo>
                            <a:lnTo>
                              <a:pt x="212" y="302"/>
                            </a:lnTo>
                            <a:lnTo>
                              <a:pt x="184" y="293"/>
                            </a:lnTo>
                            <a:lnTo>
                              <a:pt x="159" y="285"/>
                            </a:lnTo>
                            <a:lnTo>
                              <a:pt x="132" y="283"/>
                            </a:lnTo>
                            <a:lnTo>
                              <a:pt x="107" y="287"/>
                            </a:lnTo>
                            <a:lnTo>
                              <a:pt x="79" y="296"/>
                            </a:lnTo>
                            <a:lnTo>
                              <a:pt x="3" y="296"/>
                            </a:lnTo>
                            <a:lnTo>
                              <a:pt x="2" y="259"/>
                            </a:lnTo>
                            <a:lnTo>
                              <a:pt x="0" y="217"/>
                            </a:lnTo>
                            <a:lnTo>
                              <a:pt x="2" y="172"/>
                            </a:lnTo>
                            <a:lnTo>
                              <a:pt x="7" y="127"/>
                            </a:lnTo>
                            <a:lnTo>
                              <a:pt x="17" y="86"/>
                            </a:lnTo>
                            <a:lnTo>
                              <a:pt x="31" y="49"/>
                            </a:lnTo>
                            <a:lnTo>
                              <a:pt x="52" y="20"/>
                            </a:lnTo>
                            <a:lnTo>
                              <a:pt x="79" y="0"/>
                            </a:lnTo>
                            <a:lnTo>
                              <a:pt x="87" y="12"/>
                            </a:lnTo>
                            <a:lnTo>
                              <a:pt x="101" y="16"/>
                            </a:lnTo>
                            <a:lnTo>
                              <a:pt x="116" y="16"/>
                            </a:lnTo>
                            <a:lnTo>
                              <a:pt x="134" y="16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7920" bIns="-79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2" name=""/>
                      <p:cNvSpPr/>
                      <p:nvPr/>
                    </p:nvSpPr>
                    <p:spPr>
                      <a:xfrm>
                        <a:off x="2026080" y="2258280"/>
                        <a:ext cx="720" cy="2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6" h="55">
                            <a:moveTo>
                              <a:pt x="16" y="55"/>
                            </a:moveTo>
                            <a:lnTo>
                              <a:pt x="0" y="0"/>
                            </a:lnTo>
                            <a:lnTo>
                              <a:pt x="16" y="0"/>
                            </a:lnTo>
                            <a:lnTo>
                              <a:pt x="16" y="55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640" bIns="-446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3" name=""/>
                      <p:cNvSpPr/>
                      <p:nvPr/>
                    </p:nvSpPr>
                    <p:spPr>
                      <a:xfrm>
                        <a:off x="1824480" y="2260800"/>
                        <a:ext cx="315720" cy="320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054" h="6928">
                            <a:moveTo>
                              <a:pt x="5479" y="333"/>
                            </a:moveTo>
                            <a:lnTo>
                              <a:pt x="5485" y="357"/>
                            </a:lnTo>
                            <a:lnTo>
                              <a:pt x="5490" y="382"/>
                            </a:lnTo>
                            <a:lnTo>
                              <a:pt x="5496" y="405"/>
                            </a:lnTo>
                            <a:lnTo>
                              <a:pt x="5504" y="431"/>
                            </a:lnTo>
                            <a:lnTo>
                              <a:pt x="5512" y="458"/>
                            </a:lnTo>
                            <a:lnTo>
                              <a:pt x="5518" y="483"/>
                            </a:lnTo>
                            <a:lnTo>
                              <a:pt x="5524" y="510"/>
                            </a:lnTo>
                            <a:lnTo>
                              <a:pt x="5529" y="536"/>
                            </a:lnTo>
                            <a:lnTo>
                              <a:pt x="5531" y="563"/>
                            </a:lnTo>
                            <a:lnTo>
                              <a:pt x="5533" y="588"/>
                            </a:lnTo>
                            <a:lnTo>
                              <a:pt x="5531" y="614"/>
                            </a:lnTo>
                            <a:lnTo>
                              <a:pt x="5527" y="639"/>
                            </a:lnTo>
                            <a:lnTo>
                              <a:pt x="5522" y="662"/>
                            </a:lnTo>
                            <a:lnTo>
                              <a:pt x="5512" y="686"/>
                            </a:lnTo>
                            <a:lnTo>
                              <a:pt x="5496" y="707"/>
                            </a:lnTo>
                            <a:lnTo>
                              <a:pt x="5479" y="729"/>
                            </a:lnTo>
                            <a:lnTo>
                              <a:pt x="5417" y="787"/>
                            </a:lnTo>
                            <a:lnTo>
                              <a:pt x="5348" y="836"/>
                            </a:lnTo>
                            <a:lnTo>
                              <a:pt x="5276" y="873"/>
                            </a:lnTo>
                            <a:lnTo>
                              <a:pt x="5203" y="902"/>
                            </a:lnTo>
                            <a:lnTo>
                              <a:pt x="5125" y="926"/>
                            </a:lnTo>
                            <a:lnTo>
                              <a:pt x="5045" y="945"/>
                            </a:lnTo>
                            <a:lnTo>
                              <a:pt x="4963" y="961"/>
                            </a:lnTo>
                            <a:lnTo>
                              <a:pt x="4884" y="974"/>
                            </a:lnTo>
                            <a:lnTo>
                              <a:pt x="4802" y="990"/>
                            </a:lnTo>
                            <a:lnTo>
                              <a:pt x="4724" y="1009"/>
                            </a:lnTo>
                            <a:lnTo>
                              <a:pt x="4646" y="1031"/>
                            </a:lnTo>
                            <a:lnTo>
                              <a:pt x="4574" y="1058"/>
                            </a:lnTo>
                            <a:lnTo>
                              <a:pt x="4504" y="1093"/>
                            </a:lnTo>
                            <a:lnTo>
                              <a:pt x="4440" y="1138"/>
                            </a:lnTo>
                            <a:lnTo>
                              <a:pt x="4380" y="1194"/>
                            </a:lnTo>
                            <a:lnTo>
                              <a:pt x="4327" y="1263"/>
                            </a:lnTo>
                            <a:lnTo>
                              <a:pt x="4353" y="1286"/>
                            </a:lnTo>
                            <a:lnTo>
                              <a:pt x="4382" y="1304"/>
                            </a:lnTo>
                            <a:lnTo>
                              <a:pt x="4411" y="1317"/>
                            </a:lnTo>
                            <a:lnTo>
                              <a:pt x="4444" y="1329"/>
                            </a:lnTo>
                            <a:lnTo>
                              <a:pt x="4479" y="1339"/>
                            </a:lnTo>
                            <a:lnTo>
                              <a:pt x="4514" y="1345"/>
                            </a:lnTo>
                            <a:lnTo>
                              <a:pt x="4551" y="1348"/>
                            </a:lnTo>
                            <a:lnTo>
                              <a:pt x="4588" y="1352"/>
                            </a:lnTo>
                            <a:lnTo>
                              <a:pt x="4627" y="1354"/>
                            </a:lnTo>
                            <a:lnTo>
                              <a:pt x="4664" y="1358"/>
                            </a:lnTo>
                            <a:lnTo>
                              <a:pt x="4703" y="1360"/>
                            </a:lnTo>
                            <a:lnTo>
                              <a:pt x="4740" y="1364"/>
                            </a:lnTo>
                            <a:lnTo>
                              <a:pt x="4779" y="1368"/>
                            </a:lnTo>
                            <a:lnTo>
                              <a:pt x="4814" y="1376"/>
                            </a:lnTo>
                            <a:lnTo>
                              <a:pt x="4851" y="1384"/>
                            </a:lnTo>
                            <a:lnTo>
                              <a:pt x="4884" y="1395"/>
                            </a:lnTo>
                            <a:lnTo>
                              <a:pt x="4930" y="1415"/>
                            </a:lnTo>
                            <a:lnTo>
                              <a:pt x="4977" y="1436"/>
                            </a:lnTo>
                            <a:lnTo>
                              <a:pt x="5024" y="1460"/>
                            </a:lnTo>
                            <a:lnTo>
                              <a:pt x="5070" y="1487"/>
                            </a:lnTo>
                            <a:lnTo>
                              <a:pt x="5117" y="1516"/>
                            </a:lnTo>
                            <a:lnTo>
                              <a:pt x="5162" y="1547"/>
                            </a:lnTo>
                            <a:lnTo>
                              <a:pt x="5206" y="1580"/>
                            </a:lnTo>
                            <a:lnTo>
                              <a:pt x="5251" y="1615"/>
                            </a:lnTo>
                            <a:lnTo>
                              <a:pt x="5292" y="1652"/>
                            </a:lnTo>
                            <a:lnTo>
                              <a:pt x="5331" y="1691"/>
                            </a:lnTo>
                            <a:lnTo>
                              <a:pt x="5370" y="1732"/>
                            </a:lnTo>
                            <a:lnTo>
                              <a:pt x="5405" y="1773"/>
                            </a:lnTo>
                            <a:lnTo>
                              <a:pt x="5438" y="1816"/>
                            </a:lnTo>
                            <a:lnTo>
                              <a:pt x="5467" y="1861"/>
                            </a:lnTo>
                            <a:lnTo>
                              <a:pt x="5494" y="1906"/>
                            </a:lnTo>
                            <a:lnTo>
                              <a:pt x="5518" y="1953"/>
                            </a:lnTo>
                            <a:lnTo>
                              <a:pt x="5479" y="1966"/>
                            </a:lnTo>
                            <a:lnTo>
                              <a:pt x="5438" y="1982"/>
                            </a:lnTo>
                            <a:lnTo>
                              <a:pt x="5399" y="1997"/>
                            </a:lnTo>
                            <a:lnTo>
                              <a:pt x="5358" y="2015"/>
                            </a:lnTo>
                            <a:lnTo>
                              <a:pt x="5319" y="2032"/>
                            </a:lnTo>
                            <a:lnTo>
                              <a:pt x="5278" y="2052"/>
                            </a:lnTo>
                            <a:lnTo>
                              <a:pt x="5240" y="2073"/>
                            </a:lnTo>
                            <a:lnTo>
                              <a:pt x="5203" y="2095"/>
                            </a:lnTo>
                            <a:lnTo>
                              <a:pt x="5166" y="2118"/>
                            </a:lnTo>
                            <a:lnTo>
                              <a:pt x="5131" y="2144"/>
                            </a:lnTo>
                            <a:lnTo>
                              <a:pt x="5098" y="2171"/>
                            </a:lnTo>
                            <a:lnTo>
                              <a:pt x="5064" y="2198"/>
                            </a:lnTo>
                            <a:lnTo>
                              <a:pt x="5035" y="2227"/>
                            </a:lnTo>
                            <a:lnTo>
                              <a:pt x="5008" y="2258"/>
                            </a:lnTo>
                            <a:lnTo>
                              <a:pt x="4983" y="2292"/>
                            </a:lnTo>
                            <a:lnTo>
                              <a:pt x="4961" y="2325"/>
                            </a:lnTo>
                            <a:lnTo>
                              <a:pt x="4993" y="2364"/>
                            </a:lnTo>
                            <a:lnTo>
                              <a:pt x="5029" y="2340"/>
                            </a:lnTo>
                            <a:lnTo>
                              <a:pt x="5068" y="2319"/>
                            </a:lnTo>
                            <a:lnTo>
                              <a:pt x="5105" y="2294"/>
                            </a:lnTo>
                            <a:lnTo>
                              <a:pt x="5142" y="2270"/>
                            </a:lnTo>
                            <a:lnTo>
                              <a:pt x="5179" y="2247"/>
                            </a:lnTo>
                            <a:lnTo>
                              <a:pt x="5218" y="2223"/>
                            </a:lnTo>
                            <a:lnTo>
                              <a:pt x="5257" y="2202"/>
                            </a:lnTo>
                            <a:lnTo>
                              <a:pt x="5296" y="2182"/>
                            </a:lnTo>
                            <a:lnTo>
                              <a:pt x="5335" y="2165"/>
                            </a:lnTo>
                            <a:lnTo>
                              <a:pt x="5374" y="2149"/>
                            </a:lnTo>
                            <a:lnTo>
                              <a:pt x="5415" y="2136"/>
                            </a:lnTo>
                            <a:lnTo>
                              <a:pt x="5455" y="2126"/>
                            </a:lnTo>
                            <a:lnTo>
                              <a:pt x="5496" y="2118"/>
                            </a:lnTo>
                            <a:lnTo>
                              <a:pt x="5539" y="2116"/>
                            </a:lnTo>
                            <a:lnTo>
                              <a:pt x="5582" y="2118"/>
                            </a:lnTo>
                            <a:lnTo>
                              <a:pt x="5627" y="2124"/>
                            </a:lnTo>
                            <a:lnTo>
                              <a:pt x="5658" y="2186"/>
                            </a:lnTo>
                            <a:lnTo>
                              <a:pt x="5687" y="2249"/>
                            </a:lnTo>
                            <a:lnTo>
                              <a:pt x="5712" y="2313"/>
                            </a:lnTo>
                            <a:lnTo>
                              <a:pt x="5737" y="2379"/>
                            </a:lnTo>
                            <a:lnTo>
                              <a:pt x="5761" y="2444"/>
                            </a:lnTo>
                            <a:lnTo>
                              <a:pt x="5784" y="2510"/>
                            </a:lnTo>
                            <a:lnTo>
                              <a:pt x="5804" y="2578"/>
                            </a:lnTo>
                            <a:lnTo>
                              <a:pt x="5821" y="2646"/>
                            </a:lnTo>
                            <a:lnTo>
                              <a:pt x="5839" y="2714"/>
                            </a:lnTo>
                            <a:lnTo>
                              <a:pt x="5854" y="2783"/>
                            </a:lnTo>
                            <a:lnTo>
                              <a:pt x="5868" y="2853"/>
                            </a:lnTo>
                            <a:lnTo>
                              <a:pt x="5879" y="2921"/>
                            </a:lnTo>
                            <a:lnTo>
                              <a:pt x="5891" y="2991"/>
                            </a:lnTo>
                            <a:lnTo>
                              <a:pt x="5901" y="3063"/>
                            </a:lnTo>
                            <a:lnTo>
                              <a:pt x="5909" y="3133"/>
                            </a:lnTo>
                            <a:lnTo>
                              <a:pt x="5916" y="3204"/>
                            </a:lnTo>
                            <a:lnTo>
                              <a:pt x="5922" y="3276"/>
                            </a:lnTo>
                            <a:lnTo>
                              <a:pt x="5928" y="3348"/>
                            </a:lnTo>
                            <a:lnTo>
                              <a:pt x="5932" y="3418"/>
                            </a:lnTo>
                            <a:lnTo>
                              <a:pt x="5936" y="3490"/>
                            </a:lnTo>
                            <a:lnTo>
                              <a:pt x="5938" y="3562"/>
                            </a:lnTo>
                            <a:lnTo>
                              <a:pt x="5940" y="3632"/>
                            </a:lnTo>
                            <a:lnTo>
                              <a:pt x="5940" y="3704"/>
                            </a:lnTo>
                            <a:lnTo>
                              <a:pt x="5940" y="3775"/>
                            </a:lnTo>
                            <a:lnTo>
                              <a:pt x="5940" y="3847"/>
                            </a:lnTo>
                            <a:lnTo>
                              <a:pt x="5938" y="3917"/>
                            </a:lnTo>
                            <a:lnTo>
                              <a:pt x="5936" y="3987"/>
                            </a:lnTo>
                            <a:lnTo>
                              <a:pt x="5934" y="4057"/>
                            </a:lnTo>
                            <a:lnTo>
                              <a:pt x="5930" y="4127"/>
                            </a:lnTo>
                            <a:lnTo>
                              <a:pt x="5926" y="4196"/>
                            </a:lnTo>
                            <a:lnTo>
                              <a:pt x="5922" y="4264"/>
                            </a:lnTo>
                            <a:lnTo>
                              <a:pt x="5918" y="4332"/>
                            </a:lnTo>
                            <a:lnTo>
                              <a:pt x="5934" y="4349"/>
                            </a:lnTo>
                            <a:lnTo>
                              <a:pt x="5951" y="4367"/>
                            </a:lnTo>
                            <a:lnTo>
                              <a:pt x="5967" y="4385"/>
                            </a:lnTo>
                            <a:lnTo>
                              <a:pt x="5981" y="4402"/>
                            </a:lnTo>
                            <a:lnTo>
                              <a:pt x="5996" y="4422"/>
                            </a:lnTo>
                            <a:lnTo>
                              <a:pt x="6010" y="4439"/>
                            </a:lnTo>
                            <a:lnTo>
                              <a:pt x="6021" y="4459"/>
                            </a:lnTo>
                            <a:lnTo>
                              <a:pt x="6033" y="4476"/>
                            </a:lnTo>
                            <a:lnTo>
                              <a:pt x="6041" y="4496"/>
                            </a:lnTo>
                            <a:lnTo>
                              <a:pt x="6049" y="4517"/>
                            </a:lnTo>
                            <a:lnTo>
                              <a:pt x="6053" y="4537"/>
                            </a:lnTo>
                            <a:lnTo>
                              <a:pt x="6054" y="4558"/>
                            </a:lnTo>
                            <a:lnTo>
                              <a:pt x="6054" y="4579"/>
                            </a:lnTo>
                            <a:lnTo>
                              <a:pt x="6051" y="4603"/>
                            </a:lnTo>
                            <a:lnTo>
                              <a:pt x="6045" y="4626"/>
                            </a:lnTo>
                            <a:lnTo>
                              <a:pt x="6035" y="4650"/>
                            </a:lnTo>
                            <a:lnTo>
                              <a:pt x="5918" y="4767"/>
                            </a:lnTo>
                            <a:lnTo>
                              <a:pt x="5930" y="4819"/>
                            </a:lnTo>
                            <a:lnTo>
                              <a:pt x="5942" y="4872"/>
                            </a:lnTo>
                            <a:lnTo>
                              <a:pt x="5953" y="4926"/>
                            </a:lnTo>
                            <a:lnTo>
                              <a:pt x="5963" y="4981"/>
                            </a:lnTo>
                            <a:lnTo>
                              <a:pt x="5971" y="5035"/>
                            </a:lnTo>
                            <a:lnTo>
                              <a:pt x="5981" y="5090"/>
                            </a:lnTo>
                            <a:lnTo>
                              <a:pt x="5988" y="5147"/>
                            </a:lnTo>
                            <a:lnTo>
                              <a:pt x="5994" y="5201"/>
                            </a:lnTo>
                            <a:lnTo>
                              <a:pt x="6000" y="5258"/>
                            </a:lnTo>
                            <a:lnTo>
                              <a:pt x="6004" y="5314"/>
                            </a:lnTo>
                            <a:lnTo>
                              <a:pt x="6008" y="5371"/>
                            </a:lnTo>
                            <a:lnTo>
                              <a:pt x="6012" y="5425"/>
                            </a:lnTo>
                            <a:lnTo>
                              <a:pt x="6014" y="5482"/>
                            </a:lnTo>
                            <a:lnTo>
                              <a:pt x="6014" y="5538"/>
                            </a:lnTo>
                            <a:lnTo>
                              <a:pt x="6014" y="5595"/>
                            </a:lnTo>
                            <a:lnTo>
                              <a:pt x="6012" y="5651"/>
                            </a:lnTo>
                            <a:lnTo>
                              <a:pt x="6008" y="5708"/>
                            </a:lnTo>
                            <a:lnTo>
                              <a:pt x="6004" y="5762"/>
                            </a:lnTo>
                            <a:lnTo>
                              <a:pt x="5998" y="5819"/>
                            </a:lnTo>
                            <a:lnTo>
                              <a:pt x="5992" y="5873"/>
                            </a:lnTo>
                            <a:lnTo>
                              <a:pt x="5984" y="5928"/>
                            </a:lnTo>
                            <a:lnTo>
                              <a:pt x="5975" y="5983"/>
                            </a:lnTo>
                            <a:lnTo>
                              <a:pt x="5963" y="6037"/>
                            </a:lnTo>
                            <a:lnTo>
                              <a:pt x="5951" y="6090"/>
                            </a:lnTo>
                            <a:lnTo>
                              <a:pt x="5938" y="6142"/>
                            </a:lnTo>
                            <a:lnTo>
                              <a:pt x="5922" y="6195"/>
                            </a:lnTo>
                            <a:lnTo>
                              <a:pt x="5905" y="6248"/>
                            </a:lnTo>
                            <a:lnTo>
                              <a:pt x="5887" y="6298"/>
                            </a:lnTo>
                            <a:lnTo>
                              <a:pt x="5866" y="6347"/>
                            </a:lnTo>
                            <a:lnTo>
                              <a:pt x="5844" y="6398"/>
                            </a:lnTo>
                            <a:lnTo>
                              <a:pt x="5821" y="6446"/>
                            </a:lnTo>
                            <a:lnTo>
                              <a:pt x="5796" y="6493"/>
                            </a:lnTo>
                            <a:lnTo>
                              <a:pt x="5774" y="6522"/>
                            </a:lnTo>
                            <a:lnTo>
                              <a:pt x="5753" y="6552"/>
                            </a:lnTo>
                            <a:lnTo>
                              <a:pt x="5728" y="6579"/>
                            </a:lnTo>
                            <a:lnTo>
                              <a:pt x="5704" y="6604"/>
                            </a:lnTo>
                            <a:lnTo>
                              <a:pt x="5677" y="6630"/>
                            </a:lnTo>
                            <a:lnTo>
                              <a:pt x="5650" y="6651"/>
                            </a:lnTo>
                            <a:lnTo>
                              <a:pt x="5623" y="6670"/>
                            </a:lnTo>
                            <a:lnTo>
                              <a:pt x="5594" y="6688"/>
                            </a:lnTo>
                            <a:lnTo>
                              <a:pt x="5562" y="6702"/>
                            </a:lnTo>
                            <a:lnTo>
                              <a:pt x="5531" y="6713"/>
                            </a:lnTo>
                            <a:lnTo>
                              <a:pt x="5500" y="6723"/>
                            </a:lnTo>
                            <a:lnTo>
                              <a:pt x="5467" y="6729"/>
                            </a:lnTo>
                            <a:lnTo>
                              <a:pt x="5434" y="6733"/>
                            </a:lnTo>
                            <a:lnTo>
                              <a:pt x="5401" y="6731"/>
                            </a:lnTo>
                            <a:lnTo>
                              <a:pt x="5368" y="6727"/>
                            </a:lnTo>
                            <a:lnTo>
                              <a:pt x="5333" y="6719"/>
                            </a:lnTo>
                            <a:lnTo>
                              <a:pt x="5278" y="6692"/>
                            </a:lnTo>
                            <a:lnTo>
                              <a:pt x="5220" y="6665"/>
                            </a:lnTo>
                            <a:lnTo>
                              <a:pt x="5162" y="6639"/>
                            </a:lnTo>
                            <a:lnTo>
                              <a:pt x="5101" y="6614"/>
                            </a:lnTo>
                            <a:lnTo>
                              <a:pt x="5039" y="6592"/>
                            </a:lnTo>
                            <a:lnTo>
                              <a:pt x="4975" y="6573"/>
                            </a:lnTo>
                            <a:lnTo>
                              <a:pt x="4911" y="6557"/>
                            </a:lnTo>
                            <a:lnTo>
                              <a:pt x="4847" y="6544"/>
                            </a:lnTo>
                            <a:lnTo>
                              <a:pt x="4782" y="6534"/>
                            </a:lnTo>
                            <a:lnTo>
                              <a:pt x="4716" y="6530"/>
                            </a:lnTo>
                            <a:lnTo>
                              <a:pt x="4652" y="6532"/>
                            </a:lnTo>
                            <a:lnTo>
                              <a:pt x="4588" y="6538"/>
                            </a:lnTo>
                            <a:lnTo>
                              <a:pt x="4524" y="6550"/>
                            </a:lnTo>
                            <a:lnTo>
                              <a:pt x="4462" y="6567"/>
                            </a:lnTo>
                            <a:lnTo>
                              <a:pt x="4401" y="6592"/>
                            </a:lnTo>
                            <a:lnTo>
                              <a:pt x="4343" y="6626"/>
                            </a:lnTo>
                            <a:lnTo>
                              <a:pt x="4316" y="6628"/>
                            </a:lnTo>
                            <a:lnTo>
                              <a:pt x="4288" y="6628"/>
                            </a:lnTo>
                            <a:lnTo>
                              <a:pt x="4263" y="6624"/>
                            </a:lnTo>
                            <a:lnTo>
                              <a:pt x="4238" y="6616"/>
                            </a:lnTo>
                            <a:lnTo>
                              <a:pt x="4213" y="6608"/>
                            </a:lnTo>
                            <a:lnTo>
                              <a:pt x="4189" y="6594"/>
                            </a:lnTo>
                            <a:lnTo>
                              <a:pt x="4166" y="6581"/>
                            </a:lnTo>
                            <a:lnTo>
                              <a:pt x="4144" y="6565"/>
                            </a:lnTo>
                            <a:lnTo>
                              <a:pt x="4123" y="6548"/>
                            </a:lnTo>
                            <a:lnTo>
                              <a:pt x="4104" y="6528"/>
                            </a:lnTo>
                            <a:lnTo>
                              <a:pt x="4084" y="6509"/>
                            </a:lnTo>
                            <a:lnTo>
                              <a:pt x="4067" y="6489"/>
                            </a:lnTo>
                            <a:lnTo>
                              <a:pt x="4051" y="6468"/>
                            </a:lnTo>
                            <a:lnTo>
                              <a:pt x="4036" y="6444"/>
                            </a:lnTo>
                            <a:lnTo>
                              <a:pt x="4022" y="6423"/>
                            </a:lnTo>
                            <a:lnTo>
                              <a:pt x="4010" y="6402"/>
                            </a:lnTo>
                            <a:lnTo>
                              <a:pt x="3997" y="6347"/>
                            </a:lnTo>
                            <a:lnTo>
                              <a:pt x="3989" y="6296"/>
                            </a:lnTo>
                            <a:lnTo>
                              <a:pt x="3983" y="6244"/>
                            </a:lnTo>
                            <a:lnTo>
                              <a:pt x="3983" y="6195"/>
                            </a:lnTo>
                            <a:lnTo>
                              <a:pt x="3985" y="6146"/>
                            </a:lnTo>
                            <a:lnTo>
                              <a:pt x="3991" y="6099"/>
                            </a:lnTo>
                            <a:lnTo>
                              <a:pt x="4001" y="6053"/>
                            </a:lnTo>
                            <a:lnTo>
                              <a:pt x="4012" y="6008"/>
                            </a:lnTo>
                            <a:lnTo>
                              <a:pt x="4026" y="5963"/>
                            </a:lnTo>
                            <a:lnTo>
                              <a:pt x="4041" y="5920"/>
                            </a:lnTo>
                            <a:lnTo>
                              <a:pt x="4061" y="5877"/>
                            </a:lnTo>
                            <a:lnTo>
                              <a:pt x="4080" y="5834"/>
                            </a:lnTo>
                            <a:lnTo>
                              <a:pt x="4102" y="5793"/>
                            </a:lnTo>
                            <a:lnTo>
                              <a:pt x="4125" y="5751"/>
                            </a:lnTo>
                            <a:lnTo>
                              <a:pt x="4148" y="5710"/>
                            </a:lnTo>
                            <a:lnTo>
                              <a:pt x="4174" y="5669"/>
                            </a:lnTo>
                            <a:lnTo>
                              <a:pt x="4197" y="5628"/>
                            </a:lnTo>
                            <a:lnTo>
                              <a:pt x="4222" y="5587"/>
                            </a:lnTo>
                            <a:lnTo>
                              <a:pt x="4248" y="5546"/>
                            </a:lnTo>
                            <a:lnTo>
                              <a:pt x="4273" y="5505"/>
                            </a:lnTo>
                            <a:lnTo>
                              <a:pt x="4298" y="5464"/>
                            </a:lnTo>
                            <a:lnTo>
                              <a:pt x="4321" y="5423"/>
                            </a:lnTo>
                            <a:lnTo>
                              <a:pt x="4343" y="5380"/>
                            </a:lnTo>
                            <a:lnTo>
                              <a:pt x="4364" y="5339"/>
                            </a:lnTo>
                            <a:lnTo>
                              <a:pt x="4384" y="5297"/>
                            </a:lnTo>
                            <a:lnTo>
                              <a:pt x="4403" y="5252"/>
                            </a:lnTo>
                            <a:lnTo>
                              <a:pt x="4419" y="5207"/>
                            </a:lnTo>
                            <a:lnTo>
                              <a:pt x="4432" y="5162"/>
                            </a:lnTo>
                            <a:lnTo>
                              <a:pt x="4442" y="5115"/>
                            </a:lnTo>
                            <a:lnTo>
                              <a:pt x="4450" y="5069"/>
                            </a:lnTo>
                            <a:lnTo>
                              <a:pt x="4456" y="5020"/>
                            </a:lnTo>
                            <a:lnTo>
                              <a:pt x="4458" y="4969"/>
                            </a:lnTo>
                            <a:lnTo>
                              <a:pt x="4434" y="4954"/>
                            </a:lnTo>
                            <a:lnTo>
                              <a:pt x="4403" y="4940"/>
                            </a:lnTo>
                            <a:lnTo>
                              <a:pt x="4370" y="4924"/>
                            </a:lnTo>
                            <a:lnTo>
                              <a:pt x="4341" y="4909"/>
                            </a:lnTo>
                            <a:lnTo>
                              <a:pt x="4318" y="4891"/>
                            </a:lnTo>
                            <a:lnTo>
                              <a:pt x="4304" y="4868"/>
                            </a:lnTo>
                            <a:lnTo>
                              <a:pt x="4306" y="4837"/>
                            </a:lnTo>
                            <a:lnTo>
                              <a:pt x="4327" y="4798"/>
                            </a:lnTo>
                            <a:lnTo>
                              <a:pt x="4362" y="4782"/>
                            </a:lnTo>
                            <a:lnTo>
                              <a:pt x="4388" y="4767"/>
                            </a:lnTo>
                            <a:lnTo>
                              <a:pt x="4405" y="4749"/>
                            </a:lnTo>
                            <a:lnTo>
                              <a:pt x="4417" y="4731"/>
                            </a:lnTo>
                            <a:lnTo>
                              <a:pt x="4421" y="4712"/>
                            </a:lnTo>
                            <a:lnTo>
                              <a:pt x="4421" y="4692"/>
                            </a:lnTo>
                            <a:lnTo>
                              <a:pt x="4417" y="4673"/>
                            </a:lnTo>
                            <a:lnTo>
                              <a:pt x="4409" y="4652"/>
                            </a:lnTo>
                            <a:lnTo>
                              <a:pt x="4397" y="4630"/>
                            </a:lnTo>
                            <a:lnTo>
                              <a:pt x="4386" y="4607"/>
                            </a:lnTo>
                            <a:lnTo>
                              <a:pt x="4372" y="4585"/>
                            </a:lnTo>
                            <a:lnTo>
                              <a:pt x="4360" y="4562"/>
                            </a:lnTo>
                            <a:lnTo>
                              <a:pt x="4349" y="4539"/>
                            </a:lnTo>
                            <a:lnTo>
                              <a:pt x="4339" y="4513"/>
                            </a:lnTo>
                            <a:lnTo>
                              <a:pt x="4331" y="4490"/>
                            </a:lnTo>
                            <a:lnTo>
                              <a:pt x="4327" y="4464"/>
                            </a:lnTo>
                            <a:lnTo>
                              <a:pt x="4329" y="4420"/>
                            </a:lnTo>
                            <a:lnTo>
                              <a:pt x="4329" y="4375"/>
                            </a:lnTo>
                            <a:lnTo>
                              <a:pt x="4329" y="4330"/>
                            </a:lnTo>
                            <a:lnTo>
                              <a:pt x="4327" y="4283"/>
                            </a:lnTo>
                            <a:lnTo>
                              <a:pt x="4325" y="4235"/>
                            </a:lnTo>
                            <a:lnTo>
                              <a:pt x="4323" y="4186"/>
                            </a:lnTo>
                            <a:lnTo>
                              <a:pt x="4321" y="4137"/>
                            </a:lnTo>
                            <a:lnTo>
                              <a:pt x="4318" y="4088"/>
                            </a:lnTo>
                            <a:lnTo>
                              <a:pt x="4314" y="4040"/>
                            </a:lnTo>
                            <a:lnTo>
                              <a:pt x="4310" y="3989"/>
                            </a:lnTo>
                            <a:lnTo>
                              <a:pt x="4308" y="3938"/>
                            </a:lnTo>
                            <a:lnTo>
                              <a:pt x="4304" y="3888"/>
                            </a:lnTo>
                            <a:lnTo>
                              <a:pt x="4302" y="3837"/>
                            </a:lnTo>
                            <a:lnTo>
                              <a:pt x="4298" y="3786"/>
                            </a:lnTo>
                            <a:lnTo>
                              <a:pt x="4296" y="3736"/>
                            </a:lnTo>
                            <a:lnTo>
                              <a:pt x="4296" y="3685"/>
                            </a:lnTo>
                            <a:lnTo>
                              <a:pt x="4296" y="3636"/>
                            </a:lnTo>
                            <a:lnTo>
                              <a:pt x="4296" y="3586"/>
                            </a:lnTo>
                            <a:lnTo>
                              <a:pt x="4298" y="3537"/>
                            </a:lnTo>
                            <a:lnTo>
                              <a:pt x="4300" y="3486"/>
                            </a:lnTo>
                            <a:lnTo>
                              <a:pt x="4304" y="3439"/>
                            </a:lnTo>
                            <a:lnTo>
                              <a:pt x="4310" y="3391"/>
                            </a:lnTo>
                            <a:lnTo>
                              <a:pt x="4318" y="3344"/>
                            </a:lnTo>
                            <a:lnTo>
                              <a:pt x="4327" y="3297"/>
                            </a:lnTo>
                            <a:lnTo>
                              <a:pt x="4337" y="3250"/>
                            </a:lnTo>
                            <a:lnTo>
                              <a:pt x="4351" y="3206"/>
                            </a:lnTo>
                            <a:lnTo>
                              <a:pt x="4364" y="3163"/>
                            </a:lnTo>
                            <a:lnTo>
                              <a:pt x="4382" y="3120"/>
                            </a:lnTo>
                            <a:lnTo>
                              <a:pt x="4401" y="3077"/>
                            </a:lnTo>
                            <a:lnTo>
                              <a:pt x="4423" y="3036"/>
                            </a:lnTo>
                            <a:lnTo>
                              <a:pt x="4446" y="2997"/>
                            </a:lnTo>
                            <a:lnTo>
                              <a:pt x="4473" y="2960"/>
                            </a:lnTo>
                            <a:lnTo>
                              <a:pt x="4462" y="2948"/>
                            </a:lnTo>
                            <a:lnTo>
                              <a:pt x="4450" y="2935"/>
                            </a:lnTo>
                            <a:lnTo>
                              <a:pt x="4438" y="2923"/>
                            </a:lnTo>
                            <a:lnTo>
                              <a:pt x="4427" y="2913"/>
                            </a:lnTo>
                            <a:lnTo>
                              <a:pt x="4413" y="2905"/>
                            </a:lnTo>
                            <a:lnTo>
                              <a:pt x="4397" y="2900"/>
                            </a:lnTo>
                            <a:lnTo>
                              <a:pt x="4384" y="2900"/>
                            </a:lnTo>
                            <a:lnTo>
                              <a:pt x="4366" y="2905"/>
                            </a:lnTo>
                            <a:lnTo>
                              <a:pt x="4343" y="2929"/>
                            </a:lnTo>
                            <a:lnTo>
                              <a:pt x="4323" y="2954"/>
                            </a:lnTo>
                            <a:lnTo>
                              <a:pt x="4304" y="2981"/>
                            </a:lnTo>
                            <a:lnTo>
                              <a:pt x="4285" y="3005"/>
                            </a:lnTo>
                            <a:lnTo>
                              <a:pt x="4263" y="3026"/>
                            </a:lnTo>
                            <a:lnTo>
                              <a:pt x="4236" y="3038"/>
                            </a:lnTo>
                            <a:lnTo>
                              <a:pt x="4201" y="3040"/>
                            </a:lnTo>
                            <a:lnTo>
                              <a:pt x="4156" y="3030"/>
                            </a:lnTo>
                            <a:lnTo>
                              <a:pt x="4137" y="2987"/>
                            </a:lnTo>
                            <a:lnTo>
                              <a:pt x="4135" y="2941"/>
                            </a:lnTo>
                            <a:lnTo>
                              <a:pt x="4143" y="2890"/>
                            </a:lnTo>
                            <a:lnTo>
                              <a:pt x="4154" y="2839"/>
                            </a:lnTo>
                            <a:lnTo>
                              <a:pt x="4158" y="2794"/>
                            </a:lnTo>
                            <a:lnTo>
                              <a:pt x="4150" y="2757"/>
                            </a:lnTo>
                            <a:lnTo>
                              <a:pt x="4121" y="2732"/>
                            </a:lnTo>
                            <a:lnTo>
                              <a:pt x="4063" y="2720"/>
                            </a:lnTo>
                            <a:lnTo>
                              <a:pt x="4055" y="2740"/>
                            </a:lnTo>
                            <a:lnTo>
                              <a:pt x="4049" y="2759"/>
                            </a:lnTo>
                            <a:lnTo>
                              <a:pt x="4043" y="2779"/>
                            </a:lnTo>
                            <a:lnTo>
                              <a:pt x="4036" y="2798"/>
                            </a:lnTo>
                            <a:lnTo>
                              <a:pt x="4030" y="2820"/>
                            </a:lnTo>
                            <a:lnTo>
                              <a:pt x="4026" y="2839"/>
                            </a:lnTo>
                            <a:lnTo>
                              <a:pt x="4020" y="2861"/>
                            </a:lnTo>
                            <a:lnTo>
                              <a:pt x="4016" y="2880"/>
                            </a:lnTo>
                            <a:lnTo>
                              <a:pt x="4014" y="2902"/>
                            </a:lnTo>
                            <a:lnTo>
                              <a:pt x="4012" y="2923"/>
                            </a:lnTo>
                            <a:lnTo>
                              <a:pt x="4012" y="2944"/>
                            </a:lnTo>
                            <a:lnTo>
                              <a:pt x="4014" y="2966"/>
                            </a:lnTo>
                            <a:lnTo>
                              <a:pt x="4016" y="2987"/>
                            </a:lnTo>
                            <a:lnTo>
                              <a:pt x="4020" y="3011"/>
                            </a:lnTo>
                            <a:lnTo>
                              <a:pt x="4026" y="3032"/>
                            </a:lnTo>
                            <a:lnTo>
                              <a:pt x="4034" y="3054"/>
                            </a:lnTo>
                            <a:lnTo>
                              <a:pt x="4047" y="3079"/>
                            </a:lnTo>
                            <a:lnTo>
                              <a:pt x="4063" y="3104"/>
                            </a:lnTo>
                            <a:lnTo>
                              <a:pt x="4082" y="3126"/>
                            </a:lnTo>
                            <a:lnTo>
                              <a:pt x="4106" y="3145"/>
                            </a:lnTo>
                            <a:lnTo>
                              <a:pt x="4131" y="3163"/>
                            </a:lnTo>
                            <a:lnTo>
                              <a:pt x="4158" y="3174"/>
                            </a:lnTo>
                            <a:lnTo>
                              <a:pt x="4187" y="3184"/>
                            </a:lnTo>
                            <a:lnTo>
                              <a:pt x="4218" y="3186"/>
                            </a:lnTo>
                            <a:lnTo>
                              <a:pt x="4218" y="3233"/>
                            </a:lnTo>
                            <a:lnTo>
                              <a:pt x="4216" y="3280"/>
                            </a:lnTo>
                            <a:lnTo>
                              <a:pt x="4215" y="3326"/>
                            </a:lnTo>
                            <a:lnTo>
                              <a:pt x="4211" y="3373"/>
                            </a:lnTo>
                            <a:lnTo>
                              <a:pt x="4207" y="3420"/>
                            </a:lnTo>
                            <a:lnTo>
                              <a:pt x="4203" y="3467"/>
                            </a:lnTo>
                            <a:lnTo>
                              <a:pt x="4197" y="3512"/>
                            </a:lnTo>
                            <a:lnTo>
                              <a:pt x="4193" y="3558"/>
                            </a:lnTo>
                            <a:lnTo>
                              <a:pt x="4187" y="3603"/>
                            </a:lnTo>
                            <a:lnTo>
                              <a:pt x="4181" y="3650"/>
                            </a:lnTo>
                            <a:lnTo>
                              <a:pt x="4176" y="3695"/>
                            </a:lnTo>
                            <a:lnTo>
                              <a:pt x="4170" y="3741"/>
                            </a:lnTo>
                            <a:lnTo>
                              <a:pt x="4166" y="3786"/>
                            </a:lnTo>
                            <a:lnTo>
                              <a:pt x="4160" y="3831"/>
                            </a:lnTo>
                            <a:lnTo>
                              <a:pt x="4156" y="3876"/>
                            </a:lnTo>
                            <a:lnTo>
                              <a:pt x="4150" y="3923"/>
                            </a:lnTo>
                            <a:lnTo>
                              <a:pt x="4146" y="3968"/>
                            </a:lnTo>
                            <a:lnTo>
                              <a:pt x="4144" y="4012"/>
                            </a:lnTo>
                            <a:lnTo>
                              <a:pt x="4143" y="4057"/>
                            </a:lnTo>
                            <a:lnTo>
                              <a:pt x="4141" y="4102"/>
                            </a:lnTo>
                            <a:lnTo>
                              <a:pt x="4141" y="4147"/>
                            </a:lnTo>
                            <a:lnTo>
                              <a:pt x="4143" y="4192"/>
                            </a:lnTo>
                            <a:lnTo>
                              <a:pt x="4144" y="4236"/>
                            </a:lnTo>
                            <a:lnTo>
                              <a:pt x="4146" y="4281"/>
                            </a:lnTo>
                            <a:lnTo>
                              <a:pt x="4152" y="4324"/>
                            </a:lnTo>
                            <a:lnTo>
                              <a:pt x="4158" y="4369"/>
                            </a:lnTo>
                            <a:lnTo>
                              <a:pt x="4166" y="4414"/>
                            </a:lnTo>
                            <a:lnTo>
                              <a:pt x="4176" y="4459"/>
                            </a:lnTo>
                            <a:lnTo>
                              <a:pt x="4187" y="4503"/>
                            </a:lnTo>
                            <a:lnTo>
                              <a:pt x="4201" y="4546"/>
                            </a:lnTo>
                            <a:lnTo>
                              <a:pt x="4216" y="4591"/>
                            </a:lnTo>
                            <a:lnTo>
                              <a:pt x="4234" y="4636"/>
                            </a:lnTo>
                            <a:lnTo>
                              <a:pt x="4230" y="4655"/>
                            </a:lnTo>
                            <a:lnTo>
                              <a:pt x="4224" y="4677"/>
                            </a:lnTo>
                            <a:lnTo>
                              <a:pt x="4216" y="4696"/>
                            </a:lnTo>
                            <a:lnTo>
                              <a:pt x="4209" y="4718"/>
                            </a:lnTo>
                            <a:lnTo>
                              <a:pt x="4199" y="4739"/>
                            </a:lnTo>
                            <a:lnTo>
                              <a:pt x="4191" y="4761"/>
                            </a:lnTo>
                            <a:lnTo>
                              <a:pt x="4181" y="4780"/>
                            </a:lnTo>
                            <a:lnTo>
                              <a:pt x="4174" y="4802"/>
                            </a:lnTo>
                            <a:lnTo>
                              <a:pt x="4168" y="4823"/>
                            </a:lnTo>
                            <a:lnTo>
                              <a:pt x="4162" y="4844"/>
                            </a:lnTo>
                            <a:lnTo>
                              <a:pt x="4160" y="4866"/>
                            </a:lnTo>
                            <a:lnTo>
                              <a:pt x="4160" y="4885"/>
                            </a:lnTo>
                            <a:lnTo>
                              <a:pt x="4162" y="4907"/>
                            </a:lnTo>
                            <a:lnTo>
                              <a:pt x="4170" y="4928"/>
                            </a:lnTo>
                            <a:lnTo>
                              <a:pt x="4180" y="4948"/>
                            </a:lnTo>
                            <a:lnTo>
                              <a:pt x="4195" y="4969"/>
                            </a:lnTo>
                            <a:lnTo>
                              <a:pt x="4228" y="4987"/>
                            </a:lnTo>
                            <a:lnTo>
                              <a:pt x="4253" y="5006"/>
                            </a:lnTo>
                            <a:lnTo>
                              <a:pt x="4273" y="5028"/>
                            </a:lnTo>
                            <a:lnTo>
                              <a:pt x="4285" y="5049"/>
                            </a:lnTo>
                            <a:lnTo>
                              <a:pt x="4290" y="5072"/>
                            </a:lnTo>
                            <a:lnTo>
                              <a:pt x="4290" y="5096"/>
                            </a:lnTo>
                            <a:lnTo>
                              <a:pt x="4286" y="5121"/>
                            </a:lnTo>
                            <a:lnTo>
                              <a:pt x="4281" y="5145"/>
                            </a:lnTo>
                            <a:lnTo>
                              <a:pt x="4271" y="5170"/>
                            </a:lnTo>
                            <a:lnTo>
                              <a:pt x="4259" y="5195"/>
                            </a:lnTo>
                            <a:lnTo>
                              <a:pt x="4246" y="5221"/>
                            </a:lnTo>
                            <a:lnTo>
                              <a:pt x="4234" y="5246"/>
                            </a:lnTo>
                            <a:lnTo>
                              <a:pt x="4220" y="5271"/>
                            </a:lnTo>
                            <a:lnTo>
                              <a:pt x="4211" y="5295"/>
                            </a:lnTo>
                            <a:lnTo>
                              <a:pt x="4201" y="5318"/>
                            </a:lnTo>
                            <a:lnTo>
                              <a:pt x="4195" y="5339"/>
                            </a:lnTo>
                            <a:lnTo>
                              <a:pt x="4152" y="5404"/>
                            </a:lnTo>
                            <a:lnTo>
                              <a:pt x="4108" y="5472"/>
                            </a:lnTo>
                            <a:lnTo>
                              <a:pt x="4065" y="5540"/>
                            </a:lnTo>
                            <a:lnTo>
                              <a:pt x="4024" y="5610"/>
                            </a:lnTo>
                            <a:lnTo>
                              <a:pt x="3987" y="5682"/>
                            </a:lnTo>
                            <a:lnTo>
                              <a:pt x="3950" y="5756"/>
                            </a:lnTo>
                            <a:lnTo>
                              <a:pt x="3919" y="5832"/>
                            </a:lnTo>
                            <a:lnTo>
                              <a:pt x="3892" y="5908"/>
                            </a:lnTo>
                            <a:lnTo>
                              <a:pt x="3868" y="5986"/>
                            </a:lnTo>
                            <a:lnTo>
                              <a:pt x="3853" y="6064"/>
                            </a:lnTo>
                            <a:lnTo>
                              <a:pt x="3843" y="6144"/>
                            </a:lnTo>
                            <a:lnTo>
                              <a:pt x="3839" y="6224"/>
                            </a:lnTo>
                            <a:lnTo>
                              <a:pt x="3845" y="6304"/>
                            </a:lnTo>
                            <a:lnTo>
                              <a:pt x="3861" y="6386"/>
                            </a:lnTo>
                            <a:lnTo>
                              <a:pt x="3884" y="6466"/>
                            </a:lnTo>
                            <a:lnTo>
                              <a:pt x="3917" y="6548"/>
                            </a:lnTo>
                            <a:lnTo>
                              <a:pt x="3158" y="6811"/>
                            </a:lnTo>
                            <a:lnTo>
                              <a:pt x="2270" y="6735"/>
                            </a:lnTo>
                            <a:lnTo>
                              <a:pt x="2215" y="6743"/>
                            </a:lnTo>
                            <a:lnTo>
                              <a:pt x="2161" y="6752"/>
                            </a:lnTo>
                            <a:lnTo>
                              <a:pt x="2104" y="6762"/>
                            </a:lnTo>
                            <a:lnTo>
                              <a:pt x="2048" y="6774"/>
                            </a:lnTo>
                            <a:lnTo>
                              <a:pt x="1989" y="6787"/>
                            </a:lnTo>
                            <a:lnTo>
                              <a:pt x="1931" y="6801"/>
                            </a:lnTo>
                            <a:lnTo>
                              <a:pt x="1871" y="6813"/>
                            </a:lnTo>
                            <a:lnTo>
                              <a:pt x="1812" y="6826"/>
                            </a:lnTo>
                            <a:lnTo>
                              <a:pt x="1750" y="6840"/>
                            </a:lnTo>
                            <a:lnTo>
                              <a:pt x="1690" y="6854"/>
                            </a:lnTo>
                            <a:lnTo>
                              <a:pt x="1628" y="6867"/>
                            </a:lnTo>
                            <a:lnTo>
                              <a:pt x="1567" y="6879"/>
                            </a:lnTo>
                            <a:lnTo>
                              <a:pt x="1505" y="6891"/>
                            </a:lnTo>
                            <a:lnTo>
                              <a:pt x="1443" y="6900"/>
                            </a:lnTo>
                            <a:lnTo>
                              <a:pt x="1383" y="6910"/>
                            </a:lnTo>
                            <a:lnTo>
                              <a:pt x="1320" y="6916"/>
                            </a:lnTo>
                            <a:lnTo>
                              <a:pt x="1260" y="6922"/>
                            </a:lnTo>
                            <a:lnTo>
                              <a:pt x="1198" y="6926"/>
                            </a:lnTo>
                            <a:lnTo>
                              <a:pt x="1138" y="6928"/>
                            </a:lnTo>
                            <a:lnTo>
                              <a:pt x="1079" y="6926"/>
                            </a:lnTo>
                            <a:lnTo>
                              <a:pt x="1019" y="6922"/>
                            </a:lnTo>
                            <a:lnTo>
                              <a:pt x="961" y="6914"/>
                            </a:lnTo>
                            <a:lnTo>
                              <a:pt x="904" y="6904"/>
                            </a:lnTo>
                            <a:lnTo>
                              <a:pt x="848" y="6893"/>
                            </a:lnTo>
                            <a:lnTo>
                              <a:pt x="791" y="6875"/>
                            </a:lnTo>
                            <a:lnTo>
                              <a:pt x="739" y="6856"/>
                            </a:lnTo>
                            <a:lnTo>
                              <a:pt x="684" y="6830"/>
                            </a:lnTo>
                            <a:lnTo>
                              <a:pt x="634" y="6801"/>
                            </a:lnTo>
                            <a:lnTo>
                              <a:pt x="583" y="6768"/>
                            </a:lnTo>
                            <a:lnTo>
                              <a:pt x="535" y="6731"/>
                            </a:lnTo>
                            <a:lnTo>
                              <a:pt x="488" y="6688"/>
                            </a:lnTo>
                            <a:lnTo>
                              <a:pt x="443" y="6641"/>
                            </a:lnTo>
                            <a:lnTo>
                              <a:pt x="391" y="6591"/>
                            </a:lnTo>
                            <a:lnTo>
                              <a:pt x="344" y="6540"/>
                            </a:lnTo>
                            <a:lnTo>
                              <a:pt x="305" y="6487"/>
                            </a:lnTo>
                            <a:lnTo>
                              <a:pt x="270" y="6433"/>
                            </a:lnTo>
                            <a:lnTo>
                              <a:pt x="239" y="6378"/>
                            </a:lnTo>
                            <a:lnTo>
                              <a:pt x="214" y="6322"/>
                            </a:lnTo>
                            <a:lnTo>
                              <a:pt x="194" y="6265"/>
                            </a:lnTo>
                            <a:lnTo>
                              <a:pt x="179" y="6207"/>
                            </a:lnTo>
                            <a:lnTo>
                              <a:pt x="165" y="6148"/>
                            </a:lnTo>
                            <a:lnTo>
                              <a:pt x="157" y="6088"/>
                            </a:lnTo>
                            <a:lnTo>
                              <a:pt x="151" y="6027"/>
                            </a:lnTo>
                            <a:lnTo>
                              <a:pt x="151" y="5967"/>
                            </a:lnTo>
                            <a:lnTo>
                              <a:pt x="151" y="5907"/>
                            </a:lnTo>
                            <a:lnTo>
                              <a:pt x="155" y="5844"/>
                            </a:lnTo>
                            <a:lnTo>
                              <a:pt x="161" y="5782"/>
                            </a:lnTo>
                            <a:lnTo>
                              <a:pt x="169" y="5717"/>
                            </a:lnTo>
                            <a:lnTo>
                              <a:pt x="179" y="5655"/>
                            </a:lnTo>
                            <a:lnTo>
                              <a:pt x="190" y="5591"/>
                            </a:lnTo>
                            <a:lnTo>
                              <a:pt x="204" y="5527"/>
                            </a:lnTo>
                            <a:lnTo>
                              <a:pt x="218" y="5462"/>
                            </a:lnTo>
                            <a:lnTo>
                              <a:pt x="231" y="5398"/>
                            </a:lnTo>
                            <a:lnTo>
                              <a:pt x="247" y="5336"/>
                            </a:lnTo>
                            <a:lnTo>
                              <a:pt x="260" y="5271"/>
                            </a:lnTo>
                            <a:lnTo>
                              <a:pt x="276" y="5207"/>
                            </a:lnTo>
                            <a:lnTo>
                              <a:pt x="289" y="5143"/>
                            </a:lnTo>
                            <a:lnTo>
                              <a:pt x="301" y="5078"/>
                            </a:lnTo>
                            <a:lnTo>
                              <a:pt x="315" y="5016"/>
                            </a:lnTo>
                            <a:lnTo>
                              <a:pt x="324" y="4952"/>
                            </a:lnTo>
                            <a:lnTo>
                              <a:pt x="334" y="4889"/>
                            </a:lnTo>
                            <a:lnTo>
                              <a:pt x="342" y="4827"/>
                            </a:lnTo>
                            <a:lnTo>
                              <a:pt x="348" y="4765"/>
                            </a:lnTo>
                            <a:lnTo>
                              <a:pt x="350" y="4704"/>
                            </a:lnTo>
                            <a:lnTo>
                              <a:pt x="352" y="4653"/>
                            </a:lnTo>
                            <a:lnTo>
                              <a:pt x="354" y="4605"/>
                            </a:lnTo>
                            <a:lnTo>
                              <a:pt x="356" y="4554"/>
                            </a:lnTo>
                            <a:lnTo>
                              <a:pt x="358" y="4505"/>
                            </a:lnTo>
                            <a:lnTo>
                              <a:pt x="361" y="4457"/>
                            </a:lnTo>
                            <a:lnTo>
                              <a:pt x="365" y="4408"/>
                            </a:lnTo>
                            <a:lnTo>
                              <a:pt x="369" y="4359"/>
                            </a:lnTo>
                            <a:lnTo>
                              <a:pt x="375" y="4311"/>
                            </a:lnTo>
                            <a:lnTo>
                              <a:pt x="381" y="4262"/>
                            </a:lnTo>
                            <a:lnTo>
                              <a:pt x="387" y="4215"/>
                            </a:lnTo>
                            <a:lnTo>
                              <a:pt x="393" y="4166"/>
                            </a:lnTo>
                            <a:lnTo>
                              <a:pt x="400" y="4120"/>
                            </a:lnTo>
                            <a:lnTo>
                              <a:pt x="408" y="4073"/>
                            </a:lnTo>
                            <a:lnTo>
                              <a:pt x="418" y="4026"/>
                            </a:lnTo>
                            <a:lnTo>
                              <a:pt x="426" y="3979"/>
                            </a:lnTo>
                            <a:lnTo>
                              <a:pt x="437" y="3932"/>
                            </a:lnTo>
                            <a:lnTo>
                              <a:pt x="449" y="3888"/>
                            </a:lnTo>
                            <a:lnTo>
                              <a:pt x="461" y="3843"/>
                            </a:lnTo>
                            <a:lnTo>
                              <a:pt x="474" y="3798"/>
                            </a:lnTo>
                            <a:lnTo>
                              <a:pt x="488" y="3753"/>
                            </a:lnTo>
                            <a:lnTo>
                              <a:pt x="503" y="3708"/>
                            </a:lnTo>
                            <a:lnTo>
                              <a:pt x="519" y="3665"/>
                            </a:lnTo>
                            <a:lnTo>
                              <a:pt x="537" y="3623"/>
                            </a:lnTo>
                            <a:lnTo>
                              <a:pt x="554" y="3580"/>
                            </a:lnTo>
                            <a:lnTo>
                              <a:pt x="573" y="3537"/>
                            </a:lnTo>
                            <a:lnTo>
                              <a:pt x="595" y="3496"/>
                            </a:lnTo>
                            <a:lnTo>
                              <a:pt x="616" y="3453"/>
                            </a:lnTo>
                            <a:lnTo>
                              <a:pt x="640" y="3412"/>
                            </a:lnTo>
                            <a:lnTo>
                              <a:pt x="663" y="3373"/>
                            </a:lnTo>
                            <a:lnTo>
                              <a:pt x="690" y="3332"/>
                            </a:lnTo>
                            <a:lnTo>
                              <a:pt x="715" y="3293"/>
                            </a:lnTo>
                            <a:lnTo>
                              <a:pt x="745" y="3254"/>
                            </a:lnTo>
                            <a:lnTo>
                              <a:pt x="743" y="3233"/>
                            </a:lnTo>
                            <a:lnTo>
                              <a:pt x="745" y="3209"/>
                            </a:lnTo>
                            <a:lnTo>
                              <a:pt x="745" y="3186"/>
                            </a:lnTo>
                            <a:lnTo>
                              <a:pt x="745" y="3165"/>
                            </a:lnTo>
                            <a:lnTo>
                              <a:pt x="739" y="3143"/>
                            </a:lnTo>
                            <a:lnTo>
                              <a:pt x="731" y="3128"/>
                            </a:lnTo>
                            <a:lnTo>
                              <a:pt x="715" y="3114"/>
                            </a:lnTo>
                            <a:lnTo>
                              <a:pt x="690" y="3108"/>
                            </a:lnTo>
                            <a:lnTo>
                              <a:pt x="657" y="3122"/>
                            </a:lnTo>
                            <a:lnTo>
                              <a:pt x="630" y="3141"/>
                            </a:lnTo>
                            <a:lnTo>
                              <a:pt x="608" y="3169"/>
                            </a:lnTo>
                            <a:lnTo>
                              <a:pt x="591" y="3200"/>
                            </a:lnTo>
                            <a:lnTo>
                              <a:pt x="573" y="3233"/>
                            </a:lnTo>
                            <a:lnTo>
                              <a:pt x="558" y="3268"/>
                            </a:lnTo>
                            <a:lnTo>
                              <a:pt x="542" y="3301"/>
                            </a:lnTo>
                            <a:lnTo>
                              <a:pt x="521" y="3332"/>
                            </a:lnTo>
                            <a:lnTo>
                              <a:pt x="496" y="3313"/>
                            </a:lnTo>
                            <a:lnTo>
                              <a:pt x="478" y="3291"/>
                            </a:lnTo>
                            <a:lnTo>
                              <a:pt x="468" y="3268"/>
                            </a:lnTo>
                            <a:lnTo>
                              <a:pt x="465" y="3243"/>
                            </a:lnTo>
                            <a:lnTo>
                              <a:pt x="463" y="3217"/>
                            </a:lnTo>
                            <a:lnTo>
                              <a:pt x="466" y="3190"/>
                            </a:lnTo>
                            <a:lnTo>
                              <a:pt x="470" y="3163"/>
                            </a:lnTo>
                            <a:lnTo>
                              <a:pt x="474" y="3135"/>
                            </a:lnTo>
                            <a:lnTo>
                              <a:pt x="478" y="3110"/>
                            </a:lnTo>
                            <a:lnTo>
                              <a:pt x="480" y="3087"/>
                            </a:lnTo>
                            <a:lnTo>
                              <a:pt x="480" y="3065"/>
                            </a:lnTo>
                            <a:lnTo>
                              <a:pt x="476" y="3044"/>
                            </a:lnTo>
                            <a:lnTo>
                              <a:pt x="465" y="3028"/>
                            </a:lnTo>
                            <a:lnTo>
                              <a:pt x="447" y="3015"/>
                            </a:lnTo>
                            <a:lnTo>
                              <a:pt x="424" y="3005"/>
                            </a:lnTo>
                            <a:lnTo>
                              <a:pt x="389" y="2999"/>
                            </a:lnTo>
                            <a:lnTo>
                              <a:pt x="377" y="3018"/>
                            </a:lnTo>
                            <a:lnTo>
                              <a:pt x="367" y="3040"/>
                            </a:lnTo>
                            <a:lnTo>
                              <a:pt x="360" y="3057"/>
                            </a:lnTo>
                            <a:lnTo>
                              <a:pt x="356" y="3077"/>
                            </a:lnTo>
                            <a:lnTo>
                              <a:pt x="352" y="3096"/>
                            </a:lnTo>
                            <a:lnTo>
                              <a:pt x="350" y="3116"/>
                            </a:lnTo>
                            <a:lnTo>
                              <a:pt x="348" y="3135"/>
                            </a:lnTo>
                            <a:lnTo>
                              <a:pt x="350" y="3155"/>
                            </a:lnTo>
                            <a:lnTo>
                              <a:pt x="350" y="3174"/>
                            </a:lnTo>
                            <a:lnTo>
                              <a:pt x="350" y="3194"/>
                            </a:lnTo>
                            <a:lnTo>
                              <a:pt x="352" y="3215"/>
                            </a:lnTo>
                            <a:lnTo>
                              <a:pt x="352" y="3237"/>
                            </a:lnTo>
                            <a:lnTo>
                              <a:pt x="354" y="3260"/>
                            </a:lnTo>
                            <a:lnTo>
                              <a:pt x="354" y="3284"/>
                            </a:lnTo>
                            <a:lnTo>
                              <a:pt x="352" y="3307"/>
                            </a:lnTo>
                            <a:lnTo>
                              <a:pt x="350" y="3332"/>
                            </a:lnTo>
                            <a:lnTo>
                              <a:pt x="389" y="3356"/>
                            </a:lnTo>
                            <a:lnTo>
                              <a:pt x="418" y="3379"/>
                            </a:lnTo>
                            <a:lnTo>
                              <a:pt x="437" y="3406"/>
                            </a:lnTo>
                            <a:lnTo>
                              <a:pt x="449" y="3434"/>
                            </a:lnTo>
                            <a:lnTo>
                              <a:pt x="453" y="3463"/>
                            </a:lnTo>
                            <a:lnTo>
                              <a:pt x="451" y="3492"/>
                            </a:lnTo>
                            <a:lnTo>
                              <a:pt x="443" y="3523"/>
                            </a:lnTo>
                            <a:lnTo>
                              <a:pt x="433" y="3552"/>
                            </a:lnTo>
                            <a:lnTo>
                              <a:pt x="418" y="3586"/>
                            </a:lnTo>
                            <a:lnTo>
                              <a:pt x="402" y="3617"/>
                            </a:lnTo>
                            <a:lnTo>
                              <a:pt x="385" y="3648"/>
                            </a:lnTo>
                            <a:lnTo>
                              <a:pt x="367" y="3679"/>
                            </a:lnTo>
                            <a:lnTo>
                              <a:pt x="350" y="3710"/>
                            </a:lnTo>
                            <a:lnTo>
                              <a:pt x="336" y="3740"/>
                            </a:lnTo>
                            <a:lnTo>
                              <a:pt x="326" y="3769"/>
                            </a:lnTo>
                            <a:lnTo>
                              <a:pt x="319" y="3798"/>
                            </a:lnTo>
                            <a:lnTo>
                              <a:pt x="289" y="3751"/>
                            </a:lnTo>
                            <a:lnTo>
                              <a:pt x="262" y="3703"/>
                            </a:lnTo>
                            <a:lnTo>
                              <a:pt x="235" y="3652"/>
                            </a:lnTo>
                            <a:lnTo>
                              <a:pt x="210" y="3601"/>
                            </a:lnTo>
                            <a:lnTo>
                              <a:pt x="184" y="3551"/>
                            </a:lnTo>
                            <a:lnTo>
                              <a:pt x="163" y="3496"/>
                            </a:lnTo>
                            <a:lnTo>
                              <a:pt x="142" y="3443"/>
                            </a:lnTo>
                            <a:lnTo>
                              <a:pt x="120" y="3389"/>
                            </a:lnTo>
                            <a:lnTo>
                              <a:pt x="103" y="3332"/>
                            </a:lnTo>
                            <a:lnTo>
                              <a:pt x="85" y="3276"/>
                            </a:lnTo>
                            <a:lnTo>
                              <a:pt x="70" y="3219"/>
                            </a:lnTo>
                            <a:lnTo>
                              <a:pt x="56" y="3163"/>
                            </a:lnTo>
                            <a:lnTo>
                              <a:pt x="42" y="3104"/>
                            </a:lnTo>
                            <a:lnTo>
                              <a:pt x="31" y="3046"/>
                            </a:lnTo>
                            <a:lnTo>
                              <a:pt x="21" y="2987"/>
                            </a:lnTo>
                            <a:lnTo>
                              <a:pt x="13" y="2929"/>
                            </a:lnTo>
                            <a:lnTo>
                              <a:pt x="7" y="2868"/>
                            </a:lnTo>
                            <a:lnTo>
                              <a:pt x="4" y="2810"/>
                            </a:lnTo>
                            <a:lnTo>
                              <a:pt x="0" y="2750"/>
                            </a:lnTo>
                            <a:lnTo>
                              <a:pt x="0" y="2691"/>
                            </a:lnTo>
                            <a:lnTo>
                              <a:pt x="0" y="2633"/>
                            </a:lnTo>
                            <a:lnTo>
                              <a:pt x="2" y="2572"/>
                            </a:lnTo>
                            <a:lnTo>
                              <a:pt x="7" y="2514"/>
                            </a:lnTo>
                            <a:lnTo>
                              <a:pt x="13" y="2455"/>
                            </a:lnTo>
                            <a:lnTo>
                              <a:pt x="21" y="2397"/>
                            </a:lnTo>
                            <a:lnTo>
                              <a:pt x="31" y="2340"/>
                            </a:lnTo>
                            <a:lnTo>
                              <a:pt x="42" y="2282"/>
                            </a:lnTo>
                            <a:lnTo>
                              <a:pt x="58" y="2225"/>
                            </a:lnTo>
                            <a:lnTo>
                              <a:pt x="74" y="2171"/>
                            </a:lnTo>
                            <a:lnTo>
                              <a:pt x="91" y="2114"/>
                            </a:lnTo>
                            <a:lnTo>
                              <a:pt x="112" y="2060"/>
                            </a:lnTo>
                            <a:lnTo>
                              <a:pt x="134" y="2007"/>
                            </a:lnTo>
                            <a:lnTo>
                              <a:pt x="225" y="1937"/>
                            </a:lnTo>
                            <a:lnTo>
                              <a:pt x="239" y="1970"/>
                            </a:lnTo>
                            <a:lnTo>
                              <a:pt x="253" y="2005"/>
                            </a:lnTo>
                            <a:lnTo>
                              <a:pt x="266" y="2040"/>
                            </a:lnTo>
                            <a:lnTo>
                              <a:pt x="278" y="2075"/>
                            </a:lnTo>
                            <a:lnTo>
                              <a:pt x="291" y="2112"/>
                            </a:lnTo>
                            <a:lnTo>
                              <a:pt x="305" y="2147"/>
                            </a:lnTo>
                            <a:lnTo>
                              <a:pt x="321" y="2184"/>
                            </a:lnTo>
                            <a:lnTo>
                              <a:pt x="336" y="2218"/>
                            </a:lnTo>
                            <a:lnTo>
                              <a:pt x="356" y="2253"/>
                            </a:lnTo>
                            <a:lnTo>
                              <a:pt x="375" y="2284"/>
                            </a:lnTo>
                            <a:lnTo>
                              <a:pt x="396" y="2313"/>
                            </a:lnTo>
                            <a:lnTo>
                              <a:pt x="422" y="2340"/>
                            </a:lnTo>
                            <a:lnTo>
                              <a:pt x="451" y="2366"/>
                            </a:lnTo>
                            <a:lnTo>
                              <a:pt x="482" y="2387"/>
                            </a:lnTo>
                            <a:lnTo>
                              <a:pt x="519" y="2405"/>
                            </a:lnTo>
                            <a:lnTo>
                              <a:pt x="558" y="2418"/>
                            </a:lnTo>
                            <a:lnTo>
                              <a:pt x="597" y="2379"/>
                            </a:lnTo>
                            <a:lnTo>
                              <a:pt x="554" y="2321"/>
                            </a:lnTo>
                            <a:lnTo>
                              <a:pt x="515" y="2260"/>
                            </a:lnTo>
                            <a:lnTo>
                              <a:pt x="478" y="2198"/>
                            </a:lnTo>
                            <a:lnTo>
                              <a:pt x="447" y="2134"/>
                            </a:lnTo>
                            <a:lnTo>
                              <a:pt x="418" y="2068"/>
                            </a:lnTo>
                            <a:lnTo>
                              <a:pt x="393" y="2001"/>
                            </a:lnTo>
                            <a:lnTo>
                              <a:pt x="369" y="1931"/>
                            </a:lnTo>
                            <a:lnTo>
                              <a:pt x="350" y="1861"/>
                            </a:lnTo>
                            <a:lnTo>
                              <a:pt x="334" y="1791"/>
                            </a:lnTo>
                            <a:lnTo>
                              <a:pt x="321" y="1719"/>
                            </a:lnTo>
                            <a:lnTo>
                              <a:pt x="311" y="1645"/>
                            </a:lnTo>
                            <a:lnTo>
                              <a:pt x="303" y="1571"/>
                            </a:lnTo>
                            <a:lnTo>
                              <a:pt x="297" y="1495"/>
                            </a:lnTo>
                            <a:lnTo>
                              <a:pt x="293" y="1419"/>
                            </a:lnTo>
                            <a:lnTo>
                              <a:pt x="293" y="1341"/>
                            </a:lnTo>
                            <a:lnTo>
                              <a:pt x="295" y="1263"/>
                            </a:lnTo>
                            <a:lnTo>
                              <a:pt x="344" y="1269"/>
                            </a:lnTo>
                            <a:lnTo>
                              <a:pt x="381" y="1282"/>
                            </a:lnTo>
                            <a:lnTo>
                              <a:pt x="408" y="1302"/>
                            </a:lnTo>
                            <a:lnTo>
                              <a:pt x="430" y="1329"/>
                            </a:lnTo>
                            <a:lnTo>
                              <a:pt x="441" y="1360"/>
                            </a:lnTo>
                            <a:lnTo>
                              <a:pt x="449" y="1397"/>
                            </a:lnTo>
                            <a:lnTo>
                              <a:pt x="453" y="1436"/>
                            </a:lnTo>
                            <a:lnTo>
                              <a:pt x="453" y="1479"/>
                            </a:lnTo>
                            <a:lnTo>
                              <a:pt x="451" y="1524"/>
                            </a:lnTo>
                            <a:lnTo>
                              <a:pt x="447" y="1569"/>
                            </a:lnTo>
                            <a:lnTo>
                              <a:pt x="445" y="1613"/>
                            </a:lnTo>
                            <a:lnTo>
                              <a:pt x="443" y="1656"/>
                            </a:lnTo>
                            <a:lnTo>
                              <a:pt x="445" y="1699"/>
                            </a:lnTo>
                            <a:lnTo>
                              <a:pt x="453" y="1738"/>
                            </a:lnTo>
                            <a:lnTo>
                              <a:pt x="465" y="1775"/>
                            </a:lnTo>
                            <a:lnTo>
                              <a:pt x="482" y="1806"/>
                            </a:lnTo>
                            <a:lnTo>
                              <a:pt x="494" y="1845"/>
                            </a:lnTo>
                            <a:lnTo>
                              <a:pt x="507" y="1886"/>
                            </a:lnTo>
                            <a:lnTo>
                              <a:pt x="523" y="1929"/>
                            </a:lnTo>
                            <a:lnTo>
                              <a:pt x="542" y="1970"/>
                            </a:lnTo>
                            <a:lnTo>
                              <a:pt x="566" y="2005"/>
                            </a:lnTo>
                            <a:lnTo>
                              <a:pt x="593" y="2036"/>
                            </a:lnTo>
                            <a:lnTo>
                              <a:pt x="626" y="2058"/>
                            </a:lnTo>
                            <a:lnTo>
                              <a:pt x="667" y="2069"/>
                            </a:lnTo>
                            <a:lnTo>
                              <a:pt x="706" y="2030"/>
                            </a:lnTo>
                            <a:lnTo>
                              <a:pt x="692" y="1992"/>
                            </a:lnTo>
                            <a:lnTo>
                              <a:pt x="678" y="1953"/>
                            </a:lnTo>
                            <a:lnTo>
                              <a:pt x="665" y="1914"/>
                            </a:lnTo>
                            <a:lnTo>
                              <a:pt x="651" y="1877"/>
                            </a:lnTo>
                            <a:lnTo>
                              <a:pt x="636" y="1838"/>
                            </a:lnTo>
                            <a:lnTo>
                              <a:pt x="624" y="1799"/>
                            </a:lnTo>
                            <a:lnTo>
                              <a:pt x="610" y="1760"/>
                            </a:lnTo>
                            <a:lnTo>
                              <a:pt x="599" y="1719"/>
                            </a:lnTo>
                            <a:lnTo>
                              <a:pt x="589" y="1680"/>
                            </a:lnTo>
                            <a:lnTo>
                              <a:pt x="581" y="1639"/>
                            </a:lnTo>
                            <a:lnTo>
                              <a:pt x="573" y="1598"/>
                            </a:lnTo>
                            <a:lnTo>
                              <a:pt x="570" y="1557"/>
                            </a:lnTo>
                            <a:lnTo>
                              <a:pt x="566" y="1514"/>
                            </a:lnTo>
                            <a:lnTo>
                              <a:pt x="566" y="1469"/>
                            </a:lnTo>
                            <a:lnTo>
                              <a:pt x="568" y="1426"/>
                            </a:lnTo>
                            <a:lnTo>
                              <a:pt x="573" y="1380"/>
                            </a:lnTo>
                            <a:lnTo>
                              <a:pt x="610" y="1399"/>
                            </a:lnTo>
                            <a:lnTo>
                              <a:pt x="651" y="1415"/>
                            </a:lnTo>
                            <a:lnTo>
                              <a:pt x="694" y="1428"/>
                            </a:lnTo>
                            <a:lnTo>
                              <a:pt x="739" y="1438"/>
                            </a:lnTo>
                            <a:lnTo>
                              <a:pt x="782" y="1448"/>
                            </a:lnTo>
                            <a:lnTo>
                              <a:pt x="828" y="1458"/>
                            </a:lnTo>
                            <a:lnTo>
                              <a:pt x="871" y="1465"/>
                            </a:lnTo>
                            <a:lnTo>
                              <a:pt x="916" y="1475"/>
                            </a:lnTo>
                            <a:lnTo>
                              <a:pt x="959" y="1485"/>
                            </a:lnTo>
                            <a:lnTo>
                              <a:pt x="999" y="1498"/>
                            </a:lnTo>
                            <a:lnTo>
                              <a:pt x="1036" y="1514"/>
                            </a:lnTo>
                            <a:lnTo>
                              <a:pt x="1071" y="1534"/>
                            </a:lnTo>
                            <a:lnTo>
                              <a:pt x="1103" y="1557"/>
                            </a:lnTo>
                            <a:lnTo>
                              <a:pt x="1130" y="1584"/>
                            </a:lnTo>
                            <a:lnTo>
                              <a:pt x="1153" y="1617"/>
                            </a:lnTo>
                            <a:lnTo>
                              <a:pt x="1171" y="1658"/>
                            </a:lnTo>
                            <a:lnTo>
                              <a:pt x="1186" y="1719"/>
                            </a:lnTo>
                            <a:lnTo>
                              <a:pt x="1206" y="1779"/>
                            </a:lnTo>
                            <a:lnTo>
                              <a:pt x="1229" y="1838"/>
                            </a:lnTo>
                            <a:lnTo>
                              <a:pt x="1256" y="1896"/>
                            </a:lnTo>
                            <a:lnTo>
                              <a:pt x="1289" y="1953"/>
                            </a:lnTo>
                            <a:lnTo>
                              <a:pt x="1324" y="2007"/>
                            </a:lnTo>
                            <a:lnTo>
                              <a:pt x="1361" y="2060"/>
                            </a:lnTo>
                            <a:lnTo>
                              <a:pt x="1402" y="2110"/>
                            </a:lnTo>
                            <a:lnTo>
                              <a:pt x="1447" y="2159"/>
                            </a:lnTo>
                            <a:lnTo>
                              <a:pt x="1493" y="2206"/>
                            </a:lnTo>
                            <a:lnTo>
                              <a:pt x="1544" y="2249"/>
                            </a:lnTo>
                            <a:lnTo>
                              <a:pt x="1595" y="2290"/>
                            </a:lnTo>
                            <a:lnTo>
                              <a:pt x="1649" y="2327"/>
                            </a:lnTo>
                            <a:lnTo>
                              <a:pt x="1704" y="2362"/>
                            </a:lnTo>
                            <a:lnTo>
                              <a:pt x="1762" y="2391"/>
                            </a:lnTo>
                            <a:lnTo>
                              <a:pt x="1820" y="2418"/>
                            </a:lnTo>
                            <a:lnTo>
                              <a:pt x="1886" y="2397"/>
                            </a:lnTo>
                            <a:lnTo>
                              <a:pt x="1947" y="2366"/>
                            </a:lnTo>
                            <a:lnTo>
                              <a:pt x="1997" y="2329"/>
                            </a:lnTo>
                            <a:lnTo>
                              <a:pt x="2044" y="2286"/>
                            </a:lnTo>
                            <a:lnTo>
                              <a:pt x="2085" y="2237"/>
                            </a:lnTo>
                            <a:lnTo>
                              <a:pt x="2124" y="2186"/>
                            </a:lnTo>
                            <a:lnTo>
                              <a:pt x="2159" y="2130"/>
                            </a:lnTo>
                            <a:lnTo>
                              <a:pt x="2194" y="2073"/>
                            </a:lnTo>
                            <a:lnTo>
                              <a:pt x="2227" y="2015"/>
                            </a:lnTo>
                            <a:lnTo>
                              <a:pt x="2262" y="1954"/>
                            </a:lnTo>
                            <a:lnTo>
                              <a:pt x="2297" y="1898"/>
                            </a:lnTo>
                            <a:lnTo>
                              <a:pt x="2338" y="1841"/>
                            </a:lnTo>
                            <a:lnTo>
                              <a:pt x="2380" y="1789"/>
                            </a:lnTo>
                            <a:lnTo>
                              <a:pt x="2429" y="1740"/>
                            </a:lnTo>
                            <a:lnTo>
                              <a:pt x="2485" y="1697"/>
                            </a:lnTo>
                            <a:lnTo>
                              <a:pt x="2548" y="1658"/>
                            </a:lnTo>
                            <a:lnTo>
                              <a:pt x="2602" y="1652"/>
                            </a:lnTo>
                            <a:lnTo>
                              <a:pt x="2657" y="1647"/>
                            </a:lnTo>
                            <a:lnTo>
                              <a:pt x="2711" y="1639"/>
                            </a:lnTo>
                            <a:lnTo>
                              <a:pt x="2764" y="1629"/>
                            </a:lnTo>
                            <a:lnTo>
                              <a:pt x="2816" y="1619"/>
                            </a:lnTo>
                            <a:lnTo>
                              <a:pt x="2869" y="1608"/>
                            </a:lnTo>
                            <a:lnTo>
                              <a:pt x="2921" y="1596"/>
                            </a:lnTo>
                            <a:lnTo>
                              <a:pt x="2974" y="1584"/>
                            </a:lnTo>
                            <a:lnTo>
                              <a:pt x="3024" y="1571"/>
                            </a:lnTo>
                            <a:lnTo>
                              <a:pt x="3075" y="1555"/>
                            </a:lnTo>
                            <a:lnTo>
                              <a:pt x="3125" y="1539"/>
                            </a:lnTo>
                            <a:lnTo>
                              <a:pt x="3176" y="1522"/>
                            </a:lnTo>
                            <a:lnTo>
                              <a:pt x="3225" y="1504"/>
                            </a:lnTo>
                            <a:lnTo>
                              <a:pt x="3275" y="1487"/>
                            </a:lnTo>
                            <a:lnTo>
                              <a:pt x="3324" y="1467"/>
                            </a:lnTo>
                            <a:lnTo>
                              <a:pt x="3372" y="1446"/>
                            </a:lnTo>
                            <a:lnTo>
                              <a:pt x="3419" y="1424"/>
                            </a:lnTo>
                            <a:lnTo>
                              <a:pt x="3468" y="1403"/>
                            </a:lnTo>
                            <a:lnTo>
                              <a:pt x="3514" y="1380"/>
                            </a:lnTo>
                            <a:lnTo>
                              <a:pt x="3561" y="1356"/>
                            </a:lnTo>
                            <a:lnTo>
                              <a:pt x="3608" y="1331"/>
                            </a:lnTo>
                            <a:lnTo>
                              <a:pt x="3654" y="1306"/>
                            </a:lnTo>
                            <a:lnTo>
                              <a:pt x="3701" y="1278"/>
                            </a:lnTo>
                            <a:lnTo>
                              <a:pt x="3746" y="1251"/>
                            </a:lnTo>
                            <a:lnTo>
                              <a:pt x="3792" y="1224"/>
                            </a:lnTo>
                            <a:lnTo>
                              <a:pt x="3837" y="1194"/>
                            </a:lnTo>
                            <a:lnTo>
                              <a:pt x="3882" y="1165"/>
                            </a:lnTo>
                            <a:lnTo>
                              <a:pt x="3927" y="1136"/>
                            </a:lnTo>
                            <a:lnTo>
                              <a:pt x="3969" y="1105"/>
                            </a:lnTo>
                            <a:lnTo>
                              <a:pt x="4014" y="1074"/>
                            </a:lnTo>
                            <a:lnTo>
                              <a:pt x="4059" y="1041"/>
                            </a:lnTo>
                            <a:lnTo>
                              <a:pt x="4102" y="1007"/>
                            </a:lnTo>
                            <a:lnTo>
                              <a:pt x="4158" y="959"/>
                            </a:lnTo>
                            <a:lnTo>
                              <a:pt x="4216" y="914"/>
                            </a:lnTo>
                            <a:lnTo>
                              <a:pt x="4277" y="875"/>
                            </a:lnTo>
                            <a:lnTo>
                              <a:pt x="4339" y="838"/>
                            </a:lnTo>
                            <a:lnTo>
                              <a:pt x="4403" y="805"/>
                            </a:lnTo>
                            <a:lnTo>
                              <a:pt x="4469" y="774"/>
                            </a:lnTo>
                            <a:lnTo>
                              <a:pt x="4535" y="744"/>
                            </a:lnTo>
                            <a:lnTo>
                              <a:pt x="4602" y="715"/>
                            </a:lnTo>
                            <a:lnTo>
                              <a:pt x="4666" y="686"/>
                            </a:lnTo>
                            <a:lnTo>
                              <a:pt x="4730" y="655"/>
                            </a:lnTo>
                            <a:lnTo>
                              <a:pt x="4794" y="623"/>
                            </a:lnTo>
                            <a:lnTo>
                              <a:pt x="4854" y="588"/>
                            </a:lnTo>
                            <a:lnTo>
                              <a:pt x="4913" y="551"/>
                            </a:lnTo>
                            <a:lnTo>
                              <a:pt x="4969" y="510"/>
                            </a:lnTo>
                            <a:lnTo>
                              <a:pt x="5022" y="464"/>
                            </a:lnTo>
                            <a:lnTo>
                              <a:pt x="5070" y="411"/>
                            </a:lnTo>
                            <a:lnTo>
                              <a:pt x="5066" y="355"/>
                            </a:lnTo>
                            <a:lnTo>
                              <a:pt x="5049" y="306"/>
                            </a:lnTo>
                            <a:lnTo>
                              <a:pt x="5022" y="261"/>
                            </a:lnTo>
                            <a:lnTo>
                              <a:pt x="4985" y="222"/>
                            </a:lnTo>
                            <a:lnTo>
                              <a:pt x="4942" y="189"/>
                            </a:lnTo>
                            <a:lnTo>
                              <a:pt x="4897" y="160"/>
                            </a:lnTo>
                            <a:lnTo>
                              <a:pt x="4851" y="134"/>
                            </a:lnTo>
                            <a:lnTo>
                              <a:pt x="4806" y="115"/>
                            </a:lnTo>
                            <a:lnTo>
                              <a:pt x="4771" y="109"/>
                            </a:lnTo>
                            <a:lnTo>
                              <a:pt x="4736" y="101"/>
                            </a:lnTo>
                            <a:lnTo>
                              <a:pt x="4699" y="91"/>
                            </a:lnTo>
                            <a:lnTo>
                              <a:pt x="4662" y="84"/>
                            </a:lnTo>
                            <a:lnTo>
                              <a:pt x="4625" y="78"/>
                            </a:lnTo>
                            <a:lnTo>
                              <a:pt x="4588" y="76"/>
                            </a:lnTo>
                            <a:lnTo>
                              <a:pt x="4549" y="80"/>
                            </a:lnTo>
                            <a:lnTo>
                              <a:pt x="4512" y="91"/>
                            </a:lnTo>
                            <a:lnTo>
                              <a:pt x="4514" y="78"/>
                            </a:lnTo>
                            <a:lnTo>
                              <a:pt x="4514" y="62"/>
                            </a:lnTo>
                            <a:lnTo>
                              <a:pt x="4514" y="49"/>
                            </a:lnTo>
                            <a:lnTo>
                              <a:pt x="4514" y="35"/>
                            </a:lnTo>
                            <a:lnTo>
                              <a:pt x="4516" y="23"/>
                            </a:lnTo>
                            <a:lnTo>
                              <a:pt x="4524" y="12"/>
                            </a:lnTo>
                            <a:lnTo>
                              <a:pt x="4533" y="4"/>
                            </a:lnTo>
                            <a:lnTo>
                              <a:pt x="4551" y="0"/>
                            </a:lnTo>
                            <a:lnTo>
                              <a:pt x="4611" y="8"/>
                            </a:lnTo>
                            <a:lnTo>
                              <a:pt x="4674" y="14"/>
                            </a:lnTo>
                            <a:lnTo>
                              <a:pt x="4736" y="19"/>
                            </a:lnTo>
                            <a:lnTo>
                              <a:pt x="4800" y="27"/>
                            </a:lnTo>
                            <a:lnTo>
                              <a:pt x="4864" y="35"/>
                            </a:lnTo>
                            <a:lnTo>
                              <a:pt x="4926" y="45"/>
                            </a:lnTo>
                            <a:lnTo>
                              <a:pt x="4991" y="56"/>
                            </a:lnTo>
                            <a:lnTo>
                              <a:pt x="5053" y="70"/>
                            </a:lnTo>
                            <a:lnTo>
                              <a:pt x="5115" y="88"/>
                            </a:lnTo>
                            <a:lnTo>
                              <a:pt x="5173" y="109"/>
                            </a:lnTo>
                            <a:lnTo>
                              <a:pt x="5232" y="132"/>
                            </a:lnTo>
                            <a:lnTo>
                              <a:pt x="5288" y="162"/>
                            </a:lnTo>
                            <a:lnTo>
                              <a:pt x="5341" y="197"/>
                            </a:lnTo>
                            <a:lnTo>
                              <a:pt x="5389" y="236"/>
                            </a:lnTo>
                            <a:lnTo>
                              <a:pt x="5436" y="281"/>
                            </a:lnTo>
                            <a:lnTo>
                              <a:pt x="5479" y="333"/>
                            </a:lnTo>
                            <a:close/>
                          </a:path>
                        </a:pathLst>
                      </a:custGeom>
                      <a:solidFill>
                        <a:srgbClr val="00e5e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4" name=""/>
                      <p:cNvSpPr/>
                      <p:nvPr/>
                    </p:nvSpPr>
                    <p:spPr>
                      <a:xfrm>
                        <a:off x="2050200" y="2271240"/>
                        <a:ext cx="30960" cy="21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95" h="464">
                            <a:moveTo>
                              <a:pt x="595" y="169"/>
                            </a:moveTo>
                            <a:lnTo>
                              <a:pt x="0" y="464"/>
                            </a:lnTo>
                            <a:lnTo>
                              <a:pt x="6" y="442"/>
                            </a:lnTo>
                            <a:lnTo>
                              <a:pt x="14" y="419"/>
                            </a:lnTo>
                            <a:lnTo>
                              <a:pt x="24" y="396"/>
                            </a:lnTo>
                            <a:lnTo>
                              <a:pt x="33" y="370"/>
                            </a:lnTo>
                            <a:lnTo>
                              <a:pt x="47" y="345"/>
                            </a:lnTo>
                            <a:lnTo>
                              <a:pt x="59" y="320"/>
                            </a:lnTo>
                            <a:lnTo>
                              <a:pt x="72" y="294"/>
                            </a:lnTo>
                            <a:lnTo>
                              <a:pt x="86" y="267"/>
                            </a:lnTo>
                            <a:lnTo>
                              <a:pt x="98" y="240"/>
                            </a:lnTo>
                            <a:lnTo>
                              <a:pt x="109" y="212"/>
                            </a:lnTo>
                            <a:lnTo>
                              <a:pt x="121" y="183"/>
                            </a:lnTo>
                            <a:lnTo>
                              <a:pt x="131" y="156"/>
                            </a:lnTo>
                            <a:lnTo>
                              <a:pt x="138" y="127"/>
                            </a:lnTo>
                            <a:lnTo>
                              <a:pt x="142" y="97"/>
                            </a:lnTo>
                            <a:lnTo>
                              <a:pt x="146" y="66"/>
                            </a:lnTo>
                            <a:lnTo>
                              <a:pt x="146" y="37"/>
                            </a:lnTo>
                            <a:lnTo>
                              <a:pt x="175" y="23"/>
                            </a:lnTo>
                            <a:lnTo>
                              <a:pt x="208" y="14"/>
                            </a:lnTo>
                            <a:lnTo>
                              <a:pt x="242" y="6"/>
                            </a:lnTo>
                            <a:lnTo>
                              <a:pt x="275" y="2"/>
                            </a:lnTo>
                            <a:lnTo>
                              <a:pt x="308" y="0"/>
                            </a:lnTo>
                            <a:lnTo>
                              <a:pt x="343" y="2"/>
                            </a:lnTo>
                            <a:lnTo>
                              <a:pt x="376" y="6"/>
                            </a:lnTo>
                            <a:lnTo>
                              <a:pt x="409" y="12"/>
                            </a:lnTo>
                            <a:lnTo>
                              <a:pt x="440" y="23"/>
                            </a:lnTo>
                            <a:lnTo>
                              <a:pt x="471" y="35"/>
                            </a:lnTo>
                            <a:lnTo>
                              <a:pt x="498" y="51"/>
                            </a:lnTo>
                            <a:lnTo>
                              <a:pt x="524" y="68"/>
                            </a:lnTo>
                            <a:lnTo>
                              <a:pt x="547" y="90"/>
                            </a:lnTo>
                            <a:lnTo>
                              <a:pt x="566" y="113"/>
                            </a:lnTo>
                            <a:lnTo>
                              <a:pt x="584" y="140"/>
                            </a:lnTo>
                            <a:lnTo>
                              <a:pt x="595" y="169"/>
                            </a:lnTo>
                            <a:close/>
                          </a:path>
                        </a:pathLst>
                      </a:custGeom>
                      <a:solidFill>
                        <a:srgbClr val="00afa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5" name=""/>
                      <p:cNvSpPr/>
                      <p:nvPr/>
                    </p:nvSpPr>
                    <p:spPr>
                      <a:xfrm>
                        <a:off x="2071440" y="2313360"/>
                        <a:ext cx="27000" cy="10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17" h="220">
                            <a:moveTo>
                              <a:pt x="502" y="2"/>
                            </a:moveTo>
                            <a:lnTo>
                              <a:pt x="509" y="29"/>
                            </a:lnTo>
                            <a:lnTo>
                              <a:pt x="515" y="58"/>
                            </a:lnTo>
                            <a:lnTo>
                              <a:pt x="517" y="90"/>
                            </a:lnTo>
                            <a:lnTo>
                              <a:pt x="517" y="119"/>
                            </a:lnTo>
                            <a:lnTo>
                              <a:pt x="511" y="150"/>
                            </a:lnTo>
                            <a:lnTo>
                              <a:pt x="502" y="175"/>
                            </a:lnTo>
                            <a:lnTo>
                              <a:pt x="486" y="201"/>
                            </a:lnTo>
                            <a:lnTo>
                              <a:pt x="463" y="220"/>
                            </a:lnTo>
                            <a:lnTo>
                              <a:pt x="441" y="210"/>
                            </a:lnTo>
                            <a:lnTo>
                              <a:pt x="416" y="201"/>
                            </a:lnTo>
                            <a:lnTo>
                              <a:pt x="391" y="191"/>
                            </a:lnTo>
                            <a:lnTo>
                              <a:pt x="365" y="181"/>
                            </a:lnTo>
                            <a:lnTo>
                              <a:pt x="336" y="170"/>
                            </a:lnTo>
                            <a:lnTo>
                              <a:pt x="309" y="160"/>
                            </a:lnTo>
                            <a:lnTo>
                              <a:pt x="280" y="148"/>
                            </a:lnTo>
                            <a:lnTo>
                              <a:pt x="249" y="136"/>
                            </a:lnTo>
                            <a:lnTo>
                              <a:pt x="218" y="127"/>
                            </a:lnTo>
                            <a:lnTo>
                              <a:pt x="186" y="117"/>
                            </a:lnTo>
                            <a:lnTo>
                              <a:pt x="155" y="107"/>
                            </a:lnTo>
                            <a:lnTo>
                              <a:pt x="124" y="99"/>
                            </a:lnTo>
                            <a:lnTo>
                              <a:pt x="93" y="90"/>
                            </a:lnTo>
                            <a:lnTo>
                              <a:pt x="62" y="84"/>
                            </a:lnTo>
                            <a:lnTo>
                              <a:pt x="31" y="78"/>
                            </a:lnTo>
                            <a:lnTo>
                              <a:pt x="0" y="72"/>
                            </a:lnTo>
                            <a:lnTo>
                              <a:pt x="31" y="64"/>
                            </a:lnTo>
                            <a:lnTo>
                              <a:pt x="60" y="57"/>
                            </a:lnTo>
                            <a:lnTo>
                              <a:pt x="89" y="51"/>
                            </a:lnTo>
                            <a:lnTo>
                              <a:pt x="120" y="43"/>
                            </a:lnTo>
                            <a:lnTo>
                              <a:pt x="149" y="35"/>
                            </a:lnTo>
                            <a:lnTo>
                              <a:pt x="181" y="29"/>
                            </a:lnTo>
                            <a:lnTo>
                              <a:pt x="212" y="23"/>
                            </a:lnTo>
                            <a:lnTo>
                              <a:pt x="243" y="18"/>
                            </a:lnTo>
                            <a:lnTo>
                              <a:pt x="272" y="12"/>
                            </a:lnTo>
                            <a:lnTo>
                              <a:pt x="305" y="8"/>
                            </a:lnTo>
                            <a:lnTo>
                              <a:pt x="336" y="4"/>
                            </a:lnTo>
                            <a:lnTo>
                              <a:pt x="367" y="2"/>
                            </a:lnTo>
                            <a:lnTo>
                              <a:pt x="400" y="0"/>
                            </a:lnTo>
                            <a:lnTo>
                              <a:pt x="433" y="0"/>
                            </a:lnTo>
                            <a:lnTo>
                              <a:pt x="467" y="0"/>
                            </a:lnTo>
                            <a:lnTo>
                              <a:pt x="502" y="2"/>
                            </a:lnTo>
                            <a:close/>
                          </a:path>
                        </a:pathLst>
                      </a:custGeom>
                      <a:solidFill>
                        <a:srgbClr val="00e5e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720" bIns="-367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6" name=""/>
                      <p:cNvSpPr/>
                      <p:nvPr/>
                    </p:nvSpPr>
                    <p:spPr>
                      <a:xfrm>
                        <a:off x="1970640" y="2336040"/>
                        <a:ext cx="53280" cy="41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23" h="893">
                            <a:moveTo>
                              <a:pt x="648" y="16"/>
                            </a:moveTo>
                            <a:lnTo>
                              <a:pt x="615" y="43"/>
                            </a:lnTo>
                            <a:lnTo>
                              <a:pt x="586" y="70"/>
                            </a:lnTo>
                            <a:lnTo>
                              <a:pt x="557" y="102"/>
                            </a:lnTo>
                            <a:lnTo>
                              <a:pt x="527" y="131"/>
                            </a:lnTo>
                            <a:lnTo>
                              <a:pt x="502" y="162"/>
                            </a:lnTo>
                            <a:lnTo>
                              <a:pt x="477" y="195"/>
                            </a:lnTo>
                            <a:lnTo>
                              <a:pt x="452" y="228"/>
                            </a:lnTo>
                            <a:lnTo>
                              <a:pt x="428" y="261"/>
                            </a:lnTo>
                            <a:lnTo>
                              <a:pt x="407" y="297"/>
                            </a:lnTo>
                            <a:lnTo>
                              <a:pt x="385" y="332"/>
                            </a:lnTo>
                            <a:lnTo>
                              <a:pt x="364" y="367"/>
                            </a:lnTo>
                            <a:lnTo>
                              <a:pt x="343" y="402"/>
                            </a:lnTo>
                            <a:lnTo>
                              <a:pt x="321" y="439"/>
                            </a:lnTo>
                            <a:lnTo>
                              <a:pt x="302" y="474"/>
                            </a:lnTo>
                            <a:lnTo>
                              <a:pt x="280" y="509"/>
                            </a:lnTo>
                            <a:lnTo>
                              <a:pt x="261" y="544"/>
                            </a:lnTo>
                            <a:lnTo>
                              <a:pt x="304" y="517"/>
                            </a:lnTo>
                            <a:lnTo>
                              <a:pt x="347" y="486"/>
                            </a:lnTo>
                            <a:lnTo>
                              <a:pt x="389" y="450"/>
                            </a:lnTo>
                            <a:lnTo>
                              <a:pt x="432" y="415"/>
                            </a:lnTo>
                            <a:lnTo>
                              <a:pt x="477" y="378"/>
                            </a:lnTo>
                            <a:lnTo>
                              <a:pt x="522" y="339"/>
                            </a:lnTo>
                            <a:lnTo>
                              <a:pt x="566" y="302"/>
                            </a:lnTo>
                            <a:lnTo>
                              <a:pt x="611" y="263"/>
                            </a:lnTo>
                            <a:lnTo>
                              <a:pt x="658" y="228"/>
                            </a:lnTo>
                            <a:lnTo>
                              <a:pt x="706" y="193"/>
                            </a:lnTo>
                            <a:lnTo>
                              <a:pt x="755" y="160"/>
                            </a:lnTo>
                            <a:lnTo>
                              <a:pt x="806" y="131"/>
                            </a:lnTo>
                            <a:lnTo>
                              <a:pt x="856" y="106"/>
                            </a:lnTo>
                            <a:lnTo>
                              <a:pt x="909" y="84"/>
                            </a:lnTo>
                            <a:lnTo>
                              <a:pt x="963" y="67"/>
                            </a:lnTo>
                            <a:lnTo>
                              <a:pt x="1020" y="55"/>
                            </a:lnTo>
                            <a:lnTo>
                              <a:pt x="1023" y="84"/>
                            </a:lnTo>
                            <a:lnTo>
                              <a:pt x="1022" y="107"/>
                            </a:lnTo>
                            <a:lnTo>
                              <a:pt x="1016" y="129"/>
                            </a:lnTo>
                            <a:lnTo>
                              <a:pt x="1004" y="148"/>
                            </a:lnTo>
                            <a:lnTo>
                              <a:pt x="988" y="164"/>
                            </a:lnTo>
                            <a:lnTo>
                              <a:pt x="969" y="178"/>
                            </a:lnTo>
                            <a:lnTo>
                              <a:pt x="946" y="189"/>
                            </a:lnTo>
                            <a:lnTo>
                              <a:pt x="922" y="201"/>
                            </a:lnTo>
                            <a:lnTo>
                              <a:pt x="897" y="211"/>
                            </a:lnTo>
                            <a:lnTo>
                              <a:pt x="870" y="221"/>
                            </a:lnTo>
                            <a:lnTo>
                              <a:pt x="843" y="230"/>
                            </a:lnTo>
                            <a:lnTo>
                              <a:pt x="817" y="242"/>
                            </a:lnTo>
                            <a:lnTo>
                              <a:pt x="790" y="252"/>
                            </a:lnTo>
                            <a:lnTo>
                              <a:pt x="767" y="265"/>
                            </a:lnTo>
                            <a:lnTo>
                              <a:pt x="745" y="279"/>
                            </a:lnTo>
                            <a:lnTo>
                              <a:pt x="726" y="295"/>
                            </a:lnTo>
                            <a:lnTo>
                              <a:pt x="683" y="330"/>
                            </a:lnTo>
                            <a:lnTo>
                              <a:pt x="640" y="367"/>
                            </a:lnTo>
                            <a:lnTo>
                              <a:pt x="597" y="406"/>
                            </a:lnTo>
                            <a:lnTo>
                              <a:pt x="557" y="447"/>
                            </a:lnTo>
                            <a:lnTo>
                              <a:pt x="516" y="487"/>
                            </a:lnTo>
                            <a:lnTo>
                              <a:pt x="475" y="530"/>
                            </a:lnTo>
                            <a:lnTo>
                              <a:pt x="434" y="571"/>
                            </a:lnTo>
                            <a:lnTo>
                              <a:pt x="393" y="614"/>
                            </a:lnTo>
                            <a:lnTo>
                              <a:pt x="350" y="655"/>
                            </a:lnTo>
                            <a:lnTo>
                              <a:pt x="310" y="696"/>
                            </a:lnTo>
                            <a:lnTo>
                              <a:pt x="269" y="735"/>
                            </a:lnTo>
                            <a:lnTo>
                              <a:pt x="226" y="772"/>
                            </a:lnTo>
                            <a:lnTo>
                              <a:pt x="183" y="807"/>
                            </a:lnTo>
                            <a:lnTo>
                              <a:pt x="140" y="838"/>
                            </a:lnTo>
                            <a:lnTo>
                              <a:pt x="98" y="867"/>
                            </a:lnTo>
                            <a:lnTo>
                              <a:pt x="53" y="893"/>
                            </a:lnTo>
                            <a:lnTo>
                              <a:pt x="28" y="877"/>
                            </a:lnTo>
                            <a:lnTo>
                              <a:pt x="12" y="858"/>
                            </a:lnTo>
                            <a:lnTo>
                              <a:pt x="2" y="834"/>
                            </a:lnTo>
                            <a:lnTo>
                              <a:pt x="0" y="807"/>
                            </a:lnTo>
                            <a:lnTo>
                              <a:pt x="0" y="780"/>
                            </a:lnTo>
                            <a:lnTo>
                              <a:pt x="6" y="754"/>
                            </a:lnTo>
                            <a:lnTo>
                              <a:pt x="14" y="729"/>
                            </a:lnTo>
                            <a:lnTo>
                              <a:pt x="22" y="706"/>
                            </a:lnTo>
                            <a:lnTo>
                              <a:pt x="57" y="657"/>
                            </a:lnTo>
                            <a:lnTo>
                              <a:pt x="88" y="608"/>
                            </a:lnTo>
                            <a:lnTo>
                              <a:pt x="117" y="556"/>
                            </a:lnTo>
                            <a:lnTo>
                              <a:pt x="146" y="503"/>
                            </a:lnTo>
                            <a:lnTo>
                              <a:pt x="173" y="450"/>
                            </a:lnTo>
                            <a:lnTo>
                              <a:pt x="201" y="396"/>
                            </a:lnTo>
                            <a:lnTo>
                              <a:pt x="230" y="343"/>
                            </a:lnTo>
                            <a:lnTo>
                              <a:pt x="261" y="293"/>
                            </a:lnTo>
                            <a:lnTo>
                              <a:pt x="292" y="242"/>
                            </a:lnTo>
                            <a:lnTo>
                              <a:pt x="327" y="195"/>
                            </a:lnTo>
                            <a:lnTo>
                              <a:pt x="364" y="152"/>
                            </a:lnTo>
                            <a:lnTo>
                              <a:pt x="407" y="111"/>
                            </a:lnTo>
                            <a:lnTo>
                              <a:pt x="456" y="76"/>
                            </a:lnTo>
                            <a:lnTo>
                              <a:pt x="508" y="45"/>
                            </a:lnTo>
                            <a:lnTo>
                              <a:pt x="566" y="20"/>
                            </a:lnTo>
                            <a:lnTo>
                              <a:pt x="633" y="0"/>
                            </a:lnTo>
                            <a:lnTo>
                              <a:pt x="648" y="16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5760" bIns="-57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7" name=""/>
                      <p:cNvSpPr/>
                      <p:nvPr/>
                    </p:nvSpPr>
                    <p:spPr>
                      <a:xfrm>
                        <a:off x="1893240" y="2336400"/>
                        <a:ext cx="51120" cy="28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85" h="608">
                            <a:moveTo>
                              <a:pt x="985" y="39"/>
                            </a:moveTo>
                            <a:lnTo>
                              <a:pt x="928" y="64"/>
                            </a:lnTo>
                            <a:lnTo>
                              <a:pt x="882" y="99"/>
                            </a:lnTo>
                            <a:lnTo>
                              <a:pt x="841" y="146"/>
                            </a:lnTo>
                            <a:lnTo>
                              <a:pt x="806" y="199"/>
                            </a:lnTo>
                            <a:lnTo>
                              <a:pt x="777" y="257"/>
                            </a:lnTo>
                            <a:lnTo>
                              <a:pt x="749" y="318"/>
                            </a:lnTo>
                            <a:lnTo>
                              <a:pt x="724" y="380"/>
                            </a:lnTo>
                            <a:lnTo>
                              <a:pt x="699" y="438"/>
                            </a:lnTo>
                            <a:lnTo>
                              <a:pt x="673" y="491"/>
                            </a:lnTo>
                            <a:lnTo>
                              <a:pt x="644" y="538"/>
                            </a:lnTo>
                            <a:lnTo>
                              <a:pt x="611" y="575"/>
                            </a:lnTo>
                            <a:lnTo>
                              <a:pt x="572" y="598"/>
                            </a:lnTo>
                            <a:lnTo>
                              <a:pt x="526" y="608"/>
                            </a:lnTo>
                            <a:lnTo>
                              <a:pt x="473" y="602"/>
                            </a:lnTo>
                            <a:lnTo>
                              <a:pt x="409" y="577"/>
                            </a:lnTo>
                            <a:lnTo>
                              <a:pt x="333" y="528"/>
                            </a:lnTo>
                            <a:lnTo>
                              <a:pt x="300" y="501"/>
                            </a:lnTo>
                            <a:lnTo>
                              <a:pt x="269" y="473"/>
                            </a:lnTo>
                            <a:lnTo>
                              <a:pt x="240" y="444"/>
                            </a:lnTo>
                            <a:lnTo>
                              <a:pt x="214" y="413"/>
                            </a:lnTo>
                            <a:lnTo>
                              <a:pt x="189" y="382"/>
                            </a:lnTo>
                            <a:lnTo>
                              <a:pt x="168" y="351"/>
                            </a:lnTo>
                            <a:lnTo>
                              <a:pt x="146" y="318"/>
                            </a:lnTo>
                            <a:lnTo>
                              <a:pt x="127" y="284"/>
                            </a:lnTo>
                            <a:lnTo>
                              <a:pt x="107" y="249"/>
                            </a:lnTo>
                            <a:lnTo>
                              <a:pt x="92" y="216"/>
                            </a:lnTo>
                            <a:lnTo>
                              <a:pt x="74" y="181"/>
                            </a:lnTo>
                            <a:lnTo>
                              <a:pt x="59" y="144"/>
                            </a:lnTo>
                            <a:lnTo>
                              <a:pt x="43" y="109"/>
                            </a:lnTo>
                            <a:lnTo>
                              <a:pt x="30" y="72"/>
                            </a:lnTo>
                            <a:lnTo>
                              <a:pt x="14" y="37"/>
                            </a:lnTo>
                            <a:lnTo>
                              <a:pt x="0" y="0"/>
                            </a:lnTo>
                            <a:lnTo>
                              <a:pt x="55" y="23"/>
                            </a:lnTo>
                            <a:lnTo>
                              <a:pt x="113" y="45"/>
                            </a:lnTo>
                            <a:lnTo>
                              <a:pt x="174" y="64"/>
                            </a:lnTo>
                            <a:lnTo>
                              <a:pt x="236" y="80"/>
                            </a:lnTo>
                            <a:lnTo>
                              <a:pt x="298" y="93"/>
                            </a:lnTo>
                            <a:lnTo>
                              <a:pt x="362" y="103"/>
                            </a:lnTo>
                            <a:lnTo>
                              <a:pt x="426" y="111"/>
                            </a:lnTo>
                            <a:lnTo>
                              <a:pt x="493" y="115"/>
                            </a:lnTo>
                            <a:lnTo>
                              <a:pt x="559" y="117"/>
                            </a:lnTo>
                            <a:lnTo>
                              <a:pt x="623" y="117"/>
                            </a:lnTo>
                            <a:lnTo>
                              <a:pt x="687" y="111"/>
                            </a:lnTo>
                            <a:lnTo>
                              <a:pt x="749" y="103"/>
                            </a:lnTo>
                            <a:lnTo>
                              <a:pt x="812" y="93"/>
                            </a:lnTo>
                            <a:lnTo>
                              <a:pt x="872" y="78"/>
                            </a:lnTo>
                            <a:lnTo>
                              <a:pt x="930" y="60"/>
                            </a:lnTo>
                            <a:lnTo>
                              <a:pt x="985" y="39"/>
                            </a:lnTo>
                            <a:close/>
                          </a:path>
                        </a:pathLst>
                      </a:custGeom>
                      <a:solidFill>
                        <a:srgbClr val="ffd8b2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8720" bIns="-187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8" name=""/>
                      <p:cNvSpPr/>
                      <p:nvPr/>
                    </p:nvSpPr>
                    <p:spPr>
                      <a:xfrm>
                        <a:off x="1942560" y="2354400"/>
                        <a:ext cx="25200" cy="20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84" h="450">
                            <a:moveTo>
                              <a:pt x="484" y="156"/>
                            </a:moveTo>
                            <a:lnTo>
                              <a:pt x="484" y="204"/>
                            </a:lnTo>
                            <a:lnTo>
                              <a:pt x="476" y="247"/>
                            </a:lnTo>
                            <a:lnTo>
                              <a:pt x="459" y="284"/>
                            </a:lnTo>
                            <a:lnTo>
                              <a:pt x="435" y="317"/>
                            </a:lnTo>
                            <a:lnTo>
                              <a:pt x="406" y="349"/>
                            </a:lnTo>
                            <a:lnTo>
                              <a:pt x="371" y="378"/>
                            </a:lnTo>
                            <a:lnTo>
                              <a:pt x="336" y="405"/>
                            </a:lnTo>
                            <a:lnTo>
                              <a:pt x="299" y="434"/>
                            </a:lnTo>
                            <a:lnTo>
                              <a:pt x="262" y="446"/>
                            </a:lnTo>
                            <a:lnTo>
                              <a:pt x="229" y="450"/>
                            </a:lnTo>
                            <a:lnTo>
                              <a:pt x="198" y="446"/>
                            </a:lnTo>
                            <a:lnTo>
                              <a:pt x="171" y="436"/>
                            </a:lnTo>
                            <a:lnTo>
                              <a:pt x="142" y="423"/>
                            </a:lnTo>
                            <a:lnTo>
                              <a:pt x="114" y="407"/>
                            </a:lnTo>
                            <a:lnTo>
                              <a:pt x="87" y="393"/>
                            </a:lnTo>
                            <a:lnTo>
                              <a:pt x="58" y="380"/>
                            </a:lnTo>
                            <a:lnTo>
                              <a:pt x="29" y="356"/>
                            </a:lnTo>
                            <a:lnTo>
                              <a:pt x="11" y="327"/>
                            </a:lnTo>
                            <a:lnTo>
                              <a:pt x="2" y="292"/>
                            </a:lnTo>
                            <a:lnTo>
                              <a:pt x="0" y="257"/>
                            </a:lnTo>
                            <a:lnTo>
                              <a:pt x="2" y="218"/>
                            </a:lnTo>
                            <a:lnTo>
                              <a:pt x="7" y="183"/>
                            </a:lnTo>
                            <a:lnTo>
                              <a:pt x="15" y="148"/>
                            </a:lnTo>
                            <a:lnTo>
                              <a:pt x="21" y="117"/>
                            </a:lnTo>
                            <a:lnTo>
                              <a:pt x="42" y="85"/>
                            </a:lnTo>
                            <a:lnTo>
                              <a:pt x="68" y="60"/>
                            </a:lnTo>
                            <a:lnTo>
                              <a:pt x="97" y="39"/>
                            </a:lnTo>
                            <a:lnTo>
                              <a:pt x="128" y="21"/>
                            </a:lnTo>
                            <a:lnTo>
                              <a:pt x="161" y="9"/>
                            </a:lnTo>
                            <a:lnTo>
                              <a:pt x="196" y="4"/>
                            </a:lnTo>
                            <a:lnTo>
                              <a:pt x="233" y="0"/>
                            </a:lnTo>
                            <a:lnTo>
                              <a:pt x="270" y="2"/>
                            </a:lnTo>
                            <a:lnTo>
                              <a:pt x="305" y="7"/>
                            </a:lnTo>
                            <a:lnTo>
                              <a:pt x="340" y="17"/>
                            </a:lnTo>
                            <a:lnTo>
                              <a:pt x="373" y="31"/>
                            </a:lnTo>
                            <a:lnTo>
                              <a:pt x="402" y="48"/>
                            </a:lnTo>
                            <a:lnTo>
                              <a:pt x="430" y="70"/>
                            </a:lnTo>
                            <a:lnTo>
                              <a:pt x="453" y="95"/>
                            </a:lnTo>
                            <a:lnTo>
                              <a:pt x="470" y="124"/>
                            </a:lnTo>
                            <a:lnTo>
                              <a:pt x="484" y="156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280" bIns="-262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9" name=""/>
                      <p:cNvSpPr/>
                      <p:nvPr/>
                    </p:nvSpPr>
                    <p:spPr>
                      <a:xfrm>
                        <a:off x="1873800" y="2355480"/>
                        <a:ext cx="20880" cy="19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06" h="427">
                            <a:moveTo>
                              <a:pt x="406" y="170"/>
                            </a:moveTo>
                            <a:lnTo>
                              <a:pt x="397" y="209"/>
                            </a:lnTo>
                            <a:lnTo>
                              <a:pt x="383" y="248"/>
                            </a:lnTo>
                            <a:lnTo>
                              <a:pt x="367" y="287"/>
                            </a:lnTo>
                            <a:lnTo>
                              <a:pt x="348" y="324"/>
                            </a:lnTo>
                            <a:lnTo>
                              <a:pt x="325" y="359"/>
                            </a:lnTo>
                            <a:lnTo>
                              <a:pt x="295" y="388"/>
                            </a:lnTo>
                            <a:lnTo>
                              <a:pt x="262" y="411"/>
                            </a:lnTo>
                            <a:lnTo>
                              <a:pt x="222" y="427"/>
                            </a:lnTo>
                            <a:lnTo>
                              <a:pt x="192" y="423"/>
                            </a:lnTo>
                            <a:lnTo>
                              <a:pt x="163" y="417"/>
                            </a:lnTo>
                            <a:lnTo>
                              <a:pt x="136" y="409"/>
                            </a:lnTo>
                            <a:lnTo>
                              <a:pt x="109" y="398"/>
                            </a:lnTo>
                            <a:lnTo>
                              <a:pt x="83" y="384"/>
                            </a:lnTo>
                            <a:lnTo>
                              <a:pt x="60" y="366"/>
                            </a:lnTo>
                            <a:lnTo>
                              <a:pt x="39" y="345"/>
                            </a:lnTo>
                            <a:lnTo>
                              <a:pt x="19" y="318"/>
                            </a:lnTo>
                            <a:lnTo>
                              <a:pt x="6" y="275"/>
                            </a:lnTo>
                            <a:lnTo>
                              <a:pt x="0" y="232"/>
                            </a:lnTo>
                            <a:lnTo>
                              <a:pt x="0" y="189"/>
                            </a:lnTo>
                            <a:lnTo>
                              <a:pt x="10" y="146"/>
                            </a:lnTo>
                            <a:lnTo>
                              <a:pt x="27" y="109"/>
                            </a:lnTo>
                            <a:lnTo>
                              <a:pt x="52" y="74"/>
                            </a:lnTo>
                            <a:lnTo>
                              <a:pt x="85" y="45"/>
                            </a:lnTo>
                            <a:lnTo>
                              <a:pt x="128" y="23"/>
                            </a:lnTo>
                            <a:lnTo>
                              <a:pt x="175" y="4"/>
                            </a:lnTo>
                            <a:lnTo>
                              <a:pt x="222" y="0"/>
                            </a:lnTo>
                            <a:lnTo>
                              <a:pt x="264" y="8"/>
                            </a:lnTo>
                            <a:lnTo>
                              <a:pt x="305" y="27"/>
                            </a:lnTo>
                            <a:lnTo>
                              <a:pt x="340" y="55"/>
                            </a:lnTo>
                            <a:lnTo>
                              <a:pt x="371" y="88"/>
                            </a:lnTo>
                            <a:lnTo>
                              <a:pt x="393" y="127"/>
                            </a:lnTo>
                            <a:lnTo>
                              <a:pt x="406" y="17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00" name=""/>
                      <p:cNvSpPr/>
                      <p:nvPr/>
                    </p:nvSpPr>
                    <p:spPr>
                      <a:xfrm>
                        <a:off x="1949760" y="2359800"/>
                        <a:ext cx="11160" cy="8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8" h="187">
                            <a:moveTo>
                              <a:pt x="218" y="41"/>
                            </a:moveTo>
                            <a:lnTo>
                              <a:pt x="212" y="64"/>
                            </a:lnTo>
                            <a:lnTo>
                              <a:pt x="202" y="85"/>
                            </a:lnTo>
                            <a:lnTo>
                              <a:pt x="192" y="107"/>
                            </a:lnTo>
                            <a:lnTo>
                              <a:pt x="181" y="128"/>
                            </a:lnTo>
                            <a:lnTo>
                              <a:pt x="167" y="146"/>
                            </a:lnTo>
                            <a:lnTo>
                              <a:pt x="150" y="163"/>
                            </a:lnTo>
                            <a:lnTo>
                              <a:pt x="130" y="177"/>
                            </a:lnTo>
                            <a:lnTo>
                              <a:pt x="109" y="187"/>
                            </a:lnTo>
                            <a:lnTo>
                              <a:pt x="15" y="187"/>
                            </a:lnTo>
                            <a:lnTo>
                              <a:pt x="0" y="144"/>
                            </a:lnTo>
                            <a:lnTo>
                              <a:pt x="4" y="101"/>
                            </a:lnTo>
                            <a:lnTo>
                              <a:pt x="21" y="62"/>
                            </a:lnTo>
                            <a:lnTo>
                              <a:pt x="52" y="29"/>
                            </a:lnTo>
                            <a:lnTo>
                              <a:pt x="91" y="7"/>
                            </a:lnTo>
                            <a:lnTo>
                              <a:pt x="134" y="0"/>
                            </a:lnTo>
                            <a:lnTo>
                              <a:pt x="177" y="9"/>
                            </a:lnTo>
                            <a:lnTo>
                              <a:pt x="218" y="41"/>
                            </a:lnTo>
                            <a:close/>
                          </a:path>
                        </a:pathLst>
                      </a:custGeom>
                      <a:solidFill>
                        <a:srgbClr val="00afa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520" bIns="-385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01" name=""/>
                      <p:cNvSpPr/>
                      <p:nvPr/>
                    </p:nvSpPr>
                    <p:spPr>
                      <a:xfrm>
                        <a:off x="1880280" y="2361240"/>
                        <a:ext cx="6840" cy="8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6" h="179">
                            <a:moveTo>
                              <a:pt x="113" y="117"/>
                            </a:moveTo>
                            <a:lnTo>
                              <a:pt x="43" y="179"/>
                            </a:lnTo>
                            <a:lnTo>
                              <a:pt x="24" y="167"/>
                            </a:lnTo>
                            <a:lnTo>
                              <a:pt x="10" y="154"/>
                            </a:lnTo>
                            <a:lnTo>
                              <a:pt x="2" y="134"/>
                            </a:lnTo>
                            <a:lnTo>
                              <a:pt x="0" y="115"/>
                            </a:lnTo>
                            <a:lnTo>
                              <a:pt x="0" y="95"/>
                            </a:lnTo>
                            <a:lnTo>
                              <a:pt x="4" y="78"/>
                            </a:lnTo>
                            <a:lnTo>
                              <a:pt x="12" y="60"/>
                            </a:lnTo>
                            <a:lnTo>
                              <a:pt x="20" y="47"/>
                            </a:lnTo>
                            <a:lnTo>
                              <a:pt x="45" y="13"/>
                            </a:lnTo>
                            <a:lnTo>
                              <a:pt x="70" y="0"/>
                            </a:lnTo>
                            <a:lnTo>
                              <a:pt x="94" y="0"/>
                            </a:lnTo>
                            <a:lnTo>
                              <a:pt x="115" y="12"/>
                            </a:lnTo>
                            <a:lnTo>
                              <a:pt x="131" y="33"/>
                            </a:lnTo>
                            <a:lnTo>
                              <a:pt x="136" y="60"/>
                            </a:lnTo>
                            <a:lnTo>
                              <a:pt x="131" y="89"/>
                            </a:lnTo>
                            <a:lnTo>
                              <a:pt x="113" y="117"/>
                            </a:lnTo>
                            <a:close/>
                          </a:path>
                        </a:pathLst>
                      </a:custGeom>
                      <a:solidFill>
                        <a:srgbClr val="00afa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520" bIns="-385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02" name=""/>
                      <p:cNvSpPr/>
                      <p:nvPr/>
                    </p:nvSpPr>
                    <p:spPr>
                      <a:xfrm>
                        <a:off x="1900800" y="2463120"/>
                        <a:ext cx="6120" cy="9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9" h="210">
                            <a:moveTo>
                              <a:pt x="0" y="210"/>
                            </a:moveTo>
                            <a:lnTo>
                              <a:pt x="6" y="181"/>
                            </a:lnTo>
                            <a:lnTo>
                              <a:pt x="16" y="154"/>
                            </a:lnTo>
                            <a:lnTo>
                              <a:pt x="24" y="127"/>
                            </a:lnTo>
                            <a:lnTo>
                              <a:pt x="35" y="99"/>
                            </a:lnTo>
                            <a:lnTo>
                              <a:pt x="47" y="74"/>
                            </a:lnTo>
                            <a:lnTo>
                              <a:pt x="63" y="49"/>
                            </a:lnTo>
                            <a:lnTo>
                              <a:pt x="76" y="23"/>
                            </a:lnTo>
                            <a:lnTo>
                              <a:pt x="94" y="0"/>
                            </a:lnTo>
                            <a:lnTo>
                              <a:pt x="115" y="37"/>
                            </a:lnTo>
                            <a:lnTo>
                              <a:pt x="119" y="68"/>
                            </a:lnTo>
                            <a:lnTo>
                              <a:pt x="111" y="95"/>
                            </a:lnTo>
                            <a:lnTo>
                              <a:pt x="94" y="119"/>
                            </a:lnTo>
                            <a:lnTo>
                              <a:pt x="68" y="142"/>
                            </a:lnTo>
                            <a:lnTo>
                              <a:pt x="43" y="164"/>
                            </a:lnTo>
                            <a:lnTo>
                              <a:pt x="20" y="185"/>
                            </a:lnTo>
                            <a:lnTo>
                              <a:pt x="0" y="210"/>
                            </a:lnTo>
                            <a:close/>
                          </a:path>
                        </a:pathLst>
                      </a:custGeom>
                      <a:solidFill>
                        <a:srgbClr val="00e5e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03" name=""/>
                      <p:cNvSpPr/>
                      <p:nvPr/>
                    </p:nvSpPr>
                    <p:spPr>
                      <a:xfrm>
                        <a:off x="1925280" y="2464560"/>
                        <a:ext cx="2160" cy="6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3" h="148">
                            <a:moveTo>
                              <a:pt x="35" y="148"/>
                            </a:moveTo>
                            <a:lnTo>
                              <a:pt x="18" y="139"/>
                            </a:lnTo>
                            <a:lnTo>
                              <a:pt x="8" y="123"/>
                            </a:lnTo>
                            <a:lnTo>
                              <a:pt x="2" y="104"/>
                            </a:lnTo>
                            <a:lnTo>
                              <a:pt x="0" y="80"/>
                            </a:lnTo>
                            <a:lnTo>
                              <a:pt x="2" y="57"/>
                            </a:lnTo>
                            <a:lnTo>
                              <a:pt x="6" y="33"/>
                            </a:lnTo>
                            <a:lnTo>
                              <a:pt x="14" y="16"/>
                            </a:lnTo>
                            <a:lnTo>
                              <a:pt x="21" y="0"/>
                            </a:lnTo>
                            <a:lnTo>
                              <a:pt x="29" y="12"/>
                            </a:lnTo>
                            <a:lnTo>
                              <a:pt x="35" y="28"/>
                            </a:lnTo>
                            <a:lnTo>
                              <a:pt x="39" y="47"/>
                            </a:lnTo>
                            <a:lnTo>
                              <a:pt x="43" y="69"/>
                            </a:lnTo>
                            <a:lnTo>
                              <a:pt x="43" y="90"/>
                            </a:lnTo>
                            <a:lnTo>
                              <a:pt x="43" y="111"/>
                            </a:lnTo>
                            <a:lnTo>
                              <a:pt x="39" y="131"/>
                            </a:lnTo>
                            <a:lnTo>
                              <a:pt x="35" y="148"/>
                            </a:lnTo>
                            <a:close/>
                          </a:path>
                        </a:pathLst>
                      </a:custGeom>
                      <a:solidFill>
                        <a:srgbClr val="00e5e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960" bIns="-399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04" name=""/>
                      <p:cNvSpPr/>
                      <p:nvPr/>
                    </p:nvSpPr>
                    <p:spPr>
                      <a:xfrm>
                        <a:off x="1884960" y="2466000"/>
                        <a:ext cx="9360" cy="13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83" h="303">
                            <a:moveTo>
                              <a:pt x="14" y="303"/>
                            </a:moveTo>
                            <a:lnTo>
                              <a:pt x="0" y="258"/>
                            </a:lnTo>
                            <a:lnTo>
                              <a:pt x="2" y="217"/>
                            </a:lnTo>
                            <a:lnTo>
                              <a:pt x="19" y="178"/>
                            </a:lnTo>
                            <a:lnTo>
                              <a:pt x="47" y="141"/>
                            </a:lnTo>
                            <a:lnTo>
                              <a:pt x="78" y="106"/>
                            </a:lnTo>
                            <a:lnTo>
                              <a:pt x="115" y="71"/>
                            </a:lnTo>
                            <a:lnTo>
                              <a:pt x="150" y="36"/>
                            </a:lnTo>
                            <a:lnTo>
                              <a:pt x="183" y="0"/>
                            </a:lnTo>
                            <a:lnTo>
                              <a:pt x="171" y="43"/>
                            </a:lnTo>
                            <a:lnTo>
                              <a:pt x="158" y="84"/>
                            </a:lnTo>
                            <a:lnTo>
                              <a:pt x="140" y="123"/>
                            </a:lnTo>
                            <a:lnTo>
                              <a:pt x="119" y="160"/>
                            </a:lnTo>
                            <a:lnTo>
                              <a:pt x="95" y="197"/>
                            </a:lnTo>
                            <a:lnTo>
                              <a:pt x="70" y="232"/>
                            </a:lnTo>
                            <a:lnTo>
                              <a:pt x="43" y="267"/>
                            </a:lnTo>
                            <a:lnTo>
                              <a:pt x="14" y="303"/>
                            </a:lnTo>
                            <a:close/>
                          </a:path>
                        </a:pathLst>
                      </a:custGeom>
                      <a:solidFill>
                        <a:srgbClr val="00e5e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120" bIns="-331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05" name=""/>
                      <p:cNvSpPr/>
                      <p:nvPr/>
                    </p:nvSpPr>
                    <p:spPr>
                      <a:xfrm>
                        <a:off x="1913760" y="2466000"/>
                        <a:ext cx="3600" cy="4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0" h="94">
                            <a:moveTo>
                              <a:pt x="70" y="0"/>
                            </a:moveTo>
                            <a:lnTo>
                              <a:pt x="0" y="94"/>
                            </a:lnTo>
                            <a:lnTo>
                              <a:pt x="70" y="0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480" bIns="-424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06" name=""/>
                      <p:cNvSpPr/>
                      <p:nvPr/>
                    </p:nvSpPr>
                    <p:spPr>
                      <a:xfrm>
                        <a:off x="1915200" y="2473920"/>
                        <a:ext cx="5040" cy="7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0" h="170">
                            <a:moveTo>
                              <a:pt x="96" y="76"/>
                            </a:moveTo>
                            <a:lnTo>
                              <a:pt x="2" y="170"/>
                            </a:lnTo>
                            <a:lnTo>
                              <a:pt x="0" y="150"/>
                            </a:lnTo>
                            <a:lnTo>
                              <a:pt x="2" y="129"/>
                            </a:lnTo>
                            <a:lnTo>
                              <a:pt x="6" y="105"/>
                            </a:lnTo>
                            <a:lnTo>
                              <a:pt x="16" y="82"/>
                            </a:lnTo>
                            <a:lnTo>
                              <a:pt x="26" y="58"/>
                            </a:lnTo>
                            <a:lnTo>
                              <a:pt x="41" y="37"/>
                            </a:lnTo>
                            <a:lnTo>
                              <a:pt x="59" y="16"/>
                            </a:lnTo>
                            <a:lnTo>
                              <a:pt x="80" y="0"/>
                            </a:lnTo>
                            <a:lnTo>
                              <a:pt x="90" y="6"/>
                            </a:lnTo>
                            <a:lnTo>
                              <a:pt x="96" y="16"/>
                            </a:lnTo>
                            <a:lnTo>
                              <a:pt x="100" y="25"/>
                            </a:lnTo>
                            <a:lnTo>
                              <a:pt x="100" y="35"/>
                            </a:lnTo>
                            <a:lnTo>
                              <a:pt x="100" y="45"/>
                            </a:lnTo>
                            <a:lnTo>
                              <a:pt x="98" y="56"/>
                            </a:lnTo>
                            <a:lnTo>
                              <a:pt x="96" y="66"/>
                            </a:lnTo>
                            <a:lnTo>
                              <a:pt x="96" y="76"/>
                            </a:lnTo>
                            <a:close/>
                          </a:path>
                        </a:pathLst>
                      </a:custGeom>
                      <a:solidFill>
                        <a:srgbClr val="00e5e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07" name=""/>
                      <p:cNvSpPr/>
                      <p:nvPr/>
                    </p:nvSpPr>
                    <p:spPr>
                      <a:xfrm>
                        <a:off x="1901880" y="2476440"/>
                        <a:ext cx="5400" cy="6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7" h="148">
                            <a:moveTo>
                              <a:pt x="6" y="148"/>
                            </a:moveTo>
                            <a:lnTo>
                              <a:pt x="0" y="124"/>
                            </a:lnTo>
                            <a:lnTo>
                              <a:pt x="4" y="103"/>
                            </a:lnTo>
                            <a:lnTo>
                              <a:pt x="13" y="85"/>
                            </a:lnTo>
                            <a:lnTo>
                              <a:pt x="29" y="68"/>
                            </a:lnTo>
                            <a:lnTo>
                              <a:pt x="48" y="52"/>
                            </a:lnTo>
                            <a:lnTo>
                              <a:pt x="68" y="37"/>
                            </a:lnTo>
                            <a:lnTo>
                              <a:pt x="85" y="19"/>
                            </a:lnTo>
                            <a:lnTo>
                              <a:pt x="99" y="0"/>
                            </a:lnTo>
                            <a:lnTo>
                              <a:pt x="107" y="19"/>
                            </a:lnTo>
                            <a:lnTo>
                              <a:pt x="105" y="39"/>
                            </a:lnTo>
                            <a:lnTo>
                              <a:pt x="93" y="58"/>
                            </a:lnTo>
                            <a:lnTo>
                              <a:pt x="78" y="76"/>
                            </a:lnTo>
                            <a:lnTo>
                              <a:pt x="58" y="95"/>
                            </a:lnTo>
                            <a:lnTo>
                              <a:pt x="39" y="113"/>
                            </a:lnTo>
                            <a:lnTo>
                              <a:pt x="19" y="130"/>
                            </a:lnTo>
                            <a:lnTo>
                              <a:pt x="6" y="148"/>
                            </a:lnTo>
                            <a:close/>
                          </a:path>
                        </a:pathLst>
                      </a:custGeom>
                      <a:solidFill>
                        <a:srgbClr val="00e5e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960" bIns="-399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08" name=""/>
                      <p:cNvSpPr/>
                      <p:nvPr/>
                    </p:nvSpPr>
                    <p:spPr>
                      <a:xfrm>
                        <a:off x="1905480" y="2486160"/>
                        <a:ext cx="2880" cy="4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0" h="94">
                            <a:moveTo>
                              <a:pt x="0" y="94"/>
                            </a:moveTo>
                            <a:lnTo>
                              <a:pt x="60" y="0"/>
                            </a:lnTo>
                            <a:lnTo>
                              <a:pt x="23" y="94"/>
                            </a:lnTo>
                            <a:lnTo>
                              <a:pt x="0" y="94"/>
                            </a:lnTo>
                            <a:close/>
                          </a:path>
                        </a:pathLst>
                      </a:custGeom>
                      <a:solidFill>
                        <a:srgbClr val="00e5e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480" bIns="-424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09" name=""/>
                      <p:cNvSpPr/>
                      <p:nvPr/>
                    </p:nvSpPr>
                    <p:spPr>
                      <a:xfrm>
                        <a:off x="1916640" y="2486160"/>
                        <a:ext cx="2880" cy="5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4" h="109">
                            <a:moveTo>
                              <a:pt x="54" y="0"/>
                            </a:moveTo>
                            <a:lnTo>
                              <a:pt x="0" y="109"/>
                            </a:lnTo>
                            <a:lnTo>
                              <a:pt x="54" y="0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760" bIns="-417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0" name=""/>
                      <p:cNvSpPr/>
                      <p:nvPr/>
                    </p:nvSpPr>
                    <p:spPr>
                      <a:xfrm>
                        <a:off x="1889640" y="2486880"/>
                        <a:ext cx="7560" cy="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50" h="200">
                            <a:moveTo>
                              <a:pt x="32" y="200"/>
                            </a:moveTo>
                            <a:lnTo>
                              <a:pt x="8" y="179"/>
                            </a:lnTo>
                            <a:lnTo>
                              <a:pt x="0" y="156"/>
                            </a:lnTo>
                            <a:lnTo>
                              <a:pt x="8" y="130"/>
                            </a:lnTo>
                            <a:lnTo>
                              <a:pt x="26" y="103"/>
                            </a:lnTo>
                            <a:lnTo>
                              <a:pt x="51" y="76"/>
                            </a:lnTo>
                            <a:lnTo>
                              <a:pt x="78" y="50"/>
                            </a:lnTo>
                            <a:lnTo>
                              <a:pt x="104" y="23"/>
                            </a:lnTo>
                            <a:lnTo>
                              <a:pt x="125" y="0"/>
                            </a:lnTo>
                            <a:lnTo>
                              <a:pt x="146" y="31"/>
                            </a:lnTo>
                            <a:lnTo>
                              <a:pt x="150" y="58"/>
                            </a:lnTo>
                            <a:lnTo>
                              <a:pt x="139" y="81"/>
                            </a:lnTo>
                            <a:lnTo>
                              <a:pt x="119" y="103"/>
                            </a:lnTo>
                            <a:lnTo>
                              <a:pt x="94" y="124"/>
                            </a:lnTo>
                            <a:lnTo>
                              <a:pt x="69" y="148"/>
                            </a:lnTo>
                            <a:lnTo>
                              <a:pt x="45" y="171"/>
                            </a:lnTo>
                            <a:lnTo>
                              <a:pt x="32" y="200"/>
                            </a:lnTo>
                            <a:close/>
                          </a:path>
                        </a:pathLst>
                      </a:custGeom>
                      <a:solidFill>
                        <a:srgbClr val="00e5e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1" name=""/>
                      <p:cNvSpPr/>
                      <p:nvPr/>
                    </p:nvSpPr>
                    <p:spPr>
                      <a:xfrm>
                        <a:off x="1905480" y="2494440"/>
                        <a:ext cx="5760" cy="1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2" h="242">
                            <a:moveTo>
                              <a:pt x="23" y="242"/>
                            </a:moveTo>
                            <a:lnTo>
                              <a:pt x="11" y="211"/>
                            </a:lnTo>
                            <a:lnTo>
                              <a:pt x="4" y="174"/>
                            </a:lnTo>
                            <a:lnTo>
                              <a:pt x="0" y="137"/>
                            </a:lnTo>
                            <a:lnTo>
                              <a:pt x="2" y="100"/>
                            </a:lnTo>
                            <a:lnTo>
                              <a:pt x="11" y="66"/>
                            </a:lnTo>
                            <a:lnTo>
                              <a:pt x="27" y="37"/>
                            </a:lnTo>
                            <a:lnTo>
                              <a:pt x="54" y="14"/>
                            </a:lnTo>
                            <a:lnTo>
                              <a:pt x="91" y="0"/>
                            </a:lnTo>
                            <a:lnTo>
                              <a:pt x="109" y="35"/>
                            </a:lnTo>
                            <a:lnTo>
                              <a:pt x="112" y="68"/>
                            </a:lnTo>
                            <a:lnTo>
                              <a:pt x="109" y="100"/>
                            </a:lnTo>
                            <a:lnTo>
                              <a:pt x="97" y="129"/>
                            </a:lnTo>
                            <a:lnTo>
                              <a:pt x="81" y="160"/>
                            </a:lnTo>
                            <a:lnTo>
                              <a:pt x="62" y="187"/>
                            </a:lnTo>
                            <a:lnTo>
                              <a:pt x="40" y="215"/>
                            </a:lnTo>
                            <a:lnTo>
                              <a:pt x="23" y="242"/>
                            </a:lnTo>
                            <a:close/>
                          </a:path>
                        </a:pathLst>
                      </a:custGeom>
                      <a:solidFill>
                        <a:srgbClr val="00e5e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2" name=""/>
                      <p:cNvSpPr/>
                      <p:nvPr/>
                    </p:nvSpPr>
                    <p:spPr>
                      <a:xfrm>
                        <a:off x="2053080" y="2570760"/>
                        <a:ext cx="64800" cy="13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45" h="288">
                            <a:moveTo>
                              <a:pt x="1245" y="177"/>
                            </a:moveTo>
                            <a:lnTo>
                              <a:pt x="1219" y="214"/>
                            </a:lnTo>
                            <a:lnTo>
                              <a:pt x="1190" y="244"/>
                            </a:lnTo>
                            <a:lnTo>
                              <a:pt x="1159" y="265"/>
                            </a:lnTo>
                            <a:lnTo>
                              <a:pt x="1126" y="279"/>
                            </a:lnTo>
                            <a:lnTo>
                              <a:pt x="1089" y="286"/>
                            </a:lnTo>
                            <a:lnTo>
                              <a:pt x="1050" y="288"/>
                            </a:lnTo>
                            <a:lnTo>
                              <a:pt x="1011" y="284"/>
                            </a:lnTo>
                            <a:lnTo>
                              <a:pt x="970" y="279"/>
                            </a:lnTo>
                            <a:lnTo>
                              <a:pt x="928" y="269"/>
                            </a:lnTo>
                            <a:lnTo>
                              <a:pt x="887" y="257"/>
                            </a:lnTo>
                            <a:lnTo>
                              <a:pt x="844" y="246"/>
                            </a:lnTo>
                            <a:lnTo>
                              <a:pt x="803" y="232"/>
                            </a:lnTo>
                            <a:lnTo>
                              <a:pt x="762" y="220"/>
                            </a:lnTo>
                            <a:lnTo>
                              <a:pt x="723" y="208"/>
                            </a:lnTo>
                            <a:lnTo>
                              <a:pt x="684" y="199"/>
                            </a:lnTo>
                            <a:lnTo>
                              <a:pt x="649" y="193"/>
                            </a:lnTo>
                            <a:lnTo>
                              <a:pt x="609" y="181"/>
                            </a:lnTo>
                            <a:lnTo>
                              <a:pt x="568" y="171"/>
                            </a:lnTo>
                            <a:lnTo>
                              <a:pt x="527" y="160"/>
                            </a:lnTo>
                            <a:lnTo>
                              <a:pt x="488" y="150"/>
                            </a:lnTo>
                            <a:lnTo>
                              <a:pt x="451" y="142"/>
                            </a:lnTo>
                            <a:lnTo>
                              <a:pt x="412" y="132"/>
                            </a:lnTo>
                            <a:lnTo>
                              <a:pt x="373" y="125"/>
                            </a:lnTo>
                            <a:lnTo>
                              <a:pt x="336" y="117"/>
                            </a:lnTo>
                            <a:lnTo>
                              <a:pt x="297" y="111"/>
                            </a:lnTo>
                            <a:lnTo>
                              <a:pt x="258" y="105"/>
                            </a:lnTo>
                            <a:lnTo>
                              <a:pt x="218" y="99"/>
                            </a:lnTo>
                            <a:lnTo>
                              <a:pt x="177" y="95"/>
                            </a:lnTo>
                            <a:lnTo>
                              <a:pt x="136" y="92"/>
                            </a:lnTo>
                            <a:lnTo>
                              <a:pt x="91" y="88"/>
                            </a:lnTo>
                            <a:lnTo>
                              <a:pt x="46" y="86"/>
                            </a:lnTo>
                            <a:lnTo>
                              <a:pt x="0" y="84"/>
                            </a:lnTo>
                            <a:lnTo>
                              <a:pt x="78" y="45"/>
                            </a:lnTo>
                            <a:lnTo>
                              <a:pt x="155" y="19"/>
                            </a:lnTo>
                            <a:lnTo>
                              <a:pt x="233" y="4"/>
                            </a:lnTo>
                            <a:lnTo>
                              <a:pt x="309" y="0"/>
                            </a:lnTo>
                            <a:lnTo>
                              <a:pt x="387" y="6"/>
                            </a:lnTo>
                            <a:lnTo>
                              <a:pt x="465" y="18"/>
                            </a:lnTo>
                            <a:lnTo>
                              <a:pt x="540" y="35"/>
                            </a:lnTo>
                            <a:lnTo>
                              <a:pt x="618" y="55"/>
                            </a:lnTo>
                            <a:lnTo>
                              <a:pt x="696" y="78"/>
                            </a:lnTo>
                            <a:lnTo>
                              <a:pt x="774" y="103"/>
                            </a:lnTo>
                            <a:lnTo>
                              <a:pt x="852" y="127"/>
                            </a:lnTo>
                            <a:lnTo>
                              <a:pt x="929" y="148"/>
                            </a:lnTo>
                            <a:lnTo>
                              <a:pt x="1007" y="166"/>
                            </a:lnTo>
                            <a:lnTo>
                              <a:pt x="1085" y="177"/>
                            </a:lnTo>
                            <a:lnTo>
                              <a:pt x="1165" y="181"/>
                            </a:lnTo>
                            <a:lnTo>
                              <a:pt x="1245" y="177"/>
                            </a:lnTo>
                            <a:close/>
                          </a:path>
                        </a:pathLst>
                      </a:custGeom>
                      <a:solidFill>
                        <a:srgbClr val="00afa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3" name=""/>
                      <p:cNvSpPr/>
                      <p:nvPr/>
                    </p:nvSpPr>
                    <p:spPr>
                      <a:xfrm>
                        <a:off x="2027880" y="2571840"/>
                        <a:ext cx="9360" cy="10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85" h="220">
                            <a:moveTo>
                              <a:pt x="133" y="4"/>
                            </a:moveTo>
                            <a:lnTo>
                              <a:pt x="135" y="39"/>
                            </a:lnTo>
                            <a:lnTo>
                              <a:pt x="133" y="70"/>
                            </a:lnTo>
                            <a:lnTo>
                              <a:pt x="133" y="98"/>
                            </a:lnTo>
                            <a:lnTo>
                              <a:pt x="133" y="123"/>
                            </a:lnTo>
                            <a:lnTo>
                              <a:pt x="137" y="148"/>
                            </a:lnTo>
                            <a:lnTo>
                              <a:pt x="146" y="172"/>
                            </a:lnTo>
                            <a:lnTo>
                              <a:pt x="162" y="195"/>
                            </a:lnTo>
                            <a:lnTo>
                              <a:pt x="185" y="220"/>
                            </a:lnTo>
                            <a:lnTo>
                              <a:pt x="162" y="213"/>
                            </a:lnTo>
                            <a:lnTo>
                              <a:pt x="140" y="195"/>
                            </a:lnTo>
                            <a:lnTo>
                              <a:pt x="117" y="172"/>
                            </a:lnTo>
                            <a:lnTo>
                              <a:pt x="94" y="143"/>
                            </a:lnTo>
                            <a:lnTo>
                              <a:pt x="70" y="111"/>
                            </a:lnTo>
                            <a:lnTo>
                              <a:pt x="47" y="78"/>
                            </a:lnTo>
                            <a:lnTo>
                              <a:pt x="24" y="47"/>
                            </a:lnTo>
                            <a:lnTo>
                              <a:pt x="0" y="20"/>
                            </a:lnTo>
                            <a:lnTo>
                              <a:pt x="18" y="20"/>
                            </a:lnTo>
                            <a:lnTo>
                              <a:pt x="33" y="18"/>
                            </a:lnTo>
                            <a:lnTo>
                              <a:pt x="49" y="14"/>
                            </a:lnTo>
                            <a:lnTo>
                              <a:pt x="65" y="8"/>
                            </a:lnTo>
                            <a:lnTo>
                              <a:pt x="80" y="4"/>
                            </a:lnTo>
                            <a:lnTo>
                              <a:pt x="96" y="0"/>
                            </a:lnTo>
                            <a:lnTo>
                              <a:pt x="113" y="0"/>
                            </a:lnTo>
                            <a:lnTo>
                              <a:pt x="133" y="4"/>
                            </a:lnTo>
                            <a:close/>
                          </a:path>
                        </a:pathLst>
                      </a:custGeom>
                      <a:solidFill>
                        <a:srgbClr val="ffbf1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720" bIns="-367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4" name=""/>
                      <p:cNvSpPr/>
                      <p:nvPr/>
                    </p:nvSpPr>
                    <p:spPr>
                      <a:xfrm>
                        <a:off x="1887480" y="2575440"/>
                        <a:ext cx="237240" cy="322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547" h="6979">
                            <a:moveTo>
                              <a:pt x="3475" y="784"/>
                            </a:moveTo>
                            <a:lnTo>
                              <a:pt x="3528" y="815"/>
                            </a:lnTo>
                            <a:lnTo>
                              <a:pt x="3582" y="842"/>
                            </a:lnTo>
                            <a:lnTo>
                              <a:pt x="3637" y="868"/>
                            </a:lnTo>
                            <a:lnTo>
                              <a:pt x="3695" y="891"/>
                            </a:lnTo>
                            <a:lnTo>
                              <a:pt x="3751" y="912"/>
                            </a:lnTo>
                            <a:lnTo>
                              <a:pt x="3810" y="932"/>
                            </a:lnTo>
                            <a:lnTo>
                              <a:pt x="3868" y="949"/>
                            </a:lnTo>
                            <a:lnTo>
                              <a:pt x="3928" y="967"/>
                            </a:lnTo>
                            <a:lnTo>
                              <a:pt x="3987" y="983"/>
                            </a:lnTo>
                            <a:lnTo>
                              <a:pt x="4047" y="998"/>
                            </a:lnTo>
                            <a:lnTo>
                              <a:pt x="4107" y="1016"/>
                            </a:lnTo>
                            <a:lnTo>
                              <a:pt x="4168" y="1031"/>
                            </a:lnTo>
                            <a:lnTo>
                              <a:pt x="4226" y="1047"/>
                            </a:lnTo>
                            <a:lnTo>
                              <a:pt x="4286" y="1064"/>
                            </a:lnTo>
                            <a:lnTo>
                              <a:pt x="4345" y="1082"/>
                            </a:lnTo>
                            <a:lnTo>
                              <a:pt x="4403" y="1101"/>
                            </a:lnTo>
                            <a:lnTo>
                              <a:pt x="4428" y="1086"/>
                            </a:lnTo>
                            <a:lnTo>
                              <a:pt x="4450" y="1070"/>
                            </a:lnTo>
                            <a:lnTo>
                              <a:pt x="4467" y="1053"/>
                            </a:lnTo>
                            <a:lnTo>
                              <a:pt x="4479" y="1035"/>
                            </a:lnTo>
                            <a:lnTo>
                              <a:pt x="4487" y="1016"/>
                            </a:lnTo>
                            <a:lnTo>
                              <a:pt x="4492" y="996"/>
                            </a:lnTo>
                            <a:lnTo>
                              <a:pt x="4494" y="975"/>
                            </a:lnTo>
                            <a:lnTo>
                              <a:pt x="4494" y="953"/>
                            </a:lnTo>
                            <a:lnTo>
                              <a:pt x="4492" y="934"/>
                            </a:lnTo>
                            <a:lnTo>
                              <a:pt x="4491" y="912"/>
                            </a:lnTo>
                            <a:lnTo>
                              <a:pt x="4487" y="891"/>
                            </a:lnTo>
                            <a:lnTo>
                              <a:pt x="4483" y="868"/>
                            </a:lnTo>
                            <a:lnTo>
                              <a:pt x="4479" y="846"/>
                            </a:lnTo>
                            <a:lnTo>
                              <a:pt x="4475" y="825"/>
                            </a:lnTo>
                            <a:lnTo>
                              <a:pt x="4471" y="805"/>
                            </a:lnTo>
                            <a:lnTo>
                              <a:pt x="4471" y="784"/>
                            </a:lnTo>
                            <a:lnTo>
                              <a:pt x="4428" y="762"/>
                            </a:lnTo>
                            <a:lnTo>
                              <a:pt x="4397" y="766"/>
                            </a:lnTo>
                            <a:lnTo>
                              <a:pt x="4378" y="788"/>
                            </a:lnTo>
                            <a:lnTo>
                              <a:pt x="4362" y="821"/>
                            </a:lnTo>
                            <a:lnTo>
                              <a:pt x="4349" y="856"/>
                            </a:lnTo>
                            <a:lnTo>
                              <a:pt x="4331" y="885"/>
                            </a:lnTo>
                            <a:lnTo>
                              <a:pt x="4308" y="899"/>
                            </a:lnTo>
                            <a:lnTo>
                              <a:pt x="4271" y="893"/>
                            </a:lnTo>
                            <a:lnTo>
                              <a:pt x="4275" y="862"/>
                            </a:lnTo>
                            <a:lnTo>
                              <a:pt x="4275" y="827"/>
                            </a:lnTo>
                            <a:lnTo>
                              <a:pt x="4271" y="792"/>
                            </a:lnTo>
                            <a:lnTo>
                              <a:pt x="4265" y="753"/>
                            </a:lnTo>
                            <a:lnTo>
                              <a:pt x="4255" y="716"/>
                            </a:lnTo>
                            <a:lnTo>
                              <a:pt x="4245" y="677"/>
                            </a:lnTo>
                            <a:lnTo>
                              <a:pt x="4236" y="638"/>
                            </a:lnTo>
                            <a:lnTo>
                              <a:pt x="4226" y="599"/>
                            </a:lnTo>
                            <a:lnTo>
                              <a:pt x="4220" y="562"/>
                            </a:lnTo>
                            <a:lnTo>
                              <a:pt x="4216" y="525"/>
                            </a:lnTo>
                            <a:lnTo>
                              <a:pt x="4216" y="489"/>
                            </a:lnTo>
                            <a:lnTo>
                              <a:pt x="4222" y="456"/>
                            </a:lnTo>
                            <a:lnTo>
                              <a:pt x="4232" y="427"/>
                            </a:lnTo>
                            <a:lnTo>
                              <a:pt x="4249" y="400"/>
                            </a:lnTo>
                            <a:lnTo>
                              <a:pt x="4275" y="376"/>
                            </a:lnTo>
                            <a:lnTo>
                              <a:pt x="4310" y="357"/>
                            </a:lnTo>
                            <a:lnTo>
                              <a:pt x="4317" y="386"/>
                            </a:lnTo>
                            <a:lnTo>
                              <a:pt x="4323" y="417"/>
                            </a:lnTo>
                            <a:lnTo>
                              <a:pt x="4325" y="452"/>
                            </a:lnTo>
                            <a:lnTo>
                              <a:pt x="4329" y="484"/>
                            </a:lnTo>
                            <a:lnTo>
                              <a:pt x="4337" y="515"/>
                            </a:lnTo>
                            <a:lnTo>
                              <a:pt x="4354" y="538"/>
                            </a:lnTo>
                            <a:lnTo>
                              <a:pt x="4380" y="554"/>
                            </a:lnTo>
                            <a:lnTo>
                              <a:pt x="4419" y="560"/>
                            </a:lnTo>
                            <a:lnTo>
                              <a:pt x="4446" y="532"/>
                            </a:lnTo>
                            <a:lnTo>
                              <a:pt x="4457" y="501"/>
                            </a:lnTo>
                            <a:lnTo>
                              <a:pt x="4456" y="470"/>
                            </a:lnTo>
                            <a:lnTo>
                              <a:pt x="4450" y="437"/>
                            </a:lnTo>
                            <a:lnTo>
                              <a:pt x="4440" y="404"/>
                            </a:lnTo>
                            <a:lnTo>
                              <a:pt x="4434" y="371"/>
                            </a:lnTo>
                            <a:lnTo>
                              <a:pt x="4438" y="336"/>
                            </a:lnTo>
                            <a:lnTo>
                              <a:pt x="4456" y="304"/>
                            </a:lnTo>
                            <a:lnTo>
                              <a:pt x="4465" y="302"/>
                            </a:lnTo>
                            <a:lnTo>
                              <a:pt x="4475" y="295"/>
                            </a:lnTo>
                            <a:lnTo>
                              <a:pt x="4485" y="289"/>
                            </a:lnTo>
                            <a:lnTo>
                              <a:pt x="4494" y="281"/>
                            </a:lnTo>
                            <a:lnTo>
                              <a:pt x="4502" y="324"/>
                            </a:lnTo>
                            <a:lnTo>
                              <a:pt x="4510" y="369"/>
                            </a:lnTo>
                            <a:lnTo>
                              <a:pt x="4516" y="412"/>
                            </a:lnTo>
                            <a:lnTo>
                              <a:pt x="4524" y="456"/>
                            </a:lnTo>
                            <a:lnTo>
                              <a:pt x="4529" y="499"/>
                            </a:lnTo>
                            <a:lnTo>
                              <a:pt x="4533" y="544"/>
                            </a:lnTo>
                            <a:lnTo>
                              <a:pt x="4539" y="589"/>
                            </a:lnTo>
                            <a:lnTo>
                              <a:pt x="4541" y="632"/>
                            </a:lnTo>
                            <a:lnTo>
                              <a:pt x="4545" y="677"/>
                            </a:lnTo>
                            <a:lnTo>
                              <a:pt x="4547" y="719"/>
                            </a:lnTo>
                            <a:lnTo>
                              <a:pt x="4547" y="764"/>
                            </a:lnTo>
                            <a:lnTo>
                              <a:pt x="4547" y="807"/>
                            </a:lnTo>
                            <a:lnTo>
                              <a:pt x="4547" y="850"/>
                            </a:lnTo>
                            <a:lnTo>
                              <a:pt x="4545" y="893"/>
                            </a:lnTo>
                            <a:lnTo>
                              <a:pt x="4541" y="936"/>
                            </a:lnTo>
                            <a:lnTo>
                              <a:pt x="4537" y="979"/>
                            </a:lnTo>
                            <a:lnTo>
                              <a:pt x="4531" y="1020"/>
                            </a:lnTo>
                            <a:lnTo>
                              <a:pt x="4524" y="1060"/>
                            </a:lnTo>
                            <a:lnTo>
                              <a:pt x="4516" y="1103"/>
                            </a:lnTo>
                            <a:lnTo>
                              <a:pt x="4504" y="1142"/>
                            </a:lnTo>
                            <a:lnTo>
                              <a:pt x="4492" y="1183"/>
                            </a:lnTo>
                            <a:lnTo>
                              <a:pt x="4481" y="1222"/>
                            </a:lnTo>
                            <a:lnTo>
                              <a:pt x="4465" y="1263"/>
                            </a:lnTo>
                            <a:lnTo>
                              <a:pt x="4450" y="1300"/>
                            </a:lnTo>
                            <a:lnTo>
                              <a:pt x="4430" y="1339"/>
                            </a:lnTo>
                            <a:lnTo>
                              <a:pt x="4411" y="1376"/>
                            </a:lnTo>
                            <a:lnTo>
                              <a:pt x="4389" y="1411"/>
                            </a:lnTo>
                            <a:lnTo>
                              <a:pt x="4364" y="1448"/>
                            </a:lnTo>
                            <a:lnTo>
                              <a:pt x="4339" y="1483"/>
                            </a:lnTo>
                            <a:lnTo>
                              <a:pt x="4312" y="1516"/>
                            </a:lnTo>
                            <a:lnTo>
                              <a:pt x="4280" y="1550"/>
                            </a:lnTo>
                            <a:lnTo>
                              <a:pt x="4249" y="1583"/>
                            </a:lnTo>
                            <a:lnTo>
                              <a:pt x="4247" y="1635"/>
                            </a:lnTo>
                            <a:lnTo>
                              <a:pt x="4245" y="1688"/>
                            </a:lnTo>
                            <a:lnTo>
                              <a:pt x="4244" y="1741"/>
                            </a:lnTo>
                            <a:lnTo>
                              <a:pt x="4242" y="1793"/>
                            </a:lnTo>
                            <a:lnTo>
                              <a:pt x="4240" y="1846"/>
                            </a:lnTo>
                            <a:lnTo>
                              <a:pt x="4236" y="1898"/>
                            </a:lnTo>
                            <a:lnTo>
                              <a:pt x="4232" y="1951"/>
                            </a:lnTo>
                            <a:lnTo>
                              <a:pt x="4228" y="2004"/>
                            </a:lnTo>
                            <a:lnTo>
                              <a:pt x="4224" y="2056"/>
                            </a:lnTo>
                            <a:lnTo>
                              <a:pt x="4218" y="2107"/>
                            </a:lnTo>
                            <a:lnTo>
                              <a:pt x="4212" y="2160"/>
                            </a:lnTo>
                            <a:lnTo>
                              <a:pt x="4207" y="2210"/>
                            </a:lnTo>
                            <a:lnTo>
                              <a:pt x="4199" y="2261"/>
                            </a:lnTo>
                            <a:lnTo>
                              <a:pt x="4191" y="2312"/>
                            </a:lnTo>
                            <a:lnTo>
                              <a:pt x="4181" y="2362"/>
                            </a:lnTo>
                            <a:lnTo>
                              <a:pt x="4172" y="2411"/>
                            </a:lnTo>
                            <a:lnTo>
                              <a:pt x="4162" y="2462"/>
                            </a:lnTo>
                            <a:lnTo>
                              <a:pt x="4150" y="2510"/>
                            </a:lnTo>
                            <a:lnTo>
                              <a:pt x="4137" y="2559"/>
                            </a:lnTo>
                            <a:lnTo>
                              <a:pt x="4123" y="2608"/>
                            </a:lnTo>
                            <a:lnTo>
                              <a:pt x="4109" y="2656"/>
                            </a:lnTo>
                            <a:lnTo>
                              <a:pt x="4094" y="2703"/>
                            </a:lnTo>
                            <a:lnTo>
                              <a:pt x="4076" y="2750"/>
                            </a:lnTo>
                            <a:lnTo>
                              <a:pt x="4057" y="2797"/>
                            </a:lnTo>
                            <a:lnTo>
                              <a:pt x="4037" y="2844"/>
                            </a:lnTo>
                            <a:lnTo>
                              <a:pt x="4018" y="2888"/>
                            </a:lnTo>
                            <a:lnTo>
                              <a:pt x="3995" y="2933"/>
                            </a:lnTo>
                            <a:lnTo>
                              <a:pt x="3971" y="2978"/>
                            </a:lnTo>
                            <a:lnTo>
                              <a:pt x="3946" y="3021"/>
                            </a:lnTo>
                            <a:lnTo>
                              <a:pt x="3921" y="3064"/>
                            </a:lnTo>
                            <a:lnTo>
                              <a:pt x="3891" y="3107"/>
                            </a:lnTo>
                            <a:lnTo>
                              <a:pt x="3862" y="3148"/>
                            </a:lnTo>
                            <a:lnTo>
                              <a:pt x="3872" y="3169"/>
                            </a:lnTo>
                            <a:lnTo>
                              <a:pt x="3884" y="3190"/>
                            </a:lnTo>
                            <a:lnTo>
                              <a:pt x="3897" y="3212"/>
                            </a:lnTo>
                            <a:lnTo>
                              <a:pt x="3913" y="3231"/>
                            </a:lnTo>
                            <a:lnTo>
                              <a:pt x="3928" y="3253"/>
                            </a:lnTo>
                            <a:lnTo>
                              <a:pt x="3946" y="3274"/>
                            </a:lnTo>
                            <a:lnTo>
                              <a:pt x="3962" y="3296"/>
                            </a:lnTo>
                            <a:lnTo>
                              <a:pt x="3977" y="3317"/>
                            </a:lnTo>
                            <a:lnTo>
                              <a:pt x="3991" y="3339"/>
                            </a:lnTo>
                            <a:lnTo>
                              <a:pt x="4002" y="3362"/>
                            </a:lnTo>
                            <a:lnTo>
                              <a:pt x="4012" y="3385"/>
                            </a:lnTo>
                            <a:lnTo>
                              <a:pt x="4018" y="3411"/>
                            </a:lnTo>
                            <a:lnTo>
                              <a:pt x="4018" y="3436"/>
                            </a:lnTo>
                            <a:lnTo>
                              <a:pt x="4016" y="3461"/>
                            </a:lnTo>
                            <a:lnTo>
                              <a:pt x="4006" y="3491"/>
                            </a:lnTo>
                            <a:lnTo>
                              <a:pt x="3993" y="3520"/>
                            </a:lnTo>
                            <a:lnTo>
                              <a:pt x="3967" y="3531"/>
                            </a:lnTo>
                            <a:lnTo>
                              <a:pt x="3944" y="3537"/>
                            </a:lnTo>
                            <a:lnTo>
                              <a:pt x="3923" y="3537"/>
                            </a:lnTo>
                            <a:lnTo>
                              <a:pt x="3903" y="3537"/>
                            </a:lnTo>
                            <a:lnTo>
                              <a:pt x="3882" y="3539"/>
                            </a:lnTo>
                            <a:lnTo>
                              <a:pt x="3862" y="3545"/>
                            </a:lnTo>
                            <a:lnTo>
                              <a:pt x="3843" y="3563"/>
                            </a:lnTo>
                            <a:lnTo>
                              <a:pt x="3823" y="3590"/>
                            </a:lnTo>
                            <a:lnTo>
                              <a:pt x="3878" y="3672"/>
                            </a:lnTo>
                            <a:lnTo>
                              <a:pt x="3928" y="3758"/>
                            </a:lnTo>
                            <a:lnTo>
                              <a:pt x="3977" y="3843"/>
                            </a:lnTo>
                            <a:lnTo>
                              <a:pt x="4022" y="3931"/>
                            </a:lnTo>
                            <a:lnTo>
                              <a:pt x="4065" y="4021"/>
                            </a:lnTo>
                            <a:lnTo>
                              <a:pt x="4105" y="4110"/>
                            </a:lnTo>
                            <a:lnTo>
                              <a:pt x="4142" y="4204"/>
                            </a:lnTo>
                            <a:lnTo>
                              <a:pt x="4177" y="4297"/>
                            </a:lnTo>
                            <a:lnTo>
                              <a:pt x="4210" y="4391"/>
                            </a:lnTo>
                            <a:lnTo>
                              <a:pt x="4240" y="4488"/>
                            </a:lnTo>
                            <a:lnTo>
                              <a:pt x="4269" y="4584"/>
                            </a:lnTo>
                            <a:lnTo>
                              <a:pt x="4294" y="4683"/>
                            </a:lnTo>
                            <a:lnTo>
                              <a:pt x="4316" y="4783"/>
                            </a:lnTo>
                            <a:lnTo>
                              <a:pt x="4337" y="4882"/>
                            </a:lnTo>
                            <a:lnTo>
                              <a:pt x="4354" y="4981"/>
                            </a:lnTo>
                            <a:lnTo>
                              <a:pt x="4370" y="5083"/>
                            </a:lnTo>
                            <a:lnTo>
                              <a:pt x="4384" y="5186"/>
                            </a:lnTo>
                            <a:lnTo>
                              <a:pt x="4393" y="5287"/>
                            </a:lnTo>
                            <a:lnTo>
                              <a:pt x="4403" y="5391"/>
                            </a:lnTo>
                            <a:lnTo>
                              <a:pt x="4409" y="5494"/>
                            </a:lnTo>
                            <a:lnTo>
                              <a:pt x="4415" y="5597"/>
                            </a:lnTo>
                            <a:lnTo>
                              <a:pt x="4417" y="5700"/>
                            </a:lnTo>
                            <a:lnTo>
                              <a:pt x="4417" y="5804"/>
                            </a:lnTo>
                            <a:lnTo>
                              <a:pt x="4415" y="5907"/>
                            </a:lnTo>
                            <a:lnTo>
                              <a:pt x="4409" y="6010"/>
                            </a:lnTo>
                            <a:lnTo>
                              <a:pt x="4403" y="6114"/>
                            </a:lnTo>
                            <a:lnTo>
                              <a:pt x="4395" y="6215"/>
                            </a:lnTo>
                            <a:lnTo>
                              <a:pt x="4386" y="6318"/>
                            </a:lnTo>
                            <a:lnTo>
                              <a:pt x="4374" y="6419"/>
                            </a:lnTo>
                            <a:lnTo>
                              <a:pt x="4358" y="6521"/>
                            </a:lnTo>
                            <a:lnTo>
                              <a:pt x="4343" y="6622"/>
                            </a:lnTo>
                            <a:lnTo>
                              <a:pt x="4325" y="6722"/>
                            </a:lnTo>
                            <a:lnTo>
                              <a:pt x="4310" y="6757"/>
                            </a:lnTo>
                            <a:lnTo>
                              <a:pt x="4290" y="6786"/>
                            </a:lnTo>
                            <a:lnTo>
                              <a:pt x="4269" y="6811"/>
                            </a:lnTo>
                            <a:lnTo>
                              <a:pt x="4244" y="6833"/>
                            </a:lnTo>
                            <a:lnTo>
                              <a:pt x="4216" y="6852"/>
                            </a:lnTo>
                            <a:lnTo>
                              <a:pt x="4187" y="6868"/>
                            </a:lnTo>
                            <a:lnTo>
                              <a:pt x="4158" y="6881"/>
                            </a:lnTo>
                            <a:lnTo>
                              <a:pt x="4127" y="6891"/>
                            </a:lnTo>
                            <a:lnTo>
                              <a:pt x="4094" y="6903"/>
                            </a:lnTo>
                            <a:lnTo>
                              <a:pt x="4059" y="6911"/>
                            </a:lnTo>
                            <a:lnTo>
                              <a:pt x="4026" y="6918"/>
                            </a:lnTo>
                            <a:lnTo>
                              <a:pt x="3993" y="6926"/>
                            </a:lnTo>
                            <a:lnTo>
                              <a:pt x="3958" y="6934"/>
                            </a:lnTo>
                            <a:lnTo>
                              <a:pt x="3925" y="6944"/>
                            </a:lnTo>
                            <a:lnTo>
                              <a:pt x="3893" y="6951"/>
                            </a:lnTo>
                            <a:lnTo>
                              <a:pt x="3862" y="6963"/>
                            </a:lnTo>
                            <a:lnTo>
                              <a:pt x="3864" y="6940"/>
                            </a:lnTo>
                            <a:lnTo>
                              <a:pt x="3864" y="6916"/>
                            </a:lnTo>
                            <a:lnTo>
                              <a:pt x="3860" y="6895"/>
                            </a:lnTo>
                            <a:lnTo>
                              <a:pt x="3856" y="6874"/>
                            </a:lnTo>
                            <a:lnTo>
                              <a:pt x="3847" y="6856"/>
                            </a:lnTo>
                            <a:lnTo>
                              <a:pt x="3837" y="6838"/>
                            </a:lnTo>
                            <a:lnTo>
                              <a:pt x="3823" y="6825"/>
                            </a:lnTo>
                            <a:lnTo>
                              <a:pt x="3808" y="6815"/>
                            </a:lnTo>
                            <a:lnTo>
                              <a:pt x="3769" y="6813"/>
                            </a:lnTo>
                            <a:lnTo>
                              <a:pt x="3742" y="6825"/>
                            </a:lnTo>
                            <a:lnTo>
                              <a:pt x="3726" y="6848"/>
                            </a:lnTo>
                            <a:lnTo>
                              <a:pt x="3718" y="6879"/>
                            </a:lnTo>
                            <a:lnTo>
                              <a:pt x="3713" y="6913"/>
                            </a:lnTo>
                            <a:lnTo>
                              <a:pt x="3709" y="6942"/>
                            </a:lnTo>
                            <a:lnTo>
                              <a:pt x="3703" y="6965"/>
                            </a:lnTo>
                            <a:lnTo>
                              <a:pt x="3691" y="6979"/>
                            </a:lnTo>
                            <a:lnTo>
                              <a:pt x="3226" y="6963"/>
                            </a:lnTo>
                            <a:lnTo>
                              <a:pt x="3244" y="6930"/>
                            </a:lnTo>
                            <a:lnTo>
                              <a:pt x="3257" y="6891"/>
                            </a:lnTo>
                            <a:lnTo>
                              <a:pt x="3271" y="6848"/>
                            </a:lnTo>
                            <a:lnTo>
                              <a:pt x="3285" y="6809"/>
                            </a:lnTo>
                            <a:lnTo>
                              <a:pt x="3304" y="6774"/>
                            </a:lnTo>
                            <a:lnTo>
                              <a:pt x="3329" y="6749"/>
                            </a:lnTo>
                            <a:lnTo>
                              <a:pt x="3364" y="6735"/>
                            </a:lnTo>
                            <a:lnTo>
                              <a:pt x="3413" y="6737"/>
                            </a:lnTo>
                            <a:lnTo>
                              <a:pt x="3394" y="6706"/>
                            </a:lnTo>
                            <a:lnTo>
                              <a:pt x="3386" y="6675"/>
                            </a:lnTo>
                            <a:lnTo>
                              <a:pt x="3386" y="6640"/>
                            </a:lnTo>
                            <a:lnTo>
                              <a:pt x="3396" y="6603"/>
                            </a:lnTo>
                            <a:lnTo>
                              <a:pt x="3407" y="6568"/>
                            </a:lnTo>
                            <a:lnTo>
                              <a:pt x="3423" y="6531"/>
                            </a:lnTo>
                            <a:lnTo>
                              <a:pt x="3438" y="6494"/>
                            </a:lnTo>
                            <a:lnTo>
                              <a:pt x="3452" y="6458"/>
                            </a:lnTo>
                            <a:lnTo>
                              <a:pt x="3471" y="6453"/>
                            </a:lnTo>
                            <a:lnTo>
                              <a:pt x="3491" y="6460"/>
                            </a:lnTo>
                            <a:lnTo>
                              <a:pt x="3514" y="6478"/>
                            </a:lnTo>
                            <a:lnTo>
                              <a:pt x="3539" y="6497"/>
                            </a:lnTo>
                            <a:lnTo>
                              <a:pt x="3563" y="6515"/>
                            </a:lnTo>
                            <a:lnTo>
                              <a:pt x="3588" y="6525"/>
                            </a:lnTo>
                            <a:lnTo>
                              <a:pt x="3613" y="6521"/>
                            </a:lnTo>
                            <a:lnTo>
                              <a:pt x="3637" y="6497"/>
                            </a:lnTo>
                            <a:lnTo>
                              <a:pt x="3623" y="6476"/>
                            </a:lnTo>
                            <a:lnTo>
                              <a:pt x="3608" y="6455"/>
                            </a:lnTo>
                            <a:lnTo>
                              <a:pt x="3594" y="6431"/>
                            </a:lnTo>
                            <a:lnTo>
                              <a:pt x="3580" y="6408"/>
                            </a:lnTo>
                            <a:lnTo>
                              <a:pt x="3565" y="6386"/>
                            </a:lnTo>
                            <a:lnTo>
                              <a:pt x="3547" y="6365"/>
                            </a:lnTo>
                            <a:lnTo>
                              <a:pt x="3528" y="6345"/>
                            </a:lnTo>
                            <a:lnTo>
                              <a:pt x="3506" y="6326"/>
                            </a:lnTo>
                            <a:lnTo>
                              <a:pt x="3730" y="5823"/>
                            </a:lnTo>
                            <a:lnTo>
                              <a:pt x="3744" y="5819"/>
                            </a:lnTo>
                            <a:lnTo>
                              <a:pt x="3761" y="5823"/>
                            </a:lnTo>
                            <a:lnTo>
                              <a:pt x="3779" y="5837"/>
                            </a:lnTo>
                            <a:lnTo>
                              <a:pt x="3796" y="5854"/>
                            </a:lnTo>
                            <a:lnTo>
                              <a:pt x="3816" y="5878"/>
                            </a:lnTo>
                            <a:lnTo>
                              <a:pt x="3835" y="5903"/>
                            </a:lnTo>
                            <a:lnTo>
                              <a:pt x="3855" y="5928"/>
                            </a:lnTo>
                            <a:lnTo>
                              <a:pt x="3874" y="5954"/>
                            </a:lnTo>
                            <a:lnTo>
                              <a:pt x="3891" y="5973"/>
                            </a:lnTo>
                            <a:lnTo>
                              <a:pt x="3909" y="5989"/>
                            </a:lnTo>
                            <a:lnTo>
                              <a:pt x="3923" y="5997"/>
                            </a:lnTo>
                            <a:lnTo>
                              <a:pt x="3934" y="5995"/>
                            </a:lnTo>
                            <a:lnTo>
                              <a:pt x="3944" y="5983"/>
                            </a:lnTo>
                            <a:lnTo>
                              <a:pt x="3952" y="5958"/>
                            </a:lnTo>
                            <a:lnTo>
                              <a:pt x="3954" y="5919"/>
                            </a:lnTo>
                            <a:lnTo>
                              <a:pt x="3954" y="5862"/>
                            </a:lnTo>
                            <a:lnTo>
                              <a:pt x="3928" y="5831"/>
                            </a:lnTo>
                            <a:lnTo>
                              <a:pt x="3897" y="5804"/>
                            </a:lnTo>
                            <a:lnTo>
                              <a:pt x="3862" y="5778"/>
                            </a:lnTo>
                            <a:lnTo>
                              <a:pt x="3827" y="5753"/>
                            </a:lnTo>
                            <a:lnTo>
                              <a:pt x="3796" y="5728"/>
                            </a:lnTo>
                            <a:lnTo>
                              <a:pt x="3775" y="5695"/>
                            </a:lnTo>
                            <a:lnTo>
                              <a:pt x="3763" y="5656"/>
                            </a:lnTo>
                            <a:lnTo>
                              <a:pt x="3769" y="5605"/>
                            </a:lnTo>
                            <a:lnTo>
                              <a:pt x="3757" y="5593"/>
                            </a:lnTo>
                            <a:lnTo>
                              <a:pt x="3744" y="5587"/>
                            </a:lnTo>
                            <a:lnTo>
                              <a:pt x="3728" y="5583"/>
                            </a:lnTo>
                            <a:lnTo>
                              <a:pt x="3714" y="5583"/>
                            </a:lnTo>
                            <a:lnTo>
                              <a:pt x="3701" y="5583"/>
                            </a:lnTo>
                            <a:lnTo>
                              <a:pt x="3685" y="5585"/>
                            </a:lnTo>
                            <a:lnTo>
                              <a:pt x="3672" y="5585"/>
                            </a:lnTo>
                            <a:lnTo>
                              <a:pt x="3660" y="5583"/>
                            </a:lnTo>
                            <a:lnTo>
                              <a:pt x="3656" y="5541"/>
                            </a:lnTo>
                            <a:lnTo>
                              <a:pt x="3641" y="5511"/>
                            </a:lnTo>
                            <a:lnTo>
                              <a:pt x="3617" y="5490"/>
                            </a:lnTo>
                            <a:lnTo>
                              <a:pt x="3588" y="5472"/>
                            </a:lnTo>
                            <a:lnTo>
                              <a:pt x="3557" y="5459"/>
                            </a:lnTo>
                            <a:lnTo>
                              <a:pt x="3526" y="5439"/>
                            </a:lnTo>
                            <a:lnTo>
                              <a:pt x="3497" y="5416"/>
                            </a:lnTo>
                            <a:lnTo>
                              <a:pt x="3475" y="5381"/>
                            </a:lnTo>
                            <a:lnTo>
                              <a:pt x="3454" y="5359"/>
                            </a:lnTo>
                            <a:lnTo>
                              <a:pt x="3434" y="5336"/>
                            </a:lnTo>
                            <a:lnTo>
                              <a:pt x="3417" y="5309"/>
                            </a:lnTo>
                            <a:lnTo>
                              <a:pt x="3399" y="5281"/>
                            </a:lnTo>
                            <a:lnTo>
                              <a:pt x="3384" y="5252"/>
                            </a:lnTo>
                            <a:lnTo>
                              <a:pt x="3368" y="5223"/>
                            </a:lnTo>
                            <a:lnTo>
                              <a:pt x="3353" y="5194"/>
                            </a:lnTo>
                            <a:lnTo>
                              <a:pt x="3337" y="5165"/>
                            </a:lnTo>
                            <a:lnTo>
                              <a:pt x="3320" y="5139"/>
                            </a:lnTo>
                            <a:lnTo>
                              <a:pt x="3302" y="5118"/>
                            </a:lnTo>
                            <a:lnTo>
                              <a:pt x="3283" y="5098"/>
                            </a:lnTo>
                            <a:lnTo>
                              <a:pt x="3263" y="5083"/>
                            </a:lnTo>
                            <a:lnTo>
                              <a:pt x="3240" y="5071"/>
                            </a:lnTo>
                            <a:lnTo>
                              <a:pt x="3217" y="5067"/>
                            </a:lnTo>
                            <a:lnTo>
                              <a:pt x="3189" y="5069"/>
                            </a:lnTo>
                            <a:lnTo>
                              <a:pt x="3158" y="5079"/>
                            </a:lnTo>
                            <a:lnTo>
                              <a:pt x="3168" y="5106"/>
                            </a:lnTo>
                            <a:lnTo>
                              <a:pt x="3184" y="5133"/>
                            </a:lnTo>
                            <a:lnTo>
                              <a:pt x="3199" y="5161"/>
                            </a:lnTo>
                            <a:lnTo>
                              <a:pt x="3217" y="5188"/>
                            </a:lnTo>
                            <a:lnTo>
                              <a:pt x="3236" y="5215"/>
                            </a:lnTo>
                            <a:lnTo>
                              <a:pt x="3255" y="5242"/>
                            </a:lnTo>
                            <a:lnTo>
                              <a:pt x="3275" y="5270"/>
                            </a:lnTo>
                            <a:lnTo>
                              <a:pt x="3292" y="5295"/>
                            </a:lnTo>
                            <a:lnTo>
                              <a:pt x="3308" y="5322"/>
                            </a:lnTo>
                            <a:lnTo>
                              <a:pt x="3322" y="5350"/>
                            </a:lnTo>
                            <a:lnTo>
                              <a:pt x="3331" y="5377"/>
                            </a:lnTo>
                            <a:lnTo>
                              <a:pt x="3337" y="5404"/>
                            </a:lnTo>
                            <a:lnTo>
                              <a:pt x="3337" y="5431"/>
                            </a:lnTo>
                            <a:lnTo>
                              <a:pt x="3333" y="5459"/>
                            </a:lnTo>
                            <a:lnTo>
                              <a:pt x="3322" y="5486"/>
                            </a:lnTo>
                            <a:lnTo>
                              <a:pt x="3304" y="5513"/>
                            </a:lnTo>
                            <a:lnTo>
                              <a:pt x="3294" y="5500"/>
                            </a:lnTo>
                            <a:lnTo>
                              <a:pt x="3292" y="5482"/>
                            </a:lnTo>
                            <a:lnTo>
                              <a:pt x="3294" y="5461"/>
                            </a:lnTo>
                            <a:lnTo>
                              <a:pt x="3298" y="5437"/>
                            </a:lnTo>
                            <a:lnTo>
                              <a:pt x="3298" y="5416"/>
                            </a:lnTo>
                            <a:lnTo>
                              <a:pt x="3292" y="5394"/>
                            </a:lnTo>
                            <a:lnTo>
                              <a:pt x="3277" y="5375"/>
                            </a:lnTo>
                            <a:lnTo>
                              <a:pt x="3250" y="5357"/>
                            </a:lnTo>
                            <a:lnTo>
                              <a:pt x="3158" y="5396"/>
                            </a:lnTo>
                            <a:lnTo>
                              <a:pt x="3164" y="5379"/>
                            </a:lnTo>
                            <a:lnTo>
                              <a:pt x="3172" y="5363"/>
                            </a:lnTo>
                            <a:lnTo>
                              <a:pt x="3176" y="5346"/>
                            </a:lnTo>
                            <a:lnTo>
                              <a:pt x="3180" y="5330"/>
                            </a:lnTo>
                            <a:lnTo>
                              <a:pt x="3178" y="5315"/>
                            </a:lnTo>
                            <a:lnTo>
                              <a:pt x="3170" y="5297"/>
                            </a:lnTo>
                            <a:lnTo>
                              <a:pt x="3156" y="5281"/>
                            </a:lnTo>
                            <a:lnTo>
                              <a:pt x="3135" y="5264"/>
                            </a:lnTo>
                            <a:lnTo>
                              <a:pt x="3042" y="5287"/>
                            </a:lnTo>
                            <a:lnTo>
                              <a:pt x="3045" y="5272"/>
                            </a:lnTo>
                            <a:lnTo>
                              <a:pt x="3045" y="5256"/>
                            </a:lnTo>
                            <a:lnTo>
                              <a:pt x="3042" y="5241"/>
                            </a:lnTo>
                            <a:lnTo>
                              <a:pt x="3036" y="5227"/>
                            </a:lnTo>
                            <a:lnTo>
                              <a:pt x="3026" y="5217"/>
                            </a:lnTo>
                            <a:lnTo>
                              <a:pt x="3014" y="5207"/>
                            </a:lnTo>
                            <a:lnTo>
                              <a:pt x="3001" y="5200"/>
                            </a:lnTo>
                            <a:lnTo>
                              <a:pt x="2987" y="5196"/>
                            </a:lnTo>
                            <a:lnTo>
                              <a:pt x="2954" y="5203"/>
                            </a:lnTo>
                            <a:lnTo>
                              <a:pt x="2925" y="5196"/>
                            </a:lnTo>
                            <a:lnTo>
                              <a:pt x="2898" y="5176"/>
                            </a:lnTo>
                            <a:lnTo>
                              <a:pt x="2870" y="5149"/>
                            </a:lnTo>
                            <a:lnTo>
                              <a:pt x="2843" y="5122"/>
                            </a:lnTo>
                            <a:lnTo>
                              <a:pt x="2814" y="5094"/>
                            </a:lnTo>
                            <a:lnTo>
                              <a:pt x="2783" y="5073"/>
                            </a:lnTo>
                            <a:lnTo>
                              <a:pt x="2748" y="5063"/>
                            </a:lnTo>
                            <a:lnTo>
                              <a:pt x="2742" y="5087"/>
                            </a:lnTo>
                            <a:lnTo>
                              <a:pt x="2740" y="5110"/>
                            </a:lnTo>
                            <a:lnTo>
                              <a:pt x="2746" y="5131"/>
                            </a:lnTo>
                            <a:lnTo>
                              <a:pt x="2756" y="5153"/>
                            </a:lnTo>
                            <a:lnTo>
                              <a:pt x="2769" y="5172"/>
                            </a:lnTo>
                            <a:lnTo>
                              <a:pt x="2785" y="5194"/>
                            </a:lnTo>
                            <a:lnTo>
                              <a:pt x="2802" y="5213"/>
                            </a:lnTo>
                            <a:lnTo>
                              <a:pt x="2820" y="5233"/>
                            </a:lnTo>
                            <a:lnTo>
                              <a:pt x="2835" y="5252"/>
                            </a:lnTo>
                            <a:lnTo>
                              <a:pt x="2851" y="5274"/>
                            </a:lnTo>
                            <a:lnTo>
                              <a:pt x="2865" y="5295"/>
                            </a:lnTo>
                            <a:lnTo>
                              <a:pt x="2872" y="5317"/>
                            </a:lnTo>
                            <a:lnTo>
                              <a:pt x="2878" y="5340"/>
                            </a:lnTo>
                            <a:lnTo>
                              <a:pt x="2876" y="5365"/>
                            </a:lnTo>
                            <a:lnTo>
                              <a:pt x="2870" y="5393"/>
                            </a:lnTo>
                            <a:lnTo>
                              <a:pt x="2855" y="5420"/>
                            </a:lnTo>
                            <a:lnTo>
                              <a:pt x="2561" y="6141"/>
                            </a:lnTo>
                            <a:lnTo>
                              <a:pt x="2571" y="6154"/>
                            </a:lnTo>
                            <a:lnTo>
                              <a:pt x="2581" y="6164"/>
                            </a:lnTo>
                            <a:lnTo>
                              <a:pt x="2592" y="6172"/>
                            </a:lnTo>
                            <a:lnTo>
                              <a:pt x="2606" y="6176"/>
                            </a:lnTo>
                            <a:lnTo>
                              <a:pt x="2618" y="6178"/>
                            </a:lnTo>
                            <a:lnTo>
                              <a:pt x="2629" y="6176"/>
                            </a:lnTo>
                            <a:lnTo>
                              <a:pt x="2643" y="6172"/>
                            </a:lnTo>
                            <a:lnTo>
                              <a:pt x="2654" y="6164"/>
                            </a:lnTo>
                            <a:lnTo>
                              <a:pt x="2748" y="6008"/>
                            </a:lnTo>
                            <a:lnTo>
                              <a:pt x="2744" y="6020"/>
                            </a:lnTo>
                            <a:lnTo>
                              <a:pt x="2738" y="6034"/>
                            </a:lnTo>
                            <a:lnTo>
                              <a:pt x="2730" y="6049"/>
                            </a:lnTo>
                            <a:lnTo>
                              <a:pt x="2723" y="6069"/>
                            </a:lnTo>
                            <a:lnTo>
                              <a:pt x="2715" y="6088"/>
                            </a:lnTo>
                            <a:lnTo>
                              <a:pt x="2705" y="6108"/>
                            </a:lnTo>
                            <a:lnTo>
                              <a:pt x="2697" y="6131"/>
                            </a:lnTo>
                            <a:lnTo>
                              <a:pt x="2689" y="6153"/>
                            </a:lnTo>
                            <a:lnTo>
                              <a:pt x="2682" y="6176"/>
                            </a:lnTo>
                            <a:lnTo>
                              <a:pt x="2676" y="6199"/>
                            </a:lnTo>
                            <a:lnTo>
                              <a:pt x="2672" y="6223"/>
                            </a:lnTo>
                            <a:lnTo>
                              <a:pt x="2670" y="6246"/>
                            </a:lnTo>
                            <a:lnTo>
                              <a:pt x="2672" y="6267"/>
                            </a:lnTo>
                            <a:lnTo>
                              <a:pt x="2676" y="6289"/>
                            </a:lnTo>
                            <a:lnTo>
                              <a:pt x="2682" y="6308"/>
                            </a:lnTo>
                            <a:lnTo>
                              <a:pt x="2693" y="6326"/>
                            </a:lnTo>
                            <a:lnTo>
                              <a:pt x="2728" y="6320"/>
                            </a:lnTo>
                            <a:lnTo>
                              <a:pt x="2756" y="6305"/>
                            </a:lnTo>
                            <a:lnTo>
                              <a:pt x="2773" y="6283"/>
                            </a:lnTo>
                            <a:lnTo>
                              <a:pt x="2789" y="6256"/>
                            </a:lnTo>
                            <a:lnTo>
                              <a:pt x="2798" y="6229"/>
                            </a:lnTo>
                            <a:lnTo>
                              <a:pt x="2810" y="6203"/>
                            </a:lnTo>
                            <a:lnTo>
                              <a:pt x="2824" y="6180"/>
                            </a:lnTo>
                            <a:lnTo>
                              <a:pt x="2841" y="6164"/>
                            </a:lnTo>
                            <a:lnTo>
                              <a:pt x="2845" y="6186"/>
                            </a:lnTo>
                            <a:lnTo>
                              <a:pt x="2845" y="6207"/>
                            </a:lnTo>
                            <a:lnTo>
                              <a:pt x="2841" y="6229"/>
                            </a:lnTo>
                            <a:lnTo>
                              <a:pt x="2833" y="6250"/>
                            </a:lnTo>
                            <a:lnTo>
                              <a:pt x="2824" y="6269"/>
                            </a:lnTo>
                            <a:lnTo>
                              <a:pt x="2812" y="6291"/>
                            </a:lnTo>
                            <a:lnTo>
                              <a:pt x="2800" y="6312"/>
                            </a:lnTo>
                            <a:lnTo>
                              <a:pt x="2789" y="6332"/>
                            </a:lnTo>
                            <a:lnTo>
                              <a:pt x="2779" y="6353"/>
                            </a:lnTo>
                            <a:lnTo>
                              <a:pt x="2769" y="6375"/>
                            </a:lnTo>
                            <a:lnTo>
                              <a:pt x="2763" y="6396"/>
                            </a:lnTo>
                            <a:lnTo>
                              <a:pt x="2761" y="6419"/>
                            </a:lnTo>
                            <a:lnTo>
                              <a:pt x="2763" y="6441"/>
                            </a:lnTo>
                            <a:lnTo>
                              <a:pt x="2769" y="6464"/>
                            </a:lnTo>
                            <a:lnTo>
                              <a:pt x="2783" y="6488"/>
                            </a:lnTo>
                            <a:lnTo>
                              <a:pt x="2802" y="6513"/>
                            </a:lnTo>
                            <a:lnTo>
                              <a:pt x="2835" y="6497"/>
                            </a:lnTo>
                            <a:lnTo>
                              <a:pt x="2861" y="6478"/>
                            </a:lnTo>
                            <a:lnTo>
                              <a:pt x="2880" y="6455"/>
                            </a:lnTo>
                            <a:lnTo>
                              <a:pt x="2896" y="6425"/>
                            </a:lnTo>
                            <a:lnTo>
                              <a:pt x="2907" y="6398"/>
                            </a:lnTo>
                            <a:lnTo>
                              <a:pt x="2919" y="6367"/>
                            </a:lnTo>
                            <a:lnTo>
                              <a:pt x="2933" y="6338"/>
                            </a:lnTo>
                            <a:lnTo>
                              <a:pt x="2948" y="6310"/>
                            </a:lnTo>
                            <a:lnTo>
                              <a:pt x="2936" y="6340"/>
                            </a:lnTo>
                            <a:lnTo>
                              <a:pt x="2923" y="6367"/>
                            </a:lnTo>
                            <a:lnTo>
                              <a:pt x="2907" y="6394"/>
                            </a:lnTo>
                            <a:lnTo>
                              <a:pt x="2894" y="6421"/>
                            </a:lnTo>
                            <a:lnTo>
                              <a:pt x="2882" y="6451"/>
                            </a:lnTo>
                            <a:lnTo>
                              <a:pt x="2874" y="6482"/>
                            </a:lnTo>
                            <a:lnTo>
                              <a:pt x="2872" y="6515"/>
                            </a:lnTo>
                            <a:lnTo>
                              <a:pt x="2878" y="6552"/>
                            </a:lnTo>
                            <a:lnTo>
                              <a:pt x="2907" y="6564"/>
                            </a:lnTo>
                            <a:lnTo>
                              <a:pt x="2933" y="6562"/>
                            </a:lnTo>
                            <a:lnTo>
                              <a:pt x="2954" y="6546"/>
                            </a:lnTo>
                            <a:lnTo>
                              <a:pt x="2972" y="6523"/>
                            </a:lnTo>
                            <a:lnTo>
                              <a:pt x="2989" y="6495"/>
                            </a:lnTo>
                            <a:lnTo>
                              <a:pt x="3005" y="6468"/>
                            </a:lnTo>
                            <a:lnTo>
                              <a:pt x="3022" y="6441"/>
                            </a:lnTo>
                            <a:lnTo>
                              <a:pt x="3042" y="6419"/>
                            </a:lnTo>
                            <a:lnTo>
                              <a:pt x="3055" y="6451"/>
                            </a:lnTo>
                            <a:lnTo>
                              <a:pt x="3061" y="6484"/>
                            </a:lnTo>
                            <a:lnTo>
                              <a:pt x="3063" y="6515"/>
                            </a:lnTo>
                            <a:lnTo>
                              <a:pt x="3059" y="6546"/>
                            </a:lnTo>
                            <a:lnTo>
                              <a:pt x="3051" y="6575"/>
                            </a:lnTo>
                            <a:lnTo>
                              <a:pt x="3042" y="6607"/>
                            </a:lnTo>
                            <a:lnTo>
                              <a:pt x="3030" y="6638"/>
                            </a:lnTo>
                            <a:lnTo>
                              <a:pt x="3014" y="6667"/>
                            </a:lnTo>
                            <a:lnTo>
                              <a:pt x="2999" y="6696"/>
                            </a:lnTo>
                            <a:lnTo>
                              <a:pt x="2983" y="6727"/>
                            </a:lnTo>
                            <a:lnTo>
                              <a:pt x="2966" y="6757"/>
                            </a:lnTo>
                            <a:lnTo>
                              <a:pt x="2952" y="6788"/>
                            </a:lnTo>
                            <a:lnTo>
                              <a:pt x="2938" y="6817"/>
                            </a:lnTo>
                            <a:lnTo>
                              <a:pt x="2929" y="6848"/>
                            </a:lnTo>
                            <a:lnTo>
                              <a:pt x="2921" y="6877"/>
                            </a:lnTo>
                            <a:lnTo>
                              <a:pt x="2917" y="6909"/>
                            </a:lnTo>
                            <a:lnTo>
                              <a:pt x="2866" y="6879"/>
                            </a:lnTo>
                            <a:lnTo>
                              <a:pt x="2816" y="6850"/>
                            </a:lnTo>
                            <a:lnTo>
                              <a:pt x="2765" y="6819"/>
                            </a:lnTo>
                            <a:lnTo>
                              <a:pt x="2715" y="6788"/>
                            </a:lnTo>
                            <a:lnTo>
                              <a:pt x="2664" y="6757"/>
                            </a:lnTo>
                            <a:lnTo>
                              <a:pt x="2614" y="6725"/>
                            </a:lnTo>
                            <a:lnTo>
                              <a:pt x="2565" y="6692"/>
                            </a:lnTo>
                            <a:lnTo>
                              <a:pt x="2514" y="6661"/>
                            </a:lnTo>
                            <a:lnTo>
                              <a:pt x="2464" y="6628"/>
                            </a:lnTo>
                            <a:lnTo>
                              <a:pt x="2411" y="6597"/>
                            </a:lnTo>
                            <a:lnTo>
                              <a:pt x="2361" y="6566"/>
                            </a:lnTo>
                            <a:lnTo>
                              <a:pt x="2310" y="6536"/>
                            </a:lnTo>
                            <a:lnTo>
                              <a:pt x="2258" y="6505"/>
                            </a:lnTo>
                            <a:lnTo>
                              <a:pt x="2207" y="6478"/>
                            </a:lnTo>
                            <a:lnTo>
                              <a:pt x="2155" y="6451"/>
                            </a:lnTo>
                            <a:lnTo>
                              <a:pt x="2102" y="6423"/>
                            </a:lnTo>
                            <a:lnTo>
                              <a:pt x="2048" y="6400"/>
                            </a:lnTo>
                            <a:lnTo>
                              <a:pt x="1995" y="6377"/>
                            </a:lnTo>
                            <a:lnTo>
                              <a:pt x="1941" y="6355"/>
                            </a:lnTo>
                            <a:lnTo>
                              <a:pt x="1884" y="6336"/>
                            </a:lnTo>
                            <a:lnTo>
                              <a:pt x="1830" y="6318"/>
                            </a:lnTo>
                            <a:lnTo>
                              <a:pt x="1773" y="6303"/>
                            </a:lnTo>
                            <a:lnTo>
                              <a:pt x="1717" y="6291"/>
                            </a:lnTo>
                            <a:lnTo>
                              <a:pt x="1659" y="6279"/>
                            </a:lnTo>
                            <a:lnTo>
                              <a:pt x="1600" y="6273"/>
                            </a:lnTo>
                            <a:lnTo>
                              <a:pt x="1542" y="6267"/>
                            </a:lnTo>
                            <a:lnTo>
                              <a:pt x="1482" y="6267"/>
                            </a:lnTo>
                            <a:lnTo>
                              <a:pt x="1421" y="6267"/>
                            </a:lnTo>
                            <a:lnTo>
                              <a:pt x="1359" y="6273"/>
                            </a:lnTo>
                            <a:lnTo>
                              <a:pt x="1297" y="6281"/>
                            </a:lnTo>
                            <a:lnTo>
                              <a:pt x="1233" y="6295"/>
                            </a:lnTo>
                            <a:lnTo>
                              <a:pt x="1168" y="6310"/>
                            </a:lnTo>
                            <a:lnTo>
                              <a:pt x="1147" y="6260"/>
                            </a:lnTo>
                            <a:lnTo>
                              <a:pt x="1133" y="6209"/>
                            </a:lnTo>
                            <a:lnTo>
                              <a:pt x="1132" y="6158"/>
                            </a:lnTo>
                            <a:lnTo>
                              <a:pt x="1135" y="6110"/>
                            </a:lnTo>
                            <a:lnTo>
                              <a:pt x="1145" y="6061"/>
                            </a:lnTo>
                            <a:lnTo>
                              <a:pt x="1163" y="6014"/>
                            </a:lnTo>
                            <a:lnTo>
                              <a:pt x="1182" y="5967"/>
                            </a:lnTo>
                            <a:lnTo>
                              <a:pt x="1205" y="5919"/>
                            </a:lnTo>
                            <a:lnTo>
                              <a:pt x="1231" y="5872"/>
                            </a:lnTo>
                            <a:lnTo>
                              <a:pt x="1258" y="5825"/>
                            </a:lnTo>
                            <a:lnTo>
                              <a:pt x="1283" y="5778"/>
                            </a:lnTo>
                            <a:lnTo>
                              <a:pt x="1309" y="5730"/>
                            </a:lnTo>
                            <a:lnTo>
                              <a:pt x="1332" y="5681"/>
                            </a:lnTo>
                            <a:lnTo>
                              <a:pt x="1349" y="5630"/>
                            </a:lnTo>
                            <a:lnTo>
                              <a:pt x="1363" y="5580"/>
                            </a:lnTo>
                            <a:lnTo>
                              <a:pt x="1371" y="5529"/>
                            </a:lnTo>
                            <a:lnTo>
                              <a:pt x="1380" y="5482"/>
                            </a:lnTo>
                            <a:lnTo>
                              <a:pt x="1388" y="5433"/>
                            </a:lnTo>
                            <a:lnTo>
                              <a:pt x="1394" y="5385"/>
                            </a:lnTo>
                            <a:lnTo>
                              <a:pt x="1402" y="5336"/>
                            </a:lnTo>
                            <a:lnTo>
                              <a:pt x="1408" y="5287"/>
                            </a:lnTo>
                            <a:lnTo>
                              <a:pt x="1412" y="5239"/>
                            </a:lnTo>
                            <a:lnTo>
                              <a:pt x="1417" y="5188"/>
                            </a:lnTo>
                            <a:lnTo>
                              <a:pt x="1421" y="5137"/>
                            </a:lnTo>
                            <a:lnTo>
                              <a:pt x="1423" y="5089"/>
                            </a:lnTo>
                            <a:lnTo>
                              <a:pt x="1427" y="5038"/>
                            </a:lnTo>
                            <a:lnTo>
                              <a:pt x="1429" y="4987"/>
                            </a:lnTo>
                            <a:lnTo>
                              <a:pt x="1431" y="4935"/>
                            </a:lnTo>
                            <a:lnTo>
                              <a:pt x="1431" y="4884"/>
                            </a:lnTo>
                            <a:lnTo>
                              <a:pt x="1433" y="4833"/>
                            </a:lnTo>
                            <a:lnTo>
                              <a:pt x="1433" y="4781"/>
                            </a:lnTo>
                            <a:lnTo>
                              <a:pt x="1433" y="4730"/>
                            </a:lnTo>
                            <a:lnTo>
                              <a:pt x="1433" y="4677"/>
                            </a:lnTo>
                            <a:lnTo>
                              <a:pt x="1433" y="4627"/>
                            </a:lnTo>
                            <a:lnTo>
                              <a:pt x="1431" y="4574"/>
                            </a:lnTo>
                            <a:lnTo>
                              <a:pt x="1431" y="4523"/>
                            </a:lnTo>
                            <a:lnTo>
                              <a:pt x="1429" y="4471"/>
                            </a:lnTo>
                            <a:lnTo>
                              <a:pt x="1427" y="4420"/>
                            </a:lnTo>
                            <a:lnTo>
                              <a:pt x="1425" y="4367"/>
                            </a:lnTo>
                            <a:lnTo>
                              <a:pt x="1423" y="4317"/>
                            </a:lnTo>
                            <a:lnTo>
                              <a:pt x="1421" y="4264"/>
                            </a:lnTo>
                            <a:lnTo>
                              <a:pt x="1419" y="4214"/>
                            </a:lnTo>
                            <a:lnTo>
                              <a:pt x="1419" y="4161"/>
                            </a:lnTo>
                            <a:lnTo>
                              <a:pt x="1417" y="4110"/>
                            </a:lnTo>
                            <a:lnTo>
                              <a:pt x="1415" y="4060"/>
                            </a:lnTo>
                            <a:lnTo>
                              <a:pt x="1414" y="4009"/>
                            </a:lnTo>
                            <a:lnTo>
                              <a:pt x="1412" y="3958"/>
                            </a:lnTo>
                            <a:lnTo>
                              <a:pt x="1410" y="3908"/>
                            </a:lnTo>
                            <a:lnTo>
                              <a:pt x="1439" y="3935"/>
                            </a:lnTo>
                            <a:lnTo>
                              <a:pt x="1462" y="3962"/>
                            </a:lnTo>
                            <a:lnTo>
                              <a:pt x="1484" y="3991"/>
                            </a:lnTo>
                            <a:lnTo>
                              <a:pt x="1501" y="4021"/>
                            </a:lnTo>
                            <a:lnTo>
                              <a:pt x="1517" y="4052"/>
                            </a:lnTo>
                            <a:lnTo>
                              <a:pt x="1530" y="4083"/>
                            </a:lnTo>
                            <a:lnTo>
                              <a:pt x="1542" y="4116"/>
                            </a:lnTo>
                            <a:lnTo>
                              <a:pt x="1554" y="4147"/>
                            </a:lnTo>
                            <a:lnTo>
                              <a:pt x="1561" y="4180"/>
                            </a:lnTo>
                            <a:lnTo>
                              <a:pt x="1571" y="4214"/>
                            </a:lnTo>
                            <a:lnTo>
                              <a:pt x="1579" y="4247"/>
                            </a:lnTo>
                            <a:lnTo>
                              <a:pt x="1589" y="4282"/>
                            </a:lnTo>
                            <a:lnTo>
                              <a:pt x="1598" y="4315"/>
                            </a:lnTo>
                            <a:lnTo>
                              <a:pt x="1608" y="4348"/>
                            </a:lnTo>
                            <a:lnTo>
                              <a:pt x="1620" y="4379"/>
                            </a:lnTo>
                            <a:lnTo>
                              <a:pt x="1633" y="4412"/>
                            </a:lnTo>
                            <a:lnTo>
                              <a:pt x="1688" y="4412"/>
                            </a:lnTo>
                            <a:lnTo>
                              <a:pt x="1701" y="4360"/>
                            </a:lnTo>
                            <a:lnTo>
                              <a:pt x="1709" y="4309"/>
                            </a:lnTo>
                            <a:lnTo>
                              <a:pt x="1711" y="4260"/>
                            </a:lnTo>
                            <a:lnTo>
                              <a:pt x="1711" y="4214"/>
                            </a:lnTo>
                            <a:lnTo>
                              <a:pt x="1705" y="4167"/>
                            </a:lnTo>
                            <a:lnTo>
                              <a:pt x="1696" y="4122"/>
                            </a:lnTo>
                            <a:lnTo>
                              <a:pt x="1684" y="4079"/>
                            </a:lnTo>
                            <a:lnTo>
                              <a:pt x="1666" y="4036"/>
                            </a:lnTo>
                            <a:lnTo>
                              <a:pt x="1649" y="3993"/>
                            </a:lnTo>
                            <a:lnTo>
                              <a:pt x="1628" y="3952"/>
                            </a:lnTo>
                            <a:lnTo>
                              <a:pt x="1604" y="3911"/>
                            </a:lnTo>
                            <a:lnTo>
                              <a:pt x="1579" y="3872"/>
                            </a:lnTo>
                            <a:lnTo>
                              <a:pt x="1552" y="3832"/>
                            </a:lnTo>
                            <a:lnTo>
                              <a:pt x="1524" y="3793"/>
                            </a:lnTo>
                            <a:lnTo>
                              <a:pt x="1495" y="3754"/>
                            </a:lnTo>
                            <a:lnTo>
                              <a:pt x="1468" y="3715"/>
                            </a:lnTo>
                            <a:lnTo>
                              <a:pt x="1439" y="3676"/>
                            </a:lnTo>
                            <a:lnTo>
                              <a:pt x="1410" y="3637"/>
                            </a:lnTo>
                            <a:lnTo>
                              <a:pt x="1380" y="3598"/>
                            </a:lnTo>
                            <a:lnTo>
                              <a:pt x="1353" y="3557"/>
                            </a:lnTo>
                            <a:lnTo>
                              <a:pt x="1328" y="3516"/>
                            </a:lnTo>
                            <a:lnTo>
                              <a:pt x="1303" y="3475"/>
                            </a:lnTo>
                            <a:lnTo>
                              <a:pt x="1281" y="3434"/>
                            </a:lnTo>
                            <a:lnTo>
                              <a:pt x="1262" y="3391"/>
                            </a:lnTo>
                            <a:lnTo>
                              <a:pt x="1244" y="3346"/>
                            </a:lnTo>
                            <a:lnTo>
                              <a:pt x="1229" y="3302"/>
                            </a:lnTo>
                            <a:lnTo>
                              <a:pt x="1217" y="3255"/>
                            </a:lnTo>
                            <a:lnTo>
                              <a:pt x="1209" y="3208"/>
                            </a:lnTo>
                            <a:lnTo>
                              <a:pt x="1207" y="3159"/>
                            </a:lnTo>
                            <a:lnTo>
                              <a:pt x="1207" y="3109"/>
                            </a:lnTo>
                            <a:lnTo>
                              <a:pt x="1213" y="3056"/>
                            </a:lnTo>
                            <a:lnTo>
                              <a:pt x="1223" y="3001"/>
                            </a:lnTo>
                            <a:lnTo>
                              <a:pt x="1227" y="2941"/>
                            </a:lnTo>
                            <a:lnTo>
                              <a:pt x="1231" y="2881"/>
                            </a:lnTo>
                            <a:lnTo>
                              <a:pt x="1235" y="2820"/>
                            </a:lnTo>
                            <a:lnTo>
                              <a:pt x="1239" y="2760"/>
                            </a:lnTo>
                            <a:lnTo>
                              <a:pt x="1242" y="2699"/>
                            </a:lnTo>
                            <a:lnTo>
                              <a:pt x="1246" y="2639"/>
                            </a:lnTo>
                            <a:lnTo>
                              <a:pt x="1250" y="2579"/>
                            </a:lnTo>
                            <a:lnTo>
                              <a:pt x="1254" y="2518"/>
                            </a:lnTo>
                            <a:lnTo>
                              <a:pt x="1258" y="2458"/>
                            </a:lnTo>
                            <a:lnTo>
                              <a:pt x="1262" y="2395"/>
                            </a:lnTo>
                            <a:lnTo>
                              <a:pt x="1266" y="2335"/>
                            </a:lnTo>
                            <a:lnTo>
                              <a:pt x="1270" y="2275"/>
                            </a:lnTo>
                            <a:lnTo>
                              <a:pt x="1274" y="2214"/>
                            </a:lnTo>
                            <a:lnTo>
                              <a:pt x="1277" y="2156"/>
                            </a:lnTo>
                            <a:lnTo>
                              <a:pt x="1281" y="2095"/>
                            </a:lnTo>
                            <a:lnTo>
                              <a:pt x="1287" y="2035"/>
                            </a:lnTo>
                            <a:lnTo>
                              <a:pt x="1293" y="1974"/>
                            </a:lnTo>
                            <a:lnTo>
                              <a:pt x="1299" y="1914"/>
                            </a:lnTo>
                            <a:lnTo>
                              <a:pt x="1305" y="1856"/>
                            </a:lnTo>
                            <a:lnTo>
                              <a:pt x="1310" y="1795"/>
                            </a:lnTo>
                            <a:lnTo>
                              <a:pt x="1318" y="1737"/>
                            </a:lnTo>
                            <a:lnTo>
                              <a:pt x="1324" y="1678"/>
                            </a:lnTo>
                            <a:lnTo>
                              <a:pt x="1332" y="1620"/>
                            </a:lnTo>
                            <a:lnTo>
                              <a:pt x="1342" y="1559"/>
                            </a:lnTo>
                            <a:lnTo>
                              <a:pt x="1349" y="1503"/>
                            </a:lnTo>
                            <a:lnTo>
                              <a:pt x="1359" y="1444"/>
                            </a:lnTo>
                            <a:lnTo>
                              <a:pt x="1371" y="1386"/>
                            </a:lnTo>
                            <a:lnTo>
                              <a:pt x="1380" y="1329"/>
                            </a:lnTo>
                            <a:lnTo>
                              <a:pt x="1392" y="1271"/>
                            </a:lnTo>
                            <a:lnTo>
                              <a:pt x="1406" y="1214"/>
                            </a:lnTo>
                            <a:lnTo>
                              <a:pt x="1419" y="1158"/>
                            </a:lnTo>
                            <a:lnTo>
                              <a:pt x="1433" y="1101"/>
                            </a:lnTo>
                            <a:lnTo>
                              <a:pt x="1470" y="1084"/>
                            </a:lnTo>
                            <a:lnTo>
                              <a:pt x="1509" y="1066"/>
                            </a:lnTo>
                            <a:lnTo>
                              <a:pt x="1550" y="1053"/>
                            </a:lnTo>
                            <a:lnTo>
                              <a:pt x="1592" y="1039"/>
                            </a:lnTo>
                            <a:lnTo>
                              <a:pt x="1635" y="1027"/>
                            </a:lnTo>
                            <a:lnTo>
                              <a:pt x="1680" y="1020"/>
                            </a:lnTo>
                            <a:lnTo>
                              <a:pt x="1725" y="1012"/>
                            </a:lnTo>
                            <a:lnTo>
                              <a:pt x="1769" y="1008"/>
                            </a:lnTo>
                            <a:lnTo>
                              <a:pt x="1814" y="1004"/>
                            </a:lnTo>
                            <a:lnTo>
                              <a:pt x="1861" y="1004"/>
                            </a:lnTo>
                            <a:lnTo>
                              <a:pt x="1906" y="1008"/>
                            </a:lnTo>
                            <a:lnTo>
                              <a:pt x="1948" y="1012"/>
                            </a:lnTo>
                            <a:lnTo>
                              <a:pt x="1993" y="1021"/>
                            </a:lnTo>
                            <a:lnTo>
                              <a:pt x="2034" y="1031"/>
                            </a:lnTo>
                            <a:lnTo>
                              <a:pt x="2075" y="1045"/>
                            </a:lnTo>
                            <a:lnTo>
                              <a:pt x="2114" y="1062"/>
                            </a:lnTo>
                            <a:lnTo>
                              <a:pt x="2123" y="1055"/>
                            </a:lnTo>
                            <a:lnTo>
                              <a:pt x="2131" y="1047"/>
                            </a:lnTo>
                            <a:lnTo>
                              <a:pt x="2139" y="1037"/>
                            </a:lnTo>
                            <a:lnTo>
                              <a:pt x="2147" y="1029"/>
                            </a:lnTo>
                            <a:lnTo>
                              <a:pt x="2153" y="1021"/>
                            </a:lnTo>
                            <a:lnTo>
                              <a:pt x="2157" y="1010"/>
                            </a:lnTo>
                            <a:lnTo>
                              <a:pt x="2157" y="1000"/>
                            </a:lnTo>
                            <a:lnTo>
                              <a:pt x="2153" y="986"/>
                            </a:lnTo>
                            <a:lnTo>
                              <a:pt x="2127" y="977"/>
                            </a:lnTo>
                            <a:lnTo>
                              <a:pt x="2104" y="965"/>
                            </a:lnTo>
                            <a:lnTo>
                              <a:pt x="2079" y="955"/>
                            </a:lnTo>
                            <a:lnTo>
                              <a:pt x="2053" y="945"/>
                            </a:lnTo>
                            <a:lnTo>
                              <a:pt x="2030" y="936"/>
                            </a:lnTo>
                            <a:lnTo>
                              <a:pt x="2005" y="926"/>
                            </a:lnTo>
                            <a:lnTo>
                              <a:pt x="1980" y="918"/>
                            </a:lnTo>
                            <a:lnTo>
                              <a:pt x="1954" y="910"/>
                            </a:lnTo>
                            <a:lnTo>
                              <a:pt x="1927" y="903"/>
                            </a:lnTo>
                            <a:lnTo>
                              <a:pt x="1902" y="899"/>
                            </a:lnTo>
                            <a:lnTo>
                              <a:pt x="1875" y="893"/>
                            </a:lnTo>
                            <a:lnTo>
                              <a:pt x="1845" y="889"/>
                            </a:lnTo>
                            <a:lnTo>
                              <a:pt x="1818" y="889"/>
                            </a:lnTo>
                            <a:lnTo>
                              <a:pt x="1789" y="887"/>
                            </a:lnTo>
                            <a:lnTo>
                              <a:pt x="1758" y="889"/>
                            </a:lnTo>
                            <a:lnTo>
                              <a:pt x="1727" y="893"/>
                            </a:lnTo>
                            <a:lnTo>
                              <a:pt x="1756" y="877"/>
                            </a:lnTo>
                            <a:lnTo>
                              <a:pt x="1785" y="864"/>
                            </a:lnTo>
                            <a:lnTo>
                              <a:pt x="1816" y="850"/>
                            </a:lnTo>
                            <a:lnTo>
                              <a:pt x="1849" y="836"/>
                            </a:lnTo>
                            <a:lnTo>
                              <a:pt x="1882" y="823"/>
                            </a:lnTo>
                            <a:lnTo>
                              <a:pt x="1915" y="811"/>
                            </a:lnTo>
                            <a:lnTo>
                              <a:pt x="1950" y="801"/>
                            </a:lnTo>
                            <a:lnTo>
                              <a:pt x="1985" y="793"/>
                            </a:lnTo>
                            <a:lnTo>
                              <a:pt x="2020" y="788"/>
                            </a:lnTo>
                            <a:lnTo>
                              <a:pt x="2055" y="784"/>
                            </a:lnTo>
                            <a:lnTo>
                              <a:pt x="2088" y="782"/>
                            </a:lnTo>
                            <a:lnTo>
                              <a:pt x="2122" y="784"/>
                            </a:lnTo>
                            <a:lnTo>
                              <a:pt x="2155" y="788"/>
                            </a:lnTo>
                            <a:lnTo>
                              <a:pt x="2186" y="795"/>
                            </a:lnTo>
                            <a:lnTo>
                              <a:pt x="2215" y="807"/>
                            </a:lnTo>
                            <a:lnTo>
                              <a:pt x="2244" y="823"/>
                            </a:lnTo>
                            <a:lnTo>
                              <a:pt x="2254" y="811"/>
                            </a:lnTo>
                            <a:lnTo>
                              <a:pt x="2265" y="801"/>
                            </a:lnTo>
                            <a:lnTo>
                              <a:pt x="2277" y="792"/>
                            </a:lnTo>
                            <a:lnTo>
                              <a:pt x="2289" y="782"/>
                            </a:lnTo>
                            <a:lnTo>
                              <a:pt x="2299" y="772"/>
                            </a:lnTo>
                            <a:lnTo>
                              <a:pt x="2302" y="758"/>
                            </a:lnTo>
                            <a:lnTo>
                              <a:pt x="2304" y="745"/>
                            </a:lnTo>
                            <a:lnTo>
                              <a:pt x="2299" y="729"/>
                            </a:lnTo>
                            <a:lnTo>
                              <a:pt x="2244" y="702"/>
                            </a:lnTo>
                            <a:lnTo>
                              <a:pt x="2192" y="684"/>
                            </a:lnTo>
                            <a:lnTo>
                              <a:pt x="2137" y="673"/>
                            </a:lnTo>
                            <a:lnTo>
                              <a:pt x="2083" y="669"/>
                            </a:lnTo>
                            <a:lnTo>
                              <a:pt x="2028" y="673"/>
                            </a:lnTo>
                            <a:lnTo>
                              <a:pt x="1974" y="680"/>
                            </a:lnTo>
                            <a:lnTo>
                              <a:pt x="1919" y="694"/>
                            </a:lnTo>
                            <a:lnTo>
                              <a:pt x="1865" y="712"/>
                            </a:lnTo>
                            <a:lnTo>
                              <a:pt x="1810" y="733"/>
                            </a:lnTo>
                            <a:lnTo>
                              <a:pt x="1758" y="758"/>
                            </a:lnTo>
                            <a:lnTo>
                              <a:pt x="1705" y="784"/>
                            </a:lnTo>
                            <a:lnTo>
                              <a:pt x="1653" y="811"/>
                            </a:lnTo>
                            <a:lnTo>
                              <a:pt x="1600" y="838"/>
                            </a:lnTo>
                            <a:lnTo>
                              <a:pt x="1550" y="866"/>
                            </a:lnTo>
                            <a:lnTo>
                              <a:pt x="1499" y="891"/>
                            </a:lnTo>
                            <a:lnTo>
                              <a:pt x="1449" y="916"/>
                            </a:lnTo>
                            <a:lnTo>
                              <a:pt x="1462" y="304"/>
                            </a:lnTo>
                            <a:lnTo>
                              <a:pt x="1452" y="299"/>
                            </a:lnTo>
                            <a:lnTo>
                              <a:pt x="1443" y="289"/>
                            </a:lnTo>
                            <a:lnTo>
                              <a:pt x="1433" y="281"/>
                            </a:lnTo>
                            <a:lnTo>
                              <a:pt x="1423" y="273"/>
                            </a:lnTo>
                            <a:lnTo>
                              <a:pt x="1412" y="267"/>
                            </a:lnTo>
                            <a:lnTo>
                              <a:pt x="1400" y="263"/>
                            </a:lnTo>
                            <a:lnTo>
                              <a:pt x="1386" y="261"/>
                            </a:lnTo>
                            <a:lnTo>
                              <a:pt x="1371" y="265"/>
                            </a:lnTo>
                            <a:lnTo>
                              <a:pt x="1345" y="314"/>
                            </a:lnTo>
                            <a:lnTo>
                              <a:pt x="1328" y="365"/>
                            </a:lnTo>
                            <a:lnTo>
                              <a:pt x="1314" y="417"/>
                            </a:lnTo>
                            <a:lnTo>
                              <a:pt x="1307" y="472"/>
                            </a:lnTo>
                            <a:lnTo>
                              <a:pt x="1301" y="528"/>
                            </a:lnTo>
                            <a:lnTo>
                              <a:pt x="1299" y="587"/>
                            </a:lnTo>
                            <a:lnTo>
                              <a:pt x="1299" y="645"/>
                            </a:lnTo>
                            <a:lnTo>
                              <a:pt x="1301" y="704"/>
                            </a:lnTo>
                            <a:lnTo>
                              <a:pt x="1301" y="764"/>
                            </a:lnTo>
                            <a:lnTo>
                              <a:pt x="1301" y="825"/>
                            </a:lnTo>
                            <a:lnTo>
                              <a:pt x="1301" y="883"/>
                            </a:lnTo>
                            <a:lnTo>
                              <a:pt x="1297" y="940"/>
                            </a:lnTo>
                            <a:lnTo>
                              <a:pt x="1291" y="998"/>
                            </a:lnTo>
                            <a:lnTo>
                              <a:pt x="1281" y="1053"/>
                            </a:lnTo>
                            <a:lnTo>
                              <a:pt x="1266" y="1105"/>
                            </a:lnTo>
                            <a:lnTo>
                              <a:pt x="1246" y="1156"/>
                            </a:lnTo>
                            <a:lnTo>
                              <a:pt x="1207" y="1150"/>
                            </a:lnTo>
                            <a:lnTo>
                              <a:pt x="1170" y="1135"/>
                            </a:lnTo>
                            <a:lnTo>
                              <a:pt x="1139" y="1115"/>
                            </a:lnTo>
                            <a:lnTo>
                              <a:pt x="1110" y="1090"/>
                            </a:lnTo>
                            <a:lnTo>
                              <a:pt x="1085" y="1060"/>
                            </a:lnTo>
                            <a:lnTo>
                              <a:pt x="1065" y="1027"/>
                            </a:lnTo>
                            <a:lnTo>
                              <a:pt x="1050" y="992"/>
                            </a:lnTo>
                            <a:lnTo>
                              <a:pt x="1038" y="955"/>
                            </a:lnTo>
                            <a:lnTo>
                              <a:pt x="1032" y="903"/>
                            </a:lnTo>
                            <a:lnTo>
                              <a:pt x="1030" y="850"/>
                            </a:lnTo>
                            <a:lnTo>
                              <a:pt x="1034" y="799"/>
                            </a:lnTo>
                            <a:lnTo>
                              <a:pt x="1040" y="749"/>
                            </a:lnTo>
                            <a:lnTo>
                              <a:pt x="1050" y="698"/>
                            </a:lnTo>
                            <a:lnTo>
                              <a:pt x="1060" y="647"/>
                            </a:lnTo>
                            <a:lnTo>
                              <a:pt x="1069" y="597"/>
                            </a:lnTo>
                            <a:lnTo>
                              <a:pt x="1079" y="548"/>
                            </a:lnTo>
                            <a:lnTo>
                              <a:pt x="1087" y="499"/>
                            </a:lnTo>
                            <a:lnTo>
                              <a:pt x="1093" y="451"/>
                            </a:lnTo>
                            <a:lnTo>
                              <a:pt x="1095" y="404"/>
                            </a:lnTo>
                            <a:lnTo>
                              <a:pt x="1093" y="355"/>
                            </a:lnTo>
                            <a:lnTo>
                              <a:pt x="1085" y="308"/>
                            </a:lnTo>
                            <a:lnTo>
                              <a:pt x="1071" y="263"/>
                            </a:lnTo>
                            <a:lnTo>
                              <a:pt x="1052" y="217"/>
                            </a:lnTo>
                            <a:lnTo>
                              <a:pt x="1023" y="172"/>
                            </a:lnTo>
                            <a:lnTo>
                              <a:pt x="1007" y="193"/>
                            </a:lnTo>
                            <a:lnTo>
                              <a:pt x="993" y="217"/>
                            </a:lnTo>
                            <a:lnTo>
                              <a:pt x="984" y="242"/>
                            </a:lnTo>
                            <a:lnTo>
                              <a:pt x="974" y="267"/>
                            </a:lnTo>
                            <a:lnTo>
                              <a:pt x="968" y="295"/>
                            </a:lnTo>
                            <a:lnTo>
                              <a:pt x="962" y="322"/>
                            </a:lnTo>
                            <a:lnTo>
                              <a:pt x="958" y="351"/>
                            </a:lnTo>
                            <a:lnTo>
                              <a:pt x="956" y="380"/>
                            </a:lnTo>
                            <a:lnTo>
                              <a:pt x="953" y="412"/>
                            </a:lnTo>
                            <a:lnTo>
                              <a:pt x="949" y="441"/>
                            </a:lnTo>
                            <a:lnTo>
                              <a:pt x="945" y="472"/>
                            </a:lnTo>
                            <a:lnTo>
                              <a:pt x="941" y="501"/>
                            </a:lnTo>
                            <a:lnTo>
                              <a:pt x="935" y="530"/>
                            </a:lnTo>
                            <a:lnTo>
                              <a:pt x="927" y="560"/>
                            </a:lnTo>
                            <a:lnTo>
                              <a:pt x="918" y="587"/>
                            </a:lnTo>
                            <a:lnTo>
                              <a:pt x="906" y="614"/>
                            </a:lnTo>
                            <a:lnTo>
                              <a:pt x="886" y="601"/>
                            </a:lnTo>
                            <a:lnTo>
                              <a:pt x="867" y="587"/>
                            </a:lnTo>
                            <a:lnTo>
                              <a:pt x="844" y="575"/>
                            </a:lnTo>
                            <a:lnTo>
                              <a:pt x="818" y="562"/>
                            </a:lnTo>
                            <a:lnTo>
                              <a:pt x="791" y="550"/>
                            </a:lnTo>
                            <a:lnTo>
                              <a:pt x="762" y="540"/>
                            </a:lnTo>
                            <a:lnTo>
                              <a:pt x="733" y="528"/>
                            </a:lnTo>
                            <a:lnTo>
                              <a:pt x="704" y="521"/>
                            </a:lnTo>
                            <a:lnTo>
                              <a:pt x="671" y="513"/>
                            </a:lnTo>
                            <a:lnTo>
                              <a:pt x="639" y="507"/>
                            </a:lnTo>
                            <a:lnTo>
                              <a:pt x="606" y="503"/>
                            </a:lnTo>
                            <a:lnTo>
                              <a:pt x="573" y="503"/>
                            </a:lnTo>
                            <a:lnTo>
                              <a:pt x="540" y="503"/>
                            </a:lnTo>
                            <a:lnTo>
                              <a:pt x="507" y="507"/>
                            </a:lnTo>
                            <a:lnTo>
                              <a:pt x="474" y="513"/>
                            </a:lnTo>
                            <a:lnTo>
                              <a:pt x="441" y="521"/>
                            </a:lnTo>
                            <a:lnTo>
                              <a:pt x="406" y="527"/>
                            </a:lnTo>
                            <a:lnTo>
                              <a:pt x="381" y="544"/>
                            </a:lnTo>
                            <a:lnTo>
                              <a:pt x="365" y="569"/>
                            </a:lnTo>
                            <a:lnTo>
                              <a:pt x="355" y="599"/>
                            </a:lnTo>
                            <a:lnTo>
                              <a:pt x="354" y="634"/>
                            </a:lnTo>
                            <a:lnTo>
                              <a:pt x="355" y="669"/>
                            </a:lnTo>
                            <a:lnTo>
                              <a:pt x="363" y="700"/>
                            </a:lnTo>
                            <a:lnTo>
                              <a:pt x="373" y="729"/>
                            </a:lnTo>
                            <a:lnTo>
                              <a:pt x="402" y="753"/>
                            </a:lnTo>
                            <a:lnTo>
                              <a:pt x="431" y="768"/>
                            </a:lnTo>
                            <a:lnTo>
                              <a:pt x="462" y="776"/>
                            </a:lnTo>
                            <a:lnTo>
                              <a:pt x="496" y="782"/>
                            </a:lnTo>
                            <a:lnTo>
                              <a:pt x="529" y="782"/>
                            </a:lnTo>
                            <a:lnTo>
                              <a:pt x="564" y="780"/>
                            </a:lnTo>
                            <a:lnTo>
                              <a:pt x="599" y="778"/>
                            </a:lnTo>
                            <a:lnTo>
                              <a:pt x="634" y="772"/>
                            </a:lnTo>
                            <a:lnTo>
                              <a:pt x="669" y="768"/>
                            </a:lnTo>
                            <a:lnTo>
                              <a:pt x="704" y="766"/>
                            </a:lnTo>
                            <a:lnTo>
                              <a:pt x="739" y="766"/>
                            </a:lnTo>
                            <a:lnTo>
                              <a:pt x="772" y="770"/>
                            </a:lnTo>
                            <a:lnTo>
                              <a:pt x="803" y="778"/>
                            </a:lnTo>
                            <a:lnTo>
                              <a:pt x="834" y="792"/>
                            </a:lnTo>
                            <a:lnTo>
                              <a:pt x="863" y="811"/>
                            </a:lnTo>
                            <a:lnTo>
                              <a:pt x="890" y="838"/>
                            </a:lnTo>
                            <a:lnTo>
                              <a:pt x="890" y="866"/>
                            </a:lnTo>
                            <a:lnTo>
                              <a:pt x="890" y="893"/>
                            </a:lnTo>
                            <a:lnTo>
                              <a:pt x="894" y="918"/>
                            </a:lnTo>
                            <a:lnTo>
                              <a:pt x="898" y="944"/>
                            </a:lnTo>
                            <a:lnTo>
                              <a:pt x="904" y="969"/>
                            </a:lnTo>
                            <a:lnTo>
                              <a:pt x="912" y="992"/>
                            </a:lnTo>
                            <a:lnTo>
                              <a:pt x="920" y="1016"/>
                            </a:lnTo>
                            <a:lnTo>
                              <a:pt x="929" y="1039"/>
                            </a:lnTo>
                            <a:lnTo>
                              <a:pt x="941" y="1062"/>
                            </a:lnTo>
                            <a:lnTo>
                              <a:pt x="953" y="1084"/>
                            </a:lnTo>
                            <a:lnTo>
                              <a:pt x="964" y="1105"/>
                            </a:lnTo>
                            <a:lnTo>
                              <a:pt x="978" y="1127"/>
                            </a:lnTo>
                            <a:lnTo>
                              <a:pt x="991" y="1148"/>
                            </a:lnTo>
                            <a:lnTo>
                              <a:pt x="1007" y="1170"/>
                            </a:lnTo>
                            <a:lnTo>
                              <a:pt x="1023" y="1189"/>
                            </a:lnTo>
                            <a:lnTo>
                              <a:pt x="1038" y="1211"/>
                            </a:lnTo>
                            <a:lnTo>
                              <a:pt x="1223" y="1304"/>
                            </a:lnTo>
                            <a:lnTo>
                              <a:pt x="1211" y="1368"/>
                            </a:lnTo>
                            <a:lnTo>
                              <a:pt x="1202" y="1431"/>
                            </a:lnTo>
                            <a:lnTo>
                              <a:pt x="1192" y="1495"/>
                            </a:lnTo>
                            <a:lnTo>
                              <a:pt x="1182" y="1559"/>
                            </a:lnTo>
                            <a:lnTo>
                              <a:pt x="1174" y="1626"/>
                            </a:lnTo>
                            <a:lnTo>
                              <a:pt x="1167" y="1690"/>
                            </a:lnTo>
                            <a:lnTo>
                              <a:pt x="1159" y="1756"/>
                            </a:lnTo>
                            <a:lnTo>
                              <a:pt x="1151" y="1822"/>
                            </a:lnTo>
                            <a:lnTo>
                              <a:pt x="1143" y="1889"/>
                            </a:lnTo>
                            <a:lnTo>
                              <a:pt x="1137" y="1955"/>
                            </a:lnTo>
                            <a:lnTo>
                              <a:pt x="1132" y="2021"/>
                            </a:lnTo>
                            <a:lnTo>
                              <a:pt x="1126" y="2089"/>
                            </a:lnTo>
                            <a:lnTo>
                              <a:pt x="1120" y="2156"/>
                            </a:lnTo>
                            <a:lnTo>
                              <a:pt x="1116" y="2222"/>
                            </a:lnTo>
                            <a:lnTo>
                              <a:pt x="1112" y="2290"/>
                            </a:lnTo>
                            <a:lnTo>
                              <a:pt x="1108" y="2356"/>
                            </a:lnTo>
                            <a:lnTo>
                              <a:pt x="1104" y="2425"/>
                            </a:lnTo>
                            <a:lnTo>
                              <a:pt x="1102" y="2493"/>
                            </a:lnTo>
                            <a:lnTo>
                              <a:pt x="1100" y="2559"/>
                            </a:lnTo>
                            <a:lnTo>
                              <a:pt x="1098" y="2627"/>
                            </a:lnTo>
                            <a:lnTo>
                              <a:pt x="1097" y="2695"/>
                            </a:lnTo>
                            <a:lnTo>
                              <a:pt x="1097" y="2762"/>
                            </a:lnTo>
                            <a:lnTo>
                              <a:pt x="1097" y="2830"/>
                            </a:lnTo>
                            <a:lnTo>
                              <a:pt x="1097" y="2896"/>
                            </a:lnTo>
                            <a:lnTo>
                              <a:pt x="1097" y="2964"/>
                            </a:lnTo>
                            <a:lnTo>
                              <a:pt x="1097" y="3031"/>
                            </a:lnTo>
                            <a:lnTo>
                              <a:pt x="1098" y="3097"/>
                            </a:lnTo>
                            <a:lnTo>
                              <a:pt x="1100" y="3165"/>
                            </a:lnTo>
                            <a:lnTo>
                              <a:pt x="1104" y="3231"/>
                            </a:lnTo>
                            <a:lnTo>
                              <a:pt x="1106" y="3298"/>
                            </a:lnTo>
                            <a:lnTo>
                              <a:pt x="1110" y="3362"/>
                            </a:lnTo>
                            <a:lnTo>
                              <a:pt x="1114" y="3428"/>
                            </a:lnTo>
                            <a:lnTo>
                              <a:pt x="1137" y="3489"/>
                            </a:lnTo>
                            <a:lnTo>
                              <a:pt x="1159" y="3551"/>
                            </a:lnTo>
                            <a:lnTo>
                              <a:pt x="1176" y="3611"/>
                            </a:lnTo>
                            <a:lnTo>
                              <a:pt x="1194" y="3672"/>
                            </a:lnTo>
                            <a:lnTo>
                              <a:pt x="1207" y="3734"/>
                            </a:lnTo>
                            <a:lnTo>
                              <a:pt x="1221" y="3795"/>
                            </a:lnTo>
                            <a:lnTo>
                              <a:pt x="1233" y="3857"/>
                            </a:lnTo>
                            <a:lnTo>
                              <a:pt x="1242" y="3917"/>
                            </a:lnTo>
                            <a:lnTo>
                              <a:pt x="1250" y="3980"/>
                            </a:lnTo>
                            <a:lnTo>
                              <a:pt x="1258" y="4040"/>
                            </a:lnTo>
                            <a:lnTo>
                              <a:pt x="1264" y="4102"/>
                            </a:lnTo>
                            <a:lnTo>
                              <a:pt x="1268" y="4165"/>
                            </a:lnTo>
                            <a:lnTo>
                              <a:pt x="1270" y="4225"/>
                            </a:lnTo>
                            <a:lnTo>
                              <a:pt x="1272" y="4288"/>
                            </a:lnTo>
                            <a:lnTo>
                              <a:pt x="1274" y="4350"/>
                            </a:lnTo>
                            <a:lnTo>
                              <a:pt x="1274" y="4412"/>
                            </a:lnTo>
                            <a:lnTo>
                              <a:pt x="1274" y="4477"/>
                            </a:lnTo>
                            <a:lnTo>
                              <a:pt x="1272" y="4539"/>
                            </a:lnTo>
                            <a:lnTo>
                              <a:pt x="1270" y="4601"/>
                            </a:lnTo>
                            <a:lnTo>
                              <a:pt x="1266" y="4666"/>
                            </a:lnTo>
                            <a:lnTo>
                              <a:pt x="1264" y="4730"/>
                            </a:lnTo>
                            <a:lnTo>
                              <a:pt x="1260" y="4794"/>
                            </a:lnTo>
                            <a:lnTo>
                              <a:pt x="1256" y="4859"/>
                            </a:lnTo>
                            <a:lnTo>
                              <a:pt x="1252" y="4923"/>
                            </a:lnTo>
                            <a:lnTo>
                              <a:pt x="1248" y="4987"/>
                            </a:lnTo>
                            <a:lnTo>
                              <a:pt x="1244" y="5051"/>
                            </a:lnTo>
                            <a:lnTo>
                              <a:pt x="1239" y="5118"/>
                            </a:lnTo>
                            <a:lnTo>
                              <a:pt x="1235" y="5184"/>
                            </a:lnTo>
                            <a:lnTo>
                              <a:pt x="1233" y="5250"/>
                            </a:lnTo>
                            <a:lnTo>
                              <a:pt x="1229" y="5317"/>
                            </a:lnTo>
                            <a:lnTo>
                              <a:pt x="1225" y="5383"/>
                            </a:lnTo>
                            <a:lnTo>
                              <a:pt x="1223" y="5451"/>
                            </a:lnTo>
                            <a:lnTo>
                              <a:pt x="1205" y="5496"/>
                            </a:lnTo>
                            <a:lnTo>
                              <a:pt x="1190" y="5545"/>
                            </a:lnTo>
                            <a:lnTo>
                              <a:pt x="1172" y="5599"/>
                            </a:lnTo>
                            <a:lnTo>
                              <a:pt x="1155" y="5654"/>
                            </a:lnTo>
                            <a:lnTo>
                              <a:pt x="1137" y="5708"/>
                            </a:lnTo>
                            <a:lnTo>
                              <a:pt x="1118" y="5763"/>
                            </a:lnTo>
                            <a:lnTo>
                              <a:pt x="1095" y="5813"/>
                            </a:lnTo>
                            <a:lnTo>
                              <a:pt x="1069" y="5860"/>
                            </a:lnTo>
                            <a:lnTo>
                              <a:pt x="1040" y="5903"/>
                            </a:lnTo>
                            <a:lnTo>
                              <a:pt x="1007" y="5938"/>
                            </a:lnTo>
                            <a:lnTo>
                              <a:pt x="970" y="5963"/>
                            </a:lnTo>
                            <a:lnTo>
                              <a:pt x="927" y="5979"/>
                            </a:lnTo>
                            <a:lnTo>
                              <a:pt x="879" y="5985"/>
                            </a:lnTo>
                            <a:lnTo>
                              <a:pt x="822" y="5977"/>
                            </a:lnTo>
                            <a:lnTo>
                              <a:pt x="760" y="5956"/>
                            </a:lnTo>
                            <a:lnTo>
                              <a:pt x="690" y="5917"/>
                            </a:lnTo>
                            <a:lnTo>
                              <a:pt x="663" y="5897"/>
                            </a:lnTo>
                            <a:lnTo>
                              <a:pt x="639" y="5876"/>
                            </a:lnTo>
                            <a:lnTo>
                              <a:pt x="622" y="5850"/>
                            </a:lnTo>
                            <a:lnTo>
                              <a:pt x="606" y="5823"/>
                            </a:lnTo>
                            <a:lnTo>
                              <a:pt x="595" y="5796"/>
                            </a:lnTo>
                            <a:lnTo>
                              <a:pt x="585" y="5765"/>
                            </a:lnTo>
                            <a:lnTo>
                              <a:pt x="579" y="5732"/>
                            </a:lnTo>
                            <a:lnTo>
                              <a:pt x="577" y="5698"/>
                            </a:lnTo>
                            <a:lnTo>
                              <a:pt x="575" y="5665"/>
                            </a:lnTo>
                            <a:lnTo>
                              <a:pt x="575" y="5632"/>
                            </a:lnTo>
                            <a:lnTo>
                              <a:pt x="577" y="5597"/>
                            </a:lnTo>
                            <a:lnTo>
                              <a:pt x="579" y="5564"/>
                            </a:lnTo>
                            <a:lnTo>
                              <a:pt x="583" y="5529"/>
                            </a:lnTo>
                            <a:lnTo>
                              <a:pt x="587" y="5498"/>
                            </a:lnTo>
                            <a:lnTo>
                              <a:pt x="593" y="5465"/>
                            </a:lnTo>
                            <a:lnTo>
                              <a:pt x="597" y="5435"/>
                            </a:lnTo>
                            <a:lnTo>
                              <a:pt x="612" y="5373"/>
                            </a:lnTo>
                            <a:lnTo>
                              <a:pt x="626" y="5309"/>
                            </a:lnTo>
                            <a:lnTo>
                              <a:pt x="637" y="5244"/>
                            </a:lnTo>
                            <a:lnTo>
                              <a:pt x="651" y="5180"/>
                            </a:lnTo>
                            <a:lnTo>
                              <a:pt x="661" y="5114"/>
                            </a:lnTo>
                            <a:lnTo>
                              <a:pt x="673" y="5048"/>
                            </a:lnTo>
                            <a:lnTo>
                              <a:pt x="680" y="4981"/>
                            </a:lnTo>
                            <a:lnTo>
                              <a:pt x="690" y="4913"/>
                            </a:lnTo>
                            <a:lnTo>
                              <a:pt x="696" y="4847"/>
                            </a:lnTo>
                            <a:lnTo>
                              <a:pt x="702" y="4779"/>
                            </a:lnTo>
                            <a:lnTo>
                              <a:pt x="706" y="4710"/>
                            </a:lnTo>
                            <a:lnTo>
                              <a:pt x="709" y="4644"/>
                            </a:lnTo>
                            <a:lnTo>
                              <a:pt x="711" y="4576"/>
                            </a:lnTo>
                            <a:lnTo>
                              <a:pt x="711" y="4508"/>
                            </a:lnTo>
                            <a:lnTo>
                              <a:pt x="711" y="4440"/>
                            </a:lnTo>
                            <a:lnTo>
                              <a:pt x="708" y="4371"/>
                            </a:lnTo>
                            <a:lnTo>
                              <a:pt x="704" y="4305"/>
                            </a:lnTo>
                            <a:lnTo>
                              <a:pt x="698" y="4239"/>
                            </a:lnTo>
                            <a:lnTo>
                              <a:pt x="692" y="4171"/>
                            </a:lnTo>
                            <a:lnTo>
                              <a:pt x="682" y="4106"/>
                            </a:lnTo>
                            <a:lnTo>
                              <a:pt x="671" y="4040"/>
                            </a:lnTo>
                            <a:lnTo>
                              <a:pt x="659" y="3976"/>
                            </a:lnTo>
                            <a:lnTo>
                              <a:pt x="645" y="3911"/>
                            </a:lnTo>
                            <a:lnTo>
                              <a:pt x="628" y="3847"/>
                            </a:lnTo>
                            <a:lnTo>
                              <a:pt x="610" y="3785"/>
                            </a:lnTo>
                            <a:lnTo>
                              <a:pt x="591" y="3722"/>
                            </a:lnTo>
                            <a:lnTo>
                              <a:pt x="567" y="3662"/>
                            </a:lnTo>
                            <a:lnTo>
                              <a:pt x="544" y="3602"/>
                            </a:lnTo>
                            <a:lnTo>
                              <a:pt x="517" y="3543"/>
                            </a:lnTo>
                            <a:lnTo>
                              <a:pt x="490" y="3485"/>
                            </a:lnTo>
                            <a:lnTo>
                              <a:pt x="459" y="3428"/>
                            </a:lnTo>
                            <a:lnTo>
                              <a:pt x="425" y="3374"/>
                            </a:lnTo>
                            <a:lnTo>
                              <a:pt x="443" y="3303"/>
                            </a:lnTo>
                            <a:lnTo>
                              <a:pt x="457" y="3233"/>
                            </a:lnTo>
                            <a:lnTo>
                              <a:pt x="466" y="3165"/>
                            </a:lnTo>
                            <a:lnTo>
                              <a:pt x="472" y="3097"/>
                            </a:lnTo>
                            <a:lnTo>
                              <a:pt x="476" y="3031"/>
                            </a:lnTo>
                            <a:lnTo>
                              <a:pt x="476" y="2966"/>
                            </a:lnTo>
                            <a:lnTo>
                              <a:pt x="474" y="2900"/>
                            </a:lnTo>
                            <a:lnTo>
                              <a:pt x="468" y="2836"/>
                            </a:lnTo>
                            <a:lnTo>
                              <a:pt x="460" y="2773"/>
                            </a:lnTo>
                            <a:lnTo>
                              <a:pt x="451" y="2709"/>
                            </a:lnTo>
                            <a:lnTo>
                              <a:pt x="439" y="2647"/>
                            </a:lnTo>
                            <a:lnTo>
                              <a:pt x="427" y="2584"/>
                            </a:lnTo>
                            <a:lnTo>
                              <a:pt x="414" y="2522"/>
                            </a:lnTo>
                            <a:lnTo>
                              <a:pt x="398" y="2460"/>
                            </a:lnTo>
                            <a:lnTo>
                              <a:pt x="383" y="2399"/>
                            </a:lnTo>
                            <a:lnTo>
                              <a:pt x="367" y="2337"/>
                            </a:lnTo>
                            <a:lnTo>
                              <a:pt x="352" y="2275"/>
                            </a:lnTo>
                            <a:lnTo>
                              <a:pt x="334" y="2214"/>
                            </a:lnTo>
                            <a:lnTo>
                              <a:pt x="319" y="2152"/>
                            </a:lnTo>
                            <a:lnTo>
                              <a:pt x="303" y="2089"/>
                            </a:lnTo>
                            <a:lnTo>
                              <a:pt x="289" y="2025"/>
                            </a:lnTo>
                            <a:lnTo>
                              <a:pt x="276" y="1963"/>
                            </a:lnTo>
                            <a:lnTo>
                              <a:pt x="264" y="1898"/>
                            </a:lnTo>
                            <a:lnTo>
                              <a:pt x="252" y="1834"/>
                            </a:lnTo>
                            <a:lnTo>
                              <a:pt x="245" y="1770"/>
                            </a:lnTo>
                            <a:lnTo>
                              <a:pt x="239" y="1704"/>
                            </a:lnTo>
                            <a:lnTo>
                              <a:pt x="233" y="1637"/>
                            </a:lnTo>
                            <a:lnTo>
                              <a:pt x="231" y="1569"/>
                            </a:lnTo>
                            <a:lnTo>
                              <a:pt x="233" y="1501"/>
                            </a:lnTo>
                            <a:lnTo>
                              <a:pt x="237" y="1431"/>
                            </a:lnTo>
                            <a:lnTo>
                              <a:pt x="245" y="1361"/>
                            </a:lnTo>
                            <a:lnTo>
                              <a:pt x="256" y="1288"/>
                            </a:lnTo>
                            <a:lnTo>
                              <a:pt x="239" y="1226"/>
                            </a:lnTo>
                            <a:lnTo>
                              <a:pt x="219" y="1166"/>
                            </a:lnTo>
                            <a:lnTo>
                              <a:pt x="200" y="1103"/>
                            </a:lnTo>
                            <a:lnTo>
                              <a:pt x="177" y="1043"/>
                            </a:lnTo>
                            <a:lnTo>
                              <a:pt x="155" y="984"/>
                            </a:lnTo>
                            <a:lnTo>
                              <a:pt x="132" y="924"/>
                            </a:lnTo>
                            <a:lnTo>
                              <a:pt x="110" y="864"/>
                            </a:lnTo>
                            <a:lnTo>
                              <a:pt x="89" y="801"/>
                            </a:lnTo>
                            <a:lnTo>
                              <a:pt x="68" y="741"/>
                            </a:lnTo>
                            <a:lnTo>
                              <a:pt x="50" y="679"/>
                            </a:lnTo>
                            <a:lnTo>
                              <a:pt x="33" y="616"/>
                            </a:lnTo>
                            <a:lnTo>
                              <a:pt x="19" y="552"/>
                            </a:lnTo>
                            <a:lnTo>
                              <a:pt x="9" y="486"/>
                            </a:lnTo>
                            <a:lnTo>
                              <a:pt x="1" y="419"/>
                            </a:lnTo>
                            <a:lnTo>
                              <a:pt x="0" y="351"/>
                            </a:lnTo>
                            <a:lnTo>
                              <a:pt x="1" y="281"/>
                            </a:lnTo>
                            <a:lnTo>
                              <a:pt x="81" y="283"/>
                            </a:lnTo>
                            <a:lnTo>
                              <a:pt x="159" y="279"/>
                            </a:lnTo>
                            <a:lnTo>
                              <a:pt x="237" y="273"/>
                            </a:lnTo>
                            <a:lnTo>
                              <a:pt x="313" y="263"/>
                            </a:lnTo>
                            <a:lnTo>
                              <a:pt x="387" y="250"/>
                            </a:lnTo>
                            <a:lnTo>
                              <a:pt x="460" y="234"/>
                            </a:lnTo>
                            <a:lnTo>
                              <a:pt x="534" y="217"/>
                            </a:lnTo>
                            <a:lnTo>
                              <a:pt x="606" y="199"/>
                            </a:lnTo>
                            <a:lnTo>
                              <a:pt x="680" y="182"/>
                            </a:lnTo>
                            <a:lnTo>
                              <a:pt x="752" y="162"/>
                            </a:lnTo>
                            <a:lnTo>
                              <a:pt x="826" y="145"/>
                            </a:lnTo>
                            <a:lnTo>
                              <a:pt x="900" y="129"/>
                            </a:lnTo>
                            <a:lnTo>
                              <a:pt x="974" y="115"/>
                            </a:lnTo>
                            <a:lnTo>
                              <a:pt x="1052" y="106"/>
                            </a:lnTo>
                            <a:lnTo>
                              <a:pt x="1128" y="98"/>
                            </a:lnTo>
                            <a:lnTo>
                              <a:pt x="1207" y="94"/>
                            </a:lnTo>
                            <a:lnTo>
                              <a:pt x="1248" y="102"/>
                            </a:lnTo>
                            <a:lnTo>
                              <a:pt x="1289" y="108"/>
                            </a:lnTo>
                            <a:lnTo>
                              <a:pt x="1330" y="115"/>
                            </a:lnTo>
                            <a:lnTo>
                              <a:pt x="1373" y="121"/>
                            </a:lnTo>
                            <a:lnTo>
                              <a:pt x="1414" y="127"/>
                            </a:lnTo>
                            <a:lnTo>
                              <a:pt x="1454" y="133"/>
                            </a:lnTo>
                            <a:lnTo>
                              <a:pt x="1497" y="137"/>
                            </a:lnTo>
                            <a:lnTo>
                              <a:pt x="1540" y="143"/>
                            </a:lnTo>
                            <a:lnTo>
                              <a:pt x="1581" y="147"/>
                            </a:lnTo>
                            <a:lnTo>
                              <a:pt x="1624" y="148"/>
                            </a:lnTo>
                            <a:lnTo>
                              <a:pt x="1666" y="152"/>
                            </a:lnTo>
                            <a:lnTo>
                              <a:pt x="1707" y="154"/>
                            </a:lnTo>
                            <a:lnTo>
                              <a:pt x="1750" y="156"/>
                            </a:lnTo>
                            <a:lnTo>
                              <a:pt x="1791" y="156"/>
                            </a:lnTo>
                            <a:lnTo>
                              <a:pt x="1834" y="156"/>
                            </a:lnTo>
                            <a:lnTo>
                              <a:pt x="1875" y="154"/>
                            </a:lnTo>
                            <a:lnTo>
                              <a:pt x="1917" y="154"/>
                            </a:lnTo>
                            <a:lnTo>
                              <a:pt x="1958" y="150"/>
                            </a:lnTo>
                            <a:lnTo>
                              <a:pt x="1999" y="147"/>
                            </a:lnTo>
                            <a:lnTo>
                              <a:pt x="2040" y="143"/>
                            </a:lnTo>
                            <a:lnTo>
                              <a:pt x="2081" y="137"/>
                            </a:lnTo>
                            <a:lnTo>
                              <a:pt x="2122" y="131"/>
                            </a:lnTo>
                            <a:lnTo>
                              <a:pt x="2162" y="123"/>
                            </a:lnTo>
                            <a:lnTo>
                              <a:pt x="2201" y="115"/>
                            </a:lnTo>
                            <a:lnTo>
                              <a:pt x="2242" y="106"/>
                            </a:lnTo>
                            <a:lnTo>
                              <a:pt x="2281" y="94"/>
                            </a:lnTo>
                            <a:lnTo>
                              <a:pt x="2320" y="82"/>
                            </a:lnTo>
                            <a:lnTo>
                              <a:pt x="2359" y="69"/>
                            </a:lnTo>
                            <a:lnTo>
                              <a:pt x="2396" y="53"/>
                            </a:lnTo>
                            <a:lnTo>
                              <a:pt x="2433" y="37"/>
                            </a:lnTo>
                            <a:lnTo>
                              <a:pt x="2470" y="20"/>
                            </a:lnTo>
                            <a:lnTo>
                              <a:pt x="2507" y="0"/>
                            </a:lnTo>
                            <a:lnTo>
                              <a:pt x="2551" y="59"/>
                            </a:lnTo>
                            <a:lnTo>
                              <a:pt x="2600" y="117"/>
                            </a:lnTo>
                            <a:lnTo>
                              <a:pt x="2651" y="176"/>
                            </a:lnTo>
                            <a:lnTo>
                              <a:pt x="2705" y="234"/>
                            </a:lnTo>
                            <a:lnTo>
                              <a:pt x="2759" y="291"/>
                            </a:lnTo>
                            <a:lnTo>
                              <a:pt x="2818" y="347"/>
                            </a:lnTo>
                            <a:lnTo>
                              <a:pt x="2878" y="402"/>
                            </a:lnTo>
                            <a:lnTo>
                              <a:pt x="2938" y="454"/>
                            </a:lnTo>
                            <a:lnTo>
                              <a:pt x="3003" y="505"/>
                            </a:lnTo>
                            <a:lnTo>
                              <a:pt x="3067" y="554"/>
                            </a:lnTo>
                            <a:lnTo>
                              <a:pt x="3133" y="601"/>
                            </a:lnTo>
                            <a:lnTo>
                              <a:pt x="3199" y="643"/>
                            </a:lnTo>
                            <a:lnTo>
                              <a:pt x="3267" y="684"/>
                            </a:lnTo>
                            <a:lnTo>
                              <a:pt x="3337" y="721"/>
                            </a:lnTo>
                            <a:lnTo>
                              <a:pt x="3405" y="755"/>
                            </a:lnTo>
                            <a:lnTo>
                              <a:pt x="3475" y="784"/>
                            </a:lnTo>
                            <a:close/>
                          </a:path>
                        </a:pathLst>
                      </a:custGeom>
                      <a:solidFill>
                        <a:srgbClr val="ffbf1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5" name=""/>
                      <p:cNvSpPr/>
                      <p:nvPr/>
                    </p:nvSpPr>
                    <p:spPr>
                      <a:xfrm>
                        <a:off x="2042640" y="2581560"/>
                        <a:ext cx="59040" cy="33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35" h="729">
                            <a:moveTo>
                              <a:pt x="1130" y="185"/>
                            </a:moveTo>
                            <a:lnTo>
                              <a:pt x="1114" y="218"/>
                            </a:lnTo>
                            <a:lnTo>
                              <a:pt x="1106" y="249"/>
                            </a:lnTo>
                            <a:lnTo>
                              <a:pt x="1100" y="282"/>
                            </a:lnTo>
                            <a:lnTo>
                              <a:pt x="1098" y="316"/>
                            </a:lnTo>
                            <a:lnTo>
                              <a:pt x="1100" y="349"/>
                            </a:lnTo>
                            <a:lnTo>
                              <a:pt x="1104" y="384"/>
                            </a:lnTo>
                            <a:lnTo>
                              <a:pt x="1110" y="417"/>
                            </a:lnTo>
                            <a:lnTo>
                              <a:pt x="1116" y="450"/>
                            </a:lnTo>
                            <a:lnTo>
                              <a:pt x="1122" y="485"/>
                            </a:lnTo>
                            <a:lnTo>
                              <a:pt x="1128" y="520"/>
                            </a:lnTo>
                            <a:lnTo>
                              <a:pt x="1133" y="553"/>
                            </a:lnTo>
                            <a:lnTo>
                              <a:pt x="1135" y="588"/>
                            </a:lnTo>
                            <a:lnTo>
                              <a:pt x="1135" y="623"/>
                            </a:lnTo>
                            <a:lnTo>
                              <a:pt x="1133" y="659"/>
                            </a:lnTo>
                            <a:lnTo>
                              <a:pt x="1126" y="694"/>
                            </a:lnTo>
                            <a:lnTo>
                              <a:pt x="1114" y="729"/>
                            </a:lnTo>
                            <a:lnTo>
                              <a:pt x="1038" y="705"/>
                            </a:lnTo>
                            <a:lnTo>
                              <a:pt x="964" y="682"/>
                            </a:lnTo>
                            <a:lnTo>
                              <a:pt x="890" y="657"/>
                            </a:lnTo>
                            <a:lnTo>
                              <a:pt x="816" y="629"/>
                            </a:lnTo>
                            <a:lnTo>
                              <a:pt x="742" y="602"/>
                            </a:lnTo>
                            <a:lnTo>
                              <a:pt x="671" y="571"/>
                            </a:lnTo>
                            <a:lnTo>
                              <a:pt x="599" y="540"/>
                            </a:lnTo>
                            <a:lnTo>
                              <a:pt x="529" y="505"/>
                            </a:lnTo>
                            <a:lnTo>
                              <a:pt x="459" y="470"/>
                            </a:lnTo>
                            <a:lnTo>
                              <a:pt x="389" y="431"/>
                            </a:lnTo>
                            <a:lnTo>
                              <a:pt x="320" y="390"/>
                            </a:lnTo>
                            <a:lnTo>
                              <a:pt x="254" y="347"/>
                            </a:lnTo>
                            <a:lnTo>
                              <a:pt x="188" y="300"/>
                            </a:lnTo>
                            <a:lnTo>
                              <a:pt x="124" y="253"/>
                            </a:lnTo>
                            <a:lnTo>
                              <a:pt x="62" y="203"/>
                            </a:lnTo>
                            <a:lnTo>
                              <a:pt x="0" y="148"/>
                            </a:lnTo>
                            <a:lnTo>
                              <a:pt x="147" y="0"/>
                            </a:lnTo>
                            <a:lnTo>
                              <a:pt x="212" y="4"/>
                            </a:lnTo>
                            <a:lnTo>
                              <a:pt x="276" y="10"/>
                            </a:lnTo>
                            <a:lnTo>
                              <a:pt x="340" y="15"/>
                            </a:lnTo>
                            <a:lnTo>
                              <a:pt x="404" y="25"/>
                            </a:lnTo>
                            <a:lnTo>
                              <a:pt x="466" y="35"/>
                            </a:lnTo>
                            <a:lnTo>
                              <a:pt x="527" y="45"/>
                            </a:lnTo>
                            <a:lnTo>
                              <a:pt x="589" y="56"/>
                            </a:lnTo>
                            <a:lnTo>
                              <a:pt x="651" y="70"/>
                            </a:lnTo>
                            <a:lnTo>
                              <a:pt x="711" y="84"/>
                            </a:lnTo>
                            <a:lnTo>
                              <a:pt x="772" y="97"/>
                            </a:lnTo>
                            <a:lnTo>
                              <a:pt x="832" y="111"/>
                            </a:lnTo>
                            <a:lnTo>
                              <a:pt x="892" y="127"/>
                            </a:lnTo>
                            <a:lnTo>
                              <a:pt x="951" y="140"/>
                            </a:lnTo>
                            <a:lnTo>
                              <a:pt x="1011" y="156"/>
                            </a:lnTo>
                            <a:lnTo>
                              <a:pt x="1069" y="171"/>
                            </a:lnTo>
                            <a:lnTo>
                              <a:pt x="1130" y="185"/>
                            </a:lnTo>
                            <a:close/>
                          </a:path>
                        </a:pathLst>
                      </a:custGeom>
                      <a:solidFill>
                        <a:srgbClr val="ffd8b2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3320" bIns="-133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6" name=""/>
                      <p:cNvSpPr/>
                      <p:nvPr/>
                    </p:nvSpPr>
                    <p:spPr>
                      <a:xfrm>
                        <a:off x="1856880" y="2583360"/>
                        <a:ext cx="2628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06" h="586">
                            <a:moveTo>
                              <a:pt x="436" y="109"/>
                            </a:moveTo>
                            <a:lnTo>
                              <a:pt x="506" y="573"/>
                            </a:lnTo>
                            <a:lnTo>
                              <a:pt x="482" y="581"/>
                            </a:lnTo>
                            <a:lnTo>
                              <a:pt x="459" y="584"/>
                            </a:lnTo>
                            <a:lnTo>
                              <a:pt x="436" y="586"/>
                            </a:lnTo>
                            <a:lnTo>
                              <a:pt x="412" y="583"/>
                            </a:lnTo>
                            <a:lnTo>
                              <a:pt x="389" y="579"/>
                            </a:lnTo>
                            <a:lnTo>
                              <a:pt x="366" y="569"/>
                            </a:lnTo>
                            <a:lnTo>
                              <a:pt x="342" y="559"/>
                            </a:lnTo>
                            <a:lnTo>
                              <a:pt x="321" y="547"/>
                            </a:lnTo>
                            <a:lnTo>
                              <a:pt x="298" y="536"/>
                            </a:lnTo>
                            <a:lnTo>
                              <a:pt x="274" y="522"/>
                            </a:lnTo>
                            <a:lnTo>
                              <a:pt x="251" y="508"/>
                            </a:lnTo>
                            <a:lnTo>
                              <a:pt x="228" y="493"/>
                            </a:lnTo>
                            <a:lnTo>
                              <a:pt x="204" y="479"/>
                            </a:lnTo>
                            <a:lnTo>
                              <a:pt x="181" y="466"/>
                            </a:lnTo>
                            <a:lnTo>
                              <a:pt x="158" y="454"/>
                            </a:lnTo>
                            <a:lnTo>
                              <a:pt x="134" y="442"/>
                            </a:lnTo>
                            <a:lnTo>
                              <a:pt x="113" y="421"/>
                            </a:lnTo>
                            <a:lnTo>
                              <a:pt x="93" y="397"/>
                            </a:lnTo>
                            <a:lnTo>
                              <a:pt x="76" y="372"/>
                            </a:lnTo>
                            <a:lnTo>
                              <a:pt x="60" y="347"/>
                            </a:lnTo>
                            <a:lnTo>
                              <a:pt x="47" y="321"/>
                            </a:lnTo>
                            <a:lnTo>
                              <a:pt x="35" y="296"/>
                            </a:lnTo>
                            <a:lnTo>
                              <a:pt x="25" y="269"/>
                            </a:lnTo>
                            <a:lnTo>
                              <a:pt x="19" y="241"/>
                            </a:lnTo>
                            <a:lnTo>
                              <a:pt x="12" y="212"/>
                            </a:lnTo>
                            <a:lnTo>
                              <a:pt x="8" y="183"/>
                            </a:lnTo>
                            <a:lnTo>
                              <a:pt x="4" y="154"/>
                            </a:lnTo>
                            <a:lnTo>
                              <a:pt x="2" y="125"/>
                            </a:lnTo>
                            <a:lnTo>
                              <a:pt x="0" y="93"/>
                            </a:lnTo>
                            <a:lnTo>
                              <a:pt x="0" y="62"/>
                            </a:lnTo>
                            <a:lnTo>
                              <a:pt x="0" y="31"/>
                            </a:lnTo>
                            <a:lnTo>
                              <a:pt x="2" y="0"/>
                            </a:lnTo>
                            <a:lnTo>
                              <a:pt x="27" y="10"/>
                            </a:lnTo>
                            <a:lnTo>
                              <a:pt x="54" y="19"/>
                            </a:lnTo>
                            <a:lnTo>
                              <a:pt x="80" y="31"/>
                            </a:lnTo>
                            <a:lnTo>
                              <a:pt x="103" y="43"/>
                            </a:lnTo>
                            <a:lnTo>
                              <a:pt x="128" y="54"/>
                            </a:lnTo>
                            <a:lnTo>
                              <a:pt x="154" y="66"/>
                            </a:lnTo>
                            <a:lnTo>
                              <a:pt x="179" y="78"/>
                            </a:lnTo>
                            <a:lnTo>
                              <a:pt x="204" y="89"/>
                            </a:lnTo>
                            <a:lnTo>
                              <a:pt x="231" y="99"/>
                            </a:lnTo>
                            <a:lnTo>
                              <a:pt x="257" y="107"/>
                            </a:lnTo>
                            <a:lnTo>
                              <a:pt x="284" y="113"/>
                            </a:lnTo>
                            <a:lnTo>
                              <a:pt x="313" y="117"/>
                            </a:lnTo>
                            <a:lnTo>
                              <a:pt x="342" y="119"/>
                            </a:lnTo>
                            <a:lnTo>
                              <a:pt x="371" y="119"/>
                            </a:lnTo>
                            <a:lnTo>
                              <a:pt x="403" y="115"/>
                            </a:lnTo>
                            <a:lnTo>
                              <a:pt x="436" y="109"/>
                            </a:lnTo>
                            <a:close/>
                          </a:path>
                        </a:pathLst>
                      </a:custGeom>
                      <a:solidFill>
                        <a:srgbClr val="ffd8b2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7" name=""/>
                      <p:cNvSpPr/>
                      <p:nvPr/>
                    </p:nvSpPr>
                    <p:spPr>
                      <a:xfrm>
                        <a:off x="1912320" y="2603880"/>
                        <a:ext cx="12600" cy="1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41" h="39">
                            <a:moveTo>
                              <a:pt x="0" y="39"/>
                            </a:moveTo>
                            <a:lnTo>
                              <a:pt x="54" y="0"/>
                            </a:lnTo>
                            <a:lnTo>
                              <a:pt x="241" y="39"/>
                            </a:lnTo>
                            <a:lnTo>
                              <a:pt x="0" y="39"/>
                            </a:lnTo>
                            <a:close/>
                          </a:path>
                        </a:pathLst>
                      </a:custGeom>
                      <a:solidFill>
                        <a:srgbClr val="ffbf1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8" name=""/>
                      <p:cNvSpPr/>
                      <p:nvPr/>
                    </p:nvSpPr>
                    <p:spPr>
                      <a:xfrm>
                        <a:off x="2104200" y="2631240"/>
                        <a:ext cx="6840" cy="11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6" h="263">
                            <a:moveTo>
                              <a:pt x="130" y="0"/>
                            </a:moveTo>
                            <a:lnTo>
                              <a:pt x="136" y="35"/>
                            </a:lnTo>
                            <a:lnTo>
                              <a:pt x="134" y="72"/>
                            </a:lnTo>
                            <a:lnTo>
                              <a:pt x="128" y="107"/>
                            </a:lnTo>
                            <a:lnTo>
                              <a:pt x="117" y="142"/>
                            </a:lnTo>
                            <a:lnTo>
                              <a:pt x="101" y="177"/>
                            </a:lnTo>
                            <a:lnTo>
                              <a:pt x="84" y="208"/>
                            </a:lnTo>
                            <a:lnTo>
                              <a:pt x="62" y="237"/>
                            </a:lnTo>
                            <a:lnTo>
                              <a:pt x="39" y="263"/>
                            </a:lnTo>
                            <a:lnTo>
                              <a:pt x="12" y="229"/>
                            </a:lnTo>
                            <a:lnTo>
                              <a:pt x="0" y="192"/>
                            </a:lnTo>
                            <a:lnTo>
                              <a:pt x="6" y="152"/>
                            </a:lnTo>
                            <a:lnTo>
                              <a:pt x="21" y="111"/>
                            </a:lnTo>
                            <a:lnTo>
                              <a:pt x="45" y="72"/>
                            </a:lnTo>
                            <a:lnTo>
                              <a:pt x="74" y="40"/>
                            </a:lnTo>
                            <a:lnTo>
                              <a:pt x="103" y="15"/>
                            </a:lnTo>
                            <a:lnTo>
                              <a:pt x="130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920" bIns="-349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9" name=""/>
                      <p:cNvSpPr/>
                      <p:nvPr/>
                    </p:nvSpPr>
                    <p:spPr>
                      <a:xfrm>
                        <a:off x="2095200" y="2649600"/>
                        <a:ext cx="8280" cy="8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61" h="195">
                            <a:moveTo>
                              <a:pt x="155" y="4"/>
                            </a:moveTo>
                            <a:lnTo>
                              <a:pt x="161" y="26"/>
                            </a:lnTo>
                            <a:lnTo>
                              <a:pt x="159" y="49"/>
                            </a:lnTo>
                            <a:lnTo>
                              <a:pt x="152" y="74"/>
                            </a:lnTo>
                            <a:lnTo>
                              <a:pt x="138" y="100"/>
                            </a:lnTo>
                            <a:lnTo>
                              <a:pt x="120" y="125"/>
                            </a:lnTo>
                            <a:lnTo>
                              <a:pt x="105" y="148"/>
                            </a:lnTo>
                            <a:lnTo>
                              <a:pt x="89" y="170"/>
                            </a:lnTo>
                            <a:lnTo>
                              <a:pt x="78" y="189"/>
                            </a:lnTo>
                            <a:lnTo>
                              <a:pt x="62" y="195"/>
                            </a:lnTo>
                            <a:lnTo>
                              <a:pt x="50" y="193"/>
                            </a:lnTo>
                            <a:lnTo>
                              <a:pt x="41" y="185"/>
                            </a:lnTo>
                            <a:lnTo>
                              <a:pt x="35" y="176"/>
                            </a:lnTo>
                            <a:lnTo>
                              <a:pt x="27" y="164"/>
                            </a:lnTo>
                            <a:lnTo>
                              <a:pt x="21" y="150"/>
                            </a:lnTo>
                            <a:lnTo>
                              <a:pt x="15" y="137"/>
                            </a:lnTo>
                            <a:lnTo>
                              <a:pt x="8" y="127"/>
                            </a:lnTo>
                            <a:lnTo>
                              <a:pt x="0" y="94"/>
                            </a:lnTo>
                            <a:lnTo>
                              <a:pt x="4" y="66"/>
                            </a:lnTo>
                            <a:lnTo>
                              <a:pt x="17" y="43"/>
                            </a:lnTo>
                            <a:lnTo>
                              <a:pt x="39" y="26"/>
                            </a:lnTo>
                            <a:lnTo>
                              <a:pt x="64" y="12"/>
                            </a:lnTo>
                            <a:lnTo>
                              <a:pt x="93" y="4"/>
                            </a:lnTo>
                            <a:lnTo>
                              <a:pt x="124" y="0"/>
                            </a:lnTo>
                            <a:lnTo>
                              <a:pt x="155" y="4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0" name=""/>
                      <p:cNvSpPr/>
                      <p:nvPr/>
                    </p:nvSpPr>
                    <p:spPr>
                      <a:xfrm>
                        <a:off x="2178360" y="2661480"/>
                        <a:ext cx="254520" cy="239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884" h="5176">
                            <a:moveTo>
                              <a:pt x="3709" y="492"/>
                            </a:moveTo>
                            <a:lnTo>
                              <a:pt x="3793" y="556"/>
                            </a:lnTo>
                            <a:lnTo>
                              <a:pt x="3874" y="620"/>
                            </a:lnTo>
                            <a:lnTo>
                              <a:pt x="3952" y="686"/>
                            </a:lnTo>
                            <a:lnTo>
                              <a:pt x="4026" y="757"/>
                            </a:lnTo>
                            <a:lnTo>
                              <a:pt x="4098" y="827"/>
                            </a:lnTo>
                            <a:lnTo>
                              <a:pt x="4168" y="897"/>
                            </a:lnTo>
                            <a:lnTo>
                              <a:pt x="4234" y="971"/>
                            </a:lnTo>
                            <a:lnTo>
                              <a:pt x="4298" y="1047"/>
                            </a:lnTo>
                            <a:lnTo>
                              <a:pt x="4359" y="1123"/>
                            </a:lnTo>
                            <a:lnTo>
                              <a:pt x="4415" y="1201"/>
                            </a:lnTo>
                            <a:lnTo>
                              <a:pt x="4470" y="1281"/>
                            </a:lnTo>
                            <a:lnTo>
                              <a:pt x="4520" y="1361"/>
                            </a:lnTo>
                            <a:lnTo>
                              <a:pt x="4569" y="1444"/>
                            </a:lnTo>
                            <a:lnTo>
                              <a:pt x="4613" y="1528"/>
                            </a:lnTo>
                            <a:lnTo>
                              <a:pt x="4654" y="1612"/>
                            </a:lnTo>
                            <a:lnTo>
                              <a:pt x="4693" y="1698"/>
                            </a:lnTo>
                            <a:lnTo>
                              <a:pt x="4728" y="1785"/>
                            </a:lnTo>
                            <a:lnTo>
                              <a:pt x="4759" y="1875"/>
                            </a:lnTo>
                            <a:lnTo>
                              <a:pt x="4787" y="1965"/>
                            </a:lnTo>
                            <a:lnTo>
                              <a:pt x="4812" y="2054"/>
                            </a:lnTo>
                            <a:lnTo>
                              <a:pt x="4833" y="2148"/>
                            </a:lnTo>
                            <a:lnTo>
                              <a:pt x="4851" y="2240"/>
                            </a:lnTo>
                            <a:lnTo>
                              <a:pt x="4864" y="2335"/>
                            </a:lnTo>
                            <a:lnTo>
                              <a:pt x="4874" y="2429"/>
                            </a:lnTo>
                            <a:lnTo>
                              <a:pt x="4882" y="2526"/>
                            </a:lnTo>
                            <a:lnTo>
                              <a:pt x="4884" y="2621"/>
                            </a:lnTo>
                            <a:lnTo>
                              <a:pt x="4884" y="2719"/>
                            </a:lnTo>
                            <a:lnTo>
                              <a:pt x="4880" y="2818"/>
                            </a:lnTo>
                            <a:lnTo>
                              <a:pt x="4870" y="2918"/>
                            </a:lnTo>
                            <a:lnTo>
                              <a:pt x="4859" y="3017"/>
                            </a:lnTo>
                            <a:lnTo>
                              <a:pt x="4843" y="3118"/>
                            </a:lnTo>
                            <a:lnTo>
                              <a:pt x="4824" y="3220"/>
                            </a:lnTo>
                            <a:lnTo>
                              <a:pt x="4808" y="3270"/>
                            </a:lnTo>
                            <a:lnTo>
                              <a:pt x="4790" y="3319"/>
                            </a:lnTo>
                            <a:lnTo>
                              <a:pt x="4773" y="3370"/>
                            </a:lnTo>
                            <a:lnTo>
                              <a:pt x="4755" y="3420"/>
                            </a:lnTo>
                            <a:lnTo>
                              <a:pt x="4738" y="3471"/>
                            </a:lnTo>
                            <a:lnTo>
                              <a:pt x="4719" y="3522"/>
                            </a:lnTo>
                            <a:lnTo>
                              <a:pt x="4701" y="3571"/>
                            </a:lnTo>
                            <a:lnTo>
                              <a:pt x="4682" y="3621"/>
                            </a:lnTo>
                            <a:lnTo>
                              <a:pt x="4660" y="3670"/>
                            </a:lnTo>
                            <a:lnTo>
                              <a:pt x="4641" y="3721"/>
                            </a:lnTo>
                            <a:lnTo>
                              <a:pt x="4619" y="3769"/>
                            </a:lnTo>
                            <a:lnTo>
                              <a:pt x="4596" y="3820"/>
                            </a:lnTo>
                            <a:lnTo>
                              <a:pt x="4575" y="3869"/>
                            </a:lnTo>
                            <a:lnTo>
                              <a:pt x="4551" y="3917"/>
                            </a:lnTo>
                            <a:lnTo>
                              <a:pt x="4528" y="3964"/>
                            </a:lnTo>
                            <a:lnTo>
                              <a:pt x="4503" y="4013"/>
                            </a:lnTo>
                            <a:lnTo>
                              <a:pt x="4477" y="4062"/>
                            </a:lnTo>
                            <a:lnTo>
                              <a:pt x="4452" y="4108"/>
                            </a:lnTo>
                            <a:lnTo>
                              <a:pt x="4425" y="4155"/>
                            </a:lnTo>
                            <a:lnTo>
                              <a:pt x="4398" y="4202"/>
                            </a:lnTo>
                            <a:lnTo>
                              <a:pt x="4370" y="4247"/>
                            </a:lnTo>
                            <a:lnTo>
                              <a:pt x="4341" y="4292"/>
                            </a:lnTo>
                            <a:lnTo>
                              <a:pt x="4310" y="4336"/>
                            </a:lnTo>
                            <a:lnTo>
                              <a:pt x="4281" y="4381"/>
                            </a:lnTo>
                            <a:lnTo>
                              <a:pt x="4248" y="4424"/>
                            </a:lnTo>
                            <a:lnTo>
                              <a:pt x="4217" y="4467"/>
                            </a:lnTo>
                            <a:lnTo>
                              <a:pt x="4184" y="4510"/>
                            </a:lnTo>
                            <a:lnTo>
                              <a:pt x="4149" y="4551"/>
                            </a:lnTo>
                            <a:lnTo>
                              <a:pt x="4114" y="4592"/>
                            </a:lnTo>
                            <a:lnTo>
                              <a:pt x="4079" y="4631"/>
                            </a:lnTo>
                            <a:lnTo>
                              <a:pt x="4042" y="4670"/>
                            </a:lnTo>
                            <a:lnTo>
                              <a:pt x="4003" y="4709"/>
                            </a:lnTo>
                            <a:lnTo>
                              <a:pt x="3933" y="4759"/>
                            </a:lnTo>
                            <a:lnTo>
                              <a:pt x="3859" y="4808"/>
                            </a:lnTo>
                            <a:lnTo>
                              <a:pt x="3783" y="4853"/>
                            </a:lnTo>
                            <a:lnTo>
                              <a:pt x="3705" y="4894"/>
                            </a:lnTo>
                            <a:lnTo>
                              <a:pt x="3625" y="4935"/>
                            </a:lnTo>
                            <a:lnTo>
                              <a:pt x="3544" y="4970"/>
                            </a:lnTo>
                            <a:lnTo>
                              <a:pt x="3460" y="5003"/>
                            </a:lnTo>
                            <a:lnTo>
                              <a:pt x="3375" y="5034"/>
                            </a:lnTo>
                            <a:lnTo>
                              <a:pt x="3287" y="5061"/>
                            </a:lnTo>
                            <a:lnTo>
                              <a:pt x="3199" y="5087"/>
                            </a:lnTo>
                            <a:lnTo>
                              <a:pt x="3110" y="5108"/>
                            </a:lnTo>
                            <a:lnTo>
                              <a:pt x="3019" y="5128"/>
                            </a:lnTo>
                            <a:lnTo>
                              <a:pt x="2927" y="5143"/>
                            </a:lnTo>
                            <a:lnTo>
                              <a:pt x="2836" y="5155"/>
                            </a:lnTo>
                            <a:lnTo>
                              <a:pt x="2742" y="5165"/>
                            </a:lnTo>
                            <a:lnTo>
                              <a:pt x="2651" y="5172"/>
                            </a:lnTo>
                            <a:lnTo>
                              <a:pt x="2558" y="5176"/>
                            </a:lnTo>
                            <a:lnTo>
                              <a:pt x="2464" y="5176"/>
                            </a:lnTo>
                            <a:lnTo>
                              <a:pt x="2371" y="5174"/>
                            </a:lnTo>
                            <a:lnTo>
                              <a:pt x="2279" y="5168"/>
                            </a:lnTo>
                            <a:lnTo>
                              <a:pt x="2186" y="5161"/>
                            </a:lnTo>
                            <a:lnTo>
                              <a:pt x="2095" y="5149"/>
                            </a:lnTo>
                            <a:lnTo>
                              <a:pt x="2005" y="5133"/>
                            </a:lnTo>
                            <a:lnTo>
                              <a:pt x="1916" y="5116"/>
                            </a:lnTo>
                            <a:lnTo>
                              <a:pt x="1826" y="5096"/>
                            </a:lnTo>
                            <a:lnTo>
                              <a:pt x="1741" y="5071"/>
                            </a:lnTo>
                            <a:lnTo>
                              <a:pt x="1655" y="5046"/>
                            </a:lnTo>
                            <a:lnTo>
                              <a:pt x="1571" y="5015"/>
                            </a:lnTo>
                            <a:lnTo>
                              <a:pt x="1490" y="4981"/>
                            </a:lnTo>
                            <a:lnTo>
                              <a:pt x="1410" y="4944"/>
                            </a:lnTo>
                            <a:lnTo>
                              <a:pt x="1332" y="4905"/>
                            </a:lnTo>
                            <a:lnTo>
                              <a:pt x="1256" y="4863"/>
                            </a:lnTo>
                            <a:lnTo>
                              <a:pt x="1179" y="4822"/>
                            </a:lnTo>
                            <a:lnTo>
                              <a:pt x="1101" y="4779"/>
                            </a:lnTo>
                            <a:lnTo>
                              <a:pt x="1027" y="4732"/>
                            </a:lnTo>
                            <a:lnTo>
                              <a:pt x="955" y="4683"/>
                            </a:lnTo>
                            <a:lnTo>
                              <a:pt x="885" y="4633"/>
                            </a:lnTo>
                            <a:lnTo>
                              <a:pt x="819" y="4580"/>
                            </a:lnTo>
                            <a:lnTo>
                              <a:pt x="753" y="4525"/>
                            </a:lnTo>
                            <a:lnTo>
                              <a:pt x="690" y="4469"/>
                            </a:lnTo>
                            <a:lnTo>
                              <a:pt x="630" y="4408"/>
                            </a:lnTo>
                            <a:lnTo>
                              <a:pt x="572" y="4348"/>
                            </a:lnTo>
                            <a:lnTo>
                              <a:pt x="517" y="4286"/>
                            </a:lnTo>
                            <a:lnTo>
                              <a:pt x="465" y="4219"/>
                            </a:lnTo>
                            <a:lnTo>
                              <a:pt x="414" y="4153"/>
                            </a:lnTo>
                            <a:lnTo>
                              <a:pt x="368" y="4085"/>
                            </a:lnTo>
                            <a:lnTo>
                              <a:pt x="323" y="4015"/>
                            </a:lnTo>
                            <a:lnTo>
                              <a:pt x="280" y="3943"/>
                            </a:lnTo>
                            <a:lnTo>
                              <a:pt x="241" y="3869"/>
                            </a:lnTo>
                            <a:lnTo>
                              <a:pt x="204" y="3793"/>
                            </a:lnTo>
                            <a:lnTo>
                              <a:pt x="171" y="3717"/>
                            </a:lnTo>
                            <a:lnTo>
                              <a:pt x="140" y="3639"/>
                            </a:lnTo>
                            <a:lnTo>
                              <a:pt x="113" y="3559"/>
                            </a:lnTo>
                            <a:lnTo>
                              <a:pt x="87" y="3477"/>
                            </a:lnTo>
                            <a:lnTo>
                              <a:pt x="66" y="3395"/>
                            </a:lnTo>
                            <a:lnTo>
                              <a:pt x="47" y="3311"/>
                            </a:lnTo>
                            <a:lnTo>
                              <a:pt x="31" y="3228"/>
                            </a:lnTo>
                            <a:lnTo>
                              <a:pt x="19" y="3142"/>
                            </a:lnTo>
                            <a:lnTo>
                              <a:pt x="10" y="3056"/>
                            </a:lnTo>
                            <a:lnTo>
                              <a:pt x="4" y="2968"/>
                            </a:lnTo>
                            <a:lnTo>
                              <a:pt x="0" y="2879"/>
                            </a:lnTo>
                            <a:lnTo>
                              <a:pt x="0" y="2789"/>
                            </a:lnTo>
                            <a:lnTo>
                              <a:pt x="4" y="2699"/>
                            </a:lnTo>
                            <a:lnTo>
                              <a:pt x="12" y="2608"/>
                            </a:lnTo>
                            <a:lnTo>
                              <a:pt x="21" y="2507"/>
                            </a:lnTo>
                            <a:lnTo>
                              <a:pt x="33" y="2407"/>
                            </a:lnTo>
                            <a:lnTo>
                              <a:pt x="49" y="2306"/>
                            </a:lnTo>
                            <a:lnTo>
                              <a:pt x="68" y="2206"/>
                            </a:lnTo>
                            <a:lnTo>
                              <a:pt x="91" y="2109"/>
                            </a:lnTo>
                            <a:lnTo>
                              <a:pt x="119" y="2012"/>
                            </a:lnTo>
                            <a:lnTo>
                              <a:pt x="148" y="1914"/>
                            </a:lnTo>
                            <a:lnTo>
                              <a:pt x="181" y="1819"/>
                            </a:lnTo>
                            <a:lnTo>
                              <a:pt x="218" y="1723"/>
                            </a:lnTo>
                            <a:lnTo>
                              <a:pt x="259" y="1630"/>
                            </a:lnTo>
                            <a:lnTo>
                              <a:pt x="301" y="1538"/>
                            </a:lnTo>
                            <a:lnTo>
                              <a:pt x="346" y="1448"/>
                            </a:lnTo>
                            <a:lnTo>
                              <a:pt x="395" y="1359"/>
                            </a:lnTo>
                            <a:lnTo>
                              <a:pt x="447" y="1273"/>
                            </a:lnTo>
                            <a:lnTo>
                              <a:pt x="502" y="1187"/>
                            </a:lnTo>
                            <a:lnTo>
                              <a:pt x="560" y="1103"/>
                            </a:lnTo>
                            <a:lnTo>
                              <a:pt x="620" y="1024"/>
                            </a:lnTo>
                            <a:lnTo>
                              <a:pt x="685" y="944"/>
                            </a:lnTo>
                            <a:lnTo>
                              <a:pt x="749" y="868"/>
                            </a:lnTo>
                            <a:lnTo>
                              <a:pt x="819" y="794"/>
                            </a:lnTo>
                            <a:lnTo>
                              <a:pt x="889" y="721"/>
                            </a:lnTo>
                            <a:lnTo>
                              <a:pt x="963" y="653"/>
                            </a:lnTo>
                            <a:lnTo>
                              <a:pt x="1041" y="587"/>
                            </a:lnTo>
                            <a:lnTo>
                              <a:pt x="1118" y="523"/>
                            </a:lnTo>
                            <a:lnTo>
                              <a:pt x="1200" y="462"/>
                            </a:lnTo>
                            <a:lnTo>
                              <a:pt x="1284" y="406"/>
                            </a:lnTo>
                            <a:lnTo>
                              <a:pt x="1369" y="351"/>
                            </a:lnTo>
                            <a:lnTo>
                              <a:pt x="1457" y="303"/>
                            </a:lnTo>
                            <a:lnTo>
                              <a:pt x="1546" y="254"/>
                            </a:lnTo>
                            <a:lnTo>
                              <a:pt x="1640" y="211"/>
                            </a:lnTo>
                            <a:lnTo>
                              <a:pt x="1733" y="172"/>
                            </a:lnTo>
                            <a:lnTo>
                              <a:pt x="1830" y="135"/>
                            </a:lnTo>
                            <a:lnTo>
                              <a:pt x="1889" y="125"/>
                            </a:lnTo>
                            <a:lnTo>
                              <a:pt x="1947" y="113"/>
                            </a:lnTo>
                            <a:lnTo>
                              <a:pt x="2005" y="100"/>
                            </a:lnTo>
                            <a:lnTo>
                              <a:pt x="2066" y="86"/>
                            </a:lnTo>
                            <a:lnTo>
                              <a:pt x="2124" y="71"/>
                            </a:lnTo>
                            <a:lnTo>
                              <a:pt x="2184" y="55"/>
                            </a:lnTo>
                            <a:lnTo>
                              <a:pt x="2243" y="39"/>
                            </a:lnTo>
                            <a:lnTo>
                              <a:pt x="2303" y="26"/>
                            </a:lnTo>
                            <a:lnTo>
                              <a:pt x="2363" y="14"/>
                            </a:lnTo>
                            <a:lnTo>
                              <a:pt x="2423" y="6"/>
                            </a:lnTo>
                            <a:lnTo>
                              <a:pt x="2482" y="2"/>
                            </a:lnTo>
                            <a:lnTo>
                              <a:pt x="2542" y="0"/>
                            </a:lnTo>
                            <a:lnTo>
                              <a:pt x="2602" y="6"/>
                            </a:lnTo>
                            <a:lnTo>
                              <a:pt x="2663" y="16"/>
                            </a:lnTo>
                            <a:lnTo>
                              <a:pt x="2721" y="34"/>
                            </a:lnTo>
                            <a:lnTo>
                              <a:pt x="2781" y="57"/>
                            </a:lnTo>
                            <a:lnTo>
                              <a:pt x="3709" y="492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1" name=""/>
                      <p:cNvSpPr/>
                      <p:nvPr/>
                    </p:nvSpPr>
                    <p:spPr>
                      <a:xfrm>
                        <a:off x="2090880" y="2666880"/>
                        <a:ext cx="3240" cy="972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2" name=""/>
                      <p:cNvSpPr/>
                      <p:nvPr/>
                    </p:nvSpPr>
                    <p:spPr>
                      <a:xfrm>
                        <a:off x="2187000" y="2675520"/>
                        <a:ext cx="239760" cy="218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598" h="4726">
                            <a:moveTo>
                              <a:pt x="2836" y="110"/>
                            </a:moveTo>
                            <a:lnTo>
                              <a:pt x="2873" y="100"/>
                            </a:lnTo>
                            <a:lnTo>
                              <a:pt x="2910" y="94"/>
                            </a:lnTo>
                            <a:lnTo>
                              <a:pt x="2949" y="94"/>
                            </a:lnTo>
                            <a:lnTo>
                              <a:pt x="2988" y="98"/>
                            </a:lnTo>
                            <a:lnTo>
                              <a:pt x="3027" y="106"/>
                            </a:lnTo>
                            <a:lnTo>
                              <a:pt x="3067" y="117"/>
                            </a:lnTo>
                            <a:lnTo>
                              <a:pt x="3106" y="133"/>
                            </a:lnTo>
                            <a:lnTo>
                              <a:pt x="3147" y="149"/>
                            </a:lnTo>
                            <a:lnTo>
                              <a:pt x="3188" y="168"/>
                            </a:lnTo>
                            <a:lnTo>
                              <a:pt x="3227" y="188"/>
                            </a:lnTo>
                            <a:lnTo>
                              <a:pt x="3268" y="209"/>
                            </a:lnTo>
                            <a:lnTo>
                              <a:pt x="3307" y="230"/>
                            </a:lnTo>
                            <a:lnTo>
                              <a:pt x="3347" y="252"/>
                            </a:lnTo>
                            <a:lnTo>
                              <a:pt x="3386" y="273"/>
                            </a:lnTo>
                            <a:lnTo>
                              <a:pt x="3425" y="293"/>
                            </a:lnTo>
                            <a:lnTo>
                              <a:pt x="3462" y="310"/>
                            </a:lnTo>
                            <a:lnTo>
                              <a:pt x="3513" y="345"/>
                            </a:lnTo>
                            <a:lnTo>
                              <a:pt x="3560" y="382"/>
                            </a:lnTo>
                            <a:lnTo>
                              <a:pt x="3604" y="421"/>
                            </a:lnTo>
                            <a:lnTo>
                              <a:pt x="3647" y="460"/>
                            </a:lnTo>
                            <a:lnTo>
                              <a:pt x="3690" y="503"/>
                            </a:lnTo>
                            <a:lnTo>
                              <a:pt x="3731" y="546"/>
                            </a:lnTo>
                            <a:lnTo>
                              <a:pt x="3770" y="589"/>
                            </a:lnTo>
                            <a:lnTo>
                              <a:pt x="3808" y="634"/>
                            </a:lnTo>
                            <a:lnTo>
                              <a:pt x="3847" y="679"/>
                            </a:lnTo>
                            <a:lnTo>
                              <a:pt x="3886" y="723"/>
                            </a:lnTo>
                            <a:lnTo>
                              <a:pt x="3925" y="768"/>
                            </a:lnTo>
                            <a:lnTo>
                              <a:pt x="3964" y="813"/>
                            </a:lnTo>
                            <a:lnTo>
                              <a:pt x="4005" y="858"/>
                            </a:lnTo>
                            <a:lnTo>
                              <a:pt x="4046" y="901"/>
                            </a:lnTo>
                            <a:lnTo>
                              <a:pt x="4090" y="944"/>
                            </a:lnTo>
                            <a:lnTo>
                              <a:pt x="4135" y="985"/>
                            </a:lnTo>
                            <a:lnTo>
                              <a:pt x="4133" y="1025"/>
                            </a:lnTo>
                            <a:lnTo>
                              <a:pt x="4129" y="1064"/>
                            </a:lnTo>
                            <a:lnTo>
                              <a:pt x="4120" y="1105"/>
                            </a:lnTo>
                            <a:lnTo>
                              <a:pt x="4108" y="1144"/>
                            </a:lnTo>
                            <a:lnTo>
                              <a:pt x="4094" y="1183"/>
                            </a:lnTo>
                            <a:lnTo>
                              <a:pt x="4079" y="1220"/>
                            </a:lnTo>
                            <a:lnTo>
                              <a:pt x="4065" y="1259"/>
                            </a:lnTo>
                            <a:lnTo>
                              <a:pt x="4052" y="1296"/>
                            </a:lnTo>
                            <a:lnTo>
                              <a:pt x="4038" y="1335"/>
                            </a:lnTo>
                            <a:lnTo>
                              <a:pt x="4028" y="1372"/>
                            </a:lnTo>
                            <a:lnTo>
                              <a:pt x="4020" y="1409"/>
                            </a:lnTo>
                            <a:lnTo>
                              <a:pt x="4017" y="1448"/>
                            </a:lnTo>
                            <a:lnTo>
                              <a:pt x="4019" y="1485"/>
                            </a:lnTo>
                            <a:lnTo>
                              <a:pt x="4024" y="1522"/>
                            </a:lnTo>
                            <a:lnTo>
                              <a:pt x="4038" y="1561"/>
                            </a:lnTo>
                            <a:lnTo>
                              <a:pt x="4059" y="1598"/>
                            </a:lnTo>
                            <a:lnTo>
                              <a:pt x="4104" y="1651"/>
                            </a:lnTo>
                            <a:lnTo>
                              <a:pt x="4151" y="1698"/>
                            </a:lnTo>
                            <a:lnTo>
                              <a:pt x="4199" y="1743"/>
                            </a:lnTo>
                            <a:lnTo>
                              <a:pt x="4252" y="1784"/>
                            </a:lnTo>
                            <a:lnTo>
                              <a:pt x="4302" y="1823"/>
                            </a:lnTo>
                            <a:lnTo>
                              <a:pt x="4353" y="1861"/>
                            </a:lnTo>
                            <a:lnTo>
                              <a:pt x="4400" y="1900"/>
                            </a:lnTo>
                            <a:lnTo>
                              <a:pt x="4446" y="1939"/>
                            </a:lnTo>
                            <a:lnTo>
                              <a:pt x="4487" y="1980"/>
                            </a:lnTo>
                            <a:lnTo>
                              <a:pt x="4524" y="2023"/>
                            </a:lnTo>
                            <a:lnTo>
                              <a:pt x="4553" y="2072"/>
                            </a:lnTo>
                            <a:lnTo>
                              <a:pt x="4577" y="2123"/>
                            </a:lnTo>
                            <a:lnTo>
                              <a:pt x="4592" y="2181"/>
                            </a:lnTo>
                            <a:lnTo>
                              <a:pt x="4598" y="2245"/>
                            </a:lnTo>
                            <a:lnTo>
                              <a:pt x="4592" y="2316"/>
                            </a:lnTo>
                            <a:lnTo>
                              <a:pt x="4577" y="2395"/>
                            </a:lnTo>
                            <a:lnTo>
                              <a:pt x="4571" y="2442"/>
                            </a:lnTo>
                            <a:lnTo>
                              <a:pt x="4565" y="2489"/>
                            </a:lnTo>
                            <a:lnTo>
                              <a:pt x="4559" y="2536"/>
                            </a:lnTo>
                            <a:lnTo>
                              <a:pt x="4551" y="2583"/>
                            </a:lnTo>
                            <a:lnTo>
                              <a:pt x="4544" y="2629"/>
                            </a:lnTo>
                            <a:lnTo>
                              <a:pt x="4534" y="2674"/>
                            </a:lnTo>
                            <a:lnTo>
                              <a:pt x="4524" y="2721"/>
                            </a:lnTo>
                            <a:lnTo>
                              <a:pt x="4515" y="2766"/>
                            </a:lnTo>
                            <a:lnTo>
                              <a:pt x="4505" y="2811"/>
                            </a:lnTo>
                            <a:lnTo>
                              <a:pt x="4493" y="2855"/>
                            </a:lnTo>
                            <a:lnTo>
                              <a:pt x="4481" y="2900"/>
                            </a:lnTo>
                            <a:lnTo>
                              <a:pt x="4468" y="2943"/>
                            </a:lnTo>
                            <a:lnTo>
                              <a:pt x="4456" y="2988"/>
                            </a:lnTo>
                            <a:lnTo>
                              <a:pt x="4443" y="3031"/>
                            </a:lnTo>
                            <a:lnTo>
                              <a:pt x="4427" y="3076"/>
                            </a:lnTo>
                            <a:lnTo>
                              <a:pt x="4413" y="3118"/>
                            </a:lnTo>
                            <a:lnTo>
                              <a:pt x="4398" y="3161"/>
                            </a:lnTo>
                            <a:lnTo>
                              <a:pt x="4380" y="3204"/>
                            </a:lnTo>
                            <a:lnTo>
                              <a:pt x="4365" y="3247"/>
                            </a:lnTo>
                            <a:lnTo>
                              <a:pt x="4347" y="3288"/>
                            </a:lnTo>
                            <a:lnTo>
                              <a:pt x="4330" y="3331"/>
                            </a:lnTo>
                            <a:lnTo>
                              <a:pt x="4310" y="3372"/>
                            </a:lnTo>
                            <a:lnTo>
                              <a:pt x="4293" y="3415"/>
                            </a:lnTo>
                            <a:lnTo>
                              <a:pt x="4273" y="3456"/>
                            </a:lnTo>
                            <a:lnTo>
                              <a:pt x="4252" y="3496"/>
                            </a:lnTo>
                            <a:lnTo>
                              <a:pt x="4232" y="3537"/>
                            </a:lnTo>
                            <a:lnTo>
                              <a:pt x="4211" y="3578"/>
                            </a:lnTo>
                            <a:lnTo>
                              <a:pt x="4190" y="3617"/>
                            </a:lnTo>
                            <a:lnTo>
                              <a:pt x="4168" y="3658"/>
                            </a:lnTo>
                            <a:lnTo>
                              <a:pt x="4145" y="3697"/>
                            </a:lnTo>
                            <a:lnTo>
                              <a:pt x="4122" y="3738"/>
                            </a:lnTo>
                            <a:lnTo>
                              <a:pt x="4098" y="3777"/>
                            </a:lnTo>
                            <a:lnTo>
                              <a:pt x="4057" y="3758"/>
                            </a:lnTo>
                            <a:lnTo>
                              <a:pt x="4019" y="3736"/>
                            </a:lnTo>
                            <a:lnTo>
                              <a:pt x="3978" y="3715"/>
                            </a:lnTo>
                            <a:lnTo>
                              <a:pt x="3939" y="3693"/>
                            </a:lnTo>
                            <a:lnTo>
                              <a:pt x="3900" y="3670"/>
                            </a:lnTo>
                            <a:lnTo>
                              <a:pt x="3863" y="3647"/>
                            </a:lnTo>
                            <a:lnTo>
                              <a:pt x="3824" y="3623"/>
                            </a:lnTo>
                            <a:lnTo>
                              <a:pt x="3787" y="3600"/>
                            </a:lnTo>
                            <a:lnTo>
                              <a:pt x="3748" y="3574"/>
                            </a:lnTo>
                            <a:lnTo>
                              <a:pt x="3711" y="3549"/>
                            </a:lnTo>
                            <a:lnTo>
                              <a:pt x="3674" y="3526"/>
                            </a:lnTo>
                            <a:lnTo>
                              <a:pt x="3635" y="3500"/>
                            </a:lnTo>
                            <a:lnTo>
                              <a:pt x="3598" y="3477"/>
                            </a:lnTo>
                            <a:lnTo>
                              <a:pt x="3561" y="3452"/>
                            </a:lnTo>
                            <a:lnTo>
                              <a:pt x="3523" y="3428"/>
                            </a:lnTo>
                            <a:lnTo>
                              <a:pt x="3486" y="3405"/>
                            </a:lnTo>
                            <a:lnTo>
                              <a:pt x="3460" y="3424"/>
                            </a:lnTo>
                            <a:lnTo>
                              <a:pt x="3443" y="3444"/>
                            </a:lnTo>
                            <a:lnTo>
                              <a:pt x="3429" y="3467"/>
                            </a:lnTo>
                            <a:lnTo>
                              <a:pt x="3419" y="3493"/>
                            </a:lnTo>
                            <a:lnTo>
                              <a:pt x="3414" y="3520"/>
                            </a:lnTo>
                            <a:lnTo>
                              <a:pt x="3410" y="3547"/>
                            </a:lnTo>
                            <a:lnTo>
                              <a:pt x="3408" y="3576"/>
                            </a:lnTo>
                            <a:lnTo>
                              <a:pt x="3408" y="3606"/>
                            </a:lnTo>
                            <a:lnTo>
                              <a:pt x="3408" y="3635"/>
                            </a:lnTo>
                            <a:lnTo>
                              <a:pt x="3410" y="3666"/>
                            </a:lnTo>
                            <a:lnTo>
                              <a:pt x="3408" y="3695"/>
                            </a:lnTo>
                            <a:lnTo>
                              <a:pt x="3408" y="3724"/>
                            </a:lnTo>
                            <a:lnTo>
                              <a:pt x="3402" y="3754"/>
                            </a:lnTo>
                            <a:lnTo>
                              <a:pt x="3396" y="3779"/>
                            </a:lnTo>
                            <a:lnTo>
                              <a:pt x="3386" y="3806"/>
                            </a:lnTo>
                            <a:lnTo>
                              <a:pt x="3371" y="3830"/>
                            </a:lnTo>
                            <a:lnTo>
                              <a:pt x="3169" y="4444"/>
                            </a:lnTo>
                            <a:lnTo>
                              <a:pt x="3176" y="4453"/>
                            </a:lnTo>
                            <a:lnTo>
                              <a:pt x="3182" y="4461"/>
                            </a:lnTo>
                            <a:lnTo>
                              <a:pt x="3188" y="4471"/>
                            </a:lnTo>
                            <a:lnTo>
                              <a:pt x="3194" y="4481"/>
                            </a:lnTo>
                            <a:lnTo>
                              <a:pt x="3198" y="4492"/>
                            </a:lnTo>
                            <a:lnTo>
                              <a:pt x="3206" y="4502"/>
                            </a:lnTo>
                            <a:lnTo>
                              <a:pt x="3213" y="4510"/>
                            </a:lnTo>
                            <a:lnTo>
                              <a:pt x="3223" y="4520"/>
                            </a:lnTo>
                            <a:lnTo>
                              <a:pt x="3155" y="4553"/>
                            </a:lnTo>
                            <a:lnTo>
                              <a:pt x="3085" y="4584"/>
                            </a:lnTo>
                            <a:lnTo>
                              <a:pt x="3013" y="4611"/>
                            </a:lnTo>
                            <a:lnTo>
                              <a:pt x="2937" y="4635"/>
                            </a:lnTo>
                            <a:lnTo>
                              <a:pt x="2861" y="4656"/>
                            </a:lnTo>
                            <a:lnTo>
                              <a:pt x="2783" y="4675"/>
                            </a:lnTo>
                            <a:lnTo>
                              <a:pt x="2704" y="4691"/>
                            </a:lnTo>
                            <a:lnTo>
                              <a:pt x="2624" y="4703"/>
                            </a:lnTo>
                            <a:lnTo>
                              <a:pt x="2542" y="4714"/>
                            </a:lnTo>
                            <a:lnTo>
                              <a:pt x="2461" y="4720"/>
                            </a:lnTo>
                            <a:lnTo>
                              <a:pt x="2379" y="4724"/>
                            </a:lnTo>
                            <a:lnTo>
                              <a:pt x="2295" y="4726"/>
                            </a:lnTo>
                            <a:lnTo>
                              <a:pt x="2212" y="4726"/>
                            </a:lnTo>
                            <a:lnTo>
                              <a:pt x="2128" y="4722"/>
                            </a:lnTo>
                            <a:lnTo>
                              <a:pt x="2046" y="4716"/>
                            </a:lnTo>
                            <a:lnTo>
                              <a:pt x="1963" y="4707"/>
                            </a:lnTo>
                            <a:lnTo>
                              <a:pt x="1974" y="4642"/>
                            </a:lnTo>
                            <a:lnTo>
                              <a:pt x="1990" y="4580"/>
                            </a:lnTo>
                            <a:lnTo>
                              <a:pt x="2007" y="4520"/>
                            </a:lnTo>
                            <a:lnTo>
                              <a:pt x="2027" y="4457"/>
                            </a:lnTo>
                            <a:lnTo>
                              <a:pt x="2048" y="4397"/>
                            </a:lnTo>
                            <a:lnTo>
                              <a:pt x="2070" y="4338"/>
                            </a:lnTo>
                            <a:lnTo>
                              <a:pt x="2093" y="4278"/>
                            </a:lnTo>
                            <a:lnTo>
                              <a:pt x="2114" y="4218"/>
                            </a:lnTo>
                            <a:lnTo>
                              <a:pt x="2136" y="4157"/>
                            </a:lnTo>
                            <a:lnTo>
                              <a:pt x="2153" y="4097"/>
                            </a:lnTo>
                            <a:lnTo>
                              <a:pt x="2171" y="4036"/>
                            </a:lnTo>
                            <a:lnTo>
                              <a:pt x="2184" y="3976"/>
                            </a:lnTo>
                            <a:lnTo>
                              <a:pt x="2196" y="3914"/>
                            </a:lnTo>
                            <a:lnTo>
                              <a:pt x="2202" y="3851"/>
                            </a:lnTo>
                            <a:lnTo>
                              <a:pt x="2206" y="3787"/>
                            </a:lnTo>
                            <a:lnTo>
                              <a:pt x="2202" y="3723"/>
                            </a:lnTo>
                            <a:lnTo>
                              <a:pt x="1313" y="3085"/>
                            </a:lnTo>
                            <a:lnTo>
                              <a:pt x="1165" y="3085"/>
                            </a:lnTo>
                            <a:lnTo>
                              <a:pt x="770" y="4147"/>
                            </a:lnTo>
                            <a:lnTo>
                              <a:pt x="700" y="4147"/>
                            </a:lnTo>
                            <a:lnTo>
                              <a:pt x="652" y="4099"/>
                            </a:lnTo>
                            <a:lnTo>
                              <a:pt x="603" y="4048"/>
                            </a:lnTo>
                            <a:lnTo>
                              <a:pt x="558" y="3995"/>
                            </a:lnTo>
                            <a:lnTo>
                              <a:pt x="514" y="3943"/>
                            </a:lnTo>
                            <a:lnTo>
                              <a:pt x="471" y="3888"/>
                            </a:lnTo>
                            <a:lnTo>
                              <a:pt x="430" y="3832"/>
                            </a:lnTo>
                            <a:lnTo>
                              <a:pt x="391" y="3775"/>
                            </a:lnTo>
                            <a:lnTo>
                              <a:pt x="354" y="3719"/>
                            </a:lnTo>
                            <a:lnTo>
                              <a:pt x="319" y="3658"/>
                            </a:lnTo>
                            <a:lnTo>
                              <a:pt x="284" y="3600"/>
                            </a:lnTo>
                            <a:lnTo>
                              <a:pt x="253" y="3539"/>
                            </a:lnTo>
                            <a:lnTo>
                              <a:pt x="224" y="3477"/>
                            </a:lnTo>
                            <a:lnTo>
                              <a:pt x="195" y="3415"/>
                            </a:lnTo>
                            <a:lnTo>
                              <a:pt x="167" y="3350"/>
                            </a:lnTo>
                            <a:lnTo>
                              <a:pt x="144" y="3286"/>
                            </a:lnTo>
                            <a:lnTo>
                              <a:pt x="121" y="3220"/>
                            </a:lnTo>
                            <a:lnTo>
                              <a:pt x="99" y="3155"/>
                            </a:lnTo>
                            <a:lnTo>
                              <a:pt x="82" y="3087"/>
                            </a:lnTo>
                            <a:lnTo>
                              <a:pt x="64" y="3021"/>
                            </a:lnTo>
                            <a:lnTo>
                              <a:pt x="49" y="2953"/>
                            </a:lnTo>
                            <a:lnTo>
                              <a:pt x="37" y="2885"/>
                            </a:lnTo>
                            <a:lnTo>
                              <a:pt x="25" y="2814"/>
                            </a:lnTo>
                            <a:lnTo>
                              <a:pt x="16" y="2746"/>
                            </a:lnTo>
                            <a:lnTo>
                              <a:pt x="10" y="2676"/>
                            </a:lnTo>
                            <a:lnTo>
                              <a:pt x="4" y="2604"/>
                            </a:lnTo>
                            <a:lnTo>
                              <a:pt x="2" y="2534"/>
                            </a:lnTo>
                            <a:lnTo>
                              <a:pt x="0" y="2462"/>
                            </a:lnTo>
                            <a:lnTo>
                              <a:pt x="2" y="2390"/>
                            </a:lnTo>
                            <a:lnTo>
                              <a:pt x="4" y="2319"/>
                            </a:lnTo>
                            <a:lnTo>
                              <a:pt x="10" y="2245"/>
                            </a:lnTo>
                            <a:lnTo>
                              <a:pt x="18" y="2173"/>
                            </a:lnTo>
                            <a:lnTo>
                              <a:pt x="27" y="2101"/>
                            </a:lnTo>
                            <a:lnTo>
                              <a:pt x="68" y="2091"/>
                            </a:lnTo>
                            <a:lnTo>
                              <a:pt x="109" y="2082"/>
                            </a:lnTo>
                            <a:lnTo>
                              <a:pt x="148" y="2072"/>
                            </a:lnTo>
                            <a:lnTo>
                              <a:pt x="187" y="2060"/>
                            </a:lnTo>
                            <a:lnTo>
                              <a:pt x="228" y="2049"/>
                            </a:lnTo>
                            <a:lnTo>
                              <a:pt x="265" y="2037"/>
                            </a:lnTo>
                            <a:lnTo>
                              <a:pt x="304" y="2023"/>
                            </a:lnTo>
                            <a:lnTo>
                              <a:pt x="342" y="2010"/>
                            </a:lnTo>
                            <a:lnTo>
                              <a:pt x="379" y="1996"/>
                            </a:lnTo>
                            <a:lnTo>
                              <a:pt x="418" y="1980"/>
                            </a:lnTo>
                            <a:lnTo>
                              <a:pt x="455" y="1965"/>
                            </a:lnTo>
                            <a:lnTo>
                              <a:pt x="492" y="1949"/>
                            </a:lnTo>
                            <a:lnTo>
                              <a:pt x="529" y="1932"/>
                            </a:lnTo>
                            <a:lnTo>
                              <a:pt x="566" y="1914"/>
                            </a:lnTo>
                            <a:lnTo>
                              <a:pt x="601" y="1897"/>
                            </a:lnTo>
                            <a:lnTo>
                              <a:pt x="638" y="1877"/>
                            </a:lnTo>
                            <a:lnTo>
                              <a:pt x="628" y="1807"/>
                            </a:lnTo>
                            <a:lnTo>
                              <a:pt x="607" y="1739"/>
                            </a:lnTo>
                            <a:lnTo>
                              <a:pt x="578" y="1669"/>
                            </a:lnTo>
                            <a:lnTo>
                              <a:pt x="543" y="1600"/>
                            </a:lnTo>
                            <a:lnTo>
                              <a:pt x="504" y="1532"/>
                            </a:lnTo>
                            <a:lnTo>
                              <a:pt x="465" y="1466"/>
                            </a:lnTo>
                            <a:lnTo>
                              <a:pt x="426" y="1398"/>
                            </a:lnTo>
                            <a:lnTo>
                              <a:pt x="393" y="1331"/>
                            </a:lnTo>
                            <a:lnTo>
                              <a:pt x="364" y="1265"/>
                            </a:lnTo>
                            <a:lnTo>
                              <a:pt x="344" y="1199"/>
                            </a:lnTo>
                            <a:lnTo>
                              <a:pt x="337" y="1135"/>
                            </a:lnTo>
                            <a:lnTo>
                              <a:pt x="342" y="1068"/>
                            </a:lnTo>
                            <a:lnTo>
                              <a:pt x="364" y="1004"/>
                            </a:lnTo>
                            <a:lnTo>
                              <a:pt x="403" y="942"/>
                            </a:lnTo>
                            <a:lnTo>
                              <a:pt x="463" y="877"/>
                            </a:lnTo>
                            <a:lnTo>
                              <a:pt x="547" y="815"/>
                            </a:lnTo>
                            <a:lnTo>
                              <a:pt x="599" y="755"/>
                            </a:lnTo>
                            <a:lnTo>
                              <a:pt x="654" y="694"/>
                            </a:lnTo>
                            <a:lnTo>
                              <a:pt x="710" y="634"/>
                            </a:lnTo>
                            <a:lnTo>
                              <a:pt x="768" y="573"/>
                            </a:lnTo>
                            <a:lnTo>
                              <a:pt x="829" y="513"/>
                            </a:lnTo>
                            <a:lnTo>
                              <a:pt x="893" y="455"/>
                            </a:lnTo>
                            <a:lnTo>
                              <a:pt x="957" y="398"/>
                            </a:lnTo>
                            <a:lnTo>
                              <a:pt x="1025" y="341"/>
                            </a:lnTo>
                            <a:lnTo>
                              <a:pt x="1093" y="287"/>
                            </a:lnTo>
                            <a:lnTo>
                              <a:pt x="1161" y="236"/>
                            </a:lnTo>
                            <a:lnTo>
                              <a:pt x="1233" y="188"/>
                            </a:lnTo>
                            <a:lnTo>
                              <a:pt x="1305" y="143"/>
                            </a:lnTo>
                            <a:lnTo>
                              <a:pt x="1379" y="100"/>
                            </a:lnTo>
                            <a:lnTo>
                              <a:pt x="1455" y="63"/>
                            </a:lnTo>
                            <a:lnTo>
                              <a:pt x="1531" y="30"/>
                            </a:lnTo>
                            <a:lnTo>
                              <a:pt x="1607" y="0"/>
                            </a:lnTo>
                            <a:lnTo>
                              <a:pt x="1683" y="18"/>
                            </a:lnTo>
                            <a:lnTo>
                              <a:pt x="1758" y="30"/>
                            </a:lnTo>
                            <a:lnTo>
                              <a:pt x="1836" y="37"/>
                            </a:lnTo>
                            <a:lnTo>
                              <a:pt x="1914" y="39"/>
                            </a:lnTo>
                            <a:lnTo>
                              <a:pt x="1992" y="37"/>
                            </a:lnTo>
                            <a:lnTo>
                              <a:pt x="2070" y="34"/>
                            </a:lnTo>
                            <a:lnTo>
                              <a:pt x="2149" y="28"/>
                            </a:lnTo>
                            <a:lnTo>
                              <a:pt x="2227" y="24"/>
                            </a:lnTo>
                            <a:lnTo>
                              <a:pt x="2305" y="20"/>
                            </a:lnTo>
                            <a:lnTo>
                              <a:pt x="2383" y="18"/>
                            </a:lnTo>
                            <a:lnTo>
                              <a:pt x="2461" y="18"/>
                            </a:lnTo>
                            <a:lnTo>
                              <a:pt x="2536" y="24"/>
                            </a:lnTo>
                            <a:lnTo>
                              <a:pt x="2614" y="36"/>
                            </a:lnTo>
                            <a:lnTo>
                              <a:pt x="2688" y="51"/>
                            </a:lnTo>
                            <a:lnTo>
                              <a:pt x="2762" y="76"/>
                            </a:lnTo>
                            <a:lnTo>
                              <a:pt x="2836" y="110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3" name=""/>
                      <p:cNvSpPr/>
                      <p:nvPr/>
                    </p:nvSpPr>
                    <p:spPr>
                      <a:xfrm>
                        <a:off x="2084760" y="2686680"/>
                        <a:ext cx="5040" cy="10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9" h="224">
                            <a:moveTo>
                              <a:pt x="79" y="0"/>
                            </a:moveTo>
                            <a:lnTo>
                              <a:pt x="89" y="23"/>
                            </a:lnTo>
                            <a:lnTo>
                              <a:pt x="95" y="49"/>
                            </a:lnTo>
                            <a:lnTo>
                              <a:pt x="99" y="76"/>
                            </a:lnTo>
                            <a:lnTo>
                              <a:pt x="99" y="105"/>
                            </a:lnTo>
                            <a:lnTo>
                              <a:pt x="99" y="135"/>
                            </a:lnTo>
                            <a:lnTo>
                              <a:pt x="97" y="166"/>
                            </a:lnTo>
                            <a:lnTo>
                              <a:pt x="95" y="195"/>
                            </a:lnTo>
                            <a:lnTo>
                              <a:pt x="95" y="224"/>
                            </a:lnTo>
                            <a:lnTo>
                              <a:pt x="25" y="224"/>
                            </a:lnTo>
                            <a:lnTo>
                              <a:pt x="19" y="193"/>
                            </a:lnTo>
                            <a:lnTo>
                              <a:pt x="11" y="156"/>
                            </a:lnTo>
                            <a:lnTo>
                              <a:pt x="3" y="117"/>
                            </a:lnTo>
                            <a:lnTo>
                              <a:pt x="0" y="76"/>
                            </a:lnTo>
                            <a:lnTo>
                              <a:pt x="2" y="43"/>
                            </a:lnTo>
                            <a:lnTo>
                              <a:pt x="13" y="16"/>
                            </a:lnTo>
                            <a:lnTo>
                              <a:pt x="38" y="0"/>
                            </a:lnTo>
                            <a:lnTo>
                              <a:pt x="79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720" bIns="-367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4" name=""/>
                      <p:cNvSpPr/>
                      <p:nvPr/>
                    </p:nvSpPr>
                    <p:spPr>
                      <a:xfrm>
                        <a:off x="2078280" y="2705760"/>
                        <a:ext cx="5760" cy="8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7" h="191">
                            <a:moveTo>
                              <a:pt x="99" y="0"/>
                            </a:moveTo>
                            <a:lnTo>
                              <a:pt x="113" y="22"/>
                            </a:lnTo>
                            <a:lnTo>
                              <a:pt x="117" y="43"/>
                            </a:lnTo>
                            <a:lnTo>
                              <a:pt x="115" y="67"/>
                            </a:lnTo>
                            <a:lnTo>
                              <a:pt x="109" y="90"/>
                            </a:lnTo>
                            <a:lnTo>
                              <a:pt x="99" y="115"/>
                            </a:lnTo>
                            <a:lnTo>
                              <a:pt x="90" y="139"/>
                            </a:lnTo>
                            <a:lnTo>
                              <a:pt x="82" y="164"/>
                            </a:lnTo>
                            <a:lnTo>
                              <a:pt x="76" y="187"/>
                            </a:lnTo>
                            <a:lnTo>
                              <a:pt x="62" y="191"/>
                            </a:lnTo>
                            <a:lnTo>
                              <a:pt x="49" y="189"/>
                            </a:lnTo>
                            <a:lnTo>
                              <a:pt x="37" y="184"/>
                            </a:lnTo>
                            <a:lnTo>
                              <a:pt x="27" y="174"/>
                            </a:lnTo>
                            <a:lnTo>
                              <a:pt x="18" y="162"/>
                            </a:lnTo>
                            <a:lnTo>
                              <a:pt x="12" y="150"/>
                            </a:lnTo>
                            <a:lnTo>
                              <a:pt x="8" y="137"/>
                            </a:lnTo>
                            <a:lnTo>
                              <a:pt x="6" y="125"/>
                            </a:lnTo>
                            <a:lnTo>
                              <a:pt x="0" y="98"/>
                            </a:lnTo>
                            <a:lnTo>
                              <a:pt x="0" y="72"/>
                            </a:lnTo>
                            <a:lnTo>
                              <a:pt x="6" y="51"/>
                            </a:lnTo>
                            <a:lnTo>
                              <a:pt x="18" y="33"/>
                            </a:lnTo>
                            <a:lnTo>
                              <a:pt x="33" y="20"/>
                            </a:lnTo>
                            <a:lnTo>
                              <a:pt x="53" y="8"/>
                            </a:lnTo>
                            <a:lnTo>
                              <a:pt x="74" y="2"/>
                            </a:lnTo>
                            <a:lnTo>
                              <a:pt x="99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5" name=""/>
                      <p:cNvSpPr/>
                      <p:nvPr/>
                    </p:nvSpPr>
                    <p:spPr>
                      <a:xfrm>
                        <a:off x="1991160" y="2711520"/>
                        <a:ext cx="4680" cy="12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4" h="279">
                            <a:moveTo>
                              <a:pt x="94" y="0"/>
                            </a:moveTo>
                            <a:lnTo>
                              <a:pt x="0" y="279"/>
                            </a:lnTo>
                            <a:lnTo>
                              <a:pt x="94" y="0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200" bIns="-342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6" name=""/>
                      <p:cNvSpPr/>
                      <p:nvPr/>
                    </p:nvSpPr>
                    <p:spPr>
                      <a:xfrm>
                        <a:off x="2270880" y="2713320"/>
                        <a:ext cx="67680" cy="60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99" h="1302">
                            <a:moveTo>
                              <a:pt x="1299" y="185"/>
                            </a:moveTo>
                            <a:lnTo>
                              <a:pt x="1291" y="251"/>
                            </a:lnTo>
                            <a:lnTo>
                              <a:pt x="1285" y="318"/>
                            </a:lnTo>
                            <a:lnTo>
                              <a:pt x="1278" y="386"/>
                            </a:lnTo>
                            <a:lnTo>
                              <a:pt x="1272" y="456"/>
                            </a:lnTo>
                            <a:lnTo>
                              <a:pt x="1266" y="526"/>
                            </a:lnTo>
                            <a:lnTo>
                              <a:pt x="1260" y="596"/>
                            </a:lnTo>
                            <a:lnTo>
                              <a:pt x="1254" y="666"/>
                            </a:lnTo>
                            <a:lnTo>
                              <a:pt x="1248" y="737"/>
                            </a:lnTo>
                            <a:lnTo>
                              <a:pt x="1241" y="809"/>
                            </a:lnTo>
                            <a:lnTo>
                              <a:pt x="1235" y="881"/>
                            </a:lnTo>
                            <a:lnTo>
                              <a:pt x="1229" y="951"/>
                            </a:lnTo>
                            <a:lnTo>
                              <a:pt x="1221" y="1023"/>
                            </a:lnTo>
                            <a:lnTo>
                              <a:pt x="1213" y="1093"/>
                            </a:lnTo>
                            <a:lnTo>
                              <a:pt x="1206" y="1163"/>
                            </a:lnTo>
                            <a:lnTo>
                              <a:pt x="1198" y="1234"/>
                            </a:lnTo>
                            <a:lnTo>
                              <a:pt x="1190" y="1302"/>
                            </a:lnTo>
                            <a:lnTo>
                              <a:pt x="1114" y="1294"/>
                            </a:lnTo>
                            <a:lnTo>
                              <a:pt x="1038" y="1280"/>
                            </a:lnTo>
                            <a:lnTo>
                              <a:pt x="964" y="1263"/>
                            </a:lnTo>
                            <a:lnTo>
                              <a:pt x="891" y="1241"/>
                            </a:lnTo>
                            <a:lnTo>
                              <a:pt x="817" y="1218"/>
                            </a:lnTo>
                            <a:lnTo>
                              <a:pt x="743" y="1193"/>
                            </a:lnTo>
                            <a:lnTo>
                              <a:pt x="671" y="1165"/>
                            </a:lnTo>
                            <a:lnTo>
                              <a:pt x="599" y="1136"/>
                            </a:lnTo>
                            <a:lnTo>
                              <a:pt x="525" y="1107"/>
                            </a:lnTo>
                            <a:lnTo>
                              <a:pt x="451" y="1080"/>
                            </a:lnTo>
                            <a:lnTo>
                              <a:pt x="379" y="1052"/>
                            </a:lnTo>
                            <a:lnTo>
                              <a:pt x="305" y="1027"/>
                            </a:lnTo>
                            <a:lnTo>
                              <a:pt x="229" y="1004"/>
                            </a:lnTo>
                            <a:lnTo>
                              <a:pt x="153" y="982"/>
                            </a:lnTo>
                            <a:lnTo>
                              <a:pt x="78" y="965"/>
                            </a:lnTo>
                            <a:lnTo>
                              <a:pt x="0" y="953"/>
                            </a:lnTo>
                            <a:lnTo>
                              <a:pt x="4" y="889"/>
                            </a:lnTo>
                            <a:lnTo>
                              <a:pt x="11" y="826"/>
                            </a:lnTo>
                            <a:lnTo>
                              <a:pt x="21" y="762"/>
                            </a:lnTo>
                            <a:lnTo>
                              <a:pt x="35" y="700"/>
                            </a:lnTo>
                            <a:lnTo>
                              <a:pt x="50" y="639"/>
                            </a:lnTo>
                            <a:lnTo>
                              <a:pt x="68" y="577"/>
                            </a:lnTo>
                            <a:lnTo>
                              <a:pt x="89" y="516"/>
                            </a:lnTo>
                            <a:lnTo>
                              <a:pt x="113" y="456"/>
                            </a:lnTo>
                            <a:lnTo>
                              <a:pt x="138" y="396"/>
                            </a:lnTo>
                            <a:lnTo>
                              <a:pt x="165" y="337"/>
                            </a:lnTo>
                            <a:lnTo>
                              <a:pt x="194" y="279"/>
                            </a:lnTo>
                            <a:lnTo>
                              <a:pt x="227" y="222"/>
                            </a:lnTo>
                            <a:lnTo>
                              <a:pt x="260" y="166"/>
                            </a:lnTo>
                            <a:lnTo>
                              <a:pt x="295" y="109"/>
                            </a:lnTo>
                            <a:lnTo>
                              <a:pt x="332" y="55"/>
                            </a:lnTo>
                            <a:lnTo>
                              <a:pt x="371" y="0"/>
                            </a:lnTo>
                            <a:lnTo>
                              <a:pt x="430" y="12"/>
                            </a:lnTo>
                            <a:lnTo>
                              <a:pt x="486" y="25"/>
                            </a:lnTo>
                            <a:lnTo>
                              <a:pt x="542" y="41"/>
                            </a:lnTo>
                            <a:lnTo>
                              <a:pt x="601" y="55"/>
                            </a:lnTo>
                            <a:lnTo>
                              <a:pt x="657" y="70"/>
                            </a:lnTo>
                            <a:lnTo>
                              <a:pt x="714" y="86"/>
                            </a:lnTo>
                            <a:lnTo>
                              <a:pt x="770" y="101"/>
                            </a:lnTo>
                            <a:lnTo>
                              <a:pt x="826" y="115"/>
                            </a:lnTo>
                            <a:lnTo>
                              <a:pt x="883" y="131"/>
                            </a:lnTo>
                            <a:lnTo>
                              <a:pt x="941" y="142"/>
                            </a:lnTo>
                            <a:lnTo>
                              <a:pt x="999" y="154"/>
                            </a:lnTo>
                            <a:lnTo>
                              <a:pt x="1058" y="166"/>
                            </a:lnTo>
                            <a:lnTo>
                              <a:pt x="1116" y="173"/>
                            </a:lnTo>
                            <a:lnTo>
                              <a:pt x="1176" y="179"/>
                            </a:lnTo>
                            <a:lnTo>
                              <a:pt x="1237" y="183"/>
                            </a:lnTo>
                            <a:lnTo>
                              <a:pt x="1299" y="185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3320" bIns="133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7" name=""/>
                      <p:cNvSpPr/>
                      <p:nvPr/>
                    </p:nvSpPr>
                    <p:spPr>
                      <a:xfrm>
                        <a:off x="1979640" y="2724480"/>
                        <a:ext cx="1800" cy="7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7" h="156">
                            <a:moveTo>
                              <a:pt x="37" y="0"/>
                            </a:moveTo>
                            <a:lnTo>
                              <a:pt x="0" y="156"/>
                            </a:lnTo>
                            <a:lnTo>
                              <a:pt x="37" y="0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600" bIns="-396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8" name=""/>
                      <p:cNvSpPr/>
                      <p:nvPr/>
                    </p:nvSpPr>
                    <p:spPr>
                      <a:xfrm>
                        <a:off x="2069280" y="2723760"/>
                        <a:ext cx="5400" cy="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1" h="197">
                            <a:moveTo>
                              <a:pt x="95" y="10"/>
                            </a:moveTo>
                            <a:lnTo>
                              <a:pt x="97" y="31"/>
                            </a:lnTo>
                            <a:lnTo>
                              <a:pt x="97" y="51"/>
                            </a:lnTo>
                            <a:lnTo>
                              <a:pt x="95" y="72"/>
                            </a:lnTo>
                            <a:lnTo>
                              <a:pt x="95" y="94"/>
                            </a:lnTo>
                            <a:lnTo>
                              <a:pt x="93" y="113"/>
                            </a:lnTo>
                            <a:lnTo>
                              <a:pt x="97" y="132"/>
                            </a:lnTo>
                            <a:lnTo>
                              <a:pt x="101" y="150"/>
                            </a:lnTo>
                            <a:lnTo>
                              <a:pt x="111" y="166"/>
                            </a:lnTo>
                            <a:lnTo>
                              <a:pt x="105" y="171"/>
                            </a:lnTo>
                            <a:lnTo>
                              <a:pt x="97" y="179"/>
                            </a:lnTo>
                            <a:lnTo>
                              <a:pt x="89" y="187"/>
                            </a:lnTo>
                            <a:lnTo>
                              <a:pt x="80" y="193"/>
                            </a:lnTo>
                            <a:lnTo>
                              <a:pt x="70" y="197"/>
                            </a:lnTo>
                            <a:lnTo>
                              <a:pt x="60" y="197"/>
                            </a:lnTo>
                            <a:lnTo>
                              <a:pt x="52" y="193"/>
                            </a:lnTo>
                            <a:lnTo>
                              <a:pt x="43" y="181"/>
                            </a:lnTo>
                            <a:lnTo>
                              <a:pt x="23" y="160"/>
                            </a:lnTo>
                            <a:lnTo>
                              <a:pt x="10" y="131"/>
                            </a:lnTo>
                            <a:lnTo>
                              <a:pt x="2" y="95"/>
                            </a:lnTo>
                            <a:lnTo>
                              <a:pt x="0" y="60"/>
                            </a:lnTo>
                            <a:lnTo>
                              <a:pt x="8" y="29"/>
                            </a:lnTo>
                            <a:lnTo>
                              <a:pt x="25" y="8"/>
                            </a:lnTo>
                            <a:lnTo>
                              <a:pt x="52" y="0"/>
                            </a:lnTo>
                            <a:lnTo>
                              <a:pt x="95" y="1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9" name=""/>
                      <p:cNvSpPr/>
                      <p:nvPr/>
                    </p:nvSpPr>
                    <p:spPr>
                      <a:xfrm>
                        <a:off x="1986480" y="2730600"/>
                        <a:ext cx="720" cy="5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5" h="133">
                            <a:moveTo>
                              <a:pt x="0" y="133"/>
                            </a:moveTo>
                            <a:lnTo>
                              <a:pt x="15" y="0"/>
                            </a:lnTo>
                            <a:lnTo>
                              <a:pt x="15" y="133"/>
                            </a:lnTo>
                            <a:lnTo>
                              <a:pt x="0" y="133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040" bIns="-410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0" name=""/>
                      <p:cNvSpPr/>
                      <p:nvPr/>
                    </p:nvSpPr>
                    <p:spPr>
                      <a:xfrm>
                        <a:off x="1994040" y="2737440"/>
                        <a:ext cx="1800" cy="5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9" h="117">
                            <a:moveTo>
                              <a:pt x="39" y="0"/>
                            </a:moveTo>
                            <a:lnTo>
                              <a:pt x="39" y="18"/>
                            </a:lnTo>
                            <a:lnTo>
                              <a:pt x="37" y="35"/>
                            </a:lnTo>
                            <a:lnTo>
                              <a:pt x="35" y="53"/>
                            </a:lnTo>
                            <a:lnTo>
                              <a:pt x="31" y="71"/>
                            </a:lnTo>
                            <a:lnTo>
                              <a:pt x="25" y="86"/>
                            </a:lnTo>
                            <a:lnTo>
                              <a:pt x="19" y="100"/>
                            </a:lnTo>
                            <a:lnTo>
                              <a:pt x="9" y="110"/>
                            </a:lnTo>
                            <a:lnTo>
                              <a:pt x="0" y="117"/>
                            </a:lnTo>
                            <a:lnTo>
                              <a:pt x="0" y="0"/>
                            </a:lnTo>
                            <a:lnTo>
                              <a:pt x="39" y="0"/>
                            </a:lnTo>
                            <a:close/>
                          </a:path>
                        </a:pathLst>
                      </a:custGeom>
                      <a:solidFill>
                        <a:srgbClr val="ffbf1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760" bIns="-417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1" name=""/>
                      <p:cNvSpPr/>
                      <p:nvPr/>
                    </p:nvSpPr>
                    <p:spPr>
                      <a:xfrm>
                        <a:off x="2070360" y="2738880"/>
                        <a:ext cx="10800" cy="11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8" h="246">
                            <a:moveTo>
                              <a:pt x="208" y="133"/>
                            </a:moveTo>
                            <a:lnTo>
                              <a:pt x="203" y="154"/>
                            </a:lnTo>
                            <a:lnTo>
                              <a:pt x="195" y="180"/>
                            </a:lnTo>
                            <a:lnTo>
                              <a:pt x="187" y="203"/>
                            </a:lnTo>
                            <a:lnTo>
                              <a:pt x="177" y="223"/>
                            </a:lnTo>
                            <a:lnTo>
                              <a:pt x="162" y="238"/>
                            </a:lnTo>
                            <a:lnTo>
                              <a:pt x="144" y="246"/>
                            </a:lnTo>
                            <a:lnTo>
                              <a:pt x="121" y="242"/>
                            </a:lnTo>
                            <a:lnTo>
                              <a:pt x="92" y="226"/>
                            </a:lnTo>
                            <a:lnTo>
                              <a:pt x="105" y="189"/>
                            </a:lnTo>
                            <a:lnTo>
                              <a:pt x="103" y="158"/>
                            </a:lnTo>
                            <a:lnTo>
                              <a:pt x="90" y="131"/>
                            </a:lnTo>
                            <a:lnTo>
                              <a:pt x="70" y="108"/>
                            </a:lnTo>
                            <a:lnTo>
                              <a:pt x="45" y="84"/>
                            </a:lnTo>
                            <a:lnTo>
                              <a:pt x="24" y="59"/>
                            </a:lnTo>
                            <a:lnTo>
                              <a:pt x="6" y="32"/>
                            </a:lnTo>
                            <a:lnTo>
                              <a:pt x="0" y="0"/>
                            </a:lnTo>
                            <a:lnTo>
                              <a:pt x="30" y="8"/>
                            </a:lnTo>
                            <a:lnTo>
                              <a:pt x="61" y="18"/>
                            </a:lnTo>
                            <a:lnTo>
                              <a:pt x="92" y="28"/>
                            </a:lnTo>
                            <a:lnTo>
                              <a:pt x="121" y="39"/>
                            </a:lnTo>
                            <a:lnTo>
                              <a:pt x="148" y="57"/>
                            </a:lnTo>
                            <a:lnTo>
                              <a:pt x="173" y="76"/>
                            </a:lnTo>
                            <a:lnTo>
                              <a:pt x="193" y="102"/>
                            </a:lnTo>
                            <a:lnTo>
                              <a:pt x="208" y="133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640" bIns="-356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2" name=""/>
                      <p:cNvSpPr/>
                      <p:nvPr/>
                    </p:nvSpPr>
                    <p:spPr>
                      <a:xfrm>
                        <a:off x="2073240" y="2753640"/>
                        <a:ext cx="6840" cy="6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2" h="136">
                            <a:moveTo>
                              <a:pt x="132" y="94"/>
                            </a:moveTo>
                            <a:lnTo>
                              <a:pt x="132" y="133"/>
                            </a:lnTo>
                            <a:lnTo>
                              <a:pt x="99" y="136"/>
                            </a:lnTo>
                            <a:lnTo>
                              <a:pt x="70" y="131"/>
                            </a:lnTo>
                            <a:lnTo>
                              <a:pt x="45" y="117"/>
                            </a:lnTo>
                            <a:lnTo>
                              <a:pt x="23" y="97"/>
                            </a:lnTo>
                            <a:lnTo>
                              <a:pt x="10" y="76"/>
                            </a:lnTo>
                            <a:lnTo>
                              <a:pt x="2" y="51"/>
                            </a:lnTo>
                            <a:lnTo>
                              <a:pt x="0" y="25"/>
                            </a:lnTo>
                            <a:lnTo>
                              <a:pt x="8" y="0"/>
                            </a:lnTo>
                            <a:lnTo>
                              <a:pt x="27" y="0"/>
                            </a:lnTo>
                            <a:lnTo>
                              <a:pt x="45" y="8"/>
                            </a:lnTo>
                            <a:lnTo>
                              <a:pt x="60" y="18"/>
                            </a:lnTo>
                            <a:lnTo>
                              <a:pt x="76" y="31"/>
                            </a:lnTo>
                            <a:lnTo>
                              <a:pt x="89" y="49"/>
                            </a:lnTo>
                            <a:lnTo>
                              <a:pt x="105" y="64"/>
                            </a:lnTo>
                            <a:lnTo>
                              <a:pt x="119" y="80"/>
                            </a:lnTo>
                            <a:lnTo>
                              <a:pt x="132" y="94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3" name=""/>
                      <p:cNvSpPr/>
                      <p:nvPr/>
                    </p:nvSpPr>
                    <p:spPr>
                      <a:xfrm>
                        <a:off x="2079360" y="2766240"/>
                        <a:ext cx="7560" cy="11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7" h="255">
                            <a:moveTo>
                              <a:pt x="147" y="255"/>
                            </a:moveTo>
                            <a:lnTo>
                              <a:pt x="110" y="255"/>
                            </a:lnTo>
                            <a:lnTo>
                              <a:pt x="83" y="242"/>
                            </a:lnTo>
                            <a:lnTo>
                              <a:pt x="62" y="222"/>
                            </a:lnTo>
                            <a:lnTo>
                              <a:pt x="44" y="195"/>
                            </a:lnTo>
                            <a:lnTo>
                              <a:pt x="31" y="164"/>
                            </a:lnTo>
                            <a:lnTo>
                              <a:pt x="21" y="131"/>
                            </a:lnTo>
                            <a:lnTo>
                              <a:pt x="11" y="97"/>
                            </a:lnTo>
                            <a:lnTo>
                              <a:pt x="0" y="70"/>
                            </a:lnTo>
                            <a:lnTo>
                              <a:pt x="15" y="0"/>
                            </a:lnTo>
                            <a:lnTo>
                              <a:pt x="50" y="21"/>
                            </a:lnTo>
                            <a:lnTo>
                              <a:pt x="75" y="47"/>
                            </a:lnTo>
                            <a:lnTo>
                              <a:pt x="97" y="76"/>
                            </a:lnTo>
                            <a:lnTo>
                              <a:pt x="114" y="109"/>
                            </a:lnTo>
                            <a:lnTo>
                              <a:pt x="126" y="146"/>
                            </a:lnTo>
                            <a:lnTo>
                              <a:pt x="134" y="183"/>
                            </a:lnTo>
                            <a:lnTo>
                              <a:pt x="142" y="220"/>
                            </a:lnTo>
                            <a:lnTo>
                              <a:pt x="147" y="255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280" bIns="-352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4" name=""/>
                      <p:cNvSpPr/>
                      <p:nvPr/>
                    </p:nvSpPr>
                    <p:spPr>
                      <a:xfrm>
                        <a:off x="2084760" y="2786400"/>
                        <a:ext cx="5760" cy="11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6" h="245">
                            <a:moveTo>
                              <a:pt x="116" y="120"/>
                            </a:moveTo>
                            <a:lnTo>
                              <a:pt x="116" y="230"/>
                            </a:lnTo>
                            <a:lnTo>
                              <a:pt x="101" y="241"/>
                            </a:lnTo>
                            <a:lnTo>
                              <a:pt x="85" y="245"/>
                            </a:lnTo>
                            <a:lnTo>
                              <a:pt x="70" y="243"/>
                            </a:lnTo>
                            <a:lnTo>
                              <a:pt x="56" y="235"/>
                            </a:lnTo>
                            <a:lnTo>
                              <a:pt x="40" y="228"/>
                            </a:lnTo>
                            <a:lnTo>
                              <a:pt x="25" y="216"/>
                            </a:lnTo>
                            <a:lnTo>
                              <a:pt x="11" y="202"/>
                            </a:lnTo>
                            <a:lnTo>
                              <a:pt x="0" y="191"/>
                            </a:lnTo>
                            <a:lnTo>
                              <a:pt x="23" y="3"/>
                            </a:lnTo>
                            <a:lnTo>
                              <a:pt x="48" y="0"/>
                            </a:lnTo>
                            <a:lnTo>
                              <a:pt x="68" y="3"/>
                            </a:lnTo>
                            <a:lnTo>
                              <a:pt x="85" y="15"/>
                            </a:lnTo>
                            <a:lnTo>
                              <a:pt x="99" y="31"/>
                            </a:lnTo>
                            <a:lnTo>
                              <a:pt x="108" y="50"/>
                            </a:lnTo>
                            <a:lnTo>
                              <a:pt x="114" y="74"/>
                            </a:lnTo>
                            <a:lnTo>
                              <a:pt x="116" y="97"/>
                            </a:lnTo>
                            <a:lnTo>
                              <a:pt x="116" y="12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640" bIns="-356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5" name=""/>
                      <p:cNvSpPr/>
                      <p:nvPr/>
                    </p:nvSpPr>
                    <p:spPr>
                      <a:xfrm>
                        <a:off x="2089800" y="2803680"/>
                        <a:ext cx="5760" cy="10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5" h="218">
                            <a:moveTo>
                              <a:pt x="115" y="210"/>
                            </a:moveTo>
                            <a:lnTo>
                              <a:pt x="82" y="218"/>
                            </a:lnTo>
                            <a:lnTo>
                              <a:pt x="58" y="214"/>
                            </a:lnTo>
                            <a:lnTo>
                              <a:pt x="43" y="202"/>
                            </a:lnTo>
                            <a:lnTo>
                              <a:pt x="31" y="183"/>
                            </a:lnTo>
                            <a:lnTo>
                              <a:pt x="23" y="161"/>
                            </a:lnTo>
                            <a:lnTo>
                              <a:pt x="15" y="136"/>
                            </a:lnTo>
                            <a:lnTo>
                              <a:pt x="10" y="113"/>
                            </a:lnTo>
                            <a:lnTo>
                              <a:pt x="0" y="93"/>
                            </a:lnTo>
                            <a:lnTo>
                              <a:pt x="23" y="0"/>
                            </a:lnTo>
                            <a:lnTo>
                              <a:pt x="52" y="11"/>
                            </a:lnTo>
                            <a:lnTo>
                              <a:pt x="76" y="31"/>
                            </a:lnTo>
                            <a:lnTo>
                              <a:pt x="89" y="56"/>
                            </a:lnTo>
                            <a:lnTo>
                              <a:pt x="101" y="83"/>
                            </a:lnTo>
                            <a:lnTo>
                              <a:pt x="107" y="115"/>
                            </a:lnTo>
                            <a:lnTo>
                              <a:pt x="111" y="148"/>
                            </a:lnTo>
                            <a:lnTo>
                              <a:pt x="113" y="179"/>
                            </a:lnTo>
                            <a:lnTo>
                              <a:pt x="115" y="21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720" bIns="-367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6" name=""/>
                      <p:cNvSpPr/>
                      <p:nvPr/>
                    </p:nvSpPr>
                    <p:spPr>
                      <a:xfrm>
                        <a:off x="2093040" y="2822400"/>
                        <a:ext cx="468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5" h="207">
                            <a:moveTo>
                              <a:pt x="94" y="58"/>
                            </a:moveTo>
                            <a:lnTo>
                              <a:pt x="90" y="80"/>
                            </a:lnTo>
                            <a:lnTo>
                              <a:pt x="92" y="103"/>
                            </a:lnTo>
                            <a:lnTo>
                              <a:pt x="94" y="127"/>
                            </a:lnTo>
                            <a:lnTo>
                              <a:pt x="95" y="150"/>
                            </a:lnTo>
                            <a:lnTo>
                              <a:pt x="94" y="171"/>
                            </a:lnTo>
                            <a:lnTo>
                              <a:pt x="88" y="187"/>
                            </a:lnTo>
                            <a:lnTo>
                              <a:pt x="76" y="201"/>
                            </a:lnTo>
                            <a:lnTo>
                              <a:pt x="55" y="207"/>
                            </a:lnTo>
                            <a:lnTo>
                              <a:pt x="0" y="207"/>
                            </a:lnTo>
                            <a:lnTo>
                              <a:pt x="16" y="4"/>
                            </a:lnTo>
                            <a:lnTo>
                              <a:pt x="29" y="0"/>
                            </a:lnTo>
                            <a:lnTo>
                              <a:pt x="43" y="2"/>
                            </a:lnTo>
                            <a:lnTo>
                              <a:pt x="55" y="8"/>
                            </a:lnTo>
                            <a:lnTo>
                              <a:pt x="66" y="16"/>
                            </a:lnTo>
                            <a:lnTo>
                              <a:pt x="76" y="27"/>
                            </a:lnTo>
                            <a:lnTo>
                              <a:pt x="84" y="37"/>
                            </a:lnTo>
                            <a:lnTo>
                              <a:pt x="90" y="49"/>
                            </a:lnTo>
                            <a:lnTo>
                              <a:pt x="94" y="58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7" name=""/>
                      <p:cNvSpPr/>
                      <p:nvPr/>
                    </p:nvSpPr>
                    <p:spPr>
                      <a:xfrm>
                        <a:off x="2038320" y="2831400"/>
                        <a:ext cx="10800" cy="23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0" h="518">
                            <a:moveTo>
                              <a:pt x="0" y="518"/>
                            </a:moveTo>
                            <a:lnTo>
                              <a:pt x="11" y="489"/>
                            </a:lnTo>
                            <a:lnTo>
                              <a:pt x="23" y="460"/>
                            </a:lnTo>
                            <a:lnTo>
                              <a:pt x="35" y="429"/>
                            </a:lnTo>
                            <a:lnTo>
                              <a:pt x="44" y="396"/>
                            </a:lnTo>
                            <a:lnTo>
                              <a:pt x="52" y="362"/>
                            </a:lnTo>
                            <a:lnTo>
                              <a:pt x="62" y="329"/>
                            </a:lnTo>
                            <a:lnTo>
                              <a:pt x="72" y="294"/>
                            </a:lnTo>
                            <a:lnTo>
                              <a:pt x="81" y="259"/>
                            </a:lnTo>
                            <a:lnTo>
                              <a:pt x="91" y="224"/>
                            </a:lnTo>
                            <a:lnTo>
                              <a:pt x="103" y="189"/>
                            </a:lnTo>
                            <a:lnTo>
                              <a:pt x="116" y="156"/>
                            </a:lnTo>
                            <a:lnTo>
                              <a:pt x="132" y="123"/>
                            </a:lnTo>
                            <a:lnTo>
                              <a:pt x="148" y="90"/>
                            </a:lnTo>
                            <a:lnTo>
                              <a:pt x="165" y="58"/>
                            </a:lnTo>
                            <a:lnTo>
                              <a:pt x="186" y="29"/>
                            </a:lnTo>
                            <a:lnTo>
                              <a:pt x="210" y="0"/>
                            </a:lnTo>
                            <a:lnTo>
                              <a:pt x="198" y="33"/>
                            </a:lnTo>
                            <a:lnTo>
                              <a:pt x="186" y="68"/>
                            </a:lnTo>
                            <a:lnTo>
                              <a:pt x="177" y="101"/>
                            </a:lnTo>
                            <a:lnTo>
                              <a:pt x="165" y="136"/>
                            </a:lnTo>
                            <a:lnTo>
                              <a:pt x="153" y="171"/>
                            </a:lnTo>
                            <a:lnTo>
                              <a:pt x="142" y="205"/>
                            </a:lnTo>
                            <a:lnTo>
                              <a:pt x="132" y="240"/>
                            </a:lnTo>
                            <a:lnTo>
                              <a:pt x="120" y="273"/>
                            </a:lnTo>
                            <a:lnTo>
                              <a:pt x="107" y="308"/>
                            </a:lnTo>
                            <a:lnTo>
                              <a:pt x="95" y="341"/>
                            </a:lnTo>
                            <a:lnTo>
                              <a:pt x="81" y="372"/>
                            </a:lnTo>
                            <a:lnTo>
                              <a:pt x="66" y="403"/>
                            </a:lnTo>
                            <a:lnTo>
                              <a:pt x="52" y="434"/>
                            </a:lnTo>
                            <a:lnTo>
                              <a:pt x="35" y="464"/>
                            </a:lnTo>
                            <a:lnTo>
                              <a:pt x="17" y="491"/>
                            </a:lnTo>
                            <a:lnTo>
                              <a:pt x="0" y="518"/>
                            </a:lnTo>
                            <a:close/>
                          </a:path>
                        </a:pathLst>
                      </a:custGeom>
                      <a:solidFill>
                        <a:srgbClr val="ffbf1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040" bIns="-230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8" name=""/>
                      <p:cNvSpPr/>
                      <p:nvPr/>
                    </p:nvSpPr>
                    <p:spPr>
                      <a:xfrm>
                        <a:off x="2067480" y="2832120"/>
                        <a:ext cx="1080" cy="3960"/>
                      </a:xfrm>
                      <a:prstGeom prst="rect">
                        <a:avLst/>
                      </a:prstGeom>
                      <a:solidFill>
                        <a:srgbClr val="ffbf1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840" bIns="-428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9" name=""/>
                      <p:cNvSpPr/>
                      <p:nvPr/>
                    </p:nvSpPr>
                    <p:spPr>
                      <a:xfrm>
                        <a:off x="2052720" y="2835000"/>
                        <a:ext cx="4320" cy="10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7" h="218">
                            <a:moveTo>
                              <a:pt x="82" y="0"/>
                            </a:moveTo>
                            <a:lnTo>
                              <a:pt x="87" y="27"/>
                            </a:lnTo>
                            <a:lnTo>
                              <a:pt x="86" y="54"/>
                            </a:lnTo>
                            <a:lnTo>
                              <a:pt x="78" y="82"/>
                            </a:lnTo>
                            <a:lnTo>
                              <a:pt x="64" y="109"/>
                            </a:lnTo>
                            <a:lnTo>
                              <a:pt x="49" y="136"/>
                            </a:lnTo>
                            <a:lnTo>
                              <a:pt x="31" y="164"/>
                            </a:lnTo>
                            <a:lnTo>
                              <a:pt x="17" y="191"/>
                            </a:lnTo>
                            <a:lnTo>
                              <a:pt x="6" y="218"/>
                            </a:lnTo>
                            <a:lnTo>
                              <a:pt x="0" y="191"/>
                            </a:lnTo>
                            <a:lnTo>
                              <a:pt x="2" y="162"/>
                            </a:lnTo>
                            <a:lnTo>
                              <a:pt x="10" y="132"/>
                            </a:lnTo>
                            <a:lnTo>
                              <a:pt x="23" y="103"/>
                            </a:lnTo>
                            <a:lnTo>
                              <a:pt x="39" y="74"/>
                            </a:lnTo>
                            <a:lnTo>
                              <a:pt x="56" y="47"/>
                            </a:lnTo>
                            <a:lnTo>
                              <a:pt x="70" y="21"/>
                            </a:lnTo>
                            <a:lnTo>
                              <a:pt x="82" y="0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720" bIns="-367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40" name=""/>
                      <p:cNvSpPr/>
                      <p:nvPr/>
                    </p:nvSpPr>
                    <p:spPr>
                      <a:xfrm>
                        <a:off x="2075040" y="2839320"/>
                        <a:ext cx="1080" cy="2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3" h="71">
                            <a:moveTo>
                              <a:pt x="23" y="0"/>
                            </a:moveTo>
                            <a:lnTo>
                              <a:pt x="21" y="10"/>
                            </a:lnTo>
                            <a:lnTo>
                              <a:pt x="21" y="20"/>
                            </a:lnTo>
                            <a:lnTo>
                              <a:pt x="23" y="30"/>
                            </a:lnTo>
                            <a:lnTo>
                              <a:pt x="23" y="37"/>
                            </a:lnTo>
                            <a:lnTo>
                              <a:pt x="23" y="47"/>
                            </a:lnTo>
                            <a:lnTo>
                              <a:pt x="19" y="57"/>
                            </a:lnTo>
                            <a:lnTo>
                              <a:pt x="11" y="65"/>
                            </a:lnTo>
                            <a:lnTo>
                              <a:pt x="0" y="71"/>
                            </a:lnTo>
                            <a:lnTo>
                              <a:pt x="0" y="0"/>
                            </a:lnTo>
                            <a:lnTo>
                              <a:pt x="23" y="0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920" bIns="-439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41" name=""/>
                      <p:cNvSpPr/>
                      <p:nvPr/>
                    </p:nvSpPr>
                    <p:spPr>
                      <a:xfrm>
                        <a:off x="2045160" y="2852280"/>
                        <a:ext cx="3960" cy="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8" h="203">
                            <a:moveTo>
                              <a:pt x="78" y="0"/>
                            </a:moveTo>
                            <a:lnTo>
                              <a:pt x="0" y="203"/>
                            </a:lnTo>
                            <a:lnTo>
                              <a:pt x="78" y="0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42" name=""/>
                      <p:cNvSpPr/>
                      <p:nvPr/>
                    </p:nvSpPr>
                    <p:spPr>
                      <a:xfrm>
                        <a:off x="1908720" y="2854080"/>
                        <a:ext cx="32040" cy="38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5" h="828">
                            <a:moveTo>
                              <a:pt x="574" y="308"/>
                            </a:moveTo>
                            <a:lnTo>
                              <a:pt x="593" y="325"/>
                            </a:lnTo>
                            <a:lnTo>
                              <a:pt x="607" y="345"/>
                            </a:lnTo>
                            <a:lnTo>
                              <a:pt x="613" y="368"/>
                            </a:lnTo>
                            <a:lnTo>
                              <a:pt x="615" y="394"/>
                            </a:lnTo>
                            <a:lnTo>
                              <a:pt x="611" y="419"/>
                            </a:lnTo>
                            <a:lnTo>
                              <a:pt x="603" y="442"/>
                            </a:lnTo>
                            <a:lnTo>
                              <a:pt x="589" y="462"/>
                            </a:lnTo>
                            <a:lnTo>
                              <a:pt x="574" y="479"/>
                            </a:lnTo>
                            <a:lnTo>
                              <a:pt x="550" y="503"/>
                            </a:lnTo>
                            <a:lnTo>
                              <a:pt x="529" y="528"/>
                            </a:lnTo>
                            <a:lnTo>
                              <a:pt x="508" y="553"/>
                            </a:lnTo>
                            <a:lnTo>
                              <a:pt x="488" y="583"/>
                            </a:lnTo>
                            <a:lnTo>
                              <a:pt x="469" y="610"/>
                            </a:lnTo>
                            <a:lnTo>
                              <a:pt x="447" y="639"/>
                            </a:lnTo>
                            <a:lnTo>
                              <a:pt x="428" y="667"/>
                            </a:lnTo>
                            <a:lnTo>
                              <a:pt x="408" y="694"/>
                            </a:lnTo>
                            <a:lnTo>
                              <a:pt x="387" y="721"/>
                            </a:lnTo>
                            <a:lnTo>
                              <a:pt x="366" y="744"/>
                            </a:lnTo>
                            <a:lnTo>
                              <a:pt x="342" y="768"/>
                            </a:lnTo>
                            <a:lnTo>
                              <a:pt x="317" y="787"/>
                            </a:lnTo>
                            <a:lnTo>
                              <a:pt x="292" y="803"/>
                            </a:lnTo>
                            <a:lnTo>
                              <a:pt x="264" y="817"/>
                            </a:lnTo>
                            <a:lnTo>
                              <a:pt x="233" y="824"/>
                            </a:lnTo>
                            <a:lnTo>
                              <a:pt x="202" y="828"/>
                            </a:lnTo>
                            <a:lnTo>
                              <a:pt x="191" y="778"/>
                            </a:lnTo>
                            <a:lnTo>
                              <a:pt x="179" y="725"/>
                            </a:lnTo>
                            <a:lnTo>
                              <a:pt x="169" y="674"/>
                            </a:lnTo>
                            <a:lnTo>
                              <a:pt x="159" y="622"/>
                            </a:lnTo>
                            <a:lnTo>
                              <a:pt x="150" y="569"/>
                            </a:lnTo>
                            <a:lnTo>
                              <a:pt x="140" y="516"/>
                            </a:lnTo>
                            <a:lnTo>
                              <a:pt x="130" y="466"/>
                            </a:lnTo>
                            <a:lnTo>
                              <a:pt x="122" y="413"/>
                            </a:lnTo>
                            <a:lnTo>
                              <a:pt x="111" y="361"/>
                            </a:lnTo>
                            <a:lnTo>
                              <a:pt x="101" y="310"/>
                            </a:lnTo>
                            <a:lnTo>
                              <a:pt x="87" y="259"/>
                            </a:lnTo>
                            <a:lnTo>
                              <a:pt x="74" y="209"/>
                            </a:lnTo>
                            <a:lnTo>
                              <a:pt x="58" y="158"/>
                            </a:lnTo>
                            <a:lnTo>
                              <a:pt x="41" y="109"/>
                            </a:lnTo>
                            <a:lnTo>
                              <a:pt x="21" y="60"/>
                            </a:lnTo>
                            <a:lnTo>
                              <a:pt x="0" y="14"/>
                            </a:lnTo>
                            <a:lnTo>
                              <a:pt x="33" y="4"/>
                            </a:lnTo>
                            <a:lnTo>
                              <a:pt x="66" y="0"/>
                            </a:lnTo>
                            <a:lnTo>
                              <a:pt x="99" y="0"/>
                            </a:lnTo>
                            <a:lnTo>
                              <a:pt x="132" y="4"/>
                            </a:lnTo>
                            <a:lnTo>
                              <a:pt x="167" y="10"/>
                            </a:lnTo>
                            <a:lnTo>
                              <a:pt x="202" y="20"/>
                            </a:lnTo>
                            <a:lnTo>
                              <a:pt x="237" y="29"/>
                            </a:lnTo>
                            <a:lnTo>
                              <a:pt x="274" y="39"/>
                            </a:lnTo>
                            <a:lnTo>
                              <a:pt x="309" y="51"/>
                            </a:lnTo>
                            <a:lnTo>
                              <a:pt x="344" y="62"/>
                            </a:lnTo>
                            <a:lnTo>
                              <a:pt x="381" y="72"/>
                            </a:lnTo>
                            <a:lnTo>
                              <a:pt x="416" y="80"/>
                            </a:lnTo>
                            <a:lnTo>
                              <a:pt x="451" y="86"/>
                            </a:lnTo>
                            <a:lnTo>
                              <a:pt x="488" y="90"/>
                            </a:lnTo>
                            <a:lnTo>
                              <a:pt x="523" y="90"/>
                            </a:lnTo>
                            <a:lnTo>
                              <a:pt x="558" y="84"/>
                            </a:lnTo>
                            <a:lnTo>
                              <a:pt x="574" y="308"/>
                            </a:lnTo>
                            <a:close/>
                          </a:path>
                        </a:pathLst>
                      </a:custGeom>
                      <a:solidFill>
                        <a:srgbClr val="ff593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8640" bIns="-86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43" name=""/>
                      <p:cNvSpPr/>
                      <p:nvPr/>
                    </p:nvSpPr>
                    <p:spPr>
                      <a:xfrm>
                        <a:off x="1851840" y="2856600"/>
                        <a:ext cx="64440" cy="50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41" h="1089">
                            <a:moveTo>
                              <a:pt x="1108" y="814"/>
                            </a:moveTo>
                            <a:lnTo>
                              <a:pt x="1241" y="931"/>
                            </a:lnTo>
                            <a:lnTo>
                              <a:pt x="1215" y="976"/>
                            </a:lnTo>
                            <a:lnTo>
                              <a:pt x="1184" y="1011"/>
                            </a:lnTo>
                            <a:lnTo>
                              <a:pt x="1149" y="1040"/>
                            </a:lnTo>
                            <a:lnTo>
                              <a:pt x="1110" y="1060"/>
                            </a:lnTo>
                            <a:lnTo>
                              <a:pt x="1068" y="1075"/>
                            </a:lnTo>
                            <a:lnTo>
                              <a:pt x="1023" y="1083"/>
                            </a:lnTo>
                            <a:lnTo>
                              <a:pt x="976" y="1087"/>
                            </a:lnTo>
                            <a:lnTo>
                              <a:pt x="926" y="1089"/>
                            </a:lnTo>
                            <a:lnTo>
                              <a:pt x="875" y="1085"/>
                            </a:lnTo>
                            <a:lnTo>
                              <a:pt x="823" y="1081"/>
                            </a:lnTo>
                            <a:lnTo>
                              <a:pt x="770" y="1075"/>
                            </a:lnTo>
                            <a:lnTo>
                              <a:pt x="718" y="1068"/>
                            </a:lnTo>
                            <a:lnTo>
                              <a:pt x="665" y="1062"/>
                            </a:lnTo>
                            <a:lnTo>
                              <a:pt x="613" y="1058"/>
                            </a:lnTo>
                            <a:lnTo>
                              <a:pt x="562" y="1054"/>
                            </a:lnTo>
                            <a:lnTo>
                              <a:pt x="513" y="1054"/>
                            </a:lnTo>
                            <a:lnTo>
                              <a:pt x="472" y="1036"/>
                            </a:lnTo>
                            <a:lnTo>
                              <a:pt x="428" y="1021"/>
                            </a:lnTo>
                            <a:lnTo>
                              <a:pt x="379" y="1005"/>
                            </a:lnTo>
                            <a:lnTo>
                              <a:pt x="329" y="988"/>
                            </a:lnTo>
                            <a:lnTo>
                              <a:pt x="276" y="970"/>
                            </a:lnTo>
                            <a:lnTo>
                              <a:pt x="225" y="951"/>
                            </a:lnTo>
                            <a:lnTo>
                              <a:pt x="177" y="929"/>
                            </a:lnTo>
                            <a:lnTo>
                              <a:pt x="130" y="906"/>
                            </a:lnTo>
                            <a:lnTo>
                              <a:pt x="89" y="877"/>
                            </a:lnTo>
                            <a:lnTo>
                              <a:pt x="54" y="845"/>
                            </a:lnTo>
                            <a:lnTo>
                              <a:pt x="27" y="808"/>
                            </a:lnTo>
                            <a:lnTo>
                              <a:pt x="8" y="767"/>
                            </a:lnTo>
                            <a:lnTo>
                              <a:pt x="0" y="719"/>
                            </a:lnTo>
                            <a:lnTo>
                              <a:pt x="2" y="666"/>
                            </a:lnTo>
                            <a:lnTo>
                              <a:pt x="19" y="604"/>
                            </a:lnTo>
                            <a:lnTo>
                              <a:pt x="48" y="536"/>
                            </a:lnTo>
                            <a:lnTo>
                              <a:pt x="56" y="502"/>
                            </a:lnTo>
                            <a:lnTo>
                              <a:pt x="64" y="467"/>
                            </a:lnTo>
                            <a:lnTo>
                              <a:pt x="76" y="434"/>
                            </a:lnTo>
                            <a:lnTo>
                              <a:pt x="89" y="401"/>
                            </a:lnTo>
                            <a:lnTo>
                              <a:pt x="105" y="370"/>
                            </a:lnTo>
                            <a:lnTo>
                              <a:pt x="122" y="339"/>
                            </a:lnTo>
                            <a:lnTo>
                              <a:pt x="142" y="308"/>
                            </a:lnTo>
                            <a:lnTo>
                              <a:pt x="163" y="278"/>
                            </a:lnTo>
                            <a:lnTo>
                              <a:pt x="185" y="251"/>
                            </a:lnTo>
                            <a:lnTo>
                              <a:pt x="210" y="224"/>
                            </a:lnTo>
                            <a:lnTo>
                              <a:pt x="235" y="198"/>
                            </a:lnTo>
                            <a:lnTo>
                              <a:pt x="262" y="177"/>
                            </a:lnTo>
                            <a:lnTo>
                              <a:pt x="290" y="156"/>
                            </a:lnTo>
                            <a:lnTo>
                              <a:pt x="319" y="138"/>
                            </a:lnTo>
                            <a:lnTo>
                              <a:pt x="350" y="122"/>
                            </a:lnTo>
                            <a:lnTo>
                              <a:pt x="381" y="109"/>
                            </a:lnTo>
                            <a:lnTo>
                              <a:pt x="924" y="0"/>
                            </a:lnTo>
                            <a:lnTo>
                              <a:pt x="959" y="39"/>
                            </a:lnTo>
                            <a:lnTo>
                              <a:pt x="988" y="80"/>
                            </a:lnTo>
                            <a:lnTo>
                              <a:pt x="1013" y="122"/>
                            </a:lnTo>
                            <a:lnTo>
                              <a:pt x="1033" y="169"/>
                            </a:lnTo>
                            <a:lnTo>
                              <a:pt x="1050" y="218"/>
                            </a:lnTo>
                            <a:lnTo>
                              <a:pt x="1062" y="269"/>
                            </a:lnTo>
                            <a:lnTo>
                              <a:pt x="1073" y="321"/>
                            </a:lnTo>
                            <a:lnTo>
                              <a:pt x="1081" y="376"/>
                            </a:lnTo>
                            <a:lnTo>
                              <a:pt x="1085" y="430"/>
                            </a:lnTo>
                            <a:lnTo>
                              <a:pt x="1091" y="485"/>
                            </a:lnTo>
                            <a:lnTo>
                              <a:pt x="1093" y="541"/>
                            </a:lnTo>
                            <a:lnTo>
                              <a:pt x="1095" y="596"/>
                            </a:lnTo>
                            <a:lnTo>
                              <a:pt x="1097" y="652"/>
                            </a:lnTo>
                            <a:lnTo>
                              <a:pt x="1101" y="707"/>
                            </a:lnTo>
                            <a:lnTo>
                              <a:pt x="1105" y="762"/>
                            </a:lnTo>
                            <a:lnTo>
                              <a:pt x="1108" y="814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600" bIns="36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44" name=""/>
                      <p:cNvSpPr/>
                      <p:nvPr/>
                    </p:nvSpPr>
                    <p:spPr>
                      <a:xfrm>
                        <a:off x="2050200" y="2859120"/>
                        <a:ext cx="5760" cy="10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3" h="224">
                            <a:moveTo>
                              <a:pt x="39" y="224"/>
                            </a:moveTo>
                            <a:lnTo>
                              <a:pt x="12" y="195"/>
                            </a:lnTo>
                            <a:lnTo>
                              <a:pt x="0" y="168"/>
                            </a:lnTo>
                            <a:lnTo>
                              <a:pt x="2" y="139"/>
                            </a:lnTo>
                            <a:lnTo>
                              <a:pt x="16" y="109"/>
                            </a:lnTo>
                            <a:lnTo>
                              <a:pt x="31" y="82"/>
                            </a:lnTo>
                            <a:lnTo>
                              <a:pt x="51" y="55"/>
                            </a:lnTo>
                            <a:lnTo>
                              <a:pt x="68" y="28"/>
                            </a:lnTo>
                            <a:lnTo>
                              <a:pt x="78" y="0"/>
                            </a:lnTo>
                            <a:lnTo>
                              <a:pt x="103" y="28"/>
                            </a:lnTo>
                            <a:lnTo>
                              <a:pt x="113" y="55"/>
                            </a:lnTo>
                            <a:lnTo>
                              <a:pt x="109" y="82"/>
                            </a:lnTo>
                            <a:lnTo>
                              <a:pt x="100" y="109"/>
                            </a:lnTo>
                            <a:lnTo>
                              <a:pt x="82" y="139"/>
                            </a:lnTo>
                            <a:lnTo>
                              <a:pt x="65" y="168"/>
                            </a:lnTo>
                            <a:lnTo>
                              <a:pt x="49" y="195"/>
                            </a:lnTo>
                            <a:lnTo>
                              <a:pt x="39" y="224"/>
                            </a:lnTo>
                            <a:close/>
                          </a:path>
                        </a:pathLst>
                      </a:custGeom>
                      <a:solidFill>
                        <a:srgbClr val="ffbf1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720" bIns="-367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45" name=""/>
                      <p:cNvSpPr/>
                      <p:nvPr/>
                    </p:nvSpPr>
                    <p:spPr>
                      <a:xfrm>
                        <a:off x="2086920" y="2864160"/>
                        <a:ext cx="576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3" h="209">
                            <a:moveTo>
                              <a:pt x="92" y="185"/>
                            </a:moveTo>
                            <a:lnTo>
                              <a:pt x="86" y="195"/>
                            </a:lnTo>
                            <a:lnTo>
                              <a:pt x="76" y="201"/>
                            </a:lnTo>
                            <a:lnTo>
                              <a:pt x="65" y="205"/>
                            </a:lnTo>
                            <a:lnTo>
                              <a:pt x="53" y="205"/>
                            </a:lnTo>
                            <a:lnTo>
                              <a:pt x="39" y="207"/>
                            </a:lnTo>
                            <a:lnTo>
                              <a:pt x="26" y="207"/>
                            </a:lnTo>
                            <a:lnTo>
                              <a:pt x="12" y="207"/>
                            </a:lnTo>
                            <a:lnTo>
                              <a:pt x="0" y="209"/>
                            </a:lnTo>
                            <a:lnTo>
                              <a:pt x="39" y="0"/>
                            </a:lnTo>
                            <a:lnTo>
                              <a:pt x="65" y="8"/>
                            </a:lnTo>
                            <a:lnTo>
                              <a:pt x="84" y="24"/>
                            </a:lnTo>
                            <a:lnTo>
                              <a:pt x="100" y="45"/>
                            </a:lnTo>
                            <a:lnTo>
                              <a:pt x="109" y="72"/>
                            </a:lnTo>
                            <a:lnTo>
                              <a:pt x="113" y="102"/>
                            </a:lnTo>
                            <a:lnTo>
                              <a:pt x="111" y="131"/>
                            </a:lnTo>
                            <a:lnTo>
                              <a:pt x="104" y="160"/>
                            </a:lnTo>
                            <a:lnTo>
                              <a:pt x="92" y="185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46" name=""/>
                      <p:cNvSpPr/>
                      <p:nvPr/>
                    </p:nvSpPr>
                    <p:spPr>
                      <a:xfrm>
                        <a:off x="2057040" y="2867760"/>
                        <a:ext cx="504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9" h="203">
                            <a:moveTo>
                              <a:pt x="93" y="0"/>
                            </a:moveTo>
                            <a:lnTo>
                              <a:pt x="99" y="24"/>
                            </a:lnTo>
                            <a:lnTo>
                              <a:pt x="99" y="49"/>
                            </a:lnTo>
                            <a:lnTo>
                              <a:pt x="95" y="76"/>
                            </a:lnTo>
                            <a:lnTo>
                              <a:pt x="87" y="102"/>
                            </a:lnTo>
                            <a:lnTo>
                              <a:pt x="75" y="127"/>
                            </a:lnTo>
                            <a:lnTo>
                              <a:pt x="64" y="154"/>
                            </a:lnTo>
                            <a:lnTo>
                              <a:pt x="50" y="180"/>
                            </a:lnTo>
                            <a:lnTo>
                              <a:pt x="39" y="203"/>
                            </a:lnTo>
                            <a:lnTo>
                              <a:pt x="15" y="203"/>
                            </a:lnTo>
                            <a:lnTo>
                              <a:pt x="4" y="176"/>
                            </a:lnTo>
                            <a:lnTo>
                              <a:pt x="0" y="147"/>
                            </a:lnTo>
                            <a:lnTo>
                              <a:pt x="5" y="119"/>
                            </a:lnTo>
                            <a:lnTo>
                              <a:pt x="17" y="90"/>
                            </a:lnTo>
                            <a:lnTo>
                              <a:pt x="33" y="63"/>
                            </a:lnTo>
                            <a:lnTo>
                              <a:pt x="52" y="39"/>
                            </a:lnTo>
                            <a:lnTo>
                              <a:pt x="72" y="18"/>
                            </a:lnTo>
                            <a:lnTo>
                              <a:pt x="93" y="0"/>
                            </a:lnTo>
                            <a:close/>
                          </a:path>
                        </a:pathLst>
                      </a:custGeom>
                      <a:solidFill>
                        <a:srgbClr val="ffbf1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47" name=""/>
                      <p:cNvSpPr/>
                      <p:nvPr/>
                    </p:nvSpPr>
                    <p:spPr>
                      <a:xfrm>
                        <a:off x="1941840" y="2872800"/>
                        <a:ext cx="129600" cy="56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492" h="1234">
                            <a:moveTo>
                              <a:pt x="889" y="240"/>
                            </a:moveTo>
                            <a:lnTo>
                              <a:pt x="885" y="279"/>
                            </a:lnTo>
                            <a:lnTo>
                              <a:pt x="883" y="318"/>
                            </a:lnTo>
                            <a:lnTo>
                              <a:pt x="883" y="359"/>
                            </a:lnTo>
                            <a:lnTo>
                              <a:pt x="885" y="396"/>
                            </a:lnTo>
                            <a:lnTo>
                              <a:pt x="889" y="435"/>
                            </a:lnTo>
                            <a:lnTo>
                              <a:pt x="895" y="472"/>
                            </a:lnTo>
                            <a:lnTo>
                              <a:pt x="903" y="507"/>
                            </a:lnTo>
                            <a:lnTo>
                              <a:pt x="914" y="542"/>
                            </a:lnTo>
                            <a:lnTo>
                              <a:pt x="928" y="575"/>
                            </a:lnTo>
                            <a:lnTo>
                              <a:pt x="945" y="607"/>
                            </a:lnTo>
                            <a:lnTo>
                              <a:pt x="965" y="636"/>
                            </a:lnTo>
                            <a:lnTo>
                              <a:pt x="988" y="663"/>
                            </a:lnTo>
                            <a:lnTo>
                              <a:pt x="1014" y="686"/>
                            </a:lnTo>
                            <a:lnTo>
                              <a:pt x="1045" y="710"/>
                            </a:lnTo>
                            <a:lnTo>
                              <a:pt x="1078" y="729"/>
                            </a:lnTo>
                            <a:lnTo>
                              <a:pt x="1115" y="745"/>
                            </a:lnTo>
                            <a:lnTo>
                              <a:pt x="1157" y="760"/>
                            </a:lnTo>
                            <a:lnTo>
                              <a:pt x="1200" y="772"/>
                            </a:lnTo>
                            <a:lnTo>
                              <a:pt x="1243" y="780"/>
                            </a:lnTo>
                            <a:lnTo>
                              <a:pt x="1288" y="784"/>
                            </a:lnTo>
                            <a:lnTo>
                              <a:pt x="1331" y="786"/>
                            </a:lnTo>
                            <a:lnTo>
                              <a:pt x="1375" y="782"/>
                            </a:lnTo>
                            <a:lnTo>
                              <a:pt x="1418" y="776"/>
                            </a:lnTo>
                            <a:lnTo>
                              <a:pt x="1461" y="766"/>
                            </a:lnTo>
                            <a:lnTo>
                              <a:pt x="1502" y="755"/>
                            </a:lnTo>
                            <a:lnTo>
                              <a:pt x="1543" y="741"/>
                            </a:lnTo>
                            <a:lnTo>
                              <a:pt x="1581" y="723"/>
                            </a:lnTo>
                            <a:lnTo>
                              <a:pt x="1618" y="702"/>
                            </a:lnTo>
                            <a:lnTo>
                              <a:pt x="1655" y="679"/>
                            </a:lnTo>
                            <a:lnTo>
                              <a:pt x="1688" y="653"/>
                            </a:lnTo>
                            <a:lnTo>
                              <a:pt x="1720" y="626"/>
                            </a:lnTo>
                            <a:lnTo>
                              <a:pt x="1749" y="597"/>
                            </a:lnTo>
                            <a:lnTo>
                              <a:pt x="1792" y="614"/>
                            </a:lnTo>
                            <a:lnTo>
                              <a:pt x="1834" y="632"/>
                            </a:lnTo>
                            <a:lnTo>
                              <a:pt x="1877" y="646"/>
                            </a:lnTo>
                            <a:lnTo>
                              <a:pt x="1922" y="657"/>
                            </a:lnTo>
                            <a:lnTo>
                              <a:pt x="1967" y="669"/>
                            </a:lnTo>
                            <a:lnTo>
                              <a:pt x="2013" y="679"/>
                            </a:lnTo>
                            <a:lnTo>
                              <a:pt x="2058" y="688"/>
                            </a:lnTo>
                            <a:lnTo>
                              <a:pt x="2105" y="694"/>
                            </a:lnTo>
                            <a:lnTo>
                              <a:pt x="2151" y="702"/>
                            </a:lnTo>
                            <a:lnTo>
                              <a:pt x="2200" y="708"/>
                            </a:lnTo>
                            <a:lnTo>
                              <a:pt x="2247" y="712"/>
                            </a:lnTo>
                            <a:lnTo>
                              <a:pt x="2295" y="716"/>
                            </a:lnTo>
                            <a:lnTo>
                              <a:pt x="2344" y="720"/>
                            </a:lnTo>
                            <a:lnTo>
                              <a:pt x="2393" y="723"/>
                            </a:lnTo>
                            <a:lnTo>
                              <a:pt x="2443" y="725"/>
                            </a:lnTo>
                            <a:lnTo>
                              <a:pt x="2492" y="729"/>
                            </a:lnTo>
                            <a:lnTo>
                              <a:pt x="2447" y="764"/>
                            </a:lnTo>
                            <a:lnTo>
                              <a:pt x="2398" y="796"/>
                            </a:lnTo>
                            <a:lnTo>
                              <a:pt x="2350" y="819"/>
                            </a:lnTo>
                            <a:lnTo>
                              <a:pt x="2297" y="838"/>
                            </a:lnTo>
                            <a:lnTo>
                              <a:pt x="2245" y="854"/>
                            </a:lnTo>
                            <a:lnTo>
                              <a:pt x="2190" y="866"/>
                            </a:lnTo>
                            <a:lnTo>
                              <a:pt x="2134" y="875"/>
                            </a:lnTo>
                            <a:lnTo>
                              <a:pt x="2077" y="883"/>
                            </a:lnTo>
                            <a:lnTo>
                              <a:pt x="2019" y="887"/>
                            </a:lnTo>
                            <a:lnTo>
                              <a:pt x="1961" y="891"/>
                            </a:lnTo>
                            <a:lnTo>
                              <a:pt x="1902" y="895"/>
                            </a:lnTo>
                            <a:lnTo>
                              <a:pt x="1844" y="901"/>
                            </a:lnTo>
                            <a:lnTo>
                              <a:pt x="1786" y="905"/>
                            </a:lnTo>
                            <a:lnTo>
                              <a:pt x="1729" y="913"/>
                            </a:lnTo>
                            <a:lnTo>
                              <a:pt x="1673" y="920"/>
                            </a:lnTo>
                            <a:lnTo>
                              <a:pt x="1616" y="932"/>
                            </a:lnTo>
                            <a:lnTo>
                              <a:pt x="967" y="1234"/>
                            </a:lnTo>
                            <a:lnTo>
                              <a:pt x="916" y="1168"/>
                            </a:lnTo>
                            <a:lnTo>
                              <a:pt x="866" y="1100"/>
                            </a:lnTo>
                            <a:lnTo>
                              <a:pt x="813" y="1033"/>
                            </a:lnTo>
                            <a:lnTo>
                              <a:pt x="761" y="965"/>
                            </a:lnTo>
                            <a:lnTo>
                              <a:pt x="706" y="899"/>
                            </a:lnTo>
                            <a:lnTo>
                              <a:pt x="650" y="835"/>
                            </a:lnTo>
                            <a:lnTo>
                              <a:pt x="591" y="768"/>
                            </a:lnTo>
                            <a:lnTo>
                              <a:pt x="533" y="706"/>
                            </a:lnTo>
                            <a:lnTo>
                              <a:pt x="473" y="644"/>
                            </a:lnTo>
                            <a:lnTo>
                              <a:pt x="411" y="583"/>
                            </a:lnTo>
                            <a:lnTo>
                              <a:pt x="346" y="525"/>
                            </a:lnTo>
                            <a:lnTo>
                              <a:pt x="280" y="466"/>
                            </a:lnTo>
                            <a:lnTo>
                              <a:pt x="214" y="412"/>
                            </a:lnTo>
                            <a:lnTo>
                              <a:pt x="144" y="359"/>
                            </a:lnTo>
                            <a:lnTo>
                              <a:pt x="74" y="310"/>
                            </a:lnTo>
                            <a:lnTo>
                              <a:pt x="0" y="264"/>
                            </a:lnTo>
                            <a:lnTo>
                              <a:pt x="14" y="219"/>
                            </a:lnTo>
                            <a:lnTo>
                              <a:pt x="31" y="180"/>
                            </a:lnTo>
                            <a:lnTo>
                              <a:pt x="53" y="147"/>
                            </a:lnTo>
                            <a:lnTo>
                              <a:pt x="76" y="119"/>
                            </a:lnTo>
                            <a:lnTo>
                              <a:pt x="101" y="98"/>
                            </a:lnTo>
                            <a:lnTo>
                              <a:pt x="129" y="80"/>
                            </a:lnTo>
                            <a:lnTo>
                              <a:pt x="160" y="67"/>
                            </a:lnTo>
                            <a:lnTo>
                              <a:pt x="191" y="57"/>
                            </a:lnTo>
                            <a:lnTo>
                              <a:pt x="224" y="49"/>
                            </a:lnTo>
                            <a:lnTo>
                              <a:pt x="259" y="41"/>
                            </a:lnTo>
                            <a:lnTo>
                              <a:pt x="296" y="36"/>
                            </a:lnTo>
                            <a:lnTo>
                              <a:pt x="333" y="32"/>
                            </a:lnTo>
                            <a:lnTo>
                              <a:pt x="370" y="26"/>
                            </a:lnTo>
                            <a:lnTo>
                              <a:pt x="409" y="18"/>
                            </a:lnTo>
                            <a:lnTo>
                              <a:pt x="448" y="10"/>
                            </a:lnTo>
                            <a:lnTo>
                              <a:pt x="486" y="0"/>
                            </a:lnTo>
                            <a:lnTo>
                              <a:pt x="521" y="0"/>
                            </a:lnTo>
                            <a:lnTo>
                              <a:pt x="556" y="2"/>
                            </a:lnTo>
                            <a:lnTo>
                              <a:pt x="590" y="6"/>
                            </a:lnTo>
                            <a:lnTo>
                              <a:pt x="625" y="10"/>
                            </a:lnTo>
                            <a:lnTo>
                              <a:pt x="656" y="16"/>
                            </a:lnTo>
                            <a:lnTo>
                              <a:pt x="687" y="24"/>
                            </a:lnTo>
                            <a:lnTo>
                              <a:pt x="718" y="34"/>
                            </a:lnTo>
                            <a:lnTo>
                              <a:pt x="747" y="45"/>
                            </a:lnTo>
                            <a:lnTo>
                              <a:pt x="772" y="59"/>
                            </a:lnTo>
                            <a:lnTo>
                              <a:pt x="798" y="76"/>
                            </a:lnTo>
                            <a:lnTo>
                              <a:pt x="819" y="96"/>
                            </a:lnTo>
                            <a:lnTo>
                              <a:pt x="838" y="117"/>
                            </a:lnTo>
                            <a:lnTo>
                              <a:pt x="856" y="143"/>
                            </a:lnTo>
                            <a:lnTo>
                              <a:pt x="870" y="172"/>
                            </a:lnTo>
                            <a:lnTo>
                              <a:pt x="881" y="205"/>
                            </a:lnTo>
                            <a:lnTo>
                              <a:pt x="889" y="240"/>
                            </a:lnTo>
                            <a:close/>
                          </a:path>
                        </a:pathLst>
                      </a:custGeom>
                      <a:solidFill>
                        <a:srgbClr val="ff593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0080" bIns="100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48" name=""/>
                      <p:cNvSpPr/>
                      <p:nvPr/>
                    </p:nvSpPr>
                    <p:spPr>
                      <a:xfrm>
                        <a:off x="1994760" y="2878920"/>
                        <a:ext cx="28080" cy="23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41" h="520">
                            <a:moveTo>
                              <a:pt x="302" y="503"/>
                            </a:moveTo>
                            <a:lnTo>
                              <a:pt x="325" y="495"/>
                            </a:lnTo>
                            <a:lnTo>
                              <a:pt x="352" y="489"/>
                            </a:lnTo>
                            <a:lnTo>
                              <a:pt x="382" y="483"/>
                            </a:lnTo>
                            <a:lnTo>
                              <a:pt x="413" y="474"/>
                            </a:lnTo>
                            <a:lnTo>
                              <a:pt x="444" y="462"/>
                            </a:lnTo>
                            <a:lnTo>
                              <a:pt x="471" y="444"/>
                            </a:lnTo>
                            <a:lnTo>
                              <a:pt x="496" y="421"/>
                            </a:lnTo>
                            <a:lnTo>
                              <a:pt x="518" y="388"/>
                            </a:lnTo>
                            <a:lnTo>
                              <a:pt x="541" y="411"/>
                            </a:lnTo>
                            <a:lnTo>
                              <a:pt x="524" y="427"/>
                            </a:lnTo>
                            <a:lnTo>
                              <a:pt x="506" y="440"/>
                            </a:lnTo>
                            <a:lnTo>
                              <a:pt x="487" y="454"/>
                            </a:lnTo>
                            <a:lnTo>
                              <a:pt x="465" y="468"/>
                            </a:lnTo>
                            <a:lnTo>
                              <a:pt x="444" y="479"/>
                            </a:lnTo>
                            <a:lnTo>
                              <a:pt x="420" y="489"/>
                            </a:lnTo>
                            <a:lnTo>
                              <a:pt x="397" y="499"/>
                            </a:lnTo>
                            <a:lnTo>
                              <a:pt x="374" y="507"/>
                            </a:lnTo>
                            <a:lnTo>
                              <a:pt x="348" y="513"/>
                            </a:lnTo>
                            <a:lnTo>
                              <a:pt x="323" y="516"/>
                            </a:lnTo>
                            <a:lnTo>
                              <a:pt x="298" y="518"/>
                            </a:lnTo>
                            <a:lnTo>
                              <a:pt x="271" y="520"/>
                            </a:lnTo>
                            <a:lnTo>
                              <a:pt x="245" y="518"/>
                            </a:lnTo>
                            <a:lnTo>
                              <a:pt x="220" y="516"/>
                            </a:lnTo>
                            <a:lnTo>
                              <a:pt x="195" y="511"/>
                            </a:lnTo>
                            <a:lnTo>
                              <a:pt x="170" y="503"/>
                            </a:lnTo>
                            <a:lnTo>
                              <a:pt x="127" y="487"/>
                            </a:lnTo>
                            <a:lnTo>
                              <a:pt x="94" y="466"/>
                            </a:lnTo>
                            <a:lnTo>
                              <a:pt x="68" y="442"/>
                            </a:lnTo>
                            <a:lnTo>
                              <a:pt x="51" y="415"/>
                            </a:lnTo>
                            <a:lnTo>
                              <a:pt x="41" y="386"/>
                            </a:lnTo>
                            <a:lnTo>
                              <a:pt x="33" y="355"/>
                            </a:lnTo>
                            <a:lnTo>
                              <a:pt x="31" y="322"/>
                            </a:lnTo>
                            <a:lnTo>
                              <a:pt x="33" y="286"/>
                            </a:lnTo>
                            <a:lnTo>
                              <a:pt x="35" y="249"/>
                            </a:lnTo>
                            <a:lnTo>
                              <a:pt x="37" y="214"/>
                            </a:lnTo>
                            <a:lnTo>
                              <a:pt x="39" y="177"/>
                            </a:lnTo>
                            <a:lnTo>
                              <a:pt x="39" y="140"/>
                            </a:lnTo>
                            <a:lnTo>
                              <a:pt x="37" y="103"/>
                            </a:lnTo>
                            <a:lnTo>
                              <a:pt x="29" y="66"/>
                            </a:lnTo>
                            <a:lnTo>
                              <a:pt x="18" y="33"/>
                            </a:lnTo>
                            <a:lnTo>
                              <a:pt x="0" y="0"/>
                            </a:lnTo>
                            <a:lnTo>
                              <a:pt x="31" y="23"/>
                            </a:lnTo>
                            <a:lnTo>
                              <a:pt x="55" y="53"/>
                            </a:lnTo>
                            <a:lnTo>
                              <a:pt x="72" y="84"/>
                            </a:lnTo>
                            <a:lnTo>
                              <a:pt x="84" y="119"/>
                            </a:lnTo>
                            <a:lnTo>
                              <a:pt x="94" y="158"/>
                            </a:lnTo>
                            <a:lnTo>
                              <a:pt x="99" y="195"/>
                            </a:lnTo>
                            <a:lnTo>
                              <a:pt x="105" y="236"/>
                            </a:lnTo>
                            <a:lnTo>
                              <a:pt x="111" y="275"/>
                            </a:lnTo>
                            <a:lnTo>
                              <a:pt x="117" y="314"/>
                            </a:lnTo>
                            <a:lnTo>
                              <a:pt x="127" y="351"/>
                            </a:lnTo>
                            <a:lnTo>
                              <a:pt x="138" y="386"/>
                            </a:lnTo>
                            <a:lnTo>
                              <a:pt x="156" y="419"/>
                            </a:lnTo>
                            <a:lnTo>
                              <a:pt x="181" y="446"/>
                            </a:lnTo>
                            <a:lnTo>
                              <a:pt x="212" y="472"/>
                            </a:lnTo>
                            <a:lnTo>
                              <a:pt x="251" y="489"/>
                            </a:lnTo>
                            <a:lnTo>
                              <a:pt x="302" y="503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040" bIns="-230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49" name=""/>
                      <p:cNvSpPr/>
                      <p:nvPr/>
                    </p:nvSpPr>
                    <p:spPr>
                      <a:xfrm>
                        <a:off x="2086920" y="2879280"/>
                        <a:ext cx="4680" cy="6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2" h="132">
                            <a:moveTo>
                              <a:pt x="92" y="64"/>
                            </a:moveTo>
                            <a:lnTo>
                              <a:pt x="90" y="72"/>
                            </a:lnTo>
                            <a:lnTo>
                              <a:pt x="86" y="81"/>
                            </a:lnTo>
                            <a:lnTo>
                              <a:pt x="82" y="91"/>
                            </a:lnTo>
                            <a:lnTo>
                              <a:pt x="80" y="101"/>
                            </a:lnTo>
                            <a:lnTo>
                              <a:pt x="74" y="109"/>
                            </a:lnTo>
                            <a:lnTo>
                              <a:pt x="68" y="119"/>
                            </a:lnTo>
                            <a:lnTo>
                              <a:pt x="63" y="126"/>
                            </a:lnTo>
                            <a:lnTo>
                              <a:pt x="55" y="132"/>
                            </a:lnTo>
                            <a:lnTo>
                              <a:pt x="0" y="132"/>
                            </a:lnTo>
                            <a:lnTo>
                              <a:pt x="0" y="2"/>
                            </a:lnTo>
                            <a:lnTo>
                              <a:pt x="18" y="0"/>
                            </a:lnTo>
                            <a:lnTo>
                              <a:pt x="33" y="2"/>
                            </a:lnTo>
                            <a:lnTo>
                              <a:pt x="47" y="7"/>
                            </a:lnTo>
                            <a:lnTo>
                              <a:pt x="61" y="15"/>
                            </a:lnTo>
                            <a:lnTo>
                              <a:pt x="72" y="25"/>
                            </a:lnTo>
                            <a:lnTo>
                              <a:pt x="80" y="37"/>
                            </a:lnTo>
                            <a:lnTo>
                              <a:pt x="88" y="50"/>
                            </a:lnTo>
                            <a:lnTo>
                              <a:pt x="92" y="64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50" name=""/>
                      <p:cNvSpPr/>
                      <p:nvPr/>
                    </p:nvSpPr>
                    <p:spPr>
                      <a:xfrm>
                        <a:off x="2043360" y="2881440"/>
                        <a:ext cx="11160" cy="14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8" h="317">
                            <a:moveTo>
                              <a:pt x="210" y="0"/>
                            </a:moveTo>
                            <a:lnTo>
                              <a:pt x="214" y="19"/>
                            </a:lnTo>
                            <a:lnTo>
                              <a:pt x="216" y="40"/>
                            </a:lnTo>
                            <a:lnTo>
                              <a:pt x="218" y="60"/>
                            </a:lnTo>
                            <a:lnTo>
                              <a:pt x="216" y="79"/>
                            </a:lnTo>
                            <a:lnTo>
                              <a:pt x="212" y="101"/>
                            </a:lnTo>
                            <a:lnTo>
                              <a:pt x="208" y="120"/>
                            </a:lnTo>
                            <a:lnTo>
                              <a:pt x="202" y="140"/>
                            </a:lnTo>
                            <a:lnTo>
                              <a:pt x="195" y="161"/>
                            </a:lnTo>
                            <a:lnTo>
                              <a:pt x="187" y="181"/>
                            </a:lnTo>
                            <a:lnTo>
                              <a:pt x="177" y="200"/>
                            </a:lnTo>
                            <a:lnTo>
                              <a:pt x="169" y="220"/>
                            </a:lnTo>
                            <a:lnTo>
                              <a:pt x="158" y="239"/>
                            </a:lnTo>
                            <a:lnTo>
                              <a:pt x="148" y="259"/>
                            </a:lnTo>
                            <a:lnTo>
                              <a:pt x="138" y="278"/>
                            </a:lnTo>
                            <a:lnTo>
                              <a:pt x="126" y="298"/>
                            </a:lnTo>
                            <a:lnTo>
                              <a:pt x="117" y="317"/>
                            </a:lnTo>
                            <a:lnTo>
                              <a:pt x="0" y="317"/>
                            </a:lnTo>
                            <a:lnTo>
                              <a:pt x="18" y="302"/>
                            </a:lnTo>
                            <a:lnTo>
                              <a:pt x="33" y="284"/>
                            </a:lnTo>
                            <a:lnTo>
                              <a:pt x="49" y="265"/>
                            </a:lnTo>
                            <a:lnTo>
                              <a:pt x="62" y="245"/>
                            </a:lnTo>
                            <a:lnTo>
                              <a:pt x="74" y="224"/>
                            </a:lnTo>
                            <a:lnTo>
                              <a:pt x="84" y="202"/>
                            </a:lnTo>
                            <a:lnTo>
                              <a:pt x="95" y="181"/>
                            </a:lnTo>
                            <a:lnTo>
                              <a:pt x="105" y="157"/>
                            </a:lnTo>
                            <a:lnTo>
                              <a:pt x="115" y="136"/>
                            </a:lnTo>
                            <a:lnTo>
                              <a:pt x="126" y="113"/>
                            </a:lnTo>
                            <a:lnTo>
                              <a:pt x="136" y="91"/>
                            </a:lnTo>
                            <a:lnTo>
                              <a:pt x="150" y="70"/>
                            </a:lnTo>
                            <a:lnTo>
                              <a:pt x="161" y="50"/>
                            </a:lnTo>
                            <a:lnTo>
                              <a:pt x="177" y="33"/>
                            </a:lnTo>
                            <a:lnTo>
                              <a:pt x="193" y="15"/>
                            </a:lnTo>
                            <a:lnTo>
                              <a:pt x="210" y="0"/>
                            </a:lnTo>
                            <a:close/>
                          </a:path>
                        </a:pathLst>
                      </a:custGeom>
                      <a:solidFill>
                        <a:srgbClr val="ffbf1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0" bIns="-324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51" name=""/>
                      <p:cNvSpPr/>
                      <p:nvPr/>
                    </p:nvSpPr>
                    <p:spPr>
                      <a:xfrm>
                        <a:off x="2006640" y="2885760"/>
                        <a:ext cx="7920" cy="10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56" h="218">
                            <a:moveTo>
                              <a:pt x="148" y="187"/>
                            </a:moveTo>
                            <a:lnTo>
                              <a:pt x="132" y="207"/>
                            </a:lnTo>
                            <a:lnTo>
                              <a:pt x="113" y="216"/>
                            </a:lnTo>
                            <a:lnTo>
                              <a:pt x="93" y="218"/>
                            </a:lnTo>
                            <a:lnTo>
                              <a:pt x="74" y="215"/>
                            </a:lnTo>
                            <a:lnTo>
                              <a:pt x="54" y="205"/>
                            </a:lnTo>
                            <a:lnTo>
                              <a:pt x="37" y="189"/>
                            </a:lnTo>
                            <a:lnTo>
                              <a:pt x="23" y="170"/>
                            </a:lnTo>
                            <a:lnTo>
                              <a:pt x="16" y="148"/>
                            </a:lnTo>
                            <a:lnTo>
                              <a:pt x="0" y="0"/>
                            </a:lnTo>
                            <a:lnTo>
                              <a:pt x="23" y="22"/>
                            </a:lnTo>
                            <a:lnTo>
                              <a:pt x="52" y="39"/>
                            </a:lnTo>
                            <a:lnTo>
                              <a:pt x="82" y="57"/>
                            </a:lnTo>
                            <a:lnTo>
                              <a:pt x="109" y="72"/>
                            </a:lnTo>
                            <a:lnTo>
                              <a:pt x="132" y="94"/>
                            </a:lnTo>
                            <a:lnTo>
                              <a:pt x="150" y="117"/>
                            </a:lnTo>
                            <a:lnTo>
                              <a:pt x="156" y="148"/>
                            </a:lnTo>
                            <a:lnTo>
                              <a:pt x="148" y="187"/>
                            </a:lnTo>
                            <a:close/>
                          </a:path>
                        </a:pathLst>
                      </a:custGeom>
                      <a:solidFill>
                        <a:srgbClr val="ff593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720" bIns="-367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52" name=""/>
                      <p:cNvSpPr/>
                      <p:nvPr/>
                    </p:nvSpPr>
                    <p:spPr>
                      <a:xfrm>
                        <a:off x="1917360" y="2890800"/>
                        <a:ext cx="125640" cy="51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412" h="1117">
                            <a:moveTo>
                              <a:pt x="1375" y="986"/>
                            </a:moveTo>
                            <a:lnTo>
                              <a:pt x="1442" y="967"/>
                            </a:lnTo>
                            <a:lnTo>
                              <a:pt x="1506" y="945"/>
                            </a:lnTo>
                            <a:lnTo>
                              <a:pt x="1570" y="920"/>
                            </a:lnTo>
                            <a:lnTo>
                              <a:pt x="1632" y="893"/>
                            </a:lnTo>
                            <a:lnTo>
                              <a:pt x="1694" y="865"/>
                            </a:lnTo>
                            <a:lnTo>
                              <a:pt x="1757" y="834"/>
                            </a:lnTo>
                            <a:lnTo>
                              <a:pt x="1817" y="805"/>
                            </a:lnTo>
                            <a:lnTo>
                              <a:pt x="1879" y="776"/>
                            </a:lnTo>
                            <a:lnTo>
                              <a:pt x="1941" y="748"/>
                            </a:lnTo>
                            <a:lnTo>
                              <a:pt x="2004" y="721"/>
                            </a:lnTo>
                            <a:lnTo>
                              <a:pt x="2068" y="698"/>
                            </a:lnTo>
                            <a:lnTo>
                              <a:pt x="2134" y="676"/>
                            </a:lnTo>
                            <a:lnTo>
                              <a:pt x="2200" y="657"/>
                            </a:lnTo>
                            <a:lnTo>
                              <a:pt x="2268" y="643"/>
                            </a:lnTo>
                            <a:lnTo>
                              <a:pt x="2340" y="633"/>
                            </a:lnTo>
                            <a:lnTo>
                              <a:pt x="2412" y="630"/>
                            </a:lnTo>
                            <a:lnTo>
                              <a:pt x="2346" y="655"/>
                            </a:lnTo>
                            <a:lnTo>
                              <a:pt x="2278" y="682"/>
                            </a:lnTo>
                            <a:lnTo>
                              <a:pt x="2210" y="709"/>
                            </a:lnTo>
                            <a:lnTo>
                              <a:pt x="2142" y="739"/>
                            </a:lnTo>
                            <a:lnTo>
                              <a:pt x="2072" y="768"/>
                            </a:lnTo>
                            <a:lnTo>
                              <a:pt x="2002" y="797"/>
                            </a:lnTo>
                            <a:lnTo>
                              <a:pt x="1932" y="826"/>
                            </a:lnTo>
                            <a:lnTo>
                              <a:pt x="1860" y="856"/>
                            </a:lnTo>
                            <a:lnTo>
                              <a:pt x="1788" y="883"/>
                            </a:lnTo>
                            <a:lnTo>
                              <a:pt x="1716" y="912"/>
                            </a:lnTo>
                            <a:lnTo>
                              <a:pt x="1644" y="939"/>
                            </a:lnTo>
                            <a:lnTo>
                              <a:pt x="1570" y="965"/>
                            </a:lnTo>
                            <a:lnTo>
                              <a:pt x="1498" y="990"/>
                            </a:lnTo>
                            <a:lnTo>
                              <a:pt x="1424" y="1013"/>
                            </a:lnTo>
                            <a:lnTo>
                              <a:pt x="1350" y="1035"/>
                            </a:lnTo>
                            <a:lnTo>
                              <a:pt x="1276" y="1054"/>
                            </a:lnTo>
                            <a:lnTo>
                              <a:pt x="1200" y="1072"/>
                            </a:lnTo>
                            <a:lnTo>
                              <a:pt x="1126" y="1088"/>
                            </a:lnTo>
                            <a:lnTo>
                              <a:pt x="1053" y="1099"/>
                            </a:lnTo>
                            <a:lnTo>
                              <a:pt x="977" y="1109"/>
                            </a:lnTo>
                            <a:lnTo>
                              <a:pt x="903" y="1115"/>
                            </a:lnTo>
                            <a:lnTo>
                              <a:pt x="827" y="1117"/>
                            </a:lnTo>
                            <a:lnTo>
                              <a:pt x="753" y="1117"/>
                            </a:lnTo>
                            <a:lnTo>
                              <a:pt x="679" y="1111"/>
                            </a:lnTo>
                            <a:lnTo>
                              <a:pt x="605" y="1103"/>
                            </a:lnTo>
                            <a:lnTo>
                              <a:pt x="529" y="1089"/>
                            </a:lnTo>
                            <a:lnTo>
                              <a:pt x="455" y="1072"/>
                            </a:lnTo>
                            <a:lnTo>
                              <a:pt x="383" y="1051"/>
                            </a:lnTo>
                            <a:lnTo>
                              <a:pt x="310" y="1023"/>
                            </a:lnTo>
                            <a:lnTo>
                              <a:pt x="236" y="990"/>
                            </a:lnTo>
                            <a:lnTo>
                              <a:pt x="164" y="951"/>
                            </a:lnTo>
                            <a:lnTo>
                              <a:pt x="92" y="908"/>
                            </a:lnTo>
                            <a:lnTo>
                              <a:pt x="82" y="877"/>
                            </a:lnTo>
                            <a:lnTo>
                              <a:pt x="72" y="848"/>
                            </a:lnTo>
                            <a:lnTo>
                              <a:pt x="62" y="817"/>
                            </a:lnTo>
                            <a:lnTo>
                              <a:pt x="53" y="785"/>
                            </a:lnTo>
                            <a:lnTo>
                              <a:pt x="43" y="754"/>
                            </a:lnTo>
                            <a:lnTo>
                              <a:pt x="33" y="721"/>
                            </a:lnTo>
                            <a:lnTo>
                              <a:pt x="24" y="690"/>
                            </a:lnTo>
                            <a:lnTo>
                              <a:pt x="16" y="657"/>
                            </a:lnTo>
                            <a:lnTo>
                              <a:pt x="10" y="626"/>
                            </a:lnTo>
                            <a:lnTo>
                              <a:pt x="4" y="593"/>
                            </a:lnTo>
                            <a:lnTo>
                              <a:pt x="0" y="559"/>
                            </a:lnTo>
                            <a:lnTo>
                              <a:pt x="0" y="526"/>
                            </a:lnTo>
                            <a:lnTo>
                              <a:pt x="0" y="493"/>
                            </a:lnTo>
                            <a:lnTo>
                              <a:pt x="4" y="458"/>
                            </a:lnTo>
                            <a:lnTo>
                              <a:pt x="12" y="425"/>
                            </a:lnTo>
                            <a:lnTo>
                              <a:pt x="22" y="390"/>
                            </a:lnTo>
                            <a:lnTo>
                              <a:pt x="55" y="366"/>
                            </a:lnTo>
                            <a:lnTo>
                              <a:pt x="88" y="335"/>
                            </a:lnTo>
                            <a:lnTo>
                              <a:pt x="119" y="298"/>
                            </a:lnTo>
                            <a:lnTo>
                              <a:pt x="150" y="259"/>
                            </a:lnTo>
                            <a:lnTo>
                              <a:pt x="181" y="216"/>
                            </a:lnTo>
                            <a:lnTo>
                              <a:pt x="210" y="174"/>
                            </a:lnTo>
                            <a:lnTo>
                              <a:pt x="239" y="131"/>
                            </a:lnTo>
                            <a:lnTo>
                              <a:pt x="271" y="92"/>
                            </a:lnTo>
                            <a:lnTo>
                              <a:pt x="302" y="57"/>
                            </a:lnTo>
                            <a:lnTo>
                              <a:pt x="333" y="29"/>
                            </a:lnTo>
                            <a:lnTo>
                              <a:pt x="366" y="10"/>
                            </a:lnTo>
                            <a:lnTo>
                              <a:pt x="399" y="0"/>
                            </a:lnTo>
                            <a:lnTo>
                              <a:pt x="436" y="2"/>
                            </a:lnTo>
                            <a:lnTo>
                              <a:pt x="473" y="18"/>
                            </a:lnTo>
                            <a:lnTo>
                              <a:pt x="512" y="49"/>
                            </a:lnTo>
                            <a:lnTo>
                              <a:pt x="555" y="96"/>
                            </a:lnTo>
                            <a:lnTo>
                              <a:pt x="615" y="144"/>
                            </a:lnTo>
                            <a:lnTo>
                              <a:pt x="673" y="195"/>
                            </a:lnTo>
                            <a:lnTo>
                              <a:pt x="730" y="248"/>
                            </a:lnTo>
                            <a:lnTo>
                              <a:pt x="786" y="300"/>
                            </a:lnTo>
                            <a:lnTo>
                              <a:pt x="840" y="357"/>
                            </a:lnTo>
                            <a:lnTo>
                              <a:pt x="893" y="411"/>
                            </a:lnTo>
                            <a:lnTo>
                              <a:pt x="946" y="470"/>
                            </a:lnTo>
                            <a:lnTo>
                              <a:pt x="998" y="526"/>
                            </a:lnTo>
                            <a:lnTo>
                              <a:pt x="1047" y="585"/>
                            </a:lnTo>
                            <a:lnTo>
                              <a:pt x="1095" y="643"/>
                            </a:lnTo>
                            <a:lnTo>
                              <a:pt x="1144" y="700"/>
                            </a:lnTo>
                            <a:lnTo>
                              <a:pt x="1193" y="758"/>
                            </a:lnTo>
                            <a:lnTo>
                              <a:pt x="1239" y="817"/>
                            </a:lnTo>
                            <a:lnTo>
                              <a:pt x="1284" y="873"/>
                            </a:lnTo>
                            <a:lnTo>
                              <a:pt x="1331" y="930"/>
                            </a:lnTo>
                            <a:lnTo>
                              <a:pt x="1375" y="986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" bIns="46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53" name=""/>
                      <p:cNvSpPr/>
                      <p:nvPr/>
                    </p:nvSpPr>
                    <p:spPr>
                      <a:xfrm>
                        <a:off x="1855440" y="2903040"/>
                        <a:ext cx="52920" cy="17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21" h="382">
                            <a:moveTo>
                              <a:pt x="1021" y="226"/>
                            </a:moveTo>
                            <a:lnTo>
                              <a:pt x="1021" y="357"/>
                            </a:lnTo>
                            <a:lnTo>
                              <a:pt x="949" y="371"/>
                            </a:lnTo>
                            <a:lnTo>
                              <a:pt x="879" y="378"/>
                            </a:lnTo>
                            <a:lnTo>
                              <a:pt x="807" y="382"/>
                            </a:lnTo>
                            <a:lnTo>
                              <a:pt x="739" y="382"/>
                            </a:lnTo>
                            <a:lnTo>
                              <a:pt x="671" y="376"/>
                            </a:lnTo>
                            <a:lnTo>
                              <a:pt x="603" y="367"/>
                            </a:lnTo>
                            <a:lnTo>
                              <a:pt x="537" y="355"/>
                            </a:lnTo>
                            <a:lnTo>
                              <a:pt x="470" y="339"/>
                            </a:lnTo>
                            <a:lnTo>
                              <a:pt x="406" y="320"/>
                            </a:lnTo>
                            <a:lnTo>
                              <a:pt x="344" y="297"/>
                            </a:lnTo>
                            <a:lnTo>
                              <a:pt x="284" y="271"/>
                            </a:lnTo>
                            <a:lnTo>
                              <a:pt x="223" y="244"/>
                            </a:lnTo>
                            <a:lnTo>
                              <a:pt x="165" y="215"/>
                            </a:lnTo>
                            <a:lnTo>
                              <a:pt x="109" y="184"/>
                            </a:lnTo>
                            <a:lnTo>
                              <a:pt x="52" y="152"/>
                            </a:lnTo>
                            <a:lnTo>
                              <a:pt x="0" y="117"/>
                            </a:lnTo>
                            <a:lnTo>
                              <a:pt x="0" y="0"/>
                            </a:lnTo>
                            <a:lnTo>
                              <a:pt x="54" y="39"/>
                            </a:lnTo>
                            <a:lnTo>
                              <a:pt x="109" y="72"/>
                            </a:lnTo>
                            <a:lnTo>
                              <a:pt x="167" y="102"/>
                            </a:lnTo>
                            <a:lnTo>
                              <a:pt x="225" y="125"/>
                            </a:lnTo>
                            <a:lnTo>
                              <a:pt x="288" y="147"/>
                            </a:lnTo>
                            <a:lnTo>
                              <a:pt x="350" y="164"/>
                            </a:lnTo>
                            <a:lnTo>
                              <a:pt x="414" y="178"/>
                            </a:lnTo>
                            <a:lnTo>
                              <a:pt x="478" y="189"/>
                            </a:lnTo>
                            <a:lnTo>
                              <a:pt x="544" y="199"/>
                            </a:lnTo>
                            <a:lnTo>
                              <a:pt x="612" y="205"/>
                            </a:lnTo>
                            <a:lnTo>
                              <a:pt x="679" y="211"/>
                            </a:lnTo>
                            <a:lnTo>
                              <a:pt x="747" y="215"/>
                            </a:lnTo>
                            <a:lnTo>
                              <a:pt x="815" y="219"/>
                            </a:lnTo>
                            <a:lnTo>
                              <a:pt x="885" y="221"/>
                            </a:lnTo>
                            <a:lnTo>
                              <a:pt x="953" y="224"/>
                            </a:lnTo>
                            <a:lnTo>
                              <a:pt x="1021" y="226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54" name=""/>
                      <p:cNvSpPr/>
                      <p:nvPr/>
                    </p:nvSpPr>
                    <p:spPr>
                      <a:xfrm>
                        <a:off x="2072520" y="2902680"/>
                        <a:ext cx="24120" cy="12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63" h="270">
                            <a:moveTo>
                              <a:pt x="0" y="270"/>
                            </a:moveTo>
                            <a:lnTo>
                              <a:pt x="33" y="259"/>
                            </a:lnTo>
                            <a:lnTo>
                              <a:pt x="64" y="243"/>
                            </a:lnTo>
                            <a:lnTo>
                              <a:pt x="92" y="224"/>
                            </a:lnTo>
                            <a:lnTo>
                              <a:pt x="119" y="202"/>
                            </a:lnTo>
                            <a:lnTo>
                              <a:pt x="144" y="179"/>
                            </a:lnTo>
                            <a:lnTo>
                              <a:pt x="169" y="153"/>
                            </a:lnTo>
                            <a:lnTo>
                              <a:pt x="193" y="128"/>
                            </a:lnTo>
                            <a:lnTo>
                              <a:pt x="218" y="103"/>
                            </a:lnTo>
                            <a:lnTo>
                              <a:pt x="241" y="79"/>
                            </a:lnTo>
                            <a:lnTo>
                              <a:pt x="267" y="56"/>
                            </a:lnTo>
                            <a:lnTo>
                              <a:pt x="294" y="37"/>
                            </a:lnTo>
                            <a:lnTo>
                              <a:pt x="323" y="21"/>
                            </a:lnTo>
                            <a:lnTo>
                              <a:pt x="352" y="9"/>
                            </a:lnTo>
                            <a:lnTo>
                              <a:pt x="387" y="1"/>
                            </a:lnTo>
                            <a:lnTo>
                              <a:pt x="422" y="0"/>
                            </a:lnTo>
                            <a:lnTo>
                              <a:pt x="463" y="5"/>
                            </a:lnTo>
                            <a:lnTo>
                              <a:pt x="448" y="29"/>
                            </a:lnTo>
                            <a:lnTo>
                              <a:pt x="428" y="52"/>
                            </a:lnTo>
                            <a:lnTo>
                              <a:pt x="407" y="76"/>
                            </a:lnTo>
                            <a:lnTo>
                              <a:pt x="383" y="97"/>
                            </a:lnTo>
                            <a:lnTo>
                              <a:pt x="356" y="116"/>
                            </a:lnTo>
                            <a:lnTo>
                              <a:pt x="329" y="136"/>
                            </a:lnTo>
                            <a:lnTo>
                              <a:pt x="300" y="153"/>
                            </a:lnTo>
                            <a:lnTo>
                              <a:pt x="269" y="169"/>
                            </a:lnTo>
                            <a:lnTo>
                              <a:pt x="238" y="187"/>
                            </a:lnTo>
                            <a:lnTo>
                              <a:pt x="205" y="200"/>
                            </a:lnTo>
                            <a:lnTo>
                              <a:pt x="169" y="216"/>
                            </a:lnTo>
                            <a:lnTo>
                              <a:pt x="136" y="228"/>
                            </a:lnTo>
                            <a:lnTo>
                              <a:pt x="101" y="239"/>
                            </a:lnTo>
                            <a:lnTo>
                              <a:pt x="68" y="251"/>
                            </a:lnTo>
                            <a:lnTo>
                              <a:pt x="33" y="261"/>
                            </a:lnTo>
                            <a:lnTo>
                              <a:pt x="0" y="270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560" bIns="-345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55" name=""/>
                      <p:cNvSpPr/>
                      <p:nvPr/>
                    </p:nvSpPr>
                    <p:spPr>
                      <a:xfrm>
                        <a:off x="1928160" y="2904480"/>
                        <a:ext cx="180720" cy="50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468" h="1096">
                            <a:moveTo>
                              <a:pt x="2323" y="544"/>
                            </a:moveTo>
                            <a:lnTo>
                              <a:pt x="2262" y="577"/>
                            </a:lnTo>
                            <a:lnTo>
                              <a:pt x="2202" y="610"/>
                            </a:lnTo>
                            <a:lnTo>
                              <a:pt x="2142" y="643"/>
                            </a:lnTo>
                            <a:lnTo>
                              <a:pt x="2082" y="677"/>
                            </a:lnTo>
                            <a:lnTo>
                              <a:pt x="2019" y="708"/>
                            </a:lnTo>
                            <a:lnTo>
                              <a:pt x="1957" y="741"/>
                            </a:lnTo>
                            <a:lnTo>
                              <a:pt x="1893" y="770"/>
                            </a:lnTo>
                            <a:lnTo>
                              <a:pt x="1831" y="801"/>
                            </a:lnTo>
                            <a:lnTo>
                              <a:pt x="1766" y="831"/>
                            </a:lnTo>
                            <a:lnTo>
                              <a:pt x="1702" y="860"/>
                            </a:lnTo>
                            <a:lnTo>
                              <a:pt x="1638" y="885"/>
                            </a:lnTo>
                            <a:lnTo>
                              <a:pt x="1572" y="912"/>
                            </a:lnTo>
                            <a:lnTo>
                              <a:pt x="1508" y="938"/>
                            </a:lnTo>
                            <a:lnTo>
                              <a:pt x="1442" y="961"/>
                            </a:lnTo>
                            <a:lnTo>
                              <a:pt x="1374" y="983"/>
                            </a:lnTo>
                            <a:lnTo>
                              <a:pt x="1307" y="1002"/>
                            </a:lnTo>
                            <a:lnTo>
                              <a:pt x="1239" y="1021"/>
                            </a:lnTo>
                            <a:lnTo>
                              <a:pt x="1173" y="1037"/>
                            </a:lnTo>
                            <a:lnTo>
                              <a:pt x="1105" y="1053"/>
                            </a:lnTo>
                            <a:lnTo>
                              <a:pt x="1035" y="1064"/>
                            </a:lnTo>
                            <a:lnTo>
                              <a:pt x="967" y="1076"/>
                            </a:lnTo>
                            <a:lnTo>
                              <a:pt x="897" y="1084"/>
                            </a:lnTo>
                            <a:lnTo>
                              <a:pt x="829" y="1090"/>
                            </a:lnTo>
                            <a:lnTo>
                              <a:pt x="759" y="1094"/>
                            </a:lnTo>
                            <a:lnTo>
                              <a:pt x="687" y="1096"/>
                            </a:lnTo>
                            <a:lnTo>
                              <a:pt x="617" y="1094"/>
                            </a:lnTo>
                            <a:lnTo>
                              <a:pt x="547" y="1090"/>
                            </a:lnTo>
                            <a:lnTo>
                              <a:pt x="475" y="1082"/>
                            </a:lnTo>
                            <a:lnTo>
                              <a:pt x="403" y="1072"/>
                            </a:lnTo>
                            <a:lnTo>
                              <a:pt x="331" y="1059"/>
                            </a:lnTo>
                            <a:lnTo>
                              <a:pt x="259" y="1043"/>
                            </a:lnTo>
                            <a:lnTo>
                              <a:pt x="187" y="1023"/>
                            </a:lnTo>
                            <a:lnTo>
                              <a:pt x="0" y="823"/>
                            </a:lnTo>
                            <a:lnTo>
                              <a:pt x="74" y="852"/>
                            </a:lnTo>
                            <a:lnTo>
                              <a:pt x="148" y="877"/>
                            </a:lnTo>
                            <a:lnTo>
                              <a:pt x="224" y="899"/>
                            </a:lnTo>
                            <a:lnTo>
                              <a:pt x="300" y="914"/>
                            </a:lnTo>
                            <a:lnTo>
                              <a:pt x="374" y="928"/>
                            </a:lnTo>
                            <a:lnTo>
                              <a:pt x="450" y="936"/>
                            </a:lnTo>
                            <a:lnTo>
                              <a:pt x="526" y="942"/>
                            </a:lnTo>
                            <a:lnTo>
                              <a:pt x="601" y="944"/>
                            </a:lnTo>
                            <a:lnTo>
                              <a:pt x="677" y="942"/>
                            </a:lnTo>
                            <a:lnTo>
                              <a:pt x="753" y="936"/>
                            </a:lnTo>
                            <a:lnTo>
                              <a:pt x="829" y="930"/>
                            </a:lnTo>
                            <a:lnTo>
                              <a:pt x="905" y="918"/>
                            </a:lnTo>
                            <a:lnTo>
                              <a:pt x="981" y="907"/>
                            </a:lnTo>
                            <a:lnTo>
                              <a:pt x="1059" y="891"/>
                            </a:lnTo>
                            <a:lnTo>
                              <a:pt x="1134" y="873"/>
                            </a:lnTo>
                            <a:lnTo>
                              <a:pt x="1210" y="854"/>
                            </a:lnTo>
                            <a:lnTo>
                              <a:pt x="1284" y="832"/>
                            </a:lnTo>
                            <a:lnTo>
                              <a:pt x="1360" y="811"/>
                            </a:lnTo>
                            <a:lnTo>
                              <a:pt x="1436" y="786"/>
                            </a:lnTo>
                            <a:lnTo>
                              <a:pt x="1510" y="760"/>
                            </a:lnTo>
                            <a:lnTo>
                              <a:pt x="1586" y="735"/>
                            </a:lnTo>
                            <a:lnTo>
                              <a:pt x="1660" y="708"/>
                            </a:lnTo>
                            <a:lnTo>
                              <a:pt x="1733" y="680"/>
                            </a:lnTo>
                            <a:lnTo>
                              <a:pt x="1807" y="651"/>
                            </a:lnTo>
                            <a:lnTo>
                              <a:pt x="1879" y="622"/>
                            </a:lnTo>
                            <a:lnTo>
                              <a:pt x="1953" y="593"/>
                            </a:lnTo>
                            <a:lnTo>
                              <a:pt x="2025" y="565"/>
                            </a:lnTo>
                            <a:lnTo>
                              <a:pt x="2097" y="536"/>
                            </a:lnTo>
                            <a:lnTo>
                              <a:pt x="2167" y="507"/>
                            </a:lnTo>
                            <a:lnTo>
                              <a:pt x="2237" y="480"/>
                            </a:lnTo>
                            <a:lnTo>
                              <a:pt x="2307" y="452"/>
                            </a:lnTo>
                            <a:lnTo>
                              <a:pt x="2377" y="427"/>
                            </a:lnTo>
                            <a:lnTo>
                              <a:pt x="2453" y="419"/>
                            </a:lnTo>
                            <a:lnTo>
                              <a:pt x="2527" y="410"/>
                            </a:lnTo>
                            <a:lnTo>
                              <a:pt x="2601" y="400"/>
                            </a:lnTo>
                            <a:lnTo>
                              <a:pt x="2675" y="386"/>
                            </a:lnTo>
                            <a:lnTo>
                              <a:pt x="2747" y="373"/>
                            </a:lnTo>
                            <a:lnTo>
                              <a:pt x="2819" y="355"/>
                            </a:lnTo>
                            <a:lnTo>
                              <a:pt x="2889" y="336"/>
                            </a:lnTo>
                            <a:lnTo>
                              <a:pt x="2959" y="312"/>
                            </a:lnTo>
                            <a:lnTo>
                              <a:pt x="3029" y="287"/>
                            </a:lnTo>
                            <a:lnTo>
                              <a:pt x="3095" y="258"/>
                            </a:lnTo>
                            <a:lnTo>
                              <a:pt x="3161" y="224"/>
                            </a:lnTo>
                            <a:lnTo>
                              <a:pt x="3227" y="189"/>
                            </a:lnTo>
                            <a:lnTo>
                              <a:pt x="3289" y="148"/>
                            </a:lnTo>
                            <a:lnTo>
                              <a:pt x="3352" y="104"/>
                            </a:lnTo>
                            <a:lnTo>
                              <a:pt x="3410" y="55"/>
                            </a:lnTo>
                            <a:lnTo>
                              <a:pt x="3468" y="0"/>
                            </a:lnTo>
                            <a:lnTo>
                              <a:pt x="3422" y="78"/>
                            </a:lnTo>
                            <a:lnTo>
                              <a:pt x="3369" y="148"/>
                            </a:lnTo>
                            <a:lnTo>
                              <a:pt x="3311" y="207"/>
                            </a:lnTo>
                            <a:lnTo>
                              <a:pt x="3247" y="258"/>
                            </a:lnTo>
                            <a:lnTo>
                              <a:pt x="3181" y="300"/>
                            </a:lnTo>
                            <a:lnTo>
                              <a:pt x="3109" y="337"/>
                            </a:lnTo>
                            <a:lnTo>
                              <a:pt x="3035" y="369"/>
                            </a:lnTo>
                            <a:lnTo>
                              <a:pt x="2959" y="394"/>
                            </a:lnTo>
                            <a:lnTo>
                              <a:pt x="2881" y="417"/>
                            </a:lnTo>
                            <a:lnTo>
                              <a:pt x="2801" y="437"/>
                            </a:lnTo>
                            <a:lnTo>
                              <a:pt x="2720" y="452"/>
                            </a:lnTo>
                            <a:lnTo>
                              <a:pt x="2638" y="470"/>
                            </a:lnTo>
                            <a:lnTo>
                              <a:pt x="2558" y="486"/>
                            </a:lnTo>
                            <a:lnTo>
                              <a:pt x="2478" y="503"/>
                            </a:lnTo>
                            <a:lnTo>
                              <a:pt x="2399" y="523"/>
                            </a:lnTo>
                            <a:lnTo>
                              <a:pt x="2323" y="544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960" bIns="39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</p:grpSp>
          <p:sp>
            <p:nvSpPr>
              <p:cNvPr id="556" name=""/>
              <p:cNvSpPr/>
              <p:nvPr/>
            </p:nvSpPr>
            <p:spPr>
              <a:xfrm>
                <a:off x="663480" y="3257640"/>
                <a:ext cx="1658880" cy="9457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1200" spc="-1" strike="noStrike">
                    <a:solidFill>
                      <a:srgbClr val="000000"/>
                    </a:solidFill>
                    <a:latin typeface="Times New Roman"/>
                  </a:rPr>
                  <a:t>............................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3871440" y="3257640"/>
                <a:ext cx="1658880" cy="9457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1200" spc="-1" strike="noStrike">
                    <a:solidFill>
                      <a:srgbClr val="000000"/>
                    </a:solidFill>
                    <a:latin typeface="Times New Roman"/>
                  </a:rPr>
                  <a:t>............................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3871440" y="6306120"/>
                <a:ext cx="1658880" cy="9457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1200" spc="-1" strike="noStrike">
                    <a:solidFill>
                      <a:srgbClr val="000000"/>
                    </a:solidFill>
                    <a:latin typeface="Times New Roman"/>
                  </a:rPr>
                  <a:t>............................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774000" y="6306120"/>
                <a:ext cx="1658880" cy="9457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1200" spc="-1" strike="noStrike">
                    <a:solidFill>
                      <a:srgbClr val="000000"/>
                    </a:solidFill>
                    <a:latin typeface="Times New Roman"/>
                  </a:rPr>
                  <a:t>............................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 flipH="1">
                <a:off x="110520" y="4939560"/>
                <a:ext cx="619416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3760560" y="1365840"/>
                <a:ext cx="0" cy="6516360"/>
              </a:xfrm>
              <a:prstGeom prst="line">
                <a:avLst/>
              </a:prstGeom>
              <a:ln w="381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 flipH="1">
                <a:off x="110520" y="3152880"/>
                <a:ext cx="619416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2543760" y="1365840"/>
                <a:ext cx="0" cy="6516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4424400" y="4308840"/>
                <a:ext cx="663480" cy="525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1200" spc="-1" strike="noStrike">
                    <a:solidFill>
                      <a:srgbClr val="000000"/>
                    </a:solidFill>
                    <a:latin typeface="Times New Roman"/>
                  </a:rPr>
                  <a:t>............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4424400" y="7357320"/>
                <a:ext cx="663480" cy="525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1200" spc="-1" strike="noStrike">
                    <a:solidFill>
                      <a:srgbClr val="000000"/>
                    </a:solidFill>
                    <a:latin typeface="Times New Roman"/>
                  </a:rPr>
                  <a:t>............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1216440" y="7357320"/>
                <a:ext cx="663480" cy="525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1200" spc="-1" strike="noStrike">
                    <a:solidFill>
                      <a:srgbClr val="000000"/>
                    </a:solidFill>
                    <a:latin typeface="Times New Roman"/>
                  </a:rPr>
                  <a:t>............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1105920" y="4308840"/>
                <a:ext cx="663480" cy="525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1200" spc="-1" strike="noStrike">
                    <a:solidFill>
                      <a:srgbClr val="000000"/>
                    </a:solidFill>
                    <a:latin typeface="Times New Roman"/>
                  </a:rPr>
                  <a:t>............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68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2101320" y="2837520"/>
                <a:ext cx="1769760" cy="22071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69" name=""/>
              <p:cNvGrpSpPr/>
              <p:nvPr/>
            </p:nvGrpSpPr>
            <p:grpSpPr>
              <a:xfrm>
                <a:off x="2433240" y="5780520"/>
                <a:ext cx="1485000" cy="2782440"/>
                <a:chOff x="2433240" y="5780520"/>
                <a:chExt cx="1485000" cy="2782440"/>
              </a:xfrm>
            </p:grpSpPr>
            <p:pic>
              <p:nvPicPr>
                <p:cNvPr id="570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2433240" y="5780520"/>
                  <a:ext cx="1485000" cy="2782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71" name=""/>
                <p:cNvSpPr txBox="1"/>
                <p:nvPr/>
              </p:nvSpPr>
              <p:spPr>
                <a:xfrm>
                  <a:off x="3428640" y="5885640"/>
                  <a:ext cx="221040" cy="5090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i-IN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Arial Black"/>
                    </a:rPr>
                    <a:t>أ</a:t>
                  </a:r>
                  <a:endPara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572" name=""/>
                <p:cNvSpPr txBox="1"/>
                <p:nvPr/>
              </p:nvSpPr>
              <p:spPr>
                <a:xfrm>
                  <a:off x="2986200" y="5885640"/>
                  <a:ext cx="331560" cy="4039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i-IN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Arial Black"/>
                    </a:rPr>
                    <a:t>و</a:t>
                  </a:r>
                  <a:endPara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573" name=""/>
                <p:cNvSpPr txBox="1"/>
                <p:nvPr/>
              </p:nvSpPr>
              <p:spPr>
                <a:xfrm>
                  <a:off x="2654280" y="6410880"/>
                  <a:ext cx="356400" cy="5090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i-IN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Arial Black"/>
                    </a:rPr>
                    <a:t>ي</a:t>
                  </a:r>
                  <a:endPara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  <a:ea typeface="Arial Black"/>
                  </a:endParaRPr>
                </a:p>
              </p:txBody>
            </p:sp>
          </p:grpSp>
          <p:grpSp>
            <p:nvGrpSpPr>
              <p:cNvPr id="574" name=""/>
              <p:cNvGrpSpPr/>
              <p:nvPr/>
            </p:nvGrpSpPr>
            <p:grpSpPr>
              <a:xfrm>
                <a:off x="552600" y="630360"/>
                <a:ext cx="5198760" cy="1365840"/>
                <a:chOff x="552600" y="630360"/>
                <a:chExt cx="5198760" cy="1365840"/>
              </a:xfrm>
            </p:grpSpPr>
            <p:sp>
              <p:nvSpPr>
                <p:cNvPr id="575" name=""/>
                <p:cNvSpPr/>
                <p:nvPr/>
              </p:nvSpPr>
              <p:spPr>
                <a:xfrm rot="10800000">
                  <a:off x="552600" y="630000"/>
                  <a:ext cx="5198760" cy="972720"/>
                </a:xfrm>
                <a:custGeom>
                  <a:avLst/>
                  <a:gdLst/>
                  <a:ahLst/>
                  <a:rect l="l" t="t" r="r" b="b"/>
                  <a:pathLst>
                    <a:path w="8320" h="1025">
                      <a:moveTo>
                        <a:pt x="722" y="1025"/>
                      </a:moveTo>
                      <a:lnTo>
                        <a:pt x="694" y="1020"/>
                      </a:lnTo>
                      <a:lnTo>
                        <a:pt x="674" y="1020"/>
                      </a:lnTo>
                      <a:lnTo>
                        <a:pt x="653" y="1015"/>
                      </a:lnTo>
                      <a:lnTo>
                        <a:pt x="635" y="1013"/>
                      </a:lnTo>
                      <a:lnTo>
                        <a:pt x="602" y="1001"/>
                      </a:lnTo>
                      <a:lnTo>
                        <a:pt x="581" y="989"/>
                      </a:lnTo>
                      <a:lnTo>
                        <a:pt x="558" y="969"/>
                      </a:lnTo>
                      <a:lnTo>
                        <a:pt x="537" y="955"/>
                      </a:lnTo>
                      <a:lnTo>
                        <a:pt x="519" y="936"/>
                      </a:lnTo>
                      <a:lnTo>
                        <a:pt x="512" y="916"/>
                      </a:lnTo>
                      <a:lnTo>
                        <a:pt x="496" y="895"/>
                      </a:lnTo>
                      <a:lnTo>
                        <a:pt x="481" y="875"/>
                      </a:lnTo>
                      <a:lnTo>
                        <a:pt x="463" y="856"/>
                      </a:lnTo>
                      <a:lnTo>
                        <a:pt x="448" y="842"/>
                      </a:lnTo>
                      <a:lnTo>
                        <a:pt x="419" y="827"/>
                      </a:lnTo>
                      <a:lnTo>
                        <a:pt x="396" y="817"/>
                      </a:lnTo>
                      <a:lnTo>
                        <a:pt x="378" y="815"/>
                      </a:lnTo>
                      <a:lnTo>
                        <a:pt x="363" y="810"/>
                      </a:lnTo>
                      <a:lnTo>
                        <a:pt x="342" y="810"/>
                      </a:lnTo>
                      <a:lnTo>
                        <a:pt x="324" y="810"/>
                      </a:lnTo>
                      <a:lnTo>
                        <a:pt x="291" y="808"/>
                      </a:lnTo>
                      <a:lnTo>
                        <a:pt x="263" y="805"/>
                      </a:lnTo>
                      <a:lnTo>
                        <a:pt x="234" y="801"/>
                      </a:lnTo>
                      <a:lnTo>
                        <a:pt x="214" y="796"/>
                      </a:lnTo>
                      <a:lnTo>
                        <a:pt x="191" y="786"/>
                      </a:lnTo>
                      <a:lnTo>
                        <a:pt x="170" y="779"/>
                      </a:lnTo>
                      <a:lnTo>
                        <a:pt x="152" y="772"/>
                      </a:lnTo>
                      <a:lnTo>
                        <a:pt x="134" y="764"/>
                      </a:lnTo>
                      <a:lnTo>
                        <a:pt x="101" y="743"/>
                      </a:lnTo>
                      <a:lnTo>
                        <a:pt x="78" y="716"/>
                      </a:lnTo>
                      <a:lnTo>
                        <a:pt x="54" y="692"/>
                      </a:lnTo>
                      <a:lnTo>
                        <a:pt x="39" y="668"/>
                      </a:lnTo>
                      <a:lnTo>
                        <a:pt x="24" y="639"/>
                      </a:lnTo>
                      <a:lnTo>
                        <a:pt x="18" y="612"/>
                      </a:lnTo>
                      <a:lnTo>
                        <a:pt x="8" y="588"/>
                      </a:lnTo>
                      <a:lnTo>
                        <a:pt x="6" y="569"/>
                      </a:lnTo>
                      <a:lnTo>
                        <a:pt x="0" y="550"/>
                      </a:lnTo>
                      <a:lnTo>
                        <a:pt x="0" y="538"/>
                      </a:lnTo>
                      <a:lnTo>
                        <a:pt x="0" y="528"/>
                      </a:lnTo>
                      <a:lnTo>
                        <a:pt x="0" y="497"/>
                      </a:lnTo>
                      <a:lnTo>
                        <a:pt x="0" y="492"/>
                      </a:lnTo>
                      <a:lnTo>
                        <a:pt x="0" y="482"/>
                      </a:lnTo>
                      <a:lnTo>
                        <a:pt x="0" y="465"/>
                      </a:lnTo>
                      <a:lnTo>
                        <a:pt x="6" y="451"/>
                      </a:lnTo>
                      <a:lnTo>
                        <a:pt x="8" y="427"/>
                      </a:lnTo>
                      <a:lnTo>
                        <a:pt x="18" y="403"/>
                      </a:lnTo>
                      <a:lnTo>
                        <a:pt x="24" y="378"/>
                      </a:lnTo>
                      <a:lnTo>
                        <a:pt x="39" y="354"/>
                      </a:lnTo>
                      <a:lnTo>
                        <a:pt x="54" y="325"/>
                      </a:lnTo>
                      <a:lnTo>
                        <a:pt x="78" y="299"/>
                      </a:lnTo>
                      <a:lnTo>
                        <a:pt x="101" y="275"/>
                      </a:lnTo>
                      <a:lnTo>
                        <a:pt x="134" y="255"/>
                      </a:lnTo>
                      <a:lnTo>
                        <a:pt x="152" y="243"/>
                      </a:lnTo>
                      <a:lnTo>
                        <a:pt x="170" y="234"/>
                      </a:lnTo>
                      <a:lnTo>
                        <a:pt x="191" y="229"/>
                      </a:lnTo>
                      <a:lnTo>
                        <a:pt x="214" y="222"/>
                      </a:lnTo>
                      <a:lnTo>
                        <a:pt x="234" y="217"/>
                      </a:lnTo>
                      <a:lnTo>
                        <a:pt x="263" y="212"/>
                      </a:lnTo>
                      <a:lnTo>
                        <a:pt x="291" y="212"/>
                      </a:lnTo>
                      <a:lnTo>
                        <a:pt x="324" y="212"/>
                      </a:lnTo>
                      <a:lnTo>
                        <a:pt x="342" y="210"/>
                      </a:lnTo>
                      <a:lnTo>
                        <a:pt x="363" y="207"/>
                      </a:lnTo>
                      <a:lnTo>
                        <a:pt x="378" y="202"/>
                      </a:lnTo>
                      <a:lnTo>
                        <a:pt x="396" y="202"/>
                      </a:lnTo>
                      <a:lnTo>
                        <a:pt x="419" y="188"/>
                      </a:lnTo>
                      <a:lnTo>
                        <a:pt x="448" y="176"/>
                      </a:lnTo>
                      <a:lnTo>
                        <a:pt x="463" y="159"/>
                      </a:lnTo>
                      <a:lnTo>
                        <a:pt x="481" y="144"/>
                      </a:lnTo>
                      <a:lnTo>
                        <a:pt x="496" y="125"/>
                      </a:lnTo>
                      <a:lnTo>
                        <a:pt x="512" y="108"/>
                      </a:lnTo>
                      <a:lnTo>
                        <a:pt x="519" y="87"/>
                      </a:lnTo>
                      <a:lnTo>
                        <a:pt x="537" y="65"/>
                      </a:lnTo>
                      <a:lnTo>
                        <a:pt x="558" y="46"/>
                      </a:lnTo>
                      <a:lnTo>
                        <a:pt x="581" y="29"/>
                      </a:lnTo>
                      <a:lnTo>
                        <a:pt x="602" y="14"/>
                      </a:lnTo>
                      <a:lnTo>
                        <a:pt x="635" y="4"/>
                      </a:lnTo>
                      <a:lnTo>
                        <a:pt x="653" y="2"/>
                      </a:lnTo>
                      <a:lnTo>
                        <a:pt x="674" y="0"/>
                      </a:lnTo>
                      <a:lnTo>
                        <a:pt x="694" y="0"/>
                      </a:lnTo>
                      <a:lnTo>
                        <a:pt x="722" y="0"/>
                      </a:lnTo>
                      <a:lnTo>
                        <a:pt x="738" y="0"/>
                      </a:lnTo>
                      <a:lnTo>
                        <a:pt x="769" y="0"/>
                      </a:lnTo>
                      <a:lnTo>
                        <a:pt x="805" y="0"/>
                      </a:lnTo>
                      <a:lnTo>
                        <a:pt x="854" y="0"/>
                      </a:lnTo>
                      <a:lnTo>
                        <a:pt x="900" y="0"/>
                      </a:lnTo>
                      <a:lnTo>
                        <a:pt x="964" y="0"/>
                      </a:lnTo>
                      <a:lnTo>
                        <a:pt x="1028" y="0"/>
                      </a:lnTo>
                      <a:lnTo>
                        <a:pt x="1103" y="0"/>
                      </a:lnTo>
                      <a:lnTo>
                        <a:pt x="1177" y="0"/>
                      </a:lnTo>
                      <a:lnTo>
                        <a:pt x="1267" y="0"/>
                      </a:lnTo>
                      <a:lnTo>
                        <a:pt x="1357" y="0"/>
                      </a:lnTo>
                      <a:lnTo>
                        <a:pt x="1452" y="0"/>
                      </a:lnTo>
                      <a:lnTo>
                        <a:pt x="1555" y="0"/>
                      </a:lnTo>
                      <a:lnTo>
                        <a:pt x="1665" y="0"/>
                      </a:lnTo>
                      <a:lnTo>
                        <a:pt x="1776" y="0"/>
                      </a:lnTo>
                      <a:lnTo>
                        <a:pt x="1897" y="0"/>
                      </a:lnTo>
                      <a:lnTo>
                        <a:pt x="2012" y="0"/>
                      </a:lnTo>
                      <a:lnTo>
                        <a:pt x="2136" y="0"/>
                      </a:lnTo>
                      <a:lnTo>
                        <a:pt x="2262" y="0"/>
                      </a:lnTo>
                      <a:lnTo>
                        <a:pt x="2400" y="0"/>
                      </a:lnTo>
                      <a:lnTo>
                        <a:pt x="2534" y="0"/>
                      </a:lnTo>
                      <a:lnTo>
                        <a:pt x="2673" y="0"/>
                      </a:lnTo>
                      <a:lnTo>
                        <a:pt x="2814" y="0"/>
                      </a:lnTo>
                      <a:lnTo>
                        <a:pt x="2958" y="0"/>
                      </a:lnTo>
                      <a:lnTo>
                        <a:pt x="3099" y="0"/>
                      </a:lnTo>
                      <a:lnTo>
                        <a:pt x="3248" y="0"/>
                      </a:lnTo>
                      <a:lnTo>
                        <a:pt x="3395" y="0"/>
                      </a:lnTo>
                      <a:lnTo>
                        <a:pt x="3546" y="0"/>
                      </a:lnTo>
                      <a:lnTo>
                        <a:pt x="3695" y="0"/>
                      </a:lnTo>
                      <a:lnTo>
                        <a:pt x="3847" y="0"/>
                      </a:lnTo>
                      <a:lnTo>
                        <a:pt x="4001" y="0"/>
                      </a:lnTo>
                      <a:lnTo>
                        <a:pt x="4158" y="0"/>
                      </a:lnTo>
                      <a:lnTo>
                        <a:pt x="4307" y="0"/>
                      </a:lnTo>
                      <a:lnTo>
                        <a:pt x="4461" y="0"/>
                      </a:lnTo>
                      <a:lnTo>
                        <a:pt x="4607" y="0"/>
                      </a:lnTo>
                      <a:lnTo>
                        <a:pt x="4762" y="0"/>
                      </a:lnTo>
                      <a:lnTo>
                        <a:pt x="4911" y="0"/>
                      </a:lnTo>
                      <a:lnTo>
                        <a:pt x="5060" y="0"/>
                      </a:lnTo>
                      <a:lnTo>
                        <a:pt x="5206" y="0"/>
                      </a:lnTo>
                      <a:lnTo>
                        <a:pt x="5355" y="0"/>
                      </a:lnTo>
                      <a:lnTo>
                        <a:pt x="5494" y="0"/>
                      </a:lnTo>
                      <a:lnTo>
                        <a:pt x="5635" y="0"/>
                      </a:lnTo>
                      <a:lnTo>
                        <a:pt x="5774" y="0"/>
                      </a:lnTo>
                      <a:lnTo>
                        <a:pt x="5908" y="0"/>
                      </a:lnTo>
                      <a:lnTo>
                        <a:pt x="6039" y="0"/>
                      </a:lnTo>
                      <a:lnTo>
                        <a:pt x="6170" y="0"/>
                      </a:lnTo>
                      <a:lnTo>
                        <a:pt x="6296" y="0"/>
                      </a:lnTo>
                      <a:lnTo>
                        <a:pt x="6419" y="0"/>
                      </a:lnTo>
                      <a:lnTo>
                        <a:pt x="6532" y="0"/>
                      </a:lnTo>
                      <a:lnTo>
                        <a:pt x="6645" y="0"/>
                      </a:lnTo>
                      <a:lnTo>
                        <a:pt x="6750" y="0"/>
                      </a:lnTo>
                      <a:lnTo>
                        <a:pt x="6853" y="0"/>
                      </a:lnTo>
                      <a:lnTo>
                        <a:pt x="6948" y="0"/>
                      </a:lnTo>
                      <a:lnTo>
                        <a:pt x="7043" y="0"/>
                      </a:lnTo>
                      <a:lnTo>
                        <a:pt x="7125" y="0"/>
                      </a:lnTo>
                      <a:lnTo>
                        <a:pt x="7208" y="0"/>
                      </a:lnTo>
                      <a:lnTo>
                        <a:pt x="7277" y="0"/>
                      </a:lnTo>
                      <a:lnTo>
                        <a:pt x="7344" y="0"/>
                      </a:lnTo>
                      <a:lnTo>
                        <a:pt x="7403" y="0"/>
                      </a:lnTo>
                      <a:lnTo>
                        <a:pt x="7459" y="0"/>
                      </a:lnTo>
                      <a:lnTo>
                        <a:pt x="7506" y="0"/>
                      </a:lnTo>
                      <a:lnTo>
                        <a:pt x="7544" y="0"/>
                      </a:lnTo>
                      <a:lnTo>
                        <a:pt x="7573" y="0"/>
                      </a:lnTo>
                      <a:lnTo>
                        <a:pt x="7596" y="0"/>
                      </a:lnTo>
                      <a:lnTo>
                        <a:pt x="7616" y="0"/>
                      </a:lnTo>
                      <a:lnTo>
                        <a:pt x="7639" y="0"/>
                      </a:lnTo>
                      <a:lnTo>
                        <a:pt x="7657" y="2"/>
                      </a:lnTo>
                      <a:lnTo>
                        <a:pt x="7678" y="4"/>
                      </a:lnTo>
                      <a:lnTo>
                        <a:pt x="7706" y="14"/>
                      </a:lnTo>
                      <a:lnTo>
                        <a:pt x="7734" y="29"/>
                      </a:lnTo>
                      <a:lnTo>
                        <a:pt x="7755" y="46"/>
                      </a:lnTo>
                      <a:lnTo>
                        <a:pt x="7773" y="65"/>
                      </a:lnTo>
                      <a:lnTo>
                        <a:pt x="7791" y="87"/>
                      </a:lnTo>
                      <a:lnTo>
                        <a:pt x="7806" y="108"/>
                      </a:lnTo>
                      <a:lnTo>
                        <a:pt x="7817" y="125"/>
                      </a:lnTo>
                      <a:lnTo>
                        <a:pt x="7832" y="144"/>
                      </a:lnTo>
                      <a:lnTo>
                        <a:pt x="7850" y="159"/>
                      </a:lnTo>
                      <a:lnTo>
                        <a:pt x="7868" y="176"/>
                      </a:lnTo>
                      <a:lnTo>
                        <a:pt x="7889" y="188"/>
                      </a:lnTo>
                      <a:lnTo>
                        <a:pt x="7919" y="202"/>
                      </a:lnTo>
                      <a:lnTo>
                        <a:pt x="7935" y="202"/>
                      </a:lnTo>
                      <a:lnTo>
                        <a:pt x="7953" y="207"/>
                      </a:lnTo>
                      <a:lnTo>
                        <a:pt x="7973" y="210"/>
                      </a:lnTo>
                      <a:lnTo>
                        <a:pt x="7996" y="212"/>
                      </a:lnTo>
                      <a:lnTo>
                        <a:pt x="8025" y="212"/>
                      </a:lnTo>
                      <a:lnTo>
                        <a:pt x="8050" y="212"/>
                      </a:lnTo>
                      <a:lnTo>
                        <a:pt x="8076" y="217"/>
                      </a:lnTo>
                      <a:lnTo>
                        <a:pt x="8102" y="222"/>
                      </a:lnTo>
                      <a:lnTo>
                        <a:pt x="8120" y="229"/>
                      </a:lnTo>
                      <a:lnTo>
                        <a:pt x="8140" y="234"/>
                      </a:lnTo>
                      <a:lnTo>
                        <a:pt x="8161" y="243"/>
                      </a:lnTo>
                      <a:lnTo>
                        <a:pt x="8181" y="255"/>
                      </a:lnTo>
                      <a:lnTo>
                        <a:pt x="8210" y="275"/>
                      </a:lnTo>
                      <a:lnTo>
                        <a:pt x="8238" y="299"/>
                      </a:lnTo>
                      <a:lnTo>
                        <a:pt x="8259" y="325"/>
                      </a:lnTo>
                      <a:lnTo>
                        <a:pt x="8277" y="354"/>
                      </a:lnTo>
                      <a:lnTo>
                        <a:pt x="8287" y="378"/>
                      </a:lnTo>
                      <a:lnTo>
                        <a:pt x="8300" y="403"/>
                      </a:lnTo>
                      <a:lnTo>
                        <a:pt x="8307" y="427"/>
                      </a:lnTo>
                      <a:lnTo>
                        <a:pt x="8315" y="451"/>
                      </a:lnTo>
                      <a:lnTo>
                        <a:pt x="8315" y="465"/>
                      </a:lnTo>
                      <a:lnTo>
                        <a:pt x="8315" y="482"/>
                      </a:lnTo>
                      <a:lnTo>
                        <a:pt x="8315" y="492"/>
                      </a:lnTo>
                      <a:lnTo>
                        <a:pt x="8320" y="497"/>
                      </a:lnTo>
                      <a:lnTo>
                        <a:pt x="8320" y="528"/>
                      </a:lnTo>
                      <a:lnTo>
                        <a:pt x="8315" y="528"/>
                      </a:lnTo>
                      <a:lnTo>
                        <a:pt x="8315" y="538"/>
                      </a:lnTo>
                      <a:lnTo>
                        <a:pt x="8315" y="550"/>
                      </a:lnTo>
                      <a:lnTo>
                        <a:pt x="8315" y="569"/>
                      </a:lnTo>
                      <a:lnTo>
                        <a:pt x="8307" y="588"/>
                      </a:lnTo>
                      <a:lnTo>
                        <a:pt x="8300" y="612"/>
                      </a:lnTo>
                      <a:lnTo>
                        <a:pt x="8287" y="639"/>
                      </a:lnTo>
                      <a:lnTo>
                        <a:pt x="8277" y="668"/>
                      </a:lnTo>
                      <a:lnTo>
                        <a:pt x="8259" y="692"/>
                      </a:lnTo>
                      <a:lnTo>
                        <a:pt x="8238" y="716"/>
                      </a:lnTo>
                      <a:lnTo>
                        <a:pt x="8210" y="743"/>
                      </a:lnTo>
                      <a:lnTo>
                        <a:pt x="8181" y="764"/>
                      </a:lnTo>
                      <a:lnTo>
                        <a:pt x="8161" y="772"/>
                      </a:lnTo>
                      <a:lnTo>
                        <a:pt x="8140" y="779"/>
                      </a:lnTo>
                      <a:lnTo>
                        <a:pt x="8120" y="786"/>
                      </a:lnTo>
                      <a:lnTo>
                        <a:pt x="8102" y="796"/>
                      </a:lnTo>
                      <a:lnTo>
                        <a:pt x="8076" y="801"/>
                      </a:lnTo>
                      <a:lnTo>
                        <a:pt x="8050" y="805"/>
                      </a:lnTo>
                      <a:lnTo>
                        <a:pt x="8025" y="808"/>
                      </a:lnTo>
                      <a:lnTo>
                        <a:pt x="7996" y="810"/>
                      </a:lnTo>
                      <a:lnTo>
                        <a:pt x="7973" y="810"/>
                      </a:lnTo>
                      <a:lnTo>
                        <a:pt x="7953" y="810"/>
                      </a:lnTo>
                      <a:lnTo>
                        <a:pt x="7935" y="815"/>
                      </a:lnTo>
                      <a:lnTo>
                        <a:pt x="7919" y="817"/>
                      </a:lnTo>
                      <a:lnTo>
                        <a:pt x="7889" y="827"/>
                      </a:lnTo>
                      <a:lnTo>
                        <a:pt x="7868" y="842"/>
                      </a:lnTo>
                      <a:lnTo>
                        <a:pt x="7850" y="856"/>
                      </a:lnTo>
                      <a:lnTo>
                        <a:pt x="7832" y="875"/>
                      </a:lnTo>
                      <a:lnTo>
                        <a:pt x="7817" y="895"/>
                      </a:lnTo>
                      <a:lnTo>
                        <a:pt x="7806" y="916"/>
                      </a:lnTo>
                      <a:lnTo>
                        <a:pt x="7791" y="936"/>
                      </a:lnTo>
                      <a:lnTo>
                        <a:pt x="7773" y="955"/>
                      </a:lnTo>
                      <a:lnTo>
                        <a:pt x="7755" y="969"/>
                      </a:lnTo>
                      <a:lnTo>
                        <a:pt x="7734" y="989"/>
                      </a:lnTo>
                      <a:lnTo>
                        <a:pt x="7706" y="1001"/>
                      </a:lnTo>
                      <a:lnTo>
                        <a:pt x="7678" y="1013"/>
                      </a:lnTo>
                      <a:lnTo>
                        <a:pt x="7657" y="1015"/>
                      </a:lnTo>
                      <a:lnTo>
                        <a:pt x="7639" y="1020"/>
                      </a:lnTo>
                      <a:lnTo>
                        <a:pt x="7616" y="1020"/>
                      </a:lnTo>
                      <a:lnTo>
                        <a:pt x="7596" y="1025"/>
                      </a:lnTo>
                      <a:lnTo>
                        <a:pt x="7573" y="1025"/>
                      </a:lnTo>
                      <a:lnTo>
                        <a:pt x="7544" y="1025"/>
                      </a:lnTo>
                      <a:lnTo>
                        <a:pt x="7506" y="1025"/>
                      </a:lnTo>
                      <a:lnTo>
                        <a:pt x="7459" y="1025"/>
                      </a:lnTo>
                      <a:lnTo>
                        <a:pt x="7403" y="1025"/>
                      </a:lnTo>
                      <a:lnTo>
                        <a:pt x="7344" y="1025"/>
                      </a:lnTo>
                      <a:lnTo>
                        <a:pt x="7277" y="1025"/>
                      </a:lnTo>
                      <a:lnTo>
                        <a:pt x="7208" y="1025"/>
                      </a:lnTo>
                      <a:lnTo>
                        <a:pt x="7125" y="1025"/>
                      </a:lnTo>
                      <a:lnTo>
                        <a:pt x="7043" y="1025"/>
                      </a:lnTo>
                      <a:lnTo>
                        <a:pt x="6948" y="1025"/>
                      </a:lnTo>
                      <a:lnTo>
                        <a:pt x="6853" y="1025"/>
                      </a:lnTo>
                      <a:lnTo>
                        <a:pt x="6750" y="1025"/>
                      </a:lnTo>
                      <a:lnTo>
                        <a:pt x="6645" y="1025"/>
                      </a:lnTo>
                      <a:lnTo>
                        <a:pt x="6532" y="1025"/>
                      </a:lnTo>
                      <a:lnTo>
                        <a:pt x="6419" y="1025"/>
                      </a:lnTo>
                      <a:lnTo>
                        <a:pt x="6296" y="1025"/>
                      </a:lnTo>
                      <a:lnTo>
                        <a:pt x="6170" y="1025"/>
                      </a:lnTo>
                      <a:lnTo>
                        <a:pt x="6039" y="1025"/>
                      </a:lnTo>
                      <a:lnTo>
                        <a:pt x="5908" y="1025"/>
                      </a:lnTo>
                      <a:lnTo>
                        <a:pt x="5774" y="1025"/>
                      </a:lnTo>
                      <a:lnTo>
                        <a:pt x="5635" y="1025"/>
                      </a:lnTo>
                      <a:lnTo>
                        <a:pt x="5494" y="1025"/>
                      </a:lnTo>
                      <a:lnTo>
                        <a:pt x="5355" y="1025"/>
                      </a:lnTo>
                      <a:lnTo>
                        <a:pt x="5206" y="1025"/>
                      </a:lnTo>
                      <a:lnTo>
                        <a:pt x="5060" y="1025"/>
                      </a:lnTo>
                      <a:lnTo>
                        <a:pt x="4911" y="1025"/>
                      </a:lnTo>
                      <a:lnTo>
                        <a:pt x="4762" y="1025"/>
                      </a:lnTo>
                      <a:lnTo>
                        <a:pt x="4607" y="1025"/>
                      </a:lnTo>
                      <a:lnTo>
                        <a:pt x="4461" y="1025"/>
                      </a:lnTo>
                      <a:lnTo>
                        <a:pt x="4307" y="1025"/>
                      </a:lnTo>
                      <a:lnTo>
                        <a:pt x="4158" y="1025"/>
                      </a:lnTo>
                      <a:lnTo>
                        <a:pt x="4001" y="1025"/>
                      </a:lnTo>
                      <a:lnTo>
                        <a:pt x="3847" y="1025"/>
                      </a:lnTo>
                      <a:lnTo>
                        <a:pt x="3695" y="1025"/>
                      </a:lnTo>
                      <a:lnTo>
                        <a:pt x="3546" y="1025"/>
                      </a:lnTo>
                      <a:lnTo>
                        <a:pt x="3395" y="1025"/>
                      </a:lnTo>
                      <a:lnTo>
                        <a:pt x="3248" y="1025"/>
                      </a:lnTo>
                      <a:lnTo>
                        <a:pt x="3099" y="1025"/>
                      </a:lnTo>
                      <a:lnTo>
                        <a:pt x="2958" y="1025"/>
                      </a:lnTo>
                      <a:lnTo>
                        <a:pt x="2814" y="1025"/>
                      </a:lnTo>
                      <a:lnTo>
                        <a:pt x="2673" y="1025"/>
                      </a:lnTo>
                      <a:lnTo>
                        <a:pt x="2534" y="1025"/>
                      </a:lnTo>
                      <a:lnTo>
                        <a:pt x="2400" y="1025"/>
                      </a:lnTo>
                      <a:lnTo>
                        <a:pt x="2262" y="1025"/>
                      </a:lnTo>
                      <a:lnTo>
                        <a:pt x="2136" y="1025"/>
                      </a:lnTo>
                      <a:lnTo>
                        <a:pt x="2012" y="1025"/>
                      </a:lnTo>
                      <a:lnTo>
                        <a:pt x="1897" y="1025"/>
                      </a:lnTo>
                      <a:lnTo>
                        <a:pt x="1776" y="1025"/>
                      </a:lnTo>
                      <a:lnTo>
                        <a:pt x="1665" y="1025"/>
                      </a:lnTo>
                      <a:lnTo>
                        <a:pt x="1555" y="1025"/>
                      </a:lnTo>
                      <a:lnTo>
                        <a:pt x="1452" y="1025"/>
                      </a:lnTo>
                      <a:lnTo>
                        <a:pt x="1357" y="1025"/>
                      </a:lnTo>
                      <a:lnTo>
                        <a:pt x="1267" y="1025"/>
                      </a:lnTo>
                      <a:lnTo>
                        <a:pt x="1177" y="1025"/>
                      </a:lnTo>
                      <a:lnTo>
                        <a:pt x="1103" y="1025"/>
                      </a:lnTo>
                      <a:lnTo>
                        <a:pt x="1028" y="1025"/>
                      </a:lnTo>
                      <a:lnTo>
                        <a:pt x="964" y="1025"/>
                      </a:lnTo>
                      <a:lnTo>
                        <a:pt x="900" y="1025"/>
                      </a:lnTo>
                      <a:lnTo>
                        <a:pt x="854" y="1025"/>
                      </a:lnTo>
                      <a:lnTo>
                        <a:pt x="805" y="1025"/>
                      </a:lnTo>
                      <a:lnTo>
                        <a:pt x="769" y="1025"/>
                      </a:lnTo>
                      <a:lnTo>
                        <a:pt x="738" y="1025"/>
                      </a:lnTo>
                      <a:lnTo>
                        <a:pt x="722" y="1025"/>
                      </a:lnTo>
                      <a:close/>
                      <a:moveTo>
                        <a:pt x="270" y="653"/>
                      </a:moveTo>
                      <a:lnTo>
                        <a:pt x="296" y="646"/>
                      </a:lnTo>
                      <a:lnTo>
                        <a:pt x="319" y="639"/>
                      </a:lnTo>
                      <a:lnTo>
                        <a:pt x="340" y="627"/>
                      </a:lnTo>
                      <a:lnTo>
                        <a:pt x="363" y="617"/>
                      </a:lnTo>
                      <a:lnTo>
                        <a:pt x="376" y="595"/>
                      </a:lnTo>
                      <a:lnTo>
                        <a:pt x="388" y="574"/>
                      </a:lnTo>
                      <a:lnTo>
                        <a:pt x="396" y="550"/>
                      </a:lnTo>
                      <a:lnTo>
                        <a:pt x="401" y="528"/>
                      </a:lnTo>
                      <a:lnTo>
                        <a:pt x="396" y="501"/>
                      </a:lnTo>
                      <a:lnTo>
                        <a:pt x="388" y="475"/>
                      </a:lnTo>
                      <a:lnTo>
                        <a:pt x="376" y="453"/>
                      </a:lnTo>
                      <a:lnTo>
                        <a:pt x="363" y="436"/>
                      </a:lnTo>
                      <a:lnTo>
                        <a:pt x="340" y="417"/>
                      </a:lnTo>
                      <a:lnTo>
                        <a:pt x="319" y="407"/>
                      </a:lnTo>
                      <a:lnTo>
                        <a:pt x="296" y="403"/>
                      </a:lnTo>
                      <a:lnTo>
                        <a:pt x="270" y="403"/>
                      </a:lnTo>
                      <a:lnTo>
                        <a:pt x="242" y="403"/>
                      </a:lnTo>
                      <a:lnTo>
                        <a:pt x="216" y="407"/>
                      </a:lnTo>
                      <a:lnTo>
                        <a:pt x="193" y="417"/>
                      </a:lnTo>
                      <a:lnTo>
                        <a:pt x="173" y="436"/>
                      </a:lnTo>
                      <a:lnTo>
                        <a:pt x="155" y="453"/>
                      </a:lnTo>
                      <a:lnTo>
                        <a:pt x="144" y="475"/>
                      </a:lnTo>
                      <a:lnTo>
                        <a:pt x="139" y="501"/>
                      </a:lnTo>
                      <a:lnTo>
                        <a:pt x="139" y="528"/>
                      </a:lnTo>
                      <a:lnTo>
                        <a:pt x="139" y="550"/>
                      </a:lnTo>
                      <a:lnTo>
                        <a:pt x="144" y="574"/>
                      </a:lnTo>
                      <a:lnTo>
                        <a:pt x="155" y="595"/>
                      </a:lnTo>
                      <a:lnTo>
                        <a:pt x="173" y="617"/>
                      </a:lnTo>
                      <a:lnTo>
                        <a:pt x="193" y="627"/>
                      </a:lnTo>
                      <a:lnTo>
                        <a:pt x="216" y="639"/>
                      </a:lnTo>
                      <a:lnTo>
                        <a:pt x="242" y="646"/>
                      </a:lnTo>
                      <a:lnTo>
                        <a:pt x="270" y="653"/>
                      </a:lnTo>
                      <a:close/>
                      <a:moveTo>
                        <a:pt x="8050" y="653"/>
                      </a:moveTo>
                      <a:lnTo>
                        <a:pt x="8074" y="646"/>
                      </a:lnTo>
                      <a:lnTo>
                        <a:pt x="8097" y="639"/>
                      </a:lnTo>
                      <a:lnTo>
                        <a:pt x="8120" y="627"/>
                      </a:lnTo>
                      <a:lnTo>
                        <a:pt x="8140" y="617"/>
                      </a:lnTo>
                      <a:lnTo>
                        <a:pt x="8153" y="595"/>
                      </a:lnTo>
                      <a:lnTo>
                        <a:pt x="8169" y="574"/>
                      </a:lnTo>
                      <a:lnTo>
                        <a:pt x="8174" y="550"/>
                      </a:lnTo>
                      <a:lnTo>
                        <a:pt x="8181" y="528"/>
                      </a:lnTo>
                      <a:lnTo>
                        <a:pt x="8174" y="501"/>
                      </a:lnTo>
                      <a:lnTo>
                        <a:pt x="8169" y="475"/>
                      </a:lnTo>
                      <a:lnTo>
                        <a:pt x="8153" y="453"/>
                      </a:lnTo>
                      <a:lnTo>
                        <a:pt x="8140" y="436"/>
                      </a:lnTo>
                      <a:lnTo>
                        <a:pt x="8120" y="417"/>
                      </a:lnTo>
                      <a:lnTo>
                        <a:pt x="8097" y="407"/>
                      </a:lnTo>
                      <a:lnTo>
                        <a:pt x="8074" y="403"/>
                      </a:lnTo>
                      <a:lnTo>
                        <a:pt x="8050" y="403"/>
                      </a:lnTo>
                      <a:lnTo>
                        <a:pt x="8020" y="403"/>
                      </a:lnTo>
                      <a:lnTo>
                        <a:pt x="7996" y="407"/>
                      </a:lnTo>
                      <a:lnTo>
                        <a:pt x="7973" y="417"/>
                      </a:lnTo>
                      <a:lnTo>
                        <a:pt x="7953" y="436"/>
                      </a:lnTo>
                      <a:lnTo>
                        <a:pt x="7935" y="453"/>
                      </a:lnTo>
                      <a:lnTo>
                        <a:pt x="7925" y="475"/>
                      </a:lnTo>
                      <a:lnTo>
                        <a:pt x="7917" y="501"/>
                      </a:lnTo>
                      <a:lnTo>
                        <a:pt x="7917" y="528"/>
                      </a:lnTo>
                      <a:lnTo>
                        <a:pt x="7917" y="550"/>
                      </a:lnTo>
                      <a:lnTo>
                        <a:pt x="7925" y="574"/>
                      </a:lnTo>
                      <a:lnTo>
                        <a:pt x="7935" y="595"/>
                      </a:lnTo>
                      <a:lnTo>
                        <a:pt x="7953" y="617"/>
                      </a:lnTo>
                      <a:lnTo>
                        <a:pt x="7973" y="627"/>
                      </a:lnTo>
                      <a:lnTo>
                        <a:pt x="7996" y="639"/>
                      </a:lnTo>
                      <a:lnTo>
                        <a:pt x="8020" y="646"/>
                      </a:lnTo>
                      <a:lnTo>
                        <a:pt x="8050" y="65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99"/>
                    </a:gs>
                    <a:gs pos="50000">
                      <a:srgbClr val="ffffff"/>
                    </a:gs>
                    <a:gs pos="100000">
                      <a:srgbClr val="ffff99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 rot="10800000">
                  <a:off x="5564880" y="973800"/>
                  <a:ext cx="19080" cy="25200"/>
                </a:xfrm>
                <a:custGeom>
                  <a:avLst/>
                  <a:gdLst/>
                  <a:ahLst/>
                  <a:rect l="l" t="t" r="r" b="b"/>
                  <a:pathLst>
                    <a:path w="31" h="27">
                      <a:moveTo>
                        <a:pt x="25" y="0"/>
                      </a:moveTo>
                      <a:lnTo>
                        <a:pt x="25" y="0"/>
                      </a:lnTo>
                      <a:lnTo>
                        <a:pt x="0" y="8"/>
                      </a:lnTo>
                      <a:lnTo>
                        <a:pt x="5" y="27"/>
                      </a:lnTo>
                      <a:lnTo>
                        <a:pt x="31" y="20"/>
                      </a:lnTo>
                      <a:lnTo>
                        <a:pt x="31" y="20"/>
                      </a:lnTo>
                      <a:lnTo>
                        <a:pt x="31" y="20"/>
                      </a:lnTo>
                      <a:lnTo>
                        <a:pt x="31" y="20"/>
                      </a:lnTo>
                      <a:lnTo>
                        <a:pt x="31" y="20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 rot="10800000">
                  <a:off x="5549400" y="979920"/>
                  <a:ext cx="19080" cy="26280"/>
                </a:xfrm>
                <a:custGeom>
                  <a:avLst/>
                  <a:gdLst/>
                  <a:ahLst/>
                  <a:rect l="l" t="t" r="r" b="b"/>
                  <a:pathLst>
                    <a:path w="31" h="27">
                      <a:moveTo>
                        <a:pt x="21" y="0"/>
                      </a:moveTo>
                      <a:lnTo>
                        <a:pt x="24" y="0"/>
                      </a:lnTo>
                      <a:lnTo>
                        <a:pt x="0" y="7"/>
                      </a:lnTo>
                      <a:lnTo>
                        <a:pt x="6" y="27"/>
                      </a:lnTo>
                      <a:lnTo>
                        <a:pt x="29" y="20"/>
                      </a:lnTo>
                      <a:lnTo>
                        <a:pt x="31" y="20"/>
                      </a:lnTo>
                      <a:lnTo>
                        <a:pt x="29" y="20"/>
                      </a:lnTo>
                      <a:lnTo>
                        <a:pt x="31" y="20"/>
                      </a:lnTo>
                      <a:lnTo>
                        <a:pt x="31" y="20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 rot="10800000">
                  <a:off x="5536080" y="986760"/>
                  <a:ext cx="19080" cy="30600"/>
                </a:xfrm>
                <a:custGeom>
                  <a:avLst/>
                  <a:gdLst/>
                  <a:ahLst/>
                  <a:rect l="l" t="t" r="r" b="b"/>
                  <a:pathLst>
                    <a:path w="31" h="32">
                      <a:moveTo>
                        <a:pt x="21" y="0"/>
                      </a:moveTo>
                      <a:lnTo>
                        <a:pt x="21" y="0"/>
                      </a:lnTo>
                      <a:lnTo>
                        <a:pt x="0" y="12"/>
                      </a:lnTo>
                      <a:lnTo>
                        <a:pt x="10" y="32"/>
                      </a:lnTo>
                      <a:lnTo>
                        <a:pt x="31" y="19"/>
                      </a:lnTo>
                      <a:lnTo>
                        <a:pt x="31" y="19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 rot="10800000">
                  <a:off x="5518800" y="999000"/>
                  <a:ext cx="23400" cy="26640"/>
                </a:xfrm>
                <a:custGeom>
                  <a:avLst/>
                  <a:gdLst/>
                  <a:ahLst/>
                  <a:rect l="l" t="t" r="r" b="b"/>
                  <a:pathLst>
                    <a:path w="38" h="28">
                      <a:moveTo>
                        <a:pt x="17" y="4"/>
                      </a:moveTo>
                      <a:lnTo>
                        <a:pt x="23" y="0"/>
                      </a:lnTo>
                      <a:lnTo>
                        <a:pt x="0" y="9"/>
                      </a:lnTo>
                      <a:lnTo>
                        <a:pt x="10" y="28"/>
                      </a:lnTo>
                      <a:lnTo>
                        <a:pt x="33" y="19"/>
                      </a:lnTo>
                      <a:lnTo>
                        <a:pt x="38" y="14"/>
                      </a:lnTo>
                      <a:lnTo>
                        <a:pt x="33" y="19"/>
                      </a:lnTo>
                      <a:lnTo>
                        <a:pt x="35" y="19"/>
                      </a:lnTo>
                      <a:lnTo>
                        <a:pt x="38" y="14"/>
                      </a:lnTo>
                      <a:lnTo>
                        <a:pt x="17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 rot="10800000">
                  <a:off x="5510160" y="1012680"/>
                  <a:ext cx="21240" cy="29520"/>
                </a:xfrm>
                <a:custGeom>
                  <a:avLst/>
                  <a:gdLst/>
                  <a:ahLst/>
                  <a:rect l="l" t="t" r="r" b="b"/>
                  <a:pathLst>
                    <a:path w="34" h="31">
                      <a:moveTo>
                        <a:pt x="13" y="0"/>
                      </a:moveTo>
                      <a:lnTo>
                        <a:pt x="13" y="0"/>
                      </a:lnTo>
                      <a:lnTo>
                        <a:pt x="0" y="21"/>
                      </a:lnTo>
                      <a:lnTo>
                        <a:pt x="21" y="31"/>
                      </a:lnTo>
                      <a:lnTo>
                        <a:pt x="34" y="9"/>
                      </a:lnTo>
                      <a:lnTo>
                        <a:pt x="34" y="9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 rot="10800000">
                  <a:off x="5502240" y="1032840"/>
                  <a:ext cx="21240" cy="29520"/>
                </a:xfrm>
                <a:custGeom>
                  <a:avLst/>
                  <a:gdLst/>
                  <a:ahLst/>
                  <a:rect l="l" t="t" r="r" b="b"/>
                  <a:pathLst>
                    <a:path w="34" h="31">
                      <a:moveTo>
                        <a:pt x="13" y="2"/>
                      </a:moveTo>
                      <a:lnTo>
                        <a:pt x="13" y="0"/>
                      </a:lnTo>
                      <a:lnTo>
                        <a:pt x="0" y="22"/>
                      </a:lnTo>
                      <a:lnTo>
                        <a:pt x="21" y="31"/>
                      </a:lnTo>
                      <a:lnTo>
                        <a:pt x="34" y="10"/>
                      </a:lnTo>
                      <a:lnTo>
                        <a:pt x="34" y="7"/>
                      </a:lnTo>
                      <a:lnTo>
                        <a:pt x="34" y="10"/>
                      </a:lnTo>
                      <a:lnTo>
                        <a:pt x="34" y="10"/>
                      </a:lnTo>
                      <a:lnTo>
                        <a:pt x="34" y="7"/>
                      </a:lnTo>
                      <a:lnTo>
                        <a:pt x="1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 rot="10800000">
                  <a:off x="5497920" y="1056600"/>
                  <a:ext cx="17280" cy="27360"/>
                </a:xfrm>
                <a:custGeom>
                  <a:avLst/>
                  <a:gdLst/>
                  <a:ahLst/>
                  <a:rect l="l" t="t" r="r" b="b"/>
                  <a:pathLst>
                    <a:path w="28" h="29">
                      <a:moveTo>
                        <a:pt x="8" y="0"/>
                      </a:moveTo>
                      <a:lnTo>
                        <a:pt x="8" y="0"/>
                      </a:lnTo>
                      <a:lnTo>
                        <a:pt x="0" y="24"/>
                      </a:lnTo>
                      <a:lnTo>
                        <a:pt x="21" y="29"/>
                      </a:lnTo>
                      <a:lnTo>
                        <a:pt x="28" y="5"/>
                      </a:lnTo>
                      <a:lnTo>
                        <a:pt x="28" y="5"/>
                      </a:lnTo>
                      <a:lnTo>
                        <a:pt x="28" y="5"/>
                      </a:lnTo>
                      <a:lnTo>
                        <a:pt x="28" y="5"/>
                      </a:lnTo>
                      <a:lnTo>
                        <a:pt x="28" y="5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 rot="10800000">
                  <a:off x="5492880" y="1078920"/>
                  <a:ext cx="17280" cy="24480"/>
                </a:xfrm>
                <a:custGeom>
                  <a:avLst/>
                  <a:gdLst/>
                  <a:ahLst/>
                  <a:rect l="l" t="t" r="r" b="b"/>
                  <a:pathLst>
                    <a:path w="28" h="26">
                      <a:moveTo>
                        <a:pt x="5" y="4"/>
                      </a:moveTo>
                      <a:lnTo>
                        <a:pt x="5" y="0"/>
                      </a:lnTo>
                      <a:lnTo>
                        <a:pt x="0" y="21"/>
                      </a:lnTo>
                      <a:lnTo>
                        <a:pt x="20" y="26"/>
                      </a:lnTo>
                      <a:lnTo>
                        <a:pt x="26" y="4"/>
                      </a:lnTo>
                      <a:lnTo>
                        <a:pt x="26" y="0"/>
                      </a:lnTo>
                      <a:lnTo>
                        <a:pt x="26" y="4"/>
                      </a:lnTo>
                      <a:lnTo>
                        <a:pt x="28" y="2"/>
                      </a:lnTo>
                      <a:lnTo>
                        <a:pt x="26" y="0"/>
                      </a:lnTo>
                      <a:lnTo>
                        <a:pt x="5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 rot="10800000">
                  <a:off x="5494320" y="1099440"/>
                  <a:ext cx="15840" cy="29160"/>
                </a:xfrm>
                <a:custGeom>
                  <a:avLst/>
                  <a:gdLst/>
                  <a:ahLst/>
                  <a:rect l="l" t="t" r="r" b="b"/>
                  <a:pathLst>
                    <a:path w="26" h="31">
                      <a:moveTo>
                        <a:pt x="0" y="5"/>
                      </a:moveTo>
                      <a:lnTo>
                        <a:pt x="0" y="5"/>
                      </a:lnTo>
                      <a:lnTo>
                        <a:pt x="5" y="31"/>
                      </a:lnTo>
                      <a:lnTo>
                        <a:pt x="26" y="27"/>
                      </a:lnTo>
                      <a:lnTo>
                        <a:pt x="20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 rot="10800000">
                  <a:off x="5497920" y="1125000"/>
                  <a:ext cx="17280" cy="31320"/>
                </a:xfrm>
                <a:custGeom>
                  <a:avLst/>
                  <a:gdLst/>
                  <a:ahLst/>
                  <a:rect l="l" t="t" r="r" b="b"/>
                  <a:pathLst>
                    <a:path w="28" h="34">
                      <a:moveTo>
                        <a:pt x="0" y="10"/>
                      </a:moveTo>
                      <a:lnTo>
                        <a:pt x="0" y="7"/>
                      </a:lnTo>
                      <a:lnTo>
                        <a:pt x="8" y="34"/>
                      </a:lnTo>
                      <a:lnTo>
                        <a:pt x="28" y="29"/>
                      </a:lnTo>
                      <a:lnTo>
                        <a:pt x="21" y="2"/>
                      </a:lnTo>
                      <a:lnTo>
                        <a:pt x="21" y="0"/>
                      </a:lnTo>
                      <a:lnTo>
                        <a:pt x="21" y="2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 rot="10800000">
                  <a:off x="5502240" y="1147320"/>
                  <a:ext cx="21240" cy="31320"/>
                </a:xfrm>
                <a:custGeom>
                  <a:avLst/>
                  <a:gdLst/>
                  <a:ahLst/>
                  <a:rect l="l" t="t" r="r" b="b"/>
                  <a:pathLst>
                    <a:path w="34" h="34">
                      <a:moveTo>
                        <a:pt x="0" y="14"/>
                      </a:moveTo>
                      <a:lnTo>
                        <a:pt x="0" y="12"/>
                      </a:lnTo>
                      <a:lnTo>
                        <a:pt x="13" y="34"/>
                      </a:lnTo>
                      <a:lnTo>
                        <a:pt x="34" y="24"/>
                      </a:lnTo>
                      <a:lnTo>
                        <a:pt x="21" y="2"/>
                      </a:lnTo>
                      <a:lnTo>
                        <a:pt x="21" y="0"/>
                      </a:lnTo>
                      <a:lnTo>
                        <a:pt x="21" y="2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 rot="10800000">
                  <a:off x="5510160" y="1165680"/>
                  <a:ext cx="21240" cy="29520"/>
                </a:xfrm>
                <a:custGeom>
                  <a:avLst/>
                  <a:gdLst/>
                  <a:ahLst/>
                  <a:rect l="l" t="t" r="r" b="b"/>
                  <a:pathLst>
                    <a:path w="34" h="31">
                      <a:moveTo>
                        <a:pt x="3" y="15"/>
                      </a:moveTo>
                      <a:lnTo>
                        <a:pt x="0" y="15"/>
                      </a:lnTo>
                      <a:lnTo>
                        <a:pt x="13" y="31"/>
                      </a:lnTo>
                      <a:lnTo>
                        <a:pt x="34" y="17"/>
                      </a:lnTo>
                      <a:lnTo>
                        <a:pt x="21" y="0"/>
                      </a:lnTo>
                      <a:lnTo>
                        <a:pt x="18" y="0"/>
                      </a:lnTo>
                      <a:lnTo>
                        <a:pt x="21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lnTo>
                        <a:pt x="3" y="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 rot="10800000">
                  <a:off x="5520240" y="1181160"/>
                  <a:ext cx="23760" cy="35640"/>
                </a:xfrm>
                <a:custGeom>
                  <a:avLst/>
                  <a:gdLst/>
                  <a:ahLst/>
                  <a:rect l="l" t="t" r="r" b="b"/>
                  <a:pathLst>
                    <a:path w="38" h="37">
                      <a:moveTo>
                        <a:pt x="3" y="20"/>
                      </a:moveTo>
                      <a:lnTo>
                        <a:pt x="0" y="17"/>
                      </a:lnTo>
                      <a:lnTo>
                        <a:pt x="23" y="37"/>
                      </a:lnTo>
                      <a:lnTo>
                        <a:pt x="38" y="22"/>
                      </a:lnTo>
                      <a:lnTo>
                        <a:pt x="15" y="3"/>
                      </a:lnTo>
                      <a:lnTo>
                        <a:pt x="13" y="0"/>
                      </a:lnTo>
                      <a:lnTo>
                        <a:pt x="15" y="3"/>
                      </a:lnTo>
                      <a:lnTo>
                        <a:pt x="15" y="0"/>
                      </a:lnTo>
                      <a:lnTo>
                        <a:pt x="13" y="0"/>
                      </a:lnTo>
                      <a:lnTo>
                        <a:pt x="3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 rot="10800000">
                  <a:off x="5536080" y="1197720"/>
                  <a:ext cx="19080" cy="27360"/>
                </a:xfrm>
                <a:custGeom>
                  <a:avLst/>
                  <a:gdLst/>
                  <a:ahLst/>
                  <a:rect l="l" t="t" r="r" b="b"/>
                  <a:pathLst>
                    <a:path w="31" h="29">
                      <a:moveTo>
                        <a:pt x="3" y="19"/>
                      </a:moveTo>
                      <a:lnTo>
                        <a:pt x="0" y="19"/>
                      </a:lnTo>
                      <a:lnTo>
                        <a:pt x="21" y="29"/>
                      </a:lnTo>
                      <a:lnTo>
                        <a:pt x="31" y="9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3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0" name=""/>
                <p:cNvSpPr/>
                <p:nvPr/>
              </p:nvSpPr>
              <p:spPr>
                <a:xfrm rot="10800000">
                  <a:off x="5550480" y="1207080"/>
                  <a:ext cx="18000" cy="25200"/>
                </a:xfrm>
                <a:custGeom>
                  <a:avLst/>
                  <a:gdLst/>
                  <a:ahLst/>
                  <a:rect l="l" t="t" r="r" b="b"/>
                  <a:pathLst>
                    <a:path w="29" h="27">
                      <a:moveTo>
                        <a:pt x="3" y="25"/>
                      </a:moveTo>
                      <a:lnTo>
                        <a:pt x="0" y="22"/>
                      </a:lnTo>
                      <a:lnTo>
                        <a:pt x="24" y="27"/>
                      </a:lnTo>
                      <a:lnTo>
                        <a:pt x="29" y="8"/>
                      </a:lnTo>
                      <a:lnTo>
                        <a:pt x="6" y="3"/>
                      </a:lnTo>
                      <a:lnTo>
                        <a:pt x="3" y="0"/>
                      </a:lnTo>
                      <a:lnTo>
                        <a:pt x="6" y="3"/>
                      </a:lnTo>
                      <a:lnTo>
                        <a:pt x="6" y="3"/>
                      </a:lnTo>
                      <a:lnTo>
                        <a:pt x="3" y="0"/>
                      </a:lnTo>
                      <a:lnTo>
                        <a:pt x="3" y="2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 rot="10800000">
                  <a:off x="5566680" y="1208880"/>
                  <a:ext cx="16200" cy="23400"/>
                </a:xfrm>
                <a:custGeom>
                  <a:avLst/>
                  <a:gdLst/>
                  <a:ahLst/>
                  <a:rect l="l" t="t" r="r" b="b"/>
                  <a:pathLst>
                    <a:path w="26" h="25">
                      <a:moveTo>
                        <a:pt x="0" y="25"/>
                      </a:moveTo>
                      <a:lnTo>
                        <a:pt x="0" y="25"/>
                      </a:lnTo>
                      <a:lnTo>
                        <a:pt x="26" y="25"/>
                      </a:lnTo>
                      <a:lnTo>
                        <a:pt x="26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2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 rot="10800000">
                  <a:off x="5583240" y="1208880"/>
                  <a:ext cx="19080" cy="23400"/>
                </a:xfrm>
                <a:custGeom>
                  <a:avLst/>
                  <a:gdLst/>
                  <a:ahLst/>
                  <a:rect l="l" t="t" r="r" b="b"/>
                  <a:pathLst>
                    <a:path w="31" h="25">
                      <a:moveTo>
                        <a:pt x="6" y="22"/>
                      </a:moveTo>
                      <a:lnTo>
                        <a:pt x="3" y="25"/>
                      </a:lnTo>
                      <a:lnTo>
                        <a:pt x="31" y="25"/>
                      </a:lnTo>
                      <a:lnTo>
                        <a:pt x="31" y="0"/>
                      </a:lnTo>
                      <a:lnTo>
                        <a:pt x="3" y="0"/>
                      </a:lnTo>
                      <a:lnTo>
                        <a:pt x="0" y="3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0" y="3"/>
                      </a:lnTo>
                      <a:lnTo>
                        <a:pt x="6" y="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 rot="10800000">
                  <a:off x="5598360" y="1206720"/>
                  <a:ext cx="21240" cy="23400"/>
                </a:xfrm>
                <a:custGeom>
                  <a:avLst/>
                  <a:gdLst/>
                  <a:ahLst/>
                  <a:rect l="l" t="t" r="r" b="b"/>
                  <a:pathLst>
                    <a:path w="34" h="24">
                      <a:moveTo>
                        <a:pt x="10" y="24"/>
                      </a:moveTo>
                      <a:lnTo>
                        <a:pt x="8" y="24"/>
                      </a:lnTo>
                      <a:lnTo>
                        <a:pt x="34" y="19"/>
                      </a:lnTo>
                      <a:lnTo>
                        <a:pt x="28" y="0"/>
                      </a:lnTo>
                      <a:lnTo>
                        <a:pt x="3" y="5"/>
                      </a:lnTo>
                      <a:lnTo>
                        <a:pt x="0" y="5"/>
                      </a:lnTo>
                      <a:lnTo>
                        <a:pt x="3" y="5"/>
                      </a:lnTo>
                      <a:lnTo>
                        <a:pt x="3" y="5"/>
                      </a:lnTo>
                      <a:lnTo>
                        <a:pt x="0" y="5"/>
                      </a:lnTo>
                      <a:lnTo>
                        <a:pt x="10" y="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 rot="10800000">
                  <a:off x="5613480" y="1197720"/>
                  <a:ext cx="22320" cy="27360"/>
                </a:xfrm>
                <a:custGeom>
                  <a:avLst/>
                  <a:gdLst/>
                  <a:ahLst/>
                  <a:rect l="l" t="t" r="r" b="b"/>
                  <a:pathLst>
                    <a:path w="36" h="29">
                      <a:moveTo>
                        <a:pt x="16" y="26"/>
                      </a:moveTo>
                      <a:lnTo>
                        <a:pt x="13" y="29"/>
                      </a:lnTo>
                      <a:lnTo>
                        <a:pt x="36" y="19"/>
                      </a:lnTo>
                      <a:lnTo>
                        <a:pt x="26" y="0"/>
                      </a:lnTo>
                      <a:lnTo>
                        <a:pt x="3" y="9"/>
                      </a:lnTo>
                      <a:lnTo>
                        <a:pt x="0" y="12"/>
                      </a:lnTo>
                      <a:lnTo>
                        <a:pt x="3" y="9"/>
                      </a:lnTo>
                      <a:lnTo>
                        <a:pt x="0" y="9"/>
                      </a:lnTo>
                      <a:lnTo>
                        <a:pt x="0" y="12"/>
                      </a:lnTo>
                      <a:lnTo>
                        <a:pt x="16" y="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 rot="10800000">
                  <a:off x="5626080" y="1181160"/>
                  <a:ext cx="22320" cy="32400"/>
                </a:xfrm>
                <a:custGeom>
                  <a:avLst/>
                  <a:gdLst/>
                  <a:ahLst/>
                  <a:rect l="l" t="t" r="r" b="b"/>
                  <a:pathLst>
                    <a:path w="36" h="34">
                      <a:moveTo>
                        <a:pt x="15" y="34"/>
                      </a:moveTo>
                      <a:lnTo>
                        <a:pt x="15" y="34"/>
                      </a:lnTo>
                      <a:lnTo>
                        <a:pt x="36" y="14"/>
                      </a:lnTo>
                      <a:lnTo>
                        <a:pt x="20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lnTo>
                        <a:pt x="15" y="3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 rot="10800000">
                  <a:off x="5639400" y="1165680"/>
                  <a:ext cx="22320" cy="29520"/>
                </a:xfrm>
                <a:custGeom>
                  <a:avLst/>
                  <a:gdLst/>
                  <a:ahLst/>
                  <a:rect l="l" t="t" r="r" b="b"/>
                  <a:pathLst>
                    <a:path w="36" h="31">
                      <a:moveTo>
                        <a:pt x="21" y="29"/>
                      </a:moveTo>
                      <a:lnTo>
                        <a:pt x="18" y="31"/>
                      </a:lnTo>
                      <a:lnTo>
                        <a:pt x="36" y="15"/>
                      </a:lnTo>
                      <a:lnTo>
                        <a:pt x="21" y="0"/>
                      </a:lnTo>
                      <a:lnTo>
                        <a:pt x="3" y="17"/>
                      </a:lnTo>
                      <a:lnTo>
                        <a:pt x="0" y="19"/>
                      </a:lnTo>
                      <a:lnTo>
                        <a:pt x="3" y="17"/>
                      </a:lnTo>
                      <a:lnTo>
                        <a:pt x="0" y="17"/>
                      </a:lnTo>
                      <a:lnTo>
                        <a:pt x="0" y="19"/>
                      </a:lnTo>
                      <a:lnTo>
                        <a:pt x="21" y="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 rot="10800000">
                  <a:off x="5648760" y="1147680"/>
                  <a:ext cx="19080" cy="30240"/>
                </a:xfrm>
                <a:custGeom>
                  <a:avLst/>
                  <a:gdLst/>
                  <a:ahLst/>
                  <a:rect l="l" t="t" r="r" b="b"/>
                  <a:pathLst>
                    <a:path w="31" h="32">
                      <a:moveTo>
                        <a:pt x="21" y="29"/>
                      </a:moveTo>
                      <a:lnTo>
                        <a:pt x="21" y="32"/>
                      </a:lnTo>
                      <a:lnTo>
                        <a:pt x="31" y="10"/>
                      </a:lnTo>
                      <a:lnTo>
                        <a:pt x="10" y="0"/>
                      </a:lnTo>
                      <a:lnTo>
                        <a:pt x="0" y="22"/>
                      </a:lnTo>
                      <a:lnTo>
                        <a:pt x="0" y="24"/>
                      </a:lnTo>
                      <a:lnTo>
                        <a:pt x="0" y="22"/>
                      </a:lnTo>
                      <a:lnTo>
                        <a:pt x="0" y="24"/>
                      </a:lnTo>
                      <a:lnTo>
                        <a:pt x="0" y="24"/>
                      </a:lnTo>
                      <a:lnTo>
                        <a:pt x="21" y="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 rot="10800000">
                  <a:off x="5654880" y="1125000"/>
                  <a:ext cx="18000" cy="29520"/>
                </a:xfrm>
                <a:custGeom>
                  <a:avLst/>
                  <a:gdLst/>
                  <a:ahLst/>
                  <a:rect l="l" t="t" r="r" b="b"/>
                  <a:pathLst>
                    <a:path w="29" h="32">
                      <a:moveTo>
                        <a:pt x="26" y="29"/>
                      </a:moveTo>
                      <a:lnTo>
                        <a:pt x="24" y="32"/>
                      </a:lnTo>
                      <a:lnTo>
                        <a:pt x="29" y="5"/>
                      </a:lnTo>
                      <a:lnTo>
                        <a:pt x="8" y="0"/>
                      </a:lnTo>
                      <a:lnTo>
                        <a:pt x="3" y="27"/>
                      </a:lnTo>
                      <a:lnTo>
                        <a:pt x="0" y="29"/>
                      </a:lnTo>
                      <a:lnTo>
                        <a:pt x="3" y="27"/>
                      </a:lnTo>
                      <a:lnTo>
                        <a:pt x="3" y="29"/>
                      </a:lnTo>
                      <a:lnTo>
                        <a:pt x="0" y="29"/>
                      </a:lnTo>
                      <a:lnTo>
                        <a:pt x="26" y="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 rot="10800000">
                  <a:off x="5656680" y="1101240"/>
                  <a:ext cx="16200" cy="25560"/>
                </a:xfrm>
                <a:custGeom>
                  <a:avLst/>
                  <a:gdLst/>
                  <a:ahLst/>
                  <a:rect l="l" t="t" r="r" b="b"/>
                  <a:pathLst>
                    <a:path w="26" h="27">
                      <a:moveTo>
                        <a:pt x="26" y="27"/>
                      </a:moveTo>
                      <a:lnTo>
                        <a:pt x="26" y="27"/>
                      </a:lnTo>
                      <a:lnTo>
                        <a:pt x="26" y="0"/>
                      </a:lnTo>
                      <a:lnTo>
                        <a:pt x="0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lnTo>
                        <a:pt x="26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 rot="10800000">
                  <a:off x="5656680" y="1078920"/>
                  <a:ext cx="16200" cy="22320"/>
                </a:xfrm>
                <a:custGeom>
                  <a:avLst/>
                  <a:gdLst/>
                  <a:ahLst/>
                  <a:rect l="l" t="t" r="r" b="b"/>
                  <a:pathLst>
                    <a:path w="26" h="24">
                      <a:moveTo>
                        <a:pt x="24" y="19"/>
                      </a:moveTo>
                      <a:lnTo>
                        <a:pt x="26" y="22"/>
                      </a:lnTo>
                      <a:lnTo>
                        <a:pt x="26" y="0"/>
                      </a:lnTo>
                      <a:lnTo>
                        <a:pt x="0" y="0"/>
                      </a:lnTo>
                      <a:lnTo>
                        <a:pt x="0" y="22"/>
                      </a:lnTo>
                      <a:lnTo>
                        <a:pt x="3" y="24"/>
                      </a:lnTo>
                      <a:lnTo>
                        <a:pt x="0" y="22"/>
                      </a:lnTo>
                      <a:lnTo>
                        <a:pt x="3" y="22"/>
                      </a:lnTo>
                      <a:lnTo>
                        <a:pt x="3" y="24"/>
                      </a:lnTo>
                      <a:lnTo>
                        <a:pt x="24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 rot="10800000">
                  <a:off x="5654880" y="1053720"/>
                  <a:ext cx="16200" cy="30240"/>
                </a:xfrm>
                <a:custGeom>
                  <a:avLst/>
                  <a:gdLst/>
                  <a:ahLst/>
                  <a:rect l="l" t="t" r="r" b="b"/>
                  <a:pathLst>
                    <a:path w="26" h="32">
                      <a:moveTo>
                        <a:pt x="26" y="22"/>
                      </a:moveTo>
                      <a:lnTo>
                        <a:pt x="26" y="24"/>
                      </a:lnTo>
                      <a:lnTo>
                        <a:pt x="21" y="0"/>
                      </a:lnTo>
                      <a:lnTo>
                        <a:pt x="0" y="5"/>
                      </a:lnTo>
                      <a:lnTo>
                        <a:pt x="5" y="29"/>
                      </a:lnTo>
                      <a:lnTo>
                        <a:pt x="5" y="32"/>
                      </a:lnTo>
                      <a:lnTo>
                        <a:pt x="5" y="29"/>
                      </a:lnTo>
                      <a:lnTo>
                        <a:pt x="5" y="29"/>
                      </a:lnTo>
                      <a:lnTo>
                        <a:pt x="5" y="32"/>
                      </a:lnTo>
                      <a:lnTo>
                        <a:pt x="26" y="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 rot="10800000">
                  <a:off x="5648760" y="1030680"/>
                  <a:ext cx="19080" cy="31680"/>
                </a:xfrm>
                <a:custGeom>
                  <a:avLst/>
                  <a:gdLst/>
                  <a:ahLst/>
                  <a:rect l="l" t="t" r="r" b="b"/>
                  <a:pathLst>
                    <a:path w="31" h="34">
                      <a:moveTo>
                        <a:pt x="31" y="19"/>
                      </a:moveTo>
                      <a:lnTo>
                        <a:pt x="31" y="22"/>
                      </a:lnTo>
                      <a:lnTo>
                        <a:pt x="21" y="0"/>
                      </a:lnTo>
                      <a:lnTo>
                        <a:pt x="0" y="10"/>
                      </a:lnTo>
                      <a:lnTo>
                        <a:pt x="10" y="31"/>
                      </a:lnTo>
                      <a:lnTo>
                        <a:pt x="10" y="34"/>
                      </a:lnTo>
                      <a:lnTo>
                        <a:pt x="10" y="31"/>
                      </a:lnTo>
                      <a:lnTo>
                        <a:pt x="10" y="31"/>
                      </a:lnTo>
                      <a:lnTo>
                        <a:pt x="10" y="34"/>
                      </a:lnTo>
                      <a:lnTo>
                        <a:pt x="31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 rot="10800000">
                  <a:off x="5637600" y="1007640"/>
                  <a:ext cx="24120" cy="37440"/>
                </a:xfrm>
                <a:custGeom>
                  <a:avLst/>
                  <a:gdLst/>
                  <a:ahLst/>
                  <a:rect l="l" t="t" r="r" b="b"/>
                  <a:pathLst>
                    <a:path w="39" h="39">
                      <a:moveTo>
                        <a:pt x="34" y="20"/>
                      </a:moveTo>
                      <a:lnTo>
                        <a:pt x="39" y="22"/>
                      </a:lnTo>
                      <a:lnTo>
                        <a:pt x="21" y="0"/>
                      </a:lnTo>
                      <a:lnTo>
                        <a:pt x="0" y="15"/>
                      </a:lnTo>
                      <a:lnTo>
                        <a:pt x="18" y="36"/>
                      </a:lnTo>
                      <a:lnTo>
                        <a:pt x="23" y="39"/>
                      </a:lnTo>
                      <a:lnTo>
                        <a:pt x="18" y="36"/>
                      </a:lnTo>
                      <a:lnTo>
                        <a:pt x="21" y="39"/>
                      </a:lnTo>
                      <a:lnTo>
                        <a:pt x="23" y="39"/>
                      </a:lnTo>
                      <a:lnTo>
                        <a:pt x="34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 rot="10800000">
                  <a:off x="5627880" y="999000"/>
                  <a:ext cx="19080" cy="26640"/>
                </a:xfrm>
                <a:custGeom>
                  <a:avLst/>
                  <a:gdLst/>
                  <a:ahLst/>
                  <a:rect l="l" t="t" r="r" b="b"/>
                  <a:pathLst>
                    <a:path w="31" h="28">
                      <a:moveTo>
                        <a:pt x="31" y="9"/>
                      </a:moveTo>
                      <a:lnTo>
                        <a:pt x="31" y="9"/>
                      </a:lnTo>
                      <a:lnTo>
                        <a:pt x="11" y="0"/>
                      </a:lnTo>
                      <a:lnTo>
                        <a:pt x="0" y="19"/>
                      </a:lnTo>
                      <a:lnTo>
                        <a:pt x="21" y="28"/>
                      </a:lnTo>
                      <a:lnTo>
                        <a:pt x="21" y="28"/>
                      </a:lnTo>
                      <a:lnTo>
                        <a:pt x="31" y="9"/>
                      </a:lnTo>
                      <a:lnTo>
                        <a:pt x="31" y="9"/>
                      </a:lnTo>
                      <a:lnTo>
                        <a:pt x="31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 rot="10800000">
                  <a:off x="5613480" y="986760"/>
                  <a:ext cx="20520" cy="30600"/>
                </a:xfrm>
                <a:custGeom>
                  <a:avLst/>
                  <a:gdLst/>
                  <a:ahLst/>
                  <a:rect l="l" t="t" r="r" b="b"/>
                  <a:pathLst>
                    <a:path w="33" h="32">
                      <a:moveTo>
                        <a:pt x="31" y="12"/>
                      </a:moveTo>
                      <a:lnTo>
                        <a:pt x="33" y="12"/>
                      </a:lnTo>
                      <a:lnTo>
                        <a:pt x="10" y="0"/>
                      </a:lnTo>
                      <a:lnTo>
                        <a:pt x="0" y="19"/>
                      </a:lnTo>
                      <a:lnTo>
                        <a:pt x="23" y="32"/>
                      </a:lnTo>
                      <a:lnTo>
                        <a:pt x="26" y="32"/>
                      </a:lnTo>
                      <a:lnTo>
                        <a:pt x="23" y="32"/>
                      </a:lnTo>
                      <a:lnTo>
                        <a:pt x="23" y="32"/>
                      </a:lnTo>
                      <a:lnTo>
                        <a:pt x="26" y="32"/>
                      </a:lnTo>
                      <a:lnTo>
                        <a:pt x="31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 rot="10800000">
                  <a:off x="5598720" y="979920"/>
                  <a:ext cx="19080" cy="26280"/>
                </a:xfrm>
                <a:custGeom>
                  <a:avLst/>
                  <a:gdLst/>
                  <a:ahLst/>
                  <a:rect l="l" t="t" r="r" b="b"/>
                  <a:pathLst>
                    <a:path w="31" h="27">
                      <a:moveTo>
                        <a:pt x="31" y="7"/>
                      </a:moveTo>
                      <a:lnTo>
                        <a:pt x="31" y="7"/>
                      </a:lnTo>
                      <a:lnTo>
                        <a:pt x="5" y="0"/>
                      </a:lnTo>
                      <a:lnTo>
                        <a:pt x="0" y="20"/>
                      </a:lnTo>
                      <a:lnTo>
                        <a:pt x="25" y="27"/>
                      </a:lnTo>
                      <a:lnTo>
                        <a:pt x="25" y="27"/>
                      </a:lnTo>
                      <a:lnTo>
                        <a:pt x="25" y="27"/>
                      </a:lnTo>
                      <a:lnTo>
                        <a:pt x="25" y="27"/>
                      </a:lnTo>
                      <a:lnTo>
                        <a:pt x="25" y="27"/>
                      </a:lnTo>
                      <a:lnTo>
                        <a:pt x="31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 rot="10800000">
                  <a:off x="5581080" y="971640"/>
                  <a:ext cx="21240" cy="27360"/>
                </a:xfrm>
                <a:custGeom>
                  <a:avLst/>
                  <a:gdLst/>
                  <a:ahLst/>
                  <a:rect l="l" t="t" r="r" b="b"/>
                  <a:pathLst>
                    <a:path w="34" h="29">
                      <a:moveTo>
                        <a:pt x="29" y="8"/>
                      </a:moveTo>
                      <a:lnTo>
                        <a:pt x="34" y="8"/>
                      </a:lnTo>
                      <a:lnTo>
                        <a:pt x="6" y="0"/>
                      </a:lnTo>
                      <a:lnTo>
                        <a:pt x="0" y="20"/>
                      </a:lnTo>
                      <a:lnTo>
                        <a:pt x="29" y="27"/>
                      </a:lnTo>
                      <a:lnTo>
                        <a:pt x="34" y="27"/>
                      </a:lnTo>
                      <a:lnTo>
                        <a:pt x="29" y="27"/>
                      </a:lnTo>
                      <a:lnTo>
                        <a:pt x="31" y="29"/>
                      </a:lnTo>
                      <a:lnTo>
                        <a:pt x="34" y="27"/>
                      </a:lnTo>
                      <a:lnTo>
                        <a:pt x="29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 rot="10800000">
                  <a:off x="705240" y="973800"/>
                  <a:ext cx="17280" cy="25200"/>
                </a:xfrm>
                <a:custGeom>
                  <a:avLst/>
                  <a:gdLst/>
                  <a:ahLst/>
                  <a:rect l="l" t="t" r="r" b="b"/>
                  <a:pathLst>
                    <a:path w="28" h="27">
                      <a:moveTo>
                        <a:pt x="23" y="0"/>
                      </a:moveTo>
                      <a:lnTo>
                        <a:pt x="23" y="0"/>
                      </a:lnTo>
                      <a:lnTo>
                        <a:pt x="0" y="8"/>
                      </a:lnTo>
                      <a:lnTo>
                        <a:pt x="5" y="27"/>
                      </a:lnTo>
                      <a:lnTo>
                        <a:pt x="28" y="20"/>
                      </a:lnTo>
                      <a:lnTo>
                        <a:pt x="28" y="2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 rot="10800000">
                  <a:off x="689040" y="979920"/>
                  <a:ext cx="19080" cy="26280"/>
                </a:xfrm>
                <a:custGeom>
                  <a:avLst/>
                  <a:gdLst/>
                  <a:ahLst/>
                  <a:rect l="l" t="t" r="r" b="b"/>
                  <a:pathLst>
                    <a:path w="31" h="27">
                      <a:moveTo>
                        <a:pt x="21" y="0"/>
                      </a:moveTo>
                      <a:lnTo>
                        <a:pt x="23" y="0"/>
                      </a:lnTo>
                      <a:lnTo>
                        <a:pt x="0" y="7"/>
                      </a:lnTo>
                      <a:lnTo>
                        <a:pt x="5" y="27"/>
                      </a:lnTo>
                      <a:lnTo>
                        <a:pt x="28" y="20"/>
                      </a:lnTo>
                      <a:lnTo>
                        <a:pt x="31" y="20"/>
                      </a:lnTo>
                      <a:lnTo>
                        <a:pt x="28" y="20"/>
                      </a:lnTo>
                      <a:lnTo>
                        <a:pt x="31" y="20"/>
                      </a:lnTo>
                      <a:lnTo>
                        <a:pt x="31" y="20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 rot="10800000">
                  <a:off x="674280" y="986760"/>
                  <a:ext cx="20520" cy="30600"/>
                </a:xfrm>
                <a:custGeom>
                  <a:avLst/>
                  <a:gdLst/>
                  <a:ahLst/>
                  <a:rect l="l" t="t" r="r" b="b"/>
                  <a:pathLst>
                    <a:path w="33" h="32">
                      <a:moveTo>
                        <a:pt x="23" y="0"/>
                      </a:moveTo>
                      <a:lnTo>
                        <a:pt x="23" y="0"/>
                      </a:lnTo>
                      <a:lnTo>
                        <a:pt x="0" y="12"/>
                      </a:lnTo>
                      <a:lnTo>
                        <a:pt x="10" y="32"/>
                      </a:lnTo>
                      <a:lnTo>
                        <a:pt x="33" y="19"/>
                      </a:lnTo>
                      <a:lnTo>
                        <a:pt x="33" y="19"/>
                      </a:lnTo>
                      <a:lnTo>
                        <a:pt x="23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 rot="10800000">
                  <a:off x="658440" y="999000"/>
                  <a:ext cx="22320" cy="26640"/>
                </a:xfrm>
                <a:custGeom>
                  <a:avLst/>
                  <a:gdLst/>
                  <a:ahLst/>
                  <a:rect l="l" t="t" r="r" b="b"/>
                  <a:pathLst>
                    <a:path w="36" h="28">
                      <a:moveTo>
                        <a:pt x="15" y="4"/>
                      </a:moveTo>
                      <a:lnTo>
                        <a:pt x="20" y="0"/>
                      </a:lnTo>
                      <a:lnTo>
                        <a:pt x="0" y="9"/>
                      </a:lnTo>
                      <a:lnTo>
                        <a:pt x="10" y="28"/>
                      </a:lnTo>
                      <a:lnTo>
                        <a:pt x="31" y="19"/>
                      </a:lnTo>
                      <a:lnTo>
                        <a:pt x="36" y="14"/>
                      </a:lnTo>
                      <a:lnTo>
                        <a:pt x="31" y="19"/>
                      </a:lnTo>
                      <a:lnTo>
                        <a:pt x="33" y="19"/>
                      </a:lnTo>
                      <a:lnTo>
                        <a:pt x="36" y="14"/>
                      </a:lnTo>
                      <a:lnTo>
                        <a:pt x="15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 rot="10800000">
                  <a:off x="650880" y="1012680"/>
                  <a:ext cx="20520" cy="32400"/>
                </a:xfrm>
                <a:custGeom>
                  <a:avLst/>
                  <a:gdLst/>
                  <a:ahLst/>
                  <a:rect l="l" t="t" r="r" b="b"/>
                  <a:pathLst>
                    <a:path w="33" h="34">
                      <a:moveTo>
                        <a:pt x="13" y="0"/>
                      </a:moveTo>
                      <a:lnTo>
                        <a:pt x="13" y="3"/>
                      </a:lnTo>
                      <a:lnTo>
                        <a:pt x="0" y="24"/>
                      </a:lnTo>
                      <a:lnTo>
                        <a:pt x="21" y="34"/>
                      </a:lnTo>
                      <a:lnTo>
                        <a:pt x="33" y="12"/>
                      </a:lnTo>
                      <a:lnTo>
                        <a:pt x="33" y="15"/>
                      </a:lnTo>
                      <a:lnTo>
                        <a:pt x="13" y="3"/>
                      </a:lnTo>
                      <a:lnTo>
                        <a:pt x="13" y="3"/>
                      </a:lnTo>
                      <a:lnTo>
                        <a:pt x="13" y="3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 rot="10800000">
                  <a:off x="640800" y="1031040"/>
                  <a:ext cx="22320" cy="33480"/>
                </a:xfrm>
                <a:custGeom>
                  <a:avLst/>
                  <a:gdLst/>
                  <a:ahLst/>
                  <a:rect l="l" t="t" r="r" b="b"/>
                  <a:pathLst>
                    <a:path w="36" h="36">
                      <a:moveTo>
                        <a:pt x="15" y="4"/>
                      </a:moveTo>
                      <a:lnTo>
                        <a:pt x="15" y="0"/>
                      </a:lnTo>
                      <a:lnTo>
                        <a:pt x="0" y="21"/>
                      </a:lnTo>
                      <a:lnTo>
                        <a:pt x="20" y="36"/>
                      </a:lnTo>
                      <a:lnTo>
                        <a:pt x="36" y="14"/>
                      </a:lnTo>
                      <a:lnTo>
                        <a:pt x="36" y="9"/>
                      </a:lnTo>
                      <a:lnTo>
                        <a:pt x="36" y="12"/>
                      </a:lnTo>
                      <a:lnTo>
                        <a:pt x="36" y="12"/>
                      </a:lnTo>
                      <a:lnTo>
                        <a:pt x="36" y="9"/>
                      </a:lnTo>
                      <a:lnTo>
                        <a:pt x="15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 rot="10800000">
                  <a:off x="637560" y="1056600"/>
                  <a:ext cx="16200" cy="27360"/>
                </a:xfrm>
                <a:custGeom>
                  <a:avLst/>
                  <a:gdLst/>
                  <a:ahLst/>
                  <a:rect l="l" t="t" r="r" b="b"/>
                  <a:pathLst>
                    <a:path w="26" h="29">
                      <a:moveTo>
                        <a:pt x="5" y="0"/>
                      </a:moveTo>
                      <a:lnTo>
                        <a:pt x="5" y="0"/>
                      </a:lnTo>
                      <a:lnTo>
                        <a:pt x="0" y="24"/>
                      </a:lnTo>
                      <a:lnTo>
                        <a:pt x="21" y="29"/>
                      </a:lnTo>
                      <a:lnTo>
                        <a:pt x="26" y="5"/>
                      </a:lnTo>
                      <a:lnTo>
                        <a:pt x="26" y="5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5" name=""/>
                <p:cNvSpPr/>
                <p:nvPr/>
              </p:nvSpPr>
              <p:spPr>
                <a:xfrm rot="10800000">
                  <a:off x="631440" y="1078920"/>
                  <a:ext cx="19080" cy="24480"/>
                </a:xfrm>
                <a:custGeom>
                  <a:avLst/>
                  <a:gdLst/>
                  <a:ahLst/>
                  <a:rect l="l" t="t" r="r" b="b"/>
                  <a:pathLst>
                    <a:path w="31" h="26">
                      <a:moveTo>
                        <a:pt x="8" y="4"/>
                      </a:moveTo>
                      <a:lnTo>
                        <a:pt x="8" y="0"/>
                      </a:lnTo>
                      <a:lnTo>
                        <a:pt x="0" y="21"/>
                      </a:lnTo>
                      <a:lnTo>
                        <a:pt x="21" y="26"/>
                      </a:lnTo>
                      <a:lnTo>
                        <a:pt x="29" y="4"/>
                      </a:lnTo>
                      <a:lnTo>
                        <a:pt x="29" y="0"/>
                      </a:lnTo>
                      <a:lnTo>
                        <a:pt x="29" y="4"/>
                      </a:lnTo>
                      <a:lnTo>
                        <a:pt x="31" y="2"/>
                      </a:lnTo>
                      <a:lnTo>
                        <a:pt x="29" y="0"/>
                      </a:lnTo>
                      <a:lnTo>
                        <a:pt x="8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 rot="10800000">
                  <a:off x="632520" y="1099440"/>
                  <a:ext cx="18000" cy="29160"/>
                </a:xfrm>
                <a:custGeom>
                  <a:avLst/>
                  <a:gdLst/>
                  <a:ahLst/>
                  <a:rect l="l" t="t" r="r" b="b"/>
                  <a:pathLst>
                    <a:path w="29" h="31">
                      <a:moveTo>
                        <a:pt x="0" y="5"/>
                      </a:moveTo>
                      <a:lnTo>
                        <a:pt x="0" y="5"/>
                      </a:lnTo>
                      <a:lnTo>
                        <a:pt x="8" y="31"/>
                      </a:lnTo>
                      <a:lnTo>
                        <a:pt x="29" y="27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 rot="10800000">
                  <a:off x="637560" y="1125000"/>
                  <a:ext cx="16200" cy="33480"/>
                </a:xfrm>
                <a:custGeom>
                  <a:avLst/>
                  <a:gdLst/>
                  <a:ahLst/>
                  <a:rect l="l" t="t" r="r" b="b"/>
                  <a:pathLst>
                    <a:path w="26" h="36">
                      <a:moveTo>
                        <a:pt x="0" y="14"/>
                      </a:moveTo>
                      <a:lnTo>
                        <a:pt x="0" y="9"/>
                      </a:lnTo>
                      <a:lnTo>
                        <a:pt x="5" y="36"/>
                      </a:lnTo>
                      <a:lnTo>
                        <a:pt x="26" y="31"/>
                      </a:lnTo>
                      <a:lnTo>
                        <a:pt x="21" y="4"/>
                      </a:lnTo>
                      <a:lnTo>
                        <a:pt x="21" y="0"/>
                      </a:lnTo>
                      <a:lnTo>
                        <a:pt x="21" y="4"/>
                      </a:lnTo>
                      <a:lnTo>
                        <a:pt x="21" y="2"/>
                      </a:lnTo>
                      <a:lnTo>
                        <a:pt x="21" y="2"/>
                      </a:ln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8" name=""/>
                <p:cNvSpPr/>
                <p:nvPr/>
              </p:nvSpPr>
              <p:spPr>
                <a:xfrm rot="10800000">
                  <a:off x="640800" y="1145160"/>
                  <a:ext cx="22320" cy="33480"/>
                </a:xfrm>
                <a:custGeom>
                  <a:avLst/>
                  <a:gdLst/>
                  <a:ahLst/>
                  <a:rect l="l" t="t" r="r" b="b"/>
                  <a:pathLst>
                    <a:path w="36" h="36">
                      <a:moveTo>
                        <a:pt x="0" y="14"/>
                      </a:moveTo>
                      <a:lnTo>
                        <a:pt x="0" y="14"/>
                      </a:lnTo>
                      <a:lnTo>
                        <a:pt x="15" y="36"/>
                      </a:lnTo>
                      <a:lnTo>
                        <a:pt x="36" y="22"/>
                      </a:lnTo>
                      <a:lnTo>
                        <a:pt x="20" y="0"/>
                      </a:lnTo>
                      <a:lnTo>
                        <a:pt x="20" y="0"/>
                      </a:lnTo>
                      <a:lnTo>
                        <a:pt x="20" y="2"/>
                      </a:lnTo>
                      <a:lnTo>
                        <a:pt x="20" y="0"/>
                      </a:lnTo>
                      <a:lnTo>
                        <a:pt x="20" y="0"/>
                      </a:ln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 rot="10800000">
                  <a:off x="650880" y="1165680"/>
                  <a:ext cx="20520" cy="29520"/>
                </a:xfrm>
                <a:custGeom>
                  <a:avLst/>
                  <a:gdLst/>
                  <a:ahLst/>
                  <a:rect l="l" t="t" r="r" b="b"/>
                  <a:pathLst>
                    <a:path w="33" h="31">
                      <a:moveTo>
                        <a:pt x="3" y="15"/>
                      </a:moveTo>
                      <a:lnTo>
                        <a:pt x="0" y="15"/>
                      </a:lnTo>
                      <a:lnTo>
                        <a:pt x="13" y="31"/>
                      </a:lnTo>
                      <a:lnTo>
                        <a:pt x="33" y="17"/>
                      </a:lnTo>
                      <a:lnTo>
                        <a:pt x="21" y="0"/>
                      </a:lnTo>
                      <a:lnTo>
                        <a:pt x="18" y="0"/>
                      </a:lnTo>
                      <a:lnTo>
                        <a:pt x="21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lnTo>
                        <a:pt x="3" y="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 rot="10800000">
                  <a:off x="660240" y="1181160"/>
                  <a:ext cx="22320" cy="3564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3" y="20"/>
                      </a:moveTo>
                      <a:lnTo>
                        <a:pt x="0" y="17"/>
                      </a:lnTo>
                      <a:lnTo>
                        <a:pt x="21" y="37"/>
                      </a:lnTo>
                      <a:lnTo>
                        <a:pt x="36" y="22"/>
                      </a:lnTo>
                      <a:lnTo>
                        <a:pt x="16" y="3"/>
                      </a:lnTo>
                      <a:lnTo>
                        <a:pt x="13" y="0"/>
                      </a:lnTo>
                      <a:lnTo>
                        <a:pt x="16" y="3"/>
                      </a:lnTo>
                      <a:lnTo>
                        <a:pt x="16" y="0"/>
                      </a:lnTo>
                      <a:lnTo>
                        <a:pt x="13" y="0"/>
                      </a:lnTo>
                      <a:lnTo>
                        <a:pt x="3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 rot="10800000">
                  <a:off x="674280" y="1197720"/>
                  <a:ext cx="20520" cy="27360"/>
                </a:xfrm>
                <a:custGeom>
                  <a:avLst/>
                  <a:gdLst/>
                  <a:ahLst/>
                  <a:rect l="l" t="t" r="r" b="b"/>
                  <a:pathLst>
                    <a:path w="33" h="29">
                      <a:moveTo>
                        <a:pt x="2" y="19"/>
                      </a:moveTo>
                      <a:lnTo>
                        <a:pt x="0" y="19"/>
                      </a:lnTo>
                      <a:lnTo>
                        <a:pt x="23" y="29"/>
                      </a:lnTo>
                      <a:lnTo>
                        <a:pt x="33" y="9"/>
                      </a:lnTo>
                      <a:lnTo>
                        <a:pt x="10" y="0"/>
                      </a:lnTo>
                      <a:lnTo>
                        <a:pt x="7" y="0"/>
                      </a:lnTo>
                      <a:lnTo>
                        <a:pt x="10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2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 rot="10800000">
                  <a:off x="690840" y="1207080"/>
                  <a:ext cx="17280" cy="25200"/>
                </a:xfrm>
                <a:custGeom>
                  <a:avLst/>
                  <a:gdLst/>
                  <a:ahLst/>
                  <a:rect l="l" t="t" r="r" b="b"/>
                  <a:pathLst>
                    <a:path w="28" h="27">
                      <a:moveTo>
                        <a:pt x="3" y="25"/>
                      </a:moveTo>
                      <a:lnTo>
                        <a:pt x="0" y="22"/>
                      </a:lnTo>
                      <a:lnTo>
                        <a:pt x="23" y="27"/>
                      </a:lnTo>
                      <a:lnTo>
                        <a:pt x="28" y="8"/>
                      </a:lnTo>
                      <a:lnTo>
                        <a:pt x="5" y="3"/>
                      </a:lnTo>
                      <a:lnTo>
                        <a:pt x="3" y="0"/>
                      </a:lnTo>
                      <a:lnTo>
                        <a:pt x="5" y="3"/>
                      </a:lnTo>
                      <a:lnTo>
                        <a:pt x="5" y="3"/>
                      </a:lnTo>
                      <a:lnTo>
                        <a:pt x="3" y="0"/>
                      </a:lnTo>
                      <a:lnTo>
                        <a:pt x="3" y="2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3" name=""/>
                <p:cNvSpPr/>
                <p:nvPr/>
              </p:nvSpPr>
              <p:spPr>
                <a:xfrm rot="10800000">
                  <a:off x="706320" y="1208880"/>
                  <a:ext cx="14760" cy="23400"/>
                </a:xfrm>
                <a:custGeom>
                  <a:avLst/>
                  <a:gdLst/>
                  <a:ahLst/>
                  <a:rect l="l" t="t" r="r" b="b"/>
                  <a:pathLst>
                    <a:path w="24" h="25">
                      <a:moveTo>
                        <a:pt x="0" y="25"/>
                      </a:moveTo>
                      <a:lnTo>
                        <a:pt x="0" y="25"/>
                      </a:lnTo>
                      <a:lnTo>
                        <a:pt x="24" y="25"/>
                      </a:lnTo>
                      <a:lnTo>
                        <a:pt x="24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2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4" name=""/>
                <p:cNvSpPr/>
                <p:nvPr/>
              </p:nvSpPr>
              <p:spPr>
                <a:xfrm rot="10800000">
                  <a:off x="721440" y="1208880"/>
                  <a:ext cx="20520" cy="234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5" y="22"/>
                      </a:moveTo>
                      <a:lnTo>
                        <a:pt x="3" y="25"/>
                      </a:lnTo>
                      <a:lnTo>
                        <a:pt x="33" y="25"/>
                      </a:lnTo>
                      <a:lnTo>
                        <a:pt x="33" y="0"/>
                      </a:lnTo>
                      <a:lnTo>
                        <a:pt x="3" y="0"/>
                      </a:lnTo>
                      <a:lnTo>
                        <a:pt x="0" y="3"/>
                      </a:lnTo>
                      <a:lnTo>
                        <a:pt x="3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5" y="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 rot="10800000">
                  <a:off x="739080" y="1206720"/>
                  <a:ext cx="19080" cy="23400"/>
                </a:xfrm>
                <a:custGeom>
                  <a:avLst/>
                  <a:gdLst/>
                  <a:ahLst/>
                  <a:rect l="l" t="t" r="r" b="b"/>
                  <a:pathLst>
                    <a:path w="31" h="24">
                      <a:moveTo>
                        <a:pt x="11" y="24"/>
                      </a:moveTo>
                      <a:lnTo>
                        <a:pt x="8" y="24"/>
                      </a:lnTo>
                      <a:lnTo>
                        <a:pt x="31" y="19"/>
                      </a:lnTo>
                      <a:lnTo>
                        <a:pt x="26" y="0"/>
                      </a:lnTo>
                      <a:lnTo>
                        <a:pt x="3" y="5"/>
                      </a:lnTo>
                      <a:lnTo>
                        <a:pt x="0" y="5"/>
                      </a:lnTo>
                      <a:lnTo>
                        <a:pt x="3" y="5"/>
                      </a:lnTo>
                      <a:lnTo>
                        <a:pt x="3" y="5"/>
                      </a:lnTo>
                      <a:lnTo>
                        <a:pt x="0" y="5"/>
                      </a:lnTo>
                      <a:lnTo>
                        <a:pt x="11" y="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 rot="10800000">
                  <a:off x="751320" y="1197720"/>
                  <a:ext cx="22320" cy="27360"/>
                </a:xfrm>
                <a:custGeom>
                  <a:avLst/>
                  <a:gdLst/>
                  <a:ahLst/>
                  <a:rect l="l" t="t" r="r" b="b"/>
                  <a:pathLst>
                    <a:path w="36" h="29">
                      <a:moveTo>
                        <a:pt x="15" y="26"/>
                      </a:moveTo>
                      <a:lnTo>
                        <a:pt x="12" y="29"/>
                      </a:lnTo>
                      <a:lnTo>
                        <a:pt x="36" y="19"/>
                      </a:lnTo>
                      <a:lnTo>
                        <a:pt x="25" y="0"/>
                      </a:lnTo>
                      <a:lnTo>
                        <a:pt x="2" y="9"/>
                      </a:lnTo>
                      <a:lnTo>
                        <a:pt x="0" y="12"/>
                      </a:lnTo>
                      <a:lnTo>
                        <a:pt x="2" y="9"/>
                      </a:lnTo>
                      <a:lnTo>
                        <a:pt x="0" y="9"/>
                      </a:lnTo>
                      <a:lnTo>
                        <a:pt x="0" y="12"/>
                      </a:lnTo>
                      <a:lnTo>
                        <a:pt x="15" y="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 rot="10800000">
                  <a:off x="764640" y="1181160"/>
                  <a:ext cx="22320" cy="32400"/>
                </a:xfrm>
                <a:custGeom>
                  <a:avLst/>
                  <a:gdLst/>
                  <a:ahLst/>
                  <a:rect l="l" t="t" r="r" b="b"/>
                  <a:pathLst>
                    <a:path w="36" h="34">
                      <a:moveTo>
                        <a:pt x="16" y="34"/>
                      </a:moveTo>
                      <a:lnTo>
                        <a:pt x="16" y="34"/>
                      </a:lnTo>
                      <a:lnTo>
                        <a:pt x="36" y="14"/>
                      </a:lnTo>
                      <a:lnTo>
                        <a:pt x="21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lnTo>
                        <a:pt x="16" y="3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 rot="10800000">
                  <a:off x="777240" y="1165680"/>
                  <a:ext cx="22320" cy="29520"/>
                </a:xfrm>
                <a:custGeom>
                  <a:avLst/>
                  <a:gdLst/>
                  <a:ahLst/>
                  <a:rect l="l" t="t" r="r" b="b"/>
                  <a:pathLst>
                    <a:path w="36" h="31">
                      <a:moveTo>
                        <a:pt x="20" y="29"/>
                      </a:moveTo>
                      <a:lnTo>
                        <a:pt x="18" y="31"/>
                      </a:lnTo>
                      <a:lnTo>
                        <a:pt x="36" y="15"/>
                      </a:lnTo>
                      <a:lnTo>
                        <a:pt x="20" y="0"/>
                      </a:lnTo>
                      <a:lnTo>
                        <a:pt x="2" y="17"/>
                      </a:lnTo>
                      <a:lnTo>
                        <a:pt x="0" y="19"/>
                      </a:lnTo>
                      <a:lnTo>
                        <a:pt x="2" y="17"/>
                      </a:lnTo>
                      <a:lnTo>
                        <a:pt x="0" y="17"/>
                      </a:lnTo>
                      <a:lnTo>
                        <a:pt x="0" y="19"/>
                      </a:lnTo>
                      <a:lnTo>
                        <a:pt x="20" y="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9" name=""/>
                <p:cNvSpPr/>
                <p:nvPr/>
              </p:nvSpPr>
              <p:spPr>
                <a:xfrm rot="10800000">
                  <a:off x="786960" y="1147680"/>
                  <a:ext cx="19080" cy="30240"/>
                </a:xfrm>
                <a:custGeom>
                  <a:avLst/>
                  <a:gdLst/>
                  <a:ahLst/>
                  <a:rect l="l" t="t" r="r" b="b"/>
                  <a:pathLst>
                    <a:path w="31" h="32">
                      <a:moveTo>
                        <a:pt x="21" y="29"/>
                      </a:moveTo>
                      <a:lnTo>
                        <a:pt x="21" y="32"/>
                      </a:lnTo>
                      <a:lnTo>
                        <a:pt x="31" y="10"/>
                      </a:lnTo>
                      <a:lnTo>
                        <a:pt x="11" y="0"/>
                      </a:lnTo>
                      <a:lnTo>
                        <a:pt x="0" y="22"/>
                      </a:lnTo>
                      <a:lnTo>
                        <a:pt x="0" y="24"/>
                      </a:lnTo>
                      <a:lnTo>
                        <a:pt x="0" y="22"/>
                      </a:lnTo>
                      <a:lnTo>
                        <a:pt x="0" y="24"/>
                      </a:lnTo>
                      <a:lnTo>
                        <a:pt x="0" y="24"/>
                      </a:lnTo>
                      <a:lnTo>
                        <a:pt x="21" y="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 rot="10800000">
                  <a:off x="793440" y="1125000"/>
                  <a:ext cx="19080" cy="29520"/>
                </a:xfrm>
                <a:custGeom>
                  <a:avLst/>
                  <a:gdLst/>
                  <a:ahLst/>
                  <a:rect l="l" t="t" r="r" b="b"/>
                  <a:pathLst>
                    <a:path w="31" h="32">
                      <a:moveTo>
                        <a:pt x="26" y="29"/>
                      </a:moveTo>
                      <a:lnTo>
                        <a:pt x="23" y="32"/>
                      </a:lnTo>
                      <a:lnTo>
                        <a:pt x="31" y="5"/>
                      </a:lnTo>
                      <a:lnTo>
                        <a:pt x="10" y="0"/>
                      </a:lnTo>
                      <a:lnTo>
                        <a:pt x="3" y="27"/>
                      </a:lnTo>
                      <a:lnTo>
                        <a:pt x="0" y="29"/>
                      </a:lnTo>
                      <a:lnTo>
                        <a:pt x="3" y="27"/>
                      </a:lnTo>
                      <a:lnTo>
                        <a:pt x="0" y="27"/>
                      </a:lnTo>
                      <a:lnTo>
                        <a:pt x="0" y="29"/>
                      </a:lnTo>
                      <a:lnTo>
                        <a:pt x="26" y="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 rot="10800000">
                  <a:off x="796320" y="1101240"/>
                  <a:ext cx="16200" cy="25560"/>
                </a:xfrm>
                <a:custGeom>
                  <a:avLst/>
                  <a:gdLst/>
                  <a:ahLst/>
                  <a:rect l="l" t="t" r="r" b="b"/>
                  <a:pathLst>
                    <a:path w="26" h="27">
                      <a:moveTo>
                        <a:pt x="26" y="27"/>
                      </a:moveTo>
                      <a:lnTo>
                        <a:pt x="26" y="27"/>
                      </a:lnTo>
                      <a:lnTo>
                        <a:pt x="26" y="0"/>
                      </a:lnTo>
                      <a:lnTo>
                        <a:pt x="0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lnTo>
                        <a:pt x="26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 rot="10800000">
                  <a:off x="796320" y="1078920"/>
                  <a:ext cx="16200" cy="22320"/>
                </a:xfrm>
                <a:custGeom>
                  <a:avLst/>
                  <a:gdLst/>
                  <a:ahLst/>
                  <a:rect l="l" t="t" r="r" b="b"/>
                  <a:pathLst>
                    <a:path w="26" h="24">
                      <a:moveTo>
                        <a:pt x="23" y="19"/>
                      </a:moveTo>
                      <a:lnTo>
                        <a:pt x="26" y="22"/>
                      </a:lnTo>
                      <a:lnTo>
                        <a:pt x="26" y="0"/>
                      </a:lnTo>
                      <a:lnTo>
                        <a:pt x="0" y="0"/>
                      </a:lnTo>
                      <a:lnTo>
                        <a:pt x="0" y="22"/>
                      </a:lnTo>
                      <a:lnTo>
                        <a:pt x="3" y="24"/>
                      </a:lnTo>
                      <a:lnTo>
                        <a:pt x="0" y="22"/>
                      </a:lnTo>
                      <a:lnTo>
                        <a:pt x="3" y="24"/>
                      </a:lnTo>
                      <a:lnTo>
                        <a:pt x="3" y="24"/>
                      </a:lnTo>
                      <a:lnTo>
                        <a:pt x="23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 rot="10800000">
                  <a:off x="793440" y="1053720"/>
                  <a:ext cx="17280" cy="30240"/>
                </a:xfrm>
                <a:custGeom>
                  <a:avLst/>
                  <a:gdLst/>
                  <a:ahLst/>
                  <a:rect l="l" t="t" r="r" b="b"/>
                  <a:pathLst>
                    <a:path w="28" h="32">
                      <a:moveTo>
                        <a:pt x="28" y="22"/>
                      </a:moveTo>
                      <a:lnTo>
                        <a:pt x="28" y="24"/>
                      </a:lnTo>
                      <a:lnTo>
                        <a:pt x="20" y="0"/>
                      </a:lnTo>
                      <a:lnTo>
                        <a:pt x="0" y="5"/>
                      </a:lnTo>
                      <a:lnTo>
                        <a:pt x="7" y="29"/>
                      </a:lnTo>
                      <a:lnTo>
                        <a:pt x="7" y="32"/>
                      </a:lnTo>
                      <a:lnTo>
                        <a:pt x="7" y="29"/>
                      </a:lnTo>
                      <a:lnTo>
                        <a:pt x="7" y="32"/>
                      </a:lnTo>
                      <a:lnTo>
                        <a:pt x="7" y="32"/>
                      </a:lnTo>
                      <a:lnTo>
                        <a:pt x="28" y="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 rot="10800000">
                  <a:off x="786960" y="1030680"/>
                  <a:ext cx="19080" cy="31680"/>
                </a:xfrm>
                <a:custGeom>
                  <a:avLst/>
                  <a:gdLst/>
                  <a:ahLst/>
                  <a:rect l="l" t="t" r="r" b="b"/>
                  <a:pathLst>
                    <a:path w="31" h="34">
                      <a:moveTo>
                        <a:pt x="31" y="19"/>
                      </a:moveTo>
                      <a:lnTo>
                        <a:pt x="31" y="22"/>
                      </a:lnTo>
                      <a:lnTo>
                        <a:pt x="21" y="0"/>
                      </a:lnTo>
                      <a:lnTo>
                        <a:pt x="0" y="10"/>
                      </a:lnTo>
                      <a:lnTo>
                        <a:pt x="11" y="31"/>
                      </a:lnTo>
                      <a:lnTo>
                        <a:pt x="11" y="34"/>
                      </a:lnTo>
                      <a:lnTo>
                        <a:pt x="11" y="31"/>
                      </a:lnTo>
                      <a:lnTo>
                        <a:pt x="11" y="31"/>
                      </a:lnTo>
                      <a:lnTo>
                        <a:pt x="11" y="34"/>
                      </a:lnTo>
                      <a:lnTo>
                        <a:pt x="31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 rot="10800000">
                  <a:off x="775800" y="1007640"/>
                  <a:ext cx="23760" cy="37440"/>
                </a:xfrm>
                <a:custGeom>
                  <a:avLst/>
                  <a:gdLst/>
                  <a:ahLst/>
                  <a:rect l="l" t="t" r="r" b="b"/>
                  <a:pathLst>
                    <a:path w="38" h="39">
                      <a:moveTo>
                        <a:pt x="33" y="20"/>
                      </a:moveTo>
                      <a:lnTo>
                        <a:pt x="38" y="22"/>
                      </a:lnTo>
                      <a:lnTo>
                        <a:pt x="20" y="0"/>
                      </a:lnTo>
                      <a:lnTo>
                        <a:pt x="0" y="15"/>
                      </a:lnTo>
                      <a:lnTo>
                        <a:pt x="18" y="36"/>
                      </a:lnTo>
                      <a:lnTo>
                        <a:pt x="23" y="39"/>
                      </a:lnTo>
                      <a:lnTo>
                        <a:pt x="18" y="36"/>
                      </a:lnTo>
                      <a:lnTo>
                        <a:pt x="20" y="39"/>
                      </a:lnTo>
                      <a:lnTo>
                        <a:pt x="23" y="39"/>
                      </a:lnTo>
                      <a:lnTo>
                        <a:pt x="33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 rot="10800000">
                  <a:off x="766440" y="999000"/>
                  <a:ext cx="18360" cy="26640"/>
                </a:xfrm>
                <a:custGeom>
                  <a:avLst/>
                  <a:gdLst/>
                  <a:ahLst/>
                  <a:rect l="l" t="t" r="r" b="b"/>
                  <a:pathLst>
                    <a:path w="30" h="28">
                      <a:moveTo>
                        <a:pt x="30" y="9"/>
                      </a:moveTo>
                      <a:lnTo>
                        <a:pt x="30" y="9"/>
                      </a:lnTo>
                      <a:lnTo>
                        <a:pt x="10" y="0"/>
                      </a:lnTo>
                      <a:lnTo>
                        <a:pt x="0" y="19"/>
                      </a:lnTo>
                      <a:lnTo>
                        <a:pt x="20" y="28"/>
                      </a:lnTo>
                      <a:lnTo>
                        <a:pt x="20" y="28"/>
                      </a:lnTo>
                      <a:lnTo>
                        <a:pt x="30" y="9"/>
                      </a:lnTo>
                      <a:lnTo>
                        <a:pt x="30" y="9"/>
                      </a:lnTo>
                      <a:lnTo>
                        <a:pt x="3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 rot="10800000">
                  <a:off x="751320" y="986760"/>
                  <a:ext cx="21240" cy="30600"/>
                </a:xfrm>
                <a:custGeom>
                  <a:avLst/>
                  <a:gdLst/>
                  <a:ahLst/>
                  <a:rect l="l" t="t" r="r" b="b"/>
                  <a:pathLst>
                    <a:path w="34" h="32">
                      <a:moveTo>
                        <a:pt x="31" y="12"/>
                      </a:moveTo>
                      <a:lnTo>
                        <a:pt x="34" y="12"/>
                      </a:lnTo>
                      <a:lnTo>
                        <a:pt x="10" y="0"/>
                      </a:lnTo>
                      <a:lnTo>
                        <a:pt x="0" y="19"/>
                      </a:lnTo>
                      <a:lnTo>
                        <a:pt x="23" y="32"/>
                      </a:lnTo>
                      <a:lnTo>
                        <a:pt x="26" y="32"/>
                      </a:lnTo>
                      <a:lnTo>
                        <a:pt x="23" y="32"/>
                      </a:lnTo>
                      <a:lnTo>
                        <a:pt x="23" y="32"/>
                      </a:lnTo>
                      <a:lnTo>
                        <a:pt x="26" y="32"/>
                      </a:lnTo>
                      <a:lnTo>
                        <a:pt x="31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 rot="10800000">
                  <a:off x="739080" y="979920"/>
                  <a:ext cx="17280" cy="26280"/>
                </a:xfrm>
                <a:custGeom>
                  <a:avLst/>
                  <a:gdLst/>
                  <a:ahLst/>
                  <a:rect l="l" t="t" r="r" b="b"/>
                  <a:pathLst>
                    <a:path w="28" h="27">
                      <a:moveTo>
                        <a:pt x="28" y="7"/>
                      </a:moveTo>
                      <a:lnTo>
                        <a:pt x="28" y="7"/>
                      </a:lnTo>
                      <a:lnTo>
                        <a:pt x="5" y="0"/>
                      </a:lnTo>
                      <a:lnTo>
                        <a:pt x="0" y="20"/>
                      </a:lnTo>
                      <a:lnTo>
                        <a:pt x="23" y="27"/>
                      </a:lnTo>
                      <a:lnTo>
                        <a:pt x="23" y="27"/>
                      </a:lnTo>
                      <a:lnTo>
                        <a:pt x="23" y="27"/>
                      </a:lnTo>
                      <a:lnTo>
                        <a:pt x="23" y="27"/>
                      </a:lnTo>
                      <a:lnTo>
                        <a:pt x="23" y="27"/>
                      </a:lnTo>
                      <a:lnTo>
                        <a:pt x="28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 rot="10800000">
                  <a:off x="719640" y="971640"/>
                  <a:ext cx="22320" cy="27360"/>
                </a:xfrm>
                <a:custGeom>
                  <a:avLst/>
                  <a:gdLst/>
                  <a:ahLst/>
                  <a:rect l="l" t="t" r="r" b="b"/>
                  <a:pathLst>
                    <a:path w="36" h="29">
                      <a:moveTo>
                        <a:pt x="31" y="8"/>
                      </a:moveTo>
                      <a:lnTo>
                        <a:pt x="36" y="8"/>
                      </a:lnTo>
                      <a:lnTo>
                        <a:pt x="5" y="0"/>
                      </a:lnTo>
                      <a:lnTo>
                        <a:pt x="0" y="20"/>
                      </a:lnTo>
                      <a:lnTo>
                        <a:pt x="31" y="27"/>
                      </a:lnTo>
                      <a:lnTo>
                        <a:pt x="36" y="27"/>
                      </a:lnTo>
                      <a:lnTo>
                        <a:pt x="31" y="27"/>
                      </a:lnTo>
                      <a:lnTo>
                        <a:pt x="33" y="29"/>
                      </a:lnTo>
                      <a:lnTo>
                        <a:pt x="36" y="27"/>
                      </a:lnTo>
                      <a:lnTo>
                        <a:pt x="31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 rot="10800000">
                  <a:off x="5528160" y="1822680"/>
                  <a:ext cx="125280" cy="173520"/>
                </a:xfrm>
                <a:custGeom>
                  <a:avLst/>
                  <a:gdLst/>
                  <a:ahLst/>
                  <a:rect l="l" t="t" r="r" b="b"/>
                  <a:pathLst>
                    <a:path w="201" h="183">
                      <a:moveTo>
                        <a:pt x="98" y="183"/>
                      </a:moveTo>
                      <a:lnTo>
                        <a:pt x="118" y="181"/>
                      </a:lnTo>
                      <a:lnTo>
                        <a:pt x="139" y="173"/>
                      </a:lnTo>
                      <a:lnTo>
                        <a:pt x="154" y="164"/>
                      </a:lnTo>
                      <a:lnTo>
                        <a:pt x="170" y="157"/>
                      </a:lnTo>
                      <a:lnTo>
                        <a:pt x="178" y="140"/>
                      </a:lnTo>
                      <a:lnTo>
                        <a:pt x="190" y="125"/>
                      </a:lnTo>
                      <a:lnTo>
                        <a:pt x="195" y="106"/>
                      </a:lnTo>
                      <a:lnTo>
                        <a:pt x="201" y="91"/>
                      </a:lnTo>
                      <a:lnTo>
                        <a:pt x="195" y="70"/>
                      </a:lnTo>
                      <a:lnTo>
                        <a:pt x="190" y="50"/>
                      </a:lnTo>
                      <a:lnTo>
                        <a:pt x="178" y="36"/>
                      </a:lnTo>
                      <a:lnTo>
                        <a:pt x="170" y="24"/>
                      </a:lnTo>
                      <a:lnTo>
                        <a:pt x="154" y="12"/>
                      </a:lnTo>
                      <a:lnTo>
                        <a:pt x="139" y="5"/>
                      </a:lnTo>
                      <a:lnTo>
                        <a:pt x="118" y="0"/>
                      </a:lnTo>
                      <a:lnTo>
                        <a:pt x="98" y="0"/>
                      </a:lnTo>
                      <a:lnTo>
                        <a:pt x="77" y="0"/>
                      </a:lnTo>
                      <a:lnTo>
                        <a:pt x="59" y="5"/>
                      </a:lnTo>
                      <a:lnTo>
                        <a:pt x="39" y="12"/>
                      </a:lnTo>
                      <a:lnTo>
                        <a:pt x="28" y="24"/>
                      </a:lnTo>
                      <a:lnTo>
                        <a:pt x="13" y="36"/>
                      </a:lnTo>
                      <a:lnTo>
                        <a:pt x="5" y="50"/>
                      </a:lnTo>
                      <a:lnTo>
                        <a:pt x="0" y="70"/>
                      </a:lnTo>
                      <a:lnTo>
                        <a:pt x="0" y="91"/>
                      </a:lnTo>
                      <a:lnTo>
                        <a:pt x="0" y="106"/>
                      </a:lnTo>
                      <a:lnTo>
                        <a:pt x="5" y="125"/>
                      </a:lnTo>
                      <a:lnTo>
                        <a:pt x="13" y="140"/>
                      </a:lnTo>
                      <a:lnTo>
                        <a:pt x="28" y="157"/>
                      </a:lnTo>
                      <a:lnTo>
                        <a:pt x="39" y="164"/>
                      </a:lnTo>
                      <a:lnTo>
                        <a:pt x="59" y="173"/>
                      </a:lnTo>
                      <a:lnTo>
                        <a:pt x="77" y="181"/>
                      </a:lnTo>
                      <a:lnTo>
                        <a:pt x="98" y="18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 rot="10800000">
                  <a:off x="5561640" y="1140120"/>
                  <a:ext cx="54720" cy="156240"/>
                </a:xfrm>
                <a:custGeom>
                  <a:avLst/>
                  <a:gdLst/>
                  <a:ahLst/>
                  <a:rect l="l" t="t" r="r" b="b"/>
                  <a:pathLst>
                    <a:path w="88" h="164">
                      <a:moveTo>
                        <a:pt x="31" y="0"/>
                      </a:moveTo>
                      <a:lnTo>
                        <a:pt x="47" y="0"/>
                      </a:lnTo>
                      <a:lnTo>
                        <a:pt x="59" y="0"/>
                      </a:lnTo>
                      <a:lnTo>
                        <a:pt x="54" y="0"/>
                      </a:lnTo>
                      <a:lnTo>
                        <a:pt x="52" y="0"/>
                      </a:lnTo>
                      <a:lnTo>
                        <a:pt x="41" y="0"/>
                      </a:lnTo>
                      <a:lnTo>
                        <a:pt x="54" y="0"/>
                      </a:lnTo>
                      <a:lnTo>
                        <a:pt x="70" y="5"/>
                      </a:lnTo>
                      <a:lnTo>
                        <a:pt x="80" y="24"/>
                      </a:lnTo>
                      <a:lnTo>
                        <a:pt x="85" y="48"/>
                      </a:lnTo>
                      <a:lnTo>
                        <a:pt x="88" y="80"/>
                      </a:lnTo>
                      <a:lnTo>
                        <a:pt x="85" y="106"/>
                      </a:lnTo>
                      <a:lnTo>
                        <a:pt x="80" y="135"/>
                      </a:lnTo>
                      <a:lnTo>
                        <a:pt x="70" y="152"/>
                      </a:lnTo>
                      <a:lnTo>
                        <a:pt x="62" y="164"/>
                      </a:lnTo>
                      <a:lnTo>
                        <a:pt x="54" y="164"/>
                      </a:lnTo>
                      <a:lnTo>
                        <a:pt x="47" y="164"/>
                      </a:lnTo>
                      <a:lnTo>
                        <a:pt x="36" y="164"/>
                      </a:lnTo>
                      <a:lnTo>
                        <a:pt x="16" y="157"/>
                      </a:lnTo>
                      <a:lnTo>
                        <a:pt x="8" y="137"/>
                      </a:lnTo>
                      <a:lnTo>
                        <a:pt x="0" y="111"/>
                      </a:lnTo>
                      <a:lnTo>
                        <a:pt x="0" y="82"/>
                      </a:lnTo>
                      <a:lnTo>
                        <a:pt x="0" y="48"/>
                      </a:lnTo>
                      <a:lnTo>
                        <a:pt x="8" y="24"/>
                      </a:lnTo>
                      <a:lnTo>
                        <a:pt x="16" y="5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 rot="10800000">
                  <a:off x="5561640" y="1140120"/>
                  <a:ext cx="54720" cy="156240"/>
                </a:xfrm>
                <a:custGeom>
                  <a:avLst/>
                  <a:gdLst/>
                  <a:ahLst/>
                  <a:rect l="l" t="t" r="r" b="b"/>
                  <a:pathLst>
                    <a:path w="88" h="164">
                      <a:moveTo>
                        <a:pt x="31" y="0"/>
                      </a:moveTo>
                      <a:lnTo>
                        <a:pt x="47" y="0"/>
                      </a:lnTo>
                      <a:lnTo>
                        <a:pt x="59" y="0"/>
                      </a:lnTo>
                      <a:lnTo>
                        <a:pt x="54" y="0"/>
                      </a:lnTo>
                      <a:lnTo>
                        <a:pt x="52" y="0"/>
                      </a:lnTo>
                      <a:lnTo>
                        <a:pt x="41" y="0"/>
                      </a:lnTo>
                      <a:lnTo>
                        <a:pt x="54" y="0"/>
                      </a:lnTo>
                      <a:lnTo>
                        <a:pt x="70" y="5"/>
                      </a:lnTo>
                      <a:lnTo>
                        <a:pt x="80" y="24"/>
                      </a:lnTo>
                      <a:lnTo>
                        <a:pt x="85" y="48"/>
                      </a:lnTo>
                      <a:lnTo>
                        <a:pt x="88" y="80"/>
                      </a:lnTo>
                      <a:lnTo>
                        <a:pt x="85" y="106"/>
                      </a:lnTo>
                      <a:lnTo>
                        <a:pt x="80" y="135"/>
                      </a:lnTo>
                      <a:lnTo>
                        <a:pt x="70" y="152"/>
                      </a:lnTo>
                      <a:lnTo>
                        <a:pt x="62" y="164"/>
                      </a:lnTo>
                      <a:lnTo>
                        <a:pt x="54" y="164"/>
                      </a:lnTo>
                      <a:lnTo>
                        <a:pt x="47" y="164"/>
                      </a:lnTo>
                      <a:lnTo>
                        <a:pt x="36" y="164"/>
                      </a:lnTo>
                      <a:lnTo>
                        <a:pt x="16" y="157"/>
                      </a:lnTo>
                      <a:lnTo>
                        <a:pt x="8" y="137"/>
                      </a:lnTo>
                      <a:lnTo>
                        <a:pt x="0" y="111"/>
                      </a:lnTo>
                      <a:lnTo>
                        <a:pt x="0" y="82"/>
                      </a:lnTo>
                      <a:lnTo>
                        <a:pt x="0" y="48"/>
                      </a:lnTo>
                      <a:lnTo>
                        <a:pt x="8" y="24"/>
                      </a:lnTo>
                      <a:lnTo>
                        <a:pt x="16" y="5"/>
                      </a:lnTo>
                      <a:lnTo>
                        <a:pt x="31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 rot="10800000">
                  <a:off x="5561640" y="1296720"/>
                  <a:ext cx="54720" cy="160200"/>
                </a:xfrm>
                <a:custGeom>
                  <a:avLst/>
                  <a:gdLst/>
                  <a:ahLst/>
                  <a:rect l="l" t="t" r="r" b="b"/>
                  <a:pathLst>
                    <a:path w="88" h="169">
                      <a:moveTo>
                        <a:pt x="31" y="0"/>
                      </a:moveTo>
                      <a:lnTo>
                        <a:pt x="47" y="0"/>
                      </a:lnTo>
                      <a:lnTo>
                        <a:pt x="59" y="0"/>
                      </a:lnTo>
                      <a:lnTo>
                        <a:pt x="54" y="0"/>
                      </a:lnTo>
                      <a:lnTo>
                        <a:pt x="52" y="0"/>
                      </a:lnTo>
                      <a:lnTo>
                        <a:pt x="41" y="0"/>
                      </a:lnTo>
                      <a:lnTo>
                        <a:pt x="54" y="0"/>
                      </a:lnTo>
                      <a:lnTo>
                        <a:pt x="70" y="7"/>
                      </a:lnTo>
                      <a:lnTo>
                        <a:pt x="80" y="27"/>
                      </a:lnTo>
                      <a:lnTo>
                        <a:pt x="85" y="48"/>
                      </a:lnTo>
                      <a:lnTo>
                        <a:pt x="88" y="84"/>
                      </a:lnTo>
                      <a:lnTo>
                        <a:pt x="85" y="111"/>
                      </a:lnTo>
                      <a:lnTo>
                        <a:pt x="80" y="138"/>
                      </a:lnTo>
                      <a:lnTo>
                        <a:pt x="70" y="157"/>
                      </a:lnTo>
                      <a:lnTo>
                        <a:pt x="62" y="169"/>
                      </a:lnTo>
                      <a:lnTo>
                        <a:pt x="54" y="169"/>
                      </a:lnTo>
                      <a:lnTo>
                        <a:pt x="47" y="169"/>
                      </a:lnTo>
                      <a:lnTo>
                        <a:pt x="36" y="169"/>
                      </a:lnTo>
                      <a:lnTo>
                        <a:pt x="16" y="159"/>
                      </a:lnTo>
                      <a:lnTo>
                        <a:pt x="8" y="142"/>
                      </a:lnTo>
                      <a:lnTo>
                        <a:pt x="0" y="113"/>
                      </a:lnTo>
                      <a:lnTo>
                        <a:pt x="0" y="84"/>
                      </a:lnTo>
                      <a:lnTo>
                        <a:pt x="0" y="48"/>
                      </a:lnTo>
                      <a:lnTo>
                        <a:pt x="8" y="27"/>
                      </a:lnTo>
                      <a:lnTo>
                        <a:pt x="16" y="7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 rot="10800000">
                  <a:off x="5561640" y="1296720"/>
                  <a:ext cx="54720" cy="160200"/>
                </a:xfrm>
                <a:custGeom>
                  <a:avLst/>
                  <a:gdLst/>
                  <a:ahLst/>
                  <a:rect l="l" t="t" r="r" b="b"/>
                  <a:pathLst>
                    <a:path w="88" h="169">
                      <a:moveTo>
                        <a:pt x="31" y="0"/>
                      </a:moveTo>
                      <a:lnTo>
                        <a:pt x="47" y="0"/>
                      </a:lnTo>
                      <a:lnTo>
                        <a:pt x="59" y="0"/>
                      </a:lnTo>
                      <a:lnTo>
                        <a:pt x="54" y="0"/>
                      </a:lnTo>
                      <a:lnTo>
                        <a:pt x="52" y="0"/>
                      </a:lnTo>
                      <a:lnTo>
                        <a:pt x="41" y="0"/>
                      </a:lnTo>
                      <a:lnTo>
                        <a:pt x="54" y="0"/>
                      </a:lnTo>
                      <a:lnTo>
                        <a:pt x="70" y="7"/>
                      </a:lnTo>
                      <a:lnTo>
                        <a:pt x="80" y="27"/>
                      </a:lnTo>
                      <a:lnTo>
                        <a:pt x="85" y="48"/>
                      </a:lnTo>
                      <a:lnTo>
                        <a:pt x="88" y="84"/>
                      </a:lnTo>
                      <a:lnTo>
                        <a:pt x="85" y="111"/>
                      </a:lnTo>
                      <a:lnTo>
                        <a:pt x="80" y="138"/>
                      </a:lnTo>
                      <a:lnTo>
                        <a:pt x="70" y="157"/>
                      </a:lnTo>
                      <a:lnTo>
                        <a:pt x="62" y="169"/>
                      </a:lnTo>
                      <a:lnTo>
                        <a:pt x="54" y="169"/>
                      </a:lnTo>
                      <a:lnTo>
                        <a:pt x="47" y="169"/>
                      </a:lnTo>
                      <a:lnTo>
                        <a:pt x="36" y="169"/>
                      </a:lnTo>
                      <a:lnTo>
                        <a:pt x="16" y="159"/>
                      </a:lnTo>
                      <a:lnTo>
                        <a:pt x="8" y="142"/>
                      </a:lnTo>
                      <a:lnTo>
                        <a:pt x="0" y="113"/>
                      </a:lnTo>
                      <a:lnTo>
                        <a:pt x="0" y="84"/>
                      </a:lnTo>
                      <a:lnTo>
                        <a:pt x="0" y="48"/>
                      </a:lnTo>
                      <a:lnTo>
                        <a:pt x="8" y="27"/>
                      </a:lnTo>
                      <a:lnTo>
                        <a:pt x="16" y="7"/>
                      </a:lnTo>
                      <a:lnTo>
                        <a:pt x="31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 rot="10800000">
                  <a:off x="5561640" y="1456920"/>
                  <a:ext cx="54720" cy="155160"/>
                </a:xfrm>
                <a:custGeom>
                  <a:avLst/>
                  <a:gdLst/>
                  <a:ahLst/>
                  <a:rect l="l" t="t" r="r" b="b"/>
                  <a:pathLst>
                    <a:path w="88" h="164">
                      <a:moveTo>
                        <a:pt x="31" y="0"/>
                      </a:moveTo>
                      <a:lnTo>
                        <a:pt x="47" y="0"/>
                      </a:lnTo>
                      <a:lnTo>
                        <a:pt x="59" y="0"/>
                      </a:lnTo>
                      <a:lnTo>
                        <a:pt x="54" y="0"/>
                      </a:lnTo>
                      <a:lnTo>
                        <a:pt x="52" y="0"/>
                      </a:lnTo>
                      <a:lnTo>
                        <a:pt x="41" y="0"/>
                      </a:lnTo>
                      <a:lnTo>
                        <a:pt x="54" y="0"/>
                      </a:lnTo>
                      <a:lnTo>
                        <a:pt x="70" y="7"/>
                      </a:lnTo>
                      <a:lnTo>
                        <a:pt x="80" y="24"/>
                      </a:lnTo>
                      <a:lnTo>
                        <a:pt x="85" y="51"/>
                      </a:lnTo>
                      <a:lnTo>
                        <a:pt x="88" y="82"/>
                      </a:lnTo>
                      <a:lnTo>
                        <a:pt x="85" y="111"/>
                      </a:lnTo>
                      <a:lnTo>
                        <a:pt x="80" y="138"/>
                      </a:lnTo>
                      <a:lnTo>
                        <a:pt x="70" y="154"/>
                      </a:lnTo>
                      <a:lnTo>
                        <a:pt x="62" y="164"/>
                      </a:lnTo>
                      <a:lnTo>
                        <a:pt x="54" y="164"/>
                      </a:lnTo>
                      <a:lnTo>
                        <a:pt x="47" y="164"/>
                      </a:lnTo>
                      <a:lnTo>
                        <a:pt x="36" y="164"/>
                      </a:lnTo>
                      <a:lnTo>
                        <a:pt x="16" y="154"/>
                      </a:lnTo>
                      <a:lnTo>
                        <a:pt x="8" y="138"/>
                      </a:lnTo>
                      <a:lnTo>
                        <a:pt x="0" y="111"/>
                      </a:lnTo>
                      <a:lnTo>
                        <a:pt x="0" y="82"/>
                      </a:lnTo>
                      <a:lnTo>
                        <a:pt x="0" y="51"/>
                      </a:lnTo>
                      <a:lnTo>
                        <a:pt x="8" y="24"/>
                      </a:lnTo>
                      <a:lnTo>
                        <a:pt x="16" y="7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 rot="10800000">
                  <a:off x="5561640" y="1456920"/>
                  <a:ext cx="54720" cy="155160"/>
                </a:xfrm>
                <a:custGeom>
                  <a:avLst/>
                  <a:gdLst/>
                  <a:ahLst/>
                  <a:rect l="l" t="t" r="r" b="b"/>
                  <a:pathLst>
                    <a:path w="88" h="164">
                      <a:moveTo>
                        <a:pt x="31" y="0"/>
                      </a:moveTo>
                      <a:lnTo>
                        <a:pt x="47" y="0"/>
                      </a:lnTo>
                      <a:lnTo>
                        <a:pt x="59" y="0"/>
                      </a:lnTo>
                      <a:lnTo>
                        <a:pt x="54" y="0"/>
                      </a:lnTo>
                      <a:lnTo>
                        <a:pt x="52" y="0"/>
                      </a:lnTo>
                      <a:lnTo>
                        <a:pt x="41" y="0"/>
                      </a:lnTo>
                      <a:lnTo>
                        <a:pt x="54" y="0"/>
                      </a:lnTo>
                      <a:lnTo>
                        <a:pt x="70" y="7"/>
                      </a:lnTo>
                      <a:lnTo>
                        <a:pt x="80" y="24"/>
                      </a:lnTo>
                      <a:lnTo>
                        <a:pt x="85" y="51"/>
                      </a:lnTo>
                      <a:lnTo>
                        <a:pt x="88" y="82"/>
                      </a:lnTo>
                      <a:lnTo>
                        <a:pt x="85" y="111"/>
                      </a:lnTo>
                      <a:lnTo>
                        <a:pt x="80" y="138"/>
                      </a:lnTo>
                      <a:lnTo>
                        <a:pt x="70" y="154"/>
                      </a:lnTo>
                      <a:lnTo>
                        <a:pt x="62" y="164"/>
                      </a:lnTo>
                      <a:lnTo>
                        <a:pt x="54" y="164"/>
                      </a:lnTo>
                      <a:lnTo>
                        <a:pt x="47" y="164"/>
                      </a:lnTo>
                      <a:lnTo>
                        <a:pt x="36" y="164"/>
                      </a:lnTo>
                      <a:lnTo>
                        <a:pt x="16" y="154"/>
                      </a:lnTo>
                      <a:lnTo>
                        <a:pt x="8" y="138"/>
                      </a:lnTo>
                      <a:lnTo>
                        <a:pt x="0" y="111"/>
                      </a:lnTo>
                      <a:lnTo>
                        <a:pt x="0" y="82"/>
                      </a:lnTo>
                      <a:lnTo>
                        <a:pt x="0" y="51"/>
                      </a:lnTo>
                      <a:lnTo>
                        <a:pt x="8" y="24"/>
                      </a:lnTo>
                      <a:lnTo>
                        <a:pt x="16" y="7"/>
                      </a:lnTo>
                      <a:lnTo>
                        <a:pt x="31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7" name=""/>
                <p:cNvSpPr/>
                <p:nvPr/>
              </p:nvSpPr>
              <p:spPr>
                <a:xfrm rot="10800000">
                  <a:off x="5561640" y="1612080"/>
                  <a:ext cx="54720" cy="157320"/>
                </a:xfrm>
                <a:custGeom>
                  <a:avLst/>
                  <a:gdLst/>
                  <a:ahLst/>
                  <a:rect l="l" t="t" r="r" b="b"/>
                  <a:pathLst>
                    <a:path w="88" h="166">
                      <a:moveTo>
                        <a:pt x="31" y="0"/>
                      </a:moveTo>
                      <a:lnTo>
                        <a:pt x="47" y="0"/>
                      </a:lnTo>
                      <a:lnTo>
                        <a:pt x="59" y="0"/>
                      </a:lnTo>
                      <a:lnTo>
                        <a:pt x="54" y="0"/>
                      </a:lnTo>
                      <a:lnTo>
                        <a:pt x="52" y="0"/>
                      </a:lnTo>
                      <a:lnTo>
                        <a:pt x="41" y="0"/>
                      </a:lnTo>
                      <a:lnTo>
                        <a:pt x="54" y="0"/>
                      </a:lnTo>
                      <a:lnTo>
                        <a:pt x="70" y="4"/>
                      </a:lnTo>
                      <a:lnTo>
                        <a:pt x="80" y="24"/>
                      </a:lnTo>
                      <a:lnTo>
                        <a:pt x="85" y="48"/>
                      </a:lnTo>
                      <a:lnTo>
                        <a:pt x="88" y="79"/>
                      </a:lnTo>
                      <a:lnTo>
                        <a:pt x="85" y="108"/>
                      </a:lnTo>
                      <a:lnTo>
                        <a:pt x="80" y="137"/>
                      </a:lnTo>
                      <a:lnTo>
                        <a:pt x="70" y="154"/>
                      </a:lnTo>
                      <a:lnTo>
                        <a:pt x="62" y="166"/>
                      </a:lnTo>
                      <a:lnTo>
                        <a:pt x="54" y="166"/>
                      </a:lnTo>
                      <a:lnTo>
                        <a:pt x="47" y="166"/>
                      </a:lnTo>
                      <a:lnTo>
                        <a:pt x="36" y="166"/>
                      </a:lnTo>
                      <a:lnTo>
                        <a:pt x="16" y="159"/>
                      </a:lnTo>
                      <a:lnTo>
                        <a:pt x="8" y="137"/>
                      </a:lnTo>
                      <a:lnTo>
                        <a:pt x="0" y="111"/>
                      </a:lnTo>
                      <a:lnTo>
                        <a:pt x="0" y="79"/>
                      </a:lnTo>
                      <a:lnTo>
                        <a:pt x="0" y="48"/>
                      </a:lnTo>
                      <a:lnTo>
                        <a:pt x="8" y="24"/>
                      </a:lnTo>
                      <a:lnTo>
                        <a:pt x="16" y="4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8" name=""/>
                <p:cNvSpPr/>
                <p:nvPr/>
              </p:nvSpPr>
              <p:spPr>
                <a:xfrm rot="10800000">
                  <a:off x="5561640" y="1612080"/>
                  <a:ext cx="54720" cy="157320"/>
                </a:xfrm>
                <a:custGeom>
                  <a:avLst/>
                  <a:gdLst/>
                  <a:ahLst/>
                  <a:rect l="l" t="t" r="r" b="b"/>
                  <a:pathLst>
                    <a:path w="88" h="166">
                      <a:moveTo>
                        <a:pt x="31" y="0"/>
                      </a:moveTo>
                      <a:lnTo>
                        <a:pt x="47" y="0"/>
                      </a:lnTo>
                      <a:lnTo>
                        <a:pt x="59" y="0"/>
                      </a:lnTo>
                      <a:lnTo>
                        <a:pt x="54" y="0"/>
                      </a:lnTo>
                      <a:lnTo>
                        <a:pt x="52" y="0"/>
                      </a:lnTo>
                      <a:lnTo>
                        <a:pt x="41" y="0"/>
                      </a:lnTo>
                      <a:lnTo>
                        <a:pt x="54" y="0"/>
                      </a:lnTo>
                      <a:lnTo>
                        <a:pt x="70" y="4"/>
                      </a:lnTo>
                      <a:lnTo>
                        <a:pt x="80" y="24"/>
                      </a:lnTo>
                      <a:lnTo>
                        <a:pt x="85" y="48"/>
                      </a:lnTo>
                      <a:lnTo>
                        <a:pt x="88" y="79"/>
                      </a:lnTo>
                      <a:lnTo>
                        <a:pt x="85" y="108"/>
                      </a:lnTo>
                      <a:lnTo>
                        <a:pt x="80" y="137"/>
                      </a:lnTo>
                      <a:lnTo>
                        <a:pt x="70" y="154"/>
                      </a:lnTo>
                      <a:lnTo>
                        <a:pt x="62" y="166"/>
                      </a:lnTo>
                      <a:lnTo>
                        <a:pt x="54" y="166"/>
                      </a:lnTo>
                      <a:lnTo>
                        <a:pt x="47" y="166"/>
                      </a:lnTo>
                      <a:lnTo>
                        <a:pt x="36" y="166"/>
                      </a:lnTo>
                      <a:lnTo>
                        <a:pt x="16" y="159"/>
                      </a:lnTo>
                      <a:lnTo>
                        <a:pt x="8" y="137"/>
                      </a:lnTo>
                      <a:lnTo>
                        <a:pt x="0" y="111"/>
                      </a:lnTo>
                      <a:lnTo>
                        <a:pt x="0" y="79"/>
                      </a:lnTo>
                      <a:lnTo>
                        <a:pt x="0" y="48"/>
                      </a:lnTo>
                      <a:lnTo>
                        <a:pt x="8" y="24"/>
                      </a:lnTo>
                      <a:lnTo>
                        <a:pt x="16" y="4"/>
                      </a:lnTo>
                      <a:lnTo>
                        <a:pt x="31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 rot="10800000">
                  <a:off x="5561640" y="1769760"/>
                  <a:ext cx="54720" cy="158400"/>
                </a:xfrm>
                <a:custGeom>
                  <a:avLst/>
                  <a:gdLst/>
                  <a:ahLst/>
                  <a:rect l="l" t="t" r="r" b="b"/>
                  <a:pathLst>
                    <a:path w="88" h="167">
                      <a:moveTo>
                        <a:pt x="31" y="0"/>
                      </a:moveTo>
                      <a:lnTo>
                        <a:pt x="47" y="0"/>
                      </a:lnTo>
                      <a:lnTo>
                        <a:pt x="59" y="0"/>
                      </a:lnTo>
                      <a:lnTo>
                        <a:pt x="54" y="0"/>
                      </a:lnTo>
                      <a:lnTo>
                        <a:pt x="52" y="0"/>
                      </a:lnTo>
                      <a:lnTo>
                        <a:pt x="41" y="0"/>
                      </a:lnTo>
                      <a:lnTo>
                        <a:pt x="54" y="0"/>
                      </a:lnTo>
                      <a:lnTo>
                        <a:pt x="70" y="7"/>
                      </a:lnTo>
                      <a:lnTo>
                        <a:pt x="80" y="27"/>
                      </a:lnTo>
                      <a:lnTo>
                        <a:pt x="85" y="48"/>
                      </a:lnTo>
                      <a:lnTo>
                        <a:pt x="88" y="85"/>
                      </a:lnTo>
                      <a:lnTo>
                        <a:pt x="85" y="111"/>
                      </a:lnTo>
                      <a:lnTo>
                        <a:pt x="80" y="138"/>
                      </a:lnTo>
                      <a:lnTo>
                        <a:pt x="70" y="157"/>
                      </a:lnTo>
                      <a:lnTo>
                        <a:pt x="62" y="167"/>
                      </a:lnTo>
                      <a:lnTo>
                        <a:pt x="54" y="167"/>
                      </a:lnTo>
                      <a:lnTo>
                        <a:pt x="47" y="167"/>
                      </a:lnTo>
                      <a:lnTo>
                        <a:pt x="36" y="167"/>
                      </a:lnTo>
                      <a:lnTo>
                        <a:pt x="16" y="157"/>
                      </a:lnTo>
                      <a:lnTo>
                        <a:pt x="8" y="138"/>
                      </a:lnTo>
                      <a:lnTo>
                        <a:pt x="0" y="111"/>
                      </a:lnTo>
                      <a:lnTo>
                        <a:pt x="0" y="85"/>
                      </a:lnTo>
                      <a:lnTo>
                        <a:pt x="0" y="48"/>
                      </a:lnTo>
                      <a:lnTo>
                        <a:pt x="8" y="27"/>
                      </a:lnTo>
                      <a:lnTo>
                        <a:pt x="16" y="7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 rot="10800000">
                  <a:off x="5561640" y="1769760"/>
                  <a:ext cx="54720" cy="158400"/>
                </a:xfrm>
                <a:custGeom>
                  <a:avLst/>
                  <a:gdLst/>
                  <a:ahLst/>
                  <a:rect l="l" t="t" r="r" b="b"/>
                  <a:pathLst>
                    <a:path w="88" h="167">
                      <a:moveTo>
                        <a:pt x="31" y="0"/>
                      </a:moveTo>
                      <a:lnTo>
                        <a:pt x="47" y="0"/>
                      </a:lnTo>
                      <a:lnTo>
                        <a:pt x="59" y="0"/>
                      </a:lnTo>
                      <a:lnTo>
                        <a:pt x="54" y="0"/>
                      </a:lnTo>
                      <a:lnTo>
                        <a:pt x="52" y="0"/>
                      </a:lnTo>
                      <a:lnTo>
                        <a:pt x="41" y="0"/>
                      </a:lnTo>
                      <a:lnTo>
                        <a:pt x="54" y="0"/>
                      </a:lnTo>
                      <a:lnTo>
                        <a:pt x="70" y="7"/>
                      </a:lnTo>
                      <a:lnTo>
                        <a:pt x="80" y="27"/>
                      </a:lnTo>
                      <a:lnTo>
                        <a:pt x="85" y="48"/>
                      </a:lnTo>
                      <a:lnTo>
                        <a:pt x="88" y="85"/>
                      </a:lnTo>
                      <a:lnTo>
                        <a:pt x="85" y="111"/>
                      </a:lnTo>
                      <a:lnTo>
                        <a:pt x="80" y="138"/>
                      </a:lnTo>
                      <a:lnTo>
                        <a:pt x="70" y="157"/>
                      </a:lnTo>
                      <a:lnTo>
                        <a:pt x="62" y="167"/>
                      </a:lnTo>
                      <a:lnTo>
                        <a:pt x="54" y="167"/>
                      </a:lnTo>
                      <a:lnTo>
                        <a:pt x="47" y="167"/>
                      </a:lnTo>
                      <a:lnTo>
                        <a:pt x="36" y="167"/>
                      </a:lnTo>
                      <a:lnTo>
                        <a:pt x="16" y="157"/>
                      </a:lnTo>
                      <a:lnTo>
                        <a:pt x="8" y="138"/>
                      </a:lnTo>
                      <a:lnTo>
                        <a:pt x="0" y="111"/>
                      </a:lnTo>
                      <a:lnTo>
                        <a:pt x="0" y="85"/>
                      </a:lnTo>
                      <a:lnTo>
                        <a:pt x="0" y="48"/>
                      </a:lnTo>
                      <a:lnTo>
                        <a:pt x="8" y="27"/>
                      </a:lnTo>
                      <a:lnTo>
                        <a:pt x="16" y="7"/>
                      </a:lnTo>
                      <a:lnTo>
                        <a:pt x="31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 rot="10800000">
                  <a:off x="661320" y="1822680"/>
                  <a:ext cx="122400" cy="173520"/>
                </a:xfrm>
                <a:custGeom>
                  <a:avLst/>
                  <a:gdLst/>
                  <a:ahLst/>
                  <a:rect l="l" t="t" r="r" b="b"/>
                  <a:pathLst>
                    <a:path w="196" h="183">
                      <a:moveTo>
                        <a:pt x="98" y="183"/>
                      </a:moveTo>
                      <a:lnTo>
                        <a:pt x="113" y="181"/>
                      </a:lnTo>
                      <a:lnTo>
                        <a:pt x="131" y="173"/>
                      </a:lnTo>
                      <a:lnTo>
                        <a:pt x="147" y="164"/>
                      </a:lnTo>
                      <a:lnTo>
                        <a:pt x="165" y="157"/>
                      </a:lnTo>
                      <a:lnTo>
                        <a:pt x="175" y="140"/>
                      </a:lnTo>
                      <a:lnTo>
                        <a:pt x="185" y="125"/>
                      </a:lnTo>
                      <a:lnTo>
                        <a:pt x="190" y="106"/>
                      </a:lnTo>
                      <a:lnTo>
                        <a:pt x="196" y="91"/>
                      </a:lnTo>
                      <a:lnTo>
                        <a:pt x="190" y="70"/>
                      </a:lnTo>
                      <a:lnTo>
                        <a:pt x="185" y="50"/>
                      </a:lnTo>
                      <a:lnTo>
                        <a:pt x="175" y="36"/>
                      </a:lnTo>
                      <a:lnTo>
                        <a:pt x="165" y="24"/>
                      </a:lnTo>
                      <a:lnTo>
                        <a:pt x="147" y="12"/>
                      </a:lnTo>
                      <a:lnTo>
                        <a:pt x="131" y="5"/>
                      </a:lnTo>
                      <a:lnTo>
                        <a:pt x="113" y="0"/>
                      </a:lnTo>
                      <a:lnTo>
                        <a:pt x="98" y="0"/>
                      </a:lnTo>
                      <a:lnTo>
                        <a:pt x="75" y="0"/>
                      </a:lnTo>
                      <a:lnTo>
                        <a:pt x="54" y="5"/>
                      </a:lnTo>
                      <a:lnTo>
                        <a:pt x="39" y="12"/>
                      </a:lnTo>
                      <a:lnTo>
                        <a:pt x="26" y="24"/>
                      </a:lnTo>
                      <a:lnTo>
                        <a:pt x="13" y="36"/>
                      </a:lnTo>
                      <a:lnTo>
                        <a:pt x="5" y="50"/>
                      </a:lnTo>
                      <a:lnTo>
                        <a:pt x="0" y="70"/>
                      </a:lnTo>
                      <a:lnTo>
                        <a:pt x="0" y="91"/>
                      </a:lnTo>
                      <a:lnTo>
                        <a:pt x="0" y="106"/>
                      </a:lnTo>
                      <a:lnTo>
                        <a:pt x="5" y="125"/>
                      </a:lnTo>
                      <a:lnTo>
                        <a:pt x="13" y="140"/>
                      </a:lnTo>
                      <a:lnTo>
                        <a:pt x="26" y="157"/>
                      </a:lnTo>
                      <a:lnTo>
                        <a:pt x="39" y="164"/>
                      </a:lnTo>
                      <a:lnTo>
                        <a:pt x="54" y="173"/>
                      </a:lnTo>
                      <a:lnTo>
                        <a:pt x="75" y="181"/>
                      </a:lnTo>
                      <a:lnTo>
                        <a:pt x="98" y="18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 rot="10800000">
                  <a:off x="695160" y="1140120"/>
                  <a:ext cx="52920" cy="156240"/>
                </a:xfrm>
                <a:custGeom>
                  <a:avLst/>
                  <a:gdLst/>
                  <a:ahLst/>
                  <a:rect l="l" t="t" r="r" b="b"/>
                  <a:pathLst>
                    <a:path w="85" h="164">
                      <a:moveTo>
                        <a:pt x="31" y="0"/>
                      </a:moveTo>
                      <a:lnTo>
                        <a:pt x="51" y="0"/>
                      </a:lnTo>
                      <a:lnTo>
                        <a:pt x="59" y="0"/>
                      </a:lnTo>
                      <a:lnTo>
                        <a:pt x="56" y="0"/>
                      </a:lnTo>
                      <a:lnTo>
                        <a:pt x="51" y="0"/>
                      </a:lnTo>
                      <a:lnTo>
                        <a:pt x="43" y="0"/>
                      </a:lnTo>
                      <a:lnTo>
                        <a:pt x="41" y="0"/>
                      </a:lnTo>
                      <a:lnTo>
                        <a:pt x="43" y="0"/>
                      </a:lnTo>
                      <a:lnTo>
                        <a:pt x="56" y="0"/>
                      </a:lnTo>
                      <a:lnTo>
                        <a:pt x="69" y="5"/>
                      </a:lnTo>
                      <a:lnTo>
                        <a:pt x="79" y="24"/>
                      </a:lnTo>
                      <a:lnTo>
                        <a:pt x="82" y="48"/>
                      </a:lnTo>
                      <a:lnTo>
                        <a:pt x="85" y="80"/>
                      </a:lnTo>
                      <a:lnTo>
                        <a:pt x="82" y="106"/>
                      </a:lnTo>
                      <a:lnTo>
                        <a:pt x="74" y="135"/>
                      </a:lnTo>
                      <a:lnTo>
                        <a:pt x="67" y="152"/>
                      </a:lnTo>
                      <a:lnTo>
                        <a:pt x="59" y="164"/>
                      </a:lnTo>
                      <a:lnTo>
                        <a:pt x="51" y="164"/>
                      </a:lnTo>
                      <a:lnTo>
                        <a:pt x="46" y="164"/>
                      </a:lnTo>
                      <a:lnTo>
                        <a:pt x="33" y="164"/>
                      </a:lnTo>
                      <a:lnTo>
                        <a:pt x="18" y="157"/>
                      </a:lnTo>
                      <a:lnTo>
                        <a:pt x="7" y="137"/>
                      </a:lnTo>
                      <a:lnTo>
                        <a:pt x="0" y="111"/>
                      </a:lnTo>
                      <a:lnTo>
                        <a:pt x="0" y="82"/>
                      </a:lnTo>
                      <a:lnTo>
                        <a:pt x="0" y="48"/>
                      </a:lnTo>
                      <a:lnTo>
                        <a:pt x="7" y="24"/>
                      </a:lnTo>
                      <a:lnTo>
                        <a:pt x="13" y="5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 rot="10800000">
                  <a:off x="695160" y="1140120"/>
                  <a:ext cx="52920" cy="156240"/>
                </a:xfrm>
                <a:custGeom>
                  <a:avLst/>
                  <a:gdLst/>
                  <a:ahLst/>
                  <a:rect l="l" t="t" r="r" b="b"/>
                  <a:pathLst>
                    <a:path w="85" h="164">
                      <a:moveTo>
                        <a:pt x="31" y="0"/>
                      </a:moveTo>
                      <a:lnTo>
                        <a:pt x="51" y="0"/>
                      </a:lnTo>
                      <a:lnTo>
                        <a:pt x="59" y="0"/>
                      </a:lnTo>
                      <a:lnTo>
                        <a:pt x="56" y="0"/>
                      </a:lnTo>
                      <a:lnTo>
                        <a:pt x="51" y="0"/>
                      </a:lnTo>
                      <a:lnTo>
                        <a:pt x="43" y="0"/>
                      </a:lnTo>
                      <a:lnTo>
                        <a:pt x="41" y="0"/>
                      </a:lnTo>
                      <a:lnTo>
                        <a:pt x="43" y="0"/>
                      </a:lnTo>
                      <a:lnTo>
                        <a:pt x="56" y="0"/>
                      </a:lnTo>
                      <a:lnTo>
                        <a:pt x="69" y="5"/>
                      </a:lnTo>
                      <a:lnTo>
                        <a:pt x="79" y="24"/>
                      </a:lnTo>
                      <a:lnTo>
                        <a:pt x="82" y="48"/>
                      </a:lnTo>
                      <a:lnTo>
                        <a:pt x="85" y="80"/>
                      </a:lnTo>
                      <a:lnTo>
                        <a:pt x="82" y="106"/>
                      </a:lnTo>
                      <a:lnTo>
                        <a:pt x="74" y="135"/>
                      </a:lnTo>
                      <a:lnTo>
                        <a:pt x="67" y="152"/>
                      </a:lnTo>
                      <a:lnTo>
                        <a:pt x="59" y="164"/>
                      </a:lnTo>
                      <a:lnTo>
                        <a:pt x="51" y="164"/>
                      </a:lnTo>
                      <a:lnTo>
                        <a:pt x="46" y="164"/>
                      </a:lnTo>
                      <a:lnTo>
                        <a:pt x="33" y="164"/>
                      </a:lnTo>
                      <a:lnTo>
                        <a:pt x="18" y="157"/>
                      </a:lnTo>
                      <a:lnTo>
                        <a:pt x="7" y="137"/>
                      </a:lnTo>
                      <a:lnTo>
                        <a:pt x="0" y="111"/>
                      </a:lnTo>
                      <a:lnTo>
                        <a:pt x="0" y="82"/>
                      </a:lnTo>
                      <a:lnTo>
                        <a:pt x="0" y="48"/>
                      </a:lnTo>
                      <a:lnTo>
                        <a:pt x="7" y="24"/>
                      </a:lnTo>
                      <a:lnTo>
                        <a:pt x="13" y="5"/>
                      </a:lnTo>
                      <a:lnTo>
                        <a:pt x="31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 rot="10800000">
                  <a:off x="695160" y="1296720"/>
                  <a:ext cx="52920" cy="160200"/>
                </a:xfrm>
                <a:custGeom>
                  <a:avLst/>
                  <a:gdLst/>
                  <a:ahLst/>
                  <a:rect l="l" t="t" r="r" b="b"/>
                  <a:pathLst>
                    <a:path w="85" h="169">
                      <a:moveTo>
                        <a:pt x="31" y="0"/>
                      </a:moveTo>
                      <a:lnTo>
                        <a:pt x="51" y="0"/>
                      </a:lnTo>
                      <a:lnTo>
                        <a:pt x="59" y="0"/>
                      </a:lnTo>
                      <a:lnTo>
                        <a:pt x="56" y="0"/>
                      </a:lnTo>
                      <a:lnTo>
                        <a:pt x="51" y="0"/>
                      </a:lnTo>
                      <a:lnTo>
                        <a:pt x="43" y="0"/>
                      </a:lnTo>
                      <a:lnTo>
                        <a:pt x="41" y="0"/>
                      </a:lnTo>
                      <a:lnTo>
                        <a:pt x="43" y="0"/>
                      </a:lnTo>
                      <a:lnTo>
                        <a:pt x="56" y="0"/>
                      </a:lnTo>
                      <a:lnTo>
                        <a:pt x="69" y="7"/>
                      </a:lnTo>
                      <a:lnTo>
                        <a:pt x="79" y="27"/>
                      </a:lnTo>
                      <a:lnTo>
                        <a:pt x="82" y="48"/>
                      </a:lnTo>
                      <a:lnTo>
                        <a:pt x="85" y="84"/>
                      </a:lnTo>
                      <a:lnTo>
                        <a:pt x="82" y="111"/>
                      </a:lnTo>
                      <a:lnTo>
                        <a:pt x="74" y="138"/>
                      </a:lnTo>
                      <a:lnTo>
                        <a:pt x="67" y="157"/>
                      </a:lnTo>
                      <a:lnTo>
                        <a:pt x="59" y="169"/>
                      </a:lnTo>
                      <a:lnTo>
                        <a:pt x="51" y="169"/>
                      </a:lnTo>
                      <a:lnTo>
                        <a:pt x="46" y="169"/>
                      </a:lnTo>
                      <a:lnTo>
                        <a:pt x="33" y="169"/>
                      </a:lnTo>
                      <a:lnTo>
                        <a:pt x="18" y="159"/>
                      </a:lnTo>
                      <a:lnTo>
                        <a:pt x="7" y="142"/>
                      </a:lnTo>
                      <a:lnTo>
                        <a:pt x="0" y="113"/>
                      </a:lnTo>
                      <a:lnTo>
                        <a:pt x="0" y="84"/>
                      </a:lnTo>
                      <a:lnTo>
                        <a:pt x="0" y="48"/>
                      </a:lnTo>
                      <a:lnTo>
                        <a:pt x="7" y="27"/>
                      </a:lnTo>
                      <a:lnTo>
                        <a:pt x="13" y="7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 rot="10800000">
                  <a:off x="695160" y="1296720"/>
                  <a:ext cx="52920" cy="160200"/>
                </a:xfrm>
                <a:custGeom>
                  <a:avLst/>
                  <a:gdLst/>
                  <a:ahLst/>
                  <a:rect l="l" t="t" r="r" b="b"/>
                  <a:pathLst>
                    <a:path w="85" h="169">
                      <a:moveTo>
                        <a:pt x="31" y="0"/>
                      </a:moveTo>
                      <a:lnTo>
                        <a:pt x="51" y="0"/>
                      </a:lnTo>
                      <a:lnTo>
                        <a:pt x="59" y="0"/>
                      </a:lnTo>
                      <a:lnTo>
                        <a:pt x="56" y="0"/>
                      </a:lnTo>
                      <a:lnTo>
                        <a:pt x="51" y="0"/>
                      </a:lnTo>
                      <a:lnTo>
                        <a:pt x="43" y="0"/>
                      </a:lnTo>
                      <a:lnTo>
                        <a:pt x="41" y="0"/>
                      </a:lnTo>
                      <a:lnTo>
                        <a:pt x="43" y="0"/>
                      </a:lnTo>
                      <a:lnTo>
                        <a:pt x="56" y="0"/>
                      </a:lnTo>
                      <a:lnTo>
                        <a:pt x="69" y="7"/>
                      </a:lnTo>
                      <a:lnTo>
                        <a:pt x="79" y="27"/>
                      </a:lnTo>
                      <a:lnTo>
                        <a:pt x="82" y="48"/>
                      </a:lnTo>
                      <a:lnTo>
                        <a:pt x="85" y="84"/>
                      </a:lnTo>
                      <a:lnTo>
                        <a:pt x="82" y="111"/>
                      </a:lnTo>
                      <a:lnTo>
                        <a:pt x="74" y="138"/>
                      </a:lnTo>
                      <a:lnTo>
                        <a:pt x="67" y="157"/>
                      </a:lnTo>
                      <a:lnTo>
                        <a:pt x="59" y="169"/>
                      </a:lnTo>
                      <a:lnTo>
                        <a:pt x="51" y="169"/>
                      </a:lnTo>
                      <a:lnTo>
                        <a:pt x="46" y="169"/>
                      </a:lnTo>
                      <a:lnTo>
                        <a:pt x="33" y="169"/>
                      </a:lnTo>
                      <a:lnTo>
                        <a:pt x="18" y="159"/>
                      </a:lnTo>
                      <a:lnTo>
                        <a:pt x="7" y="142"/>
                      </a:lnTo>
                      <a:lnTo>
                        <a:pt x="0" y="113"/>
                      </a:lnTo>
                      <a:lnTo>
                        <a:pt x="0" y="84"/>
                      </a:lnTo>
                      <a:lnTo>
                        <a:pt x="0" y="48"/>
                      </a:lnTo>
                      <a:lnTo>
                        <a:pt x="7" y="27"/>
                      </a:lnTo>
                      <a:lnTo>
                        <a:pt x="13" y="7"/>
                      </a:lnTo>
                      <a:lnTo>
                        <a:pt x="31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 rot="10800000">
                  <a:off x="695160" y="1456920"/>
                  <a:ext cx="52920" cy="155160"/>
                </a:xfrm>
                <a:custGeom>
                  <a:avLst/>
                  <a:gdLst/>
                  <a:ahLst/>
                  <a:rect l="l" t="t" r="r" b="b"/>
                  <a:pathLst>
                    <a:path w="85" h="164">
                      <a:moveTo>
                        <a:pt x="31" y="0"/>
                      </a:moveTo>
                      <a:lnTo>
                        <a:pt x="51" y="0"/>
                      </a:lnTo>
                      <a:lnTo>
                        <a:pt x="59" y="0"/>
                      </a:lnTo>
                      <a:lnTo>
                        <a:pt x="56" y="0"/>
                      </a:lnTo>
                      <a:lnTo>
                        <a:pt x="51" y="0"/>
                      </a:lnTo>
                      <a:lnTo>
                        <a:pt x="43" y="0"/>
                      </a:lnTo>
                      <a:lnTo>
                        <a:pt x="41" y="0"/>
                      </a:lnTo>
                      <a:lnTo>
                        <a:pt x="43" y="0"/>
                      </a:lnTo>
                      <a:lnTo>
                        <a:pt x="56" y="0"/>
                      </a:lnTo>
                      <a:lnTo>
                        <a:pt x="69" y="7"/>
                      </a:lnTo>
                      <a:lnTo>
                        <a:pt x="79" y="24"/>
                      </a:lnTo>
                      <a:lnTo>
                        <a:pt x="82" y="51"/>
                      </a:lnTo>
                      <a:lnTo>
                        <a:pt x="85" y="82"/>
                      </a:lnTo>
                      <a:lnTo>
                        <a:pt x="82" y="111"/>
                      </a:lnTo>
                      <a:lnTo>
                        <a:pt x="74" y="138"/>
                      </a:lnTo>
                      <a:lnTo>
                        <a:pt x="67" y="154"/>
                      </a:lnTo>
                      <a:lnTo>
                        <a:pt x="59" y="164"/>
                      </a:lnTo>
                      <a:lnTo>
                        <a:pt x="51" y="164"/>
                      </a:lnTo>
                      <a:lnTo>
                        <a:pt x="46" y="164"/>
                      </a:lnTo>
                      <a:lnTo>
                        <a:pt x="33" y="164"/>
                      </a:lnTo>
                      <a:lnTo>
                        <a:pt x="18" y="154"/>
                      </a:lnTo>
                      <a:lnTo>
                        <a:pt x="7" y="138"/>
                      </a:lnTo>
                      <a:lnTo>
                        <a:pt x="0" y="111"/>
                      </a:lnTo>
                      <a:lnTo>
                        <a:pt x="0" y="82"/>
                      </a:lnTo>
                      <a:lnTo>
                        <a:pt x="0" y="51"/>
                      </a:lnTo>
                      <a:lnTo>
                        <a:pt x="7" y="24"/>
                      </a:lnTo>
                      <a:lnTo>
                        <a:pt x="13" y="7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 rot="10800000">
                  <a:off x="695160" y="1456920"/>
                  <a:ext cx="52920" cy="155160"/>
                </a:xfrm>
                <a:custGeom>
                  <a:avLst/>
                  <a:gdLst/>
                  <a:ahLst/>
                  <a:rect l="l" t="t" r="r" b="b"/>
                  <a:pathLst>
                    <a:path w="85" h="164">
                      <a:moveTo>
                        <a:pt x="31" y="0"/>
                      </a:moveTo>
                      <a:lnTo>
                        <a:pt x="51" y="0"/>
                      </a:lnTo>
                      <a:lnTo>
                        <a:pt x="59" y="0"/>
                      </a:lnTo>
                      <a:lnTo>
                        <a:pt x="56" y="0"/>
                      </a:lnTo>
                      <a:lnTo>
                        <a:pt x="51" y="0"/>
                      </a:lnTo>
                      <a:lnTo>
                        <a:pt x="43" y="0"/>
                      </a:lnTo>
                      <a:lnTo>
                        <a:pt x="41" y="0"/>
                      </a:lnTo>
                      <a:lnTo>
                        <a:pt x="43" y="0"/>
                      </a:lnTo>
                      <a:lnTo>
                        <a:pt x="56" y="0"/>
                      </a:lnTo>
                      <a:lnTo>
                        <a:pt x="69" y="7"/>
                      </a:lnTo>
                      <a:lnTo>
                        <a:pt x="79" y="24"/>
                      </a:lnTo>
                      <a:lnTo>
                        <a:pt x="82" y="51"/>
                      </a:lnTo>
                      <a:lnTo>
                        <a:pt x="85" y="82"/>
                      </a:lnTo>
                      <a:lnTo>
                        <a:pt x="82" y="111"/>
                      </a:lnTo>
                      <a:lnTo>
                        <a:pt x="74" y="138"/>
                      </a:lnTo>
                      <a:lnTo>
                        <a:pt x="67" y="154"/>
                      </a:lnTo>
                      <a:lnTo>
                        <a:pt x="59" y="164"/>
                      </a:lnTo>
                      <a:lnTo>
                        <a:pt x="51" y="164"/>
                      </a:lnTo>
                      <a:lnTo>
                        <a:pt x="46" y="164"/>
                      </a:lnTo>
                      <a:lnTo>
                        <a:pt x="33" y="164"/>
                      </a:lnTo>
                      <a:lnTo>
                        <a:pt x="18" y="154"/>
                      </a:lnTo>
                      <a:lnTo>
                        <a:pt x="7" y="138"/>
                      </a:lnTo>
                      <a:lnTo>
                        <a:pt x="0" y="111"/>
                      </a:lnTo>
                      <a:lnTo>
                        <a:pt x="0" y="82"/>
                      </a:lnTo>
                      <a:lnTo>
                        <a:pt x="0" y="51"/>
                      </a:lnTo>
                      <a:lnTo>
                        <a:pt x="7" y="24"/>
                      </a:lnTo>
                      <a:lnTo>
                        <a:pt x="13" y="7"/>
                      </a:lnTo>
                      <a:lnTo>
                        <a:pt x="31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 rot="10800000">
                  <a:off x="695160" y="1612080"/>
                  <a:ext cx="52920" cy="157320"/>
                </a:xfrm>
                <a:custGeom>
                  <a:avLst/>
                  <a:gdLst/>
                  <a:ahLst/>
                  <a:rect l="l" t="t" r="r" b="b"/>
                  <a:pathLst>
                    <a:path w="85" h="166">
                      <a:moveTo>
                        <a:pt x="31" y="0"/>
                      </a:moveTo>
                      <a:lnTo>
                        <a:pt x="51" y="0"/>
                      </a:lnTo>
                      <a:lnTo>
                        <a:pt x="59" y="0"/>
                      </a:lnTo>
                      <a:lnTo>
                        <a:pt x="56" y="0"/>
                      </a:lnTo>
                      <a:lnTo>
                        <a:pt x="51" y="0"/>
                      </a:lnTo>
                      <a:lnTo>
                        <a:pt x="43" y="0"/>
                      </a:lnTo>
                      <a:lnTo>
                        <a:pt x="41" y="0"/>
                      </a:lnTo>
                      <a:lnTo>
                        <a:pt x="43" y="0"/>
                      </a:lnTo>
                      <a:lnTo>
                        <a:pt x="56" y="0"/>
                      </a:lnTo>
                      <a:lnTo>
                        <a:pt x="69" y="4"/>
                      </a:lnTo>
                      <a:lnTo>
                        <a:pt x="79" y="24"/>
                      </a:lnTo>
                      <a:lnTo>
                        <a:pt x="82" y="48"/>
                      </a:lnTo>
                      <a:lnTo>
                        <a:pt x="85" y="79"/>
                      </a:lnTo>
                      <a:lnTo>
                        <a:pt x="82" y="108"/>
                      </a:lnTo>
                      <a:lnTo>
                        <a:pt x="74" y="137"/>
                      </a:lnTo>
                      <a:lnTo>
                        <a:pt x="67" y="154"/>
                      </a:lnTo>
                      <a:lnTo>
                        <a:pt x="59" y="166"/>
                      </a:lnTo>
                      <a:lnTo>
                        <a:pt x="51" y="166"/>
                      </a:lnTo>
                      <a:lnTo>
                        <a:pt x="46" y="166"/>
                      </a:lnTo>
                      <a:lnTo>
                        <a:pt x="33" y="166"/>
                      </a:lnTo>
                      <a:lnTo>
                        <a:pt x="18" y="159"/>
                      </a:lnTo>
                      <a:lnTo>
                        <a:pt x="7" y="137"/>
                      </a:lnTo>
                      <a:lnTo>
                        <a:pt x="0" y="111"/>
                      </a:lnTo>
                      <a:lnTo>
                        <a:pt x="0" y="79"/>
                      </a:lnTo>
                      <a:lnTo>
                        <a:pt x="0" y="48"/>
                      </a:lnTo>
                      <a:lnTo>
                        <a:pt x="7" y="24"/>
                      </a:lnTo>
                      <a:lnTo>
                        <a:pt x="13" y="4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9" name=""/>
                <p:cNvSpPr/>
                <p:nvPr/>
              </p:nvSpPr>
              <p:spPr>
                <a:xfrm rot="10800000">
                  <a:off x="695160" y="1612080"/>
                  <a:ext cx="52920" cy="157320"/>
                </a:xfrm>
                <a:custGeom>
                  <a:avLst/>
                  <a:gdLst/>
                  <a:ahLst/>
                  <a:rect l="l" t="t" r="r" b="b"/>
                  <a:pathLst>
                    <a:path w="85" h="166">
                      <a:moveTo>
                        <a:pt x="31" y="0"/>
                      </a:moveTo>
                      <a:lnTo>
                        <a:pt x="51" y="0"/>
                      </a:lnTo>
                      <a:lnTo>
                        <a:pt x="59" y="0"/>
                      </a:lnTo>
                      <a:lnTo>
                        <a:pt x="56" y="0"/>
                      </a:lnTo>
                      <a:lnTo>
                        <a:pt x="51" y="0"/>
                      </a:lnTo>
                      <a:lnTo>
                        <a:pt x="43" y="0"/>
                      </a:lnTo>
                      <a:lnTo>
                        <a:pt x="41" y="0"/>
                      </a:lnTo>
                      <a:lnTo>
                        <a:pt x="43" y="0"/>
                      </a:lnTo>
                      <a:lnTo>
                        <a:pt x="56" y="0"/>
                      </a:lnTo>
                      <a:lnTo>
                        <a:pt x="69" y="4"/>
                      </a:lnTo>
                      <a:lnTo>
                        <a:pt x="79" y="24"/>
                      </a:lnTo>
                      <a:lnTo>
                        <a:pt x="82" y="48"/>
                      </a:lnTo>
                      <a:lnTo>
                        <a:pt x="85" y="79"/>
                      </a:lnTo>
                      <a:lnTo>
                        <a:pt x="82" y="108"/>
                      </a:lnTo>
                      <a:lnTo>
                        <a:pt x="74" y="137"/>
                      </a:lnTo>
                      <a:lnTo>
                        <a:pt x="67" y="154"/>
                      </a:lnTo>
                      <a:lnTo>
                        <a:pt x="59" y="166"/>
                      </a:lnTo>
                      <a:lnTo>
                        <a:pt x="51" y="166"/>
                      </a:lnTo>
                      <a:lnTo>
                        <a:pt x="46" y="166"/>
                      </a:lnTo>
                      <a:lnTo>
                        <a:pt x="33" y="166"/>
                      </a:lnTo>
                      <a:lnTo>
                        <a:pt x="18" y="159"/>
                      </a:lnTo>
                      <a:lnTo>
                        <a:pt x="7" y="137"/>
                      </a:lnTo>
                      <a:lnTo>
                        <a:pt x="0" y="111"/>
                      </a:lnTo>
                      <a:lnTo>
                        <a:pt x="0" y="79"/>
                      </a:lnTo>
                      <a:lnTo>
                        <a:pt x="0" y="48"/>
                      </a:lnTo>
                      <a:lnTo>
                        <a:pt x="7" y="24"/>
                      </a:lnTo>
                      <a:lnTo>
                        <a:pt x="13" y="4"/>
                      </a:lnTo>
                      <a:lnTo>
                        <a:pt x="31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0" name=""/>
                <p:cNvSpPr/>
                <p:nvPr/>
              </p:nvSpPr>
              <p:spPr>
                <a:xfrm rot="10800000">
                  <a:off x="695160" y="1769760"/>
                  <a:ext cx="52920" cy="158400"/>
                </a:xfrm>
                <a:custGeom>
                  <a:avLst/>
                  <a:gdLst/>
                  <a:ahLst/>
                  <a:rect l="l" t="t" r="r" b="b"/>
                  <a:pathLst>
                    <a:path w="85" h="167">
                      <a:moveTo>
                        <a:pt x="31" y="0"/>
                      </a:moveTo>
                      <a:lnTo>
                        <a:pt x="51" y="0"/>
                      </a:lnTo>
                      <a:lnTo>
                        <a:pt x="59" y="0"/>
                      </a:lnTo>
                      <a:lnTo>
                        <a:pt x="56" y="0"/>
                      </a:lnTo>
                      <a:lnTo>
                        <a:pt x="51" y="0"/>
                      </a:lnTo>
                      <a:lnTo>
                        <a:pt x="43" y="0"/>
                      </a:lnTo>
                      <a:lnTo>
                        <a:pt x="41" y="0"/>
                      </a:lnTo>
                      <a:lnTo>
                        <a:pt x="43" y="0"/>
                      </a:lnTo>
                      <a:lnTo>
                        <a:pt x="56" y="0"/>
                      </a:lnTo>
                      <a:lnTo>
                        <a:pt x="69" y="7"/>
                      </a:lnTo>
                      <a:lnTo>
                        <a:pt x="79" y="27"/>
                      </a:lnTo>
                      <a:lnTo>
                        <a:pt x="82" y="48"/>
                      </a:lnTo>
                      <a:lnTo>
                        <a:pt x="85" y="85"/>
                      </a:lnTo>
                      <a:lnTo>
                        <a:pt x="82" y="111"/>
                      </a:lnTo>
                      <a:lnTo>
                        <a:pt x="74" y="138"/>
                      </a:lnTo>
                      <a:lnTo>
                        <a:pt x="67" y="157"/>
                      </a:lnTo>
                      <a:lnTo>
                        <a:pt x="59" y="167"/>
                      </a:lnTo>
                      <a:lnTo>
                        <a:pt x="51" y="167"/>
                      </a:lnTo>
                      <a:lnTo>
                        <a:pt x="46" y="167"/>
                      </a:lnTo>
                      <a:lnTo>
                        <a:pt x="33" y="167"/>
                      </a:lnTo>
                      <a:lnTo>
                        <a:pt x="18" y="157"/>
                      </a:lnTo>
                      <a:lnTo>
                        <a:pt x="7" y="138"/>
                      </a:lnTo>
                      <a:lnTo>
                        <a:pt x="0" y="111"/>
                      </a:lnTo>
                      <a:lnTo>
                        <a:pt x="0" y="85"/>
                      </a:lnTo>
                      <a:lnTo>
                        <a:pt x="0" y="48"/>
                      </a:lnTo>
                      <a:lnTo>
                        <a:pt x="7" y="27"/>
                      </a:lnTo>
                      <a:lnTo>
                        <a:pt x="13" y="7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1" name=""/>
                <p:cNvSpPr/>
                <p:nvPr/>
              </p:nvSpPr>
              <p:spPr>
                <a:xfrm rot="10800000">
                  <a:off x="695160" y="1769760"/>
                  <a:ext cx="52920" cy="158400"/>
                </a:xfrm>
                <a:custGeom>
                  <a:avLst/>
                  <a:gdLst/>
                  <a:ahLst/>
                  <a:rect l="l" t="t" r="r" b="b"/>
                  <a:pathLst>
                    <a:path w="85" h="167">
                      <a:moveTo>
                        <a:pt x="31" y="0"/>
                      </a:moveTo>
                      <a:lnTo>
                        <a:pt x="51" y="0"/>
                      </a:lnTo>
                      <a:lnTo>
                        <a:pt x="59" y="0"/>
                      </a:lnTo>
                      <a:lnTo>
                        <a:pt x="56" y="0"/>
                      </a:lnTo>
                      <a:lnTo>
                        <a:pt x="51" y="0"/>
                      </a:lnTo>
                      <a:lnTo>
                        <a:pt x="43" y="0"/>
                      </a:lnTo>
                      <a:lnTo>
                        <a:pt x="41" y="0"/>
                      </a:lnTo>
                      <a:lnTo>
                        <a:pt x="43" y="0"/>
                      </a:lnTo>
                      <a:lnTo>
                        <a:pt x="56" y="0"/>
                      </a:lnTo>
                      <a:lnTo>
                        <a:pt x="69" y="7"/>
                      </a:lnTo>
                      <a:lnTo>
                        <a:pt x="79" y="27"/>
                      </a:lnTo>
                      <a:lnTo>
                        <a:pt x="82" y="48"/>
                      </a:lnTo>
                      <a:lnTo>
                        <a:pt x="85" y="85"/>
                      </a:lnTo>
                      <a:lnTo>
                        <a:pt x="82" y="111"/>
                      </a:lnTo>
                      <a:lnTo>
                        <a:pt x="74" y="138"/>
                      </a:lnTo>
                      <a:lnTo>
                        <a:pt x="67" y="157"/>
                      </a:lnTo>
                      <a:lnTo>
                        <a:pt x="59" y="167"/>
                      </a:lnTo>
                      <a:lnTo>
                        <a:pt x="51" y="167"/>
                      </a:lnTo>
                      <a:lnTo>
                        <a:pt x="46" y="167"/>
                      </a:lnTo>
                      <a:lnTo>
                        <a:pt x="33" y="167"/>
                      </a:lnTo>
                      <a:lnTo>
                        <a:pt x="18" y="157"/>
                      </a:lnTo>
                      <a:lnTo>
                        <a:pt x="7" y="138"/>
                      </a:lnTo>
                      <a:lnTo>
                        <a:pt x="0" y="111"/>
                      </a:lnTo>
                      <a:lnTo>
                        <a:pt x="0" y="85"/>
                      </a:lnTo>
                      <a:lnTo>
                        <a:pt x="0" y="48"/>
                      </a:lnTo>
                      <a:lnTo>
                        <a:pt x="7" y="27"/>
                      </a:lnTo>
                      <a:lnTo>
                        <a:pt x="13" y="7"/>
                      </a:lnTo>
                      <a:lnTo>
                        <a:pt x="31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2" name=""/>
              <p:cNvSpPr/>
              <p:nvPr/>
            </p:nvSpPr>
            <p:spPr>
              <a:xfrm>
                <a:off x="774000" y="840240"/>
                <a:ext cx="4772160" cy="52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2200" spc="-1" strike="noStrike">
                    <a:solidFill>
                      <a:srgbClr val="000000"/>
                    </a:solidFill>
                    <a:latin typeface="Times New Roman"/>
                    <a:cs typeface="Times New Roman"/>
                  </a:rPr>
                  <a:t>اكتب اسم الصورة ثم اكتب المقطع الممدود في المربع</a:t>
                </a:r>
                <a:r>
                  <a:rPr b="0" lang="ar-SA" sz="2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: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63" name="" descr=""/>
              <p:cNvPicPr/>
              <p:nvPr/>
            </p:nvPicPr>
            <p:blipFill>
              <a:blip r:embed="rId9"/>
              <a:stretch/>
            </p:blipFill>
            <p:spPr>
              <a:xfrm flipH="1" rot="870600">
                <a:off x="2211480" y="1365480"/>
                <a:ext cx="1548360" cy="11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4" name=""/>
          <p:cNvGrpSpPr/>
          <p:nvPr/>
        </p:nvGrpSpPr>
        <p:grpSpPr>
          <a:xfrm>
            <a:off x="0" y="0"/>
            <a:ext cx="7186320" cy="9143640"/>
            <a:chOff x="0" y="0"/>
            <a:chExt cx="7186320" cy="9143640"/>
          </a:xfrm>
        </p:grpSpPr>
        <p:pic>
          <p:nvPicPr>
            <p:cNvPr id="665" name="" descr=""/>
            <p:cNvPicPr/>
            <p:nvPr/>
          </p:nvPicPr>
          <p:blipFill>
            <a:blip r:embed="rId1"/>
            <a:stretch/>
          </p:blipFill>
          <p:spPr>
            <a:xfrm>
              <a:off x="0" y="103680"/>
              <a:ext cx="6643800" cy="9039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66" name=""/>
            <p:cNvGrpSpPr/>
            <p:nvPr/>
          </p:nvGrpSpPr>
          <p:grpSpPr>
            <a:xfrm>
              <a:off x="106920" y="0"/>
              <a:ext cx="7079400" cy="8624520"/>
              <a:chOff x="106920" y="0"/>
              <a:chExt cx="7079400" cy="8624520"/>
            </a:xfrm>
          </p:grpSpPr>
          <p:pic>
            <p:nvPicPr>
              <p:cNvPr id="66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42600" y="2029320"/>
                <a:ext cx="1071360" cy="2755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8" name=""/>
              <p:cNvSpPr/>
              <p:nvPr/>
            </p:nvSpPr>
            <p:spPr>
              <a:xfrm>
                <a:off x="106920" y="0"/>
                <a:ext cx="3000240" cy="1420200"/>
              </a:xfrm>
              <a:prstGeom prst="cloudCallout">
                <a:avLst>
                  <a:gd name="adj1" fmla="val -12421"/>
                  <a:gd name="adj2" fmla="val 113611"/>
                </a:avLst>
              </a:prstGeom>
              <a:gradFill rotWithShape="0">
                <a:gsLst>
                  <a:gs pos="0">
                    <a:srgbClr val="ccff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106920" y="304200"/>
                <a:ext cx="2678760" cy="81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2000" spc="-1" strike="noStrike">
                    <a:solidFill>
                      <a:srgbClr val="000000"/>
                    </a:solidFill>
                    <a:latin typeface="Times New Roman"/>
                    <a:cs typeface="Times New Roman"/>
                  </a:rPr>
                  <a:t>اكتب اسم الصورة ثم اكتب المقطع الممدود في المربع</a:t>
                </a:r>
                <a:r>
                  <a:rPr b="0" lang="ar-SA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ar-SA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..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0" name=""/>
              <p:cNvGrpSpPr/>
              <p:nvPr/>
            </p:nvGrpSpPr>
            <p:grpSpPr>
              <a:xfrm>
                <a:off x="321120" y="304200"/>
                <a:ext cx="5766120" cy="8320320"/>
                <a:chOff x="321120" y="304200"/>
                <a:chExt cx="5766120" cy="8320320"/>
              </a:xfrm>
            </p:grpSpPr>
            <p:grpSp>
              <p:nvGrpSpPr>
                <p:cNvPr id="671" name=""/>
                <p:cNvGrpSpPr/>
                <p:nvPr/>
              </p:nvGrpSpPr>
              <p:grpSpPr>
                <a:xfrm>
                  <a:off x="1071000" y="1420200"/>
                  <a:ext cx="4179240" cy="7203960"/>
                  <a:chOff x="1071000" y="1420200"/>
                  <a:chExt cx="4179240" cy="7203960"/>
                </a:xfrm>
              </p:grpSpPr>
              <p:grpSp>
                <p:nvGrpSpPr>
                  <p:cNvPr id="672" name=""/>
                  <p:cNvGrpSpPr/>
                  <p:nvPr/>
                </p:nvGrpSpPr>
                <p:grpSpPr>
                  <a:xfrm>
                    <a:off x="1713600" y="5986080"/>
                    <a:ext cx="1393200" cy="1116000"/>
                    <a:chOff x="1713600" y="5986080"/>
                    <a:chExt cx="1393200" cy="1116000"/>
                  </a:xfrm>
                </p:grpSpPr>
                <p:sp>
                  <p:nvSpPr>
                    <p:cNvPr id="673" name=""/>
                    <p:cNvSpPr/>
                    <p:nvPr/>
                  </p:nvSpPr>
                  <p:spPr>
                    <a:xfrm>
                      <a:off x="1713600" y="5986080"/>
                      <a:ext cx="1393200" cy="11160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pic>
                  <p:nvPicPr>
                    <p:cNvPr id="67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820520" y="6087240"/>
                      <a:ext cx="1285920" cy="750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  <p:grpSp>
                <p:nvGrpSpPr>
                  <p:cNvPr id="675" name=""/>
                  <p:cNvGrpSpPr/>
                  <p:nvPr/>
                </p:nvGrpSpPr>
                <p:grpSpPr>
                  <a:xfrm>
                    <a:off x="3857040" y="1420200"/>
                    <a:ext cx="1393200" cy="1116000"/>
                    <a:chOff x="3857040" y="1420200"/>
                    <a:chExt cx="1393200" cy="1116000"/>
                  </a:xfrm>
                </p:grpSpPr>
                <p:sp>
                  <p:nvSpPr>
                    <p:cNvPr id="676" name=""/>
                    <p:cNvSpPr/>
                    <p:nvPr/>
                  </p:nvSpPr>
                  <p:spPr>
                    <a:xfrm>
                      <a:off x="3857040" y="1420200"/>
                      <a:ext cx="1393200" cy="11160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pic>
                  <p:nvPicPr>
                    <p:cNvPr id="67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963960" y="1521360"/>
                      <a:ext cx="1178640" cy="936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  <p:grpSp>
                <p:nvGrpSpPr>
                  <p:cNvPr id="678" name=""/>
                  <p:cNvGrpSpPr/>
                  <p:nvPr/>
                </p:nvGrpSpPr>
                <p:grpSpPr>
                  <a:xfrm>
                    <a:off x="1071000" y="7508160"/>
                    <a:ext cx="1392840" cy="1116000"/>
                    <a:chOff x="1071000" y="7508160"/>
                    <a:chExt cx="1392840" cy="1116000"/>
                  </a:xfrm>
                </p:grpSpPr>
                <p:sp>
                  <p:nvSpPr>
                    <p:cNvPr id="679" name=""/>
                    <p:cNvSpPr/>
                    <p:nvPr/>
                  </p:nvSpPr>
                  <p:spPr>
                    <a:xfrm>
                      <a:off x="1071000" y="7508160"/>
                      <a:ext cx="1392840" cy="11160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pic>
                  <p:nvPicPr>
                    <p:cNvPr id="680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285200" y="7609320"/>
                      <a:ext cx="1048680" cy="1014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  <p:grpSp>
                <p:nvGrpSpPr>
                  <p:cNvPr id="681" name=""/>
                  <p:cNvGrpSpPr/>
                  <p:nvPr/>
                </p:nvGrpSpPr>
                <p:grpSpPr>
                  <a:xfrm>
                    <a:off x="3106800" y="2942280"/>
                    <a:ext cx="1393200" cy="1116000"/>
                    <a:chOff x="3106800" y="2942280"/>
                    <a:chExt cx="1393200" cy="1116000"/>
                  </a:xfrm>
                </p:grpSpPr>
                <p:sp>
                  <p:nvSpPr>
                    <p:cNvPr id="682" name=""/>
                    <p:cNvSpPr/>
                    <p:nvPr/>
                  </p:nvSpPr>
                  <p:spPr>
                    <a:xfrm>
                      <a:off x="3106800" y="2942280"/>
                      <a:ext cx="1393200" cy="11160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pic>
                  <p:nvPicPr>
                    <p:cNvPr id="68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321000" y="3043440"/>
                      <a:ext cx="1071720" cy="997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  <p:grpSp>
                <p:nvGrpSpPr>
                  <p:cNvPr id="684" name=""/>
                  <p:cNvGrpSpPr/>
                  <p:nvPr/>
                </p:nvGrpSpPr>
                <p:grpSpPr>
                  <a:xfrm>
                    <a:off x="2463840" y="4464360"/>
                    <a:ext cx="1393200" cy="1116000"/>
                    <a:chOff x="2463840" y="4464360"/>
                    <a:chExt cx="1393200" cy="1116000"/>
                  </a:xfrm>
                </p:grpSpPr>
                <p:sp>
                  <p:nvSpPr>
                    <p:cNvPr id="685" name=""/>
                    <p:cNvSpPr/>
                    <p:nvPr/>
                  </p:nvSpPr>
                  <p:spPr>
                    <a:xfrm>
                      <a:off x="2463840" y="4464360"/>
                      <a:ext cx="1393200" cy="11160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686" name=""/>
                    <p:cNvGrpSpPr/>
                    <p:nvPr/>
                  </p:nvGrpSpPr>
                  <p:grpSpPr>
                    <a:xfrm>
                      <a:off x="2570760" y="4565520"/>
                      <a:ext cx="1178280" cy="1014840"/>
                      <a:chOff x="2570760" y="4565520"/>
                      <a:chExt cx="1178280" cy="1014840"/>
                    </a:xfrm>
                  </p:grpSpPr>
                  <p:sp>
                    <p:nvSpPr>
                      <p:cNvPr id="687" name=""/>
                      <p:cNvSpPr/>
                      <p:nvPr/>
                    </p:nvSpPr>
                    <p:spPr>
                      <a:xfrm>
                        <a:off x="3480120" y="4820040"/>
                        <a:ext cx="110880" cy="105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40" h="555">
                            <a:moveTo>
                              <a:pt x="0" y="334"/>
                            </a:moveTo>
                            <a:lnTo>
                              <a:pt x="16" y="349"/>
                            </a:lnTo>
                            <a:lnTo>
                              <a:pt x="39" y="360"/>
                            </a:lnTo>
                            <a:lnTo>
                              <a:pt x="71" y="362"/>
                            </a:lnTo>
                            <a:lnTo>
                              <a:pt x="106" y="365"/>
                            </a:lnTo>
                            <a:lnTo>
                              <a:pt x="142" y="365"/>
                            </a:lnTo>
                            <a:lnTo>
                              <a:pt x="177" y="365"/>
                            </a:lnTo>
                            <a:lnTo>
                              <a:pt x="212" y="367"/>
                            </a:lnTo>
                            <a:lnTo>
                              <a:pt x="240" y="370"/>
                            </a:lnTo>
                            <a:lnTo>
                              <a:pt x="263" y="380"/>
                            </a:lnTo>
                            <a:lnTo>
                              <a:pt x="279" y="393"/>
                            </a:lnTo>
                            <a:lnTo>
                              <a:pt x="263" y="411"/>
                            </a:lnTo>
                            <a:lnTo>
                              <a:pt x="232" y="426"/>
                            </a:lnTo>
                            <a:lnTo>
                              <a:pt x="193" y="442"/>
                            </a:lnTo>
                            <a:lnTo>
                              <a:pt x="149" y="455"/>
                            </a:lnTo>
                            <a:lnTo>
                              <a:pt x="106" y="467"/>
                            </a:lnTo>
                            <a:lnTo>
                              <a:pt x="67" y="480"/>
                            </a:lnTo>
                            <a:lnTo>
                              <a:pt x="35" y="496"/>
                            </a:lnTo>
                            <a:lnTo>
                              <a:pt x="16" y="514"/>
                            </a:lnTo>
                            <a:lnTo>
                              <a:pt x="12" y="532"/>
                            </a:lnTo>
                            <a:lnTo>
                              <a:pt x="27" y="555"/>
                            </a:lnTo>
                            <a:lnTo>
                              <a:pt x="90" y="542"/>
                            </a:lnTo>
                            <a:lnTo>
                              <a:pt x="149" y="532"/>
                            </a:lnTo>
                            <a:lnTo>
                              <a:pt x="204" y="524"/>
                            </a:lnTo>
                            <a:lnTo>
                              <a:pt x="256" y="514"/>
                            </a:lnTo>
                            <a:lnTo>
                              <a:pt x="307" y="509"/>
                            </a:lnTo>
                            <a:lnTo>
                              <a:pt x="358" y="503"/>
                            </a:lnTo>
                            <a:lnTo>
                              <a:pt x="401" y="498"/>
                            </a:lnTo>
                            <a:lnTo>
                              <a:pt x="445" y="498"/>
                            </a:lnTo>
                            <a:lnTo>
                              <a:pt x="484" y="501"/>
                            </a:lnTo>
                            <a:lnTo>
                              <a:pt x="523" y="506"/>
                            </a:lnTo>
                            <a:lnTo>
                              <a:pt x="527" y="509"/>
                            </a:lnTo>
                            <a:lnTo>
                              <a:pt x="535" y="511"/>
                            </a:lnTo>
                            <a:lnTo>
                              <a:pt x="539" y="514"/>
                            </a:lnTo>
                            <a:lnTo>
                              <a:pt x="547" y="516"/>
                            </a:lnTo>
                            <a:lnTo>
                              <a:pt x="551" y="519"/>
                            </a:lnTo>
                            <a:lnTo>
                              <a:pt x="555" y="521"/>
                            </a:lnTo>
                            <a:lnTo>
                              <a:pt x="559" y="527"/>
                            </a:lnTo>
                            <a:lnTo>
                              <a:pt x="563" y="529"/>
                            </a:lnTo>
                            <a:lnTo>
                              <a:pt x="563" y="532"/>
                            </a:lnTo>
                            <a:lnTo>
                              <a:pt x="567" y="534"/>
                            </a:lnTo>
                            <a:lnTo>
                              <a:pt x="732" y="467"/>
                            </a:lnTo>
                            <a:lnTo>
                              <a:pt x="732" y="455"/>
                            </a:lnTo>
                            <a:lnTo>
                              <a:pt x="732" y="442"/>
                            </a:lnTo>
                            <a:lnTo>
                              <a:pt x="732" y="429"/>
                            </a:lnTo>
                            <a:lnTo>
                              <a:pt x="732" y="419"/>
                            </a:lnTo>
                            <a:lnTo>
                              <a:pt x="732" y="406"/>
                            </a:lnTo>
                            <a:lnTo>
                              <a:pt x="732" y="393"/>
                            </a:lnTo>
                            <a:lnTo>
                              <a:pt x="736" y="383"/>
                            </a:lnTo>
                            <a:lnTo>
                              <a:pt x="736" y="370"/>
                            </a:lnTo>
                            <a:lnTo>
                              <a:pt x="736" y="357"/>
                            </a:lnTo>
                            <a:lnTo>
                              <a:pt x="740" y="347"/>
                            </a:lnTo>
                            <a:lnTo>
                              <a:pt x="519" y="198"/>
                            </a:lnTo>
                            <a:lnTo>
                              <a:pt x="511" y="200"/>
                            </a:lnTo>
                            <a:lnTo>
                              <a:pt x="500" y="203"/>
                            </a:lnTo>
                            <a:lnTo>
                              <a:pt x="488" y="205"/>
                            </a:lnTo>
                            <a:lnTo>
                              <a:pt x="476" y="205"/>
                            </a:lnTo>
                            <a:lnTo>
                              <a:pt x="468" y="208"/>
                            </a:lnTo>
                            <a:lnTo>
                              <a:pt x="456" y="210"/>
                            </a:lnTo>
                            <a:lnTo>
                              <a:pt x="445" y="213"/>
                            </a:lnTo>
                            <a:lnTo>
                              <a:pt x="433" y="213"/>
                            </a:lnTo>
                            <a:lnTo>
                              <a:pt x="425" y="216"/>
                            </a:lnTo>
                            <a:lnTo>
                              <a:pt x="413" y="218"/>
                            </a:lnTo>
                            <a:lnTo>
                              <a:pt x="126" y="0"/>
                            </a:lnTo>
                            <a:lnTo>
                              <a:pt x="51" y="2"/>
                            </a:lnTo>
                            <a:lnTo>
                              <a:pt x="86" y="28"/>
                            </a:lnTo>
                            <a:lnTo>
                              <a:pt x="118" y="54"/>
                            </a:lnTo>
                            <a:lnTo>
                              <a:pt x="149" y="79"/>
                            </a:lnTo>
                            <a:lnTo>
                              <a:pt x="185" y="105"/>
                            </a:lnTo>
                            <a:lnTo>
                              <a:pt x="216" y="131"/>
                            </a:lnTo>
                            <a:lnTo>
                              <a:pt x="248" y="156"/>
                            </a:lnTo>
                            <a:lnTo>
                              <a:pt x="279" y="182"/>
                            </a:lnTo>
                            <a:lnTo>
                              <a:pt x="311" y="208"/>
                            </a:lnTo>
                            <a:lnTo>
                              <a:pt x="342" y="234"/>
                            </a:lnTo>
                            <a:lnTo>
                              <a:pt x="374" y="259"/>
                            </a:lnTo>
                            <a:lnTo>
                              <a:pt x="334" y="272"/>
                            </a:lnTo>
                            <a:lnTo>
                              <a:pt x="299" y="280"/>
                            </a:lnTo>
                            <a:lnTo>
                              <a:pt x="260" y="282"/>
                            </a:lnTo>
                            <a:lnTo>
                              <a:pt x="220" y="285"/>
                            </a:lnTo>
                            <a:lnTo>
                              <a:pt x="185" y="285"/>
                            </a:lnTo>
                            <a:lnTo>
                              <a:pt x="145" y="288"/>
                            </a:lnTo>
                            <a:lnTo>
                              <a:pt x="110" y="293"/>
                            </a:lnTo>
                            <a:lnTo>
                              <a:pt x="71" y="300"/>
                            </a:lnTo>
                            <a:lnTo>
                              <a:pt x="35" y="316"/>
                            </a:lnTo>
                            <a:lnTo>
                              <a:pt x="0" y="336"/>
                            </a:lnTo>
                            <a:lnTo>
                              <a:pt x="0" y="336"/>
                            </a:lnTo>
                            <a:lnTo>
                              <a:pt x="0" y="334"/>
                            </a:lnTo>
                            <a:close/>
                          </a:path>
                        </a:pathLst>
                      </a:custGeom>
                      <a:solidFill>
                        <a:srgbClr val="003636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88" name=""/>
                      <p:cNvSpPr/>
                      <p:nvPr/>
                    </p:nvSpPr>
                    <p:spPr>
                      <a:xfrm>
                        <a:off x="3541320" y="5167080"/>
                        <a:ext cx="9720" cy="6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7" h="33">
                            <a:moveTo>
                              <a:pt x="67" y="10"/>
                            </a:moveTo>
                            <a:lnTo>
                              <a:pt x="67" y="10"/>
                            </a:lnTo>
                            <a:lnTo>
                              <a:pt x="67" y="7"/>
                            </a:lnTo>
                            <a:lnTo>
                              <a:pt x="67" y="7"/>
                            </a:lnTo>
                            <a:lnTo>
                              <a:pt x="63" y="5"/>
                            </a:lnTo>
                            <a:lnTo>
                              <a:pt x="63" y="5"/>
                            </a:lnTo>
                            <a:lnTo>
                              <a:pt x="63" y="5"/>
                            </a:lnTo>
                            <a:lnTo>
                              <a:pt x="63" y="2"/>
                            </a:lnTo>
                            <a:lnTo>
                              <a:pt x="63" y="2"/>
                            </a:lnTo>
                            <a:lnTo>
                              <a:pt x="63" y="0"/>
                            </a:lnTo>
                            <a:lnTo>
                              <a:pt x="59" y="0"/>
                            </a:lnTo>
                            <a:lnTo>
                              <a:pt x="0" y="15"/>
                            </a:lnTo>
                            <a:lnTo>
                              <a:pt x="20" y="33"/>
                            </a:lnTo>
                            <a:lnTo>
                              <a:pt x="67" y="10"/>
                            </a:lnTo>
                            <a:lnTo>
                              <a:pt x="67" y="10"/>
                            </a:lnTo>
                            <a:close/>
                          </a:path>
                        </a:pathLst>
                      </a:custGeom>
                      <a:solidFill>
                        <a:srgbClr val="003636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89" name=""/>
                      <p:cNvSpPr/>
                      <p:nvPr/>
                    </p:nvSpPr>
                    <p:spPr>
                      <a:xfrm>
                        <a:off x="2570760" y="5064840"/>
                        <a:ext cx="180360" cy="137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04" h="720">
                            <a:moveTo>
                              <a:pt x="924" y="458"/>
                            </a:moveTo>
                            <a:lnTo>
                              <a:pt x="1019" y="424"/>
                            </a:lnTo>
                            <a:lnTo>
                              <a:pt x="960" y="386"/>
                            </a:lnTo>
                            <a:lnTo>
                              <a:pt x="952" y="388"/>
                            </a:lnTo>
                            <a:lnTo>
                              <a:pt x="944" y="388"/>
                            </a:lnTo>
                            <a:lnTo>
                              <a:pt x="936" y="391"/>
                            </a:lnTo>
                            <a:lnTo>
                              <a:pt x="932" y="393"/>
                            </a:lnTo>
                            <a:lnTo>
                              <a:pt x="924" y="396"/>
                            </a:lnTo>
                            <a:lnTo>
                              <a:pt x="916" y="399"/>
                            </a:lnTo>
                            <a:lnTo>
                              <a:pt x="909" y="399"/>
                            </a:lnTo>
                            <a:lnTo>
                              <a:pt x="901" y="401"/>
                            </a:lnTo>
                            <a:lnTo>
                              <a:pt x="897" y="404"/>
                            </a:lnTo>
                            <a:lnTo>
                              <a:pt x="889" y="406"/>
                            </a:lnTo>
                            <a:lnTo>
                              <a:pt x="850" y="432"/>
                            </a:lnTo>
                            <a:lnTo>
                              <a:pt x="822" y="419"/>
                            </a:lnTo>
                            <a:lnTo>
                              <a:pt x="794" y="406"/>
                            </a:lnTo>
                            <a:lnTo>
                              <a:pt x="771" y="391"/>
                            </a:lnTo>
                            <a:lnTo>
                              <a:pt x="743" y="373"/>
                            </a:lnTo>
                            <a:lnTo>
                              <a:pt x="720" y="357"/>
                            </a:lnTo>
                            <a:lnTo>
                              <a:pt x="696" y="339"/>
                            </a:lnTo>
                            <a:lnTo>
                              <a:pt x="669" y="324"/>
                            </a:lnTo>
                            <a:lnTo>
                              <a:pt x="645" y="309"/>
                            </a:lnTo>
                            <a:lnTo>
                              <a:pt x="617" y="296"/>
                            </a:lnTo>
                            <a:lnTo>
                              <a:pt x="590" y="283"/>
                            </a:lnTo>
                            <a:lnTo>
                              <a:pt x="602" y="275"/>
                            </a:lnTo>
                            <a:lnTo>
                              <a:pt x="613" y="270"/>
                            </a:lnTo>
                            <a:lnTo>
                              <a:pt x="629" y="265"/>
                            </a:lnTo>
                            <a:lnTo>
                              <a:pt x="641" y="257"/>
                            </a:lnTo>
                            <a:lnTo>
                              <a:pt x="653" y="252"/>
                            </a:lnTo>
                            <a:lnTo>
                              <a:pt x="669" y="247"/>
                            </a:lnTo>
                            <a:lnTo>
                              <a:pt x="684" y="242"/>
                            </a:lnTo>
                            <a:lnTo>
                              <a:pt x="696" y="237"/>
                            </a:lnTo>
                            <a:lnTo>
                              <a:pt x="712" y="231"/>
                            </a:lnTo>
                            <a:lnTo>
                              <a:pt x="724" y="226"/>
                            </a:lnTo>
                            <a:lnTo>
                              <a:pt x="688" y="201"/>
                            </a:lnTo>
                            <a:lnTo>
                              <a:pt x="610" y="219"/>
                            </a:lnTo>
                            <a:lnTo>
                              <a:pt x="539" y="221"/>
                            </a:lnTo>
                            <a:lnTo>
                              <a:pt x="468" y="211"/>
                            </a:lnTo>
                            <a:lnTo>
                              <a:pt x="401" y="193"/>
                            </a:lnTo>
                            <a:lnTo>
                              <a:pt x="342" y="167"/>
                            </a:lnTo>
                            <a:lnTo>
                              <a:pt x="291" y="136"/>
                            </a:lnTo>
                            <a:lnTo>
                              <a:pt x="247" y="108"/>
                            </a:lnTo>
                            <a:lnTo>
                              <a:pt x="216" y="85"/>
                            </a:lnTo>
                            <a:lnTo>
                              <a:pt x="196" y="67"/>
                            </a:lnTo>
                            <a:lnTo>
                              <a:pt x="188" y="62"/>
                            </a:lnTo>
                            <a:lnTo>
                              <a:pt x="247" y="64"/>
                            </a:lnTo>
                            <a:lnTo>
                              <a:pt x="307" y="67"/>
                            </a:lnTo>
                            <a:lnTo>
                              <a:pt x="366" y="67"/>
                            </a:lnTo>
                            <a:lnTo>
                              <a:pt x="425" y="67"/>
                            </a:lnTo>
                            <a:lnTo>
                              <a:pt x="480" y="64"/>
                            </a:lnTo>
                            <a:lnTo>
                              <a:pt x="535" y="59"/>
                            </a:lnTo>
                            <a:lnTo>
                              <a:pt x="590" y="57"/>
                            </a:lnTo>
                            <a:lnTo>
                              <a:pt x="645" y="52"/>
                            </a:lnTo>
                            <a:lnTo>
                              <a:pt x="700" y="46"/>
                            </a:lnTo>
                            <a:lnTo>
                              <a:pt x="755" y="41"/>
                            </a:lnTo>
                            <a:lnTo>
                              <a:pt x="810" y="13"/>
                            </a:lnTo>
                            <a:lnTo>
                              <a:pt x="728" y="16"/>
                            </a:lnTo>
                            <a:lnTo>
                              <a:pt x="641" y="21"/>
                            </a:lnTo>
                            <a:lnTo>
                              <a:pt x="558" y="23"/>
                            </a:lnTo>
                            <a:lnTo>
                              <a:pt x="476" y="23"/>
                            </a:lnTo>
                            <a:lnTo>
                              <a:pt x="393" y="26"/>
                            </a:lnTo>
                            <a:lnTo>
                              <a:pt x="314" y="23"/>
                            </a:lnTo>
                            <a:lnTo>
                              <a:pt x="232" y="21"/>
                            </a:lnTo>
                            <a:lnTo>
                              <a:pt x="153" y="18"/>
                            </a:lnTo>
                            <a:lnTo>
                              <a:pt x="74" y="10"/>
                            </a:lnTo>
                            <a:lnTo>
                              <a:pt x="0" y="0"/>
                            </a:lnTo>
                            <a:lnTo>
                              <a:pt x="11" y="8"/>
                            </a:lnTo>
                            <a:lnTo>
                              <a:pt x="39" y="28"/>
                            </a:lnTo>
                            <a:lnTo>
                              <a:pt x="78" y="57"/>
                            </a:lnTo>
                            <a:lnTo>
                              <a:pt x="133" y="95"/>
                            </a:lnTo>
                            <a:lnTo>
                              <a:pt x="188" y="134"/>
                            </a:lnTo>
                            <a:lnTo>
                              <a:pt x="247" y="175"/>
                            </a:lnTo>
                            <a:lnTo>
                              <a:pt x="299" y="211"/>
                            </a:lnTo>
                            <a:lnTo>
                              <a:pt x="346" y="242"/>
                            </a:lnTo>
                            <a:lnTo>
                              <a:pt x="381" y="262"/>
                            </a:lnTo>
                            <a:lnTo>
                              <a:pt x="401" y="273"/>
                            </a:lnTo>
                            <a:lnTo>
                              <a:pt x="488" y="314"/>
                            </a:lnTo>
                            <a:lnTo>
                              <a:pt x="574" y="355"/>
                            </a:lnTo>
                            <a:lnTo>
                              <a:pt x="661" y="399"/>
                            </a:lnTo>
                            <a:lnTo>
                              <a:pt x="743" y="442"/>
                            </a:lnTo>
                            <a:lnTo>
                              <a:pt x="826" y="486"/>
                            </a:lnTo>
                            <a:lnTo>
                              <a:pt x="909" y="532"/>
                            </a:lnTo>
                            <a:lnTo>
                              <a:pt x="987" y="578"/>
                            </a:lnTo>
                            <a:lnTo>
                              <a:pt x="1062" y="625"/>
                            </a:lnTo>
                            <a:lnTo>
                              <a:pt x="1137" y="674"/>
                            </a:lnTo>
                            <a:lnTo>
                              <a:pt x="1204" y="720"/>
                            </a:lnTo>
                            <a:lnTo>
                              <a:pt x="1204" y="630"/>
                            </a:lnTo>
                            <a:lnTo>
                              <a:pt x="1172" y="612"/>
                            </a:lnTo>
                            <a:lnTo>
                              <a:pt x="1145" y="594"/>
                            </a:lnTo>
                            <a:lnTo>
                              <a:pt x="1113" y="576"/>
                            </a:lnTo>
                            <a:lnTo>
                              <a:pt x="1086" y="558"/>
                            </a:lnTo>
                            <a:lnTo>
                              <a:pt x="1058" y="540"/>
                            </a:lnTo>
                            <a:lnTo>
                              <a:pt x="1031" y="524"/>
                            </a:lnTo>
                            <a:lnTo>
                              <a:pt x="1003" y="506"/>
                            </a:lnTo>
                            <a:lnTo>
                              <a:pt x="976" y="488"/>
                            </a:lnTo>
                            <a:lnTo>
                              <a:pt x="952" y="473"/>
                            </a:lnTo>
                            <a:lnTo>
                              <a:pt x="928" y="458"/>
                            </a:lnTo>
                            <a:lnTo>
                              <a:pt x="928" y="458"/>
                            </a:lnTo>
                            <a:lnTo>
                              <a:pt x="924" y="458"/>
                            </a:lnTo>
                            <a:close/>
                          </a:path>
                        </a:pathLst>
                      </a:custGeom>
                      <a:solidFill>
                        <a:srgbClr val="003636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90" name=""/>
                      <p:cNvSpPr/>
                      <p:nvPr/>
                    </p:nvSpPr>
                    <p:spPr>
                      <a:xfrm>
                        <a:off x="2618640" y="4565520"/>
                        <a:ext cx="1130400" cy="1014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548" h="5315">
                            <a:moveTo>
                              <a:pt x="7391" y="3135"/>
                            </a:moveTo>
                            <a:lnTo>
                              <a:pt x="7367" y="3133"/>
                            </a:lnTo>
                            <a:lnTo>
                              <a:pt x="7344" y="3130"/>
                            </a:lnTo>
                            <a:lnTo>
                              <a:pt x="7316" y="3125"/>
                            </a:lnTo>
                            <a:lnTo>
                              <a:pt x="7292" y="3117"/>
                            </a:lnTo>
                            <a:lnTo>
                              <a:pt x="7269" y="3110"/>
                            </a:lnTo>
                            <a:lnTo>
                              <a:pt x="7245" y="3099"/>
                            </a:lnTo>
                            <a:lnTo>
                              <a:pt x="7222" y="3087"/>
                            </a:lnTo>
                            <a:lnTo>
                              <a:pt x="7206" y="3074"/>
                            </a:lnTo>
                            <a:lnTo>
                              <a:pt x="7190" y="3061"/>
                            </a:lnTo>
                            <a:lnTo>
                              <a:pt x="7178" y="3048"/>
                            </a:lnTo>
                            <a:lnTo>
                              <a:pt x="7108" y="2405"/>
                            </a:lnTo>
                            <a:lnTo>
                              <a:pt x="7131" y="2274"/>
                            </a:lnTo>
                            <a:lnTo>
                              <a:pt x="7147" y="2141"/>
                            </a:lnTo>
                            <a:lnTo>
                              <a:pt x="7155" y="2005"/>
                            </a:lnTo>
                            <a:lnTo>
                              <a:pt x="7163" y="1871"/>
                            </a:lnTo>
                            <a:lnTo>
                              <a:pt x="7174" y="1737"/>
                            </a:lnTo>
                            <a:lnTo>
                              <a:pt x="7190" y="1606"/>
                            </a:lnTo>
                            <a:lnTo>
                              <a:pt x="7214" y="1475"/>
                            </a:lnTo>
                            <a:lnTo>
                              <a:pt x="7253" y="1349"/>
                            </a:lnTo>
                            <a:lnTo>
                              <a:pt x="7304" y="1223"/>
                            </a:lnTo>
                            <a:lnTo>
                              <a:pt x="7371" y="1105"/>
                            </a:lnTo>
                            <a:lnTo>
                              <a:pt x="7391" y="1064"/>
                            </a:lnTo>
                            <a:lnTo>
                              <a:pt x="7411" y="1020"/>
                            </a:lnTo>
                            <a:lnTo>
                              <a:pt x="7430" y="979"/>
                            </a:lnTo>
                            <a:lnTo>
                              <a:pt x="7446" y="935"/>
                            </a:lnTo>
                            <a:lnTo>
                              <a:pt x="7466" y="892"/>
                            </a:lnTo>
                            <a:lnTo>
                              <a:pt x="7485" y="853"/>
                            </a:lnTo>
                            <a:lnTo>
                              <a:pt x="7501" y="815"/>
                            </a:lnTo>
                            <a:lnTo>
                              <a:pt x="7521" y="779"/>
                            </a:lnTo>
                            <a:lnTo>
                              <a:pt x="7536" y="745"/>
                            </a:lnTo>
                            <a:lnTo>
                              <a:pt x="7548" y="719"/>
                            </a:lnTo>
                            <a:lnTo>
                              <a:pt x="7352" y="925"/>
                            </a:lnTo>
                            <a:lnTo>
                              <a:pt x="6745" y="1665"/>
                            </a:lnTo>
                            <a:lnTo>
                              <a:pt x="6702" y="1642"/>
                            </a:lnTo>
                            <a:lnTo>
                              <a:pt x="6655" y="1622"/>
                            </a:lnTo>
                            <a:lnTo>
                              <a:pt x="6612" y="1601"/>
                            </a:lnTo>
                            <a:lnTo>
                              <a:pt x="6564" y="1580"/>
                            </a:lnTo>
                            <a:lnTo>
                              <a:pt x="6525" y="1562"/>
                            </a:lnTo>
                            <a:lnTo>
                              <a:pt x="6486" y="1547"/>
                            </a:lnTo>
                            <a:lnTo>
                              <a:pt x="6454" y="1534"/>
                            </a:lnTo>
                            <a:lnTo>
                              <a:pt x="6427" y="1524"/>
                            </a:lnTo>
                            <a:lnTo>
                              <a:pt x="6411" y="1519"/>
                            </a:lnTo>
                            <a:lnTo>
                              <a:pt x="6407" y="1516"/>
                            </a:lnTo>
                            <a:lnTo>
                              <a:pt x="6305" y="1460"/>
                            </a:lnTo>
                            <a:lnTo>
                              <a:pt x="6198" y="1401"/>
                            </a:lnTo>
                            <a:lnTo>
                              <a:pt x="6096" y="1339"/>
                            </a:lnTo>
                            <a:lnTo>
                              <a:pt x="5990" y="1275"/>
                            </a:lnTo>
                            <a:lnTo>
                              <a:pt x="5884" y="1210"/>
                            </a:lnTo>
                            <a:lnTo>
                              <a:pt x="5777" y="1146"/>
                            </a:lnTo>
                            <a:lnTo>
                              <a:pt x="5675" y="1079"/>
                            </a:lnTo>
                            <a:lnTo>
                              <a:pt x="5577" y="1015"/>
                            </a:lnTo>
                            <a:lnTo>
                              <a:pt x="5478" y="951"/>
                            </a:lnTo>
                            <a:lnTo>
                              <a:pt x="5384" y="889"/>
                            </a:lnTo>
                            <a:lnTo>
                              <a:pt x="5404" y="887"/>
                            </a:lnTo>
                            <a:lnTo>
                              <a:pt x="5423" y="884"/>
                            </a:lnTo>
                            <a:lnTo>
                              <a:pt x="5447" y="884"/>
                            </a:lnTo>
                            <a:lnTo>
                              <a:pt x="5466" y="881"/>
                            </a:lnTo>
                            <a:lnTo>
                              <a:pt x="5490" y="881"/>
                            </a:lnTo>
                            <a:lnTo>
                              <a:pt x="5510" y="879"/>
                            </a:lnTo>
                            <a:lnTo>
                              <a:pt x="5529" y="876"/>
                            </a:lnTo>
                            <a:lnTo>
                              <a:pt x="5549" y="874"/>
                            </a:lnTo>
                            <a:lnTo>
                              <a:pt x="5561" y="869"/>
                            </a:lnTo>
                            <a:lnTo>
                              <a:pt x="5573" y="863"/>
                            </a:lnTo>
                            <a:lnTo>
                              <a:pt x="5573" y="853"/>
                            </a:lnTo>
                            <a:lnTo>
                              <a:pt x="5577" y="843"/>
                            </a:lnTo>
                            <a:lnTo>
                              <a:pt x="5577" y="835"/>
                            </a:lnTo>
                            <a:lnTo>
                              <a:pt x="5577" y="827"/>
                            </a:lnTo>
                            <a:lnTo>
                              <a:pt x="5577" y="820"/>
                            </a:lnTo>
                            <a:lnTo>
                              <a:pt x="5573" y="815"/>
                            </a:lnTo>
                            <a:lnTo>
                              <a:pt x="5569" y="807"/>
                            </a:lnTo>
                            <a:lnTo>
                              <a:pt x="5561" y="802"/>
                            </a:lnTo>
                            <a:lnTo>
                              <a:pt x="5553" y="797"/>
                            </a:lnTo>
                            <a:lnTo>
                              <a:pt x="5541" y="789"/>
                            </a:lnTo>
                            <a:lnTo>
                              <a:pt x="5533" y="794"/>
                            </a:lnTo>
                            <a:lnTo>
                              <a:pt x="5514" y="794"/>
                            </a:lnTo>
                            <a:lnTo>
                              <a:pt x="5490" y="794"/>
                            </a:lnTo>
                            <a:lnTo>
                              <a:pt x="5466" y="794"/>
                            </a:lnTo>
                            <a:lnTo>
                              <a:pt x="5435" y="791"/>
                            </a:lnTo>
                            <a:lnTo>
                              <a:pt x="5407" y="791"/>
                            </a:lnTo>
                            <a:lnTo>
                              <a:pt x="5380" y="791"/>
                            </a:lnTo>
                            <a:lnTo>
                              <a:pt x="5352" y="791"/>
                            </a:lnTo>
                            <a:lnTo>
                              <a:pt x="5329" y="797"/>
                            </a:lnTo>
                            <a:lnTo>
                              <a:pt x="5313" y="802"/>
                            </a:lnTo>
                            <a:lnTo>
                              <a:pt x="5215" y="776"/>
                            </a:lnTo>
                            <a:lnTo>
                              <a:pt x="5112" y="753"/>
                            </a:lnTo>
                            <a:lnTo>
                              <a:pt x="5010" y="727"/>
                            </a:lnTo>
                            <a:lnTo>
                              <a:pt x="4908" y="701"/>
                            </a:lnTo>
                            <a:lnTo>
                              <a:pt x="4805" y="676"/>
                            </a:lnTo>
                            <a:lnTo>
                              <a:pt x="4699" y="648"/>
                            </a:lnTo>
                            <a:lnTo>
                              <a:pt x="4597" y="619"/>
                            </a:lnTo>
                            <a:lnTo>
                              <a:pt x="4491" y="591"/>
                            </a:lnTo>
                            <a:lnTo>
                              <a:pt x="4388" y="560"/>
                            </a:lnTo>
                            <a:lnTo>
                              <a:pt x="4290" y="529"/>
                            </a:lnTo>
                            <a:lnTo>
                              <a:pt x="4250" y="10"/>
                            </a:lnTo>
                            <a:lnTo>
                              <a:pt x="4101" y="0"/>
                            </a:lnTo>
                            <a:lnTo>
                              <a:pt x="4026" y="41"/>
                            </a:lnTo>
                            <a:lnTo>
                              <a:pt x="3947" y="69"/>
                            </a:lnTo>
                            <a:lnTo>
                              <a:pt x="3861" y="82"/>
                            </a:lnTo>
                            <a:lnTo>
                              <a:pt x="3770" y="90"/>
                            </a:lnTo>
                            <a:lnTo>
                              <a:pt x="3680" y="92"/>
                            </a:lnTo>
                            <a:lnTo>
                              <a:pt x="3589" y="95"/>
                            </a:lnTo>
                            <a:lnTo>
                              <a:pt x="3499" y="100"/>
                            </a:lnTo>
                            <a:lnTo>
                              <a:pt x="3412" y="113"/>
                            </a:lnTo>
                            <a:lnTo>
                              <a:pt x="3330" y="136"/>
                            </a:lnTo>
                            <a:lnTo>
                              <a:pt x="3251" y="175"/>
                            </a:lnTo>
                            <a:lnTo>
                              <a:pt x="3550" y="221"/>
                            </a:lnTo>
                            <a:lnTo>
                              <a:pt x="3526" y="239"/>
                            </a:lnTo>
                            <a:lnTo>
                              <a:pt x="3499" y="257"/>
                            </a:lnTo>
                            <a:lnTo>
                              <a:pt x="3471" y="272"/>
                            </a:lnTo>
                            <a:lnTo>
                              <a:pt x="3444" y="290"/>
                            </a:lnTo>
                            <a:lnTo>
                              <a:pt x="3420" y="308"/>
                            </a:lnTo>
                            <a:lnTo>
                              <a:pt x="3393" y="326"/>
                            </a:lnTo>
                            <a:lnTo>
                              <a:pt x="3369" y="344"/>
                            </a:lnTo>
                            <a:lnTo>
                              <a:pt x="3345" y="362"/>
                            </a:lnTo>
                            <a:lnTo>
                              <a:pt x="3322" y="383"/>
                            </a:lnTo>
                            <a:lnTo>
                              <a:pt x="3306" y="406"/>
                            </a:lnTo>
                            <a:lnTo>
                              <a:pt x="3341" y="401"/>
                            </a:lnTo>
                            <a:lnTo>
                              <a:pt x="3377" y="393"/>
                            </a:lnTo>
                            <a:lnTo>
                              <a:pt x="3412" y="385"/>
                            </a:lnTo>
                            <a:lnTo>
                              <a:pt x="3444" y="375"/>
                            </a:lnTo>
                            <a:lnTo>
                              <a:pt x="3475" y="365"/>
                            </a:lnTo>
                            <a:lnTo>
                              <a:pt x="3507" y="357"/>
                            </a:lnTo>
                            <a:lnTo>
                              <a:pt x="3538" y="347"/>
                            </a:lnTo>
                            <a:lnTo>
                              <a:pt x="3574" y="339"/>
                            </a:lnTo>
                            <a:lnTo>
                              <a:pt x="3609" y="337"/>
                            </a:lnTo>
                            <a:lnTo>
                              <a:pt x="3644" y="334"/>
                            </a:lnTo>
                            <a:lnTo>
                              <a:pt x="3699" y="339"/>
                            </a:lnTo>
                            <a:lnTo>
                              <a:pt x="3759" y="344"/>
                            </a:lnTo>
                            <a:lnTo>
                              <a:pt x="3818" y="347"/>
                            </a:lnTo>
                            <a:lnTo>
                              <a:pt x="3873" y="349"/>
                            </a:lnTo>
                            <a:lnTo>
                              <a:pt x="3932" y="349"/>
                            </a:lnTo>
                            <a:lnTo>
                              <a:pt x="3987" y="347"/>
                            </a:lnTo>
                            <a:lnTo>
                              <a:pt x="4042" y="344"/>
                            </a:lnTo>
                            <a:lnTo>
                              <a:pt x="4097" y="337"/>
                            </a:lnTo>
                            <a:lnTo>
                              <a:pt x="4148" y="329"/>
                            </a:lnTo>
                            <a:lnTo>
                              <a:pt x="4195" y="319"/>
                            </a:lnTo>
                            <a:lnTo>
                              <a:pt x="4195" y="545"/>
                            </a:lnTo>
                            <a:lnTo>
                              <a:pt x="4113" y="578"/>
                            </a:lnTo>
                            <a:lnTo>
                              <a:pt x="4030" y="614"/>
                            </a:lnTo>
                            <a:lnTo>
                              <a:pt x="3943" y="650"/>
                            </a:lnTo>
                            <a:lnTo>
                              <a:pt x="3861" y="686"/>
                            </a:lnTo>
                            <a:lnTo>
                              <a:pt x="3770" y="717"/>
                            </a:lnTo>
                            <a:lnTo>
                              <a:pt x="3684" y="743"/>
                            </a:lnTo>
                            <a:lnTo>
                              <a:pt x="3589" y="763"/>
                            </a:lnTo>
                            <a:lnTo>
                              <a:pt x="3495" y="776"/>
                            </a:lnTo>
                            <a:lnTo>
                              <a:pt x="3393" y="781"/>
                            </a:lnTo>
                            <a:lnTo>
                              <a:pt x="3290" y="776"/>
                            </a:lnTo>
                            <a:lnTo>
                              <a:pt x="3286" y="804"/>
                            </a:lnTo>
                            <a:lnTo>
                              <a:pt x="3294" y="820"/>
                            </a:lnTo>
                            <a:lnTo>
                              <a:pt x="3310" y="830"/>
                            </a:lnTo>
                            <a:lnTo>
                              <a:pt x="3334" y="833"/>
                            </a:lnTo>
                            <a:lnTo>
                              <a:pt x="3357" y="830"/>
                            </a:lnTo>
                            <a:lnTo>
                              <a:pt x="3385" y="825"/>
                            </a:lnTo>
                            <a:lnTo>
                              <a:pt x="3412" y="822"/>
                            </a:lnTo>
                            <a:lnTo>
                              <a:pt x="3440" y="822"/>
                            </a:lnTo>
                            <a:lnTo>
                              <a:pt x="3459" y="827"/>
                            </a:lnTo>
                            <a:lnTo>
                              <a:pt x="3479" y="838"/>
                            </a:lnTo>
                            <a:lnTo>
                              <a:pt x="3440" y="851"/>
                            </a:lnTo>
                            <a:lnTo>
                              <a:pt x="3393" y="879"/>
                            </a:lnTo>
                            <a:lnTo>
                              <a:pt x="3341" y="917"/>
                            </a:lnTo>
                            <a:lnTo>
                              <a:pt x="3294" y="964"/>
                            </a:lnTo>
                            <a:lnTo>
                              <a:pt x="3251" y="1020"/>
                            </a:lnTo>
                            <a:lnTo>
                              <a:pt x="3215" y="1079"/>
                            </a:lnTo>
                            <a:lnTo>
                              <a:pt x="3196" y="1144"/>
                            </a:lnTo>
                            <a:lnTo>
                              <a:pt x="3192" y="1208"/>
                            </a:lnTo>
                            <a:lnTo>
                              <a:pt x="3208" y="1269"/>
                            </a:lnTo>
                            <a:lnTo>
                              <a:pt x="3251" y="1331"/>
                            </a:lnTo>
                            <a:lnTo>
                              <a:pt x="3385" y="1285"/>
                            </a:lnTo>
                            <a:lnTo>
                              <a:pt x="3389" y="1311"/>
                            </a:lnTo>
                            <a:lnTo>
                              <a:pt x="3393" y="1336"/>
                            </a:lnTo>
                            <a:lnTo>
                              <a:pt x="3400" y="1362"/>
                            </a:lnTo>
                            <a:lnTo>
                              <a:pt x="3408" y="1388"/>
                            </a:lnTo>
                            <a:lnTo>
                              <a:pt x="3420" y="1411"/>
                            </a:lnTo>
                            <a:lnTo>
                              <a:pt x="3432" y="1437"/>
                            </a:lnTo>
                            <a:lnTo>
                              <a:pt x="3444" y="1460"/>
                            </a:lnTo>
                            <a:lnTo>
                              <a:pt x="3459" y="1485"/>
                            </a:lnTo>
                            <a:lnTo>
                              <a:pt x="3475" y="1508"/>
                            </a:lnTo>
                            <a:lnTo>
                              <a:pt x="3495" y="1532"/>
                            </a:lnTo>
                            <a:lnTo>
                              <a:pt x="3448" y="1550"/>
                            </a:lnTo>
                            <a:lnTo>
                              <a:pt x="3400" y="1568"/>
                            </a:lnTo>
                            <a:lnTo>
                              <a:pt x="3353" y="1580"/>
                            </a:lnTo>
                            <a:lnTo>
                              <a:pt x="3306" y="1593"/>
                            </a:lnTo>
                            <a:lnTo>
                              <a:pt x="3263" y="1604"/>
                            </a:lnTo>
                            <a:lnTo>
                              <a:pt x="3227" y="1611"/>
                            </a:lnTo>
                            <a:lnTo>
                              <a:pt x="3196" y="1619"/>
                            </a:lnTo>
                            <a:lnTo>
                              <a:pt x="3176" y="1627"/>
                            </a:lnTo>
                            <a:lnTo>
                              <a:pt x="3168" y="1632"/>
                            </a:lnTo>
                            <a:lnTo>
                              <a:pt x="3172" y="1640"/>
                            </a:lnTo>
                            <a:lnTo>
                              <a:pt x="2889" y="1938"/>
                            </a:lnTo>
                            <a:lnTo>
                              <a:pt x="2625" y="1855"/>
                            </a:lnTo>
                            <a:lnTo>
                              <a:pt x="2578" y="1904"/>
                            </a:lnTo>
                            <a:lnTo>
                              <a:pt x="2605" y="1915"/>
                            </a:lnTo>
                            <a:lnTo>
                              <a:pt x="2633" y="1922"/>
                            </a:lnTo>
                            <a:lnTo>
                              <a:pt x="2657" y="1930"/>
                            </a:lnTo>
                            <a:lnTo>
                              <a:pt x="2684" y="1940"/>
                            </a:lnTo>
                            <a:lnTo>
                              <a:pt x="2708" y="1948"/>
                            </a:lnTo>
                            <a:lnTo>
                              <a:pt x="2735" y="1956"/>
                            </a:lnTo>
                            <a:lnTo>
                              <a:pt x="2759" y="1963"/>
                            </a:lnTo>
                            <a:lnTo>
                              <a:pt x="2783" y="1971"/>
                            </a:lnTo>
                            <a:lnTo>
                              <a:pt x="2810" y="1979"/>
                            </a:lnTo>
                            <a:lnTo>
                              <a:pt x="2834" y="1984"/>
                            </a:lnTo>
                            <a:lnTo>
                              <a:pt x="2798" y="1994"/>
                            </a:lnTo>
                            <a:lnTo>
                              <a:pt x="2763" y="1999"/>
                            </a:lnTo>
                            <a:lnTo>
                              <a:pt x="2727" y="2002"/>
                            </a:lnTo>
                            <a:lnTo>
                              <a:pt x="2692" y="2002"/>
                            </a:lnTo>
                            <a:lnTo>
                              <a:pt x="2657" y="1997"/>
                            </a:lnTo>
                            <a:lnTo>
                              <a:pt x="2621" y="1989"/>
                            </a:lnTo>
                            <a:lnTo>
                              <a:pt x="2590" y="1981"/>
                            </a:lnTo>
                            <a:lnTo>
                              <a:pt x="2554" y="1969"/>
                            </a:lnTo>
                            <a:lnTo>
                              <a:pt x="2523" y="1956"/>
                            </a:lnTo>
                            <a:lnTo>
                              <a:pt x="2491" y="1943"/>
                            </a:lnTo>
                            <a:lnTo>
                              <a:pt x="2389" y="1956"/>
                            </a:lnTo>
                            <a:lnTo>
                              <a:pt x="2393" y="1956"/>
                            </a:lnTo>
                            <a:lnTo>
                              <a:pt x="2397" y="1958"/>
                            </a:lnTo>
                            <a:lnTo>
                              <a:pt x="2397" y="1958"/>
                            </a:lnTo>
                            <a:lnTo>
                              <a:pt x="2401" y="1961"/>
                            </a:lnTo>
                            <a:lnTo>
                              <a:pt x="2405" y="1963"/>
                            </a:lnTo>
                            <a:lnTo>
                              <a:pt x="2405" y="1963"/>
                            </a:lnTo>
                            <a:lnTo>
                              <a:pt x="2409" y="1966"/>
                            </a:lnTo>
                            <a:lnTo>
                              <a:pt x="2413" y="1969"/>
                            </a:lnTo>
                            <a:lnTo>
                              <a:pt x="2413" y="1971"/>
                            </a:lnTo>
                            <a:lnTo>
                              <a:pt x="2417" y="1974"/>
                            </a:lnTo>
                            <a:lnTo>
                              <a:pt x="2322" y="1974"/>
                            </a:lnTo>
                            <a:lnTo>
                              <a:pt x="2322" y="1953"/>
                            </a:lnTo>
                            <a:lnTo>
                              <a:pt x="2208" y="1930"/>
                            </a:lnTo>
                            <a:lnTo>
                              <a:pt x="2208" y="1935"/>
                            </a:lnTo>
                            <a:lnTo>
                              <a:pt x="2208" y="1938"/>
                            </a:lnTo>
                            <a:lnTo>
                              <a:pt x="2204" y="1940"/>
                            </a:lnTo>
                            <a:lnTo>
                              <a:pt x="2204" y="1945"/>
                            </a:lnTo>
                            <a:lnTo>
                              <a:pt x="2204" y="1948"/>
                            </a:lnTo>
                            <a:lnTo>
                              <a:pt x="2200" y="1951"/>
                            </a:lnTo>
                            <a:lnTo>
                              <a:pt x="2200" y="1953"/>
                            </a:lnTo>
                            <a:lnTo>
                              <a:pt x="2200" y="1958"/>
                            </a:lnTo>
                            <a:lnTo>
                              <a:pt x="2196" y="1961"/>
                            </a:lnTo>
                            <a:lnTo>
                              <a:pt x="2196" y="1963"/>
                            </a:lnTo>
                            <a:lnTo>
                              <a:pt x="1889" y="1948"/>
                            </a:lnTo>
                            <a:lnTo>
                              <a:pt x="1968" y="1912"/>
                            </a:lnTo>
                            <a:lnTo>
                              <a:pt x="1822" y="1920"/>
                            </a:lnTo>
                            <a:lnTo>
                              <a:pt x="1755" y="1948"/>
                            </a:lnTo>
                            <a:lnTo>
                              <a:pt x="1724" y="1945"/>
                            </a:lnTo>
                            <a:lnTo>
                              <a:pt x="1055" y="2313"/>
                            </a:lnTo>
                            <a:lnTo>
                              <a:pt x="1039" y="2344"/>
                            </a:lnTo>
                            <a:lnTo>
                              <a:pt x="1023" y="2372"/>
                            </a:lnTo>
                            <a:lnTo>
                              <a:pt x="1008" y="2403"/>
                            </a:lnTo>
                            <a:lnTo>
                              <a:pt x="992" y="2434"/>
                            </a:lnTo>
                            <a:lnTo>
                              <a:pt x="976" y="2462"/>
                            </a:lnTo>
                            <a:lnTo>
                              <a:pt x="960" y="2493"/>
                            </a:lnTo>
                            <a:lnTo>
                              <a:pt x="949" y="2524"/>
                            </a:lnTo>
                            <a:lnTo>
                              <a:pt x="933" y="2554"/>
                            </a:lnTo>
                            <a:lnTo>
                              <a:pt x="917" y="2585"/>
                            </a:lnTo>
                            <a:lnTo>
                              <a:pt x="905" y="2616"/>
                            </a:lnTo>
                            <a:lnTo>
                              <a:pt x="862" y="2616"/>
                            </a:lnTo>
                            <a:lnTo>
                              <a:pt x="823" y="2616"/>
                            </a:lnTo>
                            <a:lnTo>
                              <a:pt x="779" y="2616"/>
                            </a:lnTo>
                            <a:lnTo>
                              <a:pt x="740" y="2619"/>
                            </a:lnTo>
                            <a:lnTo>
                              <a:pt x="697" y="2619"/>
                            </a:lnTo>
                            <a:lnTo>
                              <a:pt x="657" y="2621"/>
                            </a:lnTo>
                            <a:lnTo>
                              <a:pt x="614" y="2624"/>
                            </a:lnTo>
                            <a:lnTo>
                              <a:pt x="571" y="2624"/>
                            </a:lnTo>
                            <a:lnTo>
                              <a:pt x="532" y="2626"/>
                            </a:lnTo>
                            <a:lnTo>
                              <a:pt x="488" y="2629"/>
                            </a:lnTo>
                            <a:lnTo>
                              <a:pt x="433" y="2657"/>
                            </a:lnTo>
                            <a:lnTo>
                              <a:pt x="480" y="2655"/>
                            </a:lnTo>
                            <a:lnTo>
                              <a:pt x="524" y="2652"/>
                            </a:lnTo>
                            <a:lnTo>
                              <a:pt x="571" y="2650"/>
                            </a:lnTo>
                            <a:lnTo>
                              <a:pt x="614" y="2647"/>
                            </a:lnTo>
                            <a:lnTo>
                              <a:pt x="657" y="2647"/>
                            </a:lnTo>
                            <a:lnTo>
                              <a:pt x="705" y="2647"/>
                            </a:lnTo>
                            <a:lnTo>
                              <a:pt x="752" y="2650"/>
                            </a:lnTo>
                            <a:lnTo>
                              <a:pt x="795" y="2652"/>
                            </a:lnTo>
                            <a:lnTo>
                              <a:pt x="842" y="2657"/>
                            </a:lnTo>
                            <a:lnTo>
                              <a:pt x="890" y="2662"/>
                            </a:lnTo>
                            <a:lnTo>
                              <a:pt x="838" y="2678"/>
                            </a:lnTo>
                            <a:lnTo>
                              <a:pt x="783" y="2693"/>
                            </a:lnTo>
                            <a:lnTo>
                              <a:pt x="728" y="2709"/>
                            </a:lnTo>
                            <a:lnTo>
                              <a:pt x="673" y="2724"/>
                            </a:lnTo>
                            <a:lnTo>
                              <a:pt x="614" y="2742"/>
                            </a:lnTo>
                            <a:lnTo>
                              <a:pt x="559" y="2758"/>
                            </a:lnTo>
                            <a:lnTo>
                              <a:pt x="504" y="2776"/>
                            </a:lnTo>
                            <a:lnTo>
                              <a:pt x="445" y="2791"/>
                            </a:lnTo>
                            <a:lnTo>
                              <a:pt x="390" y="2806"/>
                            </a:lnTo>
                            <a:lnTo>
                              <a:pt x="339" y="2819"/>
                            </a:lnTo>
                            <a:lnTo>
                              <a:pt x="402" y="2842"/>
                            </a:lnTo>
                            <a:lnTo>
                              <a:pt x="449" y="2829"/>
                            </a:lnTo>
                            <a:lnTo>
                              <a:pt x="492" y="2817"/>
                            </a:lnTo>
                            <a:lnTo>
                              <a:pt x="539" y="2806"/>
                            </a:lnTo>
                            <a:lnTo>
                              <a:pt x="587" y="2794"/>
                            </a:lnTo>
                            <a:lnTo>
                              <a:pt x="634" y="2783"/>
                            </a:lnTo>
                            <a:lnTo>
                              <a:pt x="685" y="2773"/>
                            </a:lnTo>
                            <a:lnTo>
                              <a:pt x="732" y="2760"/>
                            </a:lnTo>
                            <a:lnTo>
                              <a:pt x="779" y="2750"/>
                            </a:lnTo>
                            <a:lnTo>
                              <a:pt x="827" y="2737"/>
                            </a:lnTo>
                            <a:lnTo>
                              <a:pt x="874" y="2724"/>
                            </a:lnTo>
                            <a:lnTo>
                              <a:pt x="898" y="2768"/>
                            </a:lnTo>
                            <a:lnTo>
                              <a:pt x="909" y="2809"/>
                            </a:lnTo>
                            <a:lnTo>
                              <a:pt x="905" y="2842"/>
                            </a:lnTo>
                            <a:lnTo>
                              <a:pt x="890" y="2876"/>
                            </a:lnTo>
                            <a:lnTo>
                              <a:pt x="862" y="2901"/>
                            </a:lnTo>
                            <a:lnTo>
                              <a:pt x="827" y="2927"/>
                            </a:lnTo>
                            <a:lnTo>
                              <a:pt x="783" y="2948"/>
                            </a:lnTo>
                            <a:lnTo>
                              <a:pt x="740" y="2968"/>
                            </a:lnTo>
                            <a:lnTo>
                              <a:pt x="689" y="2984"/>
                            </a:lnTo>
                            <a:lnTo>
                              <a:pt x="638" y="3002"/>
                            </a:lnTo>
                            <a:lnTo>
                              <a:pt x="697" y="3040"/>
                            </a:lnTo>
                            <a:lnTo>
                              <a:pt x="890" y="2971"/>
                            </a:lnTo>
                            <a:lnTo>
                              <a:pt x="894" y="2981"/>
                            </a:lnTo>
                            <a:lnTo>
                              <a:pt x="909" y="3009"/>
                            </a:lnTo>
                            <a:lnTo>
                              <a:pt x="933" y="3051"/>
                            </a:lnTo>
                            <a:lnTo>
                              <a:pt x="960" y="3102"/>
                            </a:lnTo>
                            <a:lnTo>
                              <a:pt x="992" y="3158"/>
                            </a:lnTo>
                            <a:lnTo>
                              <a:pt x="1027" y="3218"/>
                            </a:lnTo>
                            <a:lnTo>
                              <a:pt x="1059" y="3272"/>
                            </a:lnTo>
                            <a:lnTo>
                              <a:pt x="1086" y="3318"/>
                            </a:lnTo>
                            <a:lnTo>
                              <a:pt x="1110" y="3351"/>
                            </a:lnTo>
                            <a:lnTo>
                              <a:pt x="1126" y="3369"/>
                            </a:lnTo>
                            <a:lnTo>
                              <a:pt x="1130" y="3372"/>
                            </a:lnTo>
                            <a:lnTo>
                              <a:pt x="1130" y="3372"/>
                            </a:lnTo>
                            <a:lnTo>
                              <a:pt x="1134" y="3374"/>
                            </a:lnTo>
                            <a:lnTo>
                              <a:pt x="1138" y="3374"/>
                            </a:lnTo>
                            <a:lnTo>
                              <a:pt x="1142" y="3377"/>
                            </a:lnTo>
                            <a:lnTo>
                              <a:pt x="1145" y="3377"/>
                            </a:lnTo>
                            <a:lnTo>
                              <a:pt x="1149" y="3377"/>
                            </a:lnTo>
                            <a:lnTo>
                              <a:pt x="1149" y="3379"/>
                            </a:lnTo>
                            <a:lnTo>
                              <a:pt x="1153" y="3379"/>
                            </a:lnTo>
                            <a:lnTo>
                              <a:pt x="1157" y="3382"/>
                            </a:lnTo>
                            <a:lnTo>
                              <a:pt x="1153" y="3382"/>
                            </a:lnTo>
                            <a:lnTo>
                              <a:pt x="1149" y="3379"/>
                            </a:lnTo>
                            <a:lnTo>
                              <a:pt x="1145" y="3379"/>
                            </a:lnTo>
                            <a:lnTo>
                              <a:pt x="1142" y="3377"/>
                            </a:lnTo>
                            <a:lnTo>
                              <a:pt x="1138" y="3377"/>
                            </a:lnTo>
                            <a:lnTo>
                              <a:pt x="1138" y="3374"/>
                            </a:lnTo>
                            <a:lnTo>
                              <a:pt x="1134" y="3374"/>
                            </a:lnTo>
                            <a:lnTo>
                              <a:pt x="1130" y="3372"/>
                            </a:lnTo>
                            <a:lnTo>
                              <a:pt x="1126" y="3372"/>
                            </a:lnTo>
                            <a:lnTo>
                              <a:pt x="1126" y="3369"/>
                            </a:lnTo>
                            <a:lnTo>
                              <a:pt x="1102" y="3359"/>
                            </a:lnTo>
                            <a:lnTo>
                              <a:pt x="1079" y="3349"/>
                            </a:lnTo>
                            <a:lnTo>
                              <a:pt x="1051" y="3336"/>
                            </a:lnTo>
                            <a:lnTo>
                              <a:pt x="1027" y="3326"/>
                            </a:lnTo>
                            <a:lnTo>
                              <a:pt x="1004" y="3313"/>
                            </a:lnTo>
                            <a:lnTo>
                              <a:pt x="980" y="3300"/>
                            </a:lnTo>
                            <a:lnTo>
                              <a:pt x="953" y="3287"/>
                            </a:lnTo>
                            <a:lnTo>
                              <a:pt x="929" y="3274"/>
                            </a:lnTo>
                            <a:lnTo>
                              <a:pt x="905" y="3259"/>
                            </a:lnTo>
                            <a:lnTo>
                              <a:pt x="882" y="3246"/>
                            </a:lnTo>
                            <a:lnTo>
                              <a:pt x="882" y="3336"/>
                            </a:lnTo>
                            <a:lnTo>
                              <a:pt x="890" y="3341"/>
                            </a:lnTo>
                            <a:lnTo>
                              <a:pt x="898" y="3346"/>
                            </a:lnTo>
                            <a:lnTo>
                              <a:pt x="901" y="3351"/>
                            </a:lnTo>
                            <a:lnTo>
                              <a:pt x="909" y="3354"/>
                            </a:lnTo>
                            <a:lnTo>
                              <a:pt x="913" y="3359"/>
                            </a:lnTo>
                            <a:lnTo>
                              <a:pt x="921" y="3364"/>
                            </a:lnTo>
                            <a:lnTo>
                              <a:pt x="925" y="3369"/>
                            </a:lnTo>
                            <a:lnTo>
                              <a:pt x="933" y="3372"/>
                            </a:lnTo>
                            <a:lnTo>
                              <a:pt x="937" y="3377"/>
                            </a:lnTo>
                            <a:lnTo>
                              <a:pt x="945" y="3382"/>
                            </a:lnTo>
                            <a:lnTo>
                              <a:pt x="937" y="3382"/>
                            </a:lnTo>
                            <a:lnTo>
                              <a:pt x="933" y="3382"/>
                            </a:lnTo>
                            <a:lnTo>
                              <a:pt x="925" y="3382"/>
                            </a:lnTo>
                            <a:lnTo>
                              <a:pt x="921" y="3382"/>
                            </a:lnTo>
                            <a:lnTo>
                              <a:pt x="913" y="3379"/>
                            </a:lnTo>
                            <a:lnTo>
                              <a:pt x="909" y="3379"/>
                            </a:lnTo>
                            <a:lnTo>
                              <a:pt x="901" y="3379"/>
                            </a:lnTo>
                            <a:lnTo>
                              <a:pt x="898" y="3379"/>
                            </a:lnTo>
                            <a:lnTo>
                              <a:pt x="890" y="3379"/>
                            </a:lnTo>
                            <a:lnTo>
                              <a:pt x="886" y="3379"/>
                            </a:lnTo>
                            <a:lnTo>
                              <a:pt x="898" y="3917"/>
                            </a:lnTo>
                            <a:lnTo>
                              <a:pt x="1035" y="3937"/>
                            </a:lnTo>
                            <a:lnTo>
                              <a:pt x="1767" y="3413"/>
                            </a:lnTo>
                            <a:lnTo>
                              <a:pt x="1744" y="3410"/>
                            </a:lnTo>
                            <a:lnTo>
                              <a:pt x="1704" y="3408"/>
                            </a:lnTo>
                            <a:lnTo>
                              <a:pt x="1657" y="3405"/>
                            </a:lnTo>
                            <a:lnTo>
                              <a:pt x="1598" y="3400"/>
                            </a:lnTo>
                            <a:lnTo>
                              <a:pt x="1539" y="3395"/>
                            </a:lnTo>
                            <a:lnTo>
                              <a:pt x="1476" y="3390"/>
                            </a:lnTo>
                            <a:lnTo>
                              <a:pt x="1421" y="3387"/>
                            </a:lnTo>
                            <a:lnTo>
                              <a:pt x="1370" y="3382"/>
                            </a:lnTo>
                            <a:lnTo>
                              <a:pt x="1334" y="3379"/>
                            </a:lnTo>
                            <a:lnTo>
                              <a:pt x="1311" y="3379"/>
                            </a:lnTo>
                            <a:lnTo>
                              <a:pt x="1307" y="3292"/>
                            </a:lnTo>
                            <a:lnTo>
                              <a:pt x="1346" y="3238"/>
                            </a:lnTo>
                            <a:lnTo>
                              <a:pt x="1421" y="3207"/>
                            </a:lnTo>
                            <a:lnTo>
                              <a:pt x="1527" y="3200"/>
                            </a:lnTo>
                            <a:lnTo>
                              <a:pt x="1649" y="3210"/>
                            </a:lnTo>
                            <a:lnTo>
                              <a:pt x="1783" y="3233"/>
                            </a:lnTo>
                            <a:lnTo>
                              <a:pt x="1917" y="3264"/>
                            </a:lnTo>
                            <a:lnTo>
                              <a:pt x="2043" y="3300"/>
                            </a:lnTo>
                            <a:lnTo>
                              <a:pt x="2149" y="3336"/>
                            </a:lnTo>
                            <a:lnTo>
                              <a:pt x="2228" y="3367"/>
                            </a:lnTo>
                            <a:lnTo>
                              <a:pt x="2236" y="3374"/>
                            </a:lnTo>
                            <a:lnTo>
                              <a:pt x="2243" y="3382"/>
                            </a:lnTo>
                            <a:lnTo>
                              <a:pt x="2247" y="3390"/>
                            </a:lnTo>
                            <a:lnTo>
                              <a:pt x="2251" y="3397"/>
                            </a:lnTo>
                            <a:lnTo>
                              <a:pt x="2251" y="3408"/>
                            </a:lnTo>
                            <a:lnTo>
                              <a:pt x="2251" y="3418"/>
                            </a:lnTo>
                            <a:lnTo>
                              <a:pt x="2251" y="3428"/>
                            </a:lnTo>
                            <a:lnTo>
                              <a:pt x="2247" y="3436"/>
                            </a:lnTo>
                            <a:lnTo>
                              <a:pt x="2251" y="3446"/>
                            </a:lnTo>
                            <a:lnTo>
                              <a:pt x="2251" y="3454"/>
                            </a:lnTo>
                            <a:lnTo>
                              <a:pt x="2224" y="3451"/>
                            </a:lnTo>
                            <a:lnTo>
                              <a:pt x="2192" y="3451"/>
                            </a:lnTo>
                            <a:lnTo>
                              <a:pt x="2161" y="3449"/>
                            </a:lnTo>
                            <a:lnTo>
                              <a:pt x="2125" y="3446"/>
                            </a:lnTo>
                            <a:lnTo>
                              <a:pt x="2090" y="3444"/>
                            </a:lnTo>
                            <a:lnTo>
                              <a:pt x="2055" y="3441"/>
                            </a:lnTo>
                            <a:lnTo>
                              <a:pt x="2019" y="3439"/>
                            </a:lnTo>
                            <a:lnTo>
                              <a:pt x="1984" y="3433"/>
                            </a:lnTo>
                            <a:lnTo>
                              <a:pt x="1948" y="3431"/>
                            </a:lnTo>
                            <a:lnTo>
                              <a:pt x="1913" y="3428"/>
                            </a:lnTo>
                            <a:lnTo>
                              <a:pt x="2039" y="3552"/>
                            </a:lnTo>
                            <a:lnTo>
                              <a:pt x="2039" y="3541"/>
                            </a:lnTo>
                            <a:lnTo>
                              <a:pt x="2114" y="3536"/>
                            </a:lnTo>
                            <a:lnTo>
                              <a:pt x="2169" y="3544"/>
                            </a:lnTo>
                            <a:lnTo>
                              <a:pt x="2208" y="3565"/>
                            </a:lnTo>
                            <a:lnTo>
                              <a:pt x="2232" y="3590"/>
                            </a:lnTo>
                            <a:lnTo>
                              <a:pt x="2247" y="3619"/>
                            </a:lnTo>
                            <a:lnTo>
                              <a:pt x="2255" y="3649"/>
                            </a:lnTo>
                            <a:lnTo>
                              <a:pt x="2259" y="3678"/>
                            </a:lnTo>
                            <a:lnTo>
                              <a:pt x="2255" y="3703"/>
                            </a:lnTo>
                            <a:lnTo>
                              <a:pt x="2251" y="3719"/>
                            </a:lnTo>
                            <a:lnTo>
                              <a:pt x="2251" y="3726"/>
                            </a:lnTo>
                            <a:lnTo>
                              <a:pt x="2354" y="3742"/>
                            </a:lnTo>
                            <a:lnTo>
                              <a:pt x="2346" y="3716"/>
                            </a:lnTo>
                            <a:lnTo>
                              <a:pt x="2338" y="3690"/>
                            </a:lnTo>
                            <a:lnTo>
                              <a:pt x="2338" y="3660"/>
                            </a:lnTo>
                            <a:lnTo>
                              <a:pt x="2342" y="3631"/>
                            </a:lnTo>
                            <a:lnTo>
                              <a:pt x="2346" y="3601"/>
                            </a:lnTo>
                            <a:lnTo>
                              <a:pt x="2350" y="3570"/>
                            </a:lnTo>
                            <a:lnTo>
                              <a:pt x="2354" y="3539"/>
                            </a:lnTo>
                            <a:lnTo>
                              <a:pt x="2354" y="3508"/>
                            </a:lnTo>
                            <a:lnTo>
                              <a:pt x="2350" y="3480"/>
                            </a:lnTo>
                            <a:lnTo>
                              <a:pt x="2346" y="3454"/>
                            </a:lnTo>
                            <a:lnTo>
                              <a:pt x="2460" y="3513"/>
                            </a:lnTo>
                            <a:lnTo>
                              <a:pt x="2582" y="3572"/>
                            </a:lnTo>
                            <a:lnTo>
                              <a:pt x="2708" y="3629"/>
                            </a:lnTo>
                            <a:lnTo>
                              <a:pt x="2830" y="3685"/>
                            </a:lnTo>
                            <a:lnTo>
                              <a:pt x="2956" y="3742"/>
                            </a:lnTo>
                            <a:lnTo>
                              <a:pt x="3078" y="3801"/>
                            </a:lnTo>
                            <a:lnTo>
                              <a:pt x="3196" y="3860"/>
                            </a:lnTo>
                            <a:lnTo>
                              <a:pt x="3310" y="3924"/>
                            </a:lnTo>
                            <a:lnTo>
                              <a:pt x="3412" y="3991"/>
                            </a:lnTo>
                            <a:lnTo>
                              <a:pt x="3511" y="4063"/>
                            </a:lnTo>
                            <a:lnTo>
                              <a:pt x="3660" y="4045"/>
                            </a:lnTo>
                            <a:lnTo>
                              <a:pt x="3640" y="4019"/>
                            </a:lnTo>
                            <a:lnTo>
                              <a:pt x="3625" y="3994"/>
                            </a:lnTo>
                            <a:lnTo>
                              <a:pt x="3613" y="3968"/>
                            </a:lnTo>
                            <a:lnTo>
                              <a:pt x="3601" y="3940"/>
                            </a:lnTo>
                            <a:lnTo>
                              <a:pt x="3585" y="3911"/>
                            </a:lnTo>
                            <a:lnTo>
                              <a:pt x="3578" y="3886"/>
                            </a:lnTo>
                            <a:lnTo>
                              <a:pt x="3566" y="3858"/>
                            </a:lnTo>
                            <a:lnTo>
                              <a:pt x="3554" y="3829"/>
                            </a:lnTo>
                            <a:lnTo>
                              <a:pt x="3546" y="3801"/>
                            </a:lnTo>
                            <a:lnTo>
                              <a:pt x="3534" y="3773"/>
                            </a:lnTo>
                            <a:lnTo>
                              <a:pt x="3585" y="3775"/>
                            </a:lnTo>
                            <a:lnTo>
                              <a:pt x="3633" y="3786"/>
                            </a:lnTo>
                            <a:lnTo>
                              <a:pt x="3672" y="3798"/>
                            </a:lnTo>
                            <a:lnTo>
                              <a:pt x="3707" y="3816"/>
                            </a:lnTo>
                            <a:lnTo>
                              <a:pt x="3743" y="3840"/>
                            </a:lnTo>
                            <a:lnTo>
                              <a:pt x="3770" y="3863"/>
                            </a:lnTo>
                            <a:lnTo>
                              <a:pt x="3798" y="3888"/>
                            </a:lnTo>
                            <a:lnTo>
                              <a:pt x="3821" y="3917"/>
                            </a:lnTo>
                            <a:lnTo>
                              <a:pt x="3845" y="3942"/>
                            </a:lnTo>
                            <a:lnTo>
                              <a:pt x="3869" y="3971"/>
                            </a:lnTo>
                            <a:lnTo>
                              <a:pt x="3920" y="3914"/>
                            </a:lnTo>
                            <a:lnTo>
                              <a:pt x="3908" y="3901"/>
                            </a:lnTo>
                            <a:lnTo>
                              <a:pt x="3900" y="3888"/>
                            </a:lnTo>
                            <a:lnTo>
                              <a:pt x="3888" y="3876"/>
                            </a:lnTo>
                            <a:lnTo>
                              <a:pt x="3881" y="3863"/>
                            </a:lnTo>
                            <a:lnTo>
                              <a:pt x="3869" y="3850"/>
                            </a:lnTo>
                            <a:lnTo>
                              <a:pt x="3861" y="3837"/>
                            </a:lnTo>
                            <a:lnTo>
                              <a:pt x="3849" y="3824"/>
                            </a:lnTo>
                            <a:lnTo>
                              <a:pt x="3841" y="3811"/>
                            </a:lnTo>
                            <a:lnTo>
                              <a:pt x="3829" y="3798"/>
                            </a:lnTo>
                            <a:lnTo>
                              <a:pt x="3818" y="3788"/>
                            </a:lnTo>
                            <a:lnTo>
                              <a:pt x="3668" y="3490"/>
                            </a:lnTo>
                            <a:lnTo>
                              <a:pt x="3715" y="3508"/>
                            </a:lnTo>
                            <a:lnTo>
                              <a:pt x="3766" y="3521"/>
                            </a:lnTo>
                            <a:lnTo>
                              <a:pt x="3821" y="3534"/>
                            </a:lnTo>
                            <a:lnTo>
                              <a:pt x="3873" y="3547"/>
                            </a:lnTo>
                            <a:lnTo>
                              <a:pt x="3924" y="3562"/>
                            </a:lnTo>
                            <a:lnTo>
                              <a:pt x="3975" y="3577"/>
                            </a:lnTo>
                            <a:lnTo>
                              <a:pt x="4022" y="3595"/>
                            </a:lnTo>
                            <a:lnTo>
                              <a:pt x="4065" y="3616"/>
                            </a:lnTo>
                            <a:lnTo>
                              <a:pt x="4105" y="3642"/>
                            </a:lnTo>
                            <a:lnTo>
                              <a:pt x="4140" y="3675"/>
                            </a:lnTo>
                            <a:lnTo>
                              <a:pt x="4113" y="3847"/>
                            </a:lnTo>
                            <a:lnTo>
                              <a:pt x="4290" y="3886"/>
                            </a:lnTo>
                            <a:lnTo>
                              <a:pt x="4274" y="3711"/>
                            </a:lnTo>
                            <a:lnTo>
                              <a:pt x="4699" y="3894"/>
                            </a:lnTo>
                            <a:lnTo>
                              <a:pt x="5915" y="3310"/>
                            </a:lnTo>
                            <a:lnTo>
                              <a:pt x="5876" y="3318"/>
                            </a:lnTo>
                            <a:lnTo>
                              <a:pt x="5840" y="3323"/>
                            </a:lnTo>
                            <a:lnTo>
                              <a:pt x="5805" y="3326"/>
                            </a:lnTo>
                            <a:lnTo>
                              <a:pt x="5770" y="3331"/>
                            </a:lnTo>
                            <a:lnTo>
                              <a:pt x="5734" y="3336"/>
                            </a:lnTo>
                            <a:lnTo>
                              <a:pt x="5699" y="3341"/>
                            </a:lnTo>
                            <a:lnTo>
                              <a:pt x="5663" y="3349"/>
                            </a:lnTo>
                            <a:lnTo>
                              <a:pt x="5628" y="3354"/>
                            </a:lnTo>
                            <a:lnTo>
                              <a:pt x="5592" y="3359"/>
                            </a:lnTo>
                            <a:lnTo>
                              <a:pt x="5557" y="3367"/>
                            </a:lnTo>
                            <a:lnTo>
                              <a:pt x="5502" y="3320"/>
                            </a:lnTo>
                            <a:lnTo>
                              <a:pt x="5506" y="3318"/>
                            </a:lnTo>
                            <a:lnTo>
                              <a:pt x="5510" y="3315"/>
                            </a:lnTo>
                            <a:lnTo>
                              <a:pt x="5514" y="3313"/>
                            </a:lnTo>
                            <a:lnTo>
                              <a:pt x="5518" y="3310"/>
                            </a:lnTo>
                            <a:lnTo>
                              <a:pt x="5522" y="3308"/>
                            </a:lnTo>
                            <a:lnTo>
                              <a:pt x="5522" y="3308"/>
                            </a:lnTo>
                            <a:lnTo>
                              <a:pt x="5526" y="3305"/>
                            </a:lnTo>
                            <a:lnTo>
                              <a:pt x="5529" y="3302"/>
                            </a:lnTo>
                            <a:lnTo>
                              <a:pt x="5533" y="3300"/>
                            </a:lnTo>
                            <a:lnTo>
                              <a:pt x="5537" y="3297"/>
                            </a:lnTo>
                            <a:lnTo>
                              <a:pt x="5388" y="3310"/>
                            </a:lnTo>
                            <a:lnTo>
                              <a:pt x="5396" y="3318"/>
                            </a:lnTo>
                            <a:lnTo>
                              <a:pt x="5404" y="3328"/>
                            </a:lnTo>
                            <a:lnTo>
                              <a:pt x="5407" y="3336"/>
                            </a:lnTo>
                            <a:lnTo>
                              <a:pt x="5415" y="3346"/>
                            </a:lnTo>
                            <a:lnTo>
                              <a:pt x="5419" y="3354"/>
                            </a:lnTo>
                            <a:lnTo>
                              <a:pt x="5427" y="3364"/>
                            </a:lnTo>
                            <a:lnTo>
                              <a:pt x="5431" y="3374"/>
                            </a:lnTo>
                            <a:lnTo>
                              <a:pt x="5435" y="3382"/>
                            </a:lnTo>
                            <a:lnTo>
                              <a:pt x="5435" y="3392"/>
                            </a:lnTo>
                            <a:lnTo>
                              <a:pt x="5439" y="3403"/>
                            </a:lnTo>
                            <a:lnTo>
                              <a:pt x="5415" y="3408"/>
                            </a:lnTo>
                            <a:lnTo>
                              <a:pt x="5392" y="3413"/>
                            </a:lnTo>
                            <a:lnTo>
                              <a:pt x="5368" y="3415"/>
                            </a:lnTo>
                            <a:lnTo>
                              <a:pt x="5341" y="3418"/>
                            </a:lnTo>
                            <a:lnTo>
                              <a:pt x="5313" y="3418"/>
                            </a:lnTo>
                            <a:lnTo>
                              <a:pt x="5285" y="3418"/>
                            </a:lnTo>
                            <a:lnTo>
                              <a:pt x="5258" y="3418"/>
                            </a:lnTo>
                            <a:lnTo>
                              <a:pt x="5230" y="3415"/>
                            </a:lnTo>
                            <a:lnTo>
                              <a:pt x="5207" y="3418"/>
                            </a:lnTo>
                            <a:lnTo>
                              <a:pt x="5179" y="3418"/>
                            </a:lnTo>
                            <a:lnTo>
                              <a:pt x="5171" y="3408"/>
                            </a:lnTo>
                            <a:lnTo>
                              <a:pt x="5163" y="3395"/>
                            </a:lnTo>
                            <a:lnTo>
                              <a:pt x="5156" y="3385"/>
                            </a:lnTo>
                            <a:lnTo>
                              <a:pt x="5152" y="3374"/>
                            </a:lnTo>
                            <a:lnTo>
                              <a:pt x="5144" y="3362"/>
                            </a:lnTo>
                            <a:lnTo>
                              <a:pt x="5140" y="3351"/>
                            </a:lnTo>
                            <a:lnTo>
                              <a:pt x="5136" y="3338"/>
                            </a:lnTo>
                            <a:lnTo>
                              <a:pt x="5136" y="3326"/>
                            </a:lnTo>
                            <a:lnTo>
                              <a:pt x="5132" y="3315"/>
                            </a:lnTo>
                            <a:lnTo>
                              <a:pt x="5128" y="3302"/>
                            </a:lnTo>
                            <a:lnTo>
                              <a:pt x="5136" y="3302"/>
                            </a:lnTo>
                            <a:lnTo>
                              <a:pt x="5148" y="3300"/>
                            </a:lnTo>
                            <a:lnTo>
                              <a:pt x="5156" y="3297"/>
                            </a:lnTo>
                            <a:lnTo>
                              <a:pt x="5167" y="3295"/>
                            </a:lnTo>
                            <a:lnTo>
                              <a:pt x="5179" y="3292"/>
                            </a:lnTo>
                            <a:lnTo>
                              <a:pt x="5187" y="3290"/>
                            </a:lnTo>
                            <a:lnTo>
                              <a:pt x="5199" y="3287"/>
                            </a:lnTo>
                            <a:lnTo>
                              <a:pt x="5207" y="3284"/>
                            </a:lnTo>
                            <a:lnTo>
                              <a:pt x="5219" y="3282"/>
                            </a:lnTo>
                            <a:lnTo>
                              <a:pt x="5222" y="3279"/>
                            </a:lnTo>
                            <a:lnTo>
                              <a:pt x="5191" y="3218"/>
                            </a:lnTo>
                            <a:lnTo>
                              <a:pt x="5183" y="3220"/>
                            </a:lnTo>
                            <a:lnTo>
                              <a:pt x="5175" y="3220"/>
                            </a:lnTo>
                            <a:lnTo>
                              <a:pt x="5171" y="3220"/>
                            </a:lnTo>
                            <a:lnTo>
                              <a:pt x="5163" y="3220"/>
                            </a:lnTo>
                            <a:lnTo>
                              <a:pt x="5156" y="3220"/>
                            </a:lnTo>
                            <a:lnTo>
                              <a:pt x="5152" y="3220"/>
                            </a:lnTo>
                            <a:lnTo>
                              <a:pt x="5144" y="3220"/>
                            </a:lnTo>
                            <a:lnTo>
                              <a:pt x="5136" y="3220"/>
                            </a:lnTo>
                            <a:lnTo>
                              <a:pt x="5132" y="3218"/>
                            </a:lnTo>
                            <a:lnTo>
                              <a:pt x="5124" y="3218"/>
                            </a:lnTo>
                            <a:lnTo>
                              <a:pt x="5108" y="3207"/>
                            </a:lnTo>
                            <a:lnTo>
                              <a:pt x="5097" y="3194"/>
                            </a:lnTo>
                            <a:lnTo>
                              <a:pt x="5089" y="3182"/>
                            </a:lnTo>
                            <a:lnTo>
                              <a:pt x="5085" y="3166"/>
                            </a:lnTo>
                            <a:lnTo>
                              <a:pt x="5085" y="3151"/>
                            </a:lnTo>
                            <a:lnTo>
                              <a:pt x="5089" y="3138"/>
                            </a:lnTo>
                            <a:lnTo>
                              <a:pt x="5097" y="3122"/>
                            </a:lnTo>
                            <a:lnTo>
                              <a:pt x="5108" y="3110"/>
                            </a:lnTo>
                            <a:lnTo>
                              <a:pt x="5124" y="3099"/>
                            </a:lnTo>
                            <a:lnTo>
                              <a:pt x="5140" y="3089"/>
                            </a:lnTo>
                            <a:lnTo>
                              <a:pt x="5128" y="3033"/>
                            </a:lnTo>
                            <a:lnTo>
                              <a:pt x="5085" y="3048"/>
                            </a:lnTo>
                            <a:lnTo>
                              <a:pt x="5061" y="2909"/>
                            </a:lnTo>
                            <a:lnTo>
                              <a:pt x="5065" y="2909"/>
                            </a:lnTo>
                            <a:lnTo>
                              <a:pt x="5069" y="2909"/>
                            </a:lnTo>
                            <a:lnTo>
                              <a:pt x="5069" y="2907"/>
                            </a:lnTo>
                            <a:lnTo>
                              <a:pt x="5073" y="2907"/>
                            </a:lnTo>
                            <a:lnTo>
                              <a:pt x="5077" y="2907"/>
                            </a:lnTo>
                            <a:lnTo>
                              <a:pt x="5081" y="2907"/>
                            </a:lnTo>
                            <a:lnTo>
                              <a:pt x="5081" y="2907"/>
                            </a:lnTo>
                            <a:lnTo>
                              <a:pt x="5085" y="2907"/>
                            </a:lnTo>
                            <a:lnTo>
                              <a:pt x="5089" y="2907"/>
                            </a:lnTo>
                            <a:lnTo>
                              <a:pt x="5089" y="2907"/>
                            </a:lnTo>
                            <a:lnTo>
                              <a:pt x="5061" y="2827"/>
                            </a:lnTo>
                            <a:lnTo>
                              <a:pt x="4963" y="2130"/>
                            </a:lnTo>
                            <a:lnTo>
                              <a:pt x="4959" y="2151"/>
                            </a:lnTo>
                            <a:lnTo>
                              <a:pt x="4951" y="2172"/>
                            </a:lnTo>
                            <a:lnTo>
                              <a:pt x="4943" y="2192"/>
                            </a:lnTo>
                            <a:lnTo>
                              <a:pt x="4939" y="2213"/>
                            </a:lnTo>
                            <a:lnTo>
                              <a:pt x="4931" y="2233"/>
                            </a:lnTo>
                            <a:lnTo>
                              <a:pt x="4923" y="2254"/>
                            </a:lnTo>
                            <a:lnTo>
                              <a:pt x="4919" y="2272"/>
                            </a:lnTo>
                            <a:lnTo>
                              <a:pt x="4912" y="2292"/>
                            </a:lnTo>
                            <a:lnTo>
                              <a:pt x="4904" y="2313"/>
                            </a:lnTo>
                            <a:lnTo>
                              <a:pt x="4896" y="2333"/>
                            </a:lnTo>
                            <a:lnTo>
                              <a:pt x="4904" y="2269"/>
                            </a:lnTo>
                            <a:lnTo>
                              <a:pt x="4908" y="2205"/>
                            </a:lnTo>
                            <a:lnTo>
                              <a:pt x="4912" y="2141"/>
                            </a:lnTo>
                            <a:lnTo>
                              <a:pt x="4916" y="2076"/>
                            </a:lnTo>
                            <a:lnTo>
                              <a:pt x="4919" y="2012"/>
                            </a:lnTo>
                            <a:lnTo>
                              <a:pt x="4927" y="1948"/>
                            </a:lnTo>
                            <a:lnTo>
                              <a:pt x="4939" y="1886"/>
                            </a:lnTo>
                            <a:lnTo>
                              <a:pt x="4959" y="1827"/>
                            </a:lnTo>
                            <a:lnTo>
                              <a:pt x="4986" y="1771"/>
                            </a:lnTo>
                            <a:lnTo>
                              <a:pt x="5030" y="1717"/>
                            </a:lnTo>
                            <a:lnTo>
                              <a:pt x="5140" y="1717"/>
                            </a:lnTo>
                            <a:lnTo>
                              <a:pt x="5144" y="1717"/>
                            </a:lnTo>
                            <a:lnTo>
                              <a:pt x="5148" y="1717"/>
                            </a:lnTo>
                            <a:lnTo>
                              <a:pt x="5152" y="1714"/>
                            </a:lnTo>
                            <a:lnTo>
                              <a:pt x="5156" y="1714"/>
                            </a:lnTo>
                            <a:lnTo>
                              <a:pt x="5163" y="1714"/>
                            </a:lnTo>
                            <a:lnTo>
                              <a:pt x="5167" y="1714"/>
                            </a:lnTo>
                            <a:lnTo>
                              <a:pt x="5175" y="1714"/>
                            </a:lnTo>
                            <a:lnTo>
                              <a:pt x="5179" y="1717"/>
                            </a:lnTo>
                            <a:lnTo>
                              <a:pt x="5187" y="1717"/>
                            </a:lnTo>
                            <a:lnTo>
                              <a:pt x="5195" y="1717"/>
                            </a:lnTo>
                            <a:lnTo>
                              <a:pt x="5140" y="1717"/>
                            </a:lnTo>
                            <a:lnTo>
                              <a:pt x="5116" y="1722"/>
                            </a:lnTo>
                            <a:lnTo>
                              <a:pt x="5104" y="1732"/>
                            </a:lnTo>
                            <a:lnTo>
                              <a:pt x="5100" y="1745"/>
                            </a:lnTo>
                            <a:lnTo>
                              <a:pt x="5104" y="1760"/>
                            </a:lnTo>
                            <a:lnTo>
                              <a:pt x="5108" y="1778"/>
                            </a:lnTo>
                            <a:lnTo>
                              <a:pt x="5116" y="1796"/>
                            </a:lnTo>
                            <a:lnTo>
                              <a:pt x="5120" y="1814"/>
                            </a:lnTo>
                            <a:lnTo>
                              <a:pt x="5120" y="1832"/>
                            </a:lnTo>
                            <a:lnTo>
                              <a:pt x="5116" y="1848"/>
                            </a:lnTo>
                            <a:lnTo>
                              <a:pt x="5100" y="1861"/>
                            </a:lnTo>
                            <a:lnTo>
                              <a:pt x="5085" y="1881"/>
                            </a:lnTo>
                            <a:lnTo>
                              <a:pt x="5069" y="1902"/>
                            </a:lnTo>
                            <a:lnTo>
                              <a:pt x="5053" y="1925"/>
                            </a:lnTo>
                            <a:lnTo>
                              <a:pt x="5041" y="1945"/>
                            </a:lnTo>
                            <a:lnTo>
                              <a:pt x="5030" y="1969"/>
                            </a:lnTo>
                            <a:lnTo>
                              <a:pt x="5018" y="1989"/>
                            </a:lnTo>
                            <a:lnTo>
                              <a:pt x="5010" y="2012"/>
                            </a:lnTo>
                            <a:lnTo>
                              <a:pt x="4998" y="2035"/>
                            </a:lnTo>
                            <a:lnTo>
                              <a:pt x="4990" y="2058"/>
                            </a:lnTo>
                            <a:lnTo>
                              <a:pt x="4982" y="2082"/>
                            </a:lnTo>
                            <a:lnTo>
                              <a:pt x="5097" y="2213"/>
                            </a:lnTo>
                            <a:lnTo>
                              <a:pt x="5108" y="2184"/>
                            </a:lnTo>
                            <a:lnTo>
                              <a:pt x="5116" y="2156"/>
                            </a:lnTo>
                            <a:lnTo>
                              <a:pt x="5120" y="2128"/>
                            </a:lnTo>
                            <a:lnTo>
                              <a:pt x="5124" y="2100"/>
                            </a:lnTo>
                            <a:lnTo>
                              <a:pt x="5128" y="2069"/>
                            </a:lnTo>
                            <a:lnTo>
                              <a:pt x="5136" y="2040"/>
                            </a:lnTo>
                            <a:lnTo>
                              <a:pt x="5144" y="2015"/>
                            </a:lnTo>
                            <a:lnTo>
                              <a:pt x="5156" y="1987"/>
                            </a:lnTo>
                            <a:lnTo>
                              <a:pt x="5171" y="1961"/>
                            </a:lnTo>
                            <a:lnTo>
                              <a:pt x="5195" y="1938"/>
                            </a:lnTo>
                            <a:lnTo>
                              <a:pt x="5565" y="2416"/>
                            </a:lnTo>
                            <a:lnTo>
                              <a:pt x="5632" y="2400"/>
                            </a:lnTo>
                            <a:lnTo>
                              <a:pt x="5588" y="2349"/>
                            </a:lnTo>
                            <a:lnTo>
                              <a:pt x="5545" y="2297"/>
                            </a:lnTo>
                            <a:lnTo>
                              <a:pt x="5506" y="2246"/>
                            </a:lnTo>
                            <a:lnTo>
                              <a:pt x="5463" y="2195"/>
                            </a:lnTo>
                            <a:lnTo>
                              <a:pt x="5423" y="2143"/>
                            </a:lnTo>
                            <a:lnTo>
                              <a:pt x="5384" y="2092"/>
                            </a:lnTo>
                            <a:lnTo>
                              <a:pt x="5348" y="2038"/>
                            </a:lnTo>
                            <a:lnTo>
                              <a:pt x="5313" y="1984"/>
                            </a:lnTo>
                            <a:lnTo>
                              <a:pt x="5282" y="1930"/>
                            </a:lnTo>
                            <a:lnTo>
                              <a:pt x="5250" y="1876"/>
                            </a:lnTo>
                            <a:lnTo>
                              <a:pt x="5683" y="2351"/>
                            </a:lnTo>
                            <a:lnTo>
                              <a:pt x="5699" y="2305"/>
                            </a:lnTo>
                            <a:lnTo>
                              <a:pt x="5648" y="2254"/>
                            </a:lnTo>
                            <a:lnTo>
                              <a:pt x="5596" y="2202"/>
                            </a:lnTo>
                            <a:lnTo>
                              <a:pt x="5553" y="2151"/>
                            </a:lnTo>
                            <a:lnTo>
                              <a:pt x="5506" y="2097"/>
                            </a:lnTo>
                            <a:lnTo>
                              <a:pt x="5463" y="2043"/>
                            </a:lnTo>
                            <a:lnTo>
                              <a:pt x="5427" y="1989"/>
                            </a:lnTo>
                            <a:lnTo>
                              <a:pt x="5392" y="1935"/>
                            </a:lnTo>
                            <a:lnTo>
                              <a:pt x="5360" y="1879"/>
                            </a:lnTo>
                            <a:lnTo>
                              <a:pt x="5333" y="1822"/>
                            </a:lnTo>
                            <a:lnTo>
                              <a:pt x="5313" y="1763"/>
                            </a:lnTo>
                            <a:lnTo>
                              <a:pt x="5333" y="1724"/>
                            </a:lnTo>
                            <a:lnTo>
                              <a:pt x="5360" y="1704"/>
                            </a:lnTo>
                            <a:lnTo>
                              <a:pt x="5392" y="1696"/>
                            </a:lnTo>
                            <a:lnTo>
                              <a:pt x="5431" y="1696"/>
                            </a:lnTo>
                            <a:lnTo>
                              <a:pt x="5470" y="1704"/>
                            </a:lnTo>
                            <a:lnTo>
                              <a:pt x="5510" y="1712"/>
                            </a:lnTo>
                            <a:lnTo>
                              <a:pt x="5549" y="1717"/>
                            </a:lnTo>
                            <a:lnTo>
                              <a:pt x="5581" y="1714"/>
                            </a:lnTo>
                            <a:lnTo>
                              <a:pt x="5608" y="1701"/>
                            </a:lnTo>
                            <a:lnTo>
                              <a:pt x="5628" y="1676"/>
                            </a:lnTo>
                            <a:lnTo>
                              <a:pt x="5592" y="1668"/>
                            </a:lnTo>
                            <a:lnTo>
                              <a:pt x="5557" y="1660"/>
                            </a:lnTo>
                            <a:lnTo>
                              <a:pt x="5526" y="1655"/>
                            </a:lnTo>
                            <a:lnTo>
                              <a:pt x="5494" y="1647"/>
                            </a:lnTo>
                            <a:lnTo>
                              <a:pt x="5466" y="1640"/>
                            </a:lnTo>
                            <a:lnTo>
                              <a:pt x="5439" y="1632"/>
                            </a:lnTo>
                            <a:lnTo>
                              <a:pt x="5415" y="1619"/>
                            </a:lnTo>
                            <a:lnTo>
                              <a:pt x="5396" y="1601"/>
                            </a:lnTo>
                            <a:lnTo>
                              <a:pt x="5380" y="1580"/>
                            </a:lnTo>
                            <a:lnTo>
                              <a:pt x="5368" y="1552"/>
                            </a:lnTo>
                            <a:lnTo>
                              <a:pt x="5352" y="1524"/>
                            </a:lnTo>
                            <a:lnTo>
                              <a:pt x="5337" y="1493"/>
                            </a:lnTo>
                            <a:lnTo>
                              <a:pt x="5329" y="1460"/>
                            </a:lnTo>
                            <a:lnTo>
                              <a:pt x="5317" y="1426"/>
                            </a:lnTo>
                            <a:lnTo>
                              <a:pt x="5313" y="1393"/>
                            </a:lnTo>
                            <a:lnTo>
                              <a:pt x="5305" y="1359"/>
                            </a:lnTo>
                            <a:lnTo>
                              <a:pt x="5305" y="1323"/>
                            </a:lnTo>
                            <a:lnTo>
                              <a:pt x="5301" y="1290"/>
                            </a:lnTo>
                            <a:lnTo>
                              <a:pt x="5305" y="1254"/>
                            </a:lnTo>
                            <a:lnTo>
                              <a:pt x="5305" y="1218"/>
                            </a:lnTo>
                            <a:lnTo>
                              <a:pt x="4601" y="799"/>
                            </a:lnTo>
                            <a:lnTo>
                              <a:pt x="4345" y="791"/>
                            </a:lnTo>
                            <a:lnTo>
                              <a:pt x="4333" y="786"/>
                            </a:lnTo>
                            <a:lnTo>
                              <a:pt x="4325" y="781"/>
                            </a:lnTo>
                            <a:lnTo>
                              <a:pt x="4317" y="776"/>
                            </a:lnTo>
                            <a:lnTo>
                              <a:pt x="4309" y="768"/>
                            </a:lnTo>
                            <a:lnTo>
                              <a:pt x="4306" y="763"/>
                            </a:lnTo>
                            <a:lnTo>
                              <a:pt x="4298" y="758"/>
                            </a:lnTo>
                            <a:lnTo>
                              <a:pt x="4294" y="750"/>
                            </a:lnTo>
                            <a:lnTo>
                              <a:pt x="4294" y="743"/>
                            </a:lnTo>
                            <a:lnTo>
                              <a:pt x="4290" y="737"/>
                            </a:lnTo>
                            <a:lnTo>
                              <a:pt x="4286" y="730"/>
                            </a:lnTo>
                            <a:lnTo>
                              <a:pt x="4172" y="727"/>
                            </a:lnTo>
                            <a:lnTo>
                              <a:pt x="4176" y="732"/>
                            </a:lnTo>
                            <a:lnTo>
                              <a:pt x="4176" y="740"/>
                            </a:lnTo>
                            <a:lnTo>
                              <a:pt x="4180" y="745"/>
                            </a:lnTo>
                            <a:lnTo>
                              <a:pt x="4180" y="750"/>
                            </a:lnTo>
                            <a:lnTo>
                              <a:pt x="4184" y="755"/>
                            </a:lnTo>
                            <a:lnTo>
                              <a:pt x="4187" y="758"/>
                            </a:lnTo>
                            <a:lnTo>
                              <a:pt x="4191" y="763"/>
                            </a:lnTo>
                            <a:lnTo>
                              <a:pt x="4199" y="768"/>
                            </a:lnTo>
                            <a:lnTo>
                              <a:pt x="4203" y="771"/>
                            </a:lnTo>
                            <a:lnTo>
                              <a:pt x="4211" y="776"/>
                            </a:lnTo>
                            <a:lnTo>
                              <a:pt x="4184" y="773"/>
                            </a:lnTo>
                            <a:lnTo>
                              <a:pt x="4152" y="773"/>
                            </a:lnTo>
                            <a:lnTo>
                              <a:pt x="4121" y="773"/>
                            </a:lnTo>
                            <a:lnTo>
                              <a:pt x="4089" y="773"/>
                            </a:lnTo>
                            <a:lnTo>
                              <a:pt x="4062" y="776"/>
                            </a:lnTo>
                            <a:lnTo>
                              <a:pt x="4030" y="776"/>
                            </a:lnTo>
                            <a:lnTo>
                              <a:pt x="3999" y="776"/>
                            </a:lnTo>
                            <a:lnTo>
                              <a:pt x="3967" y="776"/>
                            </a:lnTo>
                            <a:lnTo>
                              <a:pt x="3936" y="776"/>
                            </a:lnTo>
                            <a:lnTo>
                              <a:pt x="3908" y="771"/>
                            </a:lnTo>
                            <a:lnTo>
                              <a:pt x="3365" y="1051"/>
                            </a:lnTo>
                            <a:lnTo>
                              <a:pt x="3365" y="1064"/>
                            </a:lnTo>
                            <a:lnTo>
                              <a:pt x="3361" y="1077"/>
                            </a:lnTo>
                            <a:lnTo>
                              <a:pt x="3361" y="1092"/>
                            </a:lnTo>
                            <a:lnTo>
                              <a:pt x="3361" y="1105"/>
                            </a:lnTo>
                            <a:lnTo>
                              <a:pt x="3357" y="1118"/>
                            </a:lnTo>
                            <a:lnTo>
                              <a:pt x="3353" y="1131"/>
                            </a:lnTo>
                            <a:lnTo>
                              <a:pt x="3349" y="1144"/>
                            </a:lnTo>
                            <a:lnTo>
                              <a:pt x="3345" y="1156"/>
                            </a:lnTo>
                            <a:lnTo>
                              <a:pt x="3337" y="1169"/>
                            </a:lnTo>
                            <a:lnTo>
                              <a:pt x="3330" y="1182"/>
                            </a:lnTo>
                            <a:lnTo>
                              <a:pt x="3298" y="1164"/>
                            </a:lnTo>
                            <a:lnTo>
                              <a:pt x="3282" y="1146"/>
                            </a:lnTo>
                            <a:lnTo>
                              <a:pt x="3274" y="1126"/>
                            </a:lnTo>
                            <a:lnTo>
                              <a:pt x="3278" y="1102"/>
                            </a:lnTo>
                            <a:lnTo>
                              <a:pt x="3290" y="1082"/>
                            </a:lnTo>
                            <a:lnTo>
                              <a:pt x="3306" y="1059"/>
                            </a:lnTo>
                            <a:lnTo>
                              <a:pt x="3326" y="1036"/>
                            </a:lnTo>
                            <a:lnTo>
                              <a:pt x="3345" y="1015"/>
                            </a:lnTo>
                            <a:lnTo>
                              <a:pt x="3365" y="994"/>
                            </a:lnTo>
                            <a:lnTo>
                              <a:pt x="3385" y="976"/>
                            </a:lnTo>
                            <a:lnTo>
                              <a:pt x="3381" y="984"/>
                            </a:lnTo>
                            <a:lnTo>
                              <a:pt x="3377" y="989"/>
                            </a:lnTo>
                            <a:lnTo>
                              <a:pt x="3377" y="997"/>
                            </a:lnTo>
                            <a:lnTo>
                              <a:pt x="3373" y="1005"/>
                            </a:lnTo>
                            <a:lnTo>
                              <a:pt x="3373" y="1012"/>
                            </a:lnTo>
                            <a:lnTo>
                              <a:pt x="3369" y="1020"/>
                            </a:lnTo>
                            <a:lnTo>
                              <a:pt x="3369" y="1028"/>
                            </a:lnTo>
                            <a:lnTo>
                              <a:pt x="3369" y="1036"/>
                            </a:lnTo>
                            <a:lnTo>
                              <a:pt x="3365" y="1043"/>
                            </a:lnTo>
                            <a:lnTo>
                              <a:pt x="3365" y="1051"/>
                            </a:lnTo>
                            <a:lnTo>
                              <a:pt x="3908" y="771"/>
                            </a:lnTo>
                            <a:lnTo>
                              <a:pt x="3896" y="771"/>
                            </a:lnTo>
                            <a:lnTo>
                              <a:pt x="3888" y="768"/>
                            </a:lnTo>
                            <a:lnTo>
                              <a:pt x="3881" y="768"/>
                            </a:lnTo>
                            <a:lnTo>
                              <a:pt x="3869" y="766"/>
                            </a:lnTo>
                            <a:lnTo>
                              <a:pt x="3861" y="763"/>
                            </a:lnTo>
                            <a:lnTo>
                              <a:pt x="3853" y="761"/>
                            </a:lnTo>
                            <a:lnTo>
                              <a:pt x="3841" y="758"/>
                            </a:lnTo>
                            <a:lnTo>
                              <a:pt x="3833" y="755"/>
                            </a:lnTo>
                            <a:lnTo>
                              <a:pt x="3825" y="753"/>
                            </a:lnTo>
                            <a:lnTo>
                              <a:pt x="3818" y="750"/>
                            </a:lnTo>
                            <a:lnTo>
                              <a:pt x="3837" y="735"/>
                            </a:lnTo>
                            <a:lnTo>
                              <a:pt x="3865" y="722"/>
                            </a:lnTo>
                            <a:lnTo>
                              <a:pt x="3896" y="707"/>
                            </a:lnTo>
                            <a:lnTo>
                              <a:pt x="3932" y="691"/>
                            </a:lnTo>
                            <a:lnTo>
                              <a:pt x="3971" y="678"/>
                            </a:lnTo>
                            <a:lnTo>
                              <a:pt x="4010" y="663"/>
                            </a:lnTo>
                            <a:lnTo>
                              <a:pt x="4054" y="650"/>
                            </a:lnTo>
                            <a:lnTo>
                              <a:pt x="4097" y="637"/>
                            </a:lnTo>
                            <a:lnTo>
                              <a:pt x="4136" y="627"/>
                            </a:lnTo>
                            <a:lnTo>
                              <a:pt x="4180" y="617"/>
                            </a:lnTo>
                            <a:lnTo>
                              <a:pt x="4180" y="627"/>
                            </a:lnTo>
                            <a:lnTo>
                              <a:pt x="4180" y="637"/>
                            </a:lnTo>
                            <a:lnTo>
                              <a:pt x="4180" y="648"/>
                            </a:lnTo>
                            <a:lnTo>
                              <a:pt x="4176" y="660"/>
                            </a:lnTo>
                            <a:lnTo>
                              <a:pt x="4176" y="671"/>
                            </a:lnTo>
                            <a:lnTo>
                              <a:pt x="4172" y="683"/>
                            </a:lnTo>
                            <a:lnTo>
                              <a:pt x="4172" y="694"/>
                            </a:lnTo>
                            <a:lnTo>
                              <a:pt x="4172" y="707"/>
                            </a:lnTo>
                            <a:lnTo>
                              <a:pt x="4172" y="717"/>
                            </a:lnTo>
                            <a:lnTo>
                              <a:pt x="4172" y="727"/>
                            </a:lnTo>
                            <a:lnTo>
                              <a:pt x="4286" y="730"/>
                            </a:lnTo>
                            <a:lnTo>
                              <a:pt x="4286" y="717"/>
                            </a:lnTo>
                            <a:lnTo>
                              <a:pt x="4286" y="701"/>
                            </a:lnTo>
                            <a:lnTo>
                              <a:pt x="4286" y="689"/>
                            </a:lnTo>
                            <a:lnTo>
                              <a:pt x="4286" y="673"/>
                            </a:lnTo>
                            <a:lnTo>
                              <a:pt x="4290" y="660"/>
                            </a:lnTo>
                            <a:lnTo>
                              <a:pt x="4290" y="645"/>
                            </a:lnTo>
                            <a:lnTo>
                              <a:pt x="4290" y="632"/>
                            </a:lnTo>
                            <a:lnTo>
                              <a:pt x="4294" y="617"/>
                            </a:lnTo>
                            <a:lnTo>
                              <a:pt x="4290" y="604"/>
                            </a:lnTo>
                            <a:lnTo>
                              <a:pt x="4290" y="591"/>
                            </a:lnTo>
                            <a:lnTo>
                              <a:pt x="4372" y="614"/>
                            </a:lnTo>
                            <a:lnTo>
                              <a:pt x="4455" y="635"/>
                            </a:lnTo>
                            <a:lnTo>
                              <a:pt x="4538" y="658"/>
                            </a:lnTo>
                            <a:lnTo>
                              <a:pt x="4624" y="678"/>
                            </a:lnTo>
                            <a:lnTo>
                              <a:pt x="4707" y="699"/>
                            </a:lnTo>
                            <a:lnTo>
                              <a:pt x="4790" y="719"/>
                            </a:lnTo>
                            <a:lnTo>
                              <a:pt x="4872" y="743"/>
                            </a:lnTo>
                            <a:lnTo>
                              <a:pt x="4959" y="766"/>
                            </a:lnTo>
                            <a:lnTo>
                              <a:pt x="5041" y="789"/>
                            </a:lnTo>
                            <a:lnTo>
                              <a:pt x="5124" y="812"/>
                            </a:lnTo>
                            <a:lnTo>
                              <a:pt x="4601" y="799"/>
                            </a:lnTo>
                            <a:lnTo>
                              <a:pt x="5305" y="1218"/>
                            </a:lnTo>
                            <a:lnTo>
                              <a:pt x="5309" y="1198"/>
                            </a:lnTo>
                            <a:lnTo>
                              <a:pt x="5309" y="1174"/>
                            </a:lnTo>
                            <a:lnTo>
                              <a:pt x="5313" y="1154"/>
                            </a:lnTo>
                            <a:lnTo>
                              <a:pt x="5317" y="1133"/>
                            </a:lnTo>
                            <a:lnTo>
                              <a:pt x="5321" y="1113"/>
                            </a:lnTo>
                            <a:lnTo>
                              <a:pt x="5325" y="1092"/>
                            </a:lnTo>
                            <a:lnTo>
                              <a:pt x="5329" y="1072"/>
                            </a:lnTo>
                            <a:lnTo>
                              <a:pt x="5333" y="1051"/>
                            </a:lnTo>
                            <a:lnTo>
                              <a:pt x="5341" y="1030"/>
                            </a:lnTo>
                            <a:lnTo>
                              <a:pt x="5344" y="1012"/>
                            </a:lnTo>
                            <a:lnTo>
                              <a:pt x="5392" y="1043"/>
                            </a:lnTo>
                            <a:lnTo>
                              <a:pt x="5435" y="1074"/>
                            </a:lnTo>
                            <a:lnTo>
                              <a:pt x="5482" y="1108"/>
                            </a:lnTo>
                            <a:lnTo>
                              <a:pt x="5529" y="1138"/>
                            </a:lnTo>
                            <a:lnTo>
                              <a:pt x="5573" y="1172"/>
                            </a:lnTo>
                            <a:lnTo>
                              <a:pt x="5620" y="1203"/>
                            </a:lnTo>
                            <a:lnTo>
                              <a:pt x="5667" y="1236"/>
                            </a:lnTo>
                            <a:lnTo>
                              <a:pt x="5710" y="1269"/>
                            </a:lnTo>
                            <a:lnTo>
                              <a:pt x="5758" y="1303"/>
                            </a:lnTo>
                            <a:lnTo>
                              <a:pt x="5801" y="1336"/>
                            </a:lnTo>
                            <a:lnTo>
                              <a:pt x="5876" y="1334"/>
                            </a:lnTo>
                            <a:lnTo>
                              <a:pt x="5423" y="987"/>
                            </a:lnTo>
                            <a:lnTo>
                              <a:pt x="5518" y="1033"/>
                            </a:lnTo>
                            <a:lnTo>
                              <a:pt x="5612" y="1082"/>
                            </a:lnTo>
                            <a:lnTo>
                              <a:pt x="5703" y="1133"/>
                            </a:lnTo>
                            <a:lnTo>
                              <a:pt x="5793" y="1187"/>
                            </a:lnTo>
                            <a:lnTo>
                              <a:pt x="5884" y="1241"/>
                            </a:lnTo>
                            <a:lnTo>
                              <a:pt x="5974" y="1298"/>
                            </a:lnTo>
                            <a:lnTo>
                              <a:pt x="6061" y="1352"/>
                            </a:lnTo>
                            <a:lnTo>
                              <a:pt x="6151" y="1408"/>
                            </a:lnTo>
                            <a:lnTo>
                              <a:pt x="6238" y="1462"/>
                            </a:lnTo>
                            <a:lnTo>
                              <a:pt x="6328" y="1516"/>
                            </a:lnTo>
                            <a:lnTo>
                              <a:pt x="6324" y="1519"/>
                            </a:lnTo>
                            <a:lnTo>
                              <a:pt x="6317" y="1519"/>
                            </a:lnTo>
                            <a:lnTo>
                              <a:pt x="6313" y="1521"/>
                            </a:lnTo>
                            <a:lnTo>
                              <a:pt x="6309" y="1524"/>
                            </a:lnTo>
                            <a:lnTo>
                              <a:pt x="6301" y="1524"/>
                            </a:lnTo>
                            <a:lnTo>
                              <a:pt x="6297" y="1526"/>
                            </a:lnTo>
                            <a:lnTo>
                              <a:pt x="6289" y="1526"/>
                            </a:lnTo>
                            <a:lnTo>
                              <a:pt x="6285" y="1529"/>
                            </a:lnTo>
                            <a:lnTo>
                              <a:pt x="6277" y="1529"/>
                            </a:lnTo>
                            <a:lnTo>
                              <a:pt x="6269" y="1532"/>
                            </a:lnTo>
                            <a:lnTo>
                              <a:pt x="6490" y="1681"/>
                            </a:lnTo>
                            <a:lnTo>
                              <a:pt x="6490" y="1676"/>
                            </a:lnTo>
                            <a:lnTo>
                              <a:pt x="6490" y="1670"/>
                            </a:lnTo>
                            <a:lnTo>
                              <a:pt x="6490" y="1665"/>
                            </a:lnTo>
                            <a:lnTo>
                              <a:pt x="6494" y="1660"/>
                            </a:lnTo>
                            <a:lnTo>
                              <a:pt x="6494" y="1655"/>
                            </a:lnTo>
                            <a:lnTo>
                              <a:pt x="6494" y="1650"/>
                            </a:lnTo>
                            <a:lnTo>
                              <a:pt x="6498" y="1645"/>
                            </a:lnTo>
                            <a:lnTo>
                              <a:pt x="6498" y="1640"/>
                            </a:lnTo>
                            <a:lnTo>
                              <a:pt x="6498" y="1634"/>
                            </a:lnTo>
                            <a:lnTo>
                              <a:pt x="6501" y="1629"/>
                            </a:lnTo>
                            <a:lnTo>
                              <a:pt x="6525" y="1637"/>
                            </a:lnTo>
                            <a:lnTo>
                              <a:pt x="6549" y="1645"/>
                            </a:lnTo>
                            <a:lnTo>
                              <a:pt x="6576" y="1655"/>
                            </a:lnTo>
                            <a:lnTo>
                              <a:pt x="6600" y="1665"/>
                            </a:lnTo>
                            <a:lnTo>
                              <a:pt x="6623" y="1678"/>
                            </a:lnTo>
                            <a:lnTo>
                              <a:pt x="6647" y="1694"/>
                            </a:lnTo>
                            <a:lnTo>
                              <a:pt x="6663" y="1706"/>
                            </a:lnTo>
                            <a:lnTo>
                              <a:pt x="6671" y="1722"/>
                            </a:lnTo>
                            <a:lnTo>
                              <a:pt x="6675" y="1737"/>
                            </a:lnTo>
                            <a:lnTo>
                              <a:pt x="6667" y="1753"/>
                            </a:lnTo>
                            <a:lnTo>
                              <a:pt x="6423" y="2035"/>
                            </a:lnTo>
                            <a:lnTo>
                              <a:pt x="6439" y="2012"/>
                            </a:lnTo>
                            <a:lnTo>
                              <a:pt x="6450" y="1989"/>
                            </a:lnTo>
                            <a:lnTo>
                              <a:pt x="6462" y="1966"/>
                            </a:lnTo>
                            <a:lnTo>
                              <a:pt x="6470" y="1943"/>
                            </a:lnTo>
                            <a:lnTo>
                              <a:pt x="6474" y="1920"/>
                            </a:lnTo>
                            <a:lnTo>
                              <a:pt x="6478" y="1897"/>
                            </a:lnTo>
                            <a:lnTo>
                              <a:pt x="6482" y="1873"/>
                            </a:lnTo>
                            <a:lnTo>
                              <a:pt x="6482" y="1848"/>
                            </a:lnTo>
                            <a:lnTo>
                              <a:pt x="6482" y="1825"/>
                            </a:lnTo>
                            <a:lnTo>
                              <a:pt x="6482" y="1801"/>
                            </a:lnTo>
                            <a:lnTo>
                              <a:pt x="6317" y="1868"/>
                            </a:lnTo>
                            <a:lnTo>
                              <a:pt x="6328" y="1891"/>
                            </a:lnTo>
                            <a:lnTo>
                              <a:pt x="6328" y="1917"/>
                            </a:lnTo>
                            <a:lnTo>
                              <a:pt x="6324" y="1943"/>
                            </a:lnTo>
                            <a:lnTo>
                              <a:pt x="6313" y="1971"/>
                            </a:lnTo>
                            <a:lnTo>
                              <a:pt x="6305" y="1999"/>
                            </a:lnTo>
                            <a:lnTo>
                              <a:pt x="6297" y="2028"/>
                            </a:lnTo>
                            <a:lnTo>
                              <a:pt x="6293" y="2056"/>
                            </a:lnTo>
                            <a:lnTo>
                              <a:pt x="6301" y="2084"/>
                            </a:lnTo>
                            <a:lnTo>
                              <a:pt x="6320" y="2110"/>
                            </a:lnTo>
                            <a:lnTo>
                              <a:pt x="6352" y="2133"/>
                            </a:lnTo>
                            <a:lnTo>
                              <a:pt x="5974" y="2590"/>
                            </a:lnTo>
                            <a:lnTo>
                              <a:pt x="5947" y="2562"/>
                            </a:lnTo>
                            <a:lnTo>
                              <a:pt x="5919" y="2531"/>
                            </a:lnTo>
                            <a:lnTo>
                              <a:pt x="5892" y="2503"/>
                            </a:lnTo>
                            <a:lnTo>
                              <a:pt x="5864" y="2475"/>
                            </a:lnTo>
                            <a:lnTo>
                              <a:pt x="5836" y="2447"/>
                            </a:lnTo>
                            <a:lnTo>
                              <a:pt x="5809" y="2418"/>
                            </a:lnTo>
                            <a:lnTo>
                              <a:pt x="5781" y="2390"/>
                            </a:lnTo>
                            <a:lnTo>
                              <a:pt x="5754" y="2362"/>
                            </a:lnTo>
                            <a:lnTo>
                              <a:pt x="5726" y="2333"/>
                            </a:lnTo>
                            <a:lnTo>
                              <a:pt x="5699" y="2305"/>
                            </a:lnTo>
                            <a:lnTo>
                              <a:pt x="5683" y="2351"/>
                            </a:lnTo>
                            <a:lnTo>
                              <a:pt x="5935" y="2626"/>
                            </a:lnTo>
                            <a:lnTo>
                              <a:pt x="5927" y="2634"/>
                            </a:lnTo>
                            <a:lnTo>
                              <a:pt x="5923" y="2642"/>
                            </a:lnTo>
                            <a:lnTo>
                              <a:pt x="5919" y="2655"/>
                            </a:lnTo>
                            <a:lnTo>
                              <a:pt x="5911" y="2665"/>
                            </a:lnTo>
                            <a:lnTo>
                              <a:pt x="5907" y="2675"/>
                            </a:lnTo>
                            <a:lnTo>
                              <a:pt x="5899" y="2683"/>
                            </a:lnTo>
                            <a:lnTo>
                              <a:pt x="5892" y="2691"/>
                            </a:lnTo>
                            <a:lnTo>
                              <a:pt x="5884" y="2693"/>
                            </a:lnTo>
                            <a:lnTo>
                              <a:pt x="5872" y="2693"/>
                            </a:lnTo>
                            <a:lnTo>
                              <a:pt x="5856" y="2688"/>
                            </a:lnTo>
                            <a:lnTo>
                              <a:pt x="5836" y="2660"/>
                            </a:lnTo>
                            <a:lnTo>
                              <a:pt x="5813" y="2629"/>
                            </a:lnTo>
                            <a:lnTo>
                              <a:pt x="5793" y="2601"/>
                            </a:lnTo>
                            <a:lnTo>
                              <a:pt x="5770" y="2572"/>
                            </a:lnTo>
                            <a:lnTo>
                              <a:pt x="5746" y="2542"/>
                            </a:lnTo>
                            <a:lnTo>
                              <a:pt x="5726" y="2513"/>
                            </a:lnTo>
                            <a:lnTo>
                              <a:pt x="5703" y="2485"/>
                            </a:lnTo>
                            <a:lnTo>
                              <a:pt x="5679" y="2457"/>
                            </a:lnTo>
                            <a:lnTo>
                              <a:pt x="5655" y="2429"/>
                            </a:lnTo>
                            <a:lnTo>
                              <a:pt x="5632" y="2400"/>
                            </a:lnTo>
                            <a:lnTo>
                              <a:pt x="5565" y="2416"/>
                            </a:lnTo>
                            <a:lnTo>
                              <a:pt x="5817" y="2740"/>
                            </a:lnTo>
                            <a:lnTo>
                              <a:pt x="5797" y="2788"/>
                            </a:lnTo>
                            <a:lnTo>
                              <a:pt x="5766" y="2835"/>
                            </a:lnTo>
                            <a:lnTo>
                              <a:pt x="5726" y="2881"/>
                            </a:lnTo>
                            <a:lnTo>
                              <a:pt x="5683" y="2925"/>
                            </a:lnTo>
                            <a:lnTo>
                              <a:pt x="5632" y="2968"/>
                            </a:lnTo>
                            <a:lnTo>
                              <a:pt x="5585" y="3012"/>
                            </a:lnTo>
                            <a:lnTo>
                              <a:pt x="5537" y="3056"/>
                            </a:lnTo>
                            <a:lnTo>
                              <a:pt x="5498" y="3099"/>
                            </a:lnTo>
                            <a:lnTo>
                              <a:pt x="5463" y="3148"/>
                            </a:lnTo>
                            <a:lnTo>
                              <a:pt x="5439" y="3197"/>
                            </a:lnTo>
                            <a:lnTo>
                              <a:pt x="5376" y="3110"/>
                            </a:lnTo>
                            <a:lnTo>
                              <a:pt x="5309" y="3020"/>
                            </a:lnTo>
                            <a:lnTo>
                              <a:pt x="5238" y="2930"/>
                            </a:lnTo>
                            <a:lnTo>
                              <a:pt x="5171" y="2840"/>
                            </a:lnTo>
                            <a:lnTo>
                              <a:pt x="5112" y="2747"/>
                            </a:lnTo>
                            <a:lnTo>
                              <a:pt x="5069" y="2650"/>
                            </a:lnTo>
                            <a:lnTo>
                              <a:pt x="5038" y="2552"/>
                            </a:lnTo>
                            <a:lnTo>
                              <a:pt x="5026" y="2449"/>
                            </a:lnTo>
                            <a:lnTo>
                              <a:pt x="5041" y="2341"/>
                            </a:lnTo>
                            <a:lnTo>
                              <a:pt x="5085" y="2231"/>
                            </a:lnTo>
                            <a:lnTo>
                              <a:pt x="5085" y="2228"/>
                            </a:lnTo>
                            <a:lnTo>
                              <a:pt x="5089" y="2226"/>
                            </a:lnTo>
                            <a:lnTo>
                              <a:pt x="5089" y="2226"/>
                            </a:lnTo>
                            <a:lnTo>
                              <a:pt x="5089" y="2223"/>
                            </a:lnTo>
                            <a:lnTo>
                              <a:pt x="5089" y="2220"/>
                            </a:lnTo>
                            <a:lnTo>
                              <a:pt x="5093" y="2220"/>
                            </a:lnTo>
                            <a:lnTo>
                              <a:pt x="5093" y="2218"/>
                            </a:lnTo>
                            <a:lnTo>
                              <a:pt x="5093" y="2215"/>
                            </a:lnTo>
                            <a:lnTo>
                              <a:pt x="5093" y="2213"/>
                            </a:lnTo>
                            <a:lnTo>
                              <a:pt x="5097" y="2213"/>
                            </a:lnTo>
                            <a:lnTo>
                              <a:pt x="4982" y="2082"/>
                            </a:lnTo>
                            <a:lnTo>
                              <a:pt x="4978" y="2087"/>
                            </a:lnTo>
                            <a:lnTo>
                              <a:pt x="4978" y="2092"/>
                            </a:lnTo>
                            <a:lnTo>
                              <a:pt x="4975" y="2097"/>
                            </a:lnTo>
                            <a:lnTo>
                              <a:pt x="4975" y="2102"/>
                            </a:lnTo>
                            <a:lnTo>
                              <a:pt x="4971" y="2105"/>
                            </a:lnTo>
                            <a:lnTo>
                              <a:pt x="4971" y="2110"/>
                            </a:lnTo>
                            <a:lnTo>
                              <a:pt x="4971" y="2115"/>
                            </a:lnTo>
                            <a:lnTo>
                              <a:pt x="4967" y="2120"/>
                            </a:lnTo>
                            <a:lnTo>
                              <a:pt x="4967" y="2125"/>
                            </a:lnTo>
                            <a:lnTo>
                              <a:pt x="4963" y="2130"/>
                            </a:lnTo>
                            <a:lnTo>
                              <a:pt x="5061" y="2827"/>
                            </a:lnTo>
                            <a:lnTo>
                              <a:pt x="5089" y="2907"/>
                            </a:lnTo>
                            <a:lnTo>
                              <a:pt x="5112" y="2909"/>
                            </a:lnTo>
                            <a:lnTo>
                              <a:pt x="5128" y="2917"/>
                            </a:lnTo>
                            <a:lnTo>
                              <a:pt x="5140" y="2925"/>
                            </a:lnTo>
                            <a:lnTo>
                              <a:pt x="5152" y="2935"/>
                            </a:lnTo>
                            <a:lnTo>
                              <a:pt x="5160" y="2948"/>
                            </a:lnTo>
                            <a:lnTo>
                              <a:pt x="5163" y="2961"/>
                            </a:lnTo>
                            <a:lnTo>
                              <a:pt x="5171" y="2976"/>
                            </a:lnTo>
                            <a:lnTo>
                              <a:pt x="5179" y="2989"/>
                            </a:lnTo>
                            <a:lnTo>
                              <a:pt x="5187" y="3002"/>
                            </a:lnTo>
                            <a:lnTo>
                              <a:pt x="5195" y="3012"/>
                            </a:lnTo>
                            <a:lnTo>
                              <a:pt x="5128" y="3033"/>
                            </a:lnTo>
                            <a:lnTo>
                              <a:pt x="5140" y="3089"/>
                            </a:lnTo>
                            <a:lnTo>
                              <a:pt x="5140" y="3089"/>
                            </a:lnTo>
                            <a:lnTo>
                              <a:pt x="5144" y="3089"/>
                            </a:lnTo>
                            <a:lnTo>
                              <a:pt x="5144" y="3089"/>
                            </a:lnTo>
                            <a:lnTo>
                              <a:pt x="5144" y="3087"/>
                            </a:lnTo>
                            <a:lnTo>
                              <a:pt x="5148" y="3087"/>
                            </a:lnTo>
                            <a:lnTo>
                              <a:pt x="5148" y="3087"/>
                            </a:lnTo>
                            <a:lnTo>
                              <a:pt x="5152" y="3087"/>
                            </a:lnTo>
                            <a:lnTo>
                              <a:pt x="5152" y="3084"/>
                            </a:lnTo>
                            <a:lnTo>
                              <a:pt x="5152" y="3084"/>
                            </a:lnTo>
                            <a:lnTo>
                              <a:pt x="5156" y="3084"/>
                            </a:lnTo>
                            <a:lnTo>
                              <a:pt x="5195" y="3076"/>
                            </a:lnTo>
                            <a:lnTo>
                              <a:pt x="5222" y="3076"/>
                            </a:lnTo>
                            <a:lnTo>
                              <a:pt x="5246" y="3081"/>
                            </a:lnTo>
                            <a:lnTo>
                              <a:pt x="5262" y="3094"/>
                            </a:lnTo>
                            <a:lnTo>
                              <a:pt x="5274" y="3110"/>
                            </a:lnTo>
                            <a:lnTo>
                              <a:pt x="5282" y="3128"/>
                            </a:lnTo>
                            <a:lnTo>
                              <a:pt x="5285" y="3146"/>
                            </a:lnTo>
                            <a:lnTo>
                              <a:pt x="5293" y="3166"/>
                            </a:lnTo>
                            <a:lnTo>
                              <a:pt x="5301" y="3182"/>
                            </a:lnTo>
                            <a:lnTo>
                              <a:pt x="5313" y="3197"/>
                            </a:lnTo>
                            <a:lnTo>
                              <a:pt x="5301" y="3200"/>
                            </a:lnTo>
                            <a:lnTo>
                              <a:pt x="5289" y="3202"/>
                            </a:lnTo>
                            <a:lnTo>
                              <a:pt x="5274" y="3205"/>
                            </a:lnTo>
                            <a:lnTo>
                              <a:pt x="5262" y="3207"/>
                            </a:lnTo>
                            <a:lnTo>
                              <a:pt x="5250" y="3210"/>
                            </a:lnTo>
                            <a:lnTo>
                              <a:pt x="5238" y="3212"/>
                            </a:lnTo>
                            <a:lnTo>
                              <a:pt x="5226" y="3212"/>
                            </a:lnTo>
                            <a:lnTo>
                              <a:pt x="5215" y="3215"/>
                            </a:lnTo>
                            <a:lnTo>
                              <a:pt x="5203" y="3218"/>
                            </a:lnTo>
                            <a:lnTo>
                              <a:pt x="5191" y="3218"/>
                            </a:lnTo>
                            <a:lnTo>
                              <a:pt x="5222" y="3279"/>
                            </a:lnTo>
                            <a:lnTo>
                              <a:pt x="5234" y="3274"/>
                            </a:lnTo>
                            <a:lnTo>
                              <a:pt x="5246" y="3272"/>
                            </a:lnTo>
                            <a:lnTo>
                              <a:pt x="5258" y="3269"/>
                            </a:lnTo>
                            <a:lnTo>
                              <a:pt x="5270" y="3264"/>
                            </a:lnTo>
                            <a:lnTo>
                              <a:pt x="5282" y="3261"/>
                            </a:lnTo>
                            <a:lnTo>
                              <a:pt x="5293" y="3259"/>
                            </a:lnTo>
                            <a:lnTo>
                              <a:pt x="5305" y="3259"/>
                            </a:lnTo>
                            <a:lnTo>
                              <a:pt x="5317" y="3256"/>
                            </a:lnTo>
                            <a:lnTo>
                              <a:pt x="5329" y="3256"/>
                            </a:lnTo>
                            <a:lnTo>
                              <a:pt x="5344" y="3259"/>
                            </a:lnTo>
                            <a:lnTo>
                              <a:pt x="5348" y="3264"/>
                            </a:lnTo>
                            <a:lnTo>
                              <a:pt x="5352" y="3269"/>
                            </a:lnTo>
                            <a:lnTo>
                              <a:pt x="5356" y="3274"/>
                            </a:lnTo>
                            <a:lnTo>
                              <a:pt x="5360" y="3279"/>
                            </a:lnTo>
                            <a:lnTo>
                              <a:pt x="5368" y="3284"/>
                            </a:lnTo>
                            <a:lnTo>
                              <a:pt x="5372" y="3290"/>
                            </a:lnTo>
                            <a:lnTo>
                              <a:pt x="5376" y="3295"/>
                            </a:lnTo>
                            <a:lnTo>
                              <a:pt x="5380" y="3300"/>
                            </a:lnTo>
                            <a:lnTo>
                              <a:pt x="5384" y="3305"/>
                            </a:lnTo>
                            <a:lnTo>
                              <a:pt x="5388" y="3310"/>
                            </a:lnTo>
                            <a:lnTo>
                              <a:pt x="5537" y="3297"/>
                            </a:lnTo>
                            <a:lnTo>
                              <a:pt x="5585" y="3269"/>
                            </a:lnTo>
                            <a:lnTo>
                              <a:pt x="5632" y="3241"/>
                            </a:lnTo>
                            <a:lnTo>
                              <a:pt x="5683" y="3212"/>
                            </a:lnTo>
                            <a:lnTo>
                              <a:pt x="5734" y="3187"/>
                            </a:lnTo>
                            <a:lnTo>
                              <a:pt x="5789" y="3161"/>
                            </a:lnTo>
                            <a:lnTo>
                              <a:pt x="5848" y="3140"/>
                            </a:lnTo>
                            <a:lnTo>
                              <a:pt x="5907" y="3120"/>
                            </a:lnTo>
                            <a:lnTo>
                              <a:pt x="5970" y="3107"/>
                            </a:lnTo>
                            <a:lnTo>
                              <a:pt x="6033" y="3097"/>
                            </a:lnTo>
                            <a:lnTo>
                              <a:pt x="6100" y="3094"/>
                            </a:lnTo>
                            <a:lnTo>
                              <a:pt x="6159" y="3166"/>
                            </a:lnTo>
                            <a:lnTo>
                              <a:pt x="6218" y="3151"/>
                            </a:lnTo>
                            <a:lnTo>
                              <a:pt x="6218" y="3146"/>
                            </a:lnTo>
                            <a:lnTo>
                              <a:pt x="6214" y="3140"/>
                            </a:lnTo>
                            <a:lnTo>
                              <a:pt x="6210" y="3135"/>
                            </a:lnTo>
                            <a:lnTo>
                              <a:pt x="6206" y="3128"/>
                            </a:lnTo>
                            <a:lnTo>
                              <a:pt x="6206" y="3122"/>
                            </a:lnTo>
                            <a:lnTo>
                              <a:pt x="6202" y="3117"/>
                            </a:lnTo>
                            <a:lnTo>
                              <a:pt x="6198" y="3112"/>
                            </a:lnTo>
                            <a:lnTo>
                              <a:pt x="6198" y="3104"/>
                            </a:lnTo>
                            <a:lnTo>
                              <a:pt x="6195" y="3099"/>
                            </a:lnTo>
                            <a:lnTo>
                              <a:pt x="6195" y="3094"/>
                            </a:lnTo>
                            <a:lnTo>
                              <a:pt x="6222" y="3097"/>
                            </a:lnTo>
                            <a:lnTo>
                              <a:pt x="6246" y="3097"/>
                            </a:lnTo>
                            <a:lnTo>
                              <a:pt x="6269" y="3097"/>
                            </a:lnTo>
                            <a:lnTo>
                              <a:pt x="6293" y="3094"/>
                            </a:lnTo>
                            <a:lnTo>
                              <a:pt x="6313" y="3092"/>
                            </a:lnTo>
                            <a:lnTo>
                              <a:pt x="6332" y="3092"/>
                            </a:lnTo>
                            <a:lnTo>
                              <a:pt x="6352" y="3092"/>
                            </a:lnTo>
                            <a:lnTo>
                              <a:pt x="6368" y="3097"/>
                            </a:lnTo>
                            <a:lnTo>
                              <a:pt x="6387" y="3104"/>
                            </a:lnTo>
                            <a:lnTo>
                              <a:pt x="6407" y="3120"/>
                            </a:lnTo>
                            <a:lnTo>
                              <a:pt x="6427" y="3102"/>
                            </a:lnTo>
                            <a:lnTo>
                              <a:pt x="6458" y="3089"/>
                            </a:lnTo>
                            <a:lnTo>
                              <a:pt x="6498" y="3081"/>
                            </a:lnTo>
                            <a:lnTo>
                              <a:pt x="6545" y="3079"/>
                            </a:lnTo>
                            <a:lnTo>
                              <a:pt x="6592" y="3079"/>
                            </a:lnTo>
                            <a:lnTo>
                              <a:pt x="6647" y="3079"/>
                            </a:lnTo>
                            <a:lnTo>
                              <a:pt x="6698" y="3084"/>
                            </a:lnTo>
                            <a:lnTo>
                              <a:pt x="6749" y="3087"/>
                            </a:lnTo>
                            <a:lnTo>
                              <a:pt x="6797" y="3092"/>
                            </a:lnTo>
                            <a:lnTo>
                              <a:pt x="6840" y="3094"/>
                            </a:lnTo>
                            <a:lnTo>
                              <a:pt x="6844" y="3097"/>
                            </a:lnTo>
                            <a:lnTo>
                              <a:pt x="6844" y="3097"/>
                            </a:lnTo>
                            <a:lnTo>
                              <a:pt x="6848" y="3099"/>
                            </a:lnTo>
                            <a:lnTo>
                              <a:pt x="6852" y="3102"/>
                            </a:lnTo>
                            <a:lnTo>
                              <a:pt x="6852" y="3102"/>
                            </a:lnTo>
                            <a:lnTo>
                              <a:pt x="6856" y="3104"/>
                            </a:lnTo>
                            <a:lnTo>
                              <a:pt x="6860" y="3104"/>
                            </a:lnTo>
                            <a:lnTo>
                              <a:pt x="6860" y="3107"/>
                            </a:lnTo>
                            <a:lnTo>
                              <a:pt x="6864" y="3107"/>
                            </a:lnTo>
                            <a:lnTo>
                              <a:pt x="6867" y="3110"/>
                            </a:lnTo>
                            <a:lnTo>
                              <a:pt x="6871" y="3110"/>
                            </a:lnTo>
                            <a:lnTo>
                              <a:pt x="6871" y="3110"/>
                            </a:lnTo>
                            <a:lnTo>
                              <a:pt x="6875" y="3110"/>
                            </a:lnTo>
                            <a:lnTo>
                              <a:pt x="6879" y="3110"/>
                            </a:lnTo>
                            <a:lnTo>
                              <a:pt x="6879" y="3110"/>
                            </a:lnTo>
                            <a:lnTo>
                              <a:pt x="6883" y="3110"/>
                            </a:lnTo>
                            <a:lnTo>
                              <a:pt x="6887" y="3110"/>
                            </a:lnTo>
                            <a:lnTo>
                              <a:pt x="6891" y="3110"/>
                            </a:lnTo>
                            <a:lnTo>
                              <a:pt x="6891" y="3110"/>
                            </a:lnTo>
                            <a:lnTo>
                              <a:pt x="6895" y="3110"/>
                            </a:lnTo>
                            <a:lnTo>
                              <a:pt x="6895" y="3110"/>
                            </a:lnTo>
                            <a:lnTo>
                              <a:pt x="6895" y="3112"/>
                            </a:lnTo>
                            <a:lnTo>
                              <a:pt x="6895" y="3112"/>
                            </a:lnTo>
                            <a:lnTo>
                              <a:pt x="6899" y="3112"/>
                            </a:lnTo>
                            <a:lnTo>
                              <a:pt x="6899" y="3112"/>
                            </a:lnTo>
                            <a:lnTo>
                              <a:pt x="6899" y="3115"/>
                            </a:lnTo>
                            <a:lnTo>
                              <a:pt x="6899" y="3115"/>
                            </a:lnTo>
                            <a:lnTo>
                              <a:pt x="6899" y="3115"/>
                            </a:lnTo>
                            <a:lnTo>
                              <a:pt x="6903" y="3115"/>
                            </a:lnTo>
                            <a:lnTo>
                              <a:pt x="6903" y="3117"/>
                            </a:lnTo>
                            <a:lnTo>
                              <a:pt x="6919" y="3120"/>
                            </a:lnTo>
                            <a:lnTo>
                              <a:pt x="6938" y="3120"/>
                            </a:lnTo>
                            <a:lnTo>
                              <a:pt x="6958" y="3120"/>
                            </a:lnTo>
                            <a:lnTo>
                              <a:pt x="6978" y="3120"/>
                            </a:lnTo>
                            <a:lnTo>
                              <a:pt x="6997" y="3120"/>
                            </a:lnTo>
                            <a:lnTo>
                              <a:pt x="7013" y="3122"/>
                            </a:lnTo>
                            <a:lnTo>
                              <a:pt x="7033" y="3122"/>
                            </a:lnTo>
                            <a:lnTo>
                              <a:pt x="7052" y="3125"/>
                            </a:lnTo>
                            <a:lnTo>
                              <a:pt x="7068" y="3130"/>
                            </a:lnTo>
                            <a:lnTo>
                              <a:pt x="7084" y="3135"/>
                            </a:lnTo>
                            <a:lnTo>
                              <a:pt x="7064" y="3133"/>
                            </a:lnTo>
                            <a:lnTo>
                              <a:pt x="7045" y="3133"/>
                            </a:lnTo>
                            <a:lnTo>
                              <a:pt x="7025" y="3133"/>
                            </a:lnTo>
                            <a:lnTo>
                              <a:pt x="7005" y="3135"/>
                            </a:lnTo>
                            <a:lnTo>
                              <a:pt x="6986" y="3135"/>
                            </a:lnTo>
                            <a:lnTo>
                              <a:pt x="6966" y="3135"/>
                            </a:lnTo>
                            <a:lnTo>
                              <a:pt x="6950" y="3135"/>
                            </a:lnTo>
                            <a:lnTo>
                              <a:pt x="6930" y="3130"/>
                            </a:lnTo>
                            <a:lnTo>
                              <a:pt x="6915" y="3125"/>
                            </a:lnTo>
                            <a:lnTo>
                              <a:pt x="6903" y="3117"/>
                            </a:lnTo>
                            <a:lnTo>
                              <a:pt x="6899" y="3117"/>
                            </a:lnTo>
                            <a:lnTo>
                              <a:pt x="6895" y="3115"/>
                            </a:lnTo>
                            <a:lnTo>
                              <a:pt x="6891" y="3115"/>
                            </a:lnTo>
                            <a:lnTo>
                              <a:pt x="6887" y="3115"/>
                            </a:lnTo>
                            <a:lnTo>
                              <a:pt x="6883" y="3112"/>
                            </a:lnTo>
                            <a:lnTo>
                              <a:pt x="6879" y="3112"/>
                            </a:lnTo>
                            <a:lnTo>
                              <a:pt x="6879" y="3112"/>
                            </a:lnTo>
                            <a:lnTo>
                              <a:pt x="6875" y="3110"/>
                            </a:lnTo>
                            <a:lnTo>
                              <a:pt x="6871" y="3110"/>
                            </a:lnTo>
                            <a:lnTo>
                              <a:pt x="6867" y="3110"/>
                            </a:lnTo>
                            <a:lnTo>
                              <a:pt x="6820" y="3112"/>
                            </a:lnTo>
                            <a:lnTo>
                              <a:pt x="6769" y="3122"/>
                            </a:lnTo>
                            <a:lnTo>
                              <a:pt x="6718" y="3135"/>
                            </a:lnTo>
                            <a:lnTo>
                              <a:pt x="6667" y="3151"/>
                            </a:lnTo>
                            <a:lnTo>
                              <a:pt x="6620" y="3164"/>
                            </a:lnTo>
                            <a:lnTo>
                              <a:pt x="6572" y="3171"/>
                            </a:lnTo>
                            <a:lnTo>
                              <a:pt x="6529" y="3171"/>
                            </a:lnTo>
                            <a:lnTo>
                              <a:pt x="6486" y="3164"/>
                            </a:lnTo>
                            <a:lnTo>
                              <a:pt x="6450" y="3143"/>
                            </a:lnTo>
                            <a:lnTo>
                              <a:pt x="6423" y="3110"/>
                            </a:lnTo>
                            <a:lnTo>
                              <a:pt x="6415" y="3117"/>
                            </a:lnTo>
                            <a:lnTo>
                              <a:pt x="6407" y="3125"/>
                            </a:lnTo>
                            <a:lnTo>
                              <a:pt x="6407" y="3133"/>
                            </a:lnTo>
                            <a:lnTo>
                              <a:pt x="6411" y="3140"/>
                            </a:lnTo>
                            <a:lnTo>
                              <a:pt x="6415" y="3148"/>
                            </a:lnTo>
                            <a:lnTo>
                              <a:pt x="6423" y="3156"/>
                            </a:lnTo>
                            <a:lnTo>
                              <a:pt x="6431" y="3164"/>
                            </a:lnTo>
                            <a:lnTo>
                              <a:pt x="6442" y="3171"/>
                            </a:lnTo>
                            <a:lnTo>
                              <a:pt x="6450" y="3176"/>
                            </a:lnTo>
                            <a:lnTo>
                              <a:pt x="6462" y="3182"/>
                            </a:lnTo>
                            <a:lnTo>
                              <a:pt x="6450" y="3192"/>
                            </a:lnTo>
                            <a:lnTo>
                              <a:pt x="6439" y="3200"/>
                            </a:lnTo>
                            <a:lnTo>
                              <a:pt x="6423" y="3205"/>
                            </a:lnTo>
                            <a:lnTo>
                              <a:pt x="6407" y="3210"/>
                            </a:lnTo>
                            <a:lnTo>
                              <a:pt x="6387" y="3215"/>
                            </a:lnTo>
                            <a:lnTo>
                              <a:pt x="6368" y="3218"/>
                            </a:lnTo>
                            <a:lnTo>
                              <a:pt x="6348" y="3223"/>
                            </a:lnTo>
                            <a:lnTo>
                              <a:pt x="6328" y="3225"/>
                            </a:lnTo>
                            <a:lnTo>
                              <a:pt x="6309" y="3228"/>
                            </a:lnTo>
                            <a:lnTo>
                              <a:pt x="6289" y="3233"/>
                            </a:lnTo>
                            <a:lnTo>
                              <a:pt x="6281" y="3225"/>
                            </a:lnTo>
                            <a:lnTo>
                              <a:pt x="6273" y="3220"/>
                            </a:lnTo>
                            <a:lnTo>
                              <a:pt x="6265" y="3212"/>
                            </a:lnTo>
                            <a:lnTo>
                              <a:pt x="6261" y="3205"/>
                            </a:lnTo>
                            <a:lnTo>
                              <a:pt x="6254" y="3197"/>
                            </a:lnTo>
                            <a:lnTo>
                              <a:pt x="6250" y="3192"/>
                            </a:lnTo>
                            <a:lnTo>
                              <a:pt x="6242" y="3184"/>
                            </a:lnTo>
                            <a:lnTo>
                              <a:pt x="6238" y="3176"/>
                            </a:lnTo>
                            <a:lnTo>
                              <a:pt x="6230" y="3169"/>
                            </a:lnTo>
                            <a:lnTo>
                              <a:pt x="6226" y="3161"/>
                            </a:lnTo>
                            <a:lnTo>
                              <a:pt x="6179" y="3184"/>
                            </a:lnTo>
                            <a:lnTo>
                              <a:pt x="6218" y="3233"/>
                            </a:lnTo>
                            <a:lnTo>
                              <a:pt x="6191" y="3243"/>
                            </a:lnTo>
                            <a:lnTo>
                              <a:pt x="6163" y="3254"/>
                            </a:lnTo>
                            <a:lnTo>
                              <a:pt x="6135" y="3264"/>
                            </a:lnTo>
                            <a:lnTo>
                              <a:pt x="6104" y="3272"/>
                            </a:lnTo>
                            <a:lnTo>
                              <a:pt x="6073" y="3279"/>
                            </a:lnTo>
                            <a:lnTo>
                              <a:pt x="6045" y="3287"/>
                            </a:lnTo>
                            <a:lnTo>
                              <a:pt x="6010" y="3295"/>
                            </a:lnTo>
                            <a:lnTo>
                              <a:pt x="5978" y="3300"/>
                            </a:lnTo>
                            <a:lnTo>
                              <a:pt x="5947" y="3305"/>
                            </a:lnTo>
                            <a:lnTo>
                              <a:pt x="5915" y="3310"/>
                            </a:lnTo>
                            <a:lnTo>
                              <a:pt x="4699" y="3894"/>
                            </a:lnTo>
                            <a:lnTo>
                              <a:pt x="4912" y="3983"/>
                            </a:lnTo>
                            <a:lnTo>
                              <a:pt x="4860" y="4004"/>
                            </a:lnTo>
                            <a:lnTo>
                              <a:pt x="4805" y="4022"/>
                            </a:lnTo>
                            <a:lnTo>
                              <a:pt x="4746" y="4037"/>
                            </a:lnTo>
                            <a:lnTo>
                              <a:pt x="4679" y="4050"/>
                            </a:lnTo>
                            <a:lnTo>
                              <a:pt x="4613" y="4058"/>
                            </a:lnTo>
                            <a:lnTo>
                              <a:pt x="4542" y="4068"/>
                            </a:lnTo>
                            <a:lnTo>
                              <a:pt x="4475" y="4073"/>
                            </a:lnTo>
                            <a:lnTo>
                              <a:pt x="4408" y="4081"/>
                            </a:lnTo>
                            <a:lnTo>
                              <a:pt x="4345" y="4086"/>
                            </a:lnTo>
                            <a:lnTo>
                              <a:pt x="4282" y="4091"/>
                            </a:lnTo>
                            <a:lnTo>
                              <a:pt x="4290" y="3886"/>
                            </a:lnTo>
                            <a:lnTo>
                              <a:pt x="4113" y="3847"/>
                            </a:lnTo>
                            <a:lnTo>
                              <a:pt x="4085" y="4035"/>
                            </a:lnTo>
                            <a:lnTo>
                              <a:pt x="4062" y="4027"/>
                            </a:lnTo>
                            <a:lnTo>
                              <a:pt x="4042" y="4017"/>
                            </a:lnTo>
                            <a:lnTo>
                              <a:pt x="4022" y="4007"/>
                            </a:lnTo>
                            <a:lnTo>
                              <a:pt x="4003" y="3996"/>
                            </a:lnTo>
                            <a:lnTo>
                              <a:pt x="3987" y="3983"/>
                            </a:lnTo>
                            <a:lnTo>
                              <a:pt x="3971" y="3971"/>
                            </a:lnTo>
                            <a:lnTo>
                              <a:pt x="3955" y="3958"/>
                            </a:lnTo>
                            <a:lnTo>
                              <a:pt x="3943" y="3942"/>
                            </a:lnTo>
                            <a:lnTo>
                              <a:pt x="3932" y="3929"/>
                            </a:lnTo>
                            <a:lnTo>
                              <a:pt x="3920" y="3914"/>
                            </a:lnTo>
                            <a:lnTo>
                              <a:pt x="3869" y="3971"/>
                            </a:lnTo>
                            <a:lnTo>
                              <a:pt x="3877" y="3981"/>
                            </a:lnTo>
                            <a:lnTo>
                              <a:pt x="3884" y="3991"/>
                            </a:lnTo>
                            <a:lnTo>
                              <a:pt x="3892" y="3999"/>
                            </a:lnTo>
                            <a:lnTo>
                              <a:pt x="3900" y="4009"/>
                            </a:lnTo>
                            <a:lnTo>
                              <a:pt x="3908" y="4019"/>
                            </a:lnTo>
                            <a:lnTo>
                              <a:pt x="3916" y="4027"/>
                            </a:lnTo>
                            <a:lnTo>
                              <a:pt x="3924" y="4035"/>
                            </a:lnTo>
                            <a:lnTo>
                              <a:pt x="3932" y="4045"/>
                            </a:lnTo>
                            <a:lnTo>
                              <a:pt x="3943" y="4053"/>
                            </a:lnTo>
                            <a:lnTo>
                              <a:pt x="3951" y="4061"/>
                            </a:lnTo>
                            <a:lnTo>
                              <a:pt x="3943" y="4081"/>
                            </a:lnTo>
                            <a:lnTo>
                              <a:pt x="3940" y="4099"/>
                            </a:lnTo>
                            <a:lnTo>
                              <a:pt x="3932" y="4120"/>
                            </a:lnTo>
                            <a:lnTo>
                              <a:pt x="3928" y="4138"/>
                            </a:lnTo>
                            <a:lnTo>
                              <a:pt x="3920" y="4153"/>
                            </a:lnTo>
                            <a:lnTo>
                              <a:pt x="3908" y="4169"/>
                            </a:lnTo>
                            <a:lnTo>
                              <a:pt x="3892" y="4179"/>
                            </a:lnTo>
                            <a:lnTo>
                              <a:pt x="3873" y="4184"/>
                            </a:lnTo>
                            <a:lnTo>
                              <a:pt x="3841" y="4186"/>
                            </a:lnTo>
                            <a:lnTo>
                              <a:pt x="3802" y="4184"/>
                            </a:lnTo>
                            <a:lnTo>
                              <a:pt x="3782" y="4171"/>
                            </a:lnTo>
                            <a:lnTo>
                              <a:pt x="3766" y="4158"/>
                            </a:lnTo>
                            <a:lnTo>
                              <a:pt x="3751" y="4145"/>
                            </a:lnTo>
                            <a:lnTo>
                              <a:pt x="3735" y="4133"/>
                            </a:lnTo>
                            <a:lnTo>
                              <a:pt x="3719" y="4120"/>
                            </a:lnTo>
                            <a:lnTo>
                              <a:pt x="3707" y="4104"/>
                            </a:lnTo>
                            <a:lnTo>
                              <a:pt x="3696" y="4091"/>
                            </a:lnTo>
                            <a:lnTo>
                              <a:pt x="3680" y="4076"/>
                            </a:lnTo>
                            <a:lnTo>
                              <a:pt x="3672" y="4061"/>
                            </a:lnTo>
                            <a:lnTo>
                              <a:pt x="3660" y="4045"/>
                            </a:lnTo>
                            <a:lnTo>
                              <a:pt x="3511" y="4063"/>
                            </a:lnTo>
                            <a:lnTo>
                              <a:pt x="3522" y="4076"/>
                            </a:lnTo>
                            <a:lnTo>
                              <a:pt x="3538" y="4089"/>
                            </a:lnTo>
                            <a:lnTo>
                              <a:pt x="3554" y="4102"/>
                            </a:lnTo>
                            <a:lnTo>
                              <a:pt x="3566" y="4115"/>
                            </a:lnTo>
                            <a:lnTo>
                              <a:pt x="3581" y="4127"/>
                            </a:lnTo>
                            <a:lnTo>
                              <a:pt x="3593" y="4140"/>
                            </a:lnTo>
                            <a:lnTo>
                              <a:pt x="3609" y="4153"/>
                            </a:lnTo>
                            <a:lnTo>
                              <a:pt x="3621" y="4166"/>
                            </a:lnTo>
                            <a:lnTo>
                              <a:pt x="3633" y="4179"/>
                            </a:lnTo>
                            <a:lnTo>
                              <a:pt x="3644" y="4194"/>
                            </a:lnTo>
                            <a:lnTo>
                              <a:pt x="3503" y="4192"/>
                            </a:lnTo>
                            <a:lnTo>
                              <a:pt x="3361" y="4189"/>
                            </a:lnTo>
                            <a:lnTo>
                              <a:pt x="3219" y="4184"/>
                            </a:lnTo>
                            <a:lnTo>
                              <a:pt x="3078" y="4176"/>
                            </a:lnTo>
                            <a:lnTo>
                              <a:pt x="2940" y="4161"/>
                            </a:lnTo>
                            <a:lnTo>
                              <a:pt x="2810" y="4140"/>
                            </a:lnTo>
                            <a:lnTo>
                              <a:pt x="2688" y="4107"/>
                            </a:lnTo>
                            <a:lnTo>
                              <a:pt x="2582" y="4061"/>
                            </a:lnTo>
                            <a:lnTo>
                              <a:pt x="2491" y="3999"/>
                            </a:lnTo>
                            <a:lnTo>
                              <a:pt x="2417" y="3922"/>
                            </a:lnTo>
                            <a:lnTo>
                              <a:pt x="2405" y="3904"/>
                            </a:lnTo>
                            <a:lnTo>
                              <a:pt x="2393" y="3883"/>
                            </a:lnTo>
                            <a:lnTo>
                              <a:pt x="2381" y="3865"/>
                            </a:lnTo>
                            <a:lnTo>
                              <a:pt x="2373" y="3847"/>
                            </a:lnTo>
                            <a:lnTo>
                              <a:pt x="2365" y="3827"/>
                            </a:lnTo>
                            <a:lnTo>
                              <a:pt x="2361" y="3809"/>
                            </a:lnTo>
                            <a:lnTo>
                              <a:pt x="2358" y="3791"/>
                            </a:lnTo>
                            <a:lnTo>
                              <a:pt x="2354" y="3773"/>
                            </a:lnTo>
                            <a:lnTo>
                              <a:pt x="2354" y="3757"/>
                            </a:lnTo>
                            <a:lnTo>
                              <a:pt x="2354" y="3742"/>
                            </a:lnTo>
                            <a:lnTo>
                              <a:pt x="2251" y="3703"/>
                            </a:lnTo>
                            <a:lnTo>
                              <a:pt x="2251" y="3726"/>
                            </a:lnTo>
                            <a:lnTo>
                              <a:pt x="2039" y="3726"/>
                            </a:lnTo>
                            <a:lnTo>
                              <a:pt x="2039" y="3552"/>
                            </a:lnTo>
                            <a:lnTo>
                              <a:pt x="1913" y="3428"/>
                            </a:lnTo>
                            <a:lnTo>
                              <a:pt x="1897" y="3426"/>
                            </a:lnTo>
                            <a:lnTo>
                              <a:pt x="1881" y="3423"/>
                            </a:lnTo>
                            <a:lnTo>
                              <a:pt x="1870" y="3423"/>
                            </a:lnTo>
                            <a:lnTo>
                              <a:pt x="1854" y="3421"/>
                            </a:lnTo>
                            <a:lnTo>
                              <a:pt x="1838" y="3421"/>
                            </a:lnTo>
                            <a:lnTo>
                              <a:pt x="1826" y="3418"/>
                            </a:lnTo>
                            <a:lnTo>
                              <a:pt x="1811" y="3418"/>
                            </a:lnTo>
                            <a:lnTo>
                              <a:pt x="1795" y="3415"/>
                            </a:lnTo>
                            <a:lnTo>
                              <a:pt x="1783" y="3415"/>
                            </a:lnTo>
                            <a:lnTo>
                              <a:pt x="1767" y="3413"/>
                            </a:lnTo>
                            <a:lnTo>
                              <a:pt x="1035" y="3937"/>
                            </a:lnTo>
                            <a:lnTo>
                              <a:pt x="1039" y="3937"/>
                            </a:lnTo>
                            <a:lnTo>
                              <a:pt x="1157" y="4184"/>
                            </a:lnTo>
                            <a:lnTo>
                              <a:pt x="1008" y="4151"/>
                            </a:lnTo>
                            <a:lnTo>
                              <a:pt x="882" y="4117"/>
                            </a:lnTo>
                            <a:lnTo>
                              <a:pt x="779" y="4084"/>
                            </a:lnTo>
                            <a:lnTo>
                              <a:pt x="697" y="4050"/>
                            </a:lnTo>
                            <a:lnTo>
                              <a:pt x="634" y="4017"/>
                            </a:lnTo>
                            <a:lnTo>
                              <a:pt x="587" y="3986"/>
                            </a:lnTo>
                            <a:lnTo>
                              <a:pt x="551" y="3958"/>
                            </a:lnTo>
                            <a:lnTo>
                              <a:pt x="532" y="3929"/>
                            </a:lnTo>
                            <a:lnTo>
                              <a:pt x="520" y="3904"/>
                            </a:lnTo>
                            <a:lnTo>
                              <a:pt x="516" y="3881"/>
                            </a:lnTo>
                            <a:lnTo>
                              <a:pt x="898" y="3917"/>
                            </a:lnTo>
                            <a:lnTo>
                              <a:pt x="886" y="3379"/>
                            </a:lnTo>
                            <a:lnTo>
                              <a:pt x="795" y="3372"/>
                            </a:lnTo>
                            <a:lnTo>
                              <a:pt x="705" y="3364"/>
                            </a:lnTo>
                            <a:lnTo>
                              <a:pt x="618" y="3354"/>
                            </a:lnTo>
                            <a:lnTo>
                              <a:pt x="528" y="3344"/>
                            </a:lnTo>
                            <a:lnTo>
                              <a:pt x="441" y="3333"/>
                            </a:lnTo>
                            <a:lnTo>
                              <a:pt x="350" y="3323"/>
                            </a:lnTo>
                            <a:lnTo>
                              <a:pt x="264" y="3313"/>
                            </a:lnTo>
                            <a:lnTo>
                              <a:pt x="177" y="3308"/>
                            </a:lnTo>
                            <a:lnTo>
                              <a:pt x="87" y="3305"/>
                            </a:lnTo>
                            <a:lnTo>
                              <a:pt x="0" y="3305"/>
                            </a:lnTo>
                            <a:lnTo>
                              <a:pt x="0" y="3326"/>
                            </a:lnTo>
                            <a:lnTo>
                              <a:pt x="8" y="3341"/>
                            </a:lnTo>
                            <a:lnTo>
                              <a:pt x="28" y="3351"/>
                            </a:lnTo>
                            <a:lnTo>
                              <a:pt x="51" y="3359"/>
                            </a:lnTo>
                            <a:lnTo>
                              <a:pt x="75" y="3362"/>
                            </a:lnTo>
                            <a:lnTo>
                              <a:pt x="107" y="3364"/>
                            </a:lnTo>
                            <a:lnTo>
                              <a:pt x="134" y="3369"/>
                            </a:lnTo>
                            <a:lnTo>
                              <a:pt x="166" y="3374"/>
                            </a:lnTo>
                            <a:lnTo>
                              <a:pt x="189" y="3379"/>
                            </a:lnTo>
                            <a:lnTo>
                              <a:pt x="213" y="3392"/>
                            </a:lnTo>
                            <a:lnTo>
                              <a:pt x="189" y="3418"/>
                            </a:lnTo>
                            <a:lnTo>
                              <a:pt x="169" y="3444"/>
                            </a:lnTo>
                            <a:lnTo>
                              <a:pt x="154" y="3469"/>
                            </a:lnTo>
                            <a:lnTo>
                              <a:pt x="142" y="3498"/>
                            </a:lnTo>
                            <a:lnTo>
                              <a:pt x="130" y="3526"/>
                            </a:lnTo>
                            <a:lnTo>
                              <a:pt x="118" y="3554"/>
                            </a:lnTo>
                            <a:lnTo>
                              <a:pt x="110" y="3585"/>
                            </a:lnTo>
                            <a:lnTo>
                              <a:pt x="107" y="3613"/>
                            </a:lnTo>
                            <a:lnTo>
                              <a:pt x="99" y="3644"/>
                            </a:lnTo>
                            <a:lnTo>
                              <a:pt x="95" y="3675"/>
                            </a:lnTo>
                            <a:lnTo>
                              <a:pt x="107" y="3724"/>
                            </a:lnTo>
                            <a:lnTo>
                              <a:pt x="122" y="3775"/>
                            </a:lnTo>
                            <a:lnTo>
                              <a:pt x="146" y="3822"/>
                            </a:lnTo>
                            <a:lnTo>
                              <a:pt x="169" y="3868"/>
                            </a:lnTo>
                            <a:lnTo>
                              <a:pt x="201" y="3909"/>
                            </a:lnTo>
                            <a:lnTo>
                              <a:pt x="236" y="3950"/>
                            </a:lnTo>
                            <a:lnTo>
                              <a:pt x="284" y="3986"/>
                            </a:lnTo>
                            <a:lnTo>
                              <a:pt x="339" y="4017"/>
                            </a:lnTo>
                            <a:lnTo>
                              <a:pt x="398" y="4048"/>
                            </a:lnTo>
                            <a:lnTo>
                              <a:pt x="472" y="4071"/>
                            </a:lnTo>
                            <a:lnTo>
                              <a:pt x="512" y="4089"/>
                            </a:lnTo>
                            <a:lnTo>
                              <a:pt x="579" y="4109"/>
                            </a:lnTo>
                            <a:lnTo>
                              <a:pt x="657" y="4127"/>
                            </a:lnTo>
                            <a:lnTo>
                              <a:pt x="748" y="4148"/>
                            </a:lnTo>
                            <a:lnTo>
                              <a:pt x="846" y="4169"/>
                            </a:lnTo>
                            <a:lnTo>
                              <a:pt x="945" y="4189"/>
                            </a:lnTo>
                            <a:lnTo>
                              <a:pt x="1035" y="4207"/>
                            </a:lnTo>
                            <a:lnTo>
                              <a:pt x="1118" y="4228"/>
                            </a:lnTo>
                            <a:lnTo>
                              <a:pt x="1185" y="4248"/>
                            </a:lnTo>
                            <a:lnTo>
                              <a:pt x="1228" y="4266"/>
                            </a:lnTo>
                            <a:lnTo>
                              <a:pt x="1590" y="4811"/>
                            </a:lnTo>
                            <a:lnTo>
                              <a:pt x="1582" y="4826"/>
                            </a:lnTo>
                            <a:lnTo>
                              <a:pt x="1574" y="4842"/>
                            </a:lnTo>
                            <a:lnTo>
                              <a:pt x="1567" y="4857"/>
                            </a:lnTo>
                            <a:lnTo>
                              <a:pt x="1559" y="4870"/>
                            </a:lnTo>
                            <a:lnTo>
                              <a:pt x="1551" y="4886"/>
                            </a:lnTo>
                            <a:lnTo>
                              <a:pt x="1539" y="4896"/>
                            </a:lnTo>
                            <a:lnTo>
                              <a:pt x="1523" y="4909"/>
                            </a:lnTo>
                            <a:lnTo>
                              <a:pt x="1507" y="4919"/>
                            </a:lnTo>
                            <a:lnTo>
                              <a:pt x="1492" y="4927"/>
                            </a:lnTo>
                            <a:lnTo>
                              <a:pt x="1472" y="4934"/>
                            </a:lnTo>
                            <a:lnTo>
                              <a:pt x="1429" y="4968"/>
                            </a:lnTo>
                            <a:lnTo>
                              <a:pt x="1378" y="4999"/>
                            </a:lnTo>
                            <a:lnTo>
                              <a:pt x="1326" y="5024"/>
                            </a:lnTo>
                            <a:lnTo>
                              <a:pt x="1267" y="5047"/>
                            </a:lnTo>
                            <a:lnTo>
                              <a:pt x="1208" y="5065"/>
                            </a:lnTo>
                            <a:lnTo>
                              <a:pt x="1149" y="5083"/>
                            </a:lnTo>
                            <a:lnTo>
                              <a:pt x="1086" y="5099"/>
                            </a:lnTo>
                            <a:lnTo>
                              <a:pt x="1020" y="5112"/>
                            </a:lnTo>
                            <a:lnTo>
                              <a:pt x="957" y="5122"/>
                            </a:lnTo>
                            <a:lnTo>
                              <a:pt x="890" y="5130"/>
                            </a:lnTo>
                            <a:lnTo>
                              <a:pt x="831" y="5145"/>
                            </a:lnTo>
                            <a:lnTo>
                              <a:pt x="776" y="5148"/>
                            </a:lnTo>
                            <a:lnTo>
                              <a:pt x="720" y="5145"/>
                            </a:lnTo>
                            <a:lnTo>
                              <a:pt x="669" y="5137"/>
                            </a:lnTo>
                            <a:lnTo>
                              <a:pt x="618" y="5125"/>
                            </a:lnTo>
                            <a:lnTo>
                              <a:pt x="571" y="5109"/>
                            </a:lnTo>
                            <a:lnTo>
                              <a:pt x="520" y="5094"/>
                            </a:lnTo>
                            <a:lnTo>
                              <a:pt x="469" y="5081"/>
                            </a:lnTo>
                            <a:lnTo>
                              <a:pt x="417" y="5071"/>
                            </a:lnTo>
                            <a:lnTo>
                              <a:pt x="362" y="5068"/>
                            </a:lnTo>
                            <a:lnTo>
                              <a:pt x="386" y="5101"/>
                            </a:lnTo>
                            <a:lnTo>
                              <a:pt x="413" y="5135"/>
                            </a:lnTo>
                            <a:lnTo>
                              <a:pt x="445" y="5168"/>
                            </a:lnTo>
                            <a:lnTo>
                              <a:pt x="480" y="5202"/>
                            </a:lnTo>
                            <a:lnTo>
                              <a:pt x="520" y="5230"/>
                            </a:lnTo>
                            <a:lnTo>
                              <a:pt x="563" y="5256"/>
                            </a:lnTo>
                            <a:lnTo>
                              <a:pt x="610" y="5279"/>
                            </a:lnTo>
                            <a:lnTo>
                              <a:pt x="665" y="5297"/>
                            </a:lnTo>
                            <a:lnTo>
                              <a:pt x="720" y="5307"/>
                            </a:lnTo>
                            <a:lnTo>
                              <a:pt x="779" y="5315"/>
                            </a:lnTo>
                            <a:lnTo>
                              <a:pt x="874" y="5310"/>
                            </a:lnTo>
                            <a:lnTo>
                              <a:pt x="964" y="5299"/>
                            </a:lnTo>
                            <a:lnTo>
                              <a:pt x="1051" y="5284"/>
                            </a:lnTo>
                            <a:lnTo>
                              <a:pt x="1138" y="5261"/>
                            </a:lnTo>
                            <a:lnTo>
                              <a:pt x="1220" y="5235"/>
                            </a:lnTo>
                            <a:lnTo>
                              <a:pt x="1299" y="5204"/>
                            </a:lnTo>
                            <a:lnTo>
                              <a:pt x="1374" y="5168"/>
                            </a:lnTo>
                            <a:lnTo>
                              <a:pt x="1441" y="5130"/>
                            </a:lnTo>
                            <a:lnTo>
                              <a:pt x="1507" y="5089"/>
                            </a:lnTo>
                            <a:lnTo>
                              <a:pt x="1567" y="5047"/>
                            </a:lnTo>
                            <a:lnTo>
                              <a:pt x="1606" y="5076"/>
                            </a:lnTo>
                            <a:lnTo>
                              <a:pt x="1649" y="5099"/>
                            </a:lnTo>
                            <a:lnTo>
                              <a:pt x="1696" y="5119"/>
                            </a:lnTo>
                            <a:lnTo>
                              <a:pt x="1740" y="5137"/>
                            </a:lnTo>
                            <a:lnTo>
                              <a:pt x="1787" y="5155"/>
                            </a:lnTo>
                            <a:lnTo>
                              <a:pt x="1834" y="5171"/>
                            </a:lnTo>
                            <a:lnTo>
                              <a:pt x="1885" y="5186"/>
                            </a:lnTo>
                            <a:lnTo>
                              <a:pt x="1933" y="5204"/>
                            </a:lnTo>
                            <a:lnTo>
                              <a:pt x="1976" y="5222"/>
                            </a:lnTo>
                            <a:lnTo>
                              <a:pt x="2023" y="5243"/>
                            </a:lnTo>
                            <a:lnTo>
                              <a:pt x="2141" y="5261"/>
                            </a:lnTo>
                            <a:lnTo>
                              <a:pt x="2259" y="5266"/>
                            </a:lnTo>
                            <a:lnTo>
                              <a:pt x="2373" y="5258"/>
                            </a:lnTo>
                            <a:lnTo>
                              <a:pt x="2483" y="5243"/>
                            </a:lnTo>
                            <a:lnTo>
                              <a:pt x="2590" y="5217"/>
                            </a:lnTo>
                            <a:lnTo>
                              <a:pt x="2696" y="5186"/>
                            </a:lnTo>
                            <a:lnTo>
                              <a:pt x="2798" y="5153"/>
                            </a:lnTo>
                            <a:lnTo>
                              <a:pt x="2893" y="5112"/>
                            </a:lnTo>
                            <a:lnTo>
                              <a:pt x="2987" y="5073"/>
                            </a:lnTo>
                            <a:lnTo>
                              <a:pt x="3078" y="5032"/>
                            </a:lnTo>
                            <a:lnTo>
                              <a:pt x="3121" y="5076"/>
                            </a:lnTo>
                            <a:lnTo>
                              <a:pt x="3168" y="5114"/>
                            </a:lnTo>
                            <a:lnTo>
                              <a:pt x="3223" y="5153"/>
                            </a:lnTo>
                            <a:lnTo>
                              <a:pt x="3282" y="5186"/>
                            </a:lnTo>
                            <a:lnTo>
                              <a:pt x="3345" y="5215"/>
                            </a:lnTo>
                            <a:lnTo>
                              <a:pt x="3412" y="5240"/>
                            </a:lnTo>
                            <a:lnTo>
                              <a:pt x="3483" y="5261"/>
                            </a:lnTo>
                            <a:lnTo>
                              <a:pt x="3554" y="5276"/>
                            </a:lnTo>
                            <a:lnTo>
                              <a:pt x="3629" y="5289"/>
                            </a:lnTo>
                            <a:lnTo>
                              <a:pt x="3707" y="5294"/>
                            </a:lnTo>
                            <a:lnTo>
                              <a:pt x="3794" y="5289"/>
                            </a:lnTo>
                            <a:lnTo>
                              <a:pt x="3888" y="5286"/>
                            </a:lnTo>
                            <a:lnTo>
                              <a:pt x="3983" y="5281"/>
                            </a:lnTo>
                            <a:lnTo>
                              <a:pt x="4077" y="5276"/>
                            </a:lnTo>
                            <a:lnTo>
                              <a:pt x="4172" y="5263"/>
                            </a:lnTo>
                            <a:lnTo>
                              <a:pt x="4258" y="5245"/>
                            </a:lnTo>
                            <a:lnTo>
                              <a:pt x="4341" y="5222"/>
                            </a:lnTo>
                            <a:lnTo>
                              <a:pt x="4412" y="5186"/>
                            </a:lnTo>
                            <a:lnTo>
                              <a:pt x="4471" y="5140"/>
                            </a:lnTo>
                            <a:lnTo>
                              <a:pt x="4518" y="5083"/>
                            </a:lnTo>
                            <a:lnTo>
                              <a:pt x="4565" y="5099"/>
                            </a:lnTo>
                            <a:lnTo>
                              <a:pt x="4613" y="5112"/>
                            </a:lnTo>
                            <a:lnTo>
                              <a:pt x="4664" y="5125"/>
                            </a:lnTo>
                            <a:lnTo>
                              <a:pt x="4711" y="5137"/>
                            </a:lnTo>
                            <a:lnTo>
                              <a:pt x="4762" y="5148"/>
                            </a:lnTo>
                            <a:lnTo>
                              <a:pt x="4809" y="5161"/>
                            </a:lnTo>
                            <a:lnTo>
                              <a:pt x="4860" y="5173"/>
                            </a:lnTo>
                            <a:lnTo>
                              <a:pt x="4908" y="5186"/>
                            </a:lnTo>
                            <a:lnTo>
                              <a:pt x="4959" y="5202"/>
                            </a:lnTo>
                            <a:lnTo>
                              <a:pt x="5006" y="5217"/>
                            </a:lnTo>
                            <a:lnTo>
                              <a:pt x="5175" y="5253"/>
                            </a:lnTo>
                            <a:lnTo>
                              <a:pt x="5321" y="5268"/>
                            </a:lnTo>
                            <a:lnTo>
                              <a:pt x="5443" y="5263"/>
                            </a:lnTo>
                            <a:lnTo>
                              <a:pt x="5545" y="5248"/>
                            </a:lnTo>
                            <a:lnTo>
                              <a:pt x="5636" y="5220"/>
                            </a:lnTo>
                            <a:lnTo>
                              <a:pt x="5710" y="5186"/>
                            </a:lnTo>
                            <a:lnTo>
                              <a:pt x="5777" y="5150"/>
                            </a:lnTo>
                            <a:lnTo>
                              <a:pt x="5832" y="5117"/>
                            </a:lnTo>
                            <a:lnTo>
                              <a:pt x="5884" y="5089"/>
                            </a:lnTo>
                            <a:lnTo>
                              <a:pt x="5935" y="5068"/>
                            </a:lnTo>
                            <a:lnTo>
                              <a:pt x="5998" y="5109"/>
                            </a:lnTo>
                            <a:lnTo>
                              <a:pt x="6065" y="5148"/>
                            </a:lnTo>
                            <a:lnTo>
                              <a:pt x="6139" y="5181"/>
                            </a:lnTo>
                            <a:lnTo>
                              <a:pt x="6214" y="5212"/>
                            </a:lnTo>
                            <a:lnTo>
                              <a:pt x="6297" y="5238"/>
                            </a:lnTo>
                            <a:lnTo>
                              <a:pt x="6379" y="5256"/>
                            </a:lnTo>
                            <a:lnTo>
                              <a:pt x="6466" y="5268"/>
                            </a:lnTo>
                            <a:lnTo>
                              <a:pt x="6557" y="5274"/>
                            </a:lnTo>
                            <a:lnTo>
                              <a:pt x="6651" y="5268"/>
                            </a:lnTo>
                            <a:lnTo>
                              <a:pt x="6745" y="5253"/>
                            </a:lnTo>
                            <a:lnTo>
                              <a:pt x="6777" y="5240"/>
                            </a:lnTo>
                            <a:lnTo>
                              <a:pt x="6808" y="5225"/>
                            </a:lnTo>
                            <a:lnTo>
                              <a:pt x="6844" y="5212"/>
                            </a:lnTo>
                            <a:lnTo>
                              <a:pt x="6883" y="5197"/>
                            </a:lnTo>
                            <a:lnTo>
                              <a:pt x="6919" y="5184"/>
                            </a:lnTo>
                            <a:lnTo>
                              <a:pt x="6954" y="5168"/>
                            </a:lnTo>
                            <a:lnTo>
                              <a:pt x="6989" y="5150"/>
                            </a:lnTo>
                            <a:lnTo>
                              <a:pt x="7021" y="5132"/>
                            </a:lnTo>
                            <a:lnTo>
                              <a:pt x="7045" y="5114"/>
                            </a:lnTo>
                            <a:lnTo>
                              <a:pt x="7068" y="5094"/>
                            </a:lnTo>
                            <a:lnTo>
                              <a:pt x="7005" y="5104"/>
                            </a:lnTo>
                            <a:lnTo>
                              <a:pt x="6942" y="5112"/>
                            </a:lnTo>
                            <a:lnTo>
                              <a:pt x="6875" y="5117"/>
                            </a:lnTo>
                            <a:lnTo>
                              <a:pt x="6808" y="5119"/>
                            </a:lnTo>
                            <a:lnTo>
                              <a:pt x="6738" y="5119"/>
                            </a:lnTo>
                            <a:lnTo>
                              <a:pt x="6667" y="5119"/>
                            </a:lnTo>
                            <a:lnTo>
                              <a:pt x="6600" y="5117"/>
                            </a:lnTo>
                            <a:lnTo>
                              <a:pt x="6533" y="5112"/>
                            </a:lnTo>
                            <a:lnTo>
                              <a:pt x="6466" y="5104"/>
                            </a:lnTo>
                            <a:lnTo>
                              <a:pt x="6407" y="5094"/>
                            </a:lnTo>
                            <a:lnTo>
                              <a:pt x="6368" y="5076"/>
                            </a:lnTo>
                            <a:lnTo>
                              <a:pt x="6324" y="5058"/>
                            </a:lnTo>
                            <a:lnTo>
                              <a:pt x="6285" y="5037"/>
                            </a:lnTo>
                            <a:lnTo>
                              <a:pt x="6242" y="5017"/>
                            </a:lnTo>
                            <a:lnTo>
                              <a:pt x="6202" y="4993"/>
                            </a:lnTo>
                            <a:lnTo>
                              <a:pt x="6167" y="4968"/>
                            </a:lnTo>
                            <a:lnTo>
                              <a:pt x="6135" y="4942"/>
                            </a:lnTo>
                            <a:lnTo>
                              <a:pt x="6112" y="4916"/>
                            </a:lnTo>
                            <a:lnTo>
                              <a:pt x="6092" y="4891"/>
                            </a:lnTo>
                            <a:lnTo>
                              <a:pt x="6084" y="4862"/>
                            </a:lnTo>
                            <a:lnTo>
                              <a:pt x="6049" y="4878"/>
                            </a:lnTo>
                            <a:lnTo>
                              <a:pt x="6013" y="4898"/>
                            </a:lnTo>
                            <a:lnTo>
                              <a:pt x="5978" y="4924"/>
                            </a:lnTo>
                            <a:lnTo>
                              <a:pt x="5947" y="4947"/>
                            </a:lnTo>
                            <a:lnTo>
                              <a:pt x="5915" y="4973"/>
                            </a:lnTo>
                            <a:lnTo>
                              <a:pt x="5880" y="4993"/>
                            </a:lnTo>
                            <a:lnTo>
                              <a:pt x="5844" y="5014"/>
                            </a:lnTo>
                            <a:lnTo>
                              <a:pt x="5809" y="5027"/>
                            </a:lnTo>
                            <a:lnTo>
                              <a:pt x="5766" y="5032"/>
                            </a:lnTo>
                            <a:lnTo>
                              <a:pt x="5722" y="5032"/>
                            </a:lnTo>
                            <a:lnTo>
                              <a:pt x="5742" y="4983"/>
                            </a:lnTo>
                            <a:lnTo>
                              <a:pt x="5766" y="4934"/>
                            </a:lnTo>
                            <a:lnTo>
                              <a:pt x="5793" y="4886"/>
                            </a:lnTo>
                            <a:lnTo>
                              <a:pt x="5817" y="4839"/>
                            </a:lnTo>
                            <a:lnTo>
                              <a:pt x="5844" y="4793"/>
                            </a:lnTo>
                            <a:lnTo>
                              <a:pt x="5876" y="4747"/>
                            </a:lnTo>
                            <a:lnTo>
                              <a:pt x="5907" y="4701"/>
                            </a:lnTo>
                            <a:lnTo>
                              <a:pt x="5939" y="4654"/>
                            </a:lnTo>
                            <a:lnTo>
                              <a:pt x="5970" y="4608"/>
                            </a:lnTo>
                            <a:lnTo>
                              <a:pt x="6006" y="4564"/>
                            </a:lnTo>
                            <a:lnTo>
                              <a:pt x="6029" y="4531"/>
                            </a:lnTo>
                            <a:lnTo>
                              <a:pt x="6057" y="4500"/>
                            </a:lnTo>
                            <a:lnTo>
                              <a:pt x="6084" y="4472"/>
                            </a:lnTo>
                            <a:lnTo>
                              <a:pt x="6116" y="4446"/>
                            </a:lnTo>
                            <a:lnTo>
                              <a:pt x="6151" y="4423"/>
                            </a:lnTo>
                            <a:lnTo>
                              <a:pt x="6187" y="4400"/>
                            </a:lnTo>
                            <a:lnTo>
                              <a:pt x="6222" y="4377"/>
                            </a:lnTo>
                            <a:lnTo>
                              <a:pt x="6261" y="4356"/>
                            </a:lnTo>
                            <a:lnTo>
                              <a:pt x="6301" y="4336"/>
                            </a:lnTo>
                            <a:lnTo>
                              <a:pt x="6340" y="4318"/>
                            </a:lnTo>
                            <a:lnTo>
                              <a:pt x="6379" y="4310"/>
                            </a:lnTo>
                            <a:lnTo>
                              <a:pt x="6419" y="4307"/>
                            </a:lnTo>
                            <a:lnTo>
                              <a:pt x="6450" y="4305"/>
                            </a:lnTo>
                            <a:lnTo>
                              <a:pt x="6482" y="4302"/>
                            </a:lnTo>
                            <a:lnTo>
                              <a:pt x="6509" y="4302"/>
                            </a:lnTo>
                            <a:lnTo>
                              <a:pt x="6537" y="4302"/>
                            </a:lnTo>
                            <a:lnTo>
                              <a:pt x="6557" y="4305"/>
                            </a:lnTo>
                            <a:lnTo>
                              <a:pt x="6572" y="4305"/>
                            </a:lnTo>
                            <a:lnTo>
                              <a:pt x="6588" y="4307"/>
                            </a:lnTo>
                            <a:lnTo>
                              <a:pt x="6596" y="4307"/>
                            </a:lnTo>
                            <a:lnTo>
                              <a:pt x="7273" y="3356"/>
                            </a:lnTo>
                            <a:lnTo>
                              <a:pt x="7292" y="3326"/>
                            </a:lnTo>
                            <a:lnTo>
                              <a:pt x="7308" y="3297"/>
                            </a:lnTo>
                            <a:lnTo>
                              <a:pt x="7324" y="3272"/>
                            </a:lnTo>
                            <a:lnTo>
                              <a:pt x="7340" y="3248"/>
                            </a:lnTo>
                            <a:lnTo>
                              <a:pt x="7352" y="3228"/>
                            </a:lnTo>
                            <a:lnTo>
                              <a:pt x="7359" y="3207"/>
                            </a:lnTo>
                            <a:lnTo>
                              <a:pt x="7371" y="3189"/>
                            </a:lnTo>
                            <a:lnTo>
                              <a:pt x="7379" y="3171"/>
                            </a:lnTo>
                            <a:lnTo>
                              <a:pt x="7387" y="3153"/>
                            </a:lnTo>
                            <a:lnTo>
                              <a:pt x="7391" y="3135"/>
                            </a:lnTo>
                            <a:lnTo>
                              <a:pt x="7391" y="3135"/>
                            </a:lnTo>
                            <a:close/>
                          </a:path>
                        </a:pathLst>
                      </a:custGeom>
                      <a:solidFill>
                        <a:srgbClr val="003636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91" name=""/>
                      <p:cNvSpPr/>
                      <p:nvPr/>
                    </p:nvSpPr>
                    <p:spPr>
                      <a:xfrm>
                        <a:off x="2777040" y="4814640"/>
                        <a:ext cx="235080" cy="192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570" h="1008">
                            <a:moveTo>
                              <a:pt x="606" y="633"/>
                            </a:moveTo>
                            <a:lnTo>
                              <a:pt x="1047" y="494"/>
                            </a:lnTo>
                            <a:lnTo>
                              <a:pt x="767" y="615"/>
                            </a:lnTo>
                            <a:lnTo>
                              <a:pt x="913" y="607"/>
                            </a:lnTo>
                            <a:lnTo>
                              <a:pt x="1118" y="520"/>
                            </a:lnTo>
                            <a:lnTo>
                              <a:pt x="1129" y="525"/>
                            </a:lnTo>
                            <a:lnTo>
                              <a:pt x="1137" y="532"/>
                            </a:lnTo>
                            <a:lnTo>
                              <a:pt x="1145" y="543"/>
                            </a:lnTo>
                            <a:lnTo>
                              <a:pt x="1153" y="553"/>
                            </a:lnTo>
                            <a:lnTo>
                              <a:pt x="1157" y="563"/>
                            </a:lnTo>
                            <a:lnTo>
                              <a:pt x="1157" y="576"/>
                            </a:lnTo>
                            <a:lnTo>
                              <a:pt x="1157" y="589"/>
                            </a:lnTo>
                            <a:lnTo>
                              <a:pt x="1157" y="602"/>
                            </a:lnTo>
                            <a:lnTo>
                              <a:pt x="1157" y="615"/>
                            </a:lnTo>
                            <a:lnTo>
                              <a:pt x="1153" y="625"/>
                            </a:lnTo>
                            <a:lnTo>
                              <a:pt x="1267" y="648"/>
                            </a:lnTo>
                            <a:lnTo>
                              <a:pt x="1267" y="633"/>
                            </a:lnTo>
                            <a:lnTo>
                              <a:pt x="1275" y="635"/>
                            </a:lnTo>
                            <a:lnTo>
                              <a:pt x="1283" y="635"/>
                            </a:lnTo>
                            <a:lnTo>
                              <a:pt x="1291" y="638"/>
                            </a:lnTo>
                            <a:lnTo>
                              <a:pt x="1295" y="640"/>
                            </a:lnTo>
                            <a:lnTo>
                              <a:pt x="1303" y="640"/>
                            </a:lnTo>
                            <a:lnTo>
                              <a:pt x="1310" y="643"/>
                            </a:lnTo>
                            <a:lnTo>
                              <a:pt x="1314" y="643"/>
                            </a:lnTo>
                            <a:lnTo>
                              <a:pt x="1322" y="646"/>
                            </a:lnTo>
                            <a:lnTo>
                              <a:pt x="1330" y="648"/>
                            </a:lnTo>
                            <a:lnTo>
                              <a:pt x="1334" y="651"/>
                            </a:lnTo>
                            <a:lnTo>
                              <a:pt x="1436" y="638"/>
                            </a:lnTo>
                            <a:lnTo>
                              <a:pt x="1417" y="628"/>
                            </a:lnTo>
                            <a:lnTo>
                              <a:pt x="1401" y="617"/>
                            </a:lnTo>
                            <a:lnTo>
                              <a:pt x="1381" y="610"/>
                            </a:lnTo>
                            <a:lnTo>
                              <a:pt x="1366" y="599"/>
                            </a:lnTo>
                            <a:lnTo>
                              <a:pt x="1346" y="589"/>
                            </a:lnTo>
                            <a:lnTo>
                              <a:pt x="1330" y="579"/>
                            </a:lnTo>
                            <a:lnTo>
                              <a:pt x="1314" y="566"/>
                            </a:lnTo>
                            <a:lnTo>
                              <a:pt x="1299" y="556"/>
                            </a:lnTo>
                            <a:lnTo>
                              <a:pt x="1283" y="545"/>
                            </a:lnTo>
                            <a:lnTo>
                              <a:pt x="1267" y="535"/>
                            </a:lnTo>
                            <a:lnTo>
                              <a:pt x="1295" y="538"/>
                            </a:lnTo>
                            <a:lnTo>
                              <a:pt x="1322" y="543"/>
                            </a:lnTo>
                            <a:lnTo>
                              <a:pt x="1346" y="548"/>
                            </a:lnTo>
                            <a:lnTo>
                              <a:pt x="1373" y="556"/>
                            </a:lnTo>
                            <a:lnTo>
                              <a:pt x="1397" y="561"/>
                            </a:lnTo>
                            <a:lnTo>
                              <a:pt x="1425" y="568"/>
                            </a:lnTo>
                            <a:lnTo>
                              <a:pt x="1448" y="576"/>
                            </a:lnTo>
                            <a:lnTo>
                              <a:pt x="1476" y="584"/>
                            </a:lnTo>
                            <a:lnTo>
                              <a:pt x="1499" y="592"/>
                            </a:lnTo>
                            <a:lnTo>
                              <a:pt x="1523" y="599"/>
                            </a:lnTo>
                            <a:lnTo>
                              <a:pt x="1570" y="550"/>
                            </a:lnTo>
                            <a:lnTo>
                              <a:pt x="1267" y="458"/>
                            </a:lnTo>
                            <a:lnTo>
                              <a:pt x="1251" y="432"/>
                            </a:lnTo>
                            <a:lnTo>
                              <a:pt x="1244" y="404"/>
                            </a:lnTo>
                            <a:lnTo>
                              <a:pt x="1236" y="376"/>
                            </a:lnTo>
                            <a:lnTo>
                              <a:pt x="1232" y="345"/>
                            </a:lnTo>
                            <a:lnTo>
                              <a:pt x="1228" y="314"/>
                            </a:lnTo>
                            <a:lnTo>
                              <a:pt x="1232" y="283"/>
                            </a:lnTo>
                            <a:lnTo>
                              <a:pt x="1232" y="252"/>
                            </a:lnTo>
                            <a:lnTo>
                              <a:pt x="1240" y="224"/>
                            </a:lnTo>
                            <a:lnTo>
                              <a:pt x="1244" y="193"/>
                            </a:lnTo>
                            <a:lnTo>
                              <a:pt x="1251" y="165"/>
                            </a:lnTo>
                            <a:lnTo>
                              <a:pt x="1240" y="144"/>
                            </a:lnTo>
                            <a:lnTo>
                              <a:pt x="1240" y="126"/>
                            </a:lnTo>
                            <a:lnTo>
                              <a:pt x="1247" y="108"/>
                            </a:lnTo>
                            <a:lnTo>
                              <a:pt x="1259" y="93"/>
                            </a:lnTo>
                            <a:lnTo>
                              <a:pt x="1271" y="78"/>
                            </a:lnTo>
                            <a:lnTo>
                              <a:pt x="1283" y="62"/>
                            </a:lnTo>
                            <a:lnTo>
                              <a:pt x="1291" y="47"/>
                            </a:lnTo>
                            <a:lnTo>
                              <a:pt x="1287" y="31"/>
                            </a:lnTo>
                            <a:lnTo>
                              <a:pt x="1275" y="16"/>
                            </a:lnTo>
                            <a:lnTo>
                              <a:pt x="1251" y="0"/>
                            </a:lnTo>
                            <a:lnTo>
                              <a:pt x="1236" y="8"/>
                            </a:lnTo>
                            <a:lnTo>
                              <a:pt x="1224" y="16"/>
                            </a:lnTo>
                            <a:lnTo>
                              <a:pt x="1216" y="24"/>
                            </a:lnTo>
                            <a:lnTo>
                              <a:pt x="1208" y="31"/>
                            </a:lnTo>
                            <a:lnTo>
                              <a:pt x="1204" y="42"/>
                            </a:lnTo>
                            <a:lnTo>
                              <a:pt x="1204" y="52"/>
                            </a:lnTo>
                            <a:lnTo>
                              <a:pt x="1196" y="62"/>
                            </a:lnTo>
                            <a:lnTo>
                              <a:pt x="1192" y="70"/>
                            </a:lnTo>
                            <a:lnTo>
                              <a:pt x="1184" y="80"/>
                            </a:lnTo>
                            <a:lnTo>
                              <a:pt x="1173" y="88"/>
                            </a:lnTo>
                            <a:lnTo>
                              <a:pt x="1161" y="88"/>
                            </a:lnTo>
                            <a:lnTo>
                              <a:pt x="1153" y="88"/>
                            </a:lnTo>
                            <a:lnTo>
                              <a:pt x="1141" y="90"/>
                            </a:lnTo>
                            <a:lnTo>
                              <a:pt x="1133" y="90"/>
                            </a:lnTo>
                            <a:lnTo>
                              <a:pt x="1122" y="90"/>
                            </a:lnTo>
                            <a:lnTo>
                              <a:pt x="1114" y="90"/>
                            </a:lnTo>
                            <a:lnTo>
                              <a:pt x="1102" y="88"/>
                            </a:lnTo>
                            <a:lnTo>
                              <a:pt x="1094" y="85"/>
                            </a:lnTo>
                            <a:lnTo>
                              <a:pt x="1086" y="83"/>
                            </a:lnTo>
                            <a:lnTo>
                              <a:pt x="1078" y="78"/>
                            </a:lnTo>
                            <a:lnTo>
                              <a:pt x="1027" y="70"/>
                            </a:lnTo>
                            <a:lnTo>
                              <a:pt x="976" y="67"/>
                            </a:lnTo>
                            <a:lnTo>
                              <a:pt x="925" y="65"/>
                            </a:lnTo>
                            <a:lnTo>
                              <a:pt x="874" y="65"/>
                            </a:lnTo>
                            <a:lnTo>
                              <a:pt x="826" y="67"/>
                            </a:lnTo>
                            <a:lnTo>
                              <a:pt x="775" y="67"/>
                            </a:lnTo>
                            <a:lnTo>
                              <a:pt x="728" y="67"/>
                            </a:lnTo>
                            <a:lnTo>
                              <a:pt x="681" y="65"/>
                            </a:lnTo>
                            <a:lnTo>
                              <a:pt x="634" y="60"/>
                            </a:lnTo>
                            <a:lnTo>
                              <a:pt x="590" y="52"/>
                            </a:lnTo>
                            <a:lnTo>
                              <a:pt x="610" y="70"/>
                            </a:lnTo>
                            <a:lnTo>
                              <a:pt x="634" y="88"/>
                            </a:lnTo>
                            <a:lnTo>
                              <a:pt x="661" y="101"/>
                            </a:lnTo>
                            <a:lnTo>
                              <a:pt x="693" y="114"/>
                            </a:lnTo>
                            <a:lnTo>
                              <a:pt x="720" y="126"/>
                            </a:lnTo>
                            <a:lnTo>
                              <a:pt x="752" y="137"/>
                            </a:lnTo>
                            <a:lnTo>
                              <a:pt x="779" y="150"/>
                            </a:lnTo>
                            <a:lnTo>
                              <a:pt x="807" y="160"/>
                            </a:lnTo>
                            <a:lnTo>
                              <a:pt x="834" y="173"/>
                            </a:lnTo>
                            <a:lnTo>
                              <a:pt x="858" y="185"/>
                            </a:lnTo>
                            <a:lnTo>
                              <a:pt x="838" y="198"/>
                            </a:lnTo>
                            <a:lnTo>
                              <a:pt x="818" y="209"/>
                            </a:lnTo>
                            <a:lnTo>
                              <a:pt x="799" y="219"/>
                            </a:lnTo>
                            <a:lnTo>
                              <a:pt x="775" y="229"/>
                            </a:lnTo>
                            <a:lnTo>
                              <a:pt x="756" y="237"/>
                            </a:lnTo>
                            <a:lnTo>
                              <a:pt x="732" y="245"/>
                            </a:lnTo>
                            <a:lnTo>
                              <a:pt x="708" y="252"/>
                            </a:lnTo>
                            <a:lnTo>
                              <a:pt x="689" y="257"/>
                            </a:lnTo>
                            <a:lnTo>
                              <a:pt x="665" y="265"/>
                            </a:lnTo>
                            <a:lnTo>
                              <a:pt x="645" y="273"/>
                            </a:lnTo>
                            <a:lnTo>
                              <a:pt x="696" y="278"/>
                            </a:lnTo>
                            <a:lnTo>
                              <a:pt x="752" y="278"/>
                            </a:lnTo>
                            <a:lnTo>
                              <a:pt x="807" y="275"/>
                            </a:lnTo>
                            <a:lnTo>
                              <a:pt x="866" y="270"/>
                            </a:lnTo>
                            <a:lnTo>
                              <a:pt x="925" y="268"/>
                            </a:lnTo>
                            <a:lnTo>
                              <a:pt x="980" y="270"/>
                            </a:lnTo>
                            <a:lnTo>
                              <a:pt x="1035" y="275"/>
                            </a:lnTo>
                            <a:lnTo>
                              <a:pt x="1086" y="291"/>
                            </a:lnTo>
                            <a:lnTo>
                              <a:pt x="1133" y="314"/>
                            </a:lnTo>
                            <a:lnTo>
                              <a:pt x="1173" y="350"/>
                            </a:lnTo>
                            <a:lnTo>
                              <a:pt x="1173" y="360"/>
                            </a:lnTo>
                            <a:lnTo>
                              <a:pt x="1173" y="371"/>
                            </a:lnTo>
                            <a:lnTo>
                              <a:pt x="1177" y="381"/>
                            </a:lnTo>
                            <a:lnTo>
                              <a:pt x="1177" y="391"/>
                            </a:lnTo>
                            <a:lnTo>
                              <a:pt x="1177" y="401"/>
                            </a:lnTo>
                            <a:lnTo>
                              <a:pt x="1177" y="412"/>
                            </a:lnTo>
                            <a:lnTo>
                              <a:pt x="1173" y="422"/>
                            </a:lnTo>
                            <a:lnTo>
                              <a:pt x="1169" y="430"/>
                            </a:lnTo>
                            <a:lnTo>
                              <a:pt x="1165" y="440"/>
                            </a:lnTo>
                            <a:lnTo>
                              <a:pt x="1157" y="448"/>
                            </a:lnTo>
                            <a:lnTo>
                              <a:pt x="1035" y="455"/>
                            </a:lnTo>
                            <a:lnTo>
                              <a:pt x="921" y="476"/>
                            </a:lnTo>
                            <a:lnTo>
                              <a:pt x="811" y="507"/>
                            </a:lnTo>
                            <a:lnTo>
                              <a:pt x="700" y="545"/>
                            </a:lnTo>
                            <a:lnTo>
                              <a:pt x="594" y="581"/>
                            </a:lnTo>
                            <a:lnTo>
                              <a:pt x="488" y="615"/>
                            </a:lnTo>
                            <a:lnTo>
                              <a:pt x="382" y="640"/>
                            </a:lnTo>
                            <a:lnTo>
                              <a:pt x="268" y="653"/>
                            </a:lnTo>
                            <a:lnTo>
                              <a:pt x="149" y="646"/>
                            </a:lnTo>
                            <a:lnTo>
                              <a:pt x="24" y="617"/>
                            </a:lnTo>
                            <a:lnTo>
                              <a:pt x="8" y="638"/>
                            </a:lnTo>
                            <a:lnTo>
                              <a:pt x="8" y="653"/>
                            </a:lnTo>
                            <a:lnTo>
                              <a:pt x="20" y="666"/>
                            </a:lnTo>
                            <a:lnTo>
                              <a:pt x="43" y="674"/>
                            </a:lnTo>
                            <a:lnTo>
                              <a:pt x="75" y="682"/>
                            </a:lnTo>
                            <a:lnTo>
                              <a:pt x="110" y="687"/>
                            </a:lnTo>
                            <a:lnTo>
                              <a:pt x="146" y="694"/>
                            </a:lnTo>
                            <a:lnTo>
                              <a:pt x="181" y="702"/>
                            </a:lnTo>
                            <a:lnTo>
                              <a:pt x="209" y="715"/>
                            </a:lnTo>
                            <a:lnTo>
                              <a:pt x="228" y="730"/>
                            </a:lnTo>
                            <a:lnTo>
                              <a:pt x="201" y="756"/>
                            </a:lnTo>
                            <a:lnTo>
                              <a:pt x="173" y="784"/>
                            </a:lnTo>
                            <a:lnTo>
                              <a:pt x="146" y="810"/>
                            </a:lnTo>
                            <a:lnTo>
                              <a:pt x="122" y="838"/>
                            </a:lnTo>
                            <a:lnTo>
                              <a:pt x="98" y="867"/>
                            </a:lnTo>
                            <a:lnTo>
                              <a:pt x="79" y="895"/>
                            </a:lnTo>
                            <a:lnTo>
                              <a:pt x="55" y="923"/>
                            </a:lnTo>
                            <a:lnTo>
                              <a:pt x="35" y="951"/>
                            </a:lnTo>
                            <a:lnTo>
                              <a:pt x="20" y="980"/>
                            </a:lnTo>
                            <a:lnTo>
                              <a:pt x="0" y="1008"/>
                            </a:lnTo>
                            <a:lnTo>
                              <a:pt x="669" y="640"/>
                            </a:lnTo>
                            <a:lnTo>
                              <a:pt x="606" y="633"/>
                            </a:lnTo>
                            <a:lnTo>
                              <a:pt x="606" y="633"/>
                            </a:lnTo>
                            <a:close/>
                          </a:path>
                        </a:pathLst>
                      </a:custGeom>
                      <a:solidFill>
                        <a:srgbClr val="003636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92" name=""/>
                      <p:cNvSpPr/>
                      <p:nvPr/>
                    </p:nvSpPr>
                    <p:spPr>
                      <a:xfrm>
                        <a:off x="3207240" y="4577040"/>
                        <a:ext cx="37440" cy="25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52" h="133">
                            <a:moveTo>
                              <a:pt x="252" y="71"/>
                            </a:moveTo>
                            <a:lnTo>
                              <a:pt x="232" y="82"/>
                            </a:lnTo>
                            <a:lnTo>
                              <a:pt x="212" y="92"/>
                            </a:lnTo>
                            <a:lnTo>
                              <a:pt x="189" y="100"/>
                            </a:lnTo>
                            <a:lnTo>
                              <a:pt x="165" y="107"/>
                            </a:lnTo>
                            <a:lnTo>
                              <a:pt x="137" y="113"/>
                            </a:lnTo>
                            <a:lnTo>
                              <a:pt x="110" y="118"/>
                            </a:lnTo>
                            <a:lnTo>
                              <a:pt x="82" y="123"/>
                            </a:lnTo>
                            <a:lnTo>
                              <a:pt x="55" y="125"/>
                            </a:lnTo>
                            <a:lnTo>
                              <a:pt x="27" y="131"/>
                            </a:lnTo>
                            <a:lnTo>
                              <a:pt x="0" y="133"/>
                            </a:lnTo>
                            <a:lnTo>
                              <a:pt x="0" y="123"/>
                            </a:lnTo>
                            <a:lnTo>
                              <a:pt x="0" y="110"/>
                            </a:lnTo>
                            <a:lnTo>
                              <a:pt x="0" y="100"/>
                            </a:lnTo>
                            <a:lnTo>
                              <a:pt x="4" y="89"/>
                            </a:lnTo>
                            <a:lnTo>
                              <a:pt x="8" y="79"/>
                            </a:lnTo>
                            <a:lnTo>
                              <a:pt x="12" y="69"/>
                            </a:lnTo>
                            <a:lnTo>
                              <a:pt x="19" y="59"/>
                            </a:lnTo>
                            <a:lnTo>
                              <a:pt x="31" y="51"/>
                            </a:lnTo>
                            <a:lnTo>
                              <a:pt x="47" y="43"/>
                            </a:lnTo>
                            <a:lnTo>
                              <a:pt x="63" y="36"/>
                            </a:lnTo>
                            <a:lnTo>
                              <a:pt x="94" y="71"/>
                            </a:lnTo>
                            <a:lnTo>
                              <a:pt x="212" y="0"/>
                            </a:lnTo>
                            <a:lnTo>
                              <a:pt x="236" y="2"/>
                            </a:lnTo>
                            <a:lnTo>
                              <a:pt x="244" y="7"/>
                            </a:lnTo>
                            <a:lnTo>
                              <a:pt x="248" y="12"/>
                            </a:lnTo>
                            <a:lnTo>
                              <a:pt x="248" y="20"/>
                            </a:lnTo>
                            <a:lnTo>
                              <a:pt x="240" y="30"/>
                            </a:lnTo>
                            <a:lnTo>
                              <a:pt x="236" y="38"/>
                            </a:lnTo>
                            <a:lnTo>
                              <a:pt x="228" y="48"/>
                            </a:lnTo>
                            <a:lnTo>
                              <a:pt x="228" y="56"/>
                            </a:lnTo>
                            <a:lnTo>
                              <a:pt x="236" y="64"/>
                            </a:lnTo>
                            <a:lnTo>
                              <a:pt x="252" y="71"/>
                            </a:lnTo>
                            <a:lnTo>
                              <a:pt x="252" y="71"/>
                            </a:lnTo>
                            <a:close/>
                          </a:path>
                        </a:pathLst>
                      </a:custGeom>
                      <a:solidFill>
                        <a:srgbClr val="fff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600" bIns="-216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93" name=""/>
                      <p:cNvSpPr/>
                      <p:nvPr/>
                    </p:nvSpPr>
                    <p:spPr>
                      <a:xfrm>
                        <a:off x="3156480" y="4602240"/>
                        <a:ext cx="39960" cy="19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68" h="105">
                            <a:moveTo>
                              <a:pt x="268" y="105"/>
                            </a:moveTo>
                            <a:lnTo>
                              <a:pt x="240" y="102"/>
                            </a:lnTo>
                            <a:lnTo>
                              <a:pt x="217" y="100"/>
                            </a:lnTo>
                            <a:lnTo>
                              <a:pt x="189" y="97"/>
                            </a:lnTo>
                            <a:lnTo>
                              <a:pt x="162" y="95"/>
                            </a:lnTo>
                            <a:lnTo>
                              <a:pt x="138" y="92"/>
                            </a:lnTo>
                            <a:lnTo>
                              <a:pt x="110" y="92"/>
                            </a:lnTo>
                            <a:lnTo>
                              <a:pt x="83" y="90"/>
                            </a:lnTo>
                            <a:lnTo>
                              <a:pt x="55" y="90"/>
                            </a:lnTo>
                            <a:lnTo>
                              <a:pt x="28" y="90"/>
                            </a:lnTo>
                            <a:lnTo>
                              <a:pt x="0" y="90"/>
                            </a:lnTo>
                            <a:lnTo>
                              <a:pt x="12" y="72"/>
                            </a:lnTo>
                            <a:lnTo>
                              <a:pt x="32" y="56"/>
                            </a:lnTo>
                            <a:lnTo>
                              <a:pt x="51" y="41"/>
                            </a:lnTo>
                            <a:lnTo>
                              <a:pt x="75" y="28"/>
                            </a:lnTo>
                            <a:lnTo>
                              <a:pt x="103" y="18"/>
                            </a:lnTo>
                            <a:lnTo>
                              <a:pt x="130" y="7"/>
                            </a:lnTo>
                            <a:lnTo>
                              <a:pt x="162" y="2"/>
                            </a:lnTo>
                            <a:lnTo>
                              <a:pt x="197" y="0"/>
                            </a:lnTo>
                            <a:lnTo>
                              <a:pt x="229" y="0"/>
                            </a:lnTo>
                            <a:lnTo>
                              <a:pt x="268" y="2"/>
                            </a:lnTo>
                            <a:lnTo>
                              <a:pt x="268" y="105"/>
                            </a:lnTo>
                            <a:lnTo>
                              <a:pt x="268" y="105"/>
                            </a:lnTo>
                            <a:close/>
                          </a:path>
                        </a:pathLst>
                      </a:custGeom>
                      <a:solidFill>
                        <a:srgbClr val="fff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000" bIns="-270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94" name=""/>
                      <p:cNvSpPr/>
                      <p:nvPr/>
                    </p:nvSpPr>
                    <p:spPr>
                      <a:xfrm>
                        <a:off x="3140640" y="4725360"/>
                        <a:ext cx="133200" cy="51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89" h="272">
                            <a:moveTo>
                              <a:pt x="886" y="25"/>
                            </a:moveTo>
                            <a:lnTo>
                              <a:pt x="889" y="51"/>
                            </a:lnTo>
                            <a:lnTo>
                              <a:pt x="889" y="74"/>
                            </a:lnTo>
                            <a:lnTo>
                              <a:pt x="886" y="97"/>
                            </a:lnTo>
                            <a:lnTo>
                              <a:pt x="882" y="120"/>
                            </a:lnTo>
                            <a:lnTo>
                              <a:pt x="874" y="144"/>
                            </a:lnTo>
                            <a:lnTo>
                              <a:pt x="866" y="167"/>
                            </a:lnTo>
                            <a:lnTo>
                              <a:pt x="862" y="187"/>
                            </a:lnTo>
                            <a:lnTo>
                              <a:pt x="858" y="213"/>
                            </a:lnTo>
                            <a:lnTo>
                              <a:pt x="858" y="236"/>
                            </a:lnTo>
                            <a:lnTo>
                              <a:pt x="862" y="262"/>
                            </a:lnTo>
                            <a:lnTo>
                              <a:pt x="779" y="249"/>
                            </a:lnTo>
                            <a:lnTo>
                              <a:pt x="697" y="239"/>
                            </a:lnTo>
                            <a:lnTo>
                              <a:pt x="606" y="226"/>
                            </a:lnTo>
                            <a:lnTo>
                              <a:pt x="520" y="218"/>
                            </a:lnTo>
                            <a:lnTo>
                              <a:pt x="429" y="210"/>
                            </a:lnTo>
                            <a:lnTo>
                              <a:pt x="338" y="208"/>
                            </a:lnTo>
                            <a:lnTo>
                              <a:pt x="252" y="213"/>
                            </a:lnTo>
                            <a:lnTo>
                              <a:pt x="165" y="223"/>
                            </a:lnTo>
                            <a:lnTo>
                              <a:pt x="87" y="244"/>
                            </a:lnTo>
                            <a:lnTo>
                              <a:pt x="12" y="272"/>
                            </a:lnTo>
                            <a:lnTo>
                              <a:pt x="4" y="244"/>
                            </a:lnTo>
                            <a:lnTo>
                              <a:pt x="0" y="216"/>
                            </a:lnTo>
                            <a:lnTo>
                              <a:pt x="4" y="187"/>
                            </a:lnTo>
                            <a:lnTo>
                              <a:pt x="16" y="156"/>
                            </a:lnTo>
                            <a:lnTo>
                              <a:pt x="28" y="128"/>
                            </a:lnTo>
                            <a:lnTo>
                              <a:pt x="47" y="100"/>
                            </a:lnTo>
                            <a:lnTo>
                              <a:pt x="67" y="72"/>
                            </a:lnTo>
                            <a:lnTo>
                              <a:pt x="91" y="46"/>
                            </a:lnTo>
                            <a:lnTo>
                              <a:pt x="118" y="20"/>
                            </a:lnTo>
                            <a:lnTo>
                              <a:pt x="146" y="0"/>
                            </a:lnTo>
                            <a:lnTo>
                              <a:pt x="886" y="25"/>
                            </a:lnTo>
                            <a:lnTo>
                              <a:pt x="886" y="25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5040" bIns="50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95" name=""/>
                      <p:cNvSpPr/>
                      <p:nvPr/>
                    </p:nvSpPr>
                    <p:spPr>
                      <a:xfrm>
                        <a:off x="3275640" y="4730040"/>
                        <a:ext cx="90720" cy="94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06" h="494">
                            <a:moveTo>
                              <a:pt x="606" y="26"/>
                            </a:moveTo>
                            <a:lnTo>
                              <a:pt x="583" y="70"/>
                            </a:lnTo>
                            <a:lnTo>
                              <a:pt x="563" y="116"/>
                            </a:lnTo>
                            <a:lnTo>
                              <a:pt x="551" y="162"/>
                            </a:lnTo>
                            <a:lnTo>
                              <a:pt x="543" y="209"/>
                            </a:lnTo>
                            <a:lnTo>
                              <a:pt x="539" y="255"/>
                            </a:lnTo>
                            <a:lnTo>
                              <a:pt x="543" y="304"/>
                            </a:lnTo>
                            <a:lnTo>
                              <a:pt x="547" y="350"/>
                            </a:lnTo>
                            <a:lnTo>
                              <a:pt x="559" y="399"/>
                            </a:lnTo>
                            <a:lnTo>
                              <a:pt x="571" y="445"/>
                            </a:lnTo>
                            <a:lnTo>
                              <a:pt x="583" y="494"/>
                            </a:lnTo>
                            <a:lnTo>
                              <a:pt x="299" y="345"/>
                            </a:lnTo>
                            <a:lnTo>
                              <a:pt x="288" y="314"/>
                            </a:lnTo>
                            <a:lnTo>
                              <a:pt x="280" y="283"/>
                            </a:lnTo>
                            <a:lnTo>
                              <a:pt x="280" y="252"/>
                            </a:lnTo>
                            <a:lnTo>
                              <a:pt x="284" y="219"/>
                            </a:lnTo>
                            <a:lnTo>
                              <a:pt x="291" y="188"/>
                            </a:lnTo>
                            <a:lnTo>
                              <a:pt x="295" y="157"/>
                            </a:lnTo>
                            <a:lnTo>
                              <a:pt x="303" y="126"/>
                            </a:lnTo>
                            <a:lnTo>
                              <a:pt x="307" y="95"/>
                            </a:lnTo>
                            <a:lnTo>
                              <a:pt x="303" y="65"/>
                            </a:lnTo>
                            <a:lnTo>
                              <a:pt x="299" y="36"/>
                            </a:lnTo>
                            <a:lnTo>
                              <a:pt x="276" y="57"/>
                            </a:lnTo>
                            <a:lnTo>
                              <a:pt x="260" y="83"/>
                            </a:lnTo>
                            <a:lnTo>
                              <a:pt x="248" y="111"/>
                            </a:lnTo>
                            <a:lnTo>
                              <a:pt x="236" y="139"/>
                            </a:lnTo>
                            <a:lnTo>
                              <a:pt x="232" y="170"/>
                            </a:lnTo>
                            <a:lnTo>
                              <a:pt x="229" y="201"/>
                            </a:lnTo>
                            <a:lnTo>
                              <a:pt x="225" y="232"/>
                            </a:lnTo>
                            <a:lnTo>
                              <a:pt x="225" y="260"/>
                            </a:lnTo>
                            <a:lnTo>
                              <a:pt x="225" y="286"/>
                            </a:lnTo>
                            <a:lnTo>
                              <a:pt x="229" y="309"/>
                            </a:lnTo>
                            <a:lnTo>
                              <a:pt x="201" y="301"/>
                            </a:lnTo>
                            <a:lnTo>
                              <a:pt x="173" y="291"/>
                            </a:lnTo>
                            <a:lnTo>
                              <a:pt x="142" y="283"/>
                            </a:lnTo>
                            <a:lnTo>
                              <a:pt x="110" y="275"/>
                            </a:lnTo>
                            <a:lnTo>
                              <a:pt x="79" y="265"/>
                            </a:lnTo>
                            <a:lnTo>
                              <a:pt x="51" y="255"/>
                            </a:lnTo>
                            <a:lnTo>
                              <a:pt x="28" y="242"/>
                            </a:lnTo>
                            <a:lnTo>
                              <a:pt x="8" y="227"/>
                            </a:lnTo>
                            <a:lnTo>
                              <a:pt x="0" y="209"/>
                            </a:lnTo>
                            <a:lnTo>
                              <a:pt x="0" y="185"/>
                            </a:lnTo>
                            <a:lnTo>
                              <a:pt x="55" y="0"/>
                            </a:lnTo>
                            <a:lnTo>
                              <a:pt x="606" y="26"/>
                            </a:lnTo>
                            <a:lnTo>
                              <a:pt x="606" y="26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96" name=""/>
                      <p:cNvSpPr/>
                      <p:nvPr/>
                    </p:nvSpPr>
                    <p:spPr>
                      <a:xfrm>
                        <a:off x="3365640" y="4733280"/>
                        <a:ext cx="37080" cy="124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48" h="653">
                            <a:moveTo>
                              <a:pt x="154" y="10"/>
                            </a:moveTo>
                            <a:lnTo>
                              <a:pt x="146" y="72"/>
                            </a:lnTo>
                            <a:lnTo>
                              <a:pt x="138" y="136"/>
                            </a:lnTo>
                            <a:lnTo>
                              <a:pt x="138" y="200"/>
                            </a:lnTo>
                            <a:lnTo>
                              <a:pt x="138" y="267"/>
                            </a:lnTo>
                            <a:lnTo>
                              <a:pt x="142" y="334"/>
                            </a:lnTo>
                            <a:lnTo>
                              <a:pt x="150" y="401"/>
                            </a:lnTo>
                            <a:lnTo>
                              <a:pt x="166" y="468"/>
                            </a:lnTo>
                            <a:lnTo>
                              <a:pt x="185" y="532"/>
                            </a:lnTo>
                            <a:lnTo>
                              <a:pt x="213" y="593"/>
                            </a:lnTo>
                            <a:lnTo>
                              <a:pt x="248" y="653"/>
                            </a:lnTo>
                            <a:lnTo>
                              <a:pt x="174" y="617"/>
                            </a:lnTo>
                            <a:lnTo>
                              <a:pt x="114" y="573"/>
                            </a:lnTo>
                            <a:lnTo>
                              <a:pt x="71" y="527"/>
                            </a:lnTo>
                            <a:lnTo>
                              <a:pt x="40" y="473"/>
                            </a:lnTo>
                            <a:lnTo>
                              <a:pt x="20" y="416"/>
                            </a:lnTo>
                            <a:lnTo>
                              <a:pt x="8" y="357"/>
                            </a:lnTo>
                            <a:lnTo>
                              <a:pt x="0" y="295"/>
                            </a:lnTo>
                            <a:lnTo>
                              <a:pt x="0" y="234"/>
                            </a:lnTo>
                            <a:lnTo>
                              <a:pt x="0" y="169"/>
                            </a:lnTo>
                            <a:lnTo>
                              <a:pt x="4" y="108"/>
                            </a:lnTo>
                            <a:lnTo>
                              <a:pt x="20" y="95"/>
                            </a:lnTo>
                            <a:lnTo>
                              <a:pt x="28" y="82"/>
                            </a:lnTo>
                            <a:lnTo>
                              <a:pt x="36" y="64"/>
                            </a:lnTo>
                            <a:lnTo>
                              <a:pt x="40" y="46"/>
                            </a:lnTo>
                            <a:lnTo>
                              <a:pt x="48" y="31"/>
                            </a:lnTo>
                            <a:lnTo>
                              <a:pt x="55" y="15"/>
                            </a:lnTo>
                            <a:lnTo>
                              <a:pt x="67" y="5"/>
                            </a:lnTo>
                            <a:lnTo>
                              <a:pt x="87" y="0"/>
                            </a:lnTo>
                            <a:lnTo>
                              <a:pt x="114" y="0"/>
                            </a:lnTo>
                            <a:lnTo>
                              <a:pt x="154" y="10"/>
                            </a:lnTo>
                            <a:lnTo>
                              <a:pt x="154" y="10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97" name=""/>
                      <p:cNvSpPr/>
                      <p:nvPr/>
                    </p:nvSpPr>
                    <p:spPr>
                      <a:xfrm>
                        <a:off x="3135960" y="4777920"/>
                        <a:ext cx="125280" cy="72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38" h="377">
                            <a:moveTo>
                              <a:pt x="838" y="46"/>
                            </a:moveTo>
                            <a:lnTo>
                              <a:pt x="802" y="49"/>
                            </a:lnTo>
                            <a:lnTo>
                              <a:pt x="771" y="46"/>
                            </a:lnTo>
                            <a:lnTo>
                              <a:pt x="735" y="43"/>
                            </a:lnTo>
                            <a:lnTo>
                              <a:pt x="696" y="43"/>
                            </a:lnTo>
                            <a:lnTo>
                              <a:pt x="661" y="43"/>
                            </a:lnTo>
                            <a:lnTo>
                              <a:pt x="625" y="46"/>
                            </a:lnTo>
                            <a:lnTo>
                              <a:pt x="594" y="54"/>
                            </a:lnTo>
                            <a:lnTo>
                              <a:pt x="558" y="61"/>
                            </a:lnTo>
                            <a:lnTo>
                              <a:pt x="527" y="77"/>
                            </a:lnTo>
                            <a:lnTo>
                              <a:pt x="499" y="95"/>
                            </a:lnTo>
                            <a:lnTo>
                              <a:pt x="547" y="149"/>
                            </a:lnTo>
                            <a:lnTo>
                              <a:pt x="558" y="195"/>
                            </a:lnTo>
                            <a:lnTo>
                              <a:pt x="539" y="234"/>
                            </a:lnTo>
                            <a:lnTo>
                              <a:pt x="495" y="267"/>
                            </a:lnTo>
                            <a:lnTo>
                              <a:pt x="436" y="293"/>
                            </a:lnTo>
                            <a:lnTo>
                              <a:pt x="366" y="313"/>
                            </a:lnTo>
                            <a:lnTo>
                              <a:pt x="295" y="331"/>
                            </a:lnTo>
                            <a:lnTo>
                              <a:pt x="224" y="347"/>
                            </a:lnTo>
                            <a:lnTo>
                              <a:pt x="165" y="362"/>
                            </a:lnTo>
                            <a:lnTo>
                              <a:pt x="122" y="377"/>
                            </a:lnTo>
                            <a:lnTo>
                              <a:pt x="94" y="352"/>
                            </a:lnTo>
                            <a:lnTo>
                              <a:pt x="70" y="326"/>
                            </a:lnTo>
                            <a:lnTo>
                              <a:pt x="51" y="298"/>
                            </a:lnTo>
                            <a:lnTo>
                              <a:pt x="35" y="270"/>
                            </a:lnTo>
                            <a:lnTo>
                              <a:pt x="19" y="239"/>
                            </a:lnTo>
                            <a:lnTo>
                              <a:pt x="11" y="205"/>
                            </a:lnTo>
                            <a:lnTo>
                              <a:pt x="4" y="172"/>
                            </a:lnTo>
                            <a:lnTo>
                              <a:pt x="0" y="138"/>
                            </a:lnTo>
                            <a:lnTo>
                              <a:pt x="0" y="105"/>
                            </a:lnTo>
                            <a:lnTo>
                              <a:pt x="4" y="69"/>
                            </a:lnTo>
                            <a:lnTo>
                              <a:pt x="70" y="41"/>
                            </a:lnTo>
                            <a:lnTo>
                              <a:pt x="145" y="20"/>
                            </a:lnTo>
                            <a:lnTo>
                              <a:pt x="228" y="7"/>
                            </a:lnTo>
                            <a:lnTo>
                              <a:pt x="314" y="2"/>
                            </a:lnTo>
                            <a:lnTo>
                              <a:pt x="401" y="0"/>
                            </a:lnTo>
                            <a:lnTo>
                              <a:pt x="491" y="5"/>
                            </a:lnTo>
                            <a:lnTo>
                              <a:pt x="582" y="13"/>
                            </a:lnTo>
                            <a:lnTo>
                              <a:pt x="673" y="23"/>
                            </a:lnTo>
                            <a:lnTo>
                              <a:pt x="755" y="36"/>
                            </a:lnTo>
                            <a:lnTo>
                              <a:pt x="838" y="49"/>
                            </a:lnTo>
                            <a:lnTo>
                              <a:pt x="838" y="49"/>
                            </a:lnTo>
                            <a:lnTo>
                              <a:pt x="838" y="46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5200" bIns="252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98" name=""/>
                      <p:cNvSpPr/>
                      <p:nvPr/>
                    </p:nvSpPr>
                    <p:spPr>
                      <a:xfrm>
                        <a:off x="3235680" y="4798440"/>
                        <a:ext cx="45720" cy="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07" h="48">
                            <a:moveTo>
                              <a:pt x="307" y="46"/>
                            </a:moveTo>
                            <a:lnTo>
                              <a:pt x="0" y="12"/>
                            </a:lnTo>
                            <a:lnTo>
                              <a:pt x="23" y="5"/>
                            </a:lnTo>
                            <a:lnTo>
                              <a:pt x="55" y="2"/>
                            </a:lnTo>
                            <a:lnTo>
                              <a:pt x="86" y="0"/>
                            </a:lnTo>
                            <a:lnTo>
                              <a:pt x="118" y="0"/>
                            </a:lnTo>
                            <a:lnTo>
                              <a:pt x="153" y="2"/>
                            </a:lnTo>
                            <a:lnTo>
                              <a:pt x="189" y="7"/>
                            </a:lnTo>
                            <a:lnTo>
                              <a:pt x="220" y="15"/>
                            </a:lnTo>
                            <a:lnTo>
                              <a:pt x="252" y="25"/>
                            </a:lnTo>
                            <a:lnTo>
                              <a:pt x="279" y="36"/>
                            </a:lnTo>
                            <a:lnTo>
                              <a:pt x="307" y="48"/>
                            </a:lnTo>
                            <a:lnTo>
                              <a:pt x="307" y="48"/>
                            </a:lnTo>
                            <a:lnTo>
                              <a:pt x="307" y="46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99" name=""/>
                      <p:cNvSpPr/>
                      <p:nvPr/>
                    </p:nvSpPr>
                    <p:spPr>
                      <a:xfrm>
                        <a:off x="3269880" y="4798800"/>
                        <a:ext cx="121320" cy="70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11" h="370">
                            <a:moveTo>
                              <a:pt x="645" y="232"/>
                            </a:moveTo>
                            <a:lnTo>
                              <a:pt x="811" y="370"/>
                            </a:lnTo>
                            <a:lnTo>
                              <a:pt x="0" y="160"/>
                            </a:lnTo>
                            <a:lnTo>
                              <a:pt x="0" y="108"/>
                            </a:lnTo>
                            <a:lnTo>
                              <a:pt x="24" y="108"/>
                            </a:lnTo>
                            <a:lnTo>
                              <a:pt x="51" y="108"/>
                            </a:lnTo>
                            <a:lnTo>
                              <a:pt x="75" y="108"/>
                            </a:lnTo>
                            <a:lnTo>
                              <a:pt x="98" y="106"/>
                            </a:lnTo>
                            <a:lnTo>
                              <a:pt x="122" y="103"/>
                            </a:lnTo>
                            <a:lnTo>
                              <a:pt x="146" y="100"/>
                            </a:lnTo>
                            <a:lnTo>
                              <a:pt x="165" y="95"/>
                            </a:lnTo>
                            <a:lnTo>
                              <a:pt x="189" y="88"/>
                            </a:lnTo>
                            <a:lnTo>
                              <a:pt x="208" y="80"/>
                            </a:lnTo>
                            <a:lnTo>
                              <a:pt x="228" y="72"/>
                            </a:lnTo>
                            <a:lnTo>
                              <a:pt x="173" y="0"/>
                            </a:lnTo>
                            <a:lnTo>
                              <a:pt x="201" y="13"/>
                            </a:lnTo>
                            <a:lnTo>
                              <a:pt x="236" y="34"/>
                            </a:lnTo>
                            <a:lnTo>
                              <a:pt x="283" y="59"/>
                            </a:lnTo>
                            <a:lnTo>
                              <a:pt x="338" y="88"/>
                            </a:lnTo>
                            <a:lnTo>
                              <a:pt x="397" y="116"/>
                            </a:lnTo>
                            <a:lnTo>
                              <a:pt x="456" y="144"/>
                            </a:lnTo>
                            <a:lnTo>
                              <a:pt x="511" y="172"/>
                            </a:lnTo>
                            <a:lnTo>
                              <a:pt x="567" y="198"/>
                            </a:lnTo>
                            <a:lnTo>
                              <a:pt x="610" y="216"/>
                            </a:lnTo>
                            <a:lnTo>
                              <a:pt x="645" y="232"/>
                            </a:lnTo>
                            <a:lnTo>
                              <a:pt x="645" y="232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3760" bIns="237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00" name=""/>
                      <p:cNvSpPr/>
                      <p:nvPr/>
                    </p:nvSpPr>
                    <p:spPr>
                      <a:xfrm>
                        <a:off x="3521880" y="4800960"/>
                        <a:ext cx="177840" cy="346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89" h="1815">
                            <a:moveTo>
                              <a:pt x="1090" y="1815"/>
                            </a:moveTo>
                            <a:lnTo>
                              <a:pt x="1031" y="1805"/>
                            </a:lnTo>
                            <a:lnTo>
                              <a:pt x="964" y="1797"/>
                            </a:lnTo>
                            <a:lnTo>
                              <a:pt x="890" y="1792"/>
                            </a:lnTo>
                            <a:lnTo>
                              <a:pt x="815" y="1784"/>
                            </a:lnTo>
                            <a:lnTo>
                              <a:pt x="736" y="1782"/>
                            </a:lnTo>
                            <a:lnTo>
                              <a:pt x="657" y="1779"/>
                            </a:lnTo>
                            <a:lnTo>
                              <a:pt x="575" y="1776"/>
                            </a:lnTo>
                            <a:lnTo>
                              <a:pt x="496" y="1779"/>
                            </a:lnTo>
                            <a:lnTo>
                              <a:pt x="413" y="1782"/>
                            </a:lnTo>
                            <a:lnTo>
                              <a:pt x="339" y="1789"/>
                            </a:lnTo>
                            <a:lnTo>
                              <a:pt x="0" y="1409"/>
                            </a:lnTo>
                            <a:lnTo>
                              <a:pt x="1189" y="0"/>
                            </a:lnTo>
                            <a:lnTo>
                              <a:pt x="1145" y="178"/>
                            </a:lnTo>
                            <a:lnTo>
                              <a:pt x="1102" y="358"/>
                            </a:lnTo>
                            <a:lnTo>
                              <a:pt x="1063" y="535"/>
                            </a:lnTo>
                            <a:lnTo>
                              <a:pt x="1027" y="718"/>
                            </a:lnTo>
                            <a:lnTo>
                              <a:pt x="1000" y="897"/>
                            </a:lnTo>
                            <a:lnTo>
                              <a:pt x="984" y="1080"/>
                            </a:lnTo>
                            <a:lnTo>
                              <a:pt x="980" y="1262"/>
                            </a:lnTo>
                            <a:lnTo>
                              <a:pt x="996" y="1445"/>
                            </a:lnTo>
                            <a:lnTo>
                              <a:pt x="1035" y="1630"/>
                            </a:lnTo>
                            <a:lnTo>
                              <a:pt x="1094" y="1815"/>
                            </a:lnTo>
                            <a:lnTo>
                              <a:pt x="1094" y="1815"/>
                            </a:lnTo>
                            <a:lnTo>
                              <a:pt x="1090" y="1815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01" name=""/>
                      <p:cNvSpPr/>
                      <p:nvPr/>
                    </p:nvSpPr>
                    <p:spPr>
                      <a:xfrm>
                        <a:off x="3142440" y="4829400"/>
                        <a:ext cx="102600" cy="42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85" h="221">
                            <a:moveTo>
                              <a:pt x="567" y="36"/>
                            </a:moveTo>
                            <a:lnTo>
                              <a:pt x="661" y="0"/>
                            </a:lnTo>
                            <a:lnTo>
                              <a:pt x="685" y="221"/>
                            </a:lnTo>
                            <a:lnTo>
                              <a:pt x="244" y="210"/>
                            </a:lnTo>
                            <a:lnTo>
                              <a:pt x="256" y="200"/>
                            </a:lnTo>
                            <a:lnTo>
                              <a:pt x="267" y="190"/>
                            </a:lnTo>
                            <a:lnTo>
                              <a:pt x="283" y="185"/>
                            </a:lnTo>
                            <a:lnTo>
                              <a:pt x="295" y="179"/>
                            </a:lnTo>
                            <a:lnTo>
                              <a:pt x="311" y="174"/>
                            </a:lnTo>
                            <a:lnTo>
                              <a:pt x="326" y="169"/>
                            </a:lnTo>
                            <a:lnTo>
                              <a:pt x="338" y="161"/>
                            </a:lnTo>
                            <a:lnTo>
                              <a:pt x="350" y="154"/>
                            </a:lnTo>
                            <a:lnTo>
                              <a:pt x="358" y="146"/>
                            </a:lnTo>
                            <a:lnTo>
                              <a:pt x="362" y="133"/>
                            </a:lnTo>
                            <a:lnTo>
                              <a:pt x="326" y="133"/>
                            </a:lnTo>
                            <a:lnTo>
                              <a:pt x="295" y="141"/>
                            </a:lnTo>
                            <a:lnTo>
                              <a:pt x="260" y="154"/>
                            </a:lnTo>
                            <a:lnTo>
                              <a:pt x="228" y="169"/>
                            </a:lnTo>
                            <a:lnTo>
                              <a:pt x="197" y="185"/>
                            </a:lnTo>
                            <a:lnTo>
                              <a:pt x="161" y="200"/>
                            </a:lnTo>
                            <a:lnTo>
                              <a:pt x="126" y="210"/>
                            </a:lnTo>
                            <a:lnTo>
                              <a:pt x="86" y="215"/>
                            </a:lnTo>
                            <a:lnTo>
                              <a:pt x="43" y="210"/>
                            </a:lnTo>
                            <a:lnTo>
                              <a:pt x="0" y="195"/>
                            </a:lnTo>
                            <a:lnTo>
                              <a:pt x="567" y="0"/>
                            </a:lnTo>
                            <a:lnTo>
                              <a:pt x="574" y="0"/>
                            </a:lnTo>
                            <a:lnTo>
                              <a:pt x="578" y="2"/>
                            </a:lnTo>
                            <a:lnTo>
                              <a:pt x="578" y="5"/>
                            </a:lnTo>
                            <a:lnTo>
                              <a:pt x="570" y="10"/>
                            </a:lnTo>
                            <a:lnTo>
                              <a:pt x="563" y="12"/>
                            </a:lnTo>
                            <a:lnTo>
                              <a:pt x="555" y="18"/>
                            </a:lnTo>
                            <a:lnTo>
                              <a:pt x="551" y="23"/>
                            </a:lnTo>
                            <a:lnTo>
                              <a:pt x="551" y="28"/>
                            </a:lnTo>
                            <a:lnTo>
                              <a:pt x="555" y="33"/>
                            </a:lnTo>
                            <a:lnTo>
                              <a:pt x="567" y="36"/>
                            </a:lnTo>
                            <a:lnTo>
                              <a:pt x="567" y="36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" bIns="-46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02" name=""/>
                      <p:cNvSpPr/>
                      <p:nvPr/>
                    </p:nvSpPr>
                    <p:spPr>
                      <a:xfrm>
                        <a:off x="2913480" y="4837320"/>
                        <a:ext cx="41040" cy="24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75" h="128">
                            <a:moveTo>
                              <a:pt x="244" y="128"/>
                            </a:moveTo>
                            <a:lnTo>
                              <a:pt x="16" y="92"/>
                            </a:lnTo>
                            <a:lnTo>
                              <a:pt x="27" y="82"/>
                            </a:lnTo>
                            <a:lnTo>
                              <a:pt x="35" y="72"/>
                            </a:lnTo>
                            <a:lnTo>
                              <a:pt x="35" y="61"/>
                            </a:lnTo>
                            <a:lnTo>
                              <a:pt x="35" y="48"/>
                            </a:lnTo>
                            <a:lnTo>
                              <a:pt x="27" y="36"/>
                            </a:lnTo>
                            <a:lnTo>
                              <a:pt x="20" y="25"/>
                            </a:lnTo>
                            <a:lnTo>
                              <a:pt x="12" y="15"/>
                            </a:lnTo>
                            <a:lnTo>
                              <a:pt x="8" y="10"/>
                            </a:lnTo>
                            <a:lnTo>
                              <a:pt x="0" y="5"/>
                            </a:lnTo>
                            <a:lnTo>
                              <a:pt x="0" y="5"/>
                            </a:lnTo>
                            <a:lnTo>
                              <a:pt x="31" y="2"/>
                            </a:lnTo>
                            <a:lnTo>
                              <a:pt x="75" y="0"/>
                            </a:lnTo>
                            <a:lnTo>
                              <a:pt x="118" y="2"/>
                            </a:lnTo>
                            <a:lnTo>
                              <a:pt x="161" y="10"/>
                            </a:lnTo>
                            <a:lnTo>
                              <a:pt x="205" y="18"/>
                            </a:lnTo>
                            <a:lnTo>
                              <a:pt x="240" y="31"/>
                            </a:lnTo>
                            <a:lnTo>
                              <a:pt x="264" y="48"/>
                            </a:lnTo>
                            <a:lnTo>
                              <a:pt x="275" y="69"/>
                            </a:lnTo>
                            <a:lnTo>
                              <a:pt x="271" y="97"/>
                            </a:lnTo>
                            <a:lnTo>
                              <a:pt x="244" y="128"/>
                            </a:lnTo>
                            <a:lnTo>
                              <a:pt x="244" y="128"/>
                            </a:lnTo>
                            <a:close/>
                          </a:path>
                        </a:pathLst>
                      </a:custGeom>
                      <a:solidFill>
                        <a:srgbClr val="fff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2680" bIns="-226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03" name=""/>
                      <p:cNvSpPr/>
                      <p:nvPr/>
                    </p:nvSpPr>
                    <p:spPr>
                      <a:xfrm>
                        <a:off x="3283920" y="4845960"/>
                        <a:ext cx="90720" cy="32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06" h="170">
                            <a:moveTo>
                              <a:pt x="229" y="144"/>
                            </a:moveTo>
                            <a:lnTo>
                              <a:pt x="205" y="131"/>
                            </a:lnTo>
                            <a:lnTo>
                              <a:pt x="177" y="118"/>
                            </a:lnTo>
                            <a:lnTo>
                              <a:pt x="150" y="105"/>
                            </a:lnTo>
                            <a:lnTo>
                              <a:pt x="122" y="92"/>
                            </a:lnTo>
                            <a:lnTo>
                              <a:pt x="95" y="82"/>
                            </a:lnTo>
                            <a:lnTo>
                              <a:pt x="71" y="69"/>
                            </a:lnTo>
                            <a:lnTo>
                              <a:pt x="48" y="54"/>
                            </a:lnTo>
                            <a:lnTo>
                              <a:pt x="28" y="38"/>
                            </a:lnTo>
                            <a:lnTo>
                              <a:pt x="12" y="20"/>
                            </a:lnTo>
                            <a:lnTo>
                              <a:pt x="0" y="0"/>
                            </a:lnTo>
                            <a:lnTo>
                              <a:pt x="606" y="170"/>
                            </a:lnTo>
                            <a:lnTo>
                              <a:pt x="229" y="144"/>
                            </a:lnTo>
                            <a:lnTo>
                              <a:pt x="229" y="144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4400" bIns="-144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04" name=""/>
                      <p:cNvSpPr/>
                      <p:nvPr/>
                    </p:nvSpPr>
                    <p:spPr>
                      <a:xfrm>
                        <a:off x="3273480" y="4857840"/>
                        <a:ext cx="24480" cy="15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65" h="82">
                            <a:moveTo>
                              <a:pt x="165" y="82"/>
                            </a:moveTo>
                            <a:lnTo>
                              <a:pt x="15" y="82"/>
                            </a:lnTo>
                            <a:lnTo>
                              <a:pt x="0" y="0"/>
                            </a:lnTo>
                            <a:lnTo>
                              <a:pt x="15" y="7"/>
                            </a:lnTo>
                            <a:lnTo>
                              <a:pt x="31" y="15"/>
                            </a:lnTo>
                            <a:lnTo>
                              <a:pt x="51" y="20"/>
                            </a:lnTo>
                            <a:lnTo>
                              <a:pt x="66" y="28"/>
                            </a:lnTo>
                            <a:lnTo>
                              <a:pt x="86" y="36"/>
                            </a:lnTo>
                            <a:lnTo>
                              <a:pt x="102" y="43"/>
                            </a:lnTo>
                            <a:lnTo>
                              <a:pt x="118" y="51"/>
                            </a:lnTo>
                            <a:lnTo>
                              <a:pt x="133" y="59"/>
                            </a:lnTo>
                            <a:lnTo>
                              <a:pt x="149" y="69"/>
                            </a:lnTo>
                            <a:lnTo>
                              <a:pt x="165" y="82"/>
                            </a:lnTo>
                            <a:lnTo>
                              <a:pt x="165" y="82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1320" bIns="-313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05" name=""/>
                      <p:cNvSpPr/>
                      <p:nvPr/>
                    </p:nvSpPr>
                    <p:spPr>
                      <a:xfrm>
                        <a:off x="3074040" y="4880880"/>
                        <a:ext cx="237960" cy="125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590" h="656">
                            <a:moveTo>
                              <a:pt x="1590" y="47"/>
                            </a:moveTo>
                            <a:lnTo>
                              <a:pt x="1555" y="95"/>
                            </a:lnTo>
                            <a:lnTo>
                              <a:pt x="1523" y="144"/>
                            </a:lnTo>
                            <a:lnTo>
                              <a:pt x="1504" y="196"/>
                            </a:lnTo>
                            <a:lnTo>
                              <a:pt x="1488" y="250"/>
                            </a:lnTo>
                            <a:lnTo>
                              <a:pt x="1472" y="301"/>
                            </a:lnTo>
                            <a:lnTo>
                              <a:pt x="1464" y="358"/>
                            </a:lnTo>
                            <a:lnTo>
                              <a:pt x="1456" y="412"/>
                            </a:lnTo>
                            <a:lnTo>
                              <a:pt x="1453" y="468"/>
                            </a:lnTo>
                            <a:lnTo>
                              <a:pt x="1449" y="522"/>
                            </a:lnTo>
                            <a:lnTo>
                              <a:pt x="1441" y="579"/>
                            </a:lnTo>
                            <a:lnTo>
                              <a:pt x="1397" y="592"/>
                            </a:lnTo>
                            <a:lnTo>
                              <a:pt x="1354" y="602"/>
                            </a:lnTo>
                            <a:lnTo>
                              <a:pt x="1311" y="612"/>
                            </a:lnTo>
                            <a:lnTo>
                              <a:pt x="1268" y="617"/>
                            </a:lnTo>
                            <a:lnTo>
                              <a:pt x="1228" y="622"/>
                            </a:lnTo>
                            <a:lnTo>
                              <a:pt x="1185" y="628"/>
                            </a:lnTo>
                            <a:lnTo>
                              <a:pt x="1142" y="633"/>
                            </a:lnTo>
                            <a:lnTo>
                              <a:pt x="1098" y="638"/>
                            </a:lnTo>
                            <a:lnTo>
                              <a:pt x="1055" y="645"/>
                            </a:lnTo>
                            <a:lnTo>
                              <a:pt x="1008" y="656"/>
                            </a:lnTo>
                            <a:lnTo>
                              <a:pt x="1008" y="612"/>
                            </a:lnTo>
                            <a:lnTo>
                              <a:pt x="1020" y="566"/>
                            </a:lnTo>
                            <a:lnTo>
                              <a:pt x="1035" y="525"/>
                            </a:lnTo>
                            <a:lnTo>
                              <a:pt x="1059" y="481"/>
                            </a:lnTo>
                            <a:lnTo>
                              <a:pt x="1090" y="442"/>
                            </a:lnTo>
                            <a:lnTo>
                              <a:pt x="1126" y="406"/>
                            </a:lnTo>
                            <a:lnTo>
                              <a:pt x="1169" y="373"/>
                            </a:lnTo>
                            <a:lnTo>
                              <a:pt x="1216" y="342"/>
                            </a:lnTo>
                            <a:lnTo>
                              <a:pt x="1271" y="317"/>
                            </a:lnTo>
                            <a:lnTo>
                              <a:pt x="1331" y="296"/>
                            </a:lnTo>
                            <a:lnTo>
                              <a:pt x="1256" y="291"/>
                            </a:lnTo>
                            <a:lnTo>
                              <a:pt x="1185" y="288"/>
                            </a:lnTo>
                            <a:lnTo>
                              <a:pt x="1114" y="286"/>
                            </a:lnTo>
                            <a:lnTo>
                              <a:pt x="1047" y="283"/>
                            </a:lnTo>
                            <a:lnTo>
                              <a:pt x="984" y="278"/>
                            </a:lnTo>
                            <a:lnTo>
                              <a:pt x="921" y="270"/>
                            </a:lnTo>
                            <a:lnTo>
                              <a:pt x="858" y="260"/>
                            </a:lnTo>
                            <a:lnTo>
                              <a:pt x="799" y="247"/>
                            </a:lnTo>
                            <a:lnTo>
                              <a:pt x="740" y="229"/>
                            </a:lnTo>
                            <a:lnTo>
                              <a:pt x="685" y="209"/>
                            </a:lnTo>
                            <a:lnTo>
                              <a:pt x="689" y="227"/>
                            </a:lnTo>
                            <a:lnTo>
                              <a:pt x="693" y="245"/>
                            </a:lnTo>
                            <a:lnTo>
                              <a:pt x="701" y="263"/>
                            </a:lnTo>
                            <a:lnTo>
                              <a:pt x="713" y="281"/>
                            </a:lnTo>
                            <a:lnTo>
                              <a:pt x="721" y="299"/>
                            </a:lnTo>
                            <a:lnTo>
                              <a:pt x="732" y="319"/>
                            </a:lnTo>
                            <a:lnTo>
                              <a:pt x="740" y="337"/>
                            </a:lnTo>
                            <a:lnTo>
                              <a:pt x="748" y="355"/>
                            </a:lnTo>
                            <a:lnTo>
                              <a:pt x="756" y="376"/>
                            </a:lnTo>
                            <a:lnTo>
                              <a:pt x="764" y="394"/>
                            </a:lnTo>
                            <a:lnTo>
                              <a:pt x="795" y="640"/>
                            </a:lnTo>
                            <a:lnTo>
                              <a:pt x="748" y="635"/>
                            </a:lnTo>
                            <a:lnTo>
                              <a:pt x="705" y="630"/>
                            </a:lnTo>
                            <a:lnTo>
                              <a:pt x="658" y="620"/>
                            </a:lnTo>
                            <a:lnTo>
                              <a:pt x="614" y="610"/>
                            </a:lnTo>
                            <a:lnTo>
                              <a:pt x="571" y="594"/>
                            </a:lnTo>
                            <a:lnTo>
                              <a:pt x="532" y="579"/>
                            </a:lnTo>
                            <a:lnTo>
                              <a:pt x="492" y="561"/>
                            </a:lnTo>
                            <a:lnTo>
                              <a:pt x="457" y="543"/>
                            </a:lnTo>
                            <a:lnTo>
                              <a:pt x="429" y="520"/>
                            </a:lnTo>
                            <a:lnTo>
                              <a:pt x="402" y="496"/>
                            </a:lnTo>
                            <a:lnTo>
                              <a:pt x="418" y="481"/>
                            </a:lnTo>
                            <a:lnTo>
                              <a:pt x="441" y="473"/>
                            </a:lnTo>
                            <a:lnTo>
                              <a:pt x="473" y="471"/>
                            </a:lnTo>
                            <a:lnTo>
                              <a:pt x="508" y="471"/>
                            </a:lnTo>
                            <a:lnTo>
                              <a:pt x="543" y="471"/>
                            </a:lnTo>
                            <a:lnTo>
                              <a:pt x="579" y="468"/>
                            </a:lnTo>
                            <a:lnTo>
                              <a:pt x="602" y="463"/>
                            </a:lnTo>
                            <a:lnTo>
                              <a:pt x="618" y="453"/>
                            </a:lnTo>
                            <a:lnTo>
                              <a:pt x="622" y="435"/>
                            </a:lnTo>
                            <a:lnTo>
                              <a:pt x="606" y="409"/>
                            </a:lnTo>
                            <a:lnTo>
                              <a:pt x="591" y="406"/>
                            </a:lnTo>
                            <a:lnTo>
                              <a:pt x="571" y="401"/>
                            </a:lnTo>
                            <a:lnTo>
                              <a:pt x="555" y="396"/>
                            </a:lnTo>
                            <a:lnTo>
                              <a:pt x="540" y="394"/>
                            </a:lnTo>
                            <a:lnTo>
                              <a:pt x="520" y="388"/>
                            </a:lnTo>
                            <a:lnTo>
                              <a:pt x="500" y="386"/>
                            </a:lnTo>
                            <a:lnTo>
                              <a:pt x="480" y="383"/>
                            </a:lnTo>
                            <a:lnTo>
                              <a:pt x="461" y="381"/>
                            </a:lnTo>
                            <a:lnTo>
                              <a:pt x="441" y="381"/>
                            </a:lnTo>
                            <a:lnTo>
                              <a:pt x="418" y="383"/>
                            </a:lnTo>
                            <a:lnTo>
                              <a:pt x="378" y="373"/>
                            </a:lnTo>
                            <a:lnTo>
                              <a:pt x="323" y="365"/>
                            </a:lnTo>
                            <a:lnTo>
                              <a:pt x="260" y="360"/>
                            </a:lnTo>
                            <a:lnTo>
                              <a:pt x="189" y="355"/>
                            </a:lnTo>
                            <a:lnTo>
                              <a:pt x="126" y="345"/>
                            </a:lnTo>
                            <a:lnTo>
                              <a:pt x="67" y="329"/>
                            </a:lnTo>
                            <a:lnTo>
                              <a:pt x="24" y="309"/>
                            </a:lnTo>
                            <a:lnTo>
                              <a:pt x="0" y="275"/>
                            </a:lnTo>
                            <a:lnTo>
                              <a:pt x="4" y="232"/>
                            </a:lnTo>
                            <a:lnTo>
                              <a:pt x="36" y="173"/>
                            </a:lnTo>
                            <a:lnTo>
                              <a:pt x="103" y="90"/>
                            </a:lnTo>
                            <a:lnTo>
                              <a:pt x="185" y="36"/>
                            </a:lnTo>
                            <a:lnTo>
                              <a:pt x="280" y="8"/>
                            </a:lnTo>
                            <a:lnTo>
                              <a:pt x="382" y="0"/>
                            </a:lnTo>
                            <a:lnTo>
                              <a:pt x="496" y="3"/>
                            </a:lnTo>
                            <a:lnTo>
                              <a:pt x="610" y="16"/>
                            </a:lnTo>
                            <a:lnTo>
                              <a:pt x="732" y="31"/>
                            </a:lnTo>
                            <a:lnTo>
                              <a:pt x="858" y="42"/>
                            </a:lnTo>
                            <a:lnTo>
                              <a:pt x="980" y="47"/>
                            </a:lnTo>
                            <a:lnTo>
                              <a:pt x="1102" y="39"/>
                            </a:lnTo>
                            <a:lnTo>
                              <a:pt x="1110" y="39"/>
                            </a:lnTo>
                            <a:lnTo>
                              <a:pt x="1138" y="42"/>
                            </a:lnTo>
                            <a:lnTo>
                              <a:pt x="1177" y="44"/>
                            </a:lnTo>
                            <a:lnTo>
                              <a:pt x="1228" y="49"/>
                            </a:lnTo>
                            <a:lnTo>
                              <a:pt x="1287" y="52"/>
                            </a:lnTo>
                            <a:lnTo>
                              <a:pt x="1350" y="54"/>
                            </a:lnTo>
                            <a:lnTo>
                              <a:pt x="1413" y="57"/>
                            </a:lnTo>
                            <a:lnTo>
                              <a:pt x="1480" y="57"/>
                            </a:lnTo>
                            <a:lnTo>
                              <a:pt x="1539" y="54"/>
                            </a:lnTo>
                            <a:lnTo>
                              <a:pt x="1590" y="49"/>
                            </a:lnTo>
                            <a:lnTo>
                              <a:pt x="1590" y="49"/>
                            </a:lnTo>
                            <a:lnTo>
                              <a:pt x="1590" y="47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06" name=""/>
                      <p:cNvSpPr/>
                      <p:nvPr/>
                    </p:nvSpPr>
                    <p:spPr>
                      <a:xfrm>
                        <a:off x="3128040" y="4890240"/>
                        <a:ext cx="290880" cy="462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944" h="2421">
                            <a:moveTo>
                              <a:pt x="1512" y="16"/>
                            </a:moveTo>
                            <a:lnTo>
                              <a:pt x="1453" y="255"/>
                            </a:lnTo>
                            <a:lnTo>
                              <a:pt x="1417" y="499"/>
                            </a:lnTo>
                            <a:lnTo>
                              <a:pt x="1413" y="746"/>
                            </a:lnTo>
                            <a:lnTo>
                              <a:pt x="1433" y="992"/>
                            </a:lnTo>
                            <a:lnTo>
                              <a:pt x="1472" y="1242"/>
                            </a:lnTo>
                            <a:lnTo>
                              <a:pt x="1535" y="1488"/>
                            </a:lnTo>
                            <a:lnTo>
                              <a:pt x="1614" y="1730"/>
                            </a:lnTo>
                            <a:lnTo>
                              <a:pt x="1712" y="1969"/>
                            </a:lnTo>
                            <a:lnTo>
                              <a:pt x="1822" y="2198"/>
                            </a:lnTo>
                            <a:lnTo>
                              <a:pt x="1944" y="2421"/>
                            </a:lnTo>
                            <a:lnTo>
                              <a:pt x="1763" y="2336"/>
                            </a:lnTo>
                            <a:lnTo>
                              <a:pt x="1582" y="2249"/>
                            </a:lnTo>
                            <a:lnTo>
                              <a:pt x="1401" y="2162"/>
                            </a:lnTo>
                            <a:lnTo>
                              <a:pt x="1216" y="2077"/>
                            </a:lnTo>
                            <a:lnTo>
                              <a:pt x="1031" y="1992"/>
                            </a:lnTo>
                            <a:lnTo>
                              <a:pt x="839" y="1912"/>
                            </a:lnTo>
                            <a:lnTo>
                              <a:pt x="646" y="1840"/>
                            </a:lnTo>
                            <a:lnTo>
                              <a:pt x="449" y="1774"/>
                            </a:lnTo>
                            <a:lnTo>
                              <a:pt x="248" y="1714"/>
                            </a:lnTo>
                            <a:lnTo>
                              <a:pt x="40" y="1666"/>
                            </a:lnTo>
                            <a:lnTo>
                              <a:pt x="24" y="1581"/>
                            </a:lnTo>
                            <a:lnTo>
                              <a:pt x="12" y="1493"/>
                            </a:lnTo>
                            <a:lnTo>
                              <a:pt x="4" y="1406"/>
                            </a:lnTo>
                            <a:lnTo>
                              <a:pt x="0" y="1316"/>
                            </a:lnTo>
                            <a:lnTo>
                              <a:pt x="0" y="1226"/>
                            </a:lnTo>
                            <a:lnTo>
                              <a:pt x="0" y="1136"/>
                            </a:lnTo>
                            <a:lnTo>
                              <a:pt x="4" y="1044"/>
                            </a:lnTo>
                            <a:lnTo>
                              <a:pt x="8" y="954"/>
                            </a:lnTo>
                            <a:lnTo>
                              <a:pt x="16" y="864"/>
                            </a:lnTo>
                            <a:lnTo>
                              <a:pt x="24" y="776"/>
                            </a:lnTo>
                            <a:lnTo>
                              <a:pt x="48" y="751"/>
                            </a:lnTo>
                            <a:lnTo>
                              <a:pt x="71" y="733"/>
                            </a:lnTo>
                            <a:lnTo>
                              <a:pt x="95" y="717"/>
                            </a:lnTo>
                            <a:lnTo>
                              <a:pt x="122" y="707"/>
                            </a:lnTo>
                            <a:lnTo>
                              <a:pt x="150" y="699"/>
                            </a:lnTo>
                            <a:lnTo>
                              <a:pt x="181" y="694"/>
                            </a:lnTo>
                            <a:lnTo>
                              <a:pt x="213" y="689"/>
                            </a:lnTo>
                            <a:lnTo>
                              <a:pt x="252" y="684"/>
                            </a:lnTo>
                            <a:lnTo>
                              <a:pt x="292" y="676"/>
                            </a:lnTo>
                            <a:lnTo>
                              <a:pt x="339" y="668"/>
                            </a:lnTo>
                            <a:lnTo>
                              <a:pt x="402" y="668"/>
                            </a:lnTo>
                            <a:lnTo>
                              <a:pt x="398" y="715"/>
                            </a:lnTo>
                            <a:lnTo>
                              <a:pt x="390" y="764"/>
                            </a:lnTo>
                            <a:lnTo>
                              <a:pt x="370" y="812"/>
                            </a:lnTo>
                            <a:lnTo>
                              <a:pt x="343" y="859"/>
                            </a:lnTo>
                            <a:lnTo>
                              <a:pt x="307" y="905"/>
                            </a:lnTo>
                            <a:lnTo>
                              <a:pt x="264" y="946"/>
                            </a:lnTo>
                            <a:lnTo>
                              <a:pt x="213" y="987"/>
                            </a:lnTo>
                            <a:lnTo>
                              <a:pt x="158" y="1021"/>
                            </a:lnTo>
                            <a:lnTo>
                              <a:pt x="95" y="1051"/>
                            </a:lnTo>
                            <a:lnTo>
                              <a:pt x="24" y="1075"/>
                            </a:lnTo>
                            <a:lnTo>
                              <a:pt x="24" y="1100"/>
                            </a:lnTo>
                            <a:lnTo>
                              <a:pt x="63" y="1098"/>
                            </a:lnTo>
                            <a:lnTo>
                              <a:pt x="99" y="1098"/>
                            </a:lnTo>
                            <a:lnTo>
                              <a:pt x="138" y="1098"/>
                            </a:lnTo>
                            <a:lnTo>
                              <a:pt x="174" y="1098"/>
                            </a:lnTo>
                            <a:lnTo>
                              <a:pt x="209" y="1098"/>
                            </a:lnTo>
                            <a:lnTo>
                              <a:pt x="248" y="1098"/>
                            </a:lnTo>
                            <a:lnTo>
                              <a:pt x="284" y="1098"/>
                            </a:lnTo>
                            <a:lnTo>
                              <a:pt x="323" y="1100"/>
                            </a:lnTo>
                            <a:lnTo>
                              <a:pt x="362" y="1100"/>
                            </a:lnTo>
                            <a:lnTo>
                              <a:pt x="402" y="1100"/>
                            </a:lnTo>
                            <a:lnTo>
                              <a:pt x="449" y="1108"/>
                            </a:lnTo>
                            <a:lnTo>
                              <a:pt x="496" y="1116"/>
                            </a:lnTo>
                            <a:lnTo>
                              <a:pt x="540" y="1128"/>
                            </a:lnTo>
                            <a:lnTo>
                              <a:pt x="583" y="1139"/>
                            </a:lnTo>
                            <a:lnTo>
                              <a:pt x="622" y="1152"/>
                            </a:lnTo>
                            <a:lnTo>
                              <a:pt x="658" y="1162"/>
                            </a:lnTo>
                            <a:lnTo>
                              <a:pt x="685" y="1170"/>
                            </a:lnTo>
                            <a:lnTo>
                              <a:pt x="709" y="1175"/>
                            </a:lnTo>
                            <a:lnTo>
                              <a:pt x="728" y="1175"/>
                            </a:lnTo>
                            <a:lnTo>
                              <a:pt x="740" y="1172"/>
                            </a:lnTo>
                            <a:lnTo>
                              <a:pt x="713" y="1126"/>
                            </a:lnTo>
                            <a:lnTo>
                              <a:pt x="693" y="1080"/>
                            </a:lnTo>
                            <a:lnTo>
                              <a:pt x="677" y="1033"/>
                            </a:lnTo>
                            <a:lnTo>
                              <a:pt x="665" y="987"/>
                            </a:lnTo>
                            <a:lnTo>
                              <a:pt x="654" y="941"/>
                            </a:lnTo>
                            <a:lnTo>
                              <a:pt x="650" y="892"/>
                            </a:lnTo>
                            <a:lnTo>
                              <a:pt x="646" y="846"/>
                            </a:lnTo>
                            <a:lnTo>
                              <a:pt x="642" y="800"/>
                            </a:lnTo>
                            <a:lnTo>
                              <a:pt x="642" y="751"/>
                            </a:lnTo>
                            <a:lnTo>
                              <a:pt x="646" y="704"/>
                            </a:lnTo>
                            <a:lnTo>
                              <a:pt x="693" y="720"/>
                            </a:lnTo>
                            <a:lnTo>
                              <a:pt x="740" y="735"/>
                            </a:lnTo>
                            <a:lnTo>
                              <a:pt x="787" y="753"/>
                            </a:lnTo>
                            <a:lnTo>
                              <a:pt x="835" y="771"/>
                            </a:lnTo>
                            <a:lnTo>
                              <a:pt x="874" y="794"/>
                            </a:lnTo>
                            <a:lnTo>
                              <a:pt x="913" y="818"/>
                            </a:lnTo>
                            <a:lnTo>
                              <a:pt x="949" y="843"/>
                            </a:lnTo>
                            <a:lnTo>
                              <a:pt x="980" y="874"/>
                            </a:lnTo>
                            <a:lnTo>
                              <a:pt x="1004" y="905"/>
                            </a:lnTo>
                            <a:lnTo>
                              <a:pt x="1024" y="941"/>
                            </a:lnTo>
                            <a:lnTo>
                              <a:pt x="1035" y="920"/>
                            </a:lnTo>
                            <a:lnTo>
                              <a:pt x="1043" y="897"/>
                            </a:lnTo>
                            <a:lnTo>
                              <a:pt x="1051" y="871"/>
                            </a:lnTo>
                            <a:lnTo>
                              <a:pt x="1059" y="843"/>
                            </a:lnTo>
                            <a:lnTo>
                              <a:pt x="1067" y="815"/>
                            </a:lnTo>
                            <a:lnTo>
                              <a:pt x="1075" y="789"/>
                            </a:lnTo>
                            <a:lnTo>
                              <a:pt x="1087" y="766"/>
                            </a:lnTo>
                            <a:lnTo>
                              <a:pt x="1094" y="746"/>
                            </a:lnTo>
                            <a:lnTo>
                              <a:pt x="1106" y="730"/>
                            </a:lnTo>
                            <a:lnTo>
                              <a:pt x="1118" y="720"/>
                            </a:lnTo>
                            <a:lnTo>
                              <a:pt x="1134" y="692"/>
                            </a:lnTo>
                            <a:lnTo>
                              <a:pt x="1150" y="666"/>
                            </a:lnTo>
                            <a:lnTo>
                              <a:pt x="1161" y="643"/>
                            </a:lnTo>
                            <a:lnTo>
                              <a:pt x="1177" y="622"/>
                            </a:lnTo>
                            <a:lnTo>
                              <a:pt x="1189" y="602"/>
                            </a:lnTo>
                            <a:lnTo>
                              <a:pt x="1205" y="584"/>
                            </a:lnTo>
                            <a:lnTo>
                              <a:pt x="1220" y="568"/>
                            </a:lnTo>
                            <a:lnTo>
                              <a:pt x="1232" y="550"/>
                            </a:lnTo>
                            <a:lnTo>
                              <a:pt x="1252" y="535"/>
                            </a:lnTo>
                            <a:lnTo>
                              <a:pt x="1268" y="519"/>
                            </a:lnTo>
                            <a:lnTo>
                              <a:pt x="1248" y="519"/>
                            </a:lnTo>
                            <a:lnTo>
                              <a:pt x="1236" y="517"/>
                            </a:lnTo>
                            <a:lnTo>
                              <a:pt x="1228" y="517"/>
                            </a:lnTo>
                            <a:lnTo>
                              <a:pt x="1220" y="517"/>
                            </a:lnTo>
                            <a:lnTo>
                              <a:pt x="1216" y="517"/>
                            </a:lnTo>
                            <a:lnTo>
                              <a:pt x="1213" y="517"/>
                            </a:lnTo>
                            <a:lnTo>
                              <a:pt x="1205" y="517"/>
                            </a:lnTo>
                            <a:lnTo>
                              <a:pt x="1193" y="514"/>
                            </a:lnTo>
                            <a:lnTo>
                              <a:pt x="1177" y="512"/>
                            </a:lnTo>
                            <a:lnTo>
                              <a:pt x="1157" y="509"/>
                            </a:lnTo>
                            <a:lnTo>
                              <a:pt x="1165" y="455"/>
                            </a:lnTo>
                            <a:lnTo>
                              <a:pt x="1169" y="404"/>
                            </a:lnTo>
                            <a:lnTo>
                              <a:pt x="1177" y="350"/>
                            </a:lnTo>
                            <a:lnTo>
                              <a:pt x="1181" y="298"/>
                            </a:lnTo>
                            <a:lnTo>
                              <a:pt x="1189" y="247"/>
                            </a:lnTo>
                            <a:lnTo>
                              <a:pt x="1201" y="196"/>
                            </a:lnTo>
                            <a:lnTo>
                              <a:pt x="1216" y="144"/>
                            </a:lnTo>
                            <a:lnTo>
                              <a:pt x="1232" y="95"/>
                            </a:lnTo>
                            <a:lnTo>
                              <a:pt x="1256" y="46"/>
                            </a:lnTo>
                            <a:lnTo>
                              <a:pt x="1283" y="0"/>
                            </a:lnTo>
                            <a:lnTo>
                              <a:pt x="1512" y="16"/>
                            </a:lnTo>
                            <a:lnTo>
                              <a:pt x="1512" y="16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07" name=""/>
                      <p:cNvSpPr/>
                      <p:nvPr/>
                    </p:nvSpPr>
                    <p:spPr>
                      <a:xfrm>
                        <a:off x="3630960" y="4900320"/>
                        <a:ext cx="26280" cy="211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7" h="1110">
                            <a:moveTo>
                              <a:pt x="4" y="1110"/>
                            </a:moveTo>
                            <a:lnTo>
                              <a:pt x="4" y="997"/>
                            </a:lnTo>
                            <a:lnTo>
                              <a:pt x="4" y="884"/>
                            </a:lnTo>
                            <a:lnTo>
                              <a:pt x="4" y="771"/>
                            </a:lnTo>
                            <a:lnTo>
                              <a:pt x="8" y="655"/>
                            </a:lnTo>
                            <a:lnTo>
                              <a:pt x="16" y="542"/>
                            </a:lnTo>
                            <a:lnTo>
                              <a:pt x="32" y="429"/>
                            </a:lnTo>
                            <a:lnTo>
                              <a:pt x="51" y="316"/>
                            </a:lnTo>
                            <a:lnTo>
                              <a:pt x="83" y="208"/>
                            </a:lnTo>
                            <a:lnTo>
                              <a:pt x="126" y="102"/>
                            </a:lnTo>
                            <a:lnTo>
                              <a:pt x="177" y="0"/>
                            </a:lnTo>
                            <a:lnTo>
                              <a:pt x="138" y="105"/>
                            </a:lnTo>
                            <a:lnTo>
                              <a:pt x="103" y="210"/>
                            </a:lnTo>
                            <a:lnTo>
                              <a:pt x="71" y="318"/>
                            </a:lnTo>
                            <a:lnTo>
                              <a:pt x="48" y="429"/>
                            </a:lnTo>
                            <a:lnTo>
                              <a:pt x="28" y="539"/>
                            </a:lnTo>
                            <a:lnTo>
                              <a:pt x="12" y="650"/>
                            </a:lnTo>
                            <a:lnTo>
                              <a:pt x="4" y="763"/>
                            </a:lnTo>
                            <a:lnTo>
                              <a:pt x="0" y="879"/>
                            </a:lnTo>
                            <a:lnTo>
                              <a:pt x="0" y="994"/>
                            </a:lnTo>
                            <a:lnTo>
                              <a:pt x="4" y="1110"/>
                            </a:lnTo>
                            <a:lnTo>
                              <a:pt x="4" y="1110"/>
                            </a:lnTo>
                            <a:close/>
                          </a:path>
                        </a:pathLst>
                      </a:custGeom>
                      <a:solidFill>
                        <a:srgbClr val="a18f84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08" name=""/>
                      <p:cNvSpPr/>
                      <p:nvPr/>
                    </p:nvSpPr>
                    <p:spPr>
                      <a:xfrm>
                        <a:off x="2766240" y="4949280"/>
                        <a:ext cx="357840" cy="358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389" h="1876">
                            <a:moveTo>
                              <a:pt x="1767" y="61"/>
                            </a:moveTo>
                            <a:lnTo>
                              <a:pt x="1728" y="162"/>
                            </a:lnTo>
                            <a:lnTo>
                              <a:pt x="1696" y="270"/>
                            </a:lnTo>
                            <a:lnTo>
                              <a:pt x="1677" y="383"/>
                            </a:lnTo>
                            <a:lnTo>
                              <a:pt x="1665" y="501"/>
                            </a:lnTo>
                            <a:lnTo>
                              <a:pt x="1661" y="619"/>
                            </a:lnTo>
                            <a:lnTo>
                              <a:pt x="1661" y="740"/>
                            </a:lnTo>
                            <a:lnTo>
                              <a:pt x="1673" y="858"/>
                            </a:lnTo>
                            <a:lnTo>
                              <a:pt x="1692" y="976"/>
                            </a:lnTo>
                            <a:lnTo>
                              <a:pt x="1716" y="1089"/>
                            </a:lnTo>
                            <a:lnTo>
                              <a:pt x="1743" y="1197"/>
                            </a:lnTo>
                            <a:lnTo>
                              <a:pt x="1747" y="1087"/>
                            </a:lnTo>
                            <a:lnTo>
                              <a:pt x="1743" y="974"/>
                            </a:lnTo>
                            <a:lnTo>
                              <a:pt x="1743" y="861"/>
                            </a:lnTo>
                            <a:lnTo>
                              <a:pt x="1743" y="748"/>
                            </a:lnTo>
                            <a:lnTo>
                              <a:pt x="1747" y="632"/>
                            </a:lnTo>
                            <a:lnTo>
                              <a:pt x="1755" y="519"/>
                            </a:lnTo>
                            <a:lnTo>
                              <a:pt x="1771" y="408"/>
                            </a:lnTo>
                            <a:lnTo>
                              <a:pt x="1791" y="298"/>
                            </a:lnTo>
                            <a:lnTo>
                              <a:pt x="1822" y="190"/>
                            </a:lnTo>
                            <a:lnTo>
                              <a:pt x="1862" y="87"/>
                            </a:lnTo>
                            <a:lnTo>
                              <a:pt x="1877" y="77"/>
                            </a:lnTo>
                            <a:lnTo>
                              <a:pt x="1897" y="69"/>
                            </a:lnTo>
                            <a:lnTo>
                              <a:pt x="1917" y="64"/>
                            </a:lnTo>
                            <a:lnTo>
                              <a:pt x="1940" y="61"/>
                            </a:lnTo>
                            <a:lnTo>
                              <a:pt x="1964" y="61"/>
                            </a:lnTo>
                            <a:lnTo>
                              <a:pt x="1987" y="61"/>
                            </a:lnTo>
                            <a:lnTo>
                              <a:pt x="2007" y="64"/>
                            </a:lnTo>
                            <a:lnTo>
                              <a:pt x="2031" y="66"/>
                            </a:lnTo>
                            <a:lnTo>
                              <a:pt x="2050" y="72"/>
                            </a:lnTo>
                            <a:lnTo>
                              <a:pt x="2066" y="77"/>
                            </a:lnTo>
                            <a:lnTo>
                              <a:pt x="2027" y="198"/>
                            </a:lnTo>
                            <a:lnTo>
                              <a:pt x="1995" y="318"/>
                            </a:lnTo>
                            <a:lnTo>
                              <a:pt x="1976" y="444"/>
                            </a:lnTo>
                            <a:lnTo>
                              <a:pt x="1968" y="570"/>
                            </a:lnTo>
                            <a:lnTo>
                              <a:pt x="1968" y="696"/>
                            </a:lnTo>
                            <a:lnTo>
                              <a:pt x="1976" y="822"/>
                            </a:lnTo>
                            <a:lnTo>
                              <a:pt x="1987" y="951"/>
                            </a:lnTo>
                            <a:lnTo>
                              <a:pt x="2011" y="1074"/>
                            </a:lnTo>
                            <a:lnTo>
                              <a:pt x="2039" y="1200"/>
                            </a:lnTo>
                            <a:lnTo>
                              <a:pt x="2066" y="1321"/>
                            </a:lnTo>
                            <a:lnTo>
                              <a:pt x="2058" y="1195"/>
                            </a:lnTo>
                            <a:lnTo>
                              <a:pt x="2054" y="1071"/>
                            </a:lnTo>
                            <a:lnTo>
                              <a:pt x="2050" y="948"/>
                            </a:lnTo>
                            <a:lnTo>
                              <a:pt x="2050" y="825"/>
                            </a:lnTo>
                            <a:lnTo>
                              <a:pt x="2054" y="701"/>
                            </a:lnTo>
                            <a:lnTo>
                              <a:pt x="2062" y="575"/>
                            </a:lnTo>
                            <a:lnTo>
                              <a:pt x="2074" y="452"/>
                            </a:lnTo>
                            <a:lnTo>
                              <a:pt x="2094" y="329"/>
                            </a:lnTo>
                            <a:lnTo>
                              <a:pt x="2117" y="203"/>
                            </a:lnTo>
                            <a:lnTo>
                              <a:pt x="2145" y="77"/>
                            </a:lnTo>
                            <a:lnTo>
                              <a:pt x="2310" y="87"/>
                            </a:lnTo>
                            <a:lnTo>
                              <a:pt x="2279" y="257"/>
                            </a:lnTo>
                            <a:lnTo>
                              <a:pt x="2251" y="434"/>
                            </a:lnTo>
                            <a:lnTo>
                              <a:pt x="2231" y="614"/>
                            </a:lnTo>
                            <a:lnTo>
                              <a:pt x="2220" y="796"/>
                            </a:lnTo>
                            <a:lnTo>
                              <a:pt x="2220" y="981"/>
                            </a:lnTo>
                            <a:lnTo>
                              <a:pt x="2228" y="1166"/>
                            </a:lnTo>
                            <a:lnTo>
                              <a:pt x="2247" y="1349"/>
                            </a:lnTo>
                            <a:lnTo>
                              <a:pt x="2279" y="1529"/>
                            </a:lnTo>
                            <a:lnTo>
                              <a:pt x="2326" y="1704"/>
                            </a:lnTo>
                            <a:lnTo>
                              <a:pt x="2389" y="1876"/>
                            </a:lnTo>
                            <a:lnTo>
                              <a:pt x="2224" y="1791"/>
                            </a:lnTo>
                            <a:lnTo>
                              <a:pt x="2058" y="1704"/>
                            </a:lnTo>
                            <a:lnTo>
                              <a:pt x="1897" y="1611"/>
                            </a:lnTo>
                            <a:lnTo>
                              <a:pt x="1732" y="1521"/>
                            </a:lnTo>
                            <a:lnTo>
                              <a:pt x="1566" y="1434"/>
                            </a:lnTo>
                            <a:lnTo>
                              <a:pt x="1401" y="1352"/>
                            </a:lnTo>
                            <a:lnTo>
                              <a:pt x="1224" y="1280"/>
                            </a:lnTo>
                            <a:lnTo>
                              <a:pt x="1043" y="1220"/>
                            </a:lnTo>
                            <a:lnTo>
                              <a:pt x="854" y="1174"/>
                            </a:lnTo>
                            <a:lnTo>
                              <a:pt x="649" y="1146"/>
                            </a:lnTo>
                            <a:lnTo>
                              <a:pt x="642" y="1146"/>
                            </a:lnTo>
                            <a:lnTo>
                              <a:pt x="610" y="1143"/>
                            </a:lnTo>
                            <a:lnTo>
                              <a:pt x="567" y="1141"/>
                            </a:lnTo>
                            <a:lnTo>
                              <a:pt x="512" y="1141"/>
                            </a:lnTo>
                            <a:lnTo>
                              <a:pt x="453" y="1141"/>
                            </a:lnTo>
                            <a:lnTo>
                              <a:pt x="386" y="1143"/>
                            </a:lnTo>
                            <a:lnTo>
                              <a:pt x="319" y="1148"/>
                            </a:lnTo>
                            <a:lnTo>
                              <a:pt x="260" y="1156"/>
                            </a:lnTo>
                            <a:lnTo>
                              <a:pt x="205" y="1169"/>
                            </a:lnTo>
                            <a:lnTo>
                              <a:pt x="161" y="1187"/>
                            </a:lnTo>
                            <a:lnTo>
                              <a:pt x="71" y="1084"/>
                            </a:lnTo>
                            <a:lnTo>
                              <a:pt x="16" y="961"/>
                            </a:lnTo>
                            <a:lnTo>
                              <a:pt x="0" y="822"/>
                            </a:lnTo>
                            <a:lnTo>
                              <a:pt x="12" y="678"/>
                            </a:lnTo>
                            <a:lnTo>
                              <a:pt x="51" y="532"/>
                            </a:lnTo>
                            <a:lnTo>
                              <a:pt x="106" y="390"/>
                            </a:lnTo>
                            <a:lnTo>
                              <a:pt x="181" y="262"/>
                            </a:lnTo>
                            <a:lnTo>
                              <a:pt x="260" y="149"/>
                            </a:lnTo>
                            <a:lnTo>
                              <a:pt x="342" y="59"/>
                            </a:lnTo>
                            <a:lnTo>
                              <a:pt x="421" y="0"/>
                            </a:lnTo>
                            <a:lnTo>
                              <a:pt x="547" y="0"/>
                            </a:lnTo>
                            <a:lnTo>
                              <a:pt x="697" y="2"/>
                            </a:lnTo>
                            <a:lnTo>
                              <a:pt x="858" y="5"/>
                            </a:lnTo>
                            <a:lnTo>
                              <a:pt x="1027" y="10"/>
                            </a:lnTo>
                            <a:lnTo>
                              <a:pt x="1200" y="15"/>
                            </a:lnTo>
                            <a:lnTo>
                              <a:pt x="1362" y="23"/>
                            </a:lnTo>
                            <a:lnTo>
                              <a:pt x="1507" y="30"/>
                            </a:lnTo>
                            <a:lnTo>
                              <a:pt x="1629" y="38"/>
                            </a:lnTo>
                            <a:lnTo>
                              <a:pt x="1720" y="48"/>
                            </a:lnTo>
                            <a:lnTo>
                              <a:pt x="1767" y="61"/>
                            </a:lnTo>
                            <a:lnTo>
                              <a:pt x="1767" y="61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09" name=""/>
                      <p:cNvSpPr/>
                      <p:nvPr/>
                    </p:nvSpPr>
                    <p:spPr>
                      <a:xfrm>
                        <a:off x="3507840" y="5083560"/>
                        <a:ext cx="52920" cy="61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54" h="321">
                            <a:moveTo>
                              <a:pt x="354" y="298"/>
                            </a:moveTo>
                            <a:lnTo>
                              <a:pt x="291" y="319"/>
                            </a:lnTo>
                            <a:lnTo>
                              <a:pt x="240" y="321"/>
                            </a:lnTo>
                            <a:lnTo>
                              <a:pt x="197" y="311"/>
                            </a:lnTo>
                            <a:lnTo>
                              <a:pt x="165" y="290"/>
                            </a:lnTo>
                            <a:lnTo>
                              <a:pt x="138" y="259"/>
                            </a:lnTo>
                            <a:lnTo>
                              <a:pt x="114" y="223"/>
                            </a:lnTo>
                            <a:lnTo>
                              <a:pt x="90" y="187"/>
                            </a:lnTo>
                            <a:lnTo>
                              <a:pt x="67" y="151"/>
                            </a:lnTo>
                            <a:lnTo>
                              <a:pt x="35" y="121"/>
                            </a:lnTo>
                            <a:lnTo>
                              <a:pt x="0" y="98"/>
                            </a:lnTo>
                            <a:lnTo>
                              <a:pt x="55" y="0"/>
                            </a:lnTo>
                            <a:lnTo>
                              <a:pt x="86" y="26"/>
                            </a:lnTo>
                            <a:lnTo>
                              <a:pt x="118" y="54"/>
                            </a:lnTo>
                            <a:lnTo>
                              <a:pt x="149" y="82"/>
                            </a:lnTo>
                            <a:lnTo>
                              <a:pt x="181" y="113"/>
                            </a:lnTo>
                            <a:lnTo>
                              <a:pt x="208" y="144"/>
                            </a:lnTo>
                            <a:lnTo>
                              <a:pt x="240" y="175"/>
                            </a:lnTo>
                            <a:lnTo>
                              <a:pt x="267" y="205"/>
                            </a:lnTo>
                            <a:lnTo>
                              <a:pt x="295" y="236"/>
                            </a:lnTo>
                            <a:lnTo>
                              <a:pt x="326" y="267"/>
                            </a:lnTo>
                            <a:lnTo>
                              <a:pt x="354" y="298"/>
                            </a:lnTo>
                            <a:lnTo>
                              <a:pt x="354" y="298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4400" bIns="144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10" name=""/>
                      <p:cNvSpPr/>
                      <p:nvPr/>
                    </p:nvSpPr>
                    <p:spPr>
                      <a:xfrm>
                        <a:off x="3459600" y="5107320"/>
                        <a:ext cx="64800" cy="60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33" h="319">
                            <a:moveTo>
                              <a:pt x="433" y="196"/>
                            </a:moveTo>
                            <a:lnTo>
                              <a:pt x="386" y="198"/>
                            </a:lnTo>
                            <a:lnTo>
                              <a:pt x="339" y="208"/>
                            </a:lnTo>
                            <a:lnTo>
                              <a:pt x="295" y="219"/>
                            </a:lnTo>
                            <a:lnTo>
                              <a:pt x="252" y="234"/>
                            </a:lnTo>
                            <a:lnTo>
                              <a:pt x="209" y="250"/>
                            </a:lnTo>
                            <a:lnTo>
                              <a:pt x="169" y="265"/>
                            </a:lnTo>
                            <a:lnTo>
                              <a:pt x="126" y="280"/>
                            </a:lnTo>
                            <a:lnTo>
                              <a:pt x="87" y="296"/>
                            </a:lnTo>
                            <a:lnTo>
                              <a:pt x="43" y="309"/>
                            </a:lnTo>
                            <a:lnTo>
                              <a:pt x="0" y="319"/>
                            </a:lnTo>
                            <a:lnTo>
                              <a:pt x="268" y="0"/>
                            </a:lnTo>
                            <a:lnTo>
                              <a:pt x="287" y="16"/>
                            </a:lnTo>
                            <a:lnTo>
                              <a:pt x="307" y="34"/>
                            </a:lnTo>
                            <a:lnTo>
                              <a:pt x="327" y="49"/>
                            </a:lnTo>
                            <a:lnTo>
                              <a:pt x="346" y="70"/>
                            </a:lnTo>
                            <a:lnTo>
                              <a:pt x="366" y="88"/>
                            </a:lnTo>
                            <a:lnTo>
                              <a:pt x="386" y="108"/>
                            </a:lnTo>
                            <a:lnTo>
                              <a:pt x="401" y="129"/>
                            </a:lnTo>
                            <a:lnTo>
                              <a:pt x="417" y="149"/>
                            </a:lnTo>
                            <a:lnTo>
                              <a:pt x="425" y="172"/>
                            </a:lnTo>
                            <a:lnTo>
                              <a:pt x="433" y="196"/>
                            </a:lnTo>
                            <a:lnTo>
                              <a:pt x="433" y="196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4040" bIns="140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11" name=""/>
                      <p:cNvSpPr/>
                      <p:nvPr/>
                    </p:nvSpPr>
                    <p:spPr>
                      <a:xfrm>
                        <a:off x="3603240" y="5177880"/>
                        <a:ext cx="14040" cy="11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5" h="62">
                            <a:moveTo>
                              <a:pt x="36" y="62"/>
                            </a:moveTo>
                            <a:lnTo>
                              <a:pt x="0" y="36"/>
                            </a:lnTo>
                            <a:lnTo>
                              <a:pt x="95" y="0"/>
                            </a:lnTo>
                            <a:lnTo>
                              <a:pt x="91" y="5"/>
                            </a:lnTo>
                            <a:lnTo>
                              <a:pt x="87" y="13"/>
                            </a:lnTo>
                            <a:lnTo>
                              <a:pt x="83" y="21"/>
                            </a:lnTo>
                            <a:lnTo>
                              <a:pt x="79" y="29"/>
                            </a:lnTo>
                            <a:lnTo>
                              <a:pt x="71" y="36"/>
                            </a:lnTo>
                            <a:lnTo>
                              <a:pt x="67" y="44"/>
                            </a:lnTo>
                            <a:lnTo>
                              <a:pt x="63" y="49"/>
                            </a:lnTo>
                            <a:lnTo>
                              <a:pt x="55" y="54"/>
                            </a:lnTo>
                            <a:lnTo>
                              <a:pt x="48" y="59"/>
                            </a:lnTo>
                            <a:lnTo>
                              <a:pt x="40" y="62"/>
                            </a:lnTo>
                            <a:lnTo>
                              <a:pt x="40" y="62"/>
                            </a:lnTo>
                            <a:lnTo>
                              <a:pt x="36" y="62"/>
                            </a:lnTo>
                            <a:close/>
                          </a:path>
                        </a:pathLst>
                      </a:custGeom>
                      <a:solidFill>
                        <a:srgbClr val="24ff7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280" bIns="-352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12" name=""/>
                      <p:cNvSpPr/>
                      <p:nvPr/>
                    </p:nvSpPr>
                    <p:spPr>
                      <a:xfrm>
                        <a:off x="3575160" y="5184720"/>
                        <a:ext cx="25920" cy="14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4" h="77">
                            <a:moveTo>
                              <a:pt x="170" y="52"/>
                            </a:moveTo>
                            <a:lnTo>
                              <a:pt x="158" y="54"/>
                            </a:lnTo>
                            <a:lnTo>
                              <a:pt x="146" y="54"/>
                            </a:lnTo>
                            <a:lnTo>
                              <a:pt x="130" y="57"/>
                            </a:lnTo>
                            <a:lnTo>
                              <a:pt x="118" y="59"/>
                            </a:lnTo>
                            <a:lnTo>
                              <a:pt x="103" y="59"/>
                            </a:lnTo>
                            <a:lnTo>
                              <a:pt x="91" y="62"/>
                            </a:lnTo>
                            <a:lnTo>
                              <a:pt x="75" y="65"/>
                            </a:lnTo>
                            <a:lnTo>
                              <a:pt x="63" y="70"/>
                            </a:lnTo>
                            <a:lnTo>
                              <a:pt x="52" y="72"/>
                            </a:lnTo>
                            <a:lnTo>
                              <a:pt x="40" y="77"/>
                            </a:lnTo>
                            <a:lnTo>
                              <a:pt x="0" y="36"/>
                            </a:lnTo>
                            <a:lnTo>
                              <a:pt x="12" y="29"/>
                            </a:lnTo>
                            <a:lnTo>
                              <a:pt x="24" y="21"/>
                            </a:lnTo>
                            <a:lnTo>
                              <a:pt x="36" y="16"/>
                            </a:lnTo>
                            <a:lnTo>
                              <a:pt x="48" y="11"/>
                            </a:lnTo>
                            <a:lnTo>
                              <a:pt x="59" y="5"/>
                            </a:lnTo>
                            <a:lnTo>
                              <a:pt x="75" y="3"/>
                            </a:lnTo>
                            <a:lnTo>
                              <a:pt x="87" y="0"/>
                            </a:lnTo>
                            <a:lnTo>
                              <a:pt x="103" y="0"/>
                            </a:lnTo>
                            <a:lnTo>
                              <a:pt x="118" y="0"/>
                            </a:lnTo>
                            <a:lnTo>
                              <a:pt x="134" y="0"/>
                            </a:lnTo>
                            <a:lnTo>
                              <a:pt x="138" y="5"/>
                            </a:lnTo>
                            <a:lnTo>
                              <a:pt x="138" y="11"/>
                            </a:lnTo>
                            <a:lnTo>
                              <a:pt x="142" y="18"/>
                            </a:lnTo>
                            <a:lnTo>
                              <a:pt x="146" y="23"/>
                            </a:lnTo>
                            <a:lnTo>
                              <a:pt x="146" y="29"/>
                            </a:lnTo>
                            <a:lnTo>
                              <a:pt x="150" y="34"/>
                            </a:lnTo>
                            <a:lnTo>
                              <a:pt x="154" y="36"/>
                            </a:lnTo>
                            <a:lnTo>
                              <a:pt x="162" y="41"/>
                            </a:lnTo>
                            <a:lnTo>
                              <a:pt x="166" y="47"/>
                            </a:lnTo>
                            <a:lnTo>
                              <a:pt x="174" y="52"/>
                            </a:lnTo>
                            <a:lnTo>
                              <a:pt x="174" y="52"/>
                            </a:lnTo>
                            <a:lnTo>
                              <a:pt x="170" y="52"/>
                            </a:lnTo>
                            <a:close/>
                          </a:path>
                        </a:pathLst>
                      </a:custGeom>
                      <a:solidFill>
                        <a:srgbClr val="24ff7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0" bIns="-324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13" name=""/>
                      <p:cNvSpPr/>
                      <p:nvPr/>
                    </p:nvSpPr>
                    <p:spPr>
                      <a:xfrm>
                        <a:off x="3405960" y="5201640"/>
                        <a:ext cx="291600" cy="87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948" h="457">
                            <a:moveTo>
                              <a:pt x="1854" y="149"/>
                            </a:moveTo>
                            <a:lnTo>
                              <a:pt x="1669" y="177"/>
                            </a:lnTo>
                            <a:lnTo>
                              <a:pt x="1488" y="205"/>
                            </a:lnTo>
                            <a:lnTo>
                              <a:pt x="1307" y="236"/>
                            </a:lnTo>
                            <a:lnTo>
                              <a:pt x="1125" y="270"/>
                            </a:lnTo>
                            <a:lnTo>
                              <a:pt x="944" y="303"/>
                            </a:lnTo>
                            <a:lnTo>
                              <a:pt x="763" y="336"/>
                            </a:lnTo>
                            <a:lnTo>
                              <a:pt x="582" y="367"/>
                            </a:lnTo>
                            <a:lnTo>
                              <a:pt x="401" y="401"/>
                            </a:lnTo>
                            <a:lnTo>
                              <a:pt x="220" y="429"/>
                            </a:lnTo>
                            <a:lnTo>
                              <a:pt x="35" y="457"/>
                            </a:lnTo>
                            <a:lnTo>
                              <a:pt x="31" y="442"/>
                            </a:lnTo>
                            <a:lnTo>
                              <a:pt x="28" y="426"/>
                            </a:lnTo>
                            <a:lnTo>
                              <a:pt x="20" y="411"/>
                            </a:lnTo>
                            <a:lnTo>
                              <a:pt x="12" y="398"/>
                            </a:lnTo>
                            <a:lnTo>
                              <a:pt x="8" y="383"/>
                            </a:lnTo>
                            <a:lnTo>
                              <a:pt x="0" y="367"/>
                            </a:lnTo>
                            <a:lnTo>
                              <a:pt x="0" y="352"/>
                            </a:lnTo>
                            <a:lnTo>
                              <a:pt x="0" y="339"/>
                            </a:lnTo>
                            <a:lnTo>
                              <a:pt x="8" y="323"/>
                            </a:lnTo>
                            <a:lnTo>
                              <a:pt x="20" y="308"/>
                            </a:lnTo>
                            <a:lnTo>
                              <a:pt x="43" y="305"/>
                            </a:lnTo>
                            <a:lnTo>
                              <a:pt x="59" y="305"/>
                            </a:lnTo>
                            <a:lnTo>
                              <a:pt x="79" y="311"/>
                            </a:lnTo>
                            <a:lnTo>
                              <a:pt x="94" y="318"/>
                            </a:lnTo>
                            <a:lnTo>
                              <a:pt x="106" y="329"/>
                            </a:lnTo>
                            <a:lnTo>
                              <a:pt x="122" y="339"/>
                            </a:lnTo>
                            <a:lnTo>
                              <a:pt x="138" y="349"/>
                            </a:lnTo>
                            <a:lnTo>
                              <a:pt x="150" y="359"/>
                            </a:lnTo>
                            <a:lnTo>
                              <a:pt x="165" y="367"/>
                            </a:lnTo>
                            <a:lnTo>
                              <a:pt x="185" y="370"/>
                            </a:lnTo>
                            <a:lnTo>
                              <a:pt x="193" y="359"/>
                            </a:lnTo>
                            <a:lnTo>
                              <a:pt x="197" y="347"/>
                            </a:lnTo>
                            <a:lnTo>
                              <a:pt x="201" y="334"/>
                            </a:lnTo>
                            <a:lnTo>
                              <a:pt x="205" y="323"/>
                            </a:lnTo>
                            <a:lnTo>
                              <a:pt x="212" y="311"/>
                            </a:lnTo>
                            <a:lnTo>
                              <a:pt x="220" y="300"/>
                            </a:lnTo>
                            <a:lnTo>
                              <a:pt x="228" y="288"/>
                            </a:lnTo>
                            <a:lnTo>
                              <a:pt x="236" y="277"/>
                            </a:lnTo>
                            <a:lnTo>
                              <a:pt x="248" y="267"/>
                            </a:lnTo>
                            <a:lnTo>
                              <a:pt x="264" y="257"/>
                            </a:lnTo>
                            <a:lnTo>
                              <a:pt x="279" y="262"/>
                            </a:lnTo>
                            <a:lnTo>
                              <a:pt x="299" y="270"/>
                            </a:lnTo>
                            <a:lnTo>
                              <a:pt x="311" y="277"/>
                            </a:lnTo>
                            <a:lnTo>
                              <a:pt x="327" y="288"/>
                            </a:lnTo>
                            <a:lnTo>
                              <a:pt x="342" y="298"/>
                            </a:lnTo>
                            <a:lnTo>
                              <a:pt x="358" y="308"/>
                            </a:lnTo>
                            <a:lnTo>
                              <a:pt x="374" y="316"/>
                            </a:lnTo>
                            <a:lnTo>
                              <a:pt x="390" y="321"/>
                            </a:lnTo>
                            <a:lnTo>
                              <a:pt x="413" y="321"/>
                            </a:lnTo>
                            <a:lnTo>
                              <a:pt x="437" y="318"/>
                            </a:lnTo>
                            <a:lnTo>
                              <a:pt x="531" y="221"/>
                            </a:lnTo>
                            <a:lnTo>
                              <a:pt x="547" y="231"/>
                            </a:lnTo>
                            <a:lnTo>
                              <a:pt x="559" y="241"/>
                            </a:lnTo>
                            <a:lnTo>
                              <a:pt x="575" y="252"/>
                            </a:lnTo>
                            <a:lnTo>
                              <a:pt x="590" y="259"/>
                            </a:lnTo>
                            <a:lnTo>
                              <a:pt x="606" y="267"/>
                            </a:lnTo>
                            <a:lnTo>
                              <a:pt x="622" y="272"/>
                            </a:lnTo>
                            <a:lnTo>
                              <a:pt x="638" y="277"/>
                            </a:lnTo>
                            <a:lnTo>
                              <a:pt x="657" y="282"/>
                            </a:lnTo>
                            <a:lnTo>
                              <a:pt x="677" y="282"/>
                            </a:lnTo>
                            <a:lnTo>
                              <a:pt x="697" y="282"/>
                            </a:lnTo>
                            <a:lnTo>
                              <a:pt x="716" y="234"/>
                            </a:lnTo>
                            <a:lnTo>
                              <a:pt x="748" y="208"/>
                            </a:lnTo>
                            <a:lnTo>
                              <a:pt x="779" y="198"/>
                            </a:lnTo>
                            <a:lnTo>
                              <a:pt x="819" y="198"/>
                            </a:lnTo>
                            <a:lnTo>
                              <a:pt x="862" y="205"/>
                            </a:lnTo>
                            <a:lnTo>
                              <a:pt x="905" y="216"/>
                            </a:lnTo>
                            <a:lnTo>
                              <a:pt x="948" y="223"/>
                            </a:lnTo>
                            <a:lnTo>
                              <a:pt x="988" y="226"/>
                            </a:lnTo>
                            <a:lnTo>
                              <a:pt x="1027" y="213"/>
                            </a:lnTo>
                            <a:lnTo>
                              <a:pt x="1059" y="185"/>
                            </a:lnTo>
                            <a:lnTo>
                              <a:pt x="1078" y="187"/>
                            </a:lnTo>
                            <a:lnTo>
                              <a:pt x="1098" y="192"/>
                            </a:lnTo>
                            <a:lnTo>
                              <a:pt x="1114" y="198"/>
                            </a:lnTo>
                            <a:lnTo>
                              <a:pt x="1129" y="205"/>
                            </a:lnTo>
                            <a:lnTo>
                              <a:pt x="1145" y="213"/>
                            </a:lnTo>
                            <a:lnTo>
                              <a:pt x="1165" y="218"/>
                            </a:lnTo>
                            <a:lnTo>
                              <a:pt x="1181" y="223"/>
                            </a:lnTo>
                            <a:lnTo>
                              <a:pt x="1200" y="226"/>
                            </a:lnTo>
                            <a:lnTo>
                              <a:pt x="1224" y="226"/>
                            </a:lnTo>
                            <a:lnTo>
                              <a:pt x="1247" y="221"/>
                            </a:lnTo>
                            <a:lnTo>
                              <a:pt x="1259" y="190"/>
                            </a:lnTo>
                            <a:lnTo>
                              <a:pt x="1275" y="172"/>
                            </a:lnTo>
                            <a:lnTo>
                              <a:pt x="1295" y="162"/>
                            </a:lnTo>
                            <a:lnTo>
                              <a:pt x="1322" y="159"/>
                            </a:lnTo>
                            <a:lnTo>
                              <a:pt x="1346" y="162"/>
                            </a:lnTo>
                            <a:lnTo>
                              <a:pt x="1377" y="169"/>
                            </a:lnTo>
                            <a:lnTo>
                              <a:pt x="1409" y="174"/>
                            </a:lnTo>
                            <a:lnTo>
                              <a:pt x="1440" y="182"/>
                            </a:lnTo>
                            <a:lnTo>
                              <a:pt x="1472" y="185"/>
                            </a:lnTo>
                            <a:lnTo>
                              <a:pt x="1507" y="185"/>
                            </a:lnTo>
                            <a:lnTo>
                              <a:pt x="1641" y="25"/>
                            </a:lnTo>
                            <a:lnTo>
                              <a:pt x="1669" y="51"/>
                            </a:lnTo>
                            <a:lnTo>
                              <a:pt x="1700" y="69"/>
                            </a:lnTo>
                            <a:lnTo>
                              <a:pt x="1732" y="77"/>
                            </a:lnTo>
                            <a:lnTo>
                              <a:pt x="1763" y="77"/>
                            </a:lnTo>
                            <a:lnTo>
                              <a:pt x="1795" y="72"/>
                            </a:lnTo>
                            <a:lnTo>
                              <a:pt x="1826" y="61"/>
                            </a:lnTo>
                            <a:lnTo>
                              <a:pt x="1857" y="48"/>
                            </a:lnTo>
                            <a:lnTo>
                              <a:pt x="1889" y="33"/>
                            </a:lnTo>
                            <a:lnTo>
                              <a:pt x="1920" y="15"/>
                            </a:lnTo>
                            <a:lnTo>
                              <a:pt x="1948" y="0"/>
                            </a:lnTo>
                            <a:lnTo>
                              <a:pt x="1854" y="149"/>
                            </a:lnTo>
                            <a:lnTo>
                              <a:pt x="1854" y="149"/>
                            </a:lnTo>
                            <a:close/>
                          </a:path>
                        </a:pathLst>
                      </a:custGeom>
                      <a:solidFill>
                        <a:srgbClr val="47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0320" bIns="403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14" name=""/>
                      <p:cNvSpPr/>
                      <p:nvPr/>
                    </p:nvSpPr>
                    <p:spPr>
                      <a:xfrm>
                        <a:off x="2652840" y="5214600"/>
                        <a:ext cx="30600" cy="82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5" h="434">
                            <a:moveTo>
                              <a:pt x="201" y="3"/>
                            </a:moveTo>
                            <a:lnTo>
                              <a:pt x="185" y="44"/>
                            </a:lnTo>
                            <a:lnTo>
                              <a:pt x="166" y="85"/>
                            </a:lnTo>
                            <a:lnTo>
                              <a:pt x="150" y="129"/>
                            </a:lnTo>
                            <a:lnTo>
                              <a:pt x="138" y="172"/>
                            </a:lnTo>
                            <a:lnTo>
                              <a:pt x="126" y="216"/>
                            </a:lnTo>
                            <a:lnTo>
                              <a:pt x="115" y="260"/>
                            </a:lnTo>
                            <a:lnTo>
                              <a:pt x="111" y="306"/>
                            </a:lnTo>
                            <a:lnTo>
                              <a:pt x="107" y="350"/>
                            </a:lnTo>
                            <a:lnTo>
                              <a:pt x="107" y="391"/>
                            </a:lnTo>
                            <a:lnTo>
                              <a:pt x="111" y="434"/>
                            </a:lnTo>
                            <a:lnTo>
                              <a:pt x="75" y="409"/>
                            </a:lnTo>
                            <a:lnTo>
                              <a:pt x="44" y="378"/>
                            </a:lnTo>
                            <a:lnTo>
                              <a:pt x="24" y="344"/>
                            </a:lnTo>
                            <a:lnTo>
                              <a:pt x="8" y="306"/>
                            </a:lnTo>
                            <a:lnTo>
                              <a:pt x="0" y="267"/>
                            </a:lnTo>
                            <a:lnTo>
                              <a:pt x="0" y="229"/>
                            </a:lnTo>
                            <a:lnTo>
                              <a:pt x="0" y="190"/>
                            </a:lnTo>
                            <a:lnTo>
                              <a:pt x="8" y="149"/>
                            </a:lnTo>
                            <a:lnTo>
                              <a:pt x="24" y="113"/>
                            </a:lnTo>
                            <a:lnTo>
                              <a:pt x="40" y="80"/>
                            </a:lnTo>
                            <a:lnTo>
                              <a:pt x="48" y="67"/>
                            </a:lnTo>
                            <a:lnTo>
                              <a:pt x="60" y="51"/>
                            </a:lnTo>
                            <a:lnTo>
                              <a:pt x="71" y="39"/>
                            </a:lnTo>
                            <a:lnTo>
                              <a:pt x="83" y="28"/>
                            </a:lnTo>
                            <a:lnTo>
                              <a:pt x="99" y="18"/>
                            </a:lnTo>
                            <a:lnTo>
                              <a:pt x="115" y="10"/>
                            </a:lnTo>
                            <a:lnTo>
                              <a:pt x="134" y="3"/>
                            </a:lnTo>
                            <a:lnTo>
                              <a:pt x="154" y="0"/>
                            </a:lnTo>
                            <a:lnTo>
                              <a:pt x="178" y="0"/>
                            </a:lnTo>
                            <a:lnTo>
                              <a:pt x="205" y="3"/>
                            </a:lnTo>
                            <a:lnTo>
                              <a:pt x="205" y="3"/>
                            </a:lnTo>
                            <a:lnTo>
                              <a:pt x="201" y="3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6000" bIns="360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15" name=""/>
                      <p:cNvSpPr/>
                      <p:nvPr/>
                    </p:nvSpPr>
                    <p:spPr>
                      <a:xfrm>
                        <a:off x="2681280" y="5215320"/>
                        <a:ext cx="30600" cy="80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5" h="424">
                            <a:moveTo>
                              <a:pt x="205" y="15"/>
                            </a:moveTo>
                            <a:lnTo>
                              <a:pt x="181" y="51"/>
                            </a:lnTo>
                            <a:lnTo>
                              <a:pt x="166" y="90"/>
                            </a:lnTo>
                            <a:lnTo>
                              <a:pt x="154" y="131"/>
                            </a:lnTo>
                            <a:lnTo>
                              <a:pt x="146" y="169"/>
                            </a:lnTo>
                            <a:lnTo>
                              <a:pt x="142" y="208"/>
                            </a:lnTo>
                            <a:lnTo>
                              <a:pt x="142" y="249"/>
                            </a:lnTo>
                            <a:lnTo>
                              <a:pt x="146" y="290"/>
                            </a:lnTo>
                            <a:lnTo>
                              <a:pt x="154" y="331"/>
                            </a:lnTo>
                            <a:lnTo>
                              <a:pt x="162" y="370"/>
                            </a:lnTo>
                            <a:lnTo>
                              <a:pt x="174" y="411"/>
                            </a:lnTo>
                            <a:lnTo>
                              <a:pt x="154" y="408"/>
                            </a:lnTo>
                            <a:lnTo>
                              <a:pt x="134" y="408"/>
                            </a:lnTo>
                            <a:lnTo>
                              <a:pt x="115" y="411"/>
                            </a:lnTo>
                            <a:lnTo>
                              <a:pt x="99" y="413"/>
                            </a:lnTo>
                            <a:lnTo>
                              <a:pt x="83" y="416"/>
                            </a:lnTo>
                            <a:lnTo>
                              <a:pt x="67" y="419"/>
                            </a:lnTo>
                            <a:lnTo>
                              <a:pt x="52" y="421"/>
                            </a:lnTo>
                            <a:lnTo>
                              <a:pt x="36" y="424"/>
                            </a:lnTo>
                            <a:lnTo>
                              <a:pt x="20" y="424"/>
                            </a:lnTo>
                            <a:lnTo>
                              <a:pt x="0" y="421"/>
                            </a:lnTo>
                            <a:lnTo>
                              <a:pt x="0" y="375"/>
                            </a:lnTo>
                            <a:lnTo>
                              <a:pt x="0" y="331"/>
                            </a:lnTo>
                            <a:lnTo>
                              <a:pt x="0" y="287"/>
                            </a:lnTo>
                            <a:lnTo>
                              <a:pt x="4" y="241"/>
                            </a:lnTo>
                            <a:lnTo>
                              <a:pt x="4" y="198"/>
                            </a:lnTo>
                            <a:lnTo>
                              <a:pt x="12" y="156"/>
                            </a:lnTo>
                            <a:lnTo>
                              <a:pt x="24" y="115"/>
                            </a:lnTo>
                            <a:lnTo>
                              <a:pt x="40" y="74"/>
                            </a:lnTo>
                            <a:lnTo>
                              <a:pt x="63" y="36"/>
                            </a:lnTo>
                            <a:lnTo>
                              <a:pt x="95" y="0"/>
                            </a:lnTo>
                            <a:lnTo>
                              <a:pt x="103" y="5"/>
                            </a:lnTo>
                            <a:lnTo>
                              <a:pt x="115" y="10"/>
                            </a:lnTo>
                            <a:lnTo>
                              <a:pt x="126" y="12"/>
                            </a:lnTo>
                            <a:lnTo>
                              <a:pt x="138" y="15"/>
                            </a:lnTo>
                            <a:lnTo>
                              <a:pt x="150" y="15"/>
                            </a:lnTo>
                            <a:lnTo>
                              <a:pt x="162" y="15"/>
                            </a:lnTo>
                            <a:lnTo>
                              <a:pt x="174" y="15"/>
                            </a:lnTo>
                            <a:lnTo>
                              <a:pt x="185" y="12"/>
                            </a:lnTo>
                            <a:lnTo>
                              <a:pt x="193" y="15"/>
                            </a:lnTo>
                            <a:lnTo>
                              <a:pt x="205" y="15"/>
                            </a:lnTo>
                            <a:lnTo>
                              <a:pt x="205" y="15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3840" bIns="338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16" name=""/>
                      <p:cNvSpPr/>
                      <p:nvPr/>
                    </p:nvSpPr>
                    <p:spPr>
                      <a:xfrm>
                        <a:off x="2711520" y="5220000"/>
                        <a:ext cx="224280" cy="141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99" h="741">
                            <a:moveTo>
                              <a:pt x="1271" y="77"/>
                            </a:moveTo>
                            <a:lnTo>
                              <a:pt x="1283" y="144"/>
                            </a:lnTo>
                            <a:lnTo>
                              <a:pt x="1295" y="211"/>
                            </a:lnTo>
                            <a:lnTo>
                              <a:pt x="1307" y="280"/>
                            </a:lnTo>
                            <a:lnTo>
                              <a:pt x="1318" y="350"/>
                            </a:lnTo>
                            <a:lnTo>
                              <a:pt x="1330" y="419"/>
                            </a:lnTo>
                            <a:lnTo>
                              <a:pt x="1350" y="486"/>
                            </a:lnTo>
                            <a:lnTo>
                              <a:pt x="1374" y="553"/>
                            </a:lnTo>
                            <a:lnTo>
                              <a:pt x="1409" y="620"/>
                            </a:lnTo>
                            <a:lnTo>
                              <a:pt x="1448" y="681"/>
                            </a:lnTo>
                            <a:lnTo>
                              <a:pt x="1499" y="741"/>
                            </a:lnTo>
                            <a:lnTo>
                              <a:pt x="1377" y="730"/>
                            </a:lnTo>
                            <a:lnTo>
                              <a:pt x="1287" y="699"/>
                            </a:lnTo>
                            <a:lnTo>
                              <a:pt x="1224" y="656"/>
                            </a:lnTo>
                            <a:lnTo>
                              <a:pt x="1181" y="597"/>
                            </a:lnTo>
                            <a:lnTo>
                              <a:pt x="1153" y="530"/>
                            </a:lnTo>
                            <a:lnTo>
                              <a:pt x="1141" y="455"/>
                            </a:lnTo>
                            <a:lnTo>
                              <a:pt x="1133" y="378"/>
                            </a:lnTo>
                            <a:lnTo>
                              <a:pt x="1130" y="301"/>
                            </a:lnTo>
                            <a:lnTo>
                              <a:pt x="1122" y="226"/>
                            </a:lnTo>
                            <a:lnTo>
                              <a:pt x="1106" y="160"/>
                            </a:lnTo>
                            <a:lnTo>
                              <a:pt x="1106" y="157"/>
                            </a:lnTo>
                            <a:lnTo>
                              <a:pt x="1106" y="152"/>
                            </a:lnTo>
                            <a:lnTo>
                              <a:pt x="1106" y="147"/>
                            </a:lnTo>
                            <a:lnTo>
                              <a:pt x="1106" y="144"/>
                            </a:lnTo>
                            <a:lnTo>
                              <a:pt x="1106" y="139"/>
                            </a:lnTo>
                            <a:lnTo>
                              <a:pt x="1106" y="137"/>
                            </a:lnTo>
                            <a:lnTo>
                              <a:pt x="1106" y="131"/>
                            </a:lnTo>
                            <a:lnTo>
                              <a:pt x="1110" y="129"/>
                            </a:lnTo>
                            <a:lnTo>
                              <a:pt x="1114" y="126"/>
                            </a:lnTo>
                            <a:lnTo>
                              <a:pt x="1122" y="124"/>
                            </a:lnTo>
                            <a:lnTo>
                              <a:pt x="1106" y="113"/>
                            </a:lnTo>
                            <a:lnTo>
                              <a:pt x="1074" y="160"/>
                            </a:lnTo>
                            <a:lnTo>
                              <a:pt x="1055" y="208"/>
                            </a:lnTo>
                            <a:lnTo>
                              <a:pt x="1047" y="257"/>
                            </a:lnTo>
                            <a:lnTo>
                              <a:pt x="1047" y="309"/>
                            </a:lnTo>
                            <a:lnTo>
                              <a:pt x="1055" y="360"/>
                            </a:lnTo>
                            <a:lnTo>
                              <a:pt x="1071" y="414"/>
                            </a:lnTo>
                            <a:lnTo>
                              <a:pt x="1086" y="466"/>
                            </a:lnTo>
                            <a:lnTo>
                              <a:pt x="1106" y="517"/>
                            </a:lnTo>
                            <a:lnTo>
                              <a:pt x="1122" y="568"/>
                            </a:lnTo>
                            <a:lnTo>
                              <a:pt x="1137" y="617"/>
                            </a:lnTo>
                            <a:lnTo>
                              <a:pt x="1031" y="589"/>
                            </a:lnTo>
                            <a:lnTo>
                              <a:pt x="929" y="561"/>
                            </a:lnTo>
                            <a:lnTo>
                              <a:pt x="823" y="532"/>
                            </a:lnTo>
                            <a:lnTo>
                              <a:pt x="716" y="507"/>
                            </a:lnTo>
                            <a:lnTo>
                              <a:pt x="606" y="481"/>
                            </a:lnTo>
                            <a:lnTo>
                              <a:pt x="500" y="458"/>
                            </a:lnTo>
                            <a:lnTo>
                              <a:pt x="386" y="440"/>
                            </a:lnTo>
                            <a:lnTo>
                              <a:pt x="276" y="422"/>
                            </a:lnTo>
                            <a:lnTo>
                              <a:pt x="161" y="406"/>
                            </a:lnTo>
                            <a:lnTo>
                              <a:pt x="43" y="396"/>
                            </a:lnTo>
                            <a:lnTo>
                              <a:pt x="28" y="360"/>
                            </a:lnTo>
                            <a:lnTo>
                              <a:pt x="16" y="322"/>
                            </a:lnTo>
                            <a:lnTo>
                              <a:pt x="8" y="280"/>
                            </a:lnTo>
                            <a:lnTo>
                              <a:pt x="4" y="239"/>
                            </a:lnTo>
                            <a:lnTo>
                              <a:pt x="0" y="198"/>
                            </a:lnTo>
                            <a:lnTo>
                              <a:pt x="4" y="157"/>
                            </a:lnTo>
                            <a:lnTo>
                              <a:pt x="8" y="116"/>
                            </a:lnTo>
                            <a:lnTo>
                              <a:pt x="16" y="75"/>
                            </a:lnTo>
                            <a:lnTo>
                              <a:pt x="28" y="36"/>
                            </a:lnTo>
                            <a:lnTo>
                              <a:pt x="43" y="0"/>
                            </a:lnTo>
                            <a:lnTo>
                              <a:pt x="1271" y="77"/>
                            </a:lnTo>
                            <a:lnTo>
                              <a:pt x="1271" y="77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17" name=""/>
                      <p:cNvSpPr/>
                      <p:nvPr/>
                    </p:nvSpPr>
                    <p:spPr>
                      <a:xfrm>
                        <a:off x="3419280" y="5246640"/>
                        <a:ext cx="252360" cy="60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685" h="319">
                            <a:moveTo>
                              <a:pt x="1575" y="44"/>
                            </a:moveTo>
                            <a:lnTo>
                              <a:pt x="1413" y="72"/>
                            </a:lnTo>
                            <a:lnTo>
                              <a:pt x="1256" y="100"/>
                            </a:lnTo>
                            <a:lnTo>
                              <a:pt x="1098" y="131"/>
                            </a:lnTo>
                            <a:lnTo>
                              <a:pt x="941" y="162"/>
                            </a:lnTo>
                            <a:lnTo>
                              <a:pt x="784" y="193"/>
                            </a:lnTo>
                            <a:lnTo>
                              <a:pt x="626" y="224"/>
                            </a:lnTo>
                            <a:lnTo>
                              <a:pt x="473" y="252"/>
                            </a:lnTo>
                            <a:lnTo>
                              <a:pt x="315" y="278"/>
                            </a:lnTo>
                            <a:lnTo>
                              <a:pt x="158" y="301"/>
                            </a:lnTo>
                            <a:lnTo>
                              <a:pt x="0" y="319"/>
                            </a:lnTo>
                            <a:lnTo>
                              <a:pt x="0" y="283"/>
                            </a:lnTo>
                            <a:lnTo>
                              <a:pt x="170" y="252"/>
                            </a:lnTo>
                            <a:lnTo>
                              <a:pt x="339" y="224"/>
                            </a:lnTo>
                            <a:lnTo>
                              <a:pt x="504" y="193"/>
                            </a:lnTo>
                            <a:lnTo>
                              <a:pt x="673" y="162"/>
                            </a:lnTo>
                            <a:lnTo>
                              <a:pt x="839" y="134"/>
                            </a:lnTo>
                            <a:lnTo>
                              <a:pt x="1008" y="105"/>
                            </a:lnTo>
                            <a:lnTo>
                              <a:pt x="1173" y="77"/>
                            </a:lnTo>
                            <a:lnTo>
                              <a:pt x="1342" y="49"/>
                            </a:lnTo>
                            <a:lnTo>
                              <a:pt x="1512" y="23"/>
                            </a:lnTo>
                            <a:lnTo>
                              <a:pt x="1685" y="0"/>
                            </a:lnTo>
                            <a:lnTo>
                              <a:pt x="1575" y="46"/>
                            </a:lnTo>
                            <a:lnTo>
                              <a:pt x="1575" y="46"/>
                            </a:lnTo>
                            <a:lnTo>
                              <a:pt x="1575" y="44"/>
                            </a:lnTo>
                            <a:close/>
                          </a:path>
                        </a:pathLst>
                      </a:custGeom>
                      <a:solidFill>
                        <a:srgbClr val="fff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4040" bIns="140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18" name=""/>
                      <p:cNvSpPr/>
                      <p:nvPr/>
                    </p:nvSpPr>
                    <p:spPr>
                      <a:xfrm>
                        <a:off x="3655440" y="5265360"/>
                        <a:ext cx="4320" cy="11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1" h="61">
                            <a:moveTo>
                              <a:pt x="31" y="0"/>
                            </a:moveTo>
                            <a:lnTo>
                              <a:pt x="23" y="5"/>
                            </a:lnTo>
                            <a:lnTo>
                              <a:pt x="23" y="10"/>
                            </a:lnTo>
                            <a:lnTo>
                              <a:pt x="19" y="18"/>
                            </a:lnTo>
                            <a:lnTo>
                              <a:pt x="19" y="23"/>
                            </a:lnTo>
                            <a:lnTo>
                              <a:pt x="19" y="31"/>
                            </a:lnTo>
                            <a:lnTo>
                              <a:pt x="15" y="38"/>
                            </a:lnTo>
                            <a:lnTo>
                              <a:pt x="15" y="43"/>
                            </a:lnTo>
                            <a:lnTo>
                              <a:pt x="11" y="51"/>
                            </a:lnTo>
                            <a:lnTo>
                              <a:pt x="8" y="56"/>
                            </a:lnTo>
                            <a:lnTo>
                              <a:pt x="0" y="61"/>
                            </a:lnTo>
                            <a:lnTo>
                              <a:pt x="0" y="0"/>
                            </a:lnTo>
                            <a:lnTo>
                              <a:pt x="31" y="0"/>
                            </a:lnTo>
                            <a:lnTo>
                              <a:pt x="31" y="0"/>
                            </a:lnTo>
                            <a:close/>
                          </a:path>
                        </a:pathLst>
                      </a:custGeom>
                      <a:solidFill>
                        <a:srgbClr val="99f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280" bIns="-352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19" name=""/>
                      <p:cNvSpPr/>
                      <p:nvPr/>
                    </p:nvSpPr>
                    <p:spPr>
                      <a:xfrm>
                        <a:off x="3603240" y="5273640"/>
                        <a:ext cx="23400" cy="20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58" h="106">
                            <a:moveTo>
                              <a:pt x="154" y="3"/>
                            </a:moveTo>
                            <a:lnTo>
                              <a:pt x="146" y="13"/>
                            </a:lnTo>
                            <a:lnTo>
                              <a:pt x="134" y="24"/>
                            </a:lnTo>
                            <a:lnTo>
                              <a:pt x="126" y="34"/>
                            </a:lnTo>
                            <a:lnTo>
                              <a:pt x="114" y="44"/>
                            </a:lnTo>
                            <a:lnTo>
                              <a:pt x="107" y="54"/>
                            </a:lnTo>
                            <a:lnTo>
                              <a:pt x="99" y="65"/>
                            </a:lnTo>
                            <a:lnTo>
                              <a:pt x="91" y="75"/>
                            </a:lnTo>
                            <a:lnTo>
                              <a:pt x="83" y="85"/>
                            </a:lnTo>
                            <a:lnTo>
                              <a:pt x="71" y="96"/>
                            </a:lnTo>
                            <a:lnTo>
                              <a:pt x="63" y="106"/>
                            </a:lnTo>
                            <a:lnTo>
                              <a:pt x="0" y="44"/>
                            </a:lnTo>
                            <a:lnTo>
                              <a:pt x="12" y="39"/>
                            </a:lnTo>
                            <a:lnTo>
                              <a:pt x="24" y="34"/>
                            </a:lnTo>
                            <a:lnTo>
                              <a:pt x="40" y="29"/>
                            </a:lnTo>
                            <a:lnTo>
                              <a:pt x="51" y="21"/>
                            </a:lnTo>
                            <a:lnTo>
                              <a:pt x="67" y="16"/>
                            </a:lnTo>
                            <a:lnTo>
                              <a:pt x="83" y="11"/>
                            </a:lnTo>
                            <a:lnTo>
                              <a:pt x="99" y="6"/>
                            </a:lnTo>
                            <a:lnTo>
                              <a:pt x="118" y="3"/>
                            </a:lnTo>
                            <a:lnTo>
                              <a:pt x="138" y="0"/>
                            </a:lnTo>
                            <a:lnTo>
                              <a:pt x="158" y="3"/>
                            </a:lnTo>
                            <a:lnTo>
                              <a:pt x="158" y="3"/>
                            </a:lnTo>
                            <a:lnTo>
                              <a:pt x="154" y="3"/>
                            </a:lnTo>
                            <a:close/>
                          </a:path>
                        </a:pathLst>
                      </a:custGeom>
                      <a:solidFill>
                        <a:srgbClr val="99f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640" bIns="-266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20" name=""/>
                      <p:cNvSpPr/>
                      <p:nvPr/>
                    </p:nvSpPr>
                    <p:spPr>
                      <a:xfrm>
                        <a:off x="3560760" y="5283720"/>
                        <a:ext cx="23400" cy="18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57" h="98">
                            <a:moveTo>
                              <a:pt x="0" y="34"/>
                            </a:moveTo>
                            <a:lnTo>
                              <a:pt x="157" y="0"/>
                            </a:lnTo>
                            <a:lnTo>
                              <a:pt x="24" y="98"/>
                            </a:lnTo>
                            <a:lnTo>
                              <a:pt x="0" y="36"/>
                            </a:lnTo>
                            <a:lnTo>
                              <a:pt x="0" y="36"/>
                            </a:lnTo>
                            <a:lnTo>
                              <a:pt x="0" y="34"/>
                            </a:lnTo>
                            <a:close/>
                          </a:path>
                        </a:pathLst>
                      </a:custGeom>
                      <a:solidFill>
                        <a:srgbClr val="99f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440" bIns="-284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21" name=""/>
                      <p:cNvSpPr/>
                      <p:nvPr/>
                    </p:nvSpPr>
                    <p:spPr>
                      <a:xfrm>
                        <a:off x="3615120" y="5285880"/>
                        <a:ext cx="28080" cy="23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89" h="123">
                            <a:moveTo>
                              <a:pt x="150" y="123"/>
                            </a:moveTo>
                            <a:lnTo>
                              <a:pt x="134" y="123"/>
                            </a:lnTo>
                            <a:lnTo>
                              <a:pt x="118" y="121"/>
                            </a:lnTo>
                            <a:lnTo>
                              <a:pt x="102" y="115"/>
                            </a:lnTo>
                            <a:lnTo>
                              <a:pt x="91" y="113"/>
                            </a:lnTo>
                            <a:lnTo>
                              <a:pt x="75" y="108"/>
                            </a:lnTo>
                            <a:lnTo>
                              <a:pt x="59" y="105"/>
                            </a:lnTo>
                            <a:lnTo>
                              <a:pt x="47" y="103"/>
                            </a:lnTo>
                            <a:lnTo>
                              <a:pt x="32" y="103"/>
                            </a:lnTo>
                            <a:lnTo>
                              <a:pt x="16" y="108"/>
                            </a:lnTo>
                            <a:lnTo>
                              <a:pt x="0" y="113"/>
                            </a:lnTo>
                            <a:lnTo>
                              <a:pt x="150" y="0"/>
                            </a:lnTo>
                            <a:lnTo>
                              <a:pt x="169" y="10"/>
                            </a:lnTo>
                            <a:lnTo>
                              <a:pt x="181" y="23"/>
                            </a:lnTo>
                            <a:lnTo>
                              <a:pt x="189" y="36"/>
                            </a:lnTo>
                            <a:lnTo>
                              <a:pt x="185" y="49"/>
                            </a:lnTo>
                            <a:lnTo>
                              <a:pt x="181" y="61"/>
                            </a:lnTo>
                            <a:lnTo>
                              <a:pt x="173" y="74"/>
                            </a:lnTo>
                            <a:lnTo>
                              <a:pt x="165" y="87"/>
                            </a:lnTo>
                            <a:lnTo>
                              <a:pt x="157" y="100"/>
                            </a:lnTo>
                            <a:lnTo>
                              <a:pt x="150" y="113"/>
                            </a:lnTo>
                            <a:lnTo>
                              <a:pt x="150" y="123"/>
                            </a:lnTo>
                            <a:lnTo>
                              <a:pt x="150" y="123"/>
                            </a:lnTo>
                            <a:close/>
                          </a:path>
                        </a:pathLst>
                      </a:custGeom>
                      <a:solidFill>
                        <a:srgbClr val="99f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400" bIns="-234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22" name=""/>
                      <p:cNvSpPr/>
                      <p:nvPr/>
                    </p:nvSpPr>
                    <p:spPr>
                      <a:xfrm>
                        <a:off x="2927880" y="5290560"/>
                        <a:ext cx="87120" cy="120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83" h="635">
                            <a:moveTo>
                              <a:pt x="166" y="0"/>
                            </a:moveTo>
                            <a:lnTo>
                              <a:pt x="177" y="31"/>
                            </a:lnTo>
                            <a:lnTo>
                              <a:pt x="185" y="59"/>
                            </a:lnTo>
                            <a:lnTo>
                              <a:pt x="185" y="92"/>
                            </a:lnTo>
                            <a:lnTo>
                              <a:pt x="185" y="126"/>
                            </a:lnTo>
                            <a:lnTo>
                              <a:pt x="181" y="157"/>
                            </a:lnTo>
                            <a:lnTo>
                              <a:pt x="185" y="187"/>
                            </a:lnTo>
                            <a:lnTo>
                              <a:pt x="189" y="218"/>
                            </a:lnTo>
                            <a:lnTo>
                              <a:pt x="201" y="244"/>
                            </a:lnTo>
                            <a:lnTo>
                              <a:pt x="225" y="267"/>
                            </a:lnTo>
                            <a:lnTo>
                              <a:pt x="260" y="285"/>
                            </a:lnTo>
                            <a:lnTo>
                              <a:pt x="323" y="265"/>
                            </a:lnTo>
                            <a:lnTo>
                              <a:pt x="331" y="306"/>
                            </a:lnTo>
                            <a:lnTo>
                              <a:pt x="347" y="344"/>
                            </a:lnTo>
                            <a:lnTo>
                              <a:pt x="366" y="383"/>
                            </a:lnTo>
                            <a:lnTo>
                              <a:pt x="390" y="419"/>
                            </a:lnTo>
                            <a:lnTo>
                              <a:pt x="414" y="455"/>
                            </a:lnTo>
                            <a:lnTo>
                              <a:pt x="445" y="491"/>
                            </a:lnTo>
                            <a:lnTo>
                              <a:pt x="477" y="524"/>
                            </a:lnTo>
                            <a:lnTo>
                              <a:pt x="508" y="555"/>
                            </a:lnTo>
                            <a:lnTo>
                              <a:pt x="543" y="588"/>
                            </a:lnTo>
                            <a:lnTo>
                              <a:pt x="583" y="619"/>
                            </a:lnTo>
                            <a:lnTo>
                              <a:pt x="567" y="635"/>
                            </a:lnTo>
                            <a:lnTo>
                              <a:pt x="453" y="604"/>
                            </a:lnTo>
                            <a:lnTo>
                              <a:pt x="355" y="555"/>
                            </a:lnTo>
                            <a:lnTo>
                              <a:pt x="276" y="491"/>
                            </a:lnTo>
                            <a:lnTo>
                              <a:pt x="213" y="419"/>
                            </a:lnTo>
                            <a:lnTo>
                              <a:pt x="162" y="339"/>
                            </a:lnTo>
                            <a:lnTo>
                              <a:pt x="118" y="259"/>
                            </a:lnTo>
                            <a:lnTo>
                              <a:pt x="83" y="180"/>
                            </a:lnTo>
                            <a:lnTo>
                              <a:pt x="55" y="108"/>
                            </a:lnTo>
                            <a:lnTo>
                              <a:pt x="28" y="49"/>
                            </a:lnTo>
                            <a:lnTo>
                              <a:pt x="0" y="2"/>
                            </a:lnTo>
                            <a:lnTo>
                              <a:pt x="166" y="2"/>
                            </a:lnTo>
                            <a:lnTo>
                              <a:pt x="166" y="2"/>
                            </a:lnTo>
                            <a:lnTo>
                              <a:pt x="166" y="0"/>
                            </a:lnTo>
                            <a:close/>
                          </a:path>
                        </a:pathLst>
                      </a:custGeom>
                      <a:solidFill>
                        <a:srgbClr val="24ff7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23" name=""/>
                      <p:cNvSpPr/>
                      <p:nvPr/>
                    </p:nvSpPr>
                    <p:spPr>
                      <a:xfrm>
                        <a:off x="3513600" y="5300640"/>
                        <a:ext cx="10440" cy="11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1" h="61">
                            <a:moveTo>
                              <a:pt x="71" y="0"/>
                            </a:moveTo>
                            <a:lnTo>
                              <a:pt x="67" y="5"/>
                            </a:lnTo>
                            <a:lnTo>
                              <a:pt x="63" y="13"/>
                            </a:lnTo>
                            <a:lnTo>
                              <a:pt x="59" y="18"/>
                            </a:lnTo>
                            <a:lnTo>
                              <a:pt x="55" y="26"/>
                            </a:lnTo>
                            <a:lnTo>
                              <a:pt x="51" y="33"/>
                            </a:lnTo>
                            <a:lnTo>
                              <a:pt x="47" y="38"/>
                            </a:lnTo>
                            <a:lnTo>
                              <a:pt x="43" y="46"/>
                            </a:lnTo>
                            <a:lnTo>
                              <a:pt x="36" y="51"/>
                            </a:lnTo>
                            <a:lnTo>
                              <a:pt x="28" y="56"/>
                            </a:lnTo>
                            <a:lnTo>
                              <a:pt x="16" y="61"/>
                            </a:lnTo>
                            <a:lnTo>
                              <a:pt x="0" y="0"/>
                            </a:lnTo>
                            <a:lnTo>
                              <a:pt x="71" y="0"/>
                            </a:lnTo>
                            <a:lnTo>
                              <a:pt x="71" y="0"/>
                            </a:lnTo>
                            <a:close/>
                          </a:path>
                        </a:pathLst>
                      </a:custGeom>
                      <a:solidFill>
                        <a:srgbClr val="99f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280" bIns="-352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24" name=""/>
                      <p:cNvSpPr/>
                      <p:nvPr/>
                    </p:nvSpPr>
                    <p:spPr>
                      <a:xfrm>
                        <a:off x="3580920" y="5300640"/>
                        <a:ext cx="21960" cy="13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9" h="72">
                            <a:moveTo>
                              <a:pt x="0" y="72"/>
                            </a:moveTo>
                            <a:lnTo>
                              <a:pt x="55" y="0"/>
                            </a:lnTo>
                            <a:lnTo>
                              <a:pt x="149" y="46"/>
                            </a:lnTo>
                            <a:lnTo>
                              <a:pt x="0" y="72"/>
                            </a:lnTo>
                            <a:lnTo>
                              <a:pt x="0" y="72"/>
                            </a:lnTo>
                            <a:close/>
                          </a:path>
                        </a:pathLst>
                      </a:custGeom>
                      <a:solidFill>
                        <a:srgbClr val="99f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120" bIns="-331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25" name=""/>
                      <p:cNvSpPr/>
                      <p:nvPr/>
                    </p:nvSpPr>
                    <p:spPr>
                      <a:xfrm>
                        <a:off x="3473640" y="5305680"/>
                        <a:ext cx="19800" cy="15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3" h="82">
                            <a:moveTo>
                              <a:pt x="0" y="82"/>
                            </a:moveTo>
                            <a:lnTo>
                              <a:pt x="0" y="64"/>
                            </a:lnTo>
                            <a:lnTo>
                              <a:pt x="7" y="51"/>
                            </a:lnTo>
                            <a:lnTo>
                              <a:pt x="15" y="41"/>
                            </a:lnTo>
                            <a:lnTo>
                              <a:pt x="27" y="33"/>
                            </a:lnTo>
                            <a:lnTo>
                              <a:pt x="39" y="25"/>
                            </a:lnTo>
                            <a:lnTo>
                              <a:pt x="55" y="20"/>
                            </a:lnTo>
                            <a:lnTo>
                              <a:pt x="74" y="15"/>
                            </a:lnTo>
                            <a:lnTo>
                              <a:pt x="90" y="10"/>
                            </a:lnTo>
                            <a:lnTo>
                              <a:pt x="114" y="5"/>
                            </a:lnTo>
                            <a:lnTo>
                              <a:pt x="133" y="0"/>
                            </a:lnTo>
                            <a:lnTo>
                              <a:pt x="0" y="82"/>
                            </a:lnTo>
                            <a:lnTo>
                              <a:pt x="0" y="82"/>
                            </a:lnTo>
                            <a:close/>
                          </a:path>
                        </a:pathLst>
                      </a:custGeom>
                      <a:solidFill>
                        <a:srgbClr val="99f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1320" bIns="-313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26" name=""/>
                      <p:cNvSpPr/>
                      <p:nvPr/>
                    </p:nvSpPr>
                    <p:spPr>
                      <a:xfrm>
                        <a:off x="3530160" y="5305680"/>
                        <a:ext cx="16560" cy="15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1" h="84">
                            <a:moveTo>
                              <a:pt x="111" y="69"/>
                            </a:moveTo>
                            <a:lnTo>
                              <a:pt x="99" y="69"/>
                            </a:lnTo>
                            <a:lnTo>
                              <a:pt x="87" y="69"/>
                            </a:lnTo>
                            <a:lnTo>
                              <a:pt x="75" y="71"/>
                            </a:lnTo>
                            <a:lnTo>
                              <a:pt x="63" y="74"/>
                            </a:lnTo>
                            <a:lnTo>
                              <a:pt x="55" y="79"/>
                            </a:lnTo>
                            <a:lnTo>
                              <a:pt x="44" y="82"/>
                            </a:lnTo>
                            <a:lnTo>
                              <a:pt x="36" y="84"/>
                            </a:lnTo>
                            <a:lnTo>
                              <a:pt x="24" y="84"/>
                            </a:lnTo>
                            <a:lnTo>
                              <a:pt x="12" y="84"/>
                            </a:lnTo>
                            <a:lnTo>
                              <a:pt x="0" y="82"/>
                            </a:lnTo>
                            <a:lnTo>
                              <a:pt x="55" y="0"/>
                            </a:lnTo>
                            <a:lnTo>
                              <a:pt x="63" y="2"/>
                            </a:lnTo>
                            <a:lnTo>
                              <a:pt x="71" y="7"/>
                            </a:lnTo>
                            <a:lnTo>
                              <a:pt x="79" y="12"/>
                            </a:lnTo>
                            <a:lnTo>
                              <a:pt x="87" y="20"/>
                            </a:lnTo>
                            <a:lnTo>
                              <a:pt x="95" y="28"/>
                            </a:lnTo>
                            <a:lnTo>
                              <a:pt x="99" y="35"/>
                            </a:lnTo>
                            <a:lnTo>
                              <a:pt x="103" y="43"/>
                            </a:lnTo>
                            <a:lnTo>
                              <a:pt x="107" y="53"/>
                            </a:lnTo>
                            <a:lnTo>
                              <a:pt x="111" y="61"/>
                            </a:lnTo>
                            <a:lnTo>
                              <a:pt x="111" y="71"/>
                            </a:lnTo>
                            <a:lnTo>
                              <a:pt x="111" y="71"/>
                            </a:lnTo>
                            <a:lnTo>
                              <a:pt x="111" y="69"/>
                            </a:lnTo>
                            <a:close/>
                          </a:path>
                        </a:pathLst>
                      </a:custGeom>
                      <a:solidFill>
                        <a:srgbClr val="99f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960" bIns="-309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27" name=""/>
                      <p:cNvSpPr/>
                      <p:nvPr/>
                    </p:nvSpPr>
                    <p:spPr>
                      <a:xfrm>
                        <a:off x="3429000" y="5317200"/>
                        <a:ext cx="12960" cy="15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7" h="82">
                            <a:moveTo>
                              <a:pt x="32" y="82"/>
                            </a:moveTo>
                            <a:lnTo>
                              <a:pt x="0" y="62"/>
                            </a:lnTo>
                            <a:lnTo>
                              <a:pt x="71" y="0"/>
                            </a:lnTo>
                            <a:lnTo>
                              <a:pt x="83" y="8"/>
                            </a:lnTo>
                            <a:lnTo>
                              <a:pt x="87" y="18"/>
                            </a:lnTo>
                            <a:lnTo>
                              <a:pt x="87" y="26"/>
                            </a:lnTo>
                            <a:lnTo>
                              <a:pt x="79" y="34"/>
                            </a:lnTo>
                            <a:lnTo>
                              <a:pt x="71" y="41"/>
                            </a:lnTo>
                            <a:lnTo>
                              <a:pt x="59" y="49"/>
                            </a:lnTo>
                            <a:lnTo>
                              <a:pt x="52" y="57"/>
                            </a:lnTo>
                            <a:lnTo>
                              <a:pt x="40" y="64"/>
                            </a:lnTo>
                            <a:lnTo>
                              <a:pt x="36" y="72"/>
                            </a:lnTo>
                            <a:lnTo>
                              <a:pt x="32" y="82"/>
                            </a:lnTo>
                            <a:lnTo>
                              <a:pt x="32" y="82"/>
                            </a:lnTo>
                            <a:close/>
                          </a:path>
                        </a:pathLst>
                      </a:custGeom>
                      <a:solidFill>
                        <a:srgbClr val="99f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1320" bIns="-313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28" name=""/>
                      <p:cNvSpPr/>
                      <p:nvPr/>
                    </p:nvSpPr>
                    <p:spPr>
                      <a:xfrm>
                        <a:off x="3445560" y="5321160"/>
                        <a:ext cx="14400" cy="14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8" h="77">
                            <a:moveTo>
                              <a:pt x="94" y="77"/>
                            </a:moveTo>
                            <a:lnTo>
                              <a:pt x="0" y="77"/>
                            </a:lnTo>
                            <a:lnTo>
                              <a:pt x="55" y="0"/>
                            </a:lnTo>
                            <a:lnTo>
                              <a:pt x="59" y="7"/>
                            </a:lnTo>
                            <a:lnTo>
                              <a:pt x="67" y="15"/>
                            </a:lnTo>
                            <a:lnTo>
                              <a:pt x="74" y="23"/>
                            </a:lnTo>
                            <a:lnTo>
                              <a:pt x="78" y="28"/>
                            </a:lnTo>
                            <a:lnTo>
                              <a:pt x="86" y="36"/>
                            </a:lnTo>
                            <a:lnTo>
                              <a:pt x="90" y="43"/>
                            </a:lnTo>
                            <a:lnTo>
                              <a:pt x="94" y="51"/>
                            </a:lnTo>
                            <a:lnTo>
                              <a:pt x="98" y="59"/>
                            </a:lnTo>
                            <a:lnTo>
                              <a:pt x="98" y="67"/>
                            </a:lnTo>
                            <a:lnTo>
                              <a:pt x="94" y="77"/>
                            </a:lnTo>
                            <a:lnTo>
                              <a:pt x="94" y="77"/>
                            </a:lnTo>
                            <a:close/>
                          </a:path>
                        </a:pathLst>
                      </a:custGeom>
                      <a:solidFill>
                        <a:srgbClr val="99f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0" bIns="-324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29" name=""/>
                      <p:cNvSpPr/>
                      <p:nvPr/>
                    </p:nvSpPr>
                    <p:spPr>
                      <a:xfrm>
                        <a:off x="2802960" y="5326200"/>
                        <a:ext cx="124560" cy="209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34" h="1100">
                            <a:moveTo>
                              <a:pt x="834" y="1100"/>
                            </a:moveTo>
                            <a:lnTo>
                              <a:pt x="547" y="931"/>
                            </a:lnTo>
                            <a:lnTo>
                              <a:pt x="0" y="0"/>
                            </a:lnTo>
                            <a:lnTo>
                              <a:pt x="87" y="106"/>
                            </a:lnTo>
                            <a:lnTo>
                              <a:pt x="169" y="214"/>
                            </a:lnTo>
                            <a:lnTo>
                              <a:pt x="256" y="324"/>
                            </a:lnTo>
                            <a:lnTo>
                              <a:pt x="342" y="432"/>
                            </a:lnTo>
                            <a:lnTo>
                              <a:pt x="425" y="543"/>
                            </a:lnTo>
                            <a:lnTo>
                              <a:pt x="512" y="653"/>
                            </a:lnTo>
                            <a:lnTo>
                              <a:pt x="594" y="764"/>
                            </a:lnTo>
                            <a:lnTo>
                              <a:pt x="673" y="877"/>
                            </a:lnTo>
                            <a:lnTo>
                              <a:pt x="756" y="987"/>
                            </a:lnTo>
                            <a:lnTo>
                              <a:pt x="834" y="1100"/>
                            </a:lnTo>
                            <a:lnTo>
                              <a:pt x="834" y="1100"/>
                            </a:lnTo>
                            <a:close/>
                          </a:path>
                        </a:pathLst>
                      </a:custGeom>
                      <a:solidFill>
                        <a:srgbClr val="24ff7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30" name=""/>
                      <p:cNvSpPr/>
                      <p:nvPr/>
                    </p:nvSpPr>
                    <p:spPr>
                      <a:xfrm>
                        <a:off x="2941920" y="5396760"/>
                        <a:ext cx="531720" cy="38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550" h="200">
                            <a:moveTo>
                              <a:pt x="3550" y="0"/>
                            </a:moveTo>
                            <a:lnTo>
                              <a:pt x="3424" y="33"/>
                            </a:lnTo>
                            <a:lnTo>
                              <a:pt x="3294" y="64"/>
                            </a:lnTo>
                            <a:lnTo>
                              <a:pt x="3160" y="92"/>
                            </a:lnTo>
                            <a:lnTo>
                              <a:pt x="3026" y="115"/>
                            </a:lnTo>
                            <a:lnTo>
                              <a:pt x="2892" y="133"/>
                            </a:lnTo>
                            <a:lnTo>
                              <a:pt x="2755" y="151"/>
                            </a:lnTo>
                            <a:lnTo>
                              <a:pt x="2613" y="167"/>
                            </a:lnTo>
                            <a:lnTo>
                              <a:pt x="2475" y="179"/>
                            </a:lnTo>
                            <a:lnTo>
                              <a:pt x="2330" y="190"/>
                            </a:lnTo>
                            <a:lnTo>
                              <a:pt x="2188" y="200"/>
                            </a:lnTo>
                            <a:lnTo>
                              <a:pt x="283" y="185"/>
                            </a:lnTo>
                            <a:lnTo>
                              <a:pt x="252" y="179"/>
                            </a:lnTo>
                            <a:lnTo>
                              <a:pt x="220" y="174"/>
                            </a:lnTo>
                            <a:lnTo>
                              <a:pt x="189" y="169"/>
                            </a:lnTo>
                            <a:lnTo>
                              <a:pt x="153" y="161"/>
                            </a:lnTo>
                            <a:lnTo>
                              <a:pt x="122" y="154"/>
                            </a:lnTo>
                            <a:lnTo>
                              <a:pt x="94" y="143"/>
                            </a:lnTo>
                            <a:lnTo>
                              <a:pt x="67" y="133"/>
                            </a:lnTo>
                            <a:lnTo>
                              <a:pt x="39" y="118"/>
                            </a:lnTo>
                            <a:lnTo>
                              <a:pt x="20" y="105"/>
                            </a:lnTo>
                            <a:lnTo>
                              <a:pt x="0" y="87"/>
                            </a:lnTo>
                            <a:lnTo>
                              <a:pt x="346" y="115"/>
                            </a:lnTo>
                            <a:lnTo>
                              <a:pt x="700" y="133"/>
                            </a:lnTo>
                            <a:lnTo>
                              <a:pt x="1058" y="146"/>
                            </a:lnTo>
                            <a:lnTo>
                              <a:pt x="1421" y="149"/>
                            </a:lnTo>
                            <a:lnTo>
                              <a:pt x="1783" y="143"/>
                            </a:lnTo>
                            <a:lnTo>
                              <a:pt x="2145" y="131"/>
                            </a:lnTo>
                            <a:lnTo>
                              <a:pt x="2503" y="110"/>
                            </a:lnTo>
                            <a:lnTo>
                              <a:pt x="2857" y="79"/>
                            </a:lnTo>
                            <a:lnTo>
                              <a:pt x="3207" y="43"/>
                            </a:lnTo>
                            <a:lnTo>
                              <a:pt x="3550" y="0"/>
                            </a:lnTo>
                            <a:lnTo>
                              <a:pt x="3550" y="0"/>
                            </a:lnTo>
                            <a:close/>
                          </a:path>
                        </a:pathLst>
                      </a:custGeom>
                      <a:solidFill>
                        <a:srgbClr val="24ff7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8640" bIns="-86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31" name=""/>
                      <p:cNvSpPr/>
                      <p:nvPr/>
                    </p:nvSpPr>
                    <p:spPr>
                      <a:xfrm>
                        <a:off x="3132720" y="4906800"/>
                        <a:ext cx="188640" cy="2404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pic>
              <p:nvPicPr>
                <p:cNvPr id="732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5036040" y="1014120"/>
                  <a:ext cx="1051200" cy="9723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733" name=""/>
                <p:cNvGrpSpPr/>
                <p:nvPr/>
              </p:nvGrpSpPr>
              <p:grpSpPr>
                <a:xfrm>
                  <a:off x="3750120" y="4159800"/>
                  <a:ext cx="964080" cy="912960"/>
                  <a:chOff x="3750120" y="4159800"/>
                  <a:chExt cx="964080" cy="912960"/>
                </a:xfrm>
              </p:grpSpPr>
              <p:sp>
                <p:nvSpPr>
                  <p:cNvPr id="734" name=""/>
                  <p:cNvSpPr/>
                  <p:nvPr/>
                </p:nvSpPr>
                <p:spPr>
                  <a:xfrm flipH="1">
                    <a:off x="3750120" y="4159800"/>
                    <a:ext cx="401760" cy="884160"/>
                  </a:xfrm>
                  <a:custGeom>
                    <a:avLst/>
                    <a:gdLst/>
                    <a:ahLst/>
                    <a:rect l="l" t="t" r="r" b="b"/>
                    <a:pathLst>
                      <a:path w="2369" h="5397">
                        <a:moveTo>
                          <a:pt x="1137" y="91"/>
                        </a:moveTo>
                        <a:lnTo>
                          <a:pt x="1141" y="96"/>
                        </a:lnTo>
                        <a:lnTo>
                          <a:pt x="1146" y="96"/>
                        </a:lnTo>
                        <a:lnTo>
                          <a:pt x="1151" y="96"/>
                        </a:lnTo>
                        <a:lnTo>
                          <a:pt x="1151" y="101"/>
                        </a:lnTo>
                        <a:lnTo>
                          <a:pt x="1156" y="101"/>
                        </a:lnTo>
                        <a:lnTo>
                          <a:pt x="1160" y="101"/>
                        </a:lnTo>
                        <a:lnTo>
                          <a:pt x="1160" y="106"/>
                        </a:lnTo>
                        <a:lnTo>
                          <a:pt x="1165" y="106"/>
                        </a:lnTo>
                        <a:lnTo>
                          <a:pt x="1165" y="110"/>
                        </a:lnTo>
                        <a:lnTo>
                          <a:pt x="1170" y="110"/>
                        </a:lnTo>
                        <a:lnTo>
                          <a:pt x="1175" y="115"/>
                        </a:lnTo>
                        <a:lnTo>
                          <a:pt x="1180" y="120"/>
                        </a:lnTo>
                        <a:lnTo>
                          <a:pt x="1184" y="125"/>
                        </a:lnTo>
                        <a:lnTo>
                          <a:pt x="1189" y="125"/>
                        </a:lnTo>
                        <a:lnTo>
                          <a:pt x="1189" y="129"/>
                        </a:lnTo>
                        <a:lnTo>
                          <a:pt x="1194" y="129"/>
                        </a:lnTo>
                        <a:lnTo>
                          <a:pt x="1194" y="134"/>
                        </a:lnTo>
                        <a:lnTo>
                          <a:pt x="1199" y="139"/>
                        </a:lnTo>
                        <a:lnTo>
                          <a:pt x="1204" y="144"/>
                        </a:lnTo>
                        <a:lnTo>
                          <a:pt x="1208" y="149"/>
                        </a:lnTo>
                        <a:lnTo>
                          <a:pt x="1208" y="153"/>
                        </a:lnTo>
                        <a:lnTo>
                          <a:pt x="1213" y="153"/>
                        </a:lnTo>
                        <a:lnTo>
                          <a:pt x="1213" y="158"/>
                        </a:lnTo>
                        <a:lnTo>
                          <a:pt x="1218" y="158"/>
                        </a:lnTo>
                        <a:lnTo>
                          <a:pt x="1218" y="163"/>
                        </a:lnTo>
                        <a:lnTo>
                          <a:pt x="1223" y="168"/>
                        </a:lnTo>
                        <a:lnTo>
                          <a:pt x="1237" y="168"/>
                        </a:lnTo>
                        <a:lnTo>
                          <a:pt x="1247" y="168"/>
                        </a:lnTo>
                        <a:lnTo>
                          <a:pt x="1256" y="168"/>
                        </a:lnTo>
                        <a:lnTo>
                          <a:pt x="1266" y="168"/>
                        </a:lnTo>
                        <a:lnTo>
                          <a:pt x="1276" y="168"/>
                        </a:lnTo>
                        <a:lnTo>
                          <a:pt x="1290" y="168"/>
                        </a:lnTo>
                        <a:lnTo>
                          <a:pt x="1300" y="173"/>
                        </a:lnTo>
                        <a:lnTo>
                          <a:pt x="1309" y="173"/>
                        </a:lnTo>
                        <a:lnTo>
                          <a:pt x="1319" y="177"/>
                        </a:lnTo>
                        <a:lnTo>
                          <a:pt x="1328" y="182"/>
                        </a:lnTo>
                        <a:lnTo>
                          <a:pt x="1343" y="182"/>
                        </a:lnTo>
                        <a:lnTo>
                          <a:pt x="1352" y="187"/>
                        </a:lnTo>
                        <a:lnTo>
                          <a:pt x="1362" y="192"/>
                        </a:lnTo>
                        <a:lnTo>
                          <a:pt x="1372" y="197"/>
                        </a:lnTo>
                        <a:lnTo>
                          <a:pt x="1381" y="201"/>
                        </a:lnTo>
                        <a:lnTo>
                          <a:pt x="1391" y="206"/>
                        </a:lnTo>
                        <a:lnTo>
                          <a:pt x="1400" y="211"/>
                        </a:lnTo>
                        <a:lnTo>
                          <a:pt x="1410" y="220"/>
                        </a:lnTo>
                        <a:lnTo>
                          <a:pt x="1420" y="225"/>
                        </a:lnTo>
                        <a:lnTo>
                          <a:pt x="1429" y="230"/>
                        </a:lnTo>
                        <a:lnTo>
                          <a:pt x="1439" y="240"/>
                        </a:lnTo>
                        <a:lnTo>
                          <a:pt x="1448" y="244"/>
                        </a:lnTo>
                        <a:lnTo>
                          <a:pt x="1453" y="254"/>
                        </a:lnTo>
                        <a:lnTo>
                          <a:pt x="1463" y="264"/>
                        </a:lnTo>
                        <a:lnTo>
                          <a:pt x="1472" y="268"/>
                        </a:lnTo>
                        <a:lnTo>
                          <a:pt x="1477" y="278"/>
                        </a:lnTo>
                        <a:lnTo>
                          <a:pt x="1487" y="288"/>
                        </a:lnTo>
                        <a:lnTo>
                          <a:pt x="1491" y="297"/>
                        </a:lnTo>
                        <a:lnTo>
                          <a:pt x="1496" y="307"/>
                        </a:lnTo>
                        <a:lnTo>
                          <a:pt x="1506" y="316"/>
                        </a:lnTo>
                        <a:lnTo>
                          <a:pt x="1511" y="326"/>
                        </a:lnTo>
                        <a:lnTo>
                          <a:pt x="1515" y="335"/>
                        </a:lnTo>
                        <a:lnTo>
                          <a:pt x="1520" y="340"/>
                        </a:lnTo>
                        <a:lnTo>
                          <a:pt x="1520" y="345"/>
                        </a:lnTo>
                        <a:lnTo>
                          <a:pt x="1520" y="350"/>
                        </a:lnTo>
                        <a:lnTo>
                          <a:pt x="1525" y="355"/>
                        </a:lnTo>
                        <a:lnTo>
                          <a:pt x="1525" y="359"/>
                        </a:lnTo>
                        <a:lnTo>
                          <a:pt x="1525" y="364"/>
                        </a:lnTo>
                        <a:lnTo>
                          <a:pt x="1530" y="364"/>
                        </a:lnTo>
                        <a:lnTo>
                          <a:pt x="1530" y="369"/>
                        </a:lnTo>
                        <a:lnTo>
                          <a:pt x="1535" y="374"/>
                        </a:lnTo>
                        <a:lnTo>
                          <a:pt x="1535" y="378"/>
                        </a:lnTo>
                        <a:lnTo>
                          <a:pt x="1539" y="383"/>
                        </a:lnTo>
                        <a:lnTo>
                          <a:pt x="1539" y="388"/>
                        </a:lnTo>
                        <a:lnTo>
                          <a:pt x="1544" y="388"/>
                        </a:lnTo>
                        <a:lnTo>
                          <a:pt x="1544" y="393"/>
                        </a:lnTo>
                        <a:lnTo>
                          <a:pt x="1549" y="398"/>
                        </a:lnTo>
                        <a:lnTo>
                          <a:pt x="1549" y="402"/>
                        </a:lnTo>
                        <a:lnTo>
                          <a:pt x="1554" y="407"/>
                        </a:lnTo>
                        <a:lnTo>
                          <a:pt x="1559" y="412"/>
                        </a:lnTo>
                        <a:lnTo>
                          <a:pt x="1559" y="417"/>
                        </a:lnTo>
                        <a:lnTo>
                          <a:pt x="1563" y="422"/>
                        </a:lnTo>
                        <a:lnTo>
                          <a:pt x="1563" y="426"/>
                        </a:lnTo>
                        <a:lnTo>
                          <a:pt x="1568" y="431"/>
                        </a:lnTo>
                        <a:lnTo>
                          <a:pt x="1573" y="436"/>
                        </a:lnTo>
                        <a:lnTo>
                          <a:pt x="1573" y="441"/>
                        </a:lnTo>
                        <a:lnTo>
                          <a:pt x="1573" y="446"/>
                        </a:lnTo>
                        <a:lnTo>
                          <a:pt x="1578" y="450"/>
                        </a:lnTo>
                        <a:lnTo>
                          <a:pt x="1578" y="455"/>
                        </a:lnTo>
                        <a:lnTo>
                          <a:pt x="1578" y="460"/>
                        </a:lnTo>
                        <a:lnTo>
                          <a:pt x="1578" y="465"/>
                        </a:lnTo>
                        <a:lnTo>
                          <a:pt x="1583" y="474"/>
                        </a:lnTo>
                        <a:lnTo>
                          <a:pt x="1587" y="479"/>
                        </a:lnTo>
                        <a:lnTo>
                          <a:pt x="1592" y="489"/>
                        </a:lnTo>
                        <a:lnTo>
                          <a:pt x="1597" y="498"/>
                        </a:lnTo>
                        <a:lnTo>
                          <a:pt x="1602" y="508"/>
                        </a:lnTo>
                        <a:lnTo>
                          <a:pt x="1607" y="517"/>
                        </a:lnTo>
                        <a:lnTo>
                          <a:pt x="1611" y="527"/>
                        </a:lnTo>
                        <a:lnTo>
                          <a:pt x="1616" y="536"/>
                        </a:lnTo>
                        <a:lnTo>
                          <a:pt x="1621" y="546"/>
                        </a:lnTo>
                        <a:lnTo>
                          <a:pt x="1626" y="556"/>
                        </a:lnTo>
                        <a:lnTo>
                          <a:pt x="1626" y="565"/>
                        </a:lnTo>
                        <a:lnTo>
                          <a:pt x="1631" y="570"/>
                        </a:lnTo>
                        <a:lnTo>
                          <a:pt x="1635" y="580"/>
                        </a:lnTo>
                        <a:lnTo>
                          <a:pt x="1640" y="589"/>
                        </a:lnTo>
                        <a:lnTo>
                          <a:pt x="1645" y="599"/>
                        </a:lnTo>
                        <a:lnTo>
                          <a:pt x="1645" y="608"/>
                        </a:lnTo>
                        <a:lnTo>
                          <a:pt x="1650" y="618"/>
                        </a:lnTo>
                        <a:lnTo>
                          <a:pt x="1655" y="627"/>
                        </a:lnTo>
                        <a:lnTo>
                          <a:pt x="1659" y="637"/>
                        </a:lnTo>
                        <a:lnTo>
                          <a:pt x="1659" y="647"/>
                        </a:lnTo>
                        <a:lnTo>
                          <a:pt x="1664" y="656"/>
                        </a:lnTo>
                        <a:lnTo>
                          <a:pt x="1669" y="666"/>
                        </a:lnTo>
                        <a:lnTo>
                          <a:pt x="1669" y="675"/>
                        </a:lnTo>
                        <a:lnTo>
                          <a:pt x="1674" y="685"/>
                        </a:lnTo>
                        <a:lnTo>
                          <a:pt x="1674" y="695"/>
                        </a:lnTo>
                        <a:lnTo>
                          <a:pt x="1679" y="704"/>
                        </a:lnTo>
                        <a:lnTo>
                          <a:pt x="1679" y="714"/>
                        </a:lnTo>
                        <a:lnTo>
                          <a:pt x="1683" y="723"/>
                        </a:lnTo>
                        <a:lnTo>
                          <a:pt x="1683" y="733"/>
                        </a:lnTo>
                        <a:lnTo>
                          <a:pt x="1688" y="742"/>
                        </a:lnTo>
                        <a:lnTo>
                          <a:pt x="1688" y="752"/>
                        </a:lnTo>
                        <a:lnTo>
                          <a:pt x="1693" y="766"/>
                        </a:lnTo>
                        <a:lnTo>
                          <a:pt x="1698" y="781"/>
                        </a:lnTo>
                        <a:lnTo>
                          <a:pt x="1698" y="795"/>
                        </a:lnTo>
                        <a:lnTo>
                          <a:pt x="1703" y="809"/>
                        </a:lnTo>
                        <a:lnTo>
                          <a:pt x="1707" y="829"/>
                        </a:lnTo>
                        <a:lnTo>
                          <a:pt x="1712" y="843"/>
                        </a:lnTo>
                        <a:lnTo>
                          <a:pt x="1717" y="857"/>
                        </a:lnTo>
                        <a:lnTo>
                          <a:pt x="1722" y="876"/>
                        </a:lnTo>
                        <a:lnTo>
                          <a:pt x="1727" y="891"/>
                        </a:lnTo>
                        <a:lnTo>
                          <a:pt x="1731" y="910"/>
                        </a:lnTo>
                        <a:lnTo>
                          <a:pt x="1736" y="924"/>
                        </a:lnTo>
                        <a:lnTo>
                          <a:pt x="1741" y="939"/>
                        </a:lnTo>
                        <a:lnTo>
                          <a:pt x="1741" y="958"/>
                        </a:lnTo>
                        <a:lnTo>
                          <a:pt x="1746" y="972"/>
                        </a:lnTo>
                        <a:lnTo>
                          <a:pt x="1751" y="991"/>
                        </a:lnTo>
                        <a:lnTo>
                          <a:pt x="1755" y="1006"/>
                        </a:lnTo>
                        <a:lnTo>
                          <a:pt x="1755" y="1025"/>
                        </a:lnTo>
                        <a:lnTo>
                          <a:pt x="1760" y="1039"/>
                        </a:lnTo>
                        <a:lnTo>
                          <a:pt x="1765" y="1058"/>
                        </a:lnTo>
                        <a:lnTo>
                          <a:pt x="1770" y="1073"/>
                        </a:lnTo>
                        <a:lnTo>
                          <a:pt x="1770" y="1092"/>
                        </a:lnTo>
                        <a:lnTo>
                          <a:pt x="1775" y="1106"/>
                        </a:lnTo>
                        <a:lnTo>
                          <a:pt x="1775" y="1125"/>
                        </a:lnTo>
                        <a:lnTo>
                          <a:pt x="1779" y="1145"/>
                        </a:lnTo>
                        <a:lnTo>
                          <a:pt x="1779" y="1159"/>
                        </a:lnTo>
                        <a:lnTo>
                          <a:pt x="1784" y="1178"/>
                        </a:lnTo>
                        <a:lnTo>
                          <a:pt x="1784" y="1192"/>
                        </a:lnTo>
                        <a:lnTo>
                          <a:pt x="1789" y="1212"/>
                        </a:lnTo>
                        <a:lnTo>
                          <a:pt x="1789" y="1226"/>
                        </a:lnTo>
                        <a:lnTo>
                          <a:pt x="1794" y="1240"/>
                        </a:lnTo>
                        <a:lnTo>
                          <a:pt x="1794" y="1260"/>
                        </a:lnTo>
                        <a:lnTo>
                          <a:pt x="1794" y="1274"/>
                        </a:lnTo>
                        <a:lnTo>
                          <a:pt x="1794" y="1293"/>
                        </a:lnTo>
                        <a:lnTo>
                          <a:pt x="1794" y="1298"/>
                        </a:lnTo>
                        <a:lnTo>
                          <a:pt x="1799" y="1303"/>
                        </a:lnTo>
                        <a:lnTo>
                          <a:pt x="1799" y="1312"/>
                        </a:lnTo>
                        <a:lnTo>
                          <a:pt x="1799" y="1317"/>
                        </a:lnTo>
                        <a:lnTo>
                          <a:pt x="1799" y="1322"/>
                        </a:lnTo>
                        <a:lnTo>
                          <a:pt x="1799" y="1327"/>
                        </a:lnTo>
                        <a:lnTo>
                          <a:pt x="1799" y="1336"/>
                        </a:lnTo>
                        <a:lnTo>
                          <a:pt x="1799" y="1341"/>
                        </a:lnTo>
                        <a:lnTo>
                          <a:pt x="1799" y="1346"/>
                        </a:lnTo>
                        <a:lnTo>
                          <a:pt x="1799" y="1351"/>
                        </a:lnTo>
                        <a:lnTo>
                          <a:pt x="1799" y="1355"/>
                        </a:lnTo>
                        <a:lnTo>
                          <a:pt x="1799" y="1360"/>
                        </a:lnTo>
                        <a:lnTo>
                          <a:pt x="1799" y="1370"/>
                        </a:lnTo>
                        <a:lnTo>
                          <a:pt x="1799" y="1374"/>
                        </a:lnTo>
                        <a:lnTo>
                          <a:pt x="1803" y="1379"/>
                        </a:lnTo>
                        <a:lnTo>
                          <a:pt x="1803" y="1384"/>
                        </a:lnTo>
                        <a:lnTo>
                          <a:pt x="1803" y="1389"/>
                        </a:lnTo>
                        <a:lnTo>
                          <a:pt x="1803" y="1394"/>
                        </a:lnTo>
                        <a:lnTo>
                          <a:pt x="1803" y="1403"/>
                        </a:lnTo>
                        <a:lnTo>
                          <a:pt x="1803" y="1408"/>
                        </a:lnTo>
                        <a:lnTo>
                          <a:pt x="1803" y="1413"/>
                        </a:lnTo>
                        <a:lnTo>
                          <a:pt x="1803" y="1418"/>
                        </a:lnTo>
                        <a:lnTo>
                          <a:pt x="1803" y="1422"/>
                        </a:lnTo>
                        <a:lnTo>
                          <a:pt x="1803" y="1432"/>
                        </a:lnTo>
                        <a:lnTo>
                          <a:pt x="1803" y="1437"/>
                        </a:lnTo>
                        <a:lnTo>
                          <a:pt x="1803" y="1441"/>
                        </a:lnTo>
                        <a:lnTo>
                          <a:pt x="1803" y="1446"/>
                        </a:lnTo>
                        <a:lnTo>
                          <a:pt x="1803" y="1451"/>
                        </a:lnTo>
                        <a:lnTo>
                          <a:pt x="1803" y="1461"/>
                        </a:lnTo>
                        <a:lnTo>
                          <a:pt x="1803" y="1465"/>
                        </a:lnTo>
                        <a:lnTo>
                          <a:pt x="1803" y="1470"/>
                        </a:lnTo>
                        <a:lnTo>
                          <a:pt x="1803" y="1480"/>
                        </a:lnTo>
                        <a:lnTo>
                          <a:pt x="1803" y="1485"/>
                        </a:lnTo>
                        <a:lnTo>
                          <a:pt x="1799" y="1485"/>
                        </a:lnTo>
                        <a:lnTo>
                          <a:pt x="1799" y="1489"/>
                        </a:lnTo>
                        <a:lnTo>
                          <a:pt x="1799" y="1494"/>
                        </a:lnTo>
                        <a:lnTo>
                          <a:pt x="1799" y="1499"/>
                        </a:lnTo>
                        <a:lnTo>
                          <a:pt x="1803" y="1499"/>
                        </a:lnTo>
                        <a:lnTo>
                          <a:pt x="1803" y="1504"/>
                        </a:lnTo>
                        <a:lnTo>
                          <a:pt x="1818" y="1513"/>
                        </a:lnTo>
                        <a:lnTo>
                          <a:pt x="1832" y="1523"/>
                        </a:lnTo>
                        <a:lnTo>
                          <a:pt x="1846" y="1537"/>
                        </a:lnTo>
                        <a:lnTo>
                          <a:pt x="1861" y="1547"/>
                        </a:lnTo>
                        <a:lnTo>
                          <a:pt x="1870" y="1561"/>
                        </a:lnTo>
                        <a:lnTo>
                          <a:pt x="1880" y="1576"/>
                        </a:lnTo>
                        <a:lnTo>
                          <a:pt x="1890" y="1590"/>
                        </a:lnTo>
                        <a:lnTo>
                          <a:pt x="1899" y="1604"/>
                        </a:lnTo>
                        <a:lnTo>
                          <a:pt x="1909" y="1619"/>
                        </a:lnTo>
                        <a:lnTo>
                          <a:pt x="1914" y="1633"/>
                        </a:lnTo>
                        <a:lnTo>
                          <a:pt x="1923" y="1647"/>
                        </a:lnTo>
                        <a:lnTo>
                          <a:pt x="1928" y="1667"/>
                        </a:lnTo>
                        <a:lnTo>
                          <a:pt x="1933" y="1681"/>
                        </a:lnTo>
                        <a:lnTo>
                          <a:pt x="1938" y="1700"/>
                        </a:lnTo>
                        <a:lnTo>
                          <a:pt x="1942" y="1714"/>
                        </a:lnTo>
                        <a:lnTo>
                          <a:pt x="1947" y="1734"/>
                        </a:lnTo>
                        <a:lnTo>
                          <a:pt x="1952" y="1753"/>
                        </a:lnTo>
                        <a:lnTo>
                          <a:pt x="1952" y="1772"/>
                        </a:lnTo>
                        <a:lnTo>
                          <a:pt x="1957" y="1786"/>
                        </a:lnTo>
                        <a:lnTo>
                          <a:pt x="1962" y="1805"/>
                        </a:lnTo>
                        <a:lnTo>
                          <a:pt x="1962" y="1825"/>
                        </a:lnTo>
                        <a:lnTo>
                          <a:pt x="1966" y="1844"/>
                        </a:lnTo>
                        <a:lnTo>
                          <a:pt x="1966" y="1863"/>
                        </a:lnTo>
                        <a:lnTo>
                          <a:pt x="1971" y="1882"/>
                        </a:lnTo>
                        <a:lnTo>
                          <a:pt x="1971" y="1896"/>
                        </a:lnTo>
                        <a:lnTo>
                          <a:pt x="1976" y="1916"/>
                        </a:lnTo>
                        <a:lnTo>
                          <a:pt x="1981" y="1935"/>
                        </a:lnTo>
                        <a:lnTo>
                          <a:pt x="1981" y="1954"/>
                        </a:lnTo>
                        <a:lnTo>
                          <a:pt x="1986" y="1968"/>
                        </a:lnTo>
                        <a:lnTo>
                          <a:pt x="1990" y="1987"/>
                        </a:lnTo>
                        <a:lnTo>
                          <a:pt x="1995" y="2006"/>
                        </a:lnTo>
                        <a:lnTo>
                          <a:pt x="2000" y="2021"/>
                        </a:lnTo>
                        <a:lnTo>
                          <a:pt x="1995" y="2026"/>
                        </a:lnTo>
                        <a:lnTo>
                          <a:pt x="1995" y="2030"/>
                        </a:lnTo>
                        <a:lnTo>
                          <a:pt x="1995" y="2035"/>
                        </a:lnTo>
                        <a:lnTo>
                          <a:pt x="1995" y="2040"/>
                        </a:lnTo>
                        <a:lnTo>
                          <a:pt x="1995" y="2045"/>
                        </a:lnTo>
                        <a:lnTo>
                          <a:pt x="1995" y="2050"/>
                        </a:lnTo>
                        <a:lnTo>
                          <a:pt x="2000" y="2054"/>
                        </a:lnTo>
                        <a:lnTo>
                          <a:pt x="2000" y="2059"/>
                        </a:lnTo>
                        <a:lnTo>
                          <a:pt x="2005" y="2064"/>
                        </a:lnTo>
                        <a:lnTo>
                          <a:pt x="2005" y="2069"/>
                        </a:lnTo>
                        <a:lnTo>
                          <a:pt x="2010" y="2069"/>
                        </a:lnTo>
                        <a:lnTo>
                          <a:pt x="2010" y="2074"/>
                        </a:lnTo>
                        <a:lnTo>
                          <a:pt x="2010" y="2078"/>
                        </a:lnTo>
                        <a:lnTo>
                          <a:pt x="2014" y="2078"/>
                        </a:lnTo>
                        <a:lnTo>
                          <a:pt x="2014" y="2083"/>
                        </a:lnTo>
                        <a:lnTo>
                          <a:pt x="2014" y="2088"/>
                        </a:lnTo>
                        <a:lnTo>
                          <a:pt x="2014" y="2093"/>
                        </a:lnTo>
                        <a:lnTo>
                          <a:pt x="2014" y="2097"/>
                        </a:lnTo>
                        <a:lnTo>
                          <a:pt x="2014" y="2102"/>
                        </a:lnTo>
                        <a:lnTo>
                          <a:pt x="2010" y="2107"/>
                        </a:lnTo>
                        <a:lnTo>
                          <a:pt x="2019" y="2121"/>
                        </a:lnTo>
                        <a:lnTo>
                          <a:pt x="2024" y="2141"/>
                        </a:lnTo>
                        <a:lnTo>
                          <a:pt x="2029" y="2160"/>
                        </a:lnTo>
                        <a:lnTo>
                          <a:pt x="2034" y="2179"/>
                        </a:lnTo>
                        <a:lnTo>
                          <a:pt x="2043" y="2198"/>
                        </a:lnTo>
                        <a:lnTo>
                          <a:pt x="2048" y="2212"/>
                        </a:lnTo>
                        <a:lnTo>
                          <a:pt x="2053" y="2232"/>
                        </a:lnTo>
                        <a:lnTo>
                          <a:pt x="2058" y="2251"/>
                        </a:lnTo>
                        <a:lnTo>
                          <a:pt x="2062" y="2270"/>
                        </a:lnTo>
                        <a:lnTo>
                          <a:pt x="2067" y="2289"/>
                        </a:lnTo>
                        <a:lnTo>
                          <a:pt x="2072" y="2308"/>
                        </a:lnTo>
                        <a:lnTo>
                          <a:pt x="2077" y="2327"/>
                        </a:lnTo>
                        <a:lnTo>
                          <a:pt x="2082" y="2342"/>
                        </a:lnTo>
                        <a:lnTo>
                          <a:pt x="2086" y="2361"/>
                        </a:lnTo>
                        <a:lnTo>
                          <a:pt x="2091" y="2380"/>
                        </a:lnTo>
                        <a:lnTo>
                          <a:pt x="2096" y="2399"/>
                        </a:lnTo>
                        <a:lnTo>
                          <a:pt x="2101" y="2418"/>
                        </a:lnTo>
                        <a:lnTo>
                          <a:pt x="2106" y="2437"/>
                        </a:lnTo>
                        <a:lnTo>
                          <a:pt x="2110" y="2457"/>
                        </a:lnTo>
                        <a:lnTo>
                          <a:pt x="2115" y="2476"/>
                        </a:lnTo>
                        <a:lnTo>
                          <a:pt x="2120" y="2490"/>
                        </a:lnTo>
                        <a:lnTo>
                          <a:pt x="2125" y="2509"/>
                        </a:lnTo>
                        <a:lnTo>
                          <a:pt x="2130" y="2528"/>
                        </a:lnTo>
                        <a:lnTo>
                          <a:pt x="2134" y="2548"/>
                        </a:lnTo>
                        <a:lnTo>
                          <a:pt x="2139" y="2567"/>
                        </a:lnTo>
                        <a:lnTo>
                          <a:pt x="2149" y="2586"/>
                        </a:lnTo>
                        <a:lnTo>
                          <a:pt x="2153" y="2600"/>
                        </a:lnTo>
                        <a:lnTo>
                          <a:pt x="2158" y="2619"/>
                        </a:lnTo>
                        <a:lnTo>
                          <a:pt x="2168" y="2639"/>
                        </a:lnTo>
                        <a:lnTo>
                          <a:pt x="2173" y="2658"/>
                        </a:lnTo>
                        <a:lnTo>
                          <a:pt x="2182" y="2672"/>
                        </a:lnTo>
                        <a:lnTo>
                          <a:pt x="2187" y="2691"/>
                        </a:lnTo>
                        <a:lnTo>
                          <a:pt x="2192" y="2701"/>
                        </a:lnTo>
                        <a:lnTo>
                          <a:pt x="2197" y="2715"/>
                        </a:lnTo>
                        <a:lnTo>
                          <a:pt x="2201" y="2725"/>
                        </a:lnTo>
                        <a:lnTo>
                          <a:pt x="2206" y="2739"/>
                        </a:lnTo>
                        <a:lnTo>
                          <a:pt x="2211" y="2749"/>
                        </a:lnTo>
                        <a:lnTo>
                          <a:pt x="2216" y="2758"/>
                        </a:lnTo>
                        <a:lnTo>
                          <a:pt x="2221" y="2773"/>
                        </a:lnTo>
                        <a:lnTo>
                          <a:pt x="2225" y="2782"/>
                        </a:lnTo>
                        <a:lnTo>
                          <a:pt x="2230" y="2792"/>
                        </a:lnTo>
                        <a:lnTo>
                          <a:pt x="2235" y="2806"/>
                        </a:lnTo>
                        <a:lnTo>
                          <a:pt x="2240" y="2816"/>
                        </a:lnTo>
                        <a:lnTo>
                          <a:pt x="2245" y="2825"/>
                        </a:lnTo>
                        <a:lnTo>
                          <a:pt x="2249" y="2840"/>
                        </a:lnTo>
                        <a:lnTo>
                          <a:pt x="2254" y="2849"/>
                        </a:lnTo>
                        <a:lnTo>
                          <a:pt x="2259" y="2864"/>
                        </a:lnTo>
                        <a:lnTo>
                          <a:pt x="2264" y="2873"/>
                        </a:lnTo>
                        <a:lnTo>
                          <a:pt x="2264" y="2883"/>
                        </a:lnTo>
                        <a:lnTo>
                          <a:pt x="2269" y="2897"/>
                        </a:lnTo>
                        <a:lnTo>
                          <a:pt x="2273" y="2907"/>
                        </a:lnTo>
                        <a:lnTo>
                          <a:pt x="2278" y="2916"/>
                        </a:lnTo>
                        <a:lnTo>
                          <a:pt x="2283" y="2931"/>
                        </a:lnTo>
                        <a:lnTo>
                          <a:pt x="2288" y="2940"/>
                        </a:lnTo>
                        <a:lnTo>
                          <a:pt x="2293" y="2955"/>
                        </a:lnTo>
                        <a:lnTo>
                          <a:pt x="2297" y="2964"/>
                        </a:lnTo>
                        <a:lnTo>
                          <a:pt x="2302" y="2974"/>
                        </a:lnTo>
                        <a:lnTo>
                          <a:pt x="2302" y="2988"/>
                        </a:lnTo>
                        <a:lnTo>
                          <a:pt x="2307" y="2998"/>
                        </a:lnTo>
                        <a:lnTo>
                          <a:pt x="2312" y="3012"/>
                        </a:lnTo>
                        <a:lnTo>
                          <a:pt x="2317" y="3022"/>
                        </a:lnTo>
                        <a:lnTo>
                          <a:pt x="2317" y="3031"/>
                        </a:lnTo>
                        <a:lnTo>
                          <a:pt x="2321" y="3046"/>
                        </a:lnTo>
                        <a:lnTo>
                          <a:pt x="2326" y="3055"/>
                        </a:lnTo>
                        <a:lnTo>
                          <a:pt x="2331" y="3084"/>
                        </a:lnTo>
                        <a:lnTo>
                          <a:pt x="2336" y="3113"/>
                        </a:lnTo>
                        <a:lnTo>
                          <a:pt x="2341" y="3137"/>
                        </a:lnTo>
                        <a:lnTo>
                          <a:pt x="2341" y="3165"/>
                        </a:lnTo>
                        <a:lnTo>
                          <a:pt x="2345" y="3194"/>
                        </a:lnTo>
                        <a:lnTo>
                          <a:pt x="2350" y="3223"/>
                        </a:lnTo>
                        <a:lnTo>
                          <a:pt x="2355" y="3247"/>
                        </a:lnTo>
                        <a:lnTo>
                          <a:pt x="2360" y="3275"/>
                        </a:lnTo>
                        <a:lnTo>
                          <a:pt x="2360" y="3304"/>
                        </a:lnTo>
                        <a:lnTo>
                          <a:pt x="2365" y="3333"/>
                        </a:lnTo>
                        <a:lnTo>
                          <a:pt x="2365" y="3357"/>
                        </a:lnTo>
                        <a:lnTo>
                          <a:pt x="2365" y="3386"/>
                        </a:lnTo>
                        <a:lnTo>
                          <a:pt x="2369" y="3414"/>
                        </a:lnTo>
                        <a:lnTo>
                          <a:pt x="2369" y="3438"/>
                        </a:lnTo>
                        <a:lnTo>
                          <a:pt x="2369" y="3467"/>
                        </a:lnTo>
                        <a:lnTo>
                          <a:pt x="2369" y="3496"/>
                        </a:lnTo>
                        <a:lnTo>
                          <a:pt x="2369" y="3520"/>
                        </a:lnTo>
                        <a:lnTo>
                          <a:pt x="2365" y="3548"/>
                        </a:lnTo>
                        <a:lnTo>
                          <a:pt x="2365" y="3577"/>
                        </a:lnTo>
                        <a:lnTo>
                          <a:pt x="2360" y="3601"/>
                        </a:lnTo>
                        <a:lnTo>
                          <a:pt x="2355" y="3630"/>
                        </a:lnTo>
                        <a:lnTo>
                          <a:pt x="2350" y="3654"/>
                        </a:lnTo>
                        <a:lnTo>
                          <a:pt x="2345" y="3678"/>
                        </a:lnTo>
                        <a:lnTo>
                          <a:pt x="2341" y="3706"/>
                        </a:lnTo>
                        <a:lnTo>
                          <a:pt x="2331" y="3730"/>
                        </a:lnTo>
                        <a:lnTo>
                          <a:pt x="2326" y="3754"/>
                        </a:lnTo>
                        <a:lnTo>
                          <a:pt x="2317" y="3783"/>
                        </a:lnTo>
                        <a:lnTo>
                          <a:pt x="2307" y="3807"/>
                        </a:lnTo>
                        <a:lnTo>
                          <a:pt x="2293" y="3831"/>
                        </a:lnTo>
                        <a:lnTo>
                          <a:pt x="2283" y="3855"/>
                        </a:lnTo>
                        <a:lnTo>
                          <a:pt x="2269" y="3879"/>
                        </a:lnTo>
                        <a:lnTo>
                          <a:pt x="2254" y="3903"/>
                        </a:lnTo>
                        <a:lnTo>
                          <a:pt x="2249" y="3907"/>
                        </a:lnTo>
                        <a:lnTo>
                          <a:pt x="2245" y="3917"/>
                        </a:lnTo>
                        <a:lnTo>
                          <a:pt x="2240" y="3927"/>
                        </a:lnTo>
                        <a:lnTo>
                          <a:pt x="2235" y="3931"/>
                        </a:lnTo>
                        <a:lnTo>
                          <a:pt x="2225" y="3941"/>
                        </a:lnTo>
                        <a:lnTo>
                          <a:pt x="2221" y="3951"/>
                        </a:lnTo>
                        <a:lnTo>
                          <a:pt x="2216" y="3955"/>
                        </a:lnTo>
                        <a:lnTo>
                          <a:pt x="2211" y="3965"/>
                        </a:lnTo>
                        <a:lnTo>
                          <a:pt x="2206" y="3970"/>
                        </a:lnTo>
                        <a:lnTo>
                          <a:pt x="2197" y="3979"/>
                        </a:lnTo>
                        <a:lnTo>
                          <a:pt x="2192" y="3989"/>
                        </a:lnTo>
                        <a:lnTo>
                          <a:pt x="2187" y="3994"/>
                        </a:lnTo>
                        <a:lnTo>
                          <a:pt x="2182" y="4003"/>
                        </a:lnTo>
                        <a:lnTo>
                          <a:pt x="2173" y="4008"/>
                        </a:lnTo>
                        <a:lnTo>
                          <a:pt x="2168" y="4018"/>
                        </a:lnTo>
                        <a:lnTo>
                          <a:pt x="2163" y="4022"/>
                        </a:lnTo>
                        <a:lnTo>
                          <a:pt x="2153" y="4032"/>
                        </a:lnTo>
                        <a:lnTo>
                          <a:pt x="2149" y="4037"/>
                        </a:lnTo>
                        <a:lnTo>
                          <a:pt x="2139" y="4046"/>
                        </a:lnTo>
                        <a:lnTo>
                          <a:pt x="2134" y="4051"/>
                        </a:lnTo>
                        <a:lnTo>
                          <a:pt x="2125" y="4056"/>
                        </a:lnTo>
                        <a:lnTo>
                          <a:pt x="2120" y="4065"/>
                        </a:lnTo>
                        <a:lnTo>
                          <a:pt x="2110" y="4070"/>
                        </a:lnTo>
                        <a:lnTo>
                          <a:pt x="2106" y="4075"/>
                        </a:lnTo>
                        <a:lnTo>
                          <a:pt x="2096" y="4080"/>
                        </a:lnTo>
                        <a:lnTo>
                          <a:pt x="2091" y="4085"/>
                        </a:lnTo>
                        <a:lnTo>
                          <a:pt x="2082" y="4089"/>
                        </a:lnTo>
                        <a:lnTo>
                          <a:pt x="2072" y="4094"/>
                        </a:lnTo>
                        <a:lnTo>
                          <a:pt x="2062" y="4099"/>
                        </a:lnTo>
                        <a:lnTo>
                          <a:pt x="2058" y="4104"/>
                        </a:lnTo>
                        <a:lnTo>
                          <a:pt x="2048" y="4109"/>
                        </a:lnTo>
                        <a:lnTo>
                          <a:pt x="2038" y="4109"/>
                        </a:lnTo>
                        <a:lnTo>
                          <a:pt x="2038" y="4113"/>
                        </a:lnTo>
                        <a:lnTo>
                          <a:pt x="2034" y="4113"/>
                        </a:lnTo>
                        <a:lnTo>
                          <a:pt x="2034" y="4118"/>
                        </a:lnTo>
                        <a:lnTo>
                          <a:pt x="2029" y="4118"/>
                        </a:lnTo>
                        <a:lnTo>
                          <a:pt x="2029" y="4123"/>
                        </a:lnTo>
                        <a:lnTo>
                          <a:pt x="2024" y="4123"/>
                        </a:lnTo>
                        <a:lnTo>
                          <a:pt x="2024" y="4128"/>
                        </a:lnTo>
                        <a:lnTo>
                          <a:pt x="2019" y="4128"/>
                        </a:lnTo>
                        <a:lnTo>
                          <a:pt x="2014" y="4132"/>
                        </a:lnTo>
                        <a:lnTo>
                          <a:pt x="2010" y="4132"/>
                        </a:lnTo>
                        <a:lnTo>
                          <a:pt x="2010" y="4137"/>
                        </a:lnTo>
                        <a:lnTo>
                          <a:pt x="2005" y="4137"/>
                        </a:lnTo>
                        <a:lnTo>
                          <a:pt x="2000" y="4137"/>
                        </a:lnTo>
                        <a:lnTo>
                          <a:pt x="2000" y="4142"/>
                        </a:lnTo>
                        <a:lnTo>
                          <a:pt x="1995" y="4137"/>
                        </a:lnTo>
                        <a:lnTo>
                          <a:pt x="1990" y="4137"/>
                        </a:lnTo>
                        <a:lnTo>
                          <a:pt x="1986" y="4137"/>
                        </a:lnTo>
                        <a:lnTo>
                          <a:pt x="1981" y="4137"/>
                        </a:lnTo>
                        <a:lnTo>
                          <a:pt x="1976" y="4137"/>
                        </a:lnTo>
                        <a:lnTo>
                          <a:pt x="1971" y="4137"/>
                        </a:lnTo>
                        <a:lnTo>
                          <a:pt x="1971" y="4142"/>
                        </a:lnTo>
                        <a:lnTo>
                          <a:pt x="1966" y="4142"/>
                        </a:lnTo>
                        <a:lnTo>
                          <a:pt x="1962" y="4142"/>
                        </a:lnTo>
                        <a:lnTo>
                          <a:pt x="1962" y="4147"/>
                        </a:lnTo>
                        <a:lnTo>
                          <a:pt x="1957" y="4147"/>
                        </a:lnTo>
                        <a:lnTo>
                          <a:pt x="1952" y="4152"/>
                        </a:lnTo>
                        <a:lnTo>
                          <a:pt x="1947" y="4152"/>
                        </a:lnTo>
                        <a:lnTo>
                          <a:pt x="1947" y="4156"/>
                        </a:lnTo>
                        <a:lnTo>
                          <a:pt x="1942" y="4156"/>
                        </a:lnTo>
                        <a:lnTo>
                          <a:pt x="1938" y="4156"/>
                        </a:lnTo>
                        <a:lnTo>
                          <a:pt x="1933" y="4156"/>
                        </a:lnTo>
                        <a:lnTo>
                          <a:pt x="1928" y="4161"/>
                        </a:lnTo>
                        <a:lnTo>
                          <a:pt x="1923" y="4161"/>
                        </a:lnTo>
                        <a:lnTo>
                          <a:pt x="1918" y="4161"/>
                        </a:lnTo>
                        <a:lnTo>
                          <a:pt x="1909" y="4166"/>
                        </a:lnTo>
                        <a:lnTo>
                          <a:pt x="1904" y="4166"/>
                        </a:lnTo>
                        <a:lnTo>
                          <a:pt x="1899" y="4166"/>
                        </a:lnTo>
                        <a:lnTo>
                          <a:pt x="1894" y="4166"/>
                        </a:lnTo>
                        <a:lnTo>
                          <a:pt x="1885" y="4171"/>
                        </a:lnTo>
                        <a:lnTo>
                          <a:pt x="1880" y="4171"/>
                        </a:lnTo>
                        <a:lnTo>
                          <a:pt x="1875" y="4171"/>
                        </a:lnTo>
                        <a:lnTo>
                          <a:pt x="1866" y="4171"/>
                        </a:lnTo>
                        <a:lnTo>
                          <a:pt x="1861" y="4171"/>
                        </a:lnTo>
                        <a:lnTo>
                          <a:pt x="1856" y="4171"/>
                        </a:lnTo>
                        <a:lnTo>
                          <a:pt x="1846" y="4176"/>
                        </a:lnTo>
                        <a:lnTo>
                          <a:pt x="1842" y="4176"/>
                        </a:lnTo>
                        <a:lnTo>
                          <a:pt x="1832" y="4176"/>
                        </a:lnTo>
                        <a:lnTo>
                          <a:pt x="1827" y="4176"/>
                        </a:lnTo>
                        <a:lnTo>
                          <a:pt x="1822" y="4176"/>
                        </a:lnTo>
                        <a:lnTo>
                          <a:pt x="1813" y="4176"/>
                        </a:lnTo>
                        <a:lnTo>
                          <a:pt x="1808" y="4176"/>
                        </a:lnTo>
                        <a:lnTo>
                          <a:pt x="1803" y="4176"/>
                        </a:lnTo>
                        <a:lnTo>
                          <a:pt x="1794" y="4176"/>
                        </a:lnTo>
                        <a:lnTo>
                          <a:pt x="1789" y="4176"/>
                        </a:lnTo>
                        <a:lnTo>
                          <a:pt x="1779" y="4176"/>
                        </a:lnTo>
                        <a:lnTo>
                          <a:pt x="1775" y="4176"/>
                        </a:lnTo>
                        <a:lnTo>
                          <a:pt x="1770" y="4176"/>
                        </a:lnTo>
                        <a:lnTo>
                          <a:pt x="1760" y="4176"/>
                        </a:lnTo>
                        <a:lnTo>
                          <a:pt x="1755" y="4176"/>
                        </a:lnTo>
                        <a:lnTo>
                          <a:pt x="1746" y="4176"/>
                        </a:lnTo>
                        <a:lnTo>
                          <a:pt x="1741" y="4176"/>
                        </a:lnTo>
                        <a:lnTo>
                          <a:pt x="1736" y="4176"/>
                        </a:lnTo>
                        <a:lnTo>
                          <a:pt x="1727" y="4171"/>
                        </a:lnTo>
                        <a:lnTo>
                          <a:pt x="1727" y="4176"/>
                        </a:lnTo>
                        <a:lnTo>
                          <a:pt x="1727" y="4180"/>
                        </a:lnTo>
                        <a:lnTo>
                          <a:pt x="1727" y="4185"/>
                        </a:lnTo>
                        <a:lnTo>
                          <a:pt x="1727" y="4190"/>
                        </a:lnTo>
                        <a:lnTo>
                          <a:pt x="1731" y="4190"/>
                        </a:lnTo>
                        <a:lnTo>
                          <a:pt x="1731" y="4195"/>
                        </a:lnTo>
                        <a:lnTo>
                          <a:pt x="1731" y="4200"/>
                        </a:lnTo>
                        <a:lnTo>
                          <a:pt x="1736" y="4200"/>
                        </a:lnTo>
                        <a:lnTo>
                          <a:pt x="1736" y="4204"/>
                        </a:lnTo>
                        <a:lnTo>
                          <a:pt x="1736" y="4209"/>
                        </a:lnTo>
                        <a:lnTo>
                          <a:pt x="1741" y="4214"/>
                        </a:lnTo>
                        <a:lnTo>
                          <a:pt x="1741" y="4219"/>
                        </a:lnTo>
                        <a:lnTo>
                          <a:pt x="1746" y="4238"/>
                        </a:lnTo>
                        <a:lnTo>
                          <a:pt x="1751" y="4257"/>
                        </a:lnTo>
                        <a:lnTo>
                          <a:pt x="1755" y="4276"/>
                        </a:lnTo>
                        <a:lnTo>
                          <a:pt x="1760" y="4291"/>
                        </a:lnTo>
                        <a:lnTo>
                          <a:pt x="1765" y="4310"/>
                        </a:lnTo>
                        <a:lnTo>
                          <a:pt x="1770" y="4329"/>
                        </a:lnTo>
                        <a:lnTo>
                          <a:pt x="1775" y="4348"/>
                        </a:lnTo>
                        <a:lnTo>
                          <a:pt x="1779" y="4362"/>
                        </a:lnTo>
                        <a:lnTo>
                          <a:pt x="1784" y="4381"/>
                        </a:lnTo>
                        <a:lnTo>
                          <a:pt x="1794" y="4401"/>
                        </a:lnTo>
                        <a:lnTo>
                          <a:pt x="1799" y="4420"/>
                        </a:lnTo>
                        <a:lnTo>
                          <a:pt x="1803" y="4434"/>
                        </a:lnTo>
                        <a:lnTo>
                          <a:pt x="1808" y="4453"/>
                        </a:lnTo>
                        <a:lnTo>
                          <a:pt x="1813" y="4472"/>
                        </a:lnTo>
                        <a:lnTo>
                          <a:pt x="1822" y="4492"/>
                        </a:lnTo>
                        <a:lnTo>
                          <a:pt x="1827" y="4506"/>
                        </a:lnTo>
                        <a:lnTo>
                          <a:pt x="1832" y="4525"/>
                        </a:lnTo>
                        <a:lnTo>
                          <a:pt x="1837" y="4544"/>
                        </a:lnTo>
                        <a:lnTo>
                          <a:pt x="1846" y="4559"/>
                        </a:lnTo>
                        <a:lnTo>
                          <a:pt x="1851" y="4578"/>
                        </a:lnTo>
                        <a:lnTo>
                          <a:pt x="1856" y="4597"/>
                        </a:lnTo>
                        <a:lnTo>
                          <a:pt x="1866" y="4616"/>
                        </a:lnTo>
                        <a:lnTo>
                          <a:pt x="1870" y="4630"/>
                        </a:lnTo>
                        <a:lnTo>
                          <a:pt x="1875" y="4650"/>
                        </a:lnTo>
                        <a:lnTo>
                          <a:pt x="1885" y="4669"/>
                        </a:lnTo>
                        <a:lnTo>
                          <a:pt x="1890" y="4683"/>
                        </a:lnTo>
                        <a:lnTo>
                          <a:pt x="1894" y="4702"/>
                        </a:lnTo>
                        <a:lnTo>
                          <a:pt x="1904" y="4721"/>
                        </a:lnTo>
                        <a:lnTo>
                          <a:pt x="1909" y="4736"/>
                        </a:lnTo>
                        <a:lnTo>
                          <a:pt x="1914" y="4755"/>
                        </a:lnTo>
                        <a:lnTo>
                          <a:pt x="1923" y="4774"/>
                        </a:lnTo>
                        <a:lnTo>
                          <a:pt x="1928" y="4788"/>
                        </a:lnTo>
                        <a:lnTo>
                          <a:pt x="1971" y="4918"/>
                        </a:lnTo>
                        <a:lnTo>
                          <a:pt x="1962" y="4942"/>
                        </a:lnTo>
                        <a:lnTo>
                          <a:pt x="1971" y="4942"/>
                        </a:lnTo>
                        <a:lnTo>
                          <a:pt x="1976" y="4942"/>
                        </a:lnTo>
                        <a:lnTo>
                          <a:pt x="1981" y="4942"/>
                        </a:lnTo>
                        <a:lnTo>
                          <a:pt x="1986" y="4946"/>
                        </a:lnTo>
                        <a:lnTo>
                          <a:pt x="1990" y="4946"/>
                        </a:lnTo>
                        <a:lnTo>
                          <a:pt x="1995" y="4951"/>
                        </a:lnTo>
                        <a:lnTo>
                          <a:pt x="2000" y="4956"/>
                        </a:lnTo>
                        <a:lnTo>
                          <a:pt x="2005" y="4961"/>
                        </a:lnTo>
                        <a:lnTo>
                          <a:pt x="2010" y="4966"/>
                        </a:lnTo>
                        <a:lnTo>
                          <a:pt x="2014" y="4970"/>
                        </a:lnTo>
                        <a:lnTo>
                          <a:pt x="2014" y="4975"/>
                        </a:lnTo>
                        <a:lnTo>
                          <a:pt x="2019" y="4980"/>
                        </a:lnTo>
                        <a:lnTo>
                          <a:pt x="2019" y="4985"/>
                        </a:lnTo>
                        <a:lnTo>
                          <a:pt x="2024" y="4990"/>
                        </a:lnTo>
                        <a:lnTo>
                          <a:pt x="2024" y="4994"/>
                        </a:lnTo>
                        <a:lnTo>
                          <a:pt x="2029" y="4999"/>
                        </a:lnTo>
                        <a:lnTo>
                          <a:pt x="2029" y="5004"/>
                        </a:lnTo>
                        <a:lnTo>
                          <a:pt x="2029" y="5009"/>
                        </a:lnTo>
                        <a:lnTo>
                          <a:pt x="2034" y="5014"/>
                        </a:lnTo>
                        <a:lnTo>
                          <a:pt x="2034" y="5018"/>
                        </a:lnTo>
                        <a:lnTo>
                          <a:pt x="2034" y="5023"/>
                        </a:lnTo>
                        <a:lnTo>
                          <a:pt x="2038" y="5028"/>
                        </a:lnTo>
                        <a:lnTo>
                          <a:pt x="2038" y="5033"/>
                        </a:lnTo>
                        <a:lnTo>
                          <a:pt x="2038" y="5042"/>
                        </a:lnTo>
                        <a:lnTo>
                          <a:pt x="2043" y="5047"/>
                        </a:lnTo>
                        <a:lnTo>
                          <a:pt x="2043" y="5052"/>
                        </a:lnTo>
                        <a:lnTo>
                          <a:pt x="2043" y="5057"/>
                        </a:lnTo>
                        <a:lnTo>
                          <a:pt x="2048" y="5061"/>
                        </a:lnTo>
                        <a:lnTo>
                          <a:pt x="2048" y="5066"/>
                        </a:lnTo>
                        <a:lnTo>
                          <a:pt x="2048" y="5071"/>
                        </a:lnTo>
                        <a:lnTo>
                          <a:pt x="2048" y="5076"/>
                        </a:lnTo>
                        <a:lnTo>
                          <a:pt x="2048" y="5085"/>
                        </a:lnTo>
                        <a:lnTo>
                          <a:pt x="2053" y="5090"/>
                        </a:lnTo>
                        <a:lnTo>
                          <a:pt x="2053" y="5100"/>
                        </a:lnTo>
                        <a:lnTo>
                          <a:pt x="2053" y="5105"/>
                        </a:lnTo>
                        <a:lnTo>
                          <a:pt x="2053" y="5114"/>
                        </a:lnTo>
                        <a:lnTo>
                          <a:pt x="2058" y="5119"/>
                        </a:lnTo>
                        <a:lnTo>
                          <a:pt x="2058" y="5128"/>
                        </a:lnTo>
                        <a:lnTo>
                          <a:pt x="2058" y="5133"/>
                        </a:lnTo>
                        <a:lnTo>
                          <a:pt x="2058" y="5143"/>
                        </a:lnTo>
                        <a:lnTo>
                          <a:pt x="2062" y="5148"/>
                        </a:lnTo>
                        <a:lnTo>
                          <a:pt x="2062" y="5157"/>
                        </a:lnTo>
                        <a:lnTo>
                          <a:pt x="2062" y="5167"/>
                        </a:lnTo>
                        <a:lnTo>
                          <a:pt x="2062" y="5172"/>
                        </a:lnTo>
                        <a:lnTo>
                          <a:pt x="2067" y="5181"/>
                        </a:lnTo>
                        <a:lnTo>
                          <a:pt x="2067" y="5186"/>
                        </a:lnTo>
                        <a:lnTo>
                          <a:pt x="2067" y="5195"/>
                        </a:lnTo>
                        <a:lnTo>
                          <a:pt x="2067" y="5200"/>
                        </a:lnTo>
                        <a:lnTo>
                          <a:pt x="2067" y="5210"/>
                        </a:lnTo>
                        <a:lnTo>
                          <a:pt x="2067" y="5215"/>
                        </a:lnTo>
                        <a:lnTo>
                          <a:pt x="2072" y="5224"/>
                        </a:lnTo>
                        <a:lnTo>
                          <a:pt x="2067" y="5229"/>
                        </a:lnTo>
                        <a:lnTo>
                          <a:pt x="2067" y="5239"/>
                        </a:lnTo>
                        <a:lnTo>
                          <a:pt x="2067" y="5243"/>
                        </a:lnTo>
                        <a:lnTo>
                          <a:pt x="2067" y="5253"/>
                        </a:lnTo>
                        <a:lnTo>
                          <a:pt x="2067" y="5258"/>
                        </a:lnTo>
                        <a:lnTo>
                          <a:pt x="2067" y="5267"/>
                        </a:lnTo>
                        <a:lnTo>
                          <a:pt x="2062" y="5272"/>
                        </a:lnTo>
                        <a:lnTo>
                          <a:pt x="2062" y="5277"/>
                        </a:lnTo>
                        <a:lnTo>
                          <a:pt x="2058" y="5286"/>
                        </a:lnTo>
                        <a:lnTo>
                          <a:pt x="2058" y="5291"/>
                        </a:lnTo>
                        <a:lnTo>
                          <a:pt x="2053" y="5301"/>
                        </a:lnTo>
                        <a:lnTo>
                          <a:pt x="2048" y="5301"/>
                        </a:lnTo>
                        <a:lnTo>
                          <a:pt x="2043" y="5301"/>
                        </a:lnTo>
                        <a:lnTo>
                          <a:pt x="2043" y="5306"/>
                        </a:lnTo>
                        <a:lnTo>
                          <a:pt x="2038" y="5306"/>
                        </a:lnTo>
                        <a:lnTo>
                          <a:pt x="2034" y="5310"/>
                        </a:lnTo>
                        <a:lnTo>
                          <a:pt x="2029" y="5315"/>
                        </a:lnTo>
                        <a:lnTo>
                          <a:pt x="2024" y="5320"/>
                        </a:lnTo>
                        <a:lnTo>
                          <a:pt x="2019" y="5325"/>
                        </a:lnTo>
                        <a:lnTo>
                          <a:pt x="2014" y="5325"/>
                        </a:lnTo>
                        <a:lnTo>
                          <a:pt x="2014" y="5330"/>
                        </a:lnTo>
                        <a:lnTo>
                          <a:pt x="2010" y="5334"/>
                        </a:lnTo>
                        <a:lnTo>
                          <a:pt x="2005" y="5334"/>
                        </a:lnTo>
                        <a:lnTo>
                          <a:pt x="2005" y="5339"/>
                        </a:lnTo>
                        <a:lnTo>
                          <a:pt x="2000" y="5339"/>
                        </a:lnTo>
                        <a:lnTo>
                          <a:pt x="2000" y="5344"/>
                        </a:lnTo>
                        <a:lnTo>
                          <a:pt x="1995" y="5344"/>
                        </a:lnTo>
                        <a:lnTo>
                          <a:pt x="1990" y="5349"/>
                        </a:lnTo>
                        <a:lnTo>
                          <a:pt x="1986" y="5349"/>
                        </a:lnTo>
                        <a:lnTo>
                          <a:pt x="1986" y="5354"/>
                        </a:lnTo>
                        <a:lnTo>
                          <a:pt x="1981" y="5354"/>
                        </a:lnTo>
                        <a:lnTo>
                          <a:pt x="1966" y="5358"/>
                        </a:lnTo>
                        <a:lnTo>
                          <a:pt x="1952" y="5363"/>
                        </a:lnTo>
                        <a:lnTo>
                          <a:pt x="1938" y="5363"/>
                        </a:lnTo>
                        <a:lnTo>
                          <a:pt x="1923" y="5368"/>
                        </a:lnTo>
                        <a:lnTo>
                          <a:pt x="1909" y="5373"/>
                        </a:lnTo>
                        <a:lnTo>
                          <a:pt x="1894" y="5377"/>
                        </a:lnTo>
                        <a:lnTo>
                          <a:pt x="1875" y="5377"/>
                        </a:lnTo>
                        <a:lnTo>
                          <a:pt x="1861" y="5382"/>
                        </a:lnTo>
                        <a:lnTo>
                          <a:pt x="1846" y="5382"/>
                        </a:lnTo>
                        <a:lnTo>
                          <a:pt x="1832" y="5387"/>
                        </a:lnTo>
                        <a:lnTo>
                          <a:pt x="1818" y="5387"/>
                        </a:lnTo>
                        <a:lnTo>
                          <a:pt x="1803" y="5392"/>
                        </a:lnTo>
                        <a:lnTo>
                          <a:pt x="1789" y="5392"/>
                        </a:lnTo>
                        <a:lnTo>
                          <a:pt x="1770" y="5392"/>
                        </a:lnTo>
                        <a:lnTo>
                          <a:pt x="1755" y="5397"/>
                        </a:lnTo>
                        <a:lnTo>
                          <a:pt x="1741" y="5397"/>
                        </a:lnTo>
                        <a:lnTo>
                          <a:pt x="1727" y="5397"/>
                        </a:lnTo>
                        <a:lnTo>
                          <a:pt x="1712" y="5397"/>
                        </a:lnTo>
                        <a:lnTo>
                          <a:pt x="1698" y="5397"/>
                        </a:lnTo>
                        <a:lnTo>
                          <a:pt x="1679" y="5397"/>
                        </a:lnTo>
                        <a:lnTo>
                          <a:pt x="1664" y="5397"/>
                        </a:lnTo>
                        <a:lnTo>
                          <a:pt x="1650" y="5397"/>
                        </a:lnTo>
                        <a:lnTo>
                          <a:pt x="1635" y="5392"/>
                        </a:lnTo>
                        <a:lnTo>
                          <a:pt x="1621" y="5392"/>
                        </a:lnTo>
                        <a:lnTo>
                          <a:pt x="1607" y="5392"/>
                        </a:lnTo>
                        <a:lnTo>
                          <a:pt x="1592" y="5387"/>
                        </a:lnTo>
                        <a:lnTo>
                          <a:pt x="1578" y="5387"/>
                        </a:lnTo>
                        <a:lnTo>
                          <a:pt x="1563" y="5382"/>
                        </a:lnTo>
                        <a:lnTo>
                          <a:pt x="1549" y="5382"/>
                        </a:lnTo>
                        <a:lnTo>
                          <a:pt x="1539" y="5377"/>
                        </a:lnTo>
                        <a:lnTo>
                          <a:pt x="1525" y="5373"/>
                        </a:lnTo>
                        <a:lnTo>
                          <a:pt x="1511" y="5368"/>
                        </a:lnTo>
                        <a:lnTo>
                          <a:pt x="1506" y="5368"/>
                        </a:lnTo>
                        <a:lnTo>
                          <a:pt x="1501" y="5363"/>
                        </a:lnTo>
                        <a:lnTo>
                          <a:pt x="1496" y="5363"/>
                        </a:lnTo>
                        <a:lnTo>
                          <a:pt x="1491" y="5358"/>
                        </a:lnTo>
                        <a:lnTo>
                          <a:pt x="1487" y="5358"/>
                        </a:lnTo>
                        <a:lnTo>
                          <a:pt x="1487" y="5354"/>
                        </a:lnTo>
                        <a:lnTo>
                          <a:pt x="1482" y="5354"/>
                        </a:lnTo>
                        <a:lnTo>
                          <a:pt x="1477" y="5349"/>
                        </a:lnTo>
                        <a:lnTo>
                          <a:pt x="1472" y="5349"/>
                        </a:lnTo>
                        <a:lnTo>
                          <a:pt x="1472" y="5344"/>
                        </a:lnTo>
                        <a:lnTo>
                          <a:pt x="1468" y="5344"/>
                        </a:lnTo>
                        <a:lnTo>
                          <a:pt x="1463" y="5339"/>
                        </a:lnTo>
                        <a:lnTo>
                          <a:pt x="1458" y="5339"/>
                        </a:lnTo>
                        <a:lnTo>
                          <a:pt x="1458" y="5334"/>
                        </a:lnTo>
                        <a:lnTo>
                          <a:pt x="1453" y="5334"/>
                        </a:lnTo>
                        <a:lnTo>
                          <a:pt x="1448" y="5330"/>
                        </a:lnTo>
                        <a:lnTo>
                          <a:pt x="1444" y="5325"/>
                        </a:lnTo>
                        <a:lnTo>
                          <a:pt x="1439" y="5325"/>
                        </a:lnTo>
                        <a:lnTo>
                          <a:pt x="1439" y="5320"/>
                        </a:lnTo>
                        <a:lnTo>
                          <a:pt x="1434" y="5315"/>
                        </a:lnTo>
                        <a:lnTo>
                          <a:pt x="1429" y="5310"/>
                        </a:lnTo>
                        <a:lnTo>
                          <a:pt x="1424" y="5306"/>
                        </a:lnTo>
                        <a:lnTo>
                          <a:pt x="1420" y="5301"/>
                        </a:lnTo>
                        <a:lnTo>
                          <a:pt x="1420" y="5296"/>
                        </a:lnTo>
                        <a:lnTo>
                          <a:pt x="1420" y="5291"/>
                        </a:lnTo>
                        <a:lnTo>
                          <a:pt x="1415" y="5291"/>
                        </a:lnTo>
                        <a:lnTo>
                          <a:pt x="1415" y="5286"/>
                        </a:lnTo>
                        <a:lnTo>
                          <a:pt x="1410" y="5282"/>
                        </a:lnTo>
                        <a:lnTo>
                          <a:pt x="1405" y="5282"/>
                        </a:lnTo>
                        <a:lnTo>
                          <a:pt x="1400" y="5277"/>
                        </a:lnTo>
                        <a:lnTo>
                          <a:pt x="1396" y="5277"/>
                        </a:lnTo>
                        <a:lnTo>
                          <a:pt x="1391" y="5277"/>
                        </a:lnTo>
                        <a:lnTo>
                          <a:pt x="1386" y="5277"/>
                        </a:lnTo>
                        <a:lnTo>
                          <a:pt x="1381" y="5277"/>
                        </a:lnTo>
                        <a:lnTo>
                          <a:pt x="1376" y="5277"/>
                        </a:lnTo>
                        <a:lnTo>
                          <a:pt x="1376" y="5272"/>
                        </a:lnTo>
                        <a:lnTo>
                          <a:pt x="1372" y="5272"/>
                        </a:lnTo>
                        <a:lnTo>
                          <a:pt x="1367" y="5272"/>
                        </a:lnTo>
                        <a:lnTo>
                          <a:pt x="1362" y="5272"/>
                        </a:lnTo>
                        <a:lnTo>
                          <a:pt x="1357" y="5272"/>
                        </a:lnTo>
                        <a:lnTo>
                          <a:pt x="1352" y="5272"/>
                        </a:lnTo>
                        <a:lnTo>
                          <a:pt x="1348" y="5272"/>
                        </a:lnTo>
                        <a:lnTo>
                          <a:pt x="1343" y="5272"/>
                        </a:lnTo>
                        <a:lnTo>
                          <a:pt x="1338" y="5267"/>
                        </a:lnTo>
                        <a:lnTo>
                          <a:pt x="1333" y="5267"/>
                        </a:lnTo>
                        <a:lnTo>
                          <a:pt x="1328" y="5267"/>
                        </a:lnTo>
                        <a:lnTo>
                          <a:pt x="1324" y="5267"/>
                        </a:lnTo>
                        <a:lnTo>
                          <a:pt x="1319" y="5267"/>
                        </a:lnTo>
                        <a:lnTo>
                          <a:pt x="1314" y="5267"/>
                        </a:lnTo>
                        <a:lnTo>
                          <a:pt x="1309" y="5267"/>
                        </a:lnTo>
                        <a:lnTo>
                          <a:pt x="1304" y="5272"/>
                        </a:lnTo>
                        <a:lnTo>
                          <a:pt x="1300" y="5272"/>
                        </a:lnTo>
                        <a:lnTo>
                          <a:pt x="1295" y="5272"/>
                        </a:lnTo>
                        <a:lnTo>
                          <a:pt x="1290" y="5272"/>
                        </a:lnTo>
                        <a:lnTo>
                          <a:pt x="1285" y="5272"/>
                        </a:lnTo>
                        <a:lnTo>
                          <a:pt x="1280" y="5272"/>
                        </a:lnTo>
                        <a:lnTo>
                          <a:pt x="1276" y="5272"/>
                        </a:lnTo>
                        <a:lnTo>
                          <a:pt x="1256" y="5272"/>
                        </a:lnTo>
                        <a:lnTo>
                          <a:pt x="1232" y="5272"/>
                        </a:lnTo>
                        <a:lnTo>
                          <a:pt x="1208" y="5272"/>
                        </a:lnTo>
                        <a:lnTo>
                          <a:pt x="1189" y="5272"/>
                        </a:lnTo>
                        <a:lnTo>
                          <a:pt x="1165" y="5272"/>
                        </a:lnTo>
                        <a:lnTo>
                          <a:pt x="1141" y="5272"/>
                        </a:lnTo>
                        <a:lnTo>
                          <a:pt x="1122" y="5272"/>
                        </a:lnTo>
                        <a:lnTo>
                          <a:pt x="1098" y="5272"/>
                        </a:lnTo>
                        <a:lnTo>
                          <a:pt x="1074" y="5272"/>
                        </a:lnTo>
                        <a:lnTo>
                          <a:pt x="1055" y="5277"/>
                        </a:lnTo>
                        <a:lnTo>
                          <a:pt x="1031" y="5277"/>
                        </a:lnTo>
                        <a:lnTo>
                          <a:pt x="1012" y="5277"/>
                        </a:lnTo>
                        <a:lnTo>
                          <a:pt x="988" y="5277"/>
                        </a:lnTo>
                        <a:lnTo>
                          <a:pt x="964" y="5277"/>
                        </a:lnTo>
                        <a:lnTo>
                          <a:pt x="945" y="5282"/>
                        </a:lnTo>
                        <a:lnTo>
                          <a:pt x="921" y="5282"/>
                        </a:lnTo>
                        <a:lnTo>
                          <a:pt x="901" y="5282"/>
                        </a:lnTo>
                        <a:lnTo>
                          <a:pt x="877" y="5282"/>
                        </a:lnTo>
                        <a:lnTo>
                          <a:pt x="858" y="5282"/>
                        </a:lnTo>
                        <a:lnTo>
                          <a:pt x="834" y="5282"/>
                        </a:lnTo>
                        <a:lnTo>
                          <a:pt x="815" y="5286"/>
                        </a:lnTo>
                        <a:lnTo>
                          <a:pt x="791" y="5286"/>
                        </a:lnTo>
                        <a:lnTo>
                          <a:pt x="772" y="5286"/>
                        </a:lnTo>
                        <a:lnTo>
                          <a:pt x="748" y="5286"/>
                        </a:lnTo>
                        <a:lnTo>
                          <a:pt x="729" y="5286"/>
                        </a:lnTo>
                        <a:lnTo>
                          <a:pt x="705" y="5282"/>
                        </a:lnTo>
                        <a:lnTo>
                          <a:pt x="686" y="5282"/>
                        </a:lnTo>
                        <a:lnTo>
                          <a:pt x="662" y="5282"/>
                        </a:lnTo>
                        <a:lnTo>
                          <a:pt x="642" y="5282"/>
                        </a:lnTo>
                        <a:lnTo>
                          <a:pt x="618" y="5282"/>
                        </a:lnTo>
                        <a:lnTo>
                          <a:pt x="594" y="5277"/>
                        </a:lnTo>
                        <a:lnTo>
                          <a:pt x="575" y="5277"/>
                        </a:lnTo>
                        <a:lnTo>
                          <a:pt x="570" y="5272"/>
                        </a:lnTo>
                        <a:lnTo>
                          <a:pt x="566" y="5272"/>
                        </a:lnTo>
                        <a:lnTo>
                          <a:pt x="561" y="5272"/>
                        </a:lnTo>
                        <a:lnTo>
                          <a:pt x="556" y="5272"/>
                        </a:lnTo>
                        <a:lnTo>
                          <a:pt x="556" y="5267"/>
                        </a:lnTo>
                        <a:lnTo>
                          <a:pt x="551" y="5267"/>
                        </a:lnTo>
                        <a:lnTo>
                          <a:pt x="546" y="5267"/>
                        </a:lnTo>
                        <a:lnTo>
                          <a:pt x="542" y="5263"/>
                        </a:lnTo>
                        <a:lnTo>
                          <a:pt x="537" y="5263"/>
                        </a:lnTo>
                        <a:lnTo>
                          <a:pt x="532" y="5263"/>
                        </a:lnTo>
                        <a:lnTo>
                          <a:pt x="527" y="5258"/>
                        </a:lnTo>
                        <a:lnTo>
                          <a:pt x="522" y="5258"/>
                        </a:lnTo>
                        <a:lnTo>
                          <a:pt x="518" y="5253"/>
                        </a:lnTo>
                        <a:lnTo>
                          <a:pt x="513" y="5248"/>
                        </a:lnTo>
                        <a:lnTo>
                          <a:pt x="508" y="5248"/>
                        </a:lnTo>
                        <a:lnTo>
                          <a:pt x="503" y="5243"/>
                        </a:lnTo>
                        <a:lnTo>
                          <a:pt x="498" y="5239"/>
                        </a:lnTo>
                        <a:lnTo>
                          <a:pt x="494" y="5234"/>
                        </a:lnTo>
                        <a:lnTo>
                          <a:pt x="489" y="5229"/>
                        </a:lnTo>
                        <a:lnTo>
                          <a:pt x="484" y="5224"/>
                        </a:lnTo>
                        <a:lnTo>
                          <a:pt x="484" y="5219"/>
                        </a:lnTo>
                        <a:lnTo>
                          <a:pt x="470" y="5172"/>
                        </a:lnTo>
                        <a:lnTo>
                          <a:pt x="475" y="5167"/>
                        </a:lnTo>
                        <a:lnTo>
                          <a:pt x="475" y="5162"/>
                        </a:lnTo>
                        <a:lnTo>
                          <a:pt x="479" y="5157"/>
                        </a:lnTo>
                        <a:lnTo>
                          <a:pt x="484" y="5152"/>
                        </a:lnTo>
                        <a:lnTo>
                          <a:pt x="484" y="5148"/>
                        </a:lnTo>
                        <a:lnTo>
                          <a:pt x="489" y="5143"/>
                        </a:lnTo>
                        <a:lnTo>
                          <a:pt x="489" y="5138"/>
                        </a:lnTo>
                        <a:lnTo>
                          <a:pt x="494" y="5133"/>
                        </a:lnTo>
                        <a:lnTo>
                          <a:pt x="494" y="5128"/>
                        </a:lnTo>
                        <a:lnTo>
                          <a:pt x="498" y="5124"/>
                        </a:lnTo>
                        <a:lnTo>
                          <a:pt x="503" y="5119"/>
                        </a:lnTo>
                        <a:lnTo>
                          <a:pt x="503" y="5114"/>
                        </a:lnTo>
                        <a:lnTo>
                          <a:pt x="508" y="5109"/>
                        </a:lnTo>
                        <a:lnTo>
                          <a:pt x="513" y="5105"/>
                        </a:lnTo>
                        <a:lnTo>
                          <a:pt x="518" y="5100"/>
                        </a:lnTo>
                        <a:lnTo>
                          <a:pt x="518" y="5095"/>
                        </a:lnTo>
                        <a:lnTo>
                          <a:pt x="522" y="5090"/>
                        </a:lnTo>
                        <a:lnTo>
                          <a:pt x="527" y="5085"/>
                        </a:lnTo>
                        <a:lnTo>
                          <a:pt x="527" y="5081"/>
                        </a:lnTo>
                        <a:lnTo>
                          <a:pt x="532" y="5076"/>
                        </a:lnTo>
                        <a:lnTo>
                          <a:pt x="537" y="5071"/>
                        </a:lnTo>
                        <a:lnTo>
                          <a:pt x="542" y="5071"/>
                        </a:lnTo>
                        <a:lnTo>
                          <a:pt x="542" y="5066"/>
                        </a:lnTo>
                        <a:lnTo>
                          <a:pt x="546" y="5061"/>
                        </a:lnTo>
                        <a:lnTo>
                          <a:pt x="551" y="5057"/>
                        </a:lnTo>
                        <a:lnTo>
                          <a:pt x="556" y="5052"/>
                        </a:lnTo>
                        <a:lnTo>
                          <a:pt x="561" y="5047"/>
                        </a:lnTo>
                        <a:lnTo>
                          <a:pt x="561" y="5042"/>
                        </a:lnTo>
                        <a:lnTo>
                          <a:pt x="566" y="5042"/>
                        </a:lnTo>
                        <a:lnTo>
                          <a:pt x="570" y="5037"/>
                        </a:lnTo>
                        <a:lnTo>
                          <a:pt x="575" y="5033"/>
                        </a:lnTo>
                        <a:lnTo>
                          <a:pt x="585" y="5023"/>
                        </a:lnTo>
                        <a:lnTo>
                          <a:pt x="594" y="5014"/>
                        </a:lnTo>
                        <a:lnTo>
                          <a:pt x="609" y="5004"/>
                        </a:lnTo>
                        <a:lnTo>
                          <a:pt x="618" y="4994"/>
                        </a:lnTo>
                        <a:lnTo>
                          <a:pt x="633" y="4985"/>
                        </a:lnTo>
                        <a:lnTo>
                          <a:pt x="642" y="4975"/>
                        </a:lnTo>
                        <a:lnTo>
                          <a:pt x="657" y="4966"/>
                        </a:lnTo>
                        <a:lnTo>
                          <a:pt x="666" y="4961"/>
                        </a:lnTo>
                        <a:lnTo>
                          <a:pt x="681" y="4951"/>
                        </a:lnTo>
                        <a:lnTo>
                          <a:pt x="690" y="4942"/>
                        </a:lnTo>
                        <a:lnTo>
                          <a:pt x="705" y="4932"/>
                        </a:lnTo>
                        <a:lnTo>
                          <a:pt x="719" y="4927"/>
                        </a:lnTo>
                        <a:lnTo>
                          <a:pt x="734" y="4918"/>
                        </a:lnTo>
                        <a:lnTo>
                          <a:pt x="743" y="4913"/>
                        </a:lnTo>
                        <a:lnTo>
                          <a:pt x="758" y="4903"/>
                        </a:lnTo>
                        <a:lnTo>
                          <a:pt x="772" y="4899"/>
                        </a:lnTo>
                        <a:lnTo>
                          <a:pt x="786" y="4889"/>
                        </a:lnTo>
                        <a:lnTo>
                          <a:pt x="796" y="4884"/>
                        </a:lnTo>
                        <a:lnTo>
                          <a:pt x="810" y="4879"/>
                        </a:lnTo>
                        <a:lnTo>
                          <a:pt x="825" y="4875"/>
                        </a:lnTo>
                        <a:lnTo>
                          <a:pt x="839" y="4865"/>
                        </a:lnTo>
                        <a:lnTo>
                          <a:pt x="853" y="4860"/>
                        </a:lnTo>
                        <a:lnTo>
                          <a:pt x="868" y="4856"/>
                        </a:lnTo>
                        <a:lnTo>
                          <a:pt x="882" y="4851"/>
                        </a:lnTo>
                        <a:lnTo>
                          <a:pt x="897" y="4846"/>
                        </a:lnTo>
                        <a:lnTo>
                          <a:pt x="911" y="4841"/>
                        </a:lnTo>
                        <a:lnTo>
                          <a:pt x="925" y="4836"/>
                        </a:lnTo>
                        <a:lnTo>
                          <a:pt x="940" y="4836"/>
                        </a:lnTo>
                        <a:lnTo>
                          <a:pt x="954" y="4832"/>
                        </a:lnTo>
                        <a:lnTo>
                          <a:pt x="969" y="4827"/>
                        </a:lnTo>
                        <a:lnTo>
                          <a:pt x="983" y="4827"/>
                        </a:lnTo>
                        <a:lnTo>
                          <a:pt x="997" y="4822"/>
                        </a:lnTo>
                        <a:lnTo>
                          <a:pt x="997" y="4817"/>
                        </a:lnTo>
                        <a:lnTo>
                          <a:pt x="997" y="4812"/>
                        </a:lnTo>
                        <a:lnTo>
                          <a:pt x="997" y="4808"/>
                        </a:lnTo>
                        <a:lnTo>
                          <a:pt x="997" y="4803"/>
                        </a:lnTo>
                        <a:lnTo>
                          <a:pt x="997" y="4798"/>
                        </a:lnTo>
                        <a:lnTo>
                          <a:pt x="997" y="4793"/>
                        </a:lnTo>
                        <a:lnTo>
                          <a:pt x="997" y="4788"/>
                        </a:lnTo>
                        <a:lnTo>
                          <a:pt x="997" y="4784"/>
                        </a:lnTo>
                        <a:lnTo>
                          <a:pt x="997" y="4779"/>
                        </a:lnTo>
                        <a:lnTo>
                          <a:pt x="997" y="4774"/>
                        </a:lnTo>
                        <a:lnTo>
                          <a:pt x="997" y="4769"/>
                        </a:lnTo>
                        <a:lnTo>
                          <a:pt x="997" y="4765"/>
                        </a:lnTo>
                        <a:lnTo>
                          <a:pt x="997" y="4760"/>
                        </a:lnTo>
                        <a:lnTo>
                          <a:pt x="993" y="4755"/>
                        </a:lnTo>
                        <a:lnTo>
                          <a:pt x="993" y="4750"/>
                        </a:lnTo>
                        <a:lnTo>
                          <a:pt x="993" y="4745"/>
                        </a:lnTo>
                        <a:lnTo>
                          <a:pt x="993" y="4741"/>
                        </a:lnTo>
                        <a:lnTo>
                          <a:pt x="993" y="4736"/>
                        </a:lnTo>
                        <a:lnTo>
                          <a:pt x="988" y="4731"/>
                        </a:lnTo>
                        <a:lnTo>
                          <a:pt x="988" y="4726"/>
                        </a:lnTo>
                        <a:lnTo>
                          <a:pt x="988" y="4721"/>
                        </a:lnTo>
                        <a:lnTo>
                          <a:pt x="988" y="4717"/>
                        </a:lnTo>
                        <a:lnTo>
                          <a:pt x="983" y="4712"/>
                        </a:lnTo>
                        <a:lnTo>
                          <a:pt x="983" y="4707"/>
                        </a:lnTo>
                        <a:lnTo>
                          <a:pt x="983" y="4702"/>
                        </a:lnTo>
                        <a:lnTo>
                          <a:pt x="983" y="4698"/>
                        </a:lnTo>
                        <a:lnTo>
                          <a:pt x="983" y="4693"/>
                        </a:lnTo>
                        <a:lnTo>
                          <a:pt x="978" y="4688"/>
                        </a:lnTo>
                        <a:lnTo>
                          <a:pt x="978" y="4683"/>
                        </a:lnTo>
                        <a:lnTo>
                          <a:pt x="978" y="4678"/>
                        </a:lnTo>
                        <a:lnTo>
                          <a:pt x="978" y="4674"/>
                        </a:lnTo>
                        <a:lnTo>
                          <a:pt x="973" y="4659"/>
                        </a:lnTo>
                        <a:lnTo>
                          <a:pt x="973" y="4645"/>
                        </a:lnTo>
                        <a:lnTo>
                          <a:pt x="969" y="4635"/>
                        </a:lnTo>
                        <a:lnTo>
                          <a:pt x="969" y="4621"/>
                        </a:lnTo>
                        <a:lnTo>
                          <a:pt x="964" y="4607"/>
                        </a:lnTo>
                        <a:lnTo>
                          <a:pt x="959" y="4597"/>
                        </a:lnTo>
                        <a:lnTo>
                          <a:pt x="959" y="4583"/>
                        </a:lnTo>
                        <a:lnTo>
                          <a:pt x="954" y="4573"/>
                        </a:lnTo>
                        <a:lnTo>
                          <a:pt x="954" y="4559"/>
                        </a:lnTo>
                        <a:lnTo>
                          <a:pt x="949" y="4544"/>
                        </a:lnTo>
                        <a:lnTo>
                          <a:pt x="949" y="4535"/>
                        </a:lnTo>
                        <a:lnTo>
                          <a:pt x="945" y="4520"/>
                        </a:lnTo>
                        <a:lnTo>
                          <a:pt x="945" y="4506"/>
                        </a:lnTo>
                        <a:lnTo>
                          <a:pt x="940" y="4496"/>
                        </a:lnTo>
                        <a:lnTo>
                          <a:pt x="935" y="4482"/>
                        </a:lnTo>
                        <a:lnTo>
                          <a:pt x="935" y="4468"/>
                        </a:lnTo>
                        <a:lnTo>
                          <a:pt x="930" y="4458"/>
                        </a:lnTo>
                        <a:lnTo>
                          <a:pt x="930" y="4444"/>
                        </a:lnTo>
                        <a:lnTo>
                          <a:pt x="925" y="4429"/>
                        </a:lnTo>
                        <a:lnTo>
                          <a:pt x="925" y="4420"/>
                        </a:lnTo>
                        <a:lnTo>
                          <a:pt x="921" y="4405"/>
                        </a:lnTo>
                        <a:lnTo>
                          <a:pt x="921" y="4391"/>
                        </a:lnTo>
                        <a:lnTo>
                          <a:pt x="916" y="4381"/>
                        </a:lnTo>
                        <a:lnTo>
                          <a:pt x="911" y="4367"/>
                        </a:lnTo>
                        <a:lnTo>
                          <a:pt x="911" y="4353"/>
                        </a:lnTo>
                        <a:lnTo>
                          <a:pt x="906" y="4338"/>
                        </a:lnTo>
                        <a:lnTo>
                          <a:pt x="906" y="4329"/>
                        </a:lnTo>
                        <a:lnTo>
                          <a:pt x="901" y="4314"/>
                        </a:lnTo>
                        <a:lnTo>
                          <a:pt x="897" y="4300"/>
                        </a:lnTo>
                        <a:lnTo>
                          <a:pt x="897" y="4291"/>
                        </a:lnTo>
                        <a:lnTo>
                          <a:pt x="892" y="4276"/>
                        </a:lnTo>
                        <a:lnTo>
                          <a:pt x="892" y="4262"/>
                        </a:lnTo>
                        <a:lnTo>
                          <a:pt x="882" y="4257"/>
                        </a:lnTo>
                        <a:lnTo>
                          <a:pt x="873" y="4257"/>
                        </a:lnTo>
                        <a:lnTo>
                          <a:pt x="868" y="4252"/>
                        </a:lnTo>
                        <a:lnTo>
                          <a:pt x="858" y="4247"/>
                        </a:lnTo>
                        <a:lnTo>
                          <a:pt x="853" y="4243"/>
                        </a:lnTo>
                        <a:lnTo>
                          <a:pt x="849" y="4238"/>
                        </a:lnTo>
                        <a:lnTo>
                          <a:pt x="839" y="4228"/>
                        </a:lnTo>
                        <a:lnTo>
                          <a:pt x="834" y="4223"/>
                        </a:lnTo>
                        <a:lnTo>
                          <a:pt x="829" y="4219"/>
                        </a:lnTo>
                        <a:lnTo>
                          <a:pt x="825" y="4214"/>
                        </a:lnTo>
                        <a:lnTo>
                          <a:pt x="820" y="4209"/>
                        </a:lnTo>
                        <a:lnTo>
                          <a:pt x="810" y="4200"/>
                        </a:lnTo>
                        <a:lnTo>
                          <a:pt x="806" y="4195"/>
                        </a:lnTo>
                        <a:lnTo>
                          <a:pt x="801" y="4190"/>
                        </a:lnTo>
                        <a:lnTo>
                          <a:pt x="796" y="4185"/>
                        </a:lnTo>
                        <a:lnTo>
                          <a:pt x="791" y="4176"/>
                        </a:lnTo>
                        <a:lnTo>
                          <a:pt x="786" y="4171"/>
                        </a:lnTo>
                        <a:lnTo>
                          <a:pt x="782" y="4166"/>
                        </a:lnTo>
                        <a:lnTo>
                          <a:pt x="772" y="4156"/>
                        </a:lnTo>
                        <a:lnTo>
                          <a:pt x="767" y="4152"/>
                        </a:lnTo>
                        <a:lnTo>
                          <a:pt x="762" y="4147"/>
                        </a:lnTo>
                        <a:lnTo>
                          <a:pt x="758" y="4142"/>
                        </a:lnTo>
                        <a:lnTo>
                          <a:pt x="753" y="4132"/>
                        </a:lnTo>
                        <a:lnTo>
                          <a:pt x="743" y="4128"/>
                        </a:lnTo>
                        <a:lnTo>
                          <a:pt x="738" y="4123"/>
                        </a:lnTo>
                        <a:lnTo>
                          <a:pt x="734" y="4118"/>
                        </a:lnTo>
                        <a:lnTo>
                          <a:pt x="724" y="4113"/>
                        </a:lnTo>
                        <a:lnTo>
                          <a:pt x="719" y="4109"/>
                        </a:lnTo>
                        <a:lnTo>
                          <a:pt x="710" y="4104"/>
                        </a:lnTo>
                        <a:lnTo>
                          <a:pt x="705" y="4099"/>
                        </a:lnTo>
                        <a:lnTo>
                          <a:pt x="695" y="4094"/>
                        </a:lnTo>
                        <a:lnTo>
                          <a:pt x="686" y="4089"/>
                        </a:lnTo>
                        <a:lnTo>
                          <a:pt x="686" y="4085"/>
                        </a:lnTo>
                        <a:lnTo>
                          <a:pt x="681" y="4080"/>
                        </a:lnTo>
                        <a:lnTo>
                          <a:pt x="676" y="4075"/>
                        </a:lnTo>
                        <a:lnTo>
                          <a:pt x="676" y="4070"/>
                        </a:lnTo>
                        <a:lnTo>
                          <a:pt x="671" y="4065"/>
                        </a:lnTo>
                        <a:lnTo>
                          <a:pt x="666" y="4061"/>
                        </a:lnTo>
                        <a:lnTo>
                          <a:pt x="662" y="4056"/>
                        </a:lnTo>
                        <a:lnTo>
                          <a:pt x="657" y="4051"/>
                        </a:lnTo>
                        <a:lnTo>
                          <a:pt x="652" y="4046"/>
                        </a:lnTo>
                        <a:lnTo>
                          <a:pt x="652" y="4042"/>
                        </a:lnTo>
                        <a:lnTo>
                          <a:pt x="647" y="4042"/>
                        </a:lnTo>
                        <a:lnTo>
                          <a:pt x="647" y="4037"/>
                        </a:lnTo>
                        <a:lnTo>
                          <a:pt x="642" y="4032"/>
                        </a:lnTo>
                        <a:lnTo>
                          <a:pt x="642" y="4027"/>
                        </a:lnTo>
                        <a:lnTo>
                          <a:pt x="638" y="4027"/>
                        </a:lnTo>
                        <a:lnTo>
                          <a:pt x="638" y="4022"/>
                        </a:lnTo>
                        <a:lnTo>
                          <a:pt x="638" y="4018"/>
                        </a:lnTo>
                        <a:lnTo>
                          <a:pt x="633" y="4018"/>
                        </a:lnTo>
                        <a:lnTo>
                          <a:pt x="633" y="4013"/>
                        </a:lnTo>
                        <a:lnTo>
                          <a:pt x="633" y="4008"/>
                        </a:lnTo>
                        <a:lnTo>
                          <a:pt x="633" y="4003"/>
                        </a:lnTo>
                        <a:lnTo>
                          <a:pt x="628" y="3998"/>
                        </a:lnTo>
                        <a:lnTo>
                          <a:pt x="628" y="3989"/>
                        </a:lnTo>
                        <a:lnTo>
                          <a:pt x="628" y="3979"/>
                        </a:lnTo>
                        <a:lnTo>
                          <a:pt x="623" y="3970"/>
                        </a:lnTo>
                        <a:lnTo>
                          <a:pt x="623" y="3960"/>
                        </a:lnTo>
                        <a:lnTo>
                          <a:pt x="623" y="3951"/>
                        </a:lnTo>
                        <a:lnTo>
                          <a:pt x="618" y="3941"/>
                        </a:lnTo>
                        <a:lnTo>
                          <a:pt x="618" y="3931"/>
                        </a:lnTo>
                        <a:lnTo>
                          <a:pt x="618" y="3922"/>
                        </a:lnTo>
                        <a:lnTo>
                          <a:pt x="618" y="3907"/>
                        </a:lnTo>
                        <a:lnTo>
                          <a:pt x="618" y="3898"/>
                        </a:lnTo>
                        <a:lnTo>
                          <a:pt x="618" y="3888"/>
                        </a:lnTo>
                        <a:lnTo>
                          <a:pt x="614" y="3879"/>
                        </a:lnTo>
                        <a:lnTo>
                          <a:pt x="614" y="3869"/>
                        </a:lnTo>
                        <a:lnTo>
                          <a:pt x="614" y="3860"/>
                        </a:lnTo>
                        <a:lnTo>
                          <a:pt x="614" y="3850"/>
                        </a:lnTo>
                        <a:lnTo>
                          <a:pt x="618" y="3840"/>
                        </a:lnTo>
                        <a:lnTo>
                          <a:pt x="618" y="3831"/>
                        </a:lnTo>
                        <a:lnTo>
                          <a:pt x="618" y="3821"/>
                        </a:lnTo>
                        <a:lnTo>
                          <a:pt x="618" y="3812"/>
                        </a:lnTo>
                        <a:lnTo>
                          <a:pt x="618" y="3802"/>
                        </a:lnTo>
                        <a:lnTo>
                          <a:pt x="623" y="3793"/>
                        </a:lnTo>
                        <a:lnTo>
                          <a:pt x="623" y="3783"/>
                        </a:lnTo>
                        <a:lnTo>
                          <a:pt x="628" y="3773"/>
                        </a:lnTo>
                        <a:lnTo>
                          <a:pt x="628" y="3764"/>
                        </a:lnTo>
                        <a:lnTo>
                          <a:pt x="633" y="3754"/>
                        </a:lnTo>
                        <a:lnTo>
                          <a:pt x="638" y="3749"/>
                        </a:lnTo>
                        <a:lnTo>
                          <a:pt x="642" y="3740"/>
                        </a:lnTo>
                        <a:lnTo>
                          <a:pt x="642" y="3730"/>
                        </a:lnTo>
                        <a:lnTo>
                          <a:pt x="647" y="3721"/>
                        </a:lnTo>
                        <a:lnTo>
                          <a:pt x="652" y="3711"/>
                        </a:lnTo>
                        <a:lnTo>
                          <a:pt x="657" y="3702"/>
                        </a:lnTo>
                        <a:lnTo>
                          <a:pt x="666" y="3697"/>
                        </a:lnTo>
                        <a:lnTo>
                          <a:pt x="671" y="3687"/>
                        </a:lnTo>
                        <a:lnTo>
                          <a:pt x="676" y="3682"/>
                        </a:lnTo>
                        <a:lnTo>
                          <a:pt x="681" y="3673"/>
                        </a:lnTo>
                        <a:lnTo>
                          <a:pt x="690" y="3668"/>
                        </a:lnTo>
                        <a:lnTo>
                          <a:pt x="695" y="3658"/>
                        </a:lnTo>
                        <a:lnTo>
                          <a:pt x="700" y="3654"/>
                        </a:lnTo>
                        <a:lnTo>
                          <a:pt x="705" y="3644"/>
                        </a:lnTo>
                        <a:lnTo>
                          <a:pt x="714" y="3639"/>
                        </a:lnTo>
                        <a:lnTo>
                          <a:pt x="719" y="3630"/>
                        </a:lnTo>
                        <a:lnTo>
                          <a:pt x="724" y="3625"/>
                        </a:lnTo>
                        <a:lnTo>
                          <a:pt x="729" y="3615"/>
                        </a:lnTo>
                        <a:lnTo>
                          <a:pt x="738" y="3611"/>
                        </a:lnTo>
                        <a:lnTo>
                          <a:pt x="743" y="3601"/>
                        </a:lnTo>
                        <a:lnTo>
                          <a:pt x="748" y="3596"/>
                        </a:lnTo>
                        <a:lnTo>
                          <a:pt x="753" y="3587"/>
                        </a:lnTo>
                        <a:lnTo>
                          <a:pt x="758" y="3582"/>
                        </a:lnTo>
                        <a:lnTo>
                          <a:pt x="767" y="3572"/>
                        </a:lnTo>
                        <a:lnTo>
                          <a:pt x="772" y="3567"/>
                        </a:lnTo>
                        <a:lnTo>
                          <a:pt x="777" y="3558"/>
                        </a:lnTo>
                        <a:lnTo>
                          <a:pt x="782" y="3553"/>
                        </a:lnTo>
                        <a:lnTo>
                          <a:pt x="786" y="3544"/>
                        </a:lnTo>
                        <a:lnTo>
                          <a:pt x="791" y="3539"/>
                        </a:lnTo>
                        <a:lnTo>
                          <a:pt x="801" y="3529"/>
                        </a:lnTo>
                        <a:lnTo>
                          <a:pt x="806" y="3524"/>
                        </a:lnTo>
                        <a:lnTo>
                          <a:pt x="810" y="3515"/>
                        </a:lnTo>
                        <a:lnTo>
                          <a:pt x="815" y="3510"/>
                        </a:lnTo>
                        <a:lnTo>
                          <a:pt x="820" y="3500"/>
                        </a:lnTo>
                        <a:lnTo>
                          <a:pt x="825" y="3496"/>
                        </a:lnTo>
                        <a:lnTo>
                          <a:pt x="829" y="3486"/>
                        </a:lnTo>
                        <a:lnTo>
                          <a:pt x="834" y="3481"/>
                        </a:lnTo>
                        <a:lnTo>
                          <a:pt x="839" y="3472"/>
                        </a:lnTo>
                        <a:lnTo>
                          <a:pt x="844" y="3462"/>
                        </a:lnTo>
                        <a:lnTo>
                          <a:pt x="844" y="3438"/>
                        </a:lnTo>
                        <a:lnTo>
                          <a:pt x="844" y="3409"/>
                        </a:lnTo>
                        <a:lnTo>
                          <a:pt x="844" y="3386"/>
                        </a:lnTo>
                        <a:lnTo>
                          <a:pt x="844" y="3362"/>
                        </a:lnTo>
                        <a:lnTo>
                          <a:pt x="839" y="3333"/>
                        </a:lnTo>
                        <a:lnTo>
                          <a:pt x="839" y="3309"/>
                        </a:lnTo>
                        <a:lnTo>
                          <a:pt x="839" y="3285"/>
                        </a:lnTo>
                        <a:lnTo>
                          <a:pt x="834" y="3256"/>
                        </a:lnTo>
                        <a:lnTo>
                          <a:pt x="834" y="3232"/>
                        </a:lnTo>
                        <a:lnTo>
                          <a:pt x="829" y="3208"/>
                        </a:lnTo>
                        <a:lnTo>
                          <a:pt x="829" y="3180"/>
                        </a:lnTo>
                        <a:lnTo>
                          <a:pt x="825" y="3156"/>
                        </a:lnTo>
                        <a:lnTo>
                          <a:pt x="825" y="3132"/>
                        </a:lnTo>
                        <a:lnTo>
                          <a:pt x="820" y="3108"/>
                        </a:lnTo>
                        <a:lnTo>
                          <a:pt x="815" y="3079"/>
                        </a:lnTo>
                        <a:lnTo>
                          <a:pt x="810" y="3055"/>
                        </a:lnTo>
                        <a:lnTo>
                          <a:pt x="810" y="3031"/>
                        </a:lnTo>
                        <a:lnTo>
                          <a:pt x="806" y="3007"/>
                        </a:lnTo>
                        <a:lnTo>
                          <a:pt x="801" y="2983"/>
                        </a:lnTo>
                        <a:lnTo>
                          <a:pt x="796" y="2955"/>
                        </a:lnTo>
                        <a:lnTo>
                          <a:pt x="791" y="2931"/>
                        </a:lnTo>
                        <a:lnTo>
                          <a:pt x="786" y="2907"/>
                        </a:lnTo>
                        <a:lnTo>
                          <a:pt x="782" y="2883"/>
                        </a:lnTo>
                        <a:lnTo>
                          <a:pt x="777" y="2859"/>
                        </a:lnTo>
                        <a:lnTo>
                          <a:pt x="772" y="2835"/>
                        </a:lnTo>
                        <a:lnTo>
                          <a:pt x="767" y="2811"/>
                        </a:lnTo>
                        <a:lnTo>
                          <a:pt x="762" y="2782"/>
                        </a:lnTo>
                        <a:lnTo>
                          <a:pt x="758" y="2758"/>
                        </a:lnTo>
                        <a:lnTo>
                          <a:pt x="753" y="2734"/>
                        </a:lnTo>
                        <a:lnTo>
                          <a:pt x="748" y="2710"/>
                        </a:lnTo>
                        <a:lnTo>
                          <a:pt x="743" y="2686"/>
                        </a:lnTo>
                        <a:lnTo>
                          <a:pt x="738" y="2662"/>
                        </a:lnTo>
                        <a:lnTo>
                          <a:pt x="738" y="2658"/>
                        </a:lnTo>
                        <a:lnTo>
                          <a:pt x="738" y="2653"/>
                        </a:lnTo>
                        <a:lnTo>
                          <a:pt x="734" y="2648"/>
                        </a:lnTo>
                        <a:lnTo>
                          <a:pt x="734" y="2643"/>
                        </a:lnTo>
                        <a:lnTo>
                          <a:pt x="734" y="2639"/>
                        </a:lnTo>
                        <a:lnTo>
                          <a:pt x="734" y="2634"/>
                        </a:lnTo>
                        <a:lnTo>
                          <a:pt x="734" y="2629"/>
                        </a:lnTo>
                        <a:lnTo>
                          <a:pt x="729" y="2624"/>
                        </a:lnTo>
                        <a:lnTo>
                          <a:pt x="729" y="2619"/>
                        </a:lnTo>
                        <a:lnTo>
                          <a:pt x="729" y="2615"/>
                        </a:lnTo>
                        <a:lnTo>
                          <a:pt x="729" y="2610"/>
                        </a:lnTo>
                        <a:lnTo>
                          <a:pt x="729" y="2605"/>
                        </a:lnTo>
                        <a:lnTo>
                          <a:pt x="724" y="2600"/>
                        </a:lnTo>
                        <a:lnTo>
                          <a:pt x="724" y="2595"/>
                        </a:lnTo>
                        <a:lnTo>
                          <a:pt x="724" y="2591"/>
                        </a:lnTo>
                        <a:lnTo>
                          <a:pt x="724" y="2586"/>
                        </a:lnTo>
                        <a:lnTo>
                          <a:pt x="719" y="2581"/>
                        </a:lnTo>
                        <a:lnTo>
                          <a:pt x="719" y="2576"/>
                        </a:lnTo>
                        <a:lnTo>
                          <a:pt x="719" y="2572"/>
                        </a:lnTo>
                        <a:lnTo>
                          <a:pt x="719" y="2567"/>
                        </a:lnTo>
                        <a:lnTo>
                          <a:pt x="719" y="2562"/>
                        </a:lnTo>
                        <a:lnTo>
                          <a:pt x="714" y="2557"/>
                        </a:lnTo>
                        <a:lnTo>
                          <a:pt x="714" y="2552"/>
                        </a:lnTo>
                        <a:lnTo>
                          <a:pt x="714" y="2548"/>
                        </a:lnTo>
                        <a:lnTo>
                          <a:pt x="714" y="2543"/>
                        </a:lnTo>
                        <a:lnTo>
                          <a:pt x="710" y="2538"/>
                        </a:lnTo>
                        <a:lnTo>
                          <a:pt x="710" y="2533"/>
                        </a:lnTo>
                        <a:lnTo>
                          <a:pt x="710" y="2528"/>
                        </a:lnTo>
                        <a:lnTo>
                          <a:pt x="705" y="2524"/>
                        </a:lnTo>
                        <a:lnTo>
                          <a:pt x="705" y="2519"/>
                        </a:lnTo>
                        <a:lnTo>
                          <a:pt x="700" y="2500"/>
                        </a:lnTo>
                        <a:lnTo>
                          <a:pt x="700" y="2485"/>
                        </a:lnTo>
                        <a:lnTo>
                          <a:pt x="695" y="2466"/>
                        </a:lnTo>
                        <a:lnTo>
                          <a:pt x="690" y="2452"/>
                        </a:lnTo>
                        <a:lnTo>
                          <a:pt x="686" y="2433"/>
                        </a:lnTo>
                        <a:lnTo>
                          <a:pt x="686" y="2418"/>
                        </a:lnTo>
                        <a:lnTo>
                          <a:pt x="681" y="2399"/>
                        </a:lnTo>
                        <a:lnTo>
                          <a:pt x="676" y="2380"/>
                        </a:lnTo>
                        <a:lnTo>
                          <a:pt x="676" y="2366"/>
                        </a:lnTo>
                        <a:lnTo>
                          <a:pt x="671" y="2346"/>
                        </a:lnTo>
                        <a:lnTo>
                          <a:pt x="666" y="2332"/>
                        </a:lnTo>
                        <a:lnTo>
                          <a:pt x="666" y="2313"/>
                        </a:lnTo>
                        <a:lnTo>
                          <a:pt x="662" y="2294"/>
                        </a:lnTo>
                        <a:lnTo>
                          <a:pt x="657" y="2279"/>
                        </a:lnTo>
                        <a:lnTo>
                          <a:pt x="657" y="2260"/>
                        </a:lnTo>
                        <a:lnTo>
                          <a:pt x="652" y="2241"/>
                        </a:lnTo>
                        <a:lnTo>
                          <a:pt x="652" y="2227"/>
                        </a:lnTo>
                        <a:lnTo>
                          <a:pt x="647" y="2208"/>
                        </a:lnTo>
                        <a:lnTo>
                          <a:pt x="647" y="2188"/>
                        </a:lnTo>
                        <a:lnTo>
                          <a:pt x="642" y="2174"/>
                        </a:lnTo>
                        <a:lnTo>
                          <a:pt x="642" y="2155"/>
                        </a:lnTo>
                        <a:lnTo>
                          <a:pt x="638" y="2141"/>
                        </a:lnTo>
                        <a:lnTo>
                          <a:pt x="638" y="2121"/>
                        </a:lnTo>
                        <a:lnTo>
                          <a:pt x="638" y="2102"/>
                        </a:lnTo>
                        <a:lnTo>
                          <a:pt x="638" y="2088"/>
                        </a:lnTo>
                        <a:lnTo>
                          <a:pt x="633" y="2069"/>
                        </a:lnTo>
                        <a:lnTo>
                          <a:pt x="633" y="2054"/>
                        </a:lnTo>
                        <a:lnTo>
                          <a:pt x="633" y="2035"/>
                        </a:lnTo>
                        <a:lnTo>
                          <a:pt x="633" y="2021"/>
                        </a:lnTo>
                        <a:lnTo>
                          <a:pt x="633" y="2002"/>
                        </a:lnTo>
                        <a:lnTo>
                          <a:pt x="633" y="1987"/>
                        </a:lnTo>
                        <a:lnTo>
                          <a:pt x="633" y="1968"/>
                        </a:lnTo>
                        <a:lnTo>
                          <a:pt x="633" y="1963"/>
                        </a:lnTo>
                        <a:lnTo>
                          <a:pt x="633" y="1959"/>
                        </a:lnTo>
                        <a:lnTo>
                          <a:pt x="633" y="1954"/>
                        </a:lnTo>
                        <a:lnTo>
                          <a:pt x="633" y="1949"/>
                        </a:lnTo>
                        <a:lnTo>
                          <a:pt x="633" y="1944"/>
                        </a:lnTo>
                        <a:lnTo>
                          <a:pt x="633" y="1939"/>
                        </a:lnTo>
                        <a:lnTo>
                          <a:pt x="633" y="1935"/>
                        </a:lnTo>
                        <a:lnTo>
                          <a:pt x="633" y="1930"/>
                        </a:lnTo>
                        <a:lnTo>
                          <a:pt x="633" y="1925"/>
                        </a:lnTo>
                        <a:lnTo>
                          <a:pt x="633" y="1920"/>
                        </a:lnTo>
                        <a:lnTo>
                          <a:pt x="638" y="1916"/>
                        </a:lnTo>
                        <a:lnTo>
                          <a:pt x="638" y="1911"/>
                        </a:lnTo>
                        <a:lnTo>
                          <a:pt x="638" y="1906"/>
                        </a:lnTo>
                        <a:lnTo>
                          <a:pt x="638" y="1901"/>
                        </a:lnTo>
                        <a:lnTo>
                          <a:pt x="638" y="1896"/>
                        </a:lnTo>
                        <a:lnTo>
                          <a:pt x="638" y="1892"/>
                        </a:lnTo>
                        <a:lnTo>
                          <a:pt x="638" y="1887"/>
                        </a:lnTo>
                        <a:lnTo>
                          <a:pt x="638" y="1882"/>
                        </a:lnTo>
                        <a:lnTo>
                          <a:pt x="642" y="1877"/>
                        </a:lnTo>
                        <a:lnTo>
                          <a:pt x="642" y="1872"/>
                        </a:lnTo>
                        <a:lnTo>
                          <a:pt x="642" y="1868"/>
                        </a:lnTo>
                        <a:lnTo>
                          <a:pt x="642" y="1863"/>
                        </a:lnTo>
                        <a:lnTo>
                          <a:pt x="647" y="1858"/>
                        </a:lnTo>
                        <a:lnTo>
                          <a:pt x="647" y="1853"/>
                        </a:lnTo>
                        <a:lnTo>
                          <a:pt x="647" y="1848"/>
                        </a:lnTo>
                        <a:lnTo>
                          <a:pt x="652" y="1844"/>
                        </a:lnTo>
                        <a:lnTo>
                          <a:pt x="652" y="1839"/>
                        </a:lnTo>
                        <a:lnTo>
                          <a:pt x="657" y="1834"/>
                        </a:lnTo>
                        <a:lnTo>
                          <a:pt x="657" y="1829"/>
                        </a:lnTo>
                        <a:lnTo>
                          <a:pt x="662" y="1829"/>
                        </a:lnTo>
                        <a:lnTo>
                          <a:pt x="662" y="1825"/>
                        </a:lnTo>
                        <a:lnTo>
                          <a:pt x="657" y="1820"/>
                        </a:lnTo>
                        <a:lnTo>
                          <a:pt x="647" y="1815"/>
                        </a:lnTo>
                        <a:lnTo>
                          <a:pt x="638" y="1810"/>
                        </a:lnTo>
                        <a:lnTo>
                          <a:pt x="633" y="1805"/>
                        </a:lnTo>
                        <a:lnTo>
                          <a:pt x="623" y="1801"/>
                        </a:lnTo>
                        <a:lnTo>
                          <a:pt x="614" y="1796"/>
                        </a:lnTo>
                        <a:lnTo>
                          <a:pt x="609" y="1791"/>
                        </a:lnTo>
                        <a:lnTo>
                          <a:pt x="599" y="1781"/>
                        </a:lnTo>
                        <a:lnTo>
                          <a:pt x="594" y="1777"/>
                        </a:lnTo>
                        <a:lnTo>
                          <a:pt x="585" y="1772"/>
                        </a:lnTo>
                        <a:lnTo>
                          <a:pt x="575" y="1767"/>
                        </a:lnTo>
                        <a:lnTo>
                          <a:pt x="570" y="1762"/>
                        </a:lnTo>
                        <a:lnTo>
                          <a:pt x="561" y="1753"/>
                        </a:lnTo>
                        <a:lnTo>
                          <a:pt x="556" y="1748"/>
                        </a:lnTo>
                        <a:lnTo>
                          <a:pt x="546" y="1743"/>
                        </a:lnTo>
                        <a:lnTo>
                          <a:pt x="542" y="1734"/>
                        </a:lnTo>
                        <a:lnTo>
                          <a:pt x="537" y="1729"/>
                        </a:lnTo>
                        <a:lnTo>
                          <a:pt x="527" y="1724"/>
                        </a:lnTo>
                        <a:lnTo>
                          <a:pt x="522" y="1714"/>
                        </a:lnTo>
                        <a:lnTo>
                          <a:pt x="513" y="1710"/>
                        </a:lnTo>
                        <a:lnTo>
                          <a:pt x="508" y="1705"/>
                        </a:lnTo>
                        <a:lnTo>
                          <a:pt x="498" y="1695"/>
                        </a:lnTo>
                        <a:lnTo>
                          <a:pt x="494" y="1690"/>
                        </a:lnTo>
                        <a:lnTo>
                          <a:pt x="484" y="1681"/>
                        </a:lnTo>
                        <a:lnTo>
                          <a:pt x="479" y="1676"/>
                        </a:lnTo>
                        <a:lnTo>
                          <a:pt x="475" y="1667"/>
                        </a:lnTo>
                        <a:lnTo>
                          <a:pt x="465" y="1662"/>
                        </a:lnTo>
                        <a:lnTo>
                          <a:pt x="460" y="1652"/>
                        </a:lnTo>
                        <a:lnTo>
                          <a:pt x="451" y="1647"/>
                        </a:lnTo>
                        <a:lnTo>
                          <a:pt x="446" y="1643"/>
                        </a:lnTo>
                        <a:lnTo>
                          <a:pt x="441" y="1633"/>
                        </a:lnTo>
                        <a:lnTo>
                          <a:pt x="431" y="1628"/>
                        </a:lnTo>
                        <a:lnTo>
                          <a:pt x="427" y="1614"/>
                        </a:lnTo>
                        <a:lnTo>
                          <a:pt x="417" y="1604"/>
                        </a:lnTo>
                        <a:lnTo>
                          <a:pt x="412" y="1590"/>
                        </a:lnTo>
                        <a:lnTo>
                          <a:pt x="403" y="1580"/>
                        </a:lnTo>
                        <a:lnTo>
                          <a:pt x="398" y="1571"/>
                        </a:lnTo>
                        <a:lnTo>
                          <a:pt x="393" y="1556"/>
                        </a:lnTo>
                        <a:lnTo>
                          <a:pt x="388" y="1547"/>
                        </a:lnTo>
                        <a:lnTo>
                          <a:pt x="383" y="1532"/>
                        </a:lnTo>
                        <a:lnTo>
                          <a:pt x="379" y="1518"/>
                        </a:lnTo>
                        <a:lnTo>
                          <a:pt x="374" y="1509"/>
                        </a:lnTo>
                        <a:lnTo>
                          <a:pt x="369" y="1494"/>
                        </a:lnTo>
                        <a:lnTo>
                          <a:pt x="364" y="1485"/>
                        </a:lnTo>
                        <a:lnTo>
                          <a:pt x="359" y="1470"/>
                        </a:lnTo>
                        <a:lnTo>
                          <a:pt x="355" y="1456"/>
                        </a:lnTo>
                        <a:lnTo>
                          <a:pt x="350" y="1446"/>
                        </a:lnTo>
                        <a:lnTo>
                          <a:pt x="345" y="1432"/>
                        </a:lnTo>
                        <a:lnTo>
                          <a:pt x="340" y="1422"/>
                        </a:lnTo>
                        <a:lnTo>
                          <a:pt x="335" y="1408"/>
                        </a:lnTo>
                        <a:lnTo>
                          <a:pt x="335" y="1394"/>
                        </a:lnTo>
                        <a:lnTo>
                          <a:pt x="331" y="1384"/>
                        </a:lnTo>
                        <a:lnTo>
                          <a:pt x="326" y="1370"/>
                        </a:lnTo>
                        <a:lnTo>
                          <a:pt x="321" y="1355"/>
                        </a:lnTo>
                        <a:lnTo>
                          <a:pt x="316" y="1346"/>
                        </a:lnTo>
                        <a:lnTo>
                          <a:pt x="311" y="1331"/>
                        </a:lnTo>
                        <a:lnTo>
                          <a:pt x="307" y="1317"/>
                        </a:lnTo>
                        <a:lnTo>
                          <a:pt x="307" y="1307"/>
                        </a:lnTo>
                        <a:lnTo>
                          <a:pt x="302" y="1293"/>
                        </a:lnTo>
                        <a:lnTo>
                          <a:pt x="297" y="1283"/>
                        </a:lnTo>
                        <a:lnTo>
                          <a:pt x="287" y="1269"/>
                        </a:lnTo>
                        <a:lnTo>
                          <a:pt x="283" y="1260"/>
                        </a:lnTo>
                        <a:lnTo>
                          <a:pt x="278" y="1245"/>
                        </a:lnTo>
                        <a:lnTo>
                          <a:pt x="273" y="1236"/>
                        </a:lnTo>
                        <a:lnTo>
                          <a:pt x="273" y="1231"/>
                        </a:lnTo>
                        <a:lnTo>
                          <a:pt x="268" y="1226"/>
                        </a:lnTo>
                        <a:lnTo>
                          <a:pt x="268" y="1221"/>
                        </a:lnTo>
                        <a:lnTo>
                          <a:pt x="263" y="1212"/>
                        </a:lnTo>
                        <a:lnTo>
                          <a:pt x="263" y="1207"/>
                        </a:lnTo>
                        <a:lnTo>
                          <a:pt x="263" y="1202"/>
                        </a:lnTo>
                        <a:lnTo>
                          <a:pt x="259" y="1197"/>
                        </a:lnTo>
                        <a:lnTo>
                          <a:pt x="259" y="1192"/>
                        </a:lnTo>
                        <a:lnTo>
                          <a:pt x="254" y="1188"/>
                        </a:lnTo>
                        <a:lnTo>
                          <a:pt x="254" y="1183"/>
                        </a:lnTo>
                        <a:lnTo>
                          <a:pt x="254" y="1178"/>
                        </a:lnTo>
                        <a:lnTo>
                          <a:pt x="249" y="1169"/>
                        </a:lnTo>
                        <a:lnTo>
                          <a:pt x="249" y="1164"/>
                        </a:lnTo>
                        <a:lnTo>
                          <a:pt x="249" y="1159"/>
                        </a:lnTo>
                        <a:lnTo>
                          <a:pt x="244" y="1154"/>
                        </a:lnTo>
                        <a:lnTo>
                          <a:pt x="244" y="1149"/>
                        </a:lnTo>
                        <a:lnTo>
                          <a:pt x="244" y="1145"/>
                        </a:lnTo>
                        <a:lnTo>
                          <a:pt x="244" y="1135"/>
                        </a:lnTo>
                        <a:lnTo>
                          <a:pt x="239" y="1130"/>
                        </a:lnTo>
                        <a:lnTo>
                          <a:pt x="239" y="1125"/>
                        </a:lnTo>
                        <a:lnTo>
                          <a:pt x="239" y="1121"/>
                        </a:lnTo>
                        <a:lnTo>
                          <a:pt x="235" y="1116"/>
                        </a:lnTo>
                        <a:lnTo>
                          <a:pt x="235" y="1111"/>
                        </a:lnTo>
                        <a:lnTo>
                          <a:pt x="235" y="1102"/>
                        </a:lnTo>
                        <a:lnTo>
                          <a:pt x="235" y="1097"/>
                        </a:lnTo>
                        <a:lnTo>
                          <a:pt x="230" y="1092"/>
                        </a:lnTo>
                        <a:lnTo>
                          <a:pt x="230" y="1087"/>
                        </a:lnTo>
                        <a:lnTo>
                          <a:pt x="230" y="1082"/>
                        </a:lnTo>
                        <a:lnTo>
                          <a:pt x="225" y="1078"/>
                        </a:lnTo>
                        <a:lnTo>
                          <a:pt x="225" y="1068"/>
                        </a:lnTo>
                        <a:lnTo>
                          <a:pt x="225" y="1063"/>
                        </a:lnTo>
                        <a:lnTo>
                          <a:pt x="225" y="1058"/>
                        </a:lnTo>
                        <a:lnTo>
                          <a:pt x="215" y="1058"/>
                        </a:lnTo>
                        <a:lnTo>
                          <a:pt x="206" y="1058"/>
                        </a:lnTo>
                        <a:lnTo>
                          <a:pt x="201" y="1058"/>
                        </a:lnTo>
                        <a:lnTo>
                          <a:pt x="191" y="1058"/>
                        </a:lnTo>
                        <a:lnTo>
                          <a:pt x="182" y="1054"/>
                        </a:lnTo>
                        <a:lnTo>
                          <a:pt x="177" y="1054"/>
                        </a:lnTo>
                        <a:lnTo>
                          <a:pt x="167" y="1054"/>
                        </a:lnTo>
                        <a:lnTo>
                          <a:pt x="158" y="1049"/>
                        </a:lnTo>
                        <a:lnTo>
                          <a:pt x="153" y="1049"/>
                        </a:lnTo>
                        <a:lnTo>
                          <a:pt x="144" y="1044"/>
                        </a:lnTo>
                        <a:lnTo>
                          <a:pt x="139" y="1039"/>
                        </a:lnTo>
                        <a:lnTo>
                          <a:pt x="129" y="1039"/>
                        </a:lnTo>
                        <a:lnTo>
                          <a:pt x="124" y="1034"/>
                        </a:lnTo>
                        <a:lnTo>
                          <a:pt x="115" y="1030"/>
                        </a:lnTo>
                        <a:lnTo>
                          <a:pt x="110" y="1025"/>
                        </a:lnTo>
                        <a:lnTo>
                          <a:pt x="100" y="1020"/>
                        </a:lnTo>
                        <a:lnTo>
                          <a:pt x="96" y="1015"/>
                        </a:lnTo>
                        <a:lnTo>
                          <a:pt x="91" y="1011"/>
                        </a:lnTo>
                        <a:lnTo>
                          <a:pt x="81" y="1006"/>
                        </a:lnTo>
                        <a:lnTo>
                          <a:pt x="76" y="1001"/>
                        </a:lnTo>
                        <a:lnTo>
                          <a:pt x="72" y="996"/>
                        </a:lnTo>
                        <a:lnTo>
                          <a:pt x="67" y="987"/>
                        </a:lnTo>
                        <a:lnTo>
                          <a:pt x="62" y="982"/>
                        </a:lnTo>
                        <a:lnTo>
                          <a:pt x="52" y="977"/>
                        </a:lnTo>
                        <a:lnTo>
                          <a:pt x="48" y="967"/>
                        </a:lnTo>
                        <a:lnTo>
                          <a:pt x="43" y="963"/>
                        </a:lnTo>
                        <a:lnTo>
                          <a:pt x="38" y="958"/>
                        </a:lnTo>
                        <a:lnTo>
                          <a:pt x="33" y="948"/>
                        </a:lnTo>
                        <a:lnTo>
                          <a:pt x="28" y="944"/>
                        </a:lnTo>
                        <a:lnTo>
                          <a:pt x="28" y="934"/>
                        </a:lnTo>
                        <a:lnTo>
                          <a:pt x="24" y="929"/>
                        </a:lnTo>
                        <a:lnTo>
                          <a:pt x="19" y="920"/>
                        </a:lnTo>
                        <a:lnTo>
                          <a:pt x="14" y="915"/>
                        </a:lnTo>
                        <a:lnTo>
                          <a:pt x="14" y="905"/>
                        </a:lnTo>
                        <a:lnTo>
                          <a:pt x="9" y="900"/>
                        </a:lnTo>
                        <a:lnTo>
                          <a:pt x="9" y="891"/>
                        </a:lnTo>
                        <a:lnTo>
                          <a:pt x="9" y="886"/>
                        </a:lnTo>
                        <a:lnTo>
                          <a:pt x="4" y="876"/>
                        </a:lnTo>
                        <a:lnTo>
                          <a:pt x="4" y="872"/>
                        </a:lnTo>
                        <a:lnTo>
                          <a:pt x="4" y="862"/>
                        </a:lnTo>
                        <a:lnTo>
                          <a:pt x="0" y="857"/>
                        </a:lnTo>
                        <a:lnTo>
                          <a:pt x="0" y="848"/>
                        </a:lnTo>
                        <a:lnTo>
                          <a:pt x="0" y="843"/>
                        </a:lnTo>
                        <a:lnTo>
                          <a:pt x="0" y="833"/>
                        </a:lnTo>
                        <a:lnTo>
                          <a:pt x="0" y="829"/>
                        </a:lnTo>
                        <a:lnTo>
                          <a:pt x="0" y="819"/>
                        </a:lnTo>
                        <a:lnTo>
                          <a:pt x="0" y="809"/>
                        </a:lnTo>
                        <a:lnTo>
                          <a:pt x="0" y="805"/>
                        </a:lnTo>
                        <a:lnTo>
                          <a:pt x="0" y="795"/>
                        </a:lnTo>
                        <a:lnTo>
                          <a:pt x="0" y="790"/>
                        </a:lnTo>
                        <a:lnTo>
                          <a:pt x="0" y="781"/>
                        </a:lnTo>
                        <a:lnTo>
                          <a:pt x="0" y="776"/>
                        </a:lnTo>
                        <a:lnTo>
                          <a:pt x="0" y="766"/>
                        </a:lnTo>
                        <a:lnTo>
                          <a:pt x="0" y="762"/>
                        </a:lnTo>
                        <a:lnTo>
                          <a:pt x="0" y="752"/>
                        </a:lnTo>
                        <a:lnTo>
                          <a:pt x="4" y="747"/>
                        </a:lnTo>
                        <a:lnTo>
                          <a:pt x="4" y="738"/>
                        </a:lnTo>
                        <a:lnTo>
                          <a:pt x="4" y="733"/>
                        </a:lnTo>
                        <a:lnTo>
                          <a:pt x="4" y="728"/>
                        </a:lnTo>
                        <a:lnTo>
                          <a:pt x="4" y="718"/>
                        </a:lnTo>
                        <a:lnTo>
                          <a:pt x="4" y="714"/>
                        </a:lnTo>
                        <a:lnTo>
                          <a:pt x="4" y="709"/>
                        </a:lnTo>
                        <a:lnTo>
                          <a:pt x="9" y="699"/>
                        </a:lnTo>
                        <a:lnTo>
                          <a:pt x="9" y="695"/>
                        </a:lnTo>
                        <a:lnTo>
                          <a:pt x="14" y="675"/>
                        </a:lnTo>
                        <a:lnTo>
                          <a:pt x="19" y="656"/>
                        </a:lnTo>
                        <a:lnTo>
                          <a:pt x="24" y="632"/>
                        </a:lnTo>
                        <a:lnTo>
                          <a:pt x="33" y="613"/>
                        </a:lnTo>
                        <a:lnTo>
                          <a:pt x="43" y="594"/>
                        </a:lnTo>
                        <a:lnTo>
                          <a:pt x="48" y="575"/>
                        </a:lnTo>
                        <a:lnTo>
                          <a:pt x="57" y="556"/>
                        </a:lnTo>
                        <a:lnTo>
                          <a:pt x="67" y="536"/>
                        </a:lnTo>
                        <a:lnTo>
                          <a:pt x="76" y="517"/>
                        </a:lnTo>
                        <a:lnTo>
                          <a:pt x="86" y="498"/>
                        </a:lnTo>
                        <a:lnTo>
                          <a:pt x="96" y="479"/>
                        </a:lnTo>
                        <a:lnTo>
                          <a:pt x="110" y="460"/>
                        </a:lnTo>
                        <a:lnTo>
                          <a:pt x="120" y="446"/>
                        </a:lnTo>
                        <a:lnTo>
                          <a:pt x="134" y="426"/>
                        </a:lnTo>
                        <a:lnTo>
                          <a:pt x="144" y="407"/>
                        </a:lnTo>
                        <a:lnTo>
                          <a:pt x="158" y="393"/>
                        </a:lnTo>
                        <a:lnTo>
                          <a:pt x="172" y="374"/>
                        </a:lnTo>
                        <a:lnTo>
                          <a:pt x="187" y="359"/>
                        </a:lnTo>
                        <a:lnTo>
                          <a:pt x="201" y="340"/>
                        </a:lnTo>
                        <a:lnTo>
                          <a:pt x="215" y="326"/>
                        </a:lnTo>
                        <a:lnTo>
                          <a:pt x="230" y="311"/>
                        </a:lnTo>
                        <a:lnTo>
                          <a:pt x="244" y="292"/>
                        </a:lnTo>
                        <a:lnTo>
                          <a:pt x="259" y="278"/>
                        </a:lnTo>
                        <a:lnTo>
                          <a:pt x="273" y="264"/>
                        </a:lnTo>
                        <a:lnTo>
                          <a:pt x="292" y="249"/>
                        </a:lnTo>
                        <a:lnTo>
                          <a:pt x="307" y="235"/>
                        </a:lnTo>
                        <a:lnTo>
                          <a:pt x="321" y="220"/>
                        </a:lnTo>
                        <a:lnTo>
                          <a:pt x="340" y="206"/>
                        </a:lnTo>
                        <a:lnTo>
                          <a:pt x="355" y="197"/>
                        </a:lnTo>
                        <a:lnTo>
                          <a:pt x="374" y="182"/>
                        </a:lnTo>
                        <a:lnTo>
                          <a:pt x="388" y="168"/>
                        </a:lnTo>
                        <a:lnTo>
                          <a:pt x="407" y="158"/>
                        </a:lnTo>
                        <a:lnTo>
                          <a:pt x="412" y="153"/>
                        </a:lnTo>
                        <a:lnTo>
                          <a:pt x="422" y="149"/>
                        </a:lnTo>
                        <a:lnTo>
                          <a:pt x="427" y="144"/>
                        </a:lnTo>
                        <a:lnTo>
                          <a:pt x="431" y="139"/>
                        </a:lnTo>
                        <a:lnTo>
                          <a:pt x="436" y="134"/>
                        </a:lnTo>
                        <a:lnTo>
                          <a:pt x="446" y="129"/>
                        </a:lnTo>
                        <a:lnTo>
                          <a:pt x="451" y="125"/>
                        </a:lnTo>
                        <a:lnTo>
                          <a:pt x="460" y="125"/>
                        </a:lnTo>
                        <a:lnTo>
                          <a:pt x="465" y="120"/>
                        </a:lnTo>
                        <a:lnTo>
                          <a:pt x="470" y="115"/>
                        </a:lnTo>
                        <a:lnTo>
                          <a:pt x="479" y="110"/>
                        </a:lnTo>
                        <a:lnTo>
                          <a:pt x="484" y="110"/>
                        </a:lnTo>
                        <a:lnTo>
                          <a:pt x="494" y="106"/>
                        </a:lnTo>
                        <a:lnTo>
                          <a:pt x="498" y="101"/>
                        </a:lnTo>
                        <a:lnTo>
                          <a:pt x="508" y="101"/>
                        </a:lnTo>
                        <a:lnTo>
                          <a:pt x="513" y="96"/>
                        </a:lnTo>
                        <a:lnTo>
                          <a:pt x="522" y="96"/>
                        </a:lnTo>
                        <a:lnTo>
                          <a:pt x="527" y="91"/>
                        </a:lnTo>
                        <a:lnTo>
                          <a:pt x="532" y="86"/>
                        </a:lnTo>
                        <a:lnTo>
                          <a:pt x="542" y="86"/>
                        </a:lnTo>
                        <a:lnTo>
                          <a:pt x="546" y="82"/>
                        </a:lnTo>
                        <a:lnTo>
                          <a:pt x="556" y="77"/>
                        </a:lnTo>
                        <a:lnTo>
                          <a:pt x="561" y="77"/>
                        </a:lnTo>
                        <a:lnTo>
                          <a:pt x="566" y="72"/>
                        </a:lnTo>
                        <a:lnTo>
                          <a:pt x="575" y="67"/>
                        </a:lnTo>
                        <a:lnTo>
                          <a:pt x="580" y="62"/>
                        </a:lnTo>
                        <a:lnTo>
                          <a:pt x="585" y="58"/>
                        </a:lnTo>
                        <a:lnTo>
                          <a:pt x="590" y="58"/>
                        </a:lnTo>
                        <a:lnTo>
                          <a:pt x="599" y="53"/>
                        </a:lnTo>
                        <a:lnTo>
                          <a:pt x="604" y="48"/>
                        </a:lnTo>
                        <a:lnTo>
                          <a:pt x="609" y="43"/>
                        </a:lnTo>
                        <a:lnTo>
                          <a:pt x="614" y="39"/>
                        </a:lnTo>
                        <a:lnTo>
                          <a:pt x="628" y="29"/>
                        </a:lnTo>
                        <a:lnTo>
                          <a:pt x="642" y="24"/>
                        </a:lnTo>
                        <a:lnTo>
                          <a:pt x="662" y="19"/>
                        </a:lnTo>
                        <a:lnTo>
                          <a:pt x="676" y="19"/>
                        </a:lnTo>
                        <a:lnTo>
                          <a:pt x="690" y="15"/>
                        </a:lnTo>
                        <a:lnTo>
                          <a:pt x="710" y="10"/>
                        </a:lnTo>
                        <a:lnTo>
                          <a:pt x="724" y="10"/>
                        </a:lnTo>
                        <a:lnTo>
                          <a:pt x="743" y="5"/>
                        </a:lnTo>
                        <a:lnTo>
                          <a:pt x="762" y="5"/>
                        </a:lnTo>
                        <a:lnTo>
                          <a:pt x="777" y="5"/>
                        </a:lnTo>
                        <a:lnTo>
                          <a:pt x="796" y="0"/>
                        </a:lnTo>
                        <a:lnTo>
                          <a:pt x="810" y="0"/>
                        </a:lnTo>
                        <a:lnTo>
                          <a:pt x="829" y="0"/>
                        </a:lnTo>
                        <a:lnTo>
                          <a:pt x="849" y="0"/>
                        </a:lnTo>
                        <a:lnTo>
                          <a:pt x="863" y="5"/>
                        </a:lnTo>
                        <a:lnTo>
                          <a:pt x="882" y="5"/>
                        </a:lnTo>
                        <a:lnTo>
                          <a:pt x="897" y="5"/>
                        </a:lnTo>
                        <a:lnTo>
                          <a:pt x="916" y="10"/>
                        </a:lnTo>
                        <a:lnTo>
                          <a:pt x="935" y="15"/>
                        </a:lnTo>
                        <a:lnTo>
                          <a:pt x="949" y="15"/>
                        </a:lnTo>
                        <a:lnTo>
                          <a:pt x="969" y="19"/>
                        </a:lnTo>
                        <a:lnTo>
                          <a:pt x="983" y="24"/>
                        </a:lnTo>
                        <a:lnTo>
                          <a:pt x="1002" y="29"/>
                        </a:lnTo>
                        <a:lnTo>
                          <a:pt x="1017" y="34"/>
                        </a:lnTo>
                        <a:lnTo>
                          <a:pt x="1031" y="39"/>
                        </a:lnTo>
                        <a:lnTo>
                          <a:pt x="1050" y="48"/>
                        </a:lnTo>
                        <a:lnTo>
                          <a:pt x="1065" y="53"/>
                        </a:lnTo>
                        <a:lnTo>
                          <a:pt x="1079" y="58"/>
                        </a:lnTo>
                        <a:lnTo>
                          <a:pt x="1093" y="67"/>
                        </a:lnTo>
                        <a:lnTo>
                          <a:pt x="1108" y="77"/>
                        </a:lnTo>
                        <a:lnTo>
                          <a:pt x="1122" y="82"/>
                        </a:lnTo>
                        <a:lnTo>
                          <a:pt x="1137" y="9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5" name=""/>
                  <p:cNvSpPr/>
                  <p:nvPr/>
                </p:nvSpPr>
                <p:spPr>
                  <a:xfrm flipH="1">
                    <a:off x="3853800" y="4167360"/>
                    <a:ext cx="291240" cy="241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17" h="1475">
                        <a:moveTo>
                          <a:pt x="1180" y="172"/>
                        </a:moveTo>
                        <a:lnTo>
                          <a:pt x="1185" y="172"/>
                        </a:lnTo>
                        <a:lnTo>
                          <a:pt x="1190" y="168"/>
                        </a:lnTo>
                        <a:lnTo>
                          <a:pt x="1194" y="168"/>
                        </a:lnTo>
                        <a:lnTo>
                          <a:pt x="1204" y="168"/>
                        </a:lnTo>
                        <a:lnTo>
                          <a:pt x="1209" y="168"/>
                        </a:lnTo>
                        <a:lnTo>
                          <a:pt x="1214" y="168"/>
                        </a:lnTo>
                        <a:lnTo>
                          <a:pt x="1218" y="168"/>
                        </a:lnTo>
                        <a:lnTo>
                          <a:pt x="1223" y="168"/>
                        </a:lnTo>
                        <a:lnTo>
                          <a:pt x="1233" y="168"/>
                        </a:lnTo>
                        <a:lnTo>
                          <a:pt x="1238" y="168"/>
                        </a:lnTo>
                        <a:lnTo>
                          <a:pt x="1242" y="168"/>
                        </a:lnTo>
                        <a:lnTo>
                          <a:pt x="1247" y="172"/>
                        </a:lnTo>
                        <a:lnTo>
                          <a:pt x="1252" y="172"/>
                        </a:lnTo>
                        <a:lnTo>
                          <a:pt x="1257" y="172"/>
                        </a:lnTo>
                        <a:lnTo>
                          <a:pt x="1266" y="172"/>
                        </a:lnTo>
                        <a:lnTo>
                          <a:pt x="1271" y="177"/>
                        </a:lnTo>
                        <a:lnTo>
                          <a:pt x="1276" y="177"/>
                        </a:lnTo>
                        <a:lnTo>
                          <a:pt x="1281" y="177"/>
                        </a:lnTo>
                        <a:lnTo>
                          <a:pt x="1286" y="182"/>
                        </a:lnTo>
                        <a:lnTo>
                          <a:pt x="1290" y="182"/>
                        </a:lnTo>
                        <a:lnTo>
                          <a:pt x="1295" y="187"/>
                        </a:lnTo>
                        <a:lnTo>
                          <a:pt x="1300" y="187"/>
                        </a:lnTo>
                        <a:lnTo>
                          <a:pt x="1310" y="192"/>
                        </a:lnTo>
                        <a:lnTo>
                          <a:pt x="1314" y="192"/>
                        </a:lnTo>
                        <a:lnTo>
                          <a:pt x="1319" y="196"/>
                        </a:lnTo>
                        <a:lnTo>
                          <a:pt x="1324" y="201"/>
                        </a:lnTo>
                        <a:lnTo>
                          <a:pt x="1329" y="201"/>
                        </a:lnTo>
                        <a:lnTo>
                          <a:pt x="1334" y="206"/>
                        </a:lnTo>
                        <a:lnTo>
                          <a:pt x="1338" y="211"/>
                        </a:lnTo>
                        <a:lnTo>
                          <a:pt x="1343" y="211"/>
                        </a:lnTo>
                        <a:lnTo>
                          <a:pt x="1348" y="216"/>
                        </a:lnTo>
                        <a:lnTo>
                          <a:pt x="1353" y="220"/>
                        </a:lnTo>
                        <a:lnTo>
                          <a:pt x="1362" y="225"/>
                        </a:lnTo>
                        <a:lnTo>
                          <a:pt x="1372" y="230"/>
                        </a:lnTo>
                        <a:lnTo>
                          <a:pt x="1377" y="240"/>
                        </a:lnTo>
                        <a:lnTo>
                          <a:pt x="1386" y="244"/>
                        </a:lnTo>
                        <a:lnTo>
                          <a:pt x="1391" y="249"/>
                        </a:lnTo>
                        <a:lnTo>
                          <a:pt x="1401" y="259"/>
                        </a:lnTo>
                        <a:lnTo>
                          <a:pt x="1406" y="263"/>
                        </a:lnTo>
                        <a:lnTo>
                          <a:pt x="1410" y="273"/>
                        </a:lnTo>
                        <a:lnTo>
                          <a:pt x="1420" y="278"/>
                        </a:lnTo>
                        <a:lnTo>
                          <a:pt x="1425" y="287"/>
                        </a:lnTo>
                        <a:lnTo>
                          <a:pt x="1430" y="297"/>
                        </a:lnTo>
                        <a:lnTo>
                          <a:pt x="1434" y="302"/>
                        </a:lnTo>
                        <a:lnTo>
                          <a:pt x="1439" y="311"/>
                        </a:lnTo>
                        <a:lnTo>
                          <a:pt x="1444" y="321"/>
                        </a:lnTo>
                        <a:lnTo>
                          <a:pt x="1449" y="330"/>
                        </a:lnTo>
                        <a:lnTo>
                          <a:pt x="1453" y="335"/>
                        </a:lnTo>
                        <a:lnTo>
                          <a:pt x="1458" y="345"/>
                        </a:lnTo>
                        <a:lnTo>
                          <a:pt x="1463" y="354"/>
                        </a:lnTo>
                        <a:lnTo>
                          <a:pt x="1468" y="364"/>
                        </a:lnTo>
                        <a:lnTo>
                          <a:pt x="1473" y="374"/>
                        </a:lnTo>
                        <a:lnTo>
                          <a:pt x="1477" y="378"/>
                        </a:lnTo>
                        <a:lnTo>
                          <a:pt x="1482" y="388"/>
                        </a:lnTo>
                        <a:lnTo>
                          <a:pt x="1487" y="398"/>
                        </a:lnTo>
                        <a:lnTo>
                          <a:pt x="1492" y="407"/>
                        </a:lnTo>
                        <a:lnTo>
                          <a:pt x="1497" y="417"/>
                        </a:lnTo>
                        <a:lnTo>
                          <a:pt x="1497" y="421"/>
                        </a:lnTo>
                        <a:lnTo>
                          <a:pt x="1501" y="431"/>
                        </a:lnTo>
                        <a:lnTo>
                          <a:pt x="1506" y="441"/>
                        </a:lnTo>
                        <a:lnTo>
                          <a:pt x="1511" y="450"/>
                        </a:lnTo>
                        <a:lnTo>
                          <a:pt x="1516" y="460"/>
                        </a:lnTo>
                        <a:lnTo>
                          <a:pt x="1521" y="465"/>
                        </a:lnTo>
                        <a:lnTo>
                          <a:pt x="1525" y="474"/>
                        </a:lnTo>
                        <a:lnTo>
                          <a:pt x="1525" y="479"/>
                        </a:lnTo>
                        <a:lnTo>
                          <a:pt x="1530" y="484"/>
                        </a:lnTo>
                        <a:lnTo>
                          <a:pt x="1530" y="488"/>
                        </a:lnTo>
                        <a:lnTo>
                          <a:pt x="1535" y="493"/>
                        </a:lnTo>
                        <a:lnTo>
                          <a:pt x="1535" y="498"/>
                        </a:lnTo>
                        <a:lnTo>
                          <a:pt x="1540" y="503"/>
                        </a:lnTo>
                        <a:lnTo>
                          <a:pt x="1540" y="508"/>
                        </a:lnTo>
                        <a:lnTo>
                          <a:pt x="1540" y="512"/>
                        </a:lnTo>
                        <a:lnTo>
                          <a:pt x="1545" y="517"/>
                        </a:lnTo>
                        <a:lnTo>
                          <a:pt x="1545" y="522"/>
                        </a:lnTo>
                        <a:lnTo>
                          <a:pt x="1545" y="527"/>
                        </a:lnTo>
                        <a:lnTo>
                          <a:pt x="1549" y="532"/>
                        </a:lnTo>
                        <a:lnTo>
                          <a:pt x="1549" y="536"/>
                        </a:lnTo>
                        <a:lnTo>
                          <a:pt x="1554" y="541"/>
                        </a:lnTo>
                        <a:lnTo>
                          <a:pt x="1554" y="546"/>
                        </a:lnTo>
                        <a:lnTo>
                          <a:pt x="1554" y="551"/>
                        </a:lnTo>
                        <a:lnTo>
                          <a:pt x="1554" y="556"/>
                        </a:lnTo>
                        <a:lnTo>
                          <a:pt x="1559" y="560"/>
                        </a:lnTo>
                        <a:lnTo>
                          <a:pt x="1559" y="565"/>
                        </a:lnTo>
                        <a:lnTo>
                          <a:pt x="1559" y="570"/>
                        </a:lnTo>
                        <a:lnTo>
                          <a:pt x="1564" y="575"/>
                        </a:lnTo>
                        <a:lnTo>
                          <a:pt x="1569" y="579"/>
                        </a:lnTo>
                        <a:lnTo>
                          <a:pt x="1569" y="584"/>
                        </a:lnTo>
                        <a:lnTo>
                          <a:pt x="1569" y="589"/>
                        </a:lnTo>
                        <a:lnTo>
                          <a:pt x="1573" y="594"/>
                        </a:lnTo>
                        <a:lnTo>
                          <a:pt x="1573" y="599"/>
                        </a:lnTo>
                        <a:lnTo>
                          <a:pt x="1578" y="603"/>
                        </a:lnTo>
                        <a:lnTo>
                          <a:pt x="1583" y="608"/>
                        </a:lnTo>
                        <a:lnTo>
                          <a:pt x="1583" y="618"/>
                        </a:lnTo>
                        <a:lnTo>
                          <a:pt x="1583" y="623"/>
                        </a:lnTo>
                        <a:lnTo>
                          <a:pt x="1588" y="632"/>
                        </a:lnTo>
                        <a:lnTo>
                          <a:pt x="1588" y="637"/>
                        </a:lnTo>
                        <a:lnTo>
                          <a:pt x="1593" y="647"/>
                        </a:lnTo>
                        <a:lnTo>
                          <a:pt x="1593" y="651"/>
                        </a:lnTo>
                        <a:lnTo>
                          <a:pt x="1597" y="661"/>
                        </a:lnTo>
                        <a:lnTo>
                          <a:pt x="1597" y="666"/>
                        </a:lnTo>
                        <a:lnTo>
                          <a:pt x="1602" y="675"/>
                        </a:lnTo>
                        <a:lnTo>
                          <a:pt x="1602" y="680"/>
                        </a:lnTo>
                        <a:lnTo>
                          <a:pt x="1602" y="690"/>
                        </a:lnTo>
                        <a:lnTo>
                          <a:pt x="1607" y="694"/>
                        </a:lnTo>
                        <a:lnTo>
                          <a:pt x="1607" y="704"/>
                        </a:lnTo>
                        <a:lnTo>
                          <a:pt x="1612" y="709"/>
                        </a:lnTo>
                        <a:lnTo>
                          <a:pt x="1612" y="718"/>
                        </a:lnTo>
                        <a:lnTo>
                          <a:pt x="1617" y="723"/>
                        </a:lnTo>
                        <a:lnTo>
                          <a:pt x="1617" y="733"/>
                        </a:lnTo>
                        <a:lnTo>
                          <a:pt x="1617" y="737"/>
                        </a:lnTo>
                        <a:lnTo>
                          <a:pt x="1621" y="747"/>
                        </a:lnTo>
                        <a:lnTo>
                          <a:pt x="1621" y="752"/>
                        </a:lnTo>
                        <a:lnTo>
                          <a:pt x="1626" y="761"/>
                        </a:lnTo>
                        <a:lnTo>
                          <a:pt x="1626" y="766"/>
                        </a:lnTo>
                        <a:lnTo>
                          <a:pt x="1626" y="776"/>
                        </a:lnTo>
                        <a:lnTo>
                          <a:pt x="1631" y="781"/>
                        </a:lnTo>
                        <a:lnTo>
                          <a:pt x="1631" y="790"/>
                        </a:lnTo>
                        <a:lnTo>
                          <a:pt x="1631" y="795"/>
                        </a:lnTo>
                        <a:lnTo>
                          <a:pt x="1636" y="805"/>
                        </a:lnTo>
                        <a:lnTo>
                          <a:pt x="1636" y="809"/>
                        </a:lnTo>
                        <a:lnTo>
                          <a:pt x="1641" y="819"/>
                        </a:lnTo>
                        <a:lnTo>
                          <a:pt x="1641" y="824"/>
                        </a:lnTo>
                        <a:lnTo>
                          <a:pt x="1641" y="833"/>
                        </a:lnTo>
                        <a:lnTo>
                          <a:pt x="1645" y="838"/>
                        </a:lnTo>
                        <a:lnTo>
                          <a:pt x="1645" y="857"/>
                        </a:lnTo>
                        <a:lnTo>
                          <a:pt x="1650" y="876"/>
                        </a:lnTo>
                        <a:lnTo>
                          <a:pt x="1655" y="896"/>
                        </a:lnTo>
                        <a:lnTo>
                          <a:pt x="1660" y="910"/>
                        </a:lnTo>
                        <a:lnTo>
                          <a:pt x="1665" y="929"/>
                        </a:lnTo>
                        <a:lnTo>
                          <a:pt x="1669" y="948"/>
                        </a:lnTo>
                        <a:lnTo>
                          <a:pt x="1669" y="967"/>
                        </a:lnTo>
                        <a:lnTo>
                          <a:pt x="1674" y="986"/>
                        </a:lnTo>
                        <a:lnTo>
                          <a:pt x="1679" y="1006"/>
                        </a:lnTo>
                        <a:lnTo>
                          <a:pt x="1684" y="1025"/>
                        </a:lnTo>
                        <a:lnTo>
                          <a:pt x="1684" y="1039"/>
                        </a:lnTo>
                        <a:lnTo>
                          <a:pt x="1689" y="1058"/>
                        </a:lnTo>
                        <a:lnTo>
                          <a:pt x="1693" y="1077"/>
                        </a:lnTo>
                        <a:lnTo>
                          <a:pt x="1693" y="1097"/>
                        </a:lnTo>
                        <a:lnTo>
                          <a:pt x="1698" y="1116"/>
                        </a:lnTo>
                        <a:lnTo>
                          <a:pt x="1698" y="1135"/>
                        </a:lnTo>
                        <a:lnTo>
                          <a:pt x="1703" y="1154"/>
                        </a:lnTo>
                        <a:lnTo>
                          <a:pt x="1703" y="1173"/>
                        </a:lnTo>
                        <a:lnTo>
                          <a:pt x="1708" y="1192"/>
                        </a:lnTo>
                        <a:lnTo>
                          <a:pt x="1708" y="1207"/>
                        </a:lnTo>
                        <a:lnTo>
                          <a:pt x="1713" y="1226"/>
                        </a:lnTo>
                        <a:lnTo>
                          <a:pt x="1713" y="1245"/>
                        </a:lnTo>
                        <a:lnTo>
                          <a:pt x="1713" y="1264"/>
                        </a:lnTo>
                        <a:lnTo>
                          <a:pt x="1713" y="1283"/>
                        </a:lnTo>
                        <a:lnTo>
                          <a:pt x="1717" y="1303"/>
                        </a:lnTo>
                        <a:lnTo>
                          <a:pt x="1717" y="1322"/>
                        </a:lnTo>
                        <a:lnTo>
                          <a:pt x="1717" y="1341"/>
                        </a:lnTo>
                        <a:lnTo>
                          <a:pt x="1717" y="1360"/>
                        </a:lnTo>
                        <a:lnTo>
                          <a:pt x="1717" y="1379"/>
                        </a:lnTo>
                        <a:lnTo>
                          <a:pt x="1717" y="1398"/>
                        </a:lnTo>
                        <a:lnTo>
                          <a:pt x="1717" y="1417"/>
                        </a:lnTo>
                        <a:lnTo>
                          <a:pt x="1717" y="1437"/>
                        </a:lnTo>
                        <a:lnTo>
                          <a:pt x="1708" y="1432"/>
                        </a:lnTo>
                        <a:lnTo>
                          <a:pt x="1703" y="1432"/>
                        </a:lnTo>
                        <a:lnTo>
                          <a:pt x="1693" y="1427"/>
                        </a:lnTo>
                        <a:lnTo>
                          <a:pt x="1684" y="1427"/>
                        </a:lnTo>
                        <a:lnTo>
                          <a:pt x="1679" y="1427"/>
                        </a:lnTo>
                        <a:lnTo>
                          <a:pt x="1669" y="1422"/>
                        </a:lnTo>
                        <a:lnTo>
                          <a:pt x="1665" y="1422"/>
                        </a:lnTo>
                        <a:lnTo>
                          <a:pt x="1655" y="1422"/>
                        </a:lnTo>
                        <a:lnTo>
                          <a:pt x="1645" y="1422"/>
                        </a:lnTo>
                        <a:lnTo>
                          <a:pt x="1641" y="1422"/>
                        </a:lnTo>
                        <a:lnTo>
                          <a:pt x="1631" y="1422"/>
                        </a:lnTo>
                        <a:lnTo>
                          <a:pt x="1621" y="1422"/>
                        </a:lnTo>
                        <a:lnTo>
                          <a:pt x="1617" y="1422"/>
                        </a:lnTo>
                        <a:lnTo>
                          <a:pt x="1607" y="1422"/>
                        </a:lnTo>
                        <a:lnTo>
                          <a:pt x="1597" y="1422"/>
                        </a:lnTo>
                        <a:lnTo>
                          <a:pt x="1593" y="1422"/>
                        </a:lnTo>
                        <a:lnTo>
                          <a:pt x="1583" y="1422"/>
                        </a:lnTo>
                        <a:lnTo>
                          <a:pt x="1578" y="1422"/>
                        </a:lnTo>
                        <a:lnTo>
                          <a:pt x="1569" y="1422"/>
                        </a:lnTo>
                        <a:lnTo>
                          <a:pt x="1559" y="1427"/>
                        </a:lnTo>
                        <a:lnTo>
                          <a:pt x="1554" y="1427"/>
                        </a:lnTo>
                        <a:lnTo>
                          <a:pt x="1545" y="1427"/>
                        </a:lnTo>
                        <a:lnTo>
                          <a:pt x="1535" y="1432"/>
                        </a:lnTo>
                        <a:lnTo>
                          <a:pt x="1530" y="1432"/>
                        </a:lnTo>
                        <a:lnTo>
                          <a:pt x="1521" y="1432"/>
                        </a:lnTo>
                        <a:lnTo>
                          <a:pt x="1516" y="1437"/>
                        </a:lnTo>
                        <a:lnTo>
                          <a:pt x="1506" y="1437"/>
                        </a:lnTo>
                        <a:lnTo>
                          <a:pt x="1497" y="1441"/>
                        </a:lnTo>
                        <a:lnTo>
                          <a:pt x="1492" y="1441"/>
                        </a:lnTo>
                        <a:lnTo>
                          <a:pt x="1482" y="1446"/>
                        </a:lnTo>
                        <a:lnTo>
                          <a:pt x="1477" y="1446"/>
                        </a:lnTo>
                        <a:lnTo>
                          <a:pt x="1468" y="1451"/>
                        </a:lnTo>
                        <a:lnTo>
                          <a:pt x="1463" y="1451"/>
                        </a:lnTo>
                        <a:lnTo>
                          <a:pt x="1458" y="1451"/>
                        </a:lnTo>
                        <a:lnTo>
                          <a:pt x="1453" y="1451"/>
                        </a:lnTo>
                        <a:lnTo>
                          <a:pt x="1449" y="1451"/>
                        </a:lnTo>
                        <a:lnTo>
                          <a:pt x="1444" y="1456"/>
                        </a:lnTo>
                        <a:lnTo>
                          <a:pt x="1439" y="1456"/>
                        </a:lnTo>
                        <a:lnTo>
                          <a:pt x="1434" y="1456"/>
                        </a:lnTo>
                        <a:lnTo>
                          <a:pt x="1430" y="1456"/>
                        </a:lnTo>
                        <a:lnTo>
                          <a:pt x="1430" y="1461"/>
                        </a:lnTo>
                        <a:lnTo>
                          <a:pt x="1425" y="1461"/>
                        </a:lnTo>
                        <a:lnTo>
                          <a:pt x="1420" y="1461"/>
                        </a:lnTo>
                        <a:lnTo>
                          <a:pt x="1415" y="1465"/>
                        </a:lnTo>
                        <a:lnTo>
                          <a:pt x="1410" y="1465"/>
                        </a:lnTo>
                        <a:lnTo>
                          <a:pt x="1406" y="1470"/>
                        </a:lnTo>
                        <a:lnTo>
                          <a:pt x="1401" y="1470"/>
                        </a:lnTo>
                        <a:lnTo>
                          <a:pt x="1396" y="1475"/>
                        </a:lnTo>
                        <a:lnTo>
                          <a:pt x="1391" y="1475"/>
                        </a:lnTo>
                        <a:lnTo>
                          <a:pt x="1348" y="1446"/>
                        </a:lnTo>
                        <a:lnTo>
                          <a:pt x="1348" y="1437"/>
                        </a:lnTo>
                        <a:lnTo>
                          <a:pt x="1353" y="1437"/>
                        </a:lnTo>
                        <a:lnTo>
                          <a:pt x="1358" y="1437"/>
                        </a:lnTo>
                        <a:lnTo>
                          <a:pt x="1362" y="1437"/>
                        </a:lnTo>
                        <a:lnTo>
                          <a:pt x="1367" y="1437"/>
                        </a:lnTo>
                        <a:lnTo>
                          <a:pt x="1372" y="1437"/>
                        </a:lnTo>
                        <a:lnTo>
                          <a:pt x="1377" y="1432"/>
                        </a:lnTo>
                        <a:lnTo>
                          <a:pt x="1382" y="1432"/>
                        </a:lnTo>
                        <a:lnTo>
                          <a:pt x="1386" y="1427"/>
                        </a:lnTo>
                        <a:lnTo>
                          <a:pt x="1391" y="1427"/>
                        </a:lnTo>
                        <a:lnTo>
                          <a:pt x="1396" y="1422"/>
                        </a:lnTo>
                        <a:lnTo>
                          <a:pt x="1401" y="1422"/>
                        </a:lnTo>
                        <a:lnTo>
                          <a:pt x="1406" y="1417"/>
                        </a:lnTo>
                        <a:lnTo>
                          <a:pt x="1410" y="1417"/>
                        </a:lnTo>
                        <a:lnTo>
                          <a:pt x="1410" y="1413"/>
                        </a:lnTo>
                        <a:lnTo>
                          <a:pt x="1415" y="1413"/>
                        </a:lnTo>
                        <a:lnTo>
                          <a:pt x="1420" y="1413"/>
                        </a:lnTo>
                        <a:lnTo>
                          <a:pt x="1420" y="1408"/>
                        </a:lnTo>
                        <a:lnTo>
                          <a:pt x="1425" y="1408"/>
                        </a:lnTo>
                        <a:lnTo>
                          <a:pt x="1430" y="1403"/>
                        </a:lnTo>
                        <a:lnTo>
                          <a:pt x="1434" y="1403"/>
                        </a:lnTo>
                        <a:lnTo>
                          <a:pt x="1434" y="1398"/>
                        </a:lnTo>
                        <a:lnTo>
                          <a:pt x="1439" y="1398"/>
                        </a:lnTo>
                        <a:lnTo>
                          <a:pt x="1444" y="1393"/>
                        </a:lnTo>
                        <a:lnTo>
                          <a:pt x="1449" y="1393"/>
                        </a:lnTo>
                        <a:lnTo>
                          <a:pt x="1449" y="1389"/>
                        </a:lnTo>
                        <a:lnTo>
                          <a:pt x="1453" y="1389"/>
                        </a:lnTo>
                        <a:lnTo>
                          <a:pt x="1458" y="1389"/>
                        </a:lnTo>
                        <a:lnTo>
                          <a:pt x="1458" y="1384"/>
                        </a:lnTo>
                        <a:lnTo>
                          <a:pt x="1463" y="1384"/>
                        </a:lnTo>
                        <a:lnTo>
                          <a:pt x="1463" y="1379"/>
                        </a:lnTo>
                        <a:lnTo>
                          <a:pt x="1468" y="1379"/>
                        </a:lnTo>
                        <a:lnTo>
                          <a:pt x="1473" y="1379"/>
                        </a:lnTo>
                        <a:lnTo>
                          <a:pt x="1473" y="1374"/>
                        </a:lnTo>
                        <a:lnTo>
                          <a:pt x="1477" y="1374"/>
                        </a:lnTo>
                        <a:lnTo>
                          <a:pt x="1482" y="1370"/>
                        </a:lnTo>
                        <a:lnTo>
                          <a:pt x="1487" y="1370"/>
                        </a:lnTo>
                        <a:lnTo>
                          <a:pt x="1492" y="1365"/>
                        </a:lnTo>
                        <a:lnTo>
                          <a:pt x="1497" y="1360"/>
                        </a:lnTo>
                        <a:lnTo>
                          <a:pt x="1501" y="1360"/>
                        </a:lnTo>
                        <a:lnTo>
                          <a:pt x="1501" y="1355"/>
                        </a:lnTo>
                        <a:lnTo>
                          <a:pt x="1506" y="1355"/>
                        </a:lnTo>
                        <a:lnTo>
                          <a:pt x="1506" y="1350"/>
                        </a:lnTo>
                        <a:lnTo>
                          <a:pt x="1511" y="1350"/>
                        </a:lnTo>
                        <a:lnTo>
                          <a:pt x="1516" y="1346"/>
                        </a:lnTo>
                        <a:lnTo>
                          <a:pt x="1516" y="1350"/>
                        </a:lnTo>
                        <a:lnTo>
                          <a:pt x="1521" y="1341"/>
                        </a:lnTo>
                        <a:lnTo>
                          <a:pt x="1530" y="1336"/>
                        </a:lnTo>
                        <a:lnTo>
                          <a:pt x="1535" y="1326"/>
                        </a:lnTo>
                        <a:lnTo>
                          <a:pt x="1540" y="1322"/>
                        </a:lnTo>
                        <a:lnTo>
                          <a:pt x="1545" y="1312"/>
                        </a:lnTo>
                        <a:lnTo>
                          <a:pt x="1549" y="1307"/>
                        </a:lnTo>
                        <a:lnTo>
                          <a:pt x="1554" y="1298"/>
                        </a:lnTo>
                        <a:lnTo>
                          <a:pt x="1559" y="1293"/>
                        </a:lnTo>
                        <a:lnTo>
                          <a:pt x="1564" y="1283"/>
                        </a:lnTo>
                        <a:lnTo>
                          <a:pt x="1564" y="1279"/>
                        </a:lnTo>
                        <a:lnTo>
                          <a:pt x="1569" y="1269"/>
                        </a:lnTo>
                        <a:lnTo>
                          <a:pt x="1573" y="1264"/>
                        </a:lnTo>
                        <a:lnTo>
                          <a:pt x="1578" y="1255"/>
                        </a:lnTo>
                        <a:lnTo>
                          <a:pt x="1578" y="1250"/>
                        </a:lnTo>
                        <a:lnTo>
                          <a:pt x="1583" y="1240"/>
                        </a:lnTo>
                        <a:lnTo>
                          <a:pt x="1583" y="1231"/>
                        </a:lnTo>
                        <a:lnTo>
                          <a:pt x="1588" y="1226"/>
                        </a:lnTo>
                        <a:lnTo>
                          <a:pt x="1588" y="1216"/>
                        </a:lnTo>
                        <a:lnTo>
                          <a:pt x="1588" y="1207"/>
                        </a:lnTo>
                        <a:lnTo>
                          <a:pt x="1593" y="1197"/>
                        </a:lnTo>
                        <a:lnTo>
                          <a:pt x="1593" y="1192"/>
                        </a:lnTo>
                        <a:lnTo>
                          <a:pt x="1593" y="1183"/>
                        </a:lnTo>
                        <a:lnTo>
                          <a:pt x="1593" y="1173"/>
                        </a:lnTo>
                        <a:lnTo>
                          <a:pt x="1597" y="1164"/>
                        </a:lnTo>
                        <a:lnTo>
                          <a:pt x="1597" y="1159"/>
                        </a:lnTo>
                        <a:lnTo>
                          <a:pt x="1597" y="1149"/>
                        </a:lnTo>
                        <a:lnTo>
                          <a:pt x="1597" y="1140"/>
                        </a:lnTo>
                        <a:lnTo>
                          <a:pt x="1597" y="1130"/>
                        </a:lnTo>
                        <a:lnTo>
                          <a:pt x="1597" y="1121"/>
                        </a:lnTo>
                        <a:lnTo>
                          <a:pt x="1597" y="1111"/>
                        </a:lnTo>
                        <a:lnTo>
                          <a:pt x="1597" y="1101"/>
                        </a:lnTo>
                        <a:lnTo>
                          <a:pt x="1597" y="1092"/>
                        </a:lnTo>
                        <a:lnTo>
                          <a:pt x="1593" y="1087"/>
                        </a:lnTo>
                        <a:lnTo>
                          <a:pt x="1593" y="1082"/>
                        </a:lnTo>
                        <a:lnTo>
                          <a:pt x="1593" y="1077"/>
                        </a:lnTo>
                        <a:lnTo>
                          <a:pt x="1588" y="1073"/>
                        </a:lnTo>
                        <a:lnTo>
                          <a:pt x="1588" y="1068"/>
                        </a:lnTo>
                        <a:lnTo>
                          <a:pt x="1588" y="1058"/>
                        </a:lnTo>
                        <a:lnTo>
                          <a:pt x="1583" y="1054"/>
                        </a:lnTo>
                        <a:lnTo>
                          <a:pt x="1583" y="1049"/>
                        </a:lnTo>
                        <a:lnTo>
                          <a:pt x="1583" y="1044"/>
                        </a:lnTo>
                        <a:lnTo>
                          <a:pt x="1578" y="1039"/>
                        </a:lnTo>
                        <a:lnTo>
                          <a:pt x="1578" y="1034"/>
                        </a:lnTo>
                        <a:lnTo>
                          <a:pt x="1578" y="1025"/>
                        </a:lnTo>
                        <a:lnTo>
                          <a:pt x="1573" y="1020"/>
                        </a:lnTo>
                        <a:lnTo>
                          <a:pt x="1573" y="1015"/>
                        </a:lnTo>
                        <a:lnTo>
                          <a:pt x="1573" y="1010"/>
                        </a:lnTo>
                        <a:lnTo>
                          <a:pt x="1569" y="1006"/>
                        </a:lnTo>
                        <a:lnTo>
                          <a:pt x="1569" y="1001"/>
                        </a:lnTo>
                        <a:lnTo>
                          <a:pt x="1564" y="991"/>
                        </a:lnTo>
                        <a:lnTo>
                          <a:pt x="1564" y="986"/>
                        </a:lnTo>
                        <a:lnTo>
                          <a:pt x="1559" y="982"/>
                        </a:lnTo>
                        <a:lnTo>
                          <a:pt x="1554" y="977"/>
                        </a:lnTo>
                        <a:lnTo>
                          <a:pt x="1554" y="972"/>
                        </a:lnTo>
                        <a:lnTo>
                          <a:pt x="1549" y="967"/>
                        </a:lnTo>
                        <a:lnTo>
                          <a:pt x="1545" y="967"/>
                        </a:lnTo>
                        <a:lnTo>
                          <a:pt x="1545" y="963"/>
                        </a:lnTo>
                        <a:lnTo>
                          <a:pt x="1540" y="958"/>
                        </a:lnTo>
                        <a:lnTo>
                          <a:pt x="1535" y="953"/>
                        </a:lnTo>
                        <a:lnTo>
                          <a:pt x="1530" y="948"/>
                        </a:lnTo>
                        <a:lnTo>
                          <a:pt x="1525" y="948"/>
                        </a:lnTo>
                        <a:lnTo>
                          <a:pt x="1521" y="943"/>
                        </a:lnTo>
                        <a:lnTo>
                          <a:pt x="1511" y="939"/>
                        </a:lnTo>
                        <a:lnTo>
                          <a:pt x="1506" y="939"/>
                        </a:lnTo>
                        <a:lnTo>
                          <a:pt x="1501" y="939"/>
                        </a:lnTo>
                        <a:lnTo>
                          <a:pt x="1497" y="934"/>
                        </a:lnTo>
                        <a:lnTo>
                          <a:pt x="1492" y="934"/>
                        </a:lnTo>
                        <a:lnTo>
                          <a:pt x="1487" y="934"/>
                        </a:lnTo>
                        <a:lnTo>
                          <a:pt x="1482" y="934"/>
                        </a:lnTo>
                        <a:lnTo>
                          <a:pt x="1477" y="934"/>
                        </a:lnTo>
                        <a:lnTo>
                          <a:pt x="1473" y="934"/>
                        </a:lnTo>
                        <a:lnTo>
                          <a:pt x="1468" y="929"/>
                        </a:lnTo>
                        <a:lnTo>
                          <a:pt x="1463" y="929"/>
                        </a:lnTo>
                        <a:lnTo>
                          <a:pt x="1458" y="929"/>
                        </a:lnTo>
                        <a:lnTo>
                          <a:pt x="1453" y="934"/>
                        </a:lnTo>
                        <a:lnTo>
                          <a:pt x="1449" y="934"/>
                        </a:lnTo>
                        <a:lnTo>
                          <a:pt x="1444" y="934"/>
                        </a:lnTo>
                        <a:lnTo>
                          <a:pt x="1439" y="934"/>
                        </a:lnTo>
                        <a:lnTo>
                          <a:pt x="1434" y="934"/>
                        </a:lnTo>
                        <a:lnTo>
                          <a:pt x="1430" y="934"/>
                        </a:lnTo>
                        <a:lnTo>
                          <a:pt x="1425" y="934"/>
                        </a:lnTo>
                        <a:lnTo>
                          <a:pt x="1420" y="939"/>
                        </a:lnTo>
                        <a:lnTo>
                          <a:pt x="1415" y="939"/>
                        </a:lnTo>
                        <a:lnTo>
                          <a:pt x="1410" y="939"/>
                        </a:lnTo>
                        <a:lnTo>
                          <a:pt x="1406" y="943"/>
                        </a:lnTo>
                        <a:lnTo>
                          <a:pt x="1401" y="943"/>
                        </a:lnTo>
                        <a:lnTo>
                          <a:pt x="1396" y="943"/>
                        </a:lnTo>
                        <a:lnTo>
                          <a:pt x="1396" y="948"/>
                        </a:lnTo>
                        <a:lnTo>
                          <a:pt x="1391" y="948"/>
                        </a:lnTo>
                        <a:lnTo>
                          <a:pt x="1386" y="953"/>
                        </a:lnTo>
                        <a:lnTo>
                          <a:pt x="1382" y="953"/>
                        </a:lnTo>
                        <a:lnTo>
                          <a:pt x="1377" y="958"/>
                        </a:lnTo>
                        <a:lnTo>
                          <a:pt x="1372" y="958"/>
                        </a:lnTo>
                        <a:lnTo>
                          <a:pt x="1367" y="963"/>
                        </a:lnTo>
                        <a:lnTo>
                          <a:pt x="1362" y="963"/>
                        </a:lnTo>
                        <a:lnTo>
                          <a:pt x="1358" y="967"/>
                        </a:lnTo>
                        <a:lnTo>
                          <a:pt x="1305" y="1020"/>
                        </a:lnTo>
                        <a:lnTo>
                          <a:pt x="1300" y="1010"/>
                        </a:lnTo>
                        <a:lnTo>
                          <a:pt x="1300" y="1006"/>
                        </a:lnTo>
                        <a:lnTo>
                          <a:pt x="1295" y="996"/>
                        </a:lnTo>
                        <a:lnTo>
                          <a:pt x="1295" y="986"/>
                        </a:lnTo>
                        <a:lnTo>
                          <a:pt x="1290" y="982"/>
                        </a:lnTo>
                        <a:lnTo>
                          <a:pt x="1286" y="972"/>
                        </a:lnTo>
                        <a:lnTo>
                          <a:pt x="1286" y="963"/>
                        </a:lnTo>
                        <a:lnTo>
                          <a:pt x="1281" y="958"/>
                        </a:lnTo>
                        <a:lnTo>
                          <a:pt x="1281" y="948"/>
                        </a:lnTo>
                        <a:lnTo>
                          <a:pt x="1276" y="939"/>
                        </a:lnTo>
                        <a:lnTo>
                          <a:pt x="1271" y="934"/>
                        </a:lnTo>
                        <a:lnTo>
                          <a:pt x="1271" y="924"/>
                        </a:lnTo>
                        <a:lnTo>
                          <a:pt x="1266" y="915"/>
                        </a:lnTo>
                        <a:lnTo>
                          <a:pt x="1266" y="910"/>
                        </a:lnTo>
                        <a:lnTo>
                          <a:pt x="1262" y="900"/>
                        </a:lnTo>
                        <a:lnTo>
                          <a:pt x="1257" y="896"/>
                        </a:lnTo>
                        <a:lnTo>
                          <a:pt x="1252" y="886"/>
                        </a:lnTo>
                        <a:lnTo>
                          <a:pt x="1247" y="881"/>
                        </a:lnTo>
                        <a:lnTo>
                          <a:pt x="1247" y="872"/>
                        </a:lnTo>
                        <a:lnTo>
                          <a:pt x="1242" y="867"/>
                        </a:lnTo>
                        <a:lnTo>
                          <a:pt x="1238" y="857"/>
                        </a:lnTo>
                        <a:lnTo>
                          <a:pt x="1233" y="852"/>
                        </a:lnTo>
                        <a:lnTo>
                          <a:pt x="1223" y="848"/>
                        </a:lnTo>
                        <a:lnTo>
                          <a:pt x="1218" y="838"/>
                        </a:lnTo>
                        <a:lnTo>
                          <a:pt x="1214" y="833"/>
                        </a:lnTo>
                        <a:lnTo>
                          <a:pt x="1209" y="828"/>
                        </a:lnTo>
                        <a:lnTo>
                          <a:pt x="1199" y="824"/>
                        </a:lnTo>
                        <a:lnTo>
                          <a:pt x="1194" y="819"/>
                        </a:lnTo>
                        <a:lnTo>
                          <a:pt x="1185" y="814"/>
                        </a:lnTo>
                        <a:lnTo>
                          <a:pt x="1180" y="809"/>
                        </a:lnTo>
                        <a:lnTo>
                          <a:pt x="1170" y="809"/>
                        </a:lnTo>
                        <a:lnTo>
                          <a:pt x="1161" y="805"/>
                        </a:lnTo>
                        <a:lnTo>
                          <a:pt x="1151" y="800"/>
                        </a:lnTo>
                        <a:lnTo>
                          <a:pt x="1142" y="795"/>
                        </a:lnTo>
                        <a:lnTo>
                          <a:pt x="1132" y="790"/>
                        </a:lnTo>
                        <a:lnTo>
                          <a:pt x="1127" y="785"/>
                        </a:lnTo>
                        <a:lnTo>
                          <a:pt x="1118" y="776"/>
                        </a:lnTo>
                        <a:lnTo>
                          <a:pt x="1108" y="771"/>
                        </a:lnTo>
                        <a:lnTo>
                          <a:pt x="1103" y="766"/>
                        </a:lnTo>
                        <a:lnTo>
                          <a:pt x="1094" y="757"/>
                        </a:lnTo>
                        <a:lnTo>
                          <a:pt x="1089" y="752"/>
                        </a:lnTo>
                        <a:lnTo>
                          <a:pt x="1084" y="742"/>
                        </a:lnTo>
                        <a:lnTo>
                          <a:pt x="1075" y="737"/>
                        </a:lnTo>
                        <a:lnTo>
                          <a:pt x="1070" y="728"/>
                        </a:lnTo>
                        <a:lnTo>
                          <a:pt x="1065" y="718"/>
                        </a:lnTo>
                        <a:lnTo>
                          <a:pt x="1055" y="714"/>
                        </a:lnTo>
                        <a:lnTo>
                          <a:pt x="1051" y="704"/>
                        </a:lnTo>
                        <a:lnTo>
                          <a:pt x="1046" y="694"/>
                        </a:lnTo>
                        <a:lnTo>
                          <a:pt x="1041" y="685"/>
                        </a:lnTo>
                        <a:lnTo>
                          <a:pt x="1036" y="680"/>
                        </a:lnTo>
                        <a:lnTo>
                          <a:pt x="1031" y="670"/>
                        </a:lnTo>
                        <a:lnTo>
                          <a:pt x="1027" y="661"/>
                        </a:lnTo>
                        <a:lnTo>
                          <a:pt x="1022" y="651"/>
                        </a:lnTo>
                        <a:lnTo>
                          <a:pt x="1017" y="642"/>
                        </a:lnTo>
                        <a:lnTo>
                          <a:pt x="1017" y="632"/>
                        </a:lnTo>
                        <a:lnTo>
                          <a:pt x="1012" y="623"/>
                        </a:lnTo>
                        <a:lnTo>
                          <a:pt x="1007" y="613"/>
                        </a:lnTo>
                        <a:lnTo>
                          <a:pt x="1007" y="603"/>
                        </a:lnTo>
                        <a:lnTo>
                          <a:pt x="1003" y="594"/>
                        </a:lnTo>
                        <a:lnTo>
                          <a:pt x="998" y="584"/>
                        </a:lnTo>
                        <a:lnTo>
                          <a:pt x="998" y="575"/>
                        </a:lnTo>
                        <a:lnTo>
                          <a:pt x="993" y="565"/>
                        </a:lnTo>
                        <a:lnTo>
                          <a:pt x="993" y="556"/>
                        </a:lnTo>
                        <a:lnTo>
                          <a:pt x="993" y="546"/>
                        </a:lnTo>
                        <a:lnTo>
                          <a:pt x="988" y="546"/>
                        </a:lnTo>
                        <a:lnTo>
                          <a:pt x="988" y="541"/>
                        </a:lnTo>
                        <a:lnTo>
                          <a:pt x="988" y="536"/>
                        </a:lnTo>
                        <a:lnTo>
                          <a:pt x="983" y="536"/>
                        </a:lnTo>
                        <a:lnTo>
                          <a:pt x="983" y="532"/>
                        </a:lnTo>
                        <a:lnTo>
                          <a:pt x="983" y="527"/>
                        </a:lnTo>
                        <a:lnTo>
                          <a:pt x="983" y="522"/>
                        </a:lnTo>
                        <a:lnTo>
                          <a:pt x="979" y="522"/>
                        </a:lnTo>
                        <a:lnTo>
                          <a:pt x="979" y="517"/>
                        </a:lnTo>
                        <a:lnTo>
                          <a:pt x="974" y="512"/>
                        </a:lnTo>
                        <a:lnTo>
                          <a:pt x="969" y="512"/>
                        </a:lnTo>
                        <a:lnTo>
                          <a:pt x="969" y="508"/>
                        </a:lnTo>
                        <a:lnTo>
                          <a:pt x="964" y="508"/>
                        </a:lnTo>
                        <a:lnTo>
                          <a:pt x="959" y="508"/>
                        </a:lnTo>
                        <a:lnTo>
                          <a:pt x="959" y="512"/>
                        </a:lnTo>
                        <a:lnTo>
                          <a:pt x="955" y="512"/>
                        </a:lnTo>
                        <a:lnTo>
                          <a:pt x="950" y="512"/>
                        </a:lnTo>
                        <a:lnTo>
                          <a:pt x="950" y="517"/>
                        </a:lnTo>
                        <a:lnTo>
                          <a:pt x="945" y="517"/>
                        </a:lnTo>
                        <a:lnTo>
                          <a:pt x="940" y="517"/>
                        </a:lnTo>
                        <a:lnTo>
                          <a:pt x="940" y="522"/>
                        </a:lnTo>
                        <a:lnTo>
                          <a:pt x="940" y="527"/>
                        </a:lnTo>
                        <a:lnTo>
                          <a:pt x="935" y="527"/>
                        </a:lnTo>
                        <a:lnTo>
                          <a:pt x="935" y="532"/>
                        </a:lnTo>
                        <a:lnTo>
                          <a:pt x="935" y="536"/>
                        </a:lnTo>
                        <a:lnTo>
                          <a:pt x="931" y="541"/>
                        </a:lnTo>
                        <a:lnTo>
                          <a:pt x="931" y="551"/>
                        </a:lnTo>
                        <a:lnTo>
                          <a:pt x="931" y="556"/>
                        </a:lnTo>
                        <a:lnTo>
                          <a:pt x="931" y="560"/>
                        </a:lnTo>
                        <a:lnTo>
                          <a:pt x="926" y="570"/>
                        </a:lnTo>
                        <a:lnTo>
                          <a:pt x="926" y="575"/>
                        </a:lnTo>
                        <a:lnTo>
                          <a:pt x="926" y="579"/>
                        </a:lnTo>
                        <a:lnTo>
                          <a:pt x="926" y="589"/>
                        </a:lnTo>
                        <a:lnTo>
                          <a:pt x="926" y="594"/>
                        </a:lnTo>
                        <a:lnTo>
                          <a:pt x="926" y="603"/>
                        </a:lnTo>
                        <a:lnTo>
                          <a:pt x="926" y="608"/>
                        </a:lnTo>
                        <a:lnTo>
                          <a:pt x="926" y="613"/>
                        </a:lnTo>
                        <a:lnTo>
                          <a:pt x="926" y="623"/>
                        </a:lnTo>
                        <a:lnTo>
                          <a:pt x="926" y="627"/>
                        </a:lnTo>
                        <a:lnTo>
                          <a:pt x="926" y="637"/>
                        </a:lnTo>
                        <a:lnTo>
                          <a:pt x="926" y="642"/>
                        </a:lnTo>
                        <a:lnTo>
                          <a:pt x="931" y="647"/>
                        </a:lnTo>
                        <a:lnTo>
                          <a:pt x="931" y="656"/>
                        </a:lnTo>
                        <a:lnTo>
                          <a:pt x="931" y="661"/>
                        </a:lnTo>
                        <a:lnTo>
                          <a:pt x="931" y="670"/>
                        </a:lnTo>
                        <a:lnTo>
                          <a:pt x="931" y="675"/>
                        </a:lnTo>
                        <a:lnTo>
                          <a:pt x="931" y="680"/>
                        </a:lnTo>
                        <a:lnTo>
                          <a:pt x="935" y="690"/>
                        </a:lnTo>
                        <a:lnTo>
                          <a:pt x="935" y="694"/>
                        </a:lnTo>
                        <a:lnTo>
                          <a:pt x="935" y="699"/>
                        </a:lnTo>
                        <a:lnTo>
                          <a:pt x="935" y="709"/>
                        </a:lnTo>
                        <a:lnTo>
                          <a:pt x="935" y="714"/>
                        </a:lnTo>
                        <a:lnTo>
                          <a:pt x="935" y="718"/>
                        </a:lnTo>
                        <a:lnTo>
                          <a:pt x="940" y="728"/>
                        </a:lnTo>
                        <a:lnTo>
                          <a:pt x="940" y="733"/>
                        </a:lnTo>
                        <a:lnTo>
                          <a:pt x="940" y="737"/>
                        </a:lnTo>
                        <a:lnTo>
                          <a:pt x="940" y="742"/>
                        </a:lnTo>
                        <a:lnTo>
                          <a:pt x="940" y="747"/>
                        </a:lnTo>
                        <a:lnTo>
                          <a:pt x="945" y="747"/>
                        </a:lnTo>
                        <a:lnTo>
                          <a:pt x="945" y="752"/>
                        </a:lnTo>
                        <a:lnTo>
                          <a:pt x="945" y="757"/>
                        </a:lnTo>
                        <a:lnTo>
                          <a:pt x="945" y="761"/>
                        </a:lnTo>
                        <a:lnTo>
                          <a:pt x="940" y="757"/>
                        </a:lnTo>
                        <a:lnTo>
                          <a:pt x="935" y="757"/>
                        </a:lnTo>
                        <a:lnTo>
                          <a:pt x="931" y="757"/>
                        </a:lnTo>
                        <a:lnTo>
                          <a:pt x="926" y="752"/>
                        </a:lnTo>
                        <a:lnTo>
                          <a:pt x="921" y="752"/>
                        </a:lnTo>
                        <a:lnTo>
                          <a:pt x="916" y="752"/>
                        </a:lnTo>
                        <a:lnTo>
                          <a:pt x="907" y="747"/>
                        </a:lnTo>
                        <a:lnTo>
                          <a:pt x="902" y="747"/>
                        </a:lnTo>
                        <a:lnTo>
                          <a:pt x="897" y="747"/>
                        </a:lnTo>
                        <a:lnTo>
                          <a:pt x="892" y="742"/>
                        </a:lnTo>
                        <a:lnTo>
                          <a:pt x="887" y="742"/>
                        </a:lnTo>
                        <a:lnTo>
                          <a:pt x="883" y="737"/>
                        </a:lnTo>
                        <a:lnTo>
                          <a:pt x="878" y="737"/>
                        </a:lnTo>
                        <a:lnTo>
                          <a:pt x="873" y="733"/>
                        </a:lnTo>
                        <a:lnTo>
                          <a:pt x="868" y="728"/>
                        </a:lnTo>
                        <a:lnTo>
                          <a:pt x="863" y="728"/>
                        </a:lnTo>
                        <a:lnTo>
                          <a:pt x="859" y="723"/>
                        </a:lnTo>
                        <a:lnTo>
                          <a:pt x="859" y="718"/>
                        </a:lnTo>
                        <a:lnTo>
                          <a:pt x="854" y="718"/>
                        </a:lnTo>
                        <a:lnTo>
                          <a:pt x="849" y="714"/>
                        </a:lnTo>
                        <a:lnTo>
                          <a:pt x="844" y="709"/>
                        </a:lnTo>
                        <a:lnTo>
                          <a:pt x="839" y="704"/>
                        </a:lnTo>
                        <a:lnTo>
                          <a:pt x="835" y="704"/>
                        </a:lnTo>
                        <a:lnTo>
                          <a:pt x="830" y="699"/>
                        </a:lnTo>
                        <a:lnTo>
                          <a:pt x="825" y="694"/>
                        </a:lnTo>
                        <a:lnTo>
                          <a:pt x="825" y="690"/>
                        </a:lnTo>
                        <a:lnTo>
                          <a:pt x="820" y="685"/>
                        </a:lnTo>
                        <a:lnTo>
                          <a:pt x="815" y="680"/>
                        </a:lnTo>
                        <a:lnTo>
                          <a:pt x="815" y="675"/>
                        </a:lnTo>
                        <a:lnTo>
                          <a:pt x="811" y="670"/>
                        </a:lnTo>
                        <a:lnTo>
                          <a:pt x="806" y="666"/>
                        </a:lnTo>
                        <a:lnTo>
                          <a:pt x="806" y="661"/>
                        </a:lnTo>
                        <a:lnTo>
                          <a:pt x="801" y="656"/>
                        </a:lnTo>
                        <a:lnTo>
                          <a:pt x="801" y="651"/>
                        </a:lnTo>
                        <a:lnTo>
                          <a:pt x="801" y="647"/>
                        </a:lnTo>
                        <a:lnTo>
                          <a:pt x="796" y="642"/>
                        </a:lnTo>
                        <a:lnTo>
                          <a:pt x="796" y="637"/>
                        </a:lnTo>
                        <a:lnTo>
                          <a:pt x="791" y="632"/>
                        </a:lnTo>
                        <a:lnTo>
                          <a:pt x="791" y="627"/>
                        </a:lnTo>
                        <a:lnTo>
                          <a:pt x="791" y="623"/>
                        </a:lnTo>
                        <a:lnTo>
                          <a:pt x="787" y="623"/>
                        </a:lnTo>
                        <a:lnTo>
                          <a:pt x="787" y="618"/>
                        </a:lnTo>
                        <a:lnTo>
                          <a:pt x="787" y="613"/>
                        </a:lnTo>
                        <a:lnTo>
                          <a:pt x="782" y="608"/>
                        </a:lnTo>
                        <a:lnTo>
                          <a:pt x="782" y="603"/>
                        </a:lnTo>
                        <a:lnTo>
                          <a:pt x="782" y="599"/>
                        </a:lnTo>
                        <a:lnTo>
                          <a:pt x="777" y="594"/>
                        </a:lnTo>
                        <a:lnTo>
                          <a:pt x="777" y="589"/>
                        </a:lnTo>
                        <a:lnTo>
                          <a:pt x="777" y="584"/>
                        </a:lnTo>
                        <a:lnTo>
                          <a:pt x="777" y="579"/>
                        </a:lnTo>
                        <a:lnTo>
                          <a:pt x="777" y="575"/>
                        </a:lnTo>
                        <a:lnTo>
                          <a:pt x="777" y="570"/>
                        </a:lnTo>
                        <a:lnTo>
                          <a:pt x="777" y="565"/>
                        </a:lnTo>
                        <a:lnTo>
                          <a:pt x="777" y="560"/>
                        </a:lnTo>
                        <a:lnTo>
                          <a:pt x="772" y="560"/>
                        </a:lnTo>
                        <a:lnTo>
                          <a:pt x="772" y="556"/>
                        </a:lnTo>
                        <a:lnTo>
                          <a:pt x="772" y="551"/>
                        </a:lnTo>
                        <a:lnTo>
                          <a:pt x="768" y="551"/>
                        </a:lnTo>
                        <a:lnTo>
                          <a:pt x="763" y="546"/>
                        </a:lnTo>
                        <a:lnTo>
                          <a:pt x="758" y="546"/>
                        </a:lnTo>
                        <a:lnTo>
                          <a:pt x="753" y="541"/>
                        </a:lnTo>
                        <a:lnTo>
                          <a:pt x="748" y="541"/>
                        </a:lnTo>
                        <a:lnTo>
                          <a:pt x="744" y="541"/>
                        </a:lnTo>
                        <a:lnTo>
                          <a:pt x="739" y="536"/>
                        </a:lnTo>
                        <a:lnTo>
                          <a:pt x="734" y="536"/>
                        </a:lnTo>
                        <a:lnTo>
                          <a:pt x="734" y="541"/>
                        </a:lnTo>
                        <a:lnTo>
                          <a:pt x="729" y="541"/>
                        </a:lnTo>
                        <a:lnTo>
                          <a:pt x="724" y="546"/>
                        </a:lnTo>
                        <a:lnTo>
                          <a:pt x="724" y="551"/>
                        </a:lnTo>
                        <a:lnTo>
                          <a:pt x="720" y="551"/>
                        </a:lnTo>
                        <a:lnTo>
                          <a:pt x="720" y="556"/>
                        </a:lnTo>
                        <a:lnTo>
                          <a:pt x="720" y="560"/>
                        </a:lnTo>
                        <a:lnTo>
                          <a:pt x="715" y="560"/>
                        </a:lnTo>
                        <a:lnTo>
                          <a:pt x="715" y="565"/>
                        </a:lnTo>
                        <a:lnTo>
                          <a:pt x="715" y="570"/>
                        </a:lnTo>
                        <a:lnTo>
                          <a:pt x="715" y="575"/>
                        </a:lnTo>
                        <a:lnTo>
                          <a:pt x="715" y="579"/>
                        </a:lnTo>
                        <a:lnTo>
                          <a:pt x="715" y="584"/>
                        </a:lnTo>
                        <a:lnTo>
                          <a:pt x="715" y="589"/>
                        </a:lnTo>
                        <a:lnTo>
                          <a:pt x="715" y="594"/>
                        </a:lnTo>
                        <a:lnTo>
                          <a:pt x="715" y="599"/>
                        </a:lnTo>
                        <a:lnTo>
                          <a:pt x="715" y="603"/>
                        </a:lnTo>
                        <a:lnTo>
                          <a:pt x="715" y="608"/>
                        </a:lnTo>
                        <a:lnTo>
                          <a:pt x="715" y="613"/>
                        </a:lnTo>
                        <a:lnTo>
                          <a:pt x="715" y="618"/>
                        </a:lnTo>
                        <a:lnTo>
                          <a:pt x="715" y="623"/>
                        </a:lnTo>
                        <a:lnTo>
                          <a:pt x="715" y="627"/>
                        </a:lnTo>
                        <a:lnTo>
                          <a:pt x="715" y="632"/>
                        </a:lnTo>
                        <a:lnTo>
                          <a:pt x="715" y="637"/>
                        </a:lnTo>
                        <a:lnTo>
                          <a:pt x="715" y="642"/>
                        </a:lnTo>
                        <a:lnTo>
                          <a:pt x="715" y="651"/>
                        </a:lnTo>
                        <a:lnTo>
                          <a:pt x="715" y="656"/>
                        </a:lnTo>
                        <a:lnTo>
                          <a:pt x="715" y="661"/>
                        </a:lnTo>
                        <a:lnTo>
                          <a:pt x="715" y="666"/>
                        </a:lnTo>
                        <a:lnTo>
                          <a:pt x="715" y="670"/>
                        </a:lnTo>
                        <a:lnTo>
                          <a:pt x="715" y="680"/>
                        </a:lnTo>
                        <a:lnTo>
                          <a:pt x="715" y="685"/>
                        </a:lnTo>
                        <a:lnTo>
                          <a:pt x="715" y="690"/>
                        </a:lnTo>
                        <a:lnTo>
                          <a:pt x="715" y="694"/>
                        </a:lnTo>
                        <a:lnTo>
                          <a:pt x="715" y="699"/>
                        </a:lnTo>
                        <a:lnTo>
                          <a:pt x="715" y="709"/>
                        </a:lnTo>
                        <a:lnTo>
                          <a:pt x="715" y="714"/>
                        </a:lnTo>
                        <a:lnTo>
                          <a:pt x="715" y="718"/>
                        </a:lnTo>
                        <a:lnTo>
                          <a:pt x="715" y="723"/>
                        </a:lnTo>
                        <a:lnTo>
                          <a:pt x="715" y="728"/>
                        </a:lnTo>
                        <a:lnTo>
                          <a:pt x="720" y="737"/>
                        </a:lnTo>
                        <a:lnTo>
                          <a:pt x="720" y="742"/>
                        </a:lnTo>
                        <a:lnTo>
                          <a:pt x="720" y="747"/>
                        </a:lnTo>
                        <a:lnTo>
                          <a:pt x="720" y="752"/>
                        </a:lnTo>
                        <a:lnTo>
                          <a:pt x="720" y="757"/>
                        </a:lnTo>
                        <a:lnTo>
                          <a:pt x="720" y="761"/>
                        </a:lnTo>
                        <a:lnTo>
                          <a:pt x="724" y="771"/>
                        </a:lnTo>
                        <a:lnTo>
                          <a:pt x="724" y="776"/>
                        </a:lnTo>
                        <a:lnTo>
                          <a:pt x="724" y="781"/>
                        </a:lnTo>
                        <a:lnTo>
                          <a:pt x="729" y="785"/>
                        </a:lnTo>
                        <a:lnTo>
                          <a:pt x="729" y="790"/>
                        </a:lnTo>
                        <a:lnTo>
                          <a:pt x="729" y="795"/>
                        </a:lnTo>
                        <a:lnTo>
                          <a:pt x="724" y="795"/>
                        </a:lnTo>
                        <a:lnTo>
                          <a:pt x="715" y="795"/>
                        </a:lnTo>
                        <a:lnTo>
                          <a:pt x="710" y="790"/>
                        </a:lnTo>
                        <a:lnTo>
                          <a:pt x="700" y="790"/>
                        </a:lnTo>
                        <a:lnTo>
                          <a:pt x="696" y="785"/>
                        </a:lnTo>
                        <a:lnTo>
                          <a:pt x="686" y="785"/>
                        </a:lnTo>
                        <a:lnTo>
                          <a:pt x="681" y="781"/>
                        </a:lnTo>
                        <a:lnTo>
                          <a:pt x="672" y="781"/>
                        </a:lnTo>
                        <a:lnTo>
                          <a:pt x="667" y="776"/>
                        </a:lnTo>
                        <a:lnTo>
                          <a:pt x="657" y="776"/>
                        </a:lnTo>
                        <a:lnTo>
                          <a:pt x="652" y="771"/>
                        </a:lnTo>
                        <a:lnTo>
                          <a:pt x="643" y="766"/>
                        </a:lnTo>
                        <a:lnTo>
                          <a:pt x="638" y="761"/>
                        </a:lnTo>
                        <a:lnTo>
                          <a:pt x="633" y="757"/>
                        </a:lnTo>
                        <a:lnTo>
                          <a:pt x="624" y="752"/>
                        </a:lnTo>
                        <a:lnTo>
                          <a:pt x="619" y="747"/>
                        </a:lnTo>
                        <a:lnTo>
                          <a:pt x="614" y="742"/>
                        </a:lnTo>
                        <a:lnTo>
                          <a:pt x="604" y="737"/>
                        </a:lnTo>
                        <a:lnTo>
                          <a:pt x="600" y="733"/>
                        </a:lnTo>
                        <a:lnTo>
                          <a:pt x="595" y="728"/>
                        </a:lnTo>
                        <a:lnTo>
                          <a:pt x="590" y="723"/>
                        </a:lnTo>
                        <a:lnTo>
                          <a:pt x="580" y="718"/>
                        </a:lnTo>
                        <a:lnTo>
                          <a:pt x="576" y="714"/>
                        </a:lnTo>
                        <a:lnTo>
                          <a:pt x="571" y="709"/>
                        </a:lnTo>
                        <a:lnTo>
                          <a:pt x="566" y="699"/>
                        </a:lnTo>
                        <a:lnTo>
                          <a:pt x="561" y="694"/>
                        </a:lnTo>
                        <a:lnTo>
                          <a:pt x="556" y="690"/>
                        </a:lnTo>
                        <a:lnTo>
                          <a:pt x="552" y="685"/>
                        </a:lnTo>
                        <a:lnTo>
                          <a:pt x="547" y="680"/>
                        </a:lnTo>
                        <a:lnTo>
                          <a:pt x="542" y="670"/>
                        </a:lnTo>
                        <a:lnTo>
                          <a:pt x="537" y="666"/>
                        </a:lnTo>
                        <a:lnTo>
                          <a:pt x="532" y="661"/>
                        </a:lnTo>
                        <a:lnTo>
                          <a:pt x="532" y="656"/>
                        </a:lnTo>
                        <a:lnTo>
                          <a:pt x="528" y="656"/>
                        </a:lnTo>
                        <a:lnTo>
                          <a:pt x="528" y="651"/>
                        </a:lnTo>
                        <a:lnTo>
                          <a:pt x="528" y="647"/>
                        </a:lnTo>
                        <a:lnTo>
                          <a:pt x="523" y="647"/>
                        </a:lnTo>
                        <a:lnTo>
                          <a:pt x="523" y="642"/>
                        </a:lnTo>
                        <a:lnTo>
                          <a:pt x="523" y="637"/>
                        </a:lnTo>
                        <a:lnTo>
                          <a:pt x="523" y="632"/>
                        </a:lnTo>
                        <a:lnTo>
                          <a:pt x="518" y="632"/>
                        </a:lnTo>
                        <a:lnTo>
                          <a:pt x="518" y="627"/>
                        </a:lnTo>
                        <a:lnTo>
                          <a:pt x="518" y="623"/>
                        </a:lnTo>
                        <a:lnTo>
                          <a:pt x="518" y="618"/>
                        </a:lnTo>
                        <a:lnTo>
                          <a:pt x="518" y="613"/>
                        </a:lnTo>
                        <a:lnTo>
                          <a:pt x="513" y="613"/>
                        </a:lnTo>
                        <a:lnTo>
                          <a:pt x="513" y="608"/>
                        </a:lnTo>
                        <a:lnTo>
                          <a:pt x="513" y="603"/>
                        </a:lnTo>
                        <a:lnTo>
                          <a:pt x="513" y="599"/>
                        </a:lnTo>
                        <a:lnTo>
                          <a:pt x="513" y="594"/>
                        </a:lnTo>
                        <a:lnTo>
                          <a:pt x="513" y="589"/>
                        </a:lnTo>
                        <a:lnTo>
                          <a:pt x="513" y="584"/>
                        </a:lnTo>
                        <a:lnTo>
                          <a:pt x="508" y="584"/>
                        </a:lnTo>
                        <a:lnTo>
                          <a:pt x="508" y="579"/>
                        </a:lnTo>
                        <a:lnTo>
                          <a:pt x="508" y="575"/>
                        </a:lnTo>
                        <a:lnTo>
                          <a:pt x="508" y="570"/>
                        </a:lnTo>
                        <a:lnTo>
                          <a:pt x="508" y="565"/>
                        </a:lnTo>
                        <a:lnTo>
                          <a:pt x="494" y="551"/>
                        </a:lnTo>
                        <a:lnTo>
                          <a:pt x="489" y="551"/>
                        </a:lnTo>
                        <a:lnTo>
                          <a:pt x="489" y="546"/>
                        </a:lnTo>
                        <a:lnTo>
                          <a:pt x="484" y="546"/>
                        </a:lnTo>
                        <a:lnTo>
                          <a:pt x="480" y="546"/>
                        </a:lnTo>
                        <a:lnTo>
                          <a:pt x="475" y="546"/>
                        </a:lnTo>
                        <a:lnTo>
                          <a:pt x="470" y="546"/>
                        </a:lnTo>
                        <a:lnTo>
                          <a:pt x="465" y="546"/>
                        </a:lnTo>
                        <a:lnTo>
                          <a:pt x="465" y="551"/>
                        </a:lnTo>
                        <a:lnTo>
                          <a:pt x="460" y="551"/>
                        </a:lnTo>
                        <a:lnTo>
                          <a:pt x="456" y="556"/>
                        </a:lnTo>
                        <a:lnTo>
                          <a:pt x="456" y="560"/>
                        </a:lnTo>
                        <a:lnTo>
                          <a:pt x="451" y="565"/>
                        </a:lnTo>
                        <a:lnTo>
                          <a:pt x="451" y="570"/>
                        </a:lnTo>
                        <a:lnTo>
                          <a:pt x="446" y="575"/>
                        </a:lnTo>
                        <a:lnTo>
                          <a:pt x="446" y="584"/>
                        </a:lnTo>
                        <a:lnTo>
                          <a:pt x="446" y="589"/>
                        </a:lnTo>
                        <a:lnTo>
                          <a:pt x="441" y="594"/>
                        </a:lnTo>
                        <a:lnTo>
                          <a:pt x="441" y="599"/>
                        </a:lnTo>
                        <a:lnTo>
                          <a:pt x="441" y="608"/>
                        </a:lnTo>
                        <a:lnTo>
                          <a:pt x="441" y="613"/>
                        </a:lnTo>
                        <a:lnTo>
                          <a:pt x="441" y="618"/>
                        </a:lnTo>
                        <a:lnTo>
                          <a:pt x="441" y="623"/>
                        </a:lnTo>
                        <a:lnTo>
                          <a:pt x="441" y="632"/>
                        </a:lnTo>
                        <a:lnTo>
                          <a:pt x="441" y="637"/>
                        </a:lnTo>
                        <a:lnTo>
                          <a:pt x="441" y="642"/>
                        </a:lnTo>
                        <a:lnTo>
                          <a:pt x="441" y="651"/>
                        </a:lnTo>
                        <a:lnTo>
                          <a:pt x="441" y="656"/>
                        </a:lnTo>
                        <a:lnTo>
                          <a:pt x="441" y="661"/>
                        </a:lnTo>
                        <a:lnTo>
                          <a:pt x="446" y="670"/>
                        </a:lnTo>
                        <a:lnTo>
                          <a:pt x="446" y="675"/>
                        </a:lnTo>
                        <a:lnTo>
                          <a:pt x="446" y="680"/>
                        </a:lnTo>
                        <a:lnTo>
                          <a:pt x="446" y="690"/>
                        </a:lnTo>
                        <a:lnTo>
                          <a:pt x="446" y="694"/>
                        </a:lnTo>
                        <a:lnTo>
                          <a:pt x="446" y="699"/>
                        </a:lnTo>
                        <a:lnTo>
                          <a:pt x="451" y="709"/>
                        </a:lnTo>
                        <a:lnTo>
                          <a:pt x="451" y="714"/>
                        </a:lnTo>
                        <a:lnTo>
                          <a:pt x="451" y="718"/>
                        </a:lnTo>
                        <a:lnTo>
                          <a:pt x="451" y="723"/>
                        </a:lnTo>
                        <a:lnTo>
                          <a:pt x="451" y="733"/>
                        </a:lnTo>
                        <a:lnTo>
                          <a:pt x="451" y="737"/>
                        </a:lnTo>
                        <a:lnTo>
                          <a:pt x="451" y="742"/>
                        </a:lnTo>
                        <a:lnTo>
                          <a:pt x="451" y="747"/>
                        </a:lnTo>
                        <a:lnTo>
                          <a:pt x="456" y="752"/>
                        </a:lnTo>
                        <a:lnTo>
                          <a:pt x="456" y="757"/>
                        </a:lnTo>
                        <a:lnTo>
                          <a:pt x="456" y="761"/>
                        </a:lnTo>
                        <a:lnTo>
                          <a:pt x="456" y="766"/>
                        </a:lnTo>
                        <a:lnTo>
                          <a:pt x="456" y="771"/>
                        </a:lnTo>
                        <a:lnTo>
                          <a:pt x="456" y="776"/>
                        </a:lnTo>
                        <a:lnTo>
                          <a:pt x="460" y="781"/>
                        </a:lnTo>
                        <a:lnTo>
                          <a:pt x="460" y="785"/>
                        </a:lnTo>
                        <a:lnTo>
                          <a:pt x="460" y="790"/>
                        </a:lnTo>
                        <a:lnTo>
                          <a:pt x="460" y="795"/>
                        </a:lnTo>
                        <a:lnTo>
                          <a:pt x="460" y="800"/>
                        </a:lnTo>
                        <a:lnTo>
                          <a:pt x="465" y="800"/>
                        </a:lnTo>
                        <a:lnTo>
                          <a:pt x="465" y="805"/>
                        </a:lnTo>
                        <a:lnTo>
                          <a:pt x="465" y="809"/>
                        </a:lnTo>
                        <a:lnTo>
                          <a:pt x="465" y="814"/>
                        </a:lnTo>
                        <a:lnTo>
                          <a:pt x="465" y="819"/>
                        </a:lnTo>
                        <a:lnTo>
                          <a:pt x="470" y="819"/>
                        </a:lnTo>
                        <a:lnTo>
                          <a:pt x="470" y="824"/>
                        </a:lnTo>
                        <a:lnTo>
                          <a:pt x="470" y="828"/>
                        </a:lnTo>
                        <a:lnTo>
                          <a:pt x="470" y="833"/>
                        </a:lnTo>
                        <a:lnTo>
                          <a:pt x="475" y="838"/>
                        </a:lnTo>
                        <a:lnTo>
                          <a:pt x="475" y="843"/>
                        </a:lnTo>
                        <a:lnTo>
                          <a:pt x="475" y="848"/>
                        </a:lnTo>
                        <a:lnTo>
                          <a:pt x="480" y="848"/>
                        </a:lnTo>
                        <a:lnTo>
                          <a:pt x="480" y="852"/>
                        </a:lnTo>
                        <a:lnTo>
                          <a:pt x="475" y="852"/>
                        </a:lnTo>
                        <a:lnTo>
                          <a:pt x="465" y="848"/>
                        </a:lnTo>
                        <a:lnTo>
                          <a:pt x="460" y="848"/>
                        </a:lnTo>
                        <a:lnTo>
                          <a:pt x="456" y="843"/>
                        </a:lnTo>
                        <a:lnTo>
                          <a:pt x="446" y="843"/>
                        </a:lnTo>
                        <a:lnTo>
                          <a:pt x="441" y="843"/>
                        </a:lnTo>
                        <a:lnTo>
                          <a:pt x="437" y="838"/>
                        </a:lnTo>
                        <a:lnTo>
                          <a:pt x="432" y="838"/>
                        </a:lnTo>
                        <a:lnTo>
                          <a:pt x="422" y="833"/>
                        </a:lnTo>
                        <a:lnTo>
                          <a:pt x="417" y="833"/>
                        </a:lnTo>
                        <a:lnTo>
                          <a:pt x="413" y="828"/>
                        </a:lnTo>
                        <a:lnTo>
                          <a:pt x="408" y="828"/>
                        </a:lnTo>
                        <a:lnTo>
                          <a:pt x="403" y="824"/>
                        </a:lnTo>
                        <a:lnTo>
                          <a:pt x="393" y="819"/>
                        </a:lnTo>
                        <a:lnTo>
                          <a:pt x="389" y="819"/>
                        </a:lnTo>
                        <a:lnTo>
                          <a:pt x="384" y="814"/>
                        </a:lnTo>
                        <a:lnTo>
                          <a:pt x="379" y="809"/>
                        </a:lnTo>
                        <a:lnTo>
                          <a:pt x="374" y="809"/>
                        </a:lnTo>
                        <a:lnTo>
                          <a:pt x="369" y="805"/>
                        </a:lnTo>
                        <a:lnTo>
                          <a:pt x="365" y="800"/>
                        </a:lnTo>
                        <a:lnTo>
                          <a:pt x="355" y="795"/>
                        </a:lnTo>
                        <a:lnTo>
                          <a:pt x="350" y="795"/>
                        </a:lnTo>
                        <a:lnTo>
                          <a:pt x="345" y="790"/>
                        </a:lnTo>
                        <a:lnTo>
                          <a:pt x="341" y="785"/>
                        </a:lnTo>
                        <a:lnTo>
                          <a:pt x="336" y="781"/>
                        </a:lnTo>
                        <a:lnTo>
                          <a:pt x="331" y="776"/>
                        </a:lnTo>
                        <a:lnTo>
                          <a:pt x="326" y="771"/>
                        </a:lnTo>
                        <a:lnTo>
                          <a:pt x="321" y="766"/>
                        </a:lnTo>
                        <a:lnTo>
                          <a:pt x="317" y="761"/>
                        </a:lnTo>
                        <a:lnTo>
                          <a:pt x="317" y="757"/>
                        </a:lnTo>
                        <a:lnTo>
                          <a:pt x="312" y="752"/>
                        </a:lnTo>
                        <a:lnTo>
                          <a:pt x="307" y="742"/>
                        </a:lnTo>
                        <a:lnTo>
                          <a:pt x="302" y="737"/>
                        </a:lnTo>
                        <a:lnTo>
                          <a:pt x="302" y="733"/>
                        </a:lnTo>
                        <a:lnTo>
                          <a:pt x="297" y="728"/>
                        </a:lnTo>
                        <a:lnTo>
                          <a:pt x="297" y="723"/>
                        </a:lnTo>
                        <a:lnTo>
                          <a:pt x="297" y="718"/>
                        </a:lnTo>
                        <a:lnTo>
                          <a:pt x="293" y="714"/>
                        </a:lnTo>
                        <a:lnTo>
                          <a:pt x="293" y="709"/>
                        </a:lnTo>
                        <a:lnTo>
                          <a:pt x="293" y="704"/>
                        </a:lnTo>
                        <a:lnTo>
                          <a:pt x="288" y="699"/>
                        </a:lnTo>
                        <a:lnTo>
                          <a:pt x="288" y="694"/>
                        </a:lnTo>
                        <a:lnTo>
                          <a:pt x="283" y="690"/>
                        </a:lnTo>
                        <a:lnTo>
                          <a:pt x="283" y="685"/>
                        </a:lnTo>
                        <a:lnTo>
                          <a:pt x="283" y="680"/>
                        </a:lnTo>
                        <a:lnTo>
                          <a:pt x="283" y="675"/>
                        </a:lnTo>
                        <a:lnTo>
                          <a:pt x="278" y="670"/>
                        </a:lnTo>
                        <a:lnTo>
                          <a:pt x="278" y="666"/>
                        </a:lnTo>
                        <a:lnTo>
                          <a:pt x="278" y="661"/>
                        </a:lnTo>
                        <a:lnTo>
                          <a:pt x="278" y="656"/>
                        </a:lnTo>
                        <a:lnTo>
                          <a:pt x="278" y="651"/>
                        </a:lnTo>
                        <a:lnTo>
                          <a:pt x="278" y="647"/>
                        </a:lnTo>
                        <a:lnTo>
                          <a:pt x="273" y="642"/>
                        </a:lnTo>
                        <a:lnTo>
                          <a:pt x="273" y="637"/>
                        </a:lnTo>
                        <a:lnTo>
                          <a:pt x="273" y="632"/>
                        </a:lnTo>
                        <a:lnTo>
                          <a:pt x="273" y="627"/>
                        </a:lnTo>
                        <a:lnTo>
                          <a:pt x="273" y="623"/>
                        </a:lnTo>
                        <a:lnTo>
                          <a:pt x="273" y="618"/>
                        </a:lnTo>
                        <a:lnTo>
                          <a:pt x="273" y="613"/>
                        </a:lnTo>
                        <a:lnTo>
                          <a:pt x="273" y="608"/>
                        </a:lnTo>
                        <a:lnTo>
                          <a:pt x="273" y="603"/>
                        </a:lnTo>
                        <a:lnTo>
                          <a:pt x="273" y="599"/>
                        </a:lnTo>
                        <a:lnTo>
                          <a:pt x="269" y="594"/>
                        </a:lnTo>
                        <a:lnTo>
                          <a:pt x="269" y="589"/>
                        </a:lnTo>
                        <a:lnTo>
                          <a:pt x="264" y="589"/>
                        </a:lnTo>
                        <a:lnTo>
                          <a:pt x="259" y="589"/>
                        </a:lnTo>
                        <a:lnTo>
                          <a:pt x="259" y="584"/>
                        </a:lnTo>
                        <a:lnTo>
                          <a:pt x="254" y="584"/>
                        </a:lnTo>
                        <a:lnTo>
                          <a:pt x="249" y="584"/>
                        </a:lnTo>
                        <a:lnTo>
                          <a:pt x="245" y="584"/>
                        </a:lnTo>
                        <a:lnTo>
                          <a:pt x="240" y="584"/>
                        </a:lnTo>
                        <a:lnTo>
                          <a:pt x="240" y="589"/>
                        </a:lnTo>
                        <a:lnTo>
                          <a:pt x="235" y="589"/>
                        </a:lnTo>
                        <a:lnTo>
                          <a:pt x="235" y="594"/>
                        </a:lnTo>
                        <a:lnTo>
                          <a:pt x="230" y="599"/>
                        </a:lnTo>
                        <a:lnTo>
                          <a:pt x="230" y="603"/>
                        </a:lnTo>
                        <a:lnTo>
                          <a:pt x="230" y="608"/>
                        </a:lnTo>
                        <a:lnTo>
                          <a:pt x="225" y="613"/>
                        </a:lnTo>
                        <a:lnTo>
                          <a:pt x="225" y="618"/>
                        </a:lnTo>
                        <a:lnTo>
                          <a:pt x="225" y="623"/>
                        </a:lnTo>
                        <a:lnTo>
                          <a:pt x="225" y="627"/>
                        </a:lnTo>
                        <a:lnTo>
                          <a:pt x="225" y="632"/>
                        </a:lnTo>
                        <a:lnTo>
                          <a:pt x="225" y="637"/>
                        </a:lnTo>
                        <a:lnTo>
                          <a:pt x="225" y="642"/>
                        </a:lnTo>
                        <a:lnTo>
                          <a:pt x="230" y="642"/>
                        </a:lnTo>
                        <a:lnTo>
                          <a:pt x="230" y="647"/>
                        </a:lnTo>
                        <a:lnTo>
                          <a:pt x="230" y="651"/>
                        </a:lnTo>
                        <a:lnTo>
                          <a:pt x="230" y="656"/>
                        </a:lnTo>
                        <a:lnTo>
                          <a:pt x="230" y="661"/>
                        </a:lnTo>
                        <a:lnTo>
                          <a:pt x="230" y="666"/>
                        </a:lnTo>
                        <a:lnTo>
                          <a:pt x="230" y="670"/>
                        </a:lnTo>
                        <a:lnTo>
                          <a:pt x="230" y="675"/>
                        </a:lnTo>
                        <a:lnTo>
                          <a:pt x="230" y="680"/>
                        </a:lnTo>
                        <a:lnTo>
                          <a:pt x="225" y="685"/>
                        </a:lnTo>
                        <a:lnTo>
                          <a:pt x="221" y="685"/>
                        </a:lnTo>
                        <a:lnTo>
                          <a:pt x="221" y="690"/>
                        </a:lnTo>
                        <a:lnTo>
                          <a:pt x="216" y="690"/>
                        </a:lnTo>
                        <a:lnTo>
                          <a:pt x="216" y="694"/>
                        </a:lnTo>
                        <a:lnTo>
                          <a:pt x="216" y="699"/>
                        </a:lnTo>
                        <a:lnTo>
                          <a:pt x="211" y="699"/>
                        </a:lnTo>
                        <a:lnTo>
                          <a:pt x="211" y="704"/>
                        </a:lnTo>
                        <a:lnTo>
                          <a:pt x="211" y="709"/>
                        </a:lnTo>
                        <a:lnTo>
                          <a:pt x="211" y="714"/>
                        </a:lnTo>
                        <a:lnTo>
                          <a:pt x="206" y="714"/>
                        </a:lnTo>
                        <a:lnTo>
                          <a:pt x="206" y="718"/>
                        </a:lnTo>
                        <a:lnTo>
                          <a:pt x="206" y="723"/>
                        </a:lnTo>
                        <a:lnTo>
                          <a:pt x="201" y="728"/>
                        </a:lnTo>
                        <a:lnTo>
                          <a:pt x="201" y="733"/>
                        </a:lnTo>
                        <a:lnTo>
                          <a:pt x="197" y="733"/>
                        </a:lnTo>
                        <a:lnTo>
                          <a:pt x="197" y="737"/>
                        </a:lnTo>
                        <a:lnTo>
                          <a:pt x="197" y="742"/>
                        </a:lnTo>
                        <a:lnTo>
                          <a:pt x="197" y="747"/>
                        </a:lnTo>
                        <a:lnTo>
                          <a:pt x="192" y="752"/>
                        </a:lnTo>
                        <a:lnTo>
                          <a:pt x="192" y="757"/>
                        </a:lnTo>
                        <a:lnTo>
                          <a:pt x="192" y="761"/>
                        </a:lnTo>
                        <a:lnTo>
                          <a:pt x="192" y="766"/>
                        </a:lnTo>
                        <a:lnTo>
                          <a:pt x="192" y="771"/>
                        </a:lnTo>
                        <a:lnTo>
                          <a:pt x="192" y="776"/>
                        </a:lnTo>
                        <a:lnTo>
                          <a:pt x="192" y="781"/>
                        </a:lnTo>
                        <a:lnTo>
                          <a:pt x="192" y="785"/>
                        </a:lnTo>
                        <a:lnTo>
                          <a:pt x="192" y="790"/>
                        </a:lnTo>
                        <a:lnTo>
                          <a:pt x="192" y="795"/>
                        </a:lnTo>
                        <a:lnTo>
                          <a:pt x="192" y="800"/>
                        </a:lnTo>
                        <a:lnTo>
                          <a:pt x="192" y="805"/>
                        </a:lnTo>
                        <a:lnTo>
                          <a:pt x="187" y="805"/>
                        </a:lnTo>
                        <a:lnTo>
                          <a:pt x="187" y="809"/>
                        </a:lnTo>
                        <a:lnTo>
                          <a:pt x="187" y="814"/>
                        </a:lnTo>
                        <a:lnTo>
                          <a:pt x="187" y="819"/>
                        </a:lnTo>
                        <a:lnTo>
                          <a:pt x="182" y="824"/>
                        </a:lnTo>
                        <a:lnTo>
                          <a:pt x="182" y="828"/>
                        </a:lnTo>
                        <a:lnTo>
                          <a:pt x="177" y="833"/>
                        </a:lnTo>
                        <a:lnTo>
                          <a:pt x="177" y="967"/>
                        </a:lnTo>
                        <a:lnTo>
                          <a:pt x="173" y="967"/>
                        </a:lnTo>
                        <a:lnTo>
                          <a:pt x="168" y="967"/>
                        </a:lnTo>
                        <a:lnTo>
                          <a:pt x="158" y="967"/>
                        </a:lnTo>
                        <a:lnTo>
                          <a:pt x="153" y="967"/>
                        </a:lnTo>
                        <a:lnTo>
                          <a:pt x="149" y="963"/>
                        </a:lnTo>
                        <a:lnTo>
                          <a:pt x="139" y="963"/>
                        </a:lnTo>
                        <a:lnTo>
                          <a:pt x="134" y="963"/>
                        </a:lnTo>
                        <a:lnTo>
                          <a:pt x="129" y="958"/>
                        </a:lnTo>
                        <a:lnTo>
                          <a:pt x="125" y="958"/>
                        </a:lnTo>
                        <a:lnTo>
                          <a:pt x="120" y="953"/>
                        </a:lnTo>
                        <a:lnTo>
                          <a:pt x="115" y="953"/>
                        </a:lnTo>
                        <a:lnTo>
                          <a:pt x="106" y="948"/>
                        </a:lnTo>
                        <a:lnTo>
                          <a:pt x="101" y="943"/>
                        </a:lnTo>
                        <a:lnTo>
                          <a:pt x="96" y="943"/>
                        </a:lnTo>
                        <a:lnTo>
                          <a:pt x="91" y="939"/>
                        </a:lnTo>
                        <a:lnTo>
                          <a:pt x="86" y="934"/>
                        </a:lnTo>
                        <a:lnTo>
                          <a:pt x="82" y="929"/>
                        </a:lnTo>
                        <a:lnTo>
                          <a:pt x="77" y="929"/>
                        </a:lnTo>
                        <a:lnTo>
                          <a:pt x="72" y="924"/>
                        </a:lnTo>
                        <a:lnTo>
                          <a:pt x="67" y="919"/>
                        </a:lnTo>
                        <a:lnTo>
                          <a:pt x="62" y="915"/>
                        </a:lnTo>
                        <a:lnTo>
                          <a:pt x="58" y="910"/>
                        </a:lnTo>
                        <a:lnTo>
                          <a:pt x="58" y="905"/>
                        </a:lnTo>
                        <a:lnTo>
                          <a:pt x="53" y="900"/>
                        </a:lnTo>
                        <a:lnTo>
                          <a:pt x="48" y="896"/>
                        </a:lnTo>
                        <a:lnTo>
                          <a:pt x="43" y="891"/>
                        </a:lnTo>
                        <a:lnTo>
                          <a:pt x="38" y="886"/>
                        </a:lnTo>
                        <a:lnTo>
                          <a:pt x="34" y="881"/>
                        </a:lnTo>
                        <a:lnTo>
                          <a:pt x="34" y="876"/>
                        </a:lnTo>
                        <a:lnTo>
                          <a:pt x="29" y="872"/>
                        </a:lnTo>
                        <a:lnTo>
                          <a:pt x="24" y="867"/>
                        </a:lnTo>
                        <a:lnTo>
                          <a:pt x="19" y="862"/>
                        </a:lnTo>
                        <a:lnTo>
                          <a:pt x="14" y="848"/>
                        </a:lnTo>
                        <a:lnTo>
                          <a:pt x="14" y="833"/>
                        </a:lnTo>
                        <a:lnTo>
                          <a:pt x="10" y="819"/>
                        </a:lnTo>
                        <a:lnTo>
                          <a:pt x="10" y="805"/>
                        </a:lnTo>
                        <a:lnTo>
                          <a:pt x="5" y="790"/>
                        </a:lnTo>
                        <a:lnTo>
                          <a:pt x="5" y="776"/>
                        </a:lnTo>
                        <a:lnTo>
                          <a:pt x="5" y="761"/>
                        </a:lnTo>
                        <a:lnTo>
                          <a:pt x="0" y="752"/>
                        </a:lnTo>
                        <a:lnTo>
                          <a:pt x="0" y="737"/>
                        </a:lnTo>
                        <a:lnTo>
                          <a:pt x="0" y="723"/>
                        </a:lnTo>
                        <a:lnTo>
                          <a:pt x="5" y="709"/>
                        </a:lnTo>
                        <a:lnTo>
                          <a:pt x="5" y="694"/>
                        </a:lnTo>
                        <a:lnTo>
                          <a:pt x="5" y="685"/>
                        </a:lnTo>
                        <a:lnTo>
                          <a:pt x="10" y="670"/>
                        </a:lnTo>
                        <a:lnTo>
                          <a:pt x="10" y="656"/>
                        </a:lnTo>
                        <a:lnTo>
                          <a:pt x="14" y="642"/>
                        </a:lnTo>
                        <a:lnTo>
                          <a:pt x="14" y="632"/>
                        </a:lnTo>
                        <a:lnTo>
                          <a:pt x="19" y="618"/>
                        </a:lnTo>
                        <a:lnTo>
                          <a:pt x="24" y="603"/>
                        </a:lnTo>
                        <a:lnTo>
                          <a:pt x="29" y="589"/>
                        </a:lnTo>
                        <a:lnTo>
                          <a:pt x="34" y="579"/>
                        </a:lnTo>
                        <a:lnTo>
                          <a:pt x="38" y="565"/>
                        </a:lnTo>
                        <a:lnTo>
                          <a:pt x="43" y="556"/>
                        </a:lnTo>
                        <a:lnTo>
                          <a:pt x="48" y="541"/>
                        </a:lnTo>
                        <a:lnTo>
                          <a:pt x="53" y="527"/>
                        </a:lnTo>
                        <a:lnTo>
                          <a:pt x="58" y="517"/>
                        </a:lnTo>
                        <a:lnTo>
                          <a:pt x="62" y="503"/>
                        </a:lnTo>
                        <a:lnTo>
                          <a:pt x="72" y="493"/>
                        </a:lnTo>
                        <a:lnTo>
                          <a:pt x="77" y="484"/>
                        </a:lnTo>
                        <a:lnTo>
                          <a:pt x="82" y="469"/>
                        </a:lnTo>
                        <a:lnTo>
                          <a:pt x="91" y="460"/>
                        </a:lnTo>
                        <a:lnTo>
                          <a:pt x="96" y="445"/>
                        </a:lnTo>
                        <a:lnTo>
                          <a:pt x="106" y="431"/>
                        </a:lnTo>
                        <a:lnTo>
                          <a:pt x="115" y="417"/>
                        </a:lnTo>
                        <a:lnTo>
                          <a:pt x="129" y="402"/>
                        </a:lnTo>
                        <a:lnTo>
                          <a:pt x="139" y="388"/>
                        </a:lnTo>
                        <a:lnTo>
                          <a:pt x="149" y="374"/>
                        </a:lnTo>
                        <a:lnTo>
                          <a:pt x="158" y="364"/>
                        </a:lnTo>
                        <a:lnTo>
                          <a:pt x="173" y="350"/>
                        </a:lnTo>
                        <a:lnTo>
                          <a:pt x="182" y="335"/>
                        </a:lnTo>
                        <a:lnTo>
                          <a:pt x="197" y="321"/>
                        </a:lnTo>
                        <a:lnTo>
                          <a:pt x="206" y="307"/>
                        </a:lnTo>
                        <a:lnTo>
                          <a:pt x="221" y="292"/>
                        </a:lnTo>
                        <a:lnTo>
                          <a:pt x="230" y="283"/>
                        </a:lnTo>
                        <a:lnTo>
                          <a:pt x="245" y="268"/>
                        </a:lnTo>
                        <a:lnTo>
                          <a:pt x="254" y="254"/>
                        </a:lnTo>
                        <a:lnTo>
                          <a:pt x="269" y="244"/>
                        </a:lnTo>
                        <a:lnTo>
                          <a:pt x="283" y="230"/>
                        </a:lnTo>
                        <a:lnTo>
                          <a:pt x="297" y="220"/>
                        </a:lnTo>
                        <a:lnTo>
                          <a:pt x="312" y="206"/>
                        </a:lnTo>
                        <a:lnTo>
                          <a:pt x="326" y="196"/>
                        </a:lnTo>
                        <a:lnTo>
                          <a:pt x="336" y="187"/>
                        </a:lnTo>
                        <a:lnTo>
                          <a:pt x="350" y="172"/>
                        </a:lnTo>
                        <a:lnTo>
                          <a:pt x="365" y="163"/>
                        </a:lnTo>
                        <a:lnTo>
                          <a:pt x="384" y="153"/>
                        </a:lnTo>
                        <a:lnTo>
                          <a:pt x="398" y="144"/>
                        </a:lnTo>
                        <a:lnTo>
                          <a:pt x="413" y="134"/>
                        </a:lnTo>
                        <a:lnTo>
                          <a:pt x="427" y="125"/>
                        </a:lnTo>
                        <a:lnTo>
                          <a:pt x="441" y="115"/>
                        </a:lnTo>
                        <a:lnTo>
                          <a:pt x="456" y="110"/>
                        </a:lnTo>
                        <a:lnTo>
                          <a:pt x="475" y="101"/>
                        </a:lnTo>
                        <a:lnTo>
                          <a:pt x="489" y="96"/>
                        </a:lnTo>
                        <a:lnTo>
                          <a:pt x="504" y="86"/>
                        </a:lnTo>
                        <a:lnTo>
                          <a:pt x="523" y="81"/>
                        </a:lnTo>
                        <a:lnTo>
                          <a:pt x="532" y="72"/>
                        </a:lnTo>
                        <a:lnTo>
                          <a:pt x="547" y="62"/>
                        </a:lnTo>
                        <a:lnTo>
                          <a:pt x="561" y="53"/>
                        </a:lnTo>
                        <a:lnTo>
                          <a:pt x="571" y="43"/>
                        </a:lnTo>
                        <a:lnTo>
                          <a:pt x="585" y="38"/>
                        </a:lnTo>
                        <a:lnTo>
                          <a:pt x="600" y="34"/>
                        </a:lnTo>
                        <a:lnTo>
                          <a:pt x="614" y="24"/>
                        </a:lnTo>
                        <a:lnTo>
                          <a:pt x="628" y="19"/>
                        </a:lnTo>
                        <a:lnTo>
                          <a:pt x="643" y="14"/>
                        </a:lnTo>
                        <a:lnTo>
                          <a:pt x="662" y="10"/>
                        </a:lnTo>
                        <a:lnTo>
                          <a:pt x="676" y="10"/>
                        </a:lnTo>
                        <a:lnTo>
                          <a:pt x="691" y="5"/>
                        </a:lnTo>
                        <a:lnTo>
                          <a:pt x="710" y="5"/>
                        </a:lnTo>
                        <a:lnTo>
                          <a:pt x="724" y="0"/>
                        </a:lnTo>
                        <a:lnTo>
                          <a:pt x="739" y="0"/>
                        </a:lnTo>
                        <a:lnTo>
                          <a:pt x="758" y="0"/>
                        </a:lnTo>
                        <a:lnTo>
                          <a:pt x="772" y="0"/>
                        </a:lnTo>
                        <a:lnTo>
                          <a:pt x="791" y="0"/>
                        </a:lnTo>
                        <a:lnTo>
                          <a:pt x="806" y="0"/>
                        </a:lnTo>
                        <a:lnTo>
                          <a:pt x="820" y="5"/>
                        </a:lnTo>
                        <a:lnTo>
                          <a:pt x="839" y="5"/>
                        </a:lnTo>
                        <a:lnTo>
                          <a:pt x="854" y="5"/>
                        </a:lnTo>
                        <a:lnTo>
                          <a:pt x="868" y="10"/>
                        </a:lnTo>
                        <a:lnTo>
                          <a:pt x="887" y="10"/>
                        </a:lnTo>
                        <a:lnTo>
                          <a:pt x="902" y="14"/>
                        </a:lnTo>
                        <a:lnTo>
                          <a:pt x="916" y="19"/>
                        </a:lnTo>
                        <a:lnTo>
                          <a:pt x="931" y="19"/>
                        </a:lnTo>
                        <a:lnTo>
                          <a:pt x="945" y="24"/>
                        </a:lnTo>
                        <a:lnTo>
                          <a:pt x="959" y="29"/>
                        </a:lnTo>
                        <a:lnTo>
                          <a:pt x="974" y="34"/>
                        </a:lnTo>
                        <a:lnTo>
                          <a:pt x="988" y="38"/>
                        </a:lnTo>
                        <a:lnTo>
                          <a:pt x="1003" y="43"/>
                        </a:lnTo>
                        <a:lnTo>
                          <a:pt x="1007" y="43"/>
                        </a:lnTo>
                        <a:lnTo>
                          <a:pt x="1012" y="48"/>
                        </a:lnTo>
                        <a:lnTo>
                          <a:pt x="1022" y="53"/>
                        </a:lnTo>
                        <a:lnTo>
                          <a:pt x="1027" y="53"/>
                        </a:lnTo>
                        <a:lnTo>
                          <a:pt x="1031" y="58"/>
                        </a:lnTo>
                        <a:lnTo>
                          <a:pt x="1036" y="62"/>
                        </a:lnTo>
                        <a:lnTo>
                          <a:pt x="1046" y="62"/>
                        </a:lnTo>
                        <a:lnTo>
                          <a:pt x="1051" y="67"/>
                        </a:lnTo>
                        <a:lnTo>
                          <a:pt x="1055" y="72"/>
                        </a:lnTo>
                        <a:lnTo>
                          <a:pt x="1060" y="77"/>
                        </a:lnTo>
                        <a:lnTo>
                          <a:pt x="1070" y="77"/>
                        </a:lnTo>
                        <a:lnTo>
                          <a:pt x="1075" y="81"/>
                        </a:lnTo>
                        <a:lnTo>
                          <a:pt x="1079" y="86"/>
                        </a:lnTo>
                        <a:lnTo>
                          <a:pt x="1084" y="91"/>
                        </a:lnTo>
                        <a:lnTo>
                          <a:pt x="1089" y="96"/>
                        </a:lnTo>
                        <a:lnTo>
                          <a:pt x="1099" y="96"/>
                        </a:lnTo>
                        <a:lnTo>
                          <a:pt x="1103" y="101"/>
                        </a:lnTo>
                        <a:lnTo>
                          <a:pt x="1108" y="105"/>
                        </a:lnTo>
                        <a:lnTo>
                          <a:pt x="1113" y="110"/>
                        </a:lnTo>
                        <a:lnTo>
                          <a:pt x="1118" y="115"/>
                        </a:lnTo>
                        <a:lnTo>
                          <a:pt x="1122" y="120"/>
                        </a:lnTo>
                        <a:lnTo>
                          <a:pt x="1127" y="125"/>
                        </a:lnTo>
                        <a:lnTo>
                          <a:pt x="1132" y="129"/>
                        </a:lnTo>
                        <a:lnTo>
                          <a:pt x="1142" y="134"/>
                        </a:lnTo>
                        <a:lnTo>
                          <a:pt x="1146" y="139"/>
                        </a:lnTo>
                        <a:lnTo>
                          <a:pt x="1151" y="144"/>
                        </a:lnTo>
                        <a:lnTo>
                          <a:pt x="1156" y="149"/>
                        </a:lnTo>
                        <a:lnTo>
                          <a:pt x="1161" y="153"/>
                        </a:lnTo>
                        <a:lnTo>
                          <a:pt x="1166" y="158"/>
                        </a:lnTo>
                        <a:lnTo>
                          <a:pt x="1170" y="163"/>
                        </a:lnTo>
                        <a:lnTo>
                          <a:pt x="1175" y="168"/>
                        </a:lnTo>
                        <a:lnTo>
                          <a:pt x="1180" y="172"/>
                        </a:lnTo>
                        <a:close/>
                      </a:path>
                    </a:pathLst>
                  </a:custGeom>
                  <a:solidFill>
                    <a:srgbClr val="38261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6" name=""/>
                  <p:cNvSpPr/>
                  <p:nvPr/>
                </p:nvSpPr>
                <p:spPr>
                  <a:xfrm flipH="1">
                    <a:off x="3882240" y="4278960"/>
                    <a:ext cx="225360" cy="185040"/>
                  </a:xfrm>
                  <a:custGeom>
                    <a:avLst/>
                    <a:gdLst/>
                    <a:ahLst/>
                    <a:rect l="l" t="t" r="r" b="b"/>
                    <a:pathLst>
                      <a:path w="1328" h="1130">
                        <a:moveTo>
                          <a:pt x="959" y="182"/>
                        </a:moveTo>
                        <a:lnTo>
                          <a:pt x="964" y="192"/>
                        </a:lnTo>
                        <a:lnTo>
                          <a:pt x="969" y="196"/>
                        </a:lnTo>
                        <a:lnTo>
                          <a:pt x="973" y="201"/>
                        </a:lnTo>
                        <a:lnTo>
                          <a:pt x="978" y="211"/>
                        </a:lnTo>
                        <a:lnTo>
                          <a:pt x="983" y="216"/>
                        </a:lnTo>
                        <a:lnTo>
                          <a:pt x="988" y="220"/>
                        </a:lnTo>
                        <a:lnTo>
                          <a:pt x="988" y="225"/>
                        </a:lnTo>
                        <a:lnTo>
                          <a:pt x="993" y="235"/>
                        </a:lnTo>
                        <a:lnTo>
                          <a:pt x="997" y="239"/>
                        </a:lnTo>
                        <a:lnTo>
                          <a:pt x="997" y="244"/>
                        </a:lnTo>
                        <a:lnTo>
                          <a:pt x="1002" y="254"/>
                        </a:lnTo>
                        <a:lnTo>
                          <a:pt x="1007" y="259"/>
                        </a:lnTo>
                        <a:lnTo>
                          <a:pt x="1012" y="268"/>
                        </a:lnTo>
                        <a:lnTo>
                          <a:pt x="1012" y="273"/>
                        </a:lnTo>
                        <a:lnTo>
                          <a:pt x="1017" y="278"/>
                        </a:lnTo>
                        <a:lnTo>
                          <a:pt x="1017" y="287"/>
                        </a:lnTo>
                        <a:lnTo>
                          <a:pt x="1021" y="292"/>
                        </a:lnTo>
                        <a:lnTo>
                          <a:pt x="1026" y="302"/>
                        </a:lnTo>
                        <a:lnTo>
                          <a:pt x="1026" y="306"/>
                        </a:lnTo>
                        <a:lnTo>
                          <a:pt x="1031" y="311"/>
                        </a:lnTo>
                        <a:lnTo>
                          <a:pt x="1031" y="321"/>
                        </a:lnTo>
                        <a:lnTo>
                          <a:pt x="1036" y="326"/>
                        </a:lnTo>
                        <a:lnTo>
                          <a:pt x="1036" y="335"/>
                        </a:lnTo>
                        <a:lnTo>
                          <a:pt x="1041" y="340"/>
                        </a:lnTo>
                        <a:lnTo>
                          <a:pt x="1041" y="350"/>
                        </a:lnTo>
                        <a:lnTo>
                          <a:pt x="1045" y="354"/>
                        </a:lnTo>
                        <a:lnTo>
                          <a:pt x="1045" y="364"/>
                        </a:lnTo>
                        <a:lnTo>
                          <a:pt x="1050" y="369"/>
                        </a:lnTo>
                        <a:lnTo>
                          <a:pt x="1050" y="378"/>
                        </a:lnTo>
                        <a:lnTo>
                          <a:pt x="1050" y="383"/>
                        </a:lnTo>
                        <a:lnTo>
                          <a:pt x="1055" y="393"/>
                        </a:lnTo>
                        <a:lnTo>
                          <a:pt x="1055" y="397"/>
                        </a:lnTo>
                        <a:lnTo>
                          <a:pt x="1055" y="402"/>
                        </a:lnTo>
                        <a:lnTo>
                          <a:pt x="1055" y="407"/>
                        </a:lnTo>
                        <a:lnTo>
                          <a:pt x="1055" y="412"/>
                        </a:lnTo>
                        <a:lnTo>
                          <a:pt x="1060" y="417"/>
                        </a:lnTo>
                        <a:lnTo>
                          <a:pt x="1060" y="421"/>
                        </a:lnTo>
                        <a:lnTo>
                          <a:pt x="1065" y="421"/>
                        </a:lnTo>
                        <a:lnTo>
                          <a:pt x="1065" y="426"/>
                        </a:lnTo>
                        <a:lnTo>
                          <a:pt x="1069" y="426"/>
                        </a:lnTo>
                        <a:lnTo>
                          <a:pt x="1074" y="426"/>
                        </a:lnTo>
                        <a:lnTo>
                          <a:pt x="1079" y="426"/>
                        </a:lnTo>
                        <a:lnTo>
                          <a:pt x="1084" y="426"/>
                        </a:lnTo>
                        <a:lnTo>
                          <a:pt x="1089" y="426"/>
                        </a:lnTo>
                        <a:lnTo>
                          <a:pt x="1089" y="421"/>
                        </a:lnTo>
                        <a:lnTo>
                          <a:pt x="1093" y="417"/>
                        </a:lnTo>
                        <a:lnTo>
                          <a:pt x="1093" y="412"/>
                        </a:lnTo>
                        <a:lnTo>
                          <a:pt x="1098" y="407"/>
                        </a:lnTo>
                        <a:lnTo>
                          <a:pt x="1098" y="402"/>
                        </a:lnTo>
                        <a:lnTo>
                          <a:pt x="1103" y="397"/>
                        </a:lnTo>
                        <a:lnTo>
                          <a:pt x="1108" y="393"/>
                        </a:lnTo>
                        <a:lnTo>
                          <a:pt x="1108" y="388"/>
                        </a:lnTo>
                        <a:lnTo>
                          <a:pt x="1113" y="383"/>
                        </a:lnTo>
                        <a:lnTo>
                          <a:pt x="1117" y="378"/>
                        </a:lnTo>
                        <a:lnTo>
                          <a:pt x="1117" y="374"/>
                        </a:lnTo>
                        <a:lnTo>
                          <a:pt x="1122" y="369"/>
                        </a:lnTo>
                        <a:lnTo>
                          <a:pt x="1127" y="364"/>
                        </a:lnTo>
                        <a:lnTo>
                          <a:pt x="1127" y="359"/>
                        </a:lnTo>
                        <a:lnTo>
                          <a:pt x="1132" y="354"/>
                        </a:lnTo>
                        <a:lnTo>
                          <a:pt x="1137" y="354"/>
                        </a:lnTo>
                        <a:lnTo>
                          <a:pt x="1141" y="350"/>
                        </a:lnTo>
                        <a:lnTo>
                          <a:pt x="1146" y="345"/>
                        </a:lnTo>
                        <a:lnTo>
                          <a:pt x="1146" y="340"/>
                        </a:lnTo>
                        <a:lnTo>
                          <a:pt x="1151" y="335"/>
                        </a:lnTo>
                        <a:lnTo>
                          <a:pt x="1156" y="330"/>
                        </a:lnTo>
                        <a:lnTo>
                          <a:pt x="1161" y="330"/>
                        </a:lnTo>
                        <a:lnTo>
                          <a:pt x="1165" y="326"/>
                        </a:lnTo>
                        <a:lnTo>
                          <a:pt x="1170" y="321"/>
                        </a:lnTo>
                        <a:lnTo>
                          <a:pt x="1175" y="321"/>
                        </a:lnTo>
                        <a:lnTo>
                          <a:pt x="1180" y="316"/>
                        </a:lnTo>
                        <a:lnTo>
                          <a:pt x="1185" y="316"/>
                        </a:lnTo>
                        <a:lnTo>
                          <a:pt x="1189" y="311"/>
                        </a:lnTo>
                        <a:lnTo>
                          <a:pt x="1194" y="311"/>
                        </a:lnTo>
                        <a:lnTo>
                          <a:pt x="1199" y="306"/>
                        </a:lnTo>
                        <a:lnTo>
                          <a:pt x="1204" y="306"/>
                        </a:lnTo>
                        <a:lnTo>
                          <a:pt x="1213" y="306"/>
                        </a:lnTo>
                        <a:lnTo>
                          <a:pt x="1218" y="306"/>
                        </a:lnTo>
                        <a:lnTo>
                          <a:pt x="1223" y="306"/>
                        </a:lnTo>
                        <a:lnTo>
                          <a:pt x="1228" y="306"/>
                        </a:lnTo>
                        <a:lnTo>
                          <a:pt x="1232" y="306"/>
                        </a:lnTo>
                        <a:lnTo>
                          <a:pt x="1237" y="306"/>
                        </a:lnTo>
                        <a:lnTo>
                          <a:pt x="1242" y="306"/>
                        </a:lnTo>
                        <a:lnTo>
                          <a:pt x="1247" y="306"/>
                        </a:lnTo>
                        <a:lnTo>
                          <a:pt x="1252" y="306"/>
                        </a:lnTo>
                        <a:lnTo>
                          <a:pt x="1256" y="306"/>
                        </a:lnTo>
                        <a:lnTo>
                          <a:pt x="1261" y="306"/>
                        </a:lnTo>
                        <a:lnTo>
                          <a:pt x="1266" y="306"/>
                        </a:lnTo>
                        <a:lnTo>
                          <a:pt x="1271" y="306"/>
                        </a:lnTo>
                        <a:lnTo>
                          <a:pt x="1276" y="311"/>
                        </a:lnTo>
                        <a:lnTo>
                          <a:pt x="1280" y="316"/>
                        </a:lnTo>
                        <a:lnTo>
                          <a:pt x="1285" y="321"/>
                        </a:lnTo>
                        <a:lnTo>
                          <a:pt x="1290" y="326"/>
                        </a:lnTo>
                        <a:lnTo>
                          <a:pt x="1290" y="330"/>
                        </a:lnTo>
                        <a:lnTo>
                          <a:pt x="1295" y="330"/>
                        </a:lnTo>
                        <a:lnTo>
                          <a:pt x="1295" y="335"/>
                        </a:lnTo>
                        <a:lnTo>
                          <a:pt x="1300" y="340"/>
                        </a:lnTo>
                        <a:lnTo>
                          <a:pt x="1300" y="345"/>
                        </a:lnTo>
                        <a:lnTo>
                          <a:pt x="1304" y="350"/>
                        </a:lnTo>
                        <a:lnTo>
                          <a:pt x="1304" y="354"/>
                        </a:lnTo>
                        <a:lnTo>
                          <a:pt x="1304" y="359"/>
                        </a:lnTo>
                        <a:lnTo>
                          <a:pt x="1309" y="364"/>
                        </a:lnTo>
                        <a:lnTo>
                          <a:pt x="1309" y="369"/>
                        </a:lnTo>
                        <a:lnTo>
                          <a:pt x="1314" y="374"/>
                        </a:lnTo>
                        <a:lnTo>
                          <a:pt x="1314" y="378"/>
                        </a:lnTo>
                        <a:lnTo>
                          <a:pt x="1314" y="383"/>
                        </a:lnTo>
                        <a:lnTo>
                          <a:pt x="1319" y="388"/>
                        </a:lnTo>
                        <a:lnTo>
                          <a:pt x="1319" y="393"/>
                        </a:lnTo>
                        <a:lnTo>
                          <a:pt x="1319" y="397"/>
                        </a:lnTo>
                        <a:lnTo>
                          <a:pt x="1319" y="402"/>
                        </a:lnTo>
                        <a:lnTo>
                          <a:pt x="1324" y="402"/>
                        </a:lnTo>
                        <a:lnTo>
                          <a:pt x="1324" y="407"/>
                        </a:lnTo>
                        <a:lnTo>
                          <a:pt x="1324" y="412"/>
                        </a:lnTo>
                        <a:lnTo>
                          <a:pt x="1324" y="417"/>
                        </a:lnTo>
                        <a:lnTo>
                          <a:pt x="1328" y="417"/>
                        </a:lnTo>
                        <a:lnTo>
                          <a:pt x="1328" y="421"/>
                        </a:lnTo>
                        <a:lnTo>
                          <a:pt x="1328" y="426"/>
                        </a:lnTo>
                        <a:lnTo>
                          <a:pt x="1328" y="431"/>
                        </a:lnTo>
                        <a:lnTo>
                          <a:pt x="1328" y="436"/>
                        </a:lnTo>
                        <a:lnTo>
                          <a:pt x="1328" y="441"/>
                        </a:lnTo>
                        <a:lnTo>
                          <a:pt x="1328" y="445"/>
                        </a:lnTo>
                        <a:lnTo>
                          <a:pt x="1328" y="450"/>
                        </a:lnTo>
                        <a:lnTo>
                          <a:pt x="1328" y="455"/>
                        </a:lnTo>
                        <a:lnTo>
                          <a:pt x="1328" y="460"/>
                        </a:lnTo>
                        <a:lnTo>
                          <a:pt x="1328" y="464"/>
                        </a:lnTo>
                        <a:lnTo>
                          <a:pt x="1328" y="469"/>
                        </a:lnTo>
                        <a:lnTo>
                          <a:pt x="1328" y="474"/>
                        </a:lnTo>
                        <a:lnTo>
                          <a:pt x="1328" y="479"/>
                        </a:lnTo>
                        <a:lnTo>
                          <a:pt x="1328" y="484"/>
                        </a:lnTo>
                        <a:lnTo>
                          <a:pt x="1328" y="488"/>
                        </a:lnTo>
                        <a:lnTo>
                          <a:pt x="1328" y="493"/>
                        </a:lnTo>
                        <a:lnTo>
                          <a:pt x="1324" y="498"/>
                        </a:lnTo>
                        <a:lnTo>
                          <a:pt x="1324" y="503"/>
                        </a:lnTo>
                        <a:lnTo>
                          <a:pt x="1324" y="508"/>
                        </a:lnTo>
                        <a:lnTo>
                          <a:pt x="1319" y="512"/>
                        </a:lnTo>
                        <a:lnTo>
                          <a:pt x="1319" y="517"/>
                        </a:lnTo>
                        <a:lnTo>
                          <a:pt x="1319" y="527"/>
                        </a:lnTo>
                        <a:lnTo>
                          <a:pt x="1319" y="532"/>
                        </a:lnTo>
                        <a:lnTo>
                          <a:pt x="1314" y="541"/>
                        </a:lnTo>
                        <a:lnTo>
                          <a:pt x="1314" y="546"/>
                        </a:lnTo>
                        <a:lnTo>
                          <a:pt x="1314" y="555"/>
                        </a:lnTo>
                        <a:lnTo>
                          <a:pt x="1309" y="560"/>
                        </a:lnTo>
                        <a:lnTo>
                          <a:pt x="1304" y="570"/>
                        </a:lnTo>
                        <a:lnTo>
                          <a:pt x="1304" y="575"/>
                        </a:lnTo>
                        <a:lnTo>
                          <a:pt x="1300" y="579"/>
                        </a:lnTo>
                        <a:lnTo>
                          <a:pt x="1295" y="589"/>
                        </a:lnTo>
                        <a:lnTo>
                          <a:pt x="1295" y="594"/>
                        </a:lnTo>
                        <a:lnTo>
                          <a:pt x="1290" y="599"/>
                        </a:lnTo>
                        <a:lnTo>
                          <a:pt x="1285" y="603"/>
                        </a:lnTo>
                        <a:lnTo>
                          <a:pt x="1280" y="608"/>
                        </a:lnTo>
                        <a:lnTo>
                          <a:pt x="1276" y="613"/>
                        </a:lnTo>
                        <a:lnTo>
                          <a:pt x="1271" y="623"/>
                        </a:lnTo>
                        <a:lnTo>
                          <a:pt x="1266" y="627"/>
                        </a:lnTo>
                        <a:lnTo>
                          <a:pt x="1256" y="632"/>
                        </a:lnTo>
                        <a:lnTo>
                          <a:pt x="1252" y="637"/>
                        </a:lnTo>
                        <a:lnTo>
                          <a:pt x="1247" y="642"/>
                        </a:lnTo>
                        <a:lnTo>
                          <a:pt x="1242" y="646"/>
                        </a:lnTo>
                        <a:lnTo>
                          <a:pt x="1237" y="646"/>
                        </a:lnTo>
                        <a:lnTo>
                          <a:pt x="1228" y="651"/>
                        </a:lnTo>
                        <a:lnTo>
                          <a:pt x="1223" y="656"/>
                        </a:lnTo>
                        <a:lnTo>
                          <a:pt x="1218" y="661"/>
                        </a:lnTo>
                        <a:lnTo>
                          <a:pt x="1213" y="666"/>
                        </a:lnTo>
                        <a:lnTo>
                          <a:pt x="1204" y="670"/>
                        </a:lnTo>
                        <a:lnTo>
                          <a:pt x="1199" y="675"/>
                        </a:lnTo>
                        <a:lnTo>
                          <a:pt x="1194" y="680"/>
                        </a:lnTo>
                        <a:lnTo>
                          <a:pt x="1185" y="680"/>
                        </a:lnTo>
                        <a:lnTo>
                          <a:pt x="1180" y="685"/>
                        </a:lnTo>
                        <a:lnTo>
                          <a:pt x="1175" y="690"/>
                        </a:lnTo>
                        <a:lnTo>
                          <a:pt x="1170" y="690"/>
                        </a:lnTo>
                        <a:lnTo>
                          <a:pt x="1170" y="694"/>
                        </a:lnTo>
                        <a:lnTo>
                          <a:pt x="1165" y="694"/>
                        </a:lnTo>
                        <a:lnTo>
                          <a:pt x="1161" y="694"/>
                        </a:lnTo>
                        <a:lnTo>
                          <a:pt x="1161" y="699"/>
                        </a:lnTo>
                        <a:lnTo>
                          <a:pt x="1156" y="699"/>
                        </a:lnTo>
                        <a:lnTo>
                          <a:pt x="1151" y="699"/>
                        </a:lnTo>
                        <a:lnTo>
                          <a:pt x="1146" y="704"/>
                        </a:lnTo>
                        <a:lnTo>
                          <a:pt x="1141" y="704"/>
                        </a:lnTo>
                        <a:lnTo>
                          <a:pt x="1137" y="704"/>
                        </a:lnTo>
                        <a:lnTo>
                          <a:pt x="1132" y="704"/>
                        </a:lnTo>
                        <a:lnTo>
                          <a:pt x="1127" y="704"/>
                        </a:lnTo>
                        <a:lnTo>
                          <a:pt x="1122" y="704"/>
                        </a:lnTo>
                        <a:lnTo>
                          <a:pt x="1122" y="709"/>
                        </a:lnTo>
                        <a:lnTo>
                          <a:pt x="1117" y="709"/>
                        </a:lnTo>
                        <a:lnTo>
                          <a:pt x="1113" y="709"/>
                        </a:lnTo>
                        <a:lnTo>
                          <a:pt x="1108" y="709"/>
                        </a:lnTo>
                        <a:lnTo>
                          <a:pt x="1103" y="709"/>
                        </a:lnTo>
                        <a:lnTo>
                          <a:pt x="1098" y="709"/>
                        </a:lnTo>
                        <a:lnTo>
                          <a:pt x="1093" y="709"/>
                        </a:lnTo>
                        <a:lnTo>
                          <a:pt x="1089" y="709"/>
                        </a:lnTo>
                        <a:lnTo>
                          <a:pt x="1084" y="709"/>
                        </a:lnTo>
                        <a:lnTo>
                          <a:pt x="1079" y="709"/>
                        </a:lnTo>
                        <a:lnTo>
                          <a:pt x="1074" y="709"/>
                        </a:lnTo>
                        <a:lnTo>
                          <a:pt x="1069" y="704"/>
                        </a:lnTo>
                        <a:lnTo>
                          <a:pt x="1065" y="704"/>
                        </a:lnTo>
                        <a:lnTo>
                          <a:pt x="1065" y="709"/>
                        </a:lnTo>
                        <a:lnTo>
                          <a:pt x="1060" y="709"/>
                        </a:lnTo>
                        <a:lnTo>
                          <a:pt x="1060" y="713"/>
                        </a:lnTo>
                        <a:lnTo>
                          <a:pt x="1055" y="718"/>
                        </a:lnTo>
                        <a:lnTo>
                          <a:pt x="1060" y="718"/>
                        </a:lnTo>
                        <a:lnTo>
                          <a:pt x="1060" y="723"/>
                        </a:lnTo>
                        <a:lnTo>
                          <a:pt x="1060" y="728"/>
                        </a:lnTo>
                        <a:lnTo>
                          <a:pt x="1060" y="733"/>
                        </a:lnTo>
                        <a:lnTo>
                          <a:pt x="1060" y="737"/>
                        </a:lnTo>
                        <a:lnTo>
                          <a:pt x="1065" y="737"/>
                        </a:lnTo>
                        <a:lnTo>
                          <a:pt x="1065" y="742"/>
                        </a:lnTo>
                        <a:lnTo>
                          <a:pt x="1069" y="747"/>
                        </a:lnTo>
                        <a:lnTo>
                          <a:pt x="1069" y="752"/>
                        </a:lnTo>
                        <a:lnTo>
                          <a:pt x="1074" y="757"/>
                        </a:lnTo>
                        <a:lnTo>
                          <a:pt x="1074" y="761"/>
                        </a:lnTo>
                        <a:lnTo>
                          <a:pt x="1074" y="766"/>
                        </a:lnTo>
                        <a:lnTo>
                          <a:pt x="1079" y="766"/>
                        </a:lnTo>
                        <a:lnTo>
                          <a:pt x="1079" y="771"/>
                        </a:lnTo>
                        <a:lnTo>
                          <a:pt x="1079" y="776"/>
                        </a:lnTo>
                        <a:lnTo>
                          <a:pt x="1084" y="781"/>
                        </a:lnTo>
                        <a:lnTo>
                          <a:pt x="1084" y="785"/>
                        </a:lnTo>
                        <a:lnTo>
                          <a:pt x="1084" y="790"/>
                        </a:lnTo>
                        <a:lnTo>
                          <a:pt x="1089" y="790"/>
                        </a:lnTo>
                        <a:lnTo>
                          <a:pt x="1089" y="795"/>
                        </a:lnTo>
                        <a:lnTo>
                          <a:pt x="1089" y="800"/>
                        </a:lnTo>
                        <a:lnTo>
                          <a:pt x="1089" y="804"/>
                        </a:lnTo>
                        <a:lnTo>
                          <a:pt x="1093" y="804"/>
                        </a:lnTo>
                        <a:lnTo>
                          <a:pt x="1093" y="809"/>
                        </a:lnTo>
                        <a:lnTo>
                          <a:pt x="1093" y="824"/>
                        </a:lnTo>
                        <a:lnTo>
                          <a:pt x="1093" y="833"/>
                        </a:lnTo>
                        <a:lnTo>
                          <a:pt x="1089" y="848"/>
                        </a:lnTo>
                        <a:lnTo>
                          <a:pt x="1089" y="857"/>
                        </a:lnTo>
                        <a:lnTo>
                          <a:pt x="1084" y="867"/>
                        </a:lnTo>
                        <a:lnTo>
                          <a:pt x="1079" y="881"/>
                        </a:lnTo>
                        <a:lnTo>
                          <a:pt x="1074" y="891"/>
                        </a:lnTo>
                        <a:lnTo>
                          <a:pt x="1074" y="900"/>
                        </a:lnTo>
                        <a:lnTo>
                          <a:pt x="1069" y="910"/>
                        </a:lnTo>
                        <a:lnTo>
                          <a:pt x="1060" y="919"/>
                        </a:lnTo>
                        <a:lnTo>
                          <a:pt x="1055" y="929"/>
                        </a:lnTo>
                        <a:lnTo>
                          <a:pt x="1050" y="939"/>
                        </a:lnTo>
                        <a:lnTo>
                          <a:pt x="1045" y="948"/>
                        </a:lnTo>
                        <a:lnTo>
                          <a:pt x="1036" y="958"/>
                        </a:lnTo>
                        <a:lnTo>
                          <a:pt x="1031" y="967"/>
                        </a:lnTo>
                        <a:lnTo>
                          <a:pt x="1026" y="977"/>
                        </a:lnTo>
                        <a:lnTo>
                          <a:pt x="1017" y="986"/>
                        </a:lnTo>
                        <a:lnTo>
                          <a:pt x="1012" y="996"/>
                        </a:lnTo>
                        <a:lnTo>
                          <a:pt x="1002" y="1001"/>
                        </a:lnTo>
                        <a:lnTo>
                          <a:pt x="993" y="1010"/>
                        </a:lnTo>
                        <a:lnTo>
                          <a:pt x="988" y="1020"/>
                        </a:lnTo>
                        <a:lnTo>
                          <a:pt x="978" y="1030"/>
                        </a:lnTo>
                        <a:lnTo>
                          <a:pt x="969" y="1039"/>
                        </a:lnTo>
                        <a:lnTo>
                          <a:pt x="964" y="1044"/>
                        </a:lnTo>
                        <a:lnTo>
                          <a:pt x="954" y="1053"/>
                        </a:lnTo>
                        <a:lnTo>
                          <a:pt x="945" y="1063"/>
                        </a:lnTo>
                        <a:lnTo>
                          <a:pt x="940" y="1073"/>
                        </a:lnTo>
                        <a:lnTo>
                          <a:pt x="930" y="1077"/>
                        </a:lnTo>
                        <a:lnTo>
                          <a:pt x="921" y="1087"/>
                        </a:lnTo>
                        <a:lnTo>
                          <a:pt x="916" y="1097"/>
                        </a:lnTo>
                        <a:lnTo>
                          <a:pt x="906" y="1106"/>
                        </a:lnTo>
                        <a:lnTo>
                          <a:pt x="901" y="1111"/>
                        </a:lnTo>
                        <a:lnTo>
                          <a:pt x="897" y="1116"/>
                        </a:lnTo>
                        <a:lnTo>
                          <a:pt x="892" y="1116"/>
                        </a:lnTo>
                        <a:lnTo>
                          <a:pt x="892" y="1120"/>
                        </a:lnTo>
                        <a:lnTo>
                          <a:pt x="887" y="1120"/>
                        </a:lnTo>
                        <a:lnTo>
                          <a:pt x="882" y="1120"/>
                        </a:lnTo>
                        <a:lnTo>
                          <a:pt x="882" y="1125"/>
                        </a:lnTo>
                        <a:lnTo>
                          <a:pt x="878" y="1125"/>
                        </a:lnTo>
                        <a:lnTo>
                          <a:pt x="873" y="1125"/>
                        </a:lnTo>
                        <a:lnTo>
                          <a:pt x="868" y="1125"/>
                        </a:lnTo>
                        <a:lnTo>
                          <a:pt x="868" y="1130"/>
                        </a:lnTo>
                        <a:lnTo>
                          <a:pt x="863" y="1130"/>
                        </a:lnTo>
                        <a:lnTo>
                          <a:pt x="858" y="1130"/>
                        </a:lnTo>
                        <a:lnTo>
                          <a:pt x="854" y="1130"/>
                        </a:lnTo>
                        <a:lnTo>
                          <a:pt x="849" y="1130"/>
                        </a:lnTo>
                        <a:lnTo>
                          <a:pt x="844" y="1130"/>
                        </a:lnTo>
                        <a:lnTo>
                          <a:pt x="839" y="1130"/>
                        </a:lnTo>
                        <a:lnTo>
                          <a:pt x="834" y="1130"/>
                        </a:lnTo>
                        <a:lnTo>
                          <a:pt x="834" y="1125"/>
                        </a:lnTo>
                        <a:lnTo>
                          <a:pt x="830" y="1125"/>
                        </a:lnTo>
                        <a:lnTo>
                          <a:pt x="825" y="1125"/>
                        </a:lnTo>
                        <a:lnTo>
                          <a:pt x="825" y="1120"/>
                        </a:lnTo>
                        <a:lnTo>
                          <a:pt x="820" y="1120"/>
                        </a:lnTo>
                        <a:lnTo>
                          <a:pt x="820" y="1116"/>
                        </a:lnTo>
                        <a:lnTo>
                          <a:pt x="815" y="1116"/>
                        </a:lnTo>
                        <a:lnTo>
                          <a:pt x="815" y="1111"/>
                        </a:lnTo>
                        <a:lnTo>
                          <a:pt x="810" y="1111"/>
                        </a:lnTo>
                        <a:lnTo>
                          <a:pt x="810" y="1106"/>
                        </a:lnTo>
                        <a:lnTo>
                          <a:pt x="806" y="1106"/>
                        </a:lnTo>
                        <a:lnTo>
                          <a:pt x="806" y="1101"/>
                        </a:lnTo>
                        <a:lnTo>
                          <a:pt x="810" y="1097"/>
                        </a:lnTo>
                        <a:lnTo>
                          <a:pt x="820" y="1092"/>
                        </a:lnTo>
                        <a:lnTo>
                          <a:pt x="830" y="1082"/>
                        </a:lnTo>
                        <a:lnTo>
                          <a:pt x="839" y="1077"/>
                        </a:lnTo>
                        <a:lnTo>
                          <a:pt x="844" y="1073"/>
                        </a:lnTo>
                        <a:lnTo>
                          <a:pt x="854" y="1063"/>
                        </a:lnTo>
                        <a:lnTo>
                          <a:pt x="863" y="1058"/>
                        </a:lnTo>
                        <a:lnTo>
                          <a:pt x="868" y="1049"/>
                        </a:lnTo>
                        <a:lnTo>
                          <a:pt x="878" y="1044"/>
                        </a:lnTo>
                        <a:lnTo>
                          <a:pt x="887" y="1034"/>
                        </a:lnTo>
                        <a:lnTo>
                          <a:pt x="892" y="1030"/>
                        </a:lnTo>
                        <a:lnTo>
                          <a:pt x="901" y="1020"/>
                        </a:lnTo>
                        <a:lnTo>
                          <a:pt x="906" y="1010"/>
                        </a:lnTo>
                        <a:lnTo>
                          <a:pt x="916" y="1006"/>
                        </a:lnTo>
                        <a:lnTo>
                          <a:pt x="921" y="996"/>
                        </a:lnTo>
                        <a:lnTo>
                          <a:pt x="930" y="986"/>
                        </a:lnTo>
                        <a:lnTo>
                          <a:pt x="935" y="982"/>
                        </a:lnTo>
                        <a:lnTo>
                          <a:pt x="945" y="972"/>
                        </a:lnTo>
                        <a:lnTo>
                          <a:pt x="949" y="962"/>
                        </a:lnTo>
                        <a:lnTo>
                          <a:pt x="959" y="953"/>
                        </a:lnTo>
                        <a:lnTo>
                          <a:pt x="964" y="948"/>
                        </a:lnTo>
                        <a:lnTo>
                          <a:pt x="969" y="939"/>
                        </a:lnTo>
                        <a:lnTo>
                          <a:pt x="978" y="929"/>
                        </a:lnTo>
                        <a:lnTo>
                          <a:pt x="983" y="919"/>
                        </a:lnTo>
                        <a:lnTo>
                          <a:pt x="988" y="910"/>
                        </a:lnTo>
                        <a:lnTo>
                          <a:pt x="993" y="905"/>
                        </a:lnTo>
                        <a:lnTo>
                          <a:pt x="1002" y="895"/>
                        </a:lnTo>
                        <a:lnTo>
                          <a:pt x="1007" y="886"/>
                        </a:lnTo>
                        <a:lnTo>
                          <a:pt x="1012" y="876"/>
                        </a:lnTo>
                        <a:lnTo>
                          <a:pt x="1017" y="867"/>
                        </a:lnTo>
                        <a:lnTo>
                          <a:pt x="1021" y="857"/>
                        </a:lnTo>
                        <a:lnTo>
                          <a:pt x="1026" y="848"/>
                        </a:lnTo>
                        <a:lnTo>
                          <a:pt x="1026" y="843"/>
                        </a:lnTo>
                        <a:lnTo>
                          <a:pt x="1026" y="838"/>
                        </a:lnTo>
                        <a:lnTo>
                          <a:pt x="1026" y="833"/>
                        </a:lnTo>
                        <a:lnTo>
                          <a:pt x="1026" y="828"/>
                        </a:lnTo>
                        <a:lnTo>
                          <a:pt x="1021" y="828"/>
                        </a:lnTo>
                        <a:lnTo>
                          <a:pt x="1021" y="824"/>
                        </a:lnTo>
                        <a:lnTo>
                          <a:pt x="1017" y="824"/>
                        </a:lnTo>
                        <a:lnTo>
                          <a:pt x="1017" y="819"/>
                        </a:lnTo>
                        <a:lnTo>
                          <a:pt x="1012" y="819"/>
                        </a:lnTo>
                        <a:lnTo>
                          <a:pt x="1012" y="814"/>
                        </a:lnTo>
                        <a:lnTo>
                          <a:pt x="1007" y="814"/>
                        </a:lnTo>
                        <a:lnTo>
                          <a:pt x="1002" y="814"/>
                        </a:lnTo>
                        <a:lnTo>
                          <a:pt x="997" y="819"/>
                        </a:lnTo>
                        <a:lnTo>
                          <a:pt x="993" y="819"/>
                        </a:lnTo>
                        <a:lnTo>
                          <a:pt x="988" y="824"/>
                        </a:lnTo>
                        <a:lnTo>
                          <a:pt x="983" y="824"/>
                        </a:lnTo>
                        <a:lnTo>
                          <a:pt x="983" y="828"/>
                        </a:lnTo>
                        <a:lnTo>
                          <a:pt x="978" y="833"/>
                        </a:lnTo>
                        <a:lnTo>
                          <a:pt x="973" y="838"/>
                        </a:lnTo>
                        <a:lnTo>
                          <a:pt x="969" y="843"/>
                        </a:lnTo>
                        <a:lnTo>
                          <a:pt x="969" y="848"/>
                        </a:lnTo>
                        <a:lnTo>
                          <a:pt x="964" y="848"/>
                        </a:lnTo>
                        <a:lnTo>
                          <a:pt x="964" y="852"/>
                        </a:lnTo>
                        <a:lnTo>
                          <a:pt x="964" y="857"/>
                        </a:lnTo>
                        <a:lnTo>
                          <a:pt x="959" y="862"/>
                        </a:lnTo>
                        <a:lnTo>
                          <a:pt x="959" y="867"/>
                        </a:lnTo>
                        <a:lnTo>
                          <a:pt x="954" y="867"/>
                        </a:lnTo>
                        <a:lnTo>
                          <a:pt x="954" y="871"/>
                        </a:lnTo>
                        <a:lnTo>
                          <a:pt x="954" y="876"/>
                        </a:lnTo>
                        <a:lnTo>
                          <a:pt x="949" y="881"/>
                        </a:lnTo>
                        <a:lnTo>
                          <a:pt x="945" y="886"/>
                        </a:lnTo>
                        <a:lnTo>
                          <a:pt x="945" y="891"/>
                        </a:lnTo>
                        <a:lnTo>
                          <a:pt x="940" y="895"/>
                        </a:lnTo>
                        <a:lnTo>
                          <a:pt x="935" y="900"/>
                        </a:lnTo>
                        <a:lnTo>
                          <a:pt x="930" y="905"/>
                        </a:lnTo>
                        <a:lnTo>
                          <a:pt x="930" y="910"/>
                        </a:lnTo>
                        <a:lnTo>
                          <a:pt x="925" y="915"/>
                        </a:lnTo>
                        <a:lnTo>
                          <a:pt x="921" y="919"/>
                        </a:lnTo>
                        <a:lnTo>
                          <a:pt x="916" y="924"/>
                        </a:lnTo>
                        <a:lnTo>
                          <a:pt x="916" y="929"/>
                        </a:lnTo>
                        <a:lnTo>
                          <a:pt x="911" y="934"/>
                        </a:lnTo>
                        <a:lnTo>
                          <a:pt x="906" y="939"/>
                        </a:lnTo>
                        <a:lnTo>
                          <a:pt x="901" y="943"/>
                        </a:lnTo>
                        <a:lnTo>
                          <a:pt x="897" y="948"/>
                        </a:lnTo>
                        <a:lnTo>
                          <a:pt x="897" y="953"/>
                        </a:lnTo>
                        <a:lnTo>
                          <a:pt x="892" y="958"/>
                        </a:lnTo>
                        <a:lnTo>
                          <a:pt x="887" y="962"/>
                        </a:lnTo>
                        <a:lnTo>
                          <a:pt x="882" y="967"/>
                        </a:lnTo>
                        <a:lnTo>
                          <a:pt x="878" y="972"/>
                        </a:lnTo>
                        <a:lnTo>
                          <a:pt x="878" y="977"/>
                        </a:lnTo>
                        <a:lnTo>
                          <a:pt x="873" y="982"/>
                        </a:lnTo>
                        <a:lnTo>
                          <a:pt x="868" y="986"/>
                        </a:lnTo>
                        <a:lnTo>
                          <a:pt x="863" y="991"/>
                        </a:lnTo>
                        <a:lnTo>
                          <a:pt x="858" y="996"/>
                        </a:lnTo>
                        <a:lnTo>
                          <a:pt x="854" y="1001"/>
                        </a:lnTo>
                        <a:lnTo>
                          <a:pt x="849" y="1006"/>
                        </a:lnTo>
                        <a:lnTo>
                          <a:pt x="844" y="1010"/>
                        </a:lnTo>
                        <a:lnTo>
                          <a:pt x="839" y="1015"/>
                        </a:lnTo>
                        <a:lnTo>
                          <a:pt x="834" y="1020"/>
                        </a:lnTo>
                        <a:lnTo>
                          <a:pt x="830" y="1025"/>
                        </a:lnTo>
                        <a:lnTo>
                          <a:pt x="830" y="1030"/>
                        </a:lnTo>
                        <a:lnTo>
                          <a:pt x="825" y="1030"/>
                        </a:lnTo>
                        <a:lnTo>
                          <a:pt x="820" y="1030"/>
                        </a:lnTo>
                        <a:lnTo>
                          <a:pt x="820" y="1034"/>
                        </a:lnTo>
                        <a:lnTo>
                          <a:pt x="815" y="1034"/>
                        </a:lnTo>
                        <a:lnTo>
                          <a:pt x="810" y="1034"/>
                        </a:lnTo>
                        <a:lnTo>
                          <a:pt x="810" y="1039"/>
                        </a:lnTo>
                        <a:lnTo>
                          <a:pt x="806" y="1039"/>
                        </a:lnTo>
                        <a:lnTo>
                          <a:pt x="806" y="1044"/>
                        </a:lnTo>
                        <a:lnTo>
                          <a:pt x="801" y="1049"/>
                        </a:lnTo>
                        <a:lnTo>
                          <a:pt x="791" y="1053"/>
                        </a:lnTo>
                        <a:lnTo>
                          <a:pt x="786" y="1058"/>
                        </a:lnTo>
                        <a:lnTo>
                          <a:pt x="782" y="1063"/>
                        </a:lnTo>
                        <a:lnTo>
                          <a:pt x="777" y="1068"/>
                        </a:lnTo>
                        <a:lnTo>
                          <a:pt x="772" y="1068"/>
                        </a:lnTo>
                        <a:lnTo>
                          <a:pt x="767" y="1073"/>
                        </a:lnTo>
                        <a:lnTo>
                          <a:pt x="762" y="1077"/>
                        </a:lnTo>
                        <a:lnTo>
                          <a:pt x="753" y="1082"/>
                        </a:lnTo>
                        <a:lnTo>
                          <a:pt x="748" y="1082"/>
                        </a:lnTo>
                        <a:lnTo>
                          <a:pt x="743" y="1087"/>
                        </a:lnTo>
                        <a:lnTo>
                          <a:pt x="738" y="1092"/>
                        </a:lnTo>
                        <a:lnTo>
                          <a:pt x="734" y="1092"/>
                        </a:lnTo>
                        <a:lnTo>
                          <a:pt x="724" y="1097"/>
                        </a:lnTo>
                        <a:lnTo>
                          <a:pt x="719" y="1097"/>
                        </a:lnTo>
                        <a:lnTo>
                          <a:pt x="714" y="1101"/>
                        </a:lnTo>
                        <a:lnTo>
                          <a:pt x="705" y="1101"/>
                        </a:lnTo>
                        <a:lnTo>
                          <a:pt x="700" y="1106"/>
                        </a:lnTo>
                        <a:lnTo>
                          <a:pt x="695" y="1106"/>
                        </a:lnTo>
                        <a:lnTo>
                          <a:pt x="690" y="1111"/>
                        </a:lnTo>
                        <a:lnTo>
                          <a:pt x="681" y="1111"/>
                        </a:lnTo>
                        <a:lnTo>
                          <a:pt x="676" y="1116"/>
                        </a:lnTo>
                        <a:lnTo>
                          <a:pt x="671" y="1116"/>
                        </a:lnTo>
                        <a:lnTo>
                          <a:pt x="662" y="1116"/>
                        </a:lnTo>
                        <a:lnTo>
                          <a:pt x="657" y="1120"/>
                        </a:lnTo>
                        <a:lnTo>
                          <a:pt x="652" y="1120"/>
                        </a:lnTo>
                        <a:lnTo>
                          <a:pt x="642" y="1120"/>
                        </a:lnTo>
                        <a:lnTo>
                          <a:pt x="638" y="1120"/>
                        </a:lnTo>
                        <a:lnTo>
                          <a:pt x="633" y="1125"/>
                        </a:lnTo>
                        <a:lnTo>
                          <a:pt x="623" y="1125"/>
                        </a:lnTo>
                        <a:lnTo>
                          <a:pt x="618" y="1125"/>
                        </a:lnTo>
                        <a:lnTo>
                          <a:pt x="614" y="1125"/>
                        </a:lnTo>
                        <a:lnTo>
                          <a:pt x="594" y="1120"/>
                        </a:lnTo>
                        <a:lnTo>
                          <a:pt x="575" y="1116"/>
                        </a:lnTo>
                        <a:lnTo>
                          <a:pt x="556" y="1111"/>
                        </a:lnTo>
                        <a:lnTo>
                          <a:pt x="537" y="1101"/>
                        </a:lnTo>
                        <a:lnTo>
                          <a:pt x="518" y="1097"/>
                        </a:lnTo>
                        <a:lnTo>
                          <a:pt x="499" y="1087"/>
                        </a:lnTo>
                        <a:lnTo>
                          <a:pt x="484" y="1077"/>
                        </a:lnTo>
                        <a:lnTo>
                          <a:pt x="465" y="1073"/>
                        </a:lnTo>
                        <a:lnTo>
                          <a:pt x="446" y="1063"/>
                        </a:lnTo>
                        <a:lnTo>
                          <a:pt x="427" y="1049"/>
                        </a:lnTo>
                        <a:lnTo>
                          <a:pt x="407" y="1039"/>
                        </a:lnTo>
                        <a:lnTo>
                          <a:pt x="393" y="1030"/>
                        </a:lnTo>
                        <a:lnTo>
                          <a:pt x="374" y="1015"/>
                        </a:lnTo>
                        <a:lnTo>
                          <a:pt x="359" y="1006"/>
                        </a:lnTo>
                        <a:lnTo>
                          <a:pt x="340" y="991"/>
                        </a:lnTo>
                        <a:lnTo>
                          <a:pt x="326" y="977"/>
                        </a:lnTo>
                        <a:lnTo>
                          <a:pt x="311" y="967"/>
                        </a:lnTo>
                        <a:lnTo>
                          <a:pt x="292" y="953"/>
                        </a:lnTo>
                        <a:lnTo>
                          <a:pt x="278" y="939"/>
                        </a:lnTo>
                        <a:lnTo>
                          <a:pt x="263" y="919"/>
                        </a:lnTo>
                        <a:lnTo>
                          <a:pt x="249" y="905"/>
                        </a:lnTo>
                        <a:lnTo>
                          <a:pt x="239" y="891"/>
                        </a:lnTo>
                        <a:lnTo>
                          <a:pt x="225" y="876"/>
                        </a:lnTo>
                        <a:lnTo>
                          <a:pt x="211" y="857"/>
                        </a:lnTo>
                        <a:lnTo>
                          <a:pt x="201" y="843"/>
                        </a:lnTo>
                        <a:lnTo>
                          <a:pt x="192" y="824"/>
                        </a:lnTo>
                        <a:lnTo>
                          <a:pt x="182" y="804"/>
                        </a:lnTo>
                        <a:lnTo>
                          <a:pt x="172" y="790"/>
                        </a:lnTo>
                        <a:lnTo>
                          <a:pt x="163" y="771"/>
                        </a:lnTo>
                        <a:lnTo>
                          <a:pt x="158" y="752"/>
                        </a:lnTo>
                        <a:lnTo>
                          <a:pt x="148" y="733"/>
                        </a:lnTo>
                        <a:lnTo>
                          <a:pt x="144" y="713"/>
                        </a:lnTo>
                        <a:lnTo>
                          <a:pt x="139" y="709"/>
                        </a:lnTo>
                        <a:lnTo>
                          <a:pt x="139" y="704"/>
                        </a:lnTo>
                        <a:lnTo>
                          <a:pt x="139" y="699"/>
                        </a:lnTo>
                        <a:lnTo>
                          <a:pt x="134" y="694"/>
                        </a:lnTo>
                        <a:lnTo>
                          <a:pt x="134" y="690"/>
                        </a:lnTo>
                        <a:lnTo>
                          <a:pt x="129" y="685"/>
                        </a:lnTo>
                        <a:lnTo>
                          <a:pt x="129" y="680"/>
                        </a:lnTo>
                        <a:lnTo>
                          <a:pt x="129" y="675"/>
                        </a:lnTo>
                        <a:lnTo>
                          <a:pt x="124" y="670"/>
                        </a:lnTo>
                        <a:lnTo>
                          <a:pt x="124" y="661"/>
                        </a:lnTo>
                        <a:lnTo>
                          <a:pt x="124" y="656"/>
                        </a:lnTo>
                        <a:lnTo>
                          <a:pt x="120" y="651"/>
                        </a:lnTo>
                        <a:lnTo>
                          <a:pt x="120" y="646"/>
                        </a:lnTo>
                        <a:lnTo>
                          <a:pt x="120" y="642"/>
                        </a:lnTo>
                        <a:lnTo>
                          <a:pt x="115" y="637"/>
                        </a:lnTo>
                        <a:lnTo>
                          <a:pt x="115" y="632"/>
                        </a:lnTo>
                        <a:lnTo>
                          <a:pt x="115" y="627"/>
                        </a:lnTo>
                        <a:lnTo>
                          <a:pt x="110" y="623"/>
                        </a:lnTo>
                        <a:lnTo>
                          <a:pt x="110" y="613"/>
                        </a:lnTo>
                        <a:lnTo>
                          <a:pt x="110" y="608"/>
                        </a:lnTo>
                        <a:lnTo>
                          <a:pt x="105" y="603"/>
                        </a:lnTo>
                        <a:lnTo>
                          <a:pt x="105" y="599"/>
                        </a:lnTo>
                        <a:lnTo>
                          <a:pt x="105" y="594"/>
                        </a:lnTo>
                        <a:lnTo>
                          <a:pt x="100" y="589"/>
                        </a:lnTo>
                        <a:lnTo>
                          <a:pt x="100" y="584"/>
                        </a:lnTo>
                        <a:lnTo>
                          <a:pt x="100" y="579"/>
                        </a:lnTo>
                        <a:lnTo>
                          <a:pt x="96" y="570"/>
                        </a:lnTo>
                        <a:lnTo>
                          <a:pt x="96" y="565"/>
                        </a:lnTo>
                        <a:lnTo>
                          <a:pt x="96" y="560"/>
                        </a:lnTo>
                        <a:lnTo>
                          <a:pt x="91" y="555"/>
                        </a:lnTo>
                        <a:lnTo>
                          <a:pt x="91" y="551"/>
                        </a:lnTo>
                        <a:lnTo>
                          <a:pt x="86" y="546"/>
                        </a:lnTo>
                        <a:lnTo>
                          <a:pt x="86" y="541"/>
                        </a:lnTo>
                        <a:lnTo>
                          <a:pt x="81" y="532"/>
                        </a:lnTo>
                        <a:lnTo>
                          <a:pt x="76" y="527"/>
                        </a:lnTo>
                        <a:lnTo>
                          <a:pt x="72" y="517"/>
                        </a:lnTo>
                        <a:lnTo>
                          <a:pt x="72" y="512"/>
                        </a:lnTo>
                        <a:lnTo>
                          <a:pt x="67" y="503"/>
                        </a:lnTo>
                        <a:lnTo>
                          <a:pt x="62" y="498"/>
                        </a:lnTo>
                        <a:lnTo>
                          <a:pt x="62" y="488"/>
                        </a:lnTo>
                        <a:lnTo>
                          <a:pt x="57" y="484"/>
                        </a:lnTo>
                        <a:lnTo>
                          <a:pt x="52" y="474"/>
                        </a:lnTo>
                        <a:lnTo>
                          <a:pt x="52" y="469"/>
                        </a:lnTo>
                        <a:lnTo>
                          <a:pt x="48" y="460"/>
                        </a:lnTo>
                        <a:lnTo>
                          <a:pt x="48" y="455"/>
                        </a:lnTo>
                        <a:lnTo>
                          <a:pt x="43" y="445"/>
                        </a:lnTo>
                        <a:lnTo>
                          <a:pt x="43" y="441"/>
                        </a:lnTo>
                        <a:lnTo>
                          <a:pt x="38" y="431"/>
                        </a:lnTo>
                        <a:lnTo>
                          <a:pt x="38" y="426"/>
                        </a:lnTo>
                        <a:lnTo>
                          <a:pt x="33" y="417"/>
                        </a:lnTo>
                        <a:lnTo>
                          <a:pt x="33" y="407"/>
                        </a:lnTo>
                        <a:lnTo>
                          <a:pt x="28" y="402"/>
                        </a:lnTo>
                        <a:lnTo>
                          <a:pt x="28" y="393"/>
                        </a:lnTo>
                        <a:lnTo>
                          <a:pt x="28" y="388"/>
                        </a:lnTo>
                        <a:lnTo>
                          <a:pt x="24" y="378"/>
                        </a:lnTo>
                        <a:lnTo>
                          <a:pt x="24" y="374"/>
                        </a:lnTo>
                        <a:lnTo>
                          <a:pt x="24" y="364"/>
                        </a:lnTo>
                        <a:lnTo>
                          <a:pt x="19" y="354"/>
                        </a:lnTo>
                        <a:lnTo>
                          <a:pt x="19" y="350"/>
                        </a:lnTo>
                        <a:lnTo>
                          <a:pt x="19" y="340"/>
                        </a:lnTo>
                        <a:lnTo>
                          <a:pt x="14" y="335"/>
                        </a:lnTo>
                        <a:lnTo>
                          <a:pt x="14" y="326"/>
                        </a:lnTo>
                        <a:lnTo>
                          <a:pt x="14" y="316"/>
                        </a:lnTo>
                        <a:lnTo>
                          <a:pt x="14" y="311"/>
                        </a:lnTo>
                        <a:lnTo>
                          <a:pt x="14" y="302"/>
                        </a:lnTo>
                        <a:lnTo>
                          <a:pt x="9" y="297"/>
                        </a:lnTo>
                        <a:lnTo>
                          <a:pt x="9" y="292"/>
                        </a:lnTo>
                        <a:lnTo>
                          <a:pt x="9" y="287"/>
                        </a:lnTo>
                        <a:lnTo>
                          <a:pt x="4" y="283"/>
                        </a:lnTo>
                        <a:lnTo>
                          <a:pt x="4" y="273"/>
                        </a:lnTo>
                        <a:lnTo>
                          <a:pt x="4" y="268"/>
                        </a:lnTo>
                        <a:lnTo>
                          <a:pt x="4" y="263"/>
                        </a:lnTo>
                        <a:lnTo>
                          <a:pt x="4" y="259"/>
                        </a:lnTo>
                        <a:lnTo>
                          <a:pt x="4" y="249"/>
                        </a:lnTo>
                        <a:lnTo>
                          <a:pt x="0" y="244"/>
                        </a:lnTo>
                        <a:lnTo>
                          <a:pt x="0" y="239"/>
                        </a:lnTo>
                        <a:lnTo>
                          <a:pt x="0" y="235"/>
                        </a:lnTo>
                        <a:lnTo>
                          <a:pt x="0" y="230"/>
                        </a:lnTo>
                        <a:lnTo>
                          <a:pt x="0" y="220"/>
                        </a:lnTo>
                        <a:lnTo>
                          <a:pt x="0" y="216"/>
                        </a:lnTo>
                        <a:lnTo>
                          <a:pt x="0" y="211"/>
                        </a:lnTo>
                        <a:lnTo>
                          <a:pt x="0" y="206"/>
                        </a:lnTo>
                        <a:lnTo>
                          <a:pt x="0" y="196"/>
                        </a:lnTo>
                        <a:lnTo>
                          <a:pt x="0" y="192"/>
                        </a:lnTo>
                        <a:lnTo>
                          <a:pt x="0" y="187"/>
                        </a:lnTo>
                        <a:lnTo>
                          <a:pt x="4" y="182"/>
                        </a:lnTo>
                        <a:lnTo>
                          <a:pt x="4" y="172"/>
                        </a:lnTo>
                        <a:lnTo>
                          <a:pt x="4" y="168"/>
                        </a:lnTo>
                        <a:lnTo>
                          <a:pt x="4" y="163"/>
                        </a:lnTo>
                        <a:lnTo>
                          <a:pt x="4" y="158"/>
                        </a:lnTo>
                        <a:lnTo>
                          <a:pt x="9" y="153"/>
                        </a:lnTo>
                        <a:lnTo>
                          <a:pt x="9" y="144"/>
                        </a:lnTo>
                        <a:lnTo>
                          <a:pt x="9" y="139"/>
                        </a:lnTo>
                        <a:lnTo>
                          <a:pt x="14" y="134"/>
                        </a:lnTo>
                        <a:lnTo>
                          <a:pt x="14" y="129"/>
                        </a:lnTo>
                        <a:lnTo>
                          <a:pt x="14" y="125"/>
                        </a:lnTo>
                        <a:lnTo>
                          <a:pt x="14" y="120"/>
                        </a:lnTo>
                        <a:lnTo>
                          <a:pt x="19" y="120"/>
                        </a:lnTo>
                        <a:lnTo>
                          <a:pt x="19" y="115"/>
                        </a:lnTo>
                        <a:lnTo>
                          <a:pt x="19" y="110"/>
                        </a:lnTo>
                        <a:lnTo>
                          <a:pt x="19" y="105"/>
                        </a:lnTo>
                        <a:lnTo>
                          <a:pt x="19" y="101"/>
                        </a:lnTo>
                        <a:lnTo>
                          <a:pt x="19" y="96"/>
                        </a:lnTo>
                        <a:lnTo>
                          <a:pt x="19" y="91"/>
                        </a:lnTo>
                        <a:lnTo>
                          <a:pt x="19" y="86"/>
                        </a:lnTo>
                        <a:lnTo>
                          <a:pt x="19" y="81"/>
                        </a:lnTo>
                        <a:lnTo>
                          <a:pt x="19" y="77"/>
                        </a:lnTo>
                        <a:lnTo>
                          <a:pt x="24" y="77"/>
                        </a:lnTo>
                        <a:lnTo>
                          <a:pt x="24" y="72"/>
                        </a:lnTo>
                        <a:lnTo>
                          <a:pt x="24" y="67"/>
                        </a:lnTo>
                        <a:lnTo>
                          <a:pt x="24" y="62"/>
                        </a:lnTo>
                        <a:lnTo>
                          <a:pt x="28" y="62"/>
                        </a:lnTo>
                        <a:lnTo>
                          <a:pt x="28" y="57"/>
                        </a:lnTo>
                        <a:lnTo>
                          <a:pt x="33" y="67"/>
                        </a:lnTo>
                        <a:lnTo>
                          <a:pt x="38" y="77"/>
                        </a:lnTo>
                        <a:lnTo>
                          <a:pt x="43" y="86"/>
                        </a:lnTo>
                        <a:lnTo>
                          <a:pt x="48" y="91"/>
                        </a:lnTo>
                        <a:lnTo>
                          <a:pt x="52" y="101"/>
                        </a:lnTo>
                        <a:lnTo>
                          <a:pt x="57" y="105"/>
                        </a:lnTo>
                        <a:lnTo>
                          <a:pt x="62" y="115"/>
                        </a:lnTo>
                        <a:lnTo>
                          <a:pt x="67" y="120"/>
                        </a:lnTo>
                        <a:lnTo>
                          <a:pt x="72" y="129"/>
                        </a:lnTo>
                        <a:lnTo>
                          <a:pt x="76" y="134"/>
                        </a:lnTo>
                        <a:lnTo>
                          <a:pt x="86" y="139"/>
                        </a:lnTo>
                        <a:lnTo>
                          <a:pt x="91" y="144"/>
                        </a:lnTo>
                        <a:lnTo>
                          <a:pt x="100" y="153"/>
                        </a:lnTo>
                        <a:lnTo>
                          <a:pt x="105" y="158"/>
                        </a:lnTo>
                        <a:lnTo>
                          <a:pt x="110" y="163"/>
                        </a:lnTo>
                        <a:lnTo>
                          <a:pt x="120" y="168"/>
                        </a:lnTo>
                        <a:lnTo>
                          <a:pt x="129" y="172"/>
                        </a:lnTo>
                        <a:lnTo>
                          <a:pt x="134" y="177"/>
                        </a:lnTo>
                        <a:lnTo>
                          <a:pt x="144" y="177"/>
                        </a:lnTo>
                        <a:lnTo>
                          <a:pt x="148" y="182"/>
                        </a:lnTo>
                        <a:lnTo>
                          <a:pt x="158" y="187"/>
                        </a:lnTo>
                        <a:lnTo>
                          <a:pt x="168" y="192"/>
                        </a:lnTo>
                        <a:lnTo>
                          <a:pt x="177" y="196"/>
                        </a:lnTo>
                        <a:lnTo>
                          <a:pt x="182" y="196"/>
                        </a:lnTo>
                        <a:lnTo>
                          <a:pt x="192" y="201"/>
                        </a:lnTo>
                        <a:lnTo>
                          <a:pt x="201" y="201"/>
                        </a:lnTo>
                        <a:lnTo>
                          <a:pt x="211" y="206"/>
                        </a:lnTo>
                        <a:lnTo>
                          <a:pt x="216" y="206"/>
                        </a:lnTo>
                        <a:lnTo>
                          <a:pt x="225" y="211"/>
                        </a:lnTo>
                        <a:lnTo>
                          <a:pt x="235" y="211"/>
                        </a:lnTo>
                        <a:lnTo>
                          <a:pt x="244" y="216"/>
                        </a:lnTo>
                        <a:lnTo>
                          <a:pt x="254" y="216"/>
                        </a:lnTo>
                        <a:lnTo>
                          <a:pt x="259" y="220"/>
                        </a:lnTo>
                        <a:lnTo>
                          <a:pt x="263" y="220"/>
                        </a:lnTo>
                        <a:lnTo>
                          <a:pt x="263" y="216"/>
                        </a:lnTo>
                        <a:lnTo>
                          <a:pt x="268" y="216"/>
                        </a:lnTo>
                        <a:lnTo>
                          <a:pt x="273" y="216"/>
                        </a:lnTo>
                        <a:lnTo>
                          <a:pt x="278" y="216"/>
                        </a:lnTo>
                        <a:lnTo>
                          <a:pt x="278" y="211"/>
                        </a:lnTo>
                        <a:lnTo>
                          <a:pt x="283" y="211"/>
                        </a:lnTo>
                        <a:lnTo>
                          <a:pt x="287" y="211"/>
                        </a:lnTo>
                        <a:lnTo>
                          <a:pt x="292" y="211"/>
                        </a:lnTo>
                        <a:lnTo>
                          <a:pt x="292" y="216"/>
                        </a:lnTo>
                        <a:lnTo>
                          <a:pt x="297" y="216"/>
                        </a:lnTo>
                        <a:lnTo>
                          <a:pt x="297" y="220"/>
                        </a:lnTo>
                        <a:lnTo>
                          <a:pt x="302" y="220"/>
                        </a:lnTo>
                        <a:lnTo>
                          <a:pt x="307" y="220"/>
                        </a:lnTo>
                        <a:lnTo>
                          <a:pt x="307" y="216"/>
                        </a:lnTo>
                        <a:lnTo>
                          <a:pt x="311" y="216"/>
                        </a:lnTo>
                        <a:lnTo>
                          <a:pt x="311" y="211"/>
                        </a:lnTo>
                        <a:lnTo>
                          <a:pt x="316" y="211"/>
                        </a:lnTo>
                        <a:lnTo>
                          <a:pt x="316" y="206"/>
                        </a:lnTo>
                        <a:lnTo>
                          <a:pt x="321" y="206"/>
                        </a:lnTo>
                        <a:lnTo>
                          <a:pt x="321" y="201"/>
                        </a:lnTo>
                        <a:lnTo>
                          <a:pt x="321" y="196"/>
                        </a:lnTo>
                        <a:lnTo>
                          <a:pt x="321" y="192"/>
                        </a:lnTo>
                        <a:lnTo>
                          <a:pt x="316" y="187"/>
                        </a:lnTo>
                        <a:lnTo>
                          <a:pt x="311" y="182"/>
                        </a:lnTo>
                        <a:lnTo>
                          <a:pt x="311" y="172"/>
                        </a:lnTo>
                        <a:lnTo>
                          <a:pt x="307" y="168"/>
                        </a:lnTo>
                        <a:lnTo>
                          <a:pt x="307" y="163"/>
                        </a:lnTo>
                        <a:lnTo>
                          <a:pt x="302" y="158"/>
                        </a:lnTo>
                        <a:lnTo>
                          <a:pt x="302" y="153"/>
                        </a:lnTo>
                        <a:lnTo>
                          <a:pt x="297" y="144"/>
                        </a:lnTo>
                        <a:lnTo>
                          <a:pt x="297" y="139"/>
                        </a:lnTo>
                        <a:lnTo>
                          <a:pt x="292" y="134"/>
                        </a:lnTo>
                        <a:lnTo>
                          <a:pt x="292" y="129"/>
                        </a:lnTo>
                        <a:lnTo>
                          <a:pt x="292" y="125"/>
                        </a:lnTo>
                        <a:lnTo>
                          <a:pt x="287" y="115"/>
                        </a:lnTo>
                        <a:lnTo>
                          <a:pt x="287" y="110"/>
                        </a:lnTo>
                        <a:lnTo>
                          <a:pt x="287" y="105"/>
                        </a:lnTo>
                        <a:lnTo>
                          <a:pt x="287" y="96"/>
                        </a:lnTo>
                        <a:lnTo>
                          <a:pt x="283" y="91"/>
                        </a:lnTo>
                        <a:lnTo>
                          <a:pt x="283" y="86"/>
                        </a:lnTo>
                        <a:lnTo>
                          <a:pt x="283" y="81"/>
                        </a:lnTo>
                        <a:lnTo>
                          <a:pt x="283" y="72"/>
                        </a:lnTo>
                        <a:lnTo>
                          <a:pt x="278" y="67"/>
                        </a:lnTo>
                        <a:lnTo>
                          <a:pt x="278" y="62"/>
                        </a:lnTo>
                        <a:lnTo>
                          <a:pt x="278" y="53"/>
                        </a:lnTo>
                        <a:lnTo>
                          <a:pt x="278" y="48"/>
                        </a:lnTo>
                        <a:lnTo>
                          <a:pt x="278" y="43"/>
                        </a:lnTo>
                        <a:lnTo>
                          <a:pt x="278" y="34"/>
                        </a:lnTo>
                        <a:lnTo>
                          <a:pt x="273" y="29"/>
                        </a:lnTo>
                        <a:lnTo>
                          <a:pt x="273" y="24"/>
                        </a:lnTo>
                        <a:lnTo>
                          <a:pt x="273" y="14"/>
                        </a:lnTo>
                        <a:lnTo>
                          <a:pt x="273" y="10"/>
                        </a:lnTo>
                        <a:lnTo>
                          <a:pt x="273" y="5"/>
                        </a:lnTo>
                        <a:lnTo>
                          <a:pt x="278" y="10"/>
                        </a:lnTo>
                        <a:lnTo>
                          <a:pt x="278" y="14"/>
                        </a:lnTo>
                        <a:lnTo>
                          <a:pt x="283" y="24"/>
                        </a:lnTo>
                        <a:lnTo>
                          <a:pt x="287" y="29"/>
                        </a:lnTo>
                        <a:lnTo>
                          <a:pt x="292" y="34"/>
                        </a:lnTo>
                        <a:lnTo>
                          <a:pt x="297" y="38"/>
                        </a:lnTo>
                        <a:lnTo>
                          <a:pt x="302" y="48"/>
                        </a:lnTo>
                        <a:lnTo>
                          <a:pt x="307" y="53"/>
                        </a:lnTo>
                        <a:lnTo>
                          <a:pt x="311" y="57"/>
                        </a:lnTo>
                        <a:lnTo>
                          <a:pt x="321" y="62"/>
                        </a:lnTo>
                        <a:lnTo>
                          <a:pt x="326" y="67"/>
                        </a:lnTo>
                        <a:lnTo>
                          <a:pt x="331" y="72"/>
                        </a:lnTo>
                        <a:lnTo>
                          <a:pt x="335" y="77"/>
                        </a:lnTo>
                        <a:lnTo>
                          <a:pt x="340" y="81"/>
                        </a:lnTo>
                        <a:lnTo>
                          <a:pt x="345" y="86"/>
                        </a:lnTo>
                        <a:lnTo>
                          <a:pt x="355" y="91"/>
                        </a:lnTo>
                        <a:lnTo>
                          <a:pt x="359" y="96"/>
                        </a:lnTo>
                        <a:lnTo>
                          <a:pt x="364" y="101"/>
                        </a:lnTo>
                        <a:lnTo>
                          <a:pt x="369" y="105"/>
                        </a:lnTo>
                        <a:lnTo>
                          <a:pt x="379" y="110"/>
                        </a:lnTo>
                        <a:lnTo>
                          <a:pt x="383" y="115"/>
                        </a:lnTo>
                        <a:lnTo>
                          <a:pt x="388" y="120"/>
                        </a:lnTo>
                        <a:lnTo>
                          <a:pt x="398" y="125"/>
                        </a:lnTo>
                        <a:lnTo>
                          <a:pt x="403" y="129"/>
                        </a:lnTo>
                        <a:lnTo>
                          <a:pt x="407" y="129"/>
                        </a:lnTo>
                        <a:lnTo>
                          <a:pt x="417" y="134"/>
                        </a:lnTo>
                        <a:lnTo>
                          <a:pt x="422" y="139"/>
                        </a:lnTo>
                        <a:lnTo>
                          <a:pt x="427" y="139"/>
                        </a:lnTo>
                        <a:lnTo>
                          <a:pt x="436" y="144"/>
                        </a:lnTo>
                        <a:lnTo>
                          <a:pt x="441" y="148"/>
                        </a:lnTo>
                        <a:lnTo>
                          <a:pt x="451" y="148"/>
                        </a:lnTo>
                        <a:lnTo>
                          <a:pt x="455" y="153"/>
                        </a:lnTo>
                        <a:lnTo>
                          <a:pt x="460" y="153"/>
                        </a:lnTo>
                        <a:lnTo>
                          <a:pt x="465" y="153"/>
                        </a:lnTo>
                        <a:lnTo>
                          <a:pt x="470" y="153"/>
                        </a:lnTo>
                        <a:lnTo>
                          <a:pt x="475" y="153"/>
                        </a:lnTo>
                        <a:lnTo>
                          <a:pt x="475" y="158"/>
                        </a:lnTo>
                        <a:lnTo>
                          <a:pt x="479" y="158"/>
                        </a:lnTo>
                        <a:lnTo>
                          <a:pt x="484" y="158"/>
                        </a:lnTo>
                        <a:lnTo>
                          <a:pt x="489" y="158"/>
                        </a:lnTo>
                        <a:lnTo>
                          <a:pt x="494" y="158"/>
                        </a:lnTo>
                        <a:lnTo>
                          <a:pt x="499" y="158"/>
                        </a:lnTo>
                        <a:lnTo>
                          <a:pt x="503" y="158"/>
                        </a:lnTo>
                        <a:lnTo>
                          <a:pt x="503" y="163"/>
                        </a:lnTo>
                        <a:lnTo>
                          <a:pt x="499" y="163"/>
                        </a:lnTo>
                        <a:lnTo>
                          <a:pt x="494" y="168"/>
                        </a:lnTo>
                        <a:lnTo>
                          <a:pt x="489" y="172"/>
                        </a:lnTo>
                        <a:lnTo>
                          <a:pt x="484" y="172"/>
                        </a:lnTo>
                        <a:lnTo>
                          <a:pt x="484" y="177"/>
                        </a:lnTo>
                        <a:lnTo>
                          <a:pt x="479" y="177"/>
                        </a:lnTo>
                        <a:lnTo>
                          <a:pt x="475" y="182"/>
                        </a:lnTo>
                        <a:lnTo>
                          <a:pt x="475" y="187"/>
                        </a:lnTo>
                        <a:lnTo>
                          <a:pt x="470" y="187"/>
                        </a:lnTo>
                        <a:lnTo>
                          <a:pt x="465" y="192"/>
                        </a:lnTo>
                        <a:lnTo>
                          <a:pt x="460" y="196"/>
                        </a:lnTo>
                        <a:lnTo>
                          <a:pt x="460" y="201"/>
                        </a:lnTo>
                        <a:lnTo>
                          <a:pt x="455" y="201"/>
                        </a:lnTo>
                        <a:lnTo>
                          <a:pt x="451" y="206"/>
                        </a:lnTo>
                        <a:lnTo>
                          <a:pt x="451" y="211"/>
                        </a:lnTo>
                        <a:lnTo>
                          <a:pt x="446" y="211"/>
                        </a:lnTo>
                        <a:lnTo>
                          <a:pt x="446" y="216"/>
                        </a:lnTo>
                        <a:lnTo>
                          <a:pt x="441" y="220"/>
                        </a:lnTo>
                        <a:lnTo>
                          <a:pt x="436" y="225"/>
                        </a:lnTo>
                        <a:lnTo>
                          <a:pt x="436" y="230"/>
                        </a:lnTo>
                        <a:lnTo>
                          <a:pt x="431" y="230"/>
                        </a:lnTo>
                        <a:lnTo>
                          <a:pt x="431" y="235"/>
                        </a:lnTo>
                        <a:lnTo>
                          <a:pt x="427" y="239"/>
                        </a:lnTo>
                        <a:lnTo>
                          <a:pt x="427" y="244"/>
                        </a:lnTo>
                        <a:lnTo>
                          <a:pt x="422" y="244"/>
                        </a:lnTo>
                        <a:lnTo>
                          <a:pt x="422" y="249"/>
                        </a:lnTo>
                        <a:lnTo>
                          <a:pt x="417" y="254"/>
                        </a:lnTo>
                        <a:lnTo>
                          <a:pt x="417" y="259"/>
                        </a:lnTo>
                        <a:lnTo>
                          <a:pt x="422" y="259"/>
                        </a:lnTo>
                        <a:lnTo>
                          <a:pt x="422" y="263"/>
                        </a:lnTo>
                        <a:lnTo>
                          <a:pt x="427" y="263"/>
                        </a:lnTo>
                        <a:lnTo>
                          <a:pt x="431" y="263"/>
                        </a:lnTo>
                        <a:lnTo>
                          <a:pt x="431" y="268"/>
                        </a:lnTo>
                        <a:lnTo>
                          <a:pt x="436" y="268"/>
                        </a:lnTo>
                        <a:lnTo>
                          <a:pt x="436" y="263"/>
                        </a:lnTo>
                        <a:lnTo>
                          <a:pt x="441" y="263"/>
                        </a:lnTo>
                        <a:lnTo>
                          <a:pt x="446" y="263"/>
                        </a:lnTo>
                        <a:lnTo>
                          <a:pt x="451" y="254"/>
                        </a:lnTo>
                        <a:lnTo>
                          <a:pt x="455" y="249"/>
                        </a:lnTo>
                        <a:lnTo>
                          <a:pt x="455" y="244"/>
                        </a:lnTo>
                        <a:lnTo>
                          <a:pt x="460" y="239"/>
                        </a:lnTo>
                        <a:lnTo>
                          <a:pt x="465" y="235"/>
                        </a:lnTo>
                        <a:lnTo>
                          <a:pt x="470" y="230"/>
                        </a:lnTo>
                        <a:lnTo>
                          <a:pt x="475" y="225"/>
                        </a:lnTo>
                        <a:lnTo>
                          <a:pt x="479" y="220"/>
                        </a:lnTo>
                        <a:lnTo>
                          <a:pt x="484" y="216"/>
                        </a:lnTo>
                        <a:lnTo>
                          <a:pt x="489" y="211"/>
                        </a:lnTo>
                        <a:lnTo>
                          <a:pt x="494" y="206"/>
                        </a:lnTo>
                        <a:lnTo>
                          <a:pt x="499" y="201"/>
                        </a:lnTo>
                        <a:lnTo>
                          <a:pt x="503" y="196"/>
                        </a:lnTo>
                        <a:lnTo>
                          <a:pt x="508" y="192"/>
                        </a:lnTo>
                        <a:lnTo>
                          <a:pt x="518" y="187"/>
                        </a:lnTo>
                        <a:lnTo>
                          <a:pt x="523" y="182"/>
                        </a:lnTo>
                        <a:lnTo>
                          <a:pt x="527" y="182"/>
                        </a:lnTo>
                        <a:lnTo>
                          <a:pt x="532" y="177"/>
                        </a:lnTo>
                        <a:lnTo>
                          <a:pt x="537" y="172"/>
                        </a:lnTo>
                        <a:lnTo>
                          <a:pt x="547" y="172"/>
                        </a:lnTo>
                        <a:lnTo>
                          <a:pt x="551" y="168"/>
                        </a:lnTo>
                        <a:lnTo>
                          <a:pt x="556" y="163"/>
                        </a:lnTo>
                        <a:lnTo>
                          <a:pt x="561" y="163"/>
                        </a:lnTo>
                        <a:lnTo>
                          <a:pt x="570" y="158"/>
                        </a:lnTo>
                        <a:lnTo>
                          <a:pt x="575" y="158"/>
                        </a:lnTo>
                        <a:lnTo>
                          <a:pt x="580" y="153"/>
                        </a:lnTo>
                        <a:lnTo>
                          <a:pt x="585" y="153"/>
                        </a:lnTo>
                        <a:lnTo>
                          <a:pt x="594" y="148"/>
                        </a:lnTo>
                        <a:lnTo>
                          <a:pt x="599" y="148"/>
                        </a:lnTo>
                        <a:lnTo>
                          <a:pt x="604" y="148"/>
                        </a:lnTo>
                        <a:lnTo>
                          <a:pt x="614" y="148"/>
                        </a:lnTo>
                        <a:lnTo>
                          <a:pt x="618" y="144"/>
                        </a:lnTo>
                        <a:lnTo>
                          <a:pt x="623" y="144"/>
                        </a:lnTo>
                        <a:lnTo>
                          <a:pt x="628" y="144"/>
                        </a:lnTo>
                        <a:lnTo>
                          <a:pt x="633" y="144"/>
                        </a:lnTo>
                        <a:lnTo>
                          <a:pt x="638" y="148"/>
                        </a:lnTo>
                        <a:lnTo>
                          <a:pt x="642" y="148"/>
                        </a:lnTo>
                        <a:lnTo>
                          <a:pt x="647" y="148"/>
                        </a:lnTo>
                        <a:lnTo>
                          <a:pt x="652" y="148"/>
                        </a:lnTo>
                        <a:lnTo>
                          <a:pt x="657" y="153"/>
                        </a:lnTo>
                        <a:lnTo>
                          <a:pt x="662" y="153"/>
                        </a:lnTo>
                        <a:lnTo>
                          <a:pt x="666" y="153"/>
                        </a:lnTo>
                        <a:lnTo>
                          <a:pt x="671" y="158"/>
                        </a:lnTo>
                        <a:lnTo>
                          <a:pt x="676" y="158"/>
                        </a:lnTo>
                        <a:lnTo>
                          <a:pt x="676" y="163"/>
                        </a:lnTo>
                        <a:lnTo>
                          <a:pt x="681" y="163"/>
                        </a:lnTo>
                        <a:lnTo>
                          <a:pt x="686" y="163"/>
                        </a:lnTo>
                        <a:lnTo>
                          <a:pt x="690" y="168"/>
                        </a:lnTo>
                        <a:lnTo>
                          <a:pt x="695" y="168"/>
                        </a:lnTo>
                        <a:lnTo>
                          <a:pt x="700" y="168"/>
                        </a:lnTo>
                        <a:lnTo>
                          <a:pt x="705" y="172"/>
                        </a:lnTo>
                        <a:lnTo>
                          <a:pt x="710" y="172"/>
                        </a:lnTo>
                        <a:lnTo>
                          <a:pt x="714" y="172"/>
                        </a:lnTo>
                        <a:lnTo>
                          <a:pt x="724" y="158"/>
                        </a:lnTo>
                        <a:lnTo>
                          <a:pt x="719" y="153"/>
                        </a:lnTo>
                        <a:lnTo>
                          <a:pt x="714" y="148"/>
                        </a:lnTo>
                        <a:lnTo>
                          <a:pt x="710" y="148"/>
                        </a:lnTo>
                        <a:lnTo>
                          <a:pt x="705" y="144"/>
                        </a:lnTo>
                        <a:lnTo>
                          <a:pt x="700" y="139"/>
                        </a:lnTo>
                        <a:lnTo>
                          <a:pt x="695" y="139"/>
                        </a:lnTo>
                        <a:lnTo>
                          <a:pt x="695" y="134"/>
                        </a:lnTo>
                        <a:lnTo>
                          <a:pt x="690" y="134"/>
                        </a:lnTo>
                        <a:lnTo>
                          <a:pt x="686" y="129"/>
                        </a:lnTo>
                        <a:lnTo>
                          <a:pt x="681" y="129"/>
                        </a:lnTo>
                        <a:lnTo>
                          <a:pt x="676" y="125"/>
                        </a:lnTo>
                        <a:lnTo>
                          <a:pt x="671" y="125"/>
                        </a:lnTo>
                        <a:lnTo>
                          <a:pt x="666" y="120"/>
                        </a:lnTo>
                        <a:lnTo>
                          <a:pt x="662" y="120"/>
                        </a:lnTo>
                        <a:lnTo>
                          <a:pt x="652" y="120"/>
                        </a:lnTo>
                        <a:lnTo>
                          <a:pt x="647" y="120"/>
                        </a:lnTo>
                        <a:lnTo>
                          <a:pt x="642" y="115"/>
                        </a:lnTo>
                        <a:lnTo>
                          <a:pt x="638" y="115"/>
                        </a:lnTo>
                        <a:lnTo>
                          <a:pt x="633" y="115"/>
                        </a:lnTo>
                        <a:lnTo>
                          <a:pt x="628" y="115"/>
                        </a:lnTo>
                        <a:lnTo>
                          <a:pt x="623" y="115"/>
                        </a:lnTo>
                        <a:lnTo>
                          <a:pt x="618" y="115"/>
                        </a:lnTo>
                        <a:lnTo>
                          <a:pt x="614" y="115"/>
                        </a:lnTo>
                        <a:lnTo>
                          <a:pt x="609" y="115"/>
                        </a:lnTo>
                        <a:lnTo>
                          <a:pt x="604" y="115"/>
                        </a:lnTo>
                        <a:lnTo>
                          <a:pt x="599" y="115"/>
                        </a:lnTo>
                        <a:lnTo>
                          <a:pt x="594" y="115"/>
                        </a:lnTo>
                        <a:lnTo>
                          <a:pt x="590" y="120"/>
                        </a:lnTo>
                        <a:lnTo>
                          <a:pt x="585" y="120"/>
                        </a:lnTo>
                        <a:lnTo>
                          <a:pt x="580" y="120"/>
                        </a:lnTo>
                        <a:lnTo>
                          <a:pt x="575" y="125"/>
                        </a:lnTo>
                        <a:lnTo>
                          <a:pt x="570" y="125"/>
                        </a:lnTo>
                        <a:lnTo>
                          <a:pt x="566" y="120"/>
                        </a:lnTo>
                        <a:lnTo>
                          <a:pt x="561" y="115"/>
                        </a:lnTo>
                        <a:lnTo>
                          <a:pt x="561" y="110"/>
                        </a:lnTo>
                        <a:lnTo>
                          <a:pt x="556" y="105"/>
                        </a:lnTo>
                        <a:lnTo>
                          <a:pt x="556" y="101"/>
                        </a:lnTo>
                        <a:lnTo>
                          <a:pt x="556" y="96"/>
                        </a:lnTo>
                        <a:lnTo>
                          <a:pt x="551" y="96"/>
                        </a:lnTo>
                        <a:lnTo>
                          <a:pt x="551" y="91"/>
                        </a:lnTo>
                        <a:lnTo>
                          <a:pt x="551" y="86"/>
                        </a:lnTo>
                        <a:lnTo>
                          <a:pt x="551" y="81"/>
                        </a:lnTo>
                        <a:lnTo>
                          <a:pt x="547" y="81"/>
                        </a:lnTo>
                        <a:lnTo>
                          <a:pt x="547" y="77"/>
                        </a:lnTo>
                        <a:lnTo>
                          <a:pt x="547" y="72"/>
                        </a:lnTo>
                        <a:lnTo>
                          <a:pt x="547" y="67"/>
                        </a:lnTo>
                        <a:lnTo>
                          <a:pt x="547" y="62"/>
                        </a:lnTo>
                        <a:lnTo>
                          <a:pt x="547" y="57"/>
                        </a:lnTo>
                        <a:lnTo>
                          <a:pt x="542" y="53"/>
                        </a:lnTo>
                        <a:lnTo>
                          <a:pt x="542" y="48"/>
                        </a:lnTo>
                        <a:lnTo>
                          <a:pt x="542" y="43"/>
                        </a:lnTo>
                        <a:lnTo>
                          <a:pt x="542" y="38"/>
                        </a:lnTo>
                        <a:lnTo>
                          <a:pt x="542" y="34"/>
                        </a:lnTo>
                        <a:lnTo>
                          <a:pt x="542" y="29"/>
                        </a:lnTo>
                        <a:lnTo>
                          <a:pt x="542" y="24"/>
                        </a:lnTo>
                        <a:lnTo>
                          <a:pt x="542" y="19"/>
                        </a:lnTo>
                        <a:lnTo>
                          <a:pt x="542" y="14"/>
                        </a:lnTo>
                        <a:lnTo>
                          <a:pt x="542" y="10"/>
                        </a:lnTo>
                        <a:lnTo>
                          <a:pt x="542" y="5"/>
                        </a:lnTo>
                        <a:lnTo>
                          <a:pt x="542" y="10"/>
                        </a:lnTo>
                        <a:lnTo>
                          <a:pt x="547" y="14"/>
                        </a:lnTo>
                        <a:lnTo>
                          <a:pt x="551" y="19"/>
                        </a:lnTo>
                        <a:lnTo>
                          <a:pt x="551" y="24"/>
                        </a:lnTo>
                        <a:lnTo>
                          <a:pt x="556" y="34"/>
                        </a:lnTo>
                        <a:lnTo>
                          <a:pt x="561" y="38"/>
                        </a:lnTo>
                        <a:lnTo>
                          <a:pt x="566" y="43"/>
                        </a:lnTo>
                        <a:lnTo>
                          <a:pt x="570" y="48"/>
                        </a:lnTo>
                        <a:lnTo>
                          <a:pt x="575" y="53"/>
                        </a:lnTo>
                        <a:lnTo>
                          <a:pt x="580" y="57"/>
                        </a:lnTo>
                        <a:lnTo>
                          <a:pt x="580" y="62"/>
                        </a:lnTo>
                        <a:lnTo>
                          <a:pt x="585" y="67"/>
                        </a:lnTo>
                        <a:lnTo>
                          <a:pt x="590" y="67"/>
                        </a:lnTo>
                        <a:lnTo>
                          <a:pt x="599" y="72"/>
                        </a:lnTo>
                        <a:lnTo>
                          <a:pt x="604" y="77"/>
                        </a:lnTo>
                        <a:lnTo>
                          <a:pt x="609" y="81"/>
                        </a:lnTo>
                        <a:lnTo>
                          <a:pt x="614" y="86"/>
                        </a:lnTo>
                        <a:lnTo>
                          <a:pt x="618" y="86"/>
                        </a:lnTo>
                        <a:lnTo>
                          <a:pt x="623" y="91"/>
                        </a:lnTo>
                        <a:lnTo>
                          <a:pt x="628" y="96"/>
                        </a:lnTo>
                        <a:lnTo>
                          <a:pt x="633" y="96"/>
                        </a:lnTo>
                        <a:lnTo>
                          <a:pt x="642" y="101"/>
                        </a:lnTo>
                        <a:lnTo>
                          <a:pt x="647" y="105"/>
                        </a:lnTo>
                        <a:lnTo>
                          <a:pt x="652" y="105"/>
                        </a:lnTo>
                        <a:lnTo>
                          <a:pt x="657" y="110"/>
                        </a:lnTo>
                        <a:lnTo>
                          <a:pt x="662" y="110"/>
                        </a:lnTo>
                        <a:lnTo>
                          <a:pt x="671" y="115"/>
                        </a:lnTo>
                        <a:lnTo>
                          <a:pt x="676" y="115"/>
                        </a:lnTo>
                        <a:lnTo>
                          <a:pt x="681" y="120"/>
                        </a:lnTo>
                        <a:lnTo>
                          <a:pt x="686" y="120"/>
                        </a:lnTo>
                        <a:lnTo>
                          <a:pt x="695" y="125"/>
                        </a:lnTo>
                        <a:lnTo>
                          <a:pt x="700" y="125"/>
                        </a:lnTo>
                        <a:lnTo>
                          <a:pt x="700" y="129"/>
                        </a:lnTo>
                        <a:lnTo>
                          <a:pt x="705" y="129"/>
                        </a:lnTo>
                        <a:lnTo>
                          <a:pt x="710" y="129"/>
                        </a:lnTo>
                        <a:lnTo>
                          <a:pt x="714" y="129"/>
                        </a:lnTo>
                        <a:lnTo>
                          <a:pt x="719" y="129"/>
                        </a:lnTo>
                        <a:lnTo>
                          <a:pt x="724" y="129"/>
                        </a:lnTo>
                        <a:lnTo>
                          <a:pt x="729" y="134"/>
                        </a:lnTo>
                        <a:lnTo>
                          <a:pt x="734" y="134"/>
                        </a:lnTo>
                        <a:lnTo>
                          <a:pt x="738" y="134"/>
                        </a:lnTo>
                        <a:lnTo>
                          <a:pt x="743" y="134"/>
                        </a:lnTo>
                        <a:lnTo>
                          <a:pt x="748" y="134"/>
                        </a:lnTo>
                        <a:lnTo>
                          <a:pt x="753" y="129"/>
                        </a:lnTo>
                        <a:lnTo>
                          <a:pt x="758" y="129"/>
                        </a:lnTo>
                        <a:lnTo>
                          <a:pt x="762" y="129"/>
                        </a:lnTo>
                        <a:lnTo>
                          <a:pt x="767" y="129"/>
                        </a:lnTo>
                        <a:lnTo>
                          <a:pt x="772" y="129"/>
                        </a:lnTo>
                        <a:lnTo>
                          <a:pt x="777" y="129"/>
                        </a:lnTo>
                        <a:lnTo>
                          <a:pt x="782" y="129"/>
                        </a:lnTo>
                        <a:lnTo>
                          <a:pt x="782" y="125"/>
                        </a:lnTo>
                        <a:lnTo>
                          <a:pt x="786" y="125"/>
                        </a:lnTo>
                        <a:lnTo>
                          <a:pt x="786" y="120"/>
                        </a:lnTo>
                        <a:lnTo>
                          <a:pt x="786" y="115"/>
                        </a:lnTo>
                        <a:lnTo>
                          <a:pt x="791" y="115"/>
                        </a:lnTo>
                        <a:lnTo>
                          <a:pt x="791" y="110"/>
                        </a:lnTo>
                        <a:lnTo>
                          <a:pt x="791" y="105"/>
                        </a:lnTo>
                        <a:lnTo>
                          <a:pt x="791" y="101"/>
                        </a:lnTo>
                        <a:lnTo>
                          <a:pt x="791" y="96"/>
                        </a:lnTo>
                        <a:lnTo>
                          <a:pt x="786" y="96"/>
                        </a:lnTo>
                        <a:lnTo>
                          <a:pt x="786" y="91"/>
                        </a:lnTo>
                        <a:lnTo>
                          <a:pt x="786" y="86"/>
                        </a:lnTo>
                        <a:lnTo>
                          <a:pt x="786" y="81"/>
                        </a:lnTo>
                        <a:lnTo>
                          <a:pt x="782" y="81"/>
                        </a:lnTo>
                        <a:lnTo>
                          <a:pt x="782" y="77"/>
                        </a:lnTo>
                        <a:lnTo>
                          <a:pt x="782" y="72"/>
                        </a:lnTo>
                        <a:lnTo>
                          <a:pt x="777" y="67"/>
                        </a:lnTo>
                        <a:lnTo>
                          <a:pt x="777" y="62"/>
                        </a:lnTo>
                        <a:lnTo>
                          <a:pt x="772" y="62"/>
                        </a:lnTo>
                        <a:lnTo>
                          <a:pt x="772" y="57"/>
                        </a:lnTo>
                        <a:lnTo>
                          <a:pt x="772" y="53"/>
                        </a:lnTo>
                        <a:lnTo>
                          <a:pt x="767" y="48"/>
                        </a:lnTo>
                        <a:lnTo>
                          <a:pt x="767" y="43"/>
                        </a:lnTo>
                        <a:lnTo>
                          <a:pt x="767" y="38"/>
                        </a:lnTo>
                        <a:lnTo>
                          <a:pt x="762" y="0"/>
                        </a:lnTo>
                        <a:lnTo>
                          <a:pt x="767" y="10"/>
                        </a:lnTo>
                        <a:lnTo>
                          <a:pt x="772" y="14"/>
                        </a:lnTo>
                        <a:lnTo>
                          <a:pt x="777" y="24"/>
                        </a:lnTo>
                        <a:lnTo>
                          <a:pt x="782" y="29"/>
                        </a:lnTo>
                        <a:lnTo>
                          <a:pt x="786" y="38"/>
                        </a:lnTo>
                        <a:lnTo>
                          <a:pt x="791" y="43"/>
                        </a:lnTo>
                        <a:lnTo>
                          <a:pt x="796" y="53"/>
                        </a:lnTo>
                        <a:lnTo>
                          <a:pt x="801" y="57"/>
                        </a:lnTo>
                        <a:lnTo>
                          <a:pt x="806" y="67"/>
                        </a:lnTo>
                        <a:lnTo>
                          <a:pt x="810" y="72"/>
                        </a:lnTo>
                        <a:lnTo>
                          <a:pt x="815" y="81"/>
                        </a:lnTo>
                        <a:lnTo>
                          <a:pt x="820" y="86"/>
                        </a:lnTo>
                        <a:lnTo>
                          <a:pt x="825" y="96"/>
                        </a:lnTo>
                        <a:lnTo>
                          <a:pt x="830" y="101"/>
                        </a:lnTo>
                        <a:lnTo>
                          <a:pt x="839" y="105"/>
                        </a:lnTo>
                        <a:lnTo>
                          <a:pt x="844" y="115"/>
                        </a:lnTo>
                        <a:lnTo>
                          <a:pt x="849" y="120"/>
                        </a:lnTo>
                        <a:lnTo>
                          <a:pt x="854" y="125"/>
                        </a:lnTo>
                        <a:lnTo>
                          <a:pt x="863" y="134"/>
                        </a:lnTo>
                        <a:lnTo>
                          <a:pt x="868" y="139"/>
                        </a:lnTo>
                        <a:lnTo>
                          <a:pt x="878" y="144"/>
                        </a:lnTo>
                        <a:lnTo>
                          <a:pt x="882" y="148"/>
                        </a:lnTo>
                        <a:lnTo>
                          <a:pt x="892" y="153"/>
                        </a:lnTo>
                        <a:lnTo>
                          <a:pt x="897" y="158"/>
                        </a:lnTo>
                        <a:lnTo>
                          <a:pt x="906" y="163"/>
                        </a:lnTo>
                        <a:lnTo>
                          <a:pt x="911" y="168"/>
                        </a:lnTo>
                        <a:lnTo>
                          <a:pt x="921" y="172"/>
                        </a:lnTo>
                        <a:lnTo>
                          <a:pt x="930" y="172"/>
                        </a:lnTo>
                        <a:lnTo>
                          <a:pt x="935" y="177"/>
                        </a:lnTo>
                        <a:lnTo>
                          <a:pt x="945" y="182"/>
                        </a:lnTo>
                        <a:lnTo>
                          <a:pt x="954" y="182"/>
                        </a:lnTo>
                        <a:lnTo>
                          <a:pt x="959" y="182"/>
                        </a:lnTo>
                        <a:close/>
                      </a:path>
                    </a:pathLst>
                  </a:custGeom>
                  <a:solidFill>
                    <a:srgbClr val="ffd9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7" name=""/>
                  <p:cNvSpPr/>
                  <p:nvPr/>
                </p:nvSpPr>
                <p:spPr>
                  <a:xfrm flipH="1">
                    <a:off x="4070520" y="4314240"/>
                    <a:ext cx="331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196" h="95">
                        <a:moveTo>
                          <a:pt x="187" y="62"/>
                        </a:moveTo>
                        <a:lnTo>
                          <a:pt x="192" y="62"/>
                        </a:lnTo>
                        <a:lnTo>
                          <a:pt x="192" y="67"/>
                        </a:lnTo>
                        <a:lnTo>
                          <a:pt x="192" y="71"/>
                        </a:lnTo>
                        <a:lnTo>
                          <a:pt x="196" y="71"/>
                        </a:lnTo>
                        <a:lnTo>
                          <a:pt x="196" y="76"/>
                        </a:lnTo>
                        <a:lnTo>
                          <a:pt x="192" y="76"/>
                        </a:lnTo>
                        <a:lnTo>
                          <a:pt x="192" y="81"/>
                        </a:lnTo>
                        <a:lnTo>
                          <a:pt x="192" y="86"/>
                        </a:lnTo>
                        <a:lnTo>
                          <a:pt x="192" y="81"/>
                        </a:lnTo>
                        <a:lnTo>
                          <a:pt x="187" y="81"/>
                        </a:lnTo>
                        <a:lnTo>
                          <a:pt x="182" y="81"/>
                        </a:lnTo>
                        <a:lnTo>
                          <a:pt x="177" y="76"/>
                        </a:lnTo>
                        <a:lnTo>
                          <a:pt x="172" y="76"/>
                        </a:lnTo>
                        <a:lnTo>
                          <a:pt x="168" y="71"/>
                        </a:lnTo>
                        <a:lnTo>
                          <a:pt x="163" y="71"/>
                        </a:lnTo>
                        <a:lnTo>
                          <a:pt x="158" y="67"/>
                        </a:lnTo>
                        <a:lnTo>
                          <a:pt x="153" y="67"/>
                        </a:lnTo>
                        <a:lnTo>
                          <a:pt x="148" y="62"/>
                        </a:lnTo>
                        <a:lnTo>
                          <a:pt x="144" y="62"/>
                        </a:lnTo>
                        <a:lnTo>
                          <a:pt x="144" y="57"/>
                        </a:lnTo>
                        <a:lnTo>
                          <a:pt x="139" y="52"/>
                        </a:lnTo>
                        <a:lnTo>
                          <a:pt x="134" y="52"/>
                        </a:lnTo>
                        <a:lnTo>
                          <a:pt x="129" y="47"/>
                        </a:lnTo>
                        <a:lnTo>
                          <a:pt x="124" y="47"/>
                        </a:lnTo>
                        <a:lnTo>
                          <a:pt x="120" y="43"/>
                        </a:lnTo>
                        <a:lnTo>
                          <a:pt x="115" y="38"/>
                        </a:lnTo>
                        <a:lnTo>
                          <a:pt x="110" y="38"/>
                        </a:lnTo>
                        <a:lnTo>
                          <a:pt x="105" y="38"/>
                        </a:lnTo>
                        <a:lnTo>
                          <a:pt x="105" y="33"/>
                        </a:lnTo>
                        <a:lnTo>
                          <a:pt x="100" y="33"/>
                        </a:lnTo>
                        <a:lnTo>
                          <a:pt x="96" y="28"/>
                        </a:lnTo>
                        <a:lnTo>
                          <a:pt x="91" y="28"/>
                        </a:lnTo>
                        <a:lnTo>
                          <a:pt x="86" y="28"/>
                        </a:lnTo>
                        <a:lnTo>
                          <a:pt x="81" y="28"/>
                        </a:lnTo>
                        <a:lnTo>
                          <a:pt x="76" y="28"/>
                        </a:lnTo>
                        <a:lnTo>
                          <a:pt x="72" y="28"/>
                        </a:lnTo>
                        <a:lnTo>
                          <a:pt x="67" y="28"/>
                        </a:lnTo>
                        <a:lnTo>
                          <a:pt x="62" y="28"/>
                        </a:lnTo>
                        <a:lnTo>
                          <a:pt x="57" y="28"/>
                        </a:lnTo>
                        <a:lnTo>
                          <a:pt x="52" y="28"/>
                        </a:lnTo>
                        <a:lnTo>
                          <a:pt x="52" y="33"/>
                        </a:lnTo>
                        <a:lnTo>
                          <a:pt x="48" y="33"/>
                        </a:lnTo>
                        <a:lnTo>
                          <a:pt x="48" y="38"/>
                        </a:lnTo>
                        <a:lnTo>
                          <a:pt x="43" y="38"/>
                        </a:lnTo>
                        <a:lnTo>
                          <a:pt x="43" y="43"/>
                        </a:lnTo>
                        <a:lnTo>
                          <a:pt x="38" y="47"/>
                        </a:lnTo>
                        <a:lnTo>
                          <a:pt x="38" y="52"/>
                        </a:lnTo>
                        <a:lnTo>
                          <a:pt x="33" y="52"/>
                        </a:lnTo>
                        <a:lnTo>
                          <a:pt x="33" y="57"/>
                        </a:lnTo>
                        <a:lnTo>
                          <a:pt x="33" y="62"/>
                        </a:lnTo>
                        <a:lnTo>
                          <a:pt x="28" y="67"/>
                        </a:lnTo>
                        <a:lnTo>
                          <a:pt x="28" y="71"/>
                        </a:lnTo>
                        <a:lnTo>
                          <a:pt x="28" y="76"/>
                        </a:lnTo>
                        <a:lnTo>
                          <a:pt x="28" y="81"/>
                        </a:lnTo>
                        <a:lnTo>
                          <a:pt x="24" y="86"/>
                        </a:lnTo>
                        <a:lnTo>
                          <a:pt x="24" y="90"/>
                        </a:lnTo>
                        <a:lnTo>
                          <a:pt x="24" y="95"/>
                        </a:lnTo>
                        <a:lnTo>
                          <a:pt x="19" y="95"/>
                        </a:lnTo>
                        <a:lnTo>
                          <a:pt x="14" y="95"/>
                        </a:lnTo>
                        <a:lnTo>
                          <a:pt x="9" y="95"/>
                        </a:lnTo>
                        <a:lnTo>
                          <a:pt x="4" y="95"/>
                        </a:lnTo>
                        <a:lnTo>
                          <a:pt x="4" y="90"/>
                        </a:lnTo>
                        <a:lnTo>
                          <a:pt x="0" y="86"/>
                        </a:lnTo>
                        <a:lnTo>
                          <a:pt x="0" y="81"/>
                        </a:lnTo>
                        <a:lnTo>
                          <a:pt x="0" y="76"/>
                        </a:lnTo>
                        <a:lnTo>
                          <a:pt x="4" y="76"/>
                        </a:lnTo>
                        <a:lnTo>
                          <a:pt x="4" y="71"/>
                        </a:lnTo>
                        <a:lnTo>
                          <a:pt x="4" y="67"/>
                        </a:lnTo>
                        <a:lnTo>
                          <a:pt x="4" y="62"/>
                        </a:lnTo>
                        <a:lnTo>
                          <a:pt x="4" y="57"/>
                        </a:lnTo>
                        <a:lnTo>
                          <a:pt x="9" y="52"/>
                        </a:lnTo>
                        <a:lnTo>
                          <a:pt x="9" y="47"/>
                        </a:lnTo>
                        <a:lnTo>
                          <a:pt x="9" y="43"/>
                        </a:lnTo>
                        <a:lnTo>
                          <a:pt x="14" y="38"/>
                        </a:lnTo>
                        <a:lnTo>
                          <a:pt x="14" y="33"/>
                        </a:lnTo>
                        <a:lnTo>
                          <a:pt x="19" y="33"/>
                        </a:lnTo>
                        <a:lnTo>
                          <a:pt x="19" y="28"/>
                        </a:lnTo>
                        <a:lnTo>
                          <a:pt x="24" y="23"/>
                        </a:lnTo>
                        <a:lnTo>
                          <a:pt x="28" y="19"/>
                        </a:lnTo>
                        <a:lnTo>
                          <a:pt x="33" y="14"/>
                        </a:lnTo>
                        <a:lnTo>
                          <a:pt x="38" y="9"/>
                        </a:lnTo>
                        <a:lnTo>
                          <a:pt x="43" y="4"/>
                        </a:lnTo>
                        <a:lnTo>
                          <a:pt x="48" y="4"/>
                        </a:lnTo>
                        <a:lnTo>
                          <a:pt x="52" y="4"/>
                        </a:lnTo>
                        <a:lnTo>
                          <a:pt x="52" y="0"/>
                        </a:lnTo>
                        <a:lnTo>
                          <a:pt x="62" y="0"/>
                        </a:lnTo>
                        <a:lnTo>
                          <a:pt x="67" y="0"/>
                        </a:lnTo>
                        <a:lnTo>
                          <a:pt x="72" y="0"/>
                        </a:lnTo>
                        <a:lnTo>
                          <a:pt x="76" y="0"/>
                        </a:lnTo>
                        <a:lnTo>
                          <a:pt x="81" y="0"/>
                        </a:lnTo>
                        <a:lnTo>
                          <a:pt x="86" y="0"/>
                        </a:lnTo>
                        <a:lnTo>
                          <a:pt x="91" y="0"/>
                        </a:lnTo>
                        <a:lnTo>
                          <a:pt x="96" y="0"/>
                        </a:lnTo>
                        <a:lnTo>
                          <a:pt x="100" y="4"/>
                        </a:lnTo>
                        <a:lnTo>
                          <a:pt x="105" y="4"/>
                        </a:lnTo>
                        <a:lnTo>
                          <a:pt x="110" y="9"/>
                        </a:lnTo>
                        <a:lnTo>
                          <a:pt x="115" y="9"/>
                        </a:lnTo>
                        <a:lnTo>
                          <a:pt x="120" y="14"/>
                        </a:lnTo>
                        <a:lnTo>
                          <a:pt x="124" y="14"/>
                        </a:lnTo>
                        <a:lnTo>
                          <a:pt x="129" y="14"/>
                        </a:lnTo>
                        <a:lnTo>
                          <a:pt x="134" y="19"/>
                        </a:lnTo>
                        <a:lnTo>
                          <a:pt x="139" y="23"/>
                        </a:lnTo>
                        <a:lnTo>
                          <a:pt x="144" y="28"/>
                        </a:lnTo>
                        <a:lnTo>
                          <a:pt x="148" y="28"/>
                        </a:lnTo>
                        <a:lnTo>
                          <a:pt x="153" y="33"/>
                        </a:lnTo>
                        <a:lnTo>
                          <a:pt x="158" y="33"/>
                        </a:lnTo>
                        <a:lnTo>
                          <a:pt x="158" y="38"/>
                        </a:lnTo>
                        <a:lnTo>
                          <a:pt x="163" y="43"/>
                        </a:lnTo>
                        <a:lnTo>
                          <a:pt x="168" y="43"/>
                        </a:lnTo>
                        <a:lnTo>
                          <a:pt x="172" y="47"/>
                        </a:lnTo>
                        <a:lnTo>
                          <a:pt x="177" y="52"/>
                        </a:lnTo>
                        <a:lnTo>
                          <a:pt x="182" y="57"/>
                        </a:lnTo>
                        <a:lnTo>
                          <a:pt x="187" y="57"/>
                        </a:lnTo>
                        <a:lnTo>
                          <a:pt x="187" y="6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8" name=""/>
                  <p:cNvSpPr/>
                  <p:nvPr/>
                </p:nvSpPr>
                <p:spPr>
                  <a:xfrm flipH="1">
                    <a:off x="4177800" y="4330800"/>
                    <a:ext cx="536400" cy="74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161" h="4530">
                        <a:moveTo>
                          <a:pt x="1736" y="67"/>
                        </a:moveTo>
                        <a:lnTo>
                          <a:pt x="1741" y="67"/>
                        </a:lnTo>
                        <a:lnTo>
                          <a:pt x="1746" y="67"/>
                        </a:lnTo>
                        <a:lnTo>
                          <a:pt x="1751" y="62"/>
                        </a:lnTo>
                        <a:lnTo>
                          <a:pt x="1756" y="62"/>
                        </a:lnTo>
                        <a:lnTo>
                          <a:pt x="1760" y="62"/>
                        </a:lnTo>
                        <a:lnTo>
                          <a:pt x="1765" y="58"/>
                        </a:lnTo>
                        <a:lnTo>
                          <a:pt x="1770" y="58"/>
                        </a:lnTo>
                        <a:lnTo>
                          <a:pt x="1775" y="53"/>
                        </a:lnTo>
                        <a:lnTo>
                          <a:pt x="1780" y="53"/>
                        </a:lnTo>
                        <a:lnTo>
                          <a:pt x="1784" y="53"/>
                        </a:lnTo>
                        <a:lnTo>
                          <a:pt x="1789" y="48"/>
                        </a:lnTo>
                        <a:lnTo>
                          <a:pt x="1794" y="48"/>
                        </a:lnTo>
                        <a:lnTo>
                          <a:pt x="1799" y="48"/>
                        </a:lnTo>
                        <a:lnTo>
                          <a:pt x="1804" y="48"/>
                        </a:lnTo>
                        <a:lnTo>
                          <a:pt x="1808" y="48"/>
                        </a:lnTo>
                        <a:lnTo>
                          <a:pt x="1818" y="48"/>
                        </a:lnTo>
                        <a:lnTo>
                          <a:pt x="1832" y="48"/>
                        </a:lnTo>
                        <a:lnTo>
                          <a:pt x="1842" y="48"/>
                        </a:lnTo>
                        <a:lnTo>
                          <a:pt x="1851" y="48"/>
                        </a:lnTo>
                        <a:lnTo>
                          <a:pt x="1861" y="48"/>
                        </a:lnTo>
                        <a:lnTo>
                          <a:pt x="1871" y="53"/>
                        </a:lnTo>
                        <a:lnTo>
                          <a:pt x="1880" y="53"/>
                        </a:lnTo>
                        <a:lnTo>
                          <a:pt x="1890" y="58"/>
                        </a:lnTo>
                        <a:lnTo>
                          <a:pt x="1899" y="62"/>
                        </a:lnTo>
                        <a:lnTo>
                          <a:pt x="1909" y="62"/>
                        </a:lnTo>
                        <a:lnTo>
                          <a:pt x="1919" y="67"/>
                        </a:lnTo>
                        <a:lnTo>
                          <a:pt x="1923" y="72"/>
                        </a:lnTo>
                        <a:lnTo>
                          <a:pt x="1933" y="81"/>
                        </a:lnTo>
                        <a:lnTo>
                          <a:pt x="1943" y="86"/>
                        </a:lnTo>
                        <a:lnTo>
                          <a:pt x="1952" y="91"/>
                        </a:lnTo>
                        <a:lnTo>
                          <a:pt x="1957" y="101"/>
                        </a:lnTo>
                        <a:lnTo>
                          <a:pt x="1967" y="105"/>
                        </a:lnTo>
                        <a:lnTo>
                          <a:pt x="1976" y="110"/>
                        </a:lnTo>
                        <a:lnTo>
                          <a:pt x="1981" y="120"/>
                        </a:lnTo>
                        <a:lnTo>
                          <a:pt x="1991" y="129"/>
                        </a:lnTo>
                        <a:lnTo>
                          <a:pt x="2000" y="134"/>
                        </a:lnTo>
                        <a:lnTo>
                          <a:pt x="2005" y="144"/>
                        </a:lnTo>
                        <a:lnTo>
                          <a:pt x="2015" y="148"/>
                        </a:lnTo>
                        <a:lnTo>
                          <a:pt x="2019" y="158"/>
                        </a:lnTo>
                        <a:lnTo>
                          <a:pt x="2029" y="168"/>
                        </a:lnTo>
                        <a:lnTo>
                          <a:pt x="2034" y="172"/>
                        </a:lnTo>
                        <a:lnTo>
                          <a:pt x="2043" y="182"/>
                        </a:lnTo>
                        <a:lnTo>
                          <a:pt x="2048" y="192"/>
                        </a:lnTo>
                        <a:lnTo>
                          <a:pt x="2058" y="196"/>
                        </a:lnTo>
                        <a:lnTo>
                          <a:pt x="2067" y="206"/>
                        </a:lnTo>
                        <a:lnTo>
                          <a:pt x="2072" y="211"/>
                        </a:lnTo>
                        <a:lnTo>
                          <a:pt x="2082" y="220"/>
                        </a:lnTo>
                        <a:lnTo>
                          <a:pt x="2091" y="235"/>
                        </a:lnTo>
                        <a:lnTo>
                          <a:pt x="2101" y="254"/>
                        </a:lnTo>
                        <a:lnTo>
                          <a:pt x="2115" y="268"/>
                        </a:lnTo>
                        <a:lnTo>
                          <a:pt x="2125" y="287"/>
                        </a:lnTo>
                        <a:lnTo>
                          <a:pt x="2139" y="307"/>
                        </a:lnTo>
                        <a:lnTo>
                          <a:pt x="2149" y="321"/>
                        </a:lnTo>
                        <a:lnTo>
                          <a:pt x="2159" y="340"/>
                        </a:lnTo>
                        <a:lnTo>
                          <a:pt x="2173" y="359"/>
                        </a:lnTo>
                        <a:lnTo>
                          <a:pt x="2182" y="374"/>
                        </a:lnTo>
                        <a:lnTo>
                          <a:pt x="2192" y="393"/>
                        </a:lnTo>
                        <a:lnTo>
                          <a:pt x="2206" y="412"/>
                        </a:lnTo>
                        <a:lnTo>
                          <a:pt x="2216" y="426"/>
                        </a:lnTo>
                        <a:lnTo>
                          <a:pt x="2226" y="445"/>
                        </a:lnTo>
                        <a:lnTo>
                          <a:pt x="2235" y="465"/>
                        </a:lnTo>
                        <a:lnTo>
                          <a:pt x="2245" y="484"/>
                        </a:lnTo>
                        <a:lnTo>
                          <a:pt x="2254" y="503"/>
                        </a:lnTo>
                        <a:lnTo>
                          <a:pt x="2264" y="522"/>
                        </a:lnTo>
                        <a:lnTo>
                          <a:pt x="2274" y="536"/>
                        </a:lnTo>
                        <a:lnTo>
                          <a:pt x="2283" y="555"/>
                        </a:lnTo>
                        <a:lnTo>
                          <a:pt x="2288" y="575"/>
                        </a:lnTo>
                        <a:lnTo>
                          <a:pt x="2298" y="594"/>
                        </a:lnTo>
                        <a:lnTo>
                          <a:pt x="2302" y="613"/>
                        </a:lnTo>
                        <a:lnTo>
                          <a:pt x="2312" y="632"/>
                        </a:lnTo>
                        <a:lnTo>
                          <a:pt x="2317" y="651"/>
                        </a:lnTo>
                        <a:lnTo>
                          <a:pt x="2322" y="675"/>
                        </a:lnTo>
                        <a:lnTo>
                          <a:pt x="2326" y="694"/>
                        </a:lnTo>
                        <a:lnTo>
                          <a:pt x="2331" y="714"/>
                        </a:lnTo>
                        <a:lnTo>
                          <a:pt x="2336" y="733"/>
                        </a:lnTo>
                        <a:lnTo>
                          <a:pt x="2341" y="757"/>
                        </a:lnTo>
                        <a:lnTo>
                          <a:pt x="2341" y="776"/>
                        </a:lnTo>
                        <a:lnTo>
                          <a:pt x="2346" y="795"/>
                        </a:lnTo>
                        <a:lnTo>
                          <a:pt x="2346" y="819"/>
                        </a:lnTo>
                        <a:lnTo>
                          <a:pt x="2346" y="824"/>
                        </a:lnTo>
                        <a:lnTo>
                          <a:pt x="2346" y="828"/>
                        </a:lnTo>
                        <a:lnTo>
                          <a:pt x="2346" y="833"/>
                        </a:lnTo>
                        <a:lnTo>
                          <a:pt x="2346" y="838"/>
                        </a:lnTo>
                        <a:lnTo>
                          <a:pt x="2346" y="843"/>
                        </a:lnTo>
                        <a:lnTo>
                          <a:pt x="2346" y="848"/>
                        </a:lnTo>
                        <a:lnTo>
                          <a:pt x="2346" y="852"/>
                        </a:lnTo>
                        <a:lnTo>
                          <a:pt x="2346" y="857"/>
                        </a:lnTo>
                        <a:lnTo>
                          <a:pt x="2346" y="862"/>
                        </a:lnTo>
                        <a:lnTo>
                          <a:pt x="2346" y="867"/>
                        </a:lnTo>
                        <a:lnTo>
                          <a:pt x="2346" y="872"/>
                        </a:lnTo>
                        <a:lnTo>
                          <a:pt x="2346" y="876"/>
                        </a:lnTo>
                        <a:lnTo>
                          <a:pt x="2346" y="881"/>
                        </a:lnTo>
                        <a:lnTo>
                          <a:pt x="2346" y="886"/>
                        </a:lnTo>
                        <a:lnTo>
                          <a:pt x="2346" y="891"/>
                        </a:lnTo>
                        <a:lnTo>
                          <a:pt x="2346" y="895"/>
                        </a:lnTo>
                        <a:lnTo>
                          <a:pt x="2346" y="900"/>
                        </a:lnTo>
                        <a:lnTo>
                          <a:pt x="2346" y="905"/>
                        </a:lnTo>
                        <a:lnTo>
                          <a:pt x="2341" y="910"/>
                        </a:lnTo>
                        <a:lnTo>
                          <a:pt x="2341" y="915"/>
                        </a:lnTo>
                        <a:lnTo>
                          <a:pt x="2341" y="919"/>
                        </a:lnTo>
                        <a:lnTo>
                          <a:pt x="2341" y="924"/>
                        </a:lnTo>
                        <a:lnTo>
                          <a:pt x="2341" y="929"/>
                        </a:lnTo>
                        <a:lnTo>
                          <a:pt x="2341" y="934"/>
                        </a:lnTo>
                        <a:lnTo>
                          <a:pt x="2341" y="939"/>
                        </a:lnTo>
                        <a:lnTo>
                          <a:pt x="2341" y="943"/>
                        </a:lnTo>
                        <a:lnTo>
                          <a:pt x="2341" y="948"/>
                        </a:lnTo>
                        <a:lnTo>
                          <a:pt x="2341" y="953"/>
                        </a:lnTo>
                        <a:lnTo>
                          <a:pt x="2341" y="958"/>
                        </a:lnTo>
                        <a:lnTo>
                          <a:pt x="2336" y="962"/>
                        </a:lnTo>
                        <a:lnTo>
                          <a:pt x="2336" y="967"/>
                        </a:lnTo>
                        <a:lnTo>
                          <a:pt x="2336" y="972"/>
                        </a:lnTo>
                        <a:lnTo>
                          <a:pt x="2336" y="977"/>
                        </a:lnTo>
                        <a:lnTo>
                          <a:pt x="2331" y="977"/>
                        </a:lnTo>
                        <a:lnTo>
                          <a:pt x="2331" y="982"/>
                        </a:lnTo>
                        <a:lnTo>
                          <a:pt x="2331" y="986"/>
                        </a:lnTo>
                        <a:lnTo>
                          <a:pt x="2326" y="991"/>
                        </a:lnTo>
                        <a:lnTo>
                          <a:pt x="2326" y="996"/>
                        </a:lnTo>
                        <a:lnTo>
                          <a:pt x="2326" y="1001"/>
                        </a:lnTo>
                        <a:lnTo>
                          <a:pt x="2326" y="1006"/>
                        </a:lnTo>
                        <a:lnTo>
                          <a:pt x="2322" y="1006"/>
                        </a:lnTo>
                        <a:lnTo>
                          <a:pt x="2322" y="1010"/>
                        </a:lnTo>
                        <a:lnTo>
                          <a:pt x="2322" y="1015"/>
                        </a:lnTo>
                        <a:lnTo>
                          <a:pt x="2322" y="1020"/>
                        </a:lnTo>
                        <a:lnTo>
                          <a:pt x="2322" y="1025"/>
                        </a:lnTo>
                        <a:lnTo>
                          <a:pt x="2317" y="1030"/>
                        </a:lnTo>
                        <a:lnTo>
                          <a:pt x="2317" y="1034"/>
                        </a:lnTo>
                        <a:lnTo>
                          <a:pt x="2312" y="1034"/>
                        </a:lnTo>
                        <a:lnTo>
                          <a:pt x="2312" y="1039"/>
                        </a:lnTo>
                        <a:lnTo>
                          <a:pt x="2307" y="1039"/>
                        </a:lnTo>
                        <a:lnTo>
                          <a:pt x="2307" y="1044"/>
                        </a:lnTo>
                        <a:lnTo>
                          <a:pt x="2307" y="1049"/>
                        </a:lnTo>
                        <a:lnTo>
                          <a:pt x="2302" y="1049"/>
                        </a:lnTo>
                        <a:lnTo>
                          <a:pt x="2302" y="1053"/>
                        </a:lnTo>
                        <a:lnTo>
                          <a:pt x="2302" y="1058"/>
                        </a:lnTo>
                        <a:lnTo>
                          <a:pt x="2298" y="1058"/>
                        </a:lnTo>
                        <a:lnTo>
                          <a:pt x="2298" y="1063"/>
                        </a:lnTo>
                        <a:lnTo>
                          <a:pt x="2298" y="1068"/>
                        </a:lnTo>
                        <a:lnTo>
                          <a:pt x="2293" y="1068"/>
                        </a:lnTo>
                        <a:lnTo>
                          <a:pt x="2293" y="1073"/>
                        </a:lnTo>
                        <a:lnTo>
                          <a:pt x="2293" y="1077"/>
                        </a:lnTo>
                        <a:lnTo>
                          <a:pt x="2288" y="1077"/>
                        </a:lnTo>
                        <a:lnTo>
                          <a:pt x="2288" y="1082"/>
                        </a:lnTo>
                        <a:lnTo>
                          <a:pt x="2283" y="1082"/>
                        </a:lnTo>
                        <a:lnTo>
                          <a:pt x="2288" y="1097"/>
                        </a:lnTo>
                        <a:lnTo>
                          <a:pt x="2293" y="1111"/>
                        </a:lnTo>
                        <a:lnTo>
                          <a:pt x="2293" y="1121"/>
                        </a:lnTo>
                        <a:lnTo>
                          <a:pt x="2298" y="1135"/>
                        </a:lnTo>
                        <a:lnTo>
                          <a:pt x="2298" y="1144"/>
                        </a:lnTo>
                        <a:lnTo>
                          <a:pt x="2298" y="1159"/>
                        </a:lnTo>
                        <a:lnTo>
                          <a:pt x="2298" y="1173"/>
                        </a:lnTo>
                        <a:lnTo>
                          <a:pt x="2298" y="1183"/>
                        </a:lnTo>
                        <a:lnTo>
                          <a:pt x="2298" y="1197"/>
                        </a:lnTo>
                        <a:lnTo>
                          <a:pt x="2293" y="1207"/>
                        </a:lnTo>
                        <a:lnTo>
                          <a:pt x="2293" y="1221"/>
                        </a:lnTo>
                        <a:lnTo>
                          <a:pt x="2293" y="1235"/>
                        </a:lnTo>
                        <a:lnTo>
                          <a:pt x="2288" y="1245"/>
                        </a:lnTo>
                        <a:lnTo>
                          <a:pt x="2283" y="1259"/>
                        </a:lnTo>
                        <a:lnTo>
                          <a:pt x="2283" y="1269"/>
                        </a:lnTo>
                        <a:lnTo>
                          <a:pt x="2278" y="1283"/>
                        </a:lnTo>
                        <a:lnTo>
                          <a:pt x="2274" y="1293"/>
                        </a:lnTo>
                        <a:lnTo>
                          <a:pt x="2269" y="1307"/>
                        </a:lnTo>
                        <a:lnTo>
                          <a:pt x="2259" y="1317"/>
                        </a:lnTo>
                        <a:lnTo>
                          <a:pt x="2254" y="1331"/>
                        </a:lnTo>
                        <a:lnTo>
                          <a:pt x="2250" y="1341"/>
                        </a:lnTo>
                        <a:lnTo>
                          <a:pt x="2240" y="1350"/>
                        </a:lnTo>
                        <a:lnTo>
                          <a:pt x="2235" y="1365"/>
                        </a:lnTo>
                        <a:lnTo>
                          <a:pt x="2226" y="1374"/>
                        </a:lnTo>
                        <a:lnTo>
                          <a:pt x="2221" y="1384"/>
                        </a:lnTo>
                        <a:lnTo>
                          <a:pt x="2211" y="1393"/>
                        </a:lnTo>
                        <a:lnTo>
                          <a:pt x="2202" y="1403"/>
                        </a:lnTo>
                        <a:lnTo>
                          <a:pt x="2192" y="1413"/>
                        </a:lnTo>
                        <a:lnTo>
                          <a:pt x="2182" y="1422"/>
                        </a:lnTo>
                        <a:lnTo>
                          <a:pt x="2173" y="1432"/>
                        </a:lnTo>
                        <a:lnTo>
                          <a:pt x="2163" y="1441"/>
                        </a:lnTo>
                        <a:lnTo>
                          <a:pt x="2154" y="1451"/>
                        </a:lnTo>
                        <a:lnTo>
                          <a:pt x="2149" y="1451"/>
                        </a:lnTo>
                        <a:lnTo>
                          <a:pt x="2144" y="1456"/>
                        </a:lnTo>
                        <a:lnTo>
                          <a:pt x="2139" y="1456"/>
                        </a:lnTo>
                        <a:lnTo>
                          <a:pt x="2135" y="1460"/>
                        </a:lnTo>
                        <a:lnTo>
                          <a:pt x="2130" y="1460"/>
                        </a:lnTo>
                        <a:lnTo>
                          <a:pt x="2125" y="1465"/>
                        </a:lnTo>
                        <a:lnTo>
                          <a:pt x="2120" y="1465"/>
                        </a:lnTo>
                        <a:lnTo>
                          <a:pt x="2120" y="1470"/>
                        </a:lnTo>
                        <a:lnTo>
                          <a:pt x="2115" y="1470"/>
                        </a:lnTo>
                        <a:lnTo>
                          <a:pt x="2111" y="1475"/>
                        </a:lnTo>
                        <a:lnTo>
                          <a:pt x="2106" y="1475"/>
                        </a:lnTo>
                        <a:lnTo>
                          <a:pt x="2101" y="1480"/>
                        </a:lnTo>
                        <a:lnTo>
                          <a:pt x="2096" y="1480"/>
                        </a:lnTo>
                        <a:lnTo>
                          <a:pt x="2091" y="1484"/>
                        </a:lnTo>
                        <a:lnTo>
                          <a:pt x="2096" y="1484"/>
                        </a:lnTo>
                        <a:lnTo>
                          <a:pt x="2096" y="1489"/>
                        </a:lnTo>
                        <a:lnTo>
                          <a:pt x="2096" y="1494"/>
                        </a:lnTo>
                        <a:lnTo>
                          <a:pt x="2101" y="1499"/>
                        </a:lnTo>
                        <a:lnTo>
                          <a:pt x="2101" y="1504"/>
                        </a:lnTo>
                        <a:lnTo>
                          <a:pt x="2106" y="1508"/>
                        </a:lnTo>
                        <a:lnTo>
                          <a:pt x="2106" y="1513"/>
                        </a:lnTo>
                        <a:lnTo>
                          <a:pt x="2106" y="1518"/>
                        </a:lnTo>
                        <a:lnTo>
                          <a:pt x="2111" y="1518"/>
                        </a:lnTo>
                        <a:lnTo>
                          <a:pt x="2111" y="1523"/>
                        </a:lnTo>
                        <a:lnTo>
                          <a:pt x="2111" y="1528"/>
                        </a:lnTo>
                        <a:lnTo>
                          <a:pt x="2115" y="1528"/>
                        </a:lnTo>
                        <a:lnTo>
                          <a:pt x="2115" y="1532"/>
                        </a:lnTo>
                        <a:lnTo>
                          <a:pt x="2120" y="1537"/>
                        </a:lnTo>
                        <a:lnTo>
                          <a:pt x="2120" y="1542"/>
                        </a:lnTo>
                        <a:lnTo>
                          <a:pt x="2125" y="1542"/>
                        </a:lnTo>
                        <a:lnTo>
                          <a:pt x="2125" y="1547"/>
                        </a:lnTo>
                        <a:lnTo>
                          <a:pt x="2130" y="1551"/>
                        </a:lnTo>
                        <a:lnTo>
                          <a:pt x="2130" y="1556"/>
                        </a:lnTo>
                        <a:lnTo>
                          <a:pt x="2135" y="1556"/>
                        </a:lnTo>
                        <a:lnTo>
                          <a:pt x="2135" y="1561"/>
                        </a:lnTo>
                        <a:lnTo>
                          <a:pt x="2139" y="1561"/>
                        </a:lnTo>
                        <a:lnTo>
                          <a:pt x="2159" y="1561"/>
                        </a:lnTo>
                        <a:lnTo>
                          <a:pt x="2178" y="1561"/>
                        </a:lnTo>
                        <a:lnTo>
                          <a:pt x="2192" y="1561"/>
                        </a:lnTo>
                        <a:lnTo>
                          <a:pt x="2211" y="1561"/>
                        </a:lnTo>
                        <a:lnTo>
                          <a:pt x="2230" y="1566"/>
                        </a:lnTo>
                        <a:lnTo>
                          <a:pt x="2250" y="1566"/>
                        </a:lnTo>
                        <a:lnTo>
                          <a:pt x="2269" y="1571"/>
                        </a:lnTo>
                        <a:lnTo>
                          <a:pt x="2288" y="1575"/>
                        </a:lnTo>
                        <a:lnTo>
                          <a:pt x="2307" y="1580"/>
                        </a:lnTo>
                        <a:lnTo>
                          <a:pt x="2326" y="1585"/>
                        </a:lnTo>
                        <a:lnTo>
                          <a:pt x="2341" y="1590"/>
                        </a:lnTo>
                        <a:lnTo>
                          <a:pt x="2360" y="1595"/>
                        </a:lnTo>
                        <a:lnTo>
                          <a:pt x="2379" y="1599"/>
                        </a:lnTo>
                        <a:lnTo>
                          <a:pt x="2398" y="1604"/>
                        </a:lnTo>
                        <a:lnTo>
                          <a:pt x="2413" y="1614"/>
                        </a:lnTo>
                        <a:lnTo>
                          <a:pt x="2432" y="1618"/>
                        </a:lnTo>
                        <a:lnTo>
                          <a:pt x="2451" y="1628"/>
                        </a:lnTo>
                        <a:lnTo>
                          <a:pt x="2470" y="1633"/>
                        </a:lnTo>
                        <a:lnTo>
                          <a:pt x="2485" y="1642"/>
                        </a:lnTo>
                        <a:lnTo>
                          <a:pt x="2504" y="1652"/>
                        </a:lnTo>
                        <a:lnTo>
                          <a:pt x="2518" y="1662"/>
                        </a:lnTo>
                        <a:lnTo>
                          <a:pt x="2537" y="1666"/>
                        </a:lnTo>
                        <a:lnTo>
                          <a:pt x="2557" y="1676"/>
                        </a:lnTo>
                        <a:lnTo>
                          <a:pt x="2571" y="1686"/>
                        </a:lnTo>
                        <a:lnTo>
                          <a:pt x="2590" y="1695"/>
                        </a:lnTo>
                        <a:lnTo>
                          <a:pt x="2605" y="1705"/>
                        </a:lnTo>
                        <a:lnTo>
                          <a:pt x="2624" y="1714"/>
                        </a:lnTo>
                        <a:lnTo>
                          <a:pt x="2638" y="1724"/>
                        </a:lnTo>
                        <a:lnTo>
                          <a:pt x="2657" y="1733"/>
                        </a:lnTo>
                        <a:lnTo>
                          <a:pt x="2672" y="1743"/>
                        </a:lnTo>
                        <a:lnTo>
                          <a:pt x="2691" y="1757"/>
                        </a:lnTo>
                        <a:lnTo>
                          <a:pt x="2705" y="1767"/>
                        </a:lnTo>
                        <a:lnTo>
                          <a:pt x="2720" y="1777"/>
                        </a:lnTo>
                        <a:lnTo>
                          <a:pt x="2734" y="1786"/>
                        </a:lnTo>
                        <a:lnTo>
                          <a:pt x="2749" y="1796"/>
                        </a:lnTo>
                        <a:lnTo>
                          <a:pt x="2763" y="1810"/>
                        </a:lnTo>
                        <a:lnTo>
                          <a:pt x="2773" y="1820"/>
                        </a:lnTo>
                        <a:lnTo>
                          <a:pt x="2787" y="1834"/>
                        </a:lnTo>
                        <a:lnTo>
                          <a:pt x="2797" y="1844"/>
                        </a:lnTo>
                        <a:lnTo>
                          <a:pt x="2811" y="1858"/>
                        </a:lnTo>
                        <a:lnTo>
                          <a:pt x="2820" y="1872"/>
                        </a:lnTo>
                        <a:lnTo>
                          <a:pt x="2830" y="1882"/>
                        </a:lnTo>
                        <a:lnTo>
                          <a:pt x="2844" y="1896"/>
                        </a:lnTo>
                        <a:lnTo>
                          <a:pt x="2854" y="1911"/>
                        </a:lnTo>
                        <a:lnTo>
                          <a:pt x="2864" y="1925"/>
                        </a:lnTo>
                        <a:lnTo>
                          <a:pt x="2873" y="1939"/>
                        </a:lnTo>
                        <a:lnTo>
                          <a:pt x="2883" y="1949"/>
                        </a:lnTo>
                        <a:lnTo>
                          <a:pt x="2892" y="1963"/>
                        </a:lnTo>
                        <a:lnTo>
                          <a:pt x="2902" y="1978"/>
                        </a:lnTo>
                        <a:lnTo>
                          <a:pt x="2912" y="1992"/>
                        </a:lnTo>
                        <a:lnTo>
                          <a:pt x="2921" y="2006"/>
                        </a:lnTo>
                        <a:lnTo>
                          <a:pt x="2926" y="2021"/>
                        </a:lnTo>
                        <a:lnTo>
                          <a:pt x="2936" y="2035"/>
                        </a:lnTo>
                        <a:lnTo>
                          <a:pt x="2945" y="2049"/>
                        </a:lnTo>
                        <a:lnTo>
                          <a:pt x="2950" y="2064"/>
                        </a:lnTo>
                        <a:lnTo>
                          <a:pt x="2960" y="2083"/>
                        </a:lnTo>
                        <a:lnTo>
                          <a:pt x="2969" y="2097"/>
                        </a:lnTo>
                        <a:lnTo>
                          <a:pt x="2974" y="2112"/>
                        </a:lnTo>
                        <a:lnTo>
                          <a:pt x="2984" y="2126"/>
                        </a:lnTo>
                        <a:lnTo>
                          <a:pt x="2988" y="2140"/>
                        </a:lnTo>
                        <a:lnTo>
                          <a:pt x="2998" y="2155"/>
                        </a:lnTo>
                        <a:lnTo>
                          <a:pt x="3008" y="2169"/>
                        </a:lnTo>
                        <a:lnTo>
                          <a:pt x="3012" y="2184"/>
                        </a:lnTo>
                        <a:lnTo>
                          <a:pt x="3022" y="2198"/>
                        </a:lnTo>
                        <a:lnTo>
                          <a:pt x="3027" y="2203"/>
                        </a:lnTo>
                        <a:lnTo>
                          <a:pt x="3032" y="2203"/>
                        </a:lnTo>
                        <a:lnTo>
                          <a:pt x="3032" y="2207"/>
                        </a:lnTo>
                        <a:lnTo>
                          <a:pt x="3032" y="2212"/>
                        </a:lnTo>
                        <a:lnTo>
                          <a:pt x="3036" y="2212"/>
                        </a:lnTo>
                        <a:lnTo>
                          <a:pt x="3036" y="2217"/>
                        </a:lnTo>
                        <a:lnTo>
                          <a:pt x="3036" y="2222"/>
                        </a:lnTo>
                        <a:lnTo>
                          <a:pt x="3036" y="2227"/>
                        </a:lnTo>
                        <a:lnTo>
                          <a:pt x="3041" y="2227"/>
                        </a:lnTo>
                        <a:lnTo>
                          <a:pt x="3041" y="2231"/>
                        </a:lnTo>
                        <a:lnTo>
                          <a:pt x="3041" y="2236"/>
                        </a:lnTo>
                        <a:lnTo>
                          <a:pt x="3046" y="2246"/>
                        </a:lnTo>
                        <a:lnTo>
                          <a:pt x="3051" y="2251"/>
                        </a:lnTo>
                        <a:lnTo>
                          <a:pt x="3051" y="2260"/>
                        </a:lnTo>
                        <a:lnTo>
                          <a:pt x="3056" y="2265"/>
                        </a:lnTo>
                        <a:lnTo>
                          <a:pt x="3056" y="2274"/>
                        </a:lnTo>
                        <a:lnTo>
                          <a:pt x="3060" y="2279"/>
                        </a:lnTo>
                        <a:lnTo>
                          <a:pt x="3065" y="2289"/>
                        </a:lnTo>
                        <a:lnTo>
                          <a:pt x="3065" y="2294"/>
                        </a:lnTo>
                        <a:lnTo>
                          <a:pt x="3070" y="2303"/>
                        </a:lnTo>
                        <a:lnTo>
                          <a:pt x="3075" y="2308"/>
                        </a:lnTo>
                        <a:lnTo>
                          <a:pt x="3075" y="2318"/>
                        </a:lnTo>
                        <a:lnTo>
                          <a:pt x="3080" y="2322"/>
                        </a:lnTo>
                        <a:lnTo>
                          <a:pt x="3080" y="2332"/>
                        </a:lnTo>
                        <a:lnTo>
                          <a:pt x="3084" y="2337"/>
                        </a:lnTo>
                        <a:lnTo>
                          <a:pt x="3084" y="2346"/>
                        </a:lnTo>
                        <a:lnTo>
                          <a:pt x="3089" y="2351"/>
                        </a:lnTo>
                        <a:lnTo>
                          <a:pt x="3089" y="2361"/>
                        </a:lnTo>
                        <a:lnTo>
                          <a:pt x="3094" y="2365"/>
                        </a:lnTo>
                        <a:lnTo>
                          <a:pt x="3094" y="2375"/>
                        </a:lnTo>
                        <a:lnTo>
                          <a:pt x="3099" y="2380"/>
                        </a:lnTo>
                        <a:lnTo>
                          <a:pt x="3099" y="2389"/>
                        </a:lnTo>
                        <a:lnTo>
                          <a:pt x="3099" y="2399"/>
                        </a:lnTo>
                        <a:lnTo>
                          <a:pt x="3104" y="2404"/>
                        </a:lnTo>
                        <a:lnTo>
                          <a:pt x="3104" y="2413"/>
                        </a:lnTo>
                        <a:lnTo>
                          <a:pt x="3104" y="2418"/>
                        </a:lnTo>
                        <a:lnTo>
                          <a:pt x="3108" y="2428"/>
                        </a:lnTo>
                        <a:lnTo>
                          <a:pt x="3108" y="2437"/>
                        </a:lnTo>
                        <a:lnTo>
                          <a:pt x="3108" y="2442"/>
                        </a:lnTo>
                        <a:lnTo>
                          <a:pt x="3108" y="2452"/>
                        </a:lnTo>
                        <a:lnTo>
                          <a:pt x="3108" y="2461"/>
                        </a:lnTo>
                        <a:lnTo>
                          <a:pt x="3108" y="2466"/>
                        </a:lnTo>
                        <a:lnTo>
                          <a:pt x="3108" y="2476"/>
                        </a:lnTo>
                        <a:lnTo>
                          <a:pt x="3104" y="2480"/>
                        </a:lnTo>
                        <a:lnTo>
                          <a:pt x="3104" y="2490"/>
                        </a:lnTo>
                        <a:lnTo>
                          <a:pt x="3104" y="2495"/>
                        </a:lnTo>
                        <a:lnTo>
                          <a:pt x="3104" y="2500"/>
                        </a:lnTo>
                        <a:lnTo>
                          <a:pt x="3104" y="2504"/>
                        </a:lnTo>
                        <a:lnTo>
                          <a:pt x="3099" y="2514"/>
                        </a:lnTo>
                        <a:lnTo>
                          <a:pt x="3099" y="2519"/>
                        </a:lnTo>
                        <a:lnTo>
                          <a:pt x="3099" y="2523"/>
                        </a:lnTo>
                        <a:lnTo>
                          <a:pt x="3099" y="2528"/>
                        </a:lnTo>
                        <a:lnTo>
                          <a:pt x="3094" y="2538"/>
                        </a:lnTo>
                        <a:lnTo>
                          <a:pt x="3094" y="2543"/>
                        </a:lnTo>
                        <a:lnTo>
                          <a:pt x="3094" y="2547"/>
                        </a:lnTo>
                        <a:lnTo>
                          <a:pt x="3094" y="2557"/>
                        </a:lnTo>
                        <a:lnTo>
                          <a:pt x="3094" y="2562"/>
                        </a:lnTo>
                        <a:lnTo>
                          <a:pt x="3089" y="2567"/>
                        </a:lnTo>
                        <a:lnTo>
                          <a:pt x="3089" y="2571"/>
                        </a:lnTo>
                        <a:lnTo>
                          <a:pt x="3089" y="2581"/>
                        </a:lnTo>
                        <a:lnTo>
                          <a:pt x="3084" y="2586"/>
                        </a:lnTo>
                        <a:lnTo>
                          <a:pt x="3084" y="2591"/>
                        </a:lnTo>
                        <a:lnTo>
                          <a:pt x="3084" y="2595"/>
                        </a:lnTo>
                        <a:lnTo>
                          <a:pt x="3080" y="2605"/>
                        </a:lnTo>
                        <a:lnTo>
                          <a:pt x="3080" y="2610"/>
                        </a:lnTo>
                        <a:lnTo>
                          <a:pt x="3075" y="2614"/>
                        </a:lnTo>
                        <a:lnTo>
                          <a:pt x="3075" y="2619"/>
                        </a:lnTo>
                        <a:lnTo>
                          <a:pt x="3070" y="2624"/>
                        </a:lnTo>
                        <a:lnTo>
                          <a:pt x="3065" y="2634"/>
                        </a:lnTo>
                        <a:lnTo>
                          <a:pt x="3065" y="2638"/>
                        </a:lnTo>
                        <a:lnTo>
                          <a:pt x="3060" y="2643"/>
                        </a:lnTo>
                        <a:lnTo>
                          <a:pt x="3056" y="2648"/>
                        </a:lnTo>
                        <a:lnTo>
                          <a:pt x="3051" y="2653"/>
                        </a:lnTo>
                        <a:lnTo>
                          <a:pt x="3046" y="2658"/>
                        </a:lnTo>
                        <a:lnTo>
                          <a:pt x="3041" y="2662"/>
                        </a:lnTo>
                        <a:lnTo>
                          <a:pt x="3046" y="2667"/>
                        </a:lnTo>
                        <a:lnTo>
                          <a:pt x="3051" y="2672"/>
                        </a:lnTo>
                        <a:lnTo>
                          <a:pt x="3056" y="2677"/>
                        </a:lnTo>
                        <a:lnTo>
                          <a:pt x="3056" y="2681"/>
                        </a:lnTo>
                        <a:lnTo>
                          <a:pt x="3060" y="2686"/>
                        </a:lnTo>
                        <a:lnTo>
                          <a:pt x="3065" y="2691"/>
                        </a:lnTo>
                        <a:lnTo>
                          <a:pt x="3065" y="2696"/>
                        </a:lnTo>
                        <a:lnTo>
                          <a:pt x="3070" y="2701"/>
                        </a:lnTo>
                        <a:lnTo>
                          <a:pt x="3070" y="2705"/>
                        </a:lnTo>
                        <a:lnTo>
                          <a:pt x="3075" y="2715"/>
                        </a:lnTo>
                        <a:lnTo>
                          <a:pt x="3075" y="2720"/>
                        </a:lnTo>
                        <a:lnTo>
                          <a:pt x="3075" y="2725"/>
                        </a:lnTo>
                        <a:lnTo>
                          <a:pt x="3080" y="2729"/>
                        </a:lnTo>
                        <a:lnTo>
                          <a:pt x="3080" y="2734"/>
                        </a:lnTo>
                        <a:lnTo>
                          <a:pt x="3080" y="2739"/>
                        </a:lnTo>
                        <a:lnTo>
                          <a:pt x="3084" y="2749"/>
                        </a:lnTo>
                        <a:lnTo>
                          <a:pt x="3084" y="2753"/>
                        </a:lnTo>
                        <a:lnTo>
                          <a:pt x="3084" y="2758"/>
                        </a:lnTo>
                        <a:lnTo>
                          <a:pt x="3084" y="2763"/>
                        </a:lnTo>
                        <a:lnTo>
                          <a:pt x="3089" y="2768"/>
                        </a:lnTo>
                        <a:lnTo>
                          <a:pt x="3089" y="2777"/>
                        </a:lnTo>
                        <a:lnTo>
                          <a:pt x="3089" y="2782"/>
                        </a:lnTo>
                        <a:lnTo>
                          <a:pt x="3089" y="2787"/>
                        </a:lnTo>
                        <a:lnTo>
                          <a:pt x="3094" y="2792"/>
                        </a:lnTo>
                        <a:lnTo>
                          <a:pt x="3094" y="2796"/>
                        </a:lnTo>
                        <a:lnTo>
                          <a:pt x="3094" y="2806"/>
                        </a:lnTo>
                        <a:lnTo>
                          <a:pt x="3099" y="2811"/>
                        </a:lnTo>
                        <a:lnTo>
                          <a:pt x="3099" y="2816"/>
                        </a:lnTo>
                        <a:lnTo>
                          <a:pt x="3099" y="2820"/>
                        </a:lnTo>
                        <a:lnTo>
                          <a:pt x="3104" y="2825"/>
                        </a:lnTo>
                        <a:lnTo>
                          <a:pt x="3104" y="2830"/>
                        </a:lnTo>
                        <a:lnTo>
                          <a:pt x="3108" y="2835"/>
                        </a:lnTo>
                        <a:lnTo>
                          <a:pt x="3113" y="2854"/>
                        </a:lnTo>
                        <a:lnTo>
                          <a:pt x="3118" y="2868"/>
                        </a:lnTo>
                        <a:lnTo>
                          <a:pt x="3118" y="2887"/>
                        </a:lnTo>
                        <a:lnTo>
                          <a:pt x="3123" y="2907"/>
                        </a:lnTo>
                        <a:lnTo>
                          <a:pt x="3128" y="2926"/>
                        </a:lnTo>
                        <a:lnTo>
                          <a:pt x="3132" y="2940"/>
                        </a:lnTo>
                        <a:lnTo>
                          <a:pt x="3132" y="2959"/>
                        </a:lnTo>
                        <a:lnTo>
                          <a:pt x="3137" y="2978"/>
                        </a:lnTo>
                        <a:lnTo>
                          <a:pt x="3142" y="2998"/>
                        </a:lnTo>
                        <a:lnTo>
                          <a:pt x="3142" y="3012"/>
                        </a:lnTo>
                        <a:lnTo>
                          <a:pt x="3147" y="3031"/>
                        </a:lnTo>
                        <a:lnTo>
                          <a:pt x="3147" y="3050"/>
                        </a:lnTo>
                        <a:lnTo>
                          <a:pt x="3151" y="3069"/>
                        </a:lnTo>
                        <a:lnTo>
                          <a:pt x="3151" y="3088"/>
                        </a:lnTo>
                        <a:lnTo>
                          <a:pt x="3151" y="3108"/>
                        </a:lnTo>
                        <a:lnTo>
                          <a:pt x="3156" y="3122"/>
                        </a:lnTo>
                        <a:lnTo>
                          <a:pt x="3156" y="3141"/>
                        </a:lnTo>
                        <a:lnTo>
                          <a:pt x="3156" y="3160"/>
                        </a:lnTo>
                        <a:lnTo>
                          <a:pt x="3161" y="3179"/>
                        </a:lnTo>
                        <a:lnTo>
                          <a:pt x="3161" y="3199"/>
                        </a:lnTo>
                        <a:lnTo>
                          <a:pt x="3161" y="3218"/>
                        </a:lnTo>
                        <a:lnTo>
                          <a:pt x="3161" y="3232"/>
                        </a:lnTo>
                        <a:lnTo>
                          <a:pt x="3161" y="3251"/>
                        </a:lnTo>
                        <a:lnTo>
                          <a:pt x="3161" y="3270"/>
                        </a:lnTo>
                        <a:lnTo>
                          <a:pt x="3161" y="3290"/>
                        </a:lnTo>
                        <a:lnTo>
                          <a:pt x="3161" y="3309"/>
                        </a:lnTo>
                        <a:lnTo>
                          <a:pt x="3161" y="3328"/>
                        </a:lnTo>
                        <a:lnTo>
                          <a:pt x="3161" y="3342"/>
                        </a:lnTo>
                        <a:lnTo>
                          <a:pt x="3161" y="3361"/>
                        </a:lnTo>
                        <a:lnTo>
                          <a:pt x="3161" y="3381"/>
                        </a:lnTo>
                        <a:lnTo>
                          <a:pt x="3161" y="3400"/>
                        </a:lnTo>
                        <a:lnTo>
                          <a:pt x="3161" y="3414"/>
                        </a:lnTo>
                        <a:lnTo>
                          <a:pt x="3156" y="3419"/>
                        </a:lnTo>
                        <a:lnTo>
                          <a:pt x="3156" y="3424"/>
                        </a:lnTo>
                        <a:lnTo>
                          <a:pt x="3156" y="3428"/>
                        </a:lnTo>
                        <a:lnTo>
                          <a:pt x="3156" y="3433"/>
                        </a:lnTo>
                        <a:lnTo>
                          <a:pt x="3151" y="3438"/>
                        </a:lnTo>
                        <a:lnTo>
                          <a:pt x="3151" y="3443"/>
                        </a:lnTo>
                        <a:lnTo>
                          <a:pt x="3151" y="3448"/>
                        </a:lnTo>
                        <a:lnTo>
                          <a:pt x="3151" y="3452"/>
                        </a:lnTo>
                        <a:lnTo>
                          <a:pt x="3151" y="3457"/>
                        </a:lnTo>
                        <a:lnTo>
                          <a:pt x="3151" y="3462"/>
                        </a:lnTo>
                        <a:lnTo>
                          <a:pt x="3151" y="3467"/>
                        </a:lnTo>
                        <a:lnTo>
                          <a:pt x="3151" y="3472"/>
                        </a:lnTo>
                        <a:lnTo>
                          <a:pt x="3151" y="3476"/>
                        </a:lnTo>
                        <a:lnTo>
                          <a:pt x="3151" y="3481"/>
                        </a:lnTo>
                        <a:lnTo>
                          <a:pt x="3147" y="3486"/>
                        </a:lnTo>
                        <a:lnTo>
                          <a:pt x="3151" y="3486"/>
                        </a:lnTo>
                        <a:lnTo>
                          <a:pt x="3151" y="3491"/>
                        </a:lnTo>
                        <a:lnTo>
                          <a:pt x="3151" y="3495"/>
                        </a:lnTo>
                        <a:lnTo>
                          <a:pt x="3151" y="3500"/>
                        </a:lnTo>
                        <a:lnTo>
                          <a:pt x="3147" y="3500"/>
                        </a:lnTo>
                        <a:lnTo>
                          <a:pt x="3147" y="3505"/>
                        </a:lnTo>
                        <a:lnTo>
                          <a:pt x="3147" y="3510"/>
                        </a:lnTo>
                        <a:lnTo>
                          <a:pt x="3147" y="3515"/>
                        </a:lnTo>
                        <a:lnTo>
                          <a:pt x="3142" y="3515"/>
                        </a:lnTo>
                        <a:lnTo>
                          <a:pt x="3142" y="3519"/>
                        </a:lnTo>
                        <a:lnTo>
                          <a:pt x="3142" y="3524"/>
                        </a:lnTo>
                        <a:lnTo>
                          <a:pt x="3137" y="3529"/>
                        </a:lnTo>
                        <a:lnTo>
                          <a:pt x="3137" y="3534"/>
                        </a:lnTo>
                        <a:lnTo>
                          <a:pt x="3137" y="3539"/>
                        </a:lnTo>
                        <a:lnTo>
                          <a:pt x="3132" y="3543"/>
                        </a:lnTo>
                        <a:lnTo>
                          <a:pt x="3132" y="3548"/>
                        </a:lnTo>
                        <a:lnTo>
                          <a:pt x="3132" y="3553"/>
                        </a:lnTo>
                        <a:lnTo>
                          <a:pt x="3137" y="3558"/>
                        </a:lnTo>
                        <a:lnTo>
                          <a:pt x="3132" y="3563"/>
                        </a:lnTo>
                        <a:lnTo>
                          <a:pt x="3128" y="3572"/>
                        </a:lnTo>
                        <a:lnTo>
                          <a:pt x="3128" y="3577"/>
                        </a:lnTo>
                        <a:lnTo>
                          <a:pt x="3123" y="3582"/>
                        </a:lnTo>
                        <a:lnTo>
                          <a:pt x="3118" y="3591"/>
                        </a:lnTo>
                        <a:lnTo>
                          <a:pt x="3118" y="3596"/>
                        </a:lnTo>
                        <a:lnTo>
                          <a:pt x="3113" y="3601"/>
                        </a:lnTo>
                        <a:lnTo>
                          <a:pt x="3108" y="3610"/>
                        </a:lnTo>
                        <a:lnTo>
                          <a:pt x="3108" y="3615"/>
                        </a:lnTo>
                        <a:lnTo>
                          <a:pt x="3104" y="3620"/>
                        </a:lnTo>
                        <a:lnTo>
                          <a:pt x="3099" y="3630"/>
                        </a:lnTo>
                        <a:lnTo>
                          <a:pt x="3094" y="3634"/>
                        </a:lnTo>
                        <a:lnTo>
                          <a:pt x="3094" y="3644"/>
                        </a:lnTo>
                        <a:lnTo>
                          <a:pt x="3089" y="3649"/>
                        </a:lnTo>
                        <a:lnTo>
                          <a:pt x="3084" y="3654"/>
                        </a:lnTo>
                        <a:lnTo>
                          <a:pt x="3080" y="3658"/>
                        </a:lnTo>
                        <a:lnTo>
                          <a:pt x="3075" y="3668"/>
                        </a:lnTo>
                        <a:lnTo>
                          <a:pt x="3070" y="3673"/>
                        </a:lnTo>
                        <a:lnTo>
                          <a:pt x="3065" y="3677"/>
                        </a:lnTo>
                        <a:lnTo>
                          <a:pt x="3060" y="3682"/>
                        </a:lnTo>
                        <a:lnTo>
                          <a:pt x="3060" y="3692"/>
                        </a:lnTo>
                        <a:lnTo>
                          <a:pt x="3056" y="3697"/>
                        </a:lnTo>
                        <a:lnTo>
                          <a:pt x="3046" y="3701"/>
                        </a:lnTo>
                        <a:lnTo>
                          <a:pt x="3041" y="3706"/>
                        </a:lnTo>
                        <a:lnTo>
                          <a:pt x="3036" y="3711"/>
                        </a:lnTo>
                        <a:lnTo>
                          <a:pt x="3032" y="3716"/>
                        </a:lnTo>
                        <a:lnTo>
                          <a:pt x="3027" y="3721"/>
                        </a:lnTo>
                        <a:lnTo>
                          <a:pt x="3022" y="3725"/>
                        </a:lnTo>
                        <a:lnTo>
                          <a:pt x="3017" y="3725"/>
                        </a:lnTo>
                        <a:lnTo>
                          <a:pt x="3008" y="3730"/>
                        </a:lnTo>
                        <a:lnTo>
                          <a:pt x="3003" y="3735"/>
                        </a:lnTo>
                        <a:lnTo>
                          <a:pt x="2998" y="3740"/>
                        </a:lnTo>
                        <a:lnTo>
                          <a:pt x="2993" y="3740"/>
                        </a:lnTo>
                        <a:lnTo>
                          <a:pt x="2988" y="3744"/>
                        </a:lnTo>
                        <a:lnTo>
                          <a:pt x="2988" y="3749"/>
                        </a:lnTo>
                        <a:lnTo>
                          <a:pt x="2984" y="3749"/>
                        </a:lnTo>
                        <a:lnTo>
                          <a:pt x="2979" y="3754"/>
                        </a:lnTo>
                        <a:lnTo>
                          <a:pt x="2974" y="3754"/>
                        </a:lnTo>
                        <a:lnTo>
                          <a:pt x="2974" y="3759"/>
                        </a:lnTo>
                        <a:lnTo>
                          <a:pt x="2969" y="3759"/>
                        </a:lnTo>
                        <a:lnTo>
                          <a:pt x="2964" y="3764"/>
                        </a:lnTo>
                        <a:lnTo>
                          <a:pt x="2960" y="3764"/>
                        </a:lnTo>
                        <a:lnTo>
                          <a:pt x="2960" y="3768"/>
                        </a:lnTo>
                        <a:lnTo>
                          <a:pt x="2955" y="3773"/>
                        </a:lnTo>
                        <a:lnTo>
                          <a:pt x="2950" y="3773"/>
                        </a:lnTo>
                        <a:lnTo>
                          <a:pt x="2945" y="3778"/>
                        </a:lnTo>
                        <a:lnTo>
                          <a:pt x="2940" y="3783"/>
                        </a:lnTo>
                        <a:lnTo>
                          <a:pt x="2936" y="3783"/>
                        </a:lnTo>
                        <a:lnTo>
                          <a:pt x="2931" y="3788"/>
                        </a:lnTo>
                        <a:lnTo>
                          <a:pt x="2926" y="3788"/>
                        </a:lnTo>
                        <a:lnTo>
                          <a:pt x="2926" y="3792"/>
                        </a:lnTo>
                        <a:lnTo>
                          <a:pt x="2921" y="3792"/>
                        </a:lnTo>
                        <a:lnTo>
                          <a:pt x="2916" y="3797"/>
                        </a:lnTo>
                        <a:lnTo>
                          <a:pt x="2912" y="3797"/>
                        </a:lnTo>
                        <a:lnTo>
                          <a:pt x="2907" y="3802"/>
                        </a:lnTo>
                        <a:lnTo>
                          <a:pt x="2902" y="3802"/>
                        </a:lnTo>
                        <a:lnTo>
                          <a:pt x="2897" y="3807"/>
                        </a:lnTo>
                        <a:lnTo>
                          <a:pt x="2892" y="3807"/>
                        </a:lnTo>
                        <a:lnTo>
                          <a:pt x="2888" y="3812"/>
                        </a:lnTo>
                        <a:lnTo>
                          <a:pt x="2883" y="3812"/>
                        </a:lnTo>
                        <a:lnTo>
                          <a:pt x="2883" y="3816"/>
                        </a:lnTo>
                        <a:lnTo>
                          <a:pt x="2878" y="3816"/>
                        </a:lnTo>
                        <a:lnTo>
                          <a:pt x="2873" y="3816"/>
                        </a:lnTo>
                        <a:lnTo>
                          <a:pt x="2868" y="3816"/>
                        </a:lnTo>
                        <a:lnTo>
                          <a:pt x="2864" y="3816"/>
                        </a:lnTo>
                        <a:lnTo>
                          <a:pt x="2859" y="3816"/>
                        </a:lnTo>
                        <a:lnTo>
                          <a:pt x="2859" y="3821"/>
                        </a:lnTo>
                        <a:lnTo>
                          <a:pt x="2854" y="3821"/>
                        </a:lnTo>
                        <a:lnTo>
                          <a:pt x="2849" y="3826"/>
                        </a:lnTo>
                        <a:lnTo>
                          <a:pt x="2844" y="3826"/>
                        </a:lnTo>
                        <a:lnTo>
                          <a:pt x="2844" y="3831"/>
                        </a:lnTo>
                        <a:lnTo>
                          <a:pt x="2840" y="3831"/>
                        </a:lnTo>
                        <a:lnTo>
                          <a:pt x="2840" y="3835"/>
                        </a:lnTo>
                        <a:lnTo>
                          <a:pt x="2835" y="3835"/>
                        </a:lnTo>
                        <a:lnTo>
                          <a:pt x="2830" y="3835"/>
                        </a:lnTo>
                        <a:lnTo>
                          <a:pt x="2825" y="3835"/>
                        </a:lnTo>
                        <a:lnTo>
                          <a:pt x="2820" y="3840"/>
                        </a:lnTo>
                        <a:lnTo>
                          <a:pt x="2816" y="3840"/>
                        </a:lnTo>
                        <a:lnTo>
                          <a:pt x="2811" y="3840"/>
                        </a:lnTo>
                        <a:lnTo>
                          <a:pt x="2806" y="3840"/>
                        </a:lnTo>
                        <a:lnTo>
                          <a:pt x="2806" y="3845"/>
                        </a:lnTo>
                        <a:lnTo>
                          <a:pt x="2801" y="3845"/>
                        </a:lnTo>
                        <a:lnTo>
                          <a:pt x="2797" y="3845"/>
                        </a:lnTo>
                        <a:lnTo>
                          <a:pt x="2792" y="3845"/>
                        </a:lnTo>
                        <a:lnTo>
                          <a:pt x="2787" y="3845"/>
                        </a:lnTo>
                        <a:lnTo>
                          <a:pt x="2787" y="3850"/>
                        </a:lnTo>
                        <a:lnTo>
                          <a:pt x="2782" y="3850"/>
                        </a:lnTo>
                        <a:lnTo>
                          <a:pt x="2777" y="3850"/>
                        </a:lnTo>
                        <a:lnTo>
                          <a:pt x="2773" y="3850"/>
                        </a:lnTo>
                        <a:lnTo>
                          <a:pt x="2768" y="3850"/>
                        </a:lnTo>
                        <a:lnTo>
                          <a:pt x="2763" y="3855"/>
                        </a:lnTo>
                        <a:lnTo>
                          <a:pt x="2758" y="3855"/>
                        </a:lnTo>
                        <a:lnTo>
                          <a:pt x="2758" y="3859"/>
                        </a:lnTo>
                        <a:lnTo>
                          <a:pt x="2758" y="3864"/>
                        </a:lnTo>
                        <a:lnTo>
                          <a:pt x="2758" y="3869"/>
                        </a:lnTo>
                        <a:lnTo>
                          <a:pt x="2758" y="3874"/>
                        </a:lnTo>
                        <a:lnTo>
                          <a:pt x="2758" y="3879"/>
                        </a:lnTo>
                        <a:lnTo>
                          <a:pt x="2763" y="3879"/>
                        </a:lnTo>
                        <a:lnTo>
                          <a:pt x="2763" y="3883"/>
                        </a:lnTo>
                        <a:lnTo>
                          <a:pt x="2763" y="3888"/>
                        </a:lnTo>
                        <a:lnTo>
                          <a:pt x="2763" y="3893"/>
                        </a:lnTo>
                        <a:lnTo>
                          <a:pt x="2768" y="3893"/>
                        </a:lnTo>
                        <a:lnTo>
                          <a:pt x="2768" y="3898"/>
                        </a:lnTo>
                        <a:lnTo>
                          <a:pt x="2768" y="3902"/>
                        </a:lnTo>
                        <a:lnTo>
                          <a:pt x="2773" y="3907"/>
                        </a:lnTo>
                        <a:lnTo>
                          <a:pt x="2773" y="3912"/>
                        </a:lnTo>
                        <a:lnTo>
                          <a:pt x="2777" y="3917"/>
                        </a:lnTo>
                        <a:lnTo>
                          <a:pt x="2777" y="3922"/>
                        </a:lnTo>
                        <a:lnTo>
                          <a:pt x="2782" y="3926"/>
                        </a:lnTo>
                        <a:lnTo>
                          <a:pt x="2782" y="3931"/>
                        </a:lnTo>
                        <a:lnTo>
                          <a:pt x="2782" y="3936"/>
                        </a:lnTo>
                        <a:lnTo>
                          <a:pt x="2787" y="3941"/>
                        </a:lnTo>
                        <a:lnTo>
                          <a:pt x="2787" y="3946"/>
                        </a:lnTo>
                        <a:lnTo>
                          <a:pt x="2787" y="3950"/>
                        </a:lnTo>
                        <a:lnTo>
                          <a:pt x="2792" y="3950"/>
                        </a:lnTo>
                        <a:lnTo>
                          <a:pt x="2792" y="3955"/>
                        </a:lnTo>
                        <a:lnTo>
                          <a:pt x="2792" y="3960"/>
                        </a:lnTo>
                        <a:lnTo>
                          <a:pt x="2797" y="3965"/>
                        </a:lnTo>
                        <a:lnTo>
                          <a:pt x="2797" y="3970"/>
                        </a:lnTo>
                        <a:lnTo>
                          <a:pt x="2801" y="3974"/>
                        </a:lnTo>
                        <a:lnTo>
                          <a:pt x="2801" y="3979"/>
                        </a:lnTo>
                        <a:lnTo>
                          <a:pt x="2801" y="3984"/>
                        </a:lnTo>
                        <a:lnTo>
                          <a:pt x="2806" y="3989"/>
                        </a:lnTo>
                        <a:lnTo>
                          <a:pt x="2806" y="3993"/>
                        </a:lnTo>
                        <a:lnTo>
                          <a:pt x="2806" y="3998"/>
                        </a:lnTo>
                        <a:lnTo>
                          <a:pt x="2811" y="4003"/>
                        </a:lnTo>
                        <a:lnTo>
                          <a:pt x="2811" y="4008"/>
                        </a:lnTo>
                        <a:lnTo>
                          <a:pt x="2811" y="4013"/>
                        </a:lnTo>
                        <a:lnTo>
                          <a:pt x="2816" y="4017"/>
                        </a:lnTo>
                        <a:lnTo>
                          <a:pt x="2816" y="4022"/>
                        </a:lnTo>
                        <a:lnTo>
                          <a:pt x="2816" y="4027"/>
                        </a:lnTo>
                        <a:lnTo>
                          <a:pt x="2816" y="4032"/>
                        </a:lnTo>
                        <a:lnTo>
                          <a:pt x="2816" y="4037"/>
                        </a:lnTo>
                        <a:lnTo>
                          <a:pt x="2816" y="4041"/>
                        </a:lnTo>
                        <a:lnTo>
                          <a:pt x="2830" y="4051"/>
                        </a:lnTo>
                        <a:lnTo>
                          <a:pt x="2840" y="4056"/>
                        </a:lnTo>
                        <a:lnTo>
                          <a:pt x="2849" y="4065"/>
                        </a:lnTo>
                        <a:lnTo>
                          <a:pt x="2864" y="4075"/>
                        </a:lnTo>
                        <a:lnTo>
                          <a:pt x="2873" y="4084"/>
                        </a:lnTo>
                        <a:lnTo>
                          <a:pt x="2883" y="4094"/>
                        </a:lnTo>
                        <a:lnTo>
                          <a:pt x="2897" y="4104"/>
                        </a:lnTo>
                        <a:lnTo>
                          <a:pt x="2907" y="4113"/>
                        </a:lnTo>
                        <a:lnTo>
                          <a:pt x="2916" y="4123"/>
                        </a:lnTo>
                        <a:lnTo>
                          <a:pt x="2926" y="4137"/>
                        </a:lnTo>
                        <a:lnTo>
                          <a:pt x="2936" y="4147"/>
                        </a:lnTo>
                        <a:lnTo>
                          <a:pt x="2945" y="4156"/>
                        </a:lnTo>
                        <a:lnTo>
                          <a:pt x="2955" y="4166"/>
                        </a:lnTo>
                        <a:lnTo>
                          <a:pt x="2964" y="4180"/>
                        </a:lnTo>
                        <a:lnTo>
                          <a:pt x="2974" y="4190"/>
                        </a:lnTo>
                        <a:lnTo>
                          <a:pt x="2984" y="4204"/>
                        </a:lnTo>
                        <a:lnTo>
                          <a:pt x="2993" y="4214"/>
                        </a:lnTo>
                        <a:lnTo>
                          <a:pt x="3003" y="4228"/>
                        </a:lnTo>
                        <a:lnTo>
                          <a:pt x="3008" y="4242"/>
                        </a:lnTo>
                        <a:lnTo>
                          <a:pt x="3017" y="4252"/>
                        </a:lnTo>
                        <a:lnTo>
                          <a:pt x="3022" y="4266"/>
                        </a:lnTo>
                        <a:lnTo>
                          <a:pt x="3027" y="4281"/>
                        </a:lnTo>
                        <a:lnTo>
                          <a:pt x="3032" y="4295"/>
                        </a:lnTo>
                        <a:lnTo>
                          <a:pt x="3036" y="4305"/>
                        </a:lnTo>
                        <a:lnTo>
                          <a:pt x="3041" y="4319"/>
                        </a:lnTo>
                        <a:lnTo>
                          <a:pt x="3046" y="4333"/>
                        </a:lnTo>
                        <a:lnTo>
                          <a:pt x="3046" y="4348"/>
                        </a:lnTo>
                        <a:lnTo>
                          <a:pt x="3051" y="4362"/>
                        </a:lnTo>
                        <a:lnTo>
                          <a:pt x="3051" y="4377"/>
                        </a:lnTo>
                        <a:lnTo>
                          <a:pt x="3051" y="4391"/>
                        </a:lnTo>
                        <a:lnTo>
                          <a:pt x="3051" y="4410"/>
                        </a:lnTo>
                        <a:lnTo>
                          <a:pt x="3051" y="4424"/>
                        </a:lnTo>
                        <a:lnTo>
                          <a:pt x="3046" y="4429"/>
                        </a:lnTo>
                        <a:lnTo>
                          <a:pt x="3041" y="4439"/>
                        </a:lnTo>
                        <a:lnTo>
                          <a:pt x="3041" y="4444"/>
                        </a:lnTo>
                        <a:lnTo>
                          <a:pt x="3036" y="4448"/>
                        </a:lnTo>
                        <a:lnTo>
                          <a:pt x="3032" y="4453"/>
                        </a:lnTo>
                        <a:lnTo>
                          <a:pt x="3027" y="4458"/>
                        </a:lnTo>
                        <a:lnTo>
                          <a:pt x="3022" y="4463"/>
                        </a:lnTo>
                        <a:lnTo>
                          <a:pt x="3017" y="4468"/>
                        </a:lnTo>
                        <a:lnTo>
                          <a:pt x="3012" y="4472"/>
                        </a:lnTo>
                        <a:lnTo>
                          <a:pt x="3008" y="4477"/>
                        </a:lnTo>
                        <a:lnTo>
                          <a:pt x="3003" y="4482"/>
                        </a:lnTo>
                        <a:lnTo>
                          <a:pt x="2998" y="4487"/>
                        </a:lnTo>
                        <a:lnTo>
                          <a:pt x="2988" y="4487"/>
                        </a:lnTo>
                        <a:lnTo>
                          <a:pt x="2984" y="4491"/>
                        </a:lnTo>
                        <a:lnTo>
                          <a:pt x="2979" y="4496"/>
                        </a:lnTo>
                        <a:lnTo>
                          <a:pt x="2969" y="4496"/>
                        </a:lnTo>
                        <a:lnTo>
                          <a:pt x="2964" y="4501"/>
                        </a:lnTo>
                        <a:lnTo>
                          <a:pt x="2960" y="4501"/>
                        </a:lnTo>
                        <a:lnTo>
                          <a:pt x="2950" y="4506"/>
                        </a:lnTo>
                        <a:lnTo>
                          <a:pt x="2945" y="4506"/>
                        </a:lnTo>
                        <a:lnTo>
                          <a:pt x="2940" y="4506"/>
                        </a:lnTo>
                        <a:lnTo>
                          <a:pt x="2931" y="4511"/>
                        </a:lnTo>
                        <a:lnTo>
                          <a:pt x="2926" y="4511"/>
                        </a:lnTo>
                        <a:lnTo>
                          <a:pt x="2916" y="4511"/>
                        </a:lnTo>
                        <a:lnTo>
                          <a:pt x="2912" y="4515"/>
                        </a:lnTo>
                        <a:lnTo>
                          <a:pt x="2902" y="4515"/>
                        </a:lnTo>
                        <a:lnTo>
                          <a:pt x="2897" y="4515"/>
                        </a:lnTo>
                        <a:lnTo>
                          <a:pt x="2892" y="4520"/>
                        </a:lnTo>
                        <a:lnTo>
                          <a:pt x="2883" y="4520"/>
                        </a:lnTo>
                        <a:lnTo>
                          <a:pt x="2878" y="4520"/>
                        </a:lnTo>
                        <a:lnTo>
                          <a:pt x="2868" y="4520"/>
                        </a:lnTo>
                        <a:lnTo>
                          <a:pt x="2864" y="4525"/>
                        </a:lnTo>
                        <a:lnTo>
                          <a:pt x="2859" y="4525"/>
                        </a:lnTo>
                        <a:lnTo>
                          <a:pt x="2854" y="4525"/>
                        </a:lnTo>
                        <a:lnTo>
                          <a:pt x="2849" y="4525"/>
                        </a:lnTo>
                        <a:lnTo>
                          <a:pt x="2844" y="4525"/>
                        </a:lnTo>
                        <a:lnTo>
                          <a:pt x="2840" y="4525"/>
                        </a:lnTo>
                        <a:lnTo>
                          <a:pt x="2835" y="4525"/>
                        </a:lnTo>
                        <a:lnTo>
                          <a:pt x="2830" y="4525"/>
                        </a:lnTo>
                        <a:lnTo>
                          <a:pt x="2825" y="4525"/>
                        </a:lnTo>
                        <a:lnTo>
                          <a:pt x="2820" y="4525"/>
                        </a:lnTo>
                        <a:lnTo>
                          <a:pt x="2820" y="4530"/>
                        </a:lnTo>
                        <a:lnTo>
                          <a:pt x="2816" y="4530"/>
                        </a:lnTo>
                        <a:lnTo>
                          <a:pt x="2811" y="4530"/>
                        </a:lnTo>
                        <a:lnTo>
                          <a:pt x="2801" y="4525"/>
                        </a:lnTo>
                        <a:lnTo>
                          <a:pt x="2792" y="4525"/>
                        </a:lnTo>
                        <a:lnTo>
                          <a:pt x="2777" y="4525"/>
                        </a:lnTo>
                        <a:lnTo>
                          <a:pt x="2763" y="4530"/>
                        </a:lnTo>
                        <a:lnTo>
                          <a:pt x="2753" y="4530"/>
                        </a:lnTo>
                        <a:lnTo>
                          <a:pt x="2739" y="4530"/>
                        </a:lnTo>
                        <a:lnTo>
                          <a:pt x="2725" y="4530"/>
                        </a:lnTo>
                        <a:lnTo>
                          <a:pt x="2715" y="4530"/>
                        </a:lnTo>
                        <a:lnTo>
                          <a:pt x="2701" y="4530"/>
                        </a:lnTo>
                        <a:lnTo>
                          <a:pt x="2691" y="4530"/>
                        </a:lnTo>
                        <a:lnTo>
                          <a:pt x="2677" y="4530"/>
                        </a:lnTo>
                        <a:lnTo>
                          <a:pt x="2662" y="4530"/>
                        </a:lnTo>
                        <a:lnTo>
                          <a:pt x="2653" y="4530"/>
                        </a:lnTo>
                        <a:lnTo>
                          <a:pt x="2638" y="4525"/>
                        </a:lnTo>
                        <a:lnTo>
                          <a:pt x="2624" y="4525"/>
                        </a:lnTo>
                        <a:lnTo>
                          <a:pt x="2614" y="4525"/>
                        </a:lnTo>
                        <a:lnTo>
                          <a:pt x="2600" y="4525"/>
                        </a:lnTo>
                        <a:lnTo>
                          <a:pt x="2590" y="4525"/>
                        </a:lnTo>
                        <a:lnTo>
                          <a:pt x="2576" y="4520"/>
                        </a:lnTo>
                        <a:lnTo>
                          <a:pt x="2561" y="4520"/>
                        </a:lnTo>
                        <a:lnTo>
                          <a:pt x="2552" y="4520"/>
                        </a:lnTo>
                        <a:lnTo>
                          <a:pt x="2537" y="4520"/>
                        </a:lnTo>
                        <a:lnTo>
                          <a:pt x="2528" y="4515"/>
                        </a:lnTo>
                        <a:lnTo>
                          <a:pt x="2513" y="4515"/>
                        </a:lnTo>
                        <a:lnTo>
                          <a:pt x="2504" y="4515"/>
                        </a:lnTo>
                        <a:lnTo>
                          <a:pt x="2490" y="4511"/>
                        </a:lnTo>
                        <a:lnTo>
                          <a:pt x="2480" y="4511"/>
                        </a:lnTo>
                        <a:lnTo>
                          <a:pt x="2466" y="4506"/>
                        </a:lnTo>
                        <a:lnTo>
                          <a:pt x="2456" y="4506"/>
                        </a:lnTo>
                        <a:lnTo>
                          <a:pt x="2442" y="4501"/>
                        </a:lnTo>
                        <a:lnTo>
                          <a:pt x="2432" y="4501"/>
                        </a:lnTo>
                        <a:lnTo>
                          <a:pt x="2422" y="4496"/>
                        </a:lnTo>
                        <a:lnTo>
                          <a:pt x="2408" y="4496"/>
                        </a:lnTo>
                        <a:lnTo>
                          <a:pt x="2403" y="4496"/>
                        </a:lnTo>
                        <a:lnTo>
                          <a:pt x="2403" y="4491"/>
                        </a:lnTo>
                        <a:lnTo>
                          <a:pt x="2398" y="4491"/>
                        </a:lnTo>
                        <a:lnTo>
                          <a:pt x="2394" y="4491"/>
                        </a:lnTo>
                        <a:lnTo>
                          <a:pt x="2389" y="4487"/>
                        </a:lnTo>
                        <a:lnTo>
                          <a:pt x="2384" y="4487"/>
                        </a:lnTo>
                        <a:lnTo>
                          <a:pt x="2379" y="4487"/>
                        </a:lnTo>
                        <a:lnTo>
                          <a:pt x="2379" y="4482"/>
                        </a:lnTo>
                        <a:lnTo>
                          <a:pt x="2374" y="4482"/>
                        </a:lnTo>
                        <a:lnTo>
                          <a:pt x="2370" y="4477"/>
                        </a:lnTo>
                        <a:lnTo>
                          <a:pt x="2365" y="4477"/>
                        </a:lnTo>
                        <a:lnTo>
                          <a:pt x="2360" y="4472"/>
                        </a:lnTo>
                        <a:lnTo>
                          <a:pt x="2355" y="4468"/>
                        </a:lnTo>
                        <a:lnTo>
                          <a:pt x="2350" y="4468"/>
                        </a:lnTo>
                        <a:lnTo>
                          <a:pt x="2350" y="4463"/>
                        </a:lnTo>
                        <a:lnTo>
                          <a:pt x="2346" y="4463"/>
                        </a:lnTo>
                        <a:lnTo>
                          <a:pt x="2346" y="4458"/>
                        </a:lnTo>
                        <a:lnTo>
                          <a:pt x="2341" y="4458"/>
                        </a:lnTo>
                        <a:lnTo>
                          <a:pt x="2341" y="4453"/>
                        </a:lnTo>
                        <a:lnTo>
                          <a:pt x="2336" y="4453"/>
                        </a:lnTo>
                        <a:lnTo>
                          <a:pt x="2336" y="4448"/>
                        </a:lnTo>
                        <a:lnTo>
                          <a:pt x="2331" y="4448"/>
                        </a:lnTo>
                        <a:lnTo>
                          <a:pt x="2331" y="4444"/>
                        </a:lnTo>
                        <a:lnTo>
                          <a:pt x="2331" y="4439"/>
                        </a:lnTo>
                        <a:lnTo>
                          <a:pt x="2326" y="4439"/>
                        </a:lnTo>
                        <a:lnTo>
                          <a:pt x="2326" y="4434"/>
                        </a:lnTo>
                        <a:lnTo>
                          <a:pt x="2326" y="4429"/>
                        </a:lnTo>
                        <a:lnTo>
                          <a:pt x="2322" y="4429"/>
                        </a:lnTo>
                        <a:lnTo>
                          <a:pt x="2322" y="4424"/>
                        </a:lnTo>
                        <a:lnTo>
                          <a:pt x="2322" y="4420"/>
                        </a:lnTo>
                        <a:lnTo>
                          <a:pt x="2317" y="4415"/>
                        </a:lnTo>
                        <a:lnTo>
                          <a:pt x="2317" y="4410"/>
                        </a:lnTo>
                        <a:lnTo>
                          <a:pt x="2317" y="4405"/>
                        </a:lnTo>
                        <a:lnTo>
                          <a:pt x="2317" y="4396"/>
                        </a:lnTo>
                        <a:lnTo>
                          <a:pt x="2312" y="4391"/>
                        </a:lnTo>
                        <a:lnTo>
                          <a:pt x="2312" y="4386"/>
                        </a:lnTo>
                        <a:lnTo>
                          <a:pt x="2312" y="4381"/>
                        </a:lnTo>
                        <a:lnTo>
                          <a:pt x="2312" y="4377"/>
                        </a:lnTo>
                        <a:lnTo>
                          <a:pt x="2312" y="4372"/>
                        </a:lnTo>
                        <a:lnTo>
                          <a:pt x="2312" y="4367"/>
                        </a:lnTo>
                        <a:lnTo>
                          <a:pt x="2312" y="4362"/>
                        </a:lnTo>
                        <a:lnTo>
                          <a:pt x="2312" y="4357"/>
                        </a:lnTo>
                        <a:lnTo>
                          <a:pt x="2312" y="4353"/>
                        </a:lnTo>
                        <a:lnTo>
                          <a:pt x="2317" y="4348"/>
                        </a:lnTo>
                        <a:lnTo>
                          <a:pt x="2317" y="4343"/>
                        </a:lnTo>
                        <a:lnTo>
                          <a:pt x="2317" y="4333"/>
                        </a:lnTo>
                        <a:lnTo>
                          <a:pt x="2317" y="4329"/>
                        </a:lnTo>
                        <a:lnTo>
                          <a:pt x="2317" y="4324"/>
                        </a:lnTo>
                        <a:lnTo>
                          <a:pt x="2317" y="4319"/>
                        </a:lnTo>
                        <a:lnTo>
                          <a:pt x="2322" y="4314"/>
                        </a:lnTo>
                        <a:lnTo>
                          <a:pt x="2322" y="4310"/>
                        </a:lnTo>
                        <a:lnTo>
                          <a:pt x="2322" y="4305"/>
                        </a:lnTo>
                        <a:lnTo>
                          <a:pt x="2322" y="4300"/>
                        </a:lnTo>
                        <a:lnTo>
                          <a:pt x="2326" y="4295"/>
                        </a:lnTo>
                        <a:lnTo>
                          <a:pt x="2326" y="4286"/>
                        </a:lnTo>
                        <a:lnTo>
                          <a:pt x="2326" y="4281"/>
                        </a:lnTo>
                        <a:lnTo>
                          <a:pt x="2326" y="4276"/>
                        </a:lnTo>
                        <a:lnTo>
                          <a:pt x="2331" y="4271"/>
                        </a:lnTo>
                        <a:lnTo>
                          <a:pt x="2331" y="4266"/>
                        </a:lnTo>
                        <a:lnTo>
                          <a:pt x="2331" y="4262"/>
                        </a:lnTo>
                        <a:lnTo>
                          <a:pt x="2331" y="4257"/>
                        </a:lnTo>
                        <a:lnTo>
                          <a:pt x="2336" y="4252"/>
                        </a:lnTo>
                        <a:lnTo>
                          <a:pt x="2336" y="4247"/>
                        </a:lnTo>
                        <a:lnTo>
                          <a:pt x="2336" y="4242"/>
                        </a:lnTo>
                        <a:lnTo>
                          <a:pt x="2341" y="4238"/>
                        </a:lnTo>
                        <a:lnTo>
                          <a:pt x="2341" y="4233"/>
                        </a:lnTo>
                        <a:lnTo>
                          <a:pt x="2341" y="4228"/>
                        </a:lnTo>
                        <a:lnTo>
                          <a:pt x="2341" y="4223"/>
                        </a:lnTo>
                        <a:lnTo>
                          <a:pt x="2341" y="4219"/>
                        </a:lnTo>
                        <a:lnTo>
                          <a:pt x="2341" y="4214"/>
                        </a:lnTo>
                        <a:lnTo>
                          <a:pt x="2341" y="4209"/>
                        </a:lnTo>
                        <a:lnTo>
                          <a:pt x="2341" y="4204"/>
                        </a:lnTo>
                        <a:lnTo>
                          <a:pt x="2341" y="4199"/>
                        </a:lnTo>
                        <a:lnTo>
                          <a:pt x="2336" y="4195"/>
                        </a:lnTo>
                        <a:lnTo>
                          <a:pt x="2336" y="4190"/>
                        </a:lnTo>
                        <a:lnTo>
                          <a:pt x="2336" y="4185"/>
                        </a:lnTo>
                        <a:lnTo>
                          <a:pt x="2331" y="4180"/>
                        </a:lnTo>
                        <a:lnTo>
                          <a:pt x="2331" y="4175"/>
                        </a:lnTo>
                        <a:lnTo>
                          <a:pt x="2326" y="4171"/>
                        </a:lnTo>
                        <a:lnTo>
                          <a:pt x="2326" y="4166"/>
                        </a:lnTo>
                        <a:lnTo>
                          <a:pt x="2322" y="4161"/>
                        </a:lnTo>
                        <a:lnTo>
                          <a:pt x="2322" y="4156"/>
                        </a:lnTo>
                        <a:lnTo>
                          <a:pt x="2317" y="4151"/>
                        </a:lnTo>
                        <a:lnTo>
                          <a:pt x="2317" y="4147"/>
                        </a:lnTo>
                        <a:lnTo>
                          <a:pt x="2312" y="4142"/>
                        </a:lnTo>
                        <a:lnTo>
                          <a:pt x="2307" y="4137"/>
                        </a:lnTo>
                        <a:lnTo>
                          <a:pt x="2307" y="4132"/>
                        </a:lnTo>
                        <a:lnTo>
                          <a:pt x="2302" y="4128"/>
                        </a:lnTo>
                        <a:lnTo>
                          <a:pt x="2298" y="4118"/>
                        </a:lnTo>
                        <a:lnTo>
                          <a:pt x="2293" y="4108"/>
                        </a:lnTo>
                        <a:lnTo>
                          <a:pt x="2293" y="4099"/>
                        </a:lnTo>
                        <a:lnTo>
                          <a:pt x="2288" y="4094"/>
                        </a:lnTo>
                        <a:lnTo>
                          <a:pt x="2283" y="4084"/>
                        </a:lnTo>
                        <a:lnTo>
                          <a:pt x="2278" y="4075"/>
                        </a:lnTo>
                        <a:lnTo>
                          <a:pt x="2278" y="4070"/>
                        </a:lnTo>
                        <a:lnTo>
                          <a:pt x="2274" y="4061"/>
                        </a:lnTo>
                        <a:lnTo>
                          <a:pt x="2269" y="4051"/>
                        </a:lnTo>
                        <a:lnTo>
                          <a:pt x="2269" y="4041"/>
                        </a:lnTo>
                        <a:lnTo>
                          <a:pt x="2264" y="4037"/>
                        </a:lnTo>
                        <a:lnTo>
                          <a:pt x="2259" y="4027"/>
                        </a:lnTo>
                        <a:lnTo>
                          <a:pt x="2259" y="4017"/>
                        </a:lnTo>
                        <a:lnTo>
                          <a:pt x="2254" y="4008"/>
                        </a:lnTo>
                        <a:lnTo>
                          <a:pt x="2250" y="4003"/>
                        </a:lnTo>
                        <a:lnTo>
                          <a:pt x="2245" y="3993"/>
                        </a:lnTo>
                        <a:lnTo>
                          <a:pt x="2245" y="3984"/>
                        </a:lnTo>
                        <a:lnTo>
                          <a:pt x="2240" y="3974"/>
                        </a:lnTo>
                        <a:lnTo>
                          <a:pt x="2235" y="3970"/>
                        </a:lnTo>
                        <a:lnTo>
                          <a:pt x="2230" y="3960"/>
                        </a:lnTo>
                        <a:lnTo>
                          <a:pt x="2230" y="3950"/>
                        </a:lnTo>
                        <a:lnTo>
                          <a:pt x="2226" y="3946"/>
                        </a:lnTo>
                        <a:lnTo>
                          <a:pt x="2221" y="3936"/>
                        </a:lnTo>
                        <a:lnTo>
                          <a:pt x="2216" y="3926"/>
                        </a:lnTo>
                        <a:lnTo>
                          <a:pt x="2211" y="3922"/>
                        </a:lnTo>
                        <a:lnTo>
                          <a:pt x="2211" y="3912"/>
                        </a:lnTo>
                        <a:lnTo>
                          <a:pt x="2206" y="3902"/>
                        </a:lnTo>
                        <a:lnTo>
                          <a:pt x="2202" y="3898"/>
                        </a:lnTo>
                        <a:lnTo>
                          <a:pt x="2197" y="3888"/>
                        </a:lnTo>
                        <a:lnTo>
                          <a:pt x="2192" y="3879"/>
                        </a:lnTo>
                        <a:lnTo>
                          <a:pt x="2187" y="3874"/>
                        </a:lnTo>
                        <a:lnTo>
                          <a:pt x="2182" y="3864"/>
                        </a:lnTo>
                        <a:lnTo>
                          <a:pt x="2130" y="3764"/>
                        </a:lnTo>
                        <a:lnTo>
                          <a:pt x="2120" y="3759"/>
                        </a:lnTo>
                        <a:lnTo>
                          <a:pt x="2106" y="3754"/>
                        </a:lnTo>
                        <a:lnTo>
                          <a:pt x="2096" y="3754"/>
                        </a:lnTo>
                        <a:lnTo>
                          <a:pt x="2087" y="3749"/>
                        </a:lnTo>
                        <a:lnTo>
                          <a:pt x="2072" y="3744"/>
                        </a:lnTo>
                        <a:lnTo>
                          <a:pt x="2063" y="3740"/>
                        </a:lnTo>
                        <a:lnTo>
                          <a:pt x="2053" y="3740"/>
                        </a:lnTo>
                        <a:lnTo>
                          <a:pt x="2039" y="3735"/>
                        </a:lnTo>
                        <a:lnTo>
                          <a:pt x="2029" y="3730"/>
                        </a:lnTo>
                        <a:lnTo>
                          <a:pt x="2019" y="3725"/>
                        </a:lnTo>
                        <a:lnTo>
                          <a:pt x="2010" y="3721"/>
                        </a:lnTo>
                        <a:lnTo>
                          <a:pt x="1995" y="3711"/>
                        </a:lnTo>
                        <a:lnTo>
                          <a:pt x="1986" y="3706"/>
                        </a:lnTo>
                        <a:lnTo>
                          <a:pt x="1976" y="3701"/>
                        </a:lnTo>
                        <a:lnTo>
                          <a:pt x="1967" y="3697"/>
                        </a:lnTo>
                        <a:lnTo>
                          <a:pt x="1957" y="3687"/>
                        </a:lnTo>
                        <a:lnTo>
                          <a:pt x="1947" y="3682"/>
                        </a:lnTo>
                        <a:lnTo>
                          <a:pt x="1938" y="3677"/>
                        </a:lnTo>
                        <a:lnTo>
                          <a:pt x="1923" y="3668"/>
                        </a:lnTo>
                        <a:lnTo>
                          <a:pt x="1914" y="3663"/>
                        </a:lnTo>
                        <a:lnTo>
                          <a:pt x="1904" y="3658"/>
                        </a:lnTo>
                        <a:lnTo>
                          <a:pt x="1895" y="3649"/>
                        </a:lnTo>
                        <a:lnTo>
                          <a:pt x="1885" y="3644"/>
                        </a:lnTo>
                        <a:lnTo>
                          <a:pt x="1875" y="3634"/>
                        </a:lnTo>
                        <a:lnTo>
                          <a:pt x="1866" y="3630"/>
                        </a:lnTo>
                        <a:lnTo>
                          <a:pt x="1856" y="3620"/>
                        </a:lnTo>
                        <a:lnTo>
                          <a:pt x="1847" y="3615"/>
                        </a:lnTo>
                        <a:lnTo>
                          <a:pt x="1837" y="3606"/>
                        </a:lnTo>
                        <a:lnTo>
                          <a:pt x="1828" y="3601"/>
                        </a:lnTo>
                        <a:lnTo>
                          <a:pt x="1818" y="3591"/>
                        </a:lnTo>
                        <a:lnTo>
                          <a:pt x="1808" y="3586"/>
                        </a:lnTo>
                        <a:lnTo>
                          <a:pt x="1794" y="3577"/>
                        </a:lnTo>
                        <a:lnTo>
                          <a:pt x="1789" y="3577"/>
                        </a:lnTo>
                        <a:lnTo>
                          <a:pt x="1789" y="3572"/>
                        </a:lnTo>
                        <a:lnTo>
                          <a:pt x="1784" y="3572"/>
                        </a:lnTo>
                        <a:lnTo>
                          <a:pt x="1784" y="3567"/>
                        </a:lnTo>
                        <a:lnTo>
                          <a:pt x="1780" y="3567"/>
                        </a:lnTo>
                        <a:lnTo>
                          <a:pt x="1775" y="3563"/>
                        </a:lnTo>
                        <a:lnTo>
                          <a:pt x="1770" y="3563"/>
                        </a:lnTo>
                        <a:lnTo>
                          <a:pt x="1770" y="3558"/>
                        </a:lnTo>
                        <a:lnTo>
                          <a:pt x="1765" y="3558"/>
                        </a:lnTo>
                        <a:lnTo>
                          <a:pt x="1765" y="3553"/>
                        </a:lnTo>
                        <a:lnTo>
                          <a:pt x="1760" y="3553"/>
                        </a:lnTo>
                        <a:lnTo>
                          <a:pt x="1760" y="3548"/>
                        </a:lnTo>
                        <a:lnTo>
                          <a:pt x="1756" y="3548"/>
                        </a:lnTo>
                        <a:lnTo>
                          <a:pt x="1756" y="3543"/>
                        </a:lnTo>
                        <a:lnTo>
                          <a:pt x="1751" y="3543"/>
                        </a:lnTo>
                        <a:lnTo>
                          <a:pt x="1751" y="3539"/>
                        </a:lnTo>
                        <a:lnTo>
                          <a:pt x="1746" y="3539"/>
                        </a:lnTo>
                        <a:lnTo>
                          <a:pt x="1746" y="3534"/>
                        </a:lnTo>
                        <a:lnTo>
                          <a:pt x="1741" y="3534"/>
                        </a:lnTo>
                        <a:lnTo>
                          <a:pt x="1741" y="3529"/>
                        </a:lnTo>
                        <a:lnTo>
                          <a:pt x="1736" y="3529"/>
                        </a:lnTo>
                        <a:lnTo>
                          <a:pt x="1736" y="3524"/>
                        </a:lnTo>
                        <a:lnTo>
                          <a:pt x="1732" y="3524"/>
                        </a:lnTo>
                        <a:lnTo>
                          <a:pt x="1732" y="3529"/>
                        </a:lnTo>
                        <a:lnTo>
                          <a:pt x="1732" y="3534"/>
                        </a:lnTo>
                        <a:lnTo>
                          <a:pt x="1732" y="3539"/>
                        </a:lnTo>
                        <a:lnTo>
                          <a:pt x="1732" y="3543"/>
                        </a:lnTo>
                        <a:lnTo>
                          <a:pt x="1736" y="3548"/>
                        </a:lnTo>
                        <a:lnTo>
                          <a:pt x="1736" y="3553"/>
                        </a:lnTo>
                        <a:lnTo>
                          <a:pt x="1736" y="3558"/>
                        </a:lnTo>
                        <a:lnTo>
                          <a:pt x="1736" y="3563"/>
                        </a:lnTo>
                        <a:lnTo>
                          <a:pt x="1741" y="3567"/>
                        </a:lnTo>
                        <a:lnTo>
                          <a:pt x="1741" y="3572"/>
                        </a:lnTo>
                        <a:lnTo>
                          <a:pt x="1741" y="3577"/>
                        </a:lnTo>
                        <a:lnTo>
                          <a:pt x="1741" y="3582"/>
                        </a:lnTo>
                        <a:lnTo>
                          <a:pt x="1746" y="3586"/>
                        </a:lnTo>
                        <a:lnTo>
                          <a:pt x="1746" y="3591"/>
                        </a:lnTo>
                        <a:lnTo>
                          <a:pt x="1751" y="3596"/>
                        </a:lnTo>
                        <a:lnTo>
                          <a:pt x="1751" y="3601"/>
                        </a:lnTo>
                        <a:lnTo>
                          <a:pt x="1756" y="3606"/>
                        </a:lnTo>
                        <a:lnTo>
                          <a:pt x="1760" y="3620"/>
                        </a:lnTo>
                        <a:lnTo>
                          <a:pt x="1765" y="3630"/>
                        </a:lnTo>
                        <a:lnTo>
                          <a:pt x="1770" y="3639"/>
                        </a:lnTo>
                        <a:lnTo>
                          <a:pt x="1775" y="3654"/>
                        </a:lnTo>
                        <a:lnTo>
                          <a:pt x="1780" y="3663"/>
                        </a:lnTo>
                        <a:lnTo>
                          <a:pt x="1780" y="3673"/>
                        </a:lnTo>
                        <a:lnTo>
                          <a:pt x="1784" y="3687"/>
                        </a:lnTo>
                        <a:lnTo>
                          <a:pt x="1789" y="3697"/>
                        </a:lnTo>
                        <a:lnTo>
                          <a:pt x="1794" y="3711"/>
                        </a:lnTo>
                        <a:lnTo>
                          <a:pt x="1794" y="3721"/>
                        </a:lnTo>
                        <a:lnTo>
                          <a:pt x="1799" y="3730"/>
                        </a:lnTo>
                        <a:lnTo>
                          <a:pt x="1804" y="3744"/>
                        </a:lnTo>
                        <a:lnTo>
                          <a:pt x="1804" y="3754"/>
                        </a:lnTo>
                        <a:lnTo>
                          <a:pt x="1808" y="3768"/>
                        </a:lnTo>
                        <a:lnTo>
                          <a:pt x="1813" y="3778"/>
                        </a:lnTo>
                        <a:lnTo>
                          <a:pt x="1813" y="3792"/>
                        </a:lnTo>
                        <a:lnTo>
                          <a:pt x="1818" y="3802"/>
                        </a:lnTo>
                        <a:lnTo>
                          <a:pt x="1823" y="3812"/>
                        </a:lnTo>
                        <a:lnTo>
                          <a:pt x="1823" y="3826"/>
                        </a:lnTo>
                        <a:lnTo>
                          <a:pt x="1828" y="3835"/>
                        </a:lnTo>
                        <a:lnTo>
                          <a:pt x="1832" y="3850"/>
                        </a:lnTo>
                        <a:lnTo>
                          <a:pt x="1837" y="3859"/>
                        </a:lnTo>
                        <a:lnTo>
                          <a:pt x="1837" y="3869"/>
                        </a:lnTo>
                        <a:lnTo>
                          <a:pt x="1842" y="3883"/>
                        </a:lnTo>
                        <a:lnTo>
                          <a:pt x="1847" y="3893"/>
                        </a:lnTo>
                        <a:lnTo>
                          <a:pt x="1851" y="3907"/>
                        </a:lnTo>
                        <a:lnTo>
                          <a:pt x="1856" y="3917"/>
                        </a:lnTo>
                        <a:lnTo>
                          <a:pt x="1861" y="3926"/>
                        </a:lnTo>
                        <a:lnTo>
                          <a:pt x="1866" y="3936"/>
                        </a:lnTo>
                        <a:lnTo>
                          <a:pt x="1871" y="3950"/>
                        </a:lnTo>
                        <a:lnTo>
                          <a:pt x="1875" y="3960"/>
                        </a:lnTo>
                        <a:lnTo>
                          <a:pt x="1880" y="3970"/>
                        </a:lnTo>
                        <a:lnTo>
                          <a:pt x="1880" y="3974"/>
                        </a:lnTo>
                        <a:lnTo>
                          <a:pt x="1880" y="3979"/>
                        </a:lnTo>
                        <a:lnTo>
                          <a:pt x="1880" y="3984"/>
                        </a:lnTo>
                        <a:lnTo>
                          <a:pt x="1880" y="3989"/>
                        </a:lnTo>
                        <a:lnTo>
                          <a:pt x="1880" y="3993"/>
                        </a:lnTo>
                        <a:lnTo>
                          <a:pt x="1885" y="3998"/>
                        </a:lnTo>
                        <a:lnTo>
                          <a:pt x="1885" y="4003"/>
                        </a:lnTo>
                        <a:lnTo>
                          <a:pt x="1890" y="4003"/>
                        </a:lnTo>
                        <a:lnTo>
                          <a:pt x="1890" y="4008"/>
                        </a:lnTo>
                        <a:lnTo>
                          <a:pt x="1890" y="4013"/>
                        </a:lnTo>
                        <a:lnTo>
                          <a:pt x="1895" y="4013"/>
                        </a:lnTo>
                        <a:lnTo>
                          <a:pt x="1895" y="4017"/>
                        </a:lnTo>
                        <a:lnTo>
                          <a:pt x="1895" y="4022"/>
                        </a:lnTo>
                        <a:lnTo>
                          <a:pt x="1899" y="4022"/>
                        </a:lnTo>
                        <a:lnTo>
                          <a:pt x="1899" y="4027"/>
                        </a:lnTo>
                        <a:lnTo>
                          <a:pt x="1899" y="4032"/>
                        </a:lnTo>
                        <a:lnTo>
                          <a:pt x="1904" y="4037"/>
                        </a:lnTo>
                        <a:lnTo>
                          <a:pt x="1904" y="4046"/>
                        </a:lnTo>
                        <a:lnTo>
                          <a:pt x="1909" y="4056"/>
                        </a:lnTo>
                        <a:lnTo>
                          <a:pt x="1914" y="4061"/>
                        </a:lnTo>
                        <a:lnTo>
                          <a:pt x="1914" y="4070"/>
                        </a:lnTo>
                        <a:lnTo>
                          <a:pt x="1919" y="4080"/>
                        </a:lnTo>
                        <a:lnTo>
                          <a:pt x="1919" y="4084"/>
                        </a:lnTo>
                        <a:lnTo>
                          <a:pt x="1923" y="4094"/>
                        </a:lnTo>
                        <a:lnTo>
                          <a:pt x="1923" y="4104"/>
                        </a:lnTo>
                        <a:lnTo>
                          <a:pt x="1928" y="4113"/>
                        </a:lnTo>
                        <a:lnTo>
                          <a:pt x="1933" y="4118"/>
                        </a:lnTo>
                        <a:lnTo>
                          <a:pt x="1933" y="4128"/>
                        </a:lnTo>
                        <a:lnTo>
                          <a:pt x="1938" y="4137"/>
                        </a:lnTo>
                        <a:lnTo>
                          <a:pt x="1938" y="4147"/>
                        </a:lnTo>
                        <a:lnTo>
                          <a:pt x="1938" y="4151"/>
                        </a:lnTo>
                        <a:lnTo>
                          <a:pt x="1943" y="4161"/>
                        </a:lnTo>
                        <a:lnTo>
                          <a:pt x="1943" y="4171"/>
                        </a:lnTo>
                        <a:lnTo>
                          <a:pt x="1947" y="4180"/>
                        </a:lnTo>
                        <a:lnTo>
                          <a:pt x="1947" y="4190"/>
                        </a:lnTo>
                        <a:lnTo>
                          <a:pt x="1947" y="4195"/>
                        </a:lnTo>
                        <a:lnTo>
                          <a:pt x="1952" y="4204"/>
                        </a:lnTo>
                        <a:lnTo>
                          <a:pt x="1952" y="4214"/>
                        </a:lnTo>
                        <a:lnTo>
                          <a:pt x="1952" y="4223"/>
                        </a:lnTo>
                        <a:lnTo>
                          <a:pt x="1952" y="4233"/>
                        </a:lnTo>
                        <a:lnTo>
                          <a:pt x="1957" y="4238"/>
                        </a:lnTo>
                        <a:lnTo>
                          <a:pt x="1957" y="4247"/>
                        </a:lnTo>
                        <a:lnTo>
                          <a:pt x="1957" y="4257"/>
                        </a:lnTo>
                        <a:lnTo>
                          <a:pt x="1957" y="4266"/>
                        </a:lnTo>
                        <a:lnTo>
                          <a:pt x="1957" y="4276"/>
                        </a:lnTo>
                        <a:lnTo>
                          <a:pt x="1957" y="4286"/>
                        </a:lnTo>
                        <a:lnTo>
                          <a:pt x="1957" y="4295"/>
                        </a:lnTo>
                        <a:lnTo>
                          <a:pt x="1957" y="4305"/>
                        </a:lnTo>
                        <a:lnTo>
                          <a:pt x="1952" y="4305"/>
                        </a:lnTo>
                        <a:lnTo>
                          <a:pt x="1952" y="4310"/>
                        </a:lnTo>
                        <a:lnTo>
                          <a:pt x="1947" y="4310"/>
                        </a:lnTo>
                        <a:lnTo>
                          <a:pt x="1947" y="4314"/>
                        </a:lnTo>
                        <a:lnTo>
                          <a:pt x="1947" y="4319"/>
                        </a:lnTo>
                        <a:lnTo>
                          <a:pt x="1947" y="4324"/>
                        </a:lnTo>
                        <a:lnTo>
                          <a:pt x="1943" y="4324"/>
                        </a:lnTo>
                        <a:lnTo>
                          <a:pt x="1943" y="4329"/>
                        </a:lnTo>
                        <a:lnTo>
                          <a:pt x="1943" y="4333"/>
                        </a:lnTo>
                        <a:lnTo>
                          <a:pt x="1943" y="4338"/>
                        </a:lnTo>
                        <a:lnTo>
                          <a:pt x="1938" y="4343"/>
                        </a:lnTo>
                        <a:lnTo>
                          <a:pt x="1938" y="4348"/>
                        </a:lnTo>
                        <a:lnTo>
                          <a:pt x="1938" y="4353"/>
                        </a:lnTo>
                        <a:lnTo>
                          <a:pt x="1933" y="4357"/>
                        </a:lnTo>
                        <a:lnTo>
                          <a:pt x="1933" y="4362"/>
                        </a:lnTo>
                        <a:lnTo>
                          <a:pt x="1928" y="4362"/>
                        </a:lnTo>
                        <a:lnTo>
                          <a:pt x="1923" y="4367"/>
                        </a:lnTo>
                        <a:lnTo>
                          <a:pt x="1919" y="4367"/>
                        </a:lnTo>
                        <a:lnTo>
                          <a:pt x="1914" y="4367"/>
                        </a:lnTo>
                        <a:lnTo>
                          <a:pt x="1895" y="4372"/>
                        </a:lnTo>
                        <a:lnTo>
                          <a:pt x="1880" y="4372"/>
                        </a:lnTo>
                        <a:lnTo>
                          <a:pt x="1861" y="4377"/>
                        </a:lnTo>
                        <a:lnTo>
                          <a:pt x="1847" y="4377"/>
                        </a:lnTo>
                        <a:lnTo>
                          <a:pt x="1828" y="4377"/>
                        </a:lnTo>
                        <a:lnTo>
                          <a:pt x="1813" y="4377"/>
                        </a:lnTo>
                        <a:lnTo>
                          <a:pt x="1794" y="4381"/>
                        </a:lnTo>
                        <a:lnTo>
                          <a:pt x="1780" y="4381"/>
                        </a:lnTo>
                        <a:lnTo>
                          <a:pt x="1760" y="4381"/>
                        </a:lnTo>
                        <a:lnTo>
                          <a:pt x="1746" y="4381"/>
                        </a:lnTo>
                        <a:lnTo>
                          <a:pt x="1732" y="4381"/>
                        </a:lnTo>
                        <a:lnTo>
                          <a:pt x="1712" y="4381"/>
                        </a:lnTo>
                        <a:lnTo>
                          <a:pt x="1698" y="4381"/>
                        </a:lnTo>
                        <a:lnTo>
                          <a:pt x="1684" y="4381"/>
                        </a:lnTo>
                        <a:lnTo>
                          <a:pt x="1669" y="4386"/>
                        </a:lnTo>
                        <a:lnTo>
                          <a:pt x="1650" y="4386"/>
                        </a:lnTo>
                        <a:lnTo>
                          <a:pt x="1636" y="4386"/>
                        </a:lnTo>
                        <a:lnTo>
                          <a:pt x="1621" y="4386"/>
                        </a:lnTo>
                        <a:lnTo>
                          <a:pt x="1607" y="4386"/>
                        </a:lnTo>
                        <a:lnTo>
                          <a:pt x="1588" y="4386"/>
                        </a:lnTo>
                        <a:lnTo>
                          <a:pt x="1573" y="4386"/>
                        </a:lnTo>
                        <a:lnTo>
                          <a:pt x="1559" y="4386"/>
                        </a:lnTo>
                        <a:lnTo>
                          <a:pt x="1544" y="4386"/>
                        </a:lnTo>
                        <a:lnTo>
                          <a:pt x="1525" y="4386"/>
                        </a:lnTo>
                        <a:lnTo>
                          <a:pt x="1511" y="4386"/>
                        </a:lnTo>
                        <a:lnTo>
                          <a:pt x="1497" y="4386"/>
                        </a:lnTo>
                        <a:lnTo>
                          <a:pt x="1477" y="4386"/>
                        </a:lnTo>
                        <a:lnTo>
                          <a:pt x="1463" y="4386"/>
                        </a:lnTo>
                        <a:lnTo>
                          <a:pt x="1449" y="4391"/>
                        </a:lnTo>
                        <a:lnTo>
                          <a:pt x="1429" y="4391"/>
                        </a:lnTo>
                        <a:lnTo>
                          <a:pt x="1415" y="4391"/>
                        </a:lnTo>
                        <a:lnTo>
                          <a:pt x="1396" y="4391"/>
                        </a:lnTo>
                        <a:lnTo>
                          <a:pt x="1386" y="4391"/>
                        </a:lnTo>
                        <a:lnTo>
                          <a:pt x="1372" y="4391"/>
                        </a:lnTo>
                        <a:lnTo>
                          <a:pt x="1362" y="4391"/>
                        </a:lnTo>
                        <a:lnTo>
                          <a:pt x="1353" y="4391"/>
                        </a:lnTo>
                        <a:lnTo>
                          <a:pt x="1338" y="4391"/>
                        </a:lnTo>
                        <a:lnTo>
                          <a:pt x="1329" y="4391"/>
                        </a:lnTo>
                        <a:lnTo>
                          <a:pt x="1319" y="4391"/>
                        </a:lnTo>
                        <a:lnTo>
                          <a:pt x="1305" y="4391"/>
                        </a:lnTo>
                        <a:lnTo>
                          <a:pt x="1295" y="4391"/>
                        </a:lnTo>
                        <a:lnTo>
                          <a:pt x="1285" y="4391"/>
                        </a:lnTo>
                        <a:lnTo>
                          <a:pt x="1271" y="4396"/>
                        </a:lnTo>
                        <a:lnTo>
                          <a:pt x="1261" y="4396"/>
                        </a:lnTo>
                        <a:lnTo>
                          <a:pt x="1252" y="4396"/>
                        </a:lnTo>
                        <a:lnTo>
                          <a:pt x="1242" y="4396"/>
                        </a:lnTo>
                        <a:lnTo>
                          <a:pt x="1228" y="4396"/>
                        </a:lnTo>
                        <a:lnTo>
                          <a:pt x="1218" y="4396"/>
                        </a:lnTo>
                        <a:lnTo>
                          <a:pt x="1209" y="4396"/>
                        </a:lnTo>
                        <a:lnTo>
                          <a:pt x="1194" y="4396"/>
                        </a:lnTo>
                        <a:lnTo>
                          <a:pt x="1185" y="4396"/>
                        </a:lnTo>
                        <a:lnTo>
                          <a:pt x="1175" y="4391"/>
                        </a:lnTo>
                        <a:lnTo>
                          <a:pt x="1161" y="4391"/>
                        </a:lnTo>
                        <a:lnTo>
                          <a:pt x="1151" y="4391"/>
                        </a:lnTo>
                        <a:lnTo>
                          <a:pt x="1142" y="4391"/>
                        </a:lnTo>
                        <a:lnTo>
                          <a:pt x="1127" y="4391"/>
                        </a:lnTo>
                        <a:lnTo>
                          <a:pt x="1118" y="4391"/>
                        </a:lnTo>
                        <a:lnTo>
                          <a:pt x="1108" y="4391"/>
                        </a:lnTo>
                        <a:lnTo>
                          <a:pt x="1094" y="4391"/>
                        </a:lnTo>
                        <a:lnTo>
                          <a:pt x="1084" y="4391"/>
                        </a:lnTo>
                        <a:lnTo>
                          <a:pt x="1074" y="4386"/>
                        </a:lnTo>
                        <a:lnTo>
                          <a:pt x="1060" y="4386"/>
                        </a:lnTo>
                        <a:lnTo>
                          <a:pt x="1050" y="4386"/>
                        </a:lnTo>
                        <a:lnTo>
                          <a:pt x="1036" y="4386"/>
                        </a:lnTo>
                        <a:lnTo>
                          <a:pt x="1031" y="4381"/>
                        </a:lnTo>
                        <a:lnTo>
                          <a:pt x="1026" y="4381"/>
                        </a:lnTo>
                        <a:lnTo>
                          <a:pt x="1022" y="4381"/>
                        </a:lnTo>
                        <a:lnTo>
                          <a:pt x="1017" y="4381"/>
                        </a:lnTo>
                        <a:lnTo>
                          <a:pt x="1012" y="4377"/>
                        </a:lnTo>
                        <a:lnTo>
                          <a:pt x="1007" y="4377"/>
                        </a:lnTo>
                        <a:lnTo>
                          <a:pt x="1002" y="4377"/>
                        </a:lnTo>
                        <a:lnTo>
                          <a:pt x="998" y="4377"/>
                        </a:lnTo>
                        <a:lnTo>
                          <a:pt x="993" y="4372"/>
                        </a:lnTo>
                        <a:lnTo>
                          <a:pt x="988" y="4372"/>
                        </a:lnTo>
                        <a:lnTo>
                          <a:pt x="983" y="4367"/>
                        </a:lnTo>
                        <a:lnTo>
                          <a:pt x="978" y="4367"/>
                        </a:lnTo>
                        <a:lnTo>
                          <a:pt x="974" y="4367"/>
                        </a:lnTo>
                        <a:lnTo>
                          <a:pt x="969" y="4362"/>
                        </a:lnTo>
                        <a:lnTo>
                          <a:pt x="964" y="4362"/>
                        </a:lnTo>
                        <a:lnTo>
                          <a:pt x="959" y="4357"/>
                        </a:lnTo>
                        <a:lnTo>
                          <a:pt x="954" y="4357"/>
                        </a:lnTo>
                        <a:lnTo>
                          <a:pt x="950" y="4353"/>
                        </a:lnTo>
                        <a:lnTo>
                          <a:pt x="945" y="4348"/>
                        </a:lnTo>
                        <a:lnTo>
                          <a:pt x="940" y="4348"/>
                        </a:lnTo>
                        <a:lnTo>
                          <a:pt x="935" y="4343"/>
                        </a:lnTo>
                        <a:lnTo>
                          <a:pt x="930" y="4338"/>
                        </a:lnTo>
                        <a:lnTo>
                          <a:pt x="926" y="4333"/>
                        </a:lnTo>
                        <a:lnTo>
                          <a:pt x="921" y="4329"/>
                        </a:lnTo>
                        <a:lnTo>
                          <a:pt x="921" y="4324"/>
                        </a:lnTo>
                        <a:lnTo>
                          <a:pt x="916" y="4319"/>
                        </a:lnTo>
                        <a:lnTo>
                          <a:pt x="911" y="4314"/>
                        </a:lnTo>
                        <a:lnTo>
                          <a:pt x="911" y="4310"/>
                        </a:lnTo>
                        <a:lnTo>
                          <a:pt x="906" y="4305"/>
                        </a:lnTo>
                        <a:lnTo>
                          <a:pt x="906" y="4300"/>
                        </a:lnTo>
                        <a:lnTo>
                          <a:pt x="906" y="4295"/>
                        </a:lnTo>
                        <a:lnTo>
                          <a:pt x="906" y="4290"/>
                        </a:lnTo>
                        <a:lnTo>
                          <a:pt x="906" y="4281"/>
                        </a:lnTo>
                        <a:lnTo>
                          <a:pt x="906" y="4276"/>
                        </a:lnTo>
                        <a:lnTo>
                          <a:pt x="906" y="4271"/>
                        </a:lnTo>
                        <a:lnTo>
                          <a:pt x="911" y="4266"/>
                        </a:lnTo>
                        <a:lnTo>
                          <a:pt x="911" y="4262"/>
                        </a:lnTo>
                        <a:lnTo>
                          <a:pt x="911" y="4257"/>
                        </a:lnTo>
                        <a:lnTo>
                          <a:pt x="916" y="4252"/>
                        </a:lnTo>
                        <a:lnTo>
                          <a:pt x="916" y="4247"/>
                        </a:lnTo>
                        <a:lnTo>
                          <a:pt x="921" y="4242"/>
                        </a:lnTo>
                        <a:lnTo>
                          <a:pt x="926" y="4238"/>
                        </a:lnTo>
                        <a:lnTo>
                          <a:pt x="926" y="4233"/>
                        </a:lnTo>
                        <a:lnTo>
                          <a:pt x="930" y="4228"/>
                        </a:lnTo>
                        <a:lnTo>
                          <a:pt x="930" y="4223"/>
                        </a:lnTo>
                        <a:lnTo>
                          <a:pt x="935" y="4219"/>
                        </a:lnTo>
                        <a:lnTo>
                          <a:pt x="940" y="4214"/>
                        </a:lnTo>
                        <a:lnTo>
                          <a:pt x="945" y="4209"/>
                        </a:lnTo>
                        <a:lnTo>
                          <a:pt x="945" y="4204"/>
                        </a:lnTo>
                        <a:lnTo>
                          <a:pt x="950" y="4204"/>
                        </a:lnTo>
                        <a:lnTo>
                          <a:pt x="954" y="4199"/>
                        </a:lnTo>
                        <a:lnTo>
                          <a:pt x="959" y="4195"/>
                        </a:lnTo>
                        <a:lnTo>
                          <a:pt x="959" y="4190"/>
                        </a:lnTo>
                        <a:lnTo>
                          <a:pt x="964" y="4185"/>
                        </a:lnTo>
                        <a:lnTo>
                          <a:pt x="969" y="4180"/>
                        </a:lnTo>
                        <a:lnTo>
                          <a:pt x="974" y="4175"/>
                        </a:lnTo>
                        <a:lnTo>
                          <a:pt x="978" y="4175"/>
                        </a:lnTo>
                        <a:lnTo>
                          <a:pt x="978" y="4171"/>
                        </a:lnTo>
                        <a:lnTo>
                          <a:pt x="983" y="4166"/>
                        </a:lnTo>
                        <a:lnTo>
                          <a:pt x="988" y="4161"/>
                        </a:lnTo>
                        <a:lnTo>
                          <a:pt x="988" y="4156"/>
                        </a:lnTo>
                        <a:lnTo>
                          <a:pt x="998" y="4151"/>
                        </a:lnTo>
                        <a:lnTo>
                          <a:pt x="1002" y="4147"/>
                        </a:lnTo>
                        <a:lnTo>
                          <a:pt x="1007" y="4142"/>
                        </a:lnTo>
                        <a:lnTo>
                          <a:pt x="1012" y="4137"/>
                        </a:lnTo>
                        <a:lnTo>
                          <a:pt x="1017" y="4132"/>
                        </a:lnTo>
                        <a:lnTo>
                          <a:pt x="1026" y="4128"/>
                        </a:lnTo>
                        <a:lnTo>
                          <a:pt x="1031" y="4123"/>
                        </a:lnTo>
                        <a:lnTo>
                          <a:pt x="1036" y="4118"/>
                        </a:lnTo>
                        <a:lnTo>
                          <a:pt x="1041" y="4113"/>
                        </a:lnTo>
                        <a:lnTo>
                          <a:pt x="1050" y="4108"/>
                        </a:lnTo>
                        <a:lnTo>
                          <a:pt x="1055" y="4104"/>
                        </a:lnTo>
                        <a:lnTo>
                          <a:pt x="1060" y="4099"/>
                        </a:lnTo>
                        <a:lnTo>
                          <a:pt x="1070" y="4094"/>
                        </a:lnTo>
                        <a:lnTo>
                          <a:pt x="1074" y="4089"/>
                        </a:lnTo>
                        <a:lnTo>
                          <a:pt x="1079" y="4084"/>
                        </a:lnTo>
                        <a:lnTo>
                          <a:pt x="1089" y="4080"/>
                        </a:lnTo>
                        <a:lnTo>
                          <a:pt x="1094" y="4075"/>
                        </a:lnTo>
                        <a:lnTo>
                          <a:pt x="1098" y="4070"/>
                        </a:lnTo>
                        <a:lnTo>
                          <a:pt x="1108" y="4065"/>
                        </a:lnTo>
                        <a:lnTo>
                          <a:pt x="1113" y="4061"/>
                        </a:lnTo>
                        <a:lnTo>
                          <a:pt x="1122" y="4056"/>
                        </a:lnTo>
                        <a:lnTo>
                          <a:pt x="1127" y="4051"/>
                        </a:lnTo>
                        <a:lnTo>
                          <a:pt x="1132" y="4046"/>
                        </a:lnTo>
                        <a:lnTo>
                          <a:pt x="1142" y="4046"/>
                        </a:lnTo>
                        <a:lnTo>
                          <a:pt x="1146" y="4041"/>
                        </a:lnTo>
                        <a:lnTo>
                          <a:pt x="1156" y="4037"/>
                        </a:lnTo>
                        <a:lnTo>
                          <a:pt x="1161" y="4032"/>
                        </a:lnTo>
                        <a:lnTo>
                          <a:pt x="1166" y="4027"/>
                        </a:lnTo>
                        <a:lnTo>
                          <a:pt x="1175" y="4022"/>
                        </a:lnTo>
                        <a:lnTo>
                          <a:pt x="1180" y="4017"/>
                        </a:lnTo>
                        <a:lnTo>
                          <a:pt x="1189" y="4017"/>
                        </a:lnTo>
                        <a:lnTo>
                          <a:pt x="1194" y="4013"/>
                        </a:lnTo>
                        <a:lnTo>
                          <a:pt x="1199" y="4008"/>
                        </a:lnTo>
                        <a:lnTo>
                          <a:pt x="1204" y="4008"/>
                        </a:lnTo>
                        <a:lnTo>
                          <a:pt x="1213" y="4003"/>
                        </a:lnTo>
                        <a:lnTo>
                          <a:pt x="1218" y="3998"/>
                        </a:lnTo>
                        <a:lnTo>
                          <a:pt x="1223" y="3998"/>
                        </a:lnTo>
                        <a:lnTo>
                          <a:pt x="1228" y="3993"/>
                        </a:lnTo>
                        <a:lnTo>
                          <a:pt x="1233" y="3993"/>
                        </a:lnTo>
                        <a:lnTo>
                          <a:pt x="1242" y="3989"/>
                        </a:lnTo>
                        <a:lnTo>
                          <a:pt x="1247" y="3989"/>
                        </a:lnTo>
                        <a:lnTo>
                          <a:pt x="1252" y="3984"/>
                        </a:lnTo>
                        <a:lnTo>
                          <a:pt x="1257" y="3979"/>
                        </a:lnTo>
                        <a:lnTo>
                          <a:pt x="1266" y="3979"/>
                        </a:lnTo>
                        <a:lnTo>
                          <a:pt x="1271" y="3974"/>
                        </a:lnTo>
                        <a:lnTo>
                          <a:pt x="1276" y="3974"/>
                        </a:lnTo>
                        <a:lnTo>
                          <a:pt x="1281" y="3970"/>
                        </a:lnTo>
                        <a:lnTo>
                          <a:pt x="1290" y="3970"/>
                        </a:lnTo>
                        <a:lnTo>
                          <a:pt x="1295" y="3965"/>
                        </a:lnTo>
                        <a:lnTo>
                          <a:pt x="1300" y="3965"/>
                        </a:lnTo>
                        <a:lnTo>
                          <a:pt x="1305" y="3960"/>
                        </a:lnTo>
                        <a:lnTo>
                          <a:pt x="1314" y="3960"/>
                        </a:lnTo>
                        <a:lnTo>
                          <a:pt x="1319" y="3955"/>
                        </a:lnTo>
                        <a:lnTo>
                          <a:pt x="1324" y="3955"/>
                        </a:lnTo>
                        <a:lnTo>
                          <a:pt x="1333" y="3950"/>
                        </a:lnTo>
                        <a:lnTo>
                          <a:pt x="1338" y="3950"/>
                        </a:lnTo>
                        <a:lnTo>
                          <a:pt x="1343" y="3946"/>
                        </a:lnTo>
                        <a:lnTo>
                          <a:pt x="1348" y="3946"/>
                        </a:lnTo>
                        <a:lnTo>
                          <a:pt x="1357" y="3941"/>
                        </a:lnTo>
                        <a:lnTo>
                          <a:pt x="1362" y="3941"/>
                        </a:lnTo>
                        <a:lnTo>
                          <a:pt x="1367" y="3936"/>
                        </a:lnTo>
                        <a:lnTo>
                          <a:pt x="1377" y="3936"/>
                        </a:lnTo>
                        <a:lnTo>
                          <a:pt x="1381" y="3931"/>
                        </a:lnTo>
                        <a:lnTo>
                          <a:pt x="1386" y="3931"/>
                        </a:lnTo>
                        <a:lnTo>
                          <a:pt x="1386" y="3926"/>
                        </a:lnTo>
                        <a:lnTo>
                          <a:pt x="1386" y="3922"/>
                        </a:lnTo>
                        <a:lnTo>
                          <a:pt x="1386" y="3917"/>
                        </a:lnTo>
                        <a:lnTo>
                          <a:pt x="1386" y="3912"/>
                        </a:lnTo>
                        <a:lnTo>
                          <a:pt x="1381" y="3912"/>
                        </a:lnTo>
                        <a:lnTo>
                          <a:pt x="1381" y="3907"/>
                        </a:lnTo>
                        <a:lnTo>
                          <a:pt x="1381" y="3902"/>
                        </a:lnTo>
                        <a:lnTo>
                          <a:pt x="1377" y="3898"/>
                        </a:lnTo>
                        <a:lnTo>
                          <a:pt x="1377" y="3893"/>
                        </a:lnTo>
                        <a:lnTo>
                          <a:pt x="1372" y="3888"/>
                        </a:lnTo>
                        <a:lnTo>
                          <a:pt x="1372" y="3883"/>
                        </a:lnTo>
                        <a:lnTo>
                          <a:pt x="1367" y="3883"/>
                        </a:lnTo>
                        <a:lnTo>
                          <a:pt x="1367" y="3879"/>
                        </a:lnTo>
                        <a:lnTo>
                          <a:pt x="1367" y="3874"/>
                        </a:lnTo>
                        <a:lnTo>
                          <a:pt x="1362" y="3874"/>
                        </a:lnTo>
                        <a:lnTo>
                          <a:pt x="1362" y="3869"/>
                        </a:lnTo>
                        <a:lnTo>
                          <a:pt x="1357" y="3864"/>
                        </a:lnTo>
                        <a:lnTo>
                          <a:pt x="1357" y="3859"/>
                        </a:lnTo>
                        <a:lnTo>
                          <a:pt x="1353" y="3855"/>
                        </a:lnTo>
                        <a:lnTo>
                          <a:pt x="1353" y="3850"/>
                        </a:lnTo>
                        <a:lnTo>
                          <a:pt x="1348" y="3845"/>
                        </a:lnTo>
                        <a:lnTo>
                          <a:pt x="1348" y="3840"/>
                        </a:lnTo>
                        <a:lnTo>
                          <a:pt x="1348" y="3835"/>
                        </a:lnTo>
                        <a:lnTo>
                          <a:pt x="1343" y="3831"/>
                        </a:lnTo>
                        <a:lnTo>
                          <a:pt x="1338" y="3821"/>
                        </a:lnTo>
                        <a:lnTo>
                          <a:pt x="1333" y="3807"/>
                        </a:lnTo>
                        <a:lnTo>
                          <a:pt x="1324" y="3792"/>
                        </a:lnTo>
                        <a:lnTo>
                          <a:pt x="1319" y="3778"/>
                        </a:lnTo>
                        <a:lnTo>
                          <a:pt x="1309" y="3764"/>
                        </a:lnTo>
                        <a:lnTo>
                          <a:pt x="1305" y="3754"/>
                        </a:lnTo>
                        <a:lnTo>
                          <a:pt x="1300" y="3740"/>
                        </a:lnTo>
                        <a:lnTo>
                          <a:pt x="1290" y="3725"/>
                        </a:lnTo>
                        <a:lnTo>
                          <a:pt x="1285" y="3711"/>
                        </a:lnTo>
                        <a:lnTo>
                          <a:pt x="1281" y="3697"/>
                        </a:lnTo>
                        <a:lnTo>
                          <a:pt x="1271" y="3682"/>
                        </a:lnTo>
                        <a:lnTo>
                          <a:pt x="1266" y="3668"/>
                        </a:lnTo>
                        <a:lnTo>
                          <a:pt x="1261" y="3654"/>
                        </a:lnTo>
                        <a:lnTo>
                          <a:pt x="1252" y="3644"/>
                        </a:lnTo>
                        <a:lnTo>
                          <a:pt x="1247" y="3630"/>
                        </a:lnTo>
                        <a:lnTo>
                          <a:pt x="1242" y="3615"/>
                        </a:lnTo>
                        <a:lnTo>
                          <a:pt x="1233" y="3601"/>
                        </a:lnTo>
                        <a:lnTo>
                          <a:pt x="1228" y="3586"/>
                        </a:lnTo>
                        <a:lnTo>
                          <a:pt x="1223" y="3572"/>
                        </a:lnTo>
                        <a:lnTo>
                          <a:pt x="1213" y="3558"/>
                        </a:lnTo>
                        <a:lnTo>
                          <a:pt x="1209" y="3543"/>
                        </a:lnTo>
                        <a:lnTo>
                          <a:pt x="1204" y="3529"/>
                        </a:lnTo>
                        <a:lnTo>
                          <a:pt x="1199" y="3515"/>
                        </a:lnTo>
                        <a:lnTo>
                          <a:pt x="1194" y="3500"/>
                        </a:lnTo>
                        <a:lnTo>
                          <a:pt x="1189" y="3486"/>
                        </a:lnTo>
                        <a:lnTo>
                          <a:pt x="1180" y="3476"/>
                        </a:lnTo>
                        <a:lnTo>
                          <a:pt x="1175" y="3462"/>
                        </a:lnTo>
                        <a:lnTo>
                          <a:pt x="1170" y="3448"/>
                        </a:lnTo>
                        <a:lnTo>
                          <a:pt x="1166" y="3433"/>
                        </a:lnTo>
                        <a:lnTo>
                          <a:pt x="1161" y="3419"/>
                        </a:lnTo>
                        <a:lnTo>
                          <a:pt x="1156" y="3405"/>
                        </a:lnTo>
                        <a:lnTo>
                          <a:pt x="1151" y="3390"/>
                        </a:lnTo>
                        <a:lnTo>
                          <a:pt x="1151" y="3385"/>
                        </a:lnTo>
                        <a:lnTo>
                          <a:pt x="1151" y="3376"/>
                        </a:lnTo>
                        <a:lnTo>
                          <a:pt x="1146" y="3366"/>
                        </a:lnTo>
                        <a:lnTo>
                          <a:pt x="1146" y="3361"/>
                        </a:lnTo>
                        <a:lnTo>
                          <a:pt x="1142" y="3352"/>
                        </a:lnTo>
                        <a:lnTo>
                          <a:pt x="1142" y="3342"/>
                        </a:lnTo>
                        <a:lnTo>
                          <a:pt x="1137" y="3337"/>
                        </a:lnTo>
                        <a:lnTo>
                          <a:pt x="1137" y="3328"/>
                        </a:lnTo>
                        <a:lnTo>
                          <a:pt x="1137" y="3323"/>
                        </a:lnTo>
                        <a:lnTo>
                          <a:pt x="1132" y="3314"/>
                        </a:lnTo>
                        <a:lnTo>
                          <a:pt x="1132" y="3309"/>
                        </a:lnTo>
                        <a:lnTo>
                          <a:pt x="1127" y="3299"/>
                        </a:lnTo>
                        <a:lnTo>
                          <a:pt x="1127" y="3290"/>
                        </a:lnTo>
                        <a:lnTo>
                          <a:pt x="1127" y="3285"/>
                        </a:lnTo>
                        <a:lnTo>
                          <a:pt x="1122" y="3275"/>
                        </a:lnTo>
                        <a:lnTo>
                          <a:pt x="1122" y="3270"/>
                        </a:lnTo>
                        <a:lnTo>
                          <a:pt x="1118" y="3261"/>
                        </a:lnTo>
                        <a:lnTo>
                          <a:pt x="1118" y="3256"/>
                        </a:lnTo>
                        <a:lnTo>
                          <a:pt x="1118" y="3247"/>
                        </a:lnTo>
                        <a:lnTo>
                          <a:pt x="1113" y="3237"/>
                        </a:lnTo>
                        <a:lnTo>
                          <a:pt x="1113" y="3232"/>
                        </a:lnTo>
                        <a:lnTo>
                          <a:pt x="1113" y="3223"/>
                        </a:lnTo>
                        <a:lnTo>
                          <a:pt x="1113" y="3218"/>
                        </a:lnTo>
                        <a:lnTo>
                          <a:pt x="1108" y="3208"/>
                        </a:lnTo>
                        <a:lnTo>
                          <a:pt x="1108" y="3199"/>
                        </a:lnTo>
                        <a:lnTo>
                          <a:pt x="1108" y="3194"/>
                        </a:lnTo>
                        <a:lnTo>
                          <a:pt x="1108" y="3184"/>
                        </a:lnTo>
                        <a:lnTo>
                          <a:pt x="1108" y="3175"/>
                        </a:lnTo>
                        <a:lnTo>
                          <a:pt x="1108" y="3170"/>
                        </a:lnTo>
                        <a:lnTo>
                          <a:pt x="1108" y="3160"/>
                        </a:lnTo>
                        <a:lnTo>
                          <a:pt x="1108" y="3151"/>
                        </a:lnTo>
                        <a:lnTo>
                          <a:pt x="1108" y="3141"/>
                        </a:lnTo>
                        <a:lnTo>
                          <a:pt x="1108" y="3136"/>
                        </a:lnTo>
                        <a:lnTo>
                          <a:pt x="1113" y="3136"/>
                        </a:lnTo>
                        <a:lnTo>
                          <a:pt x="1113" y="3132"/>
                        </a:lnTo>
                        <a:lnTo>
                          <a:pt x="1108" y="3127"/>
                        </a:lnTo>
                        <a:lnTo>
                          <a:pt x="1108" y="3122"/>
                        </a:lnTo>
                        <a:lnTo>
                          <a:pt x="1108" y="3117"/>
                        </a:lnTo>
                        <a:lnTo>
                          <a:pt x="1103" y="3117"/>
                        </a:lnTo>
                        <a:lnTo>
                          <a:pt x="1103" y="3112"/>
                        </a:lnTo>
                        <a:lnTo>
                          <a:pt x="1103" y="3108"/>
                        </a:lnTo>
                        <a:lnTo>
                          <a:pt x="1108" y="3108"/>
                        </a:lnTo>
                        <a:lnTo>
                          <a:pt x="1108" y="3103"/>
                        </a:lnTo>
                        <a:lnTo>
                          <a:pt x="1108" y="3098"/>
                        </a:lnTo>
                        <a:lnTo>
                          <a:pt x="1108" y="3093"/>
                        </a:lnTo>
                        <a:lnTo>
                          <a:pt x="1108" y="3088"/>
                        </a:lnTo>
                        <a:lnTo>
                          <a:pt x="1108" y="3084"/>
                        </a:lnTo>
                        <a:lnTo>
                          <a:pt x="1113" y="3079"/>
                        </a:lnTo>
                        <a:lnTo>
                          <a:pt x="1113" y="3074"/>
                        </a:lnTo>
                        <a:lnTo>
                          <a:pt x="1118" y="3069"/>
                        </a:lnTo>
                        <a:lnTo>
                          <a:pt x="1118" y="3065"/>
                        </a:lnTo>
                        <a:lnTo>
                          <a:pt x="1122" y="3060"/>
                        </a:lnTo>
                        <a:lnTo>
                          <a:pt x="1122" y="3055"/>
                        </a:lnTo>
                        <a:lnTo>
                          <a:pt x="1127" y="3055"/>
                        </a:lnTo>
                        <a:lnTo>
                          <a:pt x="1127" y="3050"/>
                        </a:lnTo>
                        <a:lnTo>
                          <a:pt x="1132" y="3045"/>
                        </a:lnTo>
                        <a:lnTo>
                          <a:pt x="1132" y="3041"/>
                        </a:lnTo>
                        <a:lnTo>
                          <a:pt x="1137" y="3036"/>
                        </a:lnTo>
                        <a:lnTo>
                          <a:pt x="1137" y="3031"/>
                        </a:lnTo>
                        <a:lnTo>
                          <a:pt x="1137" y="3026"/>
                        </a:lnTo>
                        <a:lnTo>
                          <a:pt x="1142" y="3026"/>
                        </a:lnTo>
                        <a:lnTo>
                          <a:pt x="1142" y="3021"/>
                        </a:lnTo>
                        <a:lnTo>
                          <a:pt x="1146" y="3012"/>
                        </a:lnTo>
                        <a:lnTo>
                          <a:pt x="1151" y="3002"/>
                        </a:lnTo>
                        <a:lnTo>
                          <a:pt x="1156" y="2998"/>
                        </a:lnTo>
                        <a:lnTo>
                          <a:pt x="1161" y="2988"/>
                        </a:lnTo>
                        <a:lnTo>
                          <a:pt x="1170" y="2983"/>
                        </a:lnTo>
                        <a:lnTo>
                          <a:pt x="1175" y="2974"/>
                        </a:lnTo>
                        <a:lnTo>
                          <a:pt x="1180" y="2969"/>
                        </a:lnTo>
                        <a:lnTo>
                          <a:pt x="1185" y="2959"/>
                        </a:lnTo>
                        <a:lnTo>
                          <a:pt x="1194" y="2954"/>
                        </a:lnTo>
                        <a:lnTo>
                          <a:pt x="1199" y="2950"/>
                        </a:lnTo>
                        <a:lnTo>
                          <a:pt x="1209" y="2940"/>
                        </a:lnTo>
                        <a:lnTo>
                          <a:pt x="1213" y="2935"/>
                        </a:lnTo>
                        <a:lnTo>
                          <a:pt x="1223" y="2930"/>
                        </a:lnTo>
                        <a:lnTo>
                          <a:pt x="1228" y="2926"/>
                        </a:lnTo>
                        <a:lnTo>
                          <a:pt x="1237" y="2921"/>
                        </a:lnTo>
                        <a:lnTo>
                          <a:pt x="1247" y="2916"/>
                        </a:lnTo>
                        <a:lnTo>
                          <a:pt x="1252" y="2911"/>
                        </a:lnTo>
                        <a:lnTo>
                          <a:pt x="1261" y="2907"/>
                        </a:lnTo>
                        <a:lnTo>
                          <a:pt x="1271" y="2902"/>
                        </a:lnTo>
                        <a:lnTo>
                          <a:pt x="1276" y="2897"/>
                        </a:lnTo>
                        <a:lnTo>
                          <a:pt x="1285" y="2892"/>
                        </a:lnTo>
                        <a:lnTo>
                          <a:pt x="1295" y="2892"/>
                        </a:lnTo>
                        <a:lnTo>
                          <a:pt x="1300" y="2887"/>
                        </a:lnTo>
                        <a:lnTo>
                          <a:pt x="1309" y="2883"/>
                        </a:lnTo>
                        <a:lnTo>
                          <a:pt x="1319" y="2883"/>
                        </a:lnTo>
                        <a:lnTo>
                          <a:pt x="1329" y="2878"/>
                        </a:lnTo>
                        <a:lnTo>
                          <a:pt x="1338" y="2878"/>
                        </a:lnTo>
                        <a:lnTo>
                          <a:pt x="1343" y="2878"/>
                        </a:lnTo>
                        <a:lnTo>
                          <a:pt x="1353" y="2873"/>
                        </a:lnTo>
                        <a:lnTo>
                          <a:pt x="1362" y="2873"/>
                        </a:lnTo>
                        <a:lnTo>
                          <a:pt x="1372" y="2873"/>
                        </a:lnTo>
                        <a:lnTo>
                          <a:pt x="1381" y="2873"/>
                        </a:lnTo>
                        <a:lnTo>
                          <a:pt x="1381" y="2868"/>
                        </a:lnTo>
                        <a:lnTo>
                          <a:pt x="1377" y="2868"/>
                        </a:lnTo>
                        <a:lnTo>
                          <a:pt x="1377" y="2863"/>
                        </a:lnTo>
                        <a:lnTo>
                          <a:pt x="1377" y="2859"/>
                        </a:lnTo>
                        <a:lnTo>
                          <a:pt x="1372" y="2859"/>
                        </a:lnTo>
                        <a:lnTo>
                          <a:pt x="1372" y="2854"/>
                        </a:lnTo>
                        <a:lnTo>
                          <a:pt x="1367" y="2854"/>
                        </a:lnTo>
                        <a:lnTo>
                          <a:pt x="1367" y="2849"/>
                        </a:lnTo>
                        <a:lnTo>
                          <a:pt x="1362" y="2849"/>
                        </a:lnTo>
                        <a:lnTo>
                          <a:pt x="1362" y="2844"/>
                        </a:lnTo>
                        <a:lnTo>
                          <a:pt x="1357" y="2844"/>
                        </a:lnTo>
                        <a:lnTo>
                          <a:pt x="1357" y="2840"/>
                        </a:lnTo>
                        <a:lnTo>
                          <a:pt x="1353" y="2840"/>
                        </a:lnTo>
                        <a:lnTo>
                          <a:pt x="1353" y="2835"/>
                        </a:lnTo>
                        <a:lnTo>
                          <a:pt x="1353" y="2830"/>
                        </a:lnTo>
                        <a:lnTo>
                          <a:pt x="1348" y="2830"/>
                        </a:lnTo>
                        <a:lnTo>
                          <a:pt x="1348" y="2825"/>
                        </a:lnTo>
                        <a:lnTo>
                          <a:pt x="1343" y="2825"/>
                        </a:lnTo>
                        <a:lnTo>
                          <a:pt x="1343" y="2820"/>
                        </a:lnTo>
                        <a:lnTo>
                          <a:pt x="1338" y="2816"/>
                        </a:lnTo>
                        <a:lnTo>
                          <a:pt x="1338" y="2811"/>
                        </a:lnTo>
                        <a:lnTo>
                          <a:pt x="1338" y="2806"/>
                        </a:lnTo>
                        <a:lnTo>
                          <a:pt x="1333" y="2801"/>
                        </a:lnTo>
                        <a:lnTo>
                          <a:pt x="1333" y="2796"/>
                        </a:lnTo>
                        <a:lnTo>
                          <a:pt x="1333" y="2792"/>
                        </a:lnTo>
                        <a:lnTo>
                          <a:pt x="1333" y="2787"/>
                        </a:lnTo>
                        <a:lnTo>
                          <a:pt x="1333" y="2782"/>
                        </a:lnTo>
                        <a:lnTo>
                          <a:pt x="1333" y="2777"/>
                        </a:lnTo>
                        <a:lnTo>
                          <a:pt x="1333" y="2772"/>
                        </a:lnTo>
                        <a:lnTo>
                          <a:pt x="1333" y="2768"/>
                        </a:lnTo>
                        <a:lnTo>
                          <a:pt x="1333" y="2763"/>
                        </a:lnTo>
                        <a:lnTo>
                          <a:pt x="1333" y="2758"/>
                        </a:lnTo>
                        <a:lnTo>
                          <a:pt x="1333" y="2753"/>
                        </a:lnTo>
                        <a:lnTo>
                          <a:pt x="1333" y="2749"/>
                        </a:lnTo>
                        <a:lnTo>
                          <a:pt x="1333" y="2744"/>
                        </a:lnTo>
                        <a:lnTo>
                          <a:pt x="1285" y="2662"/>
                        </a:lnTo>
                        <a:lnTo>
                          <a:pt x="1281" y="2667"/>
                        </a:lnTo>
                        <a:lnTo>
                          <a:pt x="1276" y="2672"/>
                        </a:lnTo>
                        <a:lnTo>
                          <a:pt x="1271" y="2677"/>
                        </a:lnTo>
                        <a:lnTo>
                          <a:pt x="1266" y="2681"/>
                        </a:lnTo>
                        <a:lnTo>
                          <a:pt x="1261" y="2686"/>
                        </a:lnTo>
                        <a:lnTo>
                          <a:pt x="1257" y="2691"/>
                        </a:lnTo>
                        <a:lnTo>
                          <a:pt x="1257" y="2696"/>
                        </a:lnTo>
                        <a:lnTo>
                          <a:pt x="1252" y="2701"/>
                        </a:lnTo>
                        <a:lnTo>
                          <a:pt x="1247" y="2705"/>
                        </a:lnTo>
                        <a:lnTo>
                          <a:pt x="1242" y="2710"/>
                        </a:lnTo>
                        <a:lnTo>
                          <a:pt x="1242" y="2715"/>
                        </a:lnTo>
                        <a:lnTo>
                          <a:pt x="1237" y="2720"/>
                        </a:lnTo>
                        <a:lnTo>
                          <a:pt x="1233" y="2725"/>
                        </a:lnTo>
                        <a:lnTo>
                          <a:pt x="1228" y="2729"/>
                        </a:lnTo>
                        <a:lnTo>
                          <a:pt x="1228" y="2734"/>
                        </a:lnTo>
                        <a:lnTo>
                          <a:pt x="1223" y="2739"/>
                        </a:lnTo>
                        <a:lnTo>
                          <a:pt x="1218" y="2744"/>
                        </a:lnTo>
                        <a:lnTo>
                          <a:pt x="1218" y="2749"/>
                        </a:lnTo>
                        <a:lnTo>
                          <a:pt x="1213" y="2753"/>
                        </a:lnTo>
                        <a:lnTo>
                          <a:pt x="1209" y="2758"/>
                        </a:lnTo>
                        <a:lnTo>
                          <a:pt x="1204" y="2763"/>
                        </a:lnTo>
                        <a:lnTo>
                          <a:pt x="1204" y="2768"/>
                        </a:lnTo>
                        <a:lnTo>
                          <a:pt x="1199" y="2772"/>
                        </a:lnTo>
                        <a:lnTo>
                          <a:pt x="1194" y="2777"/>
                        </a:lnTo>
                        <a:lnTo>
                          <a:pt x="1189" y="2782"/>
                        </a:lnTo>
                        <a:lnTo>
                          <a:pt x="1189" y="2787"/>
                        </a:lnTo>
                        <a:lnTo>
                          <a:pt x="1185" y="2792"/>
                        </a:lnTo>
                        <a:lnTo>
                          <a:pt x="1180" y="2796"/>
                        </a:lnTo>
                        <a:lnTo>
                          <a:pt x="1175" y="2801"/>
                        </a:lnTo>
                        <a:lnTo>
                          <a:pt x="1170" y="2806"/>
                        </a:lnTo>
                        <a:lnTo>
                          <a:pt x="1166" y="2811"/>
                        </a:lnTo>
                        <a:lnTo>
                          <a:pt x="1156" y="2825"/>
                        </a:lnTo>
                        <a:lnTo>
                          <a:pt x="1146" y="2840"/>
                        </a:lnTo>
                        <a:lnTo>
                          <a:pt x="1137" y="2854"/>
                        </a:lnTo>
                        <a:lnTo>
                          <a:pt x="1127" y="2868"/>
                        </a:lnTo>
                        <a:lnTo>
                          <a:pt x="1118" y="2883"/>
                        </a:lnTo>
                        <a:lnTo>
                          <a:pt x="1108" y="2892"/>
                        </a:lnTo>
                        <a:lnTo>
                          <a:pt x="1098" y="2907"/>
                        </a:lnTo>
                        <a:lnTo>
                          <a:pt x="1089" y="2921"/>
                        </a:lnTo>
                        <a:lnTo>
                          <a:pt x="1079" y="2935"/>
                        </a:lnTo>
                        <a:lnTo>
                          <a:pt x="1070" y="2950"/>
                        </a:lnTo>
                        <a:lnTo>
                          <a:pt x="1060" y="2964"/>
                        </a:lnTo>
                        <a:lnTo>
                          <a:pt x="1050" y="2978"/>
                        </a:lnTo>
                        <a:lnTo>
                          <a:pt x="1041" y="2993"/>
                        </a:lnTo>
                        <a:lnTo>
                          <a:pt x="1031" y="3007"/>
                        </a:lnTo>
                        <a:lnTo>
                          <a:pt x="1022" y="3021"/>
                        </a:lnTo>
                        <a:lnTo>
                          <a:pt x="1012" y="3031"/>
                        </a:lnTo>
                        <a:lnTo>
                          <a:pt x="1002" y="3045"/>
                        </a:lnTo>
                        <a:lnTo>
                          <a:pt x="993" y="3060"/>
                        </a:lnTo>
                        <a:lnTo>
                          <a:pt x="988" y="3074"/>
                        </a:lnTo>
                        <a:lnTo>
                          <a:pt x="978" y="3088"/>
                        </a:lnTo>
                        <a:lnTo>
                          <a:pt x="969" y="3103"/>
                        </a:lnTo>
                        <a:lnTo>
                          <a:pt x="959" y="3117"/>
                        </a:lnTo>
                        <a:lnTo>
                          <a:pt x="950" y="3132"/>
                        </a:lnTo>
                        <a:lnTo>
                          <a:pt x="940" y="3146"/>
                        </a:lnTo>
                        <a:lnTo>
                          <a:pt x="930" y="3160"/>
                        </a:lnTo>
                        <a:lnTo>
                          <a:pt x="926" y="3175"/>
                        </a:lnTo>
                        <a:lnTo>
                          <a:pt x="916" y="3189"/>
                        </a:lnTo>
                        <a:lnTo>
                          <a:pt x="906" y="3203"/>
                        </a:lnTo>
                        <a:lnTo>
                          <a:pt x="897" y="3218"/>
                        </a:lnTo>
                        <a:lnTo>
                          <a:pt x="892" y="3232"/>
                        </a:lnTo>
                        <a:lnTo>
                          <a:pt x="882" y="3247"/>
                        </a:lnTo>
                        <a:lnTo>
                          <a:pt x="873" y="3261"/>
                        </a:lnTo>
                        <a:lnTo>
                          <a:pt x="873" y="3266"/>
                        </a:lnTo>
                        <a:lnTo>
                          <a:pt x="868" y="3266"/>
                        </a:lnTo>
                        <a:lnTo>
                          <a:pt x="868" y="3270"/>
                        </a:lnTo>
                        <a:lnTo>
                          <a:pt x="863" y="3270"/>
                        </a:lnTo>
                        <a:lnTo>
                          <a:pt x="858" y="3270"/>
                        </a:lnTo>
                        <a:lnTo>
                          <a:pt x="854" y="3275"/>
                        </a:lnTo>
                        <a:lnTo>
                          <a:pt x="854" y="3270"/>
                        </a:lnTo>
                        <a:lnTo>
                          <a:pt x="849" y="3270"/>
                        </a:lnTo>
                        <a:lnTo>
                          <a:pt x="849" y="3280"/>
                        </a:lnTo>
                        <a:lnTo>
                          <a:pt x="849" y="3290"/>
                        </a:lnTo>
                        <a:lnTo>
                          <a:pt x="854" y="3299"/>
                        </a:lnTo>
                        <a:lnTo>
                          <a:pt x="854" y="3309"/>
                        </a:lnTo>
                        <a:lnTo>
                          <a:pt x="854" y="3318"/>
                        </a:lnTo>
                        <a:lnTo>
                          <a:pt x="854" y="3328"/>
                        </a:lnTo>
                        <a:lnTo>
                          <a:pt x="854" y="3337"/>
                        </a:lnTo>
                        <a:lnTo>
                          <a:pt x="854" y="3347"/>
                        </a:lnTo>
                        <a:lnTo>
                          <a:pt x="854" y="3357"/>
                        </a:lnTo>
                        <a:lnTo>
                          <a:pt x="854" y="3361"/>
                        </a:lnTo>
                        <a:lnTo>
                          <a:pt x="854" y="3371"/>
                        </a:lnTo>
                        <a:lnTo>
                          <a:pt x="858" y="3381"/>
                        </a:lnTo>
                        <a:lnTo>
                          <a:pt x="858" y="3390"/>
                        </a:lnTo>
                        <a:lnTo>
                          <a:pt x="858" y="3400"/>
                        </a:lnTo>
                        <a:lnTo>
                          <a:pt x="858" y="3409"/>
                        </a:lnTo>
                        <a:lnTo>
                          <a:pt x="858" y="3419"/>
                        </a:lnTo>
                        <a:lnTo>
                          <a:pt x="858" y="3424"/>
                        </a:lnTo>
                        <a:lnTo>
                          <a:pt x="858" y="3433"/>
                        </a:lnTo>
                        <a:lnTo>
                          <a:pt x="858" y="3443"/>
                        </a:lnTo>
                        <a:lnTo>
                          <a:pt x="854" y="3452"/>
                        </a:lnTo>
                        <a:lnTo>
                          <a:pt x="854" y="3462"/>
                        </a:lnTo>
                        <a:lnTo>
                          <a:pt x="854" y="3472"/>
                        </a:lnTo>
                        <a:lnTo>
                          <a:pt x="854" y="3476"/>
                        </a:lnTo>
                        <a:lnTo>
                          <a:pt x="854" y="3486"/>
                        </a:lnTo>
                        <a:lnTo>
                          <a:pt x="854" y="3495"/>
                        </a:lnTo>
                        <a:lnTo>
                          <a:pt x="854" y="3505"/>
                        </a:lnTo>
                        <a:lnTo>
                          <a:pt x="854" y="3515"/>
                        </a:lnTo>
                        <a:lnTo>
                          <a:pt x="849" y="3524"/>
                        </a:lnTo>
                        <a:lnTo>
                          <a:pt x="849" y="3529"/>
                        </a:lnTo>
                        <a:lnTo>
                          <a:pt x="849" y="3539"/>
                        </a:lnTo>
                        <a:lnTo>
                          <a:pt x="849" y="3548"/>
                        </a:lnTo>
                        <a:lnTo>
                          <a:pt x="844" y="3558"/>
                        </a:lnTo>
                        <a:lnTo>
                          <a:pt x="844" y="3567"/>
                        </a:lnTo>
                        <a:lnTo>
                          <a:pt x="839" y="3572"/>
                        </a:lnTo>
                        <a:lnTo>
                          <a:pt x="839" y="3582"/>
                        </a:lnTo>
                        <a:lnTo>
                          <a:pt x="835" y="3586"/>
                        </a:lnTo>
                        <a:lnTo>
                          <a:pt x="835" y="3596"/>
                        </a:lnTo>
                        <a:lnTo>
                          <a:pt x="830" y="3601"/>
                        </a:lnTo>
                        <a:lnTo>
                          <a:pt x="825" y="3610"/>
                        </a:lnTo>
                        <a:lnTo>
                          <a:pt x="820" y="3620"/>
                        </a:lnTo>
                        <a:lnTo>
                          <a:pt x="820" y="3625"/>
                        </a:lnTo>
                        <a:lnTo>
                          <a:pt x="815" y="3634"/>
                        </a:lnTo>
                        <a:lnTo>
                          <a:pt x="811" y="3639"/>
                        </a:lnTo>
                        <a:lnTo>
                          <a:pt x="806" y="3649"/>
                        </a:lnTo>
                        <a:lnTo>
                          <a:pt x="801" y="3654"/>
                        </a:lnTo>
                        <a:lnTo>
                          <a:pt x="796" y="3663"/>
                        </a:lnTo>
                        <a:lnTo>
                          <a:pt x="791" y="3668"/>
                        </a:lnTo>
                        <a:lnTo>
                          <a:pt x="787" y="3677"/>
                        </a:lnTo>
                        <a:lnTo>
                          <a:pt x="782" y="3682"/>
                        </a:lnTo>
                        <a:lnTo>
                          <a:pt x="777" y="3687"/>
                        </a:lnTo>
                        <a:lnTo>
                          <a:pt x="772" y="3697"/>
                        </a:lnTo>
                        <a:lnTo>
                          <a:pt x="763" y="3701"/>
                        </a:lnTo>
                        <a:lnTo>
                          <a:pt x="758" y="3706"/>
                        </a:lnTo>
                        <a:lnTo>
                          <a:pt x="753" y="3711"/>
                        </a:lnTo>
                        <a:lnTo>
                          <a:pt x="748" y="3716"/>
                        </a:lnTo>
                        <a:lnTo>
                          <a:pt x="739" y="3721"/>
                        </a:lnTo>
                        <a:lnTo>
                          <a:pt x="734" y="3725"/>
                        </a:lnTo>
                        <a:lnTo>
                          <a:pt x="724" y="3730"/>
                        </a:lnTo>
                        <a:lnTo>
                          <a:pt x="719" y="3735"/>
                        </a:lnTo>
                        <a:lnTo>
                          <a:pt x="710" y="3735"/>
                        </a:lnTo>
                        <a:lnTo>
                          <a:pt x="705" y="3740"/>
                        </a:lnTo>
                        <a:lnTo>
                          <a:pt x="695" y="3740"/>
                        </a:lnTo>
                        <a:lnTo>
                          <a:pt x="686" y="3744"/>
                        </a:lnTo>
                        <a:lnTo>
                          <a:pt x="676" y="3744"/>
                        </a:lnTo>
                        <a:lnTo>
                          <a:pt x="671" y="3744"/>
                        </a:lnTo>
                        <a:lnTo>
                          <a:pt x="667" y="3744"/>
                        </a:lnTo>
                        <a:lnTo>
                          <a:pt x="657" y="3744"/>
                        </a:lnTo>
                        <a:lnTo>
                          <a:pt x="652" y="3744"/>
                        </a:lnTo>
                        <a:lnTo>
                          <a:pt x="643" y="3749"/>
                        </a:lnTo>
                        <a:lnTo>
                          <a:pt x="638" y="3749"/>
                        </a:lnTo>
                        <a:lnTo>
                          <a:pt x="633" y="3749"/>
                        </a:lnTo>
                        <a:lnTo>
                          <a:pt x="623" y="3749"/>
                        </a:lnTo>
                        <a:lnTo>
                          <a:pt x="619" y="3749"/>
                        </a:lnTo>
                        <a:lnTo>
                          <a:pt x="614" y="3749"/>
                        </a:lnTo>
                        <a:lnTo>
                          <a:pt x="604" y="3754"/>
                        </a:lnTo>
                        <a:lnTo>
                          <a:pt x="599" y="3754"/>
                        </a:lnTo>
                        <a:lnTo>
                          <a:pt x="595" y="3754"/>
                        </a:lnTo>
                        <a:lnTo>
                          <a:pt x="585" y="3754"/>
                        </a:lnTo>
                        <a:lnTo>
                          <a:pt x="580" y="3754"/>
                        </a:lnTo>
                        <a:lnTo>
                          <a:pt x="575" y="3759"/>
                        </a:lnTo>
                        <a:lnTo>
                          <a:pt x="566" y="3759"/>
                        </a:lnTo>
                        <a:lnTo>
                          <a:pt x="561" y="3759"/>
                        </a:lnTo>
                        <a:lnTo>
                          <a:pt x="556" y="3759"/>
                        </a:lnTo>
                        <a:lnTo>
                          <a:pt x="551" y="3759"/>
                        </a:lnTo>
                        <a:lnTo>
                          <a:pt x="542" y="3759"/>
                        </a:lnTo>
                        <a:lnTo>
                          <a:pt x="537" y="3764"/>
                        </a:lnTo>
                        <a:lnTo>
                          <a:pt x="532" y="3764"/>
                        </a:lnTo>
                        <a:lnTo>
                          <a:pt x="523" y="3764"/>
                        </a:lnTo>
                        <a:lnTo>
                          <a:pt x="518" y="3764"/>
                        </a:lnTo>
                        <a:lnTo>
                          <a:pt x="513" y="3764"/>
                        </a:lnTo>
                        <a:lnTo>
                          <a:pt x="504" y="3764"/>
                        </a:lnTo>
                        <a:lnTo>
                          <a:pt x="499" y="3764"/>
                        </a:lnTo>
                        <a:lnTo>
                          <a:pt x="494" y="3764"/>
                        </a:lnTo>
                        <a:lnTo>
                          <a:pt x="484" y="3764"/>
                        </a:lnTo>
                        <a:lnTo>
                          <a:pt x="480" y="3764"/>
                        </a:lnTo>
                        <a:lnTo>
                          <a:pt x="475" y="3764"/>
                        </a:lnTo>
                        <a:lnTo>
                          <a:pt x="470" y="3764"/>
                        </a:lnTo>
                        <a:lnTo>
                          <a:pt x="465" y="3759"/>
                        </a:lnTo>
                        <a:lnTo>
                          <a:pt x="460" y="3759"/>
                        </a:lnTo>
                        <a:lnTo>
                          <a:pt x="456" y="3759"/>
                        </a:lnTo>
                        <a:lnTo>
                          <a:pt x="451" y="3759"/>
                        </a:lnTo>
                        <a:lnTo>
                          <a:pt x="446" y="3759"/>
                        </a:lnTo>
                        <a:lnTo>
                          <a:pt x="446" y="3764"/>
                        </a:lnTo>
                        <a:lnTo>
                          <a:pt x="441" y="3764"/>
                        </a:lnTo>
                        <a:lnTo>
                          <a:pt x="441" y="3768"/>
                        </a:lnTo>
                        <a:lnTo>
                          <a:pt x="436" y="3773"/>
                        </a:lnTo>
                        <a:lnTo>
                          <a:pt x="436" y="3778"/>
                        </a:lnTo>
                        <a:lnTo>
                          <a:pt x="432" y="3778"/>
                        </a:lnTo>
                        <a:lnTo>
                          <a:pt x="432" y="3783"/>
                        </a:lnTo>
                        <a:lnTo>
                          <a:pt x="427" y="3783"/>
                        </a:lnTo>
                        <a:lnTo>
                          <a:pt x="427" y="3788"/>
                        </a:lnTo>
                        <a:lnTo>
                          <a:pt x="422" y="3788"/>
                        </a:lnTo>
                        <a:lnTo>
                          <a:pt x="422" y="3792"/>
                        </a:lnTo>
                        <a:lnTo>
                          <a:pt x="417" y="3797"/>
                        </a:lnTo>
                        <a:lnTo>
                          <a:pt x="412" y="3802"/>
                        </a:lnTo>
                        <a:lnTo>
                          <a:pt x="412" y="3807"/>
                        </a:lnTo>
                        <a:lnTo>
                          <a:pt x="408" y="3807"/>
                        </a:lnTo>
                        <a:lnTo>
                          <a:pt x="408" y="3812"/>
                        </a:lnTo>
                        <a:lnTo>
                          <a:pt x="403" y="3816"/>
                        </a:lnTo>
                        <a:lnTo>
                          <a:pt x="403" y="3821"/>
                        </a:lnTo>
                        <a:lnTo>
                          <a:pt x="398" y="3821"/>
                        </a:lnTo>
                        <a:lnTo>
                          <a:pt x="398" y="3826"/>
                        </a:lnTo>
                        <a:lnTo>
                          <a:pt x="398" y="3831"/>
                        </a:lnTo>
                        <a:lnTo>
                          <a:pt x="393" y="3835"/>
                        </a:lnTo>
                        <a:lnTo>
                          <a:pt x="384" y="3845"/>
                        </a:lnTo>
                        <a:lnTo>
                          <a:pt x="379" y="3850"/>
                        </a:lnTo>
                        <a:lnTo>
                          <a:pt x="374" y="3855"/>
                        </a:lnTo>
                        <a:lnTo>
                          <a:pt x="369" y="3864"/>
                        </a:lnTo>
                        <a:lnTo>
                          <a:pt x="360" y="3869"/>
                        </a:lnTo>
                        <a:lnTo>
                          <a:pt x="355" y="3874"/>
                        </a:lnTo>
                        <a:lnTo>
                          <a:pt x="350" y="3883"/>
                        </a:lnTo>
                        <a:lnTo>
                          <a:pt x="345" y="3888"/>
                        </a:lnTo>
                        <a:lnTo>
                          <a:pt x="340" y="3898"/>
                        </a:lnTo>
                        <a:lnTo>
                          <a:pt x="336" y="3902"/>
                        </a:lnTo>
                        <a:lnTo>
                          <a:pt x="326" y="3907"/>
                        </a:lnTo>
                        <a:lnTo>
                          <a:pt x="321" y="3917"/>
                        </a:lnTo>
                        <a:lnTo>
                          <a:pt x="316" y="3922"/>
                        </a:lnTo>
                        <a:lnTo>
                          <a:pt x="312" y="3931"/>
                        </a:lnTo>
                        <a:lnTo>
                          <a:pt x="307" y="3936"/>
                        </a:lnTo>
                        <a:lnTo>
                          <a:pt x="297" y="3941"/>
                        </a:lnTo>
                        <a:lnTo>
                          <a:pt x="292" y="3946"/>
                        </a:lnTo>
                        <a:lnTo>
                          <a:pt x="288" y="3955"/>
                        </a:lnTo>
                        <a:lnTo>
                          <a:pt x="283" y="3960"/>
                        </a:lnTo>
                        <a:lnTo>
                          <a:pt x="273" y="3965"/>
                        </a:lnTo>
                        <a:lnTo>
                          <a:pt x="268" y="3970"/>
                        </a:lnTo>
                        <a:lnTo>
                          <a:pt x="259" y="3979"/>
                        </a:lnTo>
                        <a:lnTo>
                          <a:pt x="254" y="3984"/>
                        </a:lnTo>
                        <a:lnTo>
                          <a:pt x="249" y="3989"/>
                        </a:lnTo>
                        <a:lnTo>
                          <a:pt x="240" y="3993"/>
                        </a:lnTo>
                        <a:lnTo>
                          <a:pt x="230" y="3998"/>
                        </a:lnTo>
                        <a:lnTo>
                          <a:pt x="225" y="4003"/>
                        </a:lnTo>
                        <a:lnTo>
                          <a:pt x="216" y="4008"/>
                        </a:lnTo>
                        <a:lnTo>
                          <a:pt x="206" y="4008"/>
                        </a:lnTo>
                        <a:lnTo>
                          <a:pt x="201" y="4013"/>
                        </a:lnTo>
                        <a:lnTo>
                          <a:pt x="192" y="4017"/>
                        </a:lnTo>
                        <a:lnTo>
                          <a:pt x="182" y="4017"/>
                        </a:lnTo>
                        <a:lnTo>
                          <a:pt x="177" y="4017"/>
                        </a:lnTo>
                        <a:lnTo>
                          <a:pt x="173" y="4017"/>
                        </a:lnTo>
                        <a:lnTo>
                          <a:pt x="163" y="4017"/>
                        </a:lnTo>
                        <a:lnTo>
                          <a:pt x="158" y="4022"/>
                        </a:lnTo>
                        <a:lnTo>
                          <a:pt x="153" y="4022"/>
                        </a:lnTo>
                        <a:lnTo>
                          <a:pt x="144" y="4022"/>
                        </a:lnTo>
                        <a:lnTo>
                          <a:pt x="139" y="4022"/>
                        </a:lnTo>
                        <a:lnTo>
                          <a:pt x="134" y="4017"/>
                        </a:lnTo>
                        <a:lnTo>
                          <a:pt x="129" y="4017"/>
                        </a:lnTo>
                        <a:lnTo>
                          <a:pt x="120" y="4017"/>
                        </a:lnTo>
                        <a:lnTo>
                          <a:pt x="115" y="4017"/>
                        </a:lnTo>
                        <a:lnTo>
                          <a:pt x="110" y="4017"/>
                        </a:lnTo>
                        <a:lnTo>
                          <a:pt x="101" y="4013"/>
                        </a:lnTo>
                        <a:lnTo>
                          <a:pt x="96" y="4013"/>
                        </a:lnTo>
                        <a:lnTo>
                          <a:pt x="91" y="4013"/>
                        </a:lnTo>
                        <a:lnTo>
                          <a:pt x="86" y="4008"/>
                        </a:lnTo>
                        <a:lnTo>
                          <a:pt x="77" y="4008"/>
                        </a:lnTo>
                        <a:lnTo>
                          <a:pt x="72" y="4003"/>
                        </a:lnTo>
                        <a:lnTo>
                          <a:pt x="67" y="4003"/>
                        </a:lnTo>
                        <a:lnTo>
                          <a:pt x="62" y="3998"/>
                        </a:lnTo>
                        <a:lnTo>
                          <a:pt x="57" y="3998"/>
                        </a:lnTo>
                        <a:lnTo>
                          <a:pt x="53" y="3993"/>
                        </a:lnTo>
                        <a:lnTo>
                          <a:pt x="48" y="3989"/>
                        </a:lnTo>
                        <a:lnTo>
                          <a:pt x="43" y="3984"/>
                        </a:lnTo>
                        <a:lnTo>
                          <a:pt x="38" y="3984"/>
                        </a:lnTo>
                        <a:lnTo>
                          <a:pt x="33" y="3979"/>
                        </a:lnTo>
                        <a:lnTo>
                          <a:pt x="29" y="3974"/>
                        </a:lnTo>
                        <a:lnTo>
                          <a:pt x="24" y="3970"/>
                        </a:lnTo>
                        <a:lnTo>
                          <a:pt x="19" y="3965"/>
                        </a:lnTo>
                        <a:lnTo>
                          <a:pt x="14" y="3960"/>
                        </a:lnTo>
                        <a:lnTo>
                          <a:pt x="9" y="3955"/>
                        </a:lnTo>
                        <a:lnTo>
                          <a:pt x="9" y="3950"/>
                        </a:lnTo>
                        <a:lnTo>
                          <a:pt x="9" y="3946"/>
                        </a:lnTo>
                        <a:lnTo>
                          <a:pt x="9" y="3941"/>
                        </a:lnTo>
                        <a:lnTo>
                          <a:pt x="5" y="3941"/>
                        </a:lnTo>
                        <a:lnTo>
                          <a:pt x="5" y="3936"/>
                        </a:lnTo>
                        <a:lnTo>
                          <a:pt x="0" y="3936"/>
                        </a:lnTo>
                        <a:lnTo>
                          <a:pt x="0" y="3931"/>
                        </a:lnTo>
                        <a:lnTo>
                          <a:pt x="0" y="3922"/>
                        </a:lnTo>
                        <a:lnTo>
                          <a:pt x="0" y="3917"/>
                        </a:lnTo>
                        <a:lnTo>
                          <a:pt x="0" y="3912"/>
                        </a:lnTo>
                        <a:lnTo>
                          <a:pt x="5" y="3907"/>
                        </a:lnTo>
                        <a:lnTo>
                          <a:pt x="5" y="3902"/>
                        </a:lnTo>
                        <a:lnTo>
                          <a:pt x="9" y="3898"/>
                        </a:lnTo>
                        <a:lnTo>
                          <a:pt x="9" y="3893"/>
                        </a:lnTo>
                        <a:lnTo>
                          <a:pt x="14" y="3888"/>
                        </a:lnTo>
                        <a:lnTo>
                          <a:pt x="14" y="3883"/>
                        </a:lnTo>
                        <a:lnTo>
                          <a:pt x="19" y="3879"/>
                        </a:lnTo>
                        <a:lnTo>
                          <a:pt x="24" y="3879"/>
                        </a:lnTo>
                        <a:lnTo>
                          <a:pt x="24" y="3874"/>
                        </a:lnTo>
                        <a:lnTo>
                          <a:pt x="29" y="3869"/>
                        </a:lnTo>
                        <a:lnTo>
                          <a:pt x="33" y="3864"/>
                        </a:lnTo>
                        <a:lnTo>
                          <a:pt x="38" y="3859"/>
                        </a:lnTo>
                        <a:lnTo>
                          <a:pt x="43" y="3859"/>
                        </a:lnTo>
                        <a:lnTo>
                          <a:pt x="48" y="3855"/>
                        </a:lnTo>
                        <a:lnTo>
                          <a:pt x="53" y="3850"/>
                        </a:lnTo>
                        <a:lnTo>
                          <a:pt x="57" y="3845"/>
                        </a:lnTo>
                        <a:lnTo>
                          <a:pt x="62" y="3845"/>
                        </a:lnTo>
                        <a:lnTo>
                          <a:pt x="67" y="3840"/>
                        </a:lnTo>
                        <a:lnTo>
                          <a:pt x="72" y="3835"/>
                        </a:lnTo>
                        <a:lnTo>
                          <a:pt x="77" y="3831"/>
                        </a:lnTo>
                        <a:lnTo>
                          <a:pt x="81" y="3831"/>
                        </a:lnTo>
                        <a:lnTo>
                          <a:pt x="81" y="3826"/>
                        </a:lnTo>
                        <a:lnTo>
                          <a:pt x="86" y="3821"/>
                        </a:lnTo>
                        <a:lnTo>
                          <a:pt x="91" y="3821"/>
                        </a:lnTo>
                        <a:lnTo>
                          <a:pt x="96" y="3816"/>
                        </a:lnTo>
                        <a:lnTo>
                          <a:pt x="101" y="3812"/>
                        </a:lnTo>
                        <a:lnTo>
                          <a:pt x="105" y="3807"/>
                        </a:lnTo>
                        <a:lnTo>
                          <a:pt x="110" y="3807"/>
                        </a:lnTo>
                        <a:lnTo>
                          <a:pt x="168" y="3735"/>
                        </a:lnTo>
                        <a:lnTo>
                          <a:pt x="158" y="3730"/>
                        </a:lnTo>
                        <a:lnTo>
                          <a:pt x="153" y="3725"/>
                        </a:lnTo>
                        <a:lnTo>
                          <a:pt x="144" y="3721"/>
                        </a:lnTo>
                        <a:lnTo>
                          <a:pt x="139" y="3716"/>
                        </a:lnTo>
                        <a:lnTo>
                          <a:pt x="129" y="3711"/>
                        </a:lnTo>
                        <a:lnTo>
                          <a:pt x="125" y="3706"/>
                        </a:lnTo>
                        <a:lnTo>
                          <a:pt x="120" y="3701"/>
                        </a:lnTo>
                        <a:lnTo>
                          <a:pt x="110" y="3697"/>
                        </a:lnTo>
                        <a:lnTo>
                          <a:pt x="105" y="3692"/>
                        </a:lnTo>
                        <a:lnTo>
                          <a:pt x="101" y="3682"/>
                        </a:lnTo>
                        <a:lnTo>
                          <a:pt x="91" y="3677"/>
                        </a:lnTo>
                        <a:lnTo>
                          <a:pt x="86" y="3673"/>
                        </a:lnTo>
                        <a:lnTo>
                          <a:pt x="81" y="3663"/>
                        </a:lnTo>
                        <a:lnTo>
                          <a:pt x="77" y="3658"/>
                        </a:lnTo>
                        <a:lnTo>
                          <a:pt x="72" y="3649"/>
                        </a:lnTo>
                        <a:lnTo>
                          <a:pt x="67" y="3644"/>
                        </a:lnTo>
                        <a:lnTo>
                          <a:pt x="62" y="3634"/>
                        </a:lnTo>
                        <a:lnTo>
                          <a:pt x="57" y="3630"/>
                        </a:lnTo>
                        <a:lnTo>
                          <a:pt x="53" y="3620"/>
                        </a:lnTo>
                        <a:lnTo>
                          <a:pt x="48" y="3610"/>
                        </a:lnTo>
                        <a:lnTo>
                          <a:pt x="48" y="3606"/>
                        </a:lnTo>
                        <a:lnTo>
                          <a:pt x="43" y="3596"/>
                        </a:lnTo>
                        <a:lnTo>
                          <a:pt x="43" y="3586"/>
                        </a:lnTo>
                        <a:lnTo>
                          <a:pt x="38" y="3582"/>
                        </a:lnTo>
                        <a:lnTo>
                          <a:pt x="38" y="3572"/>
                        </a:lnTo>
                        <a:lnTo>
                          <a:pt x="33" y="3563"/>
                        </a:lnTo>
                        <a:lnTo>
                          <a:pt x="33" y="3553"/>
                        </a:lnTo>
                        <a:lnTo>
                          <a:pt x="33" y="3548"/>
                        </a:lnTo>
                        <a:lnTo>
                          <a:pt x="33" y="3539"/>
                        </a:lnTo>
                        <a:lnTo>
                          <a:pt x="33" y="3529"/>
                        </a:lnTo>
                        <a:lnTo>
                          <a:pt x="33" y="3519"/>
                        </a:lnTo>
                        <a:lnTo>
                          <a:pt x="38" y="3510"/>
                        </a:lnTo>
                        <a:lnTo>
                          <a:pt x="38" y="3505"/>
                        </a:lnTo>
                        <a:lnTo>
                          <a:pt x="43" y="3500"/>
                        </a:lnTo>
                        <a:lnTo>
                          <a:pt x="43" y="3495"/>
                        </a:lnTo>
                        <a:lnTo>
                          <a:pt x="43" y="3491"/>
                        </a:lnTo>
                        <a:lnTo>
                          <a:pt x="48" y="3486"/>
                        </a:lnTo>
                        <a:lnTo>
                          <a:pt x="48" y="3481"/>
                        </a:lnTo>
                        <a:lnTo>
                          <a:pt x="48" y="3476"/>
                        </a:lnTo>
                        <a:lnTo>
                          <a:pt x="53" y="3472"/>
                        </a:lnTo>
                        <a:lnTo>
                          <a:pt x="53" y="3467"/>
                        </a:lnTo>
                        <a:lnTo>
                          <a:pt x="53" y="3462"/>
                        </a:lnTo>
                        <a:lnTo>
                          <a:pt x="57" y="3457"/>
                        </a:lnTo>
                        <a:lnTo>
                          <a:pt x="57" y="3452"/>
                        </a:lnTo>
                        <a:lnTo>
                          <a:pt x="57" y="3448"/>
                        </a:lnTo>
                        <a:lnTo>
                          <a:pt x="57" y="3443"/>
                        </a:lnTo>
                        <a:lnTo>
                          <a:pt x="62" y="3438"/>
                        </a:lnTo>
                        <a:lnTo>
                          <a:pt x="62" y="3433"/>
                        </a:lnTo>
                        <a:lnTo>
                          <a:pt x="67" y="3428"/>
                        </a:lnTo>
                        <a:lnTo>
                          <a:pt x="67" y="3424"/>
                        </a:lnTo>
                        <a:lnTo>
                          <a:pt x="67" y="3419"/>
                        </a:lnTo>
                        <a:lnTo>
                          <a:pt x="72" y="3414"/>
                        </a:lnTo>
                        <a:lnTo>
                          <a:pt x="72" y="3409"/>
                        </a:lnTo>
                        <a:lnTo>
                          <a:pt x="77" y="3405"/>
                        </a:lnTo>
                        <a:lnTo>
                          <a:pt x="77" y="3400"/>
                        </a:lnTo>
                        <a:lnTo>
                          <a:pt x="81" y="3400"/>
                        </a:lnTo>
                        <a:lnTo>
                          <a:pt x="81" y="3395"/>
                        </a:lnTo>
                        <a:lnTo>
                          <a:pt x="86" y="3390"/>
                        </a:lnTo>
                        <a:lnTo>
                          <a:pt x="86" y="3385"/>
                        </a:lnTo>
                        <a:lnTo>
                          <a:pt x="91" y="3381"/>
                        </a:lnTo>
                        <a:lnTo>
                          <a:pt x="91" y="3376"/>
                        </a:lnTo>
                        <a:lnTo>
                          <a:pt x="96" y="3371"/>
                        </a:lnTo>
                        <a:lnTo>
                          <a:pt x="96" y="3366"/>
                        </a:lnTo>
                        <a:lnTo>
                          <a:pt x="101" y="3366"/>
                        </a:lnTo>
                        <a:lnTo>
                          <a:pt x="101" y="3361"/>
                        </a:lnTo>
                        <a:lnTo>
                          <a:pt x="105" y="3357"/>
                        </a:lnTo>
                        <a:lnTo>
                          <a:pt x="110" y="3352"/>
                        </a:lnTo>
                        <a:lnTo>
                          <a:pt x="115" y="3347"/>
                        </a:lnTo>
                        <a:lnTo>
                          <a:pt x="115" y="3342"/>
                        </a:lnTo>
                        <a:lnTo>
                          <a:pt x="120" y="3342"/>
                        </a:lnTo>
                        <a:lnTo>
                          <a:pt x="125" y="3337"/>
                        </a:lnTo>
                        <a:lnTo>
                          <a:pt x="125" y="3333"/>
                        </a:lnTo>
                        <a:lnTo>
                          <a:pt x="129" y="3333"/>
                        </a:lnTo>
                        <a:lnTo>
                          <a:pt x="134" y="3328"/>
                        </a:lnTo>
                        <a:lnTo>
                          <a:pt x="134" y="3323"/>
                        </a:lnTo>
                        <a:lnTo>
                          <a:pt x="139" y="3323"/>
                        </a:lnTo>
                        <a:lnTo>
                          <a:pt x="139" y="3318"/>
                        </a:lnTo>
                        <a:lnTo>
                          <a:pt x="144" y="3314"/>
                        </a:lnTo>
                        <a:lnTo>
                          <a:pt x="149" y="3314"/>
                        </a:lnTo>
                        <a:lnTo>
                          <a:pt x="149" y="3309"/>
                        </a:lnTo>
                        <a:lnTo>
                          <a:pt x="153" y="3304"/>
                        </a:lnTo>
                        <a:lnTo>
                          <a:pt x="153" y="3299"/>
                        </a:lnTo>
                        <a:lnTo>
                          <a:pt x="158" y="3299"/>
                        </a:lnTo>
                        <a:lnTo>
                          <a:pt x="158" y="3294"/>
                        </a:lnTo>
                        <a:lnTo>
                          <a:pt x="163" y="3290"/>
                        </a:lnTo>
                        <a:lnTo>
                          <a:pt x="163" y="3285"/>
                        </a:lnTo>
                        <a:lnTo>
                          <a:pt x="168" y="3285"/>
                        </a:lnTo>
                        <a:lnTo>
                          <a:pt x="168" y="3280"/>
                        </a:lnTo>
                        <a:lnTo>
                          <a:pt x="173" y="3275"/>
                        </a:lnTo>
                        <a:lnTo>
                          <a:pt x="182" y="3266"/>
                        </a:lnTo>
                        <a:lnTo>
                          <a:pt x="187" y="3261"/>
                        </a:lnTo>
                        <a:lnTo>
                          <a:pt x="196" y="3256"/>
                        </a:lnTo>
                        <a:lnTo>
                          <a:pt x="201" y="3247"/>
                        </a:lnTo>
                        <a:lnTo>
                          <a:pt x="211" y="3242"/>
                        </a:lnTo>
                        <a:lnTo>
                          <a:pt x="216" y="3237"/>
                        </a:lnTo>
                        <a:lnTo>
                          <a:pt x="225" y="3227"/>
                        </a:lnTo>
                        <a:lnTo>
                          <a:pt x="230" y="3223"/>
                        </a:lnTo>
                        <a:lnTo>
                          <a:pt x="240" y="3218"/>
                        </a:lnTo>
                        <a:lnTo>
                          <a:pt x="244" y="3208"/>
                        </a:lnTo>
                        <a:lnTo>
                          <a:pt x="254" y="3203"/>
                        </a:lnTo>
                        <a:lnTo>
                          <a:pt x="259" y="3199"/>
                        </a:lnTo>
                        <a:lnTo>
                          <a:pt x="268" y="3194"/>
                        </a:lnTo>
                        <a:lnTo>
                          <a:pt x="273" y="3184"/>
                        </a:lnTo>
                        <a:lnTo>
                          <a:pt x="283" y="3179"/>
                        </a:lnTo>
                        <a:lnTo>
                          <a:pt x="292" y="3175"/>
                        </a:lnTo>
                        <a:lnTo>
                          <a:pt x="297" y="3170"/>
                        </a:lnTo>
                        <a:lnTo>
                          <a:pt x="307" y="3160"/>
                        </a:lnTo>
                        <a:lnTo>
                          <a:pt x="312" y="3156"/>
                        </a:lnTo>
                        <a:lnTo>
                          <a:pt x="321" y="3151"/>
                        </a:lnTo>
                        <a:lnTo>
                          <a:pt x="331" y="3146"/>
                        </a:lnTo>
                        <a:lnTo>
                          <a:pt x="336" y="3141"/>
                        </a:lnTo>
                        <a:lnTo>
                          <a:pt x="345" y="3132"/>
                        </a:lnTo>
                        <a:lnTo>
                          <a:pt x="355" y="3127"/>
                        </a:lnTo>
                        <a:lnTo>
                          <a:pt x="360" y="3122"/>
                        </a:lnTo>
                        <a:lnTo>
                          <a:pt x="369" y="3117"/>
                        </a:lnTo>
                        <a:lnTo>
                          <a:pt x="379" y="3112"/>
                        </a:lnTo>
                        <a:lnTo>
                          <a:pt x="384" y="3108"/>
                        </a:lnTo>
                        <a:lnTo>
                          <a:pt x="393" y="3098"/>
                        </a:lnTo>
                        <a:lnTo>
                          <a:pt x="398" y="3093"/>
                        </a:lnTo>
                        <a:lnTo>
                          <a:pt x="408" y="3088"/>
                        </a:lnTo>
                        <a:lnTo>
                          <a:pt x="422" y="3065"/>
                        </a:lnTo>
                        <a:lnTo>
                          <a:pt x="441" y="3045"/>
                        </a:lnTo>
                        <a:lnTo>
                          <a:pt x="456" y="3021"/>
                        </a:lnTo>
                        <a:lnTo>
                          <a:pt x="470" y="2998"/>
                        </a:lnTo>
                        <a:lnTo>
                          <a:pt x="484" y="2978"/>
                        </a:lnTo>
                        <a:lnTo>
                          <a:pt x="504" y="2954"/>
                        </a:lnTo>
                        <a:lnTo>
                          <a:pt x="518" y="2930"/>
                        </a:lnTo>
                        <a:lnTo>
                          <a:pt x="532" y="2911"/>
                        </a:lnTo>
                        <a:lnTo>
                          <a:pt x="547" y="2887"/>
                        </a:lnTo>
                        <a:lnTo>
                          <a:pt x="566" y="2863"/>
                        </a:lnTo>
                        <a:lnTo>
                          <a:pt x="580" y="2840"/>
                        </a:lnTo>
                        <a:lnTo>
                          <a:pt x="595" y="2820"/>
                        </a:lnTo>
                        <a:lnTo>
                          <a:pt x="609" y="2796"/>
                        </a:lnTo>
                        <a:lnTo>
                          <a:pt x="623" y="2772"/>
                        </a:lnTo>
                        <a:lnTo>
                          <a:pt x="643" y="2753"/>
                        </a:lnTo>
                        <a:lnTo>
                          <a:pt x="657" y="2729"/>
                        </a:lnTo>
                        <a:lnTo>
                          <a:pt x="671" y="2705"/>
                        </a:lnTo>
                        <a:lnTo>
                          <a:pt x="686" y="2686"/>
                        </a:lnTo>
                        <a:lnTo>
                          <a:pt x="700" y="2662"/>
                        </a:lnTo>
                        <a:lnTo>
                          <a:pt x="719" y="2638"/>
                        </a:lnTo>
                        <a:lnTo>
                          <a:pt x="734" y="2619"/>
                        </a:lnTo>
                        <a:lnTo>
                          <a:pt x="748" y="2595"/>
                        </a:lnTo>
                        <a:lnTo>
                          <a:pt x="767" y="2571"/>
                        </a:lnTo>
                        <a:lnTo>
                          <a:pt x="782" y="2552"/>
                        </a:lnTo>
                        <a:lnTo>
                          <a:pt x="796" y="2528"/>
                        </a:lnTo>
                        <a:lnTo>
                          <a:pt x="815" y="2504"/>
                        </a:lnTo>
                        <a:lnTo>
                          <a:pt x="830" y="2485"/>
                        </a:lnTo>
                        <a:lnTo>
                          <a:pt x="849" y="2461"/>
                        </a:lnTo>
                        <a:lnTo>
                          <a:pt x="863" y="2442"/>
                        </a:lnTo>
                        <a:lnTo>
                          <a:pt x="882" y="2418"/>
                        </a:lnTo>
                        <a:lnTo>
                          <a:pt x="897" y="2394"/>
                        </a:lnTo>
                        <a:lnTo>
                          <a:pt x="916" y="2375"/>
                        </a:lnTo>
                        <a:lnTo>
                          <a:pt x="926" y="2361"/>
                        </a:lnTo>
                        <a:lnTo>
                          <a:pt x="935" y="2346"/>
                        </a:lnTo>
                        <a:lnTo>
                          <a:pt x="945" y="2332"/>
                        </a:lnTo>
                        <a:lnTo>
                          <a:pt x="959" y="2318"/>
                        </a:lnTo>
                        <a:lnTo>
                          <a:pt x="969" y="2303"/>
                        </a:lnTo>
                        <a:lnTo>
                          <a:pt x="978" y="2289"/>
                        </a:lnTo>
                        <a:lnTo>
                          <a:pt x="988" y="2274"/>
                        </a:lnTo>
                        <a:lnTo>
                          <a:pt x="998" y="2260"/>
                        </a:lnTo>
                        <a:lnTo>
                          <a:pt x="1007" y="2246"/>
                        </a:lnTo>
                        <a:lnTo>
                          <a:pt x="1022" y="2236"/>
                        </a:lnTo>
                        <a:lnTo>
                          <a:pt x="1031" y="2222"/>
                        </a:lnTo>
                        <a:lnTo>
                          <a:pt x="1041" y="2207"/>
                        </a:lnTo>
                        <a:lnTo>
                          <a:pt x="1050" y="2193"/>
                        </a:lnTo>
                        <a:lnTo>
                          <a:pt x="1065" y="2179"/>
                        </a:lnTo>
                        <a:lnTo>
                          <a:pt x="1074" y="2164"/>
                        </a:lnTo>
                        <a:lnTo>
                          <a:pt x="1084" y="2150"/>
                        </a:lnTo>
                        <a:lnTo>
                          <a:pt x="1094" y="2140"/>
                        </a:lnTo>
                        <a:lnTo>
                          <a:pt x="1108" y="2126"/>
                        </a:lnTo>
                        <a:lnTo>
                          <a:pt x="1118" y="2112"/>
                        </a:lnTo>
                        <a:lnTo>
                          <a:pt x="1127" y="2097"/>
                        </a:lnTo>
                        <a:lnTo>
                          <a:pt x="1142" y="2083"/>
                        </a:lnTo>
                        <a:lnTo>
                          <a:pt x="1151" y="2069"/>
                        </a:lnTo>
                        <a:lnTo>
                          <a:pt x="1161" y="2059"/>
                        </a:lnTo>
                        <a:lnTo>
                          <a:pt x="1175" y="2045"/>
                        </a:lnTo>
                        <a:lnTo>
                          <a:pt x="1185" y="2030"/>
                        </a:lnTo>
                        <a:lnTo>
                          <a:pt x="1194" y="2016"/>
                        </a:lnTo>
                        <a:lnTo>
                          <a:pt x="1209" y="2002"/>
                        </a:lnTo>
                        <a:lnTo>
                          <a:pt x="1218" y="1987"/>
                        </a:lnTo>
                        <a:lnTo>
                          <a:pt x="1233" y="1973"/>
                        </a:lnTo>
                        <a:lnTo>
                          <a:pt x="1242" y="1963"/>
                        </a:lnTo>
                        <a:lnTo>
                          <a:pt x="1257" y="1949"/>
                        </a:lnTo>
                        <a:lnTo>
                          <a:pt x="1266" y="1935"/>
                        </a:lnTo>
                        <a:lnTo>
                          <a:pt x="1329" y="1867"/>
                        </a:lnTo>
                        <a:lnTo>
                          <a:pt x="1319" y="1863"/>
                        </a:lnTo>
                        <a:lnTo>
                          <a:pt x="1309" y="1863"/>
                        </a:lnTo>
                        <a:lnTo>
                          <a:pt x="1305" y="1858"/>
                        </a:lnTo>
                        <a:lnTo>
                          <a:pt x="1295" y="1853"/>
                        </a:lnTo>
                        <a:lnTo>
                          <a:pt x="1285" y="1848"/>
                        </a:lnTo>
                        <a:lnTo>
                          <a:pt x="1281" y="1844"/>
                        </a:lnTo>
                        <a:lnTo>
                          <a:pt x="1271" y="1839"/>
                        </a:lnTo>
                        <a:lnTo>
                          <a:pt x="1261" y="1834"/>
                        </a:lnTo>
                        <a:lnTo>
                          <a:pt x="1252" y="1829"/>
                        </a:lnTo>
                        <a:lnTo>
                          <a:pt x="1247" y="1824"/>
                        </a:lnTo>
                        <a:lnTo>
                          <a:pt x="1237" y="1820"/>
                        </a:lnTo>
                        <a:lnTo>
                          <a:pt x="1228" y="1815"/>
                        </a:lnTo>
                        <a:lnTo>
                          <a:pt x="1223" y="1810"/>
                        </a:lnTo>
                        <a:lnTo>
                          <a:pt x="1213" y="1805"/>
                        </a:lnTo>
                        <a:lnTo>
                          <a:pt x="1204" y="1800"/>
                        </a:lnTo>
                        <a:lnTo>
                          <a:pt x="1194" y="1796"/>
                        </a:lnTo>
                        <a:lnTo>
                          <a:pt x="1189" y="1791"/>
                        </a:lnTo>
                        <a:lnTo>
                          <a:pt x="1180" y="1786"/>
                        </a:lnTo>
                        <a:lnTo>
                          <a:pt x="1175" y="1781"/>
                        </a:lnTo>
                        <a:lnTo>
                          <a:pt x="1166" y="1772"/>
                        </a:lnTo>
                        <a:lnTo>
                          <a:pt x="1161" y="1767"/>
                        </a:lnTo>
                        <a:lnTo>
                          <a:pt x="1151" y="1762"/>
                        </a:lnTo>
                        <a:lnTo>
                          <a:pt x="1146" y="1753"/>
                        </a:lnTo>
                        <a:lnTo>
                          <a:pt x="1137" y="1748"/>
                        </a:lnTo>
                        <a:lnTo>
                          <a:pt x="1132" y="1738"/>
                        </a:lnTo>
                        <a:lnTo>
                          <a:pt x="1127" y="1733"/>
                        </a:lnTo>
                        <a:lnTo>
                          <a:pt x="1122" y="1724"/>
                        </a:lnTo>
                        <a:lnTo>
                          <a:pt x="1118" y="1719"/>
                        </a:lnTo>
                        <a:lnTo>
                          <a:pt x="1113" y="1709"/>
                        </a:lnTo>
                        <a:lnTo>
                          <a:pt x="1108" y="1700"/>
                        </a:lnTo>
                        <a:lnTo>
                          <a:pt x="1103" y="1690"/>
                        </a:lnTo>
                        <a:lnTo>
                          <a:pt x="1098" y="1681"/>
                        </a:lnTo>
                        <a:lnTo>
                          <a:pt x="1094" y="1671"/>
                        </a:lnTo>
                        <a:lnTo>
                          <a:pt x="1094" y="1662"/>
                        </a:lnTo>
                        <a:lnTo>
                          <a:pt x="1089" y="1652"/>
                        </a:lnTo>
                        <a:lnTo>
                          <a:pt x="1084" y="1642"/>
                        </a:lnTo>
                        <a:lnTo>
                          <a:pt x="1079" y="1633"/>
                        </a:lnTo>
                        <a:lnTo>
                          <a:pt x="1074" y="1628"/>
                        </a:lnTo>
                        <a:lnTo>
                          <a:pt x="1070" y="1618"/>
                        </a:lnTo>
                        <a:lnTo>
                          <a:pt x="1065" y="1609"/>
                        </a:lnTo>
                        <a:lnTo>
                          <a:pt x="1065" y="1599"/>
                        </a:lnTo>
                        <a:lnTo>
                          <a:pt x="1060" y="1590"/>
                        </a:lnTo>
                        <a:lnTo>
                          <a:pt x="1055" y="1580"/>
                        </a:lnTo>
                        <a:lnTo>
                          <a:pt x="1050" y="1571"/>
                        </a:lnTo>
                        <a:lnTo>
                          <a:pt x="1046" y="1561"/>
                        </a:lnTo>
                        <a:lnTo>
                          <a:pt x="1041" y="1551"/>
                        </a:lnTo>
                        <a:lnTo>
                          <a:pt x="1036" y="1542"/>
                        </a:lnTo>
                        <a:lnTo>
                          <a:pt x="1036" y="1532"/>
                        </a:lnTo>
                        <a:lnTo>
                          <a:pt x="1031" y="1523"/>
                        </a:lnTo>
                        <a:lnTo>
                          <a:pt x="1026" y="1513"/>
                        </a:lnTo>
                        <a:lnTo>
                          <a:pt x="1022" y="1504"/>
                        </a:lnTo>
                        <a:lnTo>
                          <a:pt x="1017" y="1494"/>
                        </a:lnTo>
                        <a:lnTo>
                          <a:pt x="1017" y="1484"/>
                        </a:lnTo>
                        <a:lnTo>
                          <a:pt x="1012" y="1475"/>
                        </a:lnTo>
                        <a:lnTo>
                          <a:pt x="1007" y="1465"/>
                        </a:lnTo>
                        <a:lnTo>
                          <a:pt x="1007" y="1456"/>
                        </a:lnTo>
                        <a:lnTo>
                          <a:pt x="1002" y="1446"/>
                        </a:lnTo>
                        <a:lnTo>
                          <a:pt x="1002" y="1437"/>
                        </a:lnTo>
                        <a:lnTo>
                          <a:pt x="998" y="1427"/>
                        </a:lnTo>
                        <a:lnTo>
                          <a:pt x="998" y="1417"/>
                        </a:lnTo>
                        <a:lnTo>
                          <a:pt x="993" y="1403"/>
                        </a:lnTo>
                        <a:lnTo>
                          <a:pt x="993" y="1393"/>
                        </a:lnTo>
                        <a:lnTo>
                          <a:pt x="988" y="1384"/>
                        </a:lnTo>
                        <a:lnTo>
                          <a:pt x="988" y="1374"/>
                        </a:lnTo>
                        <a:lnTo>
                          <a:pt x="988" y="1370"/>
                        </a:lnTo>
                        <a:lnTo>
                          <a:pt x="983" y="1360"/>
                        </a:lnTo>
                        <a:lnTo>
                          <a:pt x="983" y="1355"/>
                        </a:lnTo>
                        <a:lnTo>
                          <a:pt x="978" y="1350"/>
                        </a:lnTo>
                        <a:lnTo>
                          <a:pt x="978" y="1341"/>
                        </a:lnTo>
                        <a:lnTo>
                          <a:pt x="978" y="1336"/>
                        </a:lnTo>
                        <a:lnTo>
                          <a:pt x="974" y="1331"/>
                        </a:lnTo>
                        <a:lnTo>
                          <a:pt x="974" y="1326"/>
                        </a:lnTo>
                        <a:lnTo>
                          <a:pt x="969" y="1317"/>
                        </a:lnTo>
                        <a:lnTo>
                          <a:pt x="969" y="1312"/>
                        </a:lnTo>
                        <a:lnTo>
                          <a:pt x="964" y="1307"/>
                        </a:lnTo>
                        <a:lnTo>
                          <a:pt x="964" y="1298"/>
                        </a:lnTo>
                        <a:lnTo>
                          <a:pt x="959" y="1293"/>
                        </a:lnTo>
                        <a:lnTo>
                          <a:pt x="959" y="1288"/>
                        </a:lnTo>
                        <a:lnTo>
                          <a:pt x="954" y="1283"/>
                        </a:lnTo>
                        <a:lnTo>
                          <a:pt x="954" y="1279"/>
                        </a:lnTo>
                        <a:lnTo>
                          <a:pt x="950" y="1269"/>
                        </a:lnTo>
                        <a:lnTo>
                          <a:pt x="950" y="1264"/>
                        </a:lnTo>
                        <a:lnTo>
                          <a:pt x="945" y="1259"/>
                        </a:lnTo>
                        <a:lnTo>
                          <a:pt x="945" y="1255"/>
                        </a:lnTo>
                        <a:lnTo>
                          <a:pt x="945" y="1245"/>
                        </a:lnTo>
                        <a:lnTo>
                          <a:pt x="940" y="1240"/>
                        </a:lnTo>
                        <a:lnTo>
                          <a:pt x="940" y="1235"/>
                        </a:lnTo>
                        <a:lnTo>
                          <a:pt x="935" y="1231"/>
                        </a:lnTo>
                        <a:lnTo>
                          <a:pt x="935" y="1221"/>
                        </a:lnTo>
                        <a:lnTo>
                          <a:pt x="930" y="1216"/>
                        </a:lnTo>
                        <a:lnTo>
                          <a:pt x="930" y="1211"/>
                        </a:lnTo>
                        <a:lnTo>
                          <a:pt x="930" y="1207"/>
                        </a:lnTo>
                        <a:lnTo>
                          <a:pt x="926" y="1197"/>
                        </a:lnTo>
                        <a:lnTo>
                          <a:pt x="926" y="1192"/>
                        </a:lnTo>
                        <a:lnTo>
                          <a:pt x="921" y="1188"/>
                        </a:lnTo>
                        <a:lnTo>
                          <a:pt x="921" y="1183"/>
                        </a:lnTo>
                        <a:lnTo>
                          <a:pt x="916" y="1178"/>
                        </a:lnTo>
                        <a:lnTo>
                          <a:pt x="911" y="1178"/>
                        </a:lnTo>
                        <a:lnTo>
                          <a:pt x="906" y="1178"/>
                        </a:lnTo>
                        <a:lnTo>
                          <a:pt x="906" y="1173"/>
                        </a:lnTo>
                        <a:lnTo>
                          <a:pt x="902" y="1173"/>
                        </a:lnTo>
                        <a:lnTo>
                          <a:pt x="897" y="1173"/>
                        </a:lnTo>
                        <a:lnTo>
                          <a:pt x="892" y="1168"/>
                        </a:lnTo>
                        <a:lnTo>
                          <a:pt x="887" y="1168"/>
                        </a:lnTo>
                        <a:lnTo>
                          <a:pt x="882" y="1168"/>
                        </a:lnTo>
                        <a:lnTo>
                          <a:pt x="878" y="1164"/>
                        </a:lnTo>
                        <a:lnTo>
                          <a:pt x="873" y="1164"/>
                        </a:lnTo>
                        <a:lnTo>
                          <a:pt x="868" y="1159"/>
                        </a:lnTo>
                        <a:lnTo>
                          <a:pt x="863" y="1159"/>
                        </a:lnTo>
                        <a:lnTo>
                          <a:pt x="858" y="1159"/>
                        </a:lnTo>
                        <a:lnTo>
                          <a:pt x="854" y="1154"/>
                        </a:lnTo>
                        <a:lnTo>
                          <a:pt x="849" y="1149"/>
                        </a:lnTo>
                        <a:lnTo>
                          <a:pt x="844" y="1149"/>
                        </a:lnTo>
                        <a:lnTo>
                          <a:pt x="839" y="1149"/>
                        </a:lnTo>
                        <a:lnTo>
                          <a:pt x="835" y="1144"/>
                        </a:lnTo>
                        <a:lnTo>
                          <a:pt x="830" y="1144"/>
                        </a:lnTo>
                        <a:lnTo>
                          <a:pt x="830" y="1140"/>
                        </a:lnTo>
                        <a:lnTo>
                          <a:pt x="825" y="1140"/>
                        </a:lnTo>
                        <a:lnTo>
                          <a:pt x="820" y="1140"/>
                        </a:lnTo>
                        <a:lnTo>
                          <a:pt x="815" y="1135"/>
                        </a:lnTo>
                        <a:lnTo>
                          <a:pt x="811" y="1135"/>
                        </a:lnTo>
                        <a:lnTo>
                          <a:pt x="811" y="1130"/>
                        </a:lnTo>
                        <a:lnTo>
                          <a:pt x="806" y="1130"/>
                        </a:lnTo>
                        <a:lnTo>
                          <a:pt x="801" y="1125"/>
                        </a:lnTo>
                        <a:lnTo>
                          <a:pt x="796" y="1125"/>
                        </a:lnTo>
                        <a:lnTo>
                          <a:pt x="796" y="1121"/>
                        </a:lnTo>
                        <a:lnTo>
                          <a:pt x="791" y="1121"/>
                        </a:lnTo>
                        <a:lnTo>
                          <a:pt x="787" y="1116"/>
                        </a:lnTo>
                        <a:lnTo>
                          <a:pt x="782" y="1111"/>
                        </a:lnTo>
                        <a:lnTo>
                          <a:pt x="777" y="1106"/>
                        </a:lnTo>
                        <a:lnTo>
                          <a:pt x="772" y="1106"/>
                        </a:lnTo>
                        <a:lnTo>
                          <a:pt x="767" y="1101"/>
                        </a:lnTo>
                        <a:lnTo>
                          <a:pt x="763" y="1097"/>
                        </a:lnTo>
                        <a:lnTo>
                          <a:pt x="763" y="1092"/>
                        </a:lnTo>
                        <a:lnTo>
                          <a:pt x="758" y="1087"/>
                        </a:lnTo>
                        <a:lnTo>
                          <a:pt x="753" y="1082"/>
                        </a:lnTo>
                        <a:lnTo>
                          <a:pt x="748" y="1082"/>
                        </a:lnTo>
                        <a:lnTo>
                          <a:pt x="743" y="1077"/>
                        </a:lnTo>
                        <a:lnTo>
                          <a:pt x="739" y="1073"/>
                        </a:lnTo>
                        <a:lnTo>
                          <a:pt x="739" y="1068"/>
                        </a:lnTo>
                        <a:lnTo>
                          <a:pt x="734" y="1063"/>
                        </a:lnTo>
                        <a:lnTo>
                          <a:pt x="729" y="1058"/>
                        </a:lnTo>
                        <a:lnTo>
                          <a:pt x="724" y="1053"/>
                        </a:lnTo>
                        <a:lnTo>
                          <a:pt x="724" y="1049"/>
                        </a:lnTo>
                        <a:lnTo>
                          <a:pt x="719" y="1044"/>
                        </a:lnTo>
                        <a:lnTo>
                          <a:pt x="715" y="1039"/>
                        </a:lnTo>
                        <a:lnTo>
                          <a:pt x="715" y="1034"/>
                        </a:lnTo>
                        <a:lnTo>
                          <a:pt x="710" y="1030"/>
                        </a:lnTo>
                        <a:lnTo>
                          <a:pt x="705" y="1025"/>
                        </a:lnTo>
                        <a:lnTo>
                          <a:pt x="705" y="1020"/>
                        </a:lnTo>
                        <a:lnTo>
                          <a:pt x="700" y="1015"/>
                        </a:lnTo>
                        <a:lnTo>
                          <a:pt x="695" y="1010"/>
                        </a:lnTo>
                        <a:lnTo>
                          <a:pt x="695" y="1006"/>
                        </a:lnTo>
                        <a:lnTo>
                          <a:pt x="691" y="1001"/>
                        </a:lnTo>
                        <a:lnTo>
                          <a:pt x="691" y="996"/>
                        </a:lnTo>
                        <a:lnTo>
                          <a:pt x="686" y="991"/>
                        </a:lnTo>
                        <a:lnTo>
                          <a:pt x="686" y="986"/>
                        </a:lnTo>
                        <a:lnTo>
                          <a:pt x="681" y="982"/>
                        </a:lnTo>
                        <a:lnTo>
                          <a:pt x="681" y="977"/>
                        </a:lnTo>
                        <a:lnTo>
                          <a:pt x="676" y="972"/>
                        </a:lnTo>
                        <a:lnTo>
                          <a:pt x="676" y="967"/>
                        </a:lnTo>
                        <a:lnTo>
                          <a:pt x="676" y="962"/>
                        </a:lnTo>
                        <a:lnTo>
                          <a:pt x="671" y="958"/>
                        </a:lnTo>
                        <a:lnTo>
                          <a:pt x="671" y="953"/>
                        </a:lnTo>
                        <a:lnTo>
                          <a:pt x="671" y="948"/>
                        </a:lnTo>
                        <a:lnTo>
                          <a:pt x="667" y="943"/>
                        </a:lnTo>
                        <a:lnTo>
                          <a:pt x="667" y="939"/>
                        </a:lnTo>
                        <a:lnTo>
                          <a:pt x="667" y="934"/>
                        </a:lnTo>
                        <a:lnTo>
                          <a:pt x="667" y="929"/>
                        </a:lnTo>
                        <a:lnTo>
                          <a:pt x="662" y="924"/>
                        </a:lnTo>
                        <a:lnTo>
                          <a:pt x="662" y="919"/>
                        </a:lnTo>
                        <a:lnTo>
                          <a:pt x="662" y="915"/>
                        </a:lnTo>
                        <a:lnTo>
                          <a:pt x="662" y="910"/>
                        </a:lnTo>
                        <a:lnTo>
                          <a:pt x="662" y="905"/>
                        </a:lnTo>
                        <a:lnTo>
                          <a:pt x="662" y="900"/>
                        </a:lnTo>
                        <a:lnTo>
                          <a:pt x="662" y="895"/>
                        </a:lnTo>
                        <a:lnTo>
                          <a:pt x="657" y="891"/>
                        </a:lnTo>
                        <a:lnTo>
                          <a:pt x="657" y="881"/>
                        </a:lnTo>
                        <a:lnTo>
                          <a:pt x="657" y="876"/>
                        </a:lnTo>
                        <a:lnTo>
                          <a:pt x="657" y="872"/>
                        </a:lnTo>
                        <a:lnTo>
                          <a:pt x="657" y="867"/>
                        </a:lnTo>
                        <a:lnTo>
                          <a:pt x="657" y="862"/>
                        </a:lnTo>
                        <a:lnTo>
                          <a:pt x="657" y="857"/>
                        </a:lnTo>
                        <a:lnTo>
                          <a:pt x="657" y="852"/>
                        </a:lnTo>
                        <a:lnTo>
                          <a:pt x="657" y="848"/>
                        </a:lnTo>
                        <a:lnTo>
                          <a:pt x="657" y="843"/>
                        </a:lnTo>
                        <a:lnTo>
                          <a:pt x="657" y="838"/>
                        </a:lnTo>
                        <a:lnTo>
                          <a:pt x="652" y="833"/>
                        </a:lnTo>
                        <a:lnTo>
                          <a:pt x="652" y="828"/>
                        </a:lnTo>
                        <a:lnTo>
                          <a:pt x="652" y="824"/>
                        </a:lnTo>
                        <a:lnTo>
                          <a:pt x="657" y="804"/>
                        </a:lnTo>
                        <a:lnTo>
                          <a:pt x="657" y="785"/>
                        </a:lnTo>
                        <a:lnTo>
                          <a:pt x="662" y="766"/>
                        </a:lnTo>
                        <a:lnTo>
                          <a:pt x="662" y="747"/>
                        </a:lnTo>
                        <a:lnTo>
                          <a:pt x="667" y="728"/>
                        </a:lnTo>
                        <a:lnTo>
                          <a:pt x="671" y="709"/>
                        </a:lnTo>
                        <a:lnTo>
                          <a:pt x="676" y="690"/>
                        </a:lnTo>
                        <a:lnTo>
                          <a:pt x="686" y="670"/>
                        </a:lnTo>
                        <a:lnTo>
                          <a:pt x="691" y="651"/>
                        </a:lnTo>
                        <a:lnTo>
                          <a:pt x="695" y="632"/>
                        </a:lnTo>
                        <a:lnTo>
                          <a:pt x="705" y="613"/>
                        </a:lnTo>
                        <a:lnTo>
                          <a:pt x="715" y="594"/>
                        </a:lnTo>
                        <a:lnTo>
                          <a:pt x="724" y="575"/>
                        </a:lnTo>
                        <a:lnTo>
                          <a:pt x="729" y="555"/>
                        </a:lnTo>
                        <a:lnTo>
                          <a:pt x="739" y="541"/>
                        </a:lnTo>
                        <a:lnTo>
                          <a:pt x="753" y="522"/>
                        </a:lnTo>
                        <a:lnTo>
                          <a:pt x="763" y="503"/>
                        </a:lnTo>
                        <a:lnTo>
                          <a:pt x="772" y="488"/>
                        </a:lnTo>
                        <a:lnTo>
                          <a:pt x="782" y="469"/>
                        </a:lnTo>
                        <a:lnTo>
                          <a:pt x="796" y="455"/>
                        </a:lnTo>
                        <a:lnTo>
                          <a:pt x="806" y="436"/>
                        </a:lnTo>
                        <a:lnTo>
                          <a:pt x="820" y="421"/>
                        </a:lnTo>
                        <a:lnTo>
                          <a:pt x="830" y="402"/>
                        </a:lnTo>
                        <a:lnTo>
                          <a:pt x="844" y="388"/>
                        </a:lnTo>
                        <a:lnTo>
                          <a:pt x="858" y="374"/>
                        </a:lnTo>
                        <a:lnTo>
                          <a:pt x="873" y="354"/>
                        </a:lnTo>
                        <a:lnTo>
                          <a:pt x="887" y="340"/>
                        </a:lnTo>
                        <a:lnTo>
                          <a:pt x="902" y="326"/>
                        </a:lnTo>
                        <a:lnTo>
                          <a:pt x="911" y="311"/>
                        </a:lnTo>
                        <a:lnTo>
                          <a:pt x="926" y="292"/>
                        </a:lnTo>
                        <a:lnTo>
                          <a:pt x="940" y="278"/>
                        </a:lnTo>
                        <a:lnTo>
                          <a:pt x="959" y="263"/>
                        </a:lnTo>
                        <a:lnTo>
                          <a:pt x="969" y="254"/>
                        </a:lnTo>
                        <a:lnTo>
                          <a:pt x="978" y="249"/>
                        </a:lnTo>
                        <a:lnTo>
                          <a:pt x="988" y="239"/>
                        </a:lnTo>
                        <a:lnTo>
                          <a:pt x="998" y="230"/>
                        </a:lnTo>
                        <a:lnTo>
                          <a:pt x="1007" y="220"/>
                        </a:lnTo>
                        <a:lnTo>
                          <a:pt x="1022" y="216"/>
                        </a:lnTo>
                        <a:lnTo>
                          <a:pt x="1031" y="206"/>
                        </a:lnTo>
                        <a:lnTo>
                          <a:pt x="1041" y="196"/>
                        </a:lnTo>
                        <a:lnTo>
                          <a:pt x="1050" y="192"/>
                        </a:lnTo>
                        <a:lnTo>
                          <a:pt x="1065" y="182"/>
                        </a:lnTo>
                        <a:lnTo>
                          <a:pt x="1074" y="177"/>
                        </a:lnTo>
                        <a:lnTo>
                          <a:pt x="1084" y="168"/>
                        </a:lnTo>
                        <a:lnTo>
                          <a:pt x="1098" y="163"/>
                        </a:lnTo>
                        <a:lnTo>
                          <a:pt x="1108" y="153"/>
                        </a:lnTo>
                        <a:lnTo>
                          <a:pt x="1118" y="148"/>
                        </a:lnTo>
                        <a:lnTo>
                          <a:pt x="1132" y="144"/>
                        </a:lnTo>
                        <a:lnTo>
                          <a:pt x="1142" y="134"/>
                        </a:lnTo>
                        <a:lnTo>
                          <a:pt x="1156" y="129"/>
                        </a:lnTo>
                        <a:lnTo>
                          <a:pt x="1166" y="125"/>
                        </a:lnTo>
                        <a:lnTo>
                          <a:pt x="1175" y="115"/>
                        </a:lnTo>
                        <a:lnTo>
                          <a:pt x="1189" y="110"/>
                        </a:lnTo>
                        <a:lnTo>
                          <a:pt x="1199" y="105"/>
                        </a:lnTo>
                        <a:lnTo>
                          <a:pt x="1213" y="96"/>
                        </a:lnTo>
                        <a:lnTo>
                          <a:pt x="1223" y="91"/>
                        </a:lnTo>
                        <a:lnTo>
                          <a:pt x="1233" y="86"/>
                        </a:lnTo>
                        <a:lnTo>
                          <a:pt x="1247" y="81"/>
                        </a:lnTo>
                        <a:lnTo>
                          <a:pt x="1257" y="72"/>
                        </a:lnTo>
                        <a:lnTo>
                          <a:pt x="1271" y="67"/>
                        </a:lnTo>
                        <a:lnTo>
                          <a:pt x="1281" y="62"/>
                        </a:lnTo>
                        <a:lnTo>
                          <a:pt x="1290" y="53"/>
                        </a:lnTo>
                        <a:lnTo>
                          <a:pt x="1305" y="48"/>
                        </a:lnTo>
                        <a:lnTo>
                          <a:pt x="1314" y="43"/>
                        </a:lnTo>
                        <a:lnTo>
                          <a:pt x="1324" y="38"/>
                        </a:lnTo>
                        <a:lnTo>
                          <a:pt x="1338" y="38"/>
                        </a:lnTo>
                        <a:lnTo>
                          <a:pt x="1348" y="34"/>
                        </a:lnTo>
                        <a:lnTo>
                          <a:pt x="1357" y="34"/>
                        </a:lnTo>
                        <a:lnTo>
                          <a:pt x="1372" y="29"/>
                        </a:lnTo>
                        <a:lnTo>
                          <a:pt x="1381" y="24"/>
                        </a:lnTo>
                        <a:lnTo>
                          <a:pt x="1391" y="24"/>
                        </a:lnTo>
                        <a:lnTo>
                          <a:pt x="1405" y="19"/>
                        </a:lnTo>
                        <a:lnTo>
                          <a:pt x="1415" y="19"/>
                        </a:lnTo>
                        <a:lnTo>
                          <a:pt x="1429" y="14"/>
                        </a:lnTo>
                        <a:lnTo>
                          <a:pt x="1439" y="14"/>
                        </a:lnTo>
                        <a:lnTo>
                          <a:pt x="1453" y="10"/>
                        </a:lnTo>
                        <a:lnTo>
                          <a:pt x="1463" y="10"/>
                        </a:lnTo>
                        <a:lnTo>
                          <a:pt x="1473" y="5"/>
                        </a:lnTo>
                        <a:lnTo>
                          <a:pt x="1487" y="5"/>
                        </a:lnTo>
                        <a:lnTo>
                          <a:pt x="1497" y="5"/>
                        </a:lnTo>
                        <a:lnTo>
                          <a:pt x="1511" y="0"/>
                        </a:lnTo>
                        <a:lnTo>
                          <a:pt x="1520" y="0"/>
                        </a:lnTo>
                        <a:lnTo>
                          <a:pt x="1535" y="0"/>
                        </a:lnTo>
                        <a:lnTo>
                          <a:pt x="1544" y="0"/>
                        </a:lnTo>
                        <a:lnTo>
                          <a:pt x="1554" y="0"/>
                        </a:lnTo>
                        <a:lnTo>
                          <a:pt x="1568" y="0"/>
                        </a:lnTo>
                        <a:lnTo>
                          <a:pt x="1578" y="0"/>
                        </a:lnTo>
                        <a:lnTo>
                          <a:pt x="1592" y="0"/>
                        </a:lnTo>
                        <a:lnTo>
                          <a:pt x="1602" y="5"/>
                        </a:lnTo>
                        <a:lnTo>
                          <a:pt x="1612" y="5"/>
                        </a:lnTo>
                        <a:lnTo>
                          <a:pt x="1621" y="10"/>
                        </a:lnTo>
                        <a:lnTo>
                          <a:pt x="1636" y="10"/>
                        </a:lnTo>
                        <a:lnTo>
                          <a:pt x="1645" y="14"/>
                        </a:lnTo>
                        <a:lnTo>
                          <a:pt x="1655" y="19"/>
                        </a:lnTo>
                        <a:lnTo>
                          <a:pt x="1664" y="24"/>
                        </a:lnTo>
                        <a:lnTo>
                          <a:pt x="1679" y="29"/>
                        </a:lnTo>
                        <a:lnTo>
                          <a:pt x="1679" y="34"/>
                        </a:lnTo>
                        <a:lnTo>
                          <a:pt x="1684" y="34"/>
                        </a:lnTo>
                        <a:lnTo>
                          <a:pt x="1688" y="34"/>
                        </a:lnTo>
                        <a:lnTo>
                          <a:pt x="1688" y="38"/>
                        </a:lnTo>
                        <a:lnTo>
                          <a:pt x="1693" y="38"/>
                        </a:lnTo>
                        <a:lnTo>
                          <a:pt x="1698" y="38"/>
                        </a:lnTo>
                        <a:lnTo>
                          <a:pt x="1698" y="43"/>
                        </a:lnTo>
                        <a:lnTo>
                          <a:pt x="1703" y="43"/>
                        </a:lnTo>
                        <a:lnTo>
                          <a:pt x="1708" y="43"/>
                        </a:lnTo>
                        <a:lnTo>
                          <a:pt x="1708" y="48"/>
                        </a:lnTo>
                        <a:lnTo>
                          <a:pt x="1712" y="48"/>
                        </a:lnTo>
                        <a:lnTo>
                          <a:pt x="1717" y="48"/>
                        </a:lnTo>
                        <a:lnTo>
                          <a:pt x="1717" y="53"/>
                        </a:lnTo>
                        <a:lnTo>
                          <a:pt x="1722" y="53"/>
                        </a:lnTo>
                        <a:lnTo>
                          <a:pt x="1722" y="58"/>
                        </a:lnTo>
                        <a:lnTo>
                          <a:pt x="1727" y="58"/>
                        </a:lnTo>
                        <a:lnTo>
                          <a:pt x="1727" y="62"/>
                        </a:lnTo>
                        <a:lnTo>
                          <a:pt x="1732" y="62"/>
                        </a:lnTo>
                        <a:lnTo>
                          <a:pt x="1732" y="67"/>
                        </a:lnTo>
                        <a:lnTo>
                          <a:pt x="1736" y="6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9" name=""/>
                  <p:cNvSpPr/>
                  <p:nvPr/>
                </p:nvSpPr>
                <p:spPr>
                  <a:xfrm flipH="1">
                    <a:off x="3895200" y="4336920"/>
                    <a:ext cx="22680" cy="28080"/>
                  </a:xfrm>
                  <a:custGeom>
                    <a:avLst/>
                    <a:gdLst/>
                    <a:ahLst/>
                    <a:rect l="l" t="t" r="r" b="b"/>
                    <a:pathLst>
                      <a:path w="135" h="173">
                        <a:moveTo>
                          <a:pt x="135" y="5"/>
                        </a:moveTo>
                        <a:lnTo>
                          <a:pt x="130" y="5"/>
                        </a:lnTo>
                        <a:lnTo>
                          <a:pt x="120" y="10"/>
                        </a:lnTo>
                        <a:lnTo>
                          <a:pt x="115" y="10"/>
                        </a:lnTo>
                        <a:lnTo>
                          <a:pt x="111" y="15"/>
                        </a:lnTo>
                        <a:lnTo>
                          <a:pt x="106" y="20"/>
                        </a:lnTo>
                        <a:lnTo>
                          <a:pt x="101" y="24"/>
                        </a:lnTo>
                        <a:lnTo>
                          <a:pt x="92" y="24"/>
                        </a:lnTo>
                        <a:lnTo>
                          <a:pt x="87" y="29"/>
                        </a:lnTo>
                        <a:lnTo>
                          <a:pt x="82" y="34"/>
                        </a:lnTo>
                        <a:lnTo>
                          <a:pt x="77" y="39"/>
                        </a:lnTo>
                        <a:lnTo>
                          <a:pt x="72" y="43"/>
                        </a:lnTo>
                        <a:lnTo>
                          <a:pt x="68" y="48"/>
                        </a:lnTo>
                        <a:lnTo>
                          <a:pt x="63" y="53"/>
                        </a:lnTo>
                        <a:lnTo>
                          <a:pt x="58" y="58"/>
                        </a:lnTo>
                        <a:lnTo>
                          <a:pt x="58" y="63"/>
                        </a:lnTo>
                        <a:lnTo>
                          <a:pt x="53" y="67"/>
                        </a:lnTo>
                        <a:lnTo>
                          <a:pt x="48" y="77"/>
                        </a:lnTo>
                        <a:lnTo>
                          <a:pt x="44" y="82"/>
                        </a:lnTo>
                        <a:lnTo>
                          <a:pt x="44" y="87"/>
                        </a:lnTo>
                        <a:lnTo>
                          <a:pt x="39" y="91"/>
                        </a:lnTo>
                        <a:lnTo>
                          <a:pt x="34" y="96"/>
                        </a:lnTo>
                        <a:lnTo>
                          <a:pt x="34" y="106"/>
                        </a:lnTo>
                        <a:lnTo>
                          <a:pt x="29" y="110"/>
                        </a:lnTo>
                        <a:lnTo>
                          <a:pt x="29" y="115"/>
                        </a:lnTo>
                        <a:lnTo>
                          <a:pt x="24" y="125"/>
                        </a:lnTo>
                        <a:lnTo>
                          <a:pt x="24" y="130"/>
                        </a:lnTo>
                        <a:lnTo>
                          <a:pt x="24" y="134"/>
                        </a:lnTo>
                        <a:lnTo>
                          <a:pt x="20" y="144"/>
                        </a:lnTo>
                        <a:lnTo>
                          <a:pt x="20" y="149"/>
                        </a:lnTo>
                        <a:lnTo>
                          <a:pt x="20" y="154"/>
                        </a:lnTo>
                        <a:lnTo>
                          <a:pt x="20" y="163"/>
                        </a:lnTo>
                        <a:lnTo>
                          <a:pt x="20" y="168"/>
                        </a:lnTo>
                        <a:lnTo>
                          <a:pt x="20" y="173"/>
                        </a:lnTo>
                        <a:lnTo>
                          <a:pt x="15" y="173"/>
                        </a:lnTo>
                        <a:lnTo>
                          <a:pt x="10" y="173"/>
                        </a:lnTo>
                        <a:lnTo>
                          <a:pt x="5" y="173"/>
                        </a:lnTo>
                        <a:lnTo>
                          <a:pt x="0" y="163"/>
                        </a:lnTo>
                        <a:lnTo>
                          <a:pt x="0" y="158"/>
                        </a:lnTo>
                        <a:lnTo>
                          <a:pt x="0" y="149"/>
                        </a:lnTo>
                        <a:lnTo>
                          <a:pt x="0" y="144"/>
                        </a:lnTo>
                        <a:lnTo>
                          <a:pt x="0" y="139"/>
                        </a:lnTo>
                        <a:lnTo>
                          <a:pt x="5" y="130"/>
                        </a:lnTo>
                        <a:lnTo>
                          <a:pt x="5" y="125"/>
                        </a:lnTo>
                        <a:lnTo>
                          <a:pt x="5" y="120"/>
                        </a:lnTo>
                        <a:lnTo>
                          <a:pt x="10" y="115"/>
                        </a:lnTo>
                        <a:lnTo>
                          <a:pt x="10" y="106"/>
                        </a:lnTo>
                        <a:lnTo>
                          <a:pt x="10" y="101"/>
                        </a:lnTo>
                        <a:lnTo>
                          <a:pt x="15" y="96"/>
                        </a:lnTo>
                        <a:lnTo>
                          <a:pt x="15" y="91"/>
                        </a:lnTo>
                        <a:lnTo>
                          <a:pt x="20" y="87"/>
                        </a:lnTo>
                        <a:lnTo>
                          <a:pt x="20" y="82"/>
                        </a:lnTo>
                        <a:lnTo>
                          <a:pt x="24" y="72"/>
                        </a:lnTo>
                        <a:lnTo>
                          <a:pt x="29" y="67"/>
                        </a:lnTo>
                        <a:lnTo>
                          <a:pt x="29" y="63"/>
                        </a:lnTo>
                        <a:lnTo>
                          <a:pt x="34" y="58"/>
                        </a:lnTo>
                        <a:lnTo>
                          <a:pt x="39" y="53"/>
                        </a:lnTo>
                        <a:lnTo>
                          <a:pt x="44" y="48"/>
                        </a:lnTo>
                        <a:lnTo>
                          <a:pt x="48" y="43"/>
                        </a:lnTo>
                        <a:lnTo>
                          <a:pt x="53" y="39"/>
                        </a:lnTo>
                        <a:lnTo>
                          <a:pt x="53" y="34"/>
                        </a:lnTo>
                        <a:lnTo>
                          <a:pt x="58" y="29"/>
                        </a:lnTo>
                        <a:lnTo>
                          <a:pt x="63" y="29"/>
                        </a:lnTo>
                        <a:lnTo>
                          <a:pt x="68" y="24"/>
                        </a:lnTo>
                        <a:lnTo>
                          <a:pt x="72" y="20"/>
                        </a:lnTo>
                        <a:lnTo>
                          <a:pt x="77" y="15"/>
                        </a:lnTo>
                        <a:lnTo>
                          <a:pt x="87" y="10"/>
                        </a:lnTo>
                        <a:lnTo>
                          <a:pt x="92" y="10"/>
                        </a:lnTo>
                        <a:lnTo>
                          <a:pt x="96" y="5"/>
                        </a:lnTo>
                        <a:lnTo>
                          <a:pt x="101" y="0"/>
                        </a:lnTo>
                        <a:lnTo>
                          <a:pt x="106" y="0"/>
                        </a:lnTo>
                        <a:lnTo>
                          <a:pt x="111" y="0"/>
                        </a:lnTo>
                        <a:lnTo>
                          <a:pt x="115" y="0"/>
                        </a:lnTo>
                        <a:lnTo>
                          <a:pt x="120" y="0"/>
                        </a:lnTo>
                        <a:lnTo>
                          <a:pt x="125" y="0"/>
                        </a:lnTo>
                        <a:lnTo>
                          <a:pt x="130" y="0"/>
                        </a:lnTo>
                        <a:lnTo>
                          <a:pt x="135" y="0"/>
                        </a:lnTo>
                        <a:lnTo>
                          <a:pt x="135" y="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720" bIns="-18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0" name=""/>
                  <p:cNvSpPr/>
                  <p:nvPr/>
                </p:nvSpPr>
                <p:spPr>
                  <a:xfrm flipH="1">
                    <a:off x="4007520" y="4337640"/>
                    <a:ext cx="19440" cy="22680"/>
                  </a:xfrm>
                  <a:custGeom>
                    <a:avLst/>
                    <a:gdLst/>
                    <a:ahLst/>
                    <a:rect l="l" t="t" r="r" b="b"/>
                    <a:pathLst>
                      <a:path w="115" h="139">
                        <a:moveTo>
                          <a:pt x="57" y="24"/>
                        </a:moveTo>
                        <a:lnTo>
                          <a:pt x="62" y="24"/>
                        </a:lnTo>
                        <a:lnTo>
                          <a:pt x="67" y="24"/>
                        </a:lnTo>
                        <a:lnTo>
                          <a:pt x="72" y="24"/>
                        </a:lnTo>
                        <a:lnTo>
                          <a:pt x="76" y="24"/>
                        </a:lnTo>
                        <a:lnTo>
                          <a:pt x="76" y="29"/>
                        </a:lnTo>
                        <a:lnTo>
                          <a:pt x="81" y="29"/>
                        </a:lnTo>
                        <a:lnTo>
                          <a:pt x="86" y="34"/>
                        </a:lnTo>
                        <a:lnTo>
                          <a:pt x="91" y="34"/>
                        </a:lnTo>
                        <a:lnTo>
                          <a:pt x="91" y="38"/>
                        </a:lnTo>
                        <a:lnTo>
                          <a:pt x="95" y="38"/>
                        </a:lnTo>
                        <a:lnTo>
                          <a:pt x="95" y="43"/>
                        </a:lnTo>
                        <a:lnTo>
                          <a:pt x="100" y="48"/>
                        </a:lnTo>
                        <a:lnTo>
                          <a:pt x="100" y="53"/>
                        </a:lnTo>
                        <a:lnTo>
                          <a:pt x="105" y="53"/>
                        </a:lnTo>
                        <a:lnTo>
                          <a:pt x="105" y="58"/>
                        </a:lnTo>
                        <a:lnTo>
                          <a:pt x="110" y="62"/>
                        </a:lnTo>
                        <a:lnTo>
                          <a:pt x="110" y="67"/>
                        </a:lnTo>
                        <a:lnTo>
                          <a:pt x="115" y="72"/>
                        </a:lnTo>
                        <a:lnTo>
                          <a:pt x="115" y="77"/>
                        </a:lnTo>
                        <a:lnTo>
                          <a:pt x="115" y="82"/>
                        </a:lnTo>
                        <a:lnTo>
                          <a:pt x="115" y="86"/>
                        </a:lnTo>
                        <a:lnTo>
                          <a:pt x="115" y="91"/>
                        </a:lnTo>
                        <a:lnTo>
                          <a:pt x="115" y="96"/>
                        </a:lnTo>
                        <a:lnTo>
                          <a:pt x="115" y="101"/>
                        </a:lnTo>
                        <a:lnTo>
                          <a:pt x="115" y="105"/>
                        </a:lnTo>
                        <a:lnTo>
                          <a:pt x="115" y="110"/>
                        </a:lnTo>
                        <a:lnTo>
                          <a:pt x="115" y="115"/>
                        </a:lnTo>
                        <a:lnTo>
                          <a:pt x="115" y="120"/>
                        </a:lnTo>
                        <a:lnTo>
                          <a:pt x="110" y="125"/>
                        </a:lnTo>
                        <a:lnTo>
                          <a:pt x="110" y="129"/>
                        </a:lnTo>
                        <a:lnTo>
                          <a:pt x="105" y="129"/>
                        </a:lnTo>
                        <a:lnTo>
                          <a:pt x="105" y="134"/>
                        </a:lnTo>
                        <a:lnTo>
                          <a:pt x="100" y="134"/>
                        </a:lnTo>
                        <a:lnTo>
                          <a:pt x="100" y="139"/>
                        </a:lnTo>
                        <a:lnTo>
                          <a:pt x="95" y="139"/>
                        </a:lnTo>
                        <a:lnTo>
                          <a:pt x="91" y="139"/>
                        </a:lnTo>
                        <a:lnTo>
                          <a:pt x="86" y="139"/>
                        </a:lnTo>
                        <a:lnTo>
                          <a:pt x="81" y="139"/>
                        </a:lnTo>
                        <a:lnTo>
                          <a:pt x="76" y="139"/>
                        </a:lnTo>
                        <a:lnTo>
                          <a:pt x="72" y="139"/>
                        </a:lnTo>
                        <a:lnTo>
                          <a:pt x="72" y="134"/>
                        </a:lnTo>
                        <a:lnTo>
                          <a:pt x="67" y="134"/>
                        </a:lnTo>
                        <a:lnTo>
                          <a:pt x="62" y="134"/>
                        </a:lnTo>
                        <a:lnTo>
                          <a:pt x="62" y="129"/>
                        </a:lnTo>
                        <a:lnTo>
                          <a:pt x="57" y="129"/>
                        </a:lnTo>
                        <a:lnTo>
                          <a:pt x="52" y="129"/>
                        </a:lnTo>
                        <a:lnTo>
                          <a:pt x="52" y="125"/>
                        </a:lnTo>
                        <a:lnTo>
                          <a:pt x="48" y="125"/>
                        </a:lnTo>
                        <a:lnTo>
                          <a:pt x="48" y="120"/>
                        </a:lnTo>
                        <a:lnTo>
                          <a:pt x="43" y="120"/>
                        </a:lnTo>
                        <a:lnTo>
                          <a:pt x="43" y="115"/>
                        </a:lnTo>
                        <a:lnTo>
                          <a:pt x="38" y="110"/>
                        </a:lnTo>
                        <a:lnTo>
                          <a:pt x="38" y="105"/>
                        </a:lnTo>
                        <a:lnTo>
                          <a:pt x="33" y="101"/>
                        </a:lnTo>
                        <a:lnTo>
                          <a:pt x="33" y="96"/>
                        </a:lnTo>
                        <a:lnTo>
                          <a:pt x="33" y="91"/>
                        </a:lnTo>
                        <a:lnTo>
                          <a:pt x="33" y="86"/>
                        </a:lnTo>
                        <a:lnTo>
                          <a:pt x="33" y="82"/>
                        </a:lnTo>
                        <a:lnTo>
                          <a:pt x="28" y="82"/>
                        </a:lnTo>
                        <a:lnTo>
                          <a:pt x="28" y="77"/>
                        </a:lnTo>
                        <a:lnTo>
                          <a:pt x="28" y="72"/>
                        </a:lnTo>
                        <a:lnTo>
                          <a:pt x="24" y="72"/>
                        </a:lnTo>
                        <a:lnTo>
                          <a:pt x="24" y="67"/>
                        </a:lnTo>
                        <a:lnTo>
                          <a:pt x="19" y="67"/>
                        </a:lnTo>
                        <a:lnTo>
                          <a:pt x="19" y="62"/>
                        </a:lnTo>
                        <a:lnTo>
                          <a:pt x="14" y="62"/>
                        </a:lnTo>
                        <a:lnTo>
                          <a:pt x="9" y="62"/>
                        </a:lnTo>
                        <a:lnTo>
                          <a:pt x="9" y="58"/>
                        </a:lnTo>
                        <a:lnTo>
                          <a:pt x="4" y="58"/>
                        </a:lnTo>
                        <a:lnTo>
                          <a:pt x="4" y="53"/>
                        </a:lnTo>
                        <a:lnTo>
                          <a:pt x="4" y="48"/>
                        </a:lnTo>
                        <a:lnTo>
                          <a:pt x="0" y="48"/>
                        </a:lnTo>
                        <a:lnTo>
                          <a:pt x="0" y="43"/>
                        </a:lnTo>
                        <a:lnTo>
                          <a:pt x="0" y="38"/>
                        </a:lnTo>
                        <a:lnTo>
                          <a:pt x="4" y="38"/>
                        </a:lnTo>
                        <a:lnTo>
                          <a:pt x="4" y="34"/>
                        </a:lnTo>
                        <a:lnTo>
                          <a:pt x="9" y="34"/>
                        </a:lnTo>
                        <a:lnTo>
                          <a:pt x="14" y="34"/>
                        </a:lnTo>
                        <a:lnTo>
                          <a:pt x="14" y="38"/>
                        </a:lnTo>
                        <a:lnTo>
                          <a:pt x="19" y="38"/>
                        </a:lnTo>
                        <a:lnTo>
                          <a:pt x="19" y="43"/>
                        </a:lnTo>
                        <a:lnTo>
                          <a:pt x="24" y="43"/>
                        </a:lnTo>
                        <a:lnTo>
                          <a:pt x="24" y="48"/>
                        </a:lnTo>
                        <a:lnTo>
                          <a:pt x="28" y="48"/>
                        </a:lnTo>
                        <a:lnTo>
                          <a:pt x="33" y="48"/>
                        </a:lnTo>
                        <a:lnTo>
                          <a:pt x="38" y="48"/>
                        </a:lnTo>
                        <a:lnTo>
                          <a:pt x="43" y="48"/>
                        </a:lnTo>
                        <a:lnTo>
                          <a:pt x="43" y="43"/>
                        </a:lnTo>
                        <a:lnTo>
                          <a:pt x="48" y="43"/>
                        </a:lnTo>
                        <a:lnTo>
                          <a:pt x="43" y="38"/>
                        </a:lnTo>
                        <a:lnTo>
                          <a:pt x="43" y="34"/>
                        </a:lnTo>
                        <a:lnTo>
                          <a:pt x="43" y="29"/>
                        </a:lnTo>
                        <a:lnTo>
                          <a:pt x="38" y="24"/>
                        </a:lnTo>
                        <a:lnTo>
                          <a:pt x="38" y="19"/>
                        </a:lnTo>
                        <a:lnTo>
                          <a:pt x="38" y="15"/>
                        </a:lnTo>
                        <a:lnTo>
                          <a:pt x="38" y="10"/>
                        </a:lnTo>
                        <a:lnTo>
                          <a:pt x="38" y="5"/>
                        </a:lnTo>
                        <a:lnTo>
                          <a:pt x="38" y="0"/>
                        </a:lnTo>
                        <a:lnTo>
                          <a:pt x="43" y="0"/>
                        </a:lnTo>
                        <a:lnTo>
                          <a:pt x="48" y="5"/>
                        </a:lnTo>
                        <a:lnTo>
                          <a:pt x="48" y="10"/>
                        </a:lnTo>
                        <a:lnTo>
                          <a:pt x="52" y="10"/>
                        </a:lnTo>
                        <a:lnTo>
                          <a:pt x="52" y="15"/>
                        </a:lnTo>
                        <a:lnTo>
                          <a:pt x="52" y="19"/>
                        </a:lnTo>
                        <a:lnTo>
                          <a:pt x="57" y="19"/>
                        </a:lnTo>
                        <a:lnTo>
                          <a:pt x="57" y="2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120" bIns="-24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1" name=""/>
                  <p:cNvSpPr/>
                  <p:nvPr/>
                </p:nvSpPr>
                <p:spPr>
                  <a:xfrm flipH="1">
                    <a:off x="4323600" y="4338360"/>
                    <a:ext cx="272520" cy="176400"/>
                  </a:xfrm>
                  <a:custGeom>
                    <a:avLst/>
                    <a:gdLst/>
                    <a:ahLst/>
                    <a:rect l="l" t="t" r="r" b="b"/>
                    <a:pathLst>
                      <a:path w="1607" h="1077">
                        <a:moveTo>
                          <a:pt x="1022" y="48"/>
                        </a:moveTo>
                        <a:lnTo>
                          <a:pt x="1022" y="53"/>
                        </a:lnTo>
                        <a:lnTo>
                          <a:pt x="1027" y="57"/>
                        </a:lnTo>
                        <a:lnTo>
                          <a:pt x="1032" y="62"/>
                        </a:lnTo>
                        <a:lnTo>
                          <a:pt x="1037" y="62"/>
                        </a:lnTo>
                        <a:lnTo>
                          <a:pt x="1041" y="67"/>
                        </a:lnTo>
                        <a:lnTo>
                          <a:pt x="1046" y="67"/>
                        </a:lnTo>
                        <a:lnTo>
                          <a:pt x="1051" y="67"/>
                        </a:lnTo>
                        <a:lnTo>
                          <a:pt x="1056" y="67"/>
                        </a:lnTo>
                        <a:lnTo>
                          <a:pt x="1061" y="67"/>
                        </a:lnTo>
                        <a:lnTo>
                          <a:pt x="1065" y="62"/>
                        </a:lnTo>
                        <a:lnTo>
                          <a:pt x="1070" y="62"/>
                        </a:lnTo>
                        <a:lnTo>
                          <a:pt x="1075" y="57"/>
                        </a:lnTo>
                        <a:lnTo>
                          <a:pt x="1080" y="57"/>
                        </a:lnTo>
                        <a:lnTo>
                          <a:pt x="1085" y="53"/>
                        </a:lnTo>
                        <a:lnTo>
                          <a:pt x="1089" y="53"/>
                        </a:lnTo>
                        <a:lnTo>
                          <a:pt x="1094" y="53"/>
                        </a:lnTo>
                        <a:lnTo>
                          <a:pt x="1099" y="48"/>
                        </a:lnTo>
                        <a:lnTo>
                          <a:pt x="1104" y="48"/>
                        </a:lnTo>
                        <a:lnTo>
                          <a:pt x="1109" y="43"/>
                        </a:lnTo>
                        <a:lnTo>
                          <a:pt x="1113" y="43"/>
                        </a:lnTo>
                        <a:lnTo>
                          <a:pt x="1123" y="43"/>
                        </a:lnTo>
                        <a:lnTo>
                          <a:pt x="1133" y="43"/>
                        </a:lnTo>
                        <a:lnTo>
                          <a:pt x="1142" y="43"/>
                        </a:lnTo>
                        <a:lnTo>
                          <a:pt x="1152" y="43"/>
                        </a:lnTo>
                        <a:lnTo>
                          <a:pt x="1156" y="43"/>
                        </a:lnTo>
                        <a:lnTo>
                          <a:pt x="1166" y="48"/>
                        </a:lnTo>
                        <a:lnTo>
                          <a:pt x="1176" y="48"/>
                        </a:lnTo>
                        <a:lnTo>
                          <a:pt x="1180" y="53"/>
                        </a:lnTo>
                        <a:lnTo>
                          <a:pt x="1190" y="53"/>
                        </a:lnTo>
                        <a:lnTo>
                          <a:pt x="1195" y="57"/>
                        </a:lnTo>
                        <a:lnTo>
                          <a:pt x="1204" y="62"/>
                        </a:lnTo>
                        <a:lnTo>
                          <a:pt x="1209" y="67"/>
                        </a:lnTo>
                        <a:lnTo>
                          <a:pt x="1219" y="72"/>
                        </a:lnTo>
                        <a:lnTo>
                          <a:pt x="1224" y="77"/>
                        </a:lnTo>
                        <a:lnTo>
                          <a:pt x="1233" y="86"/>
                        </a:lnTo>
                        <a:lnTo>
                          <a:pt x="1238" y="91"/>
                        </a:lnTo>
                        <a:lnTo>
                          <a:pt x="1248" y="96"/>
                        </a:lnTo>
                        <a:lnTo>
                          <a:pt x="1252" y="100"/>
                        </a:lnTo>
                        <a:lnTo>
                          <a:pt x="1257" y="110"/>
                        </a:lnTo>
                        <a:lnTo>
                          <a:pt x="1267" y="115"/>
                        </a:lnTo>
                        <a:lnTo>
                          <a:pt x="1272" y="124"/>
                        </a:lnTo>
                        <a:lnTo>
                          <a:pt x="1276" y="129"/>
                        </a:lnTo>
                        <a:lnTo>
                          <a:pt x="1286" y="134"/>
                        </a:lnTo>
                        <a:lnTo>
                          <a:pt x="1291" y="144"/>
                        </a:lnTo>
                        <a:lnTo>
                          <a:pt x="1296" y="148"/>
                        </a:lnTo>
                        <a:lnTo>
                          <a:pt x="1300" y="158"/>
                        </a:lnTo>
                        <a:lnTo>
                          <a:pt x="1310" y="163"/>
                        </a:lnTo>
                        <a:lnTo>
                          <a:pt x="1315" y="168"/>
                        </a:lnTo>
                        <a:lnTo>
                          <a:pt x="1320" y="172"/>
                        </a:lnTo>
                        <a:lnTo>
                          <a:pt x="1329" y="182"/>
                        </a:lnTo>
                        <a:lnTo>
                          <a:pt x="1334" y="187"/>
                        </a:lnTo>
                        <a:lnTo>
                          <a:pt x="1339" y="191"/>
                        </a:lnTo>
                        <a:lnTo>
                          <a:pt x="1348" y="201"/>
                        </a:lnTo>
                        <a:lnTo>
                          <a:pt x="1358" y="211"/>
                        </a:lnTo>
                        <a:lnTo>
                          <a:pt x="1363" y="225"/>
                        </a:lnTo>
                        <a:lnTo>
                          <a:pt x="1372" y="235"/>
                        </a:lnTo>
                        <a:lnTo>
                          <a:pt x="1382" y="244"/>
                        </a:lnTo>
                        <a:lnTo>
                          <a:pt x="1387" y="259"/>
                        </a:lnTo>
                        <a:lnTo>
                          <a:pt x="1396" y="268"/>
                        </a:lnTo>
                        <a:lnTo>
                          <a:pt x="1401" y="282"/>
                        </a:lnTo>
                        <a:lnTo>
                          <a:pt x="1411" y="292"/>
                        </a:lnTo>
                        <a:lnTo>
                          <a:pt x="1420" y="302"/>
                        </a:lnTo>
                        <a:lnTo>
                          <a:pt x="1425" y="316"/>
                        </a:lnTo>
                        <a:lnTo>
                          <a:pt x="1435" y="326"/>
                        </a:lnTo>
                        <a:lnTo>
                          <a:pt x="1440" y="340"/>
                        </a:lnTo>
                        <a:lnTo>
                          <a:pt x="1449" y="349"/>
                        </a:lnTo>
                        <a:lnTo>
                          <a:pt x="1454" y="364"/>
                        </a:lnTo>
                        <a:lnTo>
                          <a:pt x="1464" y="373"/>
                        </a:lnTo>
                        <a:lnTo>
                          <a:pt x="1468" y="388"/>
                        </a:lnTo>
                        <a:lnTo>
                          <a:pt x="1478" y="397"/>
                        </a:lnTo>
                        <a:lnTo>
                          <a:pt x="1483" y="412"/>
                        </a:lnTo>
                        <a:lnTo>
                          <a:pt x="1492" y="421"/>
                        </a:lnTo>
                        <a:lnTo>
                          <a:pt x="1497" y="436"/>
                        </a:lnTo>
                        <a:lnTo>
                          <a:pt x="1507" y="445"/>
                        </a:lnTo>
                        <a:lnTo>
                          <a:pt x="1511" y="460"/>
                        </a:lnTo>
                        <a:lnTo>
                          <a:pt x="1516" y="469"/>
                        </a:lnTo>
                        <a:lnTo>
                          <a:pt x="1526" y="484"/>
                        </a:lnTo>
                        <a:lnTo>
                          <a:pt x="1531" y="493"/>
                        </a:lnTo>
                        <a:lnTo>
                          <a:pt x="1535" y="507"/>
                        </a:lnTo>
                        <a:lnTo>
                          <a:pt x="1540" y="517"/>
                        </a:lnTo>
                        <a:lnTo>
                          <a:pt x="1550" y="531"/>
                        </a:lnTo>
                        <a:lnTo>
                          <a:pt x="1555" y="541"/>
                        </a:lnTo>
                        <a:lnTo>
                          <a:pt x="1559" y="555"/>
                        </a:lnTo>
                        <a:lnTo>
                          <a:pt x="1564" y="565"/>
                        </a:lnTo>
                        <a:lnTo>
                          <a:pt x="1569" y="579"/>
                        </a:lnTo>
                        <a:lnTo>
                          <a:pt x="1574" y="589"/>
                        </a:lnTo>
                        <a:lnTo>
                          <a:pt x="1574" y="598"/>
                        </a:lnTo>
                        <a:lnTo>
                          <a:pt x="1579" y="613"/>
                        </a:lnTo>
                        <a:lnTo>
                          <a:pt x="1583" y="622"/>
                        </a:lnTo>
                        <a:lnTo>
                          <a:pt x="1583" y="637"/>
                        </a:lnTo>
                        <a:lnTo>
                          <a:pt x="1588" y="651"/>
                        </a:lnTo>
                        <a:lnTo>
                          <a:pt x="1588" y="661"/>
                        </a:lnTo>
                        <a:lnTo>
                          <a:pt x="1593" y="675"/>
                        </a:lnTo>
                        <a:lnTo>
                          <a:pt x="1593" y="689"/>
                        </a:lnTo>
                        <a:lnTo>
                          <a:pt x="1598" y="699"/>
                        </a:lnTo>
                        <a:lnTo>
                          <a:pt x="1598" y="713"/>
                        </a:lnTo>
                        <a:lnTo>
                          <a:pt x="1598" y="728"/>
                        </a:lnTo>
                        <a:lnTo>
                          <a:pt x="1603" y="737"/>
                        </a:lnTo>
                        <a:lnTo>
                          <a:pt x="1603" y="752"/>
                        </a:lnTo>
                        <a:lnTo>
                          <a:pt x="1603" y="766"/>
                        </a:lnTo>
                        <a:lnTo>
                          <a:pt x="1603" y="776"/>
                        </a:lnTo>
                        <a:lnTo>
                          <a:pt x="1603" y="790"/>
                        </a:lnTo>
                        <a:lnTo>
                          <a:pt x="1607" y="804"/>
                        </a:lnTo>
                        <a:lnTo>
                          <a:pt x="1607" y="819"/>
                        </a:lnTo>
                        <a:lnTo>
                          <a:pt x="1607" y="828"/>
                        </a:lnTo>
                        <a:lnTo>
                          <a:pt x="1603" y="843"/>
                        </a:lnTo>
                        <a:lnTo>
                          <a:pt x="1603" y="857"/>
                        </a:lnTo>
                        <a:lnTo>
                          <a:pt x="1603" y="867"/>
                        </a:lnTo>
                        <a:lnTo>
                          <a:pt x="1603" y="881"/>
                        </a:lnTo>
                        <a:lnTo>
                          <a:pt x="1598" y="895"/>
                        </a:lnTo>
                        <a:lnTo>
                          <a:pt x="1598" y="905"/>
                        </a:lnTo>
                        <a:lnTo>
                          <a:pt x="1593" y="919"/>
                        </a:lnTo>
                        <a:lnTo>
                          <a:pt x="1593" y="929"/>
                        </a:lnTo>
                        <a:lnTo>
                          <a:pt x="1588" y="943"/>
                        </a:lnTo>
                        <a:lnTo>
                          <a:pt x="1583" y="953"/>
                        </a:lnTo>
                        <a:lnTo>
                          <a:pt x="1583" y="967"/>
                        </a:lnTo>
                        <a:lnTo>
                          <a:pt x="1564" y="991"/>
                        </a:lnTo>
                        <a:lnTo>
                          <a:pt x="1559" y="986"/>
                        </a:lnTo>
                        <a:lnTo>
                          <a:pt x="1555" y="982"/>
                        </a:lnTo>
                        <a:lnTo>
                          <a:pt x="1555" y="977"/>
                        </a:lnTo>
                        <a:lnTo>
                          <a:pt x="1550" y="972"/>
                        </a:lnTo>
                        <a:lnTo>
                          <a:pt x="1545" y="972"/>
                        </a:lnTo>
                        <a:lnTo>
                          <a:pt x="1540" y="967"/>
                        </a:lnTo>
                        <a:lnTo>
                          <a:pt x="1535" y="962"/>
                        </a:lnTo>
                        <a:lnTo>
                          <a:pt x="1531" y="962"/>
                        </a:lnTo>
                        <a:lnTo>
                          <a:pt x="1526" y="958"/>
                        </a:lnTo>
                        <a:lnTo>
                          <a:pt x="1521" y="958"/>
                        </a:lnTo>
                        <a:lnTo>
                          <a:pt x="1516" y="953"/>
                        </a:lnTo>
                        <a:lnTo>
                          <a:pt x="1511" y="953"/>
                        </a:lnTo>
                        <a:lnTo>
                          <a:pt x="1507" y="948"/>
                        </a:lnTo>
                        <a:lnTo>
                          <a:pt x="1502" y="948"/>
                        </a:lnTo>
                        <a:lnTo>
                          <a:pt x="1497" y="948"/>
                        </a:lnTo>
                        <a:lnTo>
                          <a:pt x="1492" y="943"/>
                        </a:lnTo>
                        <a:lnTo>
                          <a:pt x="1487" y="943"/>
                        </a:lnTo>
                        <a:lnTo>
                          <a:pt x="1483" y="943"/>
                        </a:lnTo>
                        <a:lnTo>
                          <a:pt x="1478" y="943"/>
                        </a:lnTo>
                        <a:lnTo>
                          <a:pt x="1473" y="938"/>
                        </a:lnTo>
                        <a:lnTo>
                          <a:pt x="1468" y="938"/>
                        </a:lnTo>
                        <a:lnTo>
                          <a:pt x="1464" y="938"/>
                        </a:lnTo>
                        <a:lnTo>
                          <a:pt x="1459" y="938"/>
                        </a:lnTo>
                        <a:lnTo>
                          <a:pt x="1454" y="938"/>
                        </a:lnTo>
                        <a:lnTo>
                          <a:pt x="1444" y="938"/>
                        </a:lnTo>
                        <a:lnTo>
                          <a:pt x="1440" y="938"/>
                        </a:lnTo>
                        <a:lnTo>
                          <a:pt x="1435" y="938"/>
                        </a:lnTo>
                        <a:lnTo>
                          <a:pt x="1430" y="938"/>
                        </a:lnTo>
                        <a:lnTo>
                          <a:pt x="1425" y="938"/>
                        </a:lnTo>
                        <a:lnTo>
                          <a:pt x="1420" y="943"/>
                        </a:lnTo>
                        <a:lnTo>
                          <a:pt x="1416" y="943"/>
                        </a:lnTo>
                        <a:lnTo>
                          <a:pt x="1411" y="943"/>
                        </a:lnTo>
                        <a:lnTo>
                          <a:pt x="1406" y="948"/>
                        </a:lnTo>
                        <a:lnTo>
                          <a:pt x="1401" y="948"/>
                        </a:lnTo>
                        <a:lnTo>
                          <a:pt x="1396" y="948"/>
                        </a:lnTo>
                        <a:lnTo>
                          <a:pt x="1392" y="953"/>
                        </a:lnTo>
                        <a:lnTo>
                          <a:pt x="1387" y="953"/>
                        </a:lnTo>
                        <a:lnTo>
                          <a:pt x="1382" y="958"/>
                        </a:lnTo>
                        <a:lnTo>
                          <a:pt x="1377" y="962"/>
                        </a:lnTo>
                        <a:lnTo>
                          <a:pt x="1372" y="962"/>
                        </a:lnTo>
                        <a:lnTo>
                          <a:pt x="1368" y="967"/>
                        </a:lnTo>
                        <a:lnTo>
                          <a:pt x="1363" y="967"/>
                        </a:lnTo>
                        <a:lnTo>
                          <a:pt x="1358" y="972"/>
                        </a:lnTo>
                        <a:lnTo>
                          <a:pt x="1358" y="977"/>
                        </a:lnTo>
                        <a:lnTo>
                          <a:pt x="1353" y="977"/>
                        </a:lnTo>
                        <a:lnTo>
                          <a:pt x="1348" y="982"/>
                        </a:lnTo>
                        <a:lnTo>
                          <a:pt x="1344" y="986"/>
                        </a:lnTo>
                        <a:lnTo>
                          <a:pt x="1339" y="986"/>
                        </a:lnTo>
                        <a:lnTo>
                          <a:pt x="1339" y="991"/>
                        </a:lnTo>
                        <a:lnTo>
                          <a:pt x="1334" y="996"/>
                        </a:lnTo>
                        <a:lnTo>
                          <a:pt x="1329" y="1001"/>
                        </a:lnTo>
                        <a:lnTo>
                          <a:pt x="1324" y="1005"/>
                        </a:lnTo>
                        <a:lnTo>
                          <a:pt x="1320" y="1010"/>
                        </a:lnTo>
                        <a:lnTo>
                          <a:pt x="1315" y="1015"/>
                        </a:lnTo>
                        <a:lnTo>
                          <a:pt x="1315" y="1020"/>
                        </a:lnTo>
                        <a:lnTo>
                          <a:pt x="1310" y="1025"/>
                        </a:lnTo>
                        <a:lnTo>
                          <a:pt x="1305" y="1029"/>
                        </a:lnTo>
                        <a:lnTo>
                          <a:pt x="1305" y="1034"/>
                        </a:lnTo>
                        <a:lnTo>
                          <a:pt x="1300" y="1039"/>
                        </a:lnTo>
                        <a:lnTo>
                          <a:pt x="1300" y="1044"/>
                        </a:lnTo>
                        <a:lnTo>
                          <a:pt x="1296" y="1049"/>
                        </a:lnTo>
                        <a:lnTo>
                          <a:pt x="1296" y="1053"/>
                        </a:lnTo>
                        <a:lnTo>
                          <a:pt x="1296" y="1058"/>
                        </a:lnTo>
                        <a:lnTo>
                          <a:pt x="1291" y="1053"/>
                        </a:lnTo>
                        <a:lnTo>
                          <a:pt x="1291" y="1049"/>
                        </a:lnTo>
                        <a:lnTo>
                          <a:pt x="1291" y="1044"/>
                        </a:lnTo>
                        <a:lnTo>
                          <a:pt x="1291" y="1039"/>
                        </a:lnTo>
                        <a:lnTo>
                          <a:pt x="1286" y="1034"/>
                        </a:lnTo>
                        <a:lnTo>
                          <a:pt x="1286" y="1029"/>
                        </a:lnTo>
                        <a:lnTo>
                          <a:pt x="1286" y="1025"/>
                        </a:lnTo>
                        <a:lnTo>
                          <a:pt x="1286" y="1020"/>
                        </a:lnTo>
                        <a:lnTo>
                          <a:pt x="1281" y="1020"/>
                        </a:lnTo>
                        <a:lnTo>
                          <a:pt x="1281" y="1015"/>
                        </a:lnTo>
                        <a:lnTo>
                          <a:pt x="1281" y="1010"/>
                        </a:lnTo>
                        <a:lnTo>
                          <a:pt x="1276" y="1005"/>
                        </a:lnTo>
                        <a:lnTo>
                          <a:pt x="1276" y="1001"/>
                        </a:lnTo>
                        <a:lnTo>
                          <a:pt x="1272" y="996"/>
                        </a:lnTo>
                        <a:lnTo>
                          <a:pt x="1272" y="991"/>
                        </a:lnTo>
                        <a:lnTo>
                          <a:pt x="1272" y="986"/>
                        </a:lnTo>
                        <a:lnTo>
                          <a:pt x="1267" y="986"/>
                        </a:lnTo>
                        <a:lnTo>
                          <a:pt x="1267" y="982"/>
                        </a:lnTo>
                        <a:lnTo>
                          <a:pt x="1262" y="977"/>
                        </a:lnTo>
                        <a:lnTo>
                          <a:pt x="1262" y="972"/>
                        </a:lnTo>
                        <a:lnTo>
                          <a:pt x="1257" y="967"/>
                        </a:lnTo>
                        <a:lnTo>
                          <a:pt x="1257" y="962"/>
                        </a:lnTo>
                        <a:lnTo>
                          <a:pt x="1257" y="958"/>
                        </a:lnTo>
                        <a:lnTo>
                          <a:pt x="1252" y="958"/>
                        </a:lnTo>
                        <a:lnTo>
                          <a:pt x="1252" y="953"/>
                        </a:lnTo>
                        <a:lnTo>
                          <a:pt x="1248" y="948"/>
                        </a:lnTo>
                        <a:lnTo>
                          <a:pt x="1248" y="943"/>
                        </a:lnTo>
                        <a:lnTo>
                          <a:pt x="1243" y="938"/>
                        </a:lnTo>
                        <a:lnTo>
                          <a:pt x="1243" y="934"/>
                        </a:lnTo>
                        <a:lnTo>
                          <a:pt x="1238" y="929"/>
                        </a:lnTo>
                        <a:lnTo>
                          <a:pt x="1238" y="924"/>
                        </a:lnTo>
                        <a:lnTo>
                          <a:pt x="1233" y="919"/>
                        </a:lnTo>
                        <a:lnTo>
                          <a:pt x="1228" y="919"/>
                        </a:lnTo>
                        <a:lnTo>
                          <a:pt x="1228" y="914"/>
                        </a:lnTo>
                        <a:lnTo>
                          <a:pt x="1224" y="914"/>
                        </a:lnTo>
                        <a:lnTo>
                          <a:pt x="1219" y="914"/>
                        </a:lnTo>
                        <a:lnTo>
                          <a:pt x="1214" y="914"/>
                        </a:lnTo>
                        <a:lnTo>
                          <a:pt x="1214" y="919"/>
                        </a:lnTo>
                        <a:lnTo>
                          <a:pt x="1209" y="919"/>
                        </a:lnTo>
                        <a:lnTo>
                          <a:pt x="1204" y="919"/>
                        </a:lnTo>
                        <a:lnTo>
                          <a:pt x="1200" y="919"/>
                        </a:lnTo>
                        <a:lnTo>
                          <a:pt x="1200" y="914"/>
                        </a:lnTo>
                        <a:lnTo>
                          <a:pt x="1195" y="914"/>
                        </a:lnTo>
                        <a:lnTo>
                          <a:pt x="1195" y="910"/>
                        </a:lnTo>
                        <a:lnTo>
                          <a:pt x="1180" y="910"/>
                        </a:lnTo>
                        <a:lnTo>
                          <a:pt x="1166" y="905"/>
                        </a:lnTo>
                        <a:lnTo>
                          <a:pt x="1156" y="905"/>
                        </a:lnTo>
                        <a:lnTo>
                          <a:pt x="1142" y="900"/>
                        </a:lnTo>
                        <a:lnTo>
                          <a:pt x="1128" y="895"/>
                        </a:lnTo>
                        <a:lnTo>
                          <a:pt x="1118" y="895"/>
                        </a:lnTo>
                        <a:lnTo>
                          <a:pt x="1104" y="891"/>
                        </a:lnTo>
                        <a:lnTo>
                          <a:pt x="1089" y="886"/>
                        </a:lnTo>
                        <a:lnTo>
                          <a:pt x="1075" y="881"/>
                        </a:lnTo>
                        <a:lnTo>
                          <a:pt x="1065" y="876"/>
                        </a:lnTo>
                        <a:lnTo>
                          <a:pt x="1051" y="871"/>
                        </a:lnTo>
                        <a:lnTo>
                          <a:pt x="1037" y="871"/>
                        </a:lnTo>
                        <a:lnTo>
                          <a:pt x="1027" y="867"/>
                        </a:lnTo>
                        <a:lnTo>
                          <a:pt x="1013" y="857"/>
                        </a:lnTo>
                        <a:lnTo>
                          <a:pt x="998" y="852"/>
                        </a:lnTo>
                        <a:lnTo>
                          <a:pt x="989" y="847"/>
                        </a:lnTo>
                        <a:lnTo>
                          <a:pt x="974" y="843"/>
                        </a:lnTo>
                        <a:lnTo>
                          <a:pt x="965" y="838"/>
                        </a:lnTo>
                        <a:lnTo>
                          <a:pt x="950" y="828"/>
                        </a:lnTo>
                        <a:lnTo>
                          <a:pt x="941" y="824"/>
                        </a:lnTo>
                        <a:lnTo>
                          <a:pt x="931" y="814"/>
                        </a:lnTo>
                        <a:lnTo>
                          <a:pt x="917" y="809"/>
                        </a:lnTo>
                        <a:lnTo>
                          <a:pt x="907" y="800"/>
                        </a:lnTo>
                        <a:lnTo>
                          <a:pt x="897" y="790"/>
                        </a:lnTo>
                        <a:lnTo>
                          <a:pt x="888" y="780"/>
                        </a:lnTo>
                        <a:lnTo>
                          <a:pt x="878" y="771"/>
                        </a:lnTo>
                        <a:lnTo>
                          <a:pt x="869" y="761"/>
                        </a:lnTo>
                        <a:lnTo>
                          <a:pt x="859" y="752"/>
                        </a:lnTo>
                        <a:lnTo>
                          <a:pt x="849" y="742"/>
                        </a:lnTo>
                        <a:lnTo>
                          <a:pt x="840" y="733"/>
                        </a:lnTo>
                        <a:lnTo>
                          <a:pt x="835" y="718"/>
                        </a:lnTo>
                        <a:lnTo>
                          <a:pt x="825" y="709"/>
                        </a:lnTo>
                        <a:lnTo>
                          <a:pt x="825" y="704"/>
                        </a:lnTo>
                        <a:lnTo>
                          <a:pt x="825" y="699"/>
                        </a:lnTo>
                        <a:lnTo>
                          <a:pt x="821" y="699"/>
                        </a:lnTo>
                        <a:lnTo>
                          <a:pt x="821" y="694"/>
                        </a:lnTo>
                        <a:lnTo>
                          <a:pt x="816" y="689"/>
                        </a:lnTo>
                        <a:lnTo>
                          <a:pt x="816" y="685"/>
                        </a:lnTo>
                        <a:lnTo>
                          <a:pt x="811" y="680"/>
                        </a:lnTo>
                        <a:lnTo>
                          <a:pt x="811" y="675"/>
                        </a:lnTo>
                        <a:lnTo>
                          <a:pt x="806" y="675"/>
                        </a:lnTo>
                        <a:lnTo>
                          <a:pt x="806" y="670"/>
                        </a:lnTo>
                        <a:lnTo>
                          <a:pt x="806" y="666"/>
                        </a:lnTo>
                        <a:lnTo>
                          <a:pt x="802" y="666"/>
                        </a:lnTo>
                        <a:lnTo>
                          <a:pt x="802" y="661"/>
                        </a:lnTo>
                        <a:lnTo>
                          <a:pt x="797" y="656"/>
                        </a:lnTo>
                        <a:lnTo>
                          <a:pt x="797" y="651"/>
                        </a:lnTo>
                        <a:lnTo>
                          <a:pt x="792" y="646"/>
                        </a:lnTo>
                        <a:lnTo>
                          <a:pt x="792" y="642"/>
                        </a:lnTo>
                        <a:lnTo>
                          <a:pt x="787" y="637"/>
                        </a:lnTo>
                        <a:lnTo>
                          <a:pt x="787" y="632"/>
                        </a:lnTo>
                        <a:lnTo>
                          <a:pt x="782" y="627"/>
                        </a:lnTo>
                        <a:lnTo>
                          <a:pt x="782" y="622"/>
                        </a:lnTo>
                        <a:lnTo>
                          <a:pt x="782" y="618"/>
                        </a:lnTo>
                        <a:lnTo>
                          <a:pt x="778" y="618"/>
                        </a:lnTo>
                        <a:lnTo>
                          <a:pt x="778" y="613"/>
                        </a:lnTo>
                        <a:lnTo>
                          <a:pt x="778" y="608"/>
                        </a:lnTo>
                        <a:lnTo>
                          <a:pt x="778" y="603"/>
                        </a:lnTo>
                        <a:lnTo>
                          <a:pt x="778" y="598"/>
                        </a:lnTo>
                        <a:lnTo>
                          <a:pt x="773" y="594"/>
                        </a:lnTo>
                        <a:lnTo>
                          <a:pt x="773" y="589"/>
                        </a:lnTo>
                        <a:lnTo>
                          <a:pt x="768" y="589"/>
                        </a:lnTo>
                        <a:lnTo>
                          <a:pt x="768" y="584"/>
                        </a:lnTo>
                        <a:lnTo>
                          <a:pt x="763" y="584"/>
                        </a:lnTo>
                        <a:lnTo>
                          <a:pt x="758" y="584"/>
                        </a:lnTo>
                        <a:lnTo>
                          <a:pt x="754" y="584"/>
                        </a:lnTo>
                        <a:lnTo>
                          <a:pt x="749" y="584"/>
                        </a:lnTo>
                        <a:lnTo>
                          <a:pt x="744" y="584"/>
                        </a:lnTo>
                        <a:lnTo>
                          <a:pt x="739" y="584"/>
                        </a:lnTo>
                        <a:lnTo>
                          <a:pt x="734" y="584"/>
                        </a:lnTo>
                        <a:lnTo>
                          <a:pt x="730" y="584"/>
                        </a:lnTo>
                        <a:lnTo>
                          <a:pt x="725" y="584"/>
                        </a:lnTo>
                        <a:lnTo>
                          <a:pt x="720" y="589"/>
                        </a:lnTo>
                        <a:lnTo>
                          <a:pt x="720" y="594"/>
                        </a:lnTo>
                        <a:lnTo>
                          <a:pt x="715" y="594"/>
                        </a:lnTo>
                        <a:lnTo>
                          <a:pt x="715" y="598"/>
                        </a:lnTo>
                        <a:lnTo>
                          <a:pt x="710" y="598"/>
                        </a:lnTo>
                        <a:lnTo>
                          <a:pt x="710" y="603"/>
                        </a:lnTo>
                        <a:lnTo>
                          <a:pt x="706" y="608"/>
                        </a:lnTo>
                        <a:lnTo>
                          <a:pt x="706" y="613"/>
                        </a:lnTo>
                        <a:lnTo>
                          <a:pt x="706" y="618"/>
                        </a:lnTo>
                        <a:lnTo>
                          <a:pt x="706" y="622"/>
                        </a:lnTo>
                        <a:lnTo>
                          <a:pt x="701" y="627"/>
                        </a:lnTo>
                        <a:lnTo>
                          <a:pt x="701" y="632"/>
                        </a:lnTo>
                        <a:lnTo>
                          <a:pt x="701" y="637"/>
                        </a:lnTo>
                        <a:lnTo>
                          <a:pt x="701" y="642"/>
                        </a:lnTo>
                        <a:lnTo>
                          <a:pt x="701" y="646"/>
                        </a:lnTo>
                        <a:lnTo>
                          <a:pt x="701" y="651"/>
                        </a:lnTo>
                        <a:lnTo>
                          <a:pt x="701" y="656"/>
                        </a:lnTo>
                        <a:lnTo>
                          <a:pt x="696" y="656"/>
                        </a:lnTo>
                        <a:lnTo>
                          <a:pt x="696" y="661"/>
                        </a:lnTo>
                        <a:lnTo>
                          <a:pt x="696" y="666"/>
                        </a:lnTo>
                        <a:lnTo>
                          <a:pt x="696" y="670"/>
                        </a:lnTo>
                        <a:lnTo>
                          <a:pt x="696" y="675"/>
                        </a:lnTo>
                        <a:lnTo>
                          <a:pt x="696" y="680"/>
                        </a:lnTo>
                        <a:lnTo>
                          <a:pt x="696" y="685"/>
                        </a:lnTo>
                        <a:lnTo>
                          <a:pt x="696" y="689"/>
                        </a:lnTo>
                        <a:lnTo>
                          <a:pt x="696" y="694"/>
                        </a:lnTo>
                        <a:lnTo>
                          <a:pt x="696" y="699"/>
                        </a:lnTo>
                        <a:lnTo>
                          <a:pt x="696" y="704"/>
                        </a:lnTo>
                        <a:lnTo>
                          <a:pt x="696" y="709"/>
                        </a:lnTo>
                        <a:lnTo>
                          <a:pt x="696" y="713"/>
                        </a:lnTo>
                        <a:lnTo>
                          <a:pt x="696" y="718"/>
                        </a:lnTo>
                        <a:lnTo>
                          <a:pt x="696" y="723"/>
                        </a:lnTo>
                        <a:lnTo>
                          <a:pt x="696" y="728"/>
                        </a:lnTo>
                        <a:lnTo>
                          <a:pt x="696" y="733"/>
                        </a:lnTo>
                        <a:lnTo>
                          <a:pt x="696" y="737"/>
                        </a:lnTo>
                        <a:lnTo>
                          <a:pt x="696" y="742"/>
                        </a:lnTo>
                        <a:lnTo>
                          <a:pt x="696" y="747"/>
                        </a:lnTo>
                        <a:lnTo>
                          <a:pt x="696" y="752"/>
                        </a:lnTo>
                        <a:lnTo>
                          <a:pt x="696" y="756"/>
                        </a:lnTo>
                        <a:lnTo>
                          <a:pt x="696" y="761"/>
                        </a:lnTo>
                        <a:lnTo>
                          <a:pt x="696" y="766"/>
                        </a:lnTo>
                        <a:lnTo>
                          <a:pt x="696" y="771"/>
                        </a:lnTo>
                        <a:lnTo>
                          <a:pt x="696" y="776"/>
                        </a:lnTo>
                        <a:lnTo>
                          <a:pt x="696" y="780"/>
                        </a:lnTo>
                        <a:lnTo>
                          <a:pt x="701" y="785"/>
                        </a:lnTo>
                        <a:lnTo>
                          <a:pt x="701" y="790"/>
                        </a:lnTo>
                        <a:lnTo>
                          <a:pt x="701" y="795"/>
                        </a:lnTo>
                        <a:lnTo>
                          <a:pt x="701" y="800"/>
                        </a:lnTo>
                        <a:lnTo>
                          <a:pt x="701" y="804"/>
                        </a:lnTo>
                        <a:lnTo>
                          <a:pt x="701" y="809"/>
                        </a:lnTo>
                        <a:lnTo>
                          <a:pt x="701" y="814"/>
                        </a:lnTo>
                        <a:lnTo>
                          <a:pt x="725" y="881"/>
                        </a:lnTo>
                        <a:lnTo>
                          <a:pt x="720" y="881"/>
                        </a:lnTo>
                        <a:lnTo>
                          <a:pt x="715" y="881"/>
                        </a:lnTo>
                        <a:lnTo>
                          <a:pt x="710" y="881"/>
                        </a:lnTo>
                        <a:lnTo>
                          <a:pt x="706" y="881"/>
                        </a:lnTo>
                        <a:lnTo>
                          <a:pt x="701" y="881"/>
                        </a:lnTo>
                        <a:lnTo>
                          <a:pt x="696" y="881"/>
                        </a:lnTo>
                        <a:lnTo>
                          <a:pt x="691" y="881"/>
                        </a:lnTo>
                        <a:lnTo>
                          <a:pt x="691" y="876"/>
                        </a:lnTo>
                        <a:lnTo>
                          <a:pt x="686" y="876"/>
                        </a:lnTo>
                        <a:lnTo>
                          <a:pt x="682" y="876"/>
                        </a:lnTo>
                        <a:lnTo>
                          <a:pt x="677" y="876"/>
                        </a:lnTo>
                        <a:lnTo>
                          <a:pt x="672" y="876"/>
                        </a:lnTo>
                        <a:lnTo>
                          <a:pt x="672" y="871"/>
                        </a:lnTo>
                        <a:lnTo>
                          <a:pt x="667" y="871"/>
                        </a:lnTo>
                        <a:lnTo>
                          <a:pt x="662" y="871"/>
                        </a:lnTo>
                        <a:lnTo>
                          <a:pt x="653" y="867"/>
                        </a:lnTo>
                        <a:lnTo>
                          <a:pt x="648" y="862"/>
                        </a:lnTo>
                        <a:lnTo>
                          <a:pt x="638" y="857"/>
                        </a:lnTo>
                        <a:lnTo>
                          <a:pt x="629" y="852"/>
                        </a:lnTo>
                        <a:lnTo>
                          <a:pt x="624" y="847"/>
                        </a:lnTo>
                        <a:lnTo>
                          <a:pt x="614" y="843"/>
                        </a:lnTo>
                        <a:lnTo>
                          <a:pt x="610" y="838"/>
                        </a:lnTo>
                        <a:lnTo>
                          <a:pt x="605" y="833"/>
                        </a:lnTo>
                        <a:lnTo>
                          <a:pt x="595" y="828"/>
                        </a:lnTo>
                        <a:lnTo>
                          <a:pt x="590" y="824"/>
                        </a:lnTo>
                        <a:lnTo>
                          <a:pt x="581" y="819"/>
                        </a:lnTo>
                        <a:lnTo>
                          <a:pt x="576" y="809"/>
                        </a:lnTo>
                        <a:lnTo>
                          <a:pt x="571" y="804"/>
                        </a:lnTo>
                        <a:lnTo>
                          <a:pt x="566" y="800"/>
                        </a:lnTo>
                        <a:lnTo>
                          <a:pt x="557" y="795"/>
                        </a:lnTo>
                        <a:lnTo>
                          <a:pt x="552" y="785"/>
                        </a:lnTo>
                        <a:lnTo>
                          <a:pt x="547" y="780"/>
                        </a:lnTo>
                        <a:lnTo>
                          <a:pt x="542" y="776"/>
                        </a:lnTo>
                        <a:lnTo>
                          <a:pt x="538" y="766"/>
                        </a:lnTo>
                        <a:lnTo>
                          <a:pt x="533" y="761"/>
                        </a:lnTo>
                        <a:lnTo>
                          <a:pt x="528" y="752"/>
                        </a:lnTo>
                        <a:lnTo>
                          <a:pt x="523" y="747"/>
                        </a:lnTo>
                        <a:lnTo>
                          <a:pt x="518" y="737"/>
                        </a:lnTo>
                        <a:lnTo>
                          <a:pt x="514" y="733"/>
                        </a:lnTo>
                        <a:lnTo>
                          <a:pt x="509" y="723"/>
                        </a:lnTo>
                        <a:lnTo>
                          <a:pt x="504" y="713"/>
                        </a:lnTo>
                        <a:lnTo>
                          <a:pt x="504" y="709"/>
                        </a:lnTo>
                        <a:lnTo>
                          <a:pt x="499" y="699"/>
                        </a:lnTo>
                        <a:lnTo>
                          <a:pt x="494" y="689"/>
                        </a:lnTo>
                        <a:lnTo>
                          <a:pt x="494" y="680"/>
                        </a:lnTo>
                        <a:lnTo>
                          <a:pt x="490" y="670"/>
                        </a:lnTo>
                        <a:lnTo>
                          <a:pt x="490" y="666"/>
                        </a:lnTo>
                        <a:lnTo>
                          <a:pt x="485" y="661"/>
                        </a:lnTo>
                        <a:lnTo>
                          <a:pt x="480" y="661"/>
                        </a:lnTo>
                        <a:lnTo>
                          <a:pt x="480" y="656"/>
                        </a:lnTo>
                        <a:lnTo>
                          <a:pt x="475" y="656"/>
                        </a:lnTo>
                        <a:lnTo>
                          <a:pt x="471" y="656"/>
                        </a:lnTo>
                        <a:lnTo>
                          <a:pt x="466" y="656"/>
                        </a:lnTo>
                        <a:lnTo>
                          <a:pt x="466" y="661"/>
                        </a:lnTo>
                        <a:lnTo>
                          <a:pt x="461" y="661"/>
                        </a:lnTo>
                        <a:lnTo>
                          <a:pt x="456" y="661"/>
                        </a:lnTo>
                        <a:lnTo>
                          <a:pt x="451" y="661"/>
                        </a:lnTo>
                        <a:lnTo>
                          <a:pt x="447" y="661"/>
                        </a:lnTo>
                        <a:lnTo>
                          <a:pt x="447" y="666"/>
                        </a:lnTo>
                        <a:lnTo>
                          <a:pt x="442" y="675"/>
                        </a:lnTo>
                        <a:lnTo>
                          <a:pt x="437" y="680"/>
                        </a:lnTo>
                        <a:lnTo>
                          <a:pt x="437" y="685"/>
                        </a:lnTo>
                        <a:lnTo>
                          <a:pt x="437" y="689"/>
                        </a:lnTo>
                        <a:lnTo>
                          <a:pt x="432" y="699"/>
                        </a:lnTo>
                        <a:lnTo>
                          <a:pt x="432" y="704"/>
                        </a:lnTo>
                        <a:lnTo>
                          <a:pt x="432" y="709"/>
                        </a:lnTo>
                        <a:lnTo>
                          <a:pt x="427" y="713"/>
                        </a:lnTo>
                        <a:lnTo>
                          <a:pt x="427" y="723"/>
                        </a:lnTo>
                        <a:lnTo>
                          <a:pt x="427" y="728"/>
                        </a:lnTo>
                        <a:lnTo>
                          <a:pt x="427" y="733"/>
                        </a:lnTo>
                        <a:lnTo>
                          <a:pt x="427" y="742"/>
                        </a:lnTo>
                        <a:lnTo>
                          <a:pt x="427" y="747"/>
                        </a:lnTo>
                        <a:lnTo>
                          <a:pt x="427" y="752"/>
                        </a:lnTo>
                        <a:lnTo>
                          <a:pt x="427" y="761"/>
                        </a:lnTo>
                        <a:lnTo>
                          <a:pt x="427" y="766"/>
                        </a:lnTo>
                        <a:lnTo>
                          <a:pt x="427" y="771"/>
                        </a:lnTo>
                        <a:lnTo>
                          <a:pt x="427" y="780"/>
                        </a:lnTo>
                        <a:lnTo>
                          <a:pt x="427" y="785"/>
                        </a:lnTo>
                        <a:lnTo>
                          <a:pt x="427" y="795"/>
                        </a:lnTo>
                        <a:lnTo>
                          <a:pt x="427" y="800"/>
                        </a:lnTo>
                        <a:lnTo>
                          <a:pt x="427" y="804"/>
                        </a:lnTo>
                        <a:lnTo>
                          <a:pt x="427" y="814"/>
                        </a:lnTo>
                        <a:lnTo>
                          <a:pt x="427" y="819"/>
                        </a:lnTo>
                        <a:lnTo>
                          <a:pt x="427" y="824"/>
                        </a:lnTo>
                        <a:lnTo>
                          <a:pt x="427" y="833"/>
                        </a:lnTo>
                        <a:lnTo>
                          <a:pt x="432" y="838"/>
                        </a:lnTo>
                        <a:lnTo>
                          <a:pt x="432" y="847"/>
                        </a:lnTo>
                        <a:lnTo>
                          <a:pt x="432" y="852"/>
                        </a:lnTo>
                        <a:lnTo>
                          <a:pt x="432" y="857"/>
                        </a:lnTo>
                        <a:lnTo>
                          <a:pt x="432" y="867"/>
                        </a:lnTo>
                        <a:lnTo>
                          <a:pt x="432" y="871"/>
                        </a:lnTo>
                        <a:lnTo>
                          <a:pt x="432" y="876"/>
                        </a:lnTo>
                        <a:lnTo>
                          <a:pt x="432" y="881"/>
                        </a:lnTo>
                        <a:lnTo>
                          <a:pt x="432" y="886"/>
                        </a:lnTo>
                        <a:lnTo>
                          <a:pt x="437" y="886"/>
                        </a:lnTo>
                        <a:lnTo>
                          <a:pt x="437" y="891"/>
                        </a:lnTo>
                        <a:lnTo>
                          <a:pt x="437" y="895"/>
                        </a:lnTo>
                        <a:lnTo>
                          <a:pt x="437" y="900"/>
                        </a:lnTo>
                        <a:lnTo>
                          <a:pt x="437" y="905"/>
                        </a:lnTo>
                        <a:lnTo>
                          <a:pt x="442" y="910"/>
                        </a:lnTo>
                        <a:lnTo>
                          <a:pt x="442" y="914"/>
                        </a:lnTo>
                        <a:lnTo>
                          <a:pt x="442" y="919"/>
                        </a:lnTo>
                        <a:lnTo>
                          <a:pt x="442" y="924"/>
                        </a:lnTo>
                        <a:lnTo>
                          <a:pt x="442" y="929"/>
                        </a:lnTo>
                        <a:lnTo>
                          <a:pt x="447" y="929"/>
                        </a:lnTo>
                        <a:lnTo>
                          <a:pt x="447" y="934"/>
                        </a:lnTo>
                        <a:lnTo>
                          <a:pt x="447" y="938"/>
                        </a:lnTo>
                        <a:lnTo>
                          <a:pt x="447" y="943"/>
                        </a:lnTo>
                        <a:lnTo>
                          <a:pt x="451" y="948"/>
                        </a:lnTo>
                        <a:lnTo>
                          <a:pt x="451" y="953"/>
                        </a:lnTo>
                        <a:lnTo>
                          <a:pt x="451" y="958"/>
                        </a:lnTo>
                        <a:lnTo>
                          <a:pt x="447" y="958"/>
                        </a:lnTo>
                        <a:lnTo>
                          <a:pt x="437" y="953"/>
                        </a:lnTo>
                        <a:lnTo>
                          <a:pt x="432" y="953"/>
                        </a:lnTo>
                        <a:lnTo>
                          <a:pt x="423" y="948"/>
                        </a:lnTo>
                        <a:lnTo>
                          <a:pt x="418" y="948"/>
                        </a:lnTo>
                        <a:lnTo>
                          <a:pt x="408" y="943"/>
                        </a:lnTo>
                        <a:lnTo>
                          <a:pt x="403" y="938"/>
                        </a:lnTo>
                        <a:lnTo>
                          <a:pt x="394" y="938"/>
                        </a:lnTo>
                        <a:lnTo>
                          <a:pt x="389" y="934"/>
                        </a:lnTo>
                        <a:lnTo>
                          <a:pt x="379" y="929"/>
                        </a:lnTo>
                        <a:lnTo>
                          <a:pt x="375" y="929"/>
                        </a:lnTo>
                        <a:lnTo>
                          <a:pt x="365" y="924"/>
                        </a:lnTo>
                        <a:lnTo>
                          <a:pt x="360" y="919"/>
                        </a:lnTo>
                        <a:lnTo>
                          <a:pt x="351" y="914"/>
                        </a:lnTo>
                        <a:lnTo>
                          <a:pt x="346" y="910"/>
                        </a:lnTo>
                        <a:lnTo>
                          <a:pt x="336" y="905"/>
                        </a:lnTo>
                        <a:lnTo>
                          <a:pt x="331" y="900"/>
                        </a:lnTo>
                        <a:lnTo>
                          <a:pt x="322" y="895"/>
                        </a:lnTo>
                        <a:lnTo>
                          <a:pt x="317" y="891"/>
                        </a:lnTo>
                        <a:lnTo>
                          <a:pt x="312" y="886"/>
                        </a:lnTo>
                        <a:lnTo>
                          <a:pt x="307" y="881"/>
                        </a:lnTo>
                        <a:lnTo>
                          <a:pt x="303" y="876"/>
                        </a:lnTo>
                        <a:lnTo>
                          <a:pt x="293" y="867"/>
                        </a:lnTo>
                        <a:lnTo>
                          <a:pt x="288" y="862"/>
                        </a:lnTo>
                        <a:lnTo>
                          <a:pt x="283" y="857"/>
                        </a:lnTo>
                        <a:lnTo>
                          <a:pt x="279" y="847"/>
                        </a:lnTo>
                        <a:lnTo>
                          <a:pt x="279" y="843"/>
                        </a:lnTo>
                        <a:lnTo>
                          <a:pt x="274" y="838"/>
                        </a:lnTo>
                        <a:lnTo>
                          <a:pt x="269" y="828"/>
                        </a:lnTo>
                        <a:lnTo>
                          <a:pt x="269" y="819"/>
                        </a:lnTo>
                        <a:lnTo>
                          <a:pt x="264" y="814"/>
                        </a:lnTo>
                        <a:lnTo>
                          <a:pt x="264" y="804"/>
                        </a:lnTo>
                        <a:lnTo>
                          <a:pt x="259" y="800"/>
                        </a:lnTo>
                        <a:lnTo>
                          <a:pt x="259" y="795"/>
                        </a:lnTo>
                        <a:lnTo>
                          <a:pt x="259" y="790"/>
                        </a:lnTo>
                        <a:lnTo>
                          <a:pt x="255" y="785"/>
                        </a:lnTo>
                        <a:lnTo>
                          <a:pt x="255" y="780"/>
                        </a:lnTo>
                        <a:lnTo>
                          <a:pt x="255" y="776"/>
                        </a:lnTo>
                        <a:lnTo>
                          <a:pt x="255" y="771"/>
                        </a:lnTo>
                        <a:lnTo>
                          <a:pt x="255" y="766"/>
                        </a:lnTo>
                        <a:lnTo>
                          <a:pt x="255" y="761"/>
                        </a:lnTo>
                        <a:lnTo>
                          <a:pt x="255" y="756"/>
                        </a:lnTo>
                        <a:lnTo>
                          <a:pt x="255" y="752"/>
                        </a:lnTo>
                        <a:lnTo>
                          <a:pt x="255" y="747"/>
                        </a:lnTo>
                        <a:lnTo>
                          <a:pt x="255" y="742"/>
                        </a:lnTo>
                        <a:lnTo>
                          <a:pt x="255" y="737"/>
                        </a:lnTo>
                        <a:lnTo>
                          <a:pt x="250" y="737"/>
                        </a:lnTo>
                        <a:lnTo>
                          <a:pt x="250" y="733"/>
                        </a:lnTo>
                        <a:lnTo>
                          <a:pt x="250" y="728"/>
                        </a:lnTo>
                        <a:lnTo>
                          <a:pt x="245" y="728"/>
                        </a:lnTo>
                        <a:lnTo>
                          <a:pt x="245" y="723"/>
                        </a:lnTo>
                        <a:lnTo>
                          <a:pt x="240" y="718"/>
                        </a:lnTo>
                        <a:lnTo>
                          <a:pt x="235" y="713"/>
                        </a:lnTo>
                        <a:lnTo>
                          <a:pt x="231" y="713"/>
                        </a:lnTo>
                        <a:lnTo>
                          <a:pt x="226" y="713"/>
                        </a:lnTo>
                        <a:lnTo>
                          <a:pt x="226" y="718"/>
                        </a:lnTo>
                        <a:lnTo>
                          <a:pt x="221" y="718"/>
                        </a:lnTo>
                        <a:lnTo>
                          <a:pt x="221" y="723"/>
                        </a:lnTo>
                        <a:lnTo>
                          <a:pt x="216" y="723"/>
                        </a:lnTo>
                        <a:lnTo>
                          <a:pt x="216" y="728"/>
                        </a:lnTo>
                        <a:lnTo>
                          <a:pt x="211" y="728"/>
                        </a:lnTo>
                        <a:lnTo>
                          <a:pt x="211" y="733"/>
                        </a:lnTo>
                        <a:lnTo>
                          <a:pt x="207" y="737"/>
                        </a:lnTo>
                        <a:lnTo>
                          <a:pt x="207" y="742"/>
                        </a:lnTo>
                        <a:lnTo>
                          <a:pt x="207" y="747"/>
                        </a:lnTo>
                        <a:lnTo>
                          <a:pt x="202" y="752"/>
                        </a:lnTo>
                        <a:lnTo>
                          <a:pt x="202" y="756"/>
                        </a:lnTo>
                        <a:lnTo>
                          <a:pt x="202" y="761"/>
                        </a:lnTo>
                        <a:lnTo>
                          <a:pt x="202" y="766"/>
                        </a:lnTo>
                        <a:lnTo>
                          <a:pt x="202" y="771"/>
                        </a:lnTo>
                        <a:lnTo>
                          <a:pt x="197" y="771"/>
                        </a:lnTo>
                        <a:lnTo>
                          <a:pt x="197" y="776"/>
                        </a:lnTo>
                        <a:lnTo>
                          <a:pt x="197" y="780"/>
                        </a:lnTo>
                        <a:lnTo>
                          <a:pt x="197" y="785"/>
                        </a:lnTo>
                        <a:lnTo>
                          <a:pt x="197" y="790"/>
                        </a:lnTo>
                        <a:lnTo>
                          <a:pt x="197" y="795"/>
                        </a:lnTo>
                        <a:lnTo>
                          <a:pt x="192" y="795"/>
                        </a:lnTo>
                        <a:lnTo>
                          <a:pt x="192" y="800"/>
                        </a:lnTo>
                        <a:lnTo>
                          <a:pt x="192" y="804"/>
                        </a:lnTo>
                        <a:lnTo>
                          <a:pt x="192" y="809"/>
                        </a:lnTo>
                        <a:lnTo>
                          <a:pt x="187" y="819"/>
                        </a:lnTo>
                        <a:lnTo>
                          <a:pt x="187" y="828"/>
                        </a:lnTo>
                        <a:lnTo>
                          <a:pt x="187" y="838"/>
                        </a:lnTo>
                        <a:lnTo>
                          <a:pt x="183" y="847"/>
                        </a:lnTo>
                        <a:lnTo>
                          <a:pt x="183" y="852"/>
                        </a:lnTo>
                        <a:lnTo>
                          <a:pt x="183" y="862"/>
                        </a:lnTo>
                        <a:lnTo>
                          <a:pt x="183" y="871"/>
                        </a:lnTo>
                        <a:lnTo>
                          <a:pt x="183" y="881"/>
                        </a:lnTo>
                        <a:lnTo>
                          <a:pt x="183" y="891"/>
                        </a:lnTo>
                        <a:lnTo>
                          <a:pt x="183" y="895"/>
                        </a:lnTo>
                        <a:lnTo>
                          <a:pt x="183" y="905"/>
                        </a:lnTo>
                        <a:lnTo>
                          <a:pt x="183" y="914"/>
                        </a:lnTo>
                        <a:lnTo>
                          <a:pt x="183" y="924"/>
                        </a:lnTo>
                        <a:lnTo>
                          <a:pt x="183" y="934"/>
                        </a:lnTo>
                        <a:lnTo>
                          <a:pt x="183" y="938"/>
                        </a:lnTo>
                        <a:lnTo>
                          <a:pt x="183" y="948"/>
                        </a:lnTo>
                        <a:lnTo>
                          <a:pt x="183" y="958"/>
                        </a:lnTo>
                        <a:lnTo>
                          <a:pt x="183" y="967"/>
                        </a:lnTo>
                        <a:lnTo>
                          <a:pt x="183" y="977"/>
                        </a:lnTo>
                        <a:lnTo>
                          <a:pt x="187" y="982"/>
                        </a:lnTo>
                        <a:lnTo>
                          <a:pt x="187" y="991"/>
                        </a:lnTo>
                        <a:lnTo>
                          <a:pt x="187" y="1001"/>
                        </a:lnTo>
                        <a:lnTo>
                          <a:pt x="187" y="1010"/>
                        </a:lnTo>
                        <a:lnTo>
                          <a:pt x="192" y="1020"/>
                        </a:lnTo>
                        <a:lnTo>
                          <a:pt x="192" y="1025"/>
                        </a:lnTo>
                        <a:lnTo>
                          <a:pt x="192" y="1034"/>
                        </a:lnTo>
                        <a:lnTo>
                          <a:pt x="197" y="1044"/>
                        </a:lnTo>
                        <a:lnTo>
                          <a:pt x="197" y="1053"/>
                        </a:lnTo>
                        <a:lnTo>
                          <a:pt x="197" y="1063"/>
                        </a:lnTo>
                        <a:lnTo>
                          <a:pt x="202" y="1068"/>
                        </a:lnTo>
                        <a:lnTo>
                          <a:pt x="202" y="1077"/>
                        </a:lnTo>
                        <a:lnTo>
                          <a:pt x="192" y="1077"/>
                        </a:lnTo>
                        <a:lnTo>
                          <a:pt x="183" y="1073"/>
                        </a:lnTo>
                        <a:lnTo>
                          <a:pt x="173" y="1068"/>
                        </a:lnTo>
                        <a:lnTo>
                          <a:pt x="163" y="1063"/>
                        </a:lnTo>
                        <a:lnTo>
                          <a:pt x="154" y="1058"/>
                        </a:lnTo>
                        <a:lnTo>
                          <a:pt x="144" y="1053"/>
                        </a:lnTo>
                        <a:lnTo>
                          <a:pt x="135" y="1049"/>
                        </a:lnTo>
                        <a:lnTo>
                          <a:pt x="130" y="1044"/>
                        </a:lnTo>
                        <a:lnTo>
                          <a:pt x="120" y="1034"/>
                        </a:lnTo>
                        <a:lnTo>
                          <a:pt x="111" y="1029"/>
                        </a:lnTo>
                        <a:lnTo>
                          <a:pt x="106" y="1025"/>
                        </a:lnTo>
                        <a:lnTo>
                          <a:pt x="96" y="1015"/>
                        </a:lnTo>
                        <a:lnTo>
                          <a:pt x="87" y="1010"/>
                        </a:lnTo>
                        <a:lnTo>
                          <a:pt x="82" y="1001"/>
                        </a:lnTo>
                        <a:lnTo>
                          <a:pt x="72" y="991"/>
                        </a:lnTo>
                        <a:lnTo>
                          <a:pt x="68" y="986"/>
                        </a:lnTo>
                        <a:lnTo>
                          <a:pt x="63" y="977"/>
                        </a:lnTo>
                        <a:lnTo>
                          <a:pt x="53" y="967"/>
                        </a:lnTo>
                        <a:lnTo>
                          <a:pt x="48" y="962"/>
                        </a:lnTo>
                        <a:lnTo>
                          <a:pt x="44" y="953"/>
                        </a:lnTo>
                        <a:lnTo>
                          <a:pt x="39" y="943"/>
                        </a:lnTo>
                        <a:lnTo>
                          <a:pt x="34" y="934"/>
                        </a:lnTo>
                        <a:lnTo>
                          <a:pt x="29" y="924"/>
                        </a:lnTo>
                        <a:lnTo>
                          <a:pt x="24" y="914"/>
                        </a:lnTo>
                        <a:lnTo>
                          <a:pt x="20" y="905"/>
                        </a:lnTo>
                        <a:lnTo>
                          <a:pt x="20" y="895"/>
                        </a:lnTo>
                        <a:lnTo>
                          <a:pt x="15" y="886"/>
                        </a:lnTo>
                        <a:lnTo>
                          <a:pt x="10" y="876"/>
                        </a:lnTo>
                        <a:lnTo>
                          <a:pt x="10" y="867"/>
                        </a:lnTo>
                        <a:lnTo>
                          <a:pt x="5" y="857"/>
                        </a:lnTo>
                        <a:lnTo>
                          <a:pt x="5" y="847"/>
                        </a:lnTo>
                        <a:lnTo>
                          <a:pt x="5" y="838"/>
                        </a:lnTo>
                        <a:lnTo>
                          <a:pt x="5" y="828"/>
                        </a:lnTo>
                        <a:lnTo>
                          <a:pt x="5" y="814"/>
                        </a:lnTo>
                        <a:lnTo>
                          <a:pt x="0" y="804"/>
                        </a:lnTo>
                        <a:lnTo>
                          <a:pt x="0" y="795"/>
                        </a:lnTo>
                        <a:lnTo>
                          <a:pt x="0" y="785"/>
                        </a:lnTo>
                        <a:lnTo>
                          <a:pt x="0" y="771"/>
                        </a:lnTo>
                        <a:lnTo>
                          <a:pt x="0" y="761"/>
                        </a:lnTo>
                        <a:lnTo>
                          <a:pt x="0" y="752"/>
                        </a:lnTo>
                        <a:lnTo>
                          <a:pt x="5" y="742"/>
                        </a:lnTo>
                        <a:lnTo>
                          <a:pt x="5" y="733"/>
                        </a:lnTo>
                        <a:lnTo>
                          <a:pt x="5" y="723"/>
                        </a:lnTo>
                        <a:lnTo>
                          <a:pt x="5" y="709"/>
                        </a:lnTo>
                        <a:lnTo>
                          <a:pt x="10" y="699"/>
                        </a:lnTo>
                        <a:lnTo>
                          <a:pt x="10" y="689"/>
                        </a:lnTo>
                        <a:lnTo>
                          <a:pt x="15" y="680"/>
                        </a:lnTo>
                        <a:lnTo>
                          <a:pt x="15" y="670"/>
                        </a:lnTo>
                        <a:lnTo>
                          <a:pt x="20" y="661"/>
                        </a:lnTo>
                        <a:lnTo>
                          <a:pt x="20" y="651"/>
                        </a:lnTo>
                        <a:lnTo>
                          <a:pt x="24" y="642"/>
                        </a:lnTo>
                        <a:lnTo>
                          <a:pt x="24" y="632"/>
                        </a:lnTo>
                        <a:lnTo>
                          <a:pt x="29" y="622"/>
                        </a:lnTo>
                        <a:lnTo>
                          <a:pt x="34" y="613"/>
                        </a:lnTo>
                        <a:lnTo>
                          <a:pt x="39" y="603"/>
                        </a:lnTo>
                        <a:lnTo>
                          <a:pt x="39" y="594"/>
                        </a:lnTo>
                        <a:lnTo>
                          <a:pt x="44" y="584"/>
                        </a:lnTo>
                        <a:lnTo>
                          <a:pt x="48" y="575"/>
                        </a:lnTo>
                        <a:lnTo>
                          <a:pt x="53" y="565"/>
                        </a:lnTo>
                        <a:lnTo>
                          <a:pt x="58" y="555"/>
                        </a:lnTo>
                        <a:lnTo>
                          <a:pt x="63" y="546"/>
                        </a:lnTo>
                        <a:lnTo>
                          <a:pt x="68" y="536"/>
                        </a:lnTo>
                        <a:lnTo>
                          <a:pt x="72" y="527"/>
                        </a:lnTo>
                        <a:lnTo>
                          <a:pt x="77" y="517"/>
                        </a:lnTo>
                        <a:lnTo>
                          <a:pt x="82" y="512"/>
                        </a:lnTo>
                        <a:lnTo>
                          <a:pt x="87" y="507"/>
                        </a:lnTo>
                        <a:lnTo>
                          <a:pt x="92" y="498"/>
                        </a:lnTo>
                        <a:lnTo>
                          <a:pt x="92" y="493"/>
                        </a:lnTo>
                        <a:lnTo>
                          <a:pt x="96" y="488"/>
                        </a:lnTo>
                        <a:lnTo>
                          <a:pt x="101" y="484"/>
                        </a:lnTo>
                        <a:lnTo>
                          <a:pt x="106" y="479"/>
                        </a:lnTo>
                        <a:lnTo>
                          <a:pt x="106" y="469"/>
                        </a:lnTo>
                        <a:lnTo>
                          <a:pt x="111" y="464"/>
                        </a:lnTo>
                        <a:lnTo>
                          <a:pt x="116" y="460"/>
                        </a:lnTo>
                        <a:lnTo>
                          <a:pt x="120" y="455"/>
                        </a:lnTo>
                        <a:lnTo>
                          <a:pt x="125" y="445"/>
                        </a:lnTo>
                        <a:lnTo>
                          <a:pt x="125" y="440"/>
                        </a:lnTo>
                        <a:lnTo>
                          <a:pt x="130" y="436"/>
                        </a:lnTo>
                        <a:lnTo>
                          <a:pt x="135" y="431"/>
                        </a:lnTo>
                        <a:lnTo>
                          <a:pt x="140" y="426"/>
                        </a:lnTo>
                        <a:lnTo>
                          <a:pt x="144" y="417"/>
                        </a:lnTo>
                        <a:lnTo>
                          <a:pt x="149" y="412"/>
                        </a:lnTo>
                        <a:lnTo>
                          <a:pt x="149" y="407"/>
                        </a:lnTo>
                        <a:lnTo>
                          <a:pt x="154" y="402"/>
                        </a:lnTo>
                        <a:lnTo>
                          <a:pt x="159" y="397"/>
                        </a:lnTo>
                        <a:lnTo>
                          <a:pt x="163" y="393"/>
                        </a:lnTo>
                        <a:lnTo>
                          <a:pt x="168" y="383"/>
                        </a:lnTo>
                        <a:lnTo>
                          <a:pt x="173" y="378"/>
                        </a:lnTo>
                        <a:lnTo>
                          <a:pt x="178" y="373"/>
                        </a:lnTo>
                        <a:lnTo>
                          <a:pt x="183" y="369"/>
                        </a:lnTo>
                        <a:lnTo>
                          <a:pt x="187" y="364"/>
                        </a:lnTo>
                        <a:lnTo>
                          <a:pt x="192" y="359"/>
                        </a:lnTo>
                        <a:lnTo>
                          <a:pt x="197" y="354"/>
                        </a:lnTo>
                        <a:lnTo>
                          <a:pt x="197" y="349"/>
                        </a:lnTo>
                        <a:lnTo>
                          <a:pt x="202" y="340"/>
                        </a:lnTo>
                        <a:lnTo>
                          <a:pt x="207" y="335"/>
                        </a:lnTo>
                        <a:lnTo>
                          <a:pt x="216" y="326"/>
                        </a:lnTo>
                        <a:lnTo>
                          <a:pt x="231" y="311"/>
                        </a:lnTo>
                        <a:lnTo>
                          <a:pt x="240" y="302"/>
                        </a:lnTo>
                        <a:lnTo>
                          <a:pt x="250" y="292"/>
                        </a:lnTo>
                        <a:lnTo>
                          <a:pt x="259" y="278"/>
                        </a:lnTo>
                        <a:lnTo>
                          <a:pt x="269" y="268"/>
                        </a:lnTo>
                        <a:lnTo>
                          <a:pt x="283" y="259"/>
                        </a:lnTo>
                        <a:lnTo>
                          <a:pt x="293" y="249"/>
                        </a:lnTo>
                        <a:lnTo>
                          <a:pt x="307" y="239"/>
                        </a:lnTo>
                        <a:lnTo>
                          <a:pt x="317" y="230"/>
                        </a:lnTo>
                        <a:lnTo>
                          <a:pt x="331" y="220"/>
                        </a:lnTo>
                        <a:lnTo>
                          <a:pt x="341" y="211"/>
                        </a:lnTo>
                        <a:lnTo>
                          <a:pt x="355" y="201"/>
                        </a:lnTo>
                        <a:lnTo>
                          <a:pt x="370" y="191"/>
                        </a:lnTo>
                        <a:lnTo>
                          <a:pt x="379" y="182"/>
                        </a:lnTo>
                        <a:lnTo>
                          <a:pt x="394" y="172"/>
                        </a:lnTo>
                        <a:lnTo>
                          <a:pt x="408" y="163"/>
                        </a:lnTo>
                        <a:lnTo>
                          <a:pt x="423" y="153"/>
                        </a:lnTo>
                        <a:lnTo>
                          <a:pt x="437" y="148"/>
                        </a:lnTo>
                        <a:lnTo>
                          <a:pt x="447" y="139"/>
                        </a:lnTo>
                        <a:lnTo>
                          <a:pt x="461" y="129"/>
                        </a:lnTo>
                        <a:lnTo>
                          <a:pt x="475" y="124"/>
                        </a:lnTo>
                        <a:lnTo>
                          <a:pt x="490" y="115"/>
                        </a:lnTo>
                        <a:lnTo>
                          <a:pt x="504" y="105"/>
                        </a:lnTo>
                        <a:lnTo>
                          <a:pt x="518" y="100"/>
                        </a:lnTo>
                        <a:lnTo>
                          <a:pt x="533" y="91"/>
                        </a:lnTo>
                        <a:lnTo>
                          <a:pt x="547" y="86"/>
                        </a:lnTo>
                        <a:lnTo>
                          <a:pt x="557" y="77"/>
                        </a:lnTo>
                        <a:lnTo>
                          <a:pt x="571" y="72"/>
                        </a:lnTo>
                        <a:lnTo>
                          <a:pt x="586" y="62"/>
                        </a:lnTo>
                        <a:lnTo>
                          <a:pt x="600" y="57"/>
                        </a:lnTo>
                        <a:lnTo>
                          <a:pt x="614" y="48"/>
                        </a:lnTo>
                        <a:lnTo>
                          <a:pt x="619" y="48"/>
                        </a:lnTo>
                        <a:lnTo>
                          <a:pt x="629" y="43"/>
                        </a:lnTo>
                        <a:lnTo>
                          <a:pt x="638" y="38"/>
                        </a:lnTo>
                        <a:lnTo>
                          <a:pt x="643" y="38"/>
                        </a:lnTo>
                        <a:lnTo>
                          <a:pt x="653" y="33"/>
                        </a:lnTo>
                        <a:lnTo>
                          <a:pt x="658" y="33"/>
                        </a:lnTo>
                        <a:lnTo>
                          <a:pt x="667" y="29"/>
                        </a:lnTo>
                        <a:lnTo>
                          <a:pt x="677" y="24"/>
                        </a:lnTo>
                        <a:lnTo>
                          <a:pt x="682" y="24"/>
                        </a:lnTo>
                        <a:lnTo>
                          <a:pt x="691" y="19"/>
                        </a:lnTo>
                        <a:lnTo>
                          <a:pt x="701" y="19"/>
                        </a:lnTo>
                        <a:lnTo>
                          <a:pt x="706" y="19"/>
                        </a:lnTo>
                        <a:lnTo>
                          <a:pt x="715" y="14"/>
                        </a:lnTo>
                        <a:lnTo>
                          <a:pt x="725" y="14"/>
                        </a:lnTo>
                        <a:lnTo>
                          <a:pt x="730" y="10"/>
                        </a:lnTo>
                        <a:lnTo>
                          <a:pt x="739" y="10"/>
                        </a:lnTo>
                        <a:lnTo>
                          <a:pt x="749" y="10"/>
                        </a:lnTo>
                        <a:lnTo>
                          <a:pt x="758" y="10"/>
                        </a:lnTo>
                        <a:lnTo>
                          <a:pt x="763" y="5"/>
                        </a:lnTo>
                        <a:lnTo>
                          <a:pt x="773" y="5"/>
                        </a:lnTo>
                        <a:lnTo>
                          <a:pt x="782" y="5"/>
                        </a:lnTo>
                        <a:lnTo>
                          <a:pt x="792" y="5"/>
                        </a:lnTo>
                        <a:lnTo>
                          <a:pt x="797" y="5"/>
                        </a:lnTo>
                        <a:lnTo>
                          <a:pt x="806" y="0"/>
                        </a:lnTo>
                        <a:lnTo>
                          <a:pt x="816" y="0"/>
                        </a:lnTo>
                        <a:lnTo>
                          <a:pt x="821" y="0"/>
                        </a:lnTo>
                        <a:lnTo>
                          <a:pt x="830" y="0"/>
                        </a:lnTo>
                        <a:lnTo>
                          <a:pt x="840" y="0"/>
                        </a:lnTo>
                        <a:lnTo>
                          <a:pt x="849" y="0"/>
                        </a:lnTo>
                        <a:lnTo>
                          <a:pt x="854" y="0"/>
                        </a:lnTo>
                        <a:lnTo>
                          <a:pt x="864" y="0"/>
                        </a:lnTo>
                        <a:lnTo>
                          <a:pt x="873" y="0"/>
                        </a:lnTo>
                        <a:lnTo>
                          <a:pt x="878" y="0"/>
                        </a:lnTo>
                        <a:lnTo>
                          <a:pt x="883" y="0"/>
                        </a:lnTo>
                        <a:lnTo>
                          <a:pt x="888" y="5"/>
                        </a:lnTo>
                        <a:lnTo>
                          <a:pt x="893" y="5"/>
                        </a:lnTo>
                        <a:lnTo>
                          <a:pt x="897" y="5"/>
                        </a:lnTo>
                        <a:lnTo>
                          <a:pt x="902" y="5"/>
                        </a:lnTo>
                        <a:lnTo>
                          <a:pt x="907" y="5"/>
                        </a:lnTo>
                        <a:lnTo>
                          <a:pt x="912" y="10"/>
                        </a:lnTo>
                        <a:lnTo>
                          <a:pt x="917" y="10"/>
                        </a:lnTo>
                        <a:lnTo>
                          <a:pt x="921" y="10"/>
                        </a:lnTo>
                        <a:lnTo>
                          <a:pt x="926" y="10"/>
                        </a:lnTo>
                        <a:lnTo>
                          <a:pt x="931" y="14"/>
                        </a:lnTo>
                        <a:lnTo>
                          <a:pt x="936" y="14"/>
                        </a:lnTo>
                        <a:lnTo>
                          <a:pt x="941" y="14"/>
                        </a:lnTo>
                        <a:lnTo>
                          <a:pt x="945" y="19"/>
                        </a:lnTo>
                        <a:lnTo>
                          <a:pt x="950" y="19"/>
                        </a:lnTo>
                        <a:lnTo>
                          <a:pt x="955" y="19"/>
                        </a:lnTo>
                        <a:lnTo>
                          <a:pt x="960" y="24"/>
                        </a:lnTo>
                        <a:lnTo>
                          <a:pt x="965" y="24"/>
                        </a:lnTo>
                        <a:lnTo>
                          <a:pt x="969" y="29"/>
                        </a:lnTo>
                        <a:lnTo>
                          <a:pt x="974" y="29"/>
                        </a:lnTo>
                        <a:lnTo>
                          <a:pt x="979" y="33"/>
                        </a:lnTo>
                        <a:lnTo>
                          <a:pt x="984" y="33"/>
                        </a:lnTo>
                        <a:lnTo>
                          <a:pt x="989" y="38"/>
                        </a:lnTo>
                        <a:lnTo>
                          <a:pt x="993" y="38"/>
                        </a:lnTo>
                        <a:lnTo>
                          <a:pt x="998" y="38"/>
                        </a:lnTo>
                        <a:lnTo>
                          <a:pt x="1003" y="43"/>
                        </a:lnTo>
                        <a:lnTo>
                          <a:pt x="1008" y="43"/>
                        </a:lnTo>
                        <a:lnTo>
                          <a:pt x="1013" y="48"/>
                        </a:lnTo>
                        <a:lnTo>
                          <a:pt x="1017" y="48"/>
                        </a:lnTo>
                        <a:lnTo>
                          <a:pt x="1022" y="48"/>
                        </a:lnTo>
                        <a:close/>
                      </a:path>
                    </a:pathLst>
                  </a:custGeom>
                  <a:solidFill>
                    <a:srgbClr val="6b05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2" name=""/>
                  <p:cNvSpPr/>
                  <p:nvPr/>
                </p:nvSpPr>
                <p:spPr>
                  <a:xfrm flipH="1">
                    <a:off x="3894480" y="4348800"/>
                    <a:ext cx="12600" cy="320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97">
                        <a:moveTo>
                          <a:pt x="72" y="34"/>
                        </a:moveTo>
                        <a:lnTo>
                          <a:pt x="72" y="43"/>
                        </a:lnTo>
                        <a:lnTo>
                          <a:pt x="76" y="48"/>
                        </a:lnTo>
                        <a:lnTo>
                          <a:pt x="76" y="53"/>
                        </a:lnTo>
                        <a:lnTo>
                          <a:pt x="76" y="58"/>
                        </a:lnTo>
                        <a:lnTo>
                          <a:pt x="76" y="67"/>
                        </a:lnTo>
                        <a:lnTo>
                          <a:pt x="76" y="72"/>
                        </a:lnTo>
                        <a:lnTo>
                          <a:pt x="76" y="77"/>
                        </a:lnTo>
                        <a:lnTo>
                          <a:pt x="76" y="82"/>
                        </a:lnTo>
                        <a:lnTo>
                          <a:pt x="76" y="86"/>
                        </a:lnTo>
                        <a:lnTo>
                          <a:pt x="76" y="96"/>
                        </a:lnTo>
                        <a:lnTo>
                          <a:pt x="72" y="101"/>
                        </a:lnTo>
                        <a:lnTo>
                          <a:pt x="72" y="106"/>
                        </a:lnTo>
                        <a:lnTo>
                          <a:pt x="72" y="110"/>
                        </a:lnTo>
                        <a:lnTo>
                          <a:pt x="67" y="115"/>
                        </a:lnTo>
                        <a:lnTo>
                          <a:pt x="67" y="120"/>
                        </a:lnTo>
                        <a:lnTo>
                          <a:pt x="67" y="125"/>
                        </a:lnTo>
                        <a:lnTo>
                          <a:pt x="62" y="129"/>
                        </a:lnTo>
                        <a:lnTo>
                          <a:pt x="62" y="134"/>
                        </a:lnTo>
                        <a:lnTo>
                          <a:pt x="57" y="139"/>
                        </a:lnTo>
                        <a:lnTo>
                          <a:pt x="57" y="144"/>
                        </a:lnTo>
                        <a:lnTo>
                          <a:pt x="52" y="149"/>
                        </a:lnTo>
                        <a:lnTo>
                          <a:pt x="48" y="153"/>
                        </a:lnTo>
                        <a:lnTo>
                          <a:pt x="48" y="158"/>
                        </a:lnTo>
                        <a:lnTo>
                          <a:pt x="43" y="163"/>
                        </a:lnTo>
                        <a:lnTo>
                          <a:pt x="38" y="168"/>
                        </a:lnTo>
                        <a:lnTo>
                          <a:pt x="38" y="173"/>
                        </a:lnTo>
                        <a:lnTo>
                          <a:pt x="33" y="177"/>
                        </a:lnTo>
                        <a:lnTo>
                          <a:pt x="29" y="182"/>
                        </a:lnTo>
                        <a:lnTo>
                          <a:pt x="24" y="182"/>
                        </a:lnTo>
                        <a:lnTo>
                          <a:pt x="19" y="187"/>
                        </a:lnTo>
                        <a:lnTo>
                          <a:pt x="19" y="192"/>
                        </a:lnTo>
                        <a:lnTo>
                          <a:pt x="14" y="197"/>
                        </a:lnTo>
                        <a:lnTo>
                          <a:pt x="9" y="197"/>
                        </a:lnTo>
                        <a:lnTo>
                          <a:pt x="5" y="197"/>
                        </a:lnTo>
                        <a:lnTo>
                          <a:pt x="0" y="197"/>
                        </a:lnTo>
                        <a:lnTo>
                          <a:pt x="0" y="192"/>
                        </a:lnTo>
                        <a:lnTo>
                          <a:pt x="5" y="187"/>
                        </a:lnTo>
                        <a:lnTo>
                          <a:pt x="9" y="182"/>
                        </a:lnTo>
                        <a:lnTo>
                          <a:pt x="9" y="177"/>
                        </a:lnTo>
                        <a:lnTo>
                          <a:pt x="14" y="173"/>
                        </a:lnTo>
                        <a:lnTo>
                          <a:pt x="14" y="168"/>
                        </a:lnTo>
                        <a:lnTo>
                          <a:pt x="19" y="163"/>
                        </a:lnTo>
                        <a:lnTo>
                          <a:pt x="24" y="158"/>
                        </a:lnTo>
                        <a:lnTo>
                          <a:pt x="24" y="153"/>
                        </a:lnTo>
                        <a:lnTo>
                          <a:pt x="29" y="149"/>
                        </a:lnTo>
                        <a:lnTo>
                          <a:pt x="33" y="144"/>
                        </a:lnTo>
                        <a:lnTo>
                          <a:pt x="33" y="139"/>
                        </a:lnTo>
                        <a:lnTo>
                          <a:pt x="38" y="134"/>
                        </a:lnTo>
                        <a:lnTo>
                          <a:pt x="38" y="129"/>
                        </a:lnTo>
                        <a:lnTo>
                          <a:pt x="43" y="125"/>
                        </a:lnTo>
                        <a:lnTo>
                          <a:pt x="43" y="120"/>
                        </a:lnTo>
                        <a:lnTo>
                          <a:pt x="48" y="115"/>
                        </a:lnTo>
                        <a:lnTo>
                          <a:pt x="48" y="110"/>
                        </a:lnTo>
                        <a:lnTo>
                          <a:pt x="48" y="106"/>
                        </a:lnTo>
                        <a:lnTo>
                          <a:pt x="52" y="101"/>
                        </a:lnTo>
                        <a:lnTo>
                          <a:pt x="52" y="91"/>
                        </a:lnTo>
                        <a:lnTo>
                          <a:pt x="52" y="86"/>
                        </a:lnTo>
                        <a:lnTo>
                          <a:pt x="52" y="82"/>
                        </a:lnTo>
                        <a:lnTo>
                          <a:pt x="52" y="77"/>
                        </a:lnTo>
                        <a:lnTo>
                          <a:pt x="52" y="72"/>
                        </a:lnTo>
                        <a:lnTo>
                          <a:pt x="52" y="67"/>
                        </a:lnTo>
                        <a:lnTo>
                          <a:pt x="52" y="62"/>
                        </a:lnTo>
                        <a:lnTo>
                          <a:pt x="52" y="58"/>
                        </a:lnTo>
                        <a:lnTo>
                          <a:pt x="48" y="48"/>
                        </a:lnTo>
                        <a:lnTo>
                          <a:pt x="48" y="43"/>
                        </a:lnTo>
                        <a:lnTo>
                          <a:pt x="48" y="38"/>
                        </a:lnTo>
                        <a:lnTo>
                          <a:pt x="43" y="34"/>
                        </a:lnTo>
                        <a:lnTo>
                          <a:pt x="43" y="29"/>
                        </a:lnTo>
                        <a:lnTo>
                          <a:pt x="38" y="29"/>
                        </a:lnTo>
                        <a:lnTo>
                          <a:pt x="38" y="24"/>
                        </a:lnTo>
                        <a:lnTo>
                          <a:pt x="33" y="24"/>
                        </a:lnTo>
                        <a:lnTo>
                          <a:pt x="29" y="24"/>
                        </a:lnTo>
                        <a:lnTo>
                          <a:pt x="29" y="19"/>
                        </a:lnTo>
                        <a:lnTo>
                          <a:pt x="24" y="19"/>
                        </a:lnTo>
                        <a:lnTo>
                          <a:pt x="19" y="19"/>
                        </a:lnTo>
                        <a:lnTo>
                          <a:pt x="14" y="15"/>
                        </a:lnTo>
                        <a:lnTo>
                          <a:pt x="14" y="10"/>
                        </a:lnTo>
                        <a:lnTo>
                          <a:pt x="14" y="5"/>
                        </a:lnTo>
                        <a:lnTo>
                          <a:pt x="19" y="5"/>
                        </a:lnTo>
                        <a:lnTo>
                          <a:pt x="24" y="5"/>
                        </a:lnTo>
                        <a:lnTo>
                          <a:pt x="24" y="0"/>
                        </a:lnTo>
                        <a:lnTo>
                          <a:pt x="29" y="0"/>
                        </a:lnTo>
                        <a:lnTo>
                          <a:pt x="33" y="0"/>
                        </a:lnTo>
                        <a:lnTo>
                          <a:pt x="38" y="0"/>
                        </a:lnTo>
                        <a:lnTo>
                          <a:pt x="38" y="5"/>
                        </a:lnTo>
                        <a:lnTo>
                          <a:pt x="43" y="5"/>
                        </a:lnTo>
                        <a:lnTo>
                          <a:pt x="48" y="5"/>
                        </a:lnTo>
                        <a:lnTo>
                          <a:pt x="48" y="10"/>
                        </a:lnTo>
                        <a:lnTo>
                          <a:pt x="52" y="10"/>
                        </a:lnTo>
                        <a:lnTo>
                          <a:pt x="57" y="15"/>
                        </a:lnTo>
                        <a:lnTo>
                          <a:pt x="62" y="19"/>
                        </a:lnTo>
                        <a:lnTo>
                          <a:pt x="62" y="24"/>
                        </a:lnTo>
                        <a:lnTo>
                          <a:pt x="67" y="24"/>
                        </a:lnTo>
                        <a:lnTo>
                          <a:pt x="67" y="29"/>
                        </a:lnTo>
                        <a:lnTo>
                          <a:pt x="72" y="3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760" bIns="-14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3" name=""/>
                  <p:cNvSpPr/>
                  <p:nvPr/>
                </p:nvSpPr>
                <p:spPr>
                  <a:xfrm flipH="1">
                    <a:off x="4012200" y="4348800"/>
                    <a:ext cx="3960" cy="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43">
                        <a:moveTo>
                          <a:pt x="24" y="43"/>
                        </a:moveTo>
                        <a:lnTo>
                          <a:pt x="19" y="43"/>
                        </a:lnTo>
                        <a:lnTo>
                          <a:pt x="14" y="43"/>
                        </a:lnTo>
                        <a:lnTo>
                          <a:pt x="14" y="38"/>
                        </a:lnTo>
                        <a:lnTo>
                          <a:pt x="10" y="38"/>
                        </a:lnTo>
                        <a:lnTo>
                          <a:pt x="10" y="34"/>
                        </a:lnTo>
                        <a:lnTo>
                          <a:pt x="5" y="34"/>
                        </a:lnTo>
                        <a:lnTo>
                          <a:pt x="5" y="29"/>
                        </a:lnTo>
                        <a:lnTo>
                          <a:pt x="5" y="24"/>
                        </a:lnTo>
                        <a:lnTo>
                          <a:pt x="0" y="19"/>
                        </a:lnTo>
                        <a:lnTo>
                          <a:pt x="0" y="15"/>
                        </a:lnTo>
                        <a:lnTo>
                          <a:pt x="0" y="10"/>
                        </a:lnTo>
                        <a:lnTo>
                          <a:pt x="0" y="5"/>
                        </a:lnTo>
                        <a:lnTo>
                          <a:pt x="0" y="0"/>
                        </a:lnTo>
                        <a:lnTo>
                          <a:pt x="0" y="5"/>
                        </a:lnTo>
                        <a:lnTo>
                          <a:pt x="5" y="5"/>
                        </a:lnTo>
                        <a:lnTo>
                          <a:pt x="5" y="10"/>
                        </a:lnTo>
                        <a:lnTo>
                          <a:pt x="10" y="10"/>
                        </a:lnTo>
                        <a:lnTo>
                          <a:pt x="14" y="15"/>
                        </a:lnTo>
                        <a:lnTo>
                          <a:pt x="19" y="19"/>
                        </a:lnTo>
                        <a:lnTo>
                          <a:pt x="19" y="24"/>
                        </a:lnTo>
                        <a:lnTo>
                          <a:pt x="24" y="24"/>
                        </a:lnTo>
                        <a:lnTo>
                          <a:pt x="24" y="29"/>
                        </a:lnTo>
                        <a:lnTo>
                          <a:pt x="24" y="34"/>
                        </a:lnTo>
                        <a:lnTo>
                          <a:pt x="24" y="38"/>
                        </a:lnTo>
                        <a:lnTo>
                          <a:pt x="24" y="43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4" name=""/>
                  <p:cNvSpPr/>
                  <p:nvPr/>
                </p:nvSpPr>
                <p:spPr>
                  <a:xfrm flipH="1">
                    <a:off x="4062960" y="4349520"/>
                    <a:ext cx="1692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" h="134">
                        <a:moveTo>
                          <a:pt x="100" y="101"/>
                        </a:moveTo>
                        <a:lnTo>
                          <a:pt x="96" y="101"/>
                        </a:lnTo>
                        <a:lnTo>
                          <a:pt x="96" y="105"/>
                        </a:lnTo>
                        <a:lnTo>
                          <a:pt x="96" y="110"/>
                        </a:lnTo>
                        <a:lnTo>
                          <a:pt x="96" y="115"/>
                        </a:lnTo>
                        <a:lnTo>
                          <a:pt x="96" y="120"/>
                        </a:lnTo>
                        <a:lnTo>
                          <a:pt x="96" y="124"/>
                        </a:lnTo>
                        <a:lnTo>
                          <a:pt x="91" y="124"/>
                        </a:lnTo>
                        <a:lnTo>
                          <a:pt x="91" y="129"/>
                        </a:lnTo>
                        <a:lnTo>
                          <a:pt x="86" y="129"/>
                        </a:lnTo>
                        <a:lnTo>
                          <a:pt x="81" y="129"/>
                        </a:lnTo>
                        <a:lnTo>
                          <a:pt x="76" y="129"/>
                        </a:lnTo>
                        <a:lnTo>
                          <a:pt x="72" y="129"/>
                        </a:lnTo>
                        <a:lnTo>
                          <a:pt x="67" y="129"/>
                        </a:lnTo>
                        <a:lnTo>
                          <a:pt x="67" y="134"/>
                        </a:lnTo>
                        <a:lnTo>
                          <a:pt x="62" y="134"/>
                        </a:lnTo>
                        <a:lnTo>
                          <a:pt x="62" y="129"/>
                        </a:lnTo>
                        <a:lnTo>
                          <a:pt x="57" y="129"/>
                        </a:lnTo>
                        <a:lnTo>
                          <a:pt x="53" y="129"/>
                        </a:lnTo>
                        <a:lnTo>
                          <a:pt x="53" y="124"/>
                        </a:lnTo>
                        <a:lnTo>
                          <a:pt x="48" y="124"/>
                        </a:lnTo>
                        <a:lnTo>
                          <a:pt x="48" y="120"/>
                        </a:lnTo>
                        <a:lnTo>
                          <a:pt x="43" y="120"/>
                        </a:lnTo>
                        <a:lnTo>
                          <a:pt x="43" y="115"/>
                        </a:lnTo>
                        <a:lnTo>
                          <a:pt x="38" y="110"/>
                        </a:lnTo>
                        <a:lnTo>
                          <a:pt x="38" y="105"/>
                        </a:lnTo>
                        <a:lnTo>
                          <a:pt x="38" y="101"/>
                        </a:lnTo>
                        <a:lnTo>
                          <a:pt x="33" y="96"/>
                        </a:lnTo>
                        <a:lnTo>
                          <a:pt x="33" y="91"/>
                        </a:lnTo>
                        <a:lnTo>
                          <a:pt x="33" y="86"/>
                        </a:lnTo>
                        <a:lnTo>
                          <a:pt x="33" y="81"/>
                        </a:lnTo>
                        <a:lnTo>
                          <a:pt x="33" y="77"/>
                        </a:lnTo>
                        <a:lnTo>
                          <a:pt x="29" y="77"/>
                        </a:lnTo>
                        <a:lnTo>
                          <a:pt x="29" y="72"/>
                        </a:lnTo>
                        <a:lnTo>
                          <a:pt x="29" y="67"/>
                        </a:lnTo>
                        <a:lnTo>
                          <a:pt x="24" y="62"/>
                        </a:lnTo>
                        <a:lnTo>
                          <a:pt x="24" y="57"/>
                        </a:lnTo>
                        <a:lnTo>
                          <a:pt x="19" y="57"/>
                        </a:lnTo>
                        <a:lnTo>
                          <a:pt x="14" y="53"/>
                        </a:lnTo>
                        <a:lnTo>
                          <a:pt x="9" y="53"/>
                        </a:lnTo>
                        <a:lnTo>
                          <a:pt x="9" y="48"/>
                        </a:lnTo>
                        <a:lnTo>
                          <a:pt x="9" y="43"/>
                        </a:lnTo>
                        <a:lnTo>
                          <a:pt x="5" y="43"/>
                        </a:lnTo>
                        <a:lnTo>
                          <a:pt x="5" y="38"/>
                        </a:lnTo>
                        <a:lnTo>
                          <a:pt x="5" y="33"/>
                        </a:lnTo>
                        <a:lnTo>
                          <a:pt x="5" y="29"/>
                        </a:lnTo>
                        <a:lnTo>
                          <a:pt x="5" y="24"/>
                        </a:lnTo>
                        <a:lnTo>
                          <a:pt x="0" y="19"/>
                        </a:lnTo>
                        <a:lnTo>
                          <a:pt x="0" y="14"/>
                        </a:lnTo>
                        <a:lnTo>
                          <a:pt x="0" y="19"/>
                        </a:lnTo>
                        <a:lnTo>
                          <a:pt x="5" y="19"/>
                        </a:lnTo>
                        <a:lnTo>
                          <a:pt x="9" y="24"/>
                        </a:lnTo>
                        <a:lnTo>
                          <a:pt x="14" y="24"/>
                        </a:lnTo>
                        <a:lnTo>
                          <a:pt x="14" y="29"/>
                        </a:lnTo>
                        <a:lnTo>
                          <a:pt x="19" y="29"/>
                        </a:lnTo>
                        <a:lnTo>
                          <a:pt x="24" y="29"/>
                        </a:lnTo>
                        <a:lnTo>
                          <a:pt x="24" y="33"/>
                        </a:lnTo>
                        <a:lnTo>
                          <a:pt x="29" y="33"/>
                        </a:lnTo>
                        <a:lnTo>
                          <a:pt x="33" y="33"/>
                        </a:lnTo>
                        <a:lnTo>
                          <a:pt x="33" y="0"/>
                        </a:lnTo>
                        <a:lnTo>
                          <a:pt x="38" y="5"/>
                        </a:lnTo>
                        <a:lnTo>
                          <a:pt x="38" y="10"/>
                        </a:lnTo>
                        <a:lnTo>
                          <a:pt x="43" y="14"/>
                        </a:lnTo>
                        <a:lnTo>
                          <a:pt x="48" y="19"/>
                        </a:lnTo>
                        <a:lnTo>
                          <a:pt x="53" y="19"/>
                        </a:lnTo>
                        <a:lnTo>
                          <a:pt x="53" y="24"/>
                        </a:lnTo>
                        <a:lnTo>
                          <a:pt x="57" y="24"/>
                        </a:lnTo>
                        <a:lnTo>
                          <a:pt x="57" y="29"/>
                        </a:lnTo>
                        <a:lnTo>
                          <a:pt x="62" y="29"/>
                        </a:lnTo>
                        <a:lnTo>
                          <a:pt x="67" y="33"/>
                        </a:lnTo>
                        <a:lnTo>
                          <a:pt x="72" y="38"/>
                        </a:lnTo>
                        <a:lnTo>
                          <a:pt x="76" y="38"/>
                        </a:lnTo>
                        <a:lnTo>
                          <a:pt x="76" y="43"/>
                        </a:lnTo>
                        <a:lnTo>
                          <a:pt x="81" y="43"/>
                        </a:lnTo>
                        <a:lnTo>
                          <a:pt x="86" y="48"/>
                        </a:lnTo>
                        <a:lnTo>
                          <a:pt x="86" y="53"/>
                        </a:lnTo>
                        <a:lnTo>
                          <a:pt x="91" y="53"/>
                        </a:lnTo>
                        <a:lnTo>
                          <a:pt x="91" y="57"/>
                        </a:lnTo>
                        <a:lnTo>
                          <a:pt x="96" y="62"/>
                        </a:lnTo>
                        <a:lnTo>
                          <a:pt x="96" y="67"/>
                        </a:lnTo>
                        <a:lnTo>
                          <a:pt x="100" y="67"/>
                        </a:lnTo>
                        <a:lnTo>
                          <a:pt x="100" y="72"/>
                        </a:lnTo>
                        <a:lnTo>
                          <a:pt x="100" y="77"/>
                        </a:lnTo>
                        <a:lnTo>
                          <a:pt x="100" y="81"/>
                        </a:lnTo>
                        <a:lnTo>
                          <a:pt x="100" y="86"/>
                        </a:lnTo>
                        <a:lnTo>
                          <a:pt x="100" y="91"/>
                        </a:lnTo>
                        <a:lnTo>
                          <a:pt x="100" y="96"/>
                        </a:lnTo>
                        <a:lnTo>
                          <a:pt x="100" y="10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5" name=""/>
                  <p:cNvSpPr/>
                  <p:nvPr/>
                </p:nvSpPr>
                <p:spPr>
                  <a:xfrm flipH="1">
                    <a:off x="4067640" y="4360320"/>
                    <a:ext cx="2520" cy="54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34">
                        <a:moveTo>
                          <a:pt x="15" y="34"/>
                        </a:moveTo>
                        <a:lnTo>
                          <a:pt x="15" y="29"/>
                        </a:lnTo>
                        <a:lnTo>
                          <a:pt x="10" y="29"/>
                        </a:lnTo>
                        <a:lnTo>
                          <a:pt x="5" y="24"/>
                        </a:lnTo>
                        <a:lnTo>
                          <a:pt x="5" y="19"/>
                        </a:lnTo>
                        <a:lnTo>
                          <a:pt x="5" y="14"/>
                        </a:lnTo>
                        <a:lnTo>
                          <a:pt x="0" y="14"/>
                        </a:lnTo>
                        <a:lnTo>
                          <a:pt x="0" y="10"/>
                        </a:lnTo>
                        <a:lnTo>
                          <a:pt x="5" y="5"/>
                        </a:lnTo>
                        <a:lnTo>
                          <a:pt x="5" y="0"/>
                        </a:lnTo>
                        <a:lnTo>
                          <a:pt x="10" y="0"/>
                        </a:lnTo>
                        <a:lnTo>
                          <a:pt x="10" y="5"/>
                        </a:lnTo>
                        <a:lnTo>
                          <a:pt x="10" y="10"/>
                        </a:lnTo>
                        <a:lnTo>
                          <a:pt x="15" y="10"/>
                        </a:lnTo>
                        <a:lnTo>
                          <a:pt x="15" y="14"/>
                        </a:lnTo>
                        <a:lnTo>
                          <a:pt x="15" y="19"/>
                        </a:lnTo>
                        <a:lnTo>
                          <a:pt x="15" y="24"/>
                        </a:lnTo>
                        <a:lnTo>
                          <a:pt x="15" y="29"/>
                        </a:lnTo>
                        <a:lnTo>
                          <a:pt x="15" y="3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6" name=""/>
                  <p:cNvSpPr/>
                  <p:nvPr/>
                </p:nvSpPr>
                <p:spPr>
                  <a:xfrm flipH="1">
                    <a:off x="4036320" y="4373640"/>
                    <a:ext cx="20160" cy="3276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202">
                        <a:moveTo>
                          <a:pt x="38" y="15"/>
                        </a:moveTo>
                        <a:lnTo>
                          <a:pt x="43" y="20"/>
                        </a:lnTo>
                        <a:lnTo>
                          <a:pt x="43" y="24"/>
                        </a:lnTo>
                        <a:lnTo>
                          <a:pt x="43" y="29"/>
                        </a:lnTo>
                        <a:lnTo>
                          <a:pt x="43" y="34"/>
                        </a:lnTo>
                        <a:lnTo>
                          <a:pt x="43" y="39"/>
                        </a:lnTo>
                        <a:lnTo>
                          <a:pt x="43" y="44"/>
                        </a:lnTo>
                        <a:lnTo>
                          <a:pt x="43" y="48"/>
                        </a:lnTo>
                        <a:lnTo>
                          <a:pt x="43" y="53"/>
                        </a:lnTo>
                        <a:lnTo>
                          <a:pt x="43" y="58"/>
                        </a:lnTo>
                        <a:lnTo>
                          <a:pt x="43" y="63"/>
                        </a:lnTo>
                        <a:lnTo>
                          <a:pt x="43" y="67"/>
                        </a:lnTo>
                        <a:lnTo>
                          <a:pt x="43" y="72"/>
                        </a:lnTo>
                        <a:lnTo>
                          <a:pt x="43" y="77"/>
                        </a:lnTo>
                        <a:lnTo>
                          <a:pt x="43" y="82"/>
                        </a:lnTo>
                        <a:lnTo>
                          <a:pt x="43" y="87"/>
                        </a:lnTo>
                        <a:lnTo>
                          <a:pt x="38" y="91"/>
                        </a:lnTo>
                        <a:lnTo>
                          <a:pt x="38" y="96"/>
                        </a:lnTo>
                        <a:lnTo>
                          <a:pt x="38" y="101"/>
                        </a:lnTo>
                        <a:lnTo>
                          <a:pt x="38" y="106"/>
                        </a:lnTo>
                        <a:lnTo>
                          <a:pt x="38" y="111"/>
                        </a:lnTo>
                        <a:lnTo>
                          <a:pt x="33" y="111"/>
                        </a:lnTo>
                        <a:lnTo>
                          <a:pt x="33" y="115"/>
                        </a:lnTo>
                        <a:lnTo>
                          <a:pt x="33" y="120"/>
                        </a:lnTo>
                        <a:lnTo>
                          <a:pt x="33" y="125"/>
                        </a:lnTo>
                        <a:lnTo>
                          <a:pt x="29" y="130"/>
                        </a:lnTo>
                        <a:lnTo>
                          <a:pt x="29" y="134"/>
                        </a:lnTo>
                        <a:lnTo>
                          <a:pt x="24" y="139"/>
                        </a:lnTo>
                        <a:lnTo>
                          <a:pt x="24" y="144"/>
                        </a:lnTo>
                        <a:lnTo>
                          <a:pt x="29" y="149"/>
                        </a:lnTo>
                        <a:lnTo>
                          <a:pt x="29" y="154"/>
                        </a:lnTo>
                        <a:lnTo>
                          <a:pt x="33" y="158"/>
                        </a:lnTo>
                        <a:lnTo>
                          <a:pt x="33" y="163"/>
                        </a:lnTo>
                        <a:lnTo>
                          <a:pt x="38" y="163"/>
                        </a:lnTo>
                        <a:lnTo>
                          <a:pt x="38" y="168"/>
                        </a:lnTo>
                        <a:lnTo>
                          <a:pt x="43" y="168"/>
                        </a:lnTo>
                        <a:lnTo>
                          <a:pt x="48" y="168"/>
                        </a:lnTo>
                        <a:lnTo>
                          <a:pt x="48" y="173"/>
                        </a:lnTo>
                        <a:lnTo>
                          <a:pt x="53" y="173"/>
                        </a:lnTo>
                        <a:lnTo>
                          <a:pt x="57" y="178"/>
                        </a:lnTo>
                        <a:lnTo>
                          <a:pt x="120" y="178"/>
                        </a:lnTo>
                        <a:lnTo>
                          <a:pt x="120" y="182"/>
                        </a:lnTo>
                        <a:lnTo>
                          <a:pt x="120" y="187"/>
                        </a:lnTo>
                        <a:lnTo>
                          <a:pt x="115" y="192"/>
                        </a:lnTo>
                        <a:lnTo>
                          <a:pt x="110" y="192"/>
                        </a:lnTo>
                        <a:lnTo>
                          <a:pt x="110" y="197"/>
                        </a:lnTo>
                        <a:lnTo>
                          <a:pt x="105" y="197"/>
                        </a:lnTo>
                        <a:lnTo>
                          <a:pt x="101" y="197"/>
                        </a:lnTo>
                        <a:lnTo>
                          <a:pt x="96" y="202"/>
                        </a:lnTo>
                        <a:lnTo>
                          <a:pt x="91" y="202"/>
                        </a:lnTo>
                        <a:lnTo>
                          <a:pt x="86" y="202"/>
                        </a:lnTo>
                        <a:lnTo>
                          <a:pt x="81" y="202"/>
                        </a:lnTo>
                        <a:lnTo>
                          <a:pt x="77" y="202"/>
                        </a:lnTo>
                        <a:lnTo>
                          <a:pt x="72" y="202"/>
                        </a:lnTo>
                        <a:lnTo>
                          <a:pt x="67" y="202"/>
                        </a:lnTo>
                        <a:lnTo>
                          <a:pt x="62" y="202"/>
                        </a:lnTo>
                        <a:lnTo>
                          <a:pt x="57" y="202"/>
                        </a:lnTo>
                        <a:lnTo>
                          <a:pt x="53" y="197"/>
                        </a:lnTo>
                        <a:lnTo>
                          <a:pt x="48" y="197"/>
                        </a:lnTo>
                        <a:lnTo>
                          <a:pt x="43" y="197"/>
                        </a:lnTo>
                        <a:lnTo>
                          <a:pt x="38" y="192"/>
                        </a:lnTo>
                        <a:lnTo>
                          <a:pt x="33" y="192"/>
                        </a:lnTo>
                        <a:lnTo>
                          <a:pt x="33" y="187"/>
                        </a:lnTo>
                        <a:lnTo>
                          <a:pt x="29" y="187"/>
                        </a:lnTo>
                        <a:lnTo>
                          <a:pt x="24" y="182"/>
                        </a:lnTo>
                        <a:lnTo>
                          <a:pt x="19" y="182"/>
                        </a:lnTo>
                        <a:lnTo>
                          <a:pt x="19" y="178"/>
                        </a:lnTo>
                        <a:lnTo>
                          <a:pt x="14" y="178"/>
                        </a:lnTo>
                        <a:lnTo>
                          <a:pt x="14" y="173"/>
                        </a:lnTo>
                        <a:lnTo>
                          <a:pt x="9" y="173"/>
                        </a:lnTo>
                        <a:lnTo>
                          <a:pt x="9" y="168"/>
                        </a:lnTo>
                        <a:lnTo>
                          <a:pt x="5" y="163"/>
                        </a:lnTo>
                        <a:lnTo>
                          <a:pt x="5" y="158"/>
                        </a:lnTo>
                        <a:lnTo>
                          <a:pt x="0" y="154"/>
                        </a:lnTo>
                        <a:lnTo>
                          <a:pt x="0" y="149"/>
                        </a:lnTo>
                        <a:lnTo>
                          <a:pt x="0" y="144"/>
                        </a:lnTo>
                        <a:lnTo>
                          <a:pt x="0" y="139"/>
                        </a:lnTo>
                        <a:lnTo>
                          <a:pt x="0" y="134"/>
                        </a:lnTo>
                        <a:lnTo>
                          <a:pt x="0" y="130"/>
                        </a:lnTo>
                        <a:lnTo>
                          <a:pt x="0" y="125"/>
                        </a:lnTo>
                        <a:lnTo>
                          <a:pt x="5" y="125"/>
                        </a:lnTo>
                        <a:lnTo>
                          <a:pt x="5" y="120"/>
                        </a:lnTo>
                        <a:lnTo>
                          <a:pt x="5" y="115"/>
                        </a:lnTo>
                        <a:lnTo>
                          <a:pt x="9" y="111"/>
                        </a:lnTo>
                        <a:lnTo>
                          <a:pt x="9" y="106"/>
                        </a:lnTo>
                        <a:lnTo>
                          <a:pt x="9" y="101"/>
                        </a:lnTo>
                        <a:lnTo>
                          <a:pt x="14" y="101"/>
                        </a:lnTo>
                        <a:lnTo>
                          <a:pt x="14" y="96"/>
                        </a:lnTo>
                        <a:lnTo>
                          <a:pt x="14" y="91"/>
                        </a:lnTo>
                        <a:lnTo>
                          <a:pt x="19" y="87"/>
                        </a:lnTo>
                        <a:lnTo>
                          <a:pt x="19" y="82"/>
                        </a:lnTo>
                        <a:lnTo>
                          <a:pt x="19" y="77"/>
                        </a:lnTo>
                        <a:lnTo>
                          <a:pt x="19" y="72"/>
                        </a:lnTo>
                        <a:lnTo>
                          <a:pt x="24" y="72"/>
                        </a:lnTo>
                        <a:lnTo>
                          <a:pt x="24" y="67"/>
                        </a:lnTo>
                        <a:lnTo>
                          <a:pt x="24" y="63"/>
                        </a:lnTo>
                        <a:lnTo>
                          <a:pt x="24" y="58"/>
                        </a:lnTo>
                        <a:lnTo>
                          <a:pt x="24" y="53"/>
                        </a:lnTo>
                        <a:lnTo>
                          <a:pt x="24" y="48"/>
                        </a:lnTo>
                        <a:lnTo>
                          <a:pt x="24" y="44"/>
                        </a:lnTo>
                        <a:lnTo>
                          <a:pt x="19" y="39"/>
                        </a:lnTo>
                        <a:lnTo>
                          <a:pt x="19" y="34"/>
                        </a:lnTo>
                        <a:lnTo>
                          <a:pt x="19" y="29"/>
                        </a:lnTo>
                        <a:lnTo>
                          <a:pt x="14" y="24"/>
                        </a:lnTo>
                        <a:lnTo>
                          <a:pt x="14" y="20"/>
                        </a:lnTo>
                        <a:lnTo>
                          <a:pt x="9" y="20"/>
                        </a:lnTo>
                        <a:lnTo>
                          <a:pt x="9" y="15"/>
                        </a:lnTo>
                        <a:lnTo>
                          <a:pt x="9" y="10"/>
                        </a:lnTo>
                        <a:lnTo>
                          <a:pt x="9" y="5"/>
                        </a:lnTo>
                        <a:lnTo>
                          <a:pt x="9" y="0"/>
                        </a:lnTo>
                        <a:lnTo>
                          <a:pt x="14" y="0"/>
                        </a:lnTo>
                        <a:lnTo>
                          <a:pt x="19" y="0"/>
                        </a:lnTo>
                        <a:lnTo>
                          <a:pt x="24" y="0"/>
                        </a:lnTo>
                        <a:lnTo>
                          <a:pt x="29" y="0"/>
                        </a:lnTo>
                        <a:lnTo>
                          <a:pt x="33" y="0"/>
                        </a:lnTo>
                        <a:lnTo>
                          <a:pt x="33" y="5"/>
                        </a:lnTo>
                        <a:lnTo>
                          <a:pt x="38" y="5"/>
                        </a:lnTo>
                        <a:lnTo>
                          <a:pt x="38" y="10"/>
                        </a:lnTo>
                        <a:lnTo>
                          <a:pt x="38" y="1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7" name=""/>
                  <p:cNvSpPr/>
                  <p:nvPr/>
                </p:nvSpPr>
                <p:spPr>
                  <a:xfrm flipH="1">
                    <a:off x="3989520" y="4405320"/>
                    <a:ext cx="6660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3" h="273">
                        <a:moveTo>
                          <a:pt x="393" y="14"/>
                        </a:moveTo>
                        <a:lnTo>
                          <a:pt x="388" y="24"/>
                        </a:lnTo>
                        <a:lnTo>
                          <a:pt x="388" y="33"/>
                        </a:lnTo>
                        <a:lnTo>
                          <a:pt x="388" y="43"/>
                        </a:lnTo>
                        <a:lnTo>
                          <a:pt x="388" y="53"/>
                        </a:lnTo>
                        <a:lnTo>
                          <a:pt x="384" y="62"/>
                        </a:lnTo>
                        <a:lnTo>
                          <a:pt x="384" y="72"/>
                        </a:lnTo>
                        <a:lnTo>
                          <a:pt x="379" y="81"/>
                        </a:lnTo>
                        <a:lnTo>
                          <a:pt x="379" y="91"/>
                        </a:lnTo>
                        <a:lnTo>
                          <a:pt x="379" y="100"/>
                        </a:lnTo>
                        <a:lnTo>
                          <a:pt x="374" y="110"/>
                        </a:lnTo>
                        <a:lnTo>
                          <a:pt x="374" y="120"/>
                        </a:lnTo>
                        <a:lnTo>
                          <a:pt x="369" y="129"/>
                        </a:lnTo>
                        <a:lnTo>
                          <a:pt x="369" y="139"/>
                        </a:lnTo>
                        <a:lnTo>
                          <a:pt x="364" y="148"/>
                        </a:lnTo>
                        <a:lnTo>
                          <a:pt x="360" y="158"/>
                        </a:lnTo>
                        <a:lnTo>
                          <a:pt x="360" y="168"/>
                        </a:lnTo>
                        <a:lnTo>
                          <a:pt x="355" y="177"/>
                        </a:lnTo>
                        <a:lnTo>
                          <a:pt x="350" y="187"/>
                        </a:lnTo>
                        <a:lnTo>
                          <a:pt x="345" y="196"/>
                        </a:lnTo>
                        <a:lnTo>
                          <a:pt x="340" y="201"/>
                        </a:lnTo>
                        <a:lnTo>
                          <a:pt x="336" y="211"/>
                        </a:lnTo>
                        <a:lnTo>
                          <a:pt x="331" y="220"/>
                        </a:lnTo>
                        <a:lnTo>
                          <a:pt x="321" y="225"/>
                        </a:lnTo>
                        <a:lnTo>
                          <a:pt x="316" y="235"/>
                        </a:lnTo>
                        <a:lnTo>
                          <a:pt x="312" y="239"/>
                        </a:lnTo>
                        <a:lnTo>
                          <a:pt x="302" y="244"/>
                        </a:lnTo>
                        <a:lnTo>
                          <a:pt x="297" y="249"/>
                        </a:lnTo>
                        <a:lnTo>
                          <a:pt x="288" y="259"/>
                        </a:lnTo>
                        <a:lnTo>
                          <a:pt x="278" y="263"/>
                        </a:lnTo>
                        <a:lnTo>
                          <a:pt x="268" y="263"/>
                        </a:lnTo>
                        <a:lnTo>
                          <a:pt x="259" y="268"/>
                        </a:lnTo>
                        <a:lnTo>
                          <a:pt x="249" y="273"/>
                        </a:lnTo>
                        <a:lnTo>
                          <a:pt x="240" y="268"/>
                        </a:lnTo>
                        <a:lnTo>
                          <a:pt x="230" y="268"/>
                        </a:lnTo>
                        <a:lnTo>
                          <a:pt x="221" y="263"/>
                        </a:lnTo>
                        <a:lnTo>
                          <a:pt x="211" y="259"/>
                        </a:lnTo>
                        <a:lnTo>
                          <a:pt x="206" y="254"/>
                        </a:lnTo>
                        <a:lnTo>
                          <a:pt x="197" y="249"/>
                        </a:lnTo>
                        <a:lnTo>
                          <a:pt x="187" y="244"/>
                        </a:lnTo>
                        <a:lnTo>
                          <a:pt x="177" y="239"/>
                        </a:lnTo>
                        <a:lnTo>
                          <a:pt x="173" y="235"/>
                        </a:lnTo>
                        <a:lnTo>
                          <a:pt x="163" y="230"/>
                        </a:lnTo>
                        <a:lnTo>
                          <a:pt x="153" y="225"/>
                        </a:lnTo>
                        <a:lnTo>
                          <a:pt x="149" y="215"/>
                        </a:lnTo>
                        <a:lnTo>
                          <a:pt x="139" y="211"/>
                        </a:lnTo>
                        <a:lnTo>
                          <a:pt x="134" y="206"/>
                        </a:lnTo>
                        <a:lnTo>
                          <a:pt x="125" y="201"/>
                        </a:lnTo>
                        <a:lnTo>
                          <a:pt x="120" y="191"/>
                        </a:lnTo>
                        <a:lnTo>
                          <a:pt x="110" y="187"/>
                        </a:lnTo>
                        <a:lnTo>
                          <a:pt x="101" y="177"/>
                        </a:lnTo>
                        <a:lnTo>
                          <a:pt x="96" y="172"/>
                        </a:lnTo>
                        <a:lnTo>
                          <a:pt x="86" y="168"/>
                        </a:lnTo>
                        <a:lnTo>
                          <a:pt x="81" y="158"/>
                        </a:lnTo>
                        <a:lnTo>
                          <a:pt x="72" y="153"/>
                        </a:lnTo>
                        <a:lnTo>
                          <a:pt x="67" y="144"/>
                        </a:lnTo>
                        <a:lnTo>
                          <a:pt x="57" y="139"/>
                        </a:lnTo>
                        <a:lnTo>
                          <a:pt x="53" y="129"/>
                        </a:lnTo>
                        <a:lnTo>
                          <a:pt x="43" y="124"/>
                        </a:lnTo>
                        <a:lnTo>
                          <a:pt x="38" y="115"/>
                        </a:lnTo>
                        <a:lnTo>
                          <a:pt x="29" y="110"/>
                        </a:lnTo>
                        <a:lnTo>
                          <a:pt x="24" y="105"/>
                        </a:lnTo>
                        <a:lnTo>
                          <a:pt x="14" y="96"/>
                        </a:lnTo>
                        <a:lnTo>
                          <a:pt x="9" y="91"/>
                        </a:lnTo>
                        <a:lnTo>
                          <a:pt x="0" y="81"/>
                        </a:lnTo>
                        <a:lnTo>
                          <a:pt x="0" y="77"/>
                        </a:lnTo>
                        <a:lnTo>
                          <a:pt x="5" y="72"/>
                        </a:lnTo>
                        <a:lnTo>
                          <a:pt x="5" y="67"/>
                        </a:lnTo>
                        <a:lnTo>
                          <a:pt x="9" y="67"/>
                        </a:lnTo>
                        <a:lnTo>
                          <a:pt x="19" y="67"/>
                        </a:lnTo>
                        <a:lnTo>
                          <a:pt x="29" y="72"/>
                        </a:lnTo>
                        <a:lnTo>
                          <a:pt x="43" y="72"/>
                        </a:lnTo>
                        <a:lnTo>
                          <a:pt x="53" y="72"/>
                        </a:lnTo>
                        <a:lnTo>
                          <a:pt x="62" y="72"/>
                        </a:lnTo>
                        <a:lnTo>
                          <a:pt x="77" y="72"/>
                        </a:lnTo>
                        <a:lnTo>
                          <a:pt x="86" y="72"/>
                        </a:lnTo>
                        <a:lnTo>
                          <a:pt x="96" y="72"/>
                        </a:lnTo>
                        <a:lnTo>
                          <a:pt x="110" y="72"/>
                        </a:lnTo>
                        <a:lnTo>
                          <a:pt x="120" y="72"/>
                        </a:lnTo>
                        <a:lnTo>
                          <a:pt x="129" y="72"/>
                        </a:lnTo>
                        <a:lnTo>
                          <a:pt x="144" y="67"/>
                        </a:lnTo>
                        <a:lnTo>
                          <a:pt x="153" y="67"/>
                        </a:lnTo>
                        <a:lnTo>
                          <a:pt x="168" y="67"/>
                        </a:lnTo>
                        <a:lnTo>
                          <a:pt x="177" y="62"/>
                        </a:lnTo>
                        <a:lnTo>
                          <a:pt x="187" y="62"/>
                        </a:lnTo>
                        <a:lnTo>
                          <a:pt x="201" y="57"/>
                        </a:lnTo>
                        <a:lnTo>
                          <a:pt x="211" y="57"/>
                        </a:lnTo>
                        <a:lnTo>
                          <a:pt x="221" y="53"/>
                        </a:lnTo>
                        <a:lnTo>
                          <a:pt x="230" y="53"/>
                        </a:lnTo>
                        <a:lnTo>
                          <a:pt x="245" y="48"/>
                        </a:lnTo>
                        <a:lnTo>
                          <a:pt x="254" y="43"/>
                        </a:lnTo>
                        <a:lnTo>
                          <a:pt x="264" y="38"/>
                        </a:lnTo>
                        <a:lnTo>
                          <a:pt x="278" y="38"/>
                        </a:lnTo>
                        <a:lnTo>
                          <a:pt x="288" y="33"/>
                        </a:lnTo>
                        <a:lnTo>
                          <a:pt x="297" y="29"/>
                        </a:lnTo>
                        <a:lnTo>
                          <a:pt x="307" y="24"/>
                        </a:lnTo>
                        <a:lnTo>
                          <a:pt x="316" y="19"/>
                        </a:lnTo>
                        <a:lnTo>
                          <a:pt x="326" y="14"/>
                        </a:lnTo>
                        <a:lnTo>
                          <a:pt x="336" y="10"/>
                        </a:lnTo>
                        <a:lnTo>
                          <a:pt x="350" y="5"/>
                        </a:lnTo>
                        <a:lnTo>
                          <a:pt x="360" y="0"/>
                        </a:lnTo>
                        <a:lnTo>
                          <a:pt x="364" y="0"/>
                        </a:lnTo>
                        <a:lnTo>
                          <a:pt x="369" y="0"/>
                        </a:lnTo>
                        <a:lnTo>
                          <a:pt x="374" y="0"/>
                        </a:lnTo>
                        <a:lnTo>
                          <a:pt x="374" y="5"/>
                        </a:lnTo>
                        <a:lnTo>
                          <a:pt x="379" y="5"/>
                        </a:lnTo>
                        <a:lnTo>
                          <a:pt x="384" y="5"/>
                        </a:lnTo>
                        <a:lnTo>
                          <a:pt x="384" y="10"/>
                        </a:lnTo>
                        <a:lnTo>
                          <a:pt x="388" y="10"/>
                        </a:lnTo>
                        <a:lnTo>
                          <a:pt x="393" y="1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" bIns="-2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8" name=""/>
                  <p:cNvSpPr/>
                  <p:nvPr/>
                </p:nvSpPr>
                <p:spPr>
                  <a:xfrm flipH="1">
                    <a:off x="3819600" y="4409280"/>
                    <a:ext cx="216360" cy="331560"/>
                  </a:xfrm>
                  <a:custGeom>
                    <a:avLst/>
                    <a:gdLst/>
                    <a:ahLst/>
                    <a:rect l="l" t="t" r="r" b="b"/>
                    <a:pathLst>
                      <a:path w="1276" h="2025">
                        <a:moveTo>
                          <a:pt x="1151" y="67"/>
                        </a:moveTo>
                        <a:lnTo>
                          <a:pt x="1161" y="76"/>
                        </a:lnTo>
                        <a:lnTo>
                          <a:pt x="1165" y="86"/>
                        </a:lnTo>
                        <a:lnTo>
                          <a:pt x="1175" y="96"/>
                        </a:lnTo>
                        <a:lnTo>
                          <a:pt x="1180" y="110"/>
                        </a:lnTo>
                        <a:lnTo>
                          <a:pt x="1189" y="120"/>
                        </a:lnTo>
                        <a:lnTo>
                          <a:pt x="1194" y="134"/>
                        </a:lnTo>
                        <a:lnTo>
                          <a:pt x="1199" y="144"/>
                        </a:lnTo>
                        <a:lnTo>
                          <a:pt x="1204" y="153"/>
                        </a:lnTo>
                        <a:lnTo>
                          <a:pt x="1209" y="167"/>
                        </a:lnTo>
                        <a:lnTo>
                          <a:pt x="1213" y="177"/>
                        </a:lnTo>
                        <a:lnTo>
                          <a:pt x="1218" y="191"/>
                        </a:lnTo>
                        <a:lnTo>
                          <a:pt x="1218" y="206"/>
                        </a:lnTo>
                        <a:lnTo>
                          <a:pt x="1223" y="215"/>
                        </a:lnTo>
                        <a:lnTo>
                          <a:pt x="1228" y="230"/>
                        </a:lnTo>
                        <a:lnTo>
                          <a:pt x="1228" y="244"/>
                        </a:lnTo>
                        <a:lnTo>
                          <a:pt x="1233" y="254"/>
                        </a:lnTo>
                        <a:lnTo>
                          <a:pt x="1233" y="268"/>
                        </a:lnTo>
                        <a:lnTo>
                          <a:pt x="1237" y="282"/>
                        </a:lnTo>
                        <a:lnTo>
                          <a:pt x="1237" y="292"/>
                        </a:lnTo>
                        <a:lnTo>
                          <a:pt x="1237" y="306"/>
                        </a:lnTo>
                        <a:lnTo>
                          <a:pt x="1242" y="321"/>
                        </a:lnTo>
                        <a:lnTo>
                          <a:pt x="1242" y="335"/>
                        </a:lnTo>
                        <a:lnTo>
                          <a:pt x="1247" y="345"/>
                        </a:lnTo>
                        <a:lnTo>
                          <a:pt x="1247" y="359"/>
                        </a:lnTo>
                        <a:lnTo>
                          <a:pt x="1247" y="373"/>
                        </a:lnTo>
                        <a:lnTo>
                          <a:pt x="1252" y="388"/>
                        </a:lnTo>
                        <a:lnTo>
                          <a:pt x="1252" y="402"/>
                        </a:lnTo>
                        <a:lnTo>
                          <a:pt x="1257" y="412"/>
                        </a:lnTo>
                        <a:lnTo>
                          <a:pt x="1257" y="426"/>
                        </a:lnTo>
                        <a:lnTo>
                          <a:pt x="1261" y="440"/>
                        </a:lnTo>
                        <a:lnTo>
                          <a:pt x="1266" y="455"/>
                        </a:lnTo>
                        <a:lnTo>
                          <a:pt x="1266" y="464"/>
                        </a:lnTo>
                        <a:lnTo>
                          <a:pt x="1271" y="479"/>
                        </a:lnTo>
                        <a:lnTo>
                          <a:pt x="1271" y="488"/>
                        </a:lnTo>
                        <a:lnTo>
                          <a:pt x="1271" y="503"/>
                        </a:lnTo>
                        <a:lnTo>
                          <a:pt x="1276" y="512"/>
                        </a:lnTo>
                        <a:lnTo>
                          <a:pt x="1276" y="527"/>
                        </a:lnTo>
                        <a:lnTo>
                          <a:pt x="1276" y="536"/>
                        </a:lnTo>
                        <a:lnTo>
                          <a:pt x="1276" y="551"/>
                        </a:lnTo>
                        <a:lnTo>
                          <a:pt x="1276" y="560"/>
                        </a:lnTo>
                        <a:lnTo>
                          <a:pt x="1276" y="574"/>
                        </a:lnTo>
                        <a:lnTo>
                          <a:pt x="1276" y="584"/>
                        </a:lnTo>
                        <a:lnTo>
                          <a:pt x="1276" y="594"/>
                        </a:lnTo>
                        <a:lnTo>
                          <a:pt x="1276" y="608"/>
                        </a:lnTo>
                        <a:lnTo>
                          <a:pt x="1276" y="618"/>
                        </a:lnTo>
                        <a:lnTo>
                          <a:pt x="1276" y="632"/>
                        </a:lnTo>
                        <a:lnTo>
                          <a:pt x="1276" y="642"/>
                        </a:lnTo>
                        <a:lnTo>
                          <a:pt x="1276" y="651"/>
                        </a:lnTo>
                        <a:lnTo>
                          <a:pt x="1276" y="665"/>
                        </a:lnTo>
                        <a:lnTo>
                          <a:pt x="1276" y="675"/>
                        </a:lnTo>
                        <a:lnTo>
                          <a:pt x="1276" y="689"/>
                        </a:lnTo>
                        <a:lnTo>
                          <a:pt x="1276" y="699"/>
                        </a:lnTo>
                        <a:lnTo>
                          <a:pt x="1271" y="709"/>
                        </a:lnTo>
                        <a:lnTo>
                          <a:pt x="1271" y="723"/>
                        </a:lnTo>
                        <a:lnTo>
                          <a:pt x="1271" y="732"/>
                        </a:lnTo>
                        <a:lnTo>
                          <a:pt x="1271" y="747"/>
                        </a:lnTo>
                        <a:lnTo>
                          <a:pt x="1271" y="756"/>
                        </a:lnTo>
                        <a:lnTo>
                          <a:pt x="1271" y="771"/>
                        </a:lnTo>
                        <a:lnTo>
                          <a:pt x="1266" y="780"/>
                        </a:lnTo>
                        <a:lnTo>
                          <a:pt x="1266" y="795"/>
                        </a:lnTo>
                        <a:lnTo>
                          <a:pt x="1266" y="804"/>
                        </a:lnTo>
                        <a:lnTo>
                          <a:pt x="1266" y="819"/>
                        </a:lnTo>
                        <a:lnTo>
                          <a:pt x="1266" y="833"/>
                        </a:lnTo>
                        <a:lnTo>
                          <a:pt x="1266" y="843"/>
                        </a:lnTo>
                        <a:lnTo>
                          <a:pt x="1261" y="876"/>
                        </a:lnTo>
                        <a:lnTo>
                          <a:pt x="1257" y="905"/>
                        </a:lnTo>
                        <a:lnTo>
                          <a:pt x="1257" y="938"/>
                        </a:lnTo>
                        <a:lnTo>
                          <a:pt x="1252" y="967"/>
                        </a:lnTo>
                        <a:lnTo>
                          <a:pt x="1247" y="1001"/>
                        </a:lnTo>
                        <a:lnTo>
                          <a:pt x="1242" y="1034"/>
                        </a:lnTo>
                        <a:lnTo>
                          <a:pt x="1237" y="1063"/>
                        </a:lnTo>
                        <a:lnTo>
                          <a:pt x="1233" y="1096"/>
                        </a:lnTo>
                        <a:lnTo>
                          <a:pt x="1233" y="1130"/>
                        </a:lnTo>
                        <a:lnTo>
                          <a:pt x="1228" y="1159"/>
                        </a:lnTo>
                        <a:lnTo>
                          <a:pt x="1223" y="1192"/>
                        </a:lnTo>
                        <a:lnTo>
                          <a:pt x="1218" y="1226"/>
                        </a:lnTo>
                        <a:lnTo>
                          <a:pt x="1213" y="1254"/>
                        </a:lnTo>
                        <a:lnTo>
                          <a:pt x="1209" y="1288"/>
                        </a:lnTo>
                        <a:lnTo>
                          <a:pt x="1204" y="1321"/>
                        </a:lnTo>
                        <a:lnTo>
                          <a:pt x="1199" y="1350"/>
                        </a:lnTo>
                        <a:lnTo>
                          <a:pt x="1194" y="1384"/>
                        </a:lnTo>
                        <a:lnTo>
                          <a:pt x="1189" y="1417"/>
                        </a:lnTo>
                        <a:lnTo>
                          <a:pt x="1185" y="1446"/>
                        </a:lnTo>
                        <a:lnTo>
                          <a:pt x="1180" y="1479"/>
                        </a:lnTo>
                        <a:lnTo>
                          <a:pt x="1175" y="1513"/>
                        </a:lnTo>
                        <a:lnTo>
                          <a:pt x="1170" y="1542"/>
                        </a:lnTo>
                        <a:lnTo>
                          <a:pt x="1165" y="1575"/>
                        </a:lnTo>
                        <a:lnTo>
                          <a:pt x="1156" y="1609"/>
                        </a:lnTo>
                        <a:lnTo>
                          <a:pt x="1151" y="1637"/>
                        </a:lnTo>
                        <a:lnTo>
                          <a:pt x="1146" y="1671"/>
                        </a:lnTo>
                        <a:lnTo>
                          <a:pt x="1137" y="1700"/>
                        </a:lnTo>
                        <a:lnTo>
                          <a:pt x="1132" y="1733"/>
                        </a:lnTo>
                        <a:lnTo>
                          <a:pt x="1127" y="1762"/>
                        </a:lnTo>
                        <a:lnTo>
                          <a:pt x="1118" y="1795"/>
                        </a:lnTo>
                        <a:lnTo>
                          <a:pt x="1113" y="1829"/>
                        </a:lnTo>
                        <a:lnTo>
                          <a:pt x="1103" y="1858"/>
                        </a:lnTo>
                        <a:lnTo>
                          <a:pt x="1103" y="1863"/>
                        </a:lnTo>
                        <a:lnTo>
                          <a:pt x="1103" y="1867"/>
                        </a:lnTo>
                        <a:lnTo>
                          <a:pt x="1103" y="1872"/>
                        </a:lnTo>
                        <a:lnTo>
                          <a:pt x="1098" y="1877"/>
                        </a:lnTo>
                        <a:lnTo>
                          <a:pt x="1098" y="1882"/>
                        </a:lnTo>
                        <a:lnTo>
                          <a:pt x="1098" y="1886"/>
                        </a:lnTo>
                        <a:lnTo>
                          <a:pt x="1094" y="1891"/>
                        </a:lnTo>
                        <a:lnTo>
                          <a:pt x="1094" y="1896"/>
                        </a:lnTo>
                        <a:lnTo>
                          <a:pt x="1094" y="1901"/>
                        </a:lnTo>
                        <a:lnTo>
                          <a:pt x="1089" y="1906"/>
                        </a:lnTo>
                        <a:lnTo>
                          <a:pt x="1089" y="1910"/>
                        </a:lnTo>
                        <a:lnTo>
                          <a:pt x="1084" y="1915"/>
                        </a:lnTo>
                        <a:lnTo>
                          <a:pt x="1084" y="1920"/>
                        </a:lnTo>
                        <a:lnTo>
                          <a:pt x="1084" y="1925"/>
                        </a:lnTo>
                        <a:lnTo>
                          <a:pt x="1079" y="1930"/>
                        </a:lnTo>
                        <a:lnTo>
                          <a:pt x="1079" y="1934"/>
                        </a:lnTo>
                        <a:lnTo>
                          <a:pt x="1079" y="1939"/>
                        </a:lnTo>
                        <a:lnTo>
                          <a:pt x="1074" y="1944"/>
                        </a:lnTo>
                        <a:lnTo>
                          <a:pt x="1074" y="1949"/>
                        </a:lnTo>
                        <a:lnTo>
                          <a:pt x="1074" y="1953"/>
                        </a:lnTo>
                        <a:lnTo>
                          <a:pt x="1070" y="1958"/>
                        </a:lnTo>
                        <a:lnTo>
                          <a:pt x="1070" y="1963"/>
                        </a:lnTo>
                        <a:lnTo>
                          <a:pt x="1070" y="1968"/>
                        </a:lnTo>
                        <a:lnTo>
                          <a:pt x="1065" y="1973"/>
                        </a:lnTo>
                        <a:lnTo>
                          <a:pt x="1065" y="1977"/>
                        </a:lnTo>
                        <a:lnTo>
                          <a:pt x="1065" y="1982"/>
                        </a:lnTo>
                        <a:lnTo>
                          <a:pt x="1060" y="1987"/>
                        </a:lnTo>
                        <a:lnTo>
                          <a:pt x="1060" y="1992"/>
                        </a:lnTo>
                        <a:lnTo>
                          <a:pt x="1060" y="1997"/>
                        </a:lnTo>
                        <a:lnTo>
                          <a:pt x="1060" y="2006"/>
                        </a:lnTo>
                        <a:lnTo>
                          <a:pt x="1055" y="2011"/>
                        </a:lnTo>
                        <a:lnTo>
                          <a:pt x="1055" y="2016"/>
                        </a:lnTo>
                        <a:lnTo>
                          <a:pt x="1055" y="2011"/>
                        </a:lnTo>
                        <a:lnTo>
                          <a:pt x="1050" y="2006"/>
                        </a:lnTo>
                        <a:lnTo>
                          <a:pt x="1050" y="2001"/>
                        </a:lnTo>
                        <a:lnTo>
                          <a:pt x="1046" y="1997"/>
                        </a:lnTo>
                        <a:lnTo>
                          <a:pt x="1046" y="1992"/>
                        </a:lnTo>
                        <a:lnTo>
                          <a:pt x="1041" y="1992"/>
                        </a:lnTo>
                        <a:lnTo>
                          <a:pt x="1041" y="1987"/>
                        </a:lnTo>
                        <a:lnTo>
                          <a:pt x="1036" y="1982"/>
                        </a:lnTo>
                        <a:lnTo>
                          <a:pt x="1036" y="1977"/>
                        </a:lnTo>
                        <a:lnTo>
                          <a:pt x="1031" y="1973"/>
                        </a:lnTo>
                        <a:lnTo>
                          <a:pt x="1026" y="1968"/>
                        </a:lnTo>
                        <a:lnTo>
                          <a:pt x="1026" y="1963"/>
                        </a:lnTo>
                        <a:lnTo>
                          <a:pt x="1022" y="1958"/>
                        </a:lnTo>
                        <a:lnTo>
                          <a:pt x="1017" y="1953"/>
                        </a:lnTo>
                        <a:lnTo>
                          <a:pt x="1017" y="1949"/>
                        </a:lnTo>
                        <a:lnTo>
                          <a:pt x="1012" y="1944"/>
                        </a:lnTo>
                        <a:lnTo>
                          <a:pt x="1007" y="1939"/>
                        </a:lnTo>
                        <a:lnTo>
                          <a:pt x="1002" y="1934"/>
                        </a:lnTo>
                        <a:lnTo>
                          <a:pt x="998" y="1930"/>
                        </a:lnTo>
                        <a:lnTo>
                          <a:pt x="993" y="1925"/>
                        </a:lnTo>
                        <a:lnTo>
                          <a:pt x="988" y="1920"/>
                        </a:lnTo>
                        <a:lnTo>
                          <a:pt x="983" y="1920"/>
                        </a:lnTo>
                        <a:lnTo>
                          <a:pt x="983" y="1915"/>
                        </a:lnTo>
                        <a:lnTo>
                          <a:pt x="978" y="1915"/>
                        </a:lnTo>
                        <a:lnTo>
                          <a:pt x="974" y="1915"/>
                        </a:lnTo>
                        <a:lnTo>
                          <a:pt x="969" y="1910"/>
                        </a:lnTo>
                        <a:lnTo>
                          <a:pt x="964" y="1910"/>
                        </a:lnTo>
                        <a:lnTo>
                          <a:pt x="959" y="1906"/>
                        </a:lnTo>
                        <a:lnTo>
                          <a:pt x="954" y="1906"/>
                        </a:lnTo>
                        <a:lnTo>
                          <a:pt x="950" y="1901"/>
                        </a:lnTo>
                        <a:lnTo>
                          <a:pt x="940" y="1896"/>
                        </a:lnTo>
                        <a:lnTo>
                          <a:pt x="935" y="1896"/>
                        </a:lnTo>
                        <a:lnTo>
                          <a:pt x="930" y="1896"/>
                        </a:lnTo>
                        <a:lnTo>
                          <a:pt x="926" y="1891"/>
                        </a:lnTo>
                        <a:lnTo>
                          <a:pt x="916" y="1891"/>
                        </a:lnTo>
                        <a:lnTo>
                          <a:pt x="911" y="1886"/>
                        </a:lnTo>
                        <a:lnTo>
                          <a:pt x="906" y="1886"/>
                        </a:lnTo>
                        <a:lnTo>
                          <a:pt x="897" y="1886"/>
                        </a:lnTo>
                        <a:lnTo>
                          <a:pt x="892" y="1886"/>
                        </a:lnTo>
                        <a:lnTo>
                          <a:pt x="887" y="1886"/>
                        </a:lnTo>
                        <a:lnTo>
                          <a:pt x="882" y="1882"/>
                        </a:lnTo>
                        <a:lnTo>
                          <a:pt x="873" y="1882"/>
                        </a:lnTo>
                        <a:lnTo>
                          <a:pt x="868" y="1882"/>
                        </a:lnTo>
                        <a:lnTo>
                          <a:pt x="858" y="1882"/>
                        </a:lnTo>
                        <a:lnTo>
                          <a:pt x="854" y="1882"/>
                        </a:lnTo>
                        <a:lnTo>
                          <a:pt x="849" y="1882"/>
                        </a:lnTo>
                        <a:lnTo>
                          <a:pt x="839" y="1882"/>
                        </a:lnTo>
                        <a:lnTo>
                          <a:pt x="834" y="1882"/>
                        </a:lnTo>
                        <a:lnTo>
                          <a:pt x="830" y="1886"/>
                        </a:lnTo>
                        <a:lnTo>
                          <a:pt x="820" y="1886"/>
                        </a:lnTo>
                        <a:lnTo>
                          <a:pt x="815" y="1886"/>
                        </a:lnTo>
                        <a:lnTo>
                          <a:pt x="810" y="1886"/>
                        </a:lnTo>
                        <a:lnTo>
                          <a:pt x="806" y="1886"/>
                        </a:lnTo>
                        <a:lnTo>
                          <a:pt x="796" y="1891"/>
                        </a:lnTo>
                        <a:lnTo>
                          <a:pt x="791" y="1891"/>
                        </a:lnTo>
                        <a:lnTo>
                          <a:pt x="787" y="1891"/>
                        </a:lnTo>
                        <a:lnTo>
                          <a:pt x="782" y="1896"/>
                        </a:lnTo>
                        <a:lnTo>
                          <a:pt x="772" y="1896"/>
                        </a:lnTo>
                        <a:lnTo>
                          <a:pt x="767" y="1896"/>
                        </a:lnTo>
                        <a:lnTo>
                          <a:pt x="767" y="1891"/>
                        </a:lnTo>
                        <a:lnTo>
                          <a:pt x="767" y="1886"/>
                        </a:lnTo>
                        <a:lnTo>
                          <a:pt x="772" y="1877"/>
                        </a:lnTo>
                        <a:lnTo>
                          <a:pt x="772" y="1872"/>
                        </a:lnTo>
                        <a:lnTo>
                          <a:pt x="772" y="1867"/>
                        </a:lnTo>
                        <a:lnTo>
                          <a:pt x="772" y="1858"/>
                        </a:lnTo>
                        <a:lnTo>
                          <a:pt x="777" y="1853"/>
                        </a:lnTo>
                        <a:lnTo>
                          <a:pt x="777" y="1843"/>
                        </a:lnTo>
                        <a:lnTo>
                          <a:pt x="777" y="1839"/>
                        </a:lnTo>
                        <a:lnTo>
                          <a:pt x="782" y="1834"/>
                        </a:lnTo>
                        <a:lnTo>
                          <a:pt x="782" y="1824"/>
                        </a:lnTo>
                        <a:lnTo>
                          <a:pt x="787" y="1819"/>
                        </a:lnTo>
                        <a:lnTo>
                          <a:pt x="787" y="1815"/>
                        </a:lnTo>
                        <a:lnTo>
                          <a:pt x="791" y="1805"/>
                        </a:lnTo>
                        <a:lnTo>
                          <a:pt x="791" y="1800"/>
                        </a:lnTo>
                        <a:lnTo>
                          <a:pt x="791" y="1791"/>
                        </a:lnTo>
                        <a:lnTo>
                          <a:pt x="796" y="1786"/>
                        </a:lnTo>
                        <a:lnTo>
                          <a:pt x="796" y="1781"/>
                        </a:lnTo>
                        <a:lnTo>
                          <a:pt x="801" y="1772"/>
                        </a:lnTo>
                        <a:lnTo>
                          <a:pt x="801" y="1767"/>
                        </a:lnTo>
                        <a:lnTo>
                          <a:pt x="801" y="1762"/>
                        </a:lnTo>
                        <a:lnTo>
                          <a:pt x="806" y="1752"/>
                        </a:lnTo>
                        <a:lnTo>
                          <a:pt x="806" y="1748"/>
                        </a:lnTo>
                        <a:lnTo>
                          <a:pt x="806" y="1738"/>
                        </a:lnTo>
                        <a:lnTo>
                          <a:pt x="810" y="1733"/>
                        </a:lnTo>
                        <a:lnTo>
                          <a:pt x="810" y="1724"/>
                        </a:lnTo>
                        <a:lnTo>
                          <a:pt x="810" y="1719"/>
                        </a:lnTo>
                        <a:lnTo>
                          <a:pt x="810" y="1714"/>
                        </a:lnTo>
                        <a:lnTo>
                          <a:pt x="810" y="1705"/>
                        </a:lnTo>
                        <a:lnTo>
                          <a:pt x="810" y="1700"/>
                        </a:lnTo>
                        <a:lnTo>
                          <a:pt x="815" y="1690"/>
                        </a:lnTo>
                        <a:lnTo>
                          <a:pt x="810" y="1685"/>
                        </a:lnTo>
                        <a:lnTo>
                          <a:pt x="815" y="1661"/>
                        </a:lnTo>
                        <a:lnTo>
                          <a:pt x="820" y="1637"/>
                        </a:lnTo>
                        <a:lnTo>
                          <a:pt x="820" y="1614"/>
                        </a:lnTo>
                        <a:lnTo>
                          <a:pt x="825" y="1590"/>
                        </a:lnTo>
                        <a:lnTo>
                          <a:pt x="830" y="1566"/>
                        </a:lnTo>
                        <a:lnTo>
                          <a:pt x="830" y="1546"/>
                        </a:lnTo>
                        <a:lnTo>
                          <a:pt x="834" y="1523"/>
                        </a:lnTo>
                        <a:lnTo>
                          <a:pt x="839" y="1499"/>
                        </a:lnTo>
                        <a:lnTo>
                          <a:pt x="839" y="1475"/>
                        </a:lnTo>
                        <a:lnTo>
                          <a:pt x="844" y="1451"/>
                        </a:lnTo>
                        <a:lnTo>
                          <a:pt x="844" y="1427"/>
                        </a:lnTo>
                        <a:lnTo>
                          <a:pt x="849" y="1403"/>
                        </a:lnTo>
                        <a:lnTo>
                          <a:pt x="849" y="1379"/>
                        </a:lnTo>
                        <a:lnTo>
                          <a:pt x="854" y="1355"/>
                        </a:lnTo>
                        <a:lnTo>
                          <a:pt x="858" y="1331"/>
                        </a:lnTo>
                        <a:lnTo>
                          <a:pt x="858" y="1307"/>
                        </a:lnTo>
                        <a:lnTo>
                          <a:pt x="863" y="1283"/>
                        </a:lnTo>
                        <a:lnTo>
                          <a:pt x="863" y="1259"/>
                        </a:lnTo>
                        <a:lnTo>
                          <a:pt x="863" y="1235"/>
                        </a:lnTo>
                        <a:lnTo>
                          <a:pt x="868" y="1211"/>
                        </a:lnTo>
                        <a:lnTo>
                          <a:pt x="868" y="1187"/>
                        </a:lnTo>
                        <a:lnTo>
                          <a:pt x="873" y="1163"/>
                        </a:lnTo>
                        <a:lnTo>
                          <a:pt x="873" y="1139"/>
                        </a:lnTo>
                        <a:lnTo>
                          <a:pt x="878" y="1116"/>
                        </a:lnTo>
                        <a:lnTo>
                          <a:pt x="878" y="1092"/>
                        </a:lnTo>
                        <a:lnTo>
                          <a:pt x="878" y="1068"/>
                        </a:lnTo>
                        <a:lnTo>
                          <a:pt x="882" y="1044"/>
                        </a:lnTo>
                        <a:lnTo>
                          <a:pt x="882" y="1020"/>
                        </a:lnTo>
                        <a:lnTo>
                          <a:pt x="882" y="996"/>
                        </a:lnTo>
                        <a:lnTo>
                          <a:pt x="887" y="977"/>
                        </a:lnTo>
                        <a:lnTo>
                          <a:pt x="887" y="953"/>
                        </a:lnTo>
                        <a:lnTo>
                          <a:pt x="887" y="929"/>
                        </a:lnTo>
                        <a:lnTo>
                          <a:pt x="887" y="919"/>
                        </a:lnTo>
                        <a:lnTo>
                          <a:pt x="887" y="914"/>
                        </a:lnTo>
                        <a:lnTo>
                          <a:pt x="892" y="905"/>
                        </a:lnTo>
                        <a:lnTo>
                          <a:pt x="892" y="900"/>
                        </a:lnTo>
                        <a:lnTo>
                          <a:pt x="892" y="895"/>
                        </a:lnTo>
                        <a:lnTo>
                          <a:pt x="892" y="886"/>
                        </a:lnTo>
                        <a:lnTo>
                          <a:pt x="892" y="881"/>
                        </a:lnTo>
                        <a:lnTo>
                          <a:pt x="897" y="871"/>
                        </a:lnTo>
                        <a:lnTo>
                          <a:pt x="897" y="867"/>
                        </a:lnTo>
                        <a:lnTo>
                          <a:pt x="897" y="862"/>
                        </a:lnTo>
                        <a:lnTo>
                          <a:pt x="897" y="852"/>
                        </a:lnTo>
                        <a:lnTo>
                          <a:pt x="897" y="847"/>
                        </a:lnTo>
                        <a:lnTo>
                          <a:pt x="897" y="838"/>
                        </a:lnTo>
                        <a:lnTo>
                          <a:pt x="897" y="833"/>
                        </a:lnTo>
                        <a:lnTo>
                          <a:pt x="897" y="828"/>
                        </a:lnTo>
                        <a:lnTo>
                          <a:pt x="897" y="819"/>
                        </a:lnTo>
                        <a:lnTo>
                          <a:pt x="897" y="814"/>
                        </a:lnTo>
                        <a:lnTo>
                          <a:pt x="897" y="809"/>
                        </a:lnTo>
                        <a:lnTo>
                          <a:pt x="897" y="800"/>
                        </a:lnTo>
                        <a:lnTo>
                          <a:pt x="897" y="795"/>
                        </a:lnTo>
                        <a:lnTo>
                          <a:pt x="897" y="790"/>
                        </a:lnTo>
                        <a:lnTo>
                          <a:pt x="897" y="780"/>
                        </a:lnTo>
                        <a:lnTo>
                          <a:pt x="897" y="776"/>
                        </a:lnTo>
                        <a:lnTo>
                          <a:pt x="892" y="771"/>
                        </a:lnTo>
                        <a:lnTo>
                          <a:pt x="892" y="761"/>
                        </a:lnTo>
                        <a:lnTo>
                          <a:pt x="892" y="756"/>
                        </a:lnTo>
                        <a:lnTo>
                          <a:pt x="892" y="747"/>
                        </a:lnTo>
                        <a:lnTo>
                          <a:pt x="892" y="742"/>
                        </a:lnTo>
                        <a:lnTo>
                          <a:pt x="887" y="737"/>
                        </a:lnTo>
                        <a:lnTo>
                          <a:pt x="887" y="728"/>
                        </a:lnTo>
                        <a:lnTo>
                          <a:pt x="887" y="723"/>
                        </a:lnTo>
                        <a:lnTo>
                          <a:pt x="882" y="718"/>
                        </a:lnTo>
                        <a:lnTo>
                          <a:pt x="882" y="713"/>
                        </a:lnTo>
                        <a:lnTo>
                          <a:pt x="878" y="713"/>
                        </a:lnTo>
                        <a:lnTo>
                          <a:pt x="878" y="709"/>
                        </a:lnTo>
                        <a:lnTo>
                          <a:pt x="873" y="709"/>
                        </a:lnTo>
                        <a:lnTo>
                          <a:pt x="868" y="704"/>
                        </a:lnTo>
                        <a:lnTo>
                          <a:pt x="863" y="704"/>
                        </a:lnTo>
                        <a:lnTo>
                          <a:pt x="858" y="704"/>
                        </a:lnTo>
                        <a:lnTo>
                          <a:pt x="854" y="704"/>
                        </a:lnTo>
                        <a:lnTo>
                          <a:pt x="854" y="709"/>
                        </a:lnTo>
                        <a:lnTo>
                          <a:pt x="849" y="709"/>
                        </a:lnTo>
                        <a:lnTo>
                          <a:pt x="849" y="713"/>
                        </a:lnTo>
                        <a:lnTo>
                          <a:pt x="844" y="713"/>
                        </a:lnTo>
                        <a:lnTo>
                          <a:pt x="844" y="718"/>
                        </a:lnTo>
                        <a:lnTo>
                          <a:pt x="844" y="723"/>
                        </a:lnTo>
                        <a:lnTo>
                          <a:pt x="844" y="728"/>
                        </a:lnTo>
                        <a:lnTo>
                          <a:pt x="844" y="732"/>
                        </a:lnTo>
                        <a:lnTo>
                          <a:pt x="844" y="737"/>
                        </a:lnTo>
                        <a:lnTo>
                          <a:pt x="844" y="742"/>
                        </a:lnTo>
                        <a:lnTo>
                          <a:pt x="849" y="761"/>
                        </a:lnTo>
                        <a:lnTo>
                          <a:pt x="849" y="780"/>
                        </a:lnTo>
                        <a:lnTo>
                          <a:pt x="849" y="800"/>
                        </a:lnTo>
                        <a:lnTo>
                          <a:pt x="849" y="819"/>
                        </a:lnTo>
                        <a:lnTo>
                          <a:pt x="849" y="843"/>
                        </a:lnTo>
                        <a:lnTo>
                          <a:pt x="849" y="862"/>
                        </a:lnTo>
                        <a:lnTo>
                          <a:pt x="849" y="881"/>
                        </a:lnTo>
                        <a:lnTo>
                          <a:pt x="849" y="900"/>
                        </a:lnTo>
                        <a:lnTo>
                          <a:pt x="849" y="924"/>
                        </a:lnTo>
                        <a:lnTo>
                          <a:pt x="849" y="943"/>
                        </a:lnTo>
                        <a:lnTo>
                          <a:pt x="849" y="962"/>
                        </a:lnTo>
                        <a:lnTo>
                          <a:pt x="844" y="981"/>
                        </a:lnTo>
                        <a:lnTo>
                          <a:pt x="844" y="1001"/>
                        </a:lnTo>
                        <a:lnTo>
                          <a:pt x="844" y="1020"/>
                        </a:lnTo>
                        <a:lnTo>
                          <a:pt x="844" y="1044"/>
                        </a:lnTo>
                        <a:lnTo>
                          <a:pt x="844" y="1063"/>
                        </a:lnTo>
                        <a:lnTo>
                          <a:pt x="839" y="1082"/>
                        </a:lnTo>
                        <a:lnTo>
                          <a:pt x="839" y="1101"/>
                        </a:lnTo>
                        <a:lnTo>
                          <a:pt x="839" y="1120"/>
                        </a:lnTo>
                        <a:lnTo>
                          <a:pt x="834" y="1144"/>
                        </a:lnTo>
                        <a:lnTo>
                          <a:pt x="834" y="1163"/>
                        </a:lnTo>
                        <a:lnTo>
                          <a:pt x="830" y="1183"/>
                        </a:lnTo>
                        <a:lnTo>
                          <a:pt x="830" y="1202"/>
                        </a:lnTo>
                        <a:lnTo>
                          <a:pt x="830" y="1221"/>
                        </a:lnTo>
                        <a:lnTo>
                          <a:pt x="825" y="1240"/>
                        </a:lnTo>
                        <a:lnTo>
                          <a:pt x="825" y="1264"/>
                        </a:lnTo>
                        <a:lnTo>
                          <a:pt x="820" y="1283"/>
                        </a:lnTo>
                        <a:lnTo>
                          <a:pt x="820" y="1302"/>
                        </a:lnTo>
                        <a:lnTo>
                          <a:pt x="820" y="1321"/>
                        </a:lnTo>
                        <a:lnTo>
                          <a:pt x="815" y="1345"/>
                        </a:lnTo>
                        <a:lnTo>
                          <a:pt x="815" y="1365"/>
                        </a:lnTo>
                        <a:lnTo>
                          <a:pt x="810" y="1384"/>
                        </a:lnTo>
                        <a:lnTo>
                          <a:pt x="810" y="1388"/>
                        </a:lnTo>
                        <a:lnTo>
                          <a:pt x="810" y="1393"/>
                        </a:lnTo>
                        <a:lnTo>
                          <a:pt x="810" y="1398"/>
                        </a:lnTo>
                        <a:lnTo>
                          <a:pt x="810" y="1403"/>
                        </a:lnTo>
                        <a:lnTo>
                          <a:pt x="810" y="1408"/>
                        </a:lnTo>
                        <a:lnTo>
                          <a:pt x="806" y="1408"/>
                        </a:lnTo>
                        <a:lnTo>
                          <a:pt x="806" y="1412"/>
                        </a:lnTo>
                        <a:lnTo>
                          <a:pt x="806" y="1417"/>
                        </a:lnTo>
                        <a:lnTo>
                          <a:pt x="806" y="1422"/>
                        </a:lnTo>
                        <a:lnTo>
                          <a:pt x="806" y="1427"/>
                        </a:lnTo>
                        <a:lnTo>
                          <a:pt x="806" y="1432"/>
                        </a:lnTo>
                        <a:lnTo>
                          <a:pt x="806" y="1436"/>
                        </a:lnTo>
                        <a:lnTo>
                          <a:pt x="806" y="1441"/>
                        </a:lnTo>
                        <a:lnTo>
                          <a:pt x="801" y="1441"/>
                        </a:lnTo>
                        <a:lnTo>
                          <a:pt x="801" y="1446"/>
                        </a:lnTo>
                        <a:lnTo>
                          <a:pt x="801" y="1451"/>
                        </a:lnTo>
                        <a:lnTo>
                          <a:pt x="801" y="1456"/>
                        </a:lnTo>
                        <a:lnTo>
                          <a:pt x="801" y="1460"/>
                        </a:lnTo>
                        <a:lnTo>
                          <a:pt x="801" y="1465"/>
                        </a:lnTo>
                        <a:lnTo>
                          <a:pt x="801" y="1470"/>
                        </a:lnTo>
                        <a:lnTo>
                          <a:pt x="801" y="1475"/>
                        </a:lnTo>
                        <a:lnTo>
                          <a:pt x="801" y="1479"/>
                        </a:lnTo>
                        <a:lnTo>
                          <a:pt x="801" y="1484"/>
                        </a:lnTo>
                        <a:lnTo>
                          <a:pt x="801" y="1489"/>
                        </a:lnTo>
                        <a:lnTo>
                          <a:pt x="801" y="1494"/>
                        </a:lnTo>
                        <a:lnTo>
                          <a:pt x="801" y="1499"/>
                        </a:lnTo>
                        <a:lnTo>
                          <a:pt x="801" y="1503"/>
                        </a:lnTo>
                        <a:lnTo>
                          <a:pt x="796" y="1508"/>
                        </a:lnTo>
                        <a:lnTo>
                          <a:pt x="791" y="1508"/>
                        </a:lnTo>
                        <a:lnTo>
                          <a:pt x="787" y="1508"/>
                        </a:lnTo>
                        <a:lnTo>
                          <a:pt x="782" y="1508"/>
                        </a:lnTo>
                        <a:lnTo>
                          <a:pt x="777" y="1508"/>
                        </a:lnTo>
                        <a:lnTo>
                          <a:pt x="772" y="1508"/>
                        </a:lnTo>
                        <a:lnTo>
                          <a:pt x="767" y="1508"/>
                        </a:lnTo>
                        <a:lnTo>
                          <a:pt x="763" y="1508"/>
                        </a:lnTo>
                        <a:lnTo>
                          <a:pt x="758" y="1508"/>
                        </a:lnTo>
                        <a:lnTo>
                          <a:pt x="753" y="1508"/>
                        </a:lnTo>
                        <a:lnTo>
                          <a:pt x="748" y="1508"/>
                        </a:lnTo>
                        <a:lnTo>
                          <a:pt x="743" y="1508"/>
                        </a:lnTo>
                        <a:lnTo>
                          <a:pt x="739" y="1508"/>
                        </a:lnTo>
                        <a:lnTo>
                          <a:pt x="734" y="1508"/>
                        </a:lnTo>
                        <a:lnTo>
                          <a:pt x="729" y="1508"/>
                        </a:lnTo>
                        <a:lnTo>
                          <a:pt x="724" y="1508"/>
                        </a:lnTo>
                        <a:lnTo>
                          <a:pt x="719" y="1503"/>
                        </a:lnTo>
                        <a:lnTo>
                          <a:pt x="715" y="1503"/>
                        </a:lnTo>
                        <a:lnTo>
                          <a:pt x="710" y="1503"/>
                        </a:lnTo>
                        <a:lnTo>
                          <a:pt x="705" y="1503"/>
                        </a:lnTo>
                        <a:lnTo>
                          <a:pt x="700" y="1503"/>
                        </a:lnTo>
                        <a:lnTo>
                          <a:pt x="695" y="1499"/>
                        </a:lnTo>
                        <a:lnTo>
                          <a:pt x="691" y="1499"/>
                        </a:lnTo>
                        <a:lnTo>
                          <a:pt x="686" y="1499"/>
                        </a:lnTo>
                        <a:lnTo>
                          <a:pt x="681" y="1494"/>
                        </a:lnTo>
                        <a:lnTo>
                          <a:pt x="676" y="1494"/>
                        </a:lnTo>
                        <a:lnTo>
                          <a:pt x="671" y="1494"/>
                        </a:lnTo>
                        <a:lnTo>
                          <a:pt x="667" y="1489"/>
                        </a:lnTo>
                        <a:lnTo>
                          <a:pt x="662" y="1489"/>
                        </a:lnTo>
                        <a:lnTo>
                          <a:pt x="657" y="1484"/>
                        </a:lnTo>
                        <a:lnTo>
                          <a:pt x="652" y="1484"/>
                        </a:lnTo>
                        <a:lnTo>
                          <a:pt x="652" y="1479"/>
                        </a:lnTo>
                        <a:lnTo>
                          <a:pt x="647" y="1479"/>
                        </a:lnTo>
                        <a:lnTo>
                          <a:pt x="647" y="1475"/>
                        </a:lnTo>
                        <a:lnTo>
                          <a:pt x="643" y="1475"/>
                        </a:lnTo>
                        <a:lnTo>
                          <a:pt x="643" y="1470"/>
                        </a:lnTo>
                        <a:lnTo>
                          <a:pt x="643" y="1465"/>
                        </a:lnTo>
                        <a:lnTo>
                          <a:pt x="638" y="1465"/>
                        </a:lnTo>
                        <a:lnTo>
                          <a:pt x="638" y="1460"/>
                        </a:lnTo>
                        <a:lnTo>
                          <a:pt x="638" y="1456"/>
                        </a:lnTo>
                        <a:lnTo>
                          <a:pt x="633" y="1456"/>
                        </a:lnTo>
                        <a:lnTo>
                          <a:pt x="633" y="1451"/>
                        </a:lnTo>
                        <a:lnTo>
                          <a:pt x="633" y="1446"/>
                        </a:lnTo>
                        <a:lnTo>
                          <a:pt x="628" y="1441"/>
                        </a:lnTo>
                        <a:lnTo>
                          <a:pt x="628" y="1436"/>
                        </a:lnTo>
                        <a:lnTo>
                          <a:pt x="628" y="1432"/>
                        </a:lnTo>
                        <a:lnTo>
                          <a:pt x="628" y="1427"/>
                        </a:lnTo>
                        <a:lnTo>
                          <a:pt x="623" y="1422"/>
                        </a:lnTo>
                        <a:lnTo>
                          <a:pt x="623" y="1417"/>
                        </a:lnTo>
                        <a:lnTo>
                          <a:pt x="623" y="1412"/>
                        </a:lnTo>
                        <a:lnTo>
                          <a:pt x="623" y="1408"/>
                        </a:lnTo>
                        <a:lnTo>
                          <a:pt x="623" y="1403"/>
                        </a:lnTo>
                        <a:lnTo>
                          <a:pt x="619" y="1393"/>
                        </a:lnTo>
                        <a:lnTo>
                          <a:pt x="614" y="1388"/>
                        </a:lnTo>
                        <a:lnTo>
                          <a:pt x="609" y="1379"/>
                        </a:lnTo>
                        <a:lnTo>
                          <a:pt x="604" y="1369"/>
                        </a:lnTo>
                        <a:lnTo>
                          <a:pt x="599" y="1365"/>
                        </a:lnTo>
                        <a:lnTo>
                          <a:pt x="599" y="1355"/>
                        </a:lnTo>
                        <a:lnTo>
                          <a:pt x="595" y="1345"/>
                        </a:lnTo>
                        <a:lnTo>
                          <a:pt x="590" y="1336"/>
                        </a:lnTo>
                        <a:lnTo>
                          <a:pt x="585" y="1331"/>
                        </a:lnTo>
                        <a:lnTo>
                          <a:pt x="580" y="1321"/>
                        </a:lnTo>
                        <a:lnTo>
                          <a:pt x="580" y="1312"/>
                        </a:lnTo>
                        <a:lnTo>
                          <a:pt x="575" y="1302"/>
                        </a:lnTo>
                        <a:lnTo>
                          <a:pt x="571" y="1298"/>
                        </a:lnTo>
                        <a:lnTo>
                          <a:pt x="566" y="1288"/>
                        </a:lnTo>
                        <a:lnTo>
                          <a:pt x="561" y="1278"/>
                        </a:lnTo>
                        <a:lnTo>
                          <a:pt x="561" y="1269"/>
                        </a:lnTo>
                        <a:lnTo>
                          <a:pt x="556" y="1264"/>
                        </a:lnTo>
                        <a:lnTo>
                          <a:pt x="551" y="1254"/>
                        </a:lnTo>
                        <a:lnTo>
                          <a:pt x="547" y="1245"/>
                        </a:lnTo>
                        <a:lnTo>
                          <a:pt x="542" y="1240"/>
                        </a:lnTo>
                        <a:lnTo>
                          <a:pt x="537" y="1230"/>
                        </a:lnTo>
                        <a:lnTo>
                          <a:pt x="532" y="1226"/>
                        </a:lnTo>
                        <a:lnTo>
                          <a:pt x="527" y="1216"/>
                        </a:lnTo>
                        <a:lnTo>
                          <a:pt x="523" y="1211"/>
                        </a:lnTo>
                        <a:lnTo>
                          <a:pt x="513" y="1202"/>
                        </a:lnTo>
                        <a:lnTo>
                          <a:pt x="508" y="1197"/>
                        </a:lnTo>
                        <a:lnTo>
                          <a:pt x="503" y="1192"/>
                        </a:lnTo>
                        <a:lnTo>
                          <a:pt x="494" y="1187"/>
                        </a:lnTo>
                        <a:lnTo>
                          <a:pt x="489" y="1178"/>
                        </a:lnTo>
                        <a:lnTo>
                          <a:pt x="479" y="1173"/>
                        </a:lnTo>
                        <a:lnTo>
                          <a:pt x="475" y="1168"/>
                        </a:lnTo>
                        <a:lnTo>
                          <a:pt x="465" y="1163"/>
                        </a:lnTo>
                        <a:lnTo>
                          <a:pt x="465" y="1154"/>
                        </a:lnTo>
                        <a:lnTo>
                          <a:pt x="460" y="1144"/>
                        </a:lnTo>
                        <a:lnTo>
                          <a:pt x="460" y="1135"/>
                        </a:lnTo>
                        <a:lnTo>
                          <a:pt x="460" y="1125"/>
                        </a:lnTo>
                        <a:lnTo>
                          <a:pt x="456" y="1116"/>
                        </a:lnTo>
                        <a:lnTo>
                          <a:pt x="456" y="1106"/>
                        </a:lnTo>
                        <a:lnTo>
                          <a:pt x="451" y="1096"/>
                        </a:lnTo>
                        <a:lnTo>
                          <a:pt x="451" y="1087"/>
                        </a:lnTo>
                        <a:lnTo>
                          <a:pt x="451" y="1077"/>
                        </a:lnTo>
                        <a:lnTo>
                          <a:pt x="446" y="1068"/>
                        </a:lnTo>
                        <a:lnTo>
                          <a:pt x="446" y="1053"/>
                        </a:lnTo>
                        <a:lnTo>
                          <a:pt x="446" y="1044"/>
                        </a:lnTo>
                        <a:lnTo>
                          <a:pt x="441" y="1034"/>
                        </a:lnTo>
                        <a:lnTo>
                          <a:pt x="441" y="1025"/>
                        </a:lnTo>
                        <a:lnTo>
                          <a:pt x="436" y="1015"/>
                        </a:lnTo>
                        <a:lnTo>
                          <a:pt x="436" y="1005"/>
                        </a:lnTo>
                        <a:lnTo>
                          <a:pt x="436" y="996"/>
                        </a:lnTo>
                        <a:lnTo>
                          <a:pt x="432" y="986"/>
                        </a:lnTo>
                        <a:lnTo>
                          <a:pt x="432" y="977"/>
                        </a:lnTo>
                        <a:lnTo>
                          <a:pt x="432" y="967"/>
                        </a:lnTo>
                        <a:lnTo>
                          <a:pt x="427" y="958"/>
                        </a:lnTo>
                        <a:lnTo>
                          <a:pt x="427" y="943"/>
                        </a:lnTo>
                        <a:lnTo>
                          <a:pt x="427" y="934"/>
                        </a:lnTo>
                        <a:lnTo>
                          <a:pt x="422" y="924"/>
                        </a:lnTo>
                        <a:lnTo>
                          <a:pt x="422" y="914"/>
                        </a:lnTo>
                        <a:lnTo>
                          <a:pt x="422" y="905"/>
                        </a:lnTo>
                        <a:lnTo>
                          <a:pt x="422" y="895"/>
                        </a:lnTo>
                        <a:lnTo>
                          <a:pt x="422" y="886"/>
                        </a:lnTo>
                        <a:lnTo>
                          <a:pt x="417" y="871"/>
                        </a:lnTo>
                        <a:lnTo>
                          <a:pt x="417" y="862"/>
                        </a:lnTo>
                        <a:lnTo>
                          <a:pt x="417" y="852"/>
                        </a:lnTo>
                        <a:lnTo>
                          <a:pt x="417" y="843"/>
                        </a:lnTo>
                        <a:lnTo>
                          <a:pt x="417" y="838"/>
                        </a:lnTo>
                        <a:lnTo>
                          <a:pt x="417" y="833"/>
                        </a:lnTo>
                        <a:lnTo>
                          <a:pt x="412" y="833"/>
                        </a:lnTo>
                        <a:lnTo>
                          <a:pt x="412" y="828"/>
                        </a:lnTo>
                        <a:lnTo>
                          <a:pt x="412" y="823"/>
                        </a:lnTo>
                        <a:lnTo>
                          <a:pt x="412" y="819"/>
                        </a:lnTo>
                        <a:lnTo>
                          <a:pt x="408" y="814"/>
                        </a:lnTo>
                        <a:lnTo>
                          <a:pt x="408" y="809"/>
                        </a:lnTo>
                        <a:lnTo>
                          <a:pt x="408" y="804"/>
                        </a:lnTo>
                        <a:lnTo>
                          <a:pt x="403" y="804"/>
                        </a:lnTo>
                        <a:lnTo>
                          <a:pt x="403" y="800"/>
                        </a:lnTo>
                        <a:lnTo>
                          <a:pt x="403" y="795"/>
                        </a:lnTo>
                        <a:lnTo>
                          <a:pt x="398" y="790"/>
                        </a:lnTo>
                        <a:lnTo>
                          <a:pt x="393" y="785"/>
                        </a:lnTo>
                        <a:lnTo>
                          <a:pt x="393" y="780"/>
                        </a:lnTo>
                        <a:lnTo>
                          <a:pt x="388" y="780"/>
                        </a:lnTo>
                        <a:lnTo>
                          <a:pt x="388" y="776"/>
                        </a:lnTo>
                        <a:lnTo>
                          <a:pt x="384" y="776"/>
                        </a:lnTo>
                        <a:lnTo>
                          <a:pt x="379" y="771"/>
                        </a:lnTo>
                        <a:lnTo>
                          <a:pt x="374" y="771"/>
                        </a:lnTo>
                        <a:lnTo>
                          <a:pt x="369" y="771"/>
                        </a:lnTo>
                        <a:lnTo>
                          <a:pt x="364" y="771"/>
                        </a:lnTo>
                        <a:lnTo>
                          <a:pt x="364" y="776"/>
                        </a:lnTo>
                        <a:lnTo>
                          <a:pt x="360" y="776"/>
                        </a:lnTo>
                        <a:lnTo>
                          <a:pt x="355" y="776"/>
                        </a:lnTo>
                        <a:lnTo>
                          <a:pt x="355" y="780"/>
                        </a:lnTo>
                        <a:lnTo>
                          <a:pt x="350" y="780"/>
                        </a:lnTo>
                        <a:lnTo>
                          <a:pt x="350" y="785"/>
                        </a:lnTo>
                        <a:lnTo>
                          <a:pt x="345" y="785"/>
                        </a:lnTo>
                        <a:lnTo>
                          <a:pt x="345" y="790"/>
                        </a:lnTo>
                        <a:lnTo>
                          <a:pt x="345" y="795"/>
                        </a:lnTo>
                        <a:lnTo>
                          <a:pt x="345" y="800"/>
                        </a:lnTo>
                        <a:lnTo>
                          <a:pt x="350" y="804"/>
                        </a:lnTo>
                        <a:lnTo>
                          <a:pt x="350" y="809"/>
                        </a:lnTo>
                        <a:lnTo>
                          <a:pt x="350" y="814"/>
                        </a:lnTo>
                        <a:lnTo>
                          <a:pt x="355" y="814"/>
                        </a:lnTo>
                        <a:lnTo>
                          <a:pt x="355" y="819"/>
                        </a:lnTo>
                        <a:lnTo>
                          <a:pt x="360" y="819"/>
                        </a:lnTo>
                        <a:lnTo>
                          <a:pt x="360" y="823"/>
                        </a:lnTo>
                        <a:lnTo>
                          <a:pt x="360" y="828"/>
                        </a:lnTo>
                        <a:lnTo>
                          <a:pt x="364" y="828"/>
                        </a:lnTo>
                        <a:lnTo>
                          <a:pt x="364" y="833"/>
                        </a:lnTo>
                        <a:lnTo>
                          <a:pt x="369" y="857"/>
                        </a:lnTo>
                        <a:lnTo>
                          <a:pt x="369" y="876"/>
                        </a:lnTo>
                        <a:lnTo>
                          <a:pt x="374" y="895"/>
                        </a:lnTo>
                        <a:lnTo>
                          <a:pt x="379" y="919"/>
                        </a:lnTo>
                        <a:lnTo>
                          <a:pt x="379" y="938"/>
                        </a:lnTo>
                        <a:lnTo>
                          <a:pt x="384" y="958"/>
                        </a:lnTo>
                        <a:lnTo>
                          <a:pt x="388" y="981"/>
                        </a:lnTo>
                        <a:lnTo>
                          <a:pt x="388" y="1001"/>
                        </a:lnTo>
                        <a:lnTo>
                          <a:pt x="393" y="1020"/>
                        </a:lnTo>
                        <a:lnTo>
                          <a:pt x="398" y="1039"/>
                        </a:lnTo>
                        <a:lnTo>
                          <a:pt x="403" y="1063"/>
                        </a:lnTo>
                        <a:lnTo>
                          <a:pt x="403" y="1082"/>
                        </a:lnTo>
                        <a:lnTo>
                          <a:pt x="408" y="1101"/>
                        </a:lnTo>
                        <a:lnTo>
                          <a:pt x="412" y="1120"/>
                        </a:lnTo>
                        <a:lnTo>
                          <a:pt x="412" y="1139"/>
                        </a:lnTo>
                        <a:lnTo>
                          <a:pt x="417" y="1163"/>
                        </a:lnTo>
                        <a:lnTo>
                          <a:pt x="422" y="1183"/>
                        </a:lnTo>
                        <a:lnTo>
                          <a:pt x="427" y="1202"/>
                        </a:lnTo>
                        <a:lnTo>
                          <a:pt x="427" y="1221"/>
                        </a:lnTo>
                        <a:lnTo>
                          <a:pt x="432" y="1240"/>
                        </a:lnTo>
                        <a:lnTo>
                          <a:pt x="436" y="1264"/>
                        </a:lnTo>
                        <a:lnTo>
                          <a:pt x="441" y="1283"/>
                        </a:lnTo>
                        <a:lnTo>
                          <a:pt x="441" y="1302"/>
                        </a:lnTo>
                        <a:lnTo>
                          <a:pt x="446" y="1321"/>
                        </a:lnTo>
                        <a:lnTo>
                          <a:pt x="451" y="1345"/>
                        </a:lnTo>
                        <a:lnTo>
                          <a:pt x="451" y="1365"/>
                        </a:lnTo>
                        <a:lnTo>
                          <a:pt x="456" y="1384"/>
                        </a:lnTo>
                        <a:lnTo>
                          <a:pt x="460" y="1408"/>
                        </a:lnTo>
                        <a:lnTo>
                          <a:pt x="460" y="1427"/>
                        </a:lnTo>
                        <a:lnTo>
                          <a:pt x="465" y="1446"/>
                        </a:lnTo>
                        <a:lnTo>
                          <a:pt x="465" y="1470"/>
                        </a:lnTo>
                        <a:lnTo>
                          <a:pt x="470" y="1489"/>
                        </a:lnTo>
                        <a:lnTo>
                          <a:pt x="470" y="1508"/>
                        </a:lnTo>
                        <a:lnTo>
                          <a:pt x="475" y="1523"/>
                        </a:lnTo>
                        <a:lnTo>
                          <a:pt x="475" y="1542"/>
                        </a:lnTo>
                        <a:lnTo>
                          <a:pt x="479" y="1556"/>
                        </a:lnTo>
                        <a:lnTo>
                          <a:pt x="479" y="1570"/>
                        </a:lnTo>
                        <a:lnTo>
                          <a:pt x="484" y="1590"/>
                        </a:lnTo>
                        <a:lnTo>
                          <a:pt x="484" y="1604"/>
                        </a:lnTo>
                        <a:lnTo>
                          <a:pt x="489" y="1623"/>
                        </a:lnTo>
                        <a:lnTo>
                          <a:pt x="489" y="1637"/>
                        </a:lnTo>
                        <a:lnTo>
                          <a:pt x="494" y="1657"/>
                        </a:lnTo>
                        <a:lnTo>
                          <a:pt x="494" y="1671"/>
                        </a:lnTo>
                        <a:lnTo>
                          <a:pt x="499" y="1690"/>
                        </a:lnTo>
                        <a:lnTo>
                          <a:pt x="499" y="1705"/>
                        </a:lnTo>
                        <a:lnTo>
                          <a:pt x="503" y="1724"/>
                        </a:lnTo>
                        <a:lnTo>
                          <a:pt x="503" y="1738"/>
                        </a:lnTo>
                        <a:lnTo>
                          <a:pt x="508" y="1757"/>
                        </a:lnTo>
                        <a:lnTo>
                          <a:pt x="508" y="1772"/>
                        </a:lnTo>
                        <a:lnTo>
                          <a:pt x="508" y="1791"/>
                        </a:lnTo>
                        <a:lnTo>
                          <a:pt x="508" y="1805"/>
                        </a:lnTo>
                        <a:lnTo>
                          <a:pt x="513" y="1824"/>
                        </a:lnTo>
                        <a:lnTo>
                          <a:pt x="513" y="1839"/>
                        </a:lnTo>
                        <a:lnTo>
                          <a:pt x="513" y="1858"/>
                        </a:lnTo>
                        <a:lnTo>
                          <a:pt x="513" y="1872"/>
                        </a:lnTo>
                        <a:lnTo>
                          <a:pt x="513" y="1891"/>
                        </a:lnTo>
                        <a:lnTo>
                          <a:pt x="513" y="1906"/>
                        </a:lnTo>
                        <a:lnTo>
                          <a:pt x="513" y="1925"/>
                        </a:lnTo>
                        <a:lnTo>
                          <a:pt x="513" y="1939"/>
                        </a:lnTo>
                        <a:lnTo>
                          <a:pt x="513" y="1958"/>
                        </a:lnTo>
                        <a:lnTo>
                          <a:pt x="513" y="1977"/>
                        </a:lnTo>
                        <a:lnTo>
                          <a:pt x="508" y="1992"/>
                        </a:lnTo>
                        <a:lnTo>
                          <a:pt x="508" y="2011"/>
                        </a:lnTo>
                        <a:lnTo>
                          <a:pt x="508" y="2025"/>
                        </a:lnTo>
                        <a:lnTo>
                          <a:pt x="503" y="2025"/>
                        </a:lnTo>
                        <a:lnTo>
                          <a:pt x="503" y="2021"/>
                        </a:lnTo>
                        <a:lnTo>
                          <a:pt x="499" y="2016"/>
                        </a:lnTo>
                        <a:lnTo>
                          <a:pt x="499" y="2011"/>
                        </a:lnTo>
                        <a:lnTo>
                          <a:pt x="494" y="2011"/>
                        </a:lnTo>
                        <a:lnTo>
                          <a:pt x="489" y="2006"/>
                        </a:lnTo>
                        <a:lnTo>
                          <a:pt x="489" y="2001"/>
                        </a:lnTo>
                        <a:lnTo>
                          <a:pt x="484" y="2001"/>
                        </a:lnTo>
                        <a:lnTo>
                          <a:pt x="484" y="1997"/>
                        </a:lnTo>
                        <a:lnTo>
                          <a:pt x="479" y="1997"/>
                        </a:lnTo>
                        <a:lnTo>
                          <a:pt x="475" y="1992"/>
                        </a:lnTo>
                        <a:lnTo>
                          <a:pt x="470" y="1987"/>
                        </a:lnTo>
                        <a:lnTo>
                          <a:pt x="465" y="1982"/>
                        </a:lnTo>
                        <a:lnTo>
                          <a:pt x="460" y="1977"/>
                        </a:lnTo>
                        <a:lnTo>
                          <a:pt x="456" y="1977"/>
                        </a:lnTo>
                        <a:lnTo>
                          <a:pt x="456" y="1973"/>
                        </a:lnTo>
                        <a:lnTo>
                          <a:pt x="451" y="1973"/>
                        </a:lnTo>
                        <a:lnTo>
                          <a:pt x="446" y="1968"/>
                        </a:lnTo>
                        <a:lnTo>
                          <a:pt x="441" y="1968"/>
                        </a:lnTo>
                        <a:lnTo>
                          <a:pt x="441" y="1963"/>
                        </a:lnTo>
                        <a:lnTo>
                          <a:pt x="436" y="1963"/>
                        </a:lnTo>
                        <a:lnTo>
                          <a:pt x="432" y="1958"/>
                        </a:lnTo>
                        <a:lnTo>
                          <a:pt x="427" y="1953"/>
                        </a:lnTo>
                        <a:lnTo>
                          <a:pt x="422" y="1953"/>
                        </a:lnTo>
                        <a:lnTo>
                          <a:pt x="417" y="1949"/>
                        </a:lnTo>
                        <a:lnTo>
                          <a:pt x="412" y="1944"/>
                        </a:lnTo>
                        <a:lnTo>
                          <a:pt x="408" y="1944"/>
                        </a:lnTo>
                        <a:lnTo>
                          <a:pt x="403" y="1939"/>
                        </a:lnTo>
                        <a:lnTo>
                          <a:pt x="398" y="1939"/>
                        </a:lnTo>
                        <a:lnTo>
                          <a:pt x="393" y="1939"/>
                        </a:lnTo>
                        <a:lnTo>
                          <a:pt x="388" y="1934"/>
                        </a:lnTo>
                        <a:lnTo>
                          <a:pt x="379" y="1934"/>
                        </a:lnTo>
                        <a:lnTo>
                          <a:pt x="374" y="1930"/>
                        </a:lnTo>
                        <a:lnTo>
                          <a:pt x="369" y="1930"/>
                        </a:lnTo>
                        <a:lnTo>
                          <a:pt x="360" y="1930"/>
                        </a:lnTo>
                        <a:lnTo>
                          <a:pt x="355" y="1925"/>
                        </a:lnTo>
                        <a:lnTo>
                          <a:pt x="350" y="1925"/>
                        </a:lnTo>
                        <a:lnTo>
                          <a:pt x="345" y="1925"/>
                        </a:lnTo>
                        <a:lnTo>
                          <a:pt x="336" y="1925"/>
                        </a:lnTo>
                        <a:lnTo>
                          <a:pt x="331" y="1920"/>
                        </a:lnTo>
                        <a:lnTo>
                          <a:pt x="326" y="1920"/>
                        </a:lnTo>
                        <a:lnTo>
                          <a:pt x="316" y="1920"/>
                        </a:lnTo>
                        <a:lnTo>
                          <a:pt x="312" y="1920"/>
                        </a:lnTo>
                        <a:lnTo>
                          <a:pt x="307" y="1920"/>
                        </a:lnTo>
                        <a:lnTo>
                          <a:pt x="302" y="1920"/>
                        </a:lnTo>
                        <a:lnTo>
                          <a:pt x="292" y="1920"/>
                        </a:lnTo>
                        <a:lnTo>
                          <a:pt x="288" y="1920"/>
                        </a:lnTo>
                        <a:lnTo>
                          <a:pt x="283" y="1920"/>
                        </a:lnTo>
                        <a:lnTo>
                          <a:pt x="278" y="1920"/>
                        </a:lnTo>
                        <a:lnTo>
                          <a:pt x="268" y="1920"/>
                        </a:lnTo>
                        <a:lnTo>
                          <a:pt x="264" y="1920"/>
                        </a:lnTo>
                        <a:lnTo>
                          <a:pt x="259" y="1920"/>
                        </a:lnTo>
                        <a:lnTo>
                          <a:pt x="249" y="1920"/>
                        </a:lnTo>
                        <a:lnTo>
                          <a:pt x="244" y="1920"/>
                        </a:lnTo>
                        <a:lnTo>
                          <a:pt x="240" y="1925"/>
                        </a:lnTo>
                        <a:lnTo>
                          <a:pt x="235" y="1925"/>
                        </a:lnTo>
                        <a:lnTo>
                          <a:pt x="225" y="1925"/>
                        </a:lnTo>
                        <a:lnTo>
                          <a:pt x="220" y="1930"/>
                        </a:lnTo>
                        <a:lnTo>
                          <a:pt x="216" y="1930"/>
                        </a:lnTo>
                        <a:lnTo>
                          <a:pt x="211" y="1934"/>
                        </a:lnTo>
                        <a:lnTo>
                          <a:pt x="211" y="1910"/>
                        </a:lnTo>
                        <a:lnTo>
                          <a:pt x="211" y="1886"/>
                        </a:lnTo>
                        <a:lnTo>
                          <a:pt x="211" y="1863"/>
                        </a:lnTo>
                        <a:lnTo>
                          <a:pt x="206" y="1839"/>
                        </a:lnTo>
                        <a:lnTo>
                          <a:pt x="206" y="1815"/>
                        </a:lnTo>
                        <a:lnTo>
                          <a:pt x="206" y="1795"/>
                        </a:lnTo>
                        <a:lnTo>
                          <a:pt x="201" y="1772"/>
                        </a:lnTo>
                        <a:lnTo>
                          <a:pt x="201" y="1748"/>
                        </a:lnTo>
                        <a:lnTo>
                          <a:pt x="196" y="1724"/>
                        </a:lnTo>
                        <a:lnTo>
                          <a:pt x="196" y="1705"/>
                        </a:lnTo>
                        <a:lnTo>
                          <a:pt x="192" y="1681"/>
                        </a:lnTo>
                        <a:lnTo>
                          <a:pt x="187" y="1657"/>
                        </a:lnTo>
                        <a:lnTo>
                          <a:pt x="187" y="1633"/>
                        </a:lnTo>
                        <a:lnTo>
                          <a:pt x="182" y="1614"/>
                        </a:lnTo>
                        <a:lnTo>
                          <a:pt x="177" y="1590"/>
                        </a:lnTo>
                        <a:lnTo>
                          <a:pt x="172" y="1566"/>
                        </a:lnTo>
                        <a:lnTo>
                          <a:pt x="168" y="1542"/>
                        </a:lnTo>
                        <a:lnTo>
                          <a:pt x="163" y="1523"/>
                        </a:lnTo>
                        <a:lnTo>
                          <a:pt x="163" y="1499"/>
                        </a:lnTo>
                        <a:lnTo>
                          <a:pt x="158" y="1475"/>
                        </a:lnTo>
                        <a:lnTo>
                          <a:pt x="153" y="1451"/>
                        </a:lnTo>
                        <a:lnTo>
                          <a:pt x="148" y="1432"/>
                        </a:lnTo>
                        <a:lnTo>
                          <a:pt x="144" y="1408"/>
                        </a:lnTo>
                        <a:lnTo>
                          <a:pt x="139" y="1384"/>
                        </a:lnTo>
                        <a:lnTo>
                          <a:pt x="134" y="1360"/>
                        </a:lnTo>
                        <a:lnTo>
                          <a:pt x="134" y="1341"/>
                        </a:lnTo>
                        <a:lnTo>
                          <a:pt x="129" y="1317"/>
                        </a:lnTo>
                        <a:lnTo>
                          <a:pt x="125" y="1293"/>
                        </a:lnTo>
                        <a:lnTo>
                          <a:pt x="120" y="1269"/>
                        </a:lnTo>
                        <a:lnTo>
                          <a:pt x="120" y="1245"/>
                        </a:lnTo>
                        <a:lnTo>
                          <a:pt x="115" y="1221"/>
                        </a:lnTo>
                        <a:lnTo>
                          <a:pt x="110" y="1197"/>
                        </a:lnTo>
                        <a:lnTo>
                          <a:pt x="110" y="1187"/>
                        </a:lnTo>
                        <a:lnTo>
                          <a:pt x="105" y="1178"/>
                        </a:lnTo>
                        <a:lnTo>
                          <a:pt x="105" y="1168"/>
                        </a:lnTo>
                        <a:lnTo>
                          <a:pt x="101" y="1154"/>
                        </a:lnTo>
                        <a:lnTo>
                          <a:pt x="96" y="1144"/>
                        </a:lnTo>
                        <a:lnTo>
                          <a:pt x="96" y="1135"/>
                        </a:lnTo>
                        <a:lnTo>
                          <a:pt x="91" y="1125"/>
                        </a:lnTo>
                        <a:lnTo>
                          <a:pt x="91" y="1116"/>
                        </a:lnTo>
                        <a:lnTo>
                          <a:pt x="86" y="1101"/>
                        </a:lnTo>
                        <a:lnTo>
                          <a:pt x="81" y="1092"/>
                        </a:lnTo>
                        <a:lnTo>
                          <a:pt x="81" y="1082"/>
                        </a:lnTo>
                        <a:lnTo>
                          <a:pt x="77" y="1072"/>
                        </a:lnTo>
                        <a:lnTo>
                          <a:pt x="77" y="1058"/>
                        </a:lnTo>
                        <a:lnTo>
                          <a:pt x="72" y="1049"/>
                        </a:lnTo>
                        <a:lnTo>
                          <a:pt x="72" y="1039"/>
                        </a:lnTo>
                        <a:lnTo>
                          <a:pt x="67" y="1029"/>
                        </a:lnTo>
                        <a:lnTo>
                          <a:pt x="67" y="1015"/>
                        </a:lnTo>
                        <a:lnTo>
                          <a:pt x="62" y="1005"/>
                        </a:lnTo>
                        <a:lnTo>
                          <a:pt x="62" y="996"/>
                        </a:lnTo>
                        <a:lnTo>
                          <a:pt x="57" y="986"/>
                        </a:lnTo>
                        <a:lnTo>
                          <a:pt x="57" y="972"/>
                        </a:lnTo>
                        <a:lnTo>
                          <a:pt x="53" y="962"/>
                        </a:lnTo>
                        <a:lnTo>
                          <a:pt x="53" y="953"/>
                        </a:lnTo>
                        <a:lnTo>
                          <a:pt x="48" y="943"/>
                        </a:lnTo>
                        <a:lnTo>
                          <a:pt x="48" y="929"/>
                        </a:lnTo>
                        <a:lnTo>
                          <a:pt x="48" y="919"/>
                        </a:lnTo>
                        <a:lnTo>
                          <a:pt x="43" y="910"/>
                        </a:lnTo>
                        <a:lnTo>
                          <a:pt x="43" y="895"/>
                        </a:lnTo>
                        <a:lnTo>
                          <a:pt x="43" y="886"/>
                        </a:lnTo>
                        <a:lnTo>
                          <a:pt x="43" y="876"/>
                        </a:lnTo>
                        <a:lnTo>
                          <a:pt x="38" y="862"/>
                        </a:lnTo>
                        <a:lnTo>
                          <a:pt x="38" y="852"/>
                        </a:lnTo>
                        <a:lnTo>
                          <a:pt x="38" y="838"/>
                        </a:lnTo>
                        <a:lnTo>
                          <a:pt x="33" y="823"/>
                        </a:lnTo>
                        <a:lnTo>
                          <a:pt x="33" y="809"/>
                        </a:lnTo>
                        <a:lnTo>
                          <a:pt x="29" y="795"/>
                        </a:lnTo>
                        <a:lnTo>
                          <a:pt x="29" y="780"/>
                        </a:lnTo>
                        <a:lnTo>
                          <a:pt x="24" y="766"/>
                        </a:lnTo>
                        <a:lnTo>
                          <a:pt x="24" y="752"/>
                        </a:lnTo>
                        <a:lnTo>
                          <a:pt x="19" y="737"/>
                        </a:lnTo>
                        <a:lnTo>
                          <a:pt x="19" y="718"/>
                        </a:lnTo>
                        <a:lnTo>
                          <a:pt x="14" y="704"/>
                        </a:lnTo>
                        <a:lnTo>
                          <a:pt x="14" y="689"/>
                        </a:lnTo>
                        <a:lnTo>
                          <a:pt x="9" y="675"/>
                        </a:lnTo>
                        <a:lnTo>
                          <a:pt x="9" y="661"/>
                        </a:lnTo>
                        <a:lnTo>
                          <a:pt x="9" y="646"/>
                        </a:lnTo>
                        <a:lnTo>
                          <a:pt x="5" y="632"/>
                        </a:lnTo>
                        <a:lnTo>
                          <a:pt x="5" y="618"/>
                        </a:lnTo>
                        <a:lnTo>
                          <a:pt x="5" y="603"/>
                        </a:lnTo>
                        <a:lnTo>
                          <a:pt x="5" y="589"/>
                        </a:lnTo>
                        <a:lnTo>
                          <a:pt x="0" y="574"/>
                        </a:lnTo>
                        <a:lnTo>
                          <a:pt x="0" y="555"/>
                        </a:lnTo>
                        <a:lnTo>
                          <a:pt x="0" y="541"/>
                        </a:lnTo>
                        <a:lnTo>
                          <a:pt x="0" y="527"/>
                        </a:lnTo>
                        <a:lnTo>
                          <a:pt x="0" y="512"/>
                        </a:lnTo>
                        <a:lnTo>
                          <a:pt x="0" y="498"/>
                        </a:lnTo>
                        <a:lnTo>
                          <a:pt x="0" y="483"/>
                        </a:lnTo>
                        <a:lnTo>
                          <a:pt x="0" y="469"/>
                        </a:lnTo>
                        <a:lnTo>
                          <a:pt x="0" y="455"/>
                        </a:lnTo>
                        <a:lnTo>
                          <a:pt x="0" y="440"/>
                        </a:lnTo>
                        <a:lnTo>
                          <a:pt x="0" y="426"/>
                        </a:lnTo>
                        <a:lnTo>
                          <a:pt x="0" y="412"/>
                        </a:lnTo>
                        <a:lnTo>
                          <a:pt x="0" y="397"/>
                        </a:lnTo>
                        <a:lnTo>
                          <a:pt x="0" y="383"/>
                        </a:lnTo>
                        <a:lnTo>
                          <a:pt x="5" y="378"/>
                        </a:lnTo>
                        <a:lnTo>
                          <a:pt x="5" y="373"/>
                        </a:lnTo>
                        <a:lnTo>
                          <a:pt x="5" y="369"/>
                        </a:lnTo>
                        <a:lnTo>
                          <a:pt x="5" y="364"/>
                        </a:lnTo>
                        <a:lnTo>
                          <a:pt x="9" y="359"/>
                        </a:lnTo>
                        <a:lnTo>
                          <a:pt x="9" y="354"/>
                        </a:lnTo>
                        <a:lnTo>
                          <a:pt x="9" y="349"/>
                        </a:lnTo>
                        <a:lnTo>
                          <a:pt x="9" y="345"/>
                        </a:lnTo>
                        <a:lnTo>
                          <a:pt x="9" y="340"/>
                        </a:lnTo>
                        <a:lnTo>
                          <a:pt x="14" y="340"/>
                        </a:lnTo>
                        <a:lnTo>
                          <a:pt x="14" y="335"/>
                        </a:lnTo>
                        <a:lnTo>
                          <a:pt x="14" y="330"/>
                        </a:lnTo>
                        <a:lnTo>
                          <a:pt x="19" y="330"/>
                        </a:lnTo>
                        <a:lnTo>
                          <a:pt x="19" y="325"/>
                        </a:lnTo>
                        <a:lnTo>
                          <a:pt x="24" y="321"/>
                        </a:lnTo>
                        <a:lnTo>
                          <a:pt x="29" y="321"/>
                        </a:lnTo>
                        <a:lnTo>
                          <a:pt x="29" y="325"/>
                        </a:lnTo>
                        <a:lnTo>
                          <a:pt x="33" y="325"/>
                        </a:lnTo>
                        <a:lnTo>
                          <a:pt x="38" y="325"/>
                        </a:lnTo>
                        <a:lnTo>
                          <a:pt x="43" y="330"/>
                        </a:lnTo>
                        <a:lnTo>
                          <a:pt x="48" y="330"/>
                        </a:lnTo>
                        <a:lnTo>
                          <a:pt x="53" y="335"/>
                        </a:lnTo>
                        <a:lnTo>
                          <a:pt x="57" y="335"/>
                        </a:lnTo>
                        <a:lnTo>
                          <a:pt x="62" y="335"/>
                        </a:lnTo>
                        <a:lnTo>
                          <a:pt x="62" y="340"/>
                        </a:lnTo>
                        <a:lnTo>
                          <a:pt x="67" y="340"/>
                        </a:lnTo>
                        <a:lnTo>
                          <a:pt x="72" y="340"/>
                        </a:lnTo>
                        <a:lnTo>
                          <a:pt x="77" y="345"/>
                        </a:lnTo>
                        <a:lnTo>
                          <a:pt x="81" y="345"/>
                        </a:lnTo>
                        <a:lnTo>
                          <a:pt x="86" y="349"/>
                        </a:lnTo>
                        <a:lnTo>
                          <a:pt x="91" y="349"/>
                        </a:lnTo>
                        <a:lnTo>
                          <a:pt x="96" y="349"/>
                        </a:lnTo>
                        <a:lnTo>
                          <a:pt x="101" y="354"/>
                        </a:lnTo>
                        <a:lnTo>
                          <a:pt x="105" y="354"/>
                        </a:lnTo>
                        <a:lnTo>
                          <a:pt x="110" y="359"/>
                        </a:lnTo>
                        <a:lnTo>
                          <a:pt x="115" y="359"/>
                        </a:lnTo>
                        <a:lnTo>
                          <a:pt x="120" y="359"/>
                        </a:lnTo>
                        <a:lnTo>
                          <a:pt x="125" y="364"/>
                        </a:lnTo>
                        <a:lnTo>
                          <a:pt x="129" y="364"/>
                        </a:lnTo>
                        <a:lnTo>
                          <a:pt x="134" y="369"/>
                        </a:lnTo>
                        <a:lnTo>
                          <a:pt x="139" y="369"/>
                        </a:lnTo>
                        <a:lnTo>
                          <a:pt x="144" y="373"/>
                        </a:lnTo>
                        <a:lnTo>
                          <a:pt x="148" y="373"/>
                        </a:lnTo>
                        <a:lnTo>
                          <a:pt x="153" y="373"/>
                        </a:lnTo>
                        <a:lnTo>
                          <a:pt x="158" y="378"/>
                        </a:lnTo>
                        <a:lnTo>
                          <a:pt x="163" y="378"/>
                        </a:lnTo>
                        <a:lnTo>
                          <a:pt x="168" y="378"/>
                        </a:lnTo>
                        <a:lnTo>
                          <a:pt x="172" y="378"/>
                        </a:lnTo>
                        <a:lnTo>
                          <a:pt x="177" y="378"/>
                        </a:lnTo>
                        <a:lnTo>
                          <a:pt x="182" y="378"/>
                        </a:lnTo>
                        <a:lnTo>
                          <a:pt x="187" y="383"/>
                        </a:lnTo>
                        <a:lnTo>
                          <a:pt x="192" y="383"/>
                        </a:lnTo>
                        <a:lnTo>
                          <a:pt x="196" y="383"/>
                        </a:lnTo>
                        <a:lnTo>
                          <a:pt x="201" y="378"/>
                        </a:lnTo>
                        <a:lnTo>
                          <a:pt x="206" y="378"/>
                        </a:lnTo>
                        <a:lnTo>
                          <a:pt x="211" y="378"/>
                        </a:lnTo>
                        <a:lnTo>
                          <a:pt x="216" y="378"/>
                        </a:lnTo>
                        <a:lnTo>
                          <a:pt x="220" y="378"/>
                        </a:lnTo>
                        <a:lnTo>
                          <a:pt x="225" y="378"/>
                        </a:lnTo>
                        <a:lnTo>
                          <a:pt x="230" y="378"/>
                        </a:lnTo>
                        <a:lnTo>
                          <a:pt x="235" y="373"/>
                        </a:lnTo>
                        <a:lnTo>
                          <a:pt x="240" y="373"/>
                        </a:lnTo>
                        <a:lnTo>
                          <a:pt x="244" y="373"/>
                        </a:lnTo>
                        <a:lnTo>
                          <a:pt x="249" y="373"/>
                        </a:lnTo>
                        <a:lnTo>
                          <a:pt x="254" y="369"/>
                        </a:lnTo>
                        <a:lnTo>
                          <a:pt x="259" y="369"/>
                        </a:lnTo>
                        <a:lnTo>
                          <a:pt x="264" y="369"/>
                        </a:lnTo>
                        <a:lnTo>
                          <a:pt x="268" y="369"/>
                        </a:lnTo>
                        <a:lnTo>
                          <a:pt x="273" y="364"/>
                        </a:lnTo>
                        <a:lnTo>
                          <a:pt x="278" y="364"/>
                        </a:lnTo>
                        <a:lnTo>
                          <a:pt x="283" y="364"/>
                        </a:lnTo>
                        <a:lnTo>
                          <a:pt x="288" y="364"/>
                        </a:lnTo>
                        <a:lnTo>
                          <a:pt x="292" y="364"/>
                        </a:lnTo>
                        <a:lnTo>
                          <a:pt x="292" y="369"/>
                        </a:lnTo>
                        <a:lnTo>
                          <a:pt x="297" y="373"/>
                        </a:lnTo>
                        <a:lnTo>
                          <a:pt x="297" y="378"/>
                        </a:lnTo>
                        <a:lnTo>
                          <a:pt x="297" y="383"/>
                        </a:lnTo>
                        <a:lnTo>
                          <a:pt x="302" y="388"/>
                        </a:lnTo>
                        <a:lnTo>
                          <a:pt x="302" y="393"/>
                        </a:lnTo>
                        <a:lnTo>
                          <a:pt x="302" y="397"/>
                        </a:lnTo>
                        <a:lnTo>
                          <a:pt x="302" y="402"/>
                        </a:lnTo>
                        <a:lnTo>
                          <a:pt x="307" y="407"/>
                        </a:lnTo>
                        <a:lnTo>
                          <a:pt x="307" y="412"/>
                        </a:lnTo>
                        <a:lnTo>
                          <a:pt x="307" y="416"/>
                        </a:lnTo>
                        <a:lnTo>
                          <a:pt x="307" y="421"/>
                        </a:lnTo>
                        <a:lnTo>
                          <a:pt x="307" y="426"/>
                        </a:lnTo>
                        <a:lnTo>
                          <a:pt x="307" y="431"/>
                        </a:lnTo>
                        <a:lnTo>
                          <a:pt x="307" y="436"/>
                        </a:lnTo>
                        <a:lnTo>
                          <a:pt x="307" y="440"/>
                        </a:lnTo>
                        <a:lnTo>
                          <a:pt x="307" y="445"/>
                        </a:lnTo>
                        <a:lnTo>
                          <a:pt x="307" y="450"/>
                        </a:lnTo>
                        <a:lnTo>
                          <a:pt x="307" y="455"/>
                        </a:lnTo>
                        <a:lnTo>
                          <a:pt x="307" y="460"/>
                        </a:lnTo>
                        <a:lnTo>
                          <a:pt x="312" y="460"/>
                        </a:lnTo>
                        <a:lnTo>
                          <a:pt x="312" y="464"/>
                        </a:lnTo>
                        <a:lnTo>
                          <a:pt x="312" y="469"/>
                        </a:lnTo>
                        <a:lnTo>
                          <a:pt x="312" y="474"/>
                        </a:lnTo>
                        <a:lnTo>
                          <a:pt x="312" y="479"/>
                        </a:lnTo>
                        <a:lnTo>
                          <a:pt x="312" y="483"/>
                        </a:lnTo>
                        <a:lnTo>
                          <a:pt x="312" y="488"/>
                        </a:lnTo>
                        <a:lnTo>
                          <a:pt x="312" y="493"/>
                        </a:lnTo>
                        <a:lnTo>
                          <a:pt x="312" y="498"/>
                        </a:lnTo>
                        <a:lnTo>
                          <a:pt x="312" y="503"/>
                        </a:lnTo>
                        <a:lnTo>
                          <a:pt x="316" y="503"/>
                        </a:lnTo>
                        <a:lnTo>
                          <a:pt x="316" y="507"/>
                        </a:lnTo>
                        <a:lnTo>
                          <a:pt x="316" y="512"/>
                        </a:lnTo>
                        <a:lnTo>
                          <a:pt x="316" y="517"/>
                        </a:lnTo>
                        <a:lnTo>
                          <a:pt x="312" y="517"/>
                        </a:lnTo>
                        <a:lnTo>
                          <a:pt x="312" y="522"/>
                        </a:lnTo>
                        <a:lnTo>
                          <a:pt x="312" y="527"/>
                        </a:lnTo>
                        <a:lnTo>
                          <a:pt x="312" y="531"/>
                        </a:lnTo>
                        <a:lnTo>
                          <a:pt x="307" y="536"/>
                        </a:lnTo>
                        <a:lnTo>
                          <a:pt x="307" y="541"/>
                        </a:lnTo>
                        <a:lnTo>
                          <a:pt x="307" y="546"/>
                        </a:lnTo>
                        <a:lnTo>
                          <a:pt x="307" y="551"/>
                        </a:lnTo>
                        <a:lnTo>
                          <a:pt x="307" y="555"/>
                        </a:lnTo>
                        <a:lnTo>
                          <a:pt x="307" y="560"/>
                        </a:lnTo>
                        <a:lnTo>
                          <a:pt x="312" y="560"/>
                        </a:lnTo>
                        <a:lnTo>
                          <a:pt x="312" y="565"/>
                        </a:lnTo>
                        <a:lnTo>
                          <a:pt x="316" y="565"/>
                        </a:lnTo>
                        <a:lnTo>
                          <a:pt x="316" y="570"/>
                        </a:lnTo>
                        <a:lnTo>
                          <a:pt x="321" y="570"/>
                        </a:lnTo>
                        <a:lnTo>
                          <a:pt x="326" y="570"/>
                        </a:lnTo>
                        <a:lnTo>
                          <a:pt x="331" y="570"/>
                        </a:lnTo>
                        <a:lnTo>
                          <a:pt x="340" y="570"/>
                        </a:lnTo>
                        <a:lnTo>
                          <a:pt x="345" y="570"/>
                        </a:lnTo>
                        <a:lnTo>
                          <a:pt x="350" y="565"/>
                        </a:lnTo>
                        <a:lnTo>
                          <a:pt x="355" y="565"/>
                        </a:lnTo>
                        <a:lnTo>
                          <a:pt x="360" y="565"/>
                        </a:lnTo>
                        <a:lnTo>
                          <a:pt x="364" y="560"/>
                        </a:lnTo>
                        <a:lnTo>
                          <a:pt x="369" y="555"/>
                        </a:lnTo>
                        <a:lnTo>
                          <a:pt x="374" y="555"/>
                        </a:lnTo>
                        <a:lnTo>
                          <a:pt x="374" y="551"/>
                        </a:lnTo>
                        <a:lnTo>
                          <a:pt x="379" y="546"/>
                        </a:lnTo>
                        <a:lnTo>
                          <a:pt x="384" y="541"/>
                        </a:lnTo>
                        <a:lnTo>
                          <a:pt x="388" y="536"/>
                        </a:lnTo>
                        <a:lnTo>
                          <a:pt x="388" y="531"/>
                        </a:lnTo>
                        <a:lnTo>
                          <a:pt x="393" y="527"/>
                        </a:lnTo>
                        <a:lnTo>
                          <a:pt x="398" y="522"/>
                        </a:lnTo>
                        <a:lnTo>
                          <a:pt x="398" y="517"/>
                        </a:lnTo>
                        <a:lnTo>
                          <a:pt x="403" y="512"/>
                        </a:lnTo>
                        <a:lnTo>
                          <a:pt x="408" y="507"/>
                        </a:lnTo>
                        <a:lnTo>
                          <a:pt x="408" y="503"/>
                        </a:lnTo>
                        <a:lnTo>
                          <a:pt x="412" y="498"/>
                        </a:lnTo>
                        <a:lnTo>
                          <a:pt x="412" y="493"/>
                        </a:lnTo>
                        <a:lnTo>
                          <a:pt x="417" y="488"/>
                        </a:lnTo>
                        <a:lnTo>
                          <a:pt x="417" y="483"/>
                        </a:lnTo>
                        <a:lnTo>
                          <a:pt x="422" y="479"/>
                        </a:lnTo>
                        <a:lnTo>
                          <a:pt x="427" y="469"/>
                        </a:lnTo>
                        <a:lnTo>
                          <a:pt x="427" y="464"/>
                        </a:lnTo>
                        <a:lnTo>
                          <a:pt x="432" y="460"/>
                        </a:lnTo>
                        <a:lnTo>
                          <a:pt x="432" y="455"/>
                        </a:lnTo>
                        <a:lnTo>
                          <a:pt x="436" y="450"/>
                        </a:lnTo>
                        <a:lnTo>
                          <a:pt x="441" y="450"/>
                        </a:lnTo>
                        <a:lnTo>
                          <a:pt x="441" y="445"/>
                        </a:lnTo>
                        <a:lnTo>
                          <a:pt x="446" y="440"/>
                        </a:lnTo>
                        <a:lnTo>
                          <a:pt x="446" y="436"/>
                        </a:lnTo>
                        <a:lnTo>
                          <a:pt x="451" y="431"/>
                        </a:lnTo>
                        <a:lnTo>
                          <a:pt x="451" y="426"/>
                        </a:lnTo>
                        <a:lnTo>
                          <a:pt x="451" y="421"/>
                        </a:lnTo>
                        <a:lnTo>
                          <a:pt x="451" y="416"/>
                        </a:lnTo>
                        <a:lnTo>
                          <a:pt x="456" y="416"/>
                        </a:lnTo>
                        <a:lnTo>
                          <a:pt x="456" y="412"/>
                        </a:lnTo>
                        <a:lnTo>
                          <a:pt x="456" y="407"/>
                        </a:lnTo>
                        <a:lnTo>
                          <a:pt x="460" y="407"/>
                        </a:lnTo>
                        <a:lnTo>
                          <a:pt x="460" y="402"/>
                        </a:lnTo>
                        <a:lnTo>
                          <a:pt x="465" y="402"/>
                        </a:lnTo>
                        <a:lnTo>
                          <a:pt x="470" y="402"/>
                        </a:lnTo>
                        <a:lnTo>
                          <a:pt x="475" y="407"/>
                        </a:lnTo>
                        <a:lnTo>
                          <a:pt x="479" y="407"/>
                        </a:lnTo>
                        <a:lnTo>
                          <a:pt x="484" y="412"/>
                        </a:lnTo>
                        <a:lnTo>
                          <a:pt x="489" y="416"/>
                        </a:lnTo>
                        <a:lnTo>
                          <a:pt x="494" y="421"/>
                        </a:lnTo>
                        <a:lnTo>
                          <a:pt x="499" y="426"/>
                        </a:lnTo>
                        <a:lnTo>
                          <a:pt x="503" y="431"/>
                        </a:lnTo>
                        <a:lnTo>
                          <a:pt x="508" y="436"/>
                        </a:lnTo>
                        <a:lnTo>
                          <a:pt x="513" y="440"/>
                        </a:lnTo>
                        <a:lnTo>
                          <a:pt x="518" y="445"/>
                        </a:lnTo>
                        <a:lnTo>
                          <a:pt x="523" y="450"/>
                        </a:lnTo>
                        <a:lnTo>
                          <a:pt x="527" y="455"/>
                        </a:lnTo>
                        <a:lnTo>
                          <a:pt x="527" y="464"/>
                        </a:lnTo>
                        <a:lnTo>
                          <a:pt x="532" y="469"/>
                        </a:lnTo>
                        <a:lnTo>
                          <a:pt x="537" y="474"/>
                        </a:lnTo>
                        <a:lnTo>
                          <a:pt x="542" y="479"/>
                        </a:lnTo>
                        <a:lnTo>
                          <a:pt x="547" y="483"/>
                        </a:lnTo>
                        <a:lnTo>
                          <a:pt x="547" y="488"/>
                        </a:lnTo>
                        <a:lnTo>
                          <a:pt x="551" y="493"/>
                        </a:lnTo>
                        <a:lnTo>
                          <a:pt x="556" y="498"/>
                        </a:lnTo>
                        <a:lnTo>
                          <a:pt x="561" y="503"/>
                        </a:lnTo>
                        <a:lnTo>
                          <a:pt x="566" y="507"/>
                        </a:lnTo>
                        <a:lnTo>
                          <a:pt x="566" y="512"/>
                        </a:lnTo>
                        <a:lnTo>
                          <a:pt x="571" y="522"/>
                        </a:lnTo>
                        <a:lnTo>
                          <a:pt x="575" y="527"/>
                        </a:lnTo>
                        <a:lnTo>
                          <a:pt x="580" y="531"/>
                        </a:lnTo>
                        <a:lnTo>
                          <a:pt x="585" y="536"/>
                        </a:lnTo>
                        <a:lnTo>
                          <a:pt x="585" y="541"/>
                        </a:lnTo>
                        <a:lnTo>
                          <a:pt x="590" y="546"/>
                        </a:lnTo>
                        <a:lnTo>
                          <a:pt x="595" y="551"/>
                        </a:lnTo>
                        <a:lnTo>
                          <a:pt x="599" y="555"/>
                        </a:lnTo>
                        <a:lnTo>
                          <a:pt x="604" y="560"/>
                        </a:lnTo>
                        <a:lnTo>
                          <a:pt x="604" y="565"/>
                        </a:lnTo>
                        <a:lnTo>
                          <a:pt x="609" y="570"/>
                        </a:lnTo>
                        <a:lnTo>
                          <a:pt x="614" y="570"/>
                        </a:lnTo>
                        <a:lnTo>
                          <a:pt x="619" y="570"/>
                        </a:lnTo>
                        <a:lnTo>
                          <a:pt x="623" y="570"/>
                        </a:lnTo>
                        <a:lnTo>
                          <a:pt x="628" y="570"/>
                        </a:lnTo>
                        <a:lnTo>
                          <a:pt x="633" y="565"/>
                        </a:lnTo>
                        <a:lnTo>
                          <a:pt x="638" y="565"/>
                        </a:lnTo>
                        <a:lnTo>
                          <a:pt x="643" y="565"/>
                        </a:lnTo>
                        <a:lnTo>
                          <a:pt x="647" y="560"/>
                        </a:lnTo>
                        <a:lnTo>
                          <a:pt x="652" y="555"/>
                        </a:lnTo>
                        <a:lnTo>
                          <a:pt x="657" y="551"/>
                        </a:lnTo>
                        <a:lnTo>
                          <a:pt x="662" y="551"/>
                        </a:lnTo>
                        <a:lnTo>
                          <a:pt x="662" y="546"/>
                        </a:lnTo>
                        <a:lnTo>
                          <a:pt x="667" y="541"/>
                        </a:lnTo>
                        <a:lnTo>
                          <a:pt x="671" y="541"/>
                        </a:lnTo>
                        <a:lnTo>
                          <a:pt x="671" y="536"/>
                        </a:lnTo>
                        <a:lnTo>
                          <a:pt x="676" y="531"/>
                        </a:lnTo>
                        <a:lnTo>
                          <a:pt x="681" y="527"/>
                        </a:lnTo>
                        <a:lnTo>
                          <a:pt x="681" y="522"/>
                        </a:lnTo>
                        <a:lnTo>
                          <a:pt x="686" y="522"/>
                        </a:lnTo>
                        <a:lnTo>
                          <a:pt x="686" y="517"/>
                        </a:lnTo>
                        <a:lnTo>
                          <a:pt x="691" y="512"/>
                        </a:lnTo>
                        <a:lnTo>
                          <a:pt x="695" y="507"/>
                        </a:lnTo>
                        <a:lnTo>
                          <a:pt x="695" y="503"/>
                        </a:lnTo>
                        <a:lnTo>
                          <a:pt x="700" y="498"/>
                        </a:lnTo>
                        <a:lnTo>
                          <a:pt x="700" y="493"/>
                        </a:lnTo>
                        <a:lnTo>
                          <a:pt x="705" y="488"/>
                        </a:lnTo>
                        <a:lnTo>
                          <a:pt x="710" y="483"/>
                        </a:lnTo>
                        <a:lnTo>
                          <a:pt x="710" y="479"/>
                        </a:lnTo>
                        <a:lnTo>
                          <a:pt x="715" y="474"/>
                        </a:lnTo>
                        <a:lnTo>
                          <a:pt x="715" y="469"/>
                        </a:lnTo>
                        <a:lnTo>
                          <a:pt x="719" y="464"/>
                        </a:lnTo>
                        <a:lnTo>
                          <a:pt x="719" y="460"/>
                        </a:lnTo>
                        <a:lnTo>
                          <a:pt x="724" y="455"/>
                        </a:lnTo>
                        <a:lnTo>
                          <a:pt x="724" y="445"/>
                        </a:lnTo>
                        <a:lnTo>
                          <a:pt x="729" y="440"/>
                        </a:lnTo>
                        <a:lnTo>
                          <a:pt x="729" y="436"/>
                        </a:lnTo>
                        <a:lnTo>
                          <a:pt x="734" y="431"/>
                        </a:lnTo>
                        <a:lnTo>
                          <a:pt x="739" y="421"/>
                        </a:lnTo>
                        <a:lnTo>
                          <a:pt x="739" y="416"/>
                        </a:lnTo>
                        <a:lnTo>
                          <a:pt x="743" y="412"/>
                        </a:lnTo>
                        <a:lnTo>
                          <a:pt x="743" y="402"/>
                        </a:lnTo>
                        <a:lnTo>
                          <a:pt x="748" y="397"/>
                        </a:lnTo>
                        <a:lnTo>
                          <a:pt x="748" y="393"/>
                        </a:lnTo>
                        <a:lnTo>
                          <a:pt x="753" y="388"/>
                        </a:lnTo>
                        <a:lnTo>
                          <a:pt x="753" y="378"/>
                        </a:lnTo>
                        <a:lnTo>
                          <a:pt x="758" y="373"/>
                        </a:lnTo>
                        <a:lnTo>
                          <a:pt x="758" y="369"/>
                        </a:lnTo>
                        <a:lnTo>
                          <a:pt x="763" y="359"/>
                        </a:lnTo>
                        <a:lnTo>
                          <a:pt x="763" y="354"/>
                        </a:lnTo>
                        <a:lnTo>
                          <a:pt x="767" y="349"/>
                        </a:lnTo>
                        <a:lnTo>
                          <a:pt x="767" y="340"/>
                        </a:lnTo>
                        <a:lnTo>
                          <a:pt x="767" y="335"/>
                        </a:lnTo>
                        <a:lnTo>
                          <a:pt x="772" y="330"/>
                        </a:lnTo>
                        <a:lnTo>
                          <a:pt x="772" y="321"/>
                        </a:lnTo>
                        <a:lnTo>
                          <a:pt x="777" y="316"/>
                        </a:lnTo>
                        <a:lnTo>
                          <a:pt x="777" y="311"/>
                        </a:lnTo>
                        <a:lnTo>
                          <a:pt x="777" y="302"/>
                        </a:lnTo>
                        <a:lnTo>
                          <a:pt x="782" y="297"/>
                        </a:lnTo>
                        <a:lnTo>
                          <a:pt x="782" y="287"/>
                        </a:lnTo>
                        <a:lnTo>
                          <a:pt x="782" y="282"/>
                        </a:lnTo>
                        <a:lnTo>
                          <a:pt x="782" y="278"/>
                        </a:lnTo>
                        <a:lnTo>
                          <a:pt x="787" y="268"/>
                        </a:lnTo>
                        <a:lnTo>
                          <a:pt x="787" y="263"/>
                        </a:lnTo>
                        <a:lnTo>
                          <a:pt x="787" y="254"/>
                        </a:lnTo>
                        <a:lnTo>
                          <a:pt x="787" y="249"/>
                        </a:lnTo>
                        <a:lnTo>
                          <a:pt x="787" y="239"/>
                        </a:lnTo>
                        <a:lnTo>
                          <a:pt x="787" y="235"/>
                        </a:lnTo>
                        <a:lnTo>
                          <a:pt x="787" y="225"/>
                        </a:lnTo>
                        <a:lnTo>
                          <a:pt x="787" y="220"/>
                        </a:lnTo>
                        <a:lnTo>
                          <a:pt x="787" y="211"/>
                        </a:lnTo>
                        <a:lnTo>
                          <a:pt x="787" y="206"/>
                        </a:lnTo>
                        <a:lnTo>
                          <a:pt x="787" y="196"/>
                        </a:lnTo>
                        <a:lnTo>
                          <a:pt x="791" y="191"/>
                        </a:lnTo>
                        <a:lnTo>
                          <a:pt x="791" y="182"/>
                        </a:lnTo>
                        <a:lnTo>
                          <a:pt x="791" y="177"/>
                        </a:lnTo>
                        <a:lnTo>
                          <a:pt x="791" y="167"/>
                        </a:lnTo>
                        <a:lnTo>
                          <a:pt x="791" y="163"/>
                        </a:lnTo>
                        <a:lnTo>
                          <a:pt x="791" y="153"/>
                        </a:lnTo>
                        <a:lnTo>
                          <a:pt x="791" y="148"/>
                        </a:lnTo>
                        <a:lnTo>
                          <a:pt x="791" y="139"/>
                        </a:lnTo>
                        <a:lnTo>
                          <a:pt x="791" y="134"/>
                        </a:lnTo>
                        <a:lnTo>
                          <a:pt x="791" y="124"/>
                        </a:lnTo>
                        <a:lnTo>
                          <a:pt x="791" y="120"/>
                        </a:lnTo>
                        <a:lnTo>
                          <a:pt x="791" y="110"/>
                        </a:lnTo>
                        <a:lnTo>
                          <a:pt x="791" y="105"/>
                        </a:lnTo>
                        <a:lnTo>
                          <a:pt x="791" y="96"/>
                        </a:lnTo>
                        <a:lnTo>
                          <a:pt x="791" y="91"/>
                        </a:lnTo>
                        <a:lnTo>
                          <a:pt x="787" y="81"/>
                        </a:lnTo>
                        <a:lnTo>
                          <a:pt x="787" y="76"/>
                        </a:lnTo>
                        <a:lnTo>
                          <a:pt x="787" y="67"/>
                        </a:lnTo>
                        <a:lnTo>
                          <a:pt x="787" y="62"/>
                        </a:lnTo>
                        <a:lnTo>
                          <a:pt x="782" y="57"/>
                        </a:lnTo>
                        <a:lnTo>
                          <a:pt x="782" y="48"/>
                        </a:lnTo>
                        <a:lnTo>
                          <a:pt x="777" y="43"/>
                        </a:lnTo>
                        <a:lnTo>
                          <a:pt x="787" y="38"/>
                        </a:lnTo>
                        <a:lnTo>
                          <a:pt x="796" y="33"/>
                        </a:lnTo>
                        <a:lnTo>
                          <a:pt x="806" y="33"/>
                        </a:lnTo>
                        <a:lnTo>
                          <a:pt x="815" y="29"/>
                        </a:lnTo>
                        <a:lnTo>
                          <a:pt x="825" y="24"/>
                        </a:lnTo>
                        <a:lnTo>
                          <a:pt x="834" y="24"/>
                        </a:lnTo>
                        <a:lnTo>
                          <a:pt x="844" y="19"/>
                        </a:lnTo>
                        <a:lnTo>
                          <a:pt x="858" y="14"/>
                        </a:lnTo>
                        <a:lnTo>
                          <a:pt x="868" y="14"/>
                        </a:lnTo>
                        <a:lnTo>
                          <a:pt x="878" y="9"/>
                        </a:lnTo>
                        <a:lnTo>
                          <a:pt x="887" y="9"/>
                        </a:lnTo>
                        <a:lnTo>
                          <a:pt x="897" y="5"/>
                        </a:lnTo>
                        <a:lnTo>
                          <a:pt x="911" y="5"/>
                        </a:lnTo>
                        <a:lnTo>
                          <a:pt x="921" y="5"/>
                        </a:lnTo>
                        <a:lnTo>
                          <a:pt x="930" y="0"/>
                        </a:lnTo>
                        <a:lnTo>
                          <a:pt x="940" y="0"/>
                        </a:lnTo>
                        <a:lnTo>
                          <a:pt x="954" y="0"/>
                        </a:lnTo>
                        <a:lnTo>
                          <a:pt x="964" y="0"/>
                        </a:lnTo>
                        <a:lnTo>
                          <a:pt x="974" y="0"/>
                        </a:lnTo>
                        <a:lnTo>
                          <a:pt x="983" y="0"/>
                        </a:lnTo>
                        <a:lnTo>
                          <a:pt x="998" y="0"/>
                        </a:lnTo>
                        <a:lnTo>
                          <a:pt x="1007" y="0"/>
                        </a:lnTo>
                        <a:lnTo>
                          <a:pt x="1017" y="0"/>
                        </a:lnTo>
                        <a:lnTo>
                          <a:pt x="1026" y="0"/>
                        </a:lnTo>
                        <a:lnTo>
                          <a:pt x="1036" y="5"/>
                        </a:lnTo>
                        <a:lnTo>
                          <a:pt x="1050" y="5"/>
                        </a:lnTo>
                        <a:lnTo>
                          <a:pt x="1060" y="5"/>
                        </a:lnTo>
                        <a:lnTo>
                          <a:pt x="1070" y="9"/>
                        </a:lnTo>
                        <a:lnTo>
                          <a:pt x="1079" y="14"/>
                        </a:lnTo>
                        <a:lnTo>
                          <a:pt x="1089" y="14"/>
                        </a:lnTo>
                        <a:lnTo>
                          <a:pt x="1098" y="19"/>
                        </a:lnTo>
                        <a:lnTo>
                          <a:pt x="1108" y="24"/>
                        </a:lnTo>
                        <a:lnTo>
                          <a:pt x="1151" y="67"/>
                        </a:lnTo>
                        <a:close/>
                      </a:path>
                    </a:pathLst>
                  </a:custGeom>
                  <a:solidFill>
                    <a:srgbClr val="ffd4f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9" name=""/>
                  <p:cNvSpPr/>
                  <p:nvPr/>
                </p:nvSpPr>
                <p:spPr>
                  <a:xfrm flipH="1">
                    <a:off x="3995280" y="4410000"/>
                    <a:ext cx="4968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3" h="215">
                        <a:moveTo>
                          <a:pt x="273" y="110"/>
                        </a:moveTo>
                        <a:lnTo>
                          <a:pt x="269" y="115"/>
                        </a:lnTo>
                        <a:lnTo>
                          <a:pt x="269" y="119"/>
                        </a:lnTo>
                        <a:lnTo>
                          <a:pt x="269" y="124"/>
                        </a:lnTo>
                        <a:lnTo>
                          <a:pt x="264" y="129"/>
                        </a:lnTo>
                        <a:lnTo>
                          <a:pt x="264" y="134"/>
                        </a:lnTo>
                        <a:lnTo>
                          <a:pt x="259" y="139"/>
                        </a:lnTo>
                        <a:lnTo>
                          <a:pt x="259" y="143"/>
                        </a:lnTo>
                        <a:lnTo>
                          <a:pt x="254" y="148"/>
                        </a:lnTo>
                        <a:lnTo>
                          <a:pt x="254" y="153"/>
                        </a:lnTo>
                        <a:lnTo>
                          <a:pt x="249" y="158"/>
                        </a:lnTo>
                        <a:lnTo>
                          <a:pt x="245" y="162"/>
                        </a:lnTo>
                        <a:lnTo>
                          <a:pt x="240" y="167"/>
                        </a:lnTo>
                        <a:lnTo>
                          <a:pt x="235" y="172"/>
                        </a:lnTo>
                        <a:lnTo>
                          <a:pt x="235" y="177"/>
                        </a:lnTo>
                        <a:lnTo>
                          <a:pt x="230" y="177"/>
                        </a:lnTo>
                        <a:lnTo>
                          <a:pt x="225" y="182"/>
                        </a:lnTo>
                        <a:lnTo>
                          <a:pt x="225" y="186"/>
                        </a:lnTo>
                        <a:lnTo>
                          <a:pt x="221" y="186"/>
                        </a:lnTo>
                        <a:lnTo>
                          <a:pt x="216" y="191"/>
                        </a:lnTo>
                        <a:lnTo>
                          <a:pt x="216" y="196"/>
                        </a:lnTo>
                        <a:lnTo>
                          <a:pt x="211" y="196"/>
                        </a:lnTo>
                        <a:lnTo>
                          <a:pt x="206" y="201"/>
                        </a:lnTo>
                        <a:lnTo>
                          <a:pt x="201" y="201"/>
                        </a:lnTo>
                        <a:lnTo>
                          <a:pt x="201" y="206"/>
                        </a:lnTo>
                        <a:lnTo>
                          <a:pt x="197" y="206"/>
                        </a:lnTo>
                        <a:lnTo>
                          <a:pt x="192" y="210"/>
                        </a:lnTo>
                        <a:lnTo>
                          <a:pt x="187" y="215"/>
                        </a:lnTo>
                        <a:lnTo>
                          <a:pt x="178" y="210"/>
                        </a:lnTo>
                        <a:lnTo>
                          <a:pt x="173" y="210"/>
                        </a:lnTo>
                        <a:lnTo>
                          <a:pt x="168" y="206"/>
                        </a:lnTo>
                        <a:lnTo>
                          <a:pt x="158" y="206"/>
                        </a:lnTo>
                        <a:lnTo>
                          <a:pt x="154" y="201"/>
                        </a:lnTo>
                        <a:lnTo>
                          <a:pt x="144" y="196"/>
                        </a:lnTo>
                        <a:lnTo>
                          <a:pt x="139" y="196"/>
                        </a:lnTo>
                        <a:lnTo>
                          <a:pt x="134" y="191"/>
                        </a:lnTo>
                        <a:lnTo>
                          <a:pt x="130" y="186"/>
                        </a:lnTo>
                        <a:lnTo>
                          <a:pt x="120" y="182"/>
                        </a:lnTo>
                        <a:lnTo>
                          <a:pt x="115" y="177"/>
                        </a:lnTo>
                        <a:lnTo>
                          <a:pt x="110" y="177"/>
                        </a:lnTo>
                        <a:lnTo>
                          <a:pt x="101" y="172"/>
                        </a:lnTo>
                        <a:lnTo>
                          <a:pt x="96" y="167"/>
                        </a:lnTo>
                        <a:lnTo>
                          <a:pt x="91" y="162"/>
                        </a:lnTo>
                        <a:lnTo>
                          <a:pt x="86" y="158"/>
                        </a:lnTo>
                        <a:lnTo>
                          <a:pt x="82" y="153"/>
                        </a:lnTo>
                        <a:lnTo>
                          <a:pt x="72" y="148"/>
                        </a:lnTo>
                        <a:lnTo>
                          <a:pt x="67" y="143"/>
                        </a:lnTo>
                        <a:lnTo>
                          <a:pt x="62" y="139"/>
                        </a:lnTo>
                        <a:lnTo>
                          <a:pt x="58" y="134"/>
                        </a:lnTo>
                        <a:lnTo>
                          <a:pt x="53" y="129"/>
                        </a:lnTo>
                        <a:lnTo>
                          <a:pt x="48" y="124"/>
                        </a:lnTo>
                        <a:lnTo>
                          <a:pt x="43" y="115"/>
                        </a:lnTo>
                        <a:lnTo>
                          <a:pt x="38" y="110"/>
                        </a:lnTo>
                        <a:lnTo>
                          <a:pt x="34" y="105"/>
                        </a:lnTo>
                        <a:lnTo>
                          <a:pt x="24" y="100"/>
                        </a:lnTo>
                        <a:lnTo>
                          <a:pt x="19" y="95"/>
                        </a:lnTo>
                        <a:lnTo>
                          <a:pt x="14" y="91"/>
                        </a:lnTo>
                        <a:lnTo>
                          <a:pt x="10" y="86"/>
                        </a:lnTo>
                        <a:lnTo>
                          <a:pt x="5" y="81"/>
                        </a:lnTo>
                        <a:lnTo>
                          <a:pt x="0" y="76"/>
                        </a:lnTo>
                        <a:lnTo>
                          <a:pt x="10" y="76"/>
                        </a:lnTo>
                        <a:lnTo>
                          <a:pt x="24" y="71"/>
                        </a:lnTo>
                        <a:lnTo>
                          <a:pt x="34" y="71"/>
                        </a:lnTo>
                        <a:lnTo>
                          <a:pt x="43" y="71"/>
                        </a:lnTo>
                        <a:lnTo>
                          <a:pt x="53" y="71"/>
                        </a:lnTo>
                        <a:lnTo>
                          <a:pt x="62" y="71"/>
                        </a:lnTo>
                        <a:lnTo>
                          <a:pt x="72" y="67"/>
                        </a:lnTo>
                        <a:lnTo>
                          <a:pt x="82" y="67"/>
                        </a:lnTo>
                        <a:lnTo>
                          <a:pt x="91" y="67"/>
                        </a:lnTo>
                        <a:lnTo>
                          <a:pt x="96" y="62"/>
                        </a:lnTo>
                        <a:lnTo>
                          <a:pt x="106" y="62"/>
                        </a:lnTo>
                        <a:lnTo>
                          <a:pt x="115" y="62"/>
                        </a:lnTo>
                        <a:lnTo>
                          <a:pt x="125" y="57"/>
                        </a:lnTo>
                        <a:lnTo>
                          <a:pt x="134" y="57"/>
                        </a:lnTo>
                        <a:lnTo>
                          <a:pt x="144" y="57"/>
                        </a:lnTo>
                        <a:lnTo>
                          <a:pt x="154" y="52"/>
                        </a:lnTo>
                        <a:lnTo>
                          <a:pt x="163" y="52"/>
                        </a:lnTo>
                        <a:lnTo>
                          <a:pt x="173" y="48"/>
                        </a:lnTo>
                        <a:lnTo>
                          <a:pt x="182" y="48"/>
                        </a:lnTo>
                        <a:lnTo>
                          <a:pt x="192" y="43"/>
                        </a:lnTo>
                        <a:lnTo>
                          <a:pt x="197" y="43"/>
                        </a:lnTo>
                        <a:lnTo>
                          <a:pt x="206" y="38"/>
                        </a:lnTo>
                        <a:lnTo>
                          <a:pt x="216" y="33"/>
                        </a:lnTo>
                        <a:lnTo>
                          <a:pt x="225" y="33"/>
                        </a:lnTo>
                        <a:lnTo>
                          <a:pt x="235" y="28"/>
                        </a:lnTo>
                        <a:lnTo>
                          <a:pt x="240" y="24"/>
                        </a:lnTo>
                        <a:lnTo>
                          <a:pt x="249" y="24"/>
                        </a:lnTo>
                        <a:lnTo>
                          <a:pt x="259" y="19"/>
                        </a:lnTo>
                        <a:lnTo>
                          <a:pt x="269" y="14"/>
                        </a:lnTo>
                        <a:lnTo>
                          <a:pt x="273" y="9"/>
                        </a:lnTo>
                        <a:lnTo>
                          <a:pt x="283" y="4"/>
                        </a:lnTo>
                        <a:lnTo>
                          <a:pt x="293" y="0"/>
                        </a:lnTo>
                        <a:lnTo>
                          <a:pt x="293" y="4"/>
                        </a:lnTo>
                        <a:lnTo>
                          <a:pt x="293" y="9"/>
                        </a:lnTo>
                        <a:lnTo>
                          <a:pt x="293" y="14"/>
                        </a:lnTo>
                        <a:lnTo>
                          <a:pt x="293" y="19"/>
                        </a:lnTo>
                        <a:lnTo>
                          <a:pt x="293" y="24"/>
                        </a:lnTo>
                        <a:lnTo>
                          <a:pt x="293" y="28"/>
                        </a:lnTo>
                        <a:lnTo>
                          <a:pt x="293" y="33"/>
                        </a:lnTo>
                        <a:lnTo>
                          <a:pt x="293" y="38"/>
                        </a:lnTo>
                        <a:lnTo>
                          <a:pt x="293" y="43"/>
                        </a:lnTo>
                        <a:lnTo>
                          <a:pt x="293" y="48"/>
                        </a:lnTo>
                        <a:lnTo>
                          <a:pt x="288" y="48"/>
                        </a:lnTo>
                        <a:lnTo>
                          <a:pt x="288" y="52"/>
                        </a:lnTo>
                        <a:lnTo>
                          <a:pt x="288" y="57"/>
                        </a:lnTo>
                        <a:lnTo>
                          <a:pt x="288" y="62"/>
                        </a:lnTo>
                        <a:lnTo>
                          <a:pt x="283" y="67"/>
                        </a:lnTo>
                        <a:lnTo>
                          <a:pt x="283" y="71"/>
                        </a:lnTo>
                        <a:lnTo>
                          <a:pt x="283" y="76"/>
                        </a:lnTo>
                        <a:lnTo>
                          <a:pt x="283" y="81"/>
                        </a:lnTo>
                        <a:lnTo>
                          <a:pt x="278" y="81"/>
                        </a:lnTo>
                        <a:lnTo>
                          <a:pt x="278" y="86"/>
                        </a:lnTo>
                        <a:lnTo>
                          <a:pt x="278" y="91"/>
                        </a:lnTo>
                        <a:lnTo>
                          <a:pt x="273" y="95"/>
                        </a:lnTo>
                        <a:lnTo>
                          <a:pt x="273" y="100"/>
                        </a:lnTo>
                        <a:lnTo>
                          <a:pt x="273" y="105"/>
                        </a:lnTo>
                        <a:lnTo>
                          <a:pt x="273" y="110"/>
                        </a:lnTo>
                        <a:close/>
                      </a:path>
                    </a:pathLst>
                  </a:custGeom>
                  <a:solidFill>
                    <a:srgbClr val="ff99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0" name=""/>
                  <p:cNvSpPr/>
                  <p:nvPr/>
                </p:nvSpPr>
                <p:spPr>
                  <a:xfrm flipH="1">
                    <a:off x="3910320" y="4415400"/>
                    <a:ext cx="39960" cy="77400"/>
                  </a:xfrm>
                  <a:custGeom>
                    <a:avLst/>
                    <a:gdLst/>
                    <a:ahLst/>
                    <a:rect l="l" t="t" r="r" b="b"/>
                    <a:pathLst>
                      <a:path w="236" h="474">
                        <a:moveTo>
                          <a:pt x="236" y="220"/>
                        </a:moveTo>
                        <a:lnTo>
                          <a:pt x="231" y="230"/>
                        </a:lnTo>
                        <a:lnTo>
                          <a:pt x="231" y="235"/>
                        </a:lnTo>
                        <a:lnTo>
                          <a:pt x="231" y="244"/>
                        </a:lnTo>
                        <a:lnTo>
                          <a:pt x="226" y="254"/>
                        </a:lnTo>
                        <a:lnTo>
                          <a:pt x="226" y="264"/>
                        </a:lnTo>
                        <a:lnTo>
                          <a:pt x="221" y="273"/>
                        </a:lnTo>
                        <a:lnTo>
                          <a:pt x="221" y="278"/>
                        </a:lnTo>
                        <a:lnTo>
                          <a:pt x="221" y="287"/>
                        </a:lnTo>
                        <a:lnTo>
                          <a:pt x="216" y="297"/>
                        </a:lnTo>
                        <a:lnTo>
                          <a:pt x="212" y="307"/>
                        </a:lnTo>
                        <a:lnTo>
                          <a:pt x="212" y="316"/>
                        </a:lnTo>
                        <a:lnTo>
                          <a:pt x="207" y="321"/>
                        </a:lnTo>
                        <a:lnTo>
                          <a:pt x="207" y="331"/>
                        </a:lnTo>
                        <a:lnTo>
                          <a:pt x="202" y="340"/>
                        </a:lnTo>
                        <a:lnTo>
                          <a:pt x="197" y="350"/>
                        </a:lnTo>
                        <a:lnTo>
                          <a:pt x="197" y="355"/>
                        </a:lnTo>
                        <a:lnTo>
                          <a:pt x="192" y="364"/>
                        </a:lnTo>
                        <a:lnTo>
                          <a:pt x="188" y="374"/>
                        </a:lnTo>
                        <a:lnTo>
                          <a:pt x="183" y="378"/>
                        </a:lnTo>
                        <a:lnTo>
                          <a:pt x="178" y="388"/>
                        </a:lnTo>
                        <a:lnTo>
                          <a:pt x="178" y="398"/>
                        </a:lnTo>
                        <a:lnTo>
                          <a:pt x="173" y="402"/>
                        </a:lnTo>
                        <a:lnTo>
                          <a:pt x="168" y="412"/>
                        </a:lnTo>
                        <a:lnTo>
                          <a:pt x="164" y="417"/>
                        </a:lnTo>
                        <a:lnTo>
                          <a:pt x="159" y="426"/>
                        </a:lnTo>
                        <a:lnTo>
                          <a:pt x="154" y="436"/>
                        </a:lnTo>
                        <a:lnTo>
                          <a:pt x="149" y="441"/>
                        </a:lnTo>
                        <a:lnTo>
                          <a:pt x="144" y="450"/>
                        </a:lnTo>
                        <a:lnTo>
                          <a:pt x="140" y="455"/>
                        </a:lnTo>
                        <a:lnTo>
                          <a:pt x="135" y="460"/>
                        </a:lnTo>
                        <a:lnTo>
                          <a:pt x="130" y="469"/>
                        </a:lnTo>
                        <a:lnTo>
                          <a:pt x="125" y="474"/>
                        </a:lnTo>
                        <a:lnTo>
                          <a:pt x="120" y="469"/>
                        </a:lnTo>
                        <a:lnTo>
                          <a:pt x="116" y="465"/>
                        </a:lnTo>
                        <a:lnTo>
                          <a:pt x="111" y="460"/>
                        </a:lnTo>
                        <a:lnTo>
                          <a:pt x="111" y="455"/>
                        </a:lnTo>
                        <a:lnTo>
                          <a:pt x="106" y="450"/>
                        </a:lnTo>
                        <a:lnTo>
                          <a:pt x="101" y="445"/>
                        </a:lnTo>
                        <a:lnTo>
                          <a:pt x="101" y="441"/>
                        </a:lnTo>
                        <a:lnTo>
                          <a:pt x="96" y="436"/>
                        </a:lnTo>
                        <a:lnTo>
                          <a:pt x="92" y="431"/>
                        </a:lnTo>
                        <a:lnTo>
                          <a:pt x="87" y="426"/>
                        </a:lnTo>
                        <a:lnTo>
                          <a:pt x="87" y="422"/>
                        </a:lnTo>
                        <a:lnTo>
                          <a:pt x="82" y="417"/>
                        </a:lnTo>
                        <a:lnTo>
                          <a:pt x="77" y="412"/>
                        </a:lnTo>
                        <a:lnTo>
                          <a:pt x="72" y="407"/>
                        </a:lnTo>
                        <a:lnTo>
                          <a:pt x="72" y="402"/>
                        </a:lnTo>
                        <a:lnTo>
                          <a:pt x="68" y="398"/>
                        </a:lnTo>
                        <a:lnTo>
                          <a:pt x="63" y="393"/>
                        </a:lnTo>
                        <a:lnTo>
                          <a:pt x="58" y="388"/>
                        </a:lnTo>
                        <a:lnTo>
                          <a:pt x="58" y="383"/>
                        </a:lnTo>
                        <a:lnTo>
                          <a:pt x="53" y="378"/>
                        </a:lnTo>
                        <a:lnTo>
                          <a:pt x="48" y="374"/>
                        </a:lnTo>
                        <a:lnTo>
                          <a:pt x="44" y="369"/>
                        </a:lnTo>
                        <a:lnTo>
                          <a:pt x="39" y="364"/>
                        </a:lnTo>
                        <a:lnTo>
                          <a:pt x="39" y="359"/>
                        </a:lnTo>
                        <a:lnTo>
                          <a:pt x="34" y="355"/>
                        </a:lnTo>
                        <a:lnTo>
                          <a:pt x="29" y="350"/>
                        </a:lnTo>
                        <a:lnTo>
                          <a:pt x="24" y="345"/>
                        </a:lnTo>
                        <a:lnTo>
                          <a:pt x="20" y="340"/>
                        </a:lnTo>
                        <a:lnTo>
                          <a:pt x="15" y="335"/>
                        </a:lnTo>
                        <a:lnTo>
                          <a:pt x="10" y="331"/>
                        </a:lnTo>
                        <a:lnTo>
                          <a:pt x="5" y="326"/>
                        </a:lnTo>
                        <a:lnTo>
                          <a:pt x="0" y="326"/>
                        </a:lnTo>
                        <a:lnTo>
                          <a:pt x="10" y="316"/>
                        </a:lnTo>
                        <a:lnTo>
                          <a:pt x="15" y="307"/>
                        </a:lnTo>
                        <a:lnTo>
                          <a:pt x="24" y="297"/>
                        </a:lnTo>
                        <a:lnTo>
                          <a:pt x="34" y="287"/>
                        </a:lnTo>
                        <a:lnTo>
                          <a:pt x="39" y="278"/>
                        </a:lnTo>
                        <a:lnTo>
                          <a:pt x="48" y="268"/>
                        </a:lnTo>
                        <a:lnTo>
                          <a:pt x="58" y="259"/>
                        </a:lnTo>
                        <a:lnTo>
                          <a:pt x="68" y="249"/>
                        </a:lnTo>
                        <a:lnTo>
                          <a:pt x="72" y="240"/>
                        </a:lnTo>
                        <a:lnTo>
                          <a:pt x="82" y="230"/>
                        </a:lnTo>
                        <a:lnTo>
                          <a:pt x="92" y="220"/>
                        </a:lnTo>
                        <a:lnTo>
                          <a:pt x="101" y="211"/>
                        </a:lnTo>
                        <a:lnTo>
                          <a:pt x="106" y="206"/>
                        </a:lnTo>
                        <a:lnTo>
                          <a:pt x="116" y="197"/>
                        </a:lnTo>
                        <a:lnTo>
                          <a:pt x="125" y="187"/>
                        </a:lnTo>
                        <a:lnTo>
                          <a:pt x="130" y="177"/>
                        </a:lnTo>
                        <a:lnTo>
                          <a:pt x="140" y="168"/>
                        </a:lnTo>
                        <a:lnTo>
                          <a:pt x="149" y="158"/>
                        </a:lnTo>
                        <a:lnTo>
                          <a:pt x="154" y="149"/>
                        </a:lnTo>
                        <a:lnTo>
                          <a:pt x="159" y="139"/>
                        </a:lnTo>
                        <a:lnTo>
                          <a:pt x="168" y="125"/>
                        </a:lnTo>
                        <a:lnTo>
                          <a:pt x="173" y="115"/>
                        </a:lnTo>
                        <a:lnTo>
                          <a:pt x="178" y="106"/>
                        </a:lnTo>
                        <a:lnTo>
                          <a:pt x="188" y="96"/>
                        </a:lnTo>
                        <a:lnTo>
                          <a:pt x="192" y="86"/>
                        </a:lnTo>
                        <a:lnTo>
                          <a:pt x="197" y="72"/>
                        </a:lnTo>
                        <a:lnTo>
                          <a:pt x="197" y="62"/>
                        </a:lnTo>
                        <a:lnTo>
                          <a:pt x="202" y="53"/>
                        </a:lnTo>
                        <a:lnTo>
                          <a:pt x="207" y="38"/>
                        </a:lnTo>
                        <a:lnTo>
                          <a:pt x="207" y="29"/>
                        </a:lnTo>
                        <a:lnTo>
                          <a:pt x="212" y="15"/>
                        </a:lnTo>
                        <a:lnTo>
                          <a:pt x="212" y="0"/>
                        </a:lnTo>
                        <a:lnTo>
                          <a:pt x="216" y="10"/>
                        </a:lnTo>
                        <a:lnTo>
                          <a:pt x="221" y="15"/>
                        </a:lnTo>
                        <a:lnTo>
                          <a:pt x="221" y="24"/>
                        </a:lnTo>
                        <a:lnTo>
                          <a:pt x="226" y="29"/>
                        </a:lnTo>
                        <a:lnTo>
                          <a:pt x="226" y="34"/>
                        </a:lnTo>
                        <a:lnTo>
                          <a:pt x="231" y="43"/>
                        </a:lnTo>
                        <a:lnTo>
                          <a:pt x="231" y="48"/>
                        </a:lnTo>
                        <a:lnTo>
                          <a:pt x="236" y="53"/>
                        </a:lnTo>
                        <a:lnTo>
                          <a:pt x="236" y="62"/>
                        </a:lnTo>
                        <a:lnTo>
                          <a:pt x="236" y="67"/>
                        </a:lnTo>
                        <a:lnTo>
                          <a:pt x="236" y="77"/>
                        </a:lnTo>
                        <a:lnTo>
                          <a:pt x="236" y="82"/>
                        </a:lnTo>
                        <a:lnTo>
                          <a:pt x="236" y="86"/>
                        </a:lnTo>
                        <a:lnTo>
                          <a:pt x="236" y="96"/>
                        </a:lnTo>
                        <a:lnTo>
                          <a:pt x="236" y="101"/>
                        </a:lnTo>
                        <a:lnTo>
                          <a:pt x="236" y="110"/>
                        </a:lnTo>
                        <a:lnTo>
                          <a:pt x="236" y="115"/>
                        </a:lnTo>
                        <a:lnTo>
                          <a:pt x="236" y="120"/>
                        </a:lnTo>
                        <a:lnTo>
                          <a:pt x="236" y="129"/>
                        </a:lnTo>
                        <a:lnTo>
                          <a:pt x="236" y="134"/>
                        </a:lnTo>
                        <a:lnTo>
                          <a:pt x="236" y="144"/>
                        </a:lnTo>
                        <a:lnTo>
                          <a:pt x="236" y="149"/>
                        </a:lnTo>
                        <a:lnTo>
                          <a:pt x="236" y="153"/>
                        </a:lnTo>
                        <a:lnTo>
                          <a:pt x="236" y="163"/>
                        </a:lnTo>
                        <a:lnTo>
                          <a:pt x="236" y="168"/>
                        </a:lnTo>
                        <a:lnTo>
                          <a:pt x="231" y="177"/>
                        </a:lnTo>
                        <a:lnTo>
                          <a:pt x="231" y="182"/>
                        </a:lnTo>
                        <a:lnTo>
                          <a:pt x="231" y="192"/>
                        </a:lnTo>
                        <a:lnTo>
                          <a:pt x="231" y="197"/>
                        </a:lnTo>
                        <a:lnTo>
                          <a:pt x="231" y="206"/>
                        </a:lnTo>
                        <a:lnTo>
                          <a:pt x="231" y="211"/>
                        </a:lnTo>
                        <a:lnTo>
                          <a:pt x="236" y="22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600" bIns="30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1" name=""/>
                  <p:cNvSpPr/>
                  <p:nvPr/>
                </p:nvSpPr>
                <p:spPr>
                  <a:xfrm flipH="1">
                    <a:off x="4332960" y="4448160"/>
                    <a:ext cx="226080" cy="19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334" h="1221">
                        <a:moveTo>
                          <a:pt x="892" y="273"/>
                        </a:moveTo>
                        <a:lnTo>
                          <a:pt x="979" y="288"/>
                        </a:lnTo>
                        <a:lnTo>
                          <a:pt x="983" y="292"/>
                        </a:lnTo>
                        <a:lnTo>
                          <a:pt x="983" y="297"/>
                        </a:lnTo>
                        <a:lnTo>
                          <a:pt x="988" y="302"/>
                        </a:lnTo>
                        <a:lnTo>
                          <a:pt x="988" y="307"/>
                        </a:lnTo>
                        <a:lnTo>
                          <a:pt x="993" y="312"/>
                        </a:lnTo>
                        <a:lnTo>
                          <a:pt x="998" y="321"/>
                        </a:lnTo>
                        <a:lnTo>
                          <a:pt x="998" y="326"/>
                        </a:lnTo>
                        <a:lnTo>
                          <a:pt x="1003" y="331"/>
                        </a:lnTo>
                        <a:lnTo>
                          <a:pt x="1003" y="335"/>
                        </a:lnTo>
                        <a:lnTo>
                          <a:pt x="1007" y="340"/>
                        </a:lnTo>
                        <a:lnTo>
                          <a:pt x="1007" y="345"/>
                        </a:lnTo>
                        <a:lnTo>
                          <a:pt x="1012" y="355"/>
                        </a:lnTo>
                        <a:lnTo>
                          <a:pt x="1012" y="359"/>
                        </a:lnTo>
                        <a:lnTo>
                          <a:pt x="1017" y="364"/>
                        </a:lnTo>
                        <a:lnTo>
                          <a:pt x="1017" y="369"/>
                        </a:lnTo>
                        <a:lnTo>
                          <a:pt x="1017" y="379"/>
                        </a:lnTo>
                        <a:lnTo>
                          <a:pt x="1022" y="383"/>
                        </a:lnTo>
                        <a:lnTo>
                          <a:pt x="1022" y="388"/>
                        </a:lnTo>
                        <a:lnTo>
                          <a:pt x="1027" y="393"/>
                        </a:lnTo>
                        <a:lnTo>
                          <a:pt x="1027" y="403"/>
                        </a:lnTo>
                        <a:lnTo>
                          <a:pt x="1027" y="407"/>
                        </a:lnTo>
                        <a:lnTo>
                          <a:pt x="1031" y="412"/>
                        </a:lnTo>
                        <a:lnTo>
                          <a:pt x="1031" y="417"/>
                        </a:lnTo>
                        <a:lnTo>
                          <a:pt x="1031" y="426"/>
                        </a:lnTo>
                        <a:lnTo>
                          <a:pt x="1036" y="431"/>
                        </a:lnTo>
                        <a:lnTo>
                          <a:pt x="1036" y="436"/>
                        </a:lnTo>
                        <a:lnTo>
                          <a:pt x="1036" y="441"/>
                        </a:lnTo>
                        <a:lnTo>
                          <a:pt x="1041" y="450"/>
                        </a:lnTo>
                        <a:lnTo>
                          <a:pt x="1041" y="455"/>
                        </a:lnTo>
                        <a:lnTo>
                          <a:pt x="1046" y="460"/>
                        </a:lnTo>
                        <a:lnTo>
                          <a:pt x="1046" y="465"/>
                        </a:lnTo>
                        <a:lnTo>
                          <a:pt x="1046" y="474"/>
                        </a:lnTo>
                        <a:lnTo>
                          <a:pt x="1051" y="474"/>
                        </a:lnTo>
                        <a:lnTo>
                          <a:pt x="1055" y="474"/>
                        </a:lnTo>
                        <a:lnTo>
                          <a:pt x="1060" y="474"/>
                        </a:lnTo>
                        <a:lnTo>
                          <a:pt x="1065" y="474"/>
                        </a:lnTo>
                        <a:lnTo>
                          <a:pt x="1065" y="470"/>
                        </a:lnTo>
                        <a:lnTo>
                          <a:pt x="1070" y="470"/>
                        </a:lnTo>
                        <a:lnTo>
                          <a:pt x="1070" y="465"/>
                        </a:lnTo>
                        <a:lnTo>
                          <a:pt x="1075" y="465"/>
                        </a:lnTo>
                        <a:lnTo>
                          <a:pt x="1075" y="460"/>
                        </a:lnTo>
                        <a:lnTo>
                          <a:pt x="1079" y="460"/>
                        </a:lnTo>
                        <a:lnTo>
                          <a:pt x="1084" y="460"/>
                        </a:lnTo>
                        <a:lnTo>
                          <a:pt x="1084" y="455"/>
                        </a:lnTo>
                        <a:lnTo>
                          <a:pt x="1089" y="455"/>
                        </a:lnTo>
                        <a:lnTo>
                          <a:pt x="1094" y="455"/>
                        </a:lnTo>
                        <a:lnTo>
                          <a:pt x="1094" y="450"/>
                        </a:lnTo>
                        <a:lnTo>
                          <a:pt x="1099" y="450"/>
                        </a:lnTo>
                        <a:lnTo>
                          <a:pt x="1099" y="446"/>
                        </a:lnTo>
                        <a:lnTo>
                          <a:pt x="1099" y="441"/>
                        </a:lnTo>
                        <a:lnTo>
                          <a:pt x="1103" y="436"/>
                        </a:lnTo>
                        <a:lnTo>
                          <a:pt x="1103" y="431"/>
                        </a:lnTo>
                        <a:lnTo>
                          <a:pt x="1103" y="426"/>
                        </a:lnTo>
                        <a:lnTo>
                          <a:pt x="1108" y="422"/>
                        </a:lnTo>
                        <a:lnTo>
                          <a:pt x="1108" y="417"/>
                        </a:lnTo>
                        <a:lnTo>
                          <a:pt x="1113" y="412"/>
                        </a:lnTo>
                        <a:lnTo>
                          <a:pt x="1113" y="407"/>
                        </a:lnTo>
                        <a:lnTo>
                          <a:pt x="1118" y="403"/>
                        </a:lnTo>
                        <a:lnTo>
                          <a:pt x="1123" y="398"/>
                        </a:lnTo>
                        <a:lnTo>
                          <a:pt x="1123" y="393"/>
                        </a:lnTo>
                        <a:lnTo>
                          <a:pt x="1127" y="388"/>
                        </a:lnTo>
                        <a:lnTo>
                          <a:pt x="1127" y="383"/>
                        </a:lnTo>
                        <a:lnTo>
                          <a:pt x="1132" y="379"/>
                        </a:lnTo>
                        <a:lnTo>
                          <a:pt x="1137" y="374"/>
                        </a:lnTo>
                        <a:lnTo>
                          <a:pt x="1137" y="369"/>
                        </a:lnTo>
                        <a:lnTo>
                          <a:pt x="1142" y="364"/>
                        </a:lnTo>
                        <a:lnTo>
                          <a:pt x="1147" y="364"/>
                        </a:lnTo>
                        <a:lnTo>
                          <a:pt x="1151" y="359"/>
                        </a:lnTo>
                        <a:lnTo>
                          <a:pt x="1151" y="355"/>
                        </a:lnTo>
                        <a:lnTo>
                          <a:pt x="1156" y="350"/>
                        </a:lnTo>
                        <a:lnTo>
                          <a:pt x="1161" y="345"/>
                        </a:lnTo>
                        <a:lnTo>
                          <a:pt x="1166" y="345"/>
                        </a:lnTo>
                        <a:lnTo>
                          <a:pt x="1166" y="340"/>
                        </a:lnTo>
                        <a:lnTo>
                          <a:pt x="1171" y="335"/>
                        </a:lnTo>
                        <a:lnTo>
                          <a:pt x="1175" y="331"/>
                        </a:lnTo>
                        <a:lnTo>
                          <a:pt x="1180" y="331"/>
                        </a:lnTo>
                        <a:lnTo>
                          <a:pt x="1185" y="326"/>
                        </a:lnTo>
                        <a:lnTo>
                          <a:pt x="1190" y="321"/>
                        </a:lnTo>
                        <a:lnTo>
                          <a:pt x="1195" y="321"/>
                        </a:lnTo>
                        <a:lnTo>
                          <a:pt x="1199" y="316"/>
                        </a:lnTo>
                        <a:lnTo>
                          <a:pt x="1204" y="316"/>
                        </a:lnTo>
                        <a:lnTo>
                          <a:pt x="1209" y="316"/>
                        </a:lnTo>
                        <a:lnTo>
                          <a:pt x="1214" y="316"/>
                        </a:lnTo>
                        <a:lnTo>
                          <a:pt x="1219" y="316"/>
                        </a:lnTo>
                        <a:lnTo>
                          <a:pt x="1223" y="316"/>
                        </a:lnTo>
                        <a:lnTo>
                          <a:pt x="1228" y="316"/>
                        </a:lnTo>
                        <a:lnTo>
                          <a:pt x="1233" y="316"/>
                        </a:lnTo>
                        <a:lnTo>
                          <a:pt x="1238" y="316"/>
                        </a:lnTo>
                        <a:lnTo>
                          <a:pt x="1243" y="316"/>
                        </a:lnTo>
                        <a:lnTo>
                          <a:pt x="1247" y="316"/>
                        </a:lnTo>
                        <a:lnTo>
                          <a:pt x="1252" y="316"/>
                        </a:lnTo>
                        <a:lnTo>
                          <a:pt x="1257" y="321"/>
                        </a:lnTo>
                        <a:lnTo>
                          <a:pt x="1262" y="321"/>
                        </a:lnTo>
                        <a:lnTo>
                          <a:pt x="1266" y="321"/>
                        </a:lnTo>
                        <a:lnTo>
                          <a:pt x="1271" y="321"/>
                        </a:lnTo>
                        <a:lnTo>
                          <a:pt x="1271" y="326"/>
                        </a:lnTo>
                        <a:lnTo>
                          <a:pt x="1276" y="326"/>
                        </a:lnTo>
                        <a:lnTo>
                          <a:pt x="1281" y="326"/>
                        </a:lnTo>
                        <a:lnTo>
                          <a:pt x="1281" y="331"/>
                        </a:lnTo>
                        <a:lnTo>
                          <a:pt x="1286" y="331"/>
                        </a:lnTo>
                        <a:lnTo>
                          <a:pt x="1290" y="335"/>
                        </a:lnTo>
                        <a:lnTo>
                          <a:pt x="1295" y="335"/>
                        </a:lnTo>
                        <a:lnTo>
                          <a:pt x="1300" y="340"/>
                        </a:lnTo>
                        <a:lnTo>
                          <a:pt x="1305" y="345"/>
                        </a:lnTo>
                        <a:lnTo>
                          <a:pt x="1305" y="350"/>
                        </a:lnTo>
                        <a:lnTo>
                          <a:pt x="1310" y="355"/>
                        </a:lnTo>
                        <a:lnTo>
                          <a:pt x="1314" y="359"/>
                        </a:lnTo>
                        <a:lnTo>
                          <a:pt x="1319" y="364"/>
                        </a:lnTo>
                        <a:lnTo>
                          <a:pt x="1319" y="374"/>
                        </a:lnTo>
                        <a:lnTo>
                          <a:pt x="1324" y="379"/>
                        </a:lnTo>
                        <a:lnTo>
                          <a:pt x="1324" y="383"/>
                        </a:lnTo>
                        <a:lnTo>
                          <a:pt x="1329" y="393"/>
                        </a:lnTo>
                        <a:lnTo>
                          <a:pt x="1329" y="398"/>
                        </a:lnTo>
                        <a:lnTo>
                          <a:pt x="1329" y="403"/>
                        </a:lnTo>
                        <a:lnTo>
                          <a:pt x="1334" y="412"/>
                        </a:lnTo>
                        <a:lnTo>
                          <a:pt x="1334" y="417"/>
                        </a:lnTo>
                        <a:lnTo>
                          <a:pt x="1334" y="426"/>
                        </a:lnTo>
                        <a:lnTo>
                          <a:pt x="1334" y="431"/>
                        </a:lnTo>
                        <a:lnTo>
                          <a:pt x="1334" y="441"/>
                        </a:lnTo>
                        <a:lnTo>
                          <a:pt x="1334" y="446"/>
                        </a:lnTo>
                        <a:lnTo>
                          <a:pt x="1334" y="455"/>
                        </a:lnTo>
                        <a:lnTo>
                          <a:pt x="1334" y="460"/>
                        </a:lnTo>
                        <a:lnTo>
                          <a:pt x="1334" y="470"/>
                        </a:lnTo>
                        <a:lnTo>
                          <a:pt x="1334" y="474"/>
                        </a:lnTo>
                        <a:lnTo>
                          <a:pt x="1334" y="484"/>
                        </a:lnTo>
                        <a:lnTo>
                          <a:pt x="1329" y="489"/>
                        </a:lnTo>
                        <a:lnTo>
                          <a:pt x="1329" y="498"/>
                        </a:lnTo>
                        <a:lnTo>
                          <a:pt x="1329" y="503"/>
                        </a:lnTo>
                        <a:lnTo>
                          <a:pt x="1329" y="508"/>
                        </a:lnTo>
                        <a:lnTo>
                          <a:pt x="1324" y="517"/>
                        </a:lnTo>
                        <a:lnTo>
                          <a:pt x="1324" y="522"/>
                        </a:lnTo>
                        <a:lnTo>
                          <a:pt x="1324" y="532"/>
                        </a:lnTo>
                        <a:lnTo>
                          <a:pt x="1319" y="537"/>
                        </a:lnTo>
                        <a:lnTo>
                          <a:pt x="1319" y="541"/>
                        </a:lnTo>
                        <a:lnTo>
                          <a:pt x="1319" y="551"/>
                        </a:lnTo>
                        <a:lnTo>
                          <a:pt x="1314" y="556"/>
                        </a:lnTo>
                        <a:lnTo>
                          <a:pt x="1314" y="561"/>
                        </a:lnTo>
                        <a:lnTo>
                          <a:pt x="1310" y="565"/>
                        </a:lnTo>
                        <a:lnTo>
                          <a:pt x="1310" y="570"/>
                        </a:lnTo>
                        <a:lnTo>
                          <a:pt x="1310" y="575"/>
                        </a:lnTo>
                        <a:lnTo>
                          <a:pt x="1305" y="580"/>
                        </a:lnTo>
                        <a:lnTo>
                          <a:pt x="1300" y="584"/>
                        </a:lnTo>
                        <a:lnTo>
                          <a:pt x="1300" y="589"/>
                        </a:lnTo>
                        <a:lnTo>
                          <a:pt x="1295" y="594"/>
                        </a:lnTo>
                        <a:lnTo>
                          <a:pt x="1295" y="599"/>
                        </a:lnTo>
                        <a:lnTo>
                          <a:pt x="1290" y="604"/>
                        </a:lnTo>
                        <a:lnTo>
                          <a:pt x="1286" y="608"/>
                        </a:lnTo>
                        <a:lnTo>
                          <a:pt x="1286" y="613"/>
                        </a:lnTo>
                        <a:lnTo>
                          <a:pt x="1281" y="618"/>
                        </a:lnTo>
                        <a:lnTo>
                          <a:pt x="1281" y="623"/>
                        </a:lnTo>
                        <a:lnTo>
                          <a:pt x="1276" y="623"/>
                        </a:lnTo>
                        <a:lnTo>
                          <a:pt x="1276" y="628"/>
                        </a:lnTo>
                        <a:lnTo>
                          <a:pt x="1271" y="632"/>
                        </a:lnTo>
                        <a:lnTo>
                          <a:pt x="1271" y="637"/>
                        </a:lnTo>
                        <a:lnTo>
                          <a:pt x="1266" y="642"/>
                        </a:lnTo>
                        <a:lnTo>
                          <a:pt x="1262" y="642"/>
                        </a:lnTo>
                        <a:lnTo>
                          <a:pt x="1262" y="647"/>
                        </a:lnTo>
                        <a:lnTo>
                          <a:pt x="1257" y="652"/>
                        </a:lnTo>
                        <a:lnTo>
                          <a:pt x="1252" y="656"/>
                        </a:lnTo>
                        <a:lnTo>
                          <a:pt x="1247" y="661"/>
                        </a:lnTo>
                        <a:lnTo>
                          <a:pt x="1243" y="666"/>
                        </a:lnTo>
                        <a:lnTo>
                          <a:pt x="1238" y="671"/>
                        </a:lnTo>
                        <a:lnTo>
                          <a:pt x="1233" y="675"/>
                        </a:lnTo>
                        <a:lnTo>
                          <a:pt x="1228" y="680"/>
                        </a:lnTo>
                        <a:lnTo>
                          <a:pt x="1223" y="680"/>
                        </a:lnTo>
                        <a:lnTo>
                          <a:pt x="1219" y="685"/>
                        </a:lnTo>
                        <a:lnTo>
                          <a:pt x="1219" y="690"/>
                        </a:lnTo>
                        <a:lnTo>
                          <a:pt x="1214" y="690"/>
                        </a:lnTo>
                        <a:lnTo>
                          <a:pt x="1209" y="695"/>
                        </a:lnTo>
                        <a:lnTo>
                          <a:pt x="1204" y="695"/>
                        </a:lnTo>
                        <a:lnTo>
                          <a:pt x="1199" y="699"/>
                        </a:lnTo>
                        <a:lnTo>
                          <a:pt x="1195" y="699"/>
                        </a:lnTo>
                        <a:lnTo>
                          <a:pt x="1195" y="704"/>
                        </a:lnTo>
                        <a:lnTo>
                          <a:pt x="1190" y="704"/>
                        </a:lnTo>
                        <a:lnTo>
                          <a:pt x="1185" y="709"/>
                        </a:lnTo>
                        <a:lnTo>
                          <a:pt x="1180" y="709"/>
                        </a:lnTo>
                        <a:lnTo>
                          <a:pt x="1175" y="714"/>
                        </a:lnTo>
                        <a:lnTo>
                          <a:pt x="1171" y="714"/>
                        </a:lnTo>
                        <a:lnTo>
                          <a:pt x="1166" y="714"/>
                        </a:lnTo>
                        <a:lnTo>
                          <a:pt x="1166" y="719"/>
                        </a:lnTo>
                        <a:lnTo>
                          <a:pt x="1161" y="719"/>
                        </a:lnTo>
                        <a:lnTo>
                          <a:pt x="1156" y="719"/>
                        </a:lnTo>
                        <a:lnTo>
                          <a:pt x="1151" y="723"/>
                        </a:lnTo>
                        <a:lnTo>
                          <a:pt x="1147" y="723"/>
                        </a:lnTo>
                        <a:lnTo>
                          <a:pt x="1142" y="723"/>
                        </a:lnTo>
                        <a:lnTo>
                          <a:pt x="1137" y="728"/>
                        </a:lnTo>
                        <a:lnTo>
                          <a:pt x="1132" y="728"/>
                        </a:lnTo>
                        <a:lnTo>
                          <a:pt x="1127" y="728"/>
                        </a:lnTo>
                        <a:lnTo>
                          <a:pt x="1123" y="728"/>
                        </a:lnTo>
                        <a:lnTo>
                          <a:pt x="1118" y="728"/>
                        </a:lnTo>
                        <a:lnTo>
                          <a:pt x="1113" y="733"/>
                        </a:lnTo>
                        <a:lnTo>
                          <a:pt x="1108" y="733"/>
                        </a:lnTo>
                        <a:lnTo>
                          <a:pt x="1103" y="733"/>
                        </a:lnTo>
                        <a:lnTo>
                          <a:pt x="1103" y="738"/>
                        </a:lnTo>
                        <a:lnTo>
                          <a:pt x="1099" y="742"/>
                        </a:lnTo>
                        <a:lnTo>
                          <a:pt x="1099" y="747"/>
                        </a:lnTo>
                        <a:lnTo>
                          <a:pt x="1099" y="752"/>
                        </a:lnTo>
                        <a:lnTo>
                          <a:pt x="1103" y="752"/>
                        </a:lnTo>
                        <a:lnTo>
                          <a:pt x="1113" y="752"/>
                        </a:lnTo>
                        <a:lnTo>
                          <a:pt x="1113" y="757"/>
                        </a:lnTo>
                        <a:lnTo>
                          <a:pt x="1118" y="757"/>
                        </a:lnTo>
                        <a:lnTo>
                          <a:pt x="1123" y="762"/>
                        </a:lnTo>
                        <a:lnTo>
                          <a:pt x="1127" y="762"/>
                        </a:lnTo>
                        <a:lnTo>
                          <a:pt x="1132" y="766"/>
                        </a:lnTo>
                        <a:lnTo>
                          <a:pt x="1132" y="771"/>
                        </a:lnTo>
                        <a:lnTo>
                          <a:pt x="1137" y="771"/>
                        </a:lnTo>
                        <a:lnTo>
                          <a:pt x="1137" y="776"/>
                        </a:lnTo>
                        <a:lnTo>
                          <a:pt x="1142" y="781"/>
                        </a:lnTo>
                        <a:lnTo>
                          <a:pt x="1142" y="786"/>
                        </a:lnTo>
                        <a:lnTo>
                          <a:pt x="1147" y="790"/>
                        </a:lnTo>
                        <a:lnTo>
                          <a:pt x="1147" y="795"/>
                        </a:lnTo>
                        <a:lnTo>
                          <a:pt x="1151" y="800"/>
                        </a:lnTo>
                        <a:lnTo>
                          <a:pt x="1151" y="805"/>
                        </a:lnTo>
                        <a:lnTo>
                          <a:pt x="1151" y="810"/>
                        </a:lnTo>
                        <a:lnTo>
                          <a:pt x="1156" y="814"/>
                        </a:lnTo>
                        <a:lnTo>
                          <a:pt x="1156" y="819"/>
                        </a:lnTo>
                        <a:lnTo>
                          <a:pt x="1156" y="824"/>
                        </a:lnTo>
                        <a:lnTo>
                          <a:pt x="1156" y="829"/>
                        </a:lnTo>
                        <a:lnTo>
                          <a:pt x="1161" y="833"/>
                        </a:lnTo>
                        <a:lnTo>
                          <a:pt x="1161" y="838"/>
                        </a:lnTo>
                        <a:lnTo>
                          <a:pt x="1161" y="843"/>
                        </a:lnTo>
                        <a:lnTo>
                          <a:pt x="1166" y="848"/>
                        </a:lnTo>
                        <a:lnTo>
                          <a:pt x="1166" y="853"/>
                        </a:lnTo>
                        <a:lnTo>
                          <a:pt x="1166" y="857"/>
                        </a:lnTo>
                        <a:lnTo>
                          <a:pt x="1171" y="862"/>
                        </a:lnTo>
                        <a:lnTo>
                          <a:pt x="1175" y="867"/>
                        </a:lnTo>
                        <a:lnTo>
                          <a:pt x="1175" y="872"/>
                        </a:lnTo>
                        <a:lnTo>
                          <a:pt x="1175" y="877"/>
                        </a:lnTo>
                        <a:lnTo>
                          <a:pt x="1175" y="881"/>
                        </a:lnTo>
                        <a:lnTo>
                          <a:pt x="1175" y="886"/>
                        </a:lnTo>
                        <a:lnTo>
                          <a:pt x="1175" y="891"/>
                        </a:lnTo>
                        <a:lnTo>
                          <a:pt x="1175" y="896"/>
                        </a:lnTo>
                        <a:lnTo>
                          <a:pt x="1171" y="900"/>
                        </a:lnTo>
                        <a:lnTo>
                          <a:pt x="1171" y="905"/>
                        </a:lnTo>
                        <a:lnTo>
                          <a:pt x="1166" y="910"/>
                        </a:lnTo>
                        <a:lnTo>
                          <a:pt x="1166" y="915"/>
                        </a:lnTo>
                        <a:lnTo>
                          <a:pt x="1166" y="920"/>
                        </a:lnTo>
                        <a:lnTo>
                          <a:pt x="1161" y="924"/>
                        </a:lnTo>
                        <a:lnTo>
                          <a:pt x="1156" y="924"/>
                        </a:lnTo>
                        <a:lnTo>
                          <a:pt x="1156" y="929"/>
                        </a:lnTo>
                        <a:lnTo>
                          <a:pt x="1151" y="934"/>
                        </a:lnTo>
                        <a:lnTo>
                          <a:pt x="1151" y="939"/>
                        </a:lnTo>
                        <a:lnTo>
                          <a:pt x="1147" y="944"/>
                        </a:lnTo>
                        <a:lnTo>
                          <a:pt x="1142" y="948"/>
                        </a:lnTo>
                        <a:lnTo>
                          <a:pt x="1137" y="948"/>
                        </a:lnTo>
                        <a:lnTo>
                          <a:pt x="1137" y="953"/>
                        </a:lnTo>
                        <a:lnTo>
                          <a:pt x="1132" y="958"/>
                        </a:lnTo>
                        <a:lnTo>
                          <a:pt x="1127" y="963"/>
                        </a:lnTo>
                        <a:lnTo>
                          <a:pt x="1127" y="968"/>
                        </a:lnTo>
                        <a:lnTo>
                          <a:pt x="1123" y="972"/>
                        </a:lnTo>
                        <a:lnTo>
                          <a:pt x="1118" y="972"/>
                        </a:lnTo>
                        <a:lnTo>
                          <a:pt x="1118" y="977"/>
                        </a:lnTo>
                        <a:lnTo>
                          <a:pt x="1113" y="982"/>
                        </a:lnTo>
                        <a:lnTo>
                          <a:pt x="1108" y="987"/>
                        </a:lnTo>
                        <a:lnTo>
                          <a:pt x="1108" y="991"/>
                        </a:lnTo>
                        <a:lnTo>
                          <a:pt x="1103" y="996"/>
                        </a:lnTo>
                        <a:lnTo>
                          <a:pt x="1103" y="1001"/>
                        </a:lnTo>
                        <a:lnTo>
                          <a:pt x="1099" y="1001"/>
                        </a:lnTo>
                        <a:lnTo>
                          <a:pt x="1099" y="1006"/>
                        </a:lnTo>
                        <a:lnTo>
                          <a:pt x="1094" y="1015"/>
                        </a:lnTo>
                        <a:lnTo>
                          <a:pt x="1094" y="1020"/>
                        </a:lnTo>
                        <a:lnTo>
                          <a:pt x="1089" y="1030"/>
                        </a:lnTo>
                        <a:lnTo>
                          <a:pt x="1084" y="1035"/>
                        </a:lnTo>
                        <a:lnTo>
                          <a:pt x="1084" y="1044"/>
                        </a:lnTo>
                        <a:lnTo>
                          <a:pt x="1079" y="1049"/>
                        </a:lnTo>
                        <a:lnTo>
                          <a:pt x="1075" y="1054"/>
                        </a:lnTo>
                        <a:lnTo>
                          <a:pt x="1070" y="1063"/>
                        </a:lnTo>
                        <a:lnTo>
                          <a:pt x="1070" y="1068"/>
                        </a:lnTo>
                        <a:lnTo>
                          <a:pt x="1065" y="1073"/>
                        </a:lnTo>
                        <a:lnTo>
                          <a:pt x="1060" y="1082"/>
                        </a:lnTo>
                        <a:lnTo>
                          <a:pt x="1055" y="1087"/>
                        </a:lnTo>
                        <a:lnTo>
                          <a:pt x="1051" y="1092"/>
                        </a:lnTo>
                        <a:lnTo>
                          <a:pt x="1046" y="1097"/>
                        </a:lnTo>
                        <a:lnTo>
                          <a:pt x="1046" y="1106"/>
                        </a:lnTo>
                        <a:lnTo>
                          <a:pt x="1041" y="1111"/>
                        </a:lnTo>
                        <a:lnTo>
                          <a:pt x="1036" y="1116"/>
                        </a:lnTo>
                        <a:lnTo>
                          <a:pt x="1031" y="1121"/>
                        </a:lnTo>
                        <a:lnTo>
                          <a:pt x="1027" y="1126"/>
                        </a:lnTo>
                        <a:lnTo>
                          <a:pt x="1022" y="1130"/>
                        </a:lnTo>
                        <a:lnTo>
                          <a:pt x="1017" y="1140"/>
                        </a:lnTo>
                        <a:lnTo>
                          <a:pt x="1012" y="1145"/>
                        </a:lnTo>
                        <a:lnTo>
                          <a:pt x="1007" y="1149"/>
                        </a:lnTo>
                        <a:lnTo>
                          <a:pt x="1003" y="1154"/>
                        </a:lnTo>
                        <a:lnTo>
                          <a:pt x="998" y="1159"/>
                        </a:lnTo>
                        <a:lnTo>
                          <a:pt x="988" y="1164"/>
                        </a:lnTo>
                        <a:lnTo>
                          <a:pt x="983" y="1169"/>
                        </a:lnTo>
                        <a:lnTo>
                          <a:pt x="979" y="1173"/>
                        </a:lnTo>
                        <a:lnTo>
                          <a:pt x="974" y="1178"/>
                        </a:lnTo>
                        <a:lnTo>
                          <a:pt x="969" y="1183"/>
                        </a:lnTo>
                        <a:lnTo>
                          <a:pt x="964" y="1188"/>
                        </a:lnTo>
                        <a:lnTo>
                          <a:pt x="955" y="1193"/>
                        </a:lnTo>
                        <a:lnTo>
                          <a:pt x="950" y="1197"/>
                        </a:lnTo>
                        <a:lnTo>
                          <a:pt x="945" y="1197"/>
                        </a:lnTo>
                        <a:lnTo>
                          <a:pt x="940" y="1202"/>
                        </a:lnTo>
                        <a:lnTo>
                          <a:pt x="935" y="1202"/>
                        </a:lnTo>
                        <a:lnTo>
                          <a:pt x="931" y="1202"/>
                        </a:lnTo>
                        <a:lnTo>
                          <a:pt x="931" y="1207"/>
                        </a:lnTo>
                        <a:lnTo>
                          <a:pt x="926" y="1207"/>
                        </a:lnTo>
                        <a:lnTo>
                          <a:pt x="921" y="1207"/>
                        </a:lnTo>
                        <a:lnTo>
                          <a:pt x="916" y="1207"/>
                        </a:lnTo>
                        <a:lnTo>
                          <a:pt x="916" y="1212"/>
                        </a:lnTo>
                        <a:lnTo>
                          <a:pt x="912" y="1212"/>
                        </a:lnTo>
                        <a:lnTo>
                          <a:pt x="907" y="1212"/>
                        </a:lnTo>
                        <a:lnTo>
                          <a:pt x="902" y="1212"/>
                        </a:lnTo>
                        <a:lnTo>
                          <a:pt x="897" y="1212"/>
                        </a:lnTo>
                        <a:lnTo>
                          <a:pt x="892" y="1212"/>
                        </a:lnTo>
                        <a:lnTo>
                          <a:pt x="888" y="1217"/>
                        </a:lnTo>
                        <a:lnTo>
                          <a:pt x="883" y="1217"/>
                        </a:lnTo>
                        <a:lnTo>
                          <a:pt x="878" y="1217"/>
                        </a:lnTo>
                        <a:lnTo>
                          <a:pt x="873" y="1217"/>
                        </a:lnTo>
                        <a:lnTo>
                          <a:pt x="868" y="1217"/>
                        </a:lnTo>
                        <a:lnTo>
                          <a:pt x="864" y="1217"/>
                        </a:lnTo>
                        <a:lnTo>
                          <a:pt x="859" y="1217"/>
                        </a:lnTo>
                        <a:lnTo>
                          <a:pt x="854" y="1217"/>
                        </a:lnTo>
                        <a:lnTo>
                          <a:pt x="849" y="1221"/>
                        </a:lnTo>
                        <a:lnTo>
                          <a:pt x="844" y="1221"/>
                        </a:lnTo>
                        <a:lnTo>
                          <a:pt x="840" y="1221"/>
                        </a:lnTo>
                        <a:lnTo>
                          <a:pt x="835" y="1221"/>
                        </a:lnTo>
                        <a:lnTo>
                          <a:pt x="830" y="1221"/>
                        </a:lnTo>
                        <a:lnTo>
                          <a:pt x="825" y="1221"/>
                        </a:lnTo>
                        <a:lnTo>
                          <a:pt x="820" y="1221"/>
                        </a:lnTo>
                        <a:lnTo>
                          <a:pt x="820" y="1217"/>
                        </a:lnTo>
                        <a:lnTo>
                          <a:pt x="816" y="1217"/>
                        </a:lnTo>
                        <a:lnTo>
                          <a:pt x="811" y="1217"/>
                        </a:lnTo>
                        <a:lnTo>
                          <a:pt x="806" y="1217"/>
                        </a:lnTo>
                        <a:lnTo>
                          <a:pt x="801" y="1212"/>
                        </a:lnTo>
                        <a:lnTo>
                          <a:pt x="796" y="1212"/>
                        </a:lnTo>
                        <a:lnTo>
                          <a:pt x="792" y="1212"/>
                        </a:lnTo>
                        <a:lnTo>
                          <a:pt x="792" y="1207"/>
                        </a:lnTo>
                        <a:lnTo>
                          <a:pt x="787" y="1207"/>
                        </a:lnTo>
                        <a:lnTo>
                          <a:pt x="782" y="1207"/>
                        </a:lnTo>
                        <a:lnTo>
                          <a:pt x="782" y="1202"/>
                        </a:lnTo>
                        <a:lnTo>
                          <a:pt x="777" y="1202"/>
                        </a:lnTo>
                        <a:lnTo>
                          <a:pt x="772" y="1202"/>
                        </a:lnTo>
                        <a:lnTo>
                          <a:pt x="772" y="1197"/>
                        </a:lnTo>
                        <a:lnTo>
                          <a:pt x="768" y="1197"/>
                        </a:lnTo>
                        <a:lnTo>
                          <a:pt x="768" y="1193"/>
                        </a:lnTo>
                        <a:lnTo>
                          <a:pt x="763" y="1193"/>
                        </a:lnTo>
                        <a:lnTo>
                          <a:pt x="758" y="1188"/>
                        </a:lnTo>
                        <a:lnTo>
                          <a:pt x="753" y="1188"/>
                        </a:lnTo>
                        <a:lnTo>
                          <a:pt x="748" y="1183"/>
                        </a:lnTo>
                        <a:lnTo>
                          <a:pt x="744" y="1178"/>
                        </a:lnTo>
                        <a:lnTo>
                          <a:pt x="739" y="1178"/>
                        </a:lnTo>
                        <a:lnTo>
                          <a:pt x="734" y="1173"/>
                        </a:lnTo>
                        <a:lnTo>
                          <a:pt x="720" y="1145"/>
                        </a:lnTo>
                        <a:lnTo>
                          <a:pt x="724" y="1145"/>
                        </a:lnTo>
                        <a:lnTo>
                          <a:pt x="734" y="1140"/>
                        </a:lnTo>
                        <a:lnTo>
                          <a:pt x="744" y="1135"/>
                        </a:lnTo>
                        <a:lnTo>
                          <a:pt x="753" y="1130"/>
                        </a:lnTo>
                        <a:lnTo>
                          <a:pt x="758" y="1126"/>
                        </a:lnTo>
                        <a:lnTo>
                          <a:pt x="768" y="1121"/>
                        </a:lnTo>
                        <a:lnTo>
                          <a:pt x="777" y="1116"/>
                        </a:lnTo>
                        <a:lnTo>
                          <a:pt x="782" y="1111"/>
                        </a:lnTo>
                        <a:lnTo>
                          <a:pt x="792" y="1106"/>
                        </a:lnTo>
                        <a:lnTo>
                          <a:pt x="801" y="1102"/>
                        </a:lnTo>
                        <a:lnTo>
                          <a:pt x="806" y="1097"/>
                        </a:lnTo>
                        <a:lnTo>
                          <a:pt x="816" y="1087"/>
                        </a:lnTo>
                        <a:lnTo>
                          <a:pt x="820" y="1082"/>
                        </a:lnTo>
                        <a:lnTo>
                          <a:pt x="830" y="1078"/>
                        </a:lnTo>
                        <a:lnTo>
                          <a:pt x="840" y="1073"/>
                        </a:lnTo>
                        <a:lnTo>
                          <a:pt x="844" y="1068"/>
                        </a:lnTo>
                        <a:lnTo>
                          <a:pt x="854" y="1059"/>
                        </a:lnTo>
                        <a:lnTo>
                          <a:pt x="859" y="1054"/>
                        </a:lnTo>
                        <a:lnTo>
                          <a:pt x="868" y="1049"/>
                        </a:lnTo>
                        <a:lnTo>
                          <a:pt x="873" y="1044"/>
                        </a:lnTo>
                        <a:lnTo>
                          <a:pt x="883" y="1035"/>
                        </a:lnTo>
                        <a:lnTo>
                          <a:pt x="888" y="1030"/>
                        </a:lnTo>
                        <a:lnTo>
                          <a:pt x="897" y="1025"/>
                        </a:lnTo>
                        <a:lnTo>
                          <a:pt x="902" y="1015"/>
                        </a:lnTo>
                        <a:lnTo>
                          <a:pt x="912" y="1011"/>
                        </a:lnTo>
                        <a:lnTo>
                          <a:pt x="916" y="1006"/>
                        </a:lnTo>
                        <a:lnTo>
                          <a:pt x="926" y="1001"/>
                        </a:lnTo>
                        <a:lnTo>
                          <a:pt x="931" y="991"/>
                        </a:lnTo>
                        <a:lnTo>
                          <a:pt x="940" y="987"/>
                        </a:lnTo>
                        <a:lnTo>
                          <a:pt x="950" y="982"/>
                        </a:lnTo>
                        <a:lnTo>
                          <a:pt x="955" y="977"/>
                        </a:lnTo>
                        <a:lnTo>
                          <a:pt x="964" y="972"/>
                        </a:lnTo>
                        <a:lnTo>
                          <a:pt x="964" y="963"/>
                        </a:lnTo>
                        <a:lnTo>
                          <a:pt x="969" y="958"/>
                        </a:lnTo>
                        <a:lnTo>
                          <a:pt x="974" y="958"/>
                        </a:lnTo>
                        <a:lnTo>
                          <a:pt x="979" y="953"/>
                        </a:lnTo>
                        <a:lnTo>
                          <a:pt x="983" y="948"/>
                        </a:lnTo>
                        <a:lnTo>
                          <a:pt x="988" y="944"/>
                        </a:lnTo>
                        <a:lnTo>
                          <a:pt x="993" y="939"/>
                        </a:lnTo>
                        <a:lnTo>
                          <a:pt x="998" y="939"/>
                        </a:lnTo>
                        <a:lnTo>
                          <a:pt x="998" y="934"/>
                        </a:lnTo>
                        <a:lnTo>
                          <a:pt x="1003" y="929"/>
                        </a:lnTo>
                        <a:lnTo>
                          <a:pt x="1007" y="924"/>
                        </a:lnTo>
                        <a:lnTo>
                          <a:pt x="1012" y="924"/>
                        </a:lnTo>
                        <a:lnTo>
                          <a:pt x="1012" y="920"/>
                        </a:lnTo>
                        <a:lnTo>
                          <a:pt x="1017" y="915"/>
                        </a:lnTo>
                        <a:lnTo>
                          <a:pt x="1022" y="910"/>
                        </a:lnTo>
                        <a:lnTo>
                          <a:pt x="1027" y="905"/>
                        </a:lnTo>
                        <a:lnTo>
                          <a:pt x="1027" y="900"/>
                        </a:lnTo>
                        <a:lnTo>
                          <a:pt x="1031" y="896"/>
                        </a:lnTo>
                        <a:lnTo>
                          <a:pt x="1036" y="891"/>
                        </a:lnTo>
                        <a:lnTo>
                          <a:pt x="1041" y="886"/>
                        </a:lnTo>
                        <a:lnTo>
                          <a:pt x="1041" y="881"/>
                        </a:lnTo>
                        <a:lnTo>
                          <a:pt x="1046" y="877"/>
                        </a:lnTo>
                        <a:lnTo>
                          <a:pt x="1046" y="872"/>
                        </a:lnTo>
                        <a:lnTo>
                          <a:pt x="1051" y="867"/>
                        </a:lnTo>
                        <a:lnTo>
                          <a:pt x="1055" y="862"/>
                        </a:lnTo>
                        <a:lnTo>
                          <a:pt x="1060" y="857"/>
                        </a:lnTo>
                        <a:lnTo>
                          <a:pt x="1060" y="853"/>
                        </a:lnTo>
                        <a:lnTo>
                          <a:pt x="1065" y="848"/>
                        </a:lnTo>
                        <a:lnTo>
                          <a:pt x="1065" y="843"/>
                        </a:lnTo>
                        <a:lnTo>
                          <a:pt x="1065" y="838"/>
                        </a:lnTo>
                        <a:lnTo>
                          <a:pt x="1060" y="833"/>
                        </a:lnTo>
                        <a:lnTo>
                          <a:pt x="1060" y="829"/>
                        </a:lnTo>
                        <a:lnTo>
                          <a:pt x="1055" y="829"/>
                        </a:lnTo>
                        <a:lnTo>
                          <a:pt x="1051" y="824"/>
                        </a:lnTo>
                        <a:lnTo>
                          <a:pt x="1046" y="824"/>
                        </a:lnTo>
                        <a:lnTo>
                          <a:pt x="1027" y="829"/>
                        </a:lnTo>
                        <a:lnTo>
                          <a:pt x="1017" y="843"/>
                        </a:lnTo>
                        <a:lnTo>
                          <a:pt x="1012" y="853"/>
                        </a:lnTo>
                        <a:lnTo>
                          <a:pt x="1003" y="862"/>
                        </a:lnTo>
                        <a:lnTo>
                          <a:pt x="993" y="872"/>
                        </a:lnTo>
                        <a:lnTo>
                          <a:pt x="988" y="886"/>
                        </a:lnTo>
                        <a:lnTo>
                          <a:pt x="979" y="896"/>
                        </a:lnTo>
                        <a:lnTo>
                          <a:pt x="969" y="905"/>
                        </a:lnTo>
                        <a:lnTo>
                          <a:pt x="959" y="915"/>
                        </a:lnTo>
                        <a:lnTo>
                          <a:pt x="950" y="924"/>
                        </a:lnTo>
                        <a:lnTo>
                          <a:pt x="940" y="934"/>
                        </a:lnTo>
                        <a:lnTo>
                          <a:pt x="931" y="944"/>
                        </a:lnTo>
                        <a:lnTo>
                          <a:pt x="921" y="953"/>
                        </a:lnTo>
                        <a:lnTo>
                          <a:pt x="912" y="963"/>
                        </a:lnTo>
                        <a:lnTo>
                          <a:pt x="902" y="972"/>
                        </a:lnTo>
                        <a:lnTo>
                          <a:pt x="892" y="982"/>
                        </a:lnTo>
                        <a:lnTo>
                          <a:pt x="883" y="991"/>
                        </a:lnTo>
                        <a:lnTo>
                          <a:pt x="873" y="996"/>
                        </a:lnTo>
                        <a:lnTo>
                          <a:pt x="864" y="1006"/>
                        </a:lnTo>
                        <a:lnTo>
                          <a:pt x="849" y="1015"/>
                        </a:lnTo>
                        <a:lnTo>
                          <a:pt x="840" y="1025"/>
                        </a:lnTo>
                        <a:lnTo>
                          <a:pt x="830" y="1030"/>
                        </a:lnTo>
                        <a:lnTo>
                          <a:pt x="816" y="1039"/>
                        </a:lnTo>
                        <a:lnTo>
                          <a:pt x="806" y="1044"/>
                        </a:lnTo>
                        <a:lnTo>
                          <a:pt x="796" y="1054"/>
                        </a:lnTo>
                        <a:lnTo>
                          <a:pt x="782" y="1059"/>
                        </a:lnTo>
                        <a:lnTo>
                          <a:pt x="772" y="1068"/>
                        </a:lnTo>
                        <a:lnTo>
                          <a:pt x="763" y="1073"/>
                        </a:lnTo>
                        <a:lnTo>
                          <a:pt x="748" y="1082"/>
                        </a:lnTo>
                        <a:lnTo>
                          <a:pt x="739" y="1087"/>
                        </a:lnTo>
                        <a:lnTo>
                          <a:pt x="724" y="1092"/>
                        </a:lnTo>
                        <a:lnTo>
                          <a:pt x="715" y="1097"/>
                        </a:lnTo>
                        <a:lnTo>
                          <a:pt x="700" y="1102"/>
                        </a:lnTo>
                        <a:lnTo>
                          <a:pt x="696" y="1106"/>
                        </a:lnTo>
                        <a:lnTo>
                          <a:pt x="691" y="1111"/>
                        </a:lnTo>
                        <a:lnTo>
                          <a:pt x="686" y="1111"/>
                        </a:lnTo>
                        <a:lnTo>
                          <a:pt x="681" y="1116"/>
                        </a:lnTo>
                        <a:lnTo>
                          <a:pt x="676" y="1121"/>
                        </a:lnTo>
                        <a:lnTo>
                          <a:pt x="672" y="1121"/>
                        </a:lnTo>
                        <a:lnTo>
                          <a:pt x="667" y="1126"/>
                        </a:lnTo>
                        <a:lnTo>
                          <a:pt x="662" y="1126"/>
                        </a:lnTo>
                        <a:lnTo>
                          <a:pt x="652" y="1130"/>
                        </a:lnTo>
                        <a:lnTo>
                          <a:pt x="648" y="1130"/>
                        </a:lnTo>
                        <a:lnTo>
                          <a:pt x="643" y="1135"/>
                        </a:lnTo>
                        <a:lnTo>
                          <a:pt x="638" y="1135"/>
                        </a:lnTo>
                        <a:lnTo>
                          <a:pt x="628" y="1140"/>
                        </a:lnTo>
                        <a:lnTo>
                          <a:pt x="624" y="1140"/>
                        </a:lnTo>
                        <a:lnTo>
                          <a:pt x="619" y="1140"/>
                        </a:lnTo>
                        <a:lnTo>
                          <a:pt x="614" y="1145"/>
                        </a:lnTo>
                        <a:lnTo>
                          <a:pt x="604" y="1145"/>
                        </a:lnTo>
                        <a:lnTo>
                          <a:pt x="600" y="1145"/>
                        </a:lnTo>
                        <a:lnTo>
                          <a:pt x="595" y="1149"/>
                        </a:lnTo>
                        <a:lnTo>
                          <a:pt x="590" y="1149"/>
                        </a:lnTo>
                        <a:lnTo>
                          <a:pt x="581" y="1149"/>
                        </a:lnTo>
                        <a:lnTo>
                          <a:pt x="576" y="1149"/>
                        </a:lnTo>
                        <a:lnTo>
                          <a:pt x="571" y="1149"/>
                        </a:lnTo>
                        <a:lnTo>
                          <a:pt x="561" y="1149"/>
                        </a:lnTo>
                        <a:lnTo>
                          <a:pt x="557" y="1149"/>
                        </a:lnTo>
                        <a:lnTo>
                          <a:pt x="552" y="1149"/>
                        </a:lnTo>
                        <a:lnTo>
                          <a:pt x="542" y="1149"/>
                        </a:lnTo>
                        <a:lnTo>
                          <a:pt x="537" y="1149"/>
                        </a:lnTo>
                        <a:lnTo>
                          <a:pt x="533" y="1149"/>
                        </a:lnTo>
                        <a:lnTo>
                          <a:pt x="528" y="1145"/>
                        </a:lnTo>
                        <a:lnTo>
                          <a:pt x="518" y="1145"/>
                        </a:lnTo>
                        <a:lnTo>
                          <a:pt x="513" y="1140"/>
                        </a:lnTo>
                        <a:lnTo>
                          <a:pt x="504" y="1140"/>
                        </a:lnTo>
                        <a:lnTo>
                          <a:pt x="499" y="1135"/>
                        </a:lnTo>
                        <a:lnTo>
                          <a:pt x="489" y="1135"/>
                        </a:lnTo>
                        <a:lnTo>
                          <a:pt x="480" y="1130"/>
                        </a:lnTo>
                        <a:lnTo>
                          <a:pt x="475" y="1126"/>
                        </a:lnTo>
                        <a:lnTo>
                          <a:pt x="465" y="1126"/>
                        </a:lnTo>
                        <a:lnTo>
                          <a:pt x="456" y="1121"/>
                        </a:lnTo>
                        <a:lnTo>
                          <a:pt x="451" y="1116"/>
                        </a:lnTo>
                        <a:lnTo>
                          <a:pt x="441" y="1111"/>
                        </a:lnTo>
                        <a:lnTo>
                          <a:pt x="432" y="1106"/>
                        </a:lnTo>
                        <a:lnTo>
                          <a:pt x="427" y="1106"/>
                        </a:lnTo>
                        <a:lnTo>
                          <a:pt x="417" y="1102"/>
                        </a:lnTo>
                        <a:lnTo>
                          <a:pt x="408" y="1097"/>
                        </a:lnTo>
                        <a:lnTo>
                          <a:pt x="403" y="1092"/>
                        </a:lnTo>
                        <a:lnTo>
                          <a:pt x="393" y="1087"/>
                        </a:lnTo>
                        <a:lnTo>
                          <a:pt x="389" y="1082"/>
                        </a:lnTo>
                        <a:lnTo>
                          <a:pt x="379" y="1078"/>
                        </a:lnTo>
                        <a:lnTo>
                          <a:pt x="369" y="1078"/>
                        </a:lnTo>
                        <a:lnTo>
                          <a:pt x="365" y="1073"/>
                        </a:lnTo>
                        <a:lnTo>
                          <a:pt x="355" y="1068"/>
                        </a:lnTo>
                        <a:lnTo>
                          <a:pt x="350" y="1063"/>
                        </a:lnTo>
                        <a:lnTo>
                          <a:pt x="341" y="1059"/>
                        </a:lnTo>
                        <a:lnTo>
                          <a:pt x="331" y="1054"/>
                        </a:lnTo>
                        <a:lnTo>
                          <a:pt x="326" y="1049"/>
                        </a:lnTo>
                        <a:lnTo>
                          <a:pt x="317" y="1044"/>
                        </a:lnTo>
                        <a:lnTo>
                          <a:pt x="312" y="1039"/>
                        </a:lnTo>
                        <a:lnTo>
                          <a:pt x="302" y="1035"/>
                        </a:lnTo>
                        <a:lnTo>
                          <a:pt x="297" y="1030"/>
                        </a:lnTo>
                        <a:lnTo>
                          <a:pt x="288" y="1025"/>
                        </a:lnTo>
                        <a:lnTo>
                          <a:pt x="283" y="1015"/>
                        </a:lnTo>
                        <a:lnTo>
                          <a:pt x="278" y="1011"/>
                        </a:lnTo>
                        <a:lnTo>
                          <a:pt x="269" y="1006"/>
                        </a:lnTo>
                        <a:lnTo>
                          <a:pt x="264" y="1001"/>
                        </a:lnTo>
                        <a:lnTo>
                          <a:pt x="254" y="991"/>
                        </a:lnTo>
                        <a:lnTo>
                          <a:pt x="250" y="987"/>
                        </a:lnTo>
                        <a:lnTo>
                          <a:pt x="245" y="977"/>
                        </a:lnTo>
                        <a:lnTo>
                          <a:pt x="240" y="968"/>
                        </a:lnTo>
                        <a:lnTo>
                          <a:pt x="235" y="963"/>
                        </a:lnTo>
                        <a:lnTo>
                          <a:pt x="230" y="953"/>
                        </a:lnTo>
                        <a:lnTo>
                          <a:pt x="226" y="944"/>
                        </a:lnTo>
                        <a:lnTo>
                          <a:pt x="221" y="939"/>
                        </a:lnTo>
                        <a:lnTo>
                          <a:pt x="216" y="929"/>
                        </a:lnTo>
                        <a:lnTo>
                          <a:pt x="211" y="920"/>
                        </a:lnTo>
                        <a:lnTo>
                          <a:pt x="206" y="910"/>
                        </a:lnTo>
                        <a:lnTo>
                          <a:pt x="202" y="900"/>
                        </a:lnTo>
                        <a:lnTo>
                          <a:pt x="197" y="896"/>
                        </a:lnTo>
                        <a:lnTo>
                          <a:pt x="192" y="886"/>
                        </a:lnTo>
                        <a:lnTo>
                          <a:pt x="192" y="877"/>
                        </a:lnTo>
                        <a:lnTo>
                          <a:pt x="187" y="867"/>
                        </a:lnTo>
                        <a:lnTo>
                          <a:pt x="182" y="857"/>
                        </a:lnTo>
                        <a:lnTo>
                          <a:pt x="178" y="848"/>
                        </a:lnTo>
                        <a:lnTo>
                          <a:pt x="178" y="843"/>
                        </a:lnTo>
                        <a:lnTo>
                          <a:pt x="173" y="833"/>
                        </a:lnTo>
                        <a:lnTo>
                          <a:pt x="168" y="824"/>
                        </a:lnTo>
                        <a:lnTo>
                          <a:pt x="168" y="814"/>
                        </a:lnTo>
                        <a:lnTo>
                          <a:pt x="163" y="805"/>
                        </a:lnTo>
                        <a:lnTo>
                          <a:pt x="158" y="795"/>
                        </a:lnTo>
                        <a:lnTo>
                          <a:pt x="154" y="786"/>
                        </a:lnTo>
                        <a:lnTo>
                          <a:pt x="154" y="781"/>
                        </a:lnTo>
                        <a:lnTo>
                          <a:pt x="149" y="771"/>
                        </a:lnTo>
                        <a:lnTo>
                          <a:pt x="144" y="762"/>
                        </a:lnTo>
                        <a:lnTo>
                          <a:pt x="144" y="752"/>
                        </a:lnTo>
                        <a:lnTo>
                          <a:pt x="139" y="742"/>
                        </a:lnTo>
                        <a:lnTo>
                          <a:pt x="134" y="733"/>
                        </a:lnTo>
                        <a:lnTo>
                          <a:pt x="134" y="728"/>
                        </a:lnTo>
                        <a:lnTo>
                          <a:pt x="134" y="723"/>
                        </a:lnTo>
                        <a:lnTo>
                          <a:pt x="130" y="719"/>
                        </a:lnTo>
                        <a:lnTo>
                          <a:pt x="130" y="714"/>
                        </a:lnTo>
                        <a:lnTo>
                          <a:pt x="130" y="709"/>
                        </a:lnTo>
                        <a:lnTo>
                          <a:pt x="130" y="704"/>
                        </a:lnTo>
                        <a:lnTo>
                          <a:pt x="125" y="695"/>
                        </a:lnTo>
                        <a:lnTo>
                          <a:pt x="125" y="690"/>
                        </a:lnTo>
                        <a:lnTo>
                          <a:pt x="125" y="685"/>
                        </a:lnTo>
                        <a:lnTo>
                          <a:pt x="120" y="680"/>
                        </a:lnTo>
                        <a:lnTo>
                          <a:pt x="120" y="675"/>
                        </a:lnTo>
                        <a:lnTo>
                          <a:pt x="120" y="671"/>
                        </a:lnTo>
                        <a:lnTo>
                          <a:pt x="115" y="666"/>
                        </a:lnTo>
                        <a:lnTo>
                          <a:pt x="115" y="661"/>
                        </a:lnTo>
                        <a:lnTo>
                          <a:pt x="115" y="656"/>
                        </a:lnTo>
                        <a:lnTo>
                          <a:pt x="110" y="652"/>
                        </a:lnTo>
                        <a:lnTo>
                          <a:pt x="110" y="647"/>
                        </a:lnTo>
                        <a:lnTo>
                          <a:pt x="106" y="642"/>
                        </a:lnTo>
                        <a:lnTo>
                          <a:pt x="106" y="632"/>
                        </a:lnTo>
                        <a:lnTo>
                          <a:pt x="106" y="628"/>
                        </a:lnTo>
                        <a:lnTo>
                          <a:pt x="101" y="623"/>
                        </a:lnTo>
                        <a:lnTo>
                          <a:pt x="101" y="618"/>
                        </a:lnTo>
                        <a:lnTo>
                          <a:pt x="101" y="613"/>
                        </a:lnTo>
                        <a:lnTo>
                          <a:pt x="96" y="608"/>
                        </a:lnTo>
                        <a:lnTo>
                          <a:pt x="96" y="604"/>
                        </a:lnTo>
                        <a:lnTo>
                          <a:pt x="96" y="599"/>
                        </a:lnTo>
                        <a:lnTo>
                          <a:pt x="91" y="594"/>
                        </a:lnTo>
                        <a:lnTo>
                          <a:pt x="91" y="589"/>
                        </a:lnTo>
                        <a:lnTo>
                          <a:pt x="91" y="580"/>
                        </a:lnTo>
                        <a:lnTo>
                          <a:pt x="86" y="575"/>
                        </a:lnTo>
                        <a:lnTo>
                          <a:pt x="86" y="570"/>
                        </a:lnTo>
                        <a:lnTo>
                          <a:pt x="86" y="565"/>
                        </a:lnTo>
                        <a:lnTo>
                          <a:pt x="82" y="556"/>
                        </a:lnTo>
                        <a:lnTo>
                          <a:pt x="77" y="541"/>
                        </a:lnTo>
                        <a:lnTo>
                          <a:pt x="72" y="532"/>
                        </a:lnTo>
                        <a:lnTo>
                          <a:pt x="67" y="517"/>
                        </a:lnTo>
                        <a:lnTo>
                          <a:pt x="67" y="508"/>
                        </a:lnTo>
                        <a:lnTo>
                          <a:pt x="62" y="493"/>
                        </a:lnTo>
                        <a:lnTo>
                          <a:pt x="58" y="484"/>
                        </a:lnTo>
                        <a:lnTo>
                          <a:pt x="53" y="470"/>
                        </a:lnTo>
                        <a:lnTo>
                          <a:pt x="48" y="460"/>
                        </a:lnTo>
                        <a:lnTo>
                          <a:pt x="43" y="446"/>
                        </a:lnTo>
                        <a:lnTo>
                          <a:pt x="38" y="436"/>
                        </a:lnTo>
                        <a:lnTo>
                          <a:pt x="38" y="422"/>
                        </a:lnTo>
                        <a:lnTo>
                          <a:pt x="34" y="412"/>
                        </a:lnTo>
                        <a:lnTo>
                          <a:pt x="29" y="398"/>
                        </a:lnTo>
                        <a:lnTo>
                          <a:pt x="24" y="388"/>
                        </a:lnTo>
                        <a:lnTo>
                          <a:pt x="19" y="374"/>
                        </a:lnTo>
                        <a:lnTo>
                          <a:pt x="19" y="364"/>
                        </a:lnTo>
                        <a:lnTo>
                          <a:pt x="14" y="350"/>
                        </a:lnTo>
                        <a:lnTo>
                          <a:pt x="14" y="335"/>
                        </a:lnTo>
                        <a:lnTo>
                          <a:pt x="10" y="326"/>
                        </a:lnTo>
                        <a:lnTo>
                          <a:pt x="10" y="312"/>
                        </a:lnTo>
                        <a:lnTo>
                          <a:pt x="5" y="302"/>
                        </a:lnTo>
                        <a:lnTo>
                          <a:pt x="5" y="288"/>
                        </a:lnTo>
                        <a:lnTo>
                          <a:pt x="5" y="278"/>
                        </a:lnTo>
                        <a:lnTo>
                          <a:pt x="0" y="264"/>
                        </a:lnTo>
                        <a:lnTo>
                          <a:pt x="0" y="254"/>
                        </a:lnTo>
                        <a:lnTo>
                          <a:pt x="0" y="240"/>
                        </a:lnTo>
                        <a:lnTo>
                          <a:pt x="5" y="225"/>
                        </a:lnTo>
                        <a:lnTo>
                          <a:pt x="5" y="216"/>
                        </a:lnTo>
                        <a:lnTo>
                          <a:pt x="5" y="201"/>
                        </a:lnTo>
                        <a:lnTo>
                          <a:pt x="5" y="192"/>
                        </a:lnTo>
                        <a:lnTo>
                          <a:pt x="10" y="177"/>
                        </a:lnTo>
                        <a:lnTo>
                          <a:pt x="14" y="187"/>
                        </a:lnTo>
                        <a:lnTo>
                          <a:pt x="19" y="192"/>
                        </a:lnTo>
                        <a:lnTo>
                          <a:pt x="24" y="201"/>
                        </a:lnTo>
                        <a:lnTo>
                          <a:pt x="24" y="206"/>
                        </a:lnTo>
                        <a:lnTo>
                          <a:pt x="29" y="216"/>
                        </a:lnTo>
                        <a:lnTo>
                          <a:pt x="38" y="221"/>
                        </a:lnTo>
                        <a:lnTo>
                          <a:pt x="43" y="230"/>
                        </a:lnTo>
                        <a:lnTo>
                          <a:pt x="48" y="235"/>
                        </a:lnTo>
                        <a:lnTo>
                          <a:pt x="53" y="240"/>
                        </a:lnTo>
                        <a:lnTo>
                          <a:pt x="58" y="249"/>
                        </a:lnTo>
                        <a:lnTo>
                          <a:pt x="67" y="254"/>
                        </a:lnTo>
                        <a:lnTo>
                          <a:pt x="72" y="259"/>
                        </a:lnTo>
                        <a:lnTo>
                          <a:pt x="77" y="264"/>
                        </a:lnTo>
                        <a:lnTo>
                          <a:pt x="86" y="268"/>
                        </a:lnTo>
                        <a:lnTo>
                          <a:pt x="91" y="273"/>
                        </a:lnTo>
                        <a:lnTo>
                          <a:pt x="101" y="278"/>
                        </a:lnTo>
                        <a:lnTo>
                          <a:pt x="106" y="283"/>
                        </a:lnTo>
                        <a:lnTo>
                          <a:pt x="115" y="288"/>
                        </a:lnTo>
                        <a:lnTo>
                          <a:pt x="120" y="292"/>
                        </a:lnTo>
                        <a:lnTo>
                          <a:pt x="130" y="297"/>
                        </a:lnTo>
                        <a:lnTo>
                          <a:pt x="134" y="302"/>
                        </a:lnTo>
                        <a:lnTo>
                          <a:pt x="144" y="302"/>
                        </a:lnTo>
                        <a:lnTo>
                          <a:pt x="149" y="307"/>
                        </a:lnTo>
                        <a:lnTo>
                          <a:pt x="158" y="312"/>
                        </a:lnTo>
                        <a:lnTo>
                          <a:pt x="168" y="316"/>
                        </a:lnTo>
                        <a:lnTo>
                          <a:pt x="173" y="316"/>
                        </a:lnTo>
                        <a:lnTo>
                          <a:pt x="182" y="321"/>
                        </a:lnTo>
                        <a:lnTo>
                          <a:pt x="187" y="326"/>
                        </a:lnTo>
                        <a:lnTo>
                          <a:pt x="197" y="326"/>
                        </a:lnTo>
                        <a:lnTo>
                          <a:pt x="206" y="331"/>
                        </a:lnTo>
                        <a:lnTo>
                          <a:pt x="211" y="335"/>
                        </a:lnTo>
                        <a:lnTo>
                          <a:pt x="221" y="335"/>
                        </a:lnTo>
                        <a:lnTo>
                          <a:pt x="226" y="335"/>
                        </a:lnTo>
                        <a:lnTo>
                          <a:pt x="230" y="335"/>
                        </a:lnTo>
                        <a:lnTo>
                          <a:pt x="235" y="335"/>
                        </a:lnTo>
                        <a:lnTo>
                          <a:pt x="235" y="340"/>
                        </a:lnTo>
                        <a:lnTo>
                          <a:pt x="240" y="340"/>
                        </a:lnTo>
                        <a:lnTo>
                          <a:pt x="245" y="340"/>
                        </a:lnTo>
                        <a:lnTo>
                          <a:pt x="250" y="340"/>
                        </a:lnTo>
                        <a:lnTo>
                          <a:pt x="254" y="340"/>
                        </a:lnTo>
                        <a:lnTo>
                          <a:pt x="259" y="340"/>
                        </a:lnTo>
                        <a:lnTo>
                          <a:pt x="264" y="340"/>
                        </a:lnTo>
                        <a:lnTo>
                          <a:pt x="264" y="335"/>
                        </a:lnTo>
                        <a:lnTo>
                          <a:pt x="269" y="335"/>
                        </a:lnTo>
                        <a:lnTo>
                          <a:pt x="273" y="335"/>
                        </a:lnTo>
                        <a:lnTo>
                          <a:pt x="273" y="331"/>
                        </a:lnTo>
                        <a:lnTo>
                          <a:pt x="278" y="331"/>
                        </a:lnTo>
                        <a:lnTo>
                          <a:pt x="278" y="326"/>
                        </a:lnTo>
                        <a:lnTo>
                          <a:pt x="283" y="326"/>
                        </a:lnTo>
                        <a:lnTo>
                          <a:pt x="288" y="321"/>
                        </a:lnTo>
                        <a:lnTo>
                          <a:pt x="293" y="316"/>
                        </a:lnTo>
                        <a:lnTo>
                          <a:pt x="293" y="312"/>
                        </a:lnTo>
                        <a:lnTo>
                          <a:pt x="293" y="307"/>
                        </a:lnTo>
                        <a:lnTo>
                          <a:pt x="293" y="302"/>
                        </a:lnTo>
                        <a:lnTo>
                          <a:pt x="293" y="297"/>
                        </a:lnTo>
                        <a:lnTo>
                          <a:pt x="293" y="292"/>
                        </a:lnTo>
                        <a:lnTo>
                          <a:pt x="293" y="288"/>
                        </a:lnTo>
                        <a:lnTo>
                          <a:pt x="288" y="288"/>
                        </a:lnTo>
                        <a:lnTo>
                          <a:pt x="288" y="283"/>
                        </a:lnTo>
                        <a:lnTo>
                          <a:pt x="283" y="278"/>
                        </a:lnTo>
                        <a:lnTo>
                          <a:pt x="283" y="273"/>
                        </a:lnTo>
                        <a:lnTo>
                          <a:pt x="278" y="268"/>
                        </a:lnTo>
                        <a:lnTo>
                          <a:pt x="273" y="264"/>
                        </a:lnTo>
                        <a:lnTo>
                          <a:pt x="273" y="259"/>
                        </a:lnTo>
                        <a:lnTo>
                          <a:pt x="269" y="254"/>
                        </a:lnTo>
                        <a:lnTo>
                          <a:pt x="269" y="249"/>
                        </a:lnTo>
                        <a:lnTo>
                          <a:pt x="269" y="244"/>
                        </a:lnTo>
                        <a:lnTo>
                          <a:pt x="269" y="240"/>
                        </a:lnTo>
                        <a:lnTo>
                          <a:pt x="264" y="235"/>
                        </a:lnTo>
                        <a:lnTo>
                          <a:pt x="264" y="230"/>
                        </a:lnTo>
                        <a:lnTo>
                          <a:pt x="264" y="225"/>
                        </a:lnTo>
                        <a:lnTo>
                          <a:pt x="264" y="221"/>
                        </a:lnTo>
                        <a:lnTo>
                          <a:pt x="259" y="216"/>
                        </a:lnTo>
                        <a:lnTo>
                          <a:pt x="259" y="211"/>
                        </a:lnTo>
                        <a:lnTo>
                          <a:pt x="259" y="206"/>
                        </a:lnTo>
                        <a:lnTo>
                          <a:pt x="259" y="201"/>
                        </a:lnTo>
                        <a:lnTo>
                          <a:pt x="259" y="197"/>
                        </a:lnTo>
                        <a:lnTo>
                          <a:pt x="259" y="192"/>
                        </a:lnTo>
                        <a:lnTo>
                          <a:pt x="254" y="187"/>
                        </a:lnTo>
                        <a:lnTo>
                          <a:pt x="254" y="182"/>
                        </a:lnTo>
                        <a:lnTo>
                          <a:pt x="254" y="177"/>
                        </a:lnTo>
                        <a:lnTo>
                          <a:pt x="254" y="173"/>
                        </a:lnTo>
                        <a:lnTo>
                          <a:pt x="254" y="168"/>
                        </a:lnTo>
                        <a:lnTo>
                          <a:pt x="254" y="163"/>
                        </a:lnTo>
                        <a:lnTo>
                          <a:pt x="254" y="158"/>
                        </a:lnTo>
                        <a:lnTo>
                          <a:pt x="254" y="154"/>
                        </a:lnTo>
                        <a:lnTo>
                          <a:pt x="254" y="149"/>
                        </a:lnTo>
                        <a:lnTo>
                          <a:pt x="250" y="144"/>
                        </a:lnTo>
                        <a:lnTo>
                          <a:pt x="250" y="139"/>
                        </a:lnTo>
                        <a:lnTo>
                          <a:pt x="250" y="134"/>
                        </a:lnTo>
                        <a:lnTo>
                          <a:pt x="250" y="130"/>
                        </a:lnTo>
                        <a:lnTo>
                          <a:pt x="250" y="125"/>
                        </a:lnTo>
                        <a:lnTo>
                          <a:pt x="250" y="120"/>
                        </a:lnTo>
                        <a:lnTo>
                          <a:pt x="250" y="115"/>
                        </a:lnTo>
                        <a:lnTo>
                          <a:pt x="250" y="110"/>
                        </a:lnTo>
                        <a:lnTo>
                          <a:pt x="254" y="106"/>
                        </a:lnTo>
                        <a:lnTo>
                          <a:pt x="254" y="101"/>
                        </a:lnTo>
                        <a:lnTo>
                          <a:pt x="254" y="96"/>
                        </a:lnTo>
                        <a:lnTo>
                          <a:pt x="254" y="91"/>
                        </a:lnTo>
                        <a:lnTo>
                          <a:pt x="259" y="101"/>
                        </a:lnTo>
                        <a:lnTo>
                          <a:pt x="269" y="110"/>
                        </a:lnTo>
                        <a:lnTo>
                          <a:pt x="273" y="115"/>
                        </a:lnTo>
                        <a:lnTo>
                          <a:pt x="278" y="125"/>
                        </a:lnTo>
                        <a:lnTo>
                          <a:pt x="288" y="134"/>
                        </a:lnTo>
                        <a:lnTo>
                          <a:pt x="293" y="139"/>
                        </a:lnTo>
                        <a:lnTo>
                          <a:pt x="297" y="149"/>
                        </a:lnTo>
                        <a:lnTo>
                          <a:pt x="307" y="158"/>
                        </a:lnTo>
                        <a:lnTo>
                          <a:pt x="312" y="163"/>
                        </a:lnTo>
                        <a:lnTo>
                          <a:pt x="321" y="173"/>
                        </a:lnTo>
                        <a:lnTo>
                          <a:pt x="326" y="177"/>
                        </a:lnTo>
                        <a:lnTo>
                          <a:pt x="336" y="187"/>
                        </a:lnTo>
                        <a:lnTo>
                          <a:pt x="341" y="192"/>
                        </a:lnTo>
                        <a:lnTo>
                          <a:pt x="350" y="197"/>
                        </a:lnTo>
                        <a:lnTo>
                          <a:pt x="360" y="206"/>
                        </a:lnTo>
                        <a:lnTo>
                          <a:pt x="365" y="211"/>
                        </a:lnTo>
                        <a:lnTo>
                          <a:pt x="374" y="216"/>
                        </a:lnTo>
                        <a:lnTo>
                          <a:pt x="384" y="221"/>
                        </a:lnTo>
                        <a:lnTo>
                          <a:pt x="389" y="225"/>
                        </a:lnTo>
                        <a:lnTo>
                          <a:pt x="398" y="230"/>
                        </a:lnTo>
                        <a:lnTo>
                          <a:pt x="408" y="235"/>
                        </a:lnTo>
                        <a:lnTo>
                          <a:pt x="417" y="240"/>
                        </a:lnTo>
                        <a:lnTo>
                          <a:pt x="427" y="244"/>
                        </a:lnTo>
                        <a:lnTo>
                          <a:pt x="437" y="244"/>
                        </a:lnTo>
                        <a:lnTo>
                          <a:pt x="446" y="249"/>
                        </a:lnTo>
                        <a:lnTo>
                          <a:pt x="456" y="249"/>
                        </a:lnTo>
                        <a:lnTo>
                          <a:pt x="465" y="249"/>
                        </a:lnTo>
                        <a:lnTo>
                          <a:pt x="475" y="254"/>
                        </a:lnTo>
                        <a:lnTo>
                          <a:pt x="485" y="254"/>
                        </a:lnTo>
                        <a:lnTo>
                          <a:pt x="494" y="254"/>
                        </a:lnTo>
                        <a:lnTo>
                          <a:pt x="504" y="249"/>
                        </a:lnTo>
                        <a:lnTo>
                          <a:pt x="513" y="249"/>
                        </a:lnTo>
                        <a:lnTo>
                          <a:pt x="518" y="249"/>
                        </a:lnTo>
                        <a:lnTo>
                          <a:pt x="523" y="249"/>
                        </a:lnTo>
                        <a:lnTo>
                          <a:pt x="523" y="244"/>
                        </a:lnTo>
                        <a:lnTo>
                          <a:pt x="528" y="244"/>
                        </a:lnTo>
                        <a:lnTo>
                          <a:pt x="528" y="240"/>
                        </a:lnTo>
                        <a:lnTo>
                          <a:pt x="533" y="240"/>
                        </a:lnTo>
                        <a:lnTo>
                          <a:pt x="537" y="240"/>
                        </a:lnTo>
                        <a:lnTo>
                          <a:pt x="533" y="244"/>
                        </a:lnTo>
                        <a:lnTo>
                          <a:pt x="528" y="249"/>
                        </a:lnTo>
                        <a:lnTo>
                          <a:pt x="523" y="254"/>
                        </a:lnTo>
                        <a:lnTo>
                          <a:pt x="518" y="254"/>
                        </a:lnTo>
                        <a:lnTo>
                          <a:pt x="518" y="259"/>
                        </a:lnTo>
                        <a:lnTo>
                          <a:pt x="513" y="264"/>
                        </a:lnTo>
                        <a:lnTo>
                          <a:pt x="509" y="268"/>
                        </a:lnTo>
                        <a:lnTo>
                          <a:pt x="504" y="268"/>
                        </a:lnTo>
                        <a:lnTo>
                          <a:pt x="504" y="273"/>
                        </a:lnTo>
                        <a:lnTo>
                          <a:pt x="499" y="278"/>
                        </a:lnTo>
                        <a:lnTo>
                          <a:pt x="494" y="283"/>
                        </a:lnTo>
                        <a:lnTo>
                          <a:pt x="494" y="288"/>
                        </a:lnTo>
                        <a:lnTo>
                          <a:pt x="489" y="292"/>
                        </a:lnTo>
                        <a:lnTo>
                          <a:pt x="485" y="292"/>
                        </a:lnTo>
                        <a:lnTo>
                          <a:pt x="485" y="297"/>
                        </a:lnTo>
                        <a:lnTo>
                          <a:pt x="480" y="302"/>
                        </a:lnTo>
                        <a:lnTo>
                          <a:pt x="480" y="307"/>
                        </a:lnTo>
                        <a:lnTo>
                          <a:pt x="475" y="312"/>
                        </a:lnTo>
                        <a:lnTo>
                          <a:pt x="475" y="316"/>
                        </a:lnTo>
                        <a:lnTo>
                          <a:pt x="470" y="321"/>
                        </a:lnTo>
                        <a:lnTo>
                          <a:pt x="470" y="326"/>
                        </a:lnTo>
                        <a:lnTo>
                          <a:pt x="465" y="331"/>
                        </a:lnTo>
                        <a:lnTo>
                          <a:pt x="465" y="335"/>
                        </a:lnTo>
                        <a:lnTo>
                          <a:pt x="461" y="340"/>
                        </a:lnTo>
                        <a:lnTo>
                          <a:pt x="461" y="345"/>
                        </a:lnTo>
                        <a:lnTo>
                          <a:pt x="456" y="350"/>
                        </a:lnTo>
                        <a:lnTo>
                          <a:pt x="456" y="355"/>
                        </a:lnTo>
                        <a:lnTo>
                          <a:pt x="451" y="359"/>
                        </a:lnTo>
                        <a:lnTo>
                          <a:pt x="451" y="364"/>
                        </a:lnTo>
                        <a:lnTo>
                          <a:pt x="446" y="369"/>
                        </a:lnTo>
                        <a:lnTo>
                          <a:pt x="446" y="374"/>
                        </a:lnTo>
                        <a:lnTo>
                          <a:pt x="446" y="379"/>
                        </a:lnTo>
                        <a:lnTo>
                          <a:pt x="451" y="379"/>
                        </a:lnTo>
                        <a:lnTo>
                          <a:pt x="451" y="383"/>
                        </a:lnTo>
                        <a:lnTo>
                          <a:pt x="456" y="383"/>
                        </a:lnTo>
                        <a:lnTo>
                          <a:pt x="456" y="388"/>
                        </a:lnTo>
                        <a:lnTo>
                          <a:pt x="461" y="388"/>
                        </a:lnTo>
                        <a:lnTo>
                          <a:pt x="461" y="383"/>
                        </a:lnTo>
                        <a:lnTo>
                          <a:pt x="465" y="383"/>
                        </a:lnTo>
                        <a:lnTo>
                          <a:pt x="465" y="379"/>
                        </a:lnTo>
                        <a:lnTo>
                          <a:pt x="470" y="374"/>
                        </a:lnTo>
                        <a:lnTo>
                          <a:pt x="475" y="369"/>
                        </a:lnTo>
                        <a:lnTo>
                          <a:pt x="475" y="364"/>
                        </a:lnTo>
                        <a:lnTo>
                          <a:pt x="480" y="359"/>
                        </a:lnTo>
                        <a:lnTo>
                          <a:pt x="485" y="355"/>
                        </a:lnTo>
                        <a:lnTo>
                          <a:pt x="489" y="345"/>
                        </a:lnTo>
                        <a:lnTo>
                          <a:pt x="489" y="340"/>
                        </a:lnTo>
                        <a:lnTo>
                          <a:pt x="494" y="335"/>
                        </a:lnTo>
                        <a:lnTo>
                          <a:pt x="499" y="331"/>
                        </a:lnTo>
                        <a:lnTo>
                          <a:pt x="504" y="321"/>
                        </a:lnTo>
                        <a:lnTo>
                          <a:pt x="504" y="316"/>
                        </a:lnTo>
                        <a:lnTo>
                          <a:pt x="509" y="312"/>
                        </a:lnTo>
                        <a:lnTo>
                          <a:pt x="513" y="307"/>
                        </a:lnTo>
                        <a:lnTo>
                          <a:pt x="518" y="302"/>
                        </a:lnTo>
                        <a:lnTo>
                          <a:pt x="523" y="297"/>
                        </a:lnTo>
                        <a:lnTo>
                          <a:pt x="528" y="288"/>
                        </a:lnTo>
                        <a:lnTo>
                          <a:pt x="533" y="283"/>
                        </a:lnTo>
                        <a:lnTo>
                          <a:pt x="537" y="278"/>
                        </a:lnTo>
                        <a:lnTo>
                          <a:pt x="542" y="278"/>
                        </a:lnTo>
                        <a:lnTo>
                          <a:pt x="547" y="273"/>
                        </a:lnTo>
                        <a:lnTo>
                          <a:pt x="552" y="268"/>
                        </a:lnTo>
                        <a:lnTo>
                          <a:pt x="557" y="264"/>
                        </a:lnTo>
                        <a:lnTo>
                          <a:pt x="561" y="264"/>
                        </a:lnTo>
                        <a:lnTo>
                          <a:pt x="566" y="259"/>
                        </a:lnTo>
                        <a:lnTo>
                          <a:pt x="576" y="254"/>
                        </a:lnTo>
                        <a:lnTo>
                          <a:pt x="581" y="254"/>
                        </a:lnTo>
                        <a:lnTo>
                          <a:pt x="585" y="254"/>
                        </a:lnTo>
                        <a:lnTo>
                          <a:pt x="595" y="254"/>
                        </a:lnTo>
                        <a:lnTo>
                          <a:pt x="600" y="254"/>
                        </a:lnTo>
                        <a:lnTo>
                          <a:pt x="604" y="254"/>
                        </a:lnTo>
                        <a:lnTo>
                          <a:pt x="614" y="254"/>
                        </a:lnTo>
                        <a:lnTo>
                          <a:pt x="619" y="254"/>
                        </a:lnTo>
                        <a:lnTo>
                          <a:pt x="624" y="254"/>
                        </a:lnTo>
                        <a:lnTo>
                          <a:pt x="624" y="259"/>
                        </a:lnTo>
                        <a:lnTo>
                          <a:pt x="628" y="259"/>
                        </a:lnTo>
                        <a:lnTo>
                          <a:pt x="633" y="264"/>
                        </a:lnTo>
                        <a:lnTo>
                          <a:pt x="638" y="264"/>
                        </a:lnTo>
                        <a:lnTo>
                          <a:pt x="643" y="268"/>
                        </a:lnTo>
                        <a:lnTo>
                          <a:pt x="648" y="268"/>
                        </a:lnTo>
                        <a:lnTo>
                          <a:pt x="652" y="268"/>
                        </a:lnTo>
                        <a:lnTo>
                          <a:pt x="652" y="273"/>
                        </a:lnTo>
                        <a:lnTo>
                          <a:pt x="657" y="273"/>
                        </a:lnTo>
                        <a:lnTo>
                          <a:pt x="662" y="273"/>
                        </a:lnTo>
                        <a:lnTo>
                          <a:pt x="662" y="268"/>
                        </a:lnTo>
                        <a:lnTo>
                          <a:pt x="667" y="268"/>
                        </a:lnTo>
                        <a:lnTo>
                          <a:pt x="672" y="268"/>
                        </a:lnTo>
                        <a:lnTo>
                          <a:pt x="672" y="264"/>
                        </a:lnTo>
                        <a:lnTo>
                          <a:pt x="672" y="259"/>
                        </a:lnTo>
                        <a:lnTo>
                          <a:pt x="667" y="259"/>
                        </a:lnTo>
                        <a:lnTo>
                          <a:pt x="667" y="254"/>
                        </a:lnTo>
                        <a:lnTo>
                          <a:pt x="662" y="249"/>
                        </a:lnTo>
                        <a:lnTo>
                          <a:pt x="662" y="244"/>
                        </a:lnTo>
                        <a:lnTo>
                          <a:pt x="657" y="244"/>
                        </a:lnTo>
                        <a:lnTo>
                          <a:pt x="652" y="240"/>
                        </a:lnTo>
                        <a:lnTo>
                          <a:pt x="648" y="240"/>
                        </a:lnTo>
                        <a:lnTo>
                          <a:pt x="648" y="235"/>
                        </a:lnTo>
                        <a:lnTo>
                          <a:pt x="643" y="235"/>
                        </a:lnTo>
                        <a:lnTo>
                          <a:pt x="638" y="230"/>
                        </a:lnTo>
                        <a:lnTo>
                          <a:pt x="633" y="230"/>
                        </a:lnTo>
                        <a:lnTo>
                          <a:pt x="633" y="225"/>
                        </a:lnTo>
                        <a:lnTo>
                          <a:pt x="628" y="225"/>
                        </a:lnTo>
                        <a:lnTo>
                          <a:pt x="624" y="225"/>
                        </a:lnTo>
                        <a:lnTo>
                          <a:pt x="619" y="225"/>
                        </a:lnTo>
                        <a:lnTo>
                          <a:pt x="614" y="225"/>
                        </a:lnTo>
                        <a:lnTo>
                          <a:pt x="609" y="221"/>
                        </a:lnTo>
                        <a:lnTo>
                          <a:pt x="604" y="221"/>
                        </a:lnTo>
                        <a:lnTo>
                          <a:pt x="600" y="221"/>
                        </a:lnTo>
                        <a:lnTo>
                          <a:pt x="595" y="221"/>
                        </a:lnTo>
                        <a:lnTo>
                          <a:pt x="595" y="225"/>
                        </a:lnTo>
                        <a:lnTo>
                          <a:pt x="590" y="225"/>
                        </a:lnTo>
                        <a:lnTo>
                          <a:pt x="585" y="225"/>
                        </a:lnTo>
                        <a:lnTo>
                          <a:pt x="581" y="225"/>
                        </a:lnTo>
                        <a:lnTo>
                          <a:pt x="576" y="225"/>
                        </a:lnTo>
                        <a:lnTo>
                          <a:pt x="571" y="225"/>
                        </a:lnTo>
                        <a:lnTo>
                          <a:pt x="571" y="230"/>
                        </a:lnTo>
                        <a:lnTo>
                          <a:pt x="566" y="230"/>
                        </a:lnTo>
                        <a:lnTo>
                          <a:pt x="561" y="230"/>
                        </a:lnTo>
                        <a:lnTo>
                          <a:pt x="561" y="235"/>
                        </a:lnTo>
                        <a:lnTo>
                          <a:pt x="557" y="235"/>
                        </a:lnTo>
                        <a:lnTo>
                          <a:pt x="557" y="230"/>
                        </a:lnTo>
                        <a:lnTo>
                          <a:pt x="557" y="225"/>
                        </a:lnTo>
                        <a:lnTo>
                          <a:pt x="557" y="221"/>
                        </a:lnTo>
                        <a:lnTo>
                          <a:pt x="557" y="216"/>
                        </a:lnTo>
                        <a:lnTo>
                          <a:pt x="557" y="211"/>
                        </a:lnTo>
                        <a:lnTo>
                          <a:pt x="557" y="206"/>
                        </a:lnTo>
                        <a:lnTo>
                          <a:pt x="552" y="201"/>
                        </a:lnTo>
                        <a:lnTo>
                          <a:pt x="552" y="197"/>
                        </a:lnTo>
                        <a:lnTo>
                          <a:pt x="552" y="192"/>
                        </a:lnTo>
                        <a:lnTo>
                          <a:pt x="552" y="187"/>
                        </a:lnTo>
                        <a:lnTo>
                          <a:pt x="547" y="182"/>
                        </a:lnTo>
                        <a:lnTo>
                          <a:pt x="547" y="177"/>
                        </a:lnTo>
                        <a:lnTo>
                          <a:pt x="547" y="173"/>
                        </a:lnTo>
                        <a:lnTo>
                          <a:pt x="542" y="168"/>
                        </a:lnTo>
                        <a:lnTo>
                          <a:pt x="542" y="163"/>
                        </a:lnTo>
                        <a:lnTo>
                          <a:pt x="542" y="158"/>
                        </a:lnTo>
                        <a:lnTo>
                          <a:pt x="537" y="154"/>
                        </a:lnTo>
                        <a:lnTo>
                          <a:pt x="537" y="149"/>
                        </a:lnTo>
                        <a:lnTo>
                          <a:pt x="537" y="144"/>
                        </a:lnTo>
                        <a:lnTo>
                          <a:pt x="533" y="139"/>
                        </a:lnTo>
                        <a:lnTo>
                          <a:pt x="533" y="134"/>
                        </a:lnTo>
                        <a:lnTo>
                          <a:pt x="533" y="130"/>
                        </a:lnTo>
                        <a:lnTo>
                          <a:pt x="528" y="125"/>
                        </a:lnTo>
                        <a:lnTo>
                          <a:pt x="528" y="120"/>
                        </a:lnTo>
                        <a:lnTo>
                          <a:pt x="528" y="115"/>
                        </a:lnTo>
                        <a:lnTo>
                          <a:pt x="528" y="110"/>
                        </a:lnTo>
                        <a:lnTo>
                          <a:pt x="528" y="106"/>
                        </a:lnTo>
                        <a:lnTo>
                          <a:pt x="523" y="101"/>
                        </a:lnTo>
                        <a:lnTo>
                          <a:pt x="523" y="96"/>
                        </a:lnTo>
                        <a:lnTo>
                          <a:pt x="523" y="91"/>
                        </a:lnTo>
                        <a:lnTo>
                          <a:pt x="523" y="86"/>
                        </a:lnTo>
                        <a:lnTo>
                          <a:pt x="523" y="77"/>
                        </a:lnTo>
                        <a:lnTo>
                          <a:pt x="523" y="72"/>
                        </a:lnTo>
                        <a:lnTo>
                          <a:pt x="523" y="67"/>
                        </a:lnTo>
                        <a:lnTo>
                          <a:pt x="523" y="63"/>
                        </a:lnTo>
                        <a:lnTo>
                          <a:pt x="523" y="58"/>
                        </a:lnTo>
                        <a:lnTo>
                          <a:pt x="518" y="53"/>
                        </a:lnTo>
                        <a:lnTo>
                          <a:pt x="518" y="48"/>
                        </a:lnTo>
                        <a:lnTo>
                          <a:pt x="518" y="43"/>
                        </a:lnTo>
                        <a:lnTo>
                          <a:pt x="518" y="39"/>
                        </a:lnTo>
                        <a:lnTo>
                          <a:pt x="523" y="39"/>
                        </a:lnTo>
                        <a:lnTo>
                          <a:pt x="523" y="34"/>
                        </a:lnTo>
                        <a:lnTo>
                          <a:pt x="523" y="29"/>
                        </a:lnTo>
                        <a:lnTo>
                          <a:pt x="523" y="24"/>
                        </a:lnTo>
                        <a:lnTo>
                          <a:pt x="523" y="19"/>
                        </a:lnTo>
                        <a:lnTo>
                          <a:pt x="523" y="15"/>
                        </a:lnTo>
                        <a:lnTo>
                          <a:pt x="523" y="10"/>
                        </a:lnTo>
                        <a:lnTo>
                          <a:pt x="523" y="5"/>
                        </a:lnTo>
                        <a:lnTo>
                          <a:pt x="523" y="0"/>
                        </a:lnTo>
                        <a:lnTo>
                          <a:pt x="533" y="15"/>
                        </a:lnTo>
                        <a:lnTo>
                          <a:pt x="537" y="24"/>
                        </a:lnTo>
                        <a:lnTo>
                          <a:pt x="547" y="39"/>
                        </a:lnTo>
                        <a:lnTo>
                          <a:pt x="552" y="53"/>
                        </a:lnTo>
                        <a:lnTo>
                          <a:pt x="561" y="63"/>
                        </a:lnTo>
                        <a:lnTo>
                          <a:pt x="571" y="77"/>
                        </a:lnTo>
                        <a:lnTo>
                          <a:pt x="581" y="86"/>
                        </a:lnTo>
                        <a:lnTo>
                          <a:pt x="590" y="101"/>
                        </a:lnTo>
                        <a:lnTo>
                          <a:pt x="600" y="110"/>
                        </a:lnTo>
                        <a:lnTo>
                          <a:pt x="609" y="120"/>
                        </a:lnTo>
                        <a:lnTo>
                          <a:pt x="619" y="130"/>
                        </a:lnTo>
                        <a:lnTo>
                          <a:pt x="628" y="144"/>
                        </a:lnTo>
                        <a:lnTo>
                          <a:pt x="638" y="154"/>
                        </a:lnTo>
                        <a:lnTo>
                          <a:pt x="652" y="158"/>
                        </a:lnTo>
                        <a:lnTo>
                          <a:pt x="662" y="168"/>
                        </a:lnTo>
                        <a:lnTo>
                          <a:pt x="676" y="177"/>
                        </a:lnTo>
                        <a:lnTo>
                          <a:pt x="686" y="187"/>
                        </a:lnTo>
                        <a:lnTo>
                          <a:pt x="700" y="197"/>
                        </a:lnTo>
                        <a:lnTo>
                          <a:pt x="715" y="201"/>
                        </a:lnTo>
                        <a:lnTo>
                          <a:pt x="724" y="211"/>
                        </a:lnTo>
                        <a:lnTo>
                          <a:pt x="739" y="216"/>
                        </a:lnTo>
                        <a:lnTo>
                          <a:pt x="753" y="225"/>
                        </a:lnTo>
                        <a:lnTo>
                          <a:pt x="768" y="230"/>
                        </a:lnTo>
                        <a:lnTo>
                          <a:pt x="777" y="235"/>
                        </a:lnTo>
                        <a:lnTo>
                          <a:pt x="792" y="240"/>
                        </a:lnTo>
                        <a:lnTo>
                          <a:pt x="806" y="244"/>
                        </a:lnTo>
                        <a:lnTo>
                          <a:pt x="820" y="249"/>
                        </a:lnTo>
                        <a:lnTo>
                          <a:pt x="835" y="254"/>
                        </a:lnTo>
                        <a:lnTo>
                          <a:pt x="849" y="259"/>
                        </a:lnTo>
                        <a:lnTo>
                          <a:pt x="864" y="264"/>
                        </a:lnTo>
                        <a:lnTo>
                          <a:pt x="878" y="268"/>
                        </a:lnTo>
                        <a:lnTo>
                          <a:pt x="892" y="273"/>
                        </a:lnTo>
                        <a:close/>
                      </a:path>
                    </a:pathLst>
                  </a:custGeom>
                  <a:solidFill>
                    <a:srgbClr val="ffd9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2" name=""/>
                  <p:cNvSpPr/>
                  <p:nvPr/>
                </p:nvSpPr>
                <p:spPr>
                  <a:xfrm flipH="1">
                    <a:off x="3966120" y="4464720"/>
                    <a:ext cx="1260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58">
                        <a:moveTo>
                          <a:pt x="76" y="48"/>
                        </a:moveTo>
                        <a:lnTo>
                          <a:pt x="76" y="53"/>
                        </a:lnTo>
                        <a:lnTo>
                          <a:pt x="76" y="57"/>
                        </a:lnTo>
                        <a:lnTo>
                          <a:pt x="72" y="62"/>
                        </a:lnTo>
                        <a:lnTo>
                          <a:pt x="72" y="67"/>
                        </a:lnTo>
                        <a:lnTo>
                          <a:pt x="67" y="72"/>
                        </a:lnTo>
                        <a:lnTo>
                          <a:pt x="67" y="76"/>
                        </a:lnTo>
                        <a:lnTo>
                          <a:pt x="62" y="81"/>
                        </a:lnTo>
                        <a:lnTo>
                          <a:pt x="62" y="86"/>
                        </a:lnTo>
                        <a:lnTo>
                          <a:pt x="57" y="91"/>
                        </a:lnTo>
                        <a:lnTo>
                          <a:pt x="57" y="96"/>
                        </a:lnTo>
                        <a:lnTo>
                          <a:pt x="57" y="100"/>
                        </a:lnTo>
                        <a:lnTo>
                          <a:pt x="52" y="100"/>
                        </a:lnTo>
                        <a:lnTo>
                          <a:pt x="52" y="105"/>
                        </a:lnTo>
                        <a:lnTo>
                          <a:pt x="48" y="110"/>
                        </a:lnTo>
                        <a:lnTo>
                          <a:pt x="48" y="115"/>
                        </a:lnTo>
                        <a:lnTo>
                          <a:pt x="43" y="120"/>
                        </a:lnTo>
                        <a:lnTo>
                          <a:pt x="38" y="124"/>
                        </a:lnTo>
                        <a:lnTo>
                          <a:pt x="38" y="129"/>
                        </a:lnTo>
                        <a:lnTo>
                          <a:pt x="38" y="134"/>
                        </a:lnTo>
                        <a:lnTo>
                          <a:pt x="33" y="134"/>
                        </a:lnTo>
                        <a:lnTo>
                          <a:pt x="33" y="139"/>
                        </a:lnTo>
                        <a:lnTo>
                          <a:pt x="28" y="143"/>
                        </a:lnTo>
                        <a:lnTo>
                          <a:pt x="24" y="148"/>
                        </a:lnTo>
                        <a:lnTo>
                          <a:pt x="19" y="153"/>
                        </a:lnTo>
                        <a:lnTo>
                          <a:pt x="19" y="158"/>
                        </a:lnTo>
                        <a:lnTo>
                          <a:pt x="19" y="153"/>
                        </a:lnTo>
                        <a:lnTo>
                          <a:pt x="19" y="148"/>
                        </a:lnTo>
                        <a:lnTo>
                          <a:pt x="19" y="143"/>
                        </a:lnTo>
                        <a:lnTo>
                          <a:pt x="14" y="139"/>
                        </a:lnTo>
                        <a:lnTo>
                          <a:pt x="14" y="134"/>
                        </a:lnTo>
                        <a:lnTo>
                          <a:pt x="14" y="129"/>
                        </a:lnTo>
                        <a:lnTo>
                          <a:pt x="14" y="124"/>
                        </a:lnTo>
                        <a:lnTo>
                          <a:pt x="14" y="120"/>
                        </a:lnTo>
                        <a:lnTo>
                          <a:pt x="14" y="110"/>
                        </a:lnTo>
                        <a:lnTo>
                          <a:pt x="14" y="105"/>
                        </a:lnTo>
                        <a:lnTo>
                          <a:pt x="14" y="100"/>
                        </a:lnTo>
                        <a:lnTo>
                          <a:pt x="14" y="96"/>
                        </a:lnTo>
                        <a:lnTo>
                          <a:pt x="14" y="91"/>
                        </a:lnTo>
                        <a:lnTo>
                          <a:pt x="14" y="86"/>
                        </a:lnTo>
                        <a:lnTo>
                          <a:pt x="14" y="81"/>
                        </a:lnTo>
                        <a:lnTo>
                          <a:pt x="14" y="76"/>
                        </a:lnTo>
                        <a:lnTo>
                          <a:pt x="14" y="72"/>
                        </a:lnTo>
                        <a:lnTo>
                          <a:pt x="14" y="67"/>
                        </a:lnTo>
                        <a:lnTo>
                          <a:pt x="14" y="62"/>
                        </a:lnTo>
                        <a:lnTo>
                          <a:pt x="9" y="57"/>
                        </a:lnTo>
                        <a:lnTo>
                          <a:pt x="9" y="53"/>
                        </a:lnTo>
                        <a:lnTo>
                          <a:pt x="9" y="48"/>
                        </a:lnTo>
                        <a:lnTo>
                          <a:pt x="9" y="43"/>
                        </a:lnTo>
                        <a:lnTo>
                          <a:pt x="9" y="38"/>
                        </a:lnTo>
                        <a:lnTo>
                          <a:pt x="9" y="33"/>
                        </a:lnTo>
                        <a:lnTo>
                          <a:pt x="4" y="29"/>
                        </a:lnTo>
                        <a:lnTo>
                          <a:pt x="4" y="24"/>
                        </a:lnTo>
                        <a:lnTo>
                          <a:pt x="4" y="19"/>
                        </a:lnTo>
                        <a:lnTo>
                          <a:pt x="4" y="14"/>
                        </a:lnTo>
                        <a:lnTo>
                          <a:pt x="0" y="9"/>
                        </a:lnTo>
                        <a:lnTo>
                          <a:pt x="0" y="5"/>
                        </a:lnTo>
                        <a:lnTo>
                          <a:pt x="0" y="0"/>
                        </a:lnTo>
                        <a:lnTo>
                          <a:pt x="4" y="0"/>
                        </a:lnTo>
                        <a:lnTo>
                          <a:pt x="4" y="5"/>
                        </a:lnTo>
                        <a:lnTo>
                          <a:pt x="9" y="5"/>
                        </a:lnTo>
                        <a:lnTo>
                          <a:pt x="14" y="9"/>
                        </a:lnTo>
                        <a:lnTo>
                          <a:pt x="19" y="14"/>
                        </a:lnTo>
                        <a:lnTo>
                          <a:pt x="24" y="19"/>
                        </a:lnTo>
                        <a:lnTo>
                          <a:pt x="28" y="19"/>
                        </a:lnTo>
                        <a:lnTo>
                          <a:pt x="28" y="24"/>
                        </a:lnTo>
                        <a:lnTo>
                          <a:pt x="33" y="24"/>
                        </a:lnTo>
                        <a:lnTo>
                          <a:pt x="33" y="29"/>
                        </a:lnTo>
                        <a:lnTo>
                          <a:pt x="38" y="29"/>
                        </a:lnTo>
                        <a:lnTo>
                          <a:pt x="38" y="33"/>
                        </a:lnTo>
                        <a:lnTo>
                          <a:pt x="43" y="33"/>
                        </a:lnTo>
                        <a:lnTo>
                          <a:pt x="48" y="38"/>
                        </a:lnTo>
                        <a:lnTo>
                          <a:pt x="52" y="38"/>
                        </a:lnTo>
                        <a:lnTo>
                          <a:pt x="57" y="43"/>
                        </a:lnTo>
                        <a:lnTo>
                          <a:pt x="62" y="43"/>
                        </a:lnTo>
                        <a:lnTo>
                          <a:pt x="67" y="48"/>
                        </a:lnTo>
                        <a:lnTo>
                          <a:pt x="72" y="48"/>
                        </a:lnTo>
                        <a:lnTo>
                          <a:pt x="76" y="48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3" name=""/>
                  <p:cNvSpPr/>
                  <p:nvPr/>
                </p:nvSpPr>
                <p:spPr>
                  <a:xfrm flipH="1">
                    <a:off x="4520520" y="4504680"/>
                    <a:ext cx="291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3" h="96">
                        <a:moveTo>
                          <a:pt x="173" y="77"/>
                        </a:moveTo>
                        <a:lnTo>
                          <a:pt x="173" y="81"/>
                        </a:lnTo>
                        <a:lnTo>
                          <a:pt x="173" y="86"/>
                        </a:lnTo>
                        <a:lnTo>
                          <a:pt x="173" y="91"/>
                        </a:lnTo>
                        <a:lnTo>
                          <a:pt x="168" y="91"/>
                        </a:lnTo>
                        <a:lnTo>
                          <a:pt x="168" y="96"/>
                        </a:lnTo>
                        <a:lnTo>
                          <a:pt x="163" y="91"/>
                        </a:lnTo>
                        <a:lnTo>
                          <a:pt x="163" y="86"/>
                        </a:lnTo>
                        <a:lnTo>
                          <a:pt x="158" y="86"/>
                        </a:lnTo>
                        <a:lnTo>
                          <a:pt x="158" y="81"/>
                        </a:lnTo>
                        <a:lnTo>
                          <a:pt x="153" y="77"/>
                        </a:lnTo>
                        <a:lnTo>
                          <a:pt x="149" y="72"/>
                        </a:lnTo>
                        <a:lnTo>
                          <a:pt x="149" y="67"/>
                        </a:lnTo>
                        <a:lnTo>
                          <a:pt x="144" y="67"/>
                        </a:lnTo>
                        <a:lnTo>
                          <a:pt x="139" y="62"/>
                        </a:lnTo>
                        <a:lnTo>
                          <a:pt x="134" y="58"/>
                        </a:lnTo>
                        <a:lnTo>
                          <a:pt x="129" y="53"/>
                        </a:lnTo>
                        <a:lnTo>
                          <a:pt x="125" y="48"/>
                        </a:lnTo>
                        <a:lnTo>
                          <a:pt x="120" y="48"/>
                        </a:lnTo>
                        <a:lnTo>
                          <a:pt x="115" y="43"/>
                        </a:lnTo>
                        <a:lnTo>
                          <a:pt x="110" y="43"/>
                        </a:lnTo>
                        <a:lnTo>
                          <a:pt x="110" y="38"/>
                        </a:lnTo>
                        <a:lnTo>
                          <a:pt x="105" y="38"/>
                        </a:lnTo>
                        <a:lnTo>
                          <a:pt x="101" y="34"/>
                        </a:lnTo>
                        <a:lnTo>
                          <a:pt x="96" y="34"/>
                        </a:lnTo>
                        <a:lnTo>
                          <a:pt x="91" y="34"/>
                        </a:lnTo>
                        <a:lnTo>
                          <a:pt x="86" y="29"/>
                        </a:lnTo>
                        <a:lnTo>
                          <a:pt x="81" y="29"/>
                        </a:lnTo>
                        <a:lnTo>
                          <a:pt x="77" y="29"/>
                        </a:lnTo>
                        <a:lnTo>
                          <a:pt x="72" y="24"/>
                        </a:lnTo>
                        <a:lnTo>
                          <a:pt x="67" y="24"/>
                        </a:lnTo>
                        <a:lnTo>
                          <a:pt x="62" y="24"/>
                        </a:lnTo>
                        <a:lnTo>
                          <a:pt x="57" y="24"/>
                        </a:lnTo>
                        <a:lnTo>
                          <a:pt x="53" y="24"/>
                        </a:lnTo>
                        <a:lnTo>
                          <a:pt x="48" y="24"/>
                        </a:lnTo>
                        <a:lnTo>
                          <a:pt x="43" y="24"/>
                        </a:lnTo>
                        <a:lnTo>
                          <a:pt x="38" y="24"/>
                        </a:lnTo>
                        <a:lnTo>
                          <a:pt x="38" y="29"/>
                        </a:lnTo>
                        <a:lnTo>
                          <a:pt x="33" y="29"/>
                        </a:lnTo>
                        <a:lnTo>
                          <a:pt x="33" y="34"/>
                        </a:lnTo>
                        <a:lnTo>
                          <a:pt x="29" y="34"/>
                        </a:lnTo>
                        <a:lnTo>
                          <a:pt x="29" y="38"/>
                        </a:lnTo>
                        <a:lnTo>
                          <a:pt x="24" y="43"/>
                        </a:lnTo>
                        <a:lnTo>
                          <a:pt x="24" y="48"/>
                        </a:lnTo>
                        <a:lnTo>
                          <a:pt x="24" y="53"/>
                        </a:lnTo>
                        <a:lnTo>
                          <a:pt x="19" y="53"/>
                        </a:lnTo>
                        <a:lnTo>
                          <a:pt x="19" y="58"/>
                        </a:lnTo>
                        <a:lnTo>
                          <a:pt x="14" y="58"/>
                        </a:lnTo>
                        <a:lnTo>
                          <a:pt x="14" y="62"/>
                        </a:lnTo>
                        <a:lnTo>
                          <a:pt x="9" y="62"/>
                        </a:lnTo>
                        <a:lnTo>
                          <a:pt x="5" y="62"/>
                        </a:lnTo>
                        <a:lnTo>
                          <a:pt x="0" y="62"/>
                        </a:lnTo>
                        <a:lnTo>
                          <a:pt x="0" y="58"/>
                        </a:lnTo>
                        <a:lnTo>
                          <a:pt x="0" y="53"/>
                        </a:lnTo>
                        <a:lnTo>
                          <a:pt x="0" y="48"/>
                        </a:lnTo>
                        <a:lnTo>
                          <a:pt x="5" y="43"/>
                        </a:lnTo>
                        <a:lnTo>
                          <a:pt x="5" y="38"/>
                        </a:lnTo>
                        <a:lnTo>
                          <a:pt x="5" y="34"/>
                        </a:lnTo>
                        <a:lnTo>
                          <a:pt x="9" y="34"/>
                        </a:lnTo>
                        <a:lnTo>
                          <a:pt x="9" y="29"/>
                        </a:lnTo>
                        <a:lnTo>
                          <a:pt x="14" y="29"/>
                        </a:lnTo>
                        <a:lnTo>
                          <a:pt x="14" y="24"/>
                        </a:lnTo>
                        <a:lnTo>
                          <a:pt x="19" y="19"/>
                        </a:lnTo>
                        <a:lnTo>
                          <a:pt x="19" y="14"/>
                        </a:lnTo>
                        <a:lnTo>
                          <a:pt x="24" y="14"/>
                        </a:lnTo>
                        <a:lnTo>
                          <a:pt x="29" y="10"/>
                        </a:lnTo>
                        <a:lnTo>
                          <a:pt x="33" y="5"/>
                        </a:lnTo>
                        <a:lnTo>
                          <a:pt x="38" y="5"/>
                        </a:lnTo>
                        <a:lnTo>
                          <a:pt x="43" y="5"/>
                        </a:lnTo>
                        <a:lnTo>
                          <a:pt x="43" y="0"/>
                        </a:lnTo>
                        <a:lnTo>
                          <a:pt x="48" y="0"/>
                        </a:lnTo>
                        <a:lnTo>
                          <a:pt x="53" y="0"/>
                        </a:lnTo>
                        <a:lnTo>
                          <a:pt x="57" y="0"/>
                        </a:lnTo>
                        <a:lnTo>
                          <a:pt x="62" y="0"/>
                        </a:lnTo>
                        <a:lnTo>
                          <a:pt x="67" y="5"/>
                        </a:lnTo>
                        <a:lnTo>
                          <a:pt x="72" y="5"/>
                        </a:lnTo>
                        <a:lnTo>
                          <a:pt x="77" y="5"/>
                        </a:lnTo>
                        <a:lnTo>
                          <a:pt x="81" y="5"/>
                        </a:lnTo>
                        <a:lnTo>
                          <a:pt x="86" y="5"/>
                        </a:lnTo>
                        <a:lnTo>
                          <a:pt x="91" y="10"/>
                        </a:lnTo>
                        <a:lnTo>
                          <a:pt x="96" y="10"/>
                        </a:lnTo>
                        <a:lnTo>
                          <a:pt x="101" y="10"/>
                        </a:lnTo>
                        <a:lnTo>
                          <a:pt x="105" y="10"/>
                        </a:lnTo>
                        <a:lnTo>
                          <a:pt x="110" y="14"/>
                        </a:lnTo>
                        <a:lnTo>
                          <a:pt x="115" y="14"/>
                        </a:lnTo>
                        <a:lnTo>
                          <a:pt x="120" y="19"/>
                        </a:lnTo>
                        <a:lnTo>
                          <a:pt x="125" y="19"/>
                        </a:lnTo>
                        <a:lnTo>
                          <a:pt x="129" y="24"/>
                        </a:lnTo>
                        <a:lnTo>
                          <a:pt x="134" y="29"/>
                        </a:lnTo>
                        <a:lnTo>
                          <a:pt x="139" y="29"/>
                        </a:lnTo>
                        <a:lnTo>
                          <a:pt x="144" y="34"/>
                        </a:lnTo>
                        <a:lnTo>
                          <a:pt x="149" y="38"/>
                        </a:lnTo>
                        <a:lnTo>
                          <a:pt x="153" y="43"/>
                        </a:lnTo>
                        <a:lnTo>
                          <a:pt x="158" y="43"/>
                        </a:lnTo>
                        <a:lnTo>
                          <a:pt x="158" y="48"/>
                        </a:lnTo>
                        <a:lnTo>
                          <a:pt x="163" y="53"/>
                        </a:lnTo>
                        <a:lnTo>
                          <a:pt x="163" y="58"/>
                        </a:lnTo>
                        <a:lnTo>
                          <a:pt x="168" y="62"/>
                        </a:lnTo>
                        <a:lnTo>
                          <a:pt x="168" y="67"/>
                        </a:lnTo>
                        <a:lnTo>
                          <a:pt x="173" y="72"/>
                        </a:lnTo>
                        <a:lnTo>
                          <a:pt x="173" y="7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4" name=""/>
                  <p:cNvSpPr/>
                  <p:nvPr/>
                </p:nvSpPr>
                <p:spPr>
                  <a:xfrm flipH="1">
                    <a:off x="4344120" y="4508640"/>
                    <a:ext cx="26640" cy="30600"/>
                  </a:xfrm>
                  <a:custGeom>
                    <a:avLst/>
                    <a:gdLst/>
                    <a:ahLst/>
                    <a:rect l="l" t="t" r="r" b="b"/>
                    <a:pathLst>
                      <a:path w="158" h="187">
                        <a:moveTo>
                          <a:pt x="158" y="14"/>
                        </a:moveTo>
                        <a:lnTo>
                          <a:pt x="158" y="19"/>
                        </a:lnTo>
                        <a:lnTo>
                          <a:pt x="154" y="19"/>
                        </a:lnTo>
                        <a:lnTo>
                          <a:pt x="149" y="24"/>
                        </a:lnTo>
                        <a:lnTo>
                          <a:pt x="144" y="24"/>
                        </a:lnTo>
                        <a:lnTo>
                          <a:pt x="139" y="24"/>
                        </a:lnTo>
                        <a:lnTo>
                          <a:pt x="135" y="24"/>
                        </a:lnTo>
                        <a:lnTo>
                          <a:pt x="130" y="24"/>
                        </a:lnTo>
                        <a:lnTo>
                          <a:pt x="125" y="29"/>
                        </a:lnTo>
                        <a:lnTo>
                          <a:pt x="120" y="29"/>
                        </a:lnTo>
                        <a:lnTo>
                          <a:pt x="115" y="29"/>
                        </a:lnTo>
                        <a:lnTo>
                          <a:pt x="111" y="34"/>
                        </a:lnTo>
                        <a:lnTo>
                          <a:pt x="106" y="34"/>
                        </a:lnTo>
                        <a:lnTo>
                          <a:pt x="101" y="38"/>
                        </a:lnTo>
                        <a:lnTo>
                          <a:pt x="96" y="43"/>
                        </a:lnTo>
                        <a:lnTo>
                          <a:pt x="91" y="43"/>
                        </a:lnTo>
                        <a:lnTo>
                          <a:pt x="87" y="48"/>
                        </a:lnTo>
                        <a:lnTo>
                          <a:pt x="82" y="53"/>
                        </a:lnTo>
                        <a:lnTo>
                          <a:pt x="77" y="57"/>
                        </a:lnTo>
                        <a:lnTo>
                          <a:pt x="77" y="62"/>
                        </a:lnTo>
                        <a:lnTo>
                          <a:pt x="72" y="67"/>
                        </a:lnTo>
                        <a:lnTo>
                          <a:pt x="67" y="72"/>
                        </a:lnTo>
                        <a:lnTo>
                          <a:pt x="63" y="77"/>
                        </a:lnTo>
                        <a:lnTo>
                          <a:pt x="63" y="81"/>
                        </a:lnTo>
                        <a:lnTo>
                          <a:pt x="58" y="86"/>
                        </a:lnTo>
                        <a:lnTo>
                          <a:pt x="53" y="91"/>
                        </a:lnTo>
                        <a:lnTo>
                          <a:pt x="53" y="96"/>
                        </a:lnTo>
                        <a:lnTo>
                          <a:pt x="48" y="101"/>
                        </a:lnTo>
                        <a:lnTo>
                          <a:pt x="48" y="105"/>
                        </a:lnTo>
                        <a:lnTo>
                          <a:pt x="43" y="110"/>
                        </a:lnTo>
                        <a:lnTo>
                          <a:pt x="43" y="115"/>
                        </a:lnTo>
                        <a:lnTo>
                          <a:pt x="39" y="120"/>
                        </a:lnTo>
                        <a:lnTo>
                          <a:pt x="39" y="124"/>
                        </a:lnTo>
                        <a:lnTo>
                          <a:pt x="39" y="134"/>
                        </a:lnTo>
                        <a:lnTo>
                          <a:pt x="34" y="139"/>
                        </a:lnTo>
                        <a:lnTo>
                          <a:pt x="34" y="144"/>
                        </a:lnTo>
                        <a:lnTo>
                          <a:pt x="29" y="148"/>
                        </a:lnTo>
                        <a:lnTo>
                          <a:pt x="29" y="153"/>
                        </a:lnTo>
                        <a:lnTo>
                          <a:pt x="29" y="158"/>
                        </a:lnTo>
                        <a:lnTo>
                          <a:pt x="29" y="168"/>
                        </a:lnTo>
                        <a:lnTo>
                          <a:pt x="24" y="172"/>
                        </a:lnTo>
                        <a:lnTo>
                          <a:pt x="24" y="177"/>
                        </a:lnTo>
                        <a:lnTo>
                          <a:pt x="24" y="182"/>
                        </a:lnTo>
                        <a:lnTo>
                          <a:pt x="19" y="182"/>
                        </a:lnTo>
                        <a:lnTo>
                          <a:pt x="19" y="187"/>
                        </a:lnTo>
                        <a:lnTo>
                          <a:pt x="15" y="187"/>
                        </a:lnTo>
                        <a:lnTo>
                          <a:pt x="10" y="187"/>
                        </a:lnTo>
                        <a:lnTo>
                          <a:pt x="5" y="187"/>
                        </a:lnTo>
                        <a:lnTo>
                          <a:pt x="0" y="172"/>
                        </a:lnTo>
                        <a:lnTo>
                          <a:pt x="0" y="168"/>
                        </a:lnTo>
                        <a:lnTo>
                          <a:pt x="5" y="163"/>
                        </a:lnTo>
                        <a:lnTo>
                          <a:pt x="5" y="153"/>
                        </a:lnTo>
                        <a:lnTo>
                          <a:pt x="5" y="148"/>
                        </a:lnTo>
                        <a:lnTo>
                          <a:pt x="10" y="144"/>
                        </a:lnTo>
                        <a:lnTo>
                          <a:pt x="10" y="134"/>
                        </a:lnTo>
                        <a:lnTo>
                          <a:pt x="15" y="129"/>
                        </a:lnTo>
                        <a:lnTo>
                          <a:pt x="15" y="124"/>
                        </a:lnTo>
                        <a:lnTo>
                          <a:pt x="19" y="115"/>
                        </a:lnTo>
                        <a:lnTo>
                          <a:pt x="19" y="110"/>
                        </a:lnTo>
                        <a:lnTo>
                          <a:pt x="24" y="105"/>
                        </a:lnTo>
                        <a:lnTo>
                          <a:pt x="24" y="96"/>
                        </a:lnTo>
                        <a:lnTo>
                          <a:pt x="29" y="91"/>
                        </a:lnTo>
                        <a:lnTo>
                          <a:pt x="34" y="86"/>
                        </a:lnTo>
                        <a:lnTo>
                          <a:pt x="34" y="81"/>
                        </a:lnTo>
                        <a:lnTo>
                          <a:pt x="39" y="72"/>
                        </a:lnTo>
                        <a:lnTo>
                          <a:pt x="43" y="67"/>
                        </a:lnTo>
                        <a:lnTo>
                          <a:pt x="43" y="62"/>
                        </a:lnTo>
                        <a:lnTo>
                          <a:pt x="48" y="57"/>
                        </a:lnTo>
                        <a:lnTo>
                          <a:pt x="53" y="53"/>
                        </a:lnTo>
                        <a:lnTo>
                          <a:pt x="58" y="48"/>
                        </a:lnTo>
                        <a:lnTo>
                          <a:pt x="63" y="43"/>
                        </a:lnTo>
                        <a:lnTo>
                          <a:pt x="67" y="38"/>
                        </a:lnTo>
                        <a:lnTo>
                          <a:pt x="72" y="34"/>
                        </a:lnTo>
                        <a:lnTo>
                          <a:pt x="77" y="29"/>
                        </a:lnTo>
                        <a:lnTo>
                          <a:pt x="82" y="24"/>
                        </a:lnTo>
                        <a:lnTo>
                          <a:pt x="87" y="19"/>
                        </a:lnTo>
                        <a:lnTo>
                          <a:pt x="91" y="14"/>
                        </a:lnTo>
                        <a:lnTo>
                          <a:pt x="96" y="10"/>
                        </a:lnTo>
                        <a:lnTo>
                          <a:pt x="101" y="10"/>
                        </a:lnTo>
                        <a:lnTo>
                          <a:pt x="111" y="5"/>
                        </a:lnTo>
                        <a:lnTo>
                          <a:pt x="115" y="0"/>
                        </a:lnTo>
                        <a:lnTo>
                          <a:pt x="120" y="0"/>
                        </a:lnTo>
                        <a:lnTo>
                          <a:pt x="125" y="0"/>
                        </a:lnTo>
                        <a:lnTo>
                          <a:pt x="130" y="0"/>
                        </a:lnTo>
                        <a:lnTo>
                          <a:pt x="135" y="0"/>
                        </a:lnTo>
                        <a:lnTo>
                          <a:pt x="135" y="5"/>
                        </a:lnTo>
                        <a:lnTo>
                          <a:pt x="139" y="5"/>
                        </a:lnTo>
                        <a:lnTo>
                          <a:pt x="144" y="5"/>
                        </a:lnTo>
                        <a:lnTo>
                          <a:pt x="149" y="5"/>
                        </a:lnTo>
                        <a:lnTo>
                          <a:pt x="154" y="5"/>
                        </a:lnTo>
                        <a:lnTo>
                          <a:pt x="154" y="10"/>
                        </a:lnTo>
                        <a:lnTo>
                          <a:pt x="158" y="10"/>
                        </a:lnTo>
                        <a:lnTo>
                          <a:pt x="158" y="1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200" bIns="-16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5" name=""/>
                  <p:cNvSpPr/>
                  <p:nvPr/>
                </p:nvSpPr>
                <p:spPr>
                  <a:xfrm flipH="1">
                    <a:off x="4345560" y="4523760"/>
                    <a:ext cx="12960" cy="2952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182">
                        <a:moveTo>
                          <a:pt x="72" y="33"/>
                        </a:moveTo>
                        <a:lnTo>
                          <a:pt x="72" y="38"/>
                        </a:lnTo>
                        <a:lnTo>
                          <a:pt x="72" y="43"/>
                        </a:lnTo>
                        <a:lnTo>
                          <a:pt x="72" y="48"/>
                        </a:lnTo>
                        <a:lnTo>
                          <a:pt x="77" y="53"/>
                        </a:lnTo>
                        <a:lnTo>
                          <a:pt x="77" y="57"/>
                        </a:lnTo>
                        <a:lnTo>
                          <a:pt x="77" y="62"/>
                        </a:lnTo>
                        <a:lnTo>
                          <a:pt x="77" y="67"/>
                        </a:lnTo>
                        <a:lnTo>
                          <a:pt x="77" y="72"/>
                        </a:lnTo>
                        <a:lnTo>
                          <a:pt x="77" y="77"/>
                        </a:lnTo>
                        <a:lnTo>
                          <a:pt x="77" y="81"/>
                        </a:lnTo>
                        <a:lnTo>
                          <a:pt x="77" y="86"/>
                        </a:lnTo>
                        <a:lnTo>
                          <a:pt x="77" y="91"/>
                        </a:lnTo>
                        <a:lnTo>
                          <a:pt x="72" y="96"/>
                        </a:lnTo>
                        <a:lnTo>
                          <a:pt x="72" y="101"/>
                        </a:lnTo>
                        <a:lnTo>
                          <a:pt x="72" y="105"/>
                        </a:lnTo>
                        <a:lnTo>
                          <a:pt x="72" y="110"/>
                        </a:lnTo>
                        <a:lnTo>
                          <a:pt x="72" y="115"/>
                        </a:lnTo>
                        <a:lnTo>
                          <a:pt x="67" y="120"/>
                        </a:lnTo>
                        <a:lnTo>
                          <a:pt x="67" y="124"/>
                        </a:lnTo>
                        <a:lnTo>
                          <a:pt x="67" y="129"/>
                        </a:lnTo>
                        <a:lnTo>
                          <a:pt x="63" y="129"/>
                        </a:lnTo>
                        <a:lnTo>
                          <a:pt x="63" y="134"/>
                        </a:lnTo>
                        <a:lnTo>
                          <a:pt x="63" y="139"/>
                        </a:lnTo>
                        <a:lnTo>
                          <a:pt x="58" y="139"/>
                        </a:lnTo>
                        <a:lnTo>
                          <a:pt x="58" y="144"/>
                        </a:lnTo>
                        <a:lnTo>
                          <a:pt x="53" y="148"/>
                        </a:lnTo>
                        <a:lnTo>
                          <a:pt x="48" y="153"/>
                        </a:lnTo>
                        <a:lnTo>
                          <a:pt x="43" y="158"/>
                        </a:lnTo>
                        <a:lnTo>
                          <a:pt x="43" y="163"/>
                        </a:lnTo>
                        <a:lnTo>
                          <a:pt x="39" y="163"/>
                        </a:lnTo>
                        <a:lnTo>
                          <a:pt x="34" y="168"/>
                        </a:lnTo>
                        <a:lnTo>
                          <a:pt x="29" y="168"/>
                        </a:lnTo>
                        <a:lnTo>
                          <a:pt x="24" y="172"/>
                        </a:lnTo>
                        <a:lnTo>
                          <a:pt x="19" y="172"/>
                        </a:lnTo>
                        <a:lnTo>
                          <a:pt x="15" y="172"/>
                        </a:lnTo>
                        <a:lnTo>
                          <a:pt x="15" y="177"/>
                        </a:lnTo>
                        <a:lnTo>
                          <a:pt x="10" y="177"/>
                        </a:lnTo>
                        <a:lnTo>
                          <a:pt x="5" y="177"/>
                        </a:lnTo>
                        <a:lnTo>
                          <a:pt x="0" y="182"/>
                        </a:lnTo>
                        <a:lnTo>
                          <a:pt x="0" y="177"/>
                        </a:lnTo>
                        <a:lnTo>
                          <a:pt x="0" y="172"/>
                        </a:lnTo>
                        <a:lnTo>
                          <a:pt x="0" y="168"/>
                        </a:lnTo>
                        <a:lnTo>
                          <a:pt x="5" y="168"/>
                        </a:lnTo>
                        <a:lnTo>
                          <a:pt x="5" y="163"/>
                        </a:lnTo>
                        <a:lnTo>
                          <a:pt x="5" y="158"/>
                        </a:lnTo>
                        <a:lnTo>
                          <a:pt x="10" y="158"/>
                        </a:lnTo>
                        <a:lnTo>
                          <a:pt x="10" y="153"/>
                        </a:lnTo>
                        <a:lnTo>
                          <a:pt x="15" y="153"/>
                        </a:lnTo>
                        <a:lnTo>
                          <a:pt x="15" y="148"/>
                        </a:lnTo>
                        <a:lnTo>
                          <a:pt x="19" y="148"/>
                        </a:lnTo>
                        <a:lnTo>
                          <a:pt x="19" y="144"/>
                        </a:lnTo>
                        <a:lnTo>
                          <a:pt x="24" y="144"/>
                        </a:lnTo>
                        <a:lnTo>
                          <a:pt x="24" y="139"/>
                        </a:lnTo>
                        <a:lnTo>
                          <a:pt x="29" y="139"/>
                        </a:lnTo>
                        <a:lnTo>
                          <a:pt x="29" y="134"/>
                        </a:lnTo>
                        <a:lnTo>
                          <a:pt x="34" y="134"/>
                        </a:lnTo>
                        <a:lnTo>
                          <a:pt x="34" y="129"/>
                        </a:lnTo>
                        <a:lnTo>
                          <a:pt x="39" y="129"/>
                        </a:lnTo>
                        <a:lnTo>
                          <a:pt x="39" y="124"/>
                        </a:lnTo>
                        <a:lnTo>
                          <a:pt x="39" y="120"/>
                        </a:lnTo>
                        <a:lnTo>
                          <a:pt x="43" y="120"/>
                        </a:lnTo>
                        <a:lnTo>
                          <a:pt x="43" y="115"/>
                        </a:lnTo>
                        <a:lnTo>
                          <a:pt x="43" y="110"/>
                        </a:lnTo>
                        <a:lnTo>
                          <a:pt x="48" y="110"/>
                        </a:lnTo>
                        <a:lnTo>
                          <a:pt x="48" y="105"/>
                        </a:lnTo>
                        <a:lnTo>
                          <a:pt x="48" y="101"/>
                        </a:lnTo>
                        <a:lnTo>
                          <a:pt x="48" y="96"/>
                        </a:lnTo>
                        <a:lnTo>
                          <a:pt x="53" y="91"/>
                        </a:lnTo>
                        <a:lnTo>
                          <a:pt x="53" y="86"/>
                        </a:lnTo>
                        <a:lnTo>
                          <a:pt x="53" y="81"/>
                        </a:lnTo>
                        <a:lnTo>
                          <a:pt x="53" y="77"/>
                        </a:lnTo>
                        <a:lnTo>
                          <a:pt x="53" y="72"/>
                        </a:lnTo>
                        <a:lnTo>
                          <a:pt x="53" y="67"/>
                        </a:lnTo>
                        <a:lnTo>
                          <a:pt x="48" y="67"/>
                        </a:lnTo>
                        <a:lnTo>
                          <a:pt x="48" y="62"/>
                        </a:lnTo>
                        <a:lnTo>
                          <a:pt x="48" y="57"/>
                        </a:lnTo>
                        <a:lnTo>
                          <a:pt x="48" y="53"/>
                        </a:lnTo>
                        <a:lnTo>
                          <a:pt x="48" y="48"/>
                        </a:lnTo>
                        <a:lnTo>
                          <a:pt x="48" y="43"/>
                        </a:lnTo>
                        <a:lnTo>
                          <a:pt x="43" y="38"/>
                        </a:lnTo>
                        <a:lnTo>
                          <a:pt x="43" y="33"/>
                        </a:lnTo>
                        <a:lnTo>
                          <a:pt x="39" y="29"/>
                        </a:lnTo>
                        <a:lnTo>
                          <a:pt x="34" y="24"/>
                        </a:lnTo>
                        <a:lnTo>
                          <a:pt x="29" y="24"/>
                        </a:lnTo>
                        <a:lnTo>
                          <a:pt x="29" y="19"/>
                        </a:lnTo>
                        <a:lnTo>
                          <a:pt x="24" y="14"/>
                        </a:lnTo>
                        <a:lnTo>
                          <a:pt x="24" y="10"/>
                        </a:lnTo>
                        <a:lnTo>
                          <a:pt x="24" y="5"/>
                        </a:lnTo>
                        <a:lnTo>
                          <a:pt x="29" y="5"/>
                        </a:lnTo>
                        <a:lnTo>
                          <a:pt x="34" y="0"/>
                        </a:lnTo>
                        <a:lnTo>
                          <a:pt x="39" y="0"/>
                        </a:lnTo>
                        <a:lnTo>
                          <a:pt x="43" y="0"/>
                        </a:lnTo>
                        <a:lnTo>
                          <a:pt x="43" y="5"/>
                        </a:lnTo>
                        <a:lnTo>
                          <a:pt x="48" y="5"/>
                        </a:lnTo>
                        <a:lnTo>
                          <a:pt x="53" y="5"/>
                        </a:lnTo>
                        <a:lnTo>
                          <a:pt x="53" y="10"/>
                        </a:lnTo>
                        <a:lnTo>
                          <a:pt x="58" y="10"/>
                        </a:lnTo>
                        <a:lnTo>
                          <a:pt x="58" y="14"/>
                        </a:lnTo>
                        <a:lnTo>
                          <a:pt x="63" y="14"/>
                        </a:lnTo>
                        <a:lnTo>
                          <a:pt x="63" y="19"/>
                        </a:lnTo>
                        <a:lnTo>
                          <a:pt x="67" y="19"/>
                        </a:lnTo>
                        <a:lnTo>
                          <a:pt x="67" y="24"/>
                        </a:lnTo>
                        <a:lnTo>
                          <a:pt x="67" y="29"/>
                        </a:lnTo>
                        <a:lnTo>
                          <a:pt x="72" y="29"/>
                        </a:lnTo>
                        <a:lnTo>
                          <a:pt x="72" y="3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6" name=""/>
                  <p:cNvSpPr/>
                  <p:nvPr/>
                </p:nvSpPr>
                <p:spPr>
                  <a:xfrm flipH="1">
                    <a:off x="4454640" y="4525200"/>
                    <a:ext cx="1368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81" h="91">
                        <a:moveTo>
                          <a:pt x="76" y="28"/>
                        </a:moveTo>
                        <a:lnTo>
                          <a:pt x="76" y="33"/>
                        </a:lnTo>
                        <a:lnTo>
                          <a:pt x="76" y="38"/>
                        </a:lnTo>
                        <a:lnTo>
                          <a:pt x="81" y="38"/>
                        </a:lnTo>
                        <a:lnTo>
                          <a:pt x="81" y="43"/>
                        </a:lnTo>
                        <a:lnTo>
                          <a:pt x="81" y="47"/>
                        </a:lnTo>
                        <a:lnTo>
                          <a:pt x="81" y="52"/>
                        </a:lnTo>
                        <a:lnTo>
                          <a:pt x="81" y="57"/>
                        </a:lnTo>
                        <a:lnTo>
                          <a:pt x="81" y="62"/>
                        </a:lnTo>
                        <a:lnTo>
                          <a:pt x="81" y="67"/>
                        </a:lnTo>
                        <a:lnTo>
                          <a:pt x="81" y="71"/>
                        </a:lnTo>
                        <a:lnTo>
                          <a:pt x="76" y="71"/>
                        </a:lnTo>
                        <a:lnTo>
                          <a:pt x="76" y="76"/>
                        </a:lnTo>
                        <a:lnTo>
                          <a:pt x="71" y="76"/>
                        </a:lnTo>
                        <a:lnTo>
                          <a:pt x="71" y="81"/>
                        </a:lnTo>
                        <a:lnTo>
                          <a:pt x="67" y="81"/>
                        </a:lnTo>
                        <a:lnTo>
                          <a:pt x="67" y="86"/>
                        </a:lnTo>
                        <a:lnTo>
                          <a:pt x="62" y="86"/>
                        </a:lnTo>
                        <a:lnTo>
                          <a:pt x="57" y="86"/>
                        </a:lnTo>
                        <a:lnTo>
                          <a:pt x="52" y="91"/>
                        </a:lnTo>
                        <a:lnTo>
                          <a:pt x="48" y="91"/>
                        </a:lnTo>
                        <a:lnTo>
                          <a:pt x="43" y="91"/>
                        </a:lnTo>
                        <a:lnTo>
                          <a:pt x="38" y="91"/>
                        </a:lnTo>
                        <a:lnTo>
                          <a:pt x="38" y="86"/>
                        </a:lnTo>
                        <a:lnTo>
                          <a:pt x="33" y="86"/>
                        </a:lnTo>
                        <a:lnTo>
                          <a:pt x="28" y="86"/>
                        </a:lnTo>
                        <a:lnTo>
                          <a:pt x="28" y="81"/>
                        </a:lnTo>
                        <a:lnTo>
                          <a:pt x="24" y="81"/>
                        </a:lnTo>
                        <a:lnTo>
                          <a:pt x="19" y="76"/>
                        </a:lnTo>
                        <a:lnTo>
                          <a:pt x="19" y="71"/>
                        </a:lnTo>
                        <a:lnTo>
                          <a:pt x="14" y="71"/>
                        </a:lnTo>
                        <a:lnTo>
                          <a:pt x="14" y="67"/>
                        </a:lnTo>
                        <a:lnTo>
                          <a:pt x="9" y="67"/>
                        </a:lnTo>
                        <a:lnTo>
                          <a:pt x="9" y="62"/>
                        </a:lnTo>
                        <a:lnTo>
                          <a:pt x="9" y="57"/>
                        </a:lnTo>
                        <a:lnTo>
                          <a:pt x="4" y="57"/>
                        </a:lnTo>
                        <a:lnTo>
                          <a:pt x="4" y="52"/>
                        </a:lnTo>
                        <a:lnTo>
                          <a:pt x="4" y="47"/>
                        </a:lnTo>
                        <a:lnTo>
                          <a:pt x="4" y="43"/>
                        </a:lnTo>
                        <a:lnTo>
                          <a:pt x="4" y="38"/>
                        </a:lnTo>
                        <a:lnTo>
                          <a:pt x="0" y="38"/>
                        </a:lnTo>
                        <a:lnTo>
                          <a:pt x="0" y="33"/>
                        </a:lnTo>
                        <a:lnTo>
                          <a:pt x="0" y="28"/>
                        </a:lnTo>
                        <a:lnTo>
                          <a:pt x="0" y="23"/>
                        </a:lnTo>
                        <a:lnTo>
                          <a:pt x="0" y="19"/>
                        </a:lnTo>
                        <a:lnTo>
                          <a:pt x="0" y="14"/>
                        </a:lnTo>
                        <a:lnTo>
                          <a:pt x="4" y="9"/>
                        </a:lnTo>
                        <a:lnTo>
                          <a:pt x="9" y="4"/>
                        </a:lnTo>
                        <a:lnTo>
                          <a:pt x="14" y="4"/>
                        </a:lnTo>
                        <a:lnTo>
                          <a:pt x="19" y="0"/>
                        </a:lnTo>
                        <a:lnTo>
                          <a:pt x="24" y="0"/>
                        </a:lnTo>
                        <a:lnTo>
                          <a:pt x="28" y="0"/>
                        </a:lnTo>
                        <a:lnTo>
                          <a:pt x="33" y="0"/>
                        </a:lnTo>
                        <a:lnTo>
                          <a:pt x="38" y="0"/>
                        </a:lnTo>
                        <a:lnTo>
                          <a:pt x="43" y="0"/>
                        </a:lnTo>
                        <a:lnTo>
                          <a:pt x="48" y="0"/>
                        </a:lnTo>
                        <a:lnTo>
                          <a:pt x="52" y="0"/>
                        </a:lnTo>
                        <a:lnTo>
                          <a:pt x="57" y="0"/>
                        </a:lnTo>
                        <a:lnTo>
                          <a:pt x="57" y="4"/>
                        </a:lnTo>
                        <a:lnTo>
                          <a:pt x="62" y="4"/>
                        </a:lnTo>
                        <a:lnTo>
                          <a:pt x="67" y="9"/>
                        </a:lnTo>
                        <a:lnTo>
                          <a:pt x="71" y="14"/>
                        </a:lnTo>
                        <a:lnTo>
                          <a:pt x="71" y="19"/>
                        </a:lnTo>
                        <a:lnTo>
                          <a:pt x="71" y="23"/>
                        </a:lnTo>
                        <a:lnTo>
                          <a:pt x="76" y="23"/>
                        </a:lnTo>
                        <a:lnTo>
                          <a:pt x="76" y="2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7" name=""/>
                  <p:cNvSpPr/>
                  <p:nvPr/>
                </p:nvSpPr>
                <p:spPr>
                  <a:xfrm flipH="1">
                    <a:off x="3782520" y="4525200"/>
                    <a:ext cx="4608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" h="766">
                        <a:moveTo>
                          <a:pt x="139" y="134"/>
                        </a:moveTo>
                        <a:lnTo>
                          <a:pt x="139" y="148"/>
                        </a:lnTo>
                        <a:lnTo>
                          <a:pt x="144" y="162"/>
                        </a:lnTo>
                        <a:lnTo>
                          <a:pt x="144" y="177"/>
                        </a:lnTo>
                        <a:lnTo>
                          <a:pt x="149" y="191"/>
                        </a:lnTo>
                        <a:lnTo>
                          <a:pt x="154" y="205"/>
                        </a:lnTo>
                        <a:lnTo>
                          <a:pt x="158" y="220"/>
                        </a:lnTo>
                        <a:lnTo>
                          <a:pt x="158" y="234"/>
                        </a:lnTo>
                        <a:lnTo>
                          <a:pt x="163" y="249"/>
                        </a:lnTo>
                        <a:lnTo>
                          <a:pt x="168" y="263"/>
                        </a:lnTo>
                        <a:lnTo>
                          <a:pt x="173" y="277"/>
                        </a:lnTo>
                        <a:lnTo>
                          <a:pt x="178" y="292"/>
                        </a:lnTo>
                        <a:lnTo>
                          <a:pt x="182" y="301"/>
                        </a:lnTo>
                        <a:lnTo>
                          <a:pt x="182" y="316"/>
                        </a:lnTo>
                        <a:lnTo>
                          <a:pt x="187" y="330"/>
                        </a:lnTo>
                        <a:lnTo>
                          <a:pt x="192" y="344"/>
                        </a:lnTo>
                        <a:lnTo>
                          <a:pt x="197" y="359"/>
                        </a:lnTo>
                        <a:lnTo>
                          <a:pt x="202" y="373"/>
                        </a:lnTo>
                        <a:lnTo>
                          <a:pt x="206" y="383"/>
                        </a:lnTo>
                        <a:lnTo>
                          <a:pt x="211" y="397"/>
                        </a:lnTo>
                        <a:lnTo>
                          <a:pt x="216" y="411"/>
                        </a:lnTo>
                        <a:lnTo>
                          <a:pt x="221" y="426"/>
                        </a:lnTo>
                        <a:lnTo>
                          <a:pt x="226" y="440"/>
                        </a:lnTo>
                        <a:lnTo>
                          <a:pt x="230" y="454"/>
                        </a:lnTo>
                        <a:lnTo>
                          <a:pt x="235" y="464"/>
                        </a:lnTo>
                        <a:lnTo>
                          <a:pt x="240" y="478"/>
                        </a:lnTo>
                        <a:lnTo>
                          <a:pt x="245" y="493"/>
                        </a:lnTo>
                        <a:lnTo>
                          <a:pt x="249" y="507"/>
                        </a:lnTo>
                        <a:lnTo>
                          <a:pt x="254" y="521"/>
                        </a:lnTo>
                        <a:lnTo>
                          <a:pt x="259" y="531"/>
                        </a:lnTo>
                        <a:lnTo>
                          <a:pt x="264" y="545"/>
                        </a:lnTo>
                        <a:lnTo>
                          <a:pt x="269" y="560"/>
                        </a:lnTo>
                        <a:lnTo>
                          <a:pt x="273" y="574"/>
                        </a:lnTo>
                        <a:lnTo>
                          <a:pt x="269" y="584"/>
                        </a:lnTo>
                        <a:lnTo>
                          <a:pt x="264" y="589"/>
                        </a:lnTo>
                        <a:lnTo>
                          <a:pt x="254" y="598"/>
                        </a:lnTo>
                        <a:lnTo>
                          <a:pt x="249" y="608"/>
                        </a:lnTo>
                        <a:lnTo>
                          <a:pt x="245" y="617"/>
                        </a:lnTo>
                        <a:lnTo>
                          <a:pt x="235" y="622"/>
                        </a:lnTo>
                        <a:lnTo>
                          <a:pt x="230" y="632"/>
                        </a:lnTo>
                        <a:lnTo>
                          <a:pt x="221" y="641"/>
                        </a:lnTo>
                        <a:lnTo>
                          <a:pt x="211" y="646"/>
                        </a:lnTo>
                        <a:lnTo>
                          <a:pt x="206" y="656"/>
                        </a:lnTo>
                        <a:lnTo>
                          <a:pt x="197" y="660"/>
                        </a:lnTo>
                        <a:lnTo>
                          <a:pt x="187" y="665"/>
                        </a:lnTo>
                        <a:lnTo>
                          <a:pt x="182" y="675"/>
                        </a:lnTo>
                        <a:lnTo>
                          <a:pt x="173" y="679"/>
                        </a:lnTo>
                        <a:lnTo>
                          <a:pt x="163" y="689"/>
                        </a:lnTo>
                        <a:lnTo>
                          <a:pt x="154" y="694"/>
                        </a:lnTo>
                        <a:lnTo>
                          <a:pt x="144" y="699"/>
                        </a:lnTo>
                        <a:lnTo>
                          <a:pt x="139" y="703"/>
                        </a:lnTo>
                        <a:lnTo>
                          <a:pt x="130" y="708"/>
                        </a:lnTo>
                        <a:lnTo>
                          <a:pt x="120" y="718"/>
                        </a:lnTo>
                        <a:lnTo>
                          <a:pt x="110" y="723"/>
                        </a:lnTo>
                        <a:lnTo>
                          <a:pt x="101" y="727"/>
                        </a:lnTo>
                        <a:lnTo>
                          <a:pt x="91" y="732"/>
                        </a:lnTo>
                        <a:lnTo>
                          <a:pt x="82" y="737"/>
                        </a:lnTo>
                        <a:lnTo>
                          <a:pt x="72" y="742"/>
                        </a:lnTo>
                        <a:lnTo>
                          <a:pt x="62" y="747"/>
                        </a:lnTo>
                        <a:lnTo>
                          <a:pt x="53" y="747"/>
                        </a:lnTo>
                        <a:lnTo>
                          <a:pt x="43" y="751"/>
                        </a:lnTo>
                        <a:lnTo>
                          <a:pt x="29" y="756"/>
                        </a:lnTo>
                        <a:lnTo>
                          <a:pt x="19" y="761"/>
                        </a:lnTo>
                        <a:lnTo>
                          <a:pt x="10" y="766"/>
                        </a:lnTo>
                        <a:lnTo>
                          <a:pt x="0" y="766"/>
                        </a:lnTo>
                        <a:lnTo>
                          <a:pt x="0" y="751"/>
                        </a:lnTo>
                        <a:lnTo>
                          <a:pt x="5" y="737"/>
                        </a:lnTo>
                        <a:lnTo>
                          <a:pt x="5" y="723"/>
                        </a:lnTo>
                        <a:lnTo>
                          <a:pt x="10" y="708"/>
                        </a:lnTo>
                        <a:lnTo>
                          <a:pt x="10" y="694"/>
                        </a:lnTo>
                        <a:lnTo>
                          <a:pt x="10" y="679"/>
                        </a:lnTo>
                        <a:lnTo>
                          <a:pt x="14" y="665"/>
                        </a:lnTo>
                        <a:lnTo>
                          <a:pt x="14" y="651"/>
                        </a:lnTo>
                        <a:lnTo>
                          <a:pt x="19" y="636"/>
                        </a:lnTo>
                        <a:lnTo>
                          <a:pt x="19" y="617"/>
                        </a:lnTo>
                        <a:lnTo>
                          <a:pt x="24" y="603"/>
                        </a:lnTo>
                        <a:lnTo>
                          <a:pt x="24" y="589"/>
                        </a:lnTo>
                        <a:lnTo>
                          <a:pt x="29" y="574"/>
                        </a:lnTo>
                        <a:lnTo>
                          <a:pt x="29" y="560"/>
                        </a:lnTo>
                        <a:lnTo>
                          <a:pt x="34" y="545"/>
                        </a:lnTo>
                        <a:lnTo>
                          <a:pt x="34" y="531"/>
                        </a:lnTo>
                        <a:lnTo>
                          <a:pt x="38" y="517"/>
                        </a:lnTo>
                        <a:lnTo>
                          <a:pt x="38" y="502"/>
                        </a:lnTo>
                        <a:lnTo>
                          <a:pt x="43" y="483"/>
                        </a:lnTo>
                        <a:lnTo>
                          <a:pt x="43" y="469"/>
                        </a:lnTo>
                        <a:lnTo>
                          <a:pt x="48" y="454"/>
                        </a:lnTo>
                        <a:lnTo>
                          <a:pt x="48" y="440"/>
                        </a:lnTo>
                        <a:lnTo>
                          <a:pt x="53" y="426"/>
                        </a:lnTo>
                        <a:lnTo>
                          <a:pt x="53" y="411"/>
                        </a:lnTo>
                        <a:lnTo>
                          <a:pt x="58" y="397"/>
                        </a:lnTo>
                        <a:lnTo>
                          <a:pt x="58" y="383"/>
                        </a:lnTo>
                        <a:lnTo>
                          <a:pt x="62" y="368"/>
                        </a:lnTo>
                        <a:lnTo>
                          <a:pt x="62" y="354"/>
                        </a:lnTo>
                        <a:lnTo>
                          <a:pt x="62" y="335"/>
                        </a:lnTo>
                        <a:lnTo>
                          <a:pt x="67" y="320"/>
                        </a:lnTo>
                        <a:lnTo>
                          <a:pt x="67" y="306"/>
                        </a:lnTo>
                        <a:lnTo>
                          <a:pt x="72" y="292"/>
                        </a:lnTo>
                        <a:lnTo>
                          <a:pt x="72" y="282"/>
                        </a:lnTo>
                        <a:lnTo>
                          <a:pt x="72" y="272"/>
                        </a:lnTo>
                        <a:lnTo>
                          <a:pt x="72" y="263"/>
                        </a:lnTo>
                        <a:lnTo>
                          <a:pt x="77" y="253"/>
                        </a:lnTo>
                        <a:lnTo>
                          <a:pt x="77" y="244"/>
                        </a:lnTo>
                        <a:lnTo>
                          <a:pt x="77" y="234"/>
                        </a:lnTo>
                        <a:lnTo>
                          <a:pt x="77" y="225"/>
                        </a:lnTo>
                        <a:lnTo>
                          <a:pt x="82" y="220"/>
                        </a:lnTo>
                        <a:lnTo>
                          <a:pt x="82" y="210"/>
                        </a:lnTo>
                        <a:lnTo>
                          <a:pt x="82" y="201"/>
                        </a:lnTo>
                        <a:lnTo>
                          <a:pt x="82" y="191"/>
                        </a:lnTo>
                        <a:lnTo>
                          <a:pt x="82" y="182"/>
                        </a:lnTo>
                        <a:lnTo>
                          <a:pt x="86" y="172"/>
                        </a:lnTo>
                        <a:lnTo>
                          <a:pt x="86" y="162"/>
                        </a:lnTo>
                        <a:lnTo>
                          <a:pt x="86" y="153"/>
                        </a:lnTo>
                        <a:lnTo>
                          <a:pt x="86" y="143"/>
                        </a:lnTo>
                        <a:lnTo>
                          <a:pt x="86" y="138"/>
                        </a:lnTo>
                        <a:lnTo>
                          <a:pt x="86" y="129"/>
                        </a:lnTo>
                        <a:lnTo>
                          <a:pt x="91" y="119"/>
                        </a:lnTo>
                        <a:lnTo>
                          <a:pt x="91" y="110"/>
                        </a:lnTo>
                        <a:lnTo>
                          <a:pt x="91" y="100"/>
                        </a:lnTo>
                        <a:lnTo>
                          <a:pt x="91" y="91"/>
                        </a:lnTo>
                        <a:lnTo>
                          <a:pt x="91" y="81"/>
                        </a:lnTo>
                        <a:lnTo>
                          <a:pt x="91" y="71"/>
                        </a:lnTo>
                        <a:lnTo>
                          <a:pt x="96" y="62"/>
                        </a:lnTo>
                        <a:lnTo>
                          <a:pt x="96" y="52"/>
                        </a:lnTo>
                        <a:lnTo>
                          <a:pt x="96" y="47"/>
                        </a:lnTo>
                        <a:lnTo>
                          <a:pt x="96" y="38"/>
                        </a:lnTo>
                        <a:lnTo>
                          <a:pt x="96" y="28"/>
                        </a:lnTo>
                        <a:lnTo>
                          <a:pt x="96" y="19"/>
                        </a:lnTo>
                        <a:lnTo>
                          <a:pt x="96" y="9"/>
                        </a:lnTo>
                        <a:lnTo>
                          <a:pt x="101" y="0"/>
                        </a:lnTo>
                        <a:lnTo>
                          <a:pt x="101" y="4"/>
                        </a:lnTo>
                        <a:lnTo>
                          <a:pt x="106" y="9"/>
                        </a:lnTo>
                        <a:lnTo>
                          <a:pt x="106" y="14"/>
                        </a:lnTo>
                        <a:lnTo>
                          <a:pt x="106" y="19"/>
                        </a:lnTo>
                        <a:lnTo>
                          <a:pt x="110" y="23"/>
                        </a:lnTo>
                        <a:lnTo>
                          <a:pt x="110" y="28"/>
                        </a:lnTo>
                        <a:lnTo>
                          <a:pt x="115" y="33"/>
                        </a:lnTo>
                        <a:lnTo>
                          <a:pt x="115" y="38"/>
                        </a:lnTo>
                        <a:lnTo>
                          <a:pt x="115" y="43"/>
                        </a:lnTo>
                        <a:lnTo>
                          <a:pt x="115" y="47"/>
                        </a:lnTo>
                        <a:lnTo>
                          <a:pt x="115" y="52"/>
                        </a:lnTo>
                        <a:lnTo>
                          <a:pt x="120" y="57"/>
                        </a:lnTo>
                        <a:lnTo>
                          <a:pt x="120" y="62"/>
                        </a:lnTo>
                        <a:lnTo>
                          <a:pt x="120" y="67"/>
                        </a:lnTo>
                        <a:lnTo>
                          <a:pt x="120" y="71"/>
                        </a:lnTo>
                        <a:lnTo>
                          <a:pt x="120" y="76"/>
                        </a:lnTo>
                        <a:lnTo>
                          <a:pt x="120" y="81"/>
                        </a:lnTo>
                        <a:lnTo>
                          <a:pt x="125" y="81"/>
                        </a:lnTo>
                        <a:lnTo>
                          <a:pt x="125" y="86"/>
                        </a:lnTo>
                        <a:lnTo>
                          <a:pt x="125" y="91"/>
                        </a:lnTo>
                        <a:lnTo>
                          <a:pt x="125" y="95"/>
                        </a:lnTo>
                        <a:lnTo>
                          <a:pt x="125" y="100"/>
                        </a:lnTo>
                        <a:lnTo>
                          <a:pt x="125" y="105"/>
                        </a:lnTo>
                        <a:lnTo>
                          <a:pt x="130" y="110"/>
                        </a:lnTo>
                        <a:lnTo>
                          <a:pt x="130" y="114"/>
                        </a:lnTo>
                        <a:lnTo>
                          <a:pt x="130" y="119"/>
                        </a:lnTo>
                        <a:lnTo>
                          <a:pt x="134" y="124"/>
                        </a:lnTo>
                        <a:lnTo>
                          <a:pt x="134" y="129"/>
                        </a:lnTo>
                        <a:lnTo>
                          <a:pt x="139" y="134"/>
                        </a:lnTo>
                        <a:close/>
                      </a:path>
                    </a:pathLst>
                  </a:custGeom>
                  <a:solidFill>
                    <a:srgbClr val="ffd4f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8" name=""/>
                  <p:cNvSpPr/>
                  <p:nvPr/>
                </p:nvSpPr>
                <p:spPr>
                  <a:xfrm flipH="1">
                    <a:off x="4458600" y="4528440"/>
                    <a:ext cx="468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38">
                        <a:moveTo>
                          <a:pt x="29" y="38"/>
                        </a:moveTo>
                        <a:lnTo>
                          <a:pt x="24" y="38"/>
                        </a:lnTo>
                        <a:lnTo>
                          <a:pt x="20" y="38"/>
                        </a:lnTo>
                        <a:lnTo>
                          <a:pt x="15" y="38"/>
                        </a:lnTo>
                        <a:lnTo>
                          <a:pt x="15" y="33"/>
                        </a:lnTo>
                        <a:lnTo>
                          <a:pt x="10" y="33"/>
                        </a:lnTo>
                        <a:lnTo>
                          <a:pt x="10" y="28"/>
                        </a:lnTo>
                        <a:lnTo>
                          <a:pt x="5" y="28"/>
                        </a:lnTo>
                        <a:lnTo>
                          <a:pt x="5" y="24"/>
                        </a:lnTo>
                        <a:lnTo>
                          <a:pt x="0" y="24"/>
                        </a:lnTo>
                        <a:lnTo>
                          <a:pt x="0" y="19"/>
                        </a:lnTo>
                        <a:lnTo>
                          <a:pt x="5" y="19"/>
                        </a:lnTo>
                        <a:lnTo>
                          <a:pt x="5" y="14"/>
                        </a:lnTo>
                        <a:lnTo>
                          <a:pt x="0" y="14"/>
                        </a:lnTo>
                        <a:lnTo>
                          <a:pt x="0" y="9"/>
                        </a:lnTo>
                        <a:lnTo>
                          <a:pt x="0" y="4"/>
                        </a:lnTo>
                        <a:lnTo>
                          <a:pt x="5" y="4"/>
                        </a:lnTo>
                        <a:lnTo>
                          <a:pt x="5" y="0"/>
                        </a:lnTo>
                        <a:lnTo>
                          <a:pt x="10" y="0"/>
                        </a:lnTo>
                        <a:lnTo>
                          <a:pt x="15" y="0"/>
                        </a:lnTo>
                        <a:lnTo>
                          <a:pt x="15" y="4"/>
                        </a:lnTo>
                        <a:lnTo>
                          <a:pt x="20" y="4"/>
                        </a:lnTo>
                        <a:lnTo>
                          <a:pt x="20" y="9"/>
                        </a:lnTo>
                        <a:lnTo>
                          <a:pt x="24" y="14"/>
                        </a:lnTo>
                        <a:lnTo>
                          <a:pt x="24" y="19"/>
                        </a:lnTo>
                        <a:lnTo>
                          <a:pt x="24" y="24"/>
                        </a:lnTo>
                        <a:lnTo>
                          <a:pt x="24" y="28"/>
                        </a:lnTo>
                        <a:lnTo>
                          <a:pt x="24" y="33"/>
                        </a:lnTo>
                        <a:lnTo>
                          <a:pt x="29" y="33"/>
                        </a:lnTo>
                        <a:lnTo>
                          <a:pt x="29" y="38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9" name=""/>
                  <p:cNvSpPr/>
                  <p:nvPr/>
                </p:nvSpPr>
                <p:spPr>
                  <a:xfrm flipH="1">
                    <a:off x="4512240" y="4539600"/>
                    <a:ext cx="118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71" h="96">
                        <a:moveTo>
                          <a:pt x="57" y="24"/>
                        </a:moveTo>
                        <a:lnTo>
                          <a:pt x="62" y="28"/>
                        </a:lnTo>
                        <a:lnTo>
                          <a:pt x="62" y="33"/>
                        </a:lnTo>
                        <a:lnTo>
                          <a:pt x="67" y="33"/>
                        </a:lnTo>
                        <a:lnTo>
                          <a:pt x="67" y="38"/>
                        </a:lnTo>
                        <a:lnTo>
                          <a:pt x="67" y="43"/>
                        </a:lnTo>
                        <a:lnTo>
                          <a:pt x="71" y="48"/>
                        </a:lnTo>
                        <a:lnTo>
                          <a:pt x="71" y="52"/>
                        </a:lnTo>
                        <a:lnTo>
                          <a:pt x="71" y="57"/>
                        </a:lnTo>
                        <a:lnTo>
                          <a:pt x="71" y="62"/>
                        </a:lnTo>
                        <a:lnTo>
                          <a:pt x="71" y="67"/>
                        </a:lnTo>
                        <a:lnTo>
                          <a:pt x="71" y="72"/>
                        </a:lnTo>
                        <a:lnTo>
                          <a:pt x="71" y="76"/>
                        </a:lnTo>
                        <a:lnTo>
                          <a:pt x="71" y="81"/>
                        </a:lnTo>
                        <a:lnTo>
                          <a:pt x="67" y="81"/>
                        </a:lnTo>
                        <a:lnTo>
                          <a:pt x="67" y="86"/>
                        </a:lnTo>
                        <a:lnTo>
                          <a:pt x="62" y="91"/>
                        </a:lnTo>
                        <a:lnTo>
                          <a:pt x="57" y="91"/>
                        </a:lnTo>
                        <a:lnTo>
                          <a:pt x="57" y="96"/>
                        </a:lnTo>
                        <a:lnTo>
                          <a:pt x="52" y="96"/>
                        </a:lnTo>
                        <a:lnTo>
                          <a:pt x="48" y="96"/>
                        </a:lnTo>
                        <a:lnTo>
                          <a:pt x="43" y="96"/>
                        </a:lnTo>
                        <a:lnTo>
                          <a:pt x="43" y="91"/>
                        </a:lnTo>
                        <a:lnTo>
                          <a:pt x="38" y="91"/>
                        </a:lnTo>
                        <a:lnTo>
                          <a:pt x="33" y="91"/>
                        </a:lnTo>
                        <a:lnTo>
                          <a:pt x="28" y="91"/>
                        </a:lnTo>
                        <a:lnTo>
                          <a:pt x="24" y="86"/>
                        </a:lnTo>
                        <a:lnTo>
                          <a:pt x="24" y="81"/>
                        </a:lnTo>
                        <a:lnTo>
                          <a:pt x="19" y="81"/>
                        </a:lnTo>
                        <a:lnTo>
                          <a:pt x="19" y="76"/>
                        </a:lnTo>
                        <a:lnTo>
                          <a:pt x="14" y="72"/>
                        </a:lnTo>
                        <a:lnTo>
                          <a:pt x="14" y="67"/>
                        </a:lnTo>
                        <a:lnTo>
                          <a:pt x="9" y="67"/>
                        </a:lnTo>
                        <a:lnTo>
                          <a:pt x="9" y="62"/>
                        </a:lnTo>
                        <a:lnTo>
                          <a:pt x="4" y="57"/>
                        </a:lnTo>
                        <a:lnTo>
                          <a:pt x="4" y="52"/>
                        </a:lnTo>
                        <a:lnTo>
                          <a:pt x="0" y="52"/>
                        </a:lnTo>
                        <a:lnTo>
                          <a:pt x="0" y="48"/>
                        </a:lnTo>
                        <a:lnTo>
                          <a:pt x="0" y="43"/>
                        </a:lnTo>
                        <a:lnTo>
                          <a:pt x="0" y="38"/>
                        </a:lnTo>
                        <a:lnTo>
                          <a:pt x="0" y="33"/>
                        </a:lnTo>
                        <a:lnTo>
                          <a:pt x="0" y="28"/>
                        </a:lnTo>
                        <a:lnTo>
                          <a:pt x="0" y="24"/>
                        </a:lnTo>
                        <a:lnTo>
                          <a:pt x="0" y="19"/>
                        </a:lnTo>
                        <a:lnTo>
                          <a:pt x="4" y="19"/>
                        </a:lnTo>
                        <a:lnTo>
                          <a:pt x="4" y="14"/>
                        </a:lnTo>
                        <a:lnTo>
                          <a:pt x="4" y="9"/>
                        </a:lnTo>
                        <a:lnTo>
                          <a:pt x="9" y="9"/>
                        </a:lnTo>
                        <a:lnTo>
                          <a:pt x="9" y="5"/>
                        </a:lnTo>
                        <a:lnTo>
                          <a:pt x="14" y="5"/>
                        </a:lnTo>
                        <a:lnTo>
                          <a:pt x="19" y="5"/>
                        </a:lnTo>
                        <a:lnTo>
                          <a:pt x="19" y="0"/>
                        </a:lnTo>
                        <a:lnTo>
                          <a:pt x="24" y="0"/>
                        </a:lnTo>
                        <a:lnTo>
                          <a:pt x="28" y="0"/>
                        </a:lnTo>
                        <a:lnTo>
                          <a:pt x="33" y="0"/>
                        </a:lnTo>
                        <a:lnTo>
                          <a:pt x="38" y="0"/>
                        </a:lnTo>
                        <a:lnTo>
                          <a:pt x="38" y="5"/>
                        </a:lnTo>
                        <a:lnTo>
                          <a:pt x="43" y="5"/>
                        </a:lnTo>
                        <a:lnTo>
                          <a:pt x="43" y="9"/>
                        </a:lnTo>
                        <a:lnTo>
                          <a:pt x="48" y="14"/>
                        </a:lnTo>
                        <a:lnTo>
                          <a:pt x="48" y="19"/>
                        </a:lnTo>
                        <a:lnTo>
                          <a:pt x="52" y="19"/>
                        </a:lnTo>
                        <a:lnTo>
                          <a:pt x="52" y="24"/>
                        </a:lnTo>
                        <a:lnTo>
                          <a:pt x="57" y="2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0" name=""/>
                  <p:cNvSpPr/>
                  <p:nvPr/>
                </p:nvSpPr>
                <p:spPr>
                  <a:xfrm flipH="1">
                    <a:off x="4516200" y="4544640"/>
                    <a:ext cx="3960" cy="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34">
                        <a:moveTo>
                          <a:pt x="24" y="24"/>
                        </a:moveTo>
                        <a:lnTo>
                          <a:pt x="24" y="34"/>
                        </a:lnTo>
                        <a:lnTo>
                          <a:pt x="19" y="34"/>
                        </a:lnTo>
                        <a:lnTo>
                          <a:pt x="14" y="34"/>
                        </a:lnTo>
                        <a:lnTo>
                          <a:pt x="14" y="29"/>
                        </a:lnTo>
                        <a:lnTo>
                          <a:pt x="9" y="29"/>
                        </a:lnTo>
                        <a:lnTo>
                          <a:pt x="9" y="24"/>
                        </a:lnTo>
                        <a:lnTo>
                          <a:pt x="9" y="19"/>
                        </a:lnTo>
                        <a:lnTo>
                          <a:pt x="4" y="19"/>
                        </a:lnTo>
                        <a:lnTo>
                          <a:pt x="4" y="15"/>
                        </a:lnTo>
                        <a:lnTo>
                          <a:pt x="0" y="10"/>
                        </a:lnTo>
                        <a:lnTo>
                          <a:pt x="0" y="0"/>
                        </a:lnTo>
                        <a:lnTo>
                          <a:pt x="4" y="0"/>
                        </a:lnTo>
                        <a:lnTo>
                          <a:pt x="9" y="0"/>
                        </a:lnTo>
                        <a:lnTo>
                          <a:pt x="14" y="5"/>
                        </a:lnTo>
                        <a:lnTo>
                          <a:pt x="19" y="10"/>
                        </a:lnTo>
                        <a:lnTo>
                          <a:pt x="19" y="15"/>
                        </a:lnTo>
                        <a:lnTo>
                          <a:pt x="19" y="19"/>
                        </a:lnTo>
                        <a:lnTo>
                          <a:pt x="24" y="19"/>
                        </a:lnTo>
                        <a:lnTo>
                          <a:pt x="24" y="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1" name=""/>
                  <p:cNvSpPr/>
                  <p:nvPr/>
                </p:nvSpPr>
                <p:spPr>
                  <a:xfrm flipH="1">
                    <a:off x="4482000" y="4547160"/>
                    <a:ext cx="26640" cy="36720"/>
                  </a:xfrm>
                  <a:custGeom>
                    <a:avLst/>
                    <a:gdLst/>
                    <a:ahLst/>
                    <a:rect l="l" t="t" r="r" b="b"/>
                    <a:pathLst>
                      <a:path w="159" h="225">
                        <a:moveTo>
                          <a:pt x="53" y="57"/>
                        </a:moveTo>
                        <a:lnTo>
                          <a:pt x="53" y="62"/>
                        </a:lnTo>
                        <a:lnTo>
                          <a:pt x="53" y="67"/>
                        </a:lnTo>
                        <a:lnTo>
                          <a:pt x="53" y="71"/>
                        </a:lnTo>
                        <a:lnTo>
                          <a:pt x="53" y="76"/>
                        </a:lnTo>
                        <a:lnTo>
                          <a:pt x="48" y="81"/>
                        </a:lnTo>
                        <a:lnTo>
                          <a:pt x="48" y="86"/>
                        </a:lnTo>
                        <a:lnTo>
                          <a:pt x="48" y="91"/>
                        </a:lnTo>
                        <a:lnTo>
                          <a:pt x="48" y="95"/>
                        </a:lnTo>
                        <a:lnTo>
                          <a:pt x="44" y="100"/>
                        </a:lnTo>
                        <a:lnTo>
                          <a:pt x="44" y="105"/>
                        </a:lnTo>
                        <a:lnTo>
                          <a:pt x="44" y="110"/>
                        </a:lnTo>
                        <a:lnTo>
                          <a:pt x="39" y="115"/>
                        </a:lnTo>
                        <a:lnTo>
                          <a:pt x="39" y="119"/>
                        </a:lnTo>
                        <a:lnTo>
                          <a:pt x="39" y="124"/>
                        </a:lnTo>
                        <a:lnTo>
                          <a:pt x="34" y="129"/>
                        </a:lnTo>
                        <a:lnTo>
                          <a:pt x="34" y="134"/>
                        </a:lnTo>
                        <a:lnTo>
                          <a:pt x="29" y="134"/>
                        </a:lnTo>
                        <a:lnTo>
                          <a:pt x="29" y="138"/>
                        </a:lnTo>
                        <a:lnTo>
                          <a:pt x="29" y="143"/>
                        </a:lnTo>
                        <a:lnTo>
                          <a:pt x="24" y="143"/>
                        </a:lnTo>
                        <a:lnTo>
                          <a:pt x="24" y="148"/>
                        </a:lnTo>
                        <a:lnTo>
                          <a:pt x="29" y="148"/>
                        </a:lnTo>
                        <a:lnTo>
                          <a:pt x="29" y="153"/>
                        </a:lnTo>
                        <a:lnTo>
                          <a:pt x="29" y="158"/>
                        </a:lnTo>
                        <a:lnTo>
                          <a:pt x="34" y="158"/>
                        </a:lnTo>
                        <a:lnTo>
                          <a:pt x="34" y="162"/>
                        </a:lnTo>
                        <a:lnTo>
                          <a:pt x="34" y="167"/>
                        </a:lnTo>
                        <a:lnTo>
                          <a:pt x="39" y="167"/>
                        </a:lnTo>
                        <a:lnTo>
                          <a:pt x="39" y="172"/>
                        </a:lnTo>
                        <a:lnTo>
                          <a:pt x="44" y="172"/>
                        </a:lnTo>
                        <a:lnTo>
                          <a:pt x="44" y="177"/>
                        </a:lnTo>
                        <a:lnTo>
                          <a:pt x="48" y="182"/>
                        </a:lnTo>
                        <a:lnTo>
                          <a:pt x="53" y="182"/>
                        </a:lnTo>
                        <a:lnTo>
                          <a:pt x="53" y="186"/>
                        </a:lnTo>
                        <a:lnTo>
                          <a:pt x="58" y="186"/>
                        </a:lnTo>
                        <a:lnTo>
                          <a:pt x="58" y="191"/>
                        </a:lnTo>
                        <a:lnTo>
                          <a:pt x="63" y="191"/>
                        </a:lnTo>
                        <a:lnTo>
                          <a:pt x="68" y="191"/>
                        </a:lnTo>
                        <a:lnTo>
                          <a:pt x="68" y="196"/>
                        </a:lnTo>
                        <a:lnTo>
                          <a:pt x="72" y="196"/>
                        </a:lnTo>
                        <a:lnTo>
                          <a:pt x="77" y="196"/>
                        </a:lnTo>
                        <a:lnTo>
                          <a:pt x="82" y="196"/>
                        </a:lnTo>
                        <a:lnTo>
                          <a:pt x="87" y="196"/>
                        </a:lnTo>
                        <a:lnTo>
                          <a:pt x="92" y="196"/>
                        </a:lnTo>
                        <a:lnTo>
                          <a:pt x="96" y="196"/>
                        </a:lnTo>
                        <a:lnTo>
                          <a:pt x="101" y="196"/>
                        </a:lnTo>
                        <a:lnTo>
                          <a:pt x="106" y="196"/>
                        </a:lnTo>
                        <a:lnTo>
                          <a:pt x="111" y="201"/>
                        </a:lnTo>
                        <a:lnTo>
                          <a:pt x="116" y="196"/>
                        </a:lnTo>
                        <a:lnTo>
                          <a:pt x="120" y="196"/>
                        </a:lnTo>
                        <a:lnTo>
                          <a:pt x="125" y="196"/>
                        </a:lnTo>
                        <a:lnTo>
                          <a:pt x="130" y="196"/>
                        </a:lnTo>
                        <a:lnTo>
                          <a:pt x="135" y="196"/>
                        </a:lnTo>
                        <a:lnTo>
                          <a:pt x="140" y="196"/>
                        </a:lnTo>
                        <a:lnTo>
                          <a:pt x="144" y="196"/>
                        </a:lnTo>
                        <a:lnTo>
                          <a:pt x="149" y="196"/>
                        </a:lnTo>
                        <a:lnTo>
                          <a:pt x="154" y="196"/>
                        </a:lnTo>
                        <a:lnTo>
                          <a:pt x="159" y="196"/>
                        </a:lnTo>
                        <a:lnTo>
                          <a:pt x="159" y="201"/>
                        </a:lnTo>
                        <a:lnTo>
                          <a:pt x="159" y="206"/>
                        </a:lnTo>
                        <a:lnTo>
                          <a:pt x="154" y="206"/>
                        </a:lnTo>
                        <a:lnTo>
                          <a:pt x="154" y="210"/>
                        </a:lnTo>
                        <a:lnTo>
                          <a:pt x="149" y="210"/>
                        </a:lnTo>
                        <a:lnTo>
                          <a:pt x="149" y="215"/>
                        </a:lnTo>
                        <a:lnTo>
                          <a:pt x="144" y="215"/>
                        </a:lnTo>
                        <a:lnTo>
                          <a:pt x="140" y="220"/>
                        </a:lnTo>
                        <a:lnTo>
                          <a:pt x="135" y="220"/>
                        </a:lnTo>
                        <a:lnTo>
                          <a:pt x="130" y="225"/>
                        </a:lnTo>
                        <a:lnTo>
                          <a:pt x="125" y="225"/>
                        </a:lnTo>
                        <a:lnTo>
                          <a:pt x="120" y="225"/>
                        </a:lnTo>
                        <a:lnTo>
                          <a:pt x="116" y="225"/>
                        </a:lnTo>
                        <a:lnTo>
                          <a:pt x="111" y="225"/>
                        </a:lnTo>
                        <a:lnTo>
                          <a:pt x="106" y="225"/>
                        </a:lnTo>
                        <a:lnTo>
                          <a:pt x="101" y="225"/>
                        </a:lnTo>
                        <a:lnTo>
                          <a:pt x="96" y="225"/>
                        </a:lnTo>
                        <a:lnTo>
                          <a:pt x="92" y="225"/>
                        </a:lnTo>
                        <a:lnTo>
                          <a:pt x="87" y="225"/>
                        </a:lnTo>
                        <a:lnTo>
                          <a:pt x="82" y="225"/>
                        </a:lnTo>
                        <a:lnTo>
                          <a:pt x="77" y="225"/>
                        </a:lnTo>
                        <a:lnTo>
                          <a:pt x="72" y="225"/>
                        </a:lnTo>
                        <a:lnTo>
                          <a:pt x="68" y="220"/>
                        </a:lnTo>
                        <a:lnTo>
                          <a:pt x="63" y="220"/>
                        </a:lnTo>
                        <a:lnTo>
                          <a:pt x="58" y="215"/>
                        </a:lnTo>
                        <a:lnTo>
                          <a:pt x="53" y="215"/>
                        </a:lnTo>
                        <a:lnTo>
                          <a:pt x="48" y="210"/>
                        </a:lnTo>
                        <a:lnTo>
                          <a:pt x="44" y="206"/>
                        </a:lnTo>
                        <a:lnTo>
                          <a:pt x="39" y="206"/>
                        </a:lnTo>
                        <a:lnTo>
                          <a:pt x="34" y="201"/>
                        </a:lnTo>
                        <a:lnTo>
                          <a:pt x="29" y="196"/>
                        </a:lnTo>
                        <a:lnTo>
                          <a:pt x="24" y="196"/>
                        </a:lnTo>
                        <a:lnTo>
                          <a:pt x="24" y="191"/>
                        </a:lnTo>
                        <a:lnTo>
                          <a:pt x="20" y="186"/>
                        </a:lnTo>
                        <a:lnTo>
                          <a:pt x="15" y="186"/>
                        </a:lnTo>
                        <a:lnTo>
                          <a:pt x="15" y="182"/>
                        </a:lnTo>
                        <a:lnTo>
                          <a:pt x="10" y="177"/>
                        </a:lnTo>
                        <a:lnTo>
                          <a:pt x="10" y="172"/>
                        </a:lnTo>
                        <a:lnTo>
                          <a:pt x="5" y="167"/>
                        </a:lnTo>
                        <a:lnTo>
                          <a:pt x="5" y="162"/>
                        </a:lnTo>
                        <a:lnTo>
                          <a:pt x="5" y="158"/>
                        </a:lnTo>
                        <a:lnTo>
                          <a:pt x="0" y="153"/>
                        </a:lnTo>
                        <a:lnTo>
                          <a:pt x="0" y="148"/>
                        </a:lnTo>
                        <a:lnTo>
                          <a:pt x="0" y="143"/>
                        </a:lnTo>
                        <a:lnTo>
                          <a:pt x="5" y="138"/>
                        </a:lnTo>
                        <a:lnTo>
                          <a:pt x="5" y="134"/>
                        </a:lnTo>
                        <a:lnTo>
                          <a:pt x="5" y="129"/>
                        </a:lnTo>
                        <a:lnTo>
                          <a:pt x="5" y="124"/>
                        </a:lnTo>
                        <a:lnTo>
                          <a:pt x="10" y="119"/>
                        </a:lnTo>
                        <a:lnTo>
                          <a:pt x="10" y="115"/>
                        </a:lnTo>
                        <a:lnTo>
                          <a:pt x="15" y="110"/>
                        </a:lnTo>
                        <a:lnTo>
                          <a:pt x="15" y="105"/>
                        </a:lnTo>
                        <a:lnTo>
                          <a:pt x="20" y="100"/>
                        </a:lnTo>
                        <a:lnTo>
                          <a:pt x="20" y="95"/>
                        </a:lnTo>
                        <a:lnTo>
                          <a:pt x="20" y="91"/>
                        </a:lnTo>
                        <a:lnTo>
                          <a:pt x="24" y="86"/>
                        </a:lnTo>
                        <a:lnTo>
                          <a:pt x="24" y="81"/>
                        </a:lnTo>
                        <a:lnTo>
                          <a:pt x="29" y="71"/>
                        </a:lnTo>
                        <a:lnTo>
                          <a:pt x="29" y="67"/>
                        </a:lnTo>
                        <a:lnTo>
                          <a:pt x="29" y="62"/>
                        </a:lnTo>
                        <a:lnTo>
                          <a:pt x="29" y="57"/>
                        </a:lnTo>
                        <a:lnTo>
                          <a:pt x="29" y="52"/>
                        </a:lnTo>
                        <a:lnTo>
                          <a:pt x="29" y="48"/>
                        </a:lnTo>
                        <a:lnTo>
                          <a:pt x="29" y="43"/>
                        </a:lnTo>
                        <a:lnTo>
                          <a:pt x="29" y="38"/>
                        </a:lnTo>
                        <a:lnTo>
                          <a:pt x="29" y="33"/>
                        </a:lnTo>
                        <a:lnTo>
                          <a:pt x="24" y="28"/>
                        </a:lnTo>
                        <a:lnTo>
                          <a:pt x="24" y="24"/>
                        </a:lnTo>
                        <a:lnTo>
                          <a:pt x="20" y="19"/>
                        </a:lnTo>
                        <a:lnTo>
                          <a:pt x="20" y="14"/>
                        </a:lnTo>
                        <a:lnTo>
                          <a:pt x="20" y="9"/>
                        </a:lnTo>
                        <a:lnTo>
                          <a:pt x="20" y="4"/>
                        </a:lnTo>
                        <a:lnTo>
                          <a:pt x="24" y="4"/>
                        </a:lnTo>
                        <a:lnTo>
                          <a:pt x="24" y="0"/>
                        </a:lnTo>
                        <a:lnTo>
                          <a:pt x="29" y="0"/>
                        </a:lnTo>
                        <a:lnTo>
                          <a:pt x="29" y="4"/>
                        </a:lnTo>
                        <a:lnTo>
                          <a:pt x="34" y="4"/>
                        </a:lnTo>
                        <a:lnTo>
                          <a:pt x="39" y="9"/>
                        </a:lnTo>
                        <a:lnTo>
                          <a:pt x="39" y="14"/>
                        </a:lnTo>
                        <a:lnTo>
                          <a:pt x="44" y="14"/>
                        </a:lnTo>
                        <a:lnTo>
                          <a:pt x="44" y="19"/>
                        </a:lnTo>
                        <a:lnTo>
                          <a:pt x="44" y="24"/>
                        </a:lnTo>
                        <a:lnTo>
                          <a:pt x="48" y="28"/>
                        </a:lnTo>
                        <a:lnTo>
                          <a:pt x="48" y="33"/>
                        </a:lnTo>
                        <a:lnTo>
                          <a:pt x="48" y="38"/>
                        </a:lnTo>
                        <a:lnTo>
                          <a:pt x="48" y="43"/>
                        </a:lnTo>
                        <a:lnTo>
                          <a:pt x="53" y="48"/>
                        </a:lnTo>
                        <a:lnTo>
                          <a:pt x="53" y="52"/>
                        </a:lnTo>
                        <a:lnTo>
                          <a:pt x="53" y="5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2" name=""/>
                  <p:cNvSpPr/>
                  <p:nvPr/>
                </p:nvSpPr>
                <p:spPr>
                  <a:xfrm flipH="1">
                    <a:off x="4419720" y="4572360"/>
                    <a:ext cx="93240" cy="50040"/>
                  </a:xfrm>
                  <a:custGeom>
                    <a:avLst/>
                    <a:gdLst/>
                    <a:ahLst/>
                    <a:rect l="l" t="t" r="r" b="b"/>
                    <a:pathLst>
                      <a:path w="551" h="306">
                        <a:moveTo>
                          <a:pt x="551" y="0"/>
                        </a:moveTo>
                        <a:lnTo>
                          <a:pt x="547" y="14"/>
                        </a:lnTo>
                        <a:lnTo>
                          <a:pt x="547" y="24"/>
                        </a:lnTo>
                        <a:lnTo>
                          <a:pt x="542" y="33"/>
                        </a:lnTo>
                        <a:lnTo>
                          <a:pt x="537" y="48"/>
                        </a:lnTo>
                        <a:lnTo>
                          <a:pt x="537" y="57"/>
                        </a:lnTo>
                        <a:lnTo>
                          <a:pt x="532" y="67"/>
                        </a:lnTo>
                        <a:lnTo>
                          <a:pt x="527" y="81"/>
                        </a:lnTo>
                        <a:lnTo>
                          <a:pt x="523" y="91"/>
                        </a:lnTo>
                        <a:lnTo>
                          <a:pt x="518" y="100"/>
                        </a:lnTo>
                        <a:lnTo>
                          <a:pt x="513" y="115"/>
                        </a:lnTo>
                        <a:lnTo>
                          <a:pt x="508" y="124"/>
                        </a:lnTo>
                        <a:lnTo>
                          <a:pt x="503" y="134"/>
                        </a:lnTo>
                        <a:lnTo>
                          <a:pt x="499" y="143"/>
                        </a:lnTo>
                        <a:lnTo>
                          <a:pt x="494" y="158"/>
                        </a:lnTo>
                        <a:lnTo>
                          <a:pt x="489" y="167"/>
                        </a:lnTo>
                        <a:lnTo>
                          <a:pt x="479" y="177"/>
                        </a:lnTo>
                        <a:lnTo>
                          <a:pt x="475" y="187"/>
                        </a:lnTo>
                        <a:lnTo>
                          <a:pt x="465" y="196"/>
                        </a:lnTo>
                        <a:lnTo>
                          <a:pt x="460" y="206"/>
                        </a:lnTo>
                        <a:lnTo>
                          <a:pt x="451" y="215"/>
                        </a:lnTo>
                        <a:lnTo>
                          <a:pt x="446" y="225"/>
                        </a:lnTo>
                        <a:lnTo>
                          <a:pt x="436" y="234"/>
                        </a:lnTo>
                        <a:lnTo>
                          <a:pt x="427" y="244"/>
                        </a:lnTo>
                        <a:lnTo>
                          <a:pt x="417" y="254"/>
                        </a:lnTo>
                        <a:lnTo>
                          <a:pt x="407" y="258"/>
                        </a:lnTo>
                        <a:lnTo>
                          <a:pt x="398" y="268"/>
                        </a:lnTo>
                        <a:lnTo>
                          <a:pt x="388" y="273"/>
                        </a:lnTo>
                        <a:lnTo>
                          <a:pt x="379" y="282"/>
                        </a:lnTo>
                        <a:lnTo>
                          <a:pt x="369" y="287"/>
                        </a:lnTo>
                        <a:lnTo>
                          <a:pt x="359" y="297"/>
                        </a:lnTo>
                        <a:lnTo>
                          <a:pt x="350" y="302"/>
                        </a:lnTo>
                        <a:lnTo>
                          <a:pt x="335" y="306"/>
                        </a:lnTo>
                        <a:lnTo>
                          <a:pt x="331" y="306"/>
                        </a:lnTo>
                        <a:lnTo>
                          <a:pt x="321" y="306"/>
                        </a:lnTo>
                        <a:lnTo>
                          <a:pt x="312" y="306"/>
                        </a:lnTo>
                        <a:lnTo>
                          <a:pt x="307" y="306"/>
                        </a:lnTo>
                        <a:lnTo>
                          <a:pt x="297" y="302"/>
                        </a:lnTo>
                        <a:lnTo>
                          <a:pt x="292" y="302"/>
                        </a:lnTo>
                        <a:lnTo>
                          <a:pt x="283" y="302"/>
                        </a:lnTo>
                        <a:lnTo>
                          <a:pt x="278" y="297"/>
                        </a:lnTo>
                        <a:lnTo>
                          <a:pt x="268" y="297"/>
                        </a:lnTo>
                        <a:lnTo>
                          <a:pt x="264" y="297"/>
                        </a:lnTo>
                        <a:lnTo>
                          <a:pt x="254" y="292"/>
                        </a:lnTo>
                        <a:lnTo>
                          <a:pt x="249" y="287"/>
                        </a:lnTo>
                        <a:lnTo>
                          <a:pt x="244" y="287"/>
                        </a:lnTo>
                        <a:lnTo>
                          <a:pt x="235" y="282"/>
                        </a:lnTo>
                        <a:lnTo>
                          <a:pt x="230" y="282"/>
                        </a:lnTo>
                        <a:lnTo>
                          <a:pt x="220" y="278"/>
                        </a:lnTo>
                        <a:lnTo>
                          <a:pt x="216" y="273"/>
                        </a:lnTo>
                        <a:lnTo>
                          <a:pt x="211" y="268"/>
                        </a:lnTo>
                        <a:lnTo>
                          <a:pt x="201" y="268"/>
                        </a:lnTo>
                        <a:lnTo>
                          <a:pt x="196" y="263"/>
                        </a:lnTo>
                        <a:lnTo>
                          <a:pt x="187" y="258"/>
                        </a:lnTo>
                        <a:lnTo>
                          <a:pt x="182" y="254"/>
                        </a:lnTo>
                        <a:lnTo>
                          <a:pt x="177" y="254"/>
                        </a:lnTo>
                        <a:lnTo>
                          <a:pt x="168" y="249"/>
                        </a:lnTo>
                        <a:lnTo>
                          <a:pt x="163" y="244"/>
                        </a:lnTo>
                        <a:lnTo>
                          <a:pt x="158" y="239"/>
                        </a:lnTo>
                        <a:lnTo>
                          <a:pt x="148" y="234"/>
                        </a:lnTo>
                        <a:lnTo>
                          <a:pt x="144" y="234"/>
                        </a:lnTo>
                        <a:lnTo>
                          <a:pt x="139" y="230"/>
                        </a:lnTo>
                        <a:lnTo>
                          <a:pt x="129" y="225"/>
                        </a:lnTo>
                        <a:lnTo>
                          <a:pt x="124" y="225"/>
                        </a:lnTo>
                        <a:lnTo>
                          <a:pt x="120" y="220"/>
                        </a:lnTo>
                        <a:lnTo>
                          <a:pt x="115" y="220"/>
                        </a:lnTo>
                        <a:lnTo>
                          <a:pt x="115" y="215"/>
                        </a:lnTo>
                        <a:lnTo>
                          <a:pt x="110" y="215"/>
                        </a:lnTo>
                        <a:lnTo>
                          <a:pt x="110" y="211"/>
                        </a:lnTo>
                        <a:lnTo>
                          <a:pt x="105" y="211"/>
                        </a:lnTo>
                        <a:lnTo>
                          <a:pt x="105" y="206"/>
                        </a:lnTo>
                        <a:lnTo>
                          <a:pt x="100" y="206"/>
                        </a:lnTo>
                        <a:lnTo>
                          <a:pt x="100" y="201"/>
                        </a:lnTo>
                        <a:lnTo>
                          <a:pt x="96" y="196"/>
                        </a:lnTo>
                        <a:lnTo>
                          <a:pt x="96" y="191"/>
                        </a:lnTo>
                        <a:lnTo>
                          <a:pt x="91" y="191"/>
                        </a:lnTo>
                        <a:lnTo>
                          <a:pt x="91" y="187"/>
                        </a:lnTo>
                        <a:lnTo>
                          <a:pt x="86" y="187"/>
                        </a:lnTo>
                        <a:lnTo>
                          <a:pt x="86" y="182"/>
                        </a:lnTo>
                        <a:lnTo>
                          <a:pt x="81" y="182"/>
                        </a:lnTo>
                        <a:lnTo>
                          <a:pt x="76" y="177"/>
                        </a:lnTo>
                        <a:lnTo>
                          <a:pt x="72" y="177"/>
                        </a:lnTo>
                        <a:lnTo>
                          <a:pt x="67" y="177"/>
                        </a:lnTo>
                        <a:lnTo>
                          <a:pt x="62" y="177"/>
                        </a:lnTo>
                        <a:lnTo>
                          <a:pt x="57" y="177"/>
                        </a:lnTo>
                        <a:lnTo>
                          <a:pt x="57" y="182"/>
                        </a:lnTo>
                        <a:lnTo>
                          <a:pt x="52" y="177"/>
                        </a:lnTo>
                        <a:lnTo>
                          <a:pt x="48" y="177"/>
                        </a:lnTo>
                        <a:lnTo>
                          <a:pt x="43" y="177"/>
                        </a:lnTo>
                        <a:lnTo>
                          <a:pt x="38" y="177"/>
                        </a:lnTo>
                        <a:lnTo>
                          <a:pt x="33" y="177"/>
                        </a:lnTo>
                        <a:lnTo>
                          <a:pt x="28" y="177"/>
                        </a:lnTo>
                        <a:lnTo>
                          <a:pt x="28" y="172"/>
                        </a:lnTo>
                        <a:lnTo>
                          <a:pt x="24" y="172"/>
                        </a:lnTo>
                        <a:lnTo>
                          <a:pt x="19" y="172"/>
                        </a:lnTo>
                        <a:lnTo>
                          <a:pt x="14" y="167"/>
                        </a:lnTo>
                        <a:lnTo>
                          <a:pt x="9" y="167"/>
                        </a:lnTo>
                        <a:lnTo>
                          <a:pt x="9" y="163"/>
                        </a:lnTo>
                        <a:lnTo>
                          <a:pt x="4" y="163"/>
                        </a:lnTo>
                        <a:lnTo>
                          <a:pt x="4" y="158"/>
                        </a:lnTo>
                        <a:lnTo>
                          <a:pt x="0" y="153"/>
                        </a:lnTo>
                        <a:lnTo>
                          <a:pt x="0" y="148"/>
                        </a:lnTo>
                        <a:lnTo>
                          <a:pt x="0" y="143"/>
                        </a:lnTo>
                        <a:lnTo>
                          <a:pt x="0" y="139"/>
                        </a:lnTo>
                        <a:lnTo>
                          <a:pt x="4" y="139"/>
                        </a:lnTo>
                        <a:lnTo>
                          <a:pt x="4" y="134"/>
                        </a:lnTo>
                        <a:lnTo>
                          <a:pt x="4" y="129"/>
                        </a:lnTo>
                        <a:lnTo>
                          <a:pt x="4" y="124"/>
                        </a:lnTo>
                        <a:lnTo>
                          <a:pt x="9" y="124"/>
                        </a:lnTo>
                        <a:lnTo>
                          <a:pt x="9" y="120"/>
                        </a:lnTo>
                        <a:lnTo>
                          <a:pt x="14" y="115"/>
                        </a:lnTo>
                        <a:lnTo>
                          <a:pt x="28" y="124"/>
                        </a:lnTo>
                        <a:lnTo>
                          <a:pt x="28" y="129"/>
                        </a:lnTo>
                        <a:lnTo>
                          <a:pt x="28" y="134"/>
                        </a:lnTo>
                        <a:lnTo>
                          <a:pt x="24" y="134"/>
                        </a:lnTo>
                        <a:lnTo>
                          <a:pt x="24" y="139"/>
                        </a:lnTo>
                        <a:lnTo>
                          <a:pt x="24" y="143"/>
                        </a:lnTo>
                        <a:lnTo>
                          <a:pt x="24" y="148"/>
                        </a:lnTo>
                        <a:lnTo>
                          <a:pt x="28" y="148"/>
                        </a:lnTo>
                        <a:lnTo>
                          <a:pt x="33" y="148"/>
                        </a:lnTo>
                        <a:lnTo>
                          <a:pt x="33" y="153"/>
                        </a:lnTo>
                        <a:lnTo>
                          <a:pt x="38" y="153"/>
                        </a:lnTo>
                        <a:lnTo>
                          <a:pt x="43" y="153"/>
                        </a:lnTo>
                        <a:lnTo>
                          <a:pt x="48" y="153"/>
                        </a:lnTo>
                        <a:lnTo>
                          <a:pt x="52" y="153"/>
                        </a:lnTo>
                        <a:lnTo>
                          <a:pt x="57" y="153"/>
                        </a:lnTo>
                        <a:lnTo>
                          <a:pt x="62" y="153"/>
                        </a:lnTo>
                        <a:lnTo>
                          <a:pt x="67" y="153"/>
                        </a:lnTo>
                        <a:lnTo>
                          <a:pt x="72" y="153"/>
                        </a:lnTo>
                        <a:lnTo>
                          <a:pt x="76" y="148"/>
                        </a:lnTo>
                        <a:lnTo>
                          <a:pt x="81" y="148"/>
                        </a:lnTo>
                        <a:lnTo>
                          <a:pt x="86" y="148"/>
                        </a:lnTo>
                        <a:lnTo>
                          <a:pt x="91" y="148"/>
                        </a:lnTo>
                        <a:lnTo>
                          <a:pt x="96" y="148"/>
                        </a:lnTo>
                        <a:lnTo>
                          <a:pt x="110" y="143"/>
                        </a:lnTo>
                        <a:lnTo>
                          <a:pt x="124" y="139"/>
                        </a:lnTo>
                        <a:lnTo>
                          <a:pt x="139" y="139"/>
                        </a:lnTo>
                        <a:lnTo>
                          <a:pt x="148" y="134"/>
                        </a:lnTo>
                        <a:lnTo>
                          <a:pt x="163" y="129"/>
                        </a:lnTo>
                        <a:lnTo>
                          <a:pt x="177" y="129"/>
                        </a:lnTo>
                        <a:lnTo>
                          <a:pt x="192" y="124"/>
                        </a:lnTo>
                        <a:lnTo>
                          <a:pt x="206" y="120"/>
                        </a:lnTo>
                        <a:lnTo>
                          <a:pt x="220" y="115"/>
                        </a:lnTo>
                        <a:lnTo>
                          <a:pt x="235" y="110"/>
                        </a:lnTo>
                        <a:lnTo>
                          <a:pt x="249" y="110"/>
                        </a:lnTo>
                        <a:lnTo>
                          <a:pt x="259" y="105"/>
                        </a:lnTo>
                        <a:lnTo>
                          <a:pt x="273" y="100"/>
                        </a:lnTo>
                        <a:lnTo>
                          <a:pt x="288" y="96"/>
                        </a:lnTo>
                        <a:lnTo>
                          <a:pt x="302" y="91"/>
                        </a:lnTo>
                        <a:lnTo>
                          <a:pt x="316" y="86"/>
                        </a:lnTo>
                        <a:lnTo>
                          <a:pt x="331" y="81"/>
                        </a:lnTo>
                        <a:lnTo>
                          <a:pt x="340" y="76"/>
                        </a:lnTo>
                        <a:lnTo>
                          <a:pt x="355" y="72"/>
                        </a:lnTo>
                        <a:lnTo>
                          <a:pt x="369" y="67"/>
                        </a:lnTo>
                        <a:lnTo>
                          <a:pt x="383" y="62"/>
                        </a:lnTo>
                        <a:lnTo>
                          <a:pt x="398" y="57"/>
                        </a:lnTo>
                        <a:lnTo>
                          <a:pt x="407" y="53"/>
                        </a:lnTo>
                        <a:lnTo>
                          <a:pt x="422" y="48"/>
                        </a:lnTo>
                        <a:lnTo>
                          <a:pt x="436" y="38"/>
                        </a:lnTo>
                        <a:lnTo>
                          <a:pt x="451" y="33"/>
                        </a:lnTo>
                        <a:lnTo>
                          <a:pt x="460" y="29"/>
                        </a:lnTo>
                        <a:lnTo>
                          <a:pt x="475" y="24"/>
                        </a:lnTo>
                        <a:lnTo>
                          <a:pt x="489" y="19"/>
                        </a:lnTo>
                        <a:lnTo>
                          <a:pt x="503" y="9"/>
                        </a:lnTo>
                        <a:lnTo>
                          <a:pt x="513" y="5"/>
                        </a:lnTo>
                        <a:lnTo>
                          <a:pt x="527" y="0"/>
                        </a:lnTo>
                        <a:lnTo>
                          <a:pt x="551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" bIns="3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3" name=""/>
                  <p:cNvSpPr/>
                  <p:nvPr/>
                </p:nvSpPr>
                <p:spPr>
                  <a:xfrm flipH="1">
                    <a:off x="4426200" y="4579560"/>
                    <a:ext cx="6804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403" h="239">
                        <a:moveTo>
                          <a:pt x="403" y="0"/>
                        </a:moveTo>
                        <a:lnTo>
                          <a:pt x="398" y="5"/>
                        </a:lnTo>
                        <a:lnTo>
                          <a:pt x="393" y="14"/>
                        </a:lnTo>
                        <a:lnTo>
                          <a:pt x="393" y="24"/>
                        </a:lnTo>
                        <a:lnTo>
                          <a:pt x="389" y="33"/>
                        </a:lnTo>
                        <a:lnTo>
                          <a:pt x="384" y="43"/>
                        </a:lnTo>
                        <a:lnTo>
                          <a:pt x="379" y="53"/>
                        </a:lnTo>
                        <a:lnTo>
                          <a:pt x="379" y="62"/>
                        </a:lnTo>
                        <a:lnTo>
                          <a:pt x="374" y="72"/>
                        </a:lnTo>
                        <a:lnTo>
                          <a:pt x="369" y="81"/>
                        </a:lnTo>
                        <a:lnTo>
                          <a:pt x="365" y="91"/>
                        </a:lnTo>
                        <a:lnTo>
                          <a:pt x="360" y="96"/>
                        </a:lnTo>
                        <a:lnTo>
                          <a:pt x="355" y="105"/>
                        </a:lnTo>
                        <a:lnTo>
                          <a:pt x="350" y="115"/>
                        </a:lnTo>
                        <a:lnTo>
                          <a:pt x="345" y="124"/>
                        </a:lnTo>
                        <a:lnTo>
                          <a:pt x="341" y="134"/>
                        </a:lnTo>
                        <a:lnTo>
                          <a:pt x="336" y="144"/>
                        </a:lnTo>
                        <a:lnTo>
                          <a:pt x="326" y="148"/>
                        </a:lnTo>
                        <a:lnTo>
                          <a:pt x="321" y="158"/>
                        </a:lnTo>
                        <a:lnTo>
                          <a:pt x="317" y="168"/>
                        </a:lnTo>
                        <a:lnTo>
                          <a:pt x="307" y="172"/>
                        </a:lnTo>
                        <a:lnTo>
                          <a:pt x="302" y="182"/>
                        </a:lnTo>
                        <a:lnTo>
                          <a:pt x="293" y="187"/>
                        </a:lnTo>
                        <a:lnTo>
                          <a:pt x="288" y="191"/>
                        </a:lnTo>
                        <a:lnTo>
                          <a:pt x="278" y="201"/>
                        </a:lnTo>
                        <a:lnTo>
                          <a:pt x="273" y="206"/>
                        </a:lnTo>
                        <a:lnTo>
                          <a:pt x="264" y="211"/>
                        </a:lnTo>
                        <a:lnTo>
                          <a:pt x="254" y="215"/>
                        </a:lnTo>
                        <a:lnTo>
                          <a:pt x="245" y="220"/>
                        </a:lnTo>
                        <a:lnTo>
                          <a:pt x="235" y="225"/>
                        </a:lnTo>
                        <a:lnTo>
                          <a:pt x="225" y="230"/>
                        </a:lnTo>
                        <a:lnTo>
                          <a:pt x="216" y="235"/>
                        </a:lnTo>
                        <a:lnTo>
                          <a:pt x="206" y="239"/>
                        </a:lnTo>
                        <a:lnTo>
                          <a:pt x="202" y="235"/>
                        </a:lnTo>
                        <a:lnTo>
                          <a:pt x="192" y="235"/>
                        </a:lnTo>
                        <a:lnTo>
                          <a:pt x="187" y="235"/>
                        </a:lnTo>
                        <a:lnTo>
                          <a:pt x="178" y="230"/>
                        </a:lnTo>
                        <a:lnTo>
                          <a:pt x="173" y="230"/>
                        </a:lnTo>
                        <a:lnTo>
                          <a:pt x="163" y="225"/>
                        </a:lnTo>
                        <a:lnTo>
                          <a:pt x="158" y="225"/>
                        </a:lnTo>
                        <a:lnTo>
                          <a:pt x="149" y="220"/>
                        </a:lnTo>
                        <a:lnTo>
                          <a:pt x="144" y="220"/>
                        </a:lnTo>
                        <a:lnTo>
                          <a:pt x="134" y="215"/>
                        </a:lnTo>
                        <a:lnTo>
                          <a:pt x="130" y="215"/>
                        </a:lnTo>
                        <a:lnTo>
                          <a:pt x="125" y="211"/>
                        </a:lnTo>
                        <a:lnTo>
                          <a:pt x="115" y="211"/>
                        </a:lnTo>
                        <a:lnTo>
                          <a:pt x="110" y="206"/>
                        </a:lnTo>
                        <a:lnTo>
                          <a:pt x="101" y="201"/>
                        </a:lnTo>
                        <a:lnTo>
                          <a:pt x="96" y="196"/>
                        </a:lnTo>
                        <a:lnTo>
                          <a:pt x="91" y="196"/>
                        </a:lnTo>
                        <a:lnTo>
                          <a:pt x="82" y="191"/>
                        </a:lnTo>
                        <a:lnTo>
                          <a:pt x="77" y="187"/>
                        </a:lnTo>
                        <a:lnTo>
                          <a:pt x="72" y="182"/>
                        </a:lnTo>
                        <a:lnTo>
                          <a:pt x="62" y="177"/>
                        </a:lnTo>
                        <a:lnTo>
                          <a:pt x="58" y="177"/>
                        </a:lnTo>
                        <a:lnTo>
                          <a:pt x="53" y="172"/>
                        </a:lnTo>
                        <a:lnTo>
                          <a:pt x="48" y="168"/>
                        </a:lnTo>
                        <a:lnTo>
                          <a:pt x="38" y="163"/>
                        </a:lnTo>
                        <a:lnTo>
                          <a:pt x="34" y="158"/>
                        </a:lnTo>
                        <a:lnTo>
                          <a:pt x="29" y="153"/>
                        </a:lnTo>
                        <a:lnTo>
                          <a:pt x="24" y="148"/>
                        </a:lnTo>
                        <a:lnTo>
                          <a:pt x="14" y="144"/>
                        </a:lnTo>
                        <a:lnTo>
                          <a:pt x="10" y="139"/>
                        </a:lnTo>
                        <a:lnTo>
                          <a:pt x="5" y="134"/>
                        </a:lnTo>
                        <a:lnTo>
                          <a:pt x="0" y="124"/>
                        </a:lnTo>
                        <a:lnTo>
                          <a:pt x="14" y="124"/>
                        </a:lnTo>
                        <a:lnTo>
                          <a:pt x="24" y="120"/>
                        </a:lnTo>
                        <a:lnTo>
                          <a:pt x="38" y="120"/>
                        </a:lnTo>
                        <a:lnTo>
                          <a:pt x="53" y="115"/>
                        </a:lnTo>
                        <a:lnTo>
                          <a:pt x="62" y="110"/>
                        </a:lnTo>
                        <a:lnTo>
                          <a:pt x="77" y="110"/>
                        </a:lnTo>
                        <a:lnTo>
                          <a:pt x="91" y="105"/>
                        </a:lnTo>
                        <a:lnTo>
                          <a:pt x="101" y="100"/>
                        </a:lnTo>
                        <a:lnTo>
                          <a:pt x="115" y="96"/>
                        </a:lnTo>
                        <a:lnTo>
                          <a:pt x="130" y="96"/>
                        </a:lnTo>
                        <a:lnTo>
                          <a:pt x="139" y="91"/>
                        </a:lnTo>
                        <a:lnTo>
                          <a:pt x="154" y="86"/>
                        </a:lnTo>
                        <a:lnTo>
                          <a:pt x="168" y="81"/>
                        </a:lnTo>
                        <a:lnTo>
                          <a:pt x="178" y="81"/>
                        </a:lnTo>
                        <a:lnTo>
                          <a:pt x="192" y="77"/>
                        </a:lnTo>
                        <a:lnTo>
                          <a:pt x="202" y="72"/>
                        </a:lnTo>
                        <a:lnTo>
                          <a:pt x="216" y="67"/>
                        </a:lnTo>
                        <a:lnTo>
                          <a:pt x="230" y="62"/>
                        </a:lnTo>
                        <a:lnTo>
                          <a:pt x="240" y="57"/>
                        </a:lnTo>
                        <a:lnTo>
                          <a:pt x="254" y="53"/>
                        </a:lnTo>
                        <a:lnTo>
                          <a:pt x="264" y="48"/>
                        </a:lnTo>
                        <a:lnTo>
                          <a:pt x="278" y="43"/>
                        </a:lnTo>
                        <a:lnTo>
                          <a:pt x="293" y="43"/>
                        </a:lnTo>
                        <a:lnTo>
                          <a:pt x="302" y="38"/>
                        </a:lnTo>
                        <a:lnTo>
                          <a:pt x="317" y="33"/>
                        </a:lnTo>
                        <a:lnTo>
                          <a:pt x="326" y="29"/>
                        </a:lnTo>
                        <a:lnTo>
                          <a:pt x="341" y="24"/>
                        </a:lnTo>
                        <a:lnTo>
                          <a:pt x="350" y="19"/>
                        </a:lnTo>
                        <a:lnTo>
                          <a:pt x="365" y="14"/>
                        </a:lnTo>
                        <a:lnTo>
                          <a:pt x="374" y="10"/>
                        </a:lnTo>
                        <a:lnTo>
                          <a:pt x="389" y="5"/>
                        </a:lnTo>
                        <a:lnTo>
                          <a:pt x="403" y="0"/>
                        </a:lnTo>
                        <a:close/>
                      </a:path>
                    </a:pathLst>
                  </a:custGeom>
                  <a:solidFill>
                    <a:srgbClr val="ff99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4" name=""/>
                  <p:cNvSpPr/>
                  <p:nvPr/>
                </p:nvSpPr>
                <p:spPr>
                  <a:xfrm flipH="1">
                    <a:off x="4195800" y="4593600"/>
                    <a:ext cx="436320" cy="263520"/>
                  </a:xfrm>
                  <a:custGeom>
                    <a:avLst/>
                    <a:gdLst/>
                    <a:ahLst/>
                    <a:rect l="l" t="t" r="r" b="b"/>
                    <a:pathLst>
                      <a:path w="2572" h="1609">
                        <a:moveTo>
                          <a:pt x="2058" y="110"/>
                        </a:moveTo>
                        <a:lnTo>
                          <a:pt x="2063" y="110"/>
                        </a:lnTo>
                        <a:lnTo>
                          <a:pt x="2063" y="115"/>
                        </a:lnTo>
                        <a:lnTo>
                          <a:pt x="2068" y="120"/>
                        </a:lnTo>
                        <a:lnTo>
                          <a:pt x="2073" y="125"/>
                        </a:lnTo>
                        <a:lnTo>
                          <a:pt x="2077" y="125"/>
                        </a:lnTo>
                        <a:lnTo>
                          <a:pt x="2082" y="129"/>
                        </a:lnTo>
                        <a:lnTo>
                          <a:pt x="2087" y="129"/>
                        </a:lnTo>
                        <a:lnTo>
                          <a:pt x="2092" y="134"/>
                        </a:lnTo>
                        <a:lnTo>
                          <a:pt x="2092" y="139"/>
                        </a:lnTo>
                        <a:lnTo>
                          <a:pt x="2097" y="139"/>
                        </a:lnTo>
                        <a:lnTo>
                          <a:pt x="2101" y="144"/>
                        </a:lnTo>
                        <a:lnTo>
                          <a:pt x="2106" y="144"/>
                        </a:lnTo>
                        <a:lnTo>
                          <a:pt x="2111" y="149"/>
                        </a:lnTo>
                        <a:lnTo>
                          <a:pt x="2116" y="149"/>
                        </a:lnTo>
                        <a:lnTo>
                          <a:pt x="2121" y="153"/>
                        </a:lnTo>
                        <a:lnTo>
                          <a:pt x="2125" y="153"/>
                        </a:lnTo>
                        <a:lnTo>
                          <a:pt x="2130" y="158"/>
                        </a:lnTo>
                        <a:lnTo>
                          <a:pt x="2135" y="158"/>
                        </a:lnTo>
                        <a:lnTo>
                          <a:pt x="2140" y="163"/>
                        </a:lnTo>
                        <a:lnTo>
                          <a:pt x="2145" y="163"/>
                        </a:lnTo>
                        <a:lnTo>
                          <a:pt x="2149" y="168"/>
                        </a:lnTo>
                        <a:lnTo>
                          <a:pt x="2154" y="168"/>
                        </a:lnTo>
                        <a:lnTo>
                          <a:pt x="2159" y="168"/>
                        </a:lnTo>
                        <a:lnTo>
                          <a:pt x="2164" y="173"/>
                        </a:lnTo>
                        <a:lnTo>
                          <a:pt x="2169" y="173"/>
                        </a:lnTo>
                        <a:lnTo>
                          <a:pt x="2169" y="177"/>
                        </a:lnTo>
                        <a:lnTo>
                          <a:pt x="2173" y="182"/>
                        </a:lnTo>
                        <a:lnTo>
                          <a:pt x="2178" y="182"/>
                        </a:lnTo>
                        <a:lnTo>
                          <a:pt x="2183" y="187"/>
                        </a:lnTo>
                        <a:lnTo>
                          <a:pt x="2188" y="187"/>
                        </a:lnTo>
                        <a:lnTo>
                          <a:pt x="2193" y="192"/>
                        </a:lnTo>
                        <a:lnTo>
                          <a:pt x="2197" y="196"/>
                        </a:lnTo>
                        <a:lnTo>
                          <a:pt x="2212" y="201"/>
                        </a:lnTo>
                        <a:lnTo>
                          <a:pt x="2221" y="211"/>
                        </a:lnTo>
                        <a:lnTo>
                          <a:pt x="2236" y="225"/>
                        </a:lnTo>
                        <a:lnTo>
                          <a:pt x="2245" y="235"/>
                        </a:lnTo>
                        <a:lnTo>
                          <a:pt x="2260" y="244"/>
                        </a:lnTo>
                        <a:lnTo>
                          <a:pt x="2269" y="254"/>
                        </a:lnTo>
                        <a:lnTo>
                          <a:pt x="2279" y="263"/>
                        </a:lnTo>
                        <a:lnTo>
                          <a:pt x="2289" y="278"/>
                        </a:lnTo>
                        <a:lnTo>
                          <a:pt x="2298" y="287"/>
                        </a:lnTo>
                        <a:lnTo>
                          <a:pt x="2313" y="302"/>
                        </a:lnTo>
                        <a:lnTo>
                          <a:pt x="2317" y="311"/>
                        </a:lnTo>
                        <a:lnTo>
                          <a:pt x="2327" y="326"/>
                        </a:lnTo>
                        <a:lnTo>
                          <a:pt x="2336" y="335"/>
                        </a:lnTo>
                        <a:lnTo>
                          <a:pt x="2346" y="350"/>
                        </a:lnTo>
                        <a:lnTo>
                          <a:pt x="2356" y="359"/>
                        </a:lnTo>
                        <a:lnTo>
                          <a:pt x="2365" y="374"/>
                        </a:lnTo>
                        <a:lnTo>
                          <a:pt x="2370" y="388"/>
                        </a:lnTo>
                        <a:lnTo>
                          <a:pt x="2380" y="398"/>
                        </a:lnTo>
                        <a:lnTo>
                          <a:pt x="2389" y="412"/>
                        </a:lnTo>
                        <a:lnTo>
                          <a:pt x="2394" y="426"/>
                        </a:lnTo>
                        <a:lnTo>
                          <a:pt x="2404" y="436"/>
                        </a:lnTo>
                        <a:lnTo>
                          <a:pt x="2408" y="450"/>
                        </a:lnTo>
                        <a:lnTo>
                          <a:pt x="2418" y="465"/>
                        </a:lnTo>
                        <a:lnTo>
                          <a:pt x="2428" y="479"/>
                        </a:lnTo>
                        <a:lnTo>
                          <a:pt x="2432" y="489"/>
                        </a:lnTo>
                        <a:lnTo>
                          <a:pt x="2442" y="503"/>
                        </a:lnTo>
                        <a:lnTo>
                          <a:pt x="2447" y="517"/>
                        </a:lnTo>
                        <a:lnTo>
                          <a:pt x="2456" y="532"/>
                        </a:lnTo>
                        <a:lnTo>
                          <a:pt x="2461" y="541"/>
                        </a:lnTo>
                        <a:lnTo>
                          <a:pt x="2471" y="556"/>
                        </a:lnTo>
                        <a:lnTo>
                          <a:pt x="2480" y="570"/>
                        </a:lnTo>
                        <a:lnTo>
                          <a:pt x="2485" y="584"/>
                        </a:lnTo>
                        <a:lnTo>
                          <a:pt x="2485" y="589"/>
                        </a:lnTo>
                        <a:lnTo>
                          <a:pt x="2490" y="594"/>
                        </a:lnTo>
                        <a:lnTo>
                          <a:pt x="2490" y="599"/>
                        </a:lnTo>
                        <a:lnTo>
                          <a:pt x="2495" y="603"/>
                        </a:lnTo>
                        <a:lnTo>
                          <a:pt x="2495" y="608"/>
                        </a:lnTo>
                        <a:lnTo>
                          <a:pt x="2500" y="613"/>
                        </a:lnTo>
                        <a:lnTo>
                          <a:pt x="2500" y="618"/>
                        </a:lnTo>
                        <a:lnTo>
                          <a:pt x="2504" y="623"/>
                        </a:lnTo>
                        <a:lnTo>
                          <a:pt x="2504" y="627"/>
                        </a:lnTo>
                        <a:lnTo>
                          <a:pt x="2509" y="632"/>
                        </a:lnTo>
                        <a:lnTo>
                          <a:pt x="2509" y="637"/>
                        </a:lnTo>
                        <a:lnTo>
                          <a:pt x="2514" y="642"/>
                        </a:lnTo>
                        <a:lnTo>
                          <a:pt x="2514" y="647"/>
                        </a:lnTo>
                        <a:lnTo>
                          <a:pt x="2519" y="651"/>
                        </a:lnTo>
                        <a:lnTo>
                          <a:pt x="2519" y="656"/>
                        </a:lnTo>
                        <a:lnTo>
                          <a:pt x="2524" y="661"/>
                        </a:lnTo>
                        <a:lnTo>
                          <a:pt x="2524" y="666"/>
                        </a:lnTo>
                        <a:lnTo>
                          <a:pt x="2524" y="670"/>
                        </a:lnTo>
                        <a:lnTo>
                          <a:pt x="2528" y="675"/>
                        </a:lnTo>
                        <a:lnTo>
                          <a:pt x="2528" y="680"/>
                        </a:lnTo>
                        <a:lnTo>
                          <a:pt x="2533" y="685"/>
                        </a:lnTo>
                        <a:lnTo>
                          <a:pt x="2533" y="690"/>
                        </a:lnTo>
                        <a:lnTo>
                          <a:pt x="2538" y="694"/>
                        </a:lnTo>
                        <a:lnTo>
                          <a:pt x="2538" y="699"/>
                        </a:lnTo>
                        <a:lnTo>
                          <a:pt x="2543" y="704"/>
                        </a:lnTo>
                        <a:lnTo>
                          <a:pt x="2543" y="709"/>
                        </a:lnTo>
                        <a:lnTo>
                          <a:pt x="2543" y="714"/>
                        </a:lnTo>
                        <a:lnTo>
                          <a:pt x="2548" y="718"/>
                        </a:lnTo>
                        <a:lnTo>
                          <a:pt x="2548" y="723"/>
                        </a:lnTo>
                        <a:lnTo>
                          <a:pt x="2548" y="728"/>
                        </a:lnTo>
                        <a:lnTo>
                          <a:pt x="2552" y="738"/>
                        </a:lnTo>
                        <a:lnTo>
                          <a:pt x="2557" y="747"/>
                        </a:lnTo>
                        <a:lnTo>
                          <a:pt x="2557" y="752"/>
                        </a:lnTo>
                        <a:lnTo>
                          <a:pt x="2562" y="761"/>
                        </a:lnTo>
                        <a:lnTo>
                          <a:pt x="2562" y="771"/>
                        </a:lnTo>
                        <a:lnTo>
                          <a:pt x="2567" y="776"/>
                        </a:lnTo>
                        <a:lnTo>
                          <a:pt x="2567" y="785"/>
                        </a:lnTo>
                        <a:lnTo>
                          <a:pt x="2567" y="795"/>
                        </a:lnTo>
                        <a:lnTo>
                          <a:pt x="2572" y="805"/>
                        </a:lnTo>
                        <a:lnTo>
                          <a:pt x="2572" y="809"/>
                        </a:lnTo>
                        <a:lnTo>
                          <a:pt x="2572" y="819"/>
                        </a:lnTo>
                        <a:lnTo>
                          <a:pt x="2572" y="828"/>
                        </a:lnTo>
                        <a:lnTo>
                          <a:pt x="2572" y="838"/>
                        </a:lnTo>
                        <a:lnTo>
                          <a:pt x="2572" y="843"/>
                        </a:lnTo>
                        <a:lnTo>
                          <a:pt x="2572" y="852"/>
                        </a:lnTo>
                        <a:lnTo>
                          <a:pt x="2572" y="862"/>
                        </a:lnTo>
                        <a:lnTo>
                          <a:pt x="2572" y="872"/>
                        </a:lnTo>
                        <a:lnTo>
                          <a:pt x="2572" y="876"/>
                        </a:lnTo>
                        <a:lnTo>
                          <a:pt x="2572" y="886"/>
                        </a:lnTo>
                        <a:lnTo>
                          <a:pt x="2572" y="896"/>
                        </a:lnTo>
                        <a:lnTo>
                          <a:pt x="2572" y="905"/>
                        </a:lnTo>
                        <a:lnTo>
                          <a:pt x="2567" y="915"/>
                        </a:lnTo>
                        <a:lnTo>
                          <a:pt x="2567" y="919"/>
                        </a:lnTo>
                        <a:lnTo>
                          <a:pt x="2567" y="929"/>
                        </a:lnTo>
                        <a:lnTo>
                          <a:pt x="2562" y="939"/>
                        </a:lnTo>
                        <a:lnTo>
                          <a:pt x="2562" y="948"/>
                        </a:lnTo>
                        <a:lnTo>
                          <a:pt x="2557" y="953"/>
                        </a:lnTo>
                        <a:lnTo>
                          <a:pt x="2557" y="963"/>
                        </a:lnTo>
                        <a:lnTo>
                          <a:pt x="2552" y="972"/>
                        </a:lnTo>
                        <a:lnTo>
                          <a:pt x="2548" y="982"/>
                        </a:lnTo>
                        <a:lnTo>
                          <a:pt x="2548" y="987"/>
                        </a:lnTo>
                        <a:lnTo>
                          <a:pt x="2543" y="996"/>
                        </a:lnTo>
                        <a:lnTo>
                          <a:pt x="2538" y="1006"/>
                        </a:lnTo>
                        <a:lnTo>
                          <a:pt x="2538" y="1010"/>
                        </a:lnTo>
                        <a:lnTo>
                          <a:pt x="2533" y="1020"/>
                        </a:lnTo>
                        <a:lnTo>
                          <a:pt x="2528" y="1030"/>
                        </a:lnTo>
                        <a:lnTo>
                          <a:pt x="2524" y="1034"/>
                        </a:lnTo>
                        <a:lnTo>
                          <a:pt x="2514" y="1044"/>
                        </a:lnTo>
                        <a:lnTo>
                          <a:pt x="2509" y="1049"/>
                        </a:lnTo>
                        <a:lnTo>
                          <a:pt x="2504" y="1054"/>
                        </a:lnTo>
                        <a:lnTo>
                          <a:pt x="2500" y="1063"/>
                        </a:lnTo>
                        <a:lnTo>
                          <a:pt x="2495" y="1068"/>
                        </a:lnTo>
                        <a:lnTo>
                          <a:pt x="2485" y="1073"/>
                        </a:lnTo>
                        <a:lnTo>
                          <a:pt x="2480" y="1082"/>
                        </a:lnTo>
                        <a:lnTo>
                          <a:pt x="2476" y="1087"/>
                        </a:lnTo>
                        <a:lnTo>
                          <a:pt x="2466" y="1092"/>
                        </a:lnTo>
                        <a:lnTo>
                          <a:pt x="2461" y="1097"/>
                        </a:lnTo>
                        <a:lnTo>
                          <a:pt x="2452" y="1101"/>
                        </a:lnTo>
                        <a:lnTo>
                          <a:pt x="2447" y="1106"/>
                        </a:lnTo>
                        <a:lnTo>
                          <a:pt x="2437" y="1111"/>
                        </a:lnTo>
                        <a:lnTo>
                          <a:pt x="2432" y="1116"/>
                        </a:lnTo>
                        <a:lnTo>
                          <a:pt x="2423" y="1121"/>
                        </a:lnTo>
                        <a:lnTo>
                          <a:pt x="2418" y="1125"/>
                        </a:lnTo>
                        <a:lnTo>
                          <a:pt x="2408" y="1130"/>
                        </a:lnTo>
                        <a:lnTo>
                          <a:pt x="2399" y="1135"/>
                        </a:lnTo>
                        <a:lnTo>
                          <a:pt x="2394" y="1140"/>
                        </a:lnTo>
                        <a:lnTo>
                          <a:pt x="2384" y="1145"/>
                        </a:lnTo>
                        <a:lnTo>
                          <a:pt x="2375" y="1149"/>
                        </a:lnTo>
                        <a:lnTo>
                          <a:pt x="2370" y="1154"/>
                        </a:lnTo>
                        <a:lnTo>
                          <a:pt x="2360" y="1159"/>
                        </a:lnTo>
                        <a:lnTo>
                          <a:pt x="2356" y="1159"/>
                        </a:lnTo>
                        <a:lnTo>
                          <a:pt x="2346" y="1164"/>
                        </a:lnTo>
                        <a:lnTo>
                          <a:pt x="2336" y="1168"/>
                        </a:lnTo>
                        <a:lnTo>
                          <a:pt x="2332" y="1173"/>
                        </a:lnTo>
                        <a:lnTo>
                          <a:pt x="2327" y="1173"/>
                        </a:lnTo>
                        <a:lnTo>
                          <a:pt x="2322" y="1173"/>
                        </a:lnTo>
                        <a:lnTo>
                          <a:pt x="2317" y="1178"/>
                        </a:lnTo>
                        <a:lnTo>
                          <a:pt x="2313" y="1178"/>
                        </a:lnTo>
                        <a:lnTo>
                          <a:pt x="2308" y="1178"/>
                        </a:lnTo>
                        <a:lnTo>
                          <a:pt x="2308" y="1183"/>
                        </a:lnTo>
                        <a:lnTo>
                          <a:pt x="2303" y="1183"/>
                        </a:lnTo>
                        <a:lnTo>
                          <a:pt x="2298" y="1183"/>
                        </a:lnTo>
                        <a:lnTo>
                          <a:pt x="2293" y="1188"/>
                        </a:lnTo>
                        <a:lnTo>
                          <a:pt x="2289" y="1188"/>
                        </a:lnTo>
                        <a:lnTo>
                          <a:pt x="2289" y="1192"/>
                        </a:lnTo>
                        <a:lnTo>
                          <a:pt x="2284" y="1192"/>
                        </a:lnTo>
                        <a:lnTo>
                          <a:pt x="2279" y="1192"/>
                        </a:lnTo>
                        <a:lnTo>
                          <a:pt x="2274" y="1197"/>
                        </a:lnTo>
                        <a:lnTo>
                          <a:pt x="2269" y="1197"/>
                        </a:lnTo>
                        <a:lnTo>
                          <a:pt x="2265" y="1202"/>
                        </a:lnTo>
                        <a:lnTo>
                          <a:pt x="2260" y="1202"/>
                        </a:lnTo>
                        <a:lnTo>
                          <a:pt x="2250" y="1202"/>
                        </a:lnTo>
                        <a:lnTo>
                          <a:pt x="2236" y="1207"/>
                        </a:lnTo>
                        <a:lnTo>
                          <a:pt x="2226" y="1212"/>
                        </a:lnTo>
                        <a:lnTo>
                          <a:pt x="2217" y="1212"/>
                        </a:lnTo>
                        <a:lnTo>
                          <a:pt x="2202" y="1216"/>
                        </a:lnTo>
                        <a:lnTo>
                          <a:pt x="2193" y="1216"/>
                        </a:lnTo>
                        <a:lnTo>
                          <a:pt x="2178" y="1221"/>
                        </a:lnTo>
                        <a:lnTo>
                          <a:pt x="2169" y="1221"/>
                        </a:lnTo>
                        <a:lnTo>
                          <a:pt x="2159" y="1226"/>
                        </a:lnTo>
                        <a:lnTo>
                          <a:pt x="2145" y="1231"/>
                        </a:lnTo>
                        <a:lnTo>
                          <a:pt x="2135" y="1231"/>
                        </a:lnTo>
                        <a:lnTo>
                          <a:pt x="2121" y="1236"/>
                        </a:lnTo>
                        <a:lnTo>
                          <a:pt x="2111" y="1236"/>
                        </a:lnTo>
                        <a:lnTo>
                          <a:pt x="2101" y="1240"/>
                        </a:lnTo>
                        <a:lnTo>
                          <a:pt x="2087" y="1240"/>
                        </a:lnTo>
                        <a:lnTo>
                          <a:pt x="2077" y="1245"/>
                        </a:lnTo>
                        <a:lnTo>
                          <a:pt x="2063" y="1250"/>
                        </a:lnTo>
                        <a:lnTo>
                          <a:pt x="2053" y="1250"/>
                        </a:lnTo>
                        <a:lnTo>
                          <a:pt x="2039" y="1255"/>
                        </a:lnTo>
                        <a:lnTo>
                          <a:pt x="2029" y="1255"/>
                        </a:lnTo>
                        <a:lnTo>
                          <a:pt x="2015" y="1259"/>
                        </a:lnTo>
                        <a:lnTo>
                          <a:pt x="2006" y="1259"/>
                        </a:lnTo>
                        <a:lnTo>
                          <a:pt x="1996" y="1264"/>
                        </a:lnTo>
                        <a:lnTo>
                          <a:pt x="1982" y="1264"/>
                        </a:lnTo>
                        <a:lnTo>
                          <a:pt x="1972" y="1269"/>
                        </a:lnTo>
                        <a:lnTo>
                          <a:pt x="1958" y="1269"/>
                        </a:lnTo>
                        <a:lnTo>
                          <a:pt x="1948" y="1269"/>
                        </a:lnTo>
                        <a:lnTo>
                          <a:pt x="1934" y="1274"/>
                        </a:lnTo>
                        <a:lnTo>
                          <a:pt x="1924" y="1274"/>
                        </a:lnTo>
                        <a:lnTo>
                          <a:pt x="1910" y="1274"/>
                        </a:lnTo>
                        <a:lnTo>
                          <a:pt x="1900" y="1279"/>
                        </a:lnTo>
                        <a:lnTo>
                          <a:pt x="1886" y="1279"/>
                        </a:lnTo>
                        <a:lnTo>
                          <a:pt x="1881" y="1279"/>
                        </a:lnTo>
                        <a:lnTo>
                          <a:pt x="1871" y="1279"/>
                        </a:lnTo>
                        <a:lnTo>
                          <a:pt x="1866" y="1283"/>
                        </a:lnTo>
                        <a:lnTo>
                          <a:pt x="1857" y="1283"/>
                        </a:lnTo>
                        <a:lnTo>
                          <a:pt x="1852" y="1283"/>
                        </a:lnTo>
                        <a:lnTo>
                          <a:pt x="1842" y="1283"/>
                        </a:lnTo>
                        <a:lnTo>
                          <a:pt x="1838" y="1283"/>
                        </a:lnTo>
                        <a:lnTo>
                          <a:pt x="1828" y="1283"/>
                        </a:lnTo>
                        <a:lnTo>
                          <a:pt x="1823" y="1283"/>
                        </a:lnTo>
                        <a:lnTo>
                          <a:pt x="1814" y="1283"/>
                        </a:lnTo>
                        <a:lnTo>
                          <a:pt x="1809" y="1283"/>
                        </a:lnTo>
                        <a:lnTo>
                          <a:pt x="1799" y="1283"/>
                        </a:lnTo>
                        <a:lnTo>
                          <a:pt x="1794" y="1283"/>
                        </a:lnTo>
                        <a:lnTo>
                          <a:pt x="1785" y="1283"/>
                        </a:lnTo>
                        <a:lnTo>
                          <a:pt x="1780" y="1283"/>
                        </a:lnTo>
                        <a:lnTo>
                          <a:pt x="1770" y="1283"/>
                        </a:lnTo>
                        <a:lnTo>
                          <a:pt x="1761" y="1283"/>
                        </a:lnTo>
                        <a:lnTo>
                          <a:pt x="1756" y="1283"/>
                        </a:lnTo>
                        <a:lnTo>
                          <a:pt x="1746" y="1283"/>
                        </a:lnTo>
                        <a:lnTo>
                          <a:pt x="1742" y="1283"/>
                        </a:lnTo>
                        <a:lnTo>
                          <a:pt x="1732" y="1283"/>
                        </a:lnTo>
                        <a:lnTo>
                          <a:pt x="1727" y="1283"/>
                        </a:lnTo>
                        <a:lnTo>
                          <a:pt x="1718" y="1283"/>
                        </a:lnTo>
                        <a:lnTo>
                          <a:pt x="1708" y="1283"/>
                        </a:lnTo>
                        <a:lnTo>
                          <a:pt x="1703" y="1283"/>
                        </a:lnTo>
                        <a:lnTo>
                          <a:pt x="1694" y="1283"/>
                        </a:lnTo>
                        <a:lnTo>
                          <a:pt x="1689" y="1283"/>
                        </a:lnTo>
                        <a:lnTo>
                          <a:pt x="1679" y="1283"/>
                        </a:lnTo>
                        <a:lnTo>
                          <a:pt x="1675" y="1279"/>
                        </a:lnTo>
                        <a:lnTo>
                          <a:pt x="1665" y="1279"/>
                        </a:lnTo>
                        <a:lnTo>
                          <a:pt x="1660" y="1279"/>
                        </a:lnTo>
                        <a:lnTo>
                          <a:pt x="1651" y="1279"/>
                        </a:lnTo>
                        <a:lnTo>
                          <a:pt x="1646" y="1279"/>
                        </a:lnTo>
                        <a:lnTo>
                          <a:pt x="1641" y="1279"/>
                        </a:lnTo>
                        <a:lnTo>
                          <a:pt x="1636" y="1279"/>
                        </a:lnTo>
                        <a:lnTo>
                          <a:pt x="1631" y="1279"/>
                        </a:lnTo>
                        <a:lnTo>
                          <a:pt x="1627" y="1279"/>
                        </a:lnTo>
                        <a:lnTo>
                          <a:pt x="1622" y="1274"/>
                        </a:lnTo>
                        <a:lnTo>
                          <a:pt x="1612" y="1274"/>
                        </a:lnTo>
                        <a:lnTo>
                          <a:pt x="1607" y="1274"/>
                        </a:lnTo>
                        <a:lnTo>
                          <a:pt x="1603" y="1274"/>
                        </a:lnTo>
                        <a:lnTo>
                          <a:pt x="1598" y="1274"/>
                        </a:lnTo>
                        <a:lnTo>
                          <a:pt x="1593" y="1274"/>
                        </a:lnTo>
                        <a:lnTo>
                          <a:pt x="1588" y="1274"/>
                        </a:lnTo>
                        <a:lnTo>
                          <a:pt x="1583" y="1269"/>
                        </a:lnTo>
                        <a:lnTo>
                          <a:pt x="1579" y="1269"/>
                        </a:lnTo>
                        <a:lnTo>
                          <a:pt x="1574" y="1269"/>
                        </a:lnTo>
                        <a:lnTo>
                          <a:pt x="1569" y="1269"/>
                        </a:lnTo>
                        <a:lnTo>
                          <a:pt x="1564" y="1269"/>
                        </a:lnTo>
                        <a:lnTo>
                          <a:pt x="1559" y="1269"/>
                        </a:lnTo>
                        <a:lnTo>
                          <a:pt x="1555" y="1269"/>
                        </a:lnTo>
                        <a:lnTo>
                          <a:pt x="1550" y="1264"/>
                        </a:lnTo>
                        <a:lnTo>
                          <a:pt x="1545" y="1264"/>
                        </a:lnTo>
                        <a:lnTo>
                          <a:pt x="1540" y="1264"/>
                        </a:lnTo>
                        <a:lnTo>
                          <a:pt x="1535" y="1264"/>
                        </a:lnTo>
                        <a:lnTo>
                          <a:pt x="1531" y="1264"/>
                        </a:lnTo>
                        <a:lnTo>
                          <a:pt x="1526" y="1264"/>
                        </a:lnTo>
                        <a:lnTo>
                          <a:pt x="1521" y="1264"/>
                        </a:lnTo>
                        <a:lnTo>
                          <a:pt x="1516" y="1264"/>
                        </a:lnTo>
                        <a:lnTo>
                          <a:pt x="1507" y="1264"/>
                        </a:lnTo>
                        <a:lnTo>
                          <a:pt x="1502" y="1264"/>
                        </a:lnTo>
                        <a:lnTo>
                          <a:pt x="1497" y="1264"/>
                        </a:lnTo>
                        <a:lnTo>
                          <a:pt x="1492" y="1264"/>
                        </a:lnTo>
                        <a:lnTo>
                          <a:pt x="1487" y="1264"/>
                        </a:lnTo>
                        <a:lnTo>
                          <a:pt x="1483" y="1264"/>
                        </a:lnTo>
                        <a:lnTo>
                          <a:pt x="1483" y="1259"/>
                        </a:lnTo>
                        <a:lnTo>
                          <a:pt x="1478" y="1259"/>
                        </a:lnTo>
                        <a:lnTo>
                          <a:pt x="1473" y="1259"/>
                        </a:lnTo>
                        <a:lnTo>
                          <a:pt x="1468" y="1259"/>
                        </a:lnTo>
                        <a:lnTo>
                          <a:pt x="1463" y="1259"/>
                        </a:lnTo>
                        <a:lnTo>
                          <a:pt x="1463" y="1255"/>
                        </a:lnTo>
                        <a:lnTo>
                          <a:pt x="1459" y="1255"/>
                        </a:lnTo>
                        <a:lnTo>
                          <a:pt x="1454" y="1255"/>
                        </a:lnTo>
                        <a:lnTo>
                          <a:pt x="1449" y="1250"/>
                        </a:lnTo>
                        <a:lnTo>
                          <a:pt x="1444" y="1250"/>
                        </a:lnTo>
                        <a:lnTo>
                          <a:pt x="1439" y="1245"/>
                        </a:lnTo>
                        <a:lnTo>
                          <a:pt x="1435" y="1245"/>
                        </a:lnTo>
                        <a:lnTo>
                          <a:pt x="1435" y="1240"/>
                        </a:lnTo>
                        <a:lnTo>
                          <a:pt x="1430" y="1240"/>
                        </a:lnTo>
                        <a:lnTo>
                          <a:pt x="1430" y="1236"/>
                        </a:lnTo>
                        <a:lnTo>
                          <a:pt x="1425" y="1231"/>
                        </a:lnTo>
                        <a:lnTo>
                          <a:pt x="1425" y="1226"/>
                        </a:lnTo>
                        <a:lnTo>
                          <a:pt x="1425" y="1221"/>
                        </a:lnTo>
                        <a:lnTo>
                          <a:pt x="1420" y="1221"/>
                        </a:lnTo>
                        <a:lnTo>
                          <a:pt x="1420" y="1216"/>
                        </a:lnTo>
                        <a:lnTo>
                          <a:pt x="1420" y="1212"/>
                        </a:lnTo>
                        <a:lnTo>
                          <a:pt x="1415" y="1212"/>
                        </a:lnTo>
                        <a:lnTo>
                          <a:pt x="1415" y="1207"/>
                        </a:lnTo>
                        <a:lnTo>
                          <a:pt x="1411" y="1202"/>
                        </a:lnTo>
                        <a:lnTo>
                          <a:pt x="1411" y="1197"/>
                        </a:lnTo>
                        <a:lnTo>
                          <a:pt x="1406" y="1192"/>
                        </a:lnTo>
                        <a:lnTo>
                          <a:pt x="1406" y="1188"/>
                        </a:lnTo>
                        <a:lnTo>
                          <a:pt x="1406" y="1183"/>
                        </a:lnTo>
                        <a:lnTo>
                          <a:pt x="1401" y="1183"/>
                        </a:lnTo>
                        <a:lnTo>
                          <a:pt x="1401" y="1178"/>
                        </a:lnTo>
                        <a:lnTo>
                          <a:pt x="1401" y="1173"/>
                        </a:lnTo>
                        <a:lnTo>
                          <a:pt x="1401" y="1168"/>
                        </a:lnTo>
                        <a:lnTo>
                          <a:pt x="1401" y="1164"/>
                        </a:lnTo>
                        <a:lnTo>
                          <a:pt x="1401" y="1159"/>
                        </a:lnTo>
                        <a:lnTo>
                          <a:pt x="1396" y="1159"/>
                        </a:lnTo>
                        <a:lnTo>
                          <a:pt x="1396" y="1154"/>
                        </a:lnTo>
                        <a:lnTo>
                          <a:pt x="1396" y="1149"/>
                        </a:lnTo>
                        <a:lnTo>
                          <a:pt x="1396" y="1145"/>
                        </a:lnTo>
                        <a:lnTo>
                          <a:pt x="1396" y="1140"/>
                        </a:lnTo>
                        <a:lnTo>
                          <a:pt x="1391" y="1135"/>
                        </a:lnTo>
                        <a:lnTo>
                          <a:pt x="1391" y="1130"/>
                        </a:lnTo>
                        <a:lnTo>
                          <a:pt x="1391" y="1125"/>
                        </a:lnTo>
                        <a:lnTo>
                          <a:pt x="1387" y="1121"/>
                        </a:lnTo>
                        <a:lnTo>
                          <a:pt x="1387" y="1116"/>
                        </a:lnTo>
                        <a:lnTo>
                          <a:pt x="1387" y="1111"/>
                        </a:lnTo>
                        <a:lnTo>
                          <a:pt x="1387" y="1106"/>
                        </a:lnTo>
                        <a:lnTo>
                          <a:pt x="1387" y="1101"/>
                        </a:lnTo>
                        <a:lnTo>
                          <a:pt x="1387" y="1097"/>
                        </a:lnTo>
                        <a:lnTo>
                          <a:pt x="1387" y="1092"/>
                        </a:lnTo>
                        <a:lnTo>
                          <a:pt x="1387" y="1087"/>
                        </a:lnTo>
                        <a:lnTo>
                          <a:pt x="1387" y="1082"/>
                        </a:lnTo>
                        <a:lnTo>
                          <a:pt x="1387" y="1077"/>
                        </a:lnTo>
                        <a:lnTo>
                          <a:pt x="1387" y="1073"/>
                        </a:lnTo>
                        <a:lnTo>
                          <a:pt x="1387" y="1068"/>
                        </a:lnTo>
                        <a:lnTo>
                          <a:pt x="1387" y="1063"/>
                        </a:lnTo>
                        <a:lnTo>
                          <a:pt x="1387" y="1058"/>
                        </a:lnTo>
                        <a:lnTo>
                          <a:pt x="1387" y="1054"/>
                        </a:lnTo>
                        <a:lnTo>
                          <a:pt x="1387" y="1049"/>
                        </a:lnTo>
                        <a:lnTo>
                          <a:pt x="1387" y="1044"/>
                        </a:lnTo>
                        <a:lnTo>
                          <a:pt x="1387" y="1039"/>
                        </a:lnTo>
                        <a:lnTo>
                          <a:pt x="1387" y="1034"/>
                        </a:lnTo>
                        <a:lnTo>
                          <a:pt x="1391" y="1034"/>
                        </a:lnTo>
                        <a:lnTo>
                          <a:pt x="1391" y="1030"/>
                        </a:lnTo>
                        <a:lnTo>
                          <a:pt x="1391" y="1025"/>
                        </a:lnTo>
                        <a:lnTo>
                          <a:pt x="1391" y="1020"/>
                        </a:lnTo>
                        <a:lnTo>
                          <a:pt x="1391" y="1015"/>
                        </a:lnTo>
                        <a:lnTo>
                          <a:pt x="1391" y="1010"/>
                        </a:lnTo>
                        <a:lnTo>
                          <a:pt x="1396" y="1010"/>
                        </a:lnTo>
                        <a:lnTo>
                          <a:pt x="1396" y="1006"/>
                        </a:lnTo>
                        <a:lnTo>
                          <a:pt x="1396" y="1001"/>
                        </a:lnTo>
                        <a:lnTo>
                          <a:pt x="1396" y="996"/>
                        </a:lnTo>
                        <a:lnTo>
                          <a:pt x="1396" y="991"/>
                        </a:lnTo>
                        <a:lnTo>
                          <a:pt x="1396" y="987"/>
                        </a:lnTo>
                        <a:lnTo>
                          <a:pt x="1396" y="982"/>
                        </a:lnTo>
                        <a:lnTo>
                          <a:pt x="1396" y="977"/>
                        </a:lnTo>
                        <a:lnTo>
                          <a:pt x="1401" y="972"/>
                        </a:lnTo>
                        <a:lnTo>
                          <a:pt x="1401" y="967"/>
                        </a:lnTo>
                        <a:lnTo>
                          <a:pt x="1401" y="963"/>
                        </a:lnTo>
                        <a:lnTo>
                          <a:pt x="1401" y="958"/>
                        </a:lnTo>
                        <a:lnTo>
                          <a:pt x="1401" y="953"/>
                        </a:lnTo>
                        <a:lnTo>
                          <a:pt x="1406" y="948"/>
                        </a:lnTo>
                        <a:lnTo>
                          <a:pt x="1406" y="943"/>
                        </a:lnTo>
                        <a:lnTo>
                          <a:pt x="1406" y="939"/>
                        </a:lnTo>
                        <a:lnTo>
                          <a:pt x="1411" y="934"/>
                        </a:lnTo>
                        <a:lnTo>
                          <a:pt x="1411" y="929"/>
                        </a:lnTo>
                        <a:lnTo>
                          <a:pt x="1415" y="924"/>
                        </a:lnTo>
                        <a:lnTo>
                          <a:pt x="1415" y="919"/>
                        </a:lnTo>
                        <a:lnTo>
                          <a:pt x="1415" y="915"/>
                        </a:lnTo>
                        <a:lnTo>
                          <a:pt x="1420" y="910"/>
                        </a:lnTo>
                        <a:lnTo>
                          <a:pt x="1425" y="905"/>
                        </a:lnTo>
                        <a:lnTo>
                          <a:pt x="1430" y="900"/>
                        </a:lnTo>
                        <a:lnTo>
                          <a:pt x="1430" y="896"/>
                        </a:lnTo>
                        <a:lnTo>
                          <a:pt x="1435" y="891"/>
                        </a:lnTo>
                        <a:lnTo>
                          <a:pt x="1435" y="886"/>
                        </a:lnTo>
                        <a:lnTo>
                          <a:pt x="1439" y="886"/>
                        </a:lnTo>
                        <a:lnTo>
                          <a:pt x="1444" y="881"/>
                        </a:lnTo>
                        <a:lnTo>
                          <a:pt x="1444" y="876"/>
                        </a:lnTo>
                        <a:lnTo>
                          <a:pt x="1449" y="872"/>
                        </a:lnTo>
                        <a:lnTo>
                          <a:pt x="1454" y="872"/>
                        </a:lnTo>
                        <a:lnTo>
                          <a:pt x="1459" y="867"/>
                        </a:lnTo>
                        <a:lnTo>
                          <a:pt x="1473" y="872"/>
                        </a:lnTo>
                        <a:lnTo>
                          <a:pt x="1487" y="872"/>
                        </a:lnTo>
                        <a:lnTo>
                          <a:pt x="1502" y="876"/>
                        </a:lnTo>
                        <a:lnTo>
                          <a:pt x="1516" y="876"/>
                        </a:lnTo>
                        <a:lnTo>
                          <a:pt x="1531" y="881"/>
                        </a:lnTo>
                        <a:lnTo>
                          <a:pt x="1550" y="881"/>
                        </a:lnTo>
                        <a:lnTo>
                          <a:pt x="1564" y="886"/>
                        </a:lnTo>
                        <a:lnTo>
                          <a:pt x="1579" y="886"/>
                        </a:lnTo>
                        <a:lnTo>
                          <a:pt x="1593" y="886"/>
                        </a:lnTo>
                        <a:lnTo>
                          <a:pt x="1607" y="886"/>
                        </a:lnTo>
                        <a:lnTo>
                          <a:pt x="1622" y="886"/>
                        </a:lnTo>
                        <a:lnTo>
                          <a:pt x="1636" y="886"/>
                        </a:lnTo>
                        <a:lnTo>
                          <a:pt x="1651" y="891"/>
                        </a:lnTo>
                        <a:lnTo>
                          <a:pt x="1665" y="891"/>
                        </a:lnTo>
                        <a:lnTo>
                          <a:pt x="1679" y="891"/>
                        </a:lnTo>
                        <a:lnTo>
                          <a:pt x="1689" y="891"/>
                        </a:lnTo>
                        <a:lnTo>
                          <a:pt x="1703" y="891"/>
                        </a:lnTo>
                        <a:lnTo>
                          <a:pt x="1718" y="886"/>
                        </a:lnTo>
                        <a:lnTo>
                          <a:pt x="1732" y="886"/>
                        </a:lnTo>
                        <a:lnTo>
                          <a:pt x="1746" y="886"/>
                        </a:lnTo>
                        <a:lnTo>
                          <a:pt x="1761" y="886"/>
                        </a:lnTo>
                        <a:lnTo>
                          <a:pt x="1775" y="886"/>
                        </a:lnTo>
                        <a:lnTo>
                          <a:pt x="1790" y="886"/>
                        </a:lnTo>
                        <a:lnTo>
                          <a:pt x="1809" y="886"/>
                        </a:lnTo>
                        <a:lnTo>
                          <a:pt x="1823" y="881"/>
                        </a:lnTo>
                        <a:lnTo>
                          <a:pt x="1838" y="881"/>
                        </a:lnTo>
                        <a:lnTo>
                          <a:pt x="1852" y="881"/>
                        </a:lnTo>
                        <a:lnTo>
                          <a:pt x="1866" y="881"/>
                        </a:lnTo>
                        <a:lnTo>
                          <a:pt x="1881" y="881"/>
                        </a:lnTo>
                        <a:lnTo>
                          <a:pt x="1895" y="876"/>
                        </a:lnTo>
                        <a:lnTo>
                          <a:pt x="1910" y="876"/>
                        </a:lnTo>
                        <a:lnTo>
                          <a:pt x="1929" y="876"/>
                        </a:lnTo>
                        <a:lnTo>
                          <a:pt x="1934" y="876"/>
                        </a:lnTo>
                        <a:lnTo>
                          <a:pt x="1938" y="876"/>
                        </a:lnTo>
                        <a:lnTo>
                          <a:pt x="1943" y="876"/>
                        </a:lnTo>
                        <a:lnTo>
                          <a:pt x="1953" y="872"/>
                        </a:lnTo>
                        <a:lnTo>
                          <a:pt x="1958" y="872"/>
                        </a:lnTo>
                        <a:lnTo>
                          <a:pt x="1962" y="872"/>
                        </a:lnTo>
                        <a:lnTo>
                          <a:pt x="1967" y="872"/>
                        </a:lnTo>
                        <a:lnTo>
                          <a:pt x="1972" y="867"/>
                        </a:lnTo>
                        <a:lnTo>
                          <a:pt x="1982" y="867"/>
                        </a:lnTo>
                        <a:lnTo>
                          <a:pt x="1986" y="867"/>
                        </a:lnTo>
                        <a:lnTo>
                          <a:pt x="1991" y="862"/>
                        </a:lnTo>
                        <a:lnTo>
                          <a:pt x="1996" y="862"/>
                        </a:lnTo>
                        <a:lnTo>
                          <a:pt x="2001" y="862"/>
                        </a:lnTo>
                        <a:lnTo>
                          <a:pt x="2006" y="862"/>
                        </a:lnTo>
                        <a:lnTo>
                          <a:pt x="2010" y="857"/>
                        </a:lnTo>
                        <a:lnTo>
                          <a:pt x="2015" y="857"/>
                        </a:lnTo>
                        <a:lnTo>
                          <a:pt x="2025" y="857"/>
                        </a:lnTo>
                        <a:lnTo>
                          <a:pt x="2029" y="852"/>
                        </a:lnTo>
                        <a:lnTo>
                          <a:pt x="2034" y="852"/>
                        </a:lnTo>
                        <a:lnTo>
                          <a:pt x="2039" y="852"/>
                        </a:lnTo>
                        <a:lnTo>
                          <a:pt x="2044" y="848"/>
                        </a:lnTo>
                        <a:lnTo>
                          <a:pt x="2049" y="848"/>
                        </a:lnTo>
                        <a:lnTo>
                          <a:pt x="2053" y="848"/>
                        </a:lnTo>
                        <a:lnTo>
                          <a:pt x="2058" y="843"/>
                        </a:lnTo>
                        <a:lnTo>
                          <a:pt x="2068" y="843"/>
                        </a:lnTo>
                        <a:lnTo>
                          <a:pt x="2073" y="843"/>
                        </a:lnTo>
                        <a:lnTo>
                          <a:pt x="2077" y="838"/>
                        </a:lnTo>
                        <a:lnTo>
                          <a:pt x="2082" y="838"/>
                        </a:lnTo>
                        <a:lnTo>
                          <a:pt x="2087" y="838"/>
                        </a:lnTo>
                        <a:lnTo>
                          <a:pt x="2092" y="833"/>
                        </a:lnTo>
                        <a:lnTo>
                          <a:pt x="2101" y="833"/>
                        </a:lnTo>
                        <a:lnTo>
                          <a:pt x="2106" y="833"/>
                        </a:lnTo>
                        <a:lnTo>
                          <a:pt x="2106" y="828"/>
                        </a:lnTo>
                        <a:lnTo>
                          <a:pt x="2111" y="828"/>
                        </a:lnTo>
                        <a:lnTo>
                          <a:pt x="2111" y="824"/>
                        </a:lnTo>
                        <a:lnTo>
                          <a:pt x="2116" y="824"/>
                        </a:lnTo>
                        <a:lnTo>
                          <a:pt x="2121" y="824"/>
                        </a:lnTo>
                        <a:lnTo>
                          <a:pt x="2125" y="824"/>
                        </a:lnTo>
                        <a:lnTo>
                          <a:pt x="2130" y="824"/>
                        </a:lnTo>
                        <a:lnTo>
                          <a:pt x="2130" y="819"/>
                        </a:lnTo>
                        <a:lnTo>
                          <a:pt x="2135" y="819"/>
                        </a:lnTo>
                        <a:lnTo>
                          <a:pt x="2140" y="814"/>
                        </a:lnTo>
                        <a:lnTo>
                          <a:pt x="2145" y="809"/>
                        </a:lnTo>
                        <a:lnTo>
                          <a:pt x="2149" y="809"/>
                        </a:lnTo>
                        <a:lnTo>
                          <a:pt x="2149" y="805"/>
                        </a:lnTo>
                        <a:lnTo>
                          <a:pt x="2154" y="805"/>
                        </a:lnTo>
                        <a:lnTo>
                          <a:pt x="2159" y="800"/>
                        </a:lnTo>
                        <a:lnTo>
                          <a:pt x="2164" y="800"/>
                        </a:lnTo>
                        <a:lnTo>
                          <a:pt x="2164" y="795"/>
                        </a:lnTo>
                        <a:lnTo>
                          <a:pt x="2169" y="795"/>
                        </a:lnTo>
                        <a:lnTo>
                          <a:pt x="2169" y="790"/>
                        </a:lnTo>
                        <a:lnTo>
                          <a:pt x="2173" y="790"/>
                        </a:lnTo>
                        <a:lnTo>
                          <a:pt x="2173" y="785"/>
                        </a:lnTo>
                        <a:lnTo>
                          <a:pt x="2173" y="781"/>
                        </a:lnTo>
                        <a:lnTo>
                          <a:pt x="2178" y="781"/>
                        </a:lnTo>
                        <a:lnTo>
                          <a:pt x="2178" y="776"/>
                        </a:lnTo>
                        <a:lnTo>
                          <a:pt x="2178" y="771"/>
                        </a:lnTo>
                        <a:lnTo>
                          <a:pt x="2178" y="766"/>
                        </a:lnTo>
                        <a:lnTo>
                          <a:pt x="2178" y="761"/>
                        </a:lnTo>
                        <a:lnTo>
                          <a:pt x="2183" y="761"/>
                        </a:lnTo>
                        <a:lnTo>
                          <a:pt x="2183" y="757"/>
                        </a:lnTo>
                        <a:lnTo>
                          <a:pt x="2183" y="752"/>
                        </a:lnTo>
                        <a:lnTo>
                          <a:pt x="2178" y="747"/>
                        </a:lnTo>
                        <a:lnTo>
                          <a:pt x="2173" y="742"/>
                        </a:lnTo>
                        <a:lnTo>
                          <a:pt x="2173" y="738"/>
                        </a:lnTo>
                        <a:lnTo>
                          <a:pt x="2169" y="738"/>
                        </a:lnTo>
                        <a:lnTo>
                          <a:pt x="2169" y="733"/>
                        </a:lnTo>
                        <a:lnTo>
                          <a:pt x="2164" y="733"/>
                        </a:lnTo>
                        <a:lnTo>
                          <a:pt x="2164" y="728"/>
                        </a:lnTo>
                        <a:lnTo>
                          <a:pt x="2164" y="723"/>
                        </a:lnTo>
                        <a:lnTo>
                          <a:pt x="2159" y="718"/>
                        </a:lnTo>
                        <a:lnTo>
                          <a:pt x="2159" y="714"/>
                        </a:lnTo>
                        <a:lnTo>
                          <a:pt x="2159" y="709"/>
                        </a:lnTo>
                        <a:lnTo>
                          <a:pt x="2154" y="709"/>
                        </a:lnTo>
                        <a:lnTo>
                          <a:pt x="2154" y="704"/>
                        </a:lnTo>
                        <a:lnTo>
                          <a:pt x="2154" y="699"/>
                        </a:lnTo>
                        <a:lnTo>
                          <a:pt x="2154" y="694"/>
                        </a:lnTo>
                        <a:lnTo>
                          <a:pt x="2149" y="690"/>
                        </a:lnTo>
                        <a:lnTo>
                          <a:pt x="2149" y="685"/>
                        </a:lnTo>
                        <a:lnTo>
                          <a:pt x="2149" y="680"/>
                        </a:lnTo>
                        <a:lnTo>
                          <a:pt x="2149" y="675"/>
                        </a:lnTo>
                        <a:lnTo>
                          <a:pt x="2145" y="666"/>
                        </a:lnTo>
                        <a:lnTo>
                          <a:pt x="2145" y="656"/>
                        </a:lnTo>
                        <a:lnTo>
                          <a:pt x="2145" y="651"/>
                        </a:lnTo>
                        <a:lnTo>
                          <a:pt x="2140" y="642"/>
                        </a:lnTo>
                        <a:lnTo>
                          <a:pt x="2140" y="637"/>
                        </a:lnTo>
                        <a:lnTo>
                          <a:pt x="2140" y="627"/>
                        </a:lnTo>
                        <a:lnTo>
                          <a:pt x="2135" y="618"/>
                        </a:lnTo>
                        <a:lnTo>
                          <a:pt x="2135" y="613"/>
                        </a:lnTo>
                        <a:lnTo>
                          <a:pt x="2130" y="603"/>
                        </a:lnTo>
                        <a:lnTo>
                          <a:pt x="2130" y="599"/>
                        </a:lnTo>
                        <a:lnTo>
                          <a:pt x="2125" y="589"/>
                        </a:lnTo>
                        <a:lnTo>
                          <a:pt x="2125" y="584"/>
                        </a:lnTo>
                        <a:lnTo>
                          <a:pt x="2121" y="575"/>
                        </a:lnTo>
                        <a:lnTo>
                          <a:pt x="2121" y="570"/>
                        </a:lnTo>
                        <a:lnTo>
                          <a:pt x="2116" y="560"/>
                        </a:lnTo>
                        <a:lnTo>
                          <a:pt x="2116" y="556"/>
                        </a:lnTo>
                        <a:lnTo>
                          <a:pt x="2111" y="546"/>
                        </a:lnTo>
                        <a:lnTo>
                          <a:pt x="2111" y="541"/>
                        </a:lnTo>
                        <a:lnTo>
                          <a:pt x="2106" y="532"/>
                        </a:lnTo>
                        <a:lnTo>
                          <a:pt x="2106" y="527"/>
                        </a:lnTo>
                        <a:lnTo>
                          <a:pt x="2101" y="517"/>
                        </a:lnTo>
                        <a:lnTo>
                          <a:pt x="2097" y="508"/>
                        </a:lnTo>
                        <a:lnTo>
                          <a:pt x="2097" y="503"/>
                        </a:lnTo>
                        <a:lnTo>
                          <a:pt x="2092" y="493"/>
                        </a:lnTo>
                        <a:lnTo>
                          <a:pt x="2092" y="489"/>
                        </a:lnTo>
                        <a:lnTo>
                          <a:pt x="2087" y="479"/>
                        </a:lnTo>
                        <a:lnTo>
                          <a:pt x="2087" y="474"/>
                        </a:lnTo>
                        <a:lnTo>
                          <a:pt x="2082" y="465"/>
                        </a:lnTo>
                        <a:lnTo>
                          <a:pt x="2082" y="460"/>
                        </a:lnTo>
                        <a:lnTo>
                          <a:pt x="2077" y="450"/>
                        </a:lnTo>
                        <a:lnTo>
                          <a:pt x="2073" y="445"/>
                        </a:lnTo>
                        <a:lnTo>
                          <a:pt x="2063" y="431"/>
                        </a:lnTo>
                        <a:lnTo>
                          <a:pt x="2053" y="431"/>
                        </a:lnTo>
                        <a:lnTo>
                          <a:pt x="2044" y="431"/>
                        </a:lnTo>
                        <a:lnTo>
                          <a:pt x="2034" y="431"/>
                        </a:lnTo>
                        <a:lnTo>
                          <a:pt x="2029" y="431"/>
                        </a:lnTo>
                        <a:lnTo>
                          <a:pt x="2020" y="431"/>
                        </a:lnTo>
                        <a:lnTo>
                          <a:pt x="2010" y="431"/>
                        </a:lnTo>
                        <a:lnTo>
                          <a:pt x="2001" y="431"/>
                        </a:lnTo>
                        <a:lnTo>
                          <a:pt x="1991" y="431"/>
                        </a:lnTo>
                        <a:lnTo>
                          <a:pt x="1982" y="431"/>
                        </a:lnTo>
                        <a:lnTo>
                          <a:pt x="1977" y="431"/>
                        </a:lnTo>
                        <a:lnTo>
                          <a:pt x="1967" y="431"/>
                        </a:lnTo>
                        <a:lnTo>
                          <a:pt x="1958" y="431"/>
                        </a:lnTo>
                        <a:lnTo>
                          <a:pt x="1948" y="431"/>
                        </a:lnTo>
                        <a:lnTo>
                          <a:pt x="1943" y="431"/>
                        </a:lnTo>
                        <a:lnTo>
                          <a:pt x="1934" y="431"/>
                        </a:lnTo>
                        <a:lnTo>
                          <a:pt x="1924" y="431"/>
                        </a:lnTo>
                        <a:lnTo>
                          <a:pt x="1914" y="431"/>
                        </a:lnTo>
                        <a:lnTo>
                          <a:pt x="1910" y="431"/>
                        </a:lnTo>
                        <a:lnTo>
                          <a:pt x="1900" y="431"/>
                        </a:lnTo>
                        <a:lnTo>
                          <a:pt x="1890" y="431"/>
                        </a:lnTo>
                        <a:lnTo>
                          <a:pt x="1881" y="431"/>
                        </a:lnTo>
                        <a:lnTo>
                          <a:pt x="1876" y="431"/>
                        </a:lnTo>
                        <a:lnTo>
                          <a:pt x="1866" y="431"/>
                        </a:lnTo>
                        <a:lnTo>
                          <a:pt x="1857" y="436"/>
                        </a:lnTo>
                        <a:lnTo>
                          <a:pt x="1847" y="436"/>
                        </a:lnTo>
                        <a:lnTo>
                          <a:pt x="1838" y="436"/>
                        </a:lnTo>
                        <a:lnTo>
                          <a:pt x="1833" y="436"/>
                        </a:lnTo>
                        <a:lnTo>
                          <a:pt x="1823" y="436"/>
                        </a:lnTo>
                        <a:lnTo>
                          <a:pt x="1814" y="436"/>
                        </a:lnTo>
                        <a:lnTo>
                          <a:pt x="1804" y="436"/>
                        </a:lnTo>
                        <a:lnTo>
                          <a:pt x="1794" y="436"/>
                        </a:lnTo>
                        <a:lnTo>
                          <a:pt x="1785" y="441"/>
                        </a:lnTo>
                        <a:lnTo>
                          <a:pt x="1780" y="441"/>
                        </a:lnTo>
                        <a:lnTo>
                          <a:pt x="1775" y="441"/>
                        </a:lnTo>
                        <a:lnTo>
                          <a:pt x="1770" y="441"/>
                        </a:lnTo>
                        <a:lnTo>
                          <a:pt x="1766" y="445"/>
                        </a:lnTo>
                        <a:lnTo>
                          <a:pt x="1761" y="445"/>
                        </a:lnTo>
                        <a:lnTo>
                          <a:pt x="1756" y="445"/>
                        </a:lnTo>
                        <a:lnTo>
                          <a:pt x="1751" y="445"/>
                        </a:lnTo>
                        <a:lnTo>
                          <a:pt x="1746" y="445"/>
                        </a:lnTo>
                        <a:lnTo>
                          <a:pt x="1742" y="445"/>
                        </a:lnTo>
                        <a:lnTo>
                          <a:pt x="1737" y="445"/>
                        </a:lnTo>
                        <a:lnTo>
                          <a:pt x="1732" y="445"/>
                        </a:lnTo>
                        <a:lnTo>
                          <a:pt x="1727" y="445"/>
                        </a:lnTo>
                        <a:lnTo>
                          <a:pt x="1722" y="445"/>
                        </a:lnTo>
                        <a:lnTo>
                          <a:pt x="1718" y="450"/>
                        </a:lnTo>
                        <a:lnTo>
                          <a:pt x="1713" y="450"/>
                        </a:lnTo>
                        <a:lnTo>
                          <a:pt x="1708" y="450"/>
                        </a:lnTo>
                        <a:lnTo>
                          <a:pt x="1703" y="450"/>
                        </a:lnTo>
                        <a:lnTo>
                          <a:pt x="1698" y="450"/>
                        </a:lnTo>
                        <a:lnTo>
                          <a:pt x="1694" y="450"/>
                        </a:lnTo>
                        <a:lnTo>
                          <a:pt x="1689" y="450"/>
                        </a:lnTo>
                        <a:lnTo>
                          <a:pt x="1684" y="450"/>
                        </a:lnTo>
                        <a:lnTo>
                          <a:pt x="1679" y="450"/>
                        </a:lnTo>
                        <a:lnTo>
                          <a:pt x="1675" y="450"/>
                        </a:lnTo>
                        <a:lnTo>
                          <a:pt x="1670" y="450"/>
                        </a:lnTo>
                        <a:lnTo>
                          <a:pt x="1665" y="450"/>
                        </a:lnTo>
                        <a:lnTo>
                          <a:pt x="1660" y="450"/>
                        </a:lnTo>
                        <a:lnTo>
                          <a:pt x="1655" y="450"/>
                        </a:lnTo>
                        <a:lnTo>
                          <a:pt x="1641" y="455"/>
                        </a:lnTo>
                        <a:lnTo>
                          <a:pt x="1631" y="455"/>
                        </a:lnTo>
                        <a:lnTo>
                          <a:pt x="1622" y="455"/>
                        </a:lnTo>
                        <a:lnTo>
                          <a:pt x="1612" y="460"/>
                        </a:lnTo>
                        <a:lnTo>
                          <a:pt x="1598" y="460"/>
                        </a:lnTo>
                        <a:lnTo>
                          <a:pt x="1588" y="460"/>
                        </a:lnTo>
                        <a:lnTo>
                          <a:pt x="1579" y="460"/>
                        </a:lnTo>
                        <a:lnTo>
                          <a:pt x="1564" y="465"/>
                        </a:lnTo>
                        <a:lnTo>
                          <a:pt x="1555" y="465"/>
                        </a:lnTo>
                        <a:lnTo>
                          <a:pt x="1540" y="465"/>
                        </a:lnTo>
                        <a:lnTo>
                          <a:pt x="1531" y="469"/>
                        </a:lnTo>
                        <a:lnTo>
                          <a:pt x="1516" y="469"/>
                        </a:lnTo>
                        <a:lnTo>
                          <a:pt x="1507" y="469"/>
                        </a:lnTo>
                        <a:lnTo>
                          <a:pt x="1497" y="474"/>
                        </a:lnTo>
                        <a:lnTo>
                          <a:pt x="1483" y="474"/>
                        </a:lnTo>
                        <a:lnTo>
                          <a:pt x="1473" y="474"/>
                        </a:lnTo>
                        <a:lnTo>
                          <a:pt x="1459" y="479"/>
                        </a:lnTo>
                        <a:lnTo>
                          <a:pt x="1449" y="479"/>
                        </a:lnTo>
                        <a:lnTo>
                          <a:pt x="1435" y="479"/>
                        </a:lnTo>
                        <a:lnTo>
                          <a:pt x="1425" y="479"/>
                        </a:lnTo>
                        <a:lnTo>
                          <a:pt x="1411" y="484"/>
                        </a:lnTo>
                        <a:lnTo>
                          <a:pt x="1401" y="484"/>
                        </a:lnTo>
                        <a:lnTo>
                          <a:pt x="1391" y="484"/>
                        </a:lnTo>
                        <a:lnTo>
                          <a:pt x="1377" y="489"/>
                        </a:lnTo>
                        <a:lnTo>
                          <a:pt x="1367" y="489"/>
                        </a:lnTo>
                        <a:lnTo>
                          <a:pt x="1358" y="489"/>
                        </a:lnTo>
                        <a:lnTo>
                          <a:pt x="1344" y="489"/>
                        </a:lnTo>
                        <a:lnTo>
                          <a:pt x="1334" y="493"/>
                        </a:lnTo>
                        <a:lnTo>
                          <a:pt x="1324" y="493"/>
                        </a:lnTo>
                        <a:lnTo>
                          <a:pt x="1315" y="493"/>
                        </a:lnTo>
                        <a:lnTo>
                          <a:pt x="1305" y="493"/>
                        </a:lnTo>
                        <a:lnTo>
                          <a:pt x="1296" y="498"/>
                        </a:lnTo>
                        <a:lnTo>
                          <a:pt x="1281" y="498"/>
                        </a:lnTo>
                        <a:lnTo>
                          <a:pt x="1272" y="498"/>
                        </a:lnTo>
                        <a:lnTo>
                          <a:pt x="1262" y="498"/>
                        </a:lnTo>
                        <a:lnTo>
                          <a:pt x="1252" y="503"/>
                        </a:lnTo>
                        <a:lnTo>
                          <a:pt x="1243" y="503"/>
                        </a:lnTo>
                        <a:lnTo>
                          <a:pt x="1233" y="503"/>
                        </a:lnTo>
                        <a:lnTo>
                          <a:pt x="1219" y="503"/>
                        </a:lnTo>
                        <a:lnTo>
                          <a:pt x="1209" y="503"/>
                        </a:lnTo>
                        <a:lnTo>
                          <a:pt x="1200" y="508"/>
                        </a:lnTo>
                        <a:lnTo>
                          <a:pt x="1190" y="508"/>
                        </a:lnTo>
                        <a:lnTo>
                          <a:pt x="1180" y="508"/>
                        </a:lnTo>
                        <a:lnTo>
                          <a:pt x="1171" y="508"/>
                        </a:lnTo>
                        <a:lnTo>
                          <a:pt x="1161" y="508"/>
                        </a:lnTo>
                        <a:lnTo>
                          <a:pt x="1152" y="512"/>
                        </a:lnTo>
                        <a:lnTo>
                          <a:pt x="1137" y="512"/>
                        </a:lnTo>
                        <a:lnTo>
                          <a:pt x="1128" y="512"/>
                        </a:lnTo>
                        <a:lnTo>
                          <a:pt x="1118" y="512"/>
                        </a:lnTo>
                        <a:lnTo>
                          <a:pt x="1108" y="517"/>
                        </a:lnTo>
                        <a:lnTo>
                          <a:pt x="1099" y="517"/>
                        </a:lnTo>
                        <a:lnTo>
                          <a:pt x="1089" y="517"/>
                        </a:lnTo>
                        <a:lnTo>
                          <a:pt x="1080" y="517"/>
                        </a:lnTo>
                        <a:lnTo>
                          <a:pt x="1070" y="522"/>
                        </a:lnTo>
                        <a:lnTo>
                          <a:pt x="1060" y="522"/>
                        </a:lnTo>
                        <a:lnTo>
                          <a:pt x="1051" y="522"/>
                        </a:lnTo>
                        <a:lnTo>
                          <a:pt x="1036" y="522"/>
                        </a:lnTo>
                        <a:lnTo>
                          <a:pt x="1027" y="527"/>
                        </a:lnTo>
                        <a:lnTo>
                          <a:pt x="1017" y="527"/>
                        </a:lnTo>
                        <a:lnTo>
                          <a:pt x="1008" y="527"/>
                        </a:lnTo>
                        <a:lnTo>
                          <a:pt x="998" y="532"/>
                        </a:lnTo>
                        <a:lnTo>
                          <a:pt x="989" y="532"/>
                        </a:lnTo>
                        <a:lnTo>
                          <a:pt x="979" y="536"/>
                        </a:lnTo>
                        <a:lnTo>
                          <a:pt x="969" y="536"/>
                        </a:lnTo>
                        <a:lnTo>
                          <a:pt x="965" y="536"/>
                        </a:lnTo>
                        <a:lnTo>
                          <a:pt x="960" y="536"/>
                        </a:lnTo>
                        <a:lnTo>
                          <a:pt x="955" y="536"/>
                        </a:lnTo>
                        <a:lnTo>
                          <a:pt x="955" y="541"/>
                        </a:lnTo>
                        <a:lnTo>
                          <a:pt x="950" y="541"/>
                        </a:lnTo>
                        <a:lnTo>
                          <a:pt x="945" y="546"/>
                        </a:lnTo>
                        <a:lnTo>
                          <a:pt x="941" y="551"/>
                        </a:lnTo>
                        <a:lnTo>
                          <a:pt x="936" y="556"/>
                        </a:lnTo>
                        <a:lnTo>
                          <a:pt x="936" y="560"/>
                        </a:lnTo>
                        <a:lnTo>
                          <a:pt x="931" y="560"/>
                        </a:lnTo>
                        <a:lnTo>
                          <a:pt x="931" y="565"/>
                        </a:lnTo>
                        <a:lnTo>
                          <a:pt x="931" y="570"/>
                        </a:lnTo>
                        <a:lnTo>
                          <a:pt x="926" y="570"/>
                        </a:lnTo>
                        <a:lnTo>
                          <a:pt x="926" y="575"/>
                        </a:lnTo>
                        <a:lnTo>
                          <a:pt x="921" y="575"/>
                        </a:lnTo>
                        <a:lnTo>
                          <a:pt x="921" y="580"/>
                        </a:lnTo>
                        <a:lnTo>
                          <a:pt x="917" y="584"/>
                        </a:lnTo>
                        <a:lnTo>
                          <a:pt x="912" y="584"/>
                        </a:lnTo>
                        <a:lnTo>
                          <a:pt x="912" y="589"/>
                        </a:lnTo>
                        <a:lnTo>
                          <a:pt x="907" y="589"/>
                        </a:lnTo>
                        <a:lnTo>
                          <a:pt x="907" y="594"/>
                        </a:lnTo>
                        <a:lnTo>
                          <a:pt x="907" y="599"/>
                        </a:lnTo>
                        <a:lnTo>
                          <a:pt x="907" y="603"/>
                        </a:lnTo>
                        <a:lnTo>
                          <a:pt x="912" y="603"/>
                        </a:lnTo>
                        <a:lnTo>
                          <a:pt x="912" y="608"/>
                        </a:lnTo>
                        <a:lnTo>
                          <a:pt x="912" y="613"/>
                        </a:lnTo>
                        <a:lnTo>
                          <a:pt x="912" y="618"/>
                        </a:lnTo>
                        <a:lnTo>
                          <a:pt x="912" y="623"/>
                        </a:lnTo>
                        <a:lnTo>
                          <a:pt x="917" y="623"/>
                        </a:lnTo>
                        <a:lnTo>
                          <a:pt x="917" y="627"/>
                        </a:lnTo>
                        <a:lnTo>
                          <a:pt x="917" y="632"/>
                        </a:lnTo>
                        <a:lnTo>
                          <a:pt x="917" y="637"/>
                        </a:lnTo>
                        <a:lnTo>
                          <a:pt x="921" y="637"/>
                        </a:lnTo>
                        <a:lnTo>
                          <a:pt x="921" y="642"/>
                        </a:lnTo>
                        <a:lnTo>
                          <a:pt x="921" y="647"/>
                        </a:lnTo>
                        <a:lnTo>
                          <a:pt x="921" y="651"/>
                        </a:lnTo>
                        <a:lnTo>
                          <a:pt x="926" y="656"/>
                        </a:lnTo>
                        <a:lnTo>
                          <a:pt x="921" y="656"/>
                        </a:lnTo>
                        <a:lnTo>
                          <a:pt x="917" y="656"/>
                        </a:lnTo>
                        <a:lnTo>
                          <a:pt x="917" y="661"/>
                        </a:lnTo>
                        <a:lnTo>
                          <a:pt x="912" y="661"/>
                        </a:lnTo>
                        <a:lnTo>
                          <a:pt x="907" y="661"/>
                        </a:lnTo>
                        <a:lnTo>
                          <a:pt x="902" y="661"/>
                        </a:lnTo>
                        <a:lnTo>
                          <a:pt x="897" y="661"/>
                        </a:lnTo>
                        <a:lnTo>
                          <a:pt x="893" y="661"/>
                        </a:lnTo>
                        <a:lnTo>
                          <a:pt x="888" y="661"/>
                        </a:lnTo>
                        <a:lnTo>
                          <a:pt x="883" y="656"/>
                        </a:lnTo>
                        <a:lnTo>
                          <a:pt x="878" y="656"/>
                        </a:lnTo>
                        <a:lnTo>
                          <a:pt x="873" y="656"/>
                        </a:lnTo>
                        <a:lnTo>
                          <a:pt x="869" y="656"/>
                        </a:lnTo>
                        <a:lnTo>
                          <a:pt x="864" y="656"/>
                        </a:lnTo>
                        <a:lnTo>
                          <a:pt x="859" y="656"/>
                        </a:lnTo>
                        <a:lnTo>
                          <a:pt x="854" y="656"/>
                        </a:lnTo>
                        <a:lnTo>
                          <a:pt x="854" y="661"/>
                        </a:lnTo>
                        <a:lnTo>
                          <a:pt x="849" y="661"/>
                        </a:lnTo>
                        <a:lnTo>
                          <a:pt x="845" y="661"/>
                        </a:lnTo>
                        <a:lnTo>
                          <a:pt x="840" y="661"/>
                        </a:lnTo>
                        <a:lnTo>
                          <a:pt x="840" y="666"/>
                        </a:lnTo>
                        <a:lnTo>
                          <a:pt x="835" y="666"/>
                        </a:lnTo>
                        <a:lnTo>
                          <a:pt x="835" y="670"/>
                        </a:lnTo>
                        <a:lnTo>
                          <a:pt x="830" y="670"/>
                        </a:lnTo>
                        <a:lnTo>
                          <a:pt x="830" y="675"/>
                        </a:lnTo>
                        <a:lnTo>
                          <a:pt x="825" y="680"/>
                        </a:lnTo>
                        <a:lnTo>
                          <a:pt x="825" y="685"/>
                        </a:lnTo>
                        <a:lnTo>
                          <a:pt x="821" y="685"/>
                        </a:lnTo>
                        <a:lnTo>
                          <a:pt x="821" y="690"/>
                        </a:lnTo>
                        <a:lnTo>
                          <a:pt x="821" y="694"/>
                        </a:lnTo>
                        <a:lnTo>
                          <a:pt x="821" y="699"/>
                        </a:lnTo>
                        <a:lnTo>
                          <a:pt x="821" y="704"/>
                        </a:lnTo>
                        <a:lnTo>
                          <a:pt x="821" y="709"/>
                        </a:lnTo>
                        <a:lnTo>
                          <a:pt x="821" y="714"/>
                        </a:lnTo>
                        <a:lnTo>
                          <a:pt x="821" y="718"/>
                        </a:lnTo>
                        <a:lnTo>
                          <a:pt x="821" y="723"/>
                        </a:lnTo>
                        <a:lnTo>
                          <a:pt x="821" y="728"/>
                        </a:lnTo>
                        <a:lnTo>
                          <a:pt x="825" y="733"/>
                        </a:lnTo>
                        <a:lnTo>
                          <a:pt x="825" y="738"/>
                        </a:lnTo>
                        <a:lnTo>
                          <a:pt x="825" y="742"/>
                        </a:lnTo>
                        <a:lnTo>
                          <a:pt x="825" y="747"/>
                        </a:lnTo>
                        <a:lnTo>
                          <a:pt x="830" y="747"/>
                        </a:lnTo>
                        <a:lnTo>
                          <a:pt x="830" y="752"/>
                        </a:lnTo>
                        <a:lnTo>
                          <a:pt x="830" y="757"/>
                        </a:lnTo>
                        <a:lnTo>
                          <a:pt x="835" y="761"/>
                        </a:lnTo>
                        <a:lnTo>
                          <a:pt x="835" y="766"/>
                        </a:lnTo>
                        <a:lnTo>
                          <a:pt x="835" y="771"/>
                        </a:lnTo>
                        <a:lnTo>
                          <a:pt x="835" y="776"/>
                        </a:lnTo>
                        <a:lnTo>
                          <a:pt x="840" y="781"/>
                        </a:lnTo>
                        <a:lnTo>
                          <a:pt x="840" y="785"/>
                        </a:lnTo>
                        <a:lnTo>
                          <a:pt x="835" y="785"/>
                        </a:lnTo>
                        <a:lnTo>
                          <a:pt x="830" y="790"/>
                        </a:lnTo>
                        <a:lnTo>
                          <a:pt x="825" y="795"/>
                        </a:lnTo>
                        <a:lnTo>
                          <a:pt x="825" y="800"/>
                        </a:lnTo>
                        <a:lnTo>
                          <a:pt x="821" y="805"/>
                        </a:lnTo>
                        <a:lnTo>
                          <a:pt x="816" y="805"/>
                        </a:lnTo>
                        <a:lnTo>
                          <a:pt x="816" y="809"/>
                        </a:lnTo>
                        <a:lnTo>
                          <a:pt x="811" y="814"/>
                        </a:lnTo>
                        <a:lnTo>
                          <a:pt x="811" y="819"/>
                        </a:lnTo>
                        <a:lnTo>
                          <a:pt x="806" y="824"/>
                        </a:lnTo>
                        <a:lnTo>
                          <a:pt x="806" y="828"/>
                        </a:lnTo>
                        <a:lnTo>
                          <a:pt x="801" y="833"/>
                        </a:lnTo>
                        <a:lnTo>
                          <a:pt x="801" y="838"/>
                        </a:lnTo>
                        <a:lnTo>
                          <a:pt x="797" y="843"/>
                        </a:lnTo>
                        <a:lnTo>
                          <a:pt x="797" y="848"/>
                        </a:lnTo>
                        <a:lnTo>
                          <a:pt x="797" y="852"/>
                        </a:lnTo>
                        <a:lnTo>
                          <a:pt x="792" y="857"/>
                        </a:lnTo>
                        <a:lnTo>
                          <a:pt x="792" y="862"/>
                        </a:lnTo>
                        <a:lnTo>
                          <a:pt x="792" y="867"/>
                        </a:lnTo>
                        <a:lnTo>
                          <a:pt x="787" y="872"/>
                        </a:lnTo>
                        <a:lnTo>
                          <a:pt x="787" y="881"/>
                        </a:lnTo>
                        <a:lnTo>
                          <a:pt x="787" y="886"/>
                        </a:lnTo>
                        <a:lnTo>
                          <a:pt x="787" y="891"/>
                        </a:lnTo>
                        <a:lnTo>
                          <a:pt x="787" y="896"/>
                        </a:lnTo>
                        <a:lnTo>
                          <a:pt x="782" y="900"/>
                        </a:lnTo>
                        <a:lnTo>
                          <a:pt x="782" y="905"/>
                        </a:lnTo>
                        <a:lnTo>
                          <a:pt x="782" y="910"/>
                        </a:lnTo>
                        <a:lnTo>
                          <a:pt x="782" y="915"/>
                        </a:lnTo>
                        <a:lnTo>
                          <a:pt x="782" y="919"/>
                        </a:lnTo>
                        <a:lnTo>
                          <a:pt x="782" y="924"/>
                        </a:lnTo>
                        <a:lnTo>
                          <a:pt x="782" y="929"/>
                        </a:lnTo>
                        <a:lnTo>
                          <a:pt x="782" y="934"/>
                        </a:lnTo>
                        <a:lnTo>
                          <a:pt x="782" y="939"/>
                        </a:lnTo>
                        <a:lnTo>
                          <a:pt x="782" y="943"/>
                        </a:lnTo>
                        <a:lnTo>
                          <a:pt x="782" y="948"/>
                        </a:lnTo>
                        <a:lnTo>
                          <a:pt x="787" y="948"/>
                        </a:lnTo>
                        <a:lnTo>
                          <a:pt x="787" y="953"/>
                        </a:lnTo>
                        <a:lnTo>
                          <a:pt x="792" y="958"/>
                        </a:lnTo>
                        <a:lnTo>
                          <a:pt x="792" y="963"/>
                        </a:lnTo>
                        <a:lnTo>
                          <a:pt x="797" y="963"/>
                        </a:lnTo>
                        <a:lnTo>
                          <a:pt x="797" y="967"/>
                        </a:lnTo>
                        <a:lnTo>
                          <a:pt x="801" y="972"/>
                        </a:lnTo>
                        <a:lnTo>
                          <a:pt x="801" y="977"/>
                        </a:lnTo>
                        <a:lnTo>
                          <a:pt x="801" y="982"/>
                        </a:lnTo>
                        <a:lnTo>
                          <a:pt x="801" y="987"/>
                        </a:lnTo>
                        <a:lnTo>
                          <a:pt x="797" y="987"/>
                        </a:lnTo>
                        <a:lnTo>
                          <a:pt x="792" y="991"/>
                        </a:lnTo>
                        <a:lnTo>
                          <a:pt x="777" y="1010"/>
                        </a:lnTo>
                        <a:lnTo>
                          <a:pt x="763" y="1030"/>
                        </a:lnTo>
                        <a:lnTo>
                          <a:pt x="749" y="1049"/>
                        </a:lnTo>
                        <a:lnTo>
                          <a:pt x="734" y="1068"/>
                        </a:lnTo>
                        <a:lnTo>
                          <a:pt x="720" y="1087"/>
                        </a:lnTo>
                        <a:lnTo>
                          <a:pt x="705" y="1106"/>
                        </a:lnTo>
                        <a:lnTo>
                          <a:pt x="691" y="1125"/>
                        </a:lnTo>
                        <a:lnTo>
                          <a:pt x="682" y="1145"/>
                        </a:lnTo>
                        <a:lnTo>
                          <a:pt x="667" y="1164"/>
                        </a:lnTo>
                        <a:lnTo>
                          <a:pt x="653" y="1183"/>
                        </a:lnTo>
                        <a:lnTo>
                          <a:pt x="638" y="1202"/>
                        </a:lnTo>
                        <a:lnTo>
                          <a:pt x="624" y="1221"/>
                        </a:lnTo>
                        <a:lnTo>
                          <a:pt x="610" y="1240"/>
                        </a:lnTo>
                        <a:lnTo>
                          <a:pt x="600" y="1259"/>
                        </a:lnTo>
                        <a:lnTo>
                          <a:pt x="586" y="1279"/>
                        </a:lnTo>
                        <a:lnTo>
                          <a:pt x="571" y="1298"/>
                        </a:lnTo>
                        <a:lnTo>
                          <a:pt x="557" y="1317"/>
                        </a:lnTo>
                        <a:lnTo>
                          <a:pt x="547" y="1336"/>
                        </a:lnTo>
                        <a:lnTo>
                          <a:pt x="533" y="1355"/>
                        </a:lnTo>
                        <a:lnTo>
                          <a:pt x="518" y="1374"/>
                        </a:lnTo>
                        <a:lnTo>
                          <a:pt x="504" y="1394"/>
                        </a:lnTo>
                        <a:lnTo>
                          <a:pt x="494" y="1413"/>
                        </a:lnTo>
                        <a:lnTo>
                          <a:pt x="480" y="1432"/>
                        </a:lnTo>
                        <a:lnTo>
                          <a:pt x="466" y="1451"/>
                        </a:lnTo>
                        <a:lnTo>
                          <a:pt x="451" y="1470"/>
                        </a:lnTo>
                        <a:lnTo>
                          <a:pt x="442" y="1489"/>
                        </a:lnTo>
                        <a:lnTo>
                          <a:pt x="427" y="1508"/>
                        </a:lnTo>
                        <a:lnTo>
                          <a:pt x="413" y="1528"/>
                        </a:lnTo>
                        <a:lnTo>
                          <a:pt x="403" y="1552"/>
                        </a:lnTo>
                        <a:lnTo>
                          <a:pt x="389" y="1571"/>
                        </a:lnTo>
                        <a:lnTo>
                          <a:pt x="374" y="1590"/>
                        </a:lnTo>
                        <a:lnTo>
                          <a:pt x="360" y="1609"/>
                        </a:lnTo>
                        <a:lnTo>
                          <a:pt x="360" y="1599"/>
                        </a:lnTo>
                        <a:lnTo>
                          <a:pt x="355" y="1595"/>
                        </a:lnTo>
                        <a:lnTo>
                          <a:pt x="351" y="1585"/>
                        </a:lnTo>
                        <a:lnTo>
                          <a:pt x="346" y="1580"/>
                        </a:lnTo>
                        <a:lnTo>
                          <a:pt x="341" y="1571"/>
                        </a:lnTo>
                        <a:lnTo>
                          <a:pt x="331" y="1566"/>
                        </a:lnTo>
                        <a:lnTo>
                          <a:pt x="327" y="1556"/>
                        </a:lnTo>
                        <a:lnTo>
                          <a:pt x="322" y="1552"/>
                        </a:lnTo>
                        <a:lnTo>
                          <a:pt x="317" y="1547"/>
                        </a:lnTo>
                        <a:lnTo>
                          <a:pt x="307" y="1537"/>
                        </a:lnTo>
                        <a:lnTo>
                          <a:pt x="303" y="1532"/>
                        </a:lnTo>
                        <a:lnTo>
                          <a:pt x="298" y="1528"/>
                        </a:lnTo>
                        <a:lnTo>
                          <a:pt x="288" y="1523"/>
                        </a:lnTo>
                        <a:lnTo>
                          <a:pt x="283" y="1518"/>
                        </a:lnTo>
                        <a:lnTo>
                          <a:pt x="274" y="1508"/>
                        </a:lnTo>
                        <a:lnTo>
                          <a:pt x="269" y="1504"/>
                        </a:lnTo>
                        <a:lnTo>
                          <a:pt x="259" y="1499"/>
                        </a:lnTo>
                        <a:lnTo>
                          <a:pt x="250" y="1494"/>
                        </a:lnTo>
                        <a:lnTo>
                          <a:pt x="245" y="1489"/>
                        </a:lnTo>
                        <a:lnTo>
                          <a:pt x="235" y="1484"/>
                        </a:lnTo>
                        <a:lnTo>
                          <a:pt x="226" y="1484"/>
                        </a:lnTo>
                        <a:lnTo>
                          <a:pt x="221" y="1480"/>
                        </a:lnTo>
                        <a:lnTo>
                          <a:pt x="211" y="1475"/>
                        </a:lnTo>
                        <a:lnTo>
                          <a:pt x="202" y="1470"/>
                        </a:lnTo>
                        <a:lnTo>
                          <a:pt x="197" y="1465"/>
                        </a:lnTo>
                        <a:lnTo>
                          <a:pt x="187" y="1465"/>
                        </a:lnTo>
                        <a:lnTo>
                          <a:pt x="178" y="1461"/>
                        </a:lnTo>
                        <a:lnTo>
                          <a:pt x="168" y="1456"/>
                        </a:lnTo>
                        <a:lnTo>
                          <a:pt x="163" y="1456"/>
                        </a:lnTo>
                        <a:lnTo>
                          <a:pt x="154" y="1451"/>
                        </a:lnTo>
                        <a:lnTo>
                          <a:pt x="144" y="1446"/>
                        </a:lnTo>
                        <a:lnTo>
                          <a:pt x="135" y="1446"/>
                        </a:lnTo>
                        <a:lnTo>
                          <a:pt x="130" y="1446"/>
                        </a:lnTo>
                        <a:lnTo>
                          <a:pt x="125" y="1446"/>
                        </a:lnTo>
                        <a:lnTo>
                          <a:pt x="120" y="1441"/>
                        </a:lnTo>
                        <a:lnTo>
                          <a:pt x="115" y="1441"/>
                        </a:lnTo>
                        <a:lnTo>
                          <a:pt x="111" y="1441"/>
                        </a:lnTo>
                        <a:lnTo>
                          <a:pt x="106" y="1441"/>
                        </a:lnTo>
                        <a:lnTo>
                          <a:pt x="101" y="1441"/>
                        </a:lnTo>
                        <a:lnTo>
                          <a:pt x="96" y="1441"/>
                        </a:lnTo>
                        <a:lnTo>
                          <a:pt x="91" y="1441"/>
                        </a:lnTo>
                        <a:lnTo>
                          <a:pt x="87" y="1441"/>
                        </a:lnTo>
                        <a:lnTo>
                          <a:pt x="82" y="1441"/>
                        </a:lnTo>
                        <a:lnTo>
                          <a:pt x="77" y="1441"/>
                        </a:lnTo>
                        <a:lnTo>
                          <a:pt x="72" y="1441"/>
                        </a:lnTo>
                        <a:lnTo>
                          <a:pt x="67" y="1441"/>
                        </a:lnTo>
                        <a:lnTo>
                          <a:pt x="63" y="1441"/>
                        </a:lnTo>
                        <a:lnTo>
                          <a:pt x="58" y="1441"/>
                        </a:lnTo>
                        <a:lnTo>
                          <a:pt x="53" y="1441"/>
                        </a:lnTo>
                        <a:lnTo>
                          <a:pt x="48" y="1441"/>
                        </a:lnTo>
                        <a:lnTo>
                          <a:pt x="43" y="1441"/>
                        </a:lnTo>
                        <a:lnTo>
                          <a:pt x="43" y="1446"/>
                        </a:lnTo>
                        <a:lnTo>
                          <a:pt x="39" y="1446"/>
                        </a:lnTo>
                        <a:lnTo>
                          <a:pt x="34" y="1446"/>
                        </a:lnTo>
                        <a:lnTo>
                          <a:pt x="29" y="1446"/>
                        </a:lnTo>
                        <a:lnTo>
                          <a:pt x="24" y="1446"/>
                        </a:lnTo>
                        <a:lnTo>
                          <a:pt x="20" y="1451"/>
                        </a:lnTo>
                        <a:lnTo>
                          <a:pt x="15" y="1451"/>
                        </a:lnTo>
                        <a:lnTo>
                          <a:pt x="10" y="1451"/>
                        </a:lnTo>
                        <a:lnTo>
                          <a:pt x="5" y="1456"/>
                        </a:lnTo>
                        <a:lnTo>
                          <a:pt x="0" y="1456"/>
                        </a:lnTo>
                        <a:lnTo>
                          <a:pt x="0" y="1451"/>
                        </a:lnTo>
                        <a:lnTo>
                          <a:pt x="5" y="1451"/>
                        </a:lnTo>
                        <a:lnTo>
                          <a:pt x="5" y="1446"/>
                        </a:lnTo>
                        <a:lnTo>
                          <a:pt x="5" y="1441"/>
                        </a:lnTo>
                        <a:lnTo>
                          <a:pt x="10" y="1441"/>
                        </a:lnTo>
                        <a:lnTo>
                          <a:pt x="10" y="1437"/>
                        </a:lnTo>
                        <a:lnTo>
                          <a:pt x="15" y="1437"/>
                        </a:lnTo>
                        <a:lnTo>
                          <a:pt x="15" y="1432"/>
                        </a:lnTo>
                        <a:lnTo>
                          <a:pt x="20" y="1427"/>
                        </a:lnTo>
                        <a:lnTo>
                          <a:pt x="24" y="1422"/>
                        </a:lnTo>
                        <a:lnTo>
                          <a:pt x="24" y="1417"/>
                        </a:lnTo>
                        <a:lnTo>
                          <a:pt x="29" y="1417"/>
                        </a:lnTo>
                        <a:lnTo>
                          <a:pt x="29" y="1413"/>
                        </a:lnTo>
                        <a:lnTo>
                          <a:pt x="34" y="1413"/>
                        </a:lnTo>
                        <a:lnTo>
                          <a:pt x="34" y="1408"/>
                        </a:lnTo>
                        <a:lnTo>
                          <a:pt x="39" y="1403"/>
                        </a:lnTo>
                        <a:lnTo>
                          <a:pt x="39" y="1398"/>
                        </a:lnTo>
                        <a:lnTo>
                          <a:pt x="43" y="1398"/>
                        </a:lnTo>
                        <a:lnTo>
                          <a:pt x="43" y="1394"/>
                        </a:lnTo>
                        <a:lnTo>
                          <a:pt x="43" y="1389"/>
                        </a:lnTo>
                        <a:lnTo>
                          <a:pt x="67" y="1360"/>
                        </a:lnTo>
                        <a:lnTo>
                          <a:pt x="87" y="1326"/>
                        </a:lnTo>
                        <a:lnTo>
                          <a:pt x="111" y="1293"/>
                        </a:lnTo>
                        <a:lnTo>
                          <a:pt x="130" y="1259"/>
                        </a:lnTo>
                        <a:lnTo>
                          <a:pt x="154" y="1226"/>
                        </a:lnTo>
                        <a:lnTo>
                          <a:pt x="173" y="1192"/>
                        </a:lnTo>
                        <a:lnTo>
                          <a:pt x="197" y="1164"/>
                        </a:lnTo>
                        <a:lnTo>
                          <a:pt x="221" y="1130"/>
                        </a:lnTo>
                        <a:lnTo>
                          <a:pt x="245" y="1097"/>
                        </a:lnTo>
                        <a:lnTo>
                          <a:pt x="264" y="1063"/>
                        </a:lnTo>
                        <a:lnTo>
                          <a:pt x="288" y="1034"/>
                        </a:lnTo>
                        <a:lnTo>
                          <a:pt x="312" y="1001"/>
                        </a:lnTo>
                        <a:lnTo>
                          <a:pt x="336" y="967"/>
                        </a:lnTo>
                        <a:lnTo>
                          <a:pt x="360" y="934"/>
                        </a:lnTo>
                        <a:lnTo>
                          <a:pt x="379" y="905"/>
                        </a:lnTo>
                        <a:lnTo>
                          <a:pt x="403" y="872"/>
                        </a:lnTo>
                        <a:lnTo>
                          <a:pt x="427" y="838"/>
                        </a:lnTo>
                        <a:lnTo>
                          <a:pt x="451" y="805"/>
                        </a:lnTo>
                        <a:lnTo>
                          <a:pt x="475" y="776"/>
                        </a:lnTo>
                        <a:lnTo>
                          <a:pt x="499" y="742"/>
                        </a:lnTo>
                        <a:lnTo>
                          <a:pt x="523" y="709"/>
                        </a:lnTo>
                        <a:lnTo>
                          <a:pt x="552" y="680"/>
                        </a:lnTo>
                        <a:lnTo>
                          <a:pt x="576" y="647"/>
                        </a:lnTo>
                        <a:lnTo>
                          <a:pt x="600" y="618"/>
                        </a:lnTo>
                        <a:lnTo>
                          <a:pt x="624" y="584"/>
                        </a:lnTo>
                        <a:lnTo>
                          <a:pt x="648" y="556"/>
                        </a:lnTo>
                        <a:lnTo>
                          <a:pt x="677" y="522"/>
                        </a:lnTo>
                        <a:lnTo>
                          <a:pt x="701" y="489"/>
                        </a:lnTo>
                        <a:lnTo>
                          <a:pt x="725" y="460"/>
                        </a:lnTo>
                        <a:lnTo>
                          <a:pt x="753" y="431"/>
                        </a:lnTo>
                        <a:lnTo>
                          <a:pt x="777" y="398"/>
                        </a:lnTo>
                        <a:lnTo>
                          <a:pt x="801" y="369"/>
                        </a:lnTo>
                        <a:lnTo>
                          <a:pt x="806" y="364"/>
                        </a:lnTo>
                        <a:lnTo>
                          <a:pt x="811" y="359"/>
                        </a:lnTo>
                        <a:lnTo>
                          <a:pt x="816" y="359"/>
                        </a:lnTo>
                        <a:lnTo>
                          <a:pt x="816" y="354"/>
                        </a:lnTo>
                        <a:lnTo>
                          <a:pt x="821" y="354"/>
                        </a:lnTo>
                        <a:lnTo>
                          <a:pt x="821" y="350"/>
                        </a:lnTo>
                        <a:lnTo>
                          <a:pt x="825" y="345"/>
                        </a:lnTo>
                        <a:lnTo>
                          <a:pt x="830" y="340"/>
                        </a:lnTo>
                        <a:lnTo>
                          <a:pt x="835" y="335"/>
                        </a:lnTo>
                        <a:lnTo>
                          <a:pt x="840" y="331"/>
                        </a:lnTo>
                        <a:lnTo>
                          <a:pt x="845" y="326"/>
                        </a:lnTo>
                        <a:lnTo>
                          <a:pt x="849" y="321"/>
                        </a:lnTo>
                        <a:lnTo>
                          <a:pt x="854" y="316"/>
                        </a:lnTo>
                        <a:lnTo>
                          <a:pt x="859" y="311"/>
                        </a:lnTo>
                        <a:lnTo>
                          <a:pt x="859" y="307"/>
                        </a:lnTo>
                        <a:lnTo>
                          <a:pt x="864" y="307"/>
                        </a:lnTo>
                        <a:lnTo>
                          <a:pt x="864" y="302"/>
                        </a:lnTo>
                        <a:lnTo>
                          <a:pt x="869" y="302"/>
                        </a:lnTo>
                        <a:lnTo>
                          <a:pt x="869" y="297"/>
                        </a:lnTo>
                        <a:lnTo>
                          <a:pt x="873" y="297"/>
                        </a:lnTo>
                        <a:lnTo>
                          <a:pt x="873" y="292"/>
                        </a:lnTo>
                        <a:lnTo>
                          <a:pt x="878" y="292"/>
                        </a:lnTo>
                        <a:lnTo>
                          <a:pt x="878" y="287"/>
                        </a:lnTo>
                        <a:lnTo>
                          <a:pt x="883" y="287"/>
                        </a:lnTo>
                        <a:lnTo>
                          <a:pt x="888" y="287"/>
                        </a:lnTo>
                        <a:lnTo>
                          <a:pt x="897" y="292"/>
                        </a:lnTo>
                        <a:lnTo>
                          <a:pt x="902" y="292"/>
                        </a:lnTo>
                        <a:lnTo>
                          <a:pt x="912" y="297"/>
                        </a:lnTo>
                        <a:lnTo>
                          <a:pt x="917" y="297"/>
                        </a:lnTo>
                        <a:lnTo>
                          <a:pt x="926" y="297"/>
                        </a:lnTo>
                        <a:lnTo>
                          <a:pt x="931" y="302"/>
                        </a:lnTo>
                        <a:lnTo>
                          <a:pt x="941" y="302"/>
                        </a:lnTo>
                        <a:lnTo>
                          <a:pt x="945" y="302"/>
                        </a:lnTo>
                        <a:lnTo>
                          <a:pt x="955" y="302"/>
                        </a:lnTo>
                        <a:lnTo>
                          <a:pt x="960" y="307"/>
                        </a:lnTo>
                        <a:lnTo>
                          <a:pt x="969" y="307"/>
                        </a:lnTo>
                        <a:lnTo>
                          <a:pt x="974" y="307"/>
                        </a:lnTo>
                        <a:lnTo>
                          <a:pt x="984" y="307"/>
                        </a:lnTo>
                        <a:lnTo>
                          <a:pt x="989" y="307"/>
                        </a:lnTo>
                        <a:lnTo>
                          <a:pt x="998" y="307"/>
                        </a:lnTo>
                        <a:lnTo>
                          <a:pt x="1003" y="307"/>
                        </a:lnTo>
                        <a:lnTo>
                          <a:pt x="1013" y="307"/>
                        </a:lnTo>
                        <a:lnTo>
                          <a:pt x="1017" y="307"/>
                        </a:lnTo>
                        <a:lnTo>
                          <a:pt x="1027" y="307"/>
                        </a:lnTo>
                        <a:lnTo>
                          <a:pt x="1032" y="307"/>
                        </a:lnTo>
                        <a:lnTo>
                          <a:pt x="1041" y="302"/>
                        </a:lnTo>
                        <a:lnTo>
                          <a:pt x="1046" y="302"/>
                        </a:lnTo>
                        <a:lnTo>
                          <a:pt x="1056" y="302"/>
                        </a:lnTo>
                        <a:lnTo>
                          <a:pt x="1060" y="302"/>
                        </a:lnTo>
                        <a:lnTo>
                          <a:pt x="1070" y="297"/>
                        </a:lnTo>
                        <a:lnTo>
                          <a:pt x="1075" y="297"/>
                        </a:lnTo>
                        <a:lnTo>
                          <a:pt x="1080" y="292"/>
                        </a:lnTo>
                        <a:lnTo>
                          <a:pt x="1089" y="292"/>
                        </a:lnTo>
                        <a:lnTo>
                          <a:pt x="1094" y="287"/>
                        </a:lnTo>
                        <a:lnTo>
                          <a:pt x="1104" y="287"/>
                        </a:lnTo>
                        <a:lnTo>
                          <a:pt x="1108" y="283"/>
                        </a:lnTo>
                        <a:lnTo>
                          <a:pt x="1108" y="287"/>
                        </a:lnTo>
                        <a:lnTo>
                          <a:pt x="1108" y="292"/>
                        </a:lnTo>
                        <a:lnTo>
                          <a:pt x="1113" y="292"/>
                        </a:lnTo>
                        <a:lnTo>
                          <a:pt x="1113" y="297"/>
                        </a:lnTo>
                        <a:lnTo>
                          <a:pt x="1118" y="302"/>
                        </a:lnTo>
                        <a:lnTo>
                          <a:pt x="1118" y="307"/>
                        </a:lnTo>
                        <a:lnTo>
                          <a:pt x="1123" y="307"/>
                        </a:lnTo>
                        <a:lnTo>
                          <a:pt x="1123" y="311"/>
                        </a:lnTo>
                        <a:lnTo>
                          <a:pt x="1128" y="316"/>
                        </a:lnTo>
                        <a:lnTo>
                          <a:pt x="1132" y="316"/>
                        </a:lnTo>
                        <a:lnTo>
                          <a:pt x="1132" y="321"/>
                        </a:lnTo>
                        <a:lnTo>
                          <a:pt x="1137" y="321"/>
                        </a:lnTo>
                        <a:lnTo>
                          <a:pt x="1137" y="326"/>
                        </a:lnTo>
                        <a:lnTo>
                          <a:pt x="1142" y="326"/>
                        </a:lnTo>
                        <a:lnTo>
                          <a:pt x="1142" y="331"/>
                        </a:lnTo>
                        <a:lnTo>
                          <a:pt x="1147" y="331"/>
                        </a:lnTo>
                        <a:lnTo>
                          <a:pt x="1152" y="335"/>
                        </a:lnTo>
                        <a:lnTo>
                          <a:pt x="1156" y="335"/>
                        </a:lnTo>
                        <a:lnTo>
                          <a:pt x="1156" y="340"/>
                        </a:lnTo>
                        <a:lnTo>
                          <a:pt x="1161" y="340"/>
                        </a:lnTo>
                        <a:lnTo>
                          <a:pt x="1161" y="345"/>
                        </a:lnTo>
                        <a:lnTo>
                          <a:pt x="1166" y="345"/>
                        </a:lnTo>
                        <a:lnTo>
                          <a:pt x="1171" y="350"/>
                        </a:lnTo>
                        <a:lnTo>
                          <a:pt x="1171" y="354"/>
                        </a:lnTo>
                        <a:lnTo>
                          <a:pt x="1176" y="359"/>
                        </a:lnTo>
                        <a:lnTo>
                          <a:pt x="1180" y="359"/>
                        </a:lnTo>
                        <a:lnTo>
                          <a:pt x="1180" y="364"/>
                        </a:lnTo>
                        <a:lnTo>
                          <a:pt x="1185" y="364"/>
                        </a:lnTo>
                        <a:lnTo>
                          <a:pt x="1190" y="364"/>
                        </a:lnTo>
                        <a:lnTo>
                          <a:pt x="1195" y="364"/>
                        </a:lnTo>
                        <a:lnTo>
                          <a:pt x="1195" y="369"/>
                        </a:lnTo>
                        <a:lnTo>
                          <a:pt x="1200" y="369"/>
                        </a:lnTo>
                        <a:lnTo>
                          <a:pt x="1204" y="369"/>
                        </a:lnTo>
                        <a:lnTo>
                          <a:pt x="1209" y="374"/>
                        </a:lnTo>
                        <a:lnTo>
                          <a:pt x="1214" y="374"/>
                        </a:lnTo>
                        <a:lnTo>
                          <a:pt x="1219" y="374"/>
                        </a:lnTo>
                        <a:lnTo>
                          <a:pt x="1224" y="378"/>
                        </a:lnTo>
                        <a:lnTo>
                          <a:pt x="1228" y="378"/>
                        </a:lnTo>
                        <a:lnTo>
                          <a:pt x="1233" y="378"/>
                        </a:lnTo>
                        <a:lnTo>
                          <a:pt x="1238" y="378"/>
                        </a:lnTo>
                        <a:lnTo>
                          <a:pt x="1243" y="383"/>
                        </a:lnTo>
                        <a:lnTo>
                          <a:pt x="1248" y="383"/>
                        </a:lnTo>
                        <a:lnTo>
                          <a:pt x="1252" y="383"/>
                        </a:lnTo>
                        <a:lnTo>
                          <a:pt x="1257" y="383"/>
                        </a:lnTo>
                        <a:lnTo>
                          <a:pt x="1262" y="383"/>
                        </a:lnTo>
                        <a:lnTo>
                          <a:pt x="1267" y="383"/>
                        </a:lnTo>
                        <a:lnTo>
                          <a:pt x="1272" y="383"/>
                        </a:lnTo>
                        <a:lnTo>
                          <a:pt x="1276" y="383"/>
                        </a:lnTo>
                        <a:lnTo>
                          <a:pt x="1281" y="383"/>
                        </a:lnTo>
                        <a:lnTo>
                          <a:pt x="1286" y="383"/>
                        </a:lnTo>
                        <a:lnTo>
                          <a:pt x="1291" y="383"/>
                        </a:lnTo>
                        <a:lnTo>
                          <a:pt x="1296" y="383"/>
                        </a:lnTo>
                        <a:lnTo>
                          <a:pt x="1300" y="383"/>
                        </a:lnTo>
                        <a:lnTo>
                          <a:pt x="1305" y="383"/>
                        </a:lnTo>
                        <a:lnTo>
                          <a:pt x="1315" y="378"/>
                        </a:lnTo>
                        <a:lnTo>
                          <a:pt x="1320" y="378"/>
                        </a:lnTo>
                        <a:lnTo>
                          <a:pt x="1324" y="378"/>
                        </a:lnTo>
                        <a:lnTo>
                          <a:pt x="1329" y="378"/>
                        </a:lnTo>
                        <a:lnTo>
                          <a:pt x="1334" y="378"/>
                        </a:lnTo>
                        <a:lnTo>
                          <a:pt x="1339" y="378"/>
                        </a:lnTo>
                        <a:lnTo>
                          <a:pt x="1344" y="374"/>
                        </a:lnTo>
                        <a:lnTo>
                          <a:pt x="1348" y="374"/>
                        </a:lnTo>
                        <a:lnTo>
                          <a:pt x="1353" y="374"/>
                        </a:lnTo>
                        <a:lnTo>
                          <a:pt x="1358" y="374"/>
                        </a:lnTo>
                        <a:lnTo>
                          <a:pt x="1363" y="369"/>
                        </a:lnTo>
                        <a:lnTo>
                          <a:pt x="1367" y="369"/>
                        </a:lnTo>
                        <a:lnTo>
                          <a:pt x="1372" y="369"/>
                        </a:lnTo>
                        <a:lnTo>
                          <a:pt x="1377" y="364"/>
                        </a:lnTo>
                        <a:lnTo>
                          <a:pt x="1382" y="364"/>
                        </a:lnTo>
                        <a:lnTo>
                          <a:pt x="1387" y="359"/>
                        </a:lnTo>
                        <a:lnTo>
                          <a:pt x="1391" y="359"/>
                        </a:lnTo>
                        <a:lnTo>
                          <a:pt x="1396" y="359"/>
                        </a:lnTo>
                        <a:lnTo>
                          <a:pt x="1401" y="354"/>
                        </a:lnTo>
                        <a:lnTo>
                          <a:pt x="1406" y="354"/>
                        </a:lnTo>
                        <a:lnTo>
                          <a:pt x="1411" y="350"/>
                        </a:lnTo>
                        <a:lnTo>
                          <a:pt x="1415" y="345"/>
                        </a:lnTo>
                        <a:lnTo>
                          <a:pt x="1420" y="340"/>
                        </a:lnTo>
                        <a:lnTo>
                          <a:pt x="1425" y="340"/>
                        </a:lnTo>
                        <a:lnTo>
                          <a:pt x="1435" y="331"/>
                        </a:lnTo>
                        <a:lnTo>
                          <a:pt x="1444" y="326"/>
                        </a:lnTo>
                        <a:lnTo>
                          <a:pt x="1454" y="316"/>
                        </a:lnTo>
                        <a:lnTo>
                          <a:pt x="1463" y="307"/>
                        </a:lnTo>
                        <a:lnTo>
                          <a:pt x="1473" y="297"/>
                        </a:lnTo>
                        <a:lnTo>
                          <a:pt x="1483" y="292"/>
                        </a:lnTo>
                        <a:lnTo>
                          <a:pt x="1487" y="283"/>
                        </a:lnTo>
                        <a:lnTo>
                          <a:pt x="1497" y="273"/>
                        </a:lnTo>
                        <a:lnTo>
                          <a:pt x="1502" y="263"/>
                        </a:lnTo>
                        <a:lnTo>
                          <a:pt x="1511" y="254"/>
                        </a:lnTo>
                        <a:lnTo>
                          <a:pt x="1516" y="244"/>
                        </a:lnTo>
                        <a:lnTo>
                          <a:pt x="1521" y="235"/>
                        </a:lnTo>
                        <a:lnTo>
                          <a:pt x="1531" y="220"/>
                        </a:lnTo>
                        <a:lnTo>
                          <a:pt x="1535" y="211"/>
                        </a:lnTo>
                        <a:lnTo>
                          <a:pt x="1540" y="201"/>
                        </a:lnTo>
                        <a:lnTo>
                          <a:pt x="1545" y="192"/>
                        </a:lnTo>
                        <a:lnTo>
                          <a:pt x="1550" y="182"/>
                        </a:lnTo>
                        <a:lnTo>
                          <a:pt x="1559" y="173"/>
                        </a:lnTo>
                        <a:lnTo>
                          <a:pt x="1564" y="163"/>
                        </a:lnTo>
                        <a:lnTo>
                          <a:pt x="1569" y="149"/>
                        </a:lnTo>
                        <a:lnTo>
                          <a:pt x="1574" y="139"/>
                        </a:lnTo>
                        <a:lnTo>
                          <a:pt x="1579" y="129"/>
                        </a:lnTo>
                        <a:lnTo>
                          <a:pt x="1583" y="120"/>
                        </a:lnTo>
                        <a:lnTo>
                          <a:pt x="1593" y="110"/>
                        </a:lnTo>
                        <a:lnTo>
                          <a:pt x="1598" y="101"/>
                        </a:lnTo>
                        <a:lnTo>
                          <a:pt x="1603" y="91"/>
                        </a:lnTo>
                        <a:lnTo>
                          <a:pt x="1612" y="82"/>
                        </a:lnTo>
                        <a:lnTo>
                          <a:pt x="1617" y="72"/>
                        </a:lnTo>
                        <a:lnTo>
                          <a:pt x="1627" y="62"/>
                        </a:lnTo>
                        <a:lnTo>
                          <a:pt x="1631" y="53"/>
                        </a:lnTo>
                        <a:lnTo>
                          <a:pt x="1641" y="43"/>
                        </a:lnTo>
                        <a:lnTo>
                          <a:pt x="1651" y="34"/>
                        </a:lnTo>
                        <a:lnTo>
                          <a:pt x="1660" y="0"/>
                        </a:lnTo>
                        <a:lnTo>
                          <a:pt x="1675" y="0"/>
                        </a:lnTo>
                        <a:lnTo>
                          <a:pt x="1684" y="0"/>
                        </a:lnTo>
                        <a:lnTo>
                          <a:pt x="1698" y="0"/>
                        </a:lnTo>
                        <a:lnTo>
                          <a:pt x="1713" y="0"/>
                        </a:lnTo>
                        <a:lnTo>
                          <a:pt x="1727" y="5"/>
                        </a:lnTo>
                        <a:lnTo>
                          <a:pt x="1737" y="5"/>
                        </a:lnTo>
                        <a:lnTo>
                          <a:pt x="1751" y="5"/>
                        </a:lnTo>
                        <a:lnTo>
                          <a:pt x="1766" y="10"/>
                        </a:lnTo>
                        <a:lnTo>
                          <a:pt x="1775" y="10"/>
                        </a:lnTo>
                        <a:lnTo>
                          <a:pt x="1790" y="10"/>
                        </a:lnTo>
                        <a:lnTo>
                          <a:pt x="1804" y="14"/>
                        </a:lnTo>
                        <a:lnTo>
                          <a:pt x="1814" y="14"/>
                        </a:lnTo>
                        <a:lnTo>
                          <a:pt x="1828" y="19"/>
                        </a:lnTo>
                        <a:lnTo>
                          <a:pt x="1842" y="24"/>
                        </a:lnTo>
                        <a:lnTo>
                          <a:pt x="1852" y="24"/>
                        </a:lnTo>
                        <a:lnTo>
                          <a:pt x="1866" y="29"/>
                        </a:lnTo>
                        <a:lnTo>
                          <a:pt x="1876" y="34"/>
                        </a:lnTo>
                        <a:lnTo>
                          <a:pt x="1890" y="38"/>
                        </a:lnTo>
                        <a:lnTo>
                          <a:pt x="1905" y="38"/>
                        </a:lnTo>
                        <a:lnTo>
                          <a:pt x="1914" y="43"/>
                        </a:lnTo>
                        <a:lnTo>
                          <a:pt x="1929" y="48"/>
                        </a:lnTo>
                        <a:lnTo>
                          <a:pt x="1938" y="53"/>
                        </a:lnTo>
                        <a:lnTo>
                          <a:pt x="1953" y="58"/>
                        </a:lnTo>
                        <a:lnTo>
                          <a:pt x="1962" y="62"/>
                        </a:lnTo>
                        <a:lnTo>
                          <a:pt x="1977" y="67"/>
                        </a:lnTo>
                        <a:lnTo>
                          <a:pt x="1986" y="72"/>
                        </a:lnTo>
                        <a:lnTo>
                          <a:pt x="2001" y="77"/>
                        </a:lnTo>
                        <a:lnTo>
                          <a:pt x="2010" y="86"/>
                        </a:lnTo>
                        <a:lnTo>
                          <a:pt x="2025" y="91"/>
                        </a:lnTo>
                        <a:lnTo>
                          <a:pt x="2034" y="96"/>
                        </a:lnTo>
                        <a:lnTo>
                          <a:pt x="2044" y="101"/>
                        </a:lnTo>
                        <a:lnTo>
                          <a:pt x="2058" y="110"/>
                        </a:lnTo>
                        <a:close/>
                      </a:path>
                    </a:pathLst>
                  </a:custGeom>
                  <a:solidFill>
                    <a:srgbClr val="d9e86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5" name=""/>
                  <p:cNvSpPr/>
                  <p:nvPr/>
                </p:nvSpPr>
                <p:spPr>
                  <a:xfrm flipH="1">
                    <a:off x="3933360" y="4612320"/>
                    <a:ext cx="21240" cy="6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25" h="374">
                        <a:moveTo>
                          <a:pt x="101" y="220"/>
                        </a:moveTo>
                        <a:lnTo>
                          <a:pt x="125" y="263"/>
                        </a:lnTo>
                        <a:lnTo>
                          <a:pt x="125" y="268"/>
                        </a:lnTo>
                        <a:lnTo>
                          <a:pt x="120" y="273"/>
                        </a:lnTo>
                        <a:lnTo>
                          <a:pt x="120" y="278"/>
                        </a:lnTo>
                        <a:lnTo>
                          <a:pt x="120" y="283"/>
                        </a:lnTo>
                        <a:lnTo>
                          <a:pt x="116" y="287"/>
                        </a:lnTo>
                        <a:lnTo>
                          <a:pt x="116" y="292"/>
                        </a:lnTo>
                        <a:lnTo>
                          <a:pt x="111" y="297"/>
                        </a:lnTo>
                        <a:lnTo>
                          <a:pt x="111" y="302"/>
                        </a:lnTo>
                        <a:lnTo>
                          <a:pt x="106" y="306"/>
                        </a:lnTo>
                        <a:lnTo>
                          <a:pt x="106" y="311"/>
                        </a:lnTo>
                        <a:lnTo>
                          <a:pt x="101" y="316"/>
                        </a:lnTo>
                        <a:lnTo>
                          <a:pt x="96" y="321"/>
                        </a:lnTo>
                        <a:lnTo>
                          <a:pt x="96" y="326"/>
                        </a:lnTo>
                        <a:lnTo>
                          <a:pt x="92" y="326"/>
                        </a:lnTo>
                        <a:lnTo>
                          <a:pt x="92" y="330"/>
                        </a:lnTo>
                        <a:lnTo>
                          <a:pt x="87" y="335"/>
                        </a:lnTo>
                        <a:lnTo>
                          <a:pt x="87" y="340"/>
                        </a:lnTo>
                        <a:lnTo>
                          <a:pt x="82" y="340"/>
                        </a:lnTo>
                        <a:lnTo>
                          <a:pt x="82" y="345"/>
                        </a:lnTo>
                        <a:lnTo>
                          <a:pt x="77" y="350"/>
                        </a:lnTo>
                        <a:lnTo>
                          <a:pt x="72" y="354"/>
                        </a:lnTo>
                        <a:lnTo>
                          <a:pt x="72" y="359"/>
                        </a:lnTo>
                        <a:lnTo>
                          <a:pt x="68" y="359"/>
                        </a:lnTo>
                        <a:lnTo>
                          <a:pt x="63" y="364"/>
                        </a:lnTo>
                        <a:lnTo>
                          <a:pt x="58" y="369"/>
                        </a:lnTo>
                        <a:lnTo>
                          <a:pt x="58" y="374"/>
                        </a:lnTo>
                        <a:lnTo>
                          <a:pt x="53" y="374"/>
                        </a:lnTo>
                        <a:lnTo>
                          <a:pt x="0" y="0"/>
                        </a:lnTo>
                        <a:lnTo>
                          <a:pt x="5" y="5"/>
                        </a:lnTo>
                        <a:lnTo>
                          <a:pt x="10" y="14"/>
                        </a:lnTo>
                        <a:lnTo>
                          <a:pt x="10" y="19"/>
                        </a:lnTo>
                        <a:lnTo>
                          <a:pt x="15" y="24"/>
                        </a:lnTo>
                        <a:lnTo>
                          <a:pt x="20" y="34"/>
                        </a:lnTo>
                        <a:lnTo>
                          <a:pt x="24" y="38"/>
                        </a:lnTo>
                        <a:lnTo>
                          <a:pt x="29" y="48"/>
                        </a:lnTo>
                        <a:lnTo>
                          <a:pt x="34" y="53"/>
                        </a:lnTo>
                        <a:lnTo>
                          <a:pt x="39" y="58"/>
                        </a:lnTo>
                        <a:lnTo>
                          <a:pt x="39" y="67"/>
                        </a:lnTo>
                        <a:lnTo>
                          <a:pt x="44" y="72"/>
                        </a:lnTo>
                        <a:lnTo>
                          <a:pt x="48" y="77"/>
                        </a:lnTo>
                        <a:lnTo>
                          <a:pt x="53" y="86"/>
                        </a:lnTo>
                        <a:lnTo>
                          <a:pt x="53" y="91"/>
                        </a:lnTo>
                        <a:lnTo>
                          <a:pt x="58" y="101"/>
                        </a:lnTo>
                        <a:lnTo>
                          <a:pt x="63" y="105"/>
                        </a:lnTo>
                        <a:lnTo>
                          <a:pt x="63" y="115"/>
                        </a:lnTo>
                        <a:lnTo>
                          <a:pt x="68" y="120"/>
                        </a:lnTo>
                        <a:lnTo>
                          <a:pt x="72" y="129"/>
                        </a:lnTo>
                        <a:lnTo>
                          <a:pt x="72" y="134"/>
                        </a:lnTo>
                        <a:lnTo>
                          <a:pt x="77" y="139"/>
                        </a:lnTo>
                        <a:lnTo>
                          <a:pt x="82" y="148"/>
                        </a:lnTo>
                        <a:lnTo>
                          <a:pt x="82" y="153"/>
                        </a:lnTo>
                        <a:lnTo>
                          <a:pt x="87" y="163"/>
                        </a:lnTo>
                        <a:lnTo>
                          <a:pt x="87" y="168"/>
                        </a:lnTo>
                        <a:lnTo>
                          <a:pt x="92" y="177"/>
                        </a:lnTo>
                        <a:lnTo>
                          <a:pt x="92" y="182"/>
                        </a:lnTo>
                        <a:lnTo>
                          <a:pt x="96" y="192"/>
                        </a:lnTo>
                        <a:lnTo>
                          <a:pt x="96" y="201"/>
                        </a:lnTo>
                        <a:lnTo>
                          <a:pt x="101" y="206"/>
                        </a:lnTo>
                        <a:lnTo>
                          <a:pt x="101" y="216"/>
                        </a:lnTo>
                        <a:lnTo>
                          <a:pt x="101" y="22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0" bIns="14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6" name=""/>
                  <p:cNvSpPr/>
                  <p:nvPr/>
                </p:nvSpPr>
                <p:spPr>
                  <a:xfrm flipH="1">
                    <a:off x="3756960" y="4628160"/>
                    <a:ext cx="92520" cy="196920"/>
                  </a:xfrm>
                  <a:custGeom>
                    <a:avLst/>
                    <a:gdLst/>
                    <a:ahLst/>
                    <a:rect l="l" t="t" r="r" b="b"/>
                    <a:pathLst>
                      <a:path w="547" h="1202">
                        <a:moveTo>
                          <a:pt x="475" y="120"/>
                        </a:moveTo>
                        <a:lnTo>
                          <a:pt x="480" y="139"/>
                        </a:lnTo>
                        <a:lnTo>
                          <a:pt x="490" y="158"/>
                        </a:lnTo>
                        <a:lnTo>
                          <a:pt x="494" y="172"/>
                        </a:lnTo>
                        <a:lnTo>
                          <a:pt x="499" y="191"/>
                        </a:lnTo>
                        <a:lnTo>
                          <a:pt x="504" y="210"/>
                        </a:lnTo>
                        <a:lnTo>
                          <a:pt x="509" y="230"/>
                        </a:lnTo>
                        <a:lnTo>
                          <a:pt x="514" y="249"/>
                        </a:lnTo>
                        <a:lnTo>
                          <a:pt x="518" y="268"/>
                        </a:lnTo>
                        <a:lnTo>
                          <a:pt x="523" y="287"/>
                        </a:lnTo>
                        <a:lnTo>
                          <a:pt x="523" y="306"/>
                        </a:lnTo>
                        <a:lnTo>
                          <a:pt x="528" y="325"/>
                        </a:lnTo>
                        <a:lnTo>
                          <a:pt x="533" y="345"/>
                        </a:lnTo>
                        <a:lnTo>
                          <a:pt x="533" y="364"/>
                        </a:lnTo>
                        <a:lnTo>
                          <a:pt x="538" y="383"/>
                        </a:lnTo>
                        <a:lnTo>
                          <a:pt x="538" y="407"/>
                        </a:lnTo>
                        <a:lnTo>
                          <a:pt x="542" y="426"/>
                        </a:lnTo>
                        <a:lnTo>
                          <a:pt x="542" y="445"/>
                        </a:lnTo>
                        <a:lnTo>
                          <a:pt x="542" y="464"/>
                        </a:lnTo>
                        <a:lnTo>
                          <a:pt x="542" y="483"/>
                        </a:lnTo>
                        <a:lnTo>
                          <a:pt x="547" y="503"/>
                        </a:lnTo>
                        <a:lnTo>
                          <a:pt x="547" y="527"/>
                        </a:lnTo>
                        <a:lnTo>
                          <a:pt x="547" y="546"/>
                        </a:lnTo>
                        <a:lnTo>
                          <a:pt x="547" y="565"/>
                        </a:lnTo>
                        <a:lnTo>
                          <a:pt x="547" y="584"/>
                        </a:lnTo>
                        <a:lnTo>
                          <a:pt x="547" y="603"/>
                        </a:lnTo>
                        <a:lnTo>
                          <a:pt x="547" y="622"/>
                        </a:lnTo>
                        <a:lnTo>
                          <a:pt x="547" y="641"/>
                        </a:lnTo>
                        <a:lnTo>
                          <a:pt x="547" y="661"/>
                        </a:lnTo>
                        <a:lnTo>
                          <a:pt x="547" y="680"/>
                        </a:lnTo>
                        <a:lnTo>
                          <a:pt x="547" y="699"/>
                        </a:lnTo>
                        <a:lnTo>
                          <a:pt x="542" y="713"/>
                        </a:lnTo>
                        <a:lnTo>
                          <a:pt x="542" y="732"/>
                        </a:lnTo>
                        <a:lnTo>
                          <a:pt x="542" y="752"/>
                        </a:lnTo>
                        <a:lnTo>
                          <a:pt x="538" y="766"/>
                        </a:lnTo>
                        <a:lnTo>
                          <a:pt x="533" y="785"/>
                        </a:lnTo>
                        <a:lnTo>
                          <a:pt x="533" y="799"/>
                        </a:lnTo>
                        <a:lnTo>
                          <a:pt x="528" y="819"/>
                        </a:lnTo>
                        <a:lnTo>
                          <a:pt x="523" y="833"/>
                        </a:lnTo>
                        <a:lnTo>
                          <a:pt x="518" y="852"/>
                        </a:lnTo>
                        <a:lnTo>
                          <a:pt x="514" y="866"/>
                        </a:lnTo>
                        <a:lnTo>
                          <a:pt x="509" y="886"/>
                        </a:lnTo>
                        <a:lnTo>
                          <a:pt x="499" y="900"/>
                        </a:lnTo>
                        <a:lnTo>
                          <a:pt x="494" y="919"/>
                        </a:lnTo>
                        <a:lnTo>
                          <a:pt x="490" y="934"/>
                        </a:lnTo>
                        <a:lnTo>
                          <a:pt x="480" y="948"/>
                        </a:lnTo>
                        <a:lnTo>
                          <a:pt x="475" y="967"/>
                        </a:lnTo>
                        <a:lnTo>
                          <a:pt x="466" y="981"/>
                        </a:lnTo>
                        <a:lnTo>
                          <a:pt x="456" y="996"/>
                        </a:lnTo>
                        <a:lnTo>
                          <a:pt x="451" y="1010"/>
                        </a:lnTo>
                        <a:lnTo>
                          <a:pt x="442" y="1029"/>
                        </a:lnTo>
                        <a:lnTo>
                          <a:pt x="432" y="1044"/>
                        </a:lnTo>
                        <a:lnTo>
                          <a:pt x="422" y="1058"/>
                        </a:lnTo>
                        <a:lnTo>
                          <a:pt x="408" y="1072"/>
                        </a:lnTo>
                        <a:lnTo>
                          <a:pt x="398" y="1082"/>
                        </a:lnTo>
                        <a:lnTo>
                          <a:pt x="389" y="1096"/>
                        </a:lnTo>
                        <a:lnTo>
                          <a:pt x="374" y="1111"/>
                        </a:lnTo>
                        <a:lnTo>
                          <a:pt x="365" y="1125"/>
                        </a:lnTo>
                        <a:lnTo>
                          <a:pt x="351" y="1135"/>
                        </a:lnTo>
                        <a:lnTo>
                          <a:pt x="341" y="1149"/>
                        </a:lnTo>
                        <a:lnTo>
                          <a:pt x="327" y="1159"/>
                        </a:lnTo>
                        <a:lnTo>
                          <a:pt x="312" y="1173"/>
                        </a:lnTo>
                        <a:lnTo>
                          <a:pt x="298" y="1183"/>
                        </a:lnTo>
                        <a:lnTo>
                          <a:pt x="283" y="1192"/>
                        </a:lnTo>
                        <a:lnTo>
                          <a:pt x="269" y="1202"/>
                        </a:lnTo>
                        <a:lnTo>
                          <a:pt x="269" y="1197"/>
                        </a:lnTo>
                        <a:lnTo>
                          <a:pt x="274" y="1187"/>
                        </a:lnTo>
                        <a:lnTo>
                          <a:pt x="274" y="1183"/>
                        </a:lnTo>
                        <a:lnTo>
                          <a:pt x="279" y="1178"/>
                        </a:lnTo>
                        <a:lnTo>
                          <a:pt x="279" y="1168"/>
                        </a:lnTo>
                        <a:lnTo>
                          <a:pt x="283" y="1163"/>
                        </a:lnTo>
                        <a:lnTo>
                          <a:pt x="283" y="1159"/>
                        </a:lnTo>
                        <a:lnTo>
                          <a:pt x="283" y="1149"/>
                        </a:lnTo>
                        <a:lnTo>
                          <a:pt x="283" y="1144"/>
                        </a:lnTo>
                        <a:lnTo>
                          <a:pt x="283" y="1139"/>
                        </a:lnTo>
                        <a:lnTo>
                          <a:pt x="288" y="1130"/>
                        </a:lnTo>
                        <a:lnTo>
                          <a:pt x="288" y="1125"/>
                        </a:lnTo>
                        <a:lnTo>
                          <a:pt x="288" y="1115"/>
                        </a:lnTo>
                        <a:lnTo>
                          <a:pt x="288" y="1111"/>
                        </a:lnTo>
                        <a:lnTo>
                          <a:pt x="288" y="1106"/>
                        </a:lnTo>
                        <a:lnTo>
                          <a:pt x="288" y="1096"/>
                        </a:lnTo>
                        <a:lnTo>
                          <a:pt x="288" y="1092"/>
                        </a:lnTo>
                        <a:lnTo>
                          <a:pt x="288" y="1082"/>
                        </a:lnTo>
                        <a:lnTo>
                          <a:pt x="283" y="1077"/>
                        </a:lnTo>
                        <a:lnTo>
                          <a:pt x="283" y="1068"/>
                        </a:lnTo>
                        <a:lnTo>
                          <a:pt x="283" y="1063"/>
                        </a:lnTo>
                        <a:lnTo>
                          <a:pt x="283" y="1058"/>
                        </a:lnTo>
                        <a:lnTo>
                          <a:pt x="283" y="1048"/>
                        </a:lnTo>
                        <a:lnTo>
                          <a:pt x="283" y="1044"/>
                        </a:lnTo>
                        <a:lnTo>
                          <a:pt x="279" y="1034"/>
                        </a:lnTo>
                        <a:lnTo>
                          <a:pt x="279" y="1029"/>
                        </a:lnTo>
                        <a:lnTo>
                          <a:pt x="279" y="1020"/>
                        </a:lnTo>
                        <a:lnTo>
                          <a:pt x="279" y="1015"/>
                        </a:lnTo>
                        <a:lnTo>
                          <a:pt x="279" y="1010"/>
                        </a:lnTo>
                        <a:lnTo>
                          <a:pt x="274" y="1001"/>
                        </a:lnTo>
                        <a:lnTo>
                          <a:pt x="274" y="996"/>
                        </a:lnTo>
                        <a:lnTo>
                          <a:pt x="274" y="986"/>
                        </a:lnTo>
                        <a:lnTo>
                          <a:pt x="274" y="977"/>
                        </a:lnTo>
                        <a:lnTo>
                          <a:pt x="269" y="972"/>
                        </a:lnTo>
                        <a:lnTo>
                          <a:pt x="269" y="962"/>
                        </a:lnTo>
                        <a:lnTo>
                          <a:pt x="264" y="953"/>
                        </a:lnTo>
                        <a:lnTo>
                          <a:pt x="259" y="948"/>
                        </a:lnTo>
                        <a:lnTo>
                          <a:pt x="259" y="938"/>
                        </a:lnTo>
                        <a:lnTo>
                          <a:pt x="255" y="929"/>
                        </a:lnTo>
                        <a:lnTo>
                          <a:pt x="250" y="919"/>
                        </a:lnTo>
                        <a:lnTo>
                          <a:pt x="250" y="914"/>
                        </a:lnTo>
                        <a:lnTo>
                          <a:pt x="245" y="905"/>
                        </a:lnTo>
                        <a:lnTo>
                          <a:pt x="240" y="900"/>
                        </a:lnTo>
                        <a:lnTo>
                          <a:pt x="235" y="890"/>
                        </a:lnTo>
                        <a:lnTo>
                          <a:pt x="231" y="881"/>
                        </a:lnTo>
                        <a:lnTo>
                          <a:pt x="226" y="876"/>
                        </a:lnTo>
                        <a:lnTo>
                          <a:pt x="221" y="866"/>
                        </a:lnTo>
                        <a:lnTo>
                          <a:pt x="216" y="862"/>
                        </a:lnTo>
                        <a:lnTo>
                          <a:pt x="211" y="852"/>
                        </a:lnTo>
                        <a:lnTo>
                          <a:pt x="207" y="847"/>
                        </a:lnTo>
                        <a:lnTo>
                          <a:pt x="202" y="838"/>
                        </a:lnTo>
                        <a:lnTo>
                          <a:pt x="192" y="833"/>
                        </a:lnTo>
                        <a:lnTo>
                          <a:pt x="187" y="823"/>
                        </a:lnTo>
                        <a:lnTo>
                          <a:pt x="183" y="819"/>
                        </a:lnTo>
                        <a:lnTo>
                          <a:pt x="178" y="809"/>
                        </a:lnTo>
                        <a:lnTo>
                          <a:pt x="173" y="804"/>
                        </a:lnTo>
                        <a:lnTo>
                          <a:pt x="163" y="795"/>
                        </a:lnTo>
                        <a:lnTo>
                          <a:pt x="159" y="790"/>
                        </a:lnTo>
                        <a:lnTo>
                          <a:pt x="154" y="780"/>
                        </a:lnTo>
                        <a:lnTo>
                          <a:pt x="149" y="776"/>
                        </a:lnTo>
                        <a:lnTo>
                          <a:pt x="139" y="771"/>
                        </a:lnTo>
                        <a:lnTo>
                          <a:pt x="135" y="761"/>
                        </a:lnTo>
                        <a:lnTo>
                          <a:pt x="130" y="756"/>
                        </a:lnTo>
                        <a:lnTo>
                          <a:pt x="125" y="752"/>
                        </a:lnTo>
                        <a:lnTo>
                          <a:pt x="120" y="752"/>
                        </a:lnTo>
                        <a:lnTo>
                          <a:pt x="120" y="747"/>
                        </a:lnTo>
                        <a:lnTo>
                          <a:pt x="115" y="747"/>
                        </a:lnTo>
                        <a:lnTo>
                          <a:pt x="111" y="747"/>
                        </a:lnTo>
                        <a:lnTo>
                          <a:pt x="111" y="742"/>
                        </a:lnTo>
                        <a:lnTo>
                          <a:pt x="106" y="742"/>
                        </a:lnTo>
                        <a:lnTo>
                          <a:pt x="101" y="742"/>
                        </a:lnTo>
                        <a:lnTo>
                          <a:pt x="101" y="737"/>
                        </a:lnTo>
                        <a:lnTo>
                          <a:pt x="96" y="737"/>
                        </a:lnTo>
                        <a:lnTo>
                          <a:pt x="91" y="737"/>
                        </a:lnTo>
                        <a:lnTo>
                          <a:pt x="91" y="732"/>
                        </a:lnTo>
                        <a:lnTo>
                          <a:pt x="87" y="732"/>
                        </a:lnTo>
                        <a:lnTo>
                          <a:pt x="87" y="728"/>
                        </a:lnTo>
                        <a:lnTo>
                          <a:pt x="82" y="728"/>
                        </a:lnTo>
                        <a:lnTo>
                          <a:pt x="77" y="728"/>
                        </a:lnTo>
                        <a:lnTo>
                          <a:pt x="72" y="728"/>
                        </a:lnTo>
                        <a:lnTo>
                          <a:pt x="67" y="728"/>
                        </a:lnTo>
                        <a:lnTo>
                          <a:pt x="63" y="728"/>
                        </a:lnTo>
                        <a:lnTo>
                          <a:pt x="63" y="723"/>
                        </a:lnTo>
                        <a:lnTo>
                          <a:pt x="58" y="723"/>
                        </a:lnTo>
                        <a:lnTo>
                          <a:pt x="53" y="723"/>
                        </a:lnTo>
                        <a:lnTo>
                          <a:pt x="48" y="723"/>
                        </a:lnTo>
                        <a:lnTo>
                          <a:pt x="48" y="718"/>
                        </a:lnTo>
                        <a:lnTo>
                          <a:pt x="43" y="718"/>
                        </a:lnTo>
                        <a:lnTo>
                          <a:pt x="39" y="718"/>
                        </a:lnTo>
                        <a:lnTo>
                          <a:pt x="34" y="713"/>
                        </a:lnTo>
                        <a:lnTo>
                          <a:pt x="29" y="713"/>
                        </a:lnTo>
                        <a:lnTo>
                          <a:pt x="24" y="713"/>
                        </a:lnTo>
                        <a:lnTo>
                          <a:pt x="20" y="713"/>
                        </a:lnTo>
                        <a:lnTo>
                          <a:pt x="15" y="713"/>
                        </a:lnTo>
                        <a:lnTo>
                          <a:pt x="10" y="713"/>
                        </a:lnTo>
                        <a:lnTo>
                          <a:pt x="5" y="713"/>
                        </a:lnTo>
                        <a:lnTo>
                          <a:pt x="0" y="713"/>
                        </a:lnTo>
                        <a:lnTo>
                          <a:pt x="0" y="708"/>
                        </a:lnTo>
                        <a:lnTo>
                          <a:pt x="0" y="704"/>
                        </a:lnTo>
                        <a:lnTo>
                          <a:pt x="0" y="699"/>
                        </a:lnTo>
                        <a:lnTo>
                          <a:pt x="0" y="694"/>
                        </a:lnTo>
                        <a:lnTo>
                          <a:pt x="0" y="689"/>
                        </a:lnTo>
                        <a:lnTo>
                          <a:pt x="5" y="689"/>
                        </a:lnTo>
                        <a:lnTo>
                          <a:pt x="5" y="685"/>
                        </a:lnTo>
                        <a:lnTo>
                          <a:pt x="5" y="680"/>
                        </a:lnTo>
                        <a:lnTo>
                          <a:pt x="10" y="675"/>
                        </a:lnTo>
                        <a:lnTo>
                          <a:pt x="10" y="670"/>
                        </a:lnTo>
                        <a:lnTo>
                          <a:pt x="10" y="665"/>
                        </a:lnTo>
                        <a:lnTo>
                          <a:pt x="10" y="661"/>
                        </a:lnTo>
                        <a:lnTo>
                          <a:pt x="15" y="656"/>
                        </a:lnTo>
                        <a:lnTo>
                          <a:pt x="15" y="646"/>
                        </a:lnTo>
                        <a:lnTo>
                          <a:pt x="15" y="641"/>
                        </a:lnTo>
                        <a:lnTo>
                          <a:pt x="20" y="632"/>
                        </a:lnTo>
                        <a:lnTo>
                          <a:pt x="20" y="627"/>
                        </a:lnTo>
                        <a:lnTo>
                          <a:pt x="20" y="617"/>
                        </a:lnTo>
                        <a:lnTo>
                          <a:pt x="24" y="613"/>
                        </a:lnTo>
                        <a:lnTo>
                          <a:pt x="24" y="603"/>
                        </a:lnTo>
                        <a:lnTo>
                          <a:pt x="29" y="598"/>
                        </a:lnTo>
                        <a:lnTo>
                          <a:pt x="29" y="589"/>
                        </a:lnTo>
                        <a:lnTo>
                          <a:pt x="34" y="584"/>
                        </a:lnTo>
                        <a:lnTo>
                          <a:pt x="34" y="574"/>
                        </a:lnTo>
                        <a:lnTo>
                          <a:pt x="39" y="570"/>
                        </a:lnTo>
                        <a:lnTo>
                          <a:pt x="39" y="565"/>
                        </a:lnTo>
                        <a:lnTo>
                          <a:pt x="43" y="555"/>
                        </a:lnTo>
                        <a:lnTo>
                          <a:pt x="43" y="550"/>
                        </a:lnTo>
                        <a:lnTo>
                          <a:pt x="43" y="541"/>
                        </a:lnTo>
                        <a:lnTo>
                          <a:pt x="48" y="536"/>
                        </a:lnTo>
                        <a:lnTo>
                          <a:pt x="48" y="527"/>
                        </a:lnTo>
                        <a:lnTo>
                          <a:pt x="53" y="522"/>
                        </a:lnTo>
                        <a:lnTo>
                          <a:pt x="53" y="512"/>
                        </a:lnTo>
                        <a:lnTo>
                          <a:pt x="58" y="507"/>
                        </a:lnTo>
                        <a:lnTo>
                          <a:pt x="58" y="498"/>
                        </a:lnTo>
                        <a:lnTo>
                          <a:pt x="58" y="493"/>
                        </a:lnTo>
                        <a:lnTo>
                          <a:pt x="63" y="483"/>
                        </a:lnTo>
                        <a:lnTo>
                          <a:pt x="63" y="479"/>
                        </a:lnTo>
                        <a:lnTo>
                          <a:pt x="63" y="469"/>
                        </a:lnTo>
                        <a:lnTo>
                          <a:pt x="67" y="464"/>
                        </a:lnTo>
                        <a:lnTo>
                          <a:pt x="67" y="455"/>
                        </a:lnTo>
                        <a:lnTo>
                          <a:pt x="67" y="445"/>
                        </a:lnTo>
                        <a:lnTo>
                          <a:pt x="67" y="440"/>
                        </a:lnTo>
                        <a:lnTo>
                          <a:pt x="67" y="431"/>
                        </a:lnTo>
                        <a:lnTo>
                          <a:pt x="72" y="426"/>
                        </a:lnTo>
                        <a:lnTo>
                          <a:pt x="72" y="416"/>
                        </a:lnTo>
                        <a:lnTo>
                          <a:pt x="77" y="412"/>
                        </a:lnTo>
                        <a:lnTo>
                          <a:pt x="77" y="402"/>
                        </a:lnTo>
                        <a:lnTo>
                          <a:pt x="77" y="397"/>
                        </a:lnTo>
                        <a:lnTo>
                          <a:pt x="82" y="388"/>
                        </a:lnTo>
                        <a:lnTo>
                          <a:pt x="82" y="383"/>
                        </a:lnTo>
                        <a:lnTo>
                          <a:pt x="87" y="373"/>
                        </a:lnTo>
                        <a:lnTo>
                          <a:pt x="87" y="369"/>
                        </a:lnTo>
                        <a:lnTo>
                          <a:pt x="87" y="359"/>
                        </a:lnTo>
                        <a:lnTo>
                          <a:pt x="91" y="354"/>
                        </a:lnTo>
                        <a:lnTo>
                          <a:pt x="91" y="345"/>
                        </a:lnTo>
                        <a:lnTo>
                          <a:pt x="91" y="340"/>
                        </a:lnTo>
                        <a:lnTo>
                          <a:pt x="91" y="330"/>
                        </a:lnTo>
                        <a:lnTo>
                          <a:pt x="96" y="321"/>
                        </a:lnTo>
                        <a:lnTo>
                          <a:pt x="96" y="316"/>
                        </a:lnTo>
                        <a:lnTo>
                          <a:pt x="96" y="306"/>
                        </a:lnTo>
                        <a:lnTo>
                          <a:pt x="96" y="301"/>
                        </a:lnTo>
                        <a:lnTo>
                          <a:pt x="101" y="292"/>
                        </a:lnTo>
                        <a:lnTo>
                          <a:pt x="101" y="287"/>
                        </a:lnTo>
                        <a:lnTo>
                          <a:pt x="101" y="278"/>
                        </a:lnTo>
                        <a:lnTo>
                          <a:pt x="101" y="268"/>
                        </a:lnTo>
                        <a:lnTo>
                          <a:pt x="106" y="263"/>
                        </a:lnTo>
                        <a:lnTo>
                          <a:pt x="106" y="254"/>
                        </a:lnTo>
                        <a:lnTo>
                          <a:pt x="106" y="249"/>
                        </a:lnTo>
                        <a:lnTo>
                          <a:pt x="106" y="239"/>
                        </a:lnTo>
                        <a:lnTo>
                          <a:pt x="111" y="230"/>
                        </a:lnTo>
                        <a:lnTo>
                          <a:pt x="111" y="225"/>
                        </a:lnTo>
                        <a:lnTo>
                          <a:pt x="111" y="215"/>
                        </a:lnTo>
                        <a:lnTo>
                          <a:pt x="111" y="210"/>
                        </a:lnTo>
                        <a:lnTo>
                          <a:pt x="115" y="201"/>
                        </a:lnTo>
                        <a:lnTo>
                          <a:pt x="115" y="191"/>
                        </a:lnTo>
                        <a:lnTo>
                          <a:pt x="125" y="191"/>
                        </a:lnTo>
                        <a:lnTo>
                          <a:pt x="135" y="187"/>
                        </a:lnTo>
                        <a:lnTo>
                          <a:pt x="149" y="182"/>
                        </a:lnTo>
                        <a:lnTo>
                          <a:pt x="159" y="182"/>
                        </a:lnTo>
                        <a:lnTo>
                          <a:pt x="168" y="177"/>
                        </a:lnTo>
                        <a:lnTo>
                          <a:pt x="178" y="172"/>
                        </a:lnTo>
                        <a:lnTo>
                          <a:pt x="192" y="167"/>
                        </a:lnTo>
                        <a:lnTo>
                          <a:pt x="202" y="163"/>
                        </a:lnTo>
                        <a:lnTo>
                          <a:pt x="211" y="158"/>
                        </a:lnTo>
                        <a:lnTo>
                          <a:pt x="221" y="153"/>
                        </a:lnTo>
                        <a:lnTo>
                          <a:pt x="231" y="148"/>
                        </a:lnTo>
                        <a:lnTo>
                          <a:pt x="240" y="143"/>
                        </a:lnTo>
                        <a:lnTo>
                          <a:pt x="255" y="139"/>
                        </a:lnTo>
                        <a:lnTo>
                          <a:pt x="264" y="134"/>
                        </a:lnTo>
                        <a:lnTo>
                          <a:pt x="274" y="129"/>
                        </a:lnTo>
                        <a:lnTo>
                          <a:pt x="283" y="120"/>
                        </a:lnTo>
                        <a:lnTo>
                          <a:pt x="293" y="115"/>
                        </a:lnTo>
                        <a:lnTo>
                          <a:pt x="303" y="110"/>
                        </a:lnTo>
                        <a:lnTo>
                          <a:pt x="312" y="100"/>
                        </a:lnTo>
                        <a:lnTo>
                          <a:pt x="322" y="96"/>
                        </a:lnTo>
                        <a:lnTo>
                          <a:pt x="331" y="91"/>
                        </a:lnTo>
                        <a:lnTo>
                          <a:pt x="341" y="81"/>
                        </a:lnTo>
                        <a:lnTo>
                          <a:pt x="346" y="76"/>
                        </a:lnTo>
                        <a:lnTo>
                          <a:pt x="355" y="67"/>
                        </a:lnTo>
                        <a:lnTo>
                          <a:pt x="365" y="57"/>
                        </a:lnTo>
                        <a:lnTo>
                          <a:pt x="374" y="52"/>
                        </a:lnTo>
                        <a:lnTo>
                          <a:pt x="384" y="43"/>
                        </a:lnTo>
                        <a:lnTo>
                          <a:pt x="389" y="33"/>
                        </a:lnTo>
                        <a:lnTo>
                          <a:pt x="398" y="24"/>
                        </a:lnTo>
                        <a:lnTo>
                          <a:pt x="408" y="19"/>
                        </a:lnTo>
                        <a:lnTo>
                          <a:pt x="418" y="9"/>
                        </a:lnTo>
                        <a:lnTo>
                          <a:pt x="422" y="0"/>
                        </a:lnTo>
                        <a:lnTo>
                          <a:pt x="427" y="5"/>
                        </a:lnTo>
                        <a:lnTo>
                          <a:pt x="427" y="9"/>
                        </a:lnTo>
                        <a:lnTo>
                          <a:pt x="432" y="14"/>
                        </a:lnTo>
                        <a:lnTo>
                          <a:pt x="432" y="19"/>
                        </a:lnTo>
                        <a:lnTo>
                          <a:pt x="437" y="24"/>
                        </a:lnTo>
                        <a:lnTo>
                          <a:pt x="437" y="29"/>
                        </a:lnTo>
                        <a:lnTo>
                          <a:pt x="437" y="33"/>
                        </a:lnTo>
                        <a:lnTo>
                          <a:pt x="442" y="38"/>
                        </a:lnTo>
                        <a:lnTo>
                          <a:pt x="442" y="43"/>
                        </a:lnTo>
                        <a:lnTo>
                          <a:pt x="446" y="48"/>
                        </a:lnTo>
                        <a:lnTo>
                          <a:pt x="446" y="52"/>
                        </a:lnTo>
                        <a:lnTo>
                          <a:pt x="446" y="57"/>
                        </a:lnTo>
                        <a:lnTo>
                          <a:pt x="451" y="57"/>
                        </a:lnTo>
                        <a:lnTo>
                          <a:pt x="451" y="62"/>
                        </a:lnTo>
                        <a:lnTo>
                          <a:pt x="451" y="67"/>
                        </a:lnTo>
                        <a:lnTo>
                          <a:pt x="456" y="72"/>
                        </a:lnTo>
                        <a:lnTo>
                          <a:pt x="456" y="76"/>
                        </a:lnTo>
                        <a:lnTo>
                          <a:pt x="456" y="81"/>
                        </a:lnTo>
                        <a:lnTo>
                          <a:pt x="461" y="81"/>
                        </a:lnTo>
                        <a:lnTo>
                          <a:pt x="461" y="86"/>
                        </a:lnTo>
                        <a:lnTo>
                          <a:pt x="461" y="91"/>
                        </a:lnTo>
                        <a:lnTo>
                          <a:pt x="461" y="96"/>
                        </a:lnTo>
                        <a:lnTo>
                          <a:pt x="466" y="100"/>
                        </a:lnTo>
                        <a:lnTo>
                          <a:pt x="466" y="105"/>
                        </a:lnTo>
                        <a:lnTo>
                          <a:pt x="470" y="110"/>
                        </a:lnTo>
                        <a:lnTo>
                          <a:pt x="470" y="115"/>
                        </a:lnTo>
                        <a:lnTo>
                          <a:pt x="470" y="120"/>
                        </a:lnTo>
                        <a:lnTo>
                          <a:pt x="475" y="120"/>
                        </a:lnTo>
                        <a:close/>
                      </a:path>
                    </a:pathLst>
                  </a:custGeom>
                  <a:solidFill>
                    <a:srgbClr val="f5f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7" name=""/>
                  <p:cNvSpPr/>
                  <p:nvPr/>
                </p:nvSpPr>
                <p:spPr>
                  <a:xfrm flipH="1">
                    <a:off x="3902400" y="4660920"/>
                    <a:ext cx="41400" cy="83520"/>
                  </a:xfrm>
                  <a:custGeom>
                    <a:avLst/>
                    <a:gdLst/>
                    <a:ahLst/>
                    <a:rect l="l" t="t" r="r" b="b"/>
                    <a:pathLst>
                      <a:path w="245" h="512">
                        <a:moveTo>
                          <a:pt x="245" y="19"/>
                        </a:moveTo>
                        <a:lnTo>
                          <a:pt x="245" y="33"/>
                        </a:lnTo>
                        <a:lnTo>
                          <a:pt x="245" y="43"/>
                        </a:lnTo>
                        <a:lnTo>
                          <a:pt x="240" y="57"/>
                        </a:lnTo>
                        <a:lnTo>
                          <a:pt x="240" y="67"/>
                        </a:lnTo>
                        <a:lnTo>
                          <a:pt x="240" y="81"/>
                        </a:lnTo>
                        <a:lnTo>
                          <a:pt x="235" y="91"/>
                        </a:lnTo>
                        <a:lnTo>
                          <a:pt x="235" y="105"/>
                        </a:lnTo>
                        <a:lnTo>
                          <a:pt x="230" y="120"/>
                        </a:lnTo>
                        <a:lnTo>
                          <a:pt x="230" y="129"/>
                        </a:lnTo>
                        <a:lnTo>
                          <a:pt x="230" y="144"/>
                        </a:lnTo>
                        <a:lnTo>
                          <a:pt x="225" y="153"/>
                        </a:lnTo>
                        <a:lnTo>
                          <a:pt x="225" y="168"/>
                        </a:lnTo>
                        <a:lnTo>
                          <a:pt x="221" y="177"/>
                        </a:lnTo>
                        <a:lnTo>
                          <a:pt x="221" y="191"/>
                        </a:lnTo>
                        <a:lnTo>
                          <a:pt x="216" y="201"/>
                        </a:lnTo>
                        <a:lnTo>
                          <a:pt x="216" y="211"/>
                        </a:lnTo>
                        <a:lnTo>
                          <a:pt x="211" y="225"/>
                        </a:lnTo>
                        <a:lnTo>
                          <a:pt x="211" y="235"/>
                        </a:lnTo>
                        <a:lnTo>
                          <a:pt x="206" y="249"/>
                        </a:lnTo>
                        <a:lnTo>
                          <a:pt x="201" y="258"/>
                        </a:lnTo>
                        <a:lnTo>
                          <a:pt x="201" y="273"/>
                        </a:lnTo>
                        <a:lnTo>
                          <a:pt x="197" y="282"/>
                        </a:lnTo>
                        <a:lnTo>
                          <a:pt x="197" y="297"/>
                        </a:lnTo>
                        <a:lnTo>
                          <a:pt x="192" y="306"/>
                        </a:lnTo>
                        <a:lnTo>
                          <a:pt x="192" y="321"/>
                        </a:lnTo>
                        <a:lnTo>
                          <a:pt x="187" y="330"/>
                        </a:lnTo>
                        <a:lnTo>
                          <a:pt x="182" y="340"/>
                        </a:lnTo>
                        <a:lnTo>
                          <a:pt x="182" y="354"/>
                        </a:lnTo>
                        <a:lnTo>
                          <a:pt x="177" y="364"/>
                        </a:lnTo>
                        <a:lnTo>
                          <a:pt x="173" y="378"/>
                        </a:lnTo>
                        <a:lnTo>
                          <a:pt x="173" y="388"/>
                        </a:lnTo>
                        <a:lnTo>
                          <a:pt x="168" y="397"/>
                        </a:lnTo>
                        <a:lnTo>
                          <a:pt x="168" y="402"/>
                        </a:lnTo>
                        <a:lnTo>
                          <a:pt x="163" y="407"/>
                        </a:lnTo>
                        <a:lnTo>
                          <a:pt x="158" y="407"/>
                        </a:lnTo>
                        <a:lnTo>
                          <a:pt x="158" y="412"/>
                        </a:lnTo>
                        <a:lnTo>
                          <a:pt x="153" y="416"/>
                        </a:lnTo>
                        <a:lnTo>
                          <a:pt x="153" y="421"/>
                        </a:lnTo>
                        <a:lnTo>
                          <a:pt x="149" y="421"/>
                        </a:lnTo>
                        <a:lnTo>
                          <a:pt x="144" y="426"/>
                        </a:lnTo>
                        <a:lnTo>
                          <a:pt x="144" y="431"/>
                        </a:lnTo>
                        <a:lnTo>
                          <a:pt x="139" y="436"/>
                        </a:lnTo>
                        <a:lnTo>
                          <a:pt x="134" y="440"/>
                        </a:lnTo>
                        <a:lnTo>
                          <a:pt x="134" y="445"/>
                        </a:lnTo>
                        <a:lnTo>
                          <a:pt x="129" y="445"/>
                        </a:lnTo>
                        <a:lnTo>
                          <a:pt x="129" y="450"/>
                        </a:lnTo>
                        <a:lnTo>
                          <a:pt x="125" y="455"/>
                        </a:lnTo>
                        <a:lnTo>
                          <a:pt x="125" y="460"/>
                        </a:lnTo>
                        <a:lnTo>
                          <a:pt x="120" y="460"/>
                        </a:lnTo>
                        <a:lnTo>
                          <a:pt x="120" y="464"/>
                        </a:lnTo>
                        <a:lnTo>
                          <a:pt x="115" y="469"/>
                        </a:lnTo>
                        <a:lnTo>
                          <a:pt x="115" y="474"/>
                        </a:lnTo>
                        <a:lnTo>
                          <a:pt x="110" y="474"/>
                        </a:lnTo>
                        <a:lnTo>
                          <a:pt x="110" y="479"/>
                        </a:lnTo>
                        <a:lnTo>
                          <a:pt x="105" y="484"/>
                        </a:lnTo>
                        <a:lnTo>
                          <a:pt x="105" y="488"/>
                        </a:lnTo>
                        <a:lnTo>
                          <a:pt x="101" y="488"/>
                        </a:lnTo>
                        <a:lnTo>
                          <a:pt x="101" y="493"/>
                        </a:lnTo>
                        <a:lnTo>
                          <a:pt x="96" y="498"/>
                        </a:lnTo>
                        <a:lnTo>
                          <a:pt x="91" y="503"/>
                        </a:lnTo>
                        <a:lnTo>
                          <a:pt x="86" y="507"/>
                        </a:lnTo>
                        <a:lnTo>
                          <a:pt x="86" y="512"/>
                        </a:lnTo>
                        <a:lnTo>
                          <a:pt x="81" y="512"/>
                        </a:lnTo>
                        <a:lnTo>
                          <a:pt x="81" y="507"/>
                        </a:lnTo>
                        <a:lnTo>
                          <a:pt x="77" y="507"/>
                        </a:lnTo>
                        <a:lnTo>
                          <a:pt x="72" y="507"/>
                        </a:lnTo>
                        <a:lnTo>
                          <a:pt x="67" y="507"/>
                        </a:lnTo>
                        <a:lnTo>
                          <a:pt x="62" y="507"/>
                        </a:lnTo>
                        <a:lnTo>
                          <a:pt x="57" y="507"/>
                        </a:lnTo>
                        <a:lnTo>
                          <a:pt x="53" y="507"/>
                        </a:lnTo>
                        <a:lnTo>
                          <a:pt x="48" y="507"/>
                        </a:lnTo>
                        <a:lnTo>
                          <a:pt x="43" y="507"/>
                        </a:lnTo>
                        <a:lnTo>
                          <a:pt x="38" y="507"/>
                        </a:lnTo>
                        <a:lnTo>
                          <a:pt x="33" y="507"/>
                        </a:lnTo>
                        <a:lnTo>
                          <a:pt x="29" y="507"/>
                        </a:lnTo>
                        <a:lnTo>
                          <a:pt x="24" y="507"/>
                        </a:lnTo>
                        <a:lnTo>
                          <a:pt x="24" y="503"/>
                        </a:lnTo>
                        <a:lnTo>
                          <a:pt x="19" y="503"/>
                        </a:lnTo>
                        <a:lnTo>
                          <a:pt x="14" y="503"/>
                        </a:lnTo>
                        <a:lnTo>
                          <a:pt x="9" y="498"/>
                        </a:lnTo>
                        <a:lnTo>
                          <a:pt x="14" y="488"/>
                        </a:lnTo>
                        <a:lnTo>
                          <a:pt x="14" y="474"/>
                        </a:lnTo>
                        <a:lnTo>
                          <a:pt x="14" y="464"/>
                        </a:lnTo>
                        <a:lnTo>
                          <a:pt x="19" y="455"/>
                        </a:lnTo>
                        <a:lnTo>
                          <a:pt x="19" y="440"/>
                        </a:lnTo>
                        <a:lnTo>
                          <a:pt x="19" y="431"/>
                        </a:lnTo>
                        <a:lnTo>
                          <a:pt x="19" y="416"/>
                        </a:lnTo>
                        <a:lnTo>
                          <a:pt x="19" y="407"/>
                        </a:lnTo>
                        <a:lnTo>
                          <a:pt x="24" y="393"/>
                        </a:lnTo>
                        <a:lnTo>
                          <a:pt x="24" y="383"/>
                        </a:lnTo>
                        <a:lnTo>
                          <a:pt x="24" y="373"/>
                        </a:lnTo>
                        <a:lnTo>
                          <a:pt x="24" y="359"/>
                        </a:lnTo>
                        <a:lnTo>
                          <a:pt x="24" y="349"/>
                        </a:lnTo>
                        <a:lnTo>
                          <a:pt x="19" y="340"/>
                        </a:lnTo>
                        <a:lnTo>
                          <a:pt x="19" y="326"/>
                        </a:lnTo>
                        <a:lnTo>
                          <a:pt x="19" y="316"/>
                        </a:lnTo>
                        <a:lnTo>
                          <a:pt x="19" y="306"/>
                        </a:lnTo>
                        <a:lnTo>
                          <a:pt x="19" y="292"/>
                        </a:lnTo>
                        <a:lnTo>
                          <a:pt x="19" y="282"/>
                        </a:lnTo>
                        <a:lnTo>
                          <a:pt x="19" y="273"/>
                        </a:lnTo>
                        <a:lnTo>
                          <a:pt x="14" y="258"/>
                        </a:lnTo>
                        <a:lnTo>
                          <a:pt x="14" y="249"/>
                        </a:lnTo>
                        <a:lnTo>
                          <a:pt x="14" y="239"/>
                        </a:lnTo>
                        <a:lnTo>
                          <a:pt x="14" y="225"/>
                        </a:lnTo>
                        <a:lnTo>
                          <a:pt x="9" y="215"/>
                        </a:lnTo>
                        <a:lnTo>
                          <a:pt x="9" y="206"/>
                        </a:lnTo>
                        <a:lnTo>
                          <a:pt x="9" y="191"/>
                        </a:lnTo>
                        <a:lnTo>
                          <a:pt x="5" y="182"/>
                        </a:lnTo>
                        <a:lnTo>
                          <a:pt x="5" y="172"/>
                        </a:lnTo>
                        <a:lnTo>
                          <a:pt x="5" y="158"/>
                        </a:lnTo>
                        <a:lnTo>
                          <a:pt x="5" y="148"/>
                        </a:lnTo>
                        <a:lnTo>
                          <a:pt x="0" y="139"/>
                        </a:lnTo>
                        <a:lnTo>
                          <a:pt x="5" y="134"/>
                        </a:lnTo>
                        <a:lnTo>
                          <a:pt x="9" y="129"/>
                        </a:lnTo>
                        <a:lnTo>
                          <a:pt x="14" y="124"/>
                        </a:lnTo>
                        <a:lnTo>
                          <a:pt x="14" y="120"/>
                        </a:lnTo>
                        <a:lnTo>
                          <a:pt x="19" y="115"/>
                        </a:lnTo>
                        <a:lnTo>
                          <a:pt x="24" y="110"/>
                        </a:lnTo>
                        <a:lnTo>
                          <a:pt x="29" y="110"/>
                        </a:lnTo>
                        <a:lnTo>
                          <a:pt x="29" y="105"/>
                        </a:lnTo>
                        <a:lnTo>
                          <a:pt x="33" y="100"/>
                        </a:lnTo>
                        <a:lnTo>
                          <a:pt x="38" y="96"/>
                        </a:lnTo>
                        <a:lnTo>
                          <a:pt x="38" y="91"/>
                        </a:lnTo>
                        <a:lnTo>
                          <a:pt x="43" y="86"/>
                        </a:lnTo>
                        <a:lnTo>
                          <a:pt x="48" y="86"/>
                        </a:lnTo>
                        <a:lnTo>
                          <a:pt x="48" y="81"/>
                        </a:lnTo>
                        <a:lnTo>
                          <a:pt x="53" y="77"/>
                        </a:lnTo>
                        <a:lnTo>
                          <a:pt x="57" y="72"/>
                        </a:lnTo>
                        <a:lnTo>
                          <a:pt x="57" y="67"/>
                        </a:lnTo>
                        <a:lnTo>
                          <a:pt x="62" y="62"/>
                        </a:lnTo>
                        <a:lnTo>
                          <a:pt x="67" y="57"/>
                        </a:lnTo>
                        <a:lnTo>
                          <a:pt x="72" y="53"/>
                        </a:lnTo>
                        <a:lnTo>
                          <a:pt x="72" y="48"/>
                        </a:lnTo>
                        <a:lnTo>
                          <a:pt x="77" y="43"/>
                        </a:lnTo>
                        <a:lnTo>
                          <a:pt x="77" y="38"/>
                        </a:lnTo>
                        <a:lnTo>
                          <a:pt x="81" y="33"/>
                        </a:lnTo>
                        <a:lnTo>
                          <a:pt x="81" y="29"/>
                        </a:lnTo>
                        <a:lnTo>
                          <a:pt x="86" y="24"/>
                        </a:lnTo>
                        <a:lnTo>
                          <a:pt x="86" y="19"/>
                        </a:lnTo>
                        <a:lnTo>
                          <a:pt x="91" y="14"/>
                        </a:lnTo>
                        <a:lnTo>
                          <a:pt x="91" y="9"/>
                        </a:lnTo>
                        <a:lnTo>
                          <a:pt x="96" y="5"/>
                        </a:lnTo>
                        <a:lnTo>
                          <a:pt x="96" y="0"/>
                        </a:lnTo>
                        <a:lnTo>
                          <a:pt x="101" y="5"/>
                        </a:lnTo>
                        <a:lnTo>
                          <a:pt x="105" y="5"/>
                        </a:lnTo>
                        <a:lnTo>
                          <a:pt x="110" y="5"/>
                        </a:lnTo>
                        <a:lnTo>
                          <a:pt x="115" y="9"/>
                        </a:lnTo>
                        <a:lnTo>
                          <a:pt x="120" y="9"/>
                        </a:lnTo>
                        <a:lnTo>
                          <a:pt x="125" y="9"/>
                        </a:lnTo>
                        <a:lnTo>
                          <a:pt x="129" y="14"/>
                        </a:lnTo>
                        <a:lnTo>
                          <a:pt x="134" y="14"/>
                        </a:lnTo>
                        <a:lnTo>
                          <a:pt x="139" y="14"/>
                        </a:lnTo>
                        <a:lnTo>
                          <a:pt x="144" y="14"/>
                        </a:lnTo>
                        <a:lnTo>
                          <a:pt x="149" y="19"/>
                        </a:lnTo>
                        <a:lnTo>
                          <a:pt x="153" y="19"/>
                        </a:lnTo>
                        <a:lnTo>
                          <a:pt x="158" y="19"/>
                        </a:lnTo>
                        <a:lnTo>
                          <a:pt x="163" y="19"/>
                        </a:lnTo>
                        <a:lnTo>
                          <a:pt x="168" y="19"/>
                        </a:lnTo>
                        <a:lnTo>
                          <a:pt x="173" y="19"/>
                        </a:lnTo>
                        <a:lnTo>
                          <a:pt x="177" y="19"/>
                        </a:lnTo>
                        <a:lnTo>
                          <a:pt x="182" y="19"/>
                        </a:lnTo>
                        <a:lnTo>
                          <a:pt x="187" y="24"/>
                        </a:lnTo>
                        <a:lnTo>
                          <a:pt x="192" y="24"/>
                        </a:lnTo>
                        <a:lnTo>
                          <a:pt x="197" y="24"/>
                        </a:lnTo>
                        <a:lnTo>
                          <a:pt x="201" y="24"/>
                        </a:lnTo>
                        <a:lnTo>
                          <a:pt x="206" y="24"/>
                        </a:lnTo>
                        <a:lnTo>
                          <a:pt x="211" y="24"/>
                        </a:lnTo>
                        <a:lnTo>
                          <a:pt x="216" y="24"/>
                        </a:lnTo>
                        <a:lnTo>
                          <a:pt x="221" y="24"/>
                        </a:lnTo>
                        <a:lnTo>
                          <a:pt x="225" y="24"/>
                        </a:lnTo>
                        <a:lnTo>
                          <a:pt x="230" y="19"/>
                        </a:lnTo>
                        <a:lnTo>
                          <a:pt x="235" y="19"/>
                        </a:lnTo>
                        <a:lnTo>
                          <a:pt x="240" y="19"/>
                        </a:lnTo>
                        <a:lnTo>
                          <a:pt x="245" y="19"/>
                        </a:lnTo>
                        <a:close/>
                      </a:path>
                    </a:pathLst>
                  </a:custGeom>
                  <a:solidFill>
                    <a:srgbClr val="f5f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8" name=""/>
                  <p:cNvSpPr/>
                  <p:nvPr/>
                </p:nvSpPr>
                <p:spPr>
                  <a:xfrm flipH="1">
                    <a:off x="4271400" y="4672800"/>
                    <a:ext cx="198360" cy="48600"/>
                  </a:xfrm>
                  <a:custGeom>
                    <a:avLst/>
                    <a:gdLst/>
                    <a:ahLst/>
                    <a:rect l="l" t="t" r="r" b="b"/>
                    <a:pathLst>
                      <a:path w="1170" h="297">
                        <a:moveTo>
                          <a:pt x="1079" y="0"/>
                        </a:moveTo>
                        <a:lnTo>
                          <a:pt x="1084" y="9"/>
                        </a:lnTo>
                        <a:lnTo>
                          <a:pt x="1089" y="19"/>
                        </a:lnTo>
                        <a:lnTo>
                          <a:pt x="1094" y="28"/>
                        </a:lnTo>
                        <a:lnTo>
                          <a:pt x="1094" y="33"/>
                        </a:lnTo>
                        <a:lnTo>
                          <a:pt x="1098" y="43"/>
                        </a:lnTo>
                        <a:lnTo>
                          <a:pt x="1103" y="52"/>
                        </a:lnTo>
                        <a:lnTo>
                          <a:pt x="1103" y="62"/>
                        </a:lnTo>
                        <a:lnTo>
                          <a:pt x="1108" y="72"/>
                        </a:lnTo>
                        <a:lnTo>
                          <a:pt x="1113" y="81"/>
                        </a:lnTo>
                        <a:lnTo>
                          <a:pt x="1113" y="91"/>
                        </a:lnTo>
                        <a:lnTo>
                          <a:pt x="1118" y="96"/>
                        </a:lnTo>
                        <a:lnTo>
                          <a:pt x="1118" y="105"/>
                        </a:lnTo>
                        <a:lnTo>
                          <a:pt x="1122" y="115"/>
                        </a:lnTo>
                        <a:lnTo>
                          <a:pt x="1127" y="124"/>
                        </a:lnTo>
                        <a:lnTo>
                          <a:pt x="1127" y="134"/>
                        </a:lnTo>
                        <a:lnTo>
                          <a:pt x="1132" y="143"/>
                        </a:lnTo>
                        <a:lnTo>
                          <a:pt x="1132" y="153"/>
                        </a:lnTo>
                        <a:lnTo>
                          <a:pt x="1137" y="163"/>
                        </a:lnTo>
                        <a:lnTo>
                          <a:pt x="1137" y="172"/>
                        </a:lnTo>
                        <a:lnTo>
                          <a:pt x="1142" y="177"/>
                        </a:lnTo>
                        <a:lnTo>
                          <a:pt x="1142" y="186"/>
                        </a:lnTo>
                        <a:lnTo>
                          <a:pt x="1146" y="196"/>
                        </a:lnTo>
                        <a:lnTo>
                          <a:pt x="1146" y="206"/>
                        </a:lnTo>
                        <a:lnTo>
                          <a:pt x="1151" y="215"/>
                        </a:lnTo>
                        <a:lnTo>
                          <a:pt x="1151" y="225"/>
                        </a:lnTo>
                        <a:lnTo>
                          <a:pt x="1156" y="234"/>
                        </a:lnTo>
                        <a:lnTo>
                          <a:pt x="1156" y="244"/>
                        </a:lnTo>
                        <a:lnTo>
                          <a:pt x="1161" y="249"/>
                        </a:lnTo>
                        <a:lnTo>
                          <a:pt x="1161" y="258"/>
                        </a:lnTo>
                        <a:lnTo>
                          <a:pt x="1166" y="268"/>
                        </a:lnTo>
                        <a:lnTo>
                          <a:pt x="1170" y="277"/>
                        </a:lnTo>
                        <a:lnTo>
                          <a:pt x="1170" y="287"/>
                        </a:lnTo>
                        <a:lnTo>
                          <a:pt x="1151" y="297"/>
                        </a:lnTo>
                        <a:lnTo>
                          <a:pt x="1146" y="287"/>
                        </a:lnTo>
                        <a:lnTo>
                          <a:pt x="1146" y="277"/>
                        </a:lnTo>
                        <a:lnTo>
                          <a:pt x="1146" y="273"/>
                        </a:lnTo>
                        <a:lnTo>
                          <a:pt x="1142" y="263"/>
                        </a:lnTo>
                        <a:lnTo>
                          <a:pt x="1142" y="254"/>
                        </a:lnTo>
                        <a:lnTo>
                          <a:pt x="1137" y="249"/>
                        </a:lnTo>
                        <a:lnTo>
                          <a:pt x="1137" y="239"/>
                        </a:lnTo>
                        <a:lnTo>
                          <a:pt x="1132" y="230"/>
                        </a:lnTo>
                        <a:lnTo>
                          <a:pt x="1132" y="225"/>
                        </a:lnTo>
                        <a:lnTo>
                          <a:pt x="1127" y="215"/>
                        </a:lnTo>
                        <a:lnTo>
                          <a:pt x="1127" y="206"/>
                        </a:lnTo>
                        <a:lnTo>
                          <a:pt x="1122" y="201"/>
                        </a:lnTo>
                        <a:lnTo>
                          <a:pt x="1122" y="191"/>
                        </a:lnTo>
                        <a:lnTo>
                          <a:pt x="1118" y="182"/>
                        </a:lnTo>
                        <a:lnTo>
                          <a:pt x="1118" y="177"/>
                        </a:lnTo>
                        <a:lnTo>
                          <a:pt x="1113" y="167"/>
                        </a:lnTo>
                        <a:lnTo>
                          <a:pt x="1108" y="158"/>
                        </a:lnTo>
                        <a:lnTo>
                          <a:pt x="1108" y="153"/>
                        </a:lnTo>
                        <a:lnTo>
                          <a:pt x="1103" y="143"/>
                        </a:lnTo>
                        <a:lnTo>
                          <a:pt x="1103" y="134"/>
                        </a:lnTo>
                        <a:lnTo>
                          <a:pt x="1098" y="129"/>
                        </a:lnTo>
                        <a:lnTo>
                          <a:pt x="1094" y="119"/>
                        </a:lnTo>
                        <a:lnTo>
                          <a:pt x="1094" y="110"/>
                        </a:lnTo>
                        <a:lnTo>
                          <a:pt x="1089" y="105"/>
                        </a:lnTo>
                        <a:lnTo>
                          <a:pt x="1084" y="96"/>
                        </a:lnTo>
                        <a:lnTo>
                          <a:pt x="1084" y="86"/>
                        </a:lnTo>
                        <a:lnTo>
                          <a:pt x="1079" y="81"/>
                        </a:lnTo>
                        <a:lnTo>
                          <a:pt x="1079" y="72"/>
                        </a:lnTo>
                        <a:lnTo>
                          <a:pt x="1074" y="62"/>
                        </a:lnTo>
                        <a:lnTo>
                          <a:pt x="1070" y="57"/>
                        </a:lnTo>
                        <a:lnTo>
                          <a:pt x="1070" y="48"/>
                        </a:lnTo>
                        <a:lnTo>
                          <a:pt x="1065" y="38"/>
                        </a:lnTo>
                        <a:lnTo>
                          <a:pt x="1055" y="28"/>
                        </a:lnTo>
                        <a:lnTo>
                          <a:pt x="1041" y="33"/>
                        </a:lnTo>
                        <a:lnTo>
                          <a:pt x="1031" y="33"/>
                        </a:lnTo>
                        <a:lnTo>
                          <a:pt x="1017" y="33"/>
                        </a:lnTo>
                        <a:lnTo>
                          <a:pt x="1003" y="33"/>
                        </a:lnTo>
                        <a:lnTo>
                          <a:pt x="988" y="38"/>
                        </a:lnTo>
                        <a:lnTo>
                          <a:pt x="979" y="38"/>
                        </a:lnTo>
                        <a:lnTo>
                          <a:pt x="964" y="38"/>
                        </a:lnTo>
                        <a:lnTo>
                          <a:pt x="950" y="38"/>
                        </a:lnTo>
                        <a:lnTo>
                          <a:pt x="935" y="43"/>
                        </a:lnTo>
                        <a:lnTo>
                          <a:pt x="926" y="43"/>
                        </a:lnTo>
                        <a:lnTo>
                          <a:pt x="911" y="43"/>
                        </a:lnTo>
                        <a:lnTo>
                          <a:pt x="897" y="43"/>
                        </a:lnTo>
                        <a:lnTo>
                          <a:pt x="883" y="48"/>
                        </a:lnTo>
                        <a:lnTo>
                          <a:pt x="873" y="48"/>
                        </a:lnTo>
                        <a:lnTo>
                          <a:pt x="859" y="48"/>
                        </a:lnTo>
                        <a:lnTo>
                          <a:pt x="844" y="48"/>
                        </a:lnTo>
                        <a:lnTo>
                          <a:pt x="830" y="48"/>
                        </a:lnTo>
                        <a:lnTo>
                          <a:pt x="820" y="52"/>
                        </a:lnTo>
                        <a:lnTo>
                          <a:pt x="806" y="52"/>
                        </a:lnTo>
                        <a:lnTo>
                          <a:pt x="791" y="52"/>
                        </a:lnTo>
                        <a:lnTo>
                          <a:pt x="777" y="52"/>
                        </a:lnTo>
                        <a:lnTo>
                          <a:pt x="767" y="52"/>
                        </a:lnTo>
                        <a:lnTo>
                          <a:pt x="753" y="57"/>
                        </a:lnTo>
                        <a:lnTo>
                          <a:pt x="739" y="57"/>
                        </a:lnTo>
                        <a:lnTo>
                          <a:pt x="729" y="57"/>
                        </a:lnTo>
                        <a:lnTo>
                          <a:pt x="715" y="57"/>
                        </a:lnTo>
                        <a:lnTo>
                          <a:pt x="700" y="57"/>
                        </a:lnTo>
                        <a:lnTo>
                          <a:pt x="691" y="62"/>
                        </a:lnTo>
                        <a:lnTo>
                          <a:pt x="676" y="62"/>
                        </a:lnTo>
                        <a:lnTo>
                          <a:pt x="662" y="62"/>
                        </a:lnTo>
                        <a:lnTo>
                          <a:pt x="652" y="62"/>
                        </a:lnTo>
                        <a:lnTo>
                          <a:pt x="638" y="62"/>
                        </a:lnTo>
                        <a:lnTo>
                          <a:pt x="643" y="62"/>
                        </a:lnTo>
                        <a:lnTo>
                          <a:pt x="648" y="62"/>
                        </a:lnTo>
                        <a:lnTo>
                          <a:pt x="652" y="62"/>
                        </a:lnTo>
                        <a:lnTo>
                          <a:pt x="657" y="62"/>
                        </a:lnTo>
                        <a:lnTo>
                          <a:pt x="662" y="62"/>
                        </a:lnTo>
                        <a:lnTo>
                          <a:pt x="667" y="62"/>
                        </a:lnTo>
                        <a:lnTo>
                          <a:pt x="672" y="62"/>
                        </a:lnTo>
                        <a:lnTo>
                          <a:pt x="672" y="57"/>
                        </a:lnTo>
                        <a:lnTo>
                          <a:pt x="676" y="57"/>
                        </a:lnTo>
                        <a:lnTo>
                          <a:pt x="681" y="57"/>
                        </a:lnTo>
                        <a:lnTo>
                          <a:pt x="686" y="57"/>
                        </a:lnTo>
                        <a:lnTo>
                          <a:pt x="691" y="57"/>
                        </a:lnTo>
                        <a:lnTo>
                          <a:pt x="696" y="57"/>
                        </a:lnTo>
                        <a:lnTo>
                          <a:pt x="700" y="52"/>
                        </a:lnTo>
                        <a:lnTo>
                          <a:pt x="705" y="52"/>
                        </a:lnTo>
                        <a:lnTo>
                          <a:pt x="710" y="52"/>
                        </a:lnTo>
                        <a:lnTo>
                          <a:pt x="720" y="52"/>
                        </a:lnTo>
                        <a:lnTo>
                          <a:pt x="724" y="52"/>
                        </a:lnTo>
                        <a:lnTo>
                          <a:pt x="729" y="52"/>
                        </a:lnTo>
                        <a:lnTo>
                          <a:pt x="739" y="52"/>
                        </a:lnTo>
                        <a:lnTo>
                          <a:pt x="743" y="52"/>
                        </a:lnTo>
                        <a:lnTo>
                          <a:pt x="748" y="52"/>
                        </a:lnTo>
                        <a:lnTo>
                          <a:pt x="758" y="52"/>
                        </a:lnTo>
                        <a:lnTo>
                          <a:pt x="763" y="48"/>
                        </a:lnTo>
                        <a:lnTo>
                          <a:pt x="767" y="48"/>
                        </a:lnTo>
                        <a:lnTo>
                          <a:pt x="777" y="48"/>
                        </a:lnTo>
                        <a:lnTo>
                          <a:pt x="782" y="48"/>
                        </a:lnTo>
                        <a:lnTo>
                          <a:pt x="787" y="48"/>
                        </a:lnTo>
                        <a:lnTo>
                          <a:pt x="796" y="48"/>
                        </a:lnTo>
                        <a:lnTo>
                          <a:pt x="801" y="48"/>
                        </a:lnTo>
                        <a:lnTo>
                          <a:pt x="806" y="48"/>
                        </a:lnTo>
                        <a:lnTo>
                          <a:pt x="815" y="43"/>
                        </a:lnTo>
                        <a:lnTo>
                          <a:pt x="820" y="43"/>
                        </a:lnTo>
                        <a:lnTo>
                          <a:pt x="825" y="43"/>
                        </a:lnTo>
                        <a:lnTo>
                          <a:pt x="835" y="43"/>
                        </a:lnTo>
                        <a:lnTo>
                          <a:pt x="839" y="43"/>
                        </a:lnTo>
                        <a:lnTo>
                          <a:pt x="844" y="43"/>
                        </a:lnTo>
                        <a:lnTo>
                          <a:pt x="854" y="43"/>
                        </a:lnTo>
                        <a:lnTo>
                          <a:pt x="859" y="38"/>
                        </a:lnTo>
                        <a:lnTo>
                          <a:pt x="863" y="38"/>
                        </a:lnTo>
                        <a:lnTo>
                          <a:pt x="873" y="38"/>
                        </a:lnTo>
                        <a:lnTo>
                          <a:pt x="878" y="38"/>
                        </a:lnTo>
                        <a:lnTo>
                          <a:pt x="883" y="38"/>
                        </a:lnTo>
                        <a:lnTo>
                          <a:pt x="892" y="38"/>
                        </a:lnTo>
                        <a:lnTo>
                          <a:pt x="897" y="38"/>
                        </a:lnTo>
                        <a:lnTo>
                          <a:pt x="902" y="33"/>
                        </a:lnTo>
                        <a:lnTo>
                          <a:pt x="907" y="33"/>
                        </a:lnTo>
                        <a:lnTo>
                          <a:pt x="911" y="28"/>
                        </a:lnTo>
                        <a:lnTo>
                          <a:pt x="916" y="28"/>
                        </a:lnTo>
                        <a:lnTo>
                          <a:pt x="921" y="28"/>
                        </a:lnTo>
                        <a:lnTo>
                          <a:pt x="926" y="28"/>
                        </a:lnTo>
                        <a:lnTo>
                          <a:pt x="931" y="28"/>
                        </a:lnTo>
                        <a:lnTo>
                          <a:pt x="935" y="28"/>
                        </a:lnTo>
                        <a:lnTo>
                          <a:pt x="935" y="33"/>
                        </a:lnTo>
                        <a:lnTo>
                          <a:pt x="940" y="33"/>
                        </a:lnTo>
                        <a:lnTo>
                          <a:pt x="945" y="33"/>
                        </a:lnTo>
                        <a:lnTo>
                          <a:pt x="950" y="33"/>
                        </a:lnTo>
                        <a:lnTo>
                          <a:pt x="955" y="33"/>
                        </a:lnTo>
                        <a:lnTo>
                          <a:pt x="959" y="33"/>
                        </a:lnTo>
                        <a:lnTo>
                          <a:pt x="964" y="33"/>
                        </a:lnTo>
                        <a:lnTo>
                          <a:pt x="969" y="33"/>
                        </a:lnTo>
                        <a:lnTo>
                          <a:pt x="974" y="33"/>
                        </a:lnTo>
                        <a:lnTo>
                          <a:pt x="979" y="33"/>
                        </a:lnTo>
                        <a:lnTo>
                          <a:pt x="983" y="33"/>
                        </a:lnTo>
                        <a:lnTo>
                          <a:pt x="988" y="33"/>
                        </a:lnTo>
                        <a:lnTo>
                          <a:pt x="993" y="33"/>
                        </a:lnTo>
                        <a:lnTo>
                          <a:pt x="993" y="28"/>
                        </a:lnTo>
                        <a:lnTo>
                          <a:pt x="998" y="28"/>
                        </a:lnTo>
                        <a:lnTo>
                          <a:pt x="1003" y="28"/>
                        </a:lnTo>
                        <a:lnTo>
                          <a:pt x="1007" y="28"/>
                        </a:lnTo>
                        <a:lnTo>
                          <a:pt x="1012" y="28"/>
                        </a:lnTo>
                        <a:lnTo>
                          <a:pt x="1017" y="28"/>
                        </a:lnTo>
                        <a:lnTo>
                          <a:pt x="1022" y="28"/>
                        </a:lnTo>
                        <a:lnTo>
                          <a:pt x="1027" y="28"/>
                        </a:lnTo>
                        <a:lnTo>
                          <a:pt x="1031" y="28"/>
                        </a:lnTo>
                        <a:lnTo>
                          <a:pt x="1036" y="28"/>
                        </a:lnTo>
                        <a:lnTo>
                          <a:pt x="1041" y="28"/>
                        </a:lnTo>
                        <a:lnTo>
                          <a:pt x="1046" y="28"/>
                        </a:lnTo>
                        <a:lnTo>
                          <a:pt x="1051" y="24"/>
                        </a:lnTo>
                        <a:lnTo>
                          <a:pt x="1055" y="24"/>
                        </a:lnTo>
                        <a:lnTo>
                          <a:pt x="1060" y="24"/>
                        </a:lnTo>
                        <a:lnTo>
                          <a:pt x="1065" y="19"/>
                        </a:lnTo>
                        <a:lnTo>
                          <a:pt x="1065" y="14"/>
                        </a:lnTo>
                        <a:lnTo>
                          <a:pt x="1060" y="14"/>
                        </a:lnTo>
                        <a:lnTo>
                          <a:pt x="1060" y="9"/>
                        </a:lnTo>
                        <a:lnTo>
                          <a:pt x="1055" y="9"/>
                        </a:lnTo>
                        <a:lnTo>
                          <a:pt x="1055" y="5"/>
                        </a:lnTo>
                        <a:lnTo>
                          <a:pt x="1051" y="5"/>
                        </a:lnTo>
                        <a:lnTo>
                          <a:pt x="1046" y="5"/>
                        </a:lnTo>
                        <a:lnTo>
                          <a:pt x="1036" y="5"/>
                        </a:lnTo>
                        <a:lnTo>
                          <a:pt x="1031" y="5"/>
                        </a:lnTo>
                        <a:lnTo>
                          <a:pt x="1027" y="5"/>
                        </a:lnTo>
                        <a:lnTo>
                          <a:pt x="1017" y="5"/>
                        </a:lnTo>
                        <a:lnTo>
                          <a:pt x="1012" y="5"/>
                        </a:lnTo>
                        <a:lnTo>
                          <a:pt x="1003" y="5"/>
                        </a:lnTo>
                        <a:lnTo>
                          <a:pt x="998" y="5"/>
                        </a:lnTo>
                        <a:lnTo>
                          <a:pt x="993" y="5"/>
                        </a:lnTo>
                        <a:lnTo>
                          <a:pt x="983" y="5"/>
                        </a:lnTo>
                        <a:lnTo>
                          <a:pt x="979" y="5"/>
                        </a:lnTo>
                        <a:lnTo>
                          <a:pt x="974" y="5"/>
                        </a:lnTo>
                        <a:lnTo>
                          <a:pt x="964" y="5"/>
                        </a:lnTo>
                        <a:lnTo>
                          <a:pt x="959" y="5"/>
                        </a:lnTo>
                        <a:lnTo>
                          <a:pt x="950" y="5"/>
                        </a:lnTo>
                        <a:lnTo>
                          <a:pt x="945" y="5"/>
                        </a:lnTo>
                        <a:lnTo>
                          <a:pt x="940" y="9"/>
                        </a:lnTo>
                        <a:lnTo>
                          <a:pt x="931" y="9"/>
                        </a:lnTo>
                        <a:lnTo>
                          <a:pt x="926" y="9"/>
                        </a:lnTo>
                        <a:lnTo>
                          <a:pt x="916" y="9"/>
                        </a:lnTo>
                        <a:lnTo>
                          <a:pt x="911" y="9"/>
                        </a:lnTo>
                        <a:lnTo>
                          <a:pt x="907" y="9"/>
                        </a:lnTo>
                        <a:lnTo>
                          <a:pt x="897" y="14"/>
                        </a:lnTo>
                        <a:lnTo>
                          <a:pt x="892" y="14"/>
                        </a:lnTo>
                        <a:lnTo>
                          <a:pt x="883" y="14"/>
                        </a:lnTo>
                        <a:lnTo>
                          <a:pt x="878" y="14"/>
                        </a:lnTo>
                        <a:lnTo>
                          <a:pt x="873" y="14"/>
                        </a:lnTo>
                        <a:lnTo>
                          <a:pt x="863" y="14"/>
                        </a:lnTo>
                        <a:lnTo>
                          <a:pt x="859" y="19"/>
                        </a:lnTo>
                        <a:lnTo>
                          <a:pt x="849" y="19"/>
                        </a:lnTo>
                        <a:lnTo>
                          <a:pt x="844" y="19"/>
                        </a:lnTo>
                        <a:lnTo>
                          <a:pt x="839" y="19"/>
                        </a:lnTo>
                        <a:lnTo>
                          <a:pt x="820" y="24"/>
                        </a:lnTo>
                        <a:lnTo>
                          <a:pt x="801" y="24"/>
                        </a:lnTo>
                        <a:lnTo>
                          <a:pt x="782" y="28"/>
                        </a:lnTo>
                        <a:lnTo>
                          <a:pt x="767" y="28"/>
                        </a:lnTo>
                        <a:lnTo>
                          <a:pt x="748" y="33"/>
                        </a:lnTo>
                        <a:lnTo>
                          <a:pt x="729" y="33"/>
                        </a:lnTo>
                        <a:lnTo>
                          <a:pt x="710" y="33"/>
                        </a:lnTo>
                        <a:lnTo>
                          <a:pt x="691" y="38"/>
                        </a:lnTo>
                        <a:lnTo>
                          <a:pt x="676" y="38"/>
                        </a:lnTo>
                        <a:lnTo>
                          <a:pt x="657" y="43"/>
                        </a:lnTo>
                        <a:lnTo>
                          <a:pt x="638" y="43"/>
                        </a:lnTo>
                        <a:lnTo>
                          <a:pt x="619" y="43"/>
                        </a:lnTo>
                        <a:lnTo>
                          <a:pt x="600" y="48"/>
                        </a:lnTo>
                        <a:lnTo>
                          <a:pt x="580" y="48"/>
                        </a:lnTo>
                        <a:lnTo>
                          <a:pt x="561" y="52"/>
                        </a:lnTo>
                        <a:lnTo>
                          <a:pt x="542" y="52"/>
                        </a:lnTo>
                        <a:lnTo>
                          <a:pt x="523" y="52"/>
                        </a:lnTo>
                        <a:lnTo>
                          <a:pt x="504" y="57"/>
                        </a:lnTo>
                        <a:lnTo>
                          <a:pt x="489" y="57"/>
                        </a:lnTo>
                        <a:lnTo>
                          <a:pt x="470" y="62"/>
                        </a:lnTo>
                        <a:lnTo>
                          <a:pt x="451" y="62"/>
                        </a:lnTo>
                        <a:lnTo>
                          <a:pt x="432" y="62"/>
                        </a:lnTo>
                        <a:lnTo>
                          <a:pt x="412" y="67"/>
                        </a:lnTo>
                        <a:lnTo>
                          <a:pt x="393" y="67"/>
                        </a:lnTo>
                        <a:lnTo>
                          <a:pt x="374" y="72"/>
                        </a:lnTo>
                        <a:lnTo>
                          <a:pt x="355" y="72"/>
                        </a:lnTo>
                        <a:lnTo>
                          <a:pt x="341" y="76"/>
                        </a:lnTo>
                        <a:lnTo>
                          <a:pt x="321" y="81"/>
                        </a:lnTo>
                        <a:lnTo>
                          <a:pt x="302" y="81"/>
                        </a:lnTo>
                        <a:lnTo>
                          <a:pt x="283" y="86"/>
                        </a:lnTo>
                        <a:lnTo>
                          <a:pt x="264" y="91"/>
                        </a:lnTo>
                        <a:lnTo>
                          <a:pt x="249" y="91"/>
                        </a:lnTo>
                        <a:lnTo>
                          <a:pt x="249" y="96"/>
                        </a:lnTo>
                        <a:lnTo>
                          <a:pt x="254" y="96"/>
                        </a:lnTo>
                        <a:lnTo>
                          <a:pt x="259" y="96"/>
                        </a:lnTo>
                        <a:lnTo>
                          <a:pt x="264" y="96"/>
                        </a:lnTo>
                        <a:lnTo>
                          <a:pt x="269" y="91"/>
                        </a:lnTo>
                        <a:lnTo>
                          <a:pt x="273" y="91"/>
                        </a:lnTo>
                        <a:lnTo>
                          <a:pt x="278" y="91"/>
                        </a:lnTo>
                        <a:lnTo>
                          <a:pt x="283" y="91"/>
                        </a:lnTo>
                        <a:lnTo>
                          <a:pt x="288" y="91"/>
                        </a:lnTo>
                        <a:lnTo>
                          <a:pt x="293" y="91"/>
                        </a:lnTo>
                        <a:lnTo>
                          <a:pt x="297" y="91"/>
                        </a:lnTo>
                        <a:lnTo>
                          <a:pt x="302" y="91"/>
                        </a:lnTo>
                        <a:lnTo>
                          <a:pt x="307" y="91"/>
                        </a:lnTo>
                        <a:lnTo>
                          <a:pt x="312" y="91"/>
                        </a:lnTo>
                        <a:lnTo>
                          <a:pt x="317" y="91"/>
                        </a:lnTo>
                        <a:lnTo>
                          <a:pt x="321" y="91"/>
                        </a:lnTo>
                        <a:lnTo>
                          <a:pt x="326" y="91"/>
                        </a:lnTo>
                        <a:lnTo>
                          <a:pt x="331" y="91"/>
                        </a:lnTo>
                        <a:lnTo>
                          <a:pt x="336" y="91"/>
                        </a:lnTo>
                        <a:lnTo>
                          <a:pt x="341" y="91"/>
                        </a:lnTo>
                        <a:lnTo>
                          <a:pt x="345" y="91"/>
                        </a:lnTo>
                        <a:lnTo>
                          <a:pt x="350" y="86"/>
                        </a:lnTo>
                        <a:lnTo>
                          <a:pt x="355" y="86"/>
                        </a:lnTo>
                        <a:lnTo>
                          <a:pt x="360" y="86"/>
                        </a:lnTo>
                        <a:lnTo>
                          <a:pt x="365" y="86"/>
                        </a:lnTo>
                        <a:lnTo>
                          <a:pt x="369" y="86"/>
                        </a:lnTo>
                        <a:lnTo>
                          <a:pt x="379" y="86"/>
                        </a:lnTo>
                        <a:lnTo>
                          <a:pt x="384" y="86"/>
                        </a:lnTo>
                        <a:lnTo>
                          <a:pt x="393" y="86"/>
                        </a:lnTo>
                        <a:lnTo>
                          <a:pt x="398" y="81"/>
                        </a:lnTo>
                        <a:lnTo>
                          <a:pt x="408" y="81"/>
                        </a:lnTo>
                        <a:lnTo>
                          <a:pt x="412" y="81"/>
                        </a:lnTo>
                        <a:lnTo>
                          <a:pt x="422" y="81"/>
                        </a:lnTo>
                        <a:lnTo>
                          <a:pt x="427" y="81"/>
                        </a:lnTo>
                        <a:lnTo>
                          <a:pt x="436" y="81"/>
                        </a:lnTo>
                        <a:lnTo>
                          <a:pt x="441" y="76"/>
                        </a:lnTo>
                        <a:lnTo>
                          <a:pt x="451" y="76"/>
                        </a:lnTo>
                        <a:lnTo>
                          <a:pt x="456" y="76"/>
                        </a:lnTo>
                        <a:lnTo>
                          <a:pt x="465" y="76"/>
                        </a:lnTo>
                        <a:lnTo>
                          <a:pt x="470" y="76"/>
                        </a:lnTo>
                        <a:lnTo>
                          <a:pt x="480" y="76"/>
                        </a:lnTo>
                        <a:lnTo>
                          <a:pt x="484" y="76"/>
                        </a:lnTo>
                        <a:lnTo>
                          <a:pt x="494" y="76"/>
                        </a:lnTo>
                        <a:lnTo>
                          <a:pt x="499" y="76"/>
                        </a:lnTo>
                        <a:lnTo>
                          <a:pt x="508" y="76"/>
                        </a:lnTo>
                        <a:lnTo>
                          <a:pt x="513" y="72"/>
                        </a:lnTo>
                        <a:lnTo>
                          <a:pt x="523" y="72"/>
                        </a:lnTo>
                        <a:lnTo>
                          <a:pt x="528" y="72"/>
                        </a:lnTo>
                        <a:lnTo>
                          <a:pt x="537" y="72"/>
                        </a:lnTo>
                        <a:lnTo>
                          <a:pt x="542" y="72"/>
                        </a:lnTo>
                        <a:lnTo>
                          <a:pt x="552" y="72"/>
                        </a:lnTo>
                        <a:lnTo>
                          <a:pt x="556" y="72"/>
                        </a:lnTo>
                        <a:lnTo>
                          <a:pt x="561" y="72"/>
                        </a:lnTo>
                        <a:lnTo>
                          <a:pt x="571" y="72"/>
                        </a:lnTo>
                        <a:lnTo>
                          <a:pt x="576" y="72"/>
                        </a:lnTo>
                        <a:lnTo>
                          <a:pt x="585" y="72"/>
                        </a:lnTo>
                        <a:lnTo>
                          <a:pt x="590" y="67"/>
                        </a:lnTo>
                        <a:lnTo>
                          <a:pt x="600" y="67"/>
                        </a:lnTo>
                        <a:lnTo>
                          <a:pt x="580" y="72"/>
                        </a:lnTo>
                        <a:lnTo>
                          <a:pt x="566" y="72"/>
                        </a:lnTo>
                        <a:lnTo>
                          <a:pt x="547" y="72"/>
                        </a:lnTo>
                        <a:lnTo>
                          <a:pt x="532" y="76"/>
                        </a:lnTo>
                        <a:lnTo>
                          <a:pt x="518" y="76"/>
                        </a:lnTo>
                        <a:lnTo>
                          <a:pt x="499" y="76"/>
                        </a:lnTo>
                        <a:lnTo>
                          <a:pt x="484" y="81"/>
                        </a:lnTo>
                        <a:lnTo>
                          <a:pt x="465" y="81"/>
                        </a:lnTo>
                        <a:lnTo>
                          <a:pt x="451" y="86"/>
                        </a:lnTo>
                        <a:lnTo>
                          <a:pt x="432" y="86"/>
                        </a:lnTo>
                        <a:lnTo>
                          <a:pt x="417" y="91"/>
                        </a:lnTo>
                        <a:lnTo>
                          <a:pt x="403" y="91"/>
                        </a:lnTo>
                        <a:lnTo>
                          <a:pt x="384" y="96"/>
                        </a:lnTo>
                        <a:lnTo>
                          <a:pt x="369" y="96"/>
                        </a:lnTo>
                        <a:lnTo>
                          <a:pt x="350" y="100"/>
                        </a:lnTo>
                        <a:lnTo>
                          <a:pt x="336" y="100"/>
                        </a:lnTo>
                        <a:lnTo>
                          <a:pt x="321" y="105"/>
                        </a:lnTo>
                        <a:lnTo>
                          <a:pt x="302" y="105"/>
                        </a:lnTo>
                        <a:lnTo>
                          <a:pt x="288" y="105"/>
                        </a:lnTo>
                        <a:lnTo>
                          <a:pt x="269" y="110"/>
                        </a:lnTo>
                        <a:lnTo>
                          <a:pt x="254" y="110"/>
                        </a:lnTo>
                        <a:lnTo>
                          <a:pt x="240" y="115"/>
                        </a:lnTo>
                        <a:lnTo>
                          <a:pt x="221" y="115"/>
                        </a:lnTo>
                        <a:lnTo>
                          <a:pt x="206" y="115"/>
                        </a:lnTo>
                        <a:lnTo>
                          <a:pt x="192" y="119"/>
                        </a:lnTo>
                        <a:lnTo>
                          <a:pt x="173" y="119"/>
                        </a:lnTo>
                        <a:lnTo>
                          <a:pt x="158" y="119"/>
                        </a:lnTo>
                        <a:lnTo>
                          <a:pt x="144" y="119"/>
                        </a:lnTo>
                        <a:lnTo>
                          <a:pt x="125" y="124"/>
                        </a:lnTo>
                        <a:lnTo>
                          <a:pt x="110" y="124"/>
                        </a:lnTo>
                        <a:lnTo>
                          <a:pt x="96" y="124"/>
                        </a:lnTo>
                        <a:lnTo>
                          <a:pt x="77" y="124"/>
                        </a:lnTo>
                        <a:lnTo>
                          <a:pt x="72" y="124"/>
                        </a:lnTo>
                        <a:lnTo>
                          <a:pt x="72" y="129"/>
                        </a:lnTo>
                        <a:lnTo>
                          <a:pt x="67" y="129"/>
                        </a:lnTo>
                        <a:lnTo>
                          <a:pt x="62" y="129"/>
                        </a:lnTo>
                        <a:lnTo>
                          <a:pt x="58" y="129"/>
                        </a:lnTo>
                        <a:lnTo>
                          <a:pt x="58" y="124"/>
                        </a:lnTo>
                        <a:lnTo>
                          <a:pt x="53" y="124"/>
                        </a:lnTo>
                        <a:lnTo>
                          <a:pt x="48" y="124"/>
                        </a:lnTo>
                        <a:lnTo>
                          <a:pt x="43" y="124"/>
                        </a:lnTo>
                        <a:lnTo>
                          <a:pt x="43" y="129"/>
                        </a:lnTo>
                        <a:lnTo>
                          <a:pt x="38" y="129"/>
                        </a:lnTo>
                        <a:lnTo>
                          <a:pt x="34" y="129"/>
                        </a:lnTo>
                        <a:lnTo>
                          <a:pt x="29" y="134"/>
                        </a:lnTo>
                        <a:lnTo>
                          <a:pt x="24" y="134"/>
                        </a:lnTo>
                        <a:lnTo>
                          <a:pt x="19" y="134"/>
                        </a:lnTo>
                        <a:lnTo>
                          <a:pt x="14" y="134"/>
                        </a:lnTo>
                        <a:lnTo>
                          <a:pt x="10" y="134"/>
                        </a:lnTo>
                        <a:lnTo>
                          <a:pt x="5" y="134"/>
                        </a:lnTo>
                        <a:lnTo>
                          <a:pt x="5" y="129"/>
                        </a:lnTo>
                        <a:lnTo>
                          <a:pt x="5" y="124"/>
                        </a:lnTo>
                        <a:lnTo>
                          <a:pt x="0" y="124"/>
                        </a:lnTo>
                        <a:lnTo>
                          <a:pt x="0" y="119"/>
                        </a:lnTo>
                        <a:lnTo>
                          <a:pt x="0" y="115"/>
                        </a:lnTo>
                        <a:lnTo>
                          <a:pt x="5" y="115"/>
                        </a:lnTo>
                        <a:lnTo>
                          <a:pt x="5" y="110"/>
                        </a:lnTo>
                        <a:lnTo>
                          <a:pt x="10" y="110"/>
                        </a:lnTo>
                        <a:lnTo>
                          <a:pt x="14" y="105"/>
                        </a:lnTo>
                        <a:lnTo>
                          <a:pt x="19" y="105"/>
                        </a:lnTo>
                        <a:lnTo>
                          <a:pt x="24" y="100"/>
                        </a:lnTo>
                        <a:lnTo>
                          <a:pt x="29" y="100"/>
                        </a:lnTo>
                        <a:lnTo>
                          <a:pt x="34" y="100"/>
                        </a:lnTo>
                        <a:lnTo>
                          <a:pt x="38" y="100"/>
                        </a:lnTo>
                        <a:lnTo>
                          <a:pt x="43" y="96"/>
                        </a:lnTo>
                        <a:lnTo>
                          <a:pt x="48" y="96"/>
                        </a:lnTo>
                        <a:lnTo>
                          <a:pt x="53" y="96"/>
                        </a:lnTo>
                        <a:lnTo>
                          <a:pt x="58" y="96"/>
                        </a:lnTo>
                        <a:lnTo>
                          <a:pt x="62" y="96"/>
                        </a:lnTo>
                        <a:lnTo>
                          <a:pt x="67" y="96"/>
                        </a:lnTo>
                        <a:lnTo>
                          <a:pt x="72" y="96"/>
                        </a:lnTo>
                        <a:lnTo>
                          <a:pt x="77" y="96"/>
                        </a:lnTo>
                        <a:lnTo>
                          <a:pt x="77" y="91"/>
                        </a:lnTo>
                        <a:lnTo>
                          <a:pt x="81" y="91"/>
                        </a:lnTo>
                        <a:lnTo>
                          <a:pt x="86" y="91"/>
                        </a:lnTo>
                        <a:lnTo>
                          <a:pt x="91" y="91"/>
                        </a:lnTo>
                        <a:lnTo>
                          <a:pt x="96" y="91"/>
                        </a:lnTo>
                        <a:lnTo>
                          <a:pt x="101" y="91"/>
                        </a:lnTo>
                        <a:lnTo>
                          <a:pt x="105" y="86"/>
                        </a:lnTo>
                        <a:lnTo>
                          <a:pt x="110" y="86"/>
                        </a:lnTo>
                        <a:lnTo>
                          <a:pt x="115" y="86"/>
                        </a:lnTo>
                        <a:lnTo>
                          <a:pt x="120" y="86"/>
                        </a:lnTo>
                        <a:lnTo>
                          <a:pt x="129" y="86"/>
                        </a:lnTo>
                        <a:lnTo>
                          <a:pt x="134" y="86"/>
                        </a:lnTo>
                        <a:lnTo>
                          <a:pt x="139" y="86"/>
                        </a:lnTo>
                        <a:lnTo>
                          <a:pt x="144" y="81"/>
                        </a:lnTo>
                        <a:lnTo>
                          <a:pt x="153" y="81"/>
                        </a:lnTo>
                        <a:lnTo>
                          <a:pt x="158" y="81"/>
                        </a:lnTo>
                        <a:lnTo>
                          <a:pt x="163" y="81"/>
                        </a:lnTo>
                        <a:lnTo>
                          <a:pt x="168" y="81"/>
                        </a:lnTo>
                        <a:lnTo>
                          <a:pt x="177" y="81"/>
                        </a:lnTo>
                        <a:lnTo>
                          <a:pt x="182" y="81"/>
                        </a:lnTo>
                        <a:lnTo>
                          <a:pt x="187" y="76"/>
                        </a:lnTo>
                        <a:lnTo>
                          <a:pt x="192" y="76"/>
                        </a:lnTo>
                        <a:lnTo>
                          <a:pt x="201" y="76"/>
                        </a:lnTo>
                        <a:lnTo>
                          <a:pt x="206" y="76"/>
                        </a:lnTo>
                        <a:lnTo>
                          <a:pt x="211" y="76"/>
                        </a:lnTo>
                        <a:lnTo>
                          <a:pt x="216" y="76"/>
                        </a:lnTo>
                        <a:lnTo>
                          <a:pt x="225" y="76"/>
                        </a:lnTo>
                        <a:lnTo>
                          <a:pt x="230" y="72"/>
                        </a:lnTo>
                        <a:lnTo>
                          <a:pt x="235" y="72"/>
                        </a:lnTo>
                        <a:lnTo>
                          <a:pt x="240" y="72"/>
                        </a:lnTo>
                        <a:lnTo>
                          <a:pt x="245" y="72"/>
                        </a:lnTo>
                        <a:lnTo>
                          <a:pt x="254" y="72"/>
                        </a:lnTo>
                        <a:lnTo>
                          <a:pt x="259" y="72"/>
                        </a:lnTo>
                        <a:lnTo>
                          <a:pt x="264" y="67"/>
                        </a:lnTo>
                        <a:lnTo>
                          <a:pt x="269" y="67"/>
                        </a:lnTo>
                        <a:lnTo>
                          <a:pt x="278" y="67"/>
                        </a:lnTo>
                        <a:lnTo>
                          <a:pt x="283" y="67"/>
                        </a:lnTo>
                        <a:lnTo>
                          <a:pt x="288" y="67"/>
                        </a:lnTo>
                        <a:lnTo>
                          <a:pt x="293" y="62"/>
                        </a:lnTo>
                        <a:lnTo>
                          <a:pt x="302" y="62"/>
                        </a:lnTo>
                        <a:lnTo>
                          <a:pt x="321" y="62"/>
                        </a:lnTo>
                        <a:lnTo>
                          <a:pt x="341" y="62"/>
                        </a:lnTo>
                        <a:lnTo>
                          <a:pt x="355" y="57"/>
                        </a:lnTo>
                        <a:lnTo>
                          <a:pt x="374" y="57"/>
                        </a:lnTo>
                        <a:lnTo>
                          <a:pt x="393" y="52"/>
                        </a:lnTo>
                        <a:lnTo>
                          <a:pt x="412" y="52"/>
                        </a:lnTo>
                        <a:lnTo>
                          <a:pt x="432" y="52"/>
                        </a:lnTo>
                        <a:lnTo>
                          <a:pt x="451" y="48"/>
                        </a:lnTo>
                        <a:lnTo>
                          <a:pt x="470" y="48"/>
                        </a:lnTo>
                        <a:lnTo>
                          <a:pt x="489" y="43"/>
                        </a:lnTo>
                        <a:lnTo>
                          <a:pt x="504" y="43"/>
                        </a:lnTo>
                        <a:lnTo>
                          <a:pt x="523" y="38"/>
                        </a:lnTo>
                        <a:lnTo>
                          <a:pt x="542" y="38"/>
                        </a:lnTo>
                        <a:lnTo>
                          <a:pt x="561" y="38"/>
                        </a:lnTo>
                        <a:lnTo>
                          <a:pt x="580" y="33"/>
                        </a:lnTo>
                        <a:lnTo>
                          <a:pt x="600" y="33"/>
                        </a:lnTo>
                        <a:lnTo>
                          <a:pt x="619" y="28"/>
                        </a:lnTo>
                        <a:lnTo>
                          <a:pt x="633" y="28"/>
                        </a:lnTo>
                        <a:lnTo>
                          <a:pt x="652" y="24"/>
                        </a:lnTo>
                        <a:lnTo>
                          <a:pt x="672" y="24"/>
                        </a:lnTo>
                        <a:lnTo>
                          <a:pt x="691" y="24"/>
                        </a:lnTo>
                        <a:lnTo>
                          <a:pt x="710" y="19"/>
                        </a:lnTo>
                        <a:lnTo>
                          <a:pt x="729" y="19"/>
                        </a:lnTo>
                        <a:lnTo>
                          <a:pt x="743" y="19"/>
                        </a:lnTo>
                        <a:lnTo>
                          <a:pt x="763" y="14"/>
                        </a:lnTo>
                        <a:lnTo>
                          <a:pt x="782" y="14"/>
                        </a:lnTo>
                        <a:lnTo>
                          <a:pt x="801" y="14"/>
                        </a:lnTo>
                        <a:lnTo>
                          <a:pt x="820" y="9"/>
                        </a:lnTo>
                        <a:lnTo>
                          <a:pt x="839" y="9"/>
                        </a:lnTo>
                        <a:lnTo>
                          <a:pt x="859" y="9"/>
                        </a:lnTo>
                        <a:lnTo>
                          <a:pt x="878" y="5"/>
                        </a:lnTo>
                        <a:lnTo>
                          <a:pt x="897" y="5"/>
                        </a:lnTo>
                        <a:lnTo>
                          <a:pt x="902" y="5"/>
                        </a:lnTo>
                        <a:lnTo>
                          <a:pt x="907" y="5"/>
                        </a:lnTo>
                        <a:lnTo>
                          <a:pt x="911" y="5"/>
                        </a:lnTo>
                        <a:lnTo>
                          <a:pt x="916" y="5"/>
                        </a:lnTo>
                        <a:lnTo>
                          <a:pt x="921" y="0"/>
                        </a:lnTo>
                        <a:lnTo>
                          <a:pt x="926" y="0"/>
                        </a:lnTo>
                        <a:lnTo>
                          <a:pt x="935" y="0"/>
                        </a:lnTo>
                        <a:lnTo>
                          <a:pt x="940" y="0"/>
                        </a:lnTo>
                        <a:lnTo>
                          <a:pt x="945" y="0"/>
                        </a:lnTo>
                        <a:lnTo>
                          <a:pt x="950" y="0"/>
                        </a:lnTo>
                        <a:lnTo>
                          <a:pt x="955" y="0"/>
                        </a:lnTo>
                        <a:lnTo>
                          <a:pt x="964" y="0"/>
                        </a:lnTo>
                        <a:lnTo>
                          <a:pt x="969" y="0"/>
                        </a:lnTo>
                        <a:lnTo>
                          <a:pt x="974" y="0"/>
                        </a:lnTo>
                        <a:lnTo>
                          <a:pt x="983" y="0"/>
                        </a:lnTo>
                        <a:lnTo>
                          <a:pt x="988" y="0"/>
                        </a:lnTo>
                        <a:lnTo>
                          <a:pt x="993" y="0"/>
                        </a:lnTo>
                        <a:lnTo>
                          <a:pt x="998" y="0"/>
                        </a:lnTo>
                        <a:lnTo>
                          <a:pt x="1007" y="0"/>
                        </a:lnTo>
                        <a:lnTo>
                          <a:pt x="1012" y="0"/>
                        </a:lnTo>
                        <a:lnTo>
                          <a:pt x="1017" y="0"/>
                        </a:lnTo>
                        <a:lnTo>
                          <a:pt x="1027" y="0"/>
                        </a:lnTo>
                        <a:lnTo>
                          <a:pt x="1031" y="0"/>
                        </a:lnTo>
                        <a:lnTo>
                          <a:pt x="1036" y="0"/>
                        </a:lnTo>
                        <a:lnTo>
                          <a:pt x="1041" y="0"/>
                        </a:lnTo>
                        <a:lnTo>
                          <a:pt x="1051" y="0"/>
                        </a:lnTo>
                        <a:lnTo>
                          <a:pt x="1055" y="0"/>
                        </a:lnTo>
                        <a:lnTo>
                          <a:pt x="1060" y="0"/>
                        </a:lnTo>
                        <a:lnTo>
                          <a:pt x="1065" y="0"/>
                        </a:lnTo>
                        <a:lnTo>
                          <a:pt x="1070" y="0"/>
                        </a:lnTo>
                        <a:lnTo>
                          <a:pt x="1074" y="0"/>
                        </a:lnTo>
                        <a:lnTo>
                          <a:pt x="1079" y="0"/>
                        </a:lnTo>
                        <a:close/>
                      </a:path>
                    </a:pathLst>
                  </a:custGeom>
                  <a:solidFill>
                    <a:srgbClr val="f5f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" bIns="1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9" name=""/>
                  <p:cNvSpPr/>
                  <p:nvPr/>
                </p:nvSpPr>
                <p:spPr>
                  <a:xfrm flipH="1">
                    <a:off x="4279680" y="4682160"/>
                    <a:ext cx="187920" cy="48600"/>
                  </a:xfrm>
                  <a:custGeom>
                    <a:avLst/>
                    <a:gdLst/>
                    <a:ahLst/>
                    <a:rect l="l" t="t" r="r" b="b"/>
                    <a:pathLst>
                      <a:path w="1108" h="297">
                        <a:moveTo>
                          <a:pt x="1032" y="0"/>
                        </a:moveTo>
                        <a:lnTo>
                          <a:pt x="1032" y="10"/>
                        </a:lnTo>
                        <a:lnTo>
                          <a:pt x="1037" y="15"/>
                        </a:lnTo>
                        <a:lnTo>
                          <a:pt x="1041" y="24"/>
                        </a:lnTo>
                        <a:lnTo>
                          <a:pt x="1041" y="29"/>
                        </a:lnTo>
                        <a:lnTo>
                          <a:pt x="1046" y="39"/>
                        </a:lnTo>
                        <a:lnTo>
                          <a:pt x="1051" y="48"/>
                        </a:lnTo>
                        <a:lnTo>
                          <a:pt x="1051" y="53"/>
                        </a:lnTo>
                        <a:lnTo>
                          <a:pt x="1056" y="62"/>
                        </a:lnTo>
                        <a:lnTo>
                          <a:pt x="1056" y="67"/>
                        </a:lnTo>
                        <a:lnTo>
                          <a:pt x="1060" y="77"/>
                        </a:lnTo>
                        <a:lnTo>
                          <a:pt x="1060" y="86"/>
                        </a:lnTo>
                        <a:lnTo>
                          <a:pt x="1065" y="91"/>
                        </a:lnTo>
                        <a:lnTo>
                          <a:pt x="1065" y="101"/>
                        </a:lnTo>
                        <a:lnTo>
                          <a:pt x="1070" y="110"/>
                        </a:lnTo>
                        <a:lnTo>
                          <a:pt x="1070" y="115"/>
                        </a:lnTo>
                        <a:lnTo>
                          <a:pt x="1075" y="125"/>
                        </a:lnTo>
                        <a:lnTo>
                          <a:pt x="1075" y="129"/>
                        </a:lnTo>
                        <a:lnTo>
                          <a:pt x="1080" y="139"/>
                        </a:lnTo>
                        <a:lnTo>
                          <a:pt x="1080" y="149"/>
                        </a:lnTo>
                        <a:lnTo>
                          <a:pt x="1084" y="153"/>
                        </a:lnTo>
                        <a:lnTo>
                          <a:pt x="1084" y="163"/>
                        </a:lnTo>
                        <a:lnTo>
                          <a:pt x="1089" y="173"/>
                        </a:lnTo>
                        <a:lnTo>
                          <a:pt x="1089" y="177"/>
                        </a:lnTo>
                        <a:lnTo>
                          <a:pt x="1089" y="187"/>
                        </a:lnTo>
                        <a:lnTo>
                          <a:pt x="1094" y="192"/>
                        </a:lnTo>
                        <a:lnTo>
                          <a:pt x="1094" y="201"/>
                        </a:lnTo>
                        <a:lnTo>
                          <a:pt x="1099" y="211"/>
                        </a:lnTo>
                        <a:lnTo>
                          <a:pt x="1099" y="216"/>
                        </a:lnTo>
                        <a:lnTo>
                          <a:pt x="1104" y="225"/>
                        </a:lnTo>
                        <a:lnTo>
                          <a:pt x="1104" y="230"/>
                        </a:lnTo>
                        <a:lnTo>
                          <a:pt x="1108" y="240"/>
                        </a:lnTo>
                        <a:lnTo>
                          <a:pt x="1108" y="244"/>
                        </a:lnTo>
                        <a:lnTo>
                          <a:pt x="1099" y="249"/>
                        </a:lnTo>
                        <a:lnTo>
                          <a:pt x="1089" y="254"/>
                        </a:lnTo>
                        <a:lnTo>
                          <a:pt x="1080" y="259"/>
                        </a:lnTo>
                        <a:lnTo>
                          <a:pt x="1070" y="264"/>
                        </a:lnTo>
                        <a:lnTo>
                          <a:pt x="1060" y="264"/>
                        </a:lnTo>
                        <a:lnTo>
                          <a:pt x="1051" y="268"/>
                        </a:lnTo>
                        <a:lnTo>
                          <a:pt x="1041" y="268"/>
                        </a:lnTo>
                        <a:lnTo>
                          <a:pt x="1032" y="273"/>
                        </a:lnTo>
                        <a:lnTo>
                          <a:pt x="1022" y="273"/>
                        </a:lnTo>
                        <a:lnTo>
                          <a:pt x="1013" y="278"/>
                        </a:lnTo>
                        <a:lnTo>
                          <a:pt x="1003" y="278"/>
                        </a:lnTo>
                        <a:lnTo>
                          <a:pt x="993" y="278"/>
                        </a:lnTo>
                        <a:lnTo>
                          <a:pt x="984" y="283"/>
                        </a:lnTo>
                        <a:lnTo>
                          <a:pt x="974" y="283"/>
                        </a:lnTo>
                        <a:lnTo>
                          <a:pt x="965" y="283"/>
                        </a:lnTo>
                        <a:lnTo>
                          <a:pt x="955" y="283"/>
                        </a:lnTo>
                        <a:lnTo>
                          <a:pt x="945" y="287"/>
                        </a:lnTo>
                        <a:lnTo>
                          <a:pt x="931" y="287"/>
                        </a:lnTo>
                        <a:lnTo>
                          <a:pt x="921" y="287"/>
                        </a:lnTo>
                        <a:lnTo>
                          <a:pt x="912" y="287"/>
                        </a:lnTo>
                        <a:lnTo>
                          <a:pt x="902" y="287"/>
                        </a:lnTo>
                        <a:lnTo>
                          <a:pt x="893" y="292"/>
                        </a:lnTo>
                        <a:lnTo>
                          <a:pt x="883" y="292"/>
                        </a:lnTo>
                        <a:lnTo>
                          <a:pt x="873" y="292"/>
                        </a:lnTo>
                        <a:lnTo>
                          <a:pt x="864" y="292"/>
                        </a:lnTo>
                        <a:lnTo>
                          <a:pt x="854" y="292"/>
                        </a:lnTo>
                        <a:lnTo>
                          <a:pt x="845" y="292"/>
                        </a:lnTo>
                        <a:lnTo>
                          <a:pt x="830" y="292"/>
                        </a:lnTo>
                        <a:lnTo>
                          <a:pt x="821" y="297"/>
                        </a:lnTo>
                        <a:lnTo>
                          <a:pt x="811" y="297"/>
                        </a:lnTo>
                        <a:lnTo>
                          <a:pt x="801" y="297"/>
                        </a:lnTo>
                        <a:lnTo>
                          <a:pt x="792" y="297"/>
                        </a:lnTo>
                        <a:lnTo>
                          <a:pt x="782" y="297"/>
                        </a:lnTo>
                        <a:lnTo>
                          <a:pt x="773" y="297"/>
                        </a:lnTo>
                        <a:lnTo>
                          <a:pt x="763" y="297"/>
                        </a:lnTo>
                        <a:lnTo>
                          <a:pt x="753" y="297"/>
                        </a:lnTo>
                        <a:lnTo>
                          <a:pt x="744" y="297"/>
                        </a:lnTo>
                        <a:lnTo>
                          <a:pt x="734" y="297"/>
                        </a:lnTo>
                        <a:lnTo>
                          <a:pt x="725" y="297"/>
                        </a:lnTo>
                        <a:lnTo>
                          <a:pt x="715" y="297"/>
                        </a:lnTo>
                        <a:lnTo>
                          <a:pt x="706" y="297"/>
                        </a:lnTo>
                        <a:lnTo>
                          <a:pt x="696" y="297"/>
                        </a:lnTo>
                        <a:lnTo>
                          <a:pt x="686" y="297"/>
                        </a:lnTo>
                        <a:lnTo>
                          <a:pt x="677" y="297"/>
                        </a:lnTo>
                        <a:lnTo>
                          <a:pt x="667" y="297"/>
                        </a:lnTo>
                        <a:lnTo>
                          <a:pt x="658" y="297"/>
                        </a:lnTo>
                        <a:lnTo>
                          <a:pt x="648" y="297"/>
                        </a:lnTo>
                        <a:lnTo>
                          <a:pt x="638" y="297"/>
                        </a:lnTo>
                        <a:lnTo>
                          <a:pt x="629" y="292"/>
                        </a:lnTo>
                        <a:lnTo>
                          <a:pt x="624" y="292"/>
                        </a:lnTo>
                        <a:lnTo>
                          <a:pt x="614" y="292"/>
                        </a:lnTo>
                        <a:lnTo>
                          <a:pt x="605" y="292"/>
                        </a:lnTo>
                        <a:lnTo>
                          <a:pt x="595" y="292"/>
                        </a:lnTo>
                        <a:lnTo>
                          <a:pt x="586" y="292"/>
                        </a:lnTo>
                        <a:lnTo>
                          <a:pt x="576" y="287"/>
                        </a:lnTo>
                        <a:lnTo>
                          <a:pt x="566" y="287"/>
                        </a:lnTo>
                        <a:lnTo>
                          <a:pt x="557" y="287"/>
                        </a:lnTo>
                        <a:lnTo>
                          <a:pt x="547" y="287"/>
                        </a:lnTo>
                        <a:lnTo>
                          <a:pt x="538" y="287"/>
                        </a:lnTo>
                        <a:lnTo>
                          <a:pt x="528" y="283"/>
                        </a:lnTo>
                        <a:lnTo>
                          <a:pt x="518" y="283"/>
                        </a:lnTo>
                        <a:lnTo>
                          <a:pt x="509" y="283"/>
                        </a:lnTo>
                        <a:lnTo>
                          <a:pt x="499" y="283"/>
                        </a:lnTo>
                        <a:lnTo>
                          <a:pt x="490" y="278"/>
                        </a:lnTo>
                        <a:lnTo>
                          <a:pt x="485" y="268"/>
                        </a:lnTo>
                        <a:lnTo>
                          <a:pt x="475" y="259"/>
                        </a:lnTo>
                        <a:lnTo>
                          <a:pt x="470" y="249"/>
                        </a:lnTo>
                        <a:lnTo>
                          <a:pt x="461" y="240"/>
                        </a:lnTo>
                        <a:lnTo>
                          <a:pt x="451" y="230"/>
                        </a:lnTo>
                        <a:lnTo>
                          <a:pt x="446" y="220"/>
                        </a:lnTo>
                        <a:lnTo>
                          <a:pt x="437" y="216"/>
                        </a:lnTo>
                        <a:lnTo>
                          <a:pt x="427" y="206"/>
                        </a:lnTo>
                        <a:lnTo>
                          <a:pt x="418" y="197"/>
                        </a:lnTo>
                        <a:lnTo>
                          <a:pt x="408" y="192"/>
                        </a:lnTo>
                        <a:lnTo>
                          <a:pt x="398" y="187"/>
                        </a:lnTo>
                        <a:lnTo>
                          <a:pt x="389" y="177"/>
                        </a:lnTo>
                        <a:lnTo>
                          <a:pt x="379" y="173"/>
                        </a:lnTo>
                        <a:lnTo>
                          <a:pt x="370" y="168"/>
                        </a:lnTo>
                        <a:lnTo>
                          <a:pt x="360" y="158"/>
                        </a:lnTo>
                        <a:lnTo>
                          <a:pt x="351" y="153"/>
                        </a:lnTo>
                        <a:lnTo>
                          <a:pt x="341" y="149"/>
                        </a:lnTo>
                        <a:lnTo>
                          <a:pt x="327" y="144"/>
                        </a:lnTo>
                        <a:lnTo>
                          <a:pt x="317" y="139"/>
                        </a:lnTo>
                        <a:lnTo>
                          <a:pt x="307" y="134"/>
                        </a:lnTo>
                        <a:lnTo>
                          <a:pt x="298" y="129"/>
                        </a:lnTo>
                        <a:lnTo>
                          <a:pt x="283" y="125"/>
                        </a:lnTo>
                        <a:lnTo>
                          <a:pt x="274" y="125"/>
                        </a:lnTo>
                        <a:lnTo>
                          <a:pt x="264" y="120"/>
                        </a:lnTo>
                        <a:lnTo>
                          <a:pt x="250" y="115"/>
                        </a:lnTo>
                        <a:lnTo>
                          <a:pt x="240" y="115"/>
                        </a:lnTo>
                        <a:lnTo>
                          <a:pt x="226" y="110"/>
                        </a:lnTo>
                        <a:lnTo>
                          <a:pt x="216" y="110"/>
                        </a:lnTo>
                        <a:lnTo>
                          <a:pt x="207" y="106"/>
                        </a:lnTo>
                        <a:lnTo>
                          <a:pt x="192" y="106"/>
                        </a:lnTo>
                        <a:lnTo>
                          <a:pt x="183" y="101"/>
                        </a:lnTo>
                        <a:lnTo>
                          <a:pt x="168" y="101"/>
                        </a:lnTo>
                        <a:lnTo>
                          <a:pt x="163" y="101"/>
                        </a:lnTo>
                        <a:lnTo>
                          <a:pt x="159" y="101"/>
                        </a:lnTo>
                        <a:lnTo>
                          <a:pt x="154" y="101"/>
                        </a:lnTo>
                        <a:lnTo>
                          <a:pt x="149" y="101"/>
                        </a:lnTo>
                        <a:lnTo>
                          <a:pt x="144" y="101"/>
                        </a:lnTo>
                        <a:lnTo>
                          <a:pt x="139" y="101"/>
                        </a:lnTo>
                        <a:lnTo>
                          <a:pt x="135" y="101"/>
                        </a:lnTo>
                        <a:lnTo>
                          <a:pt x="130" y="101"/>
                        </a:lnTo>
                        <a:lnTo>
                          <a:pt x="125" y="101"/>
                        </a:lnTo>
                        <a:lnTo>
                          <a:pt x="115" y="101"/>
                        </a:lnTo>
                        <a:lnTo>
                          <a:pt x="111" y="101"/>
                        </a:lnTo>
                        <a:lnTo>
                          <a:pt x="106" y="101"/>
                        </a:lnTo>
                        <a:lnTo>
                          <a:pt x="101" y="101"/>
                        </a:lnTo>
                        <a:lnTo>
                          <a:pt x="96" y="101"/>
                        </a:lnTo>
                        <a:lnTo>
                          <a:pt x="91" y="106"/>
                        </a:lnTo>
                        <a:lnTo>
                          <a:pt x="87" y="106"/>
                        </a:lnTo>
                        <a:lnTo>
                          <a:pt x="82" y="106"/>
                        </a:lnTo>
                        <a:lnTo>
                          <a:pt x="77" y="106"/>
                        </a:lnTo>
                        <a:lnTo>
                          <a:pt x="72" y="106"/>
                        </a:lnTo>
                        <a:lnTo>
                          <a:pt x="67" y="106"/>
                        </a:lnTo>
                        <a:lnTo>
                          <a:pt x="63" y="106"/>
                        </a:lnTo>
                        <a:lnTo>
                          <a:pt x="58" y="106"/>
                        </a:lnTo>
                        <a:lnTo>
                          <a:pt x="53" y="106"/>
                        </a:lnTo>
                        <a:lnTo>
                          <a:pt x="48" y="110"/>
                        </a:lnTo>
                        <a:lnTo>
                          <a:pt x="44" y="110"/>
                        </a:lnTo>
                        <a:lnTo>
                          <a:pt x="39" y="110"/>
                        </a:lnTo>
                        <a:lnTo>
                          <a:pt x="34" y="110"/>
                        </a:lnTo>
                        <a:lnTo>
                          <a:pt x="29" y="110"/>
                        </a:lnTo>
                        <a:lnTo>
                          <a:pt x="24" y="110"/>
                        </a:lnTo>
                        <a:lnTo>
                          <a:pt x="20" y="115"/>
                        </a:lnTo>
                        <a:lnTo>
                          <a:pt x="15" y="115"/>
                        </a:lnTo>
                        <a:lnTo>
                          <a:pt x="10" y="115"/>
                        </a:lnTo>
                        <a:lnTo>
                          <a:pt x="0" y="101"/>
                        </a:lnTo>
                        <a:lnTo>
                          <a:pt x="5" y="101"/>
                        </a:lnTo>
                        <a:lnTo>
                          <a:pt x="15" y="96"/>
                        </a:lnTo>
                        <a:lnTo>
                          <a:pt x="20" y="96"/>
                        </a:lnTo>
                        <a:lnTo>
                          <a:pt x="24" y="91"/>
                        </a:lnTo>
                        <a:lnTo>
                          <a:pt x="34" y="91"/>
                        </a:lnTo>
                        <a:lnTo>
                          <a:pt x="39" y="91"/>
                        </a:lnTo>
                        <a:lnTo>
                          <a:pt x="44" y="91"/>
                        </a:lnTo>
                        <a:lnTo>
                          <a:pt x="53" y="86"/>
                        </a:lnTo>
                        <a:lnTo>
                          <a:pt x="58" y="86"/>
                        </a:lnTo>
                        <a:lnTo>
                          <a:pt x="63" y="86"/>
                        </a:lnTo>
                        <a:lnTo>
                          <a:pt x="72" y="86"/>
                        </a:lnTo>
                        <a:lnTo>
                          <a:pt x="77" y="86"/>
                        </a:lnTo>
                        <a:lnTo>
                          <a:pt x="82" y="82"/>
                        </a:lnTo>
                        <a:lnTo>
                          <a:pt x="91" y="82"/>
                        </a:lnTo>
                        <a:lnTo>
                          <a:pt x="96" y="82"/>
                        </a:lnTo>
                        <a:lnTo>
                          <a:pt x="101" y="82"/>
                        </a:lnTo>
                        <a:lnTo>
                          <a:pt x="111" y="82"/>
                        </a:lnTo>
                        <a:lnTo>
                          <a:pt x="115" y="82"/>
                        </a:lnTo>
                        <a:lnTo>
                          <a:pt x="120" y="82"/>
                        </a:lnTo>
                        <a:lnTo>
                          <a:pt x="130" y="82"/>
                        </a:lnTo>
                        <a:lnTo>
                          <a:pt x="135" y="82"/>
                        </a:lnTo>
                        <a:lnTo>
                          <a:pt x="144" y="82"/>
                        </a:lnTo>
                        <a:lnTo>
                          <a:pt x="149" y="82"/>
                        </a:lnTo>
                        <a:lnTo>
                          <a:pt x="154" y="82"/>
                        </a:lnTo>
                        <a:lnTo>
                          <a:pt x="163" y="82"/>
                        </a:lnTo>
                        <a:lnTo>
                          <a:pt x="168" y="82"/>
                        </a:lnTo>
                        <a:lnTo>
                          <a:pt x="178" y="77"/>
                        </a:lnTo>
                        <a:lnTo>
                          <a:pt x="183" y="77"/>
                        </a:lnTo>
                        <a:lnTo>
                          <a:pt x="187" y="77"/>
                        </a:lnTo>
                        <a:lnTo>
                          <a:pt x="197" y="77"/>
                        </a:lnTo>
                        <a:lnTo>
                          <a:pt x="202" y="77"/>
                        </a:lnTo>
                        <a:lnTo>
                          <a:pt x="211" y="77"/>
                        </a:lnTo>
                        <a:lnTo>
                          <a:pt x="226" y="72"/>
                        </a:lnTo>
                        <a:lnTo>
                          <a:pt x="240" y="72"/>
                        </a:lnTo>
                        <a:lnTo>
                          <a:pt x="259" y="67"/>
                        </a:lnTo>
                        <a:lnTo>
                          <a:pt x="274" y="67"/>
                        </a:lnTo>
                        <a:lnTo>
                          <a:pt x="288" y="62"/>
                        </a:lnTo>
                        <a:lnTo>
                          <a:pt x="307" y="62"/>
                        </a:lnTo>
                        <a:lnTo>
                          <a:pt x="322" y="58"/>
                        </a:lnTo>
                        <a:lnTo>
                          <a:pt x="336" y="58"/>
                        </a:lnTo>
                        <a:lnTo>
                          <a:pt x="355" y="58"/>
                        </a:lnTo>
                        <a:lnTo>
                          <a:pt x="370" y="53"/>
                        </a:lnTo>
                        <a:lnTo>
                          <a:pt x="384" y="53"/>
                        </a:lnTo>
                        <a:lnTo>
                          <a:pt x="403" y="48"/>
                        </a:lnTo>
                        <a:lnTo>
                          <a:pt x="418" y="48"/>
                        </a:lnTo>
                        <a:lnTo>
                          <a:pt x="432" y="48"/>
                        </a:lnTo>
                        <a:lnTo>
                          <a:pt x="451" y="48"/>
                        </a:lnTo>
                        <a:lnTo>
                          <a:pt x="466" y="43"/>
                        </a:lnTo>
                        <a:lnTo>
                          <a:pt x="480" y="43"/>
                        </a:lnTo>
                        <a:lnTo>
                          <a:pt x="499" y="43"/>
                        </a:lnTo>
                        <a:lnTo>
                          <a:pt x="514" y="39"/>
                        </a:lnTo>
                        <a:lnTo>
                          <a:pt x="528" y="39"/>
                        </a:lnTo>
                        <a:lnTo>
                          <a:pt x="547" y="39"/>
                        </a:lnTo>
                        <a:lnTo>
                          <a:pt x="562" y="34"/>
                        </a:lnTo>
                        <a:lnTo>
                          <a:pt x="581" y="34"/>
                        </a:lnTo>
                        <a:lnTo>
                          <a:pt x="595" y="34"/>
                        </a:lnTo>
                        <a:lnTo>
                          <a:pt x="610" y="29"/>
                        </a:lnTo>
                        <a:lnTo>
                          <a:pt x="629" y="29"/>
                        </a:lnTo>
                        <a:lnTo>
                          <a:pt x="643" y="24"/>
                        </a:lnTo>
                        <a:lnTo>
                          <a:pt x="662" y="24"/>
                        </a:lnTo>
                        <a:lnTo>
                          <a:pt x="677" y="24"/>
                        </a:lnTo>
                        <a:lnTo>
                          <a:pt x="691" y="19"/>
                        </a:lnTo>
                        <a:lnTo>
                          <a:pt x="710" y="19"/>
                        </a:lnTo>
                        <a:lnTo>
                          <a:pt x="725" y="15"/>
                        </a:lnTo>
                        <a:lnTo>
                          <a:pt x="734" y="15"/>
                        </a:lnTo>
                        <a:lnTo>
                          <a:pt x="739" y="15"/>
                        </a:lnTo>
                        <a:lnTo>
                          <a:pt x="744" y="15"/>
                        </a:lnTo>
                        <a:lnTo>
                          <a:pt x="749" y="15"/>
                        </a:lnTo>
                        <a:lnTo>
                          <a:pt x="758" y="15"/>
                        </a:lnTo>
                        <a:lnTo>
                          <a:pt x="763" y="15"/>
                        </a:lnTo>
                        <a:lnTo>
                          <a:pt x="768" y="15"/>
                        </a:lnTo>
                        <a:lnTo>
                          <a:pt x="773" y="15"/>
                        </a:lnTo>
                        <a:lnTo>
                          <a:pt x="777" y="15"/>
                        </a:lnTo>
                        <a:lnTo>
                          <a:pt x="787" y="15"/>
                        </a:lnTo>
                        <a:lnTo>
                          <a:pt x="792" y="15"/>
                        </a:lnTo>
                        <a:lnTo>
                          <a:pt x="797" y="15"/>
                        </a:lnTo>
                        <a:lnTo>
                          <a:pt x="801" y="15"/>
                        </a:lnTo>
                        <a:lnTo>
                          <a:pt x="806" y="15"/>
                        </a:lnTo>
                        <a:lnTo>
                          <a:pt x="811" y="15"/>
                        </a:lnTo>
                        <a:lnTo>
                          <a:pt x="816" y="15"/>
                        </a:lnTo>
                        <a:lnTo>
                          <a:pt x="825" y="15"/>
                        </a:lnTo>
                        <a:lnTo>
                          <a:pt x="830" y="15"/>
                        </a:lnTo>
                        <a:lnTo>
                          <a:pt x="835" y="10"/>
                        </a:lnTo>
                        <a:lnTo>
                          <a:pt x="840" y="10"/>
                        </a:lnTo>
                        <a:lnTo>
                          <a:pt x="845" y="10"/>
                        </a:lnTo>
                        <a:lnTo>
                          <a:pt x="849" y="10"/>
                        </a:lnTo>
                        <a:lnTo>
                          <a:pt x="854" y="10"/>
                        </a:lnTo>
                        <a:lnTo>
                          <a:pt x="864" y="10"/>
                        </a:lnTo>
                        <a:lnTo>
                          <a:pt x="869" y="10"/>
                        </a:lnTo>
                        <a:lnTo>
                          <a:pt x="873" y="10"/>
                        </a:lnTo>
                        <a:lnTo>
                          <a:pt x="878" y="10"/>
                        </a:lnTo>
                        <a:lnTo>
                          <a:pt x="883" y="10"/>
                        </a:lnTo>
                        <a:lnTo>
                          <a:pt x="888" y="10"/>
                        </a:lnTo>
                        <a:lnTo>
                          <a:pt x="897" y="10"/>
                        </a:lnTo>
                        <a:lnTo>
                          <a:pt x="902" y="10"/>
                        </a:lnTo>
                        <a:lnTo>
                          <a:pt x="907" y="10"/>
                        </a:lnTo>
                        <a:lnTo>
                          <a:pt x="912" y="5"/>
                        </a:lnTo>
                        <a:lnTo>
                          <a:pt x="917" y="5"/>
                        </a:lnTo>
                        <a:lnTo>
                          <a:pt x="921" y="5"/>
                        </a:lnTo>
                        <a:lnTo>
                          <a:pt x="926" y="5"/>
                        </a:lnTo>
                        <a:lnTo>
                          <a:pt x="931" y="5"/>
                        </a:lnTo>
                        <a:lnTo>
                          <a:pt x="936" y="5"/>
                        </a:lnTo>
                        <a:lnTo>
                          <a:pt x="941" y="5"/>
                        </a:lnTo>
                        <a:lnTo>
                          <a:pt x="945" y="5"/>
                        </a:lnTo>
                        <a:lnTo>
                          <a:pt x="950" y="5"/>
                        </a:lnTo>
                        <a:lnTo>
                          <a:pt x="955" y="5"/>
                        </a:lnTo>
                        <a:lnTo>
                          <a:pt x="960" y="5"/>
                        </a:lnTo>
                        <a:lnTo>
                          <a:pt x="965" y="5"/>
                        </a:lnTo>
                        <a:lnTo>
                          <a:pt x="969" y="5"/>
                        </a:lnTo>
                        <a:lnTo>
                          <a:pt x="974" y="5"/>
                        </a:lnTo>
                        <a:lnTo>
                          <a:pt x="979" y="5"/>
                        </a:lnTo>
                        <a:lnTo>
                          <a:pt x="984" y="0"/>
                        </a:lnTo>
                        <a:lnTo>
                          <a:pt x="989" y="0"/>
                        </a:lnTo>
                        <a:lnTo>
                          <a:pt x="993" y="0"/>
                        </a:lnTo>
                        <a:lnTo>
                          <a:pt x="998" y="0"/>
                        </a:lnTo>
                        <a:lnTo>
                          <a:pt x="1003" y="0"/>
                        </a:lnTo>
                        <a:lnTo>
                          <a:pt x="1008" y="0"/>
                        </a:lnTo>
                        <a:lnTo>
                          <a:pt x="1013" y="0"/>
                        </a:lnTo>
                        <a:lnTo>
                          <a:pt x="1017" y="0"/>
                        </a:lnTo>
                        <a:lnTo>
                          <a:pt x="1022" y="0"/>
                        </a:lnTo>
                        <a:lnTo>
                          <a:pt x="1027" y="0"/>
                        </a:lnTo>
                        <a:lnTo>
                          <a:pt x="1032" y="0"/>
                        </a:lnTo>
                        <a:close/>
                      </a:path>
                    </a:pathLst>
                  </a:custGeom>
                  <a:solidFill>
                    <a:srgbClr val="f5f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" bIns="1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0" name=""/>
                  <p:cNvSpPr/>
                  <p:nvPr/>
                </p:nvSpPr>
                <p:spPr>
                  <a:xfrm flipH="1">
                    <a:off x="4391280" y="4706640"/>
                    <a:ext cx="100080" cy="104760"/>
                  </a:xfrm>
                  <a:custGeom>
                    <a:avLst/>
                    <a:gdLst/>
                    <a:ahLst/>
                    <a:rect l="l" t="t" r="r" b="b"/>
                    <a:pathLst>
                      <a:path w="590" h="641">
                        <a:moveTo>
                          <a:pt x="590" y="148"/>
                        </a:moveTo>
                        <a:lnTo>
                          <a:pt x="581" y="158"/>
                        </a:lnTo>
                        <a:lnTo>
                          <a:pt x="576" y="167"/>
                        </a:lnTo>
                        <a:lnTo>
                          <a:pt x="566" y="177"/>
                        </a:lnTo>
                        <a:lnTo>
                          <a:pt x="561" y="186"/>
                        </a:lnTo>
                        <a:lnTo>
                          <a:pt x="552" y="196"/>
                        </a:lnTo>
                        <a:lnTo>
                          <a:pt x="547" y="206"/>
                        </a:lnTo>
                        <a:lnTo>
                          <a:pt x="542" y="215"/>
                        </a:lnTo>
                        <a:lnTo>
                          <a:pt x="537" y="225"/>
                        </a:lnTo>
                        <a:lnTo>
                          <a:pt x="533" y="234"/>
                        </a:lnTo>
                        <a:lnTo>
                          <a:pt x="528" y="249"/>
                        </a:lnTo>
                        <a:lnTo>
                          <a:pt x="523" y="258"/>
                        </a:lnTo>
                        <a:lnTo>
                          <a:pt x="523" y="268"/>
                        </a:lnTo>
                        <a:lnTo>
                          <a:pt x="518" y="282"/>
                        </a:lnTo>
                        <a:lnTo>
                          <a:pt x="518" y="292"/>
                        </a:lnTo>
                        <a:lnTo>
                          <a:pt x="514" y="306"/>
                        </a:lnTo>
                        <a:lnTo>
                          <a:pt x="514" y="316"/>
                        </a:lnTo>
                        <a:lnTo>
                          <a:pt x="514" y="330"/>
                        </a:lnTo>
                        <a:lnTo>
                          <a:pt x="509" y="344"/>
                        </a:lnTo>
                        <a:lnTo>
                          <a:pt x="509" y="354"/>
                        </a:lnTo>
                        <a:lnTo>
                          <a:pt x="509" y="368"/>
                        </a:lnTo>
                        <a:lnTo>
                          <a:pt x="509" y="378"/>
                        </a:lnTo>
                        <a:lnTo>
                          <a:pt x="509" y="392"/>
                        </a:lnTo>
                        <a:lnTo>
                          <a:pt x="509" y="402"/>
                        </a:lnTo>
                        <a:lnTo>
                          <a:pt x="509" y="416"/>
                        </a:lnTo>
                        <a:lnTo>
                          <a:pt x="514" y="426"/>
                        </a:lnTo>
                        <a:lnTo>
                          <a:pt x="514" y="440"/>
                        </a:lnTo>
                        <a:lnTo>
                          <a:pt x="514" y="450"/>
                        </a:lnTo>
                        <a:lnTo>
                          <a:pt x="518" y="464"/>
                        </a:lnTo>
                        <a:lnTo>
                          <a:pt x="518" y="474"/>
                        </a:lnTo>
                        <a:lnTo>
                          <a:pt x="518" y="488"/>
                        </a:lnTo>
                        <a:lnTo>
                          <a:pt x="523" y="498"/>
                        </a:lnTo>
                        <a:lnTo>
                          <a:pt x="523" y="507"/>
                        </a:lnTo>
                        <a:lnTo>
                          <a:pt x="528" y="512"/>
                        </a:lnTo>
                        <a:lnTo>
                          <a:pt x="528" y="517"/>
                        </a:lnTo>
                        <a:lnTo>
                          <a:pt x="528" y="522"/>
                        </a:lnTo>
                        <a:lnTo>
                          <a:pt x="528" y="526"/>
                        </a:lnTo>
                        <a:lnTo>
                          <a:pt x="533" y="526"/>
                        </a:lnTo>
                        <a:lnTo>
                          <a:pt x="533" y="531"/>
                        </a:lnTo>
                        <a:lnTo>
                          <a:pt x="533" y="536"/>
                        </a:lnTo>
                        <a:lnTo>
                          <a:pt x="537" y="536"/>
                        </a:lnTo>
                        <a:lnTo>
                          <a:pt x="537" y="541"/>
                        </a:lnTo>
                        <a:lnTo>
                          <a:pt x="542" y="546"/>
                        </a:lnTo>
                        <a:lnTo>
                          <a:pt x="542" y="550"/>
                        </a:lnTo>
                        <a:lnTo>
                          <a:pt x="547" y="555"/>
                        </a:lnTo>
                        <a:lnTo>
                          <a:pt x="547" y="560"/>
                        </a:lnTo>
                        <a:lnTo>
                          <a:pt x="552" y="560"/>
                        </a:lnTo>
                        <a:lnTo>
                          <a:pt x="552" y="565"/>
                        </a:lnTo>
                        <a:lnTo>
                          <a:pt x="557" y="569"/>
                        </a:lnTo>
                        <a:lnTo>
                          <a:pt x="557" y="574"/>
                        </a:lnTo>
                        <a:lnTo>
                          <a:pt x="561" y="574"/>
                        </a:lnTo>
                        <a:lnTo>
                          <a:pt x="561" y="579"/>
                        </a:lnTo>
                        <a:lnTo>
                          <a:pt x="561" y="584"/>
                        </a:lnTo>
                        <a:lnTo>
                          <a:pt x="566" y="584"/>
                        </a:lnTo>
                        <a:lnTo>
                          <a:pt x="566" y="589"/>
                        </a:lnTo>
                        <a:lnTo>
                          <a:pt x="561" y="589"/>
                        </a:lnTo>
                        <a:lnTo>
                          <a:pt x="557" y="593"/>
                        </a:lnTo>
                        <a:lnTo>
                          <a:pt x="547" y="593"/>
                        </a:lnTo>
                        <a:lnTo>
                          <a:pt x="542" y="598"/>
                        </a:lnTo>
                        <a:lnTo>
                          <a:pt x="537" y="598"/>
                        </a:lnTo>
                        <a:lnTo>
                          <a:pt x="533" y="598"/>
                        </a:lnTo>
                        <a:lnTo>
                          <a:pt x="528" y="603"/>
                        </a:lnTo>
                        <a:lnTo>
                          <a:pt x="518" y="603"/>
                        </a:lnTo>
                        <a:lnTo>
                          <a:pt x="514" y="608"/>
                        </a:lnTo>
                        <a:lnTo>
                          <a:pt x="509" y="608"/>
                        </a:lnTo>
                        <a:lnTo>
                          <a:pt x="504" y="608"/>
                        </a:lnTo>
                        <a:lnTo>
                          <a:pt x="499" y="613"/>
                        </a:lnTo>
                        <a:lnTo>
                          <a:pt x="490" y="613"/>
                        </a:lnTo>
                        <a:lnTo>
                          <a:pt x="485" y="617"/>
                        </a:lnTo>
                        <a:lnTo>
                          <a:pt x="480" y="617"/>
                        </a:lnTo>
                        <a:lnTo>
                          <a:pt x="475" y="617"/>
                        </a:lnTo>
                        <a:lnTo>
                          <a:pt x="466" y="622"/>
                        </a:lnTo>
                        <a:lnTo>
                          <a:pt x="461" y="622"/>
                        </a:lnTo>
                        <a:lnTo>
                          <a:pt x="456" y="622"/>
                        </a:lnTo>
                        <a:lnTo>
                          <a:pt x="451" y="622"/>
                        </a:lnTo>
                        <a:lnTo>
                          <a:pt x="442" y="627"/>
                        </a:lnTo>
                        <a:lnTo>
                          <a:pt x="437" y="627"/>
                        </a:lnTo>
                        <a:lnTo>
                          <a:pt x="432" y="627"/>
                        </a:lnTo>
                        <a:lnTo>
                          <a:pt x="427" y="632"/>
                        </a:lnTo>
                        <a:lnTo>
                          <a:pt x="418" y="632"/>
                        </a:lnTo>
                        <a:lnTo>
                          <a:pt x="413" y="632"/>
                        </a:lnTo>
                        <a:lnTo>
                          <a:pt x="408" y="632"/>
                        </a:lnTo>
                        <a:lnTo>
                          <a:pt x="403" y="636"/>
                        </a:lnTo>
                        <a:lnTo>
                          <a:pt x="394" y="636"/>
                        </a:lnTo>
                        <a:lnTo>
                          <a:pt x="389" y="636"/>
                        </a:lnTo>
                        <a:lnTo>
                          <a:pt x="384" y="641"/>
                        </a:lnTo>
                        <a:lnTo>
                          <a:pt x="379" y="641"/>
                        </a:lnTo>
                        <a:lnTo>
                          <a:pt x="370" y="641"/>
                        </a:lnTo>
                        <a:lnTo>
                          <a:pt x="365" y="641"/>
                        </a:lnTo>
                        <a:lnTo>
                          <a:pt x="360" y="641"/>
                        </a:lnTo>
                        <a:lnTo>
                          <a:pt x="355" y="641"/>
                        </a:lnTo>
                        <a:lnTo>
                          <a:pt x="346" y="641"/>
                        </a:lnTo>
                        <a:lnTo>
                          <a:pt x="341" y="641"/>
                        </a:lnTo>
                        <a:lnTo>
                          <a:pt x="336" y="641"/>
                        </a:lnTo>
                        <a:lnTo>
                          <a:pt x="331" y="641"/>
                        </a:lnTo>
                        <a:lnTo>
                          <a:pt x="322" y="641"/>
                        </a:lnTo>
                        <a:lnTo>
                          <a:pt x="317" y="641"/>
                        </a:lnTo>
                        <a:lnTo>
                          <a:pt x="312" y="641"/>
                        </a:lnTo>
                        <a:lnTo>
                          <a:pt x="307" y="641"/>
                        </a:lnTo>
                        <a:lnTo>
                          <a:pt x="298" y="641"/>
                        </a:lnTo>
                        <a:lnTo>
                          <a:pt x="293" y="641"/>
                        </a:lnTo>
                        <a:lnTo>
                          <a:pt x="288" y="641"/>
                        </a:lnTo>
                        <a:lnTo>
                          <a:pt x="283" y="641"/>
                        </a:lnTo>
                        <a:lnTo>
                          <a:pt x="274" y="641"/>
                        </a:lnTo>
                        <a:lnTo>
                          <a:pt x="269" y="641"/>
                        </a:lnTo>
                        <a:lnTo>
                          <a:pt x="264" y="641"/>
                        </a:lnTo>
                        <a:lnTo>
                          <a:pt x="259" y="636"/>
                        </a:lnTo>
                        <a:lnTo>
                          <a:pt x="250" y="636"/>
                        </a:lnTo>
                        <a:lnTo>
                          <a:pt x="245" y="636"/>
                        </a:lnTo>
                        <a:lnTo>
                          <a:pt x="240" y="636"/>
                        </a:lnTo>
                        <a:lnTo>
                          <a:pt x="235" y="636"/>
                        </a:lnTo>
                        <a:lnTo>
                          <a:pt x="226" y="636"/>
                        </a:lnTo>
                        <a:lnTo>
                          <a:pt x="221" y="632"/>
                        </a:lnTo>
                        <a:lnTo>
                          <a:pt x="216" y="632"/>
                        </a:lnTo>
                        <a:lnTo>
                          <a:pt x="211" y="632"/>
                        </a:lnTo>
                        <a:lnTo>
                          <a:pt x="202" y="627"/>
                        </a:lnTo>
                        <a:lnTo>
                          <a:pt x="197" y="627"/>
                        </a:lnTo>
                        <a:lnTo>
                          <a:pt x="192" y="622"/>
                        </a:lnTo>
                        <a:lnTo>
                          <a:pt x="183" y="622"/>
                        </a:lnTo>
                        <a:lnTo>
                          <a:pt x="178" y="622"/>
                        </a:lnTo>
                        <a:lnTo>
                          <a:pt x="178" y="617"/>
                        </a:lnTo>
                        <a:lnTo>
                          <a:pt x="173" y="617"/>
                        </a:lnTo>
                        <a:lnTo>
                          <a:pt x="168" y="617"/>
                        </a:lnTo>
                        <a:lnTo>
                          <a:pt x="163" y="613"/>
                        </a:lnTo>
                        <a:lnTo>
                          <a:pt x="159" y="613"/>
                        </a:lnTo>
                        <a:lnTo>
                          <a:pt x="154" y="608"/>
                        </a:lnTo>
                        <a:lnTo>
                          <a:pt x="149" y="608"/>
                        </a:lnTo>
                        <a:lnTo>
                          <a:pt x="144" y="603"/>
                        </a:lnTo>
                        <a:lnTo>
                          <a:pt x="139" y="603"/>
                        </a:lnTo>
                        <a:lnTo>
                          <a:pt x="139" y="598"/>
                        </a:lnTo>
                        <a:lnTo>
                          <a:pt x="135" y="598"/>
                        </a:lnTo>
                        <a:lnTo>
                          <a:pt x="130" y="598"/>
                        </a:lnTo>
                        <a:lnTo>
                          <a:pt x="135" y="593"/>
                        </a:lnTo>
                        <a:lnTo>
                          <a:pt x="139" y="593"/>
                        </a:lnTo>
                        <a:lnTo>
                          <a:pt x="144" y="593"/>
                        </a:lnTo>
                        <a:lnTo>
                          <a:pt x="149" y="593"/>
                        </a:lnTo>
                        <a:lnTo>
                          <a:pt x="154" y="593"/>
                        </a:lnTo>
                        <a:lnTo>
                          <a:pt x="159" y="593"/>
                        </a:lnTo>
                        <a:lnTo>
                          <a:pt x="163" y="593"/>
                        </a:lnTo>
                        <a:lnTo>
                          <a:pt x="168" y="593"/>
                        </a:lnTo>
                        <a:lnTo>
                          <a:pt x="173" y="593"/>
                        </a:lnTo>
                        <a:lnTo>
                          <a:pt x="178" y="589"/>
                        </a:lnTo>
                        <a:lnTo>
                          <a:pt x="183" y="584"/>
                        </a:lnTo>
                        <a:lnTo>
                          <a:pt x="183" y="579"/>
                        </a:lnTo>
                        <a:lnTo>
                          <a:pt x="183" y="574"/>
                        </a:lnTo>
                        <a:lnTo>
                          <a:pt x="178" y="574"/>
                        </a:lnTo>
                        <a:lnTo>
                          <a:pt x="173" y="569"/>
                        </a:lnTo>
                        <a:lnTo>
                          <a:pt x="168" y="565"/>
                        </a:lnTo>
                        <a:lnTo>
                          <a:pt x="163" y="560"/>
                        </a:lnTo>
                        <a:lnTo>
                          <a:pt x="159" y="555"/>
                        </a:lnTo>
                        <a:lnTo>
                          <a:pt x="154" y="555"/>
                        </a:lnTo>
                        <a:lnTo>
                          <a:pt x="149" y="550"/>
                        </a:lnTo>
                        <a:lnTo>
                          <a:pt x="144" y="550"/>
                        </a:lnTo>
                        <a:lnTo>
                          <a:pt x="139" y="546"/>
                        </a:lnTo>
                        <a:lnTo>
                          <a:pt x="135" y="546"/>
                        </a:lnTo>
                        <a:lnTo>
                          <a:pt x="130" y="541"/>
                        </a:lnTo>
                        <a:lnTo>
                          <a:pt x="125" y="541"/>
                        </a:lnTo>
                        <a:lnTo>
                          <a:pt x="120" y="541"/>
                        </a:lnTo>
                        <a:lnTo>
                          <a:pt x="115" y="536"/>
                        </a:lnTo>
                        <a:lnTo>
                          <a:pt x="111" y="536"/>
                        </a:lnTo>
                        <a:lnTo>
                          <a:pt x="106" y="531"/>
                        </a:lnTo>
                        <a:lnTo>
                          <a:pt x="101" y="531"/>
                        </a:lnTo>
                        <a:lnTo>
                          <a:pt x="96" y="526"/>
                        </a:lnTo>
                        <a:lnTo>
                          <a:pt x="91" y="526"/>
                        </a:lnTo>
                        <a:lnTo>
                          <a:pt x="87" y="522"/>
                        </a:lnTo>
                        <a:lnTo>
                          <a:pt x="87" y="517"/>
                        </a:lnTo>
                        <a:lnTo>
                          <a:pt x="82" y="517"/>
                        </a:lnTo>
                        <a:lnTo>
                          <a:pt x="77" y="512"/>
                        </a:lnTo>
                        <a:lnTo>
                          <a:pt x="77" y="507"/>
                        </a:lnTo>
                        <a:lnTo>
                          <a:pt x="72" y="502"/>
                        </a:lnTo>
                        <a:lnTo>
                          <a:pt x="67" y="498"/>
                        </a:lnTo>
                        <a:lnTo>
                          <a:pt x="67" y="493"/>
                        </a:lnTo>
                        <a:lnTo>
                          <a:pt x="67" y="488"/>
                        </a:lnTo>
                        <a:lnTo>
                          <a:pt x="67" y="483"/>
                        </a:lnTo>
                        <a:lnTo>
                          <a:pt x="63" y="478"/>
                        </a:lnTo>
                        <a:lnTo>
                          <a:pt x="67" y="478"/>
                        </a:lnTo>
                        <a:lnTo>
                          <a:pt x="72" y="478"/>
                        </a:lnTo>
                        <a:lnTo>
                          <a:pt x="77" y="478"/>
                        </a:lnTo>
                        <a:lnTo>
                          <a:pt x="82" y="478"/>
                        </a:lnTo>
                        <a:lnTo>
                          <a:pt x="87" y="483"/>
                        </a:lnTo>
                        <a:lnTo>
                          <a:pt x="91" y="483"/>
                        </a:lnTo>
                        <a:lnTo>
                          <a:pt x="96" y="483"/>
                        </a:lnTo>
                        <a:lnTo>
                          <a:pt x="101" y="483"/>
                        </a:lnTo>
                        <a:lnTo>
                          <a:pt x="106" y="483"/>
                        </a:lnTo>
                        <a:lnTo>
                          <a:pt x="111" y="483"/>
                        </a:lnTo>
                        <a:lnTo>
                          <a:pt x="115" y="483"/>
                        </a:lnTo>
                        <a:lnTo>
                          <a:pt x="120" y="483"/>
                        </a:lnTo>
                        <a:lnTo>
                          <a:pt x="125" y="483"/>
                        </a:lnTo>
                        <a:lnTo>
                          <a:pt x="130" y="483"/>
                        </a:lnTo>
                        <a:lnTo>
                          <a:pt x="135" y="483"/>
                        </a:lnTo>
                        <a:lnTo>
                          <a:pt x="139" y="483"/>
                        </a:lnTo>
                        <a:lnTo>
                          <a:pt x="144" y="483"/>
                        </a:lnTo>
                        <a:lnTo>
                          <a:pt x="149" y="483"/>
                        </a:lnTo>
                        <a:lnTo>
                          <a:pt x="154" y="483"/>
                        </a:lnTo>
                        <a:lnTo>
                          <a:pt x="159" y="483"/>
                        </a:lnTo>
                        <a:lnTo>
                          <a:pt x="163" y="483"/>
                        </a:lnTo>
                        <a:lnTo>
                          <a:pt x="168" y="483"/>
                        </a:lnTo>
                        <a:lnTo>
                          <a:pt x="173" y="483"/>
                        </a:lnTo>
                        <a:lnTo>
                          <a:pt x="178" y="483"/>
                        </a:lnTo>
                        <a:lnTo>
                          <a:pt x="183" y="478"/>
                        </a:lnTo>
                        <a:lnTo>
                          <a:pt x="187" y="478"/>
                        </a:lnTo>
                        <a:lnTo>
                          <a:pt x="187" y="474"/>
                        </a:lnTo>
                        <a:lnTo>
                          <a:pt x="192" y="474"/>
                        </a:lnTo>
                        <a:lnTo>
                          <a:pt x="197" y="469"/>
                        </a:lnTo>
                        <a:lnTo>
                          <a:pt x="197" y="464"/>
                        </a:lnTo>
                        <a:lnTo>
                          <a:pt x="197" y="459"/>
                        </a:lnTo>
                        <a:lnTo>
                          <a:pt x="192" y="459"/>
                        </a:lnTo>
                        <a:lnTo>
                          <a:pt x="187" y="455"/>
                        </a:lnTo>
                        <a:lnTo>
                          <a:pt x="183" y="455"/>
                        </a:lnTo>
                        <a:lnTo>
                          <a:pt x="178" y="450"/>
                        </a:lnTo>
                        <a:lnTo>
                          <a:pt x="173" y="450"/>
                        </a:lnTo>
                        <a:lnTo>
                          <a:pt x="168" y="450"/>
                        </a:lnTo>
                        <a:lnTo>
                          <a:pt x="163" y="445"/>
                        </a:lnTo>
                        <a:lnTo>
                          <a:pt x="159" y="445"/>
                        </a:lnTo>
                        <a:lnTo>
                          <a:pt x="154" y="445"/>
                        </a:lnTo>
                        <a:lnTo>
                          <a:pt x="149" y="445"/>
                        </a:lnTo>
                        <a:lnTo>
                          <a:pt x="144" y="440"/>
                        </a:lnTo>
                        <a:lnTo>
                          <a:pt x="139" y="440"/>
                        </a:lnTo>
                        <a:lnTo>
                          <a:pt x="135" y="440"/>
                        </a:lnTo>
                        <a:lnTo>
                          <a:pt x="130" y="440"/>
                        </a:lnTo>
                        <a:lnTo>
                          <a:pt x="125" y="440"/>
                        </a:lnTo>
                        <a:lnTo>
                          <a:pt x="120" y="435"/>
                        </a:lnTo>
                        <a:lnTo>
                          <a:pt x="115" y="435"/>
                        </a:lnTo>
                        <a:lnTo>
                          <a:pt x="111" y="435"/>
                        </a:lnTo>
                        <a:lnTo>
                          <a:pt x="106" y="435"/>
                        </a:lnTo>
                        <a:lnTo>
                          <a:pt x="101" y="431"/>
                        </a:lnTo>
                        <a:lnTo>
                          <a:pt x="96" y="431"/>
                        </a:lnTo>
                        <a:lnTo>
                          <a:pt x="91" y="431"/>
                        </a:lnTo>
                        <a:lnTo>
                          <a:pt x="87" y="426"/>
                        </a:lnTo>
                        <a:lnTo>
                          <a:pt x="82" y="426"/>
                        </a:lnTo>
                        <a:lnTo>
                          <a:pt x="77" y="426"/>
                        </a:lnTo>
                        <a:lnTo>
                          <a:pt x="77" y="421"/>
                        </a:lnTo>
                        <a:lnTo>
                          <a:pt x="72" y="421"/>
                        </a:lnTo>
                        <a:lnTo>
                          <a:pt x="67" y="416"/>
                        </a:lnTo>
                        <a:lnTo>
                          <a:pt x="63" y="411"/>
                        </a:lnTo>
                        <a:lnTo>
                          <a:pt x="58" y="411"/>
                        </a:lnTo>
                        <a:lnTo>
                          <a:pt x="53" y="407"/>
                        </a:lnTo>
                        <a:lnTo>
                          <a:pt x="53" y="402"/>
                        </a:lnTo>
                        <a:lnTo>
                          <a:pt x="48" y="397"/>
                        </a:lnTo>
                        <a:lnTo>
                          <a:pt x="48" y="392"/>
                        </a:lnTo>
                        <a:lnTo>
                          <a:pt x="43" y="392"/>
                        </a:lnTo>
                        <a:lnTo>
                          <a:pt x="43" y="387"/>
                        </a:lnTo>
                        <a:lnTo>
                          <a:pt x="39" y="383"/>
                        </a:lnTo>
                        <a:lnTo>
                          <a:pt x="39" y="378"/>
                        </a:lnTo>
                        <a:lnTo>
                          <a:pt x="34" y="378"/>
                        </a:lnTo>
                        <a:lnTo>
                          <a:pt x="34" y="373"/>
                        </a:lnTo>
                        <a:lnTo>
                          <a:pt x="29" y="368"/>
                        </a:lnTo>
                        <a:lnTo>
                          <a:pt x="29" y="364"/>
                        </a:lnTo>
                        <a:lnTo>
                          <a:pt x="24" y="364"/>
                        </a:lnTo>
                        <a:lnTo>
                          <a:pt x="24" y="359"/>
                        </a:lnTo>
                        <a:lnTo>
                          <a:pt x="24" y="354"/>
                        </a:lnTo>
                        <a:lnTo>
                          <a:pt x="19" y="354"/>
                        </a:lnTo>
                        <a:lnTo>
                          <a:pt x="19" y="349"/>
                        </a:lnTo>
                        <a:lnTo>
                          <a:pt x="19" y="344"/>
                        </a:lnTo>
                        <a:lnTo>
                          <a:pt x="19" y="340"/>
                        </a:lnTo>
                        <a:lnTo>
                          <a:pt x="19" y="335"/>
                        </a:lnTo>
                        <a:lnTo>
                          <a:pt x="24" y="335"/>
                        </a:lnTo>
                        <a:lnTo>
                          <a:pt x="24" y="340"/>
                        </a:lnTo>
                        <a:lnTo>
                          <a:pt x="29" y="340"/>
                        </a:lnTo>
                        <a:lnTo>
                          <a:pt x="34" y="344"/>
                        </a:lnTo>
                        <a:lnTo>
                          <a:pt x="39" y="349"/>
                        </a:lnTo>
                        <a:lnTo>
                          <a:pt x="43" y="349"/>
                        </a:lnTo>
                        <a:lnTo>
                          <a:pt x="48" y="349"/>
                        </a:lnTo>
                        <a:lnTo>
                          <a:pt x="48" y="354"/>
                        </a:lnTo>
                        <a:lnTo>
                          <a:pt x="53" y="354"/>
                        </a:lnTo>
                        <a:lnTo>
                          <a:pt x="58" y="359"/>
                        </a:lnTo>
                        <a:lnTo>
                          <a:pt x="63" y="359"/>
                        </a:lnTo>
                        <a:lnTo>
                          <a:pt x="63" y="364"/>
                        </a:lnTo>
                        <a:lnTo>
                          <a:pt x="67" y="364"/>
                        </a:lnTo>
                        <a:lnTo>
                          <a:pt x="72" y="364"/>
                        </a:lnTo>
                        <a:lnTo>
                          <a:pt x="77" y="368"/>
                        </a:lnTo>
                        <a:lnTo>
                          <a:pt x="82" y="368"/>
                        </a:lnTo>
                        <a:lnTo>
                          <a:pt x="87" y="368"/>
                        </a:lnTo>
                        <a:lnTo>
                          <a:pt x="91" y="368"/>
                        </a:lnTo>
                        <a:lnTo>
                          <a:pt x="96" y="373"/>
                        </a:lnTo>
                        <a:lnTo>
                          <a:pt x="101" y="373"/>
                        </a:lnTo>
                        <a:lnTo>
                          <a:pt x="106" y="373"/>
                        </a:lnTo>
                        <a:lnTo>
                          <a:pt x="111" y="373"/>
                        </a:lnTo>
                        <a:lnTo>
                          <a:pt x="115" y="373"/>
                        </a:lnTo>
                        <a:lnTo>
                          <a:pt x="120" y="373"/>
                        </a:lnTo>
                        <a:lnTo>
                          <a:pt x="125" y="373"/>
                        </a:lnTo>
                        <a:lnTo>
                          <a:pt x="130" y="368"/>
                        </a:lnTo>
                        <a:lnTo>
                          <a:pt x="135" y="368"/>
                        </a:lnTo>
                        <a:lnTo>
                          <a:pt x="139" y="368"/>
                        </a:lnTo>
                        <a:lnTo>
                          <a:pt x="144" y="364"/>
                        </a:lnTo>
                        <a:lnTo>
                          <a:pt x="144" y="359"/>
                        </a:lnTo>
                        <a:lnTo>
                          <a:pt x="149" y="359"/>
                        </a:lnTo>
                        <a:lnTo>
                          <a:pt x="149" y="354"/>
                        </a:lnTo>
                        <a:lnTo>
                          <a:pt x="149" y="349"/>
                        </a:lnTo>
                        <a:lnTo>
                          <a:pt x="149" y="344"/>
                        </a:lnTo>
                        <a:lnTo>
                          <a:pt x="149" y="340"/>
                        </a:lnTo>
                        <a:lnTo>
                          <a:pt x="144" y="340"/>
                        </a:lnTo>
                        <a:lnTo>
                          <a:pt x="144" y="335"/>
                        </a:lnTo>
                        <a:lnTo>
                          <a:pt x="139" y="335"/>
                        </a:lnTo>
                        <a:lnTo>
                          <a:pt x="135" y="335"/>
                        </a:lnTo>
                        <a:lnTo>
                          <a:pt x="130" y="335"/>
                        </a:lnTo>
                        <a:lnTo>
                          <a:pt x="130" y="330"/>
                        </a:lnTo>
                        <a:lnTo>
                          <a:pt x="125" y="330"/>
                        </a:lnTo>
                        <a:lnTo>
                          <a:pt x="120" y="330"/>
                        </a:lnTo>
                        <a:lnTo>
                          <a:pt x="115" y="330"/>
                        </a:lnTo>
                        <a:lnTo>
                          <a:pt x="111" y="330"/>
                        </a:lnTo>
                        <a:lnTo>
                          <a:pt x="106" y="325"/>
                        </a:lnTo>
                        <a:lnTo>
                          <a:pt x="101" y="325"/>
                        </a:lnTo>
                        <a:lnTo>
                          <a:pt x="96" y="320"/>
                        </a:lnTo>
                        <a:lnTo>
                          <a:pt x="91" y="320"/>
                        </a:lnTo>
                        <a:lnTo>
                          <a:pt x="91" y="316"/>
                        </a:lnTo>
                        <a:lnTo>
                          <a:pt x="87" y="316"/>
                        </a:lnTo>
                        <a:lnTo>
                          <a:pt x="82" y="311"/>
                        </a:lnTo>
                        <a:lnTo>
                          <a:pt x="77" y="311"/>
                        </a:lnTo>
                        <a:lnTo>
                          <a:pt x="72" y="306"/>
                        </a:lnTo>
                        <a:lnTo>
                          <a:pt x="67" y="306"/>
                        </a:lnTo>
                        <a:lnTo>
                          <a:pt x="63" y="301"/>
                        </a:lnTo>
                        <a:lnTo>
                          <a:pt x="58" y="297"/>
                        </a:lnTo>
                        <a:lnTo>
                          <a:pt x="53" y="292"/>
                        </a:lnTo>
                        <a:lnTo>
                          <a:pt x="48" y="287"/>
                        </a:lnTo>
                        <a:lnTo>
                          <a:pt x="43" y="287"/>
                        </a:lnTo>
                        <a:lnTo>
                          <a:pt x="43" y="282"/>
                        </a:lnTo>
                        <a:lnTo>
                          <a:pt x="39" y="277"/>
                        </a:lnTo>
                        <a:lnTo>
                          <a:pt x="34" y="273"/>
                        </a:lnTo>
                        <a:lnTo>
                          <a:pt x="29" y="268"/>
                        </a:lnTo>
                        <a:lnTo>
                          <a:pt x="24" y="263"/>
                        </a:lnTo>
                        <a:lnTo>
                          <a:pt x="24" y="258"/>
                        </a:lnTo>
                        <a:lnTo>
                          <a:pt x="19" y="253"/>
                        </a:lnTo>
                        <a:lnTo>
                          <a:pt x="15" y="249"/>
                        </a:lnTo>
                        <a:lnTo>
                          <a:pt x="10" y="244"/>
                        </a:lnTo>
                        <a:lnTo>
                          <a:pt x="10" y="239"/>
                        </a:lnTo>
                        <a:lnTo>
                          <a:pt x="5" y="234"/>
                        </a:lnTo>
                        <a:lnTo>
                          <a:pt x="5" y="229"/>
                        </a:lnTo>
                        <a:lnTo>
                          <a:pt x="0" y="225"/>
                        </a:lnTo>
                        <a:lnTo>
                          <a:pt x="5" y="220"/>
                        </a:lnTo>
                        <a:lnTo>
                          <a:pt x="5" y="215"/>
                        </a:lnTo>
                        <a:lnTo>
                          <a:pt x="5" y="210"/>
                        </a:lnTo>
                        <a:lnTo>
                          <a:pt x="5" y="206"/>
                        </a:lnTo>
                        <a:lnTo>
                          <a:pt x="5" y="201"/>
                        </a:lnTo>
                        <a:lnTo>
                          <a:pt x="10" y="201"/>
                        </a:lnTo>
                        <a:lnTo>
                          <a:pt x="10" y="196"/>
                        </a:lnTo>
                        <a:lnTo>
                          <a:pt x="10" y="191"/>
                        </a:lnTo>
                        <a:lnTo>
                          <a:pt x="10" y="186"/>
                        </a:lnTo>
                        <a:lnTo>
                          <a:pt x="15" y="182"/>
                        </a:lnTo>
                        <a:lnTo>
                          <a:pt x="15" y="177"/>
                        </a:lnTo>
                        <a:lnTo>
                          <a:pt x="15" y="172"/>
                        </a:lnTo>
                        <a:lnTo>
                          <a:pt x="19" y="167"/>
                        </a:lnTo>
                        <a:lnTo>
                          <a:pt x="19" y="162"/>
                        </a:lnTo>
                        <a:lnTo>
                          <a:pt x="19" y="158"/>
                        </a:lnTo>
                        <a:lnTo>
                          <a:pt x="24" y="153"/>
                        </a:lnTo>
                        <a:lnTo>
                          <a:pt x="24" y="148"/>
                        </a:lnTo>
                        <a:lnTo>
                          <a:pt x="29" y="148"/>
                        </a:lnTo>
                        <a:lnTo>
                          <a:pt x="29" y="143"/>
                        </a:lnTo>
                        <a:lnTo>
                          <a:pt x="34" y="138"/>
                        </a:lnTo>
                        <a:lnTo>
                          <a:pt x="34" y="134"/>
                        </a:lnTo>
                        <a:lnTo>
                          <a:pt x="39" y="134"/>
                        </a:lnTo>
                        <a:lnTo>
                          <a:pt x="39" y="129"/>
                        </a:lnTo>
                        <a:lnTo>
                          <a:pt x="43" y="129"/>
                        </a:lnTo>
                        <a:lnTo>
                          <a:pt x="48" y="134"/>
                        </a:lnTo>
                        <a:lnTo>
                          <a:pt x="53" y="134"/>
                        </a:lnTo>
                        <a:lnTo>
                          <a:pt x="58" y="134"/>
                        </a:lnTo>
                        <a:lnTo>
                          <a:pt x="63" y="134"/>
                        </a:lnTo>
                        <a:lnTo>
                          <a:pt x="67" y="138"/>
                        </a:lnTo>
                        <a:lnTo>
                          <a:pt x="72" y="138"/>
                        </a:lnTo>
                        <a:lnTo>
                          <a:pt x="77" y="138"/>
                        </a:lnTo>
                        <a:lnTo>
                          <a:pt x="82" y="138"/>
                        </a:lnTo>
                        <a:lnTo>
                          <a:pt x="87" y="138"/>
                        </a:lnTo>
                        <a:lnTo>
                          <a:pt x="91" y="143"/>
                        </a:lnTo>
                        <a:lnTo>
                          <a:pt x="96" y="143"/>
                        </a:lnTo>
                        <a:lnTo>
                          <a:pt x="101" y="143"/>
                        </a:lnTo>
                        <a:lnTo>
                          <a:pt x="106" y="143"/>
                        </a:lnTo>
                        <a:lnTo>
                          <a:pt x="111" y="143"/>
                        </a:lnTo>
                        <a:lnTo>
                          <a:pt x="115" y="143"/>
                        </a:lnTo>
                        <a:lnTo>
                          <a:pt x="120" y="143"/>
                        </a:lnTo>
                        <a:lnTo>
                          <a:pt x="125" y="143"/>
                        </a:lnTo>
                        <a:lnTo>
                          <a:pt x="130" y="143"/>
                        </a:lnTo>
                        <a:lnTo>
                          <a:pt x="135" y="143"/>
                        </a:lnTo>
                        <a:lnTo>
                          <a:pt x="139" y="143"/>
                        </a:lnTo>
                        <a:lnTo>
                          <a:pt x="144" y="143"/>
                        </a:lnTo>
                        <a:lnTo>
                          <a:pt x="149" y="143"/>
                        </a:lnTo>
                        <a:lnTo>
                          <a:pt x="154" y="143"/>
                        </a:lnTo>
                        <a:lnTo>
                          <a:pt x="159" y="143"/>
                        </a:lnTo>
                        <a:lnTo>
                          <a:pt x="163" y="143"/>
                        </a:lnTo>
                        <a:lnTo>
                          <a:pt x="168" y="143"/>
                        </a:lnTo>
                        <a:lnTo>
                          <a:pt x="173" y="143"/>
                        </a:lnTo>
                        <a:lnTo>
                          <a:pt x="178" y="138"/>
                        </a:lnTo>
                        <a:lnTo>
                          <a:pt x="183" y="138"/>
                        </a:lnTo>
                        <a:lnTo>
                          <a:pt x="187" y="138"/>
                        </a:lnTo>
                        <a:lnTo>
                          <a:pt x="192" y="138"/>
                        </a:lnTo>
                        <a:lnTo>
                          <a:pt x="197" y="138"/>
                        </a:lnTo>
                        <a:lnTo>
                          <a:pt x="197" y="134"/>
                        </a:lnTo>
                        <a:lnTo>
                          <a:pt x="202" y="134"/>
                        </a:lnTo>
                        <a:lnTo>
                          <a:pt x="206" y="134"/>
                        </a:lnTo>
                        <a:lnTo>
                          <a:pt x="206" y="129"/>
                        </a:lnTo>
                        <a:lnTo>
                          <a:pt x="206" y="124"/>
                        </a:lnTo>
                        <a:lnTo>
                          <a:pt x="211" y="124"/>
                        </a:lnTo>
                        <a:lnTo>
                          <a:pt x="211" y="119"/>
                        </a:lnTo>
                        <a:lnTo>
                          <a:pt x="206" y="119"/>
                        </a:lnTo>
                        <a:lnTo>
                          <a:pt x="206" y="115"/>
                        </a:lnTo>
                        <a:lnTo>
                          <a:pt x="206" y="110"/>
                        </a:lnTo>
                        <a:lnTo>
                          <a:pt x="206" y="105"/>
                        </a:lnTo>
                        <a:lnTo>
                          <a:pt x="202" y="105"/>
                        </a:lnTo>
                        <a:lnTo>
                          <a:pt x="202" y="100"/>
                        </a:lnTo>
                        <a:lnTo>
                          <a:pt x="197" y="100"/>
                        </a:lnTo>
                        <a:lnTo>
                          <a:pt x="192" y="100"/>
                        </a:lnTo>
                        <a:lnTo>
                          <a:pt x="192" y="95"/>
                        </a:lnTo>
                        <a:lnTo>
                          <a:pt x="187" y="95"/>
                        </a:lnTo>
                        <a:lnTo>
                          <a:pt x="183" y="95"/>
                        </a:lnTo>
                        <a:lnTo>
                          <a:pt x="178" y="95"/>
                        </a:lnTo>
                        <a:lnTo>
                          <a:pt x="173" y="95"/>
                        </a:lnTo>
                        <a:lnTo>
                          <a:pt x="168" y="95"/>
                        </a:lnTo>
                        <a:lnTo>
                          <a:pt x="163" y="95"/>
                        </a:lnTo>
                        <a:lnTo>
                          <a:pt x="159" y="95"/>
                        </a:lnTo>
                        <a:lnTo>
                          <a:pt x="154" y="95"/>
                        </a:lnTo>
                        <a:lnTo>
                          <a:pt x="149" y="95"/>
                        </a:lnTo>
                        <a:lnTo>
                          <a:pt x="144" y="95"/>
                        </a:lnTo>
                        <a:lnTo>
                          <a:pt x="139" y="95"/>
                        </a:lnTo>
                        <a:lnTo>
                          <a:pt x="130" y="95"/>
                        </a:lnTo>
                        <a:lnTo>
                          <a:pt x="125" y="95"/>
                        </a:lnTo>
                        <a:lnTo>
                          <a:pt x="120" y="95"/>
                        </a:lnTo>
                        <a:lnTo>
                          <a:pt x="115" y="95"/>
                        </a:lnTo>
                        <a:lnTo>
                          <a:pt x="111" y="95"/>
                        </a:lnTo>
                        <a:lnTo>
                          <a:pt x="106" y="95"/>
                        </a:lnTo>
                        <a:lnTo>
                          <a:pt x="101" y="95"/>
                        </a:lnTo>
                        <a:lnTo>
                          <a:pt x="96" y="95"/>
                        </a:lnTo>
                        <a:lnTo>
                          <a:pt x="91" y="91"/>
                        </a:lnTo>
                        <a:lnTo>
                          <a:pt x="87" y="91"/>
                        </a:lnTo>
                        <a:lnTo>
                          <a:pt x="82" y="91"/>
                        </a:lnTo>
                        <a:lnTo>
                          <a:pt x="77" y="86"/>
                        </a:lnTo>
                        <a:lnTo>
                          <a:pt x="72" y="86"/>
                        </a:lnTo>
                        <a:lnTo>
                          <a:pt x="67" y="81"/>
                        </a:lnTo>
                        <a:lnTo>
                          <a:pt x="63" y="81"/>
                        </a:lnTo>
                        <a:lnTo>
                          <a:pt x="63" y="76"/>
                        </a:lnTo>
                        <a:lnTo>
                          <a:pt x="58" y="71"/>
                        </a:lnTo>
                        <a:lnTo>
                          <a:pt x="53" y="71"/>
                        </a:lnTo>
                        <a:lnTo>
                          <a:pt x="53" y="67"/>
                        </a:lnTo>
                        <a:lnTo>
                          <a:pt x="48" y="62"/>
                        </a:lnTo>
                        <a:lnTo>
                          <a:pt x="48" y="57"/>
                        </a:lnTo>
                        <a:lnTo>
                          <a:pt x="48" y="52"/>
                        </a:lnTo>
                        <a:lnTo>
                          <a:pt x="48" y="48"/>
                        </a:lnTo>
                        <a:lnTo>
                          <a:pt x="48" y="43"/>
                        </a:lnTo>
                        <a:lnTo>
                          <a:pt x="43" y="43"/>
                        </a:lnTo>
                        <a:lnTo>
                          <a:pt x="43" y="38"/>
                        </a:lnTo>
                        <a:lnTo>
                          <a:pt x="43" y="33"/>
                        </a:lnTo>
                        <a:lnTo>
                          <a:pt x="39" y="28"/>
                        </a:lnTo>
                        <a:lnTo>
                          <a:pt x="39" y="24"/>
                        </a:lnTo>
                        <a:lnTo>
                          <a:pt x="39" y="19"/>
                        </a:lnTo>
                        <a:lnTo>
                          <a:pt x="48" y="19"/>
                        </a:lnTo>
                        <a:lnTo>
                          <a:pt x="58" y="19"/>
                        </a:lnTo>
                        <a:lnTo>
                          <a:pt x="67" y="24"/>
                        </a:lnTo>
                        <a:lnTo>
                          <a:pt x="82" y="24"/>
                        </a:lnTo>
                        <a:lnTo>
                          <a:pt x="91" y="24"/>
                        </a:lnTo>
                        <a:lnTo>
                          <a:pt x="101" y="24"/>
                        </a:lnTo>
                        <a:lnTo>
                          <a:pt x="111" y="19"/>
                        </a:lnTo>
                        <a:lnTo>
                          <a:pt x="120" y="19"/>
                        </a:lnTo>
                        <a:lnTo>
                          <a:pt x="130" y="19"/>
                        </a:lnTo>
                        <a:lnTo>
                          <a:pt x="139" y="19"/>
                        </a:lnTo>
                        <a:lnTo>
                          <a:pt x="154" y="19"/>
                        </a:lnTo>
                        <a:lnTo>
                          <a:pt x="163" y="14"/>
                        </a:lnTo>
                        <a:lnTo>
                          <a:pt x="173" y="14"/>
                        </a:lnTo>
                        <a:lnTo>
                          <a:pt x="183" y="14"/>
                        </a:lnTo>
                        <a:lnTo>
                          <a:pt x="192" y="9"/>
                        </a:lnTo>
                        <a:lnTo>
                          <a:pt x="202" y="9"/>
                        </a:lnTo>
                        <a:lnTo>
                          <a:pt x="211" y="9"/>
                        </a:lnTo>
                        <a:lnTo>
                          <a:pt x="221" y="4"/>
                        </a:lnTo>
                        <a:lnTo>
                          <a:pt x="230" y="4"/>
                        </a:lnTo>
                        <a:lnTo>
                          <a:pt x="240" y="4"/>
                        </a:lnTo>
                        <a:lnTo>
                          <a:pt x="250" y="0"/>
                        </a:lnTo>
                        <a:lnTo>
                          <a:pt x="259" y="0"/>
                        </a:lnTo>
                        <a:lnTo>
                          <a:pt x="269" y="0"/>
                        </a:lnTo>
                        <a:lnTo>
                          <a:pt x="278" y="0"/>
                        </a:lnTo>
                        <a:lnTo>
                          <a:pt x="293" y="0"/>
                        </a:lnTo>
                        <a:lnTo>
                          <a:pt x="302" y="0"/>
                        </a:lnTo>
                        <a:lnTo>
                          <a:pt x="312" y="0"/>
                        </a:lnTo>
                        <a:lnTo>
                          <a:pt x="322" y="0"/>
                        </a:lnTo>
                        <a:lnTo>
                          <a:pt x="331" y="4"/>
                        </a:lnTo>
                        <a:lnTo>
                          <a:pt x="341" y="4"/>
                        </a:lnTo>
                        <a:lnTo>
                          <a:pt x="350" y="9"/>
                        </a:lnTo>
                        <a:lnTo>
                          <a:pt x="360" y="9"/>
                        </a:lnTo>
                        <a:lnTo>
                          <a:pt x="370" y="14"/>
                        </a:lnTo>
                        <a:lnTo>
                          <a:pt x="374" y="14"/>
                        </a:lnTo>
                        <a:lnTo>
                          <a:pt x="384" y="19"/>
                        </a:lnTo>
                        <a:lnTo>
                          <a:pt x="394" y="19"/>
                        </a:lnTo>
                        <a:lnTo>
                          <a:pt x="398" y="24"/>
                        </a:lnTo>
                        <a:lnTo>
                          <a:pt x="408" y="24"/>
                        </a:lnTo>
                        <a:lnTo>
                          <a:pt x="418" y="28"/>
                        </a:lnTo>
                        <a:lnTo>
                          <a:pt x="422" y="33"/>
                        </a:lnTo>
                        <a:lnTo>
                          <a:pt x="432" y="33"/>
                        </a:lnTo>
                        <a:lnTo>
                          <a:pt x="437" y="38"/>
                        </a:lnTo>
                        <a:lnTo>
                          <a:pt x="446" y="43"/>
                        </a:lnTo>
                        <a:lnTo>
                          <a:pt x="456" y="48"/>
                        </a:lnTo>
                        <a:lnTo>
                          <a:pt x="461" y="48"/>
                        </a:lnTo>
                        <a:lnTo>
                          <a:pt x="470" y="52"/>
                        </a:lnTo>
                        <a:lnTo>
                          <a:pt x="475" y="57"/>
                        </a:lnTo>
                        <a:lnTo>
                          <a:pt x="485" y="62"/>
                        </a:lnTo>
                        <a:lnTo>
                          <a:pt x="494" y="67"/>
                        </a:lnTo>
                        <a:lnTo>
                          <a:pt x="499" y="71"/>
                        </a:lnTo>
                        <a:lnTo>
                          <a:pt x="509" y="76"/>
                        </a:lnTo>
                        <a:lnTo>
                          <a:pt x="514" y="81"/>
                        </a:lnTo>
                        <a:lnTo>
                          <a:pt x="523" y="86"/>
                        </a:lnTo>
                        <a:lnTo>
                          <a:pt x="528" y="91"/>
                        </a:lnTo>
                        <a:lnTo>
                          <a:pt x="533" y="95"/>
                        </a:lnTo>
                        <a:lnTo>
                          <a:pt x="542" y="100"/>
                        </a:lnTo>
                        <a:lnTo>
                          <a:pt x="547" y="105"/>
                        </a:lnTo>
                        <a:lnTo>
                          <a:pt x="557" y="110"/>
                        </a:lnTo>
                        <a:lnTo>
                          <a:pt x="561" y="119"/>
                        </a:lnTo>
                        <a:lnTo>
                          <a:pt x="566" y="124"/>
                        </a:lnTo>
                        <a:lnTo>
                          <a:pt x="576" y="129"/>
                        </a:lnTo>
                        <a:lnTo>
                          <a:pt x="581" y="134"/>
                        </a:lnTo>
                        <a:lnTo>
                          <a:pt x="585" y="143"/>
                        </a:lnTo>
                        <a:lnTo>
                          <a:pt x="590" y="148"/>
                        </a:lnTo>
                        <a:close/>
                      </a:path>
                    </a:pathLst>
                  </a:custGeom>
                  <a:solidFill>
                    <a:srgbClr val="ffd9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1" name=""/>
                  <p:cNvSpPr/>
                  <p:nvPr/>
                </p:nvSpPr>
                <p:spPr>
                  <a:xfrm flipH="1">
                    <a:off x="3863520" y="4725360"/>
                    <a:ext cx="85320" cy="123480"/>
                  </a:xfrm>
                  <a:custGeom>
                    <a:avLst/>
                    <a:gdLst/>
                    <a:ahLst/>
                    <a:rect l="l" t="t" r="r" b="b"/>
                    <a:pathLst>
                      <a:path w="504" h="756">
                        <a:moveTo>
                          <a:pt x="465" y="43"/>
                        </a:moveTo>
                        <a:lnTo>
                          <a:pt x="470" y="47"/>
                        </a:lnTo>
                        <a:lnTo>
                          <a:pt x="470" y="52"/>
                        </a:lnTo>
                        <a:lnTo>
                          <a:pt x="475" y="52"/>
                        </a:lnTo>
                        <a:lnTo>
                          <a:pt x="475" y="57"/>
                        </a:lnTo>
                        <a:lnTo>
                          <a:pt x="475" y="62"/>
                        </a:lnTo>
                        <a:lnTo>
                          <a:pt x="480" y="62"/>
                        </a:lnTo>
                        <a:lnTo>
                          <a:pt x="480" y="67"/>
                        </a:lnTo>
                        <a:lnTo>
                          <a:pt x="485" y="67"/>
                        </a:lnTo>
                        <a:lnTo>
                          <a:pt x="485" y="71"/>
                        </a:lnTo>
                        <a:lnTo>
                          <a:pt x="489" y="76"/>
                        </a:lnTo>
                        <a:lnTo>
                          <a:pt x="489" y="81"/>
                        </a:lnTo>
                        <a:lnTo>
                          <a:pt x="494" y="81"/>
                        </a:lnTo>
                        <a:lnTo>
                          <a:pt x="494" y="86"/>
                        </a:lnTo>
                        <a:lnTo>
                          <a:pt x="499" y="91"/>
                        </a:lnTo>
                        <a:lnTo>
                          <a:pt x="499" y="95"/>
                        </a:lnTo>
                        <a:lnTo>
                          <a:pt x="499" y="100"/>
                        </a:lnTo>
                        <a:lnTo>
                          <a:pt x="504" y="100"/>
                        </a:lnTo>
                        <a:lnTo>
                          <a:pt x="504" y="105"/>
                        </a:lnTo>
                        <a:lnTo>
                          <a:pt x="504" y="110"/>
                        </a:lnTo>
                        <a:lnTo>
                          <a:pt x="504" y="114"/>
                        </a:lnTo>
                        <a:lnTo>
                          <a:pt x="504" y="119"/>
                        </a:lnTo>
                        <a:lnTo>
                          <a:pt x="504" y="124"/>
                        </a:lnTo>
                        <a:lnTo>
                          <a:pt x="499" y="124"/>
                        </a:lnTo>
                        <a:lnTo>
                          <a:pt x="499" y="129"/>
                        </a:lnTo>
                        <a:lnTo>
                          <a:pt x="499" y="134"/>
                        </a:lnTo>
                        <a:lnTo>
                          <a:pt x="499" y="138"/>
                        </a:lnTo>
                        <a:lnTo>
                          <a:pt x="499" y="143"/>
                        </a:lnTo>
                        <a:lnTo>
                          <a:pt x="499" y="148"/>
                        </a:lnTo>
                        <a:lnTo>
                          <a:pt x="499" y="153"/>
                        </a:lnTo>
                        <a:lnTo>
                          <a:pt x="499" y="158"/>
                        </a:lnTo>
                        <a:lnTo>
                          <a:pt x="499" y="162"/>
                        </a:lnTo>
                        <a:lnTo>
                          <a:pt x="499" y="167"/>
                        </a:lnTo>
                        <a:lnTo>
                          <a:pt x="499" y="172"/>
                        </a:lnTo>
                        <a:lnTo>
                          <a:pt x="499" y="182"/>
                        </a:lnTo>
                        <a:lnTo>
                          <a:pt x="499" y="186"/>
                        </a:lnTo>
                        <a:lnTo>
                          <a:pt x="499" y="191"/>
                        </a:lnTo>
                        <a:lnTo>
                          <a:pt x="499" y="196"/>
                        </a:lnTo>
                        <a:lnTo>
                          <a:pt x="499" y="201"/>
                        </a:lnTo>
                        <a:lnTo>
                          <a:pt x="499" y="205"/>
                        </a:lnTo>
                        <a:lnTo>
                          <a:pt x="494" y="210"/>
                        </a:lnTo>
                        <a:lnTo>
                          <a:pt x="494" y="215"/>
                        </a:lnTo>
                        <a:lnTo>
                          <a:pt x="494" y="220"/>
                        </a:lnTo>
                        <a:lnTo>
                          <a:pt x="494" y="225"/>
                        </a:lnTo>
                        <a:lnTo>
                          <a:pt x="494" y="229"/>
                        </a:lnTo>
                        <a:lnTo>
                          <a:pt x="489" y="234"/>
                        </a:lnTo>
                        <a:lnTo>
                          <a:pt x="489" y="239"/>
                        </a:lnTo>
                        <a:lnTo>
                          <a:pt x="489" y="244"/>
                        </a:lnTo>
                        <a:lnTo>
                          <a:pt x="485" y="249"/>
                        </a:lnTo>
                        <a:lnTo>
                          <a:pt x="485" y="253"/>
                        </a:lnTo>
                        <a:lnTo>
                          <a:pt x="485" y="258"/>
                        </a:lnTo>
                        <a:lnTo>
                          <a:pt x="485" y="263"/>
                        </a:lnTo>
                        <a:lnTo>
                          <a:pt x="480" y="268"/>
                        </a:lnTo>
                        <a:lnTo>
                          <a:pt x="480" y="272"/>
                        </a:lnTo>
                        <a:lnTo>
                          <a:pt x="475" y="277"/>
                        </a:lnTo>
                        <a:lnTo>
                          <a:pt x="475" y="282"/>
                        </a:lnTo>
                        <a:lnTo>
                          <a:pt x="470" y="292"/>
                        </a:lnTo>
                        <a:lnTo>
                          <a:pt x="470" y="296"/>
                        </a:lnTo>
                        <a:lnTo>
                          <a:pt x="465" y="301"/>
                        </a:lnTo>
                        <a:lnTo>
                          <a:pt x="461" y="306"/>
                        </a:lnTo>
                        <a:lnTo>
                          <a:pt x="461" y="311"/>
                        </a:lnTo>
                        <a:lnTo>
                          <a:pt x="456" y="316"/>
                        </a:lnTo>
                        <a:lnTo>
                          <a:pt x="451" y="320"/>
                        </a:lnTo>
                        <a:lnTo>
                          <a:pt x="451" y="325"/>
                        </a:lnTo>
                        <a:lnTo>
                          <a:pt x="446" y="330"/>
                        </a:lnTo>
                        <a:lnTo>
                          <a:pt x="441" y="335"/>
                        </a:lnTo>
                        <a:lnTo>
                          <a:pt x="437" y="340"/>
                        </a:lnTo>
                        <a:lnTo>
                          <a:pt x="437" y="344"/>
                        </a:lnTo>
                        <a:lnTo>
                          <a:pt x="432" y="349"/>
                        </a:lnTo>
                        <a:lnTo>
                          <a:pt x="427" y="354"/>
                        </a:lnTo>
                        <a:lnTo>
                          <a:pt x="422" y="359"/>
                        </a:lnTo>
                        <a:lnTo>
                          <a:pt x="422" y="363"/>
                        </a:lnTo>
                        <a:lnTo>
                          <a:pt x="417" y="368"/>
                        </a:lnTo>
                        <a:lnTo>
                          <a:pt x="413" y="373"/>
                        </a:lnTo>
                        <a:lnTo>
                          <a:pt x="408" y="378"/>
                        </a:lnTo>
                        <a:lnTo>
                          <a:pt x="408" y="383"/>
                        </a:lnTo>
                        <a:lnTo>
                          <a:pt x="403" y="387"/>
                        </a:lnTo>
                        <a:lnTo>
                          <a:pt x="398" y="392"/>
                        </a:lnTo>
                        <a:lnTo>
                          <a:pt x="398" y="397"/>
                        </a:lnTo>
                        <a:lnTo>
                          <a:pt x="393" y="402"/>
                        </a:lnTo>
                        <a:lnTo>
                          <a:pt x="389" y="407"/>
                        </a:lnTo>
                        <a:lnTo>
                          <a:pt x="389" y="411"/>
                        </a:lnTo>
                        <a:lnTo>
                          <a:pt x="384" y="416"/>
                        </a:lnTo>
                        <a:lnTo>
                          <a:pt x="379" y="421"/>
                        </a:lnTo>
                        <a:lnTo>
                          <a:pt x="379" y="426"/>
                        </a:lnTo>
                        <a:lnTo>
                          <a:pt x="374" y="435"/>
                        </a:lnTo>
                        <a:lnTo>
                          <a:pt x="374" y="440"/>
                        </a:lnTo>
                        <a:lnTo>
                          <a:pt x="369" y="445"/>
                        </a:lnTo>
                        <a:lnTo>
                          <a:pt x="374" y="450"/>
                        </a:lnTo>
                        <a:lnTo>
                          <a:pt x="379" y="454"/>
                        </a:lnTo>
                        <a:lnTo>
                          <a:pt x="379" y="464"/>
                        </a:lnTo>
                        <a:lnTo>
                          <a:pt x="384" y="469"/>
                        </a:lnTo>
                        <a:lnTo>
                          <a:pt x="384" y="474"/>
                        </a:lnTo>
                        <a:lnTo>
                          <a:pt x="389" y="483"/>
                        </a:lnTo>
                        <a:lnTo>
                          <a:pt x="389" y="488"/>
                        </a:lnTo>
                        <a:lnTo>
                          <a:pt x="393" y="493"/>
                        </a:lnTo>
                        <a:lnTo>
                          <a:pt x="393" y="502"/>
                        </a:lnTo>
                        <a:lnTo>
                          <a:pt x="393" y="507"/>
                        </a:lnTo>
                        <a:lnTo>
                          <a:pt x="398" y="512"/>
                        </a:lnTo>
                        <a:lnTo>
                          <a:pt x="398" y="521"/>
                        </a:lnTo>
                        <a:lnTo>
                          <a:pt x="398" y="526"/>
                        </a:lnTo>
                        <a:lnTo>
                          <a:pt x="403" y="531"/>
                        </a:lnTo>
                        <a:lnTo>
                          <a:pt x="403" y="541"/>
                        </a:lnTo>
                        <a:lnTo>
                          <a:pt x="408" y="545"/>
                        </a:lnTo>
                        <a:lnTo>
                          <a:pt x="408" y="550"/>
                        </a:lnTo>
                        <a:lnTo>
                          <a:pt x="408" y="560"/>
                        </a:lnTo>
                        <a:lnTo>
                          <a:pt x="408" y="565"/>
                        </a:lnTo>
                        <a:lnTo>
                          <a:pt x="413" y="574"/>
                        </a:lnTo>
                        <a:lnTo>
                          <a:pt x="413" y="579"/>
                        </a:lnTo>
                        <a:lnTo>
                          <a:pt x="413" y="584"/>
                        </a:lnTo>
                        <a:lnTo>
                          <a:pt x="417" y="593"/>
                        </a:lnTo>
                        <a:lnTo>
                          <a:pt x="417" y="598"/>
                        </a:lnTo>
                        <a:lnTo>
                          <a:pt x="417" y="608"/>
                        </a:lnTo>
                        <a:lnTo>
                          <a:pt x="417" y="612"/>
                        </a:lnTo>
                        <a:lnTo>
                          <a:pt x="422" y="617"/>
                        </a:lnTo>
                        <a:lnTo>
                          <a:pt x="422" y="627"/>
                        </a:lnTo>
                        <a:lnTo>
                          <a:pt x="422" y="632"/>
                        </a:lnTo>
                        <a:lnTo>
                          <a:pt x="422" y="641"/>
                        </a:lnTo>
                        <a:lnTo>
                          <a:pt x="427" y="646"/>
                        </a:lnTo>
                        <a:lnTo>
                          <a:pt x="427" y="651"/>
                        </a:lnTo>
                        <a:lnTo>
                          <a:pt x="427" y="656"/>
                        </a:lnTo>
                        <a:lnTo>
                          <a:pt x="422" y="656"/>
                        </a:lnTo>
                        <a:lnTo>
                          <a:pt x="422" y="660"/>
                        </a:lnTo>
                        <a:lnTo>
                          <a:pt x="422" y="665"/>
                        </a:lnTo>
                        <a:lnTo>
                          <a:pt x="417" y="665"/>
                        </a:lnTo>
                        <a:lnTo>
                          <a:pt x="417" y="670"/>
                        </a:lnTo>
                        <a:lnTo>
                          <a:pt x="417" y="675"/>
                        </a:lnTo>
                        <a:lnTo>
                          <a:pt x="413" y="675"/>
                        </a:lnTo>
                        <a:lnTo>
                          <a:pt x="408" y="665"/>
                        </a:lnTo>
                        <a:lnTo>
                          <a:pt x="403" y="660"/>
                        </a:lnTo>
                        <a:lnTo>
                          <a:pt x="398" y="651"/>
                        </a:lnTo>
                        <a:lnTo>
                          <a:pt x="393" y="646"/>
                        </a:lnTo>
                        <a:lnTo>
                          <a:pt x="389" y="636"/>
                        </a:lnTo>
                        <a:lnTo>
                          <a:pt x="384" y="632"/>
                        </a:lnTo>
                        <a:lnTo>
                          <a:pt x="379" y="622"/>
                        </a:lnTo>
                        <a:lnTo>
                          <a:pt x="374" y="617"/>
                        </a:lnTo>
                        <a:lnTo>
                          <a:pt x="369" y="608"/>
                        </a:lnTo>
                        <a:lnTo>
                          <a:pt x="365" y="603"/>
                        </a:lnTo>
                        <a:lnTo>
                          <a:pt x="360" y="593"/>
                        </a:lnTo>
                        <a:lnTo>
                          <a:pt x="355" y="584"/>
                        </a:lnTo>
                        <a:lnTo>
                          <a:pt x="355" y="579"/>
                        </a:lnTo>
                        <a:lnTo>
                          <a:pt x="350" y="569"/>
                        </a:lnTo>
                        <a:lnTo>
                          <a:pt x="345" y="565"/>
                        </a:lnTo>
                        <a:lnTo>
                          <a:pt x="345" y="555"/>
                        </a:lnTo>
                        <a:lnTo>
                          <a:pt x="341" y="545"/>
                        </a:lnTo>
                        <a:lnTo>
                          <a:pt x="336" y="541"/>
                        </a:lnTo>
                        <a:lnTo>
                          <a:pt x="336" y="531"/>
                        </a:lnTo>
                        <a:lnTo>
                          <a:pt x="331" y="521"/>
                        </a:lnTo>
                        <a:lnTo>
                          <a:pt x="331" y="517"/>
                        </a:lnTo>
                        <a:lnTo>
                          <a:pt x="326" y="507"/>
                        </a:lnTo>
                        <a:lnTo>
                          <a:pt x="326" y="498"/>
                        </a:lnTo>
                        <a:lnTo>
                          <a:pt x="321" y="493"/>
                        </a:lnTo>
                        <a:lnTo>
                          <a:pt x="321" y="483"/>
                        </a:lnTo>
                        <a:lnTo>
                          <a:pt x="317" y="474"/>
                        </a:lnTo>
                        <a:lnTo>
                          <a:pt x="317" y="464"/>
                        </a:lnTo>
                        <a:lnTo>
                          <a:pt x="312" y="459"/>
                        </a:lnTo>
                        <a:lnTo>
                          <a:pt x="312" y="450"/>
                        </a:lnTo>
                        <a:lnTo>
                          <a:pt x="312" y="440"/>
                        </a:lnTo>
                        <a:lnTo>
                          <a:pt x="307" y="431"/>
                        </a:lnTo>
                        <a:lnTo>
                          <a:pt x="307" y="421"/>
                        </a:lnTo>
                        <a:lnTo>
                          <a:pt x="302" y="421"/>
                        </a:lnTo>
                        <a:lnTo>
                          <a:pt x="302" y="416"/>
                        </a:lnTo>
                        <a:lnTo>
                          <a:pt x="302" y="411"/>
                        </a:lnTo>
                        <a:lnTo>
                          <a:pt x="297" y="411"/>
                        </a:lnTo>
                        <a:lnTo>
                          <a:pt x="297" y="407"/>
                        </a:lnTo>
                        <a:lnTo>
                          <a:pt x="297" y="402"/>
                        </a:lnTo>
                        <a:lnTo>
                          <a:pt x="293" y="402"/>
                        </a:lnTo>
                        <a:lnTo>
                          <a:pt x="293" y="397"/>
                        </a:lnTo>
                        <a:lnTo>
                          <a:pt x="288" y="397"/>
                        </a:lnTo>
                        <a:lnTo>
                          <a:pt x="288" y="402"/>
                        </a:lnTo>
                        <a:lnTo>
                          <a:pt x="283" y="402"/>
                        </a:lnTo>
                        <a:lnTo>
                          <a:pt x="278" y="402"/>
                        </a:lnTo>
                        <a:lnTo>
                          <a:pt x="274" y="402"/>
                        </a:lnTo>
                        <a:lnTo>
                          <a:pt x="274" y="407"/>
                        </a:lnTo>
                        <a:lnTo>
                          <a:pt x="269" y="407"/>
                        </a:lnTo>
                        <a:lnTo>
                          <a:pt x="269" y="411"/>
                        </a:lnTo>
                        <a:lnTo>
                          <a:pt x="269" y="416"/>
                        </a:lnTo>
                        <a:lnTo>
                          <a:pt x="269" y="426"/>
                        </a:lnTo>
                        <a:lnTo>
                          <a:pt x="274" y="435"/>
                        </a:lnTo>
                        <a:lnTo>
                          <a:pt x="274" y="445"/>
                        </a:lnTo>
                        <a:lnTo>
                          <a:pt x="274" y="454"/>
                        </a:lnTo>
                        <a:lnTo>
                          <a:pt x="278" y="464"/>
                        </a:lnTo>
                        <a:lnTo>
                          <a:pt x="278" y="474"/>
                        </a:lnTo>
                        <a:lnTo>
                          <a:pt x="283" y="478"/>
                        </a:lnTo>
                        <a:lnTo>
                          <a:pt x="283" y="488"/>
                        </a:lnTo>
                        <a:lnTo>
                          <a:pt x="288" y="498"/>
                        </a:lnTo>
                        <a:lnTo>
                          <a:pt x="288" y="507"/>
                        </a:lnTo>
                        <a:lnTo>
                          <a:pt x="293" y="517"/>
                        </a:lnTo>
                        <a:lnTo>
                          <a:pt x="293" y="521"/>
                        </a:lnTo>
                        <a:lnTo>
                          <a:pt x="297" y="531"/>
                        </a:lnTo>
                        <a:lnTo>
                          <a:pt x="297" y="541"/>
                        </a:lnTo>
                        <a:lnTo>
                          <a:pt x="302" y="550"/>
                        </a:lnTo>
                        <a:lnTo>
                          <a:pt x="302" y="560"/>
                        </a:lnTo>
                        <a:lnTo>
                          <a:pt x="307" y="565"/>
                        </a:lnTo>
                        <a:lnTo>
                          <a:pt x="312" y="574"/>
                        </a:lnTo>
                        <a:lnTo>
                          <a:pt x="312" y="584"/>
                        </a:lnTo>
                        <a:lnTo>
                          <a:pt x="317" y="593"/>
                        </a:lnTo>
                        <a:lnTo>
                          <a:pt x="321" y="598"/>
                        </a:lnTo>
                        <a:lnTo>
                          <a:pt x="321" y="608"/>
                        </a:lnTo>
                        <a:lnTo>
                          <a:pt x="326" y="617"/>
                        </a:lnTo>
                        <a:lnTo>
                          <a:pt x="331" y="622"/>
                        </a:lnTo>
                        <a:lnTo>
                          <a:pt x="336" y="632"/>
                        </a:lnTo>
                        <a:lnTo>
                          <a:pt x="336" y="641"/>
                        </a:lnTo>
                        <a:lnTo>
                          <a:pt x="341" y="651"/>
                        </a:lnTo>
                        <a:lnTo>
                          <a:pt x="345" y="656"/>
                        </a:lnTo>
                        <a:lnTo>
                          <a:pt x="350" y="665"/>
                        </a:lnTo>
                        <a:lnTo>
                          <a:pt x="355" y="675"/>
                        </a:lnTo>
                        <a:lnTo>
                          <a:pt x="360" y="679"/>
                        </a:lnTo>
                        <a:lnTo>
                          <a:pt x="360" y="684"/>
                        </a:lnTo>
                        <a:lnTo>
                          <a:pt x="360" y="689"/>
                        </a:lnTo>
                        <a:lnTo>
                          <a:pt x="355" y="689"/>
                        </a:lnTo>
                        <a:lnTo>
                          <a:pt x="355" y="694"/>
                        </a:lnTo>
                        <a:lnTo>
                          <a:pt x="355" y="699"/>
                        </a:lnTo>
                        <a:lnTo>
                          <a:pt x="350" y="699"/>
                        </a:lnTo>
                        <a:lnTo>
                          <a:pt x="350" y="703"/>
                        </a:lnTo>
                        <a:lnTo>
                          <a:pt x="350" y="708"/>
                        </a:lnTo>
                        <a:lnTo>
                          <a:pt x="345" y="708"/>
                        </a:lnTo>
                        <a:lnTo>
                          <a:pt x="345" y="713"/>
                        </a:lnTo>
                        <a:lnTo>
                          <a:pt x="341" y="713"/>
                        </a:lnTo>
                        <a:lnTo>
                          <a:pt x="341" y="718"/>
                        </a:lnTo>
                        <a:lnTo>
                          <a:pt x="336" y="718"/>
                        </a:lnTo>
                        <a:lnTo>
                          <a:pt x="331" y="718"/>
                        </a:lnTo>
                        <a:lnTo>
                          <a:pt x="326" y="718"/>
                        </a:lnTo>
                        <a:lnTo>
                          <a:pt x="321" y="713"/>
                        </a:lnTo>
                        <a:lnTo>
                          <a:pt x="317" y="713"/>
                        </a:lnTo>
                        <a:lnTo>
                          <a:pt x="317" y="708"/>
                        </a:lnTo>
                        <a:lnTo>
                          <a:pt x="312" y="708"/>
                        </a:lnTo>
                        <a:lnTo>
                          <a:pt x="312" y="703"/>
                        </a:lnTo>
                        <a:lnTo>
                          <a:pt x="307" y="703"/>
                        </a:lnTo>
                        <a:lnTo>
                          <a:pt x="307" y="699"/>
                        </a:lnTo>
                        <a:lnTo>
                          <a:pt x="302" y="694"/>
                        </a:lnTo>
                        <a:lnTo>
                          <a:pt x="302" y="689"/>
                        </a:lnTo>
                        <a:lnTo>
                          <a:pt x="297" y="684"/>
                        </a:lnTo>
                        <a:lnTo>
                          <a:pt x="297" y="679"/>
                        </a:lnTo>
                        <a:lnTo>
                          <a:pt x="293" y="679"/>
                        </a:lnTo>
                        <a:lnTo>
                          <a:pt x="293" y="675"/>
                        </a:lnTo>
                        <a:lnTo>
                          <a:pt x="288" y="670"/>
                        </a:lnTo>
                        <a:lnTo>
                          <a:pt x="283" y="660"/>
                        </a:lnTo>
                        <a:lnTo>
                          <a:pt x="278" y="656"/>
                        </a:lnTo>
                        <a:lnTo>
                          <a:pt x="274" y="646"/>
                        </a:lnTo>
                        <a:lnTo>
                          <a:pt x="269" y="641"/>
                        </a:lnTo>
                        <a:lnTo>
                          <a:pt x="269" y="632"/>
                        </a:lnTo>
                        <a:lnTo>
                          <a:pt x="264" y="622"/>
                        </a:lnTo>
                        <a:lnTo>
                          <a:pt x="259" y="617"/>
                        </a:lnTo>
                        <a:lnTo>
                          <a:pt x="254" y="608"/>
                        </a:lnTo>
                        <a:lnTo>
                          <a:pt x="254" y="603"/>
                        </a:lnTo>
                        <a:lnTo>
                          <a:pt x="250" y="593"/>
                        </a:lnTo>
                        <a:lnTo>
                          <a:pt x="250" y="584"/>
                        </a:lnTo>
                        <a:lnTo>
                          <a:pt x="245" y="579"/>
                        </a:lnTo>
                        <a:lnTo>
                          <a:pt x="240" y="569"/>
                        </a:lnTo>
                        <a:lnTo>
                          <a:pt x="240" y="560"/>
                        </a:lnTo>
                        <a:lnTo>
                          <a:pt x="235" y="555"/>
                        </a:lnTo>
                        <a:lnTo>
                          <a:pt x="235" y="545"/>
                        </a:lnTo>
                        <a:lnTo>
                          <a:pt x="230" y="536"/>
                        </a:lnTo>
                        <a:lnTo>
                          <a:pt x="230" y="531"/>
                        </a:lnTo>
                        <a:lnTo>
                          <a:pt x="226" y="521"/>
                        </a:lnTo>
                        <a:lnTo>
                          <a:pt x="226" y="512"/>
                        </a:lnTo>
                        <a:lnTo>
                          <a:pt x="226" y="502"/>
                        </a:lnTo>
                        <a:lnTo>
                          <a:pt x="221" y="498"/>
                        </a:lnTo>
                        <a:lnTo>
                          <a:pt x="221" y="488"/>
                        </a:lnTo>
                        <a:lnTo>
                          <a:pt x="216" y="478"/>
                        </a:lnTo>
                        <a:lnTo>
                          <a:pt x="216" y="469"/>
                        </a:lnTo>
                        <a:lnTo>
                          <a:pt x="216" y="464"/>
                        </a:lnTo>
                        <a:lnTo>
                          <a:pt x="211" y="454"/>
                        </a:lnTo>
                        <a:lnTo>
                          <a:pt x="211" y="445"/>
                        </a:lnTo>
                        <a:lnTo>
                          <a:pt x="206" y="435"/>
                        </a:lnTo>
                        <a:lnTo>
                          <a:pt x="206" y="431"/>
                        </a:lnTo>
                        <a:lnTo>
                          <a:pt x="206" y="421"/>
                        </a:lnTo>
                        <a:lnTo>
                          <a:pt x="202" y="411"/>
                        </a:lnTo>
                        <a:lnTo>
                          <a:pt x="197" y="407"/>
                        </a:lnTo>
                        <a:lnTo>
                          <a:pt x="192" y="407"/>
                        </a:lnTo>
                        <a:lnTo>
                          <a:pt x="187" y="407"/>
                        </a:lnTo>
                        <a:lnTo>
                          <a:pt x="182" y="407"/>
                        </a:lnTo>
                        <a:lnTo>
                          <a:pt x="178" y="407"/>
                        </a:lnTo>
                        <a:lnTo>
                          <a:pt x="178" y="411"/>
                        </a:lnTo>
                        <a:lnTo>
                          <a:pt x="173" y="411"/>
                        </a:lnTo>
                        <a:lnTo>
                          <a:pt x="173" y="416"/>
                        </a:lnTo>
                        <a:lnTo>
                          <a:pt x="173" y="421"/>
                        </a:lnTo>
                        <a:lnTo>
                          <a:pt x="173" y="426"/>
                        </a:lnTo>
                        <a:lnTo>
                          <a:pt x="173" y="431"/>
                        </a:lnTo>
                        <a:lnTo>
                          <a:pt x="173" y="435"/>
                        </a:lnTo>
                        <a:lnTo>
                          <a:pt x="173" y="440"/>
                        </a:lnTo>
                        <a:lnTo>
                          <a:pt x="173" y="445"/>
                        </a:lnTo>
                        <a:lnTo>
                          <a:pt x="178" y="445"/>
                        </a:lnTo>
                        <a:lnTo>
                          <a:pt x="178" y="450"/>
                        </a:lnTo>
                        <a:lnTo>
                          <a:pt x="178" y="454"/>
                        </a:lnTo>
                        <a:lnTo>
                          <a:pt x="182" y="459"/>
                        </a:lnTo>
                        <a:lnTo>
                          <a:pt x="182" y="464"/>
                        </a:lnTo>
                        <a:lnTo>
                          <a:pt x="182" y="469"/>
                        </a:lnTo>
                        <a:lnTo>
                          <a:pt x="187" y="469"/>
                        </a:lnTo>
                        <a:lnTo>
                          <a:pt x="187" y="474"/>
                        </a:lnTo>
                        <a:lnTo>
                          <a:pt x="187" y="478"/>
                        </a:lnTo>
                        <a:lnTo>
                          <a:pt x="192" y="488"/>
                        </a:lnTo>
                        <a:lnTo>
                          <a:pt x="192" y="493"/>
                        </a:lnTo>
                        <a:lnTo>
                          <a:pt x="192" y="502"/>
                        </a:lnTo>
                        <a:lnTo>
                          <a:pt x="197" y="512"/>
                        </a:lnTo>
                        <a:lnTo>
                          <a:pt x="197" y="517"/>
                        </a:lnTo>
                        <a:lnTo>
                          <a:pt x="202" y="526"/>
                        </a:lnTo>
                        <a:lnTo>
                          <a:pt x="202" y="531"/>
                        </a:lnTo>
                        <a:lnTo>
                          <a:pt x="202" y="541"/>
                        </a:lnTo>
                        <a:lnTo>
                          <a:pt x="206" y="550"/>
                        </a:lnTo>
                        <a:lnTo>
                          <a:pt x="206" y="555"/>
                        </a:lnTo>
                        <a:lnTo>
                          <a:pt x="211" y="565"/>
                        </a:lnTo>
                        <a:lnTo>
                          <a:pt x="211" y="574"/>
                        </a:lnTo>
                        <a:lnTo>
                          <a:pt x="211" y="579"/>
                        </a:lnTo>
                        <a:lnTo>
                          <a:pt x="216" y="589"/>
                        </a:lnTo>
                        <a:lnTo>
                          <a:pt x="216" y="593"/>
                        </a:lnTo>
                        <a:lnTo>
                          <a:pt x="221" y="603"/>
                        </a:lnTo>
                        <a:lnTo>
                          <a:pt x="221" y="608"/>
                        </a:lnTo>
                        <a:lnTo>
                          <a:pt x="226" y="617"/>
                        </a:lnTo>
                        <a:lnTo>
                          <a:pt x="230" y="627"/>
                        </a:lnTo>
                        <a:lnTo>
                          <a:pt x="230" y="632"/>
                        </a:lnTo>
                        <a:lnTo>
                          <a:pt x="235" y="641"/>
                        </a:lnTo>
                        <a:lnTo>
                          <a:pt x="235" y="646"/>
                        </a:lnTo>
                        <a:lnTo>
                          <a:pt x="240" y="656"/>
                        </a:lnTo>
                        <a:lnTo>
                          <a:pt x="245" y="660"/>
                        </a:lnTo>
                        <a:lnTo>
                          <a:pt x="245" y="670"/>
                        </a:lnTo>
                        <a:lnTo>
                          <a:pt x="250" y="675"/>
                        </a:lnTo>
                        <a:lnTo>
                          <a:pt x="254" y="684"/>
                        </a:lnTo>
                        <a:lnTo>
                          <a:pt x="254" y="689"/>
                        </a:lnTo>
                        <a:lnTo>
                          <a:pt x="259" y="699"/>
                        </a:lnTo>
                        <a:lnTo>
                          <a:pt x="264" y="703"/>
                        </a:lnTo>
                        <a:lnTo>
                          <a:pt x="269" y="708"/>
                        </a:lnTo>
                        <a:lnTo>
                          <a:pt x="274" y="718"/>
                        </a:lnTo>
                        <a:lnTo>
                          <a:pt x="274" y="723"/>
                        </a:lnTo>
                        <a:lnTo>
                          <a:pt x="274" y="727"/>
                        </a:lnTo>
                        <a:lnTo>
                          <a:pt x="274" y="732"/>
                        </a:lnTo>
                        <a:lnTo>
                          <a:pt x="274" y="737"/>
                        </a:lnTo>
                        <a:lnTo>
                          <a:pt x="274" y="742"/>
                        </a:lnTo>
                        <a:lnTo>
                          <a:pt x="274" y="747"/>
                        </a:lnTo>
                        <a:lnTo>
                          <a:pt x="269" y="747"/>
                        </a:lnTo>
                        <a:lnTo>
                          <a:pt x="269" y="751"/>
                        </a:lnTo>
                        <a:lnTo>
                          <a:pt x="264" y="751"/>
                        </a:lnTo>
                        <a:lnTo>
                          <a:pt x="259" y="756"/>
                        </a:lnTo>
                        <a:lnTo>
                          <a:pt x="254" y="756"/>
                        </a:lnTo>
                        <a:lnTo>
                          <a:pt x="250" y="751"/>
                        </a:lnTo>
                        <a:lnTo>
                          <a:pt x="240" y="751"/>
                        </a:lnTo>
                        <a:lnTo>
                          <a:pt x="235" y="751"/>
                        </a:lnTo>
                        <a:lnTo>
                          <a:pt x="226" y="747"/>
                        </a:lnTo>
                        <a:lnTo>
                          <a:pt x="221" y="747"/>
                        </a:lnTo>
                        <a:lnTo>
                          <a:pt x="216" y="742"/>
                        </a:lnTo>
                        <a:lnTo>
                          <a:pt x="211" y="737"/>
                        </a:lnTo>
                        <a:lnTo>
                          <a:pt x="206" y="732"/>
                        </a:lnTo>
                        <a:lnTo>
                          <a:pt x="202" y="732"/>
                        </a:lnTo>
                        <a:lnTo>
                          <a:pt x="197" y="727"/>
                        </a:lnTo>
                        <a:lnTo>
                          <a:pt x="192" y="723"/>
                        </a:lnTo>
                        <a:lnTo>
                          <a:pt x="187" y="718"/>
                        </a:lnTo>
                        <a:lnTo>
                          <a:pt x="187" y="713"/>
                        </a:lnTo>
                        <a:lnTo>
                          <a:pt x="182" y="703"/>
                        </a:lnTo>
                        <a:lnTo>
                          <a:pt x="178" y="699"/>
                        </a:lnTo>
                        <a:lnTo>
                          <a:pt x="173" y="694"/>
                        </a:lnTo>
                        <a:lnTo>
                          <a:pt x="173" y="689"/>
                        </a:lnTo>
                        <a:lnTo>
                          <a:pt x="168" y="684"/>
                        </a:lnTo>
                        <a:lnTo>
                          <a:pt x="168" y="675"/>
                        </a:lnTo>
                        <a:lnTo>
                          <a:pt x="163" y="670"/>
                        </a:lnTo>
                        <a:lnTo>
                          <a:pt x="163" y="665"/>
                        </a:lnTo>
                        <a:lnTo>
                          <a:pt x="158" y="660"/>
                        </a:lnTo>
                        <a:lnTo>
                          <a:pt x="158" y="651"/>
                        </a:lnTo>
                        <a:lnTo>
                          <a:pt x="154" y="646"/>
                        </a:lnTo>
                        <a:lnTo>
                          <a:pt x="154" y="641"/>
                        </a:lnTo>
                        <a:lnTo>
                          <a:pt x="149" y="632"/>
                        </a:lnTo>
                        <a:lnTo>
                          <a:pt x="149" y="627"/>
                        </a:lnTo>
                        <a:lnTo>
                          <a:pt x="144" y="622"/>
                        </a:lnTo>
                        <a:lnTo>
                          <a:pt x="144" y="612"/>
                        </a:lnTo>
                        <a:lnTo>
                          <a:pt x="139" y="608"/>
                        </a:lnTo>
                        <a:lnTo>
                          <a:pt x="139" y="603"/>
                        </a:lnTo>
                        <a:lnTo>
                          <a:pt x="134" y="598"/>
                        </a:lnTo>
                        <a:lnTo>
                          <a:pt x="91" y="416"/>
                        </a:lnTo>
                        <a:lnTo>
                          <a:pt x="91" y="411"/>
                        </a:lnTo>
                        <a:lnTo>
                          <a:pt x="86" y="411"/>
                        </a:lnTo>
                        <a:lnTo>
                          <a:pt x="82" y="411"/>
                        </a:lnTo>
                        <a:lnTo>
                          <a:pt x="77" y="411"/>
                        </a:lnTo>
                        <a:lnTo>
                          <a:pt x="72" y="411"/>
                        </a:lnTo>
                        <a:lnTo>
                          <a:pt x="72" y="416"/>
                        </a:lnTo>
                        <a:lnTo>
                          <a:pt x="67" y="416"/>
                        </a:lnTo>
                        <a:lnTo>
                          <a:pt x="67" y="421"/>
                        </a:lnTo>
                        <a:lnTo>
                          <a:pt x="67" y="426"/>
                        </a:lnTo>
                        <a:lnTo>
                          <a:pt x="67" y="431"/>
                        </a:lnTo>
                        <a:lnTo>
                          <a:pt x="67" y="435"/>
                        </a:lnTo>
                        <a:lnTo>
                          <a:pt x="67" y="440"/>
                        </a:lnTo>
                        <a:lnTo>
                          <a:pt x="72" y="445"/>
                        </a:lnTo>
                        <a:lnTo>
                          <a:pt x="72" y="450"/>
                        </a:lnTo>
                        <a:lnTo>
                          <a:pt x="72" y="454"/>
                        </a:lnTo>
                        <a:lnTo>
                          <a:pt x="72" y="459"/>
                        </a:lnTo>
                        <a:lnTo>
                          <a:pt x="72" y="464"/>
                        </a:lnTo>
                        <a:lnTo>
                          <a:pt x="77" y="474"/>
                        </a:lnTo>
                        <a:lnTo>
                          <a:pt x="77" y="478"/>
                        </a:lnTo>
                        <a:lnTo>
                          <a:pt x="77" y="488"/>
                        </a:lnTo>
                        <a:lnTo>
                          <a:pt x="82" y="498"/>
                        </a:lnTo>
                        <a:lnTo>
                          <a:pt x="82" y="507"/>
                        </a:lnTo>
                        <a:lnTo>
                          <a:pt x="86" y="512"/>
                        </a:lnTo>
                        <a:lnTo>
                          <a:pt x="86" y="521"/>
                        </a:lnTo>
                        <a:lnTo>
                          <a:pt x="91" y="531"/>
                        </a:lnTo>
                        <a:lnTo>
                          <a:pt x="91" y="541"/>
                        </a:lnTo>
                        <a:lnTo>
                          <a:pt x="96" y="545"/>
                        </a:lnTo>
                        <a:lnTo>
                          <a:pt x="96" y="555"/>
                        </a:lnTo>
                        <a:lnTo>
                          <a:pt x="101" y="565"/>
                        </a:lnTo>
                        <a:lnTo>
                          <a:pt x="101" y="569"/>
                        </a:lnTo>
                        <a:lnTo>
                          <a:pt x="106" y="579"/>
                        </a:lnTo>
                        <a:lnTo>
                          <a:pt x="106" y="589"/>
                        </a:lnTo>
                        <a:lnTo>
                          <a:pt x="110" y="598"/>
                        </a:lnTo>
                        <a:lnTo>
                          <a:pt x="110" y="603"/>
                        </a:lnTo>
                        <a:lnTo>
                          <a:pt x="115" y="612"/>
                        </a:lnTo>
                        <a:lnTo>
                          <a:pt x="115" y="622"/>
                        </a:lnTo>
                        <a:lnTo>
                          <a:pt x="120" y="627"/>
                        </a:lnTo>
                        <a:lnTo>
                          <a:pt x="120" y="636"/>
                        </a:lnTo>
                        <a:lnTo>
                          <a:pt x="125" y="646"/>
                        </a:lnTo>
                        <a:lnTo>
                          <a:pt x="130" y="651"/>
                        </a:lnTo>
                        <a:lnTo>
                          <a:pt x="130" y="660"/>
                        </a:lnTo>
                        <a:lnTo>
                          <a:pt x="134" y="670"/>
                        </a:lnTo>
                        <a:lnTo>
                          <a:pt x="139" y="675"/>
                        </a:lnTo>
                        <a:lnTo>
                          <a:pt x="139" y="684"/>
                        </a:lnTo>
                        <a:lnTo>
                          <a:pt x="144" y="694"/>
                        </a:lnTo>
                        <a:lnTo>
                          <a:pt x="149" y="699"/>
                        </a:lnTo>
                        <a:lnTo>
                          <a:pt x="154" y="708"/>
                        </a:lnTo>
                        <a:lnTo>
                          <a:pt x="158" y="713"/>
                        </a:lnTo>
                        <a:lnTo>
                          <a:pt x="158" y="723"/>
                        </a:lnTo>
                        <a:lnTo>
                          <a:pt x="154" y="718"/>
                        </a:lnTo>
                        <a:lnTo>
                          <a:pt x="144" y="713"/>
                        </a:lnTo>
                        <a:lnTo>
                          <a:pt x="134" y="713"/>
                        </a:lnTo>
                        <a:lnTo>
                          <a:pt x="130" y="708"/>
                        </a:lnTo>
                        <a:lnTo>
                          <a:pt x="120" y="703"/>
                        </a:lnTo>
                        <a:lnTo>
                          <a:pt x="115" y="699"/>
                        </a:lnTo>
                        <a:lnTo>
                          <a:pt x="110" y="694"/>
                        </a:lnTo>
                        <a:lnTo>
                          <a:pt x="106" y="684"/>
                        </a:lnTo>
                        <a:lnTo>
                          <a:pt x="96" y="679"/>
                        </a:lnTo>
                        <a:lnTo>
                          <a:pt x="91" y="675"/>
                        </a:lnTo>
                        <a:lnTo>
                          <a:pt x="86" y="665"/>
                        </a:lnTo>
                        <a:lnTo>
                          <a:pt x="82" y="660"/>
                        </a:lnTo>
                        <a:lnTo>
                          <a:pt x="77" y="656"/>
                        </a:lnTo>
                        <a:lnTo>
                          <a:pt x="72" y="646"/>
                        </a:lnTo>
                        <a:lnTo>
                          <a:pt x="67" y="641"/>
                        </a:lnTo>
                        <a:lnTo>
                          <a:pt x="67" y="632"/>
                        </a:lnTo>
                        <a:lnTo>
                          <a:pt x="62" y="622"/>
                        </a:lnTo>
                        <a:lnTo>
                          <a:pt x="58" y="617"/>
                        </a:lnTo>
                        <a:lnTo>
                          <a:pt x="58" y="608"/>
                        </a:lnTo>
                        <a:lnTo>
                          <a:pt x="53" y="598"/>
                        </a:lnTo>
                        <a:lnTo>
                          <a:pt x="48" y="593"/>
                        </a:lnTo>
                        <a:lnTo>
                          <a:pt x="48" y="584"/>
                        </a:lnTo>
                        <a:lnTo>
                          <a:pt x="43" y="574"/>
                        </a:lnTo>
                        <a:lnTo>
                          <a:pt x="43" y="569"/>
                        </a:lnTo>
                        <a:lnTo>
                          <a:pt x="38" y="560"/>
                        </a:lnTo>
                        <a:lnTo>
                          <a:pt x="38" y="550"/>
                        </a:lnTo>
                        <a:lnTo>
                          <a:pt x="34" y="545"/>
                        </a:lnTo>
                        <a:lnTo>
                          <a:pt x="34" y="536"/>
                        </a:lnTo>
                        <a:lnTo>
                          <a:pt x="29" y="526"/>
                        </a:lnTo>
                        <a:lnTo>
                          <a:pt x="29" y="521"/>
                        </a:lnTo>
                        <a:lnTo>
                          <a:pt x="24" y="512"/>
                        </a:lnTo>
                        <a:lnTo>
                          <a:pt x="24" y="502"/>
                        </a:lnTo>
                        <a:lnTo>
                          <a:pt x="19" y="498"/>
                        </a:lnTo>
                        <a:lnTo>
                          <a:pt x="19" y="493"/>
                        </a:lnTo>
                        <a:lnTo>
                          <a:pt x="14" y="488"/>
                        </a:lnTo>
                        <a:lnTo>
                          <a:pt x="14" y="478"/>
                        </a:lnTo>
                        <a:lnTo>
                          <a:pt x="14" y="474"/>
                        </a:lnTo>
                        <a:lnTo>
                          <a:pt x="10" y="469"/>
                        </a:lnTo>
                        <a:lnTo>
                          <a:pt x="10" y="459"/>
                        </a:lnTo>
                        <a:lnTo>
                          <a:pt x="10" y="454"/>
                        </a:lnTo>
                        <a:lnTo>
                          <a:pt x="5" y="445"/>
                        </a:lnTo>
                        <a:lnTo>
                          <a:pt x="5" y="440"/>
                        </a:lnTo>
                        <a:lnTo>
                          <a:pt x="5" y="431"/>
                        </a:lnTo>
                        <a:lnTo>
                          <a:pt x="5" y="426"/>
                        </a:lnTo>
                        <a:lnTo>
                          <a:pt x="5" y="421"/>
                        </a:lnTo>
                        <a:lnTo>
                          <a:pt x="0" y="411"/>
                        </a:lnTo>
                        <a:lnTo>
                          <a:pt x="0" y="407"/>
                        </a:lnTo>
                        <a:lnTo>
                          <a:pt x="0" y="397"/>
                        </a:lnTo>
                        <a:lnTo>
                          <a:pt x="0" y="392"/>
                        </a:lnTo>
                        <a:lnTo>
                          <a:pt x="0" y="383"/>
                        </a:lnTo>
                        <a:lnTo>
                          <a:pt x="5" y="378"/>
                        </a:lnTo>
                        <a:lnTo>
                          <a:pt x="5" y="368"/>
                        </a:lnTo>
                        <a:lnTo>
                          <a:pt x="5" y="363"/>
                        </a:lnTo>
                        <a:lnTo>
                          <a:pt x="5" y="354"/>
                        </a:lnTo>
                        <a:lnTo>
                          <a:pt x="5" y="349"/>
                        </a:lnTo>
                        <a:lnTo>
                          <a:pt x="10" y="344"/>
                        </a:lnTo>
                        <a:lnTo>
                          <a:pt x="10" y="335"/>
                        </a:lnTo>
                        <a:lnTo>
                          <a:pt x="14" y="330"/>
                        </a:lnTo>
                        <a:lnTo>
                          <a:pt x="14" y="325"/>
                        </a:lnTo>
                        <a:lnTo>
                          <a:pt x="19" y="316"/>
                        </a:lnTo>
                        <a:lnTo>
                          <a:pt x="19" y="311"/>
                        </a:lnTo>
                        <a:lnTo>
                          <a:pt x="24" y="306"/>
                        </a:lnTo>
                        <a:lnTo>
                          <a:pt x="29" y="301"/>
                        </a:lnTo>
                        <a:lnTo>
                          <a:pt x="34" y="292"/>
                        </a:lnTo>
                        <a:lnTo>
                          <a:pt x="38" y="287"/>
                        </a:lnTo>
                        <a:lnTo>
                          <a:pt x="43" y="277"/>
                        </a:lnTo>
                        <a:lnTo>
                          <a:pt x="53" y="272"/>
                        </a:lnTo>
                        <a:lnTo>
                          <a:pt x="58" y="263"/>
                        </a:lnTo>
                        <a:lnTo>
                          <a:pt x="62" y="258"/>
                        </a:lnTo>
                        <a:lnTo>
                          <a:pt x="72" y="249"/>
                        </a:lnTo>
                        <a:lnTo>
                          <a:pt x="77" y="239"/>
                        </a:lnTo>
                        <a:lnTo>
                          <a:pt x="82" y="234"/>
                        </a:lnTo>
                        <a:lnTo>
                          <a:pt x="86" y="225"/>
                        </a:lnTo>
                        <a:lnTo>
                          <a:pt x="96" y="220"/>
                        </a:lnTo>
                        <a:lnTo>
                          <a:pt x="101" y="210"/>
                        </a:lnTo>
                        <a:lnTo>
                          <a:pt x="106" y="201"/>
                        </a:lnTo>
                        <a:lnTo>
                          <a:pt x="110" y="196"/>
                        </a:lnTo>
                        <a:lnTo>
                          <a:pt x="120" y="186"/>
                        </a:lnTo>
                        <a:lnTo>
                          <a:pt x="125" y="177"/>
                        </a:lnTo>
                        <a:lnTo>
                          <a:pt x="130" y="172"/>
                        </a:lnTo>
                        <a:lnTo>
                          <a:pt x="134" y="162"/>
                        </a:lnTo>
                        <a:lnTo>
                          <a:pt x="139" y="153"/>
                        </a:lnTo>
                        <a:lnTo>
                          <a:pt x="149" y="148"/>
                        </a:lnTo>
                        <a:lnTo>
                          <a:pt x="154" y="138"/>
                        </a:lnTo>
                        <a:lnTo>
                          <a:pt x="158" y="129"/>
                        </a:lnTo>
                        <a:lnTo>
                          <a:pt x="163" y="124"/>
                        </a:lnTo>
                        <a:lnTo>
                          <a:pt x="168" y="114"/>
                        </a:lnTo>
                        <a:lnTo>
                          <a:pt x="178" y="105"/>
                        </a:lnTo>
                        <a:lnTo>
                          <a:pt x="182" y="100"/>
                        </a:lnTo>
                        <a:lnTo>
                          <a:pt x="187" y="91"/>
                        </a:lnTo>
                        <a:lnTo>
                          <a:pt x="192" y="81"/>
                        </a:lnTo>
                        <a:lnTo>
                          <a:pt x="197" y="71"/>
                        </a:lnTo>
                        <a:lnTo>
                          <a:pt x="202" y="67"/>
                        </a:lnTo>
                        <a:lnTo>
                          <a:pt x="206" y="57"/>
                        </a:lnTo>
                        <a:lnTo>
                          <a:pt x="211" y="47"/>
                        </a:lnTo>
                        <a:lnTo>
                          <a:pt x="216" y="43"/>
                        </a:lnTo>
                        <a:lnTo>
                          <a:pt x="221" y="38"/>
                        </a:lnTo>
                        <a:lnTo>
                          <a:pt x="226" y="33"/>
                        </a:lnTo>
                        <a:lnTo>
                          <a:pt x="230" y="33"/>
                        </a:lnTo>
                        <a:lnTo>
                          <a:pt x="240" y="28"/>
                        </a:lnTo>
                        <a:lnTo>
                          <a:pt x="245" y="28"/>
                        </a:lnTo>
                        <a:lnTo>
                          <a:pt x="250" y="23"/>
                        </a:lnTo>
                        <a:lnTo>
                          <a:pt x="254" y="19"/>
                        </a:lnTo>
                        <a:lnTo>
                          <a:pt x="259" y="19"/>
                        </a:lnTo>
                        <a:lnTo>
                          <a:pt x="264" y="19"/>
                        </a:lnTo>
                        <a:lnTo>
                          <a:pt x="269" y="14"/>
                        </a:lnTo>
                        <a:lnTo>
                          <a:pt x="274" y="14"/>
                        </a:lnTo>
                        <a:lnTo>
                          <a:pt x="278" y="9"/>
                        </a:lnTo>
                        <a:lnTo>
                          <a:pt x="288" y="9"/>
                        </a:lnTo>
                        <a:lnTo>
                          <a:pt x="293" y="9"/>
                        </a:lnTo>
                        <a:lnTo>
                          <a:pt x="297" y="4"/>
                        </a:lnTo>
                        <a:lnTo>
                          <a:pt x="302" y="4"/>
                        </a:lnTo>
                        <a:lnTo>
                          <a:pt x="312" y="4"/>
                        </a:lnTo>
                        <a:lnTo>
                          <a:pt x="317" y="4"/>
                        </a:lnTo>
                        <a:lnTo>
                          <a:pt x="321" y="4"/>
                        </a:lnTo>
                        <a:lnTo>
                          <a:pt x="326" y="4"/>
                        </a:lnTo>
                        <a:lnTo>
                          <a:pt x="336" y="0"/>
                        </a:lnTo>
                        <a:lnTo>
                          <a:pt x="341" y="0"/>
                        </a:lnTo>
                        <a:lnTo>
                          <a:pt x="345" y="0"/>
                        </a:lnTo>
                        <a:lnTo>
                          <a:pt x="355" y="0"/>
                        </a:lnTo>
                        <a:lnTo>
                          <a:pt x="360" y="0"/>
                        </a:lnTo>
                        <a:lnTo>
                          <a:pt x="365" y="0"/>
                        </a:lnTo>
                        <a:lnTo>
                          <a:pt x="369" y="4"/>
                        </a:lnTo>
                        <a:lnTo>
                          <a:pt x="379" y="4"/>
                        </a:lnTo>
                        <a:lnTo>
                          <a:pt x="384" y="4"/>
                        </a:lnTo>
                        <a:lnTo>
                          <a:pt x="389" y="4"/>
                        </a:lnTo>
                        <a:lnTo>
                          <a:pt x="398" y="4"/>
                        </a:lnTo>
                        <a:lnTo>
                          <a:pt x="403" y="4"/>
                        </a:lnTo>
                        <a:lnTo>
                          <a:pt x="403" y="9"/>
                        </a:lnTo>
                        <a:lnTo>
                          <a:pt x="408" y="9"/>
                        </a:lnTo>
                        <a:lnTo>
                          <a:pt x="413" y="9"/>
                        </a:lnTo>
                        <a:lnTo>
                          <a:pt x="417" y="9"/>
                        </a:lnTo>
                        <a:lnTo>
                          <a:pt x="417" y="14"/>
                        </a:lnTo>
                        <a:lnTo>
                          <a:pt x="422" y="14"/>
                        </a:lnTo>
                        <a:lnTo>
                          <a:pt x="427" y="19"/>
                        </a:lnTo>
                        <a:lnTo>
                          <a:pt x="432" y="19"/>
                        </a:lnTo>
                        <a:lnTo>
                          <a:pt x="437" y="19"/>
                        </a:lnTo>
                        <a:lnTo>
                          <a:pt x="437" y="23"/>
                        </a:lnTo>
                        <a:lnTo>
                          <a:pt x="441" y="23"/>
                        </a:lnTo>
                        <a:lnTo>
                          <a:pt x="446" y="28"/>
                        </a:lnTo>
                        <a:lnTo>
                          <a:pt x="451" y="33"/>
                        </a:lnTo>
                        <a:lnTo>
                          <a:pt x="456" y="33"/>
                        </a:lnTo>
                        <a:lnTo>
                          <a:pt x="456" y="38"/>
                        </a:lnTo>
                        <a:lnTo>
                          <a:pt x="461" y="38"/>
                        </a:lnTo>
                        <a:lnTo>
                          <a:pt x="465" y="43"/>
                        </a:lnTo>
                        <a:close/>
                      </a:path>
                    </a:pathLst>
                  </a:custGeom>
                  <a:solidFill>
                    <a:srgbClr val="ffd9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2" name=""/>
                  <p:cNvSpPr/>
                  <p:nvPr/>
                </p:nvSpPr>
                <p:spPr>
                  <a:xfrm flipH="1">
                    <a:off x="3951360" y="4732560"/>
                    <a:ext cx="87840" cy="116640"/>
                  </a:xfrm>
                  <a:custGeom>
                    <a:avLst/>
                    <a:gdLst/>
                    <a:ahLst/>
                    <a:rect l="l" t="t" r="r" b="b"/>
                    <a:pathLst>
                      <a:path w="518" h="713">
                        <a:moveTo>
                          <a:pt x="518" y="129"/>
                        </a:moveTo>
                        <a:lnTo>
                          <a:pt x="518" y="134"/>
                        </a:lnTo>
                        <a:lnTo>
                          <a:pt x="518" y="139"/>
                        </a:lnTo>
                        <a:lnTo>
                          <a:pt x="518" y="143"/>
                        </a:lnTo>
                        <a:lnTo>
                          <a:pt x="518" y="148"/>
                        </a:lnTo>
                        <a:lnTo>
                          <a:pt x="518" y="158"/>
                        </a:lnTo>
                        <a:lnTo>
                          <a:pt x="513" y="162"/>
                        </a:lnTo>
                        <a:lnTo>
                          <a:pt x="513" y="167"/>
                        </a:lnTo>
                        <a:lnTo>
                          <a:pt x="518" y="172"/>
                        </a:lnTo>
                        <a:lnTo>
                          <a:pt x="518" y="177"/>
                        </a:lnTo>
                        <a:lnTo>
                          <a:pt x="518" y="182"/>
                        </a:lnTo>
                        <a:lnTo>
                          <a:pt x="518" y="186"/>
                        </a:lnTo>
                        <a:lnTo>
                          <a:pt x="518" y="191"/>
                        </a:lnTo>
                        <a:lnTo>
                          <a:pt x="518" y="201"/>
                        </a:lnTo>
                        <a:lnTo>
                          <a:pt x="518" y="206"/>
                        </a:lnTo>
                        <a:lnTo>
                          <a:pt x="518" y="210"/>
                        </a:lnTo>
                        <a:lnTo>
                          <a:pt x="518" y="215"/>
                        </a:lnTo>
                        <a:lnTo>
                          <a:pt x="518" y="220"/>
                        </a:lnTo>
                        <a:lnTo>
                          <a:pt x="518" y="225"/>
                        </a:lnTo>
                        <a:lnTo>
                          <a:pt x="518" y="229"/>
                        </a:lnTo>
                        <a:lnTo>
                          <a:pt x="518" y="234"/>
                        </a:lnTo>
                        <a:lnTo>
                          <a:pt x="518" y="239"/>
                        </a:lnTo>
                        <a:lnTo>
                          <a:pt x="518" y="244"/>
                        </a:lnTo>
                        <a:lnTo>
                          <a:pt x="513" y="249"/>
                        </a:lnTo>
                        <a:lnTo>
                          <a:pt x="513" y="253"/>
                        </a:lnTo>
                        <a:lnTo>
                          <a:pt x="513" y="258"/>
                        </a:lnTo>
                        <a:lnTo>
                          <a:pt x="508" y="263"/>
                        </a:lnTo>
                        <a:lnTo>
                          <a:pt x="508" y="273"/>
                        </a:lnTo>
                        <a:lnTo>
                          <a:pt x="503" y="277"/>
                        </a:lnTo>
                        <a:lnTo>
                          <a:pt x="503" y="282"/>
                        </a:lnTo>
                        <a:lnTo>
                          <a:pt x="498" y="287"/>
                        </a:lnTo>
                        <a:lnTo>
                          <a:pt x="494" y="292"/>
                        </a:lnTo>
                        <a:lnTo>
                          <a:pt x="489" y="297"/>
                        </a:lnTo>
                        <a:lnTo>
                          <a:pt x="489" y="301"/>
                        </a:lnTo>
                        <a:lnTo>
                          <a:pt x="489" y="306"/>
                        </a:lnTo>
                        <a:lnTo>
                          <a:pt x="484" y="311"/>
                        </a:lnTo>
                        <a:lnTo>
                          <a:pt x="484" y="316"/>
                        </a:lnTo>
                        <a:lnTo>
                          <a:pt x="484" y="320"/>
                        </a:lnTo>
                        <a:lnTo>
                          <a:pt x="484" y="325"/>
                        </a:lnTo>
                        <a:lnTo>
                          <a:pt x="484" y="330"/>
                        </a:lnTo>
                        <a:lnTo>
                          <a:pt x="484" y="335"/>
                        </a:lnTo>
                        <a:lnTo>
                          <a:pt x="484" y="340"/>
                        </a:lnTo>
                        <a:lnTo>
                          <a:pt x="484" y="344"/>
                        </a:lnTo>
                        <a:lnTo>
                          <a:pt x="484" y="349"/>
                        </a:lnTo>
                        <a:lnTo>
                          <a:pt x="484" y="354"/>
                        </a:lnTo>
                        <a:lnTo>
                          <a:pt x="484" y="359"/>
                        </a:lnTo>
                        <a:lnTo>
                          <a:pt x="484" y="364"/>
                        </a:lnTo>
                        <a:lnTo>
                          <a:pt x="484" y="368"/>
                        </a:lnTo>
                        <a:lnTo>
                          <a:pt x="489" y="373"/>
                        </a:lnTo>
                        <a:lnTo>
                          <a:pt x="489" y="378"/>
                        </a:lnTo>
                        <a:lnTo>
                          <a:pt x="489" y="383"/>
                        </a:lnTo>
                        <a:lnTo>
                          <a:pt x="489" y="388"/>
                        </a:lnTo>
                        <a:lnTo>
                          <a:pt x="489" y="392"/>
                        </a:lnTo>
                        <a:lnTo>
                          <a:pt x="489" y="397"/>
                        </a:lnTo>
                        <a:lnTo>
                          <a:pt x="494" y="402"/>
                        </a:lnTo>
                        <a:lnTo>
                          <a:pt x="494" y="407"/>
                        </a:lnTo>
                        <a:lnTo>
                          <a:pt x="494" y="411"/>
                        </a:lnTo>
                        <a:lnTo>
                          <a:pt x="494" y="416"/>
                        </a:lnTo>
                        <a:lnTo>
                          <a:pt x="498" y="421"/>
                        </a:lnTo>
                        <a:lnTo>
                          <a:pt x="498" y="426"/>
                        </a:lnTo>
                        <a:lnTo>
                          <a:pt x="498" y="431"/>
                        </a:lnTo>
                        <a:lnTo>
                          <a:pt x="498" y="435"/>
                        </a:lnTo>
                        <a:lnTo>
                          <a:pt x="498" y="440"/>
                        </a:lnTo>
                        <a:lnTo>
                          <a:pt x="503" y="445"/>
                        </a:lnTo>
                        <a:lnTo>
                          <a:pt x="498" y="450"/>
                        </a:lnTo>
                        <a:lnTo>
                          <a:pt x="498" y="455"/>
                        </a:lnTo>
                        <a:lnTo>
                          <a:pt x="498" y="459"/>
                        </a:lnTo>
                        <a:lnTo>
                          <a:pt x="498" y="464"/>
                        </a:lnTo>
                        <a:lnTo>
                          <a:pt x="494" y="469"/>
                        </a:lnTo>
                        <a:lnTo>
                          <a:pt x="494" y="474"/>
                        </a:lnTo>
                        <a:lnTo>
                          <a:pt x="489" y="478"/>
                        </a:lnTo>
                        <a:lnTo>
                          <a:pt x="489" y="483"/>
                        </a:lnTo>
                        <a:lnTo>
                          <a:pt x="489" y="488"/>
                        </a:lnTo>
                        <a:lnTo>
                          <a:pt x="484" y="488"/>
                        </a:lnTo>
                        <a:lnTo>
                          <a:pt x="484" y="493"/>
                        </a:lnTo>
                        <a:lnTo>
                          <a:pt x="484" y="498"/>
                        </a:lnTo>
                        <a:lnTo>
                          <a:pt x="479" y="498"/>
                        </a:lnTo>
                        <a:lnTo>
                          <a:pt x="479" y="502"/>
                        </a:lnTo>
                        <a:lnTo>
                          <a:pt x="475" y="507"/>
                        </a:lnTo>
                        <a:lnTo>
                          <a:pt x="475" y="512"/>
                        </a:lnTo>
                        <a:lnTo>
                          <a:pt x="470" y="517"/>
                        </a:lnTo>
                        <a:lnTo>
                          <a:pt x="470" y="522"/>
                        </a:lnTo>
                        <a:lnTo>
                          <a:pt x="465" y="522"/>
                        </a:lnTo>
                        <a:lnTo>
                          <a:pt x="465" y="526"/>
                        </a:lnTo>
                        <a:lnTo>
                          <a:pt x="465" y="522"/>
                        </a:lnTo>
                        <a:lnTo>
                          <a:pt x="460" y="522"/>
                        </a:lnTo>
                        <a:lnTo>
                          <a:pt x="460" y="517"/>
                        </a:lnTo>
                        <a:lnTo>
                          <a:pt x="455" y="517"/>
                        </a:lnTo>
                        <a:lnTo>
                          <a:pt x="455" y="512"/>
                        </a:lnTo>
                        <a:lnTo>
                          <a:pt x="455" y="507"/>
                        </a:lnTo>
                        <a:lnTo>
                          <a:pt x="455" y="502"/>
                        </a:lnTo>
                        <a:lnTo>
                          <a:pt x="455" y="498"/>
                        </a:lnTo>
                        <a:lnTo>
                          <a:pt x="455" y="493"/>
                        </a:lnTo>
                        <a:lnTo>
                          <a:pt x="455" y="488"/>
                        </a:lnTo>
                        <a:lnTo>
                          <a:pt x="451" y="478"/>
                        </a:lnTo>
                        <a:lnTo>
                          <a:pt x="451" y="474"/>
                        </a:lnTo>
                        <a:lnTo>
                          <a:pt x="451" y="469"/>
                        </a:lnTo>
                        <a:lnTo>
                          <a:pt x="451" y="459"/>
                        </a:lnTo>
                        <a:lnTo>
                          <a:pt x="451" y="455"/>
                        </a:lnTo>
                        <a:lnTo>
                          <a:pt x="451" y="450"/>
                        </a:lnTo>
                        <a:lnTo>
                          <a:pt x="451" y="440"/>
                        </a:lnTo>
                        <a:lnTo>
                          <a:pt x="446" y="435"/>
                        </a:lnTo>
                        <a:lnTo>
                          <a:pt x="446" y="431"/>
                        </a:lnTo>
                        <a:lnTo>
                          <a:pt x="446" y="426"/>
                        </a:lnTo>
                        <a:lnTo>
                          <a:pt x="446" y="416"/>
                        </a:lnTo>
                        <a:lnTo>
                          <a:pt x="441" y="411"/>
                        </a:lnTo>
                        <a:lnTo>
                          <a:pt x="441" y="407"/>
                        </a:lnTo>
                        <a:lnTo>
                          <a:pt x="441" y="402"/>
                        </a:lnTo>
                        <a:lnTo>
                          <a:pt x="436" y="392"/>
                        </a:lnTo>
                        <a:lnTo>
                          <a:pt x="436" y="388"/>
                        </a:lnTo>
                        <a:lnTo>
                          <a:pt x="436" y="383"/>
                        </a:lnTo>
                        <a:lnTo>
                          <a:pt x="431" y="378"/>
                        </a:lnTo>
                        <a:lnTo>
                          <a:pt x="431" y="373"/>
                        </a:lnTo>
                        <a:lnTo>
                          <a:pt x="427" y="364"/>
                        </a:lnTo>
                        <a:lnTo>
                          <a:pt x="427" y="359"/>
                        </a:lnTo>
                        <a:lnTo>
                          <a:pt x="422" y="354"/>
                        </a:lnTo>
                        <a:lnTo>
                          <a:pt x="422" y="349"/>
                        </a:lnTo>
                        <a:lnTo>
                          <a:pt x="417" y="344"/>
                        </a:lnTo>
                        <a:lnTo>
                          <a:pt x="417" y="340"/>
                        </a:lnTo>
                        <a:lnTo>
                          <a:pt x="412" y="330"/>
                        </a:lnTo>
                        <a:lnTo>
                          <a:pt x="412" y="325"/>
                        </a:lnTo>
                        <a:lnTo>
                          <a:pt x="407" y="320"/>
                        </a:lnTo>
                        <a:lnTo>
                          <a:pt x="407" y="316"/>
                        </a:lnTo>
                        <a:lnTo>
                          <a:pt x="403" y="311"/>
                        </a:lnTo>
                        <a:lnTo>
                          <a:pt x="398" y="311"/>
                        </a:lnTo>
                        <a:lnTo>
                          <a:pt x="398" y="306"/>
                        </a:lnTo>
                        <a:lnTo>
                          <a:pt x="393" y="306"/>
                        </a:lnTo>
                        <a:lnTo>
                          <a:pt x="388" y="301"/>
                        </a:lnTo>
                        <a:lnTo>
                          <a:pt x="383" y="301"/>
                        </a:lnTo>
                        <a:lnTo>
                          <a:pt x="383" y="297"/>
                        </a:lnTo>
                        <a:lnTo>
                          <a:pt x="379" y="297"/>
                        </a:lnTo>
                        <a:lnTo>
                          <a:pt x="374" y="292"/>
                        </a:lnTo>
                        <a:lnTo>
                          <a:pt x="369" y="292"/>
                        </a:lnTo>
                        <a:lnTo>
                          <a:pt x="364" y="292"/>
                        </a:lnTo>
                        <a:lnTo>
                          <a:pt x="359" y="292"/>
                        </a:lnTo>
                        <a:lnTo>
                          <a:pt x="355" y="292"/>
                        </a:lnTo>
                        <a:lnTo>
                          <a:pt x="350" y="292"/>
                        </a:lnTo>
                        <a:lnTo>
                          <a:pt x="345" y="297"/>
                        </a:lnTo>
                        <a:lnTo>
                          <a:pt x="335" y="301"/>
                        </a:lnTo>
                        <a:lnTo>
                          <a:pt x="331" y="306"/>
                        </a:lnTo>
                        <a:lnTo>
                          <a:pt x="321" y="306"/>
                        </a:lnTo>
                        <a:lnTo>
                          <a:pt x="316" y="311"/>
                        </a:lnTo>
                        <a:lnTo>
                          <a:pt x="311" y="316"/>
                        </a:lnTo>
                        <a:lnTo>
                          <a:pt x="311" y="320"/>
                        </a:lnTo>
                        <a:lnTo>
                          <a:pt x="307" y="325"/>
                        </a:lnTo>
                        <a:lnTo>
                          <a:pt x="302" y="335"/>
                        </a:lnTo>
                        <a:lnTo>
                          <a:pt x="302" y="340"/>
                        </a:lnTo>
                        <a:lnTo>
                          <a:pt x="297" y="344"/>
                        </a:lnTo>
                        <a:lnTo>
                          <a:pt x="297" y="349"/>
                        </a:lnTo>
                        <a:lnTo>
                          <a:pt x="297" y="359"/>
                        </a:lnTo>
                        <a:lnTo>
                          <a:pt x="297" y="364"/>
                        </a:lnTo>
                        <a:lnTo>
                          <a:pt x="297" y="368"/>
                        </a:lnTo>
                        <a:lnTo>
                          <a:pt x="297" y="378"/>
                        </a:lnTo>
                        <a:lnTo>
                          <a:pt x="297" y="383"/>
                        </a:lnTo>
                        <a:lnTo>
                          <a:pt x="297" y="388"/>
                        </a:lnTo>
                        <a:lnTo>
                          <a:pt x="297" y="397"/>
                        </a:lnTo>
                        <a:lnTo>
                          <a:pt x="302" y="402"/>
                        </a:lnTo>
                        <a:lnTo>
                          <a:pt x="302" y="411"/>
                        </a:lnTo>
                        <a:lnTo>
                          <a:pt x="302" y="416"/>
                        </a:lnTo>
                        <a:lnTo>
                          <a:pt x="302" y="426"/>
                        </a:lnTo>
                        <a:lnTo>
                          <a:pt x="307" y="431"/>
                        </a:lnTo>
                        <a:lnTo>
                          <a:pt x="307" y="440"/>
                        </a:lnTo>
                        <a:lnTo>
                          <a:pt x="307" y="445"/>
                        </a:lnTo>
                        <a:lnTo>
                          <a:pt x="307" y="455"/>
                        </a:lnTo>
                        <a:lnTo>
                          <a:pt x="307" y="459"/>
                        </a:lnTo>
                        <a:lnTo>
                          <a:pt x="311" y="464"/>
                        </a:lnTo>
                        <a:lnTo>
                          <a:pt x="311" y="474"/>
                        </a:lnTo>
                        <a:lnTo>
                          <a:pt x="311" y="478"/>
                        </a:lnTo>
                        <a:lnTo>
                          <a:pt x="311" y="488"/>
                        </a:lnTo>
                        <a:lnTo>
                          <a:pt x="311" y="493"/>
                        </a:lnTo>
                        <a:lnTo>
                          <a:pt x="311" y="498"/>
                        </a:lnTo>
                        <a:lnTo>
                          <a:pt x="311" y="502"/>
                        </a:lnTo>
                        <a:lnTo>
                          <a:pt x="311" y="507"/>
                        </a:lnTo>
                        <a:lnTo>
                          <a:pt x="311" y="512"/>
                        </a:lnTo>
                        <a:lnTo>
                          <a:pt x="311" y="517"/>
                        </a:lnTo>
                        <a:lnTo>
                          <a:pt x="311" y="522"/>
                        </a:lnTo>
                        <a:lnTo>
                          <a:pt x="311" y="526"/>
                        </a:lnTo>
                        <a:lnTo>
                          <a:pt x="311" y="531"/>
                        </a:lnTo>
                        <a:lnTo>
                          <a:pt x="311" y="536"/>
                        </a:lnTo>
                        <a:lnTo>
                          <a:pt x="311" y="541"/>
                        </a:lnTo>
                        <a:lnTo>
                          <a:pt x="316" y="546"/>
                        </a:lnTo>
                        <a:lnTo>
                          <a:pt x="316" y="550"/>
                        </a:lnTo>
                        <a:lnTo>
                          <a:pt x="316" y="555"/>
                        </a:lnTo>
                        <a:lnTo>
                          <a:pt x="316" y="560"/>
                        </a:lnTo>
                        <a:lnTo>
                          <a:pt x="316" y="565"/>
                        </a:lnTo>
                        <a:lnTo>
                          <a:pt x="321" y="569"/>
                        </a:lnTo>
                        <a:lnTo>
                          <a:pt x="321" y="574"/>
                        </a:lnTo>
                        <a:lnTo>
                          <a:pt x="321" y="579"/>
                        </a:lnTo>
                        <a:lnTo>
                          <a:pt x="321" y="584"/>
                        </a:lnTo>
                        <a:lnTo>
                          <a:pt x="326" y="589"/>
                        </a:lnTo>
                        <a:lnTo>
                          <a:pt x="326" y="593"/>
                        </a:lnTo>
                        <a:lnTo>
                          <a:pt x="326" y="598"/>
                        </a:lnTo>
                        <a:lnTo>
                          <a:pt x="326" y="603"/>
                        </a:lnTo>
                        <a:lnTo>
                          <a:pt x="331" y="608"/>
                        </a:lnTo>
                        <a:lnTo>
                          <a:pt x="331" y="613"/>
                        </a:lnTo>
                        <a:lnTo>
                          <a:pt x="331" y="617"/>
                        </a:lnTo>
                        <a:lnTo>
                          <a:pt x="331" y="622"/>
                        </a:lnTo>
                        <a:lnTo>
                          <a:pt x="335" y="627"/>
                        </a:lnTo>
                        <a:lnTo>
                          <a:pt x="335" y="632"/>
                        </a:lnTo>
                        <a:lnTo>
                          <a:pt x="335" y="636"/>
                        </a:lnTo>
                        <a:lnTo>
                          <a:pt x="340" y="641"/>
                        </a:lnTo>
                        <a:lnTo>
                          <a:pt x="340" y="646"/>
                        </a:lnTo>
                        <a:lnTo>
                          <a:pt x="335" y="646"/>
                        </a:lnTo>
                        <a:lnTo>
                          <a:pt x="335" y="651"/>
                        </a:lnTo>
                        <a:lnTo>
                          <a:pt x="335" y="656"/>
                        </a:lnTo>
                        <a:lnTo>
                          <a:pt x="335" y="660"/>
                        </a:lnTo>
                        <a:lnTo>
                          <a:pt x="331" y="660"/>
                        </a:lnTo>
                        <a:lnTo>
                          <a:pt x="331" y="665"/>
                        </a:lnTo>
                        <a:lnTo>
                          <a:pt x="326" y="665"/>
                        </a:lnTo>
                        <a:lnTo>
                          <a:pt x="326" y="670"/>
                        </a:lnTo>
                        <a:lnTo>
                          <a:pt x="321" y="670"/>
                        </a:lnTo>
                        <a:lnTo>
                          <a:pt x="316" y="670"/>
                        </a:lnTo>
                        <a:lnTo>
                          <a:pt x="311" y="670"/>
                        </a:lnTo>
                        <a:lnTo>
                          <a:pt x="307" y="670"/>
                        </a:lnTo>
                        <a:lnTo>
                          <a:pt x="302" y="670"/>
                        </a:lnTo>
                        <a:lnTo>
                          <a:pt x="297" y="665"/>
                        </a:lnTo>
                        <a:lnTo>
                          <a:pt x="292" y="665"/>
                        </a:lnTo>
                        <a:lnTo>
                          <a:pt x="287" y="665"/>
                        </a:lnTo>
                        <a:lnTo>
                          <a:pt x="287" y="660"/>
                        </a:lnTo>
                        <a:lnTo>
                          <a:pt x="283" y="660"/>
                        </a:lnTo>
                        <a:lnTo>
                          <a:pt x="278" y="656"/>
                        </a:lnTo>
                        <a:lnTo>
                          <a:pt x="273" y="651"/>
                        </a:lnTo>
                        <a:lnTo>
                          <a:pt x="273" y="646"/>
                        </a:lnTo>
                        <a:lnTo>
                          <a:pt x="268" y="646"/>
                        </a:lnTo>
                        <a:lnTo>
                          <a:pt x="268" y="641"/>
                        </a:lnTo>
                        <a:lnTo>
                          <a:pt x="263" y="636"/>
                        </a:lnTo>
                        <a:lnTo>
                          <a:pt x="259" y="632"/>
                        </a:lnTo>
                        <a:lnTo>
                          <a:pt x="259" y="627"/>
                        </a:lnTo>
                        <a:lnTo>
                          <a:pt x="254" y="622"/>
                        </a:lnTo>
                        <a:lnTo>
                          <a:pt x="254" y="617"/>
                        </a:lnTo>
                        <a:lnTo>
                          <a:pt x="249" y="617"/>
                        </a:lnTo>
                        <a:lnTo>
                          <a:pt x="249" y="613"/>
                        </a:lnTo>
                        <a:lnTo>
                          <a:pt x="244" y="608"/>
                        </a:lnTo>
                        <a:lnTo>
                          <a:pt x="244" y="603"/>
                        </a:lnTo>
                        <a:lnTo>
                          <a:pt x="239" y="603"/>
                        </a:lnTo>
                        <a:lnTo>
                          <a:pt x="239" y="598"/>
                        </a:lnTo>
                        <a:lnTo>
                          <a:pt x="235" y="589"/>
                        </a:lnTo>
                        <a:lnTo>
                          <a:pt x="230" y="584"/>
                        </a:lnTo>
                        <a:lnTo>
                          <a:pt x="225" y="574"/>
                        </a:lnTo>
                        <a:lnTo>
                          <a:pt x="225" y="569"/>
                        </a:lnTo>
                        <a:lnTo>
                          <a:pt x="220" y="560"/>
                        </a:lnTo>
                        <a:lnTo>
                          <a:pt x="215" y="555"/>
                        </a:lnTo>
                        <a:lnTo>
                          <a:pt x="215" y="546"/>
                        </a:lnTo>
                        <a:lnTo>
                          <a:pt x="211" y="536"/>
                        </a:lnTo>
                        <a:lnTo>
                          <a:pt x="211" y="531"/>
                        </a:lnTo>
                        <a:lnTo>
                          <a:pt x="206" y="522"/>
                        </a:lnTo>
                        <a:lnTo>
                          <a:pt x="206" y="517"/>
                        </a:lnTo>
                        <a:lnTo>
                          <a:pt x="201" y="507"/>
                        </a:lnTo>
                        <a:lnTo>
                          <a:pt x="201" y="502"/>
                        </a:lnTo>
                        <a:lnTo>
                          <a:pt x="196" y="493"/>
                        </a:lnTo>
                        <a:lnTo>
                          <a:pt x="196" y="488"/>
                        </a:lnTo>
                        <a:lnTo>
                          <a:pt x="191" y="478"/>
                        </a:lnTo>
                        <a:lnTo>
                          <a:pt x="191" y="469"/>
                        </a:lnTo>
                        <a:lnTo>
                          <a:pt x="191" y="464"/>
                        </a:lnTo>
                        <a:lnTo>
                          <a:pt x="187" y="455"/>
                        </a:lnTo>
                        <a:lnTo>
                          <a:pt x="187" y="450"/>
                        </a:lnTo>
                        <a:lnTo>
                          <a:pt x="187" y="440"/>
                        </a:lnTo>
                        <a:lnTo>
                          <a:pt x="182" y="431"/>
                        </a:lnTo>
                        <a:lnTo>
                          <a:pt x="182" y="426"/>
                        </a:lnTo>
                        <a:lnTo>
                          <a:pt x="182" y="416"/>
                        </a:lnTo>
                        <a:lnTo>
                          <a:pt x="177" y="411"/>
                        </a:lnTo>
                        <a:lnTo>
                          <a:pt x="177" y="402"/>
                        </a:lnTo>
                        <a:lnTo>
                          <a:pt x="177" y="392"/>
                        </a:lnTo>
                        <a:lnTo>
                          <a:pt x="172" y="388"/>
                        </a:lnTo>
                        <a:lnTo>
                          <a:pt x="172" y="378"/>
                        </a:lnTo>
                        <a:lnTo>
                          <a:pt x="172" y="368"/>
                        </a:lnTo>
                        <a:lnTo>
                          <a:pt x="167" y="364"/>
                        </a:lnTo>
                        <a:lnTo>
                          <a:pt x="167" y="354"/>
                        </a:lnTo>
                        <a:lnTo>
                          <a:pt x="167" y="349"/>
                        </a:lnTo>
                        <a:lnTo>
                          <a:pt x="163" y="349"/>
                        </a:lnTo>
                        <a:lnTo>
                          <a:pt x="163" y="344"/>
                        </a:lnTo>
                        <a:lnTo>
                          <a:pt x="158" y="344"/>
                        </a:lnTo>
                        <a:lnTo>
                          <a:pt x="153" y="344"/>
                        </a:lnTo>
                        <a:lnTo>
                          <a:pt x="148" y="344"/>
                        </a:lnTo>
                        <a:lnTo>
                          <a:pt x="144" y="354"/>
                        </a:lnTo>
                        <a:lnTo>
                          <a:pt x="144" y="364"/>
                        </a:lnTo>
                        <a:lnTo>
                          <a:pt x="144" y="378"/>
                        </a:lnTo>
                        <a:lnTo>
                          <a:pt x="148" y="388"/>
                        </a:lnTo>
                        <a:lnTo>
                          <a:pt x="148" y="397"/>
                        </a:lnTo>
                        <a:lnTo>
                          <a:pt x="153" y="411"/>
                        </a:lnTo>
                        <a:lnTo>
                          <a:pt x="153" y="421"/>
                        </a:lnTo>
                        <a:lnTo>
                          <a:pt x="158" y="431"/>
                        </a:lnTo>
                        <a:lnTo>
                          <a:pt x="158" y="445"/>
                        </a:lnTo>
                        <a:lnTo>
                          <a:pt x="163" y="455"/>
                        </a:lnTo>
                        <a:lnTo>
                          <a:pt x="163" y="464"/>
                        </a:lnTo>
                        <a:lnTo>
                          <a:pt x="167" y="474"/>
                        </a:lnTo>
                        <a:lnTo>
                          <a:pt x="167" y="488"/>
                        </a:lnTo>
                        <a:lnTo>
                          <a:pt x="172" y="498"/>
                        </a:lnTo>
                        <a:lnTo>
                          <a:pt x="177" y="507"/>
                        </a:lnTo>
                        <a:lnTo>
                          <a:pt x="177" y="517"/>
                        </a:lnTo>
                        <a:lnTo>
                          <a:pt x="182" y="531"/>
                        </a:lnTo>
                        <a:lnTo>
                          <a:pt x="187" y="541"/>
                        </a:lnTo>
                        <a:lnTo>
                          <a:pt x="191" y="550"/>
                        </a:lnTo>
                        <a:lnTo>
                          <a:pt x="191" y="560"/>
                        </a:lnTo>
                        <a:lnTo>
                          <a:pt x="196" y="569"/>
                        </a:lnTo>
                        <a:lnTo>
                          <a:pt x="201" y="579"/>
                        </a:lnTo>
                        <a:lnTo>
                          <a:pt x="206" y="589"/>
                        </a:lnTo>
                        <a:lnTo>
                          <a:pt x="211" y="603"/>
                        </a:lnTo>
                        <a:lnTo>
                          <a:pt x="215" y="613"/>
                        </a:lnTo>
                        <a:lnTo>
                          <a:pt x="220" y="622"/>
                        </a:lnTo>
                        <a:lnTo>
                          <a:pt x="225" y="632"/>
                        </a:lnTo>
                        <a:lnTo>
                          <a:pt x="230" y="641"/>
                        </a:lnTo>
                        <a:lnTo>
                          <a:pt x="235" y="651"/>
                        </a:lnTo>
                        <a:lnTo>
                          <a:pt x="239" y="660"/>
                        </a:lnTo>
                        <a:lnTo>
                          <a:pt x="244" y="670"/>
                        </a:lnTo>
                        <a:lnTo>
                          <a:pt x="249" y="680"/>
                        </a:lnTo>
                        <a:lnTo>
                          <a:pt x="259" y="689"/>
                        </a:lnTo>
                        <a:lnTo>
                          <a:pt x="254" y="689"/>
                        </a:lnTo>
                        <a:lnTo>
                          <a:pt x="254" y="694"/>
                        </a:lnTo>
                        <a:lnTo>
                          <a:pt x="254" y="699"/>
                        </a:lnTo>
                        <a:lnTo>
                          <a:pt x="249" y="699"/>
                        </a:lnTo>
                        <a:lnTo>
                          <a:pt x="249" y="704"/>
                        </a:lnTo>
                        <a:lnTo>
                          <a:pt x="244" y="704"/>
                        </a:lnTo>
                        <a:lnTo>
                          <a:pt x="239" y="704"/>
                        </a:lnTo>
                        <a:lnTo>
                          <a:pt x="239" y="708"/>
                        </a:lnTo>
                        <a:lnTo>
                          <a:pt x="235" y="708"/>
                        </a:lnTo>
                        <a:lnTo>
                          <a:pt x="230" y="708"/>
                        </a:lnTo>
                        <a:lnTo>
                          <a:pt x="225" y="713"/>
                        </a:lnTo>
                        <a:lnTo>
                          <a:pt x="211" y="704"/>
                        </a:lnTo>
                        <a:lnTo>
                          <a:pt x="206" y="694"/>
                        </a:lnTo>
                        <a:lnTo>
                          <a:pt x="196" y="684"/>
                        </a:lnTo>
                        <a:lnTo>
                          <a:pt x="187" y="675"/>
                        </a:lnTo>
                        <a:lnTo>
                          <a:pt x="177" y="665"/>
                        </a:lnTo>
                        <a:lnTo>
                          <a:pt x="172" y="656"/>
                        </a:lnTo>
                        <a:lnTo>
                          <a:pt x="163" y="646"/>
                        </a:lnTo>
                        <a:lnTo>
                          <a:pt x="158" y="636"/>
                        </a:lnTo>
                        <a:lnTo>
                          <a:pt x="153" y="627"/>
                        </a:lnTo>
                        <a:lnTo>
                          <a:pt x="144" y="613"/>
                        </a:lnTo>
                        <a:lnTo>
                          <a:pt x="139" y="603"/>
                        </a:lnTo>
                        <a:lnTo>
                          <a:pt x="134" y="589"/>
                        </a:lnTo>
                        <a:lnTo>
                          <a:pt x="129" y="579"/>
                        </a:lnTo>
                        <a:lnTo>
                          <a:pt x="124" y="565"/>
                        </a:lnTo>
                        <a:lnTo>
                          <a:pt x="124" y="555"/>
                        </a:lnTo>
                        <a:lnTo>
                          <a:pt x="120" y="541"/>
                        </a:lnTo>
                        <a:lnTo>
                          <a:pt x="115" y="531"/>
                        </a:lnTo>
                        <a:lnTo>
                          <a:pt x="110" y="517"/>
                        </a:lnTo>
                        <a:lnTo>
                          <a:pt x="110" y="502"/>
                        </a:lnTo>
                        <a:lnTo>
                          <a:pt x="105" y="493"/>
                        </a:lnTo>
                        <a:lnTo>
                          <a:pt x="105" y="478"/>
                        </a:lnTo>
                        <a:lnTo>
                          <a:pt x="100" y="464"/>
                        </a:lnTo>
                        <a:lnTo>
                          <a:pt x="100" y="455"/>
                        </a:lnTo>
                        <a:lnTo>
                          <a:pt x="96" y="440"/>
                        </a:lnTo>
                        <a:lnTo>
                          <a:pt x="96" y="426"/>
                        </a:lnTo>
                        <a:lnTo>
                          <a:pt x="91" y="411"/>
                        </a:lnTo>
                        <a:lnTo>
                          <a:pt x="91" y="402"/>
                        </a:lnTo>
                        <a:lnTo>
                          <a:pt x="86" y="388"/>
                        </a:lnTo>
                        <a:lnTo>
                          <a:pt x="86" y="373"/>
                        </a:lnTo>
                        <a:lnTo>
                          <a:pt x="81" y="364"/>
                        </a:lnTo>
                        <a:lnTo>
                          <a:pt x="81" y="349"/>
                        </a:lnTo>
                        <a:lnTo>
                          <a:pt x="81" y="335"/>
                        </a:lnTo>
                        <a:lnTo>
                          <a:pt x="76" y="335"/>
                        </a:lnTo>
                        <a:lnTo>
                          <a:pt x="72" y="335"/>
                        </a:lnTo>
                        <a:lnTo>
                          <a:pt x="67" y="335"/>
                        </a:lnTo>
                        <a:lnTo>
                          <a:pt x="62" y="340"/>
                        </a:lnTo>
                        <a:lnTo>
                          <a:pt x="57" y="340"/>
                        </a:lnTo>
                        <a:lnTo>
                          <a:pt x="57" y="344"/>
                        </a:lnTo>
                        <a:lnTo>
                          <a:pt x="52" y="344"/>
                        </a:lnTo>
                        <a:lnTo>
                          <a:pt x="52" y="349"/>
                        </a:lnTo>
                        <a:lnTo>
                          <a:pt x="48" y="354"/>
                        </a:lnTo>
                        <a:lnTo>
                          <a:pt x="48" y="364"/>
                        </a:lnTo>
                        <a:lnTo>
                          <a:pt x="48" y="368"/>
                        </a:lnTo>
                        <a:lnTo>
                          <a:pt x="52" y="378"/>
                        </a:lnTo>
                        <a:lnTo>
                          <a:pt x="52" y="388"/>
                        </a:lnTo>
                        <a:lnTo>
                          <a:pt x="52" y="392"/>
                        </a:lnTo>
                        <a:lnTo>
                          <a:pt x="52" y="402"/>
                        </a:lnTo>
                        <a:lnTo>
                          <a:pt x="52" y="407"/>
                        </a:lnTo>
                        <a:lnTo>
                          <a:pt x="57" y="416"/>
                        </a:lnTo>
                        <a:lnTo>
                          <a:pt x="57" y="421"/>
                        </a:lnTo>
                        <a:lnTo>
                          <a:pt x="57" y="431"/>
                        </a:lnTo>
                        <a:lnTo>
                          <a:pt x="57" y="440"/>
                        </a:lnTo>
                        <a:lnTo>
                          <a:pt x="62" y="445"/>
                        </a:lnTo>
                        <a:lnTo>
                          <a:pt x="62" y="455"/>
                        </a:lnTo>
                        <a:lnTo>
                          <a:pt x="62" y="459"/>
                        </a:lnTo>
                        <a:lnTo>
                          <a:pt x="67" y="469"/>
                        </a:lnTo>
                        <a:lnTo>
                          <a:pt x="67" y="474"/>
                        </a:lnTo>
                        <a:lnTo>
                          <a:pt x="67" y="483"/>
                        </a:lnTo>
                        <a:lnTo>
                          <a:pt x="72" y="488"/>
                        </a:lnTo>
                        <a:lnTo>
                          <a:pt x="72" y="498"/>
                        </a:lnTo>
                        <a:lnTo>
                          <a:pt x="72" y="502"/>
                        </a:lnTo>
                        <a:lnTo>
                          <a:pt x="76" y="512"/>
                        </a:lnTo>
                        <a:lnTo>
                          <a:pt x="76" y="517"/>
                        </a:lnTo>
                        <a:lnTo>
                          <a:pt x="76" y="526"/>
                        </a:lnTo>
                        <a:lnTo>
                          <a:pt x="81" y="531"/>
                        </a:lnTo>
                        <a:lnTo>
                          <a:pt x="81" y="541"/>
                        </a:lnTo>
                        <a:lnTo>
                          <a:pt x="86" y="546"/>
                        </a:lnTo>
                        <a:lnTo>
                          <a:pt x="86" y="555"/>
                        </a:lnTo>
                        <a:lnTo>
                          <a:pt x="91" y="560"/>
                        </a:lnTo>
                        <a:lnTo>
                          <a:pt x="91" y="569"/>
                        </a:lnTo>
                        <a:lnTo>
                          <a:pt x="96" y="574"/>
                        </a:lnTo>
                        <a:lnTo>
                          <a:pt x="96" y="584"/>
                        </a:lnTo>
                        <a:lnTo>
                          <a:pt x="100" y="589"/>
                        </a:lnTo>
                        <a:lnTo>
                          <a:pt x="96" y="584"/>
                        </a:lnTo>
                        <a:lnTo>
                          <a:pt x="91" y="579"/>
                        </a:lnTo>
                        <a:lnTo>
                          <a:pt x="86" y="569"/>
                        </a:lnTo>
                        <a:lnTo>
                          <a:pt x="81" y="565"/>
                        </a:lnTo>
                        <a:lnTo>
                          <a:pt x="76" y="560"/>
                        </a:lnTo>
                        <a:lnTo>
                          <a:pt x="72" y="550"/>
                        </a:lnTo>
                        <a:lnTo>
                          <a:pt x="72" y="546"/>
                        </a:lnTo>
                        <a:lnTo>
                          <a:pt x="67" y="541"/>
                        </a:lnTo>
                        <a:lnTo>
                          <a:pt x="62" y="531"/>
                        </a:lnTo>
                        <a:lnTo>
                          <a:pt x="62" y="526"/>
                        </a:lnTo>
                        <a:lnTo>
                          <a:pt x="57" y="517"/>
                        </a:lnTo>
                        <a:lnTo>
                          <a:pt x="57" y="512"/>
                        </a:lnTo>
                        <a:lnTo>
                          <a:pt x="52" y="502"/>
                        </a:lnTo>
                        <a:lnTo>
                          <a:pt x="52" y="498"/>
                        </a:lnTo>
                        <a:lnTo>
                          <a:pt x="48" y="488"/>
                        </a:lnTo>
                        <a:lnTo>
                          <a:pt x="48" y="478"/>
                        </a:lnTo>
                        <a:lnTo>
                          <a:pt x="48" y="474"/>
                        </a:lnTo>
                        <a:lnTo>
                          <a:pt x="43" y="464"/>
                        </a:lnTo>
                        <a:lnTo>
                          <a:pt x="43" y="455"/>
                        </a:lnTo>
                        <a:lnTo>
                          <a:pt x="43" y="450"/>
                        </a:lnTo>
                        <a:lnTo>
                          <a:pt x="43" y="440"/>
                        </a:lnTo>
                        <a:lnTo>
                          <a:pt x="38" y="435"/>
                        </a:lnTo>
                        <a:lnTo>
                          <a:pt x="38" y="426"/>
                        </a:lnTo>
                        <a:lnTo>
                          <a:pt x="38" y="416"/>
                        </a:lnTo>
                        <a:lnTo>
                          <a:pt x="38" y="411"/>
                        </a:lnTo>
                        <a:lnTo>
                          <a:pt x="38" y="402"/>
                        </a:lnTo>
                        <a:lnTo>
                          <a:pt x="38" y="392"/>
                        </a:lnTo>
                        <a:lnTo>
                          <a:pt x="38" y="388"/>
                        </a:lnTo>
                        <a:lnTo>
                          <a:pt x="38" y="378"/>
                        </a:lnTo>
                        <a:lnTo>
                          <a:pt x="38" y="368"/>
                        </a:lnTo>
                        <a:lnTo>
                          <a:pt x="38" y="364"/>
                        </a:lnTo>
                        <a:lnTo>
                          <a:pt x="38" y="354"/>
                        </a:lnTo>
                        <a:lnTo>
                          <a:pt x="33" y="354"/>
                        </a:lnTo>
                        <a:lnTo>
                          <a:pt x="33" y="349"/>
                        </a:lnTo>
                        <a:lnTo>
                          <a:pt x="28" y="349"/>
                        </a:lnTo>
                        <a:lnTo>
                          <a:pt x="24" y="349"/>
                        </a:lnTo>
                        <a:lnTo>
                          <a:pt x="19" y="349"/>
                        </a:lnTo>
                        <a:lnTo>
                          <a:pt x="14" y="354"/>
                        </a:lnTo>
                        <a:lnTo>
                          <a:pt x="14" y="364"/>
                        </a:lnTo>
                        <a:lnTo>
                          <a:pt x="14" y="368"/>
                        </a:lnTo>
                        <a:lnTo>
                          <a:pt x="14" y="373"/>
                        </a:lnTo>
                        <a:lnTo>
                          <a:pt x="14" y="378"/>
                        </a:lnTo>
                        <a:lnTo>
                          <a:pt x="14" y="383"/>
                        </a:lnTo>
                        <a:lnTo>
                          <a:pt x="9" y="388"/>
                        </a:lnTo>
                        <a:lnTo>
                          <a:pt x="9" y="392"/>
                        </a:lnTo>
                        <a:lnTo>
                          <a:pt x="9" y="397"/>
                        </a:lnTo>
                        <a:lnTo>
                          <a:pt x="14" y="407"/>
                        </a:lnTo>
                        <a:lnTo>
                          <a:pt x="14" y="411"/>
                        </a:lnTo>
                        <a:lnTo>
                          <a:pt x="14" y="416"/>
                        </a:lnTo>
                        <a:lnTo>
                          <a:pt x="14" y="421"/>
                        </a:lnTo>
                        <a:lnTo>
                          <a:pt x="14" y="426"/>
                        </a:lnTo>
                        <a:lnTo>
                          <a:pt x="14" y="431"/>
                        </a:lnTo>
                        <a:lnTo>
                          <a:pt x="14" y="435"/>
                        </a:lnTo>
                        <a:lnTo>
                          <a:pt x="19" y="440"/>
                        </a:lnTo>
                        <a:lnTo>
                          <a:pt x="19" y="450"/>
                        </a:lnTo>
                        <a:lnTo>
                          <a:pt x="19" y="455"/>
                        </a:lnTo>
                        <a:lnTo>
                          <a:pt x="19" y="459"/>
                        </a:lnTo>
                        <a:lnTo>
                          <a:pt x="19" y="464"/>
                        </a:lnTo>
                        <a:lnTo>
                          <a:pt x="24" y="469"/>
                        </a:lnTo>
                        <a:lnTo>
                          <a:pt x="24" y="474"/>
                        </a:lnTo>
                        <a:lnTo>
                          <a:pt x="24" y="478"/>
                        </a:lnTo>
                        <a:lnTo>
                          <a:pt x="24" y="483"/>
                        </a:lnTo>
                        <a:lnTo>
                          <a:pt x="28" y="488"/>
                        </a:lnTo>
                        <a:lnTo>
                          <a:pt x="28" y="498"/>
                        </a:lnTo>
                        <a:lnTo>
                          <a:pt x="28" y="502"/>
                        </a:lnTo>
                        <a:lnTo>
                          <a:pt x="28" y="507"/>
                        </a:lnTo>
                        <a:lnTo>
                          <a:pt x="33" y="512"/>
                        </a:lnTo>
                        <a:lnTo>
                          <a:pt x="33" y="517"/>
                        </a:lnTo>
                        <a:lnTo>
                          <a:pt x="33" y="522"/>
                        </a:lnTo>
                        <a:lnTo>
                          <a:pt x="28" y="517"/>
                        </a:lnTo>
                        <a:lnTo>
                          <a:pt x="28" y="512"/>
                        </a:lnTo>
                        <a:lnTo>
                          <a:pt x="24" y="507"/>
                        </a:lnTo>
                        <a:lnTo>
                          <a:pt x="24" y="502"/>
                        </a:lnTo>
                        <a:lnTo>
                          <a:pt x="19" y="498"/>
                        </a:lnTo>
                        <a:lnTo>
                          <a:pt x="19" y="493"/>
                        </a:lnTo>
                        <a:lnTo>
                          <a:pt x="14" y="488"/>
                        </a:lnTo>
                        <a:lnTo>
                          <a:pt x="14" y="483"/>
                        </a:lnTo>
                        <a:lnTo>
                          <a:pt x="14" y="478"/>
                        </a:lnTo>
                        <a:lnTo>
                          <a:pt x="9" y="474"/>
                        </a:lnTo>
                        <a:lnTo>
                          <a:pt x="9" y="469"/>
                        </a:lnTo>
                        <a:lnTo>
                          <a:pt x="9" y="464"/>
                        </a:lnTo>
                        <a:lnTo>
                          <a:pt x="9" y="459"/>
                        </a:lnTo>
                        <a:lnTo>
                          <a:pt x="4" y="455"/>
                        </a:lnTo>
                        <a:lnTo>
                          <a:pt x="4" y="445"/>
                        </a:lnTo>
                        <a:lnTo>
                          <a:pt x="4" y="440"/>
                        </a:lnTo>
                        <a:lnTo>
                          <a:pt x="4" y="435"/>
                        </a:lnTo>
                        <a:lnTo>
                          <a:pt x="4" y="431"/>
                        </a:lnTo>
                        <a:lnTo>
                          <a:pt x="4" y="426"/>
                        </a:lnTo>
                        <a:lnTo>
                          <a:pt x="4" y="421"/>
                        </a:lnTo>
                        <a:lnTo>
                          <a:pt x="4" y="416"/>
                        </a:lnTo>
                        <a:lnTo>
                          <a:pt x="4" y="411"/>
                        </a:lnTo>
                        <a:lnTo>
                          <a:pt x="4" y="402"/>
                        </a:lnTo>
                        <a:lnTo>
                          <a:pt x="0" y="397"/>
                        </a:lnTo>
                        <a:lnTo>
                          <a:pt x="0" y="392"/>
                        </a:lnTo>
                        <a:lnTo>
                          <a:pt x="0" y="388"/>
                        </a:lnTo>
                        <a:lnTo>
                          <a:pt x="0" y="383"/>
                        </a:lnTo>
                        <a:lnTo>
                          <a:pt x="0" y="378"/>
                        </a:lnTo>
                        <a:lnTo>
                          <a:pt x="0" y="373"/>
                        </a:lnTo>
                        <a:lnTo>
                          <a:pt x="0" y="368"/>
                        </a:lnTo>
                        <a:lnTo>
                          <a:pt x="0" y="364"/>
                        </a:lnTo>
                        <a:lnTo>
                          <a:pt x="0" y="359"/>
                        </a:lnTo>
                        <a:lnTo>
                          <a:pt x="0" y="344"/>
                        </a:lnTo>
                        <a:lnTo>
                          <a:pt x="0" y="330"/>
                        </a:lnTo>
                        <a:lnTo>
                          <a:pt x="0" y="320"/>
                        </a:lnTo>
                        <a:lnTo>
                          <a:pt x="4" y="306"/>
                        </a:lnTo>
                        <a:lnTo>
                          <a:pt x="4" y="292"/>
                        </a:lnTo>
                        <a:lnTo>
                          <a:pt x="9" y="282"/>
                        </a:lnTo>
                        <a:lnTo>
                          <a:pt x="14" y="273"/>
                        </a:lnTo>
                        <a:lnTo>
                          <a:pt x="19" y="258"/>
                        </a:lnTo>
                        <a:lnTo>
                          <a:pt x="24" y="249"/>
                        </a:lnTo>
                        <a:lnTo>
                          <a:pt x="28" y="239"/>
                        </a:lnTo>
                        <a:lnTo>
                          <a:pt x="33" y="225"/>
                        </a:lnTo>
                        <a:lnTo>
                          <a:pt x="43" y="215"/>
                        </a:lnTo>
                        <a:lnTo>
                          <a:pt x="48" y="206"/>
                        </a:lnTo>
                        <a:lnTo>
                          <a:pt x="57" y="196"/>
                        </a:lnTo>
                        <a:lnTo>
                          <a:pt x="62" y="186"/>
                        </a:lnTo>
                        <a:lnTo>
                          <a:pt x="72" y="177"/>
                        </a:lnTo>
                        <a:lnTo>
                          <a:pt x="81" y="162"/>
                        </a:lnTo>
                        <a:lnTo>
                          <a:pt x="86" y="153"/>
                        </a:lnTo>
                        <a:lnTo>
                          <a:pt x="96" y="143"/>
                        </a:lnTo>
                        <a:lnTo>
                          <a:pt x="105" y="134"/>
                        </a:lnTo>
                        <a:lnTo>
                          <a:pt x="115" y="124"/>
                        </a:lnTo>
                        <a:lnTo>
                          <a:pt x="124" y="115"/>
                        </a:lnTo>
                        <a:lnTo>
                          <a:pt x="129" y="105"/>
                        </a:lnTo>
                        <a:lnTo>
                          <a:pt x="139" y="95"/>
                        </a:lnTo>
                        <a:lnTo>
                          <a:pt x="148" y="86"/>
                        </a:lnTo>
                        <a:lnTo>
                          <a:pt x="153" y="71"/>
                        </a:lnTo>
                        <a:lnTo>
                          <a:pt x="163" y="62"/>
                        </a:lnTo>
                        <a:lnTo>
                          <a:pt x="172" y="52"/>
                        </a:lnTo>
                        <a:lnTo>
                          <a:pt x="177" y="43"/>
                        </a:lnTo>
                        <a:lnTo>
                          <a:pt x="187" y="33"/>
                        </a:lnTo>
                        <a:lnTo>
                          <a:pt x="191" y="19"/>
                        </a:lnTo>
                        <a:lnTo>
                          <a:pt x="196" y="9"/>
                        </a:lnTo>
                        <a:lnTo>
                          <a:pt x="201" y="9"/>
                        </a:lnTo>
                        <a:lnTo>
                          <a:pt x="206" y="9"/>
                        </a:lnTo>
                        <a:lnTo>
                          <a:pt x="211" y="9"/>
                        </a:lnTo>
                        <a:lnTo>
                          <a:pt x="215" y="9"/>
                        </a:lnTo>
                        <a:lnTo>
                          <a:pt x="220" y="9"/>
                        </a:lnTo>
                        <a:lnTo>
                          <a:pt x="225" y="9"/>
                        </a:lnTo>
                        <a:lnTo>
                          <a:pt x="230" y="9"/>
                        </a:lnTo>
                        <a:lnTo>
                          <a:pt x="235" y="4"/>
                        </a:lnTo>
                        <a:lnTo>
                          <a:pt x="239" y="4"/>
                        </a:lnTo>
                        <a:lnTo>
                          <a:pt x="244" y="4"/>
                        </a:lnTo>
                        <a:lnTo>
                          <a:pt x="249" y="4"/>
                        </a:lnTo>
                        <a:lnTo>
                          <a:pt x="254" y="4"/>
                        </a:lnTo>
                        <a:lnTo>
                          <a:pt x="259" y="4"/>
                        </a:lnTo>
                        <a:lnTo>
                          <a:pt x="263" y="4"/>
                        </a:lnTo>
                        <a:lnTo>
                          <a:pt x="268" y="4"/>
                        </a:lnTo>
                        <a:lnTo>
                          <a:pt x="273" y="4"/>
                        </a:lnTo>
                        <a:lnTo>
                          <a:pt x="278" y="4"/>
                        </a:lnTo>
                        <a:lnTo>
                          <a:pt x="283" y="0"/>
                        </a:lnTo>
                        <a:lnTo>
                          <a:pt x="287" y="0"/>
                        </a:lnTo>
                        <a:lnTo>
                          <a:pt x="292" y="0"/>
                        </a:lnTo>
                        <a:lnTo>
                          <a:pt x="302" y="0"/>
                        </a:lnTo>
                        <a:lnTo>
                          <a:pt x="307" y="0"/>
                        </a:lnTo>
                        <a:lnTo>
                          <a:pt x="311" y="0"/>
                        </a:lnTo>
                        <a:lnTo>
                          <a:pt x="316" y="0"/>
                        </a:lnTo>
                        <a:lnTo>
                          <a:pt x="321" y="0"/>
                        </a:lnTo>
                        <a:lnTo>
                          <a:pt x="326" y="0"/>
                        </a:lnTo>
                        <a:lnTo>
                          <a:pt x="331" y="0"/>
                        </a:lnTo>
                        <a:lnTo>
                          <a:pt x="335" y="4"/>
                        </a:lnTo>
                        <a:lnTo>
                          <a:pt x="340" y="4"/>
                        </a:lnTo>
                        <a:lnTo>
                          <a:pt x="345" y="4"/>
                        </a:lnTo>
                        <a:lnTo>
                          <a:pt x="350" y="4"/>
                        </a:lnTo>
                        <a:lnTo>
                          <a:pt x="355" y="4"/>
                        </a:lnTo>
                        <a:lnTo>
                          <a:pt x="359" y="9"/>
                        </a:lnTo>
                        <a:lnTo>
                          <a:pt x="369" y="9"/>
                        </a:lnTo>
                        <a:lnTo>
                          <a:pt x="374" y="9"/>
                        </a:lnTo>
                        <a:lnTo>
                          <a:pt x="379" y="14"/>
                        </a:lnTo>
                        <a:lnTo>
                          <a:pt x="383" y="14"/>
                        </a:lnTo>
                        <a:lnTo>
                          <a:pt x="393" y="19"/>
                        </a:lnTo>
                        <a:lnTo>
                          <a:pt x="398" y="19"/>
                        </a:lnTo>
                        <a:lnTo>
                          <a:pt x="403" y="24"/>
                        </a:lnTo>
                        <a:lnTo>
                          <a:pt x="407" y="24"/>
                        </a:lnTo>
                        <a:lnTo>
                          <a:pt x="417" y="28"/>
                        </a:lnTo>
                        <a:lnTo>
                          <a:pt x="422" y="33"/>
                        </a:lnTo>
                        <a:lnTo>
                          <a:pt x="427" y="33"/>
                        </a:lnTo>
                        <a:lnTo>
                          <a:pt x="431" y="38"/>
                        </a:lnTo>
                        <a:lnTo>
                          <a:pt x="436" y="43"/>
                        </a:lnTo>
                        <a:lnTo>
                          <a:pt x="441" y="48"/>
                        </a:lnTo>
                        <a:lnTo>
                          <a:pt x="446" y="48"/>
                        </a:lnTo>
                        <a:lnTo>
                          <a:pt x="451" y="52"/>
                        </a:lnTo>
                        <a:lnTo>
                          <a:pt x="460" y="57"/>
                        </a:lnTo>
                        <a:lnTo>
                          <a:pt x="465" y="62"/>
                        </a:lnTo>
                        <a:lnTo>
                          <a:pt x="470" y="67"/>
                        </a:lnTo>
                        <a:lnTo>
                          <a:pt x="475" y="71"/>
                        </a:lnTo>
                        <a:lnTo>
                          <a:pt x="479" y="76"/>
                        </a:lnTo>
                        <a:lnTo>
                          <a:pt x="484" y="81"/>
                        </a:lnTo>
                        <a:lnTo>
                          <a:pt x="484" y="86"/>
                        </a:lnTo>
                        <a:lnTo>
                          <a:pt x="489" y="91"/>
                        </a:lnTo>
                        <a:lnTo>
                          <a:pt x="494" y="95"/>
                        </a:lnTo>
                        <a:lnTo>
                          <a:pt x="498" y="100"/>
                        </a:lnTo>
                        <a:lnTo>
                          <a:pt x="503" y="105"/>
                        </a:lnTo>
                        <a:lnTo>
                          <a:pt x="508" y="110"/>
                        </a:lnTo>
                        <a:lnTo>
                          <a:pt x="513" y="115"/>
                        </a:lnTo>
                        <a:lnTo>
                          <a:pt x="513" y="124"/>
                        </a:lnTo>
                        <a:lnTo>
                          <a:pt x="518" y="129"/>
                        </a:lnTo>
                        <a:close/>
                      </a:path>
                    </a:pathLst>
                  </a:custGeom>
                  <a:solidFill>
                    <a:srgbClr val="ffd9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3" name=""/>
                  <p:cNvSpPr/>
                  <p:nvPr/>
                </p:nvSpPr>
                <p:spPr>
                  <a:xfrm flipH="1">
                    <a:off x="3934800" y="4751280"/>
                    <a:ext cx="90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53" h="67">
                        <a:moveTo>
                          <a:pt x="53" y="4"/>
                        </a:moveTo>
                        <a:lnTo>
                          <a:pt x="53" y="9"/>
                        </a:lnTo>
                        <a:lnTo>
                          <a:pt x="48" y="9"/>
                        </a:lnTo>
                        <a:lnTo>
                          <a:pt x="48" y="14"/>
                        </a:lnTo>
                        <a:lnTo>
                          <a:pt x="43" y="14"/>
                        </a:lnTo>
                        <a:lnTo>
                          <a:pt x="43" y="19"/>
                        </a:lnTo>
                        <a:lnTo>
                          <a:pt x="38" y="24"/>
                        </a:lnTo>
                        <a:lnTo>
                          <a:pt x="38" y="28"/>
                        </a:lnTo>
                        <a:lnTo>
                          <a:pt x="33" y="28"/>
                        </a:lnTo>
                        <a:lnTo>
                          <a:pt x="33" y="33"/>
                        </a:lnTo>
                        <a:lnTo>
                          <a:pt x="29" y="33"/>
                        </a:lnTo>
                        <a:lnTo>
                          <a:pt x="29" y="38"/>
                        </a:lnTo>
                        <a:lnTo>
                          <a:pt x="24" y="43"/>
                        </a:lnTo>
                        <a:lnTo>
                          <a:pt x="19" y="47"/>
                        </a:lnTo>
                        <a:lnTo>
                          <a:pt x="19" y="52"/>
                        </a:lnTo>
                        <a:lnTo>
                          <a:pt x="14" y="52"/>
                        </a:lnTo>
                        <a:lnTo>
                          <a:pt x="14" y="57"/>
                        </a:lnTo>
                        <a:lnTo>
                          <a:pt x="9" y="57"/>
                        </a:lnTo>
                        <a:lnTo>
                          <a:pt x="9" y="62"/>
                        </a:lnTo>
                        <a:lnTo>
                          <a:pt x="5" y="62"/>
                        </a:lnTo>
                        <a:lnTo>
                          <a:pt x="0" y="67"/>
                        </a:lnTo>
                        <a:lnTo>
                          <a:pt x="5" y="62"/>
                        </a:lnTo>
                        <a:lnTo>
                          <a:pt x="5" y="57"/>
                        </a:lnTo>
                        <a:lnTo>
                          <a:pt x="5" y="52"/>
                        </a:lnTo>
                        <a:lnTo>
                          <a:pt x="5" y="47"/>
                        </a:lnTo>
                        <a:lnTo>
                          <a:pt x="5" y="43"/>
                        </a:lnTo>
                        <a:lnTo>
                          <a:pt x="5" y="38"/>
                        </a:lnTo>
                        <a:lnTo>
                          <a:pt x="5" y="33"/>
                        </a:lnTo>
                        <a:lnTo>
                          <a:pt x="5" y="28"/>
                        </a:lnTo>
                        <a:lnTo>
                          <a:pt x="5" y="24"/>
                        </a:lnTo>
                        <a:lnTo>
                          <a:pt x="5" y="19"/>
                        </a:lnTo>
                        <a:lnTo>
                          <a:pt x="5" y="14"/>
                        </a:lnTo>
                        <a:lnTo>
                          <a:pt x="0" y="9"/>
                        </a:lnTo>
                        <a:lnTo>
                          <a:pt x="0" y="4"/>
                        </a:lnTo>
                        <a:lnTo>
                          <a:pt x="0" y="0"/>
                        </a:lnTo>
                        <a:lnTo>
                          <a:pt x="5" y="0"/>
                        </a:lnTo>
                        <a:lnTo>
                          <a:pt x="9" y="0"/>
                        </a:lnTo>
                        <a:lnTo>
                          <a:pt x="14" y="0"/>
                        </a:lnTo>
                        <a:lnTo>
                          <a:pt x="19" y="0"/>
                        </a:lnTo>
                        <a:lnTo>
                          <a:pt x="24" y="4"/>
                        </a:lnTo>
                        <a:lnTo>
                          <a:pt x="29" y="4"/>
                        </a:lnTo>
                        <a:lnTo>
                          <a:pt x="33" y="4"/>
                        </a:lnTo>
                        <a:lnTo>
                          <a:pt x="38" y="4"/>
                        </a:lnTo>
                        <a:lnTo>
                          <a:pt x="43" y="4"/>
                        </a:lnTo>
                        <a:lnTo>
                          <a:pt x="48" y="4"/>
                        </a:lnTo>
                        <a:lnTo>
                          <a:pt x="53" y="4"/>
                        </a:lnTo>
                        <a:close/>
                      </a:path>
                    </a:pathLst>
                  </a:custGeom>
                  <a:solidFill>
                    <a:srgbClr val="fced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4" name=""/>
                  <p:cNvSpPr/>
                  <p:nvPr/>
                </p:nvSpPr>
                <p:spPr>
                  <a:xfrm flipH="1">
                    <a:off x="3811680" y="4752720"/>
                    <a:ext cx="13248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782" h="766">
                        <a:moveTo>
                          <a:pt x="633" y="19"/>
                        </a:moveTo>
                        <a:lnTo>
                          <a:pt x="638" y="24"/>
                        </a:lnTo>
                        <a:lnTo>
                          <a:pt x="647" y="29"/>
                        </a:lnTo>
                        <a:lnTo>
                          <a:pt x="652" y="38"/>
                        </a:lnTo>
                        <a:lnTo>
                          <a:pt x="657" y="43"/>
                        </a:lnTo>
                        <a:lnTo>
                          <a:pt x="667" y="53"/>
                        </a:lnTo>
                        <a:lnTo>
                          <a:pt x="671" y="58"/>
                        </a:lnTo>
                        <a:lnTo>
                          <a:pt x="676" y="62"/>
                        </a:lnTo>
                        <a:lnTo>
                          <a:pt x="686" y="72"/>
                        </a:lnTo>
                        <a:lnTo>
                          <a:pt x="691" y="77"/>
                        </a:lnTo>
                        <a:lnTo>
                          <a:pt x="695" y="82"/>
                        </a:lnTo>
                        <a:lnTo>
                          <a:pt x="700" y="91"/>
                        </a:lnTo>
                        <a:lnTo>
                          <a:pt x="705" y="96"/>
                        </a:lnTo>
                        <a:lnTo>
                          <a:pt x="715" y="105"/>
                        </a:lnTo>
                        <a:lnTo>
                          <a:pt x="719" y="110"/>
                        </a:lnTo>
                        <a:lnTo>
                          <a:pt x="724" y="115"/>
                        </a:lnTo>
                        <a:lnTo>
                          <a:pt x="729" y="125"/>
                        </a:lnTo>
                        <a:lnTo>
                          <a:pt x="734" y="129"/>
                        </a:lnTo>
                        <a:lnTo>
                          <a:pt x="739" y="139"/>
                        </a:lnTo>
                        <a:lnTo>
                          <a:pt x="743" y="144"/>
                        </a:lnTo>
                        <a:lnTo>
                          <a:pt x="748" y="153"/>
                        </a:lnTo>
                        <a:lnTo>
                          <a:pt x="748" y="158"/>
                        </a:lnTo>
                        <a:lnTo>
                          <a:pt x="753" y="168"/>
                        </a:lnTo>
                        <a:lnTo>
                          <a:pt x="758" y="173"/>
                        </a:lnTo>
                        <a:lnTo>
                          <a:pt x="763" y="182"/>
                        </a:lnTo>
                        <a:lnTo>
                          <a:pt x="767" y="192"/>
                        </a:lnTo>
                        <a:lnTo>
                          <a:pt x="767" y="196"/>
                        </a:lnTo>
                        <a:lnTo>
                          <a:pt x="772" y="206"/>
                        </a:lnTo>
                        <a:lnTo>
                          <a:pt x="772" y="216"/>
                        </a:lnTo>
                        <a:lnTo>
                          <a:pt x="777" y="225"/>
                        </a:lnTo>
                        <a:lnTo>
                          <a:pt x="777" y="230"/>
                        </a:lnTo>
                        <a:lnTo>
                          <a:pt x="782" y="240"/>
                        </a:lnTo>
                        <a:lnTo>
                          <a:pt x="782" y="249"/>
                        </a:lnTo>
                        <a:lnTo>
                          <a:pt x="777" y="254"/>
                        </a:lnTo>
                        <a:lnTo>
                          <a:pt x="772" y="254"/>
                        </a:lnTo>
                        <a:lnTo>
                          <a:pt x="767" y="259"/>
                        </a:lnTo>
                        <a:lnTo>
                          <a:pt x="763" y="259"/>
                        </a:lnTo>
                        <a:lnTo>
                          <a:pt x="763" y="264"/>
                        </a:lnTo>
                        <a:lnTo>
                          <a:pt x="758" y="264"/>
                        </a:lnTo>
                        <a:lnTo>
                          <a:pt x="753" y="268"/>
                        </a:lnTo>
                        <a:lnTo>
                          <a:pt x="748" y="273"/>
                        </a:lnTo>
                        <a:lnTo>
                          <a:pt x="743" y="273"/>
                        </a:lnTo>
                        <a:lnTo>
                          <a:pt x="739" y="278"/>
                        </a:lnTo>
                        <a:lnTo>
                          <a:pt x="734" y="283"/>
                        </a:lnTo>
                        <a:lnTo>
                          <a:pt x="729" y="287"/>
                        </a:lnTo>
                        <a:lnTo>
                          <a:pt x="724" y="292"/>
                        </a:lnTo>
                        <a:lnTo>
                          <a:pt x="719" y="292"/>
                        </a:lnTo>
                        <a:lnTo>
                          <a:pt x="719" y="297"/>
                        </a:lnTo>
                        <a:lnTo>
                          <a:pt x="715" y="297"/>
                        </a:lnTo>
                        <a:lnTo>
                          <a:pt x="715" y="302"/>
                        </a:lnTo>
                        <a:lnTo>
                          <a:pt x="710" y="302"/>
                        </a:lnTo>
                        <a:lnTo>
                          <a:pt x="710" y="307"/>
                        </a:lnTo>
                        <a:lnTo>
                          <a:pt x="705" y="307"/>
                        </a:lnTo>
                        <a:lnTo>
                          <a:pt x="700" y="311"/>
                        </a:lnTo>
                        <a:lnTo>
                          <a:pt x="691" y="316"/>
                        </a:lnTo>
                        <a:lnTo>
                          <a:pt x="686" y="321"/>
                        </a:lnTo>
                        <a:lnTo>
                          <a:pt x="676" y="326"/>
                        </a:lnTo>
                        <a:lnTo>
                          <a:pt x="671" y="331"/>
                        </a:lnTo>
                        <a:lnTo>
                          <a:pt x="662" y="335"/>
                        </a:lnTo>
                        <a:lnTo>
                          <a:pt x="652" y="340"/>
                        </a:lnTo>
                        <a:lnTo>
                          <a:pt x="647" y="345"/>
                        </a:lnTo>
                        <a:lnTo>
                          <a:pt x="638" y="350"/>
                        </a:lnTo>
                        <a:lnTo>
                          <a:pt x="633" y="354"/>
                        </a:lnTo>
                        <a:lnTo>
                          <a:pt x="623" y="359"/>
                        </a:lnTo>
                        <a:lnTo>
                          <a:pt x="619" y="364"/>
                        </a:lnTo>
                        <a:lnTo>
                          <a:pt x="609" y="374"/>
                        </a:lnTo>
                        <a:lnTo>
                          <a:pt x="599" y="378"/>
                        </a:lnTo>
                        <a:lnTo>
                          <a:pt x="595" y="383"/>
                        </a:lnTo>
                        <a:lnTo>
                          <a:pt x="585" y="388"/>
                        </a:lnTo>
                        <a:lnTo>
                          <a:pt x="580" y="393"/>
                        </a:lnTo>
                        <a:lnTo>
                          <a:pt x="571" y="398"/>
                        </a:lnTo>
                        <a:lnTo>
                          <a:pt x="566" y="402"/>
                        </a:lnTo>
                        <a:lnTo>
                          <a:pt x="556" y="407"/>
                        </a:lnTo>
                        <a:lnTo>
                          <a:pt x="547" y="412"/>
                        </a:lnTo>
                        <a:lnTo>
                          <a:pt x="542" y="417"/>
                        </a:lnTo>
                        <a:lnTo>
                          <a:pt x="532" y="422"/>
                        </a:lnTo>
                        <a:lnTo>
                          <a:pt x="528" y="426"/>
                        </a:lnTo>
                        <a:lnTo>
                          <a:pt x="518" y="431"/>
                        </a:lnTo>
                        <a:lnTo>
                          <a:pt x="508" y="436"/>
                        </a:lnTo>
                        <a:lnTo>
                          <a:pt x="504" y="441"/>
                        </a:lnTo>
                        <a:lnTo>
                          <a:pt x="494" y="445"/>
                        </a:lnTo>
                        <a:lnTo>
                          <a:pt x="489" y="450"/>
                        </a:lnTo>
                        <a:lnTo>
                          <a:pt x="480" y="450"/>
                        </a:lnTo>
                        <a:lnTo>
                          <a:pt x="470" y="455"/>
                        </a:lnTo>
                        <a:lnTo>
                          <a:pt x="465" y="460"/>
                        </a:lnTo>
                        <a:lnTo>
                          <a:pt x="456" y="465"/>
                        </a:lnTo>
                        <a:lnTo>
                          <a:pt x="456" y="469"/>
                        </a:lnTo>
                        <a:lnTo>
                          <a:pt x="451" y="469"/>
                        </a:lnTo>
                        <a:lnTo>
                          <a:pt x="451" y="474"/>
                        </a:lnTo>
                        <a:lnTo>
                          <a:pt x="446" y="474"/>
                        </a:lnTo>
                        <a:lnTo>
                          <a:pt x="446" y="479"/>
                        </a:lnTo>
                        <a:lnTo>
                          <a:pt x="441" y="484"/>
                        </a:lnTo>
                        <a:lnTo>
                          <a:pt x="441" y="489"/>
                        </a:lnTo>
                        <a:lnTo>
                          <a:pt x="441" y="493"/>
                        </a:lnTo>
                        <a:lnTo>
                          <a:pt x="441" y="498"/>
                        </a:lnTo>
                        <a:lnTo>
                          <a:pt x="441" y="503"/>
                        </a:lnTo>
                        <a:lnTo>
                          <a:pt x="441" y="508"/>
                        </a:lnTo>
                        <a:lnTo>
                          <a:pt x="441" y="512"/>
                        </a:lnTo>
                        <a:lnTo>
                          <a:pt x="446" y="512"/>
                        </a:lnTo>
                        <a:lnTo>
                          <a:pt x="446" y="517"/>
                        </a:lnTo>
                        <a:lnTo>
                          <a:pt x="446" y="522"/>
                        </a:lnTo>
                        <a:lnTo>
                          <a:pt x="446" y="527"/>
                        </a:lnTo>
                        <a:lnTo>
                          <a:pt x="446" y="532"/>
                        </a:lnTo>
                        <a:lnTo>
                          <a:pt x="451" y="536"/>
                        </a:lnTo>
                        <a:lnTo>
                          <a:pt x="451" y="541"/>
                        </a:lnTo>
                        <a:lnTo>
                          <a:pt x="451" y="546"/>
                        </a:lnTo>
                        <a:lnTo>
                          <a:pt x="456" y="551"/>
                        </a:lnTo>
                        <a:lnTo>
                          <a:pt x="456" y="556"/>
                        </a:lnTo>
                        <a:lnTo>
                          <a:pt x="456" y="560"/>
                        </a:lnTo>
                        <a:lnTo>
                          <a:pt x="456" y="565"/>
                        </a:lnTo>
                        <a:lnTo>
                          <a:pt x="460" y="570"/>
                        </a:lnTo>
                        <a:lnTo>
                          <a:pt x="460" y="575"/>
                        </a:lnTo>
                        <a:lnTo>
                          <a:pt x="465" y="580"/>
                        </a:lnTo>
                        <a:lnTo>
                          <a:pt x="465" y="584"/>
                        </a:lnTo>
                        <a:lnTo>
                          <a:pt x="465" y="589"/>
                        </a:lnTo>
                        <a:lnTo>
                          <a:pt x="470" y="594"/>
                        </a:lnTo>
                        <a:lnTo>
                          <a:pt x="470" y="599"/>
                        </a:lnTo>
                        <a:lnTo>
                          <a:pt x="470" y="603"/>
                        </a:lnTo>
                        <a:lnTo>
                          <a:pt x="475" y="608"/>
                        </a:lnTo>
                        <a:lnTo>
                          <a:pt x="475" y="613"/>
                        </a:lnTo>
                        <a:lnTo>
                          <a:pt x="480" y="618"/>
                        </a:lnTo>
                        <a:lnTo>
                          <a:pt x="480" y="623"/>
                        </a:lnTo>
                        <a:lnTo>
                          <a:pt x="480" y="627"/>
                        </a:lnTo>
                        <a:lnTo>
                          <a:pt x="484" y="632"/>
                        </a:lnTo>
                        <a:lnTo>
                          <a:pt x="484" y="637"/>
                        </a:lnTo>
                        <a:lnTo>
                          <a:pt x="484" y="642"/>
                        </a:lnTo>
                        <a:lnTo>
                          <a:pt x="489" y="647"/>
                        </a:lnTo>
                        <a:lnTo>
                          <a:pt x="489" y="651"/>
                        </a:lnTo>
                        <a:lnTo>
                          <a:pt x="489" y="656"/>
                        </a:lnTo>
                        <a:lnTo>
                          <a:pt x="494" y="661"/>
                        </a:lnTo>
                        <a:lnTo>
                          <a:pt x="494" y="666"/>
                        </a:lnTo>
                        <a:lnTo>
                          <a:pt x="494" y="671"/>
                        </a:lnTo>
                        <a:lnTo>
                          <a:pt x="499" y="675"/>
                        </a:lnTo>
                        <a:lnTo>
                          <a:pt x="499" y="680"/>
                        </a:lnTo>
                        <a:lnTo>
                          <a:pt x="494" y="685"/>
                        </a:lnTo>
                        <a:lnTo>
                          <a:pt x="489" y="690"/>
                        </a:lnTo>
                        <a:lnTo>
                          <a:pt x="480" y="694"/>
                        </a:lnTo>
                        <a:lnTo>
                          <a:pt x="475" y="699"/>
                        </a:lnTo>
                        <a:lnTo>
                          <a:pt x="470" y="704"/>
                        </a:lnTo>
                        <a:lnTo>
                          <a:pt x="460" y="709"/>
                        </a:lnTo>
                        <a:lnTo>
                          <a:pt x="456" y="714"/>
                        </a:lnTo>
                        <a:lnTo>
                          <a:pt x="446" y="714"/>
                        </a:lnTo>
                        <a:lnTo>
                          <a:pt x="441" y="718"/>
                        </a:lnTo>
                        <a:lnTo>
                          <a:pt x="436" y="718"/>
                        </a:lnTo>
                        <a:lnTo>
                          <a:pt x="427" y="723"/>
                        </a:lnTo>
                        <a:lnTo>
                          <a:pt x="417" y="723"/>
                        </a:lnTo>
                        <a:lnTo>
                          <a:pt x="412" y="728"/>
                        </a:lnTo>
                        <a:lnTo>
                          <a:pt x="403" y="728"/>
                        </a:lnTo>
                        <a:lnTo>
                          <a:pt x="398" y="728"/>
                        </a:lnTo>
                        <a:lnTo>
                          <a:pt x="388" y="728"/>
                        </a:lnTo>
                        <a:lnTo>
                          <a:pt x="379" y="733"/>
                        </a:lnTo>
                        <a:lnTo>
                          <a:pt x="374" y="733"/>
                        </a:lnTo>
                        <a:lnTo>
                          <a:pt x="364" y="733"/>
                        </a:lnTo>
                        <a:lnTo>
                          <a:pt x="355" y="733"/>
                        </a:lnTo>
                        <a:lnTo>
                          <a:pt x="350" y="738"/>
                        </a:lnTo>
                        <a:lnTo>
                          <a:pt x="340" y="738"/>
                        </a:lnTo>
                        <a:lnTo>
                          <a:pt x="336" y="738"/>
                        </a:lnTo>
                        <a:lnTo>
                          <a:pt x="326" y="738"/>
                        </a:lnTo>
                        <a:lnTo>
                          <a:pt x="316" y="742"/>
                        </a:lnTo>
                        <a:lnTo>
                          <a:pt x="312" y="742"/>
                        </a:lnTo>
                        <a:lnTo>
                          <a:pt x="302" y="742"/>
                        </a:lnTo>
                        <a:lnTo>
                          <a:pt x="297" y="747"/>
                        </a:lnTo>
                        <a:lnTo>
                          <a:pt x="288" y="747"/>
                        </a:lnTo>
                        <a:lnTo>
                          <a:pt x="283" y="752"/>
                        </a:lnTo>
                        <a:lnTo>
                          <a:pt x="273" y="752"/>
                        </a:lnTo>
                        <a:lnTo>
                          <a:pt x="268" y="757"/>
                        </a:lnTo>
                        <a:lnTo>
                          <a:pt x="264" y="757"/>
                        </a:lnTo>
                        <a:lnTo>
                          <a:pt x="254" y="757"/>
                        </a:lnTo>
                        <a:lnTo>
                          <a:pt x="249" y="761"/>
                        </a:lnTo>
                        <a:lnTo>
                          <a:pt x="245" y="761"/>
                        </a:lnTo>
                        <a:lnTo>
                          <a:pt x="235" y="761"/>
                        </a:lnTo>
                        <a:lnTo>
                          <a:pt x="230" y="761"/>
                        </a:lnTo>
                        <a:lnTo>
                          <a:pt x="225" y="761"/>
                        </a:lnTo>
                        <a:lnTo>
                          <a:pt x="221" y="761"/>
                        </a:lnTo>
                        <a:lnTo>
                          <a:pt x="211" y="761"/>
                        </a:lnTo>
                        <a:lnTo>
                          <a:pt x="206" y="761"/>
                        </a:lnTo>
                        <a:lnTo>
                          <a:pt x="201" y="761"/>
                        </a:lnTo>
                        <a:lnTo>
                          <a:pt x="197" y="761"/>
                        </a:lnTo>
                        <a:lnTo>
                          <a:pt x="187" y="766"/>
                        </a:lnTo>
                        <a:lnTo>
                          <a:pt x="182" y="766"/>
                        </a:lnTo>
                        <a:lnTo>
                          <a:pt x="177" y="766"/>
                        </a:lnTo>
                        <a:lnTo>
                          <a:pt x="173" y="766"/>
                        </a:lnTo>
                        <a:lnTo>
                          <a:pt x="168" y="766"/>
                        </a:lnTo>
                        <a:lnTo>
                          <a:pt x="158" y="766"/>
                        </a:lnTo>
                        <a:lnTo>
                          <a:pt x="153" y="766"/>
                        </a:lnTo>
                        <a:lnTo>
                          <a:pt x="149" y="761"/>
                        </a:lnTo>
                        <a:lnTo>
                          <a:pt x="144" y="761"/>
                        </a:lnTo>
                        <a:lnTo>
                          <a:pt x="134" y="761"/>
                        </a:lnTo>
                        <a:lnTo>
                          <a:pt x="129" y="761"/>
                        </a:lnTo>
                        <a:lnTo>
                          <a:pt x="125" y="761"/>
                        </a:lnTo>
                        <a:lnTo>
                          <a:pt x="120" y="761"/>
                        </a:lnTo>
                        <a:lnTo>
                          <a:pt x="110" y="761"/>
                        </a:lnTo>
                        <a:lnTo>
                          <a:pt x="105" y="761"/>
                        </a:lnTo>
                        <a:lnTo>
                          <a:pt x="101" y="757"/>
                        </a:lnTo>
                        <a:lnTo>
                          <a:pt x="91" y="757"/>
                        </a:lnTo>
                        <a:lnTo>
                          <a:pt x="86" y="757"/>
                        </a:lnTo>
                        <a:lnTo>
                          <a:pt x="81" y="757"/>
                        </a:lnTo>
                        <a:lnTo>
                          <a:pt x="72" y="752"/>
                        </a:lnTo>
                        <a:lnTo>
                          <a:pt x="72" y="747"/>
                        </a:lnTo>
                        <a:lnTo>
                          <a:pt x="67" y="738"/>
                        </a:lnTo>
                        <a:lnTo>
                          <a:pt x="67" y="733"/>
                        </a:lnTo>
                        <a:lnTo>
                          <a:pt x="62" y="723"/>
                        </a:lnTo>
                        <a:lnTo>
                          <a:pt x="57" y="714"/>
                        </a:lnTo>
                        <a:lnTo>
                          <a:pt x="57" y="709"/>
                        </a:lnTo>
                        <a:lnTo>
                          <a:pt x="53" y="699"/>
                        </a:lnTo>
                        <a:lnTo>
                          <a:pt x="53" y="690"/>
                        </a:lnTo>
                        <a:lnTo>
                          <a:pt x="48" y="685"/>
                        </a:lnTo>
                        <a:lnTo>
                          <a:pt x="48" y="675"/>
                        </a:lnTo>
                        <a:lnTo>
                          <a:pt x="48" y="666"/>
                        </a:lnTo>
                        <a:lnTo>
                          <a:pt x="43" y="661"/>
                        </a:lnTo>
                        <a:lnTo>
                          <a:pt x="43" y="651"/>
                        </a:lnTo>
                        <a:lnTo>
                          <a:pt x="38" y="642"/>
                        </a:lnTo>
                        <a:lnTo>
                          <a:pt x="38" y="632"/>
                        </a:lnTo>
                        <a:lnTo>
                          <a:pt x="38" y="627"/>
                        </a:lnTo>
                        <a:lnTo>
                          <a:pt x="33" y="618"/>
                        </a:lnTo>
                        <a:lnTo>
                          <a:pt x="33" y="608"/>
                        </a:lnTo>
                        <a:lnTo>
                          <a:pt x="29" y="603"/>
                        </a:lnTo>
                        <a:lnTo>
                          <a:pt x="29" y="594"/>
                        </a:lnTo>
                        <a:lnTo>
                          <a:pt x="29" y="584"/>
                        </a:lnTo>
                        <a:lnTo>
                          <a:pt x="24" y="575"/>
                        </a:lnTo>
                        <a:lnTo>
                          <a:pt x="24" y="570"/>
                        </a:lnTo>
                        <a:lnTo>
                          <a:pt x="19" y="560"/>
                        </a:lnTo>
                        <a:lnTo>
                          <a:pt x="19" y="551"/>
                        </a:lnTo>
                        <a:lnTo>
                          <a:pt x="14" y="546"/>
                        </a:lnTo>
                        <a:lnTo>
                          <a:pt x="14" y="536"/>
                        </a:lnTo>
                        <a:lnTo>
                          <a:pt x="9" y="527"/>
                        </a:lnTo>
                        <a:lnTo>
                          <a:pt x="9" y="522"/>
                        </a:lnTo>
                        <a:lnTo>
                          <a:pt x="5" y="512"/>
                        </a:lnTo>
                        <a:lnTo>
                          <a:pt x="5" y="503"/>
                        </a:lnTo>
                        <a:lnTo>
                          <a:pt x="0" y="498"/>
                        </a:lnTo>
                        <a:lnTo>
                          <a:pt x="5" y="503"/>
                        </a:lnTo>
                        <a:lnTo>
                          <a:pt x="5" y="508"/>
                        </a:lnTo>
                        <a:lnTo>
                          <a:pt x="9" y="512"/>
                        </a:lnTo>
                        <a:lnTo>
                          <a:pt x="14" y="517"/>
                        </a:lnTo>
                        <a:lnTo>
                          <a:pt x="14" y="522"/>
                        </a:lnTo>
                        <a:lnTo>
                          <a:pt x="19" y="527"/>
                        </a:lnTo>
                        <a:lnTo>
                          <a:pt x="24" y="532"/>
                        </a:lnTo>
                        <a:lnTo>
                          <a:pt x="29" y="536"/>
                        </a:lnTo>
                        <a:lnTo>
                          <a:pt x="33" y="541"/>
                        </a:lnTo>
                        <a:lnTo>
                          <a:pt x="33" y="546"/>
                        </a:lnTo>
                        <a:lnTo>
                          <a:pt x="38" y="551"/>
                        </a:lnTo>
                        <a:lnTo>
                          <a:pt x="43" y="556"/>
                        </a:lnTo>
                        <a:lnTo>
                          <a:pt x="48" y="560"/>
                        </a:lnTo>
                        <a:lnTo>
                          <a:pt x="53" y="565"/>
                        </a:lnTo>
                        <a:lnTo>
                          <a:pt x="57" y="570"/>
                        </a:lnTo>
                        <a:lnTo>
                          <a:pt x="62" y="575"/>
                        </a:lnTo>
                        <a:lnTo>
                          <a:pt x="67" y="575"/>
                        </a:lnTo>
                        <a:lnTo>
                          <a:pt x="72" y="580"/>
                        </a:lnTo>
                        <a:lnTo>
                          <a:pt x="77" y="584"/>
                        </a:lnTo>
                        <a:lnTo>
                          <a:pt x="81" y="584"/>
                        </a:lnTo>
                        <a:lnTo>
                          <a:pt x="86" y="589"/>
                        </a:lnTo>
                        <a:lnTo>
                          <a:pt x="96" y="594"/>
                        </a:lnTo>
                        <a:lnTo>
                          <a:pt x="101" y="594"/>
                        </a:lnTo>
                        <a:lnTo>
                          <a:pt x="105" y="599"/>
                        </a:lnTo>
                        <a:lnTo>
                          <a:pt x="110" y="599"/>
                        </a:lnTo>
                        <a:lnTo>
                          <a:pt x="115" y="603"/>
                        </a:lnTo>
                        <a:lnTo>
                          <a:pt x="125" y="603"/>
                        </a:lnTo>
                        <a:lnTo>
                          <a:pt x="129" y="603"/>
                        </a:lnTo>
                        <a:lnTo>
                          <a:pt x="134" y="603"/>
                        </a:lnTo>
                        <a:lnTo>
                          <a:pt x="144" y="608"/>
                        </a:lnTo>
                        <a:lnTo>
                          <a:pt x="149" y="608"/>
                        </a:lnTo>
                        <a:lnTo>
                          <a:pt x="153" y="608"/>
                        </a:lnTo>
                        <a:lnTo>
                          <a:pt x="158" y="608"/>
                        </a:lnTo>
                        <a:lnTo>
                          <a:pt x="158" y="613"/>
                        </a:lnTo>
                        <a:lnTo>
                          <a:pt x="163" y="613"/>
                        </a:lnTo>
                        <a:lnTo>
                          <a:pt x="168" y="618"/>
                        </a:lnTo>
                        <a:lnTo>
                          <a:pt x="173" y="618"/>
                        </a:lnTo>
                        <a:lnTo>
                          <a:pt x="173" y="623"/>
                        </a:lnTo>
                        <a:lnTo>
                          <a:pt x="177" y="623"/>
                        </a:lnTo>
                        <a:lnTo>
                          <a:pt x="182" y="627"/>
                        </a:lnTo>
                        <a:lnTo>
                          <a:pt x="187" y="627"/>
                        </a:lnTo>
                        <a:lnTo>
                          <a:pt x="187" y="632"/>
                        </a:lnTo>
                        <a:lnTo>
                          <a:pt x="192" y="632"/>
                        </a:lnTo>
                        <a:lnTo>
                          <a:pt x="197" y="632"/>
                        </a:lnTo>
                        <a:lnTo>
                          <a:pt x="201" y="637"/>
                        </a:lnTo>
                        <a:lnTo>
                          <a:pt x="206" y="637"/>
                        </a:lnTo>
                        <a:lnTo>
                          <a:pt x="211" y="637"/>
                        </a:lnTo>
                        <a:lnTo>
                          <a:pt x="216" y="637"/>
                        </a:lnTo>
                        <a:lnTo>
                          <a:pt x="221" y="637"/>
                        </a:lnTo>
                        <a:lnTo>
                          <a:pt x="225" y="632"/>
                        </a:lnTo>
                        <a:lnTo>
                          <a:pt x="230" y="632"/>
                        </a:lnTo>
                        <a:lnTo>
                          <a:pt x="235" y="632"/>
                        </a:lnTo>
                        <a:lnTo>
                          <a:pt x="240" y="632"/>
                        </a:lnTo>
                        <a:lnTo>
                          <a:pt x="245" y="627"/>
                        </a:lnTo>
                        <a:lnTo>
                          <a:pt x="249" y="627"/>
                        </a:lnTo>
                        <a:lnTo>
                          <a:pt x="254" y="627"/>
                        </a:lnTo>
                        <a:lnTo>
                          <a:pt x="254" y="623"/>
                        </a:lnTo>
                        <a:lnTo>
                          <a:pt x="259" y="623"/>
                        </a:lnTo>
                        <a:lnTo>
                          <a:pt x="264" y="618"/>
                        </a:lnTo>
                        <a:lnTo>
                          <a:pt x="268" y="618"/>
                        </a:lnTo>
                        <a:lnTo>
                          <a:pt x="268" y="613"/>
                        </a:lnTo>
                        <a:lnTo>
                          <a:pt x="273" y="613"/>
                        </a:lnTo>
                        <a:lnTo>
                          <a:pt x="273" y="608"/>
                        </a:lnTo>
                        <a:lnTo>
                          <a:pt x="278" y="603"/>
                        </a:lnTo>
                        <a:lnTo>
                          <a:pt x="278" y="599"/>
                        </a:lnTo>
                        <a:lnTo>
                          <a:pt x="283" y="599"/>
                        </a:lnTo>
                        <a:lnTo>
                          <a:pt x="283" y="594"/>
                        </a:lnTo>
                        <a:lnTo>
                          <a:pt x="288" y="594"/>
                        </a:lnTo>
                        <a:lnTo>
                          <a:pt x="292" y="594"/>
                        </a:lnTo>
                        <a:lnTo>
                          <a:pt x="297" y="594"/>
                        </a:lnTo>
                        <a:lnTo>
                          <a:pt x="302" y="594"/>
                        </a:lnTo>
                        <a:lnTo>
                          <a:pt x="307" y="594"/>
                        </a:lnTo>
                        <a:lnTo>
                          <a:pt x="312" y="594"/>
                        </a:lnTo>
                        <a:lnTo>
                          <a:pt x="316" y="594"/>
                        </a:lnTo>
                        <a:lnTo>
                          <a:pt x="321" y="594"/>
                        </a:lnTo>
                        <a:lnTo>
                          <a:pt x="326" y="594"/>
                        </a:lnTo>
                        <a:lnTo>
                          <a:pt x="331" y="594"/>
                        </a:lnTo>
                        <a:lnTo>
                          <a:pt x="331" y="589"/>
                        </a:lnTo>
                        <a:lnTo>
                          <a:pt x="336" y="589"/>
                        </a:lnTo>
                        <a:lnTo>
                          <a:pt x="336" y="584"/>
                        </a:lnTo>
                        <a:lnTo>
                          <a:pt x="336" y="580"/>
                        </a:lnTo>
                        <a:lnTo>
                          <a:pt x="340" y="575"/>
                        </a:lnTo>
                        <a:lnTo>
                          <a:pt x="340" y="570"/>
                        </a:lnTo>
                        <a:lnTo>
                          <a:pt x="345" y="565"/>
                        </a:lnTo>
                        <a:lnTo>
                          <a:pt x="350" y="565"/>
                        </a:lnTo>
                        <a:lnTo>
                          <a:pt x="355" y="565"/>
                        </a:lnTo>
                        <a:lnTo>
                          <a:pt x="355" y="560"/>
                        </a:lnTo>
                        <a:lnTo>
                          <a:pt x="360" y="560"/>
                        </a:lnTo>
                        <a:lnTo>
                          <a:pt x="364" y="560"/>
                        </a:lnTo>
                        <a:lnTo>
                          <a:pt x="369" y="560"/>
                        </a:lnTo>
                        <a:lnTo>
                          <a:pt x="374" y="560"/>
                        </a:lnTo>
                        <a:lnTo>
                          <a:pt x="379" y="560"/>
                        </a:lnTo>
                        <a:lnTo>
                          <a:pt x="384" y="560"/>
                        </a:lnTo>
                        <a:lnTo>
                          <a:pt x="388" y="556"/>
                        </a:lnTo>
                        <a:lnTo>
                          <a:pt x="393" y="556"/>
                        </a:lnTo>
                        <a:lnTo>
                          <a:pt x="398" y="556"/>
                        </a:lnTo>
                        <a:lnTo>
                          <a:pt x="403" y="556"/>
                        </a:lnTo>
                        <a:lnTo>
                          <a:pt x="408" y="551"/>
                        </a:lnTo>
                        <a:lnTo>
                          <a:pt x="412" y="546"/>
                        </a:lnTo>
                        <a:lnTo>
                          <a:pt x="417" y="541"/>
                        </a:lnTo>
                        <a:lnTo>
                          <a:pt x="417" y="536"/>
                        </a:lnTo>
                        <a:lnTo>
                          <a:pt x="422" y="536"/>
                        </a:lnTo>
                        <a:lnTo>
                          <a:pt x="422" y="532"/>
                        </a:lnTo>
                        <a:lnTo>
                          <a:pt x="427" y="527"/>
                        </a:lnTo>
                        <a:lnTo>
                          <a:pt x="427" y="522"/>
                        </a:lnTo>
                        <a:lnTo>
                          <a:pt x="432" y="522"/>
                        </a:lnTo>
                        <a:lnTo>
                          <a:pt x="432" y="517"/>
                        </a:lnTo>
                        <a:lnTo>
                          <a:pt x="432" y="512"/>
                        </a:lnTo>
                        <a:lnTo>
                          <a:pt x="436" y="512"/>
                        </a:lnTo>
                        <a:lnTo>
                          <a:pt x="436" y="508"/>
                        </a:lnTo>
                        <a:lnTo>
                          <a:pt x="436" y="503"/>
                        </a:lnTo>
                        <a:lnTo>
                          <a:pt x="441" y="498"/>
                        </a:lnTo>
                        <a:lnTo>
                          <a:pt x="441" y="493"/>
                        </a:lnTo>
                        <a:lnTo>
                          <a:pt x="441" y="489"/>
                        </a:lnTo>
                        <a:lnTo>
                          <a:pt x="441" y="484"/>
                        </a:lnTo>
                        <a:lnTo>
                          <a:pt x="441" y="479"/>
                        </a:lnTo>
                        <a:lnTo>
                          <a:pt x="441" y="474"/>
                        </a:lnTo>
                        <a:lnTo>
                          <a:pt x="436" y="469"/>
                        </a:lnTo>
                        <a:lnTo>
                          <a:pt x="436" y="460"/>
                        </a:lnTo>
                        <a:lnTo>
                          <a:pt x="436" y="455"/>
                        </a:lnTo>
                        <a:lnTo>
                          <a:pt x="436" y="450"/>
                        </a:lnTo>
                        <a:lnTo>
                          <a:pt x="436" y="445"/>
                        </a:lnTo>
                        <a:lnTo>
                          <a:pt x="436" y="436"/>
                        </a:lnTo>
                        <a:lnTo>
                          <a:pt x="436" y="431"/>
                        </a:lnTo>
                        <a:lnTo>
                          <a:pt x="432" y="426"/>
                        </a:lnTo>
                        <a:lnTo>
                          <a:pt x="432" y="422"/>
                        </a:lnTo>
                        <a:lnTo>
                          <a:pt x="432" y="417"/>
                        </a:lnTo>
                        <a:lnTo>
                          <a:pt x="432" y="407"/>
                        </a:lnTo>
                        <a:lnTo>
                          <a:pt x="427" y="402"/>
                        </a:lnTo>
                        <a:lnTo>
                          <a:pt x="427" y="398"/>
                        </a:lnTo>
                        <a:lnTo>
                          <a:pt x="427" y="393"/>
                        </a:lnTo>
                        <a:lnTo>
                          <a:pt x="422" y="388"/>
                        </a:lnTo>
                        <a:lnTo>
                          <a:pt x="422" y="378"/>
                        </a:lnTo>
                        <a:lnTo>
                          <a:pt x="422" y="374"/>
                        </a:lnTo>
                        <a:lnTo>
                          <a:pt x="417" y="369"/>
                        </a:lnTo>
                        <a:lnTo>
                          <a:pt x="417" y="364"/>
                        </a:lnTo>
                        <a:lnTo>
                          <a:pt x="412" y="359"/>
                        </a:lnTo>
                        <a:lnTo>
                          <a:pt x="412" y="350"/>
                        </a:lnTo>
                        <a:lnTo>
                          <a:pt x="412" y="345"/>
                        </a:lnTo>
                        <a:lnTo>
                          <a:pt x="408" y="340"/>
                        </a:lnTo>
                        <a:lnTo>
                          <a:pt x="408" y="335"/>
                        </a:lnTo>
                        <a:lnTo>
                          <a:pt x="408" y="331"/>
                        </a:lnTo>
                        <a:lnTo>
                          <a:pt x="403" y="326"/>
                        </a:lnTo>
                        <a:lnTo>
                          <a:pt x="403" y="316"/>
                        </a:lnTo>
                        <a:lnTo>
                          <a:pt x="398" y="311"/>
                        </a:lnTo>
                        <a:lnTo>
                          <a:pt x="398" y="307"/>
                        </a:lnTo>
                        <a:lnTo>
                          <a:pt x="398" y="302"/>
                        </a:lnTo>
                        <a:lnTo>
                          <a:pt x="393" y="297"/>
                        </a:lnTo>
                        <a:lnTo>
                          <a:pt x="393" y="287"/>
                        </a:lnTo>
                        <a:lnTo>
                          <a:pt x="393" y="283"/>
                        </a:lnTo>
                        <a:lnTo>
                          <a:pt x="398" y="278"/>
                        </a:lnTo>
                        <a:lnTo>
                          <a:pt x="403" y="268"/>
                        </a:lnTo>
                        <a:lnTo>
                          <a:pt x="408" y="259"/>
                        </a:lnTo>
                        <a:lnTo>
                          <a:pt x="412" y="249"/>
                        </a:lnTo>
                        <a:lnTo>
                          <a:pt x="417" y="244"/>
                        </a:lnTo>
                        <a:lnTo>
                          <a:pt x="422" y="235"/>
                        </a:lnTo>
                        <a:lnTo>
                          <a:pt x="427" y="225"/>
                        </a:lnTo>
                        <a:lnTo>
                          <a:pt x="432" y="220"/>
                        </a:lnTo>
                        <a:lnTo>
                          <a:pt x="436" y="211"/>
                        </a:lnTo>
                        <a:lnTo>
                          <a:pt x="441" y="201"/>
                        </a:lnTo>
                        <a:lnTo>
                          <a:pt x="451" y="192"/>
                        </a:lnTo>
                        <a:lnTo>
                          <a:pt x="456" y="187"/>
                        </a:lnTo>
                        <a:lnTo>
                          <a:pt x="460" y="177"/>
                        </a:lnTo>
                        <a:lnTo>
                          <a:pt x="465" y="168"/>
                        </a:lnTo>
                        <a:lnTo>
                          <a:pt x="470" y="158"/>
                        </a:lnTo>
                        <a:lnTo>
                          <a:pt x="475" y="153"/>
                        </a:lnTo>
                        <a:lnTo>
                          <a:pt x="480" y="144"/>
                        </a:lnTo>
                        <a:lnTo>
                          <a:pt x="484" y="134"/>
                        </a:lnTo>
                        <a:lnTo>
                          <a:pt x="484" y="125"/>
                        </a:lnTo>
                        <a:lnTo>
                          <a:pt x="489" y="115"/>
                        </a:lnTo>
                        <a:lnTo>
                          <a:pt x="494" y="105"/>
                        </a:lnTo>
                        <a:lnTo>
                          <a:pt x="499" y="96"/>
                        </a:lnTo>
                        <a:lnTo>
                          <a:pt x="499" y="91"/>
                        </a:lnTo>
                        <a:lnTo>
                          <a:pt x="504" y="82"/>
                        </a:lnTo>
                        <a:lnTo>
                          <a:pt x="508" y="72"/>
                        </a:lnTo>
                        <a:lnTo>
                          <a:pt x="508" y="62"/>
                        </a:lnTo>
                        <a:lnTo>
                          <a:pt x="508" y="53"/>
                        </a:lnTo>
                        <a:lnTo>
                          <a:pt x="513" y="43"/>
                        </a:lnTo>
                        <a:lnTo>
                          <a:pt x="513" y="34"/>
                        </a:lnTo>
                        <a:lnTo>
                          <a:pt x="513" y="19"/>
                        </a:lnTo>
                        <a:lnTo>
                          <a:pt x="513" y="10"/>
                        </a:lnTo>
                        <a:lnTo>
                          <a:pt x="513" y="0"/>
                        </a:lnTo>
                        <a:lnTo>
                          <a:pt x="518" y="0"/>
                        </a:lnTo>
                        <a:lnTo>
                          <a:pt x="523" y="0"/>
                        </a:lnTo>
                        <a:lnTo>
                          <a:pt x="528" y="0"/>
                        </a:lnTo>
                        <a:lnTo>
                          <a:pt x="532" y="0"/>
                        </a:lnTo>
                        <a:lnTo>
                          <a:pt x="537" y="0"/>
                        </a:lnTo>
                        <a:lnTo>
                          <a:pt x="542" y="0"/>
                        </a:lnTo>
                        <a:lnTo>
                          <a:pt x="547" y="0"/>
                        </a:lnTo>
                        <a:lnTo>
                          <a:pt x="552" y="0"/>
                        </a:lnTo>
                        <a:lnTo>
                          <a:pt x="556" y="0"/>
                        </a:lnTo>
                        <a:lnTo>
                          <a:pt x="561" y="0"/>
                        </a:lnTo>
                        <a:lnTo>
                          <a:pt x="566" y="0"/>
                        </a:lnTo>
                        <a:lnTo>
                          <a:pt x="571" y="0"/>
                        </a:lnTo>
                        <a:lnTo>
                          <a:pt x="576" y="0"/>
                        </a:lnTo>
                        <a:lnTo>
                          <a:pt x="580" y="0"/>
                        </a:lnTo>
                        <a:lnTo>
                          <a:pt x="580" y="5"/>
                        </a:lnTo>
                        <a:lnTo>
                          <a:pt x="585" y="5"/>
                        </a:lnTo>
                        <a:lnTo>
                          <a:pt x="590" y="5"/>
                        </a:lnTo>
                        <a:lnTo>
                          <a:pt x="595" y="5"/>
                        </a:lnTo>
                        <a:lnTo>
                          <a:pt x="599" y="5"/>
                        </a:lnTo>
                        <a:lnTo>
                          <a:pt x="604" y="10"/>
                        </a:lnTo>
                        <a:lnTo>
                          <a:pt x="609" y="10"/>
                        </a:lnTo>
                        <a:lnTo>
                          <a:pt x="614" y="10"/>
                        </a:lnTo>
                        <a:lnTo>
                          <a:pt x="619" y="15"/>
                        </a:lnTo>
                        <a:lnTo>
                          <a:pt x="623" y="15"/>
                        </a:lnTo>
                        <a:lnTo>
                          <a:pt x="628" y="15"/>
                        </a:lnTo>
                        <a:lnTo>
                          <a:pt x="633" y="19"/>
                        </a:lnTo>
                        <a:close/>
                      </a:path>
                    </a:pathLst>
                  </a:custGeom>
                  <a:solidFill>
                    <a:srgbClr val="ffd9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5" name=""/>
                  <p:cNvSpPr/>
                  <p:nvPr/>
                </p:nvSpPr>
                <p:spPr>
                  <a:xfrm flipH="1">
                    <a:off x="4200840" y="4773960"/>
                    <a:ext cx="87120" cy="36720"/>
                  </a:xfrm>
                  <a:custGeom>
                    <a:avLst/>
                    <a:gdLst/>
                    <a:ahLst/>
                    <a:rect l="l" t="t" r="r" b="b"/>
                    <a:pathLst>
                      <a:path w="514" h="225">
                        <a:moveTo>
                          <a:pt x="514" y="24"/>
                        </a:moveTo>
                        <a:lnTo>
                          <a:pt x="509" y="34"/>
                        </a:lnTo>
                        <a:lnTo>
                          <a:pt x="504" y="39"/>
                        </a:lnTo>
                        <a:lnTo>
                          <a:pt x="499" y="48"/>
                        </a:lnTo>
                        <a:lnTo>
                          <a:pt x="495" y="53"/>
                        </a:lnTo>
                        <a:lnTo>
                          <a:pt x="485" y="63"/>
                        </a:lnTo>
                        <a:lnTo>
                          <a:pt x="480" y="72"/>
                        </a:lnTo>
                        <a:lnTo>
                          <a:pt x="475" y="77"/>
                        </a:lnTo>
                        <a:lnTo>
                          <a:pt x="466" y="82"/>
                        </a:lnTo>
                        <a:lnTo>
                          <a:pt x="461" y="91"/>
                        </a:lnTo>
                        <a:lnTo>
                          <a:pt x="451" y="96"/>
                        </a:lnTo>
                        <a:lnTo>
                          <a:pt x="447" y="101"/>
                        </a:lnTo>
                        <a:lnTo>
                          <a:pt x="437" y="106"/>
                        </a:lnTo>
                        <a:lnTo>
                          <a:pt x="432" y="115"/>
                        </a:lnTo>
                        <a:lnTo>
                          <a:pt x="423" y="120"/>
                        </a:lnTo>
                        <a:lnTo>
                          <a:pt x="418" y="125"/>
                        </a:lnTo>
                        <a:lnTo>
                          <a:pt x="408" y="130"/>
                        </a:lnTo>
                        <a:lnTo>
                          <a:pt x="399" y="135"/>
                        </a:lnTo>
                        <a:lnTo>
                          <a:pt x="389" y="139"/>
                        </a:lnTo>
                        <a:lnTo>
                          <a:pt x="384" y="144"/>
                        </a:lnTo>
                        <a:lnTo>
                          <a:pt x="375" y="149"/>
                        </a:lnTo>
                        <a:lnTo>
                          <a:pt x="365" y="154"/>
                        </a:lnTo>
                        <a:lnTo>
                          <a:pt x="355" y="154"/>
                        </a:lnTo>
                        <a:lnTo>
                          <a:pt x="351" y="158"/>
                        </a:lnTo>
                        <a:lnTo>
                          <a:pt x="341" y="163"/>
                        </a:lnTo>
                        <a:lnTo>
                          <a:pt x="331" y="168"/>
                        </a:lnTo>
                        <a:lnTo>
                          <a:pt x="322" y="173"/>
                        </a:lnTo>
                        <a:lnTo>
                          <a:pt x="317" y="173"/>
                        </a:lnTo>
                        <a:lnTo>
                          <a:pt x="307" y="178"/>
                        </a:lnTo>
                        <a:lnTo>
                          <a:pt x="298" y="182"/>
                        </a:lnTo>
                        <a:lnTo>
                          <a:pt x="288" y="182"/>
                        </a:lnTo>
                        <a:lnTo>
                          <a:pt x="284" y="187"/>
                        </a:lnTo>
                        <a:lnTo>
                          <a:pt x="274" y="192"/>
                        </a:lnTo>
                        <a:lnTo>
                          <a:pt x="269" y="192"/>
                        </a:lnTo>
                        <a:lnTo>
                          <a:pt x="260" y="197"/>
                        </a:lnTo>
                        <a:lnTo>
                          <a:pt x="255" y="197"/>
                        </a:lnTo>
                        <a:lnTo>
                          <a:pt x="250" y="197"/>
                        </a:lnTo>
                        <a:lnTo>
                          <a:pt x="240" y="202"/>
                        </a:lnTo>
                        <a:lnTo>
                          <a:pt x="236" y="202"/>
                        </a:lnTo>
                        <a:lnTo>
                          <a:pt x="231" y="206"/>
                        </a:lnTo>
                        <a:lnTo>
                          <a:pt x="221" y="206"/>
                        </a:lnTo>
                        <a:lnTo>
                          <a:pt x="216" y="211"/>
                        </a:lnTo>
                        <a:lnTo>
                          <a:pt x="212" y="211"/>
                        </a:lnTo>
                        <a:lnTo>
                          <a:pt x="202" y="211"/>
                        </a:lnTo>
                        <a:lnTo>
                          <a:pt x="197" y="216"/>
                        </a:lnTo>
                        <a:lnTo>
                          <a:pt x="188" y="216"/>
                        </a:lnTo>
                        <a:lnTo>
                          <a:pt x="183" y="216"/>
                        </a:lnTo>
                        <a:lnTo>
                          <a:pt x="178" y="216"/>
                        </a:lnTo>
                        <a:lnTo>
                          <a:pt x="168" y="221"/>
                        </a:lnTo>
                        <a:lnTo>
                          <a:pt x="164" y="221"/>
                        </a:lnTo>
                        <a:lnTo>
                          <a:pt x="159" y="221"/>
                        </a:lnTo>
                        <a:lnTo>
                          <a:pt x="149" y="221"/>
                        </a:lnTo>
                        <a:lnTo>
                          <a:pt x="144" y="225"/>
                        </a:lnTo>
                        <a:lnTo>
                          <a:pt x="135" y="225"/>
                        </a:lnTo>
                        <a:lnTo>
                          <a:pt x="130" y="225"/>
                        </a:lnTo>
                        <a:lnTo>
                          <a:pt x="125" y="225"/>
                        </a:lnTo>
                        <a:lnTo>
                          <a:pt x="116" y="225"/>
                        </a:lnTo>
                        <a:lnTo>
                          <a:pt x="111" y="225"/>
                        </a:lnTo>
                        <a:lnTo>
                          <a:pt x="101" y="225"/>
                        </a:lnTo>
                        <a:lnTo>
                          <a:pt x="96" y="225"/>
                        </a:lnTo>
                        <a:lnTo>
                          <a:pt x="92" y="225"/>
                        </a:lnTo>
                        <a:lnTo>
                          <a:pt x="82" y="225"/>
                        </a:lnTo>
                        <a:lnTo>
                          <a:pt x="77" y="225"/>
                        </a:lnTo>
                        <a:lnTo>
                          <a:pt x="68" y="225"/>
                        </a:lnTo>
                        <a:lnTo>
                          <a:pt x="63" y="225"/>
                        </a:lnTo>
                        <a:lnTo>
                          <a:pt x="58" y="225"/>
                        </a:lnTo>
                        <a:lnTo>
                          <a:pt x="53" y="225"/>
                        </a:lnTo>
                        <a:lnTo>
                          <a:pt x="53" y="221"/>
                        </a:lnTo>
                        <a:lnTo>
                          <a:pt x="48" y="221"/>
                        </a:lnTo>
                        <a:lnTo>
                          <a:pt x="44" y="221"/>
                        </a:lnTo>
                        <a:lnTo>
                          <a:pt x="44" y="216"/>
                        </a:lnTo>
                        <a:lnTo>
                          <a:pt x="39" y="216"/>
                        </a:lnTo>
                        <a:lnTo>
                          <a:pt x="34" y="216"/>
                        </a:lnTo>
                        <a:lnTo>
                          <a:pt x="29" y="216"/>
                        </a:lnTo>
                        <a:lnTo>
                          <a:pt x="29" y="211"/>
                        </a:lnTo>
                        <a:lnTo>
                          <a:pt x="24" y="211"/>
                        </a:lnTo>
                        <a:lnTo>
                          <a:pt x="20" y="211"/>
                        </a:lnTo>
                        <a:lnTo>
                          <a:pt x="15" y="211"/>
                        </a:lnTo>
                        <a:lnTo>
                          <a:pt x="15" y="206"/>
                        </a:lnTo>
                        <a:lnTo>
                          <a:pt x="10" y="206"/>
                        </a:lnTo>
                        <a:lnTo>
                          <a:pt x="5" y="206"/>
                        </a:lnTo>
                        <a:lnTo>
                          <a:pt x="5" y="202"/>
                        </a:lnTo>
                        <a:lnTo>
                          <a:pt x="0" y="202"/>
                        </a:lnTo>
                        <a:lnTo>
                          <a:pt x="15" y="197"/>
                        </a:lnTo>
                        <a:lnTo>
                          <a:pt x="34" y="192"/>
                        </a:lnTo>
                        <a:lnTo>
                          <a:pt x="48" y="192"/>
                        </a:lnTo>
                        <a:lnTo>
                          <a:pt x="68" y="187"/>
                        </a:lnTo>
                        <a:lnTo>
                          <a:pt x="82" y="182"/>
                        </a:lnTo>
                        <a:lnTo>
                          <a:pt x="101" y="178"/>
                        </a:lnTo>
                        <a:lnTo>
                          <a:pt x="116" y="173"/>
                        </a:lnTo>
                        <a:lnTo>
                          <a:pt x="135" y="173"/>
                        </a:lnTo>
                        <a:lnTo>
                          <a:pt x="149" y="168"/>
                        </a:lnTo>
                        <a:lnTo>
                          <a:pt x="168" y="163"/>
                        </a:lnTo>
                        <a:lnTo>
                          <a:pt x="183" y="158"/>
                        </a:lnTo>
                        <a:lnTo>
                          <a:pt x="202" y="154"/>
                        </a:lnTo>
                        <a:lnTo>
                          <a:pt x="216" y="149"/>
                        </a:lnTo>
                        <a:lnTo>
                          <a:pt x="231" y="144"/>
                        </a:lnTo>
                        <a:lnTo>
                          <a:pt x="250" y="139"/>
                        </a:lnTo>
                        <a:lnTo>
                          <a:pt x="264" y="135"/>
                        </a:lnTo>
                        <a:lnTo>
                          <a:pt x="284" y="130"/>
                        </a:lnTo>
                        <a:lnTo>
                          <a:pt x="298" y="125"/>
                        </a:lnTo>
                        <a:lnTo>
                          <a:pt x="312" y="115"/>
                        </a:lnTo>
                        <a:lnTo>
                          <a:pt x="327" y="111"/>
                        </a:lnTo>
                        <a:lnTo>
                          <a:pt x="341" y="106"/>
                        </a:lnTo>
                        <a:lnTo>
                          <a:pt x="360" y="96"/>
                        </a:lnTo>
                        <a:lnTo>
                          <a:pt x="375" y="91"/>
                        </a:lnTo>
                        <a:lnTo>
                          <a:pt x="389" y="82"/>
                        </a:lnTo>
                        <a:lnTo>
                          <a:pt x="403" y="72"/>
                        </a:lnTo>
                        <a:lnTo>
                          <a:pt x="418" y="63"/>
                        </a:lnTo>
                        <a:lnTo>
                          <a:pt x="432" y="53"/>
                        </a:lnTo>
                        <a:lnTo>
                          <a:pt x="447" y="44"/>
                        </a:lnTo>
                        <a:lnTo>
                          <a:pt x="461" y="34"/>
                        </a:lnTo>
                        <a:lnTo>
                          <a:pt x="471" y="24"/>
                        </a:lnTo>
                        <a:lnTo>
                          <a:pt x="485" y="10"/>
                        </a:lnTo>
                        <a:lnTo>
                          <a:pt x="499" y="0"/>
                        </a:lnTo>
                        <a:lnTo>
                          <a:pt x="514" y="24"/>
                        </a:lnTo>
                        <a:close/>
                      </a:path>
                    </a:pathLst>
                  </a:custGeom>
                  <a:solidFill>
                    <a:srgbClr val="d9e86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6" name=""/>
                  <p:cNvSpPr/>
                  <p:nvPr/>
                </p:nvSpPr>
                <p:spPr>
                  <a:xfrm flipH="1">
                    <a:off x="4185000" y="4788000"/>
                    <a:ext cx="86760" cy="167040"/>
                  </a:xfrm>
                  <a:custGeom>
                    <a:avLst/>
                    <a:gdLst/>
                    <a:ahLst/>
                    <a:rect l="l" t="t" r="r" b="b"/>
                    <a:pathLst>
                      <a:path w="513" h="1020">
                        <a:moveTo>
                          <a:pt x="479" y="766"/>
                        </a:moveTo>
                        <a:lnTo>
                          <a:pt x="479" y="771"/>
                        </a:lnTo>
                        <a:lnTo>
                          <a:pt x="475" y="775"/>
                        </a:lnTo>
                        <a:lnTo>
                          <a:pt x="475" y="780"/>
                        </a:lnTo>
                        <a:lnTo>
                          <a:pt x="470" y="785"/>
                        </a:lnTo>
                        <a:lnTo>
                          <a:pt x="470" y="790"/>
                        </a:lnTo>
                        <a:lnTo>
                          <a:pt x="465" y="794"/>
                        </a:lnTo>
                        <a:lnTo>
                          <a:pt x="465" y="799"/>
                        </a:lnTo>
                        <a:lnTo>
                          <a:pt x="460" y="804"/>
                        </a:lnTo>
                        <a:lnTo>
                          <a:pt x="460" y="809"/>
                        </a:lnTo>
                        <a:lnTo>
                          <a:pt x="455" y="814"/>
                        </a:lnTo>
                        <a:lnTo>
                          <a:pt x="451" y="818"/>
                        </a:lnTo>
                        <a:lnTo>
                          <a:pt x="451" y="823"/>
                        </a:lnTo>
                        <a:lnTo>
                          <a:pt x="446" y="828"/>
                        </a:lnTo>
                        <a:lnTo>
                          <a:pt x="446" y="833"/>
                        </a:lnTo>
                        <a:lnTo>
                          <a:pt x="441" y="838"/>
                        </a:lnTo>
                        <a:lnTo>
                          <a:pt x="436" y="842"/>
                        </a:lnTo>
                        <a:lnTo>
                          <a:pt x="436" y="847"/>
                        </a:lnTo>
                        <a:lnTo>
                          <a:pt x="431" y="847"/>
                        </a:lnTo>
                        <a:lnTo>
                          <a:pt x="427" y="852"/>
                        </a:lnTo>
                        <a:lnTo>
                          <a:pt x="427" y="857"/>
                        </a:lnTo>
                        <a:lnTo>
                          <a:pt x="422" y="862"/>
                        </a:lnTo>
                        <a:lnTo>
                          <a:pt x="417" y="866"/>
                        </a:lnTo>
                        <a:lnTo>
                          <a:pt x="412" y="871"/>
                        </a:lnTo>
                        <a:lnTo>
                          <a:pt x="407" y="876"/>
                        </a:lnTo>
                        <a:lnTo>
                          <a:pt x="407" y="881"/>
                        </a:lnTo>
                        <a:lnTo>
                          <a:pt x="403" y="881"/>
                        </a:lnTo>
                        <a:lnTo>
                          <a:pt x="398" y="885"/>
                        </a:lnTo>
                        <a:lnTo>
                          <a:pt x="393" y="890"/>
                        </a:lnTo>
                        <a:lnTo>
                          <a:pt x="388" y="890"/>
                        </a:lnTo>
                        <a:lnTo>
                          <a:pt x="388" y="895"/>
                        </a:lnTo>
                        <a:lnTo>
                          <a:pt x="379" y="900"/>
                        </a:lnTo>
                        <a:lnTo>
                          <a:pt x="369" y="905"/>
                        </a:lnTo>
                        <a:lnTo>
                          <a:pt x="364" y="914"/>
                        </a:lnTo>
                        <a:lnTo>
                          <a:pt x="355" y="919"/>
                        </a:lnTo>
                        <a:lnTo>
                          <a:pt x="350" y="924"/>
                        </a:lnTo>
                        <a:lnTo>
                          <a:pt x="340" y="929"/>
                        </a:lnTo>
                        <a:lnTo>
                          <a:pt x="335" y="933"/>
                        </a:lnTo>
                        <a:lnTo>
                          <a:pt x="326" y="938"/>
                        </a:lnTo>
                        <a:lnTo>
                          <a:pt x="321" y="943"/>
                        </a:lnTo>
                        <a:lnTo>
                          <a:pt x="311" y="948"/>
                        </a:lnTo>
                        <a:lnTo>
                          <a:pt x="302" y="952"/>
                        </a:lnTo>
                        <a:lnTo>
                          <a:pt x="297" y="957"/>
                        </a:lnTo>
                        <a:lnTo>
                          <a:pt x="287" y="962"/>
                        </a:lnTo>
                        <a:lnTo>
                          <a:pt x="283" y="967"/>
                        </a:lnTo>
                        <a:lnTo>
                          <a:pt x="273" y="972"/>
                        </a:lnTo>
                        <a:lnTo>
                          <a:pt x="268" y="972"/>
                        </a:lnTo>
                        <a:lnTo>
                          <a:pt x="259" y="976"/>
                        </a:lnTo>
                        <a:lnTo>
                          <a:pt x="249" y="981"/>
                        </a:lnTo>
                        <a:lnTo>
                          <a:pt x="244" y="986"/>
                        </a:lnTo>
                        <a:lnTo>
                          <a:pt x="235" y="986"/>
                        </a:lnTo>
                        <a:lnTo>
                          <a:pt x="225" y="991"/>
                        </a:lnTo>
                        <a:lnTo>
                          <a:pt x="220" y="996"/>
                        </a:lnTo>
                        <a:lnTo>
                          <a:pt x="211" y="996"/>
                        </a:lnTo>
                        <a:lnTo>
                          <a:pt x="201" y="1000"/>
                        </a:lnTo>
                        <a:lnTo>
                          <a:pt x="192" y="1005"/>
                        </a:lnTo>
                        <a:lnTo>
                          <a:pt x="187" y="1005"/>
                        </a:lnTo>
                        <a:lnTo>
                          <a:pt x="177" y="1010"/>
                        </a:lnTo>
                        <a:lnTo>
                          <a:pt x="168" y="1010"/>
                        </a:lnTo>
                        <a:lnTo>
                          <a:pt x="158" y="1015"/>
                        </a:lnTo>
                        <a:lnTo>
                          <a:pt x="148" y="1015"/>
                        </a:lnTo>
                        <a:lnTo>
                          <a:pt x="139" y="1015"/>
                        </a:lnTo>
                        <a:lnTo>
                          <a:pt x="129" y="1020"/>
                        </a:lnTo>
                        <a:lnTo>
                          <a:pt x="129" y="1010"/>
                        </a:lnTo>
                        <a:lnTo>
                          <a:pt x="129" y="1005"/>
                        </a:lnTo>
                        <a:lnTo>
                          <a:pt x="124" y="1000"/>
                        </a:lnTo>
                        <a:lnTo>
                          <a:pt x="124" y="996"/>
                        </a:lnTo>
                        <a:lnTo>
                          <a:pt x="124" y="986"/>
                        </a:lnTo>
                        <a:lnTo>
                          <a:pt x="120" y="981"/>
                        </a:lnTo>
                        <a:lnTo>
                          <a:pt x="120" y="976"/>
                        </a:lnTo>
                        <a:lnTo>
                          <a:pt x="115" y="972"/>
                        </a:lnTo>
                        <a:lnTo>
                          <a:pt x="115" y="962"/>
                        </a:lnTo>
                        <a:lnTo>
                          <a:pt x="110" y="957"/>
                        </a:lnTo>
                        <a:lnTo>
                          <a:pt x="110" y="952"/>
                        </a:lnTo>
                        <a:lnTo>
                          <a:pt x="105" y="948"/>
                        </a:lnTo>
                        <a:lnTo>
                          <a:pt x="105" y="943"/>
                        </a:lnTo>
                        <a:lnTo>
                          <a:pt x="100" y="933"/>
                        </a:lnTo>
                        <a:lnTo>
                          <a:pt x="100" y="929"/>
                        </a:lnTo>
                        <a:lnTo>
                          <a:pt x="96" y="924"/>
                        </a:lnTo>
                        <a:lnTo>
                          <a:pt x="96" y="919"/>
                        </a:lnTo>
                        <a:lnTo>
                          <a:pt x="91" y="914"/>
                        </a:lnTo>
                        <a:lnTo>
                          <a:pt x="91" y="905"/>
                        </a:lnTo>
                        <a:lnTo>
                          <a:pt x="86" y="900"/>
                        </a:lnTo>
                        <a:lnTo>
                          <a:pt x="86" y="895"/>
                        </a:lnTo>
                        <a:lnTo>
                          <a:pt x="81" y="890"/>
                        </a:lnTo>
                        <a:lnTo>
                          <a:pt x="81" y="885"/>
                        </a:lnTo>
                        <a:lnTo>
                          <a:pt x="76" y="876"/>
                        </a:lnTo>
                        <a:lnTo>
                          <a:pt x="76" y="871"/>
                        </a:lnTo>
                        <a:lnTo>
                          <a:pt x="72" y="866"/>
                        </a:lnTo>
                        <a:lnTo>
                          <a:pt x="72" y="862"/>
                        </a:lnTo>
                        <a:lnTo>
                          <a:pt x="72" y="857"/>
                        </a:lnTo>
                        <a:lnTo>
                          <a:pt x="67" y="847"/>
                        </a:lnTo>
                        <a:lnTo>
                          <a:pt x="67" y="842"/>
                        </a:lnTo>
                        <a:lnTo>
                          <a:pt x="62" y="838"/>
                        </a:lnTo>
                        <a:lnTo>
                          <a:pt x="62" y="828"/>
                        </a:lnTo>
                        <a:lnTo>
                          <a:pt x="72" y="818"/>
                        </a:lnTo>
                        <a:lnTo>
                          <a:pt x="76" y="804"/>
                        </a:lnTo>
                        <a:lnTo>
                          <a:pt x="86" y="790"/>
                        </a:lnTo>
                        <a:lnTo>
                          <a:pt x="91" y="771"/>
                        </a:lnTo>
                        <a:lnTo>
                          <a:pt x="96" y="756"/>
                        </a:lnTo>
                        <a:lnTo>
                          <a:pt x="100" y="742"/>
                        </a:lnTo>
                        <a:lnTo>
                          <a:pt x="105" y="727"/>
                        </a:lnTo>
                        <a:lnTo>
                          <a:pt x="110" y="708"/>
                        </a:lnTo>
                        <a:lnTo>
                          <a:pt x="110" y="694"/>
                        </a:lnTo>
                        <a:lnTo>
                          <a:pt x="115" y="680"/>
                        </a:lnTo>
                        <a:lnTo>
                          <a:pt x="115" y="660"/>
                        </a:lnTo>
                        <a:lnTo>
                          <a:pt x="115" y="646"/>
                        </a:lnTo>
                        <a:lnTo>
                          <a:pt x="115" y="627"/>
                        </a:lnTo>
                        <a:lnTo>
                          <a:pt x="115" y="613"/>
                        </a:lnTo>
                        <a:lnTo>
                          <a:pt x="115" y="593"/>
                        </a:lnTo>
                        <a:lnTo>
                          <a:pt x="115" y="579"/>
                        </a:lnTo>
                        <a:lnTo>
                          <a:pt x="110" y="560"/>
                        </a:lnTo>
                        <a:lnTo>
                          <a:pt x="110" y="545"/>
                        </a:lnTo>
                        <a:lnTo>
                          <a:pt x="105" y="526"/>
                        </a:lnTo>
                        <a:lnTo>
                          <a:pt x="105" y="512"/>
                        </a:lnTo>
                        <a:lnTo>
                          <a:pt x="100" y="493"/>
                        </a:lnTo>
                        <a:lnTo>
                          <a:pt x="96" y="478"/>
                        </a:lnTo>
                        <a:lnTo>
                          <a:pt x="96" y="459"/>
                        </a:lnTo>
                        <a:lnTo>
                          <a:pt x="91" y="445"/>
                        </a:lnTo>
                        <a:lnTo>
                          <a:pt x="86" y="431"/>
                        </a:lnTo>
                        <a:lnTo>
                          <a:pt x="81" y="411"/>
                        </a:lnTo>
                        <a:lnTo>
                          <a:pt x="76" y="397"/>
                        </a:lnTo>
                        <a:lnTo>
                          <a:pt x="72" y="383"/>
                        </a:lnTo>
                        <a:lnTo>
                          <a:pt x="67" y="364"/>
                        </a:lnTo>
                        <a:lnTo>
                          <a:pt x="62" y="349"/>
                        </a:lnTo>
                        <a:lnTo>
                          <a:pt x="57" y="335"/>
                        </a:lnTo>
                        <a:lnTo>
                          <a:pt x="52" y="320"/>
                        </a:lnTo>
                        <a:lnTo>
                          <a:pt x="52" y="316"/>
                        </a:lnTo>
                        <a:lnTo>
                          <a:pt x="48" y="316"/>
                        </a:lnTo>
                        <a:lnTo>
                          <a:pt x="48" y="311"/>
                        </a:lnTo>
                        <a:lnTo>
                          <a:pt x="48" y="306"/>
                        </a:lnTo>
                        <a:lnTo>
                          <a:pt x="43" y="306"/>
                        </a:lnTo>
                        <a:lnTo>
                          <a:pt x="43" y="301"/>
                        </a:lnTo>
                        <a:lnTo>
                          <a:pt x="43" y="296"/>
                        </a:lnTo>
                        <a:lnTo>
                          <a:pt x="43" y="292"/>
                        </a:lnTo>
                        <a:lnTo>
                          <a:pt x="38" y="292"/>
                        </a:lnTo>
                        <a:lnTo>
                          <a:pt x="38" y="287"/>
                        </a:lnTo>
                        <a:lnTo>
                          <a:pt x="38" y="282"/>
                        </a:lnTo>
                        <a:lnTo>
                          <a:pt x="33" y="282"/>
                        </a:lnTo>
                        <a:lnTo>
                          <a:pt x="33" y="277"/>
                        </a:lnTo>
                        <a:lnTo>
                          <a:pt x="33" y="273"/>
                        </a:lnTo>
                        <a:lnTo>
                          <a:pt x="33" y="268"/>
                        </a:lnTo>
                        <a:lnTo>
                          <a:pt x="28" y="268"/>
                        </a:lnTo>
                        <a:lnTo>
                          <a:pt x="28" y="263"/>
                        </a:lnTo>
                        <a:lnTo>
                          <a:pt x="28" y="258"/>
                        </a:lnTo>
                        <a:lnTo>
                          <a:pt x="24" y="258"/>
                        </a:lnTo>
                        <a:lnTo>
                          <a:pt x="24" y="253"/>
                        </a:lnTo>
                        <a:lnTo>
                          <a:pt x="24" y="249"/>
                        </a:lnTo>
                        <a:lnTo>
                          <a:pt x="19" y="249"/>
                        </a:lnTo>
                        <a:lnTo>
                          <a:pt x="19" y="244"/>
                        </a:lnTo>
                        <a:lnTo>
                          <a:pt x="14" y="239"/>
                        </a:lnTo>
                        <a:lnTo>
                          <a:pt x="14" y="234"/>
                        </a:lnTo>
                        <a:lnTo>
                          <a:pt x="9" y="229"/>
                        </a:lnTo>
                        <a:lnTo>
                          <a:pt x="4" y="225"/>
                        </a:lnTo>
                        <a:lnTo>
                          <a:pt x="4" y="220"/>
                        </a:lnTo>
                        <a:lnTo>
                          <a:pt x="0" y="215"/>
                        </a:lnTo>
                        <a:lnTo>
                          <a:pt x="4" y="215"/>
                        </a:lnTo>
                        <a:lnTo>
                          <a:pt x="4" y="220"/>
                        </a:lnTo>
                        <a:lnTo>
                          <a:pt x="9" y="220"/>
                        </a:lnTo>
                        <a:lnTo>
                          <a:pt x="14" y="220"/>
                        </a:lnTo>
                        <a:lnTo>
                          <a:pt x="19" y="220"/>
                        </a:lnTo>
                        <a:lnTo>
                          <a:pt x="19" y="225"/>
                        </a:lnTo>
                        <a:lnTo>
                          <a:pt x="24" y="225"/>
                        </a:lnTo>
                        <a:lnTo>
                          <a:pt x="28" y="225"/>
                        </a:lnTo>
                        <a:lnTo>
                          <a:pt x="28" y="229"/>
                        </a:lnTo>
                        <a:lnTo>
                          <a:pt x="33" y="229"/>
                        </a:lnTo>
                        <a:lnTo>
                          <a:pt x="38" y="234"/>
                        </a:lnTo>
                        <a:lnTo>
                          <a:pt x="43" y="234"/>
                        </a:lnTo>
                        <a:lnTo>
                          <a:pt x="48" y="239"/>
                        </a:lnTo>
                        <a:lnTo>
                          <a:pt x="52" y="239"/>
                        </a:lnTo>
                        <a:lnTo>
                          <a:pt x="52" y="244"/>
                        </a:lnTo>
                        <a:lnTo>
                          <a:pt x="57" y="244"/>
                        </a:lnTo>
                        <a:lnTo>
                          <a:pt x="57" y="249"/>
                        </a:lnTo>
                        <a:lnTo>
                          <a:pt x="62" y="249"/>
                        </a:lnTo>
                        <a:lnTo>
                          <a:pt x="67" y="249"/>
                        </a:lnTo>
                        <a:lnTo>
                          <a:pt x="67" y="253"/>
                        </a:lnTo>
                        <a:lnTo>
                          <a:pt x="72" y="253"/>
                        </a:lnTo>
                        <a:lnTo>
                          <a:pt x="76" y="258"/>
                        </a:lnTo>
                        <a:lnTo>
                          <a:pt x="86" y="263"/>
                        </a:lnTo>
                        <a:lnTo>
                          <a:pt x="91" y="263"/>
                        </a:lnTo>
                        <a:lnTo>
                          <a:pt x="100" y="268"/>
                        </a:lnTo>
                        <a:lnTo>
                          <a:pt x="105" y="273"/>
                        </a:lnTo>
                        <a:lnTo>
                          <a:pt x="115" y="277"/>
                        </a:lnTo>
                        <a:lnTo>
                          <a:pt x="120" y="282"/>
                        </a:lnTo>
                        <a:lnTo>
                          <a:pt x="129" y="287"/>
                        </a:lnTo>
                        <a:lnTo>
                          <a:pt x="134" y="292"/>
                        </a:lnTo>
                        <a:lnTo>
                          <a:pt x="144" y="296"/>
                        </a:lnTo>
                        <a:lnTo>
                          <a:pt x="148" y="301"/>
                        </a:lnTo>
                        <a:lnTo>
                          <a:pt x="153" y="306"/>
                        </a:lnTo>
                        <a:lnTo>
                          <a:pt x="163" y="311"/>
                        </a:lnTo>
                        <a:lnTo>
                          <a:pt x="168" y="316"/>
                        </a:lnTo>
                        <a:lnTo>
                          <a:pt x="172" y="320"/>
                        </a:lnTo>
                        <a:lnTo>
                          <a:pt x="182" y="325"/>
                        </a:lnTo>
                        <a:lnTo>
                          <a:pt x="187" y="330"/>
                        </a:lnTo>
                        <a:lnTo>
                          <a:pt x="192" y="340"/>
                        </a:lnTo>
                        <a:lnTo>
                          <a:pt x="196" y="344"/>
                        </a:lnTo>
                        <a:lnTo>
                          <a:pt x="206" y="349"/>
                        </a:lnTo>
                        <a:lnTo>
                          <a:pt x="211" y="354"/>
                        </a:lnTo>
                        <a:lnTo>
                          <a:pt x="215" y="359"/>
                        </a:lnTo>
                        <a:lnTo>
                          <a:pt x="220" y="368"/>
                        </a:lnTo>
                        <a:lnTo>
                          <a:pt x="230" y="373"/>
                        </a:lnTo>
                        <a:lnTo>
                          <a:pt x="235" y="378"/>
                        </a:lnTo>
                        <a:lnTo>
                          <a:pt x="239" y="383"/>
                        </a:lnTo>
                        <a:lnTo>
                          <a:pt x="244" y="392"/>
                        </a:lnTo>
                        <a:lnTo>
                          <a:pt x="249" y="397"/>
                        </a:lnTo>
                        <a:lnTo>
                          <a:pt x="254" y="402"/>
                        </a:lnTo>
                        <a:lnTo>
                          <a:pt x="263" y="407"/>
                        </a:lnTo>
                        <a:lnTo>
                          <a:pt x="268" y="411"/>
                        </a:lnTo>
                        <a:lnTo>
                          <a:pt x="273" y="421"/>
                        </a:lnTo>
                        <a:lnTo>
                          <a:pt x="278" y="426"/>
                        </a:lnTo>
                        <a:lnTo>
                          <a:pt x="292" y="426"/>
                        </a:lnTo>
                        <a:lnTo>
                          <a:pt x="292" y="421"/>
                        </a:lnTo>
                        <a:lnTo>
                          <a:pt x="292" y="416"/>
                        </a:lnTo>
                        <a:lnTo>
                          <a:pt x="292" y="411"/>
                        </a:lnTo>
                        <a:lnTo>
                          <a:pt x="292" y="407"/>
                        </a:lnTo>
                        <a:lnTo>
                          <a:pt x="292" y="402"/>
                        </a:lnTo>
                        <a:lnTo>
                          <a:pt x="287" y="397"/>
                        </a:lnTo>
                        <a:lnTo>
                          <a:pt x="287" y="392"/>
                        </a:lnTo>
                        <a:lnTo>
                          <a:pt x="283" y="387"/>
                        </a:lnTo>
                        <a:lnTo>
                          <a:pt x="283" y="383"/>
                        </a:lnTo>
                        <a:lnTo>
                          <a:pt x="278" y="378"/>
                        </a:lnTo>
                        <a:lnTo>
                          <a:pt x="273" y="373"/>
                        </a:lnTo>
                        <a:lnTo>
                          <a:pt x="268" y="368"/>
                        </a:lnTo>
                        <a:lnTo>
                          <a:pt x="268" y="364"/>
                        </a:lnTo>
                        <a:lnTo>
                          <a:pt x="263" y="364"/>
                        </a:lnTo>
                        <a:lnTo>
                          <a:pt x="263" y="359"/>
                        </a:lnTo>
                        <a:lnTo>
                          <a:pt x="259" y="354"/>
                        </a:lnTo>
                        <a:lnTo>
                          <a:pt x="259" y="349"/>
                        </a:lnTo>
                        <a:lnTo>
                          <a:pt x="254" y="349"/>
                        </a:lnTo>
                        <a:lnTo>
                          <a:pt x="254" y="344"/>
                        </a:lnTo>
                        <a:lnTo>
                          <a:pt x="249" y="344"/>
                        </a:lnTo>
                        <a:lnTo>
                          <a:pt x="249" y="340"/>
                        </a:lnTo>
                        <a:lnTo>
                          <a:pt x="244" y="335"/>
                        </a:lnTo>
                        <a:lnTo>
                          <a:pt x="244" y="330"/>
                        </a:lnTo>
                        <a:lnTo>
                          <a:pt x="239" y="325"/>
                        </a:lnTo>
                        <a:lnTo>
                          <a:pt x="235" y="325"/>
                        </a:lnTo>
                        <a:lnTo>
                          <a:pt x="230" y="320"/>
                        </a:lnTo>
                        <a:lnTo>
                          <a:pt x="225" y="320"/>
                        </a:lnTo>
                        <a:lnTo>
                          <a:pt x="225" y="316"/>
                        </a:lnTo>
                        <a:lnTo>
                          <a:pt x="220" y="316"/>
                        </a:lnTo>
                        <a:lnTo>
                          <a:pt x="220" y="311"/>
                        </a:lnTo>
                        <a:lnTo>
                          <a:pt x="215" y="311"/>
                        </a:lnTo>
                        <a:lnTo>
                          <a:pt x="215" y="306"/>
                        </a:lnTo>
                        <a:lnTo>
                          <a:pt x="211" y="306"/>
                        </a:lnTo>
                        <a:lnTo>
                          <a:pt x="211" y="301"/>
                        </a:lnTo>
                        <a:lnTo>
                          <a:pt x="206" y="301"/>
                        </a:lnTo>
                        <a:lnTo>
                          <a:pt x="206" y="296"/>
                        </a:lnTo>
                        <a:lnTo>
                          <a:pt x="201" y="292"/>
                        </a:lnTo>
                        <a:lnTo>
                          <a:pt x="196" y="287"/>
                        </a:lnTo>
                        <a:lnTo>
                          <a:pt x="192" y="282"/>
                        </a:lnTo>
                        <a:lnTo>
                          <a:pt x="187" y="277"/>
                        </a:lnTo>
                        <a:lnTo>
                          <a:pt x="182" y="273"/>
                        </a:lnTo>
                        <a:lnTo>
                          <a:pt x="177" y="268"/>
                        </a:lnTo>
                        <a:lnTo>
                          <a:pt x="172" y="268"/>
                        </a:lnTo>
                        <a:lnTo>
                          <a:pt x="168" y="263"/>
                        </a:lnTo>
                        <a:lnTo>
                          <a:pt x="163" y="263"/>
                        </a:lnTo>
                        <a:lnTo>
                          <a:pt x="163" y="258"/>
                        </a:lnTo>
                        <a:lnTo>
                          <a:pt x="62" y="186"/>
                        </a:lnTo>
                        <a:lnTo>
                          <a:pt x="67" y="186"/>
                        </a:lnTo>
                        <a:lnTo>
                          <a:pt x="72" y="186"/>
                        </a:lnTo>
                        <a:lnTo>
                          <a:pt x="76" y="186"/>
                        </a:lnTo>
                        <a:lnTo>
                          <a:pt x="81" y="186"/>
                        </a:lnTo>
                        <a:lnTo>
                          <a:pt x="86" y="186"/>
                        </a:lnTo>
                        <a:lnTo>
                          <a:pt x="91" y="186"/>
                        </a:lnTo>
                        <a:lnTo>
                          <a:pt x="91" y="182"/>
                        </a:lnTo>
                        <a:lnTo>
                          <a:pt x="96" y="182"/>
                        </a:lnTo>
                        <a:lnTo>
                          <a:pt x="100" y="182"/>
                        </a:lnTo>
                        <a:lnTo>
                          <a:pt x="105" y="182"/>
                        </a:lnTo>
                        <a:lnTo>
                          <a:pt x="110" y="182"/>
                        </a:lnTo>
                        <a:lnTo>
                          <a:pt x="115" y="182"/>
                        </a:lnTo>
                        <a:lnTo>
                          <a:pt x="115" y="177"/>
                        </a:lnTo>
                        <a:lnTo>
                          <a:pt x="120" y="177"/>
                        </a:lnTo>
                        <a:lnTo>
                          <a:pt x="124" y="177"/>
                        </a:lnTo>
                        <a:lnTo>
                          <a:pt x="129" y="177"/>
                        </a:lnTo>
                        <a:lnTo>
                          <a:pt x="134" y="172"/>
                        </a:lnTo>
                        <a:lnTo>
                          <a:pt x="139" y="172"/>
                        </a:lnTo>
                        <a:lnTo>
                          <a:pt x="144" y="172"/>
                        </a:lnTo>
                        <a:lnTo>
                          <a:pt x="148" y="167"/>
                        </a:lnTo>
                        <a:lnTo>
                          <a:pt x="153" y="167"/>
                        </a:lnTo>
                        <a:lnTo>
                          <a:pt x="158" y="167"/>
                        </a:lnTo>
                        <a:lnTo>
                          <a:pt x="163" y="162"/>
                        </a:lnTo>
                        <a:lnTo>
                          <a:pt x="168" y="162"/>
                        </a:lnTo>
                        <a:lnTo>
                          <a:pt x="172" y="162"/>
                        </a:lnTo>
                        <a:lnTo>
                          <a:pt x="172" y="158"/>
                        </a:lnTo>
                        <a:lnTo>
                          <a:pt x="177" y="158"/>
                        </a:lnTo>
                        <a:lnTo>
                          <a:pt x="182" y="158"/>
                        </a:lnTo>
                        <a:lnTo>
                          <a:pt x="187" y="158"/>
                        </a:lnTo>
                        <a:lnTo>
                          <a:pt x="196" y="153"/>
                        </a:lnTo>
                        <a:lnTo>
                          <a:pt x="201" y="148"/>
                        </a:lnTo>
                        <a:lnTo>
                          <a:pt x="211" y="143"/>
                        </a:lnTo>
                        <a:lnTo>
                          <a:pt x="220" y="138"/>
                        </a:lnTo>
                        <a:lnTo>
                          <a:pt x="230" y="138"/>
                        </a:lnTo>
                        <a:lnTo>
                          <a:pt x="235" y="134"/>
                        </a:lnTo>
                        <a:lnTo>
                          <a:pt x="244" y="129"/>
                        </a:lnTo>
                        <a:lnTo>
                          <a:pt x="254" y="124"/>
                        </a:lnTo>
                        <a:lnTo>
                          <a:pt x="263" y="119"/>
                        </a:lnTo>
                        <a:lnTo>
                          <a:pt x="268" y="119"/>
                        </a:lnTo>
                        <a:lnTo>
                          <a:pt x="278" y="115"/>
                        </a:lnTo>
                        <a:lnTo>
                          <a:pt x="287" y="110"/>
                        </a:lnTo>
                        <a:lnTo>
                          <a:pt x="297" y="105"/>
                        </a:lnTo>
                        <a:lnTo>
                          <a:pt x="307" y="100"/>
                        </a:lnTo>
                        <a:lnTo>
                          <a:pt x="311" y="95"/>
                        </a:lnTo>
                        <a:lnTo>
                          <a:pt x="321" y="91"/>
                        </a:lnTo>
                        <a:lnTo>
                          <a:pt x="331" y="86"/>
                        </a:lnTo>
                        <a:lnTo>
                          <a:pt x="335" y="81"/>
                        </a:lnTo>
                        <a:lnTo>
                          <a:pt x="345" y="76"/>
                        </a:lnTo>
                        <a:lnTo>
                          <a:pt x="355" y="71"/>
                        </a:lnTo>
                        <a:lnTo>
                          <a:pt x="359" y="67"/>
                        </a:lnTo>
                        <a:lnTo>
                          <a:pt x="369" y="62"/>
                        </a:lnTo>
                        <a:lnTo>
                          <a:pt x="379" y="57"/>
                        </a:lnTo>
                        <a:lnTo>
                          <a:pt x="383" y="52"/>
                        </a:lnTo>
                        <a:lnTo>
                          <a:pt x="393" y="48"/>
                        </a:lnTo>
                        <a:lnTo>
                          <a:pt x="398" y="38"/>
                        </a:lnTo>
                        <a:lnTo>
                          <a:pt x="407" y="33"/>
                        </a:lnTo>
                        <a:lnTo>
                          <a:pt x="412" y="28"/>
                        </a:lnTo>
                        <a:lnTo>
                          <a:pt x="422" y="19"/>
                        </a:lnTo>
                        <a:lnTo>
                          <a:pt x="427" y="14"/>
                        </a:lnTo>
                        <a:lnTo>
                          <a:pt x="431" y="4"/>
                        </a:lnTo>
                        <a:lnTo>
                          <a:pt x="441" y="0"/>
                        </a:lnTo>
                        <a:lnTo>
                          <a:pt x="446" y="24"/>
                        </a:lnTo>
                        <a:lnTo>
                          <a:pt x="455" y="48"/>
                        </a:lnTo>
                        <a:lnTo>
                          <a:pt x="460" y="71"/>
                        </a:lnTo>
                        <a:lnTo>
                          <a:pt x="465" y="95"/>
                        </a:lnTo>
                        <a:lnTo>
                          <a:pt x="470" y="119"/>
                        </a:lnTo>
                        <a:lnTo>
                          <a:pt x="475" y="138"/>
                        </a:lnTo>
                        <a:lnTo>
                          <a:pt x="479" y="162"/>
                        </a:lnTo>
                        <a:lnTo>
                          <a:pt x="484" y="186"/>
                        </a:lnTo>
                        <a:lnTo>
                          <a:pt x="489" y="210"/>
                        </a:lnTo>
                        <a:lnTo>
                          <a:pt x="494" y="234"/>
                        </a:lnTo>
                        <a:lnTo>
                          <a:pt x="499" y="263"/>
                        </a:lnTo>
                        <a:lnTo>
                          <a:pt x="499" y="287"/>
                        </a:lnTo>
                        <a:lnTo>
                          <a:pt x="503" y="311"/>
                        </a:lnTo>
                        <a:lnTo>
                          <a:pt x="503" y="335"/>
                        </a:lnTo>
                        <a:lnTo>
                          <a:pt x="508" y="359"/>
                        </a:lnTo>
                        <a:lnTo>
                          <a:pt x="508" y="383"/>
                        </a:lnTo>
                        <a:lnTo>
                          <a:pt x="508" y="407"/>
                        </a:lnTo>
                        <a:lnTo>
                          <a:pt x="508" y="431"/>
                        </a:lnTo>
                        <a:lnTo>
                          <a:pt x="513" y="455"/>
                        </a:lnTo>
                        <a:lnTo>
                          <a:pt x="513" y="478"/>
                        </a:lnTo>
                        <a:lnTo>
                          <a:pt x="508" y="502"/>
                        </a:lnTo>
                        <a:lnTo>
                          <a:pt x="508" y="526"/>
                        </a:lnTo>
                        <a:lnTo>
                          <a:pt x="508" y="550"/>
                        </a:lnTo>
                        <a:lnTo>
                          <a:pt x="508" y="574"/>
                        </a:lnTo>
                        <a:lnTo>
                          <a:pt x="503" y="598"/>
                        </a:lnTo>
                        <a:lnTo>
                          <a:pt x="503" y="622"/>
                        </a:lnTo>
                        <a:lnTo>
                          <a:pt x="499" y="646"/>
                        </a:lnTo>
                        <a:lnTo>
                          <a:pt x="499" y="670"/>
                        </a:lnTo>
                        <a:lnTo>
                          <a:pt x="494" y="694"/>
                        </a:lnTo>
                        <a:lnTo>
                          <a:pt x="489" y="718"/>
                        </a:lnTo>
                        <a:lnTo>
                          <a:pt x="484" y="742"/>
                        </a:lnTo>
                        <a:lnTo>
                          <a:pt x="479" y="766"/>
                        </a:lnTo>
                        <a:close/>
                      </a:path>
                    </a:pathLst>
                  </a:custGeom>
                  <a:solidFill>
                    <a:srgbClr val="6eb2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7" name=""/>
                  <p:cNvSpPr/>
                  <p:nvPr/>
                </p:nvSpPr>
                <p:spPr>
                  <a:xfrm flipH="1">
                    <a:off x="3937680" y="4788000"/>
                    <a:ext cx="5688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579">
                        <a:moveTo>
                          <a:pt x="116" y="38"/>
                        </a:moveTo>
                        <a:lnTo>
                          <a:pt x="120" y="43"/>
                        </a:lnTo>
                        <a:lnTo>
                          <a:pt x="125" y="48"/>
                        </a:lnTo>
                        <a:lnTo>
                          <a:pt x="130" y="57"/>
                        </a:lnTo>
                        <a:lnTo>
                          <a:pt x="130" y="62"/>
                        </a:lnTo>
                        <a:lnTo>
                          <a:pt x="135" y="67"/>
                        </a:lnTo>
                        <a:lnTo>
                          <a:pt x="135" y="76"/>
                        </a:lnTo>
                        <a:lnTo>
                          <a:pt x="135" y="81"/>
                        </a:lnTo>
                        <a:lnTo>
                          <a:pt x="140" y="91"/>
                        </a:lnTo>
                        <a:lnTo>
                          <a:pt x="140" y="95"/>
                        </a:lnTo>
                        <a:lnTo>
                          <a:pt x="140" y="105"/>
                        </a:lnTo>
                        <a:lnTo>
                          <a:pt x="140" y="115"/>
                        </a:lnTo>
                        <a:lnTo>
                          <a:pt x="140" y="119"/>
                        </a:lnTo>
                        <a:lnTo>
                          <a:pt x="140" y="129"/>
                        </a:lnTo>
                        <a:lnTo>
                          <a:pt x="140" y="134"/>
                        </a:lnTo>
                        <a:lnTo>
                          <a:pt x="140" y="143"/>
                        </a:lnTo>
                        <a:lnTo>
                          <a:pt x="140" y="148"/>
                        </a:lnTo>
                        <a:lnTo>
                          <a:pt x="144" y="158"/>
                        </a:lnTo>
                        <a:lnTo>
                          <a:pt x="144" y="162"/>
                        </a:lnTo>
                        <a:lnTo>
                          <a:pt x="144" y="172"/>
                        </a:lnTo>
                        <a:lnTo>
                          <a:pt x="144" y="177"/>
                        </a:lnTo>
                        <a:lnTo>
                          <a:pt x="144" y="186"/>
                        </a:lnTo>
                        <a:lnTo>
                          <a:pt x="149" y="191"/>
                        </a:lnTo>
                        <a:lnTo>
                          <a:pt x="149" y="196"/>
                        </a:lnTo>
                        <a:lnTo>
                          <a:pt x="154" y="206"/>
                        </a:lnTo>
                        <a:lnTo>
                          <a:pt x="159" y="210"/>
                        </a:lnTo>
                        <a:lnTo>
                          <a:pt x="159" y="215"/>
                        </a:lnTo>
                        <a:lnTo>
                          <a:pt x="164" y="220"/>
                        </a:lnTo>
                        <a:lnTo>
                          <a:pt x="168" y="225"/>
                        </a:lnTo>
                        <a:lnTo>
                          <a:pt x="178" y="229"/>
                        </a:lnTo>
                        <a:lnTo>
                          <a:pt x="183" y="234"/>
                        </a:lnTo>
                        <a:lnTo>
                          <a:pt x="188" y="234"/>
                        </a:lnTo>
                        <a:lnTo>
                          <a:pt x="197" y="239"/>
                        </a:lnTo>
                        <a:lnTo>
                          <a:pt x="202" y="239"/>
                        </a:lnTo>
                        <a:lnTo>
                          <a:pt x="207" y="239"/>
                        </a:lnTo>
                        <a:lnTo>
                          <a:pt x="212" y="239"/>
                        </a:lnTo>
                        <a:lnTo>
                          <a:pt x="216" y="239"/>
                        </a:lnTo>
                        <a:lnTo>
                          <a:pt x="221" y="234"/>
                        </a:lnTo>
                        <a:lnTo>
                          <a:pt x="226" y="234"/>
                        </a:lnTo>
                        <a:lnTo>
                          <a:pt x="226" y="229"/>
                        </a:lnTo>
                        <a:lnTo>
                          <a:pt x="231" y="229"/>
                        </a:lnTo>
                        <a:lnTo>
                          <a:pt x="231" y="225"/>
                        </a:lnTo>
                        <a:lnTo>
                          <a:pt x="235" y="225"/>
                        </a:lnTo>
                        <a:lnTo>
                          <a:pt x="235" y="220"/>
                        </a:lnTo>
                        <a:lnTo>
                          <a:pt x="240" y="220"/>
                        </a:lnTo>
                        <a:lnTo>
                          <a:pt x="240" y="215"/>
                        </a:lnTo>
                        <a:lnTo>
                          <a:pt x="240" y="225"/>
                        </a:lnTo>
                        <a:lnTo>
                          <a:pt x="245" y="234"/>
                        </a:lnTo>
                        <a:lnTo>
                          <a:pt x="245" y="244"/>
                        </a:lnTo>
                        <a:lnTo>
                          <a:pt x="245" y="253"/>
                        </a:lnTo>
                        <a:lnTo>
                          <a:pt x="245" y="263"/>
                        </a:lnTo>
                        <a:lnTo>
                          <a:pt x="250" y="273"/>
                        </a:lnTo>
                        <a:lnTo>
                          <a:pt x="250" y="282"/>
                        </a:lnTo>
                        <a:lnTo>
                          <a:pt x="250" y="287"/>
                        </a:lnTo>
                        <a:lnTo>
                          <a:pt x="255" y="296"/>
                        </a:lnTo>
                        <a:lnTo>
                          <a:pt x="255" y="306"/>
                        </a:lnTo>
                        <a:lnTo>
                          <a:pt x="259" y="316"/>
                        </a:lnTo>
                        <a:lnTo>
                          <a:pt x="259" y="325"/>
                        </a:lnTo>
                        <a:lnTo>
                          <a:pt x="264" y="335"/>
                        </a:lnTo>
                        <a:lnTo>
                          <a:pt x="264" y="344"/>
                        </a:lnTo>
                        <a:lnTo>
                          <a:pt x="269" y="349"/>
                        </a:lnTo>
                        <a:lnTo>
                          <a:pt x="274" y="359"/>
                        </a:lnTo>
                        <a:lnTo>
                          <a:pt x="274" y="368"/>
                        </a:lnTo>
                        <a:lnTo>
                          <a:pt x="279" y="378"/>
                        </a:lnTo>
                        <a:lnTo>
                          <a:pt x="279" y="387"/>
                        </a:lnTo>
                        <a:lnTo>
                          <a:pt x="283" y="392"/>
                        </a:lnTo>
                        <a:lnTo>
                          <a:pt x="288" y="402"/>
                        </a:lnTo>
                        <a:lnTo>
                          <a:pt x="288" y="411"/>
                        </a:lnTo>
                        <a:lnTo>
                          <a:pt x="293" y="421"/>
                        </a:lnTo>
                        <a:lnTo>
                          <a:pt x="293" y="431"/>
                        </a:lnTo>
                        <a:lnTo>
                          <a:pt x="298" y="440"/>
                        </a:lnTo>
                        <a:lnTo>
                          <a:pt x="303" y="445"/>
                        </a:lnTo>
                        <a:lnTo>
                          <a:pt x="303" y="455"/>
                        </a:lnTo>
                        <a:lnTo>
                          <a:pt x="307" y="464"/>
                        </a:lnTo>
                        <a:lnTo>
                          <a:pt x="307" y="474"/>
                        </a:lnTo>
                        <a:lnTo>
                          <a:pt x="307" y="483"/>
                        </a:lnTo>
                        <a:lnTo>
                          <a:pt x="312" y="493"/>
                        </a:lnTo>
                        <a:lnTo>
                          <a:pt x="312" y="502"/>
                        </a:lnTo>
                        <a:lnTo>
                          <a:pt x="317" y="507"/>
                        </a:lnTo>
                        <a:lnTo>
                          <a:pt x="317" y="512"/>
                        </a:lnTo>
                        <a:lnTo>
                          <a:pt x="317" y="517"/>
                        </a:lnTo>
                        <a:lnTo>
                          <a:pt x="322" y="517"/>
                        </a:lnTo>
                        <a:lnTo>
                          <a:pt x="322" y="522"/>
                        </a:lnTo>
                        <a:lnTo>
                          <a:pt x="322" y="526"/>
                        </a:lnTo>
                        <a:lnTo>
                          <a:pt x="327" y="526"/>
                        </a:lnTo>
                        <a:lnTo>
                          <a:pt x="327" y="531"/>
                        </a:lnTo>
                        <a:lnTo>
                          <a:pt x="327" y="536"/>
                        </a:lnTo>
                        <a:lnTo>
                          <a:pt x="327" y="541"/>
                        </a:lnTo>
                        <a:lnTo>
                          <a:pt x="331" y="541"/>
                        </a:lnTo>
                        <a:lnTo>
                          <a:pt x="331" y="545"/>
                        </a:lnTo>
                        <a:lnTo>
                          <a:pt x="331" y="550"/>
                        </a:lnTo>
                        <a:lnTo>
                          <a:pt x="331" y="555"/>
                        </a:lnTo>
                        <a:lnTo>
                          <a:pt x="331" y="560"/>
                        </a:lnTo>
                        <a:lnTo>
                          <a:pt x="336" y="560"/>
                        </a:lnTo>
                        <a:lnTo>
                          <a:pt x="336" y="565"/>
                        </a:lnTo>
                        <a:lnTo>
                          <a:pt x="327" y="565"/>
                        </a:lnTo>
                        <a:lnTo>
                          <a:pt x="317" y="569"/>
                        </a:lnTo>
                        <a:lnTo>
                          <a:pt x="312" y="569"/>
                        </a:lnTo>
                        <a:lnTo>
                          <a:pt x="303" y="569"/>
                        </a:lnTo>
                        <a:lnTo>
                          <a:pt x="293" y="574"/>
                        </a:lnTo>
                        <a:lnTo>
                          <a:pt x="288" y="574"/>
                        </a:lnTo>
                        <a:lnTo>
                          <a:pt x="279" y="574"/>
                        </a:lnTo>
                        <a:lnTo>
                          <a:pt x="269" y="574"/>
                        </a:lnTo>
                        <a:lnTo>
                          <a:pt x="264" y="574"/>
                        </a:lnTo>
                        <a:lnTo>
                          <a:pt x="255" y="579"/>
                        </a:lnTo>
                        <a:lnTo>
                          <a:pt x="245" y="579"/>
                        </a:lnTo>
                        <a:lnTo>
                          <a:pt x="240" y="579"/>
                        </a:lnTo>
                        <a:lnTo>
                          <a:pt x="231" y="579"/>
                        </a:lnTo>
                        <a:lnTo>
                          <a:pt x="221" y="579"/>
                        </a:lnTo>
                        <a:lnTo>
                          <a:pt x="216" y="579"/>
                        </a:lnTo>
                        <a:lnTo>
                          <a:pt x="207" y="579"/>
                        </a:lnTo>
                        <a:lnTo>
                          <a:pt x="202" y="579"/>
                        </a:lnTo>
                        <a:lnTo>
                          <a:pt x="192" y="574"/>
                        </a:lnTo>
                        <a:lnTo>
                          <a:pt x="183" y="574"/>
                        </a:lnTo>
                        <a:lnTo>
                          <a:pt x="178" y="574"/>
                        </a:lnTo>
                        <a:lnTo>
                          <a:pt x="168" y="574"/>
                        </a:lnTo>
                        <a:lnTo>
                          <a:pt x="164" y="574"/>
                        </a:lnTo>
                        <a:lnTo>
                          <a:pt x="154" y="569"/>
                        </a:lnTo>
                        <a:lnTo>
                          <a:pt x="144" y="569"/>
                        </a:lnTo>
                        <a:lnTo>
                          <a:pt x="140" y="569"/>
                        </a:lnTo>
                        <a:lnTo>
                          <a:pt x="130" y="565"/>
                        </a:lnTo>
                        <a:lnTo>
                          <a:pt x="120" y="565"/>
                        </a:lnTo>
                        <a:lnTo>
                          <a:pt x="116" y="560"/>
                        </a:lnTo>
                        <a:lnTo>
                          <a:pt x="106" y="560"/>
                        </a:lnTo>
                        <a:lnTo>
                          <a:pt x="101" y="555"/>
                        </a:lnTo>
                        <a:lnTo>
                          <a:pt x="92" y="555"/>
                        </a:lnTo>
                        <a:lnTo>
                          <a:pt x="82" y="550"/>
                        </a:lnTo>
                        <a:lnTo>
                          <a:pt x="77" y="550"/>
                        </a:lnTo>
                        <a:lnTo>
                          <a:pt x="72" y="550"/>
                        </a:lnTo>
                        <a:lnTo>
                          <a:pt x="68" y="545"/>
                        </a:lnTo>
                        <a:lnTo>
                          <a:pt x="63" y="545"/>
                        </a:lnTo>
                        <a:lnTo>
                          <a:pt x="58" y="545"/>
                        </a:lnTo>
                        <a:lnTo>
                          <a:pt x="58" y="541"/>
                        </a:lnTo>
                        <a:lnTo>
                          <a:pt x="53" y="541"/>
                        </a:lnTo>
                        <a:lnTo>
                          <a:pt x="48" y="536"/>
                        </a:lnTo>
                        <a:lnTo>
                          <a:pt x="44" y="536"/>
                        </a:lnTo>
                        <a:lnTo>
                          <a:pt x="44" y="531"/>
                        </a:lnTo>
                        <a:lnTo>
                          <a:pt x="39" y="531"/>
                        </a:lnTo>
                        <a:lnTo>
                          <a:pt x="34" y="526"/>
                        </a:lnTo>
                        <a:lnTo>
                          <a:pt x="29" y="526"/>
                        </a:lnTo>
                        <a:lnTo>
                          <a:pt x="24" y="522"/>
                        </a:lnTo>
                        <a:lnTo>
                          <a:pt x="24" y="517"/>
                        </a:lnTo>
                        <a:lnTo>
                          <a:pt x="24" y="512"/>
                        </a:lnTo>
                        <a:lnTo>
                          <a:pt x="24" y="507"/>
                        </a:lnTo>
                        <a:lnTo>
                          <a:pt x="20" y="502"/>
                        </a:lnTo>
                        <a:lnTo>
                          <a:pt x="20" y="498"/>
                        </a:lnTo>
                        <a:lnTo>
                          <a:pt x="20" y="493"/>
                        </a:lnTo>
                        <a:lnTo>
                          <a:pt x="20" y="488"/>
                        </a:lnTo>
                        <a:lnTo>
                          <a:pt x="20" y="483"/>
                        </a:lnTo>
                        <a:lnTo>
                          <a:pt x="15" y="478"/>
                        </a:lnTo>
                        <a:lnTo>
                          <a:pt x="15" y="474"/>
                        </a:lnTo>
                        <a:lnTo>
                          <a:pt x="15" y="469"/>
                        </a:lnTo>
                        <a:lnTo>
                          <a:pt x="15" y="464"/>
                        </a:lnTo>
                        <a:lnTo>
                          <a:pt x="10" y="459"/>
                        </a:lnTo>
                        <a:lnTo>
                          <a:pt x="10" y="455"/>
                        </a:lnTo>
                        <a:lnTo>
                          <a:pt x="10" y="450"/>
                        </a:lnTo>
                        <a:lnTo>
                          <a:pt x="10" y="445"/>
                        </a:lnTo>
                        <a:lnTo>
                          <a:pt x="5" y="440"/>
                        </a:lnTo>
                        <a:lnTo>
                          <a:pt x="5" y="435"/>
                        </a:lnTo>
                        <a:lnTo>
                          <a:pt x="5" y="431"/>
                        </a:lnTo>
                        <a:lnTo>
                          <a:pt x="5" y="426"/>
                        </a:lnTo>
                        <a:lnTo>
                          <a:pt x="0" y="421"/>
                        </a:lnTo>
                        <a:lnTo>
                          <a:pt x="0" y="416"/>
                        </a:lnTo>
                        <a:lnTo>
                          <a:pt x="0" y="411"/>
                        </a:lnTo>
                        <a:lnTo>
                          <a:pt x="0" y="407"/>
                        </a:lnTo>
                        <a:lnTo>
                          <a:pt x="5" y="407"/>
                        </a:lnTo>
                        <a:lnTo>
                          <a:pt x="10" y="402"/>
                        </a:lnTo>
                        <a:lnTo>
                          <a:pt x="15" y="402"/>
                        </a:lnTo>
                        <a:lnTo>
                          <a:pt x="15" y="397"/>
                        </a:lnTo>
                        <a:lnTo>
                          <a:pt x="20" y="397"/>
                        </a:lnTo>
                        <a:lnTo>
                          <a:pt x="20" y="392"/>
                        </a:lnTo>
                        <a:lnTo>
                          <a:pt x="24" y="392"/>
                        </a:lnTo>
                        <a:lnTo>
                          <a:pt x="24" y="387"/>
                        </a:lnTo>
                        <a:lnTo>
                          <a:pt x="24" y="383"/>
                        </a:lnTo>
                        <a:lnTo>
                          <a:pt x="29" y="383"/>
                        </a:lnTo>
                        <a:lnTo>
                          <a:pt x="34" y="383"/>
                        </a:lnTo>
                        <a:lnTo>
                          <a:pt x="39" y="383"/>
                        </a:lnTo>
                        <a:lnTo>
                          <a:pt x="44" y="387"/>
                        </a:lnTo>
                        <a:lnTo>
                          <a:pt x="48" y="387"/>
                        </a:lnTo>
                        <a:lnTo>
                          <a:pt x="53" y="387"/>
                        </a:lnTo>
                        <a:lnTo>
                          <a:pt x="58" y="383"/>
                        </a:lnTo>
                        <a:lnTo>
                          <a:pt x="63" y="383"/>
                        </a:lnTo>
                        <a:lnTo>
                          <a:pt x="68" y="383"/>
                        </a:lnTo>
                        <a:lnTo>
                          <a:pt x="72" y="378"/>
                        </a:lnTo>
                        <a:lnTo>
                          <a:pt x="77" y="378"/>
                        </a:lnTo>
                        <a:lnTo>
                          <a:pt x="82" y="378"/>
                        </a:lnTo>
                        <a:lnTo>
                          <a:pt x="82" y="373"/>
                        </a:lnTo>
                        <a:lnTo>
                          <a:pt x="87" y="373"/>
                        </a:lnTo>
                        <a:lnTo>
                          <a:pt x="92" y="373"/>
                        </a:lnTo>
                        <a:lnTo>
                          <a:pt x="92" y="368"/>
                        </a:lnTo>
                        <a:lnTo>
                          <a:pt x="96" y="368"/>
                        </a:lnTo>
                        <a:lnTo>
                          <a:pt x="101" y="368"/>
                        </a:lnTo>
                        <a:lnTo>
                          <a:pt x="101" y="364"/>
                        </a:lnTo>
                        <a:lnTo>
                          <a:pt x="101" y="359"/>
                        </a:lnTo>
                        <a:lnTo>
                          <a:pt x="106" y="359"/>
                        </a:lnTo>
                        <a:lnTo>
                          <a:pt x="106" y="354"/>
                        </a:lnTo>
                        <a:lnTo>
                          <a:pt x="111" y="354"/>
                        </a:lnTo>
                        <a:lnTo>
                          <a:pt x="116" y="349"/>
                        </a:lnTo>
                        <a:lnTo>
                          <a:pt x="120" y="349"/>
                        </a:lnTo>
                        <a:lnTo>
                          <a:pt x="120" y="344"/>
                        </a:lnTo>
                        <a:lnTo>
                          <a:pt x="125" y="344"/>
                        </a:lnTo>
                        <a:lnTo>
                          <a:pt x="125" y="340"/>
                        </a:lnTo>
                        <a:lnTo>
                          <a:pt x="130" y="335"/>
                        </a:lnTo>
                        <a:lnTo>
                          <a:pt x="130" y="330"/>
                        </a:lnTo>
                        <a:lnTo>
                          <a:pt x="130" y="325"/>
                        </a:lnTo>
                        <a:lnTo>
                          <a:pt x="130" y="320"/>
                        </a:lnTo>
                        <a:lnTo>
                          <a:pt x="130" y="316"/>
                        </a:lnTo>
                        <a:lnTo>
                          <a:pt x="130" y="311"/>
                        </a:lnTo>
                        <a:lnTo>
                          <a:pt x="125" y="306"/>
                        </a:lnTo>
                        <a:lnTo>
                          <a:pt x="125" y="301"/>
                        </a:lnTo>
                        <a:lnTo>
                          <a:pt x="125" y="296"/>
                        </a:lnTo>
                        <a:lnTo>
                          <a:pt x="125" y="292"/>
                        </a:lnTo>
                        <a:lnTo>
                          <a:pt x="120" y="292"/>
                        </a:lnTo>
                        <a:lnTo>
                          <a:pt x="120" y="287"/>
                        </a:lnTo>
                        <a:lnTo>
                          <a:pt x="120" y="282"/>
                        </a:lnTo>
                        <a:lnTo>
                          <a:pt x="120" y="277"/>
                        </a:lnTo>
                        <a:lnTo>
                          <a:pt x="116" y="273"/>
                        </a:lnTo>
                        <a:lnTo>
                          <a:pt x="116" y="268"/>
                        </a:lnTo>
                        <a:lnTo>
                          <a:pt x="111" y="263"/>
                        </a:lnTo>
                        <a:lnTo>
                          <a:pt x="111" y="258"/>
                        </a:lnTo>
                        <a:lnTo>
                          <a:pt x="111" y="253"/>
                        </a:lnTo>
                        <a:lnTo>
                          <a:pt x="106" y="249"/>
                        </a:lnTo>
                        <a:lnTo>
                          <a:pt x="106" y="244"/>
                        </a:lnTo>
                        <a:lnTo>
                          <a:pt x="106" y="239"/>
                        </a:lnTo>
                        <a:lnTo>
                          <a:pt x="101" y="234"/>
                        </a:lnTo>
                        <a:lnTo>
                          <a:pt x="101" y="229"/>
                        </a:lnTo>
                        <a:lnTo>
                          <a:pt x="101" y="225"/>
                        </a:lnTo>
                        <a:lnTo>
                          <a:pt x="101" y="220"/>
                        </a:lnTo>
                        <a:lnTo>
                          <a:pt x="101" y="215"/>
                        </a:lnTo>
                        <a:lnTo>
                          <a:pt x="96" y="210"/>
                        </a:lnTo>
                        <a:lnTo>
                          <a:pt x="96" y="206"/>
                        </a:lnTo>
                        <a:lnTo>
                          <a:pt x="96" y="201"/>
                        </a:lnTo>
                        <a:lnTo>
                          <a:pt x="96" y="196"/>
                        </a:lnTo>
                        <a:lnTo>
                          <a:pt x="96" y="191"/>
                        </a:lnTo>
                        <a:lnTo>
                          <a:pt x="96" y="186"/>
                        </a:lnTo>
                        <a:lnTo>
                          <a:pt x="96" y="177"/>
                        </a:lnTo>
                        <a:lnTo>
                          <a:pt x="96" y="172"/>
                        </a:lnTo>
                        <a:lnTo>
                          <a:pt x="96" y="167"/>
                        </a:lnTo>
                        <a:lnTo>
                          <a:pt x="92" y="162"/>
                        </a:lnTo>
                        <a:lnTo>
                          <a:pt x="92" y="153"/>
                        </a:lnTo>
                        <a:lnTo>
                          <a:pt x="92" y="148"/>
                        </a:lnTo>
                        <a:lnTo>
                          <a:pt x="92" y="143"/>
                        </a:lnTo>
                        <a:lnTo>
                          <a:pt x="92" y="138"/>
                        </a:lnTo>
                        <a:lnTo>
                          <a:pt x="92" y="134"/>
                        </a:lnTo>
                        <a:lnTo>
                          <a:pt x="92" y="124"/>
                        </a:lnTo>
                        <a:lnTo>
                          <a:pt x="87" y="119"/>
                        </a:lnTo>
                        <a:lnTo>
                          <a:pt x="87" y="115"/>
                        </a:lnTo>
                        <a:lnTo>
                          <a:pt x="87" y="110"/>
                        </a:lnTo>
                        <a:lnTo>
                          <a:pt x="87" y="105"/>
                        </a:lnTo>
                        <a:lnTo>
                          <a:pt x="87" y="100"/>
                        </a:lnTo>
                        <a:lnTo>
                          <a:pt x="87" y="91"/>
                        </a:lnTo>
                        <a:lnTo>
                          <a:pt x="87" y="86"/>
                        </a:lnTo>
                        <a:lnTo>
                          <a:pt x="87" y="81"/>
                        </a:lnTo>
                        <a:lnTo>
                          <a:pt x="87" y="76"/>
                        </a:lnTo>
                        <a:lnTo>
                          <a:pt x="87" y="71"/>
                        </a:lnTo>
                        <a:lnTo>
                          <a:pt x="87" y="62"/>
                        </a:lnTo>
                        <a:lnTo>
                          <a:pt x="87" y="57"/>
                        </a:lnTo>
                        <a:lnTo>
                          <a:pt x="87" y="52"/>
                        </a:lnTo>
                        <a:lnTo>
                          <a:pt x="87" y="48"/>
                        </a:lnTo>
                        <a:lnTo>
                          <a:pt x="87" y="43"/>
                        </a:lnTo>
                        <a:lnTo>
                          <a:pt x="87" y="33"/>
                        </a:lnTo>
                        <a:lnTo>
                          <a:pt x="87" y="28"/>
                        </a:lnTo>
                        <a:lnTo>
                          <a:pt x="87" y="24"/>
                        </a:lnTo>
                        <a:lnTo>
                          <a:pt x="87" y="19"/>
                        </a:lnTo>
                        <a:lnTo>
                          <a:pt x="87" y="9"/>
                        </a:lnTo>
                        <a:lnTo>
                          <a:pt x="92" y="4"/>
                        </a:lnTo>
                        <a:lnTo>
                          <a:pt x="92" y="0"/>
                        </a:lnTo>
                        <a:lnTo>
                          <a:pt x="96" y="0"/>
                        </a:lnTo>
                        <a:lnTo>
                          <a:pt x="101" y="0"/>
                        </a:lnTo>
                        <a:lnTo>
                          <a:pt x="106" y="0"/>
                        </a:lnTo>
                        <a:lnTo>
                          <a:pt x="106" y="4"/>
                        </a:lnTo>
                        <a:lnTo>
                          <a:pt x="106" y="9"/>
                        </a:lnTo>
                        <a:lnTo>
                          <a:pt x="106" y="14"/>
                        </a:lnTo>
                        <a:lnTo>
                          <a:pt x="111" y="14"/>
                        </a:lnTo>
                        <a:lnTo>
                          <a:pt x="111" y="19"/>
                        </a:lnTo>
                        <a:lnTo>
                          <a:pt x="111" y="24"/>
                        </a:lnTo>
                        <a:lnTo>
                          <a:pt x="111" y="28"/>
                        </a:lnTo>
                        <a:lnTo>
                          <a:pt x="116" y="33"/>
                        </a:lnTo>
                        <a:lnTo>
                          <a:pt x="116" y="38"/>
                        </a:lnTo>
                        <a:close/>
                      </a:path>
                    </a:pathLst>
                  </a:custGeom>
                  <a:solidFill>
                    <a:srgbClr val="ffd9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8" name=""/>
                  <p:cNvSpPr/>
                  <p:nvPr/>
                </p:nvSpPr>
                <p:spPr>
                  <a:xfrm flipH="1">
                    <a:off x="3809160" y="4801320"/>
                    <a:ext cx="5184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307" h="215">
                        <a:moveTo>
                          <a:pt x="302" y="0"/>
                        </a:moveTo>
                        <a:lnTo>
                          <a:pt x="302" y="10"/>
                        </a:lnTo>
                        <a:lnTo>
                          <a:pt x="302" y="14"/>
                        </a:lnTo>
                        <a:lnTo>
                          <a:pt x="307" y="19"/>
                        </a:lnTo>
                        <a:lnTo>
                          <a:pt x="307" y="29"/>
                        </a:lnTo>
                        <a:lnTo>
                          <a:pt x="307" y="34"/>
                        </a:lnTo>
                        <a:lnTo>
                          <a:pt x="307" y="43"/>
                        </a:lnTo>
                        <a:lnTo>
                          <a:pt x="307" y="48"/>
                        </a:lnTo>
                        <a:lnTo>
                          <a:pt x="307" y="53"/>
                        </a:lnTo>
                        <a:lnTo>
                          <a:pt x="307" y="62"/>
                        </a:lnTo>
                        <a:lnTo>
                          <a:pt x="307" y="67"/>
                        </a:lnTo>
                        <a:lnTo>
                          <a:pt x="302" y="77"/>
                        </a:lnTo>
                        <a:lnTo>
                          <a:pt x="302" y="81"/>
                        </a:lnTo>
                        <a:lnTo>
                          <a:pt x="302" y="86"/>
                        </a:lnTo>
                        <a:lnTo>
                          <a:pt x="302" y="96"/>
                        </a:lnTo>
                        <a:lnTo>
                          <a:pt x="298" y="101"/>
                        </a:lnTo>
                        <a:lnTo>
                          <a:pt x="298" y="105"/>
                        </a:lnTo>
                        <a:lnTo>
                          <a:pt x="293" y="110"/>
                        </a:lnTo>
                        <a:lnTo>
                          <a:pt x="293" y="120"/>
                        </a:lnTo>
                        <a:lnTo>
                          <a:pt x="288" y="125"/>
                        </a:lnTo>
                        <a:lnTo>
                          <a:pt x="288" y="129"/>
                        </a:lnTo>
                        <a:lnTo>
                          <a:pt x="283" y="134"/>
                        </a:lnTo>
                        <a:lnTo>
                          <a:pt x="283" y="139"/>
                        </a:lnTo>
                        <a:lnTo>
                          <a:pt x="278" y="144"/>
                        </a:lnTo>
                        <a:lnTo>
                          <a:pt x="274" y="153"/>
                        </a:lnTo>
                        <a:lnTo>
                          <a:pt x="269" y="158"/>
                        </a:lnTo>
                        <a:lnTo>
                          <a:pt x="269" y="163"/>
                        </a:lnTo>
                        <a:lnTo>
                          <a:pt x="264" y="163"/>
                        </a:lnTo>
                        <a:lnTo>
                          <a:pt x="259" y="168"/>
                        </a:lnTo>
                        <a:lnTo>
                          <a:pt x="254" y="172"/>
                        </a:lnTo>
                        <a:lnTo>
                          <a:pt x="250" y="177"/>
                        </a:lnTo>
                        <a:lnTo>
                          <a:pt x="245" y="182"/>
                        </a:lnTo>
                        <a:lnTo>
                          <a:pt x="240" y="182"/>
                        </a:lnTo>
                        <a:lnTo>
                          <a:pt x="235" y="187"/>
                        </a:lnTo>
                        <a:lnTo>
                          <a:pt x="230" y="187"/>
                        </a:lnTo>
                        <a:lnTo>
                          <a:pt x="226" y="192"/>
                        </a:lnTo>
                        <a:lnTo>
                          <a:pt x="221" y="192"/>
                        </a:lnTo>
                        <a:lnTo>
                          <a:pt x="216" y="192"/>
                        </a:lnTo>
                        <a:lnTo>
                          <a:pt x="211" y="196"/>
                        </a:lnTo>
                        <a:lnTo>
                          <a:pt x="206" y="196"/>
                        </a:lnTo>
                        <a:lnTo>
                          <a:pt x="202" y="196"/>
                        </a:lnTo>
                        <a:lnTo>
                          <a:pt x="197" y="196"/>
                        </a:lnTo>
                        <a:lnTo>
                          <a:pt x="197" y="201"/>
                        </a:lnTo>
                        <a:lnTo>
                          <a:pt x="192" y="201"/>
                        </a:lnTo>
                        <a:lnTo>
                          <a:pt x="187" y="201"/>
                        </a:lnTo>
                        <a:lnTo>
                          <a:pt x="182" y="201"/>
                        </a:lnTo>
                        <a:lnTo>
                          <a:pt x="182" y="206"/>
                        </a:lnTo>
                        <a:lnTo>
                          <a:pt x="178" y="206"/>
                        </a:lnTo>
                        <a:lnTo>
                          <a:pt x="173" y="206"/>
                        </a:lnTo>
                        <a:lnTo>
                          <a:pt x="168" y="206"/>
                        </a:lnTo>
                        <a:lnTo>
                          <a:pt x="163" y="211"/>
                        </a:lnTo>
                        <a:lnTo>
                          <a:pt x="158" y="211"/>
                        </a:lnTo>
                        <a:lnTo>
                          <a:pt x="154" y="211"/>
                        </a:lnTo>
                        <a:lnTo>
                          <a:pt x="149" y="211"/>
                        </a:lnTo>
                        <a:lnTo>
                          <a:pt x="144" y="215"/>
                        </a:lnTo>
                        <a:lnTo>
                          <a:pt x="139" y="215"/>
                        </a:lnTo>
                        <a:lnTo>
                          <a:pt x="134" y="215"/>
                        </a:lnTo>
                        <a:lnTo>
                          <a:pt x="130" y="215"/>
                        </a:lnTo>
                        <a:lnTo>
                          <a:pt x="125" y="215"/>
                        </a:lnTo>
                        <a:lnTo>
                          <a:pt x="120" y="215"/>
                        </a:lnTo>
                        <a:lnTo>
                          <a:pt x="115" y="215"/>
                        </a:lnTo>
                        <a:lnTo>
                          <a:pt x="110" y="215"/>
                        </a:lnTo>
                        <a:lnTo>
                          <a:pt x="106" y="215"/>
                        </a:lnTo>
                        <a:lnTo>
                          <a:pt x="101" y="215"/>
                        </a:lnTo>
                        <a:lnTo>
                          <a:pt x="96" y="215"/>
                        </a:lnTo>
                        <a:lnTo>
                          <a:pt x="91" y="215"/>
                        </a:lnTo>
                        <a:lnTo>
                          <a:pt x="87" y="215"/>
                        </a:lnTo>
                        <a:lnTo>
                          <a:pt x="82" y="215"/>
                        </a:lnTo>
                        <a:lnTo>
                          <a:pt x="77" y="215"/>
                        </a:lnTo>
                        <a:lnTo>
                          <a:pt x="72" y="215"/>
                        </a:lnTo>
                        <a:lnTo>
                          <a:pt x="67" y="215"/>
                        </a:lnTo>
                        <a:lnTo>
                          <a:pt x="63" y="215"/>
                        </a:lnTo>
                        <a:lnTo>
                          <a:pt x="58" y="215"/>
                        </a:lnTo>
                        <a:lnTo>
                          <a:pt x="53" y="215"/>
                        </a:lnTo>
                        <a:lnTo>
                          <a:pt x="48" y="215"/>
                        </a:lnTo>
                        <a:lnTo>
                          <a:pt x="43" y="215"/>
                        </a:lnTo>
                        <a:lnTo>
                          <a:pt x="39" y="215"/>
                        </a:lnTo>
                        <a:lnTo>
                          <a:pt x="34" y="215"/>
                        </a:lnTo>
                        <a:lnTo>
                          <a:pt x="29" y="215"/>
                        </a:lnTo>
                        <a:lnTo>
                          <a:pt x="24" y="215"/>
                        </a:lnTo>
                        <a:lnTo>
                          <a:pt x="19" y="211"/>
                        </a:lnTo>
                        <a:lnTo>
                          <a:pt x="15" y="215"/>
                        </a:lnTo>
                        <a:lnTo>
                          <a:pt x="10" y="215"/>
                        </a:lnTo>
                        <a:lnTo>
                          <a:pt x="5" y="215"/>
                        </a:lnTo>
                        <a:lnTo>
                          <a:pt x="5" y="211"/>
                        </a:lnTo>
                        <a:lnTo>
                          <a:pt x="0" y="211"/>
                        </a:lnTo>
                        <a:lnTo>
                          <a:pt x="0" y="206"/>
                        </a:lnTo>
                        <a:lnTo>
                          <a:pt x="10" y="196"/>
                        </a:lnTo>
                        <a:lnTo>
                          <a:pt x="19" y="192"/>
                        </a:lnTo>
                        <a:lnTo>
                          <a:pt x="29" y="187"/>
                        </a:lnTo>
                        <a:lnTo>
                          <a:pt x="39" y="177"/>
                        </a:lnTo>
                        <a:lnTo>
                          <a:pt x="48" y="172"/>
                        </a:lnTo>
                        <a:lnTo>
                          <a:pt x="58" y="168"/>
                        </a:lnTo>
                        <a:lnTo>
                          <a:pt x="67" y="163"/>
                        </a:lnTo>
                        <a:lnTo>
                          <a:pt x="77" y="153"/>
                        </a:lnTo>
                        <a:lnTo>
                          <a:pt x="87" y="148"/>
                        </a:lnTo>
                        <a:lnTo>
                          <a:pt x="96" y="144"/>
                        </a:lnTo>
                        <a:lnTo>
                          <a:pt x="106" y="139"/>
                        </a:lnTo>
                        <a:lnTo>
                          <a:pt x="115" y="129"/>
                        </a:lnTo>
                        <a:lnTo>
                          <a:pt x="125" y="125"/>
                        </a:lnTo>
                        <a:lnTo>
                          <a:pt x="134" y="120"/>
                        </a:lnTo>
                        <a:lnTo>
                          <a:pt x="144" y="115"/>
                        </a:lnTo>
                        <a:lnTo>
                          <a:pt x="154" y="105"/>
                        </a:lnTo>
                        <a:lnTo>
                          <a:pt x="163" y="101"/>
                        </a:lnTo>
                        <a:lnTo>
                          <a:pt x="173" y="96"/>
                        </a:lnTo>
                        <a:lnTo>
                          <a:pt x="182" y="91"/>
                        </a:lnTo>
                        <a:lnTo>
                          <a:pt x="192" y="81"/>
                        </a:lnTo>
                        <a:lnTo>
                          <a:pt x="202" y="77"/>
                        </a:lnTo>
                        <a:lnTo>
                          <a:pt x="211" y="72"/>
                        </a:lnTo>
                        <a:lnTo>
                          <a:pt x="221" y="62"/>
                        </a:lnTo>
                        <a:lnTo>
                          <a:pt x="230" y="57"/>
                        </a:lnTo>
                        <a:lnTo>
                          <a:pt x="240" y="53"/>
                        </a:lnTo>
                        <a:lnTo>
                          <a:pt x="250" y="43"/>
                        </a:lnTo>
                        <a:lnTo>
                          <a:pt x="259" y="38"/>
                        </a:lnTo>
                        <a:lnTo>
                          <a:pt x="269" y="29"/>
                        </a:lnTo>
                        <a:lnTo>
                          <a:pt x="278" y="24"/>
                        </a:lnTo>
                        <a:lnTo>
                          <a:pt x="283" y="14"/>
                        </a:lnTo>
                        <a:lnTo>
                          <a:pt x="293" y="10"/>
                        </a:lnTo>
                        <a:lnTo>
                          <a:pt x="302" y="0"/>
                        </a:lnTo>
                        <a:close/>
                      </a:path>
                    </a:pathLst>
                  </a:custGeom>
                  <a:solidFill>
                    <a:srgbClr val="f5f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9" name=""/>
                  <p:cNvSpPr/>
                  <p:nvPr/>
                </p:nvSpPr>
                <p:spPr>
                  <a:xfrm flipH="1">
                    <a:off x="4381920" y="4807440"/>
                    <a:ext cx="11160" cy="5400"/>
                  </a:xfrm>
                  <a:custGeom>
                    <a:avLst/>
                    <a:gdLst/>
                    <a:ahLst/>
                    <a:rect l="l" t="t" r="r" b="b"/>
                    <a:pathLst>
                      <a:path w="67" h="34">
                        <a:moveTo>
                          <a:pt x="67" y="0"/>
                        </a:moveTo>
                        <a:lnTo>
                          <a:pt x="67" y="5"/>
                        </a:lnTo>
                        <a:lnTo>
                          <a:pt x="62" y="10"/>
                        </a:lnTo>
                        <a:lnTo>
                          <a:pt x="62" y="15"/>
                        </a:lnTo>
                        <a:lnTo>
                          <a:pt x="57" y="15"/>
                        </a:lnTo>
                        <a:lnTo>
                          <a:pt x="57" y="19"/>
                        </a:lnTo>
                        <a:lnTo>
                          <a:pt x="53" y="19"/>
                        </a:lnTo>
                        <a:lnTo>
                          <a:pt x="53" y="24"/>
                        </a:lnTo>
                        <a:lnTo>
                          <a:pt x="53" y="29"/>
                        </a:lnTo>
                        <a:lnTo>
                          <a:pt x="48" y="29"/>
                        </a:lnTo>
                        <a:lnTo>
                          <a:pt x="48" y="34"/>
                        </a:lnTo>
                        <a:lnTo>
                          <a:pt x="43" y="34"/>
                        </a:lnTo>
                        <a:lnTo>
                          <a:pt x="43" y="29"/>
                        </a:lnTo>
                        <a:lnTo>
                          <a:pt x="38" y="29"/>
                        </a:lnTo>
                        <a:lnTo>
                          <a:pt x="33" y="29"/>
                        </a:lnTo>
                        <a:lnTo>
                          <a:pt x="29" y="24"/>
                        </a:lnTo>
                        <a:lnTo>
                          <a:pt x="24" y="24"/>
                        </a:lnTo>
                        <a:lnTo>
                          <a:pt x="19" y="24"/>
                        </a:lnTo>
                        <a:lnTo>
                          <a:pt x="14" y="24"/>
                        </a:lnTo>
                        <a:lnTo>
                          <a:pt x="9" y="24"/>
                        </a:lnTo>
                        <a:lnTo>
                          <a:pt x="9" y="19"/>
                        </a:lnTo>
                        <a:lnTo>
                          <a:pt x="5" y="19"/>
                        </a:lnTo>
                        <a:lnTo>
                          <a:pt x="0" y="19"/>
                        </a:lnTo>
                        <a:lnTo>
                          <a:pt x="5" y="19"/>
                        </a:lnTo>
                        <a:lnTo>
                          <a:pt x="5" y="15"/>
                        </a:lnTo>
                        <a:lnTo>
                          <a:pt x="9" y="15"/>
                        </a:lnTo>
                        <a:lnTo>
                          <a:pt x="9" y="10"/>
                        </a:lnTo>
                        <a:lnTo>
                          <a:pt x="14" y="10"/>
                        </a:lnTo>
                        <a:lnTo>
                          <a:pt x="19" y="10"/>
                        </a:lnTo>
                        <a:lnTo>
                          <a:pt x="24" y="5"/>
                        </a:lnTo>
                        <a:lnTo>
                          <a:pt x="29" y="5"/>
                        </a:lnTo>
                        <a:lnTo>
                          <a:pt x="33" y="0"/>
                        </a:lnTo>
                        <a:lnTo>
                          <a:pt x="38" y="0"/>
                        </a:lnTo>
                        <a:lnTo>
                          <a:pt x="43" y="0"/>
                        </a:lnTo>
                        <a:lnTo>
                          <a:pt x="48" y="0"/>
                        </a:lnTo>
                        <a:lnTo>
                          <a:pt x="53" y="0"/>
                        </a:lnTo>
                        <a:lnTo>
                          <a:pt x="57" y="0"/>
                        </a:lnTo>
                        <a:lnTo>
                          <a:pt x="62" y="0"/>
                        </a:lnTo>
                        <a:lnTo>
                          <a:pt x="67" y="0"/>
                        </a:lnTo>
                        <a:close/>
                      </a:path>
                    </a:pathLst>
                  </a:custGeom>
                  <a:solidFill>
                    <a:srgbClr val="f5f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0" name=""/>
                  <p:cNvSpPr/>
                  <p:nvPr/>
                </p:nvSpPr>
                <p:spPr>
                  <a:xfrm flipH="1">
                    <a:off x="4260960" y="4809240"/>
                    <a:ext cx="1245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4" h="685">
                        <a:moveTo>
                          <a:pt x="422" y="5"/>
                        </a:moveTo>
                        <a:lnTo>
                          <a:pt x="427" y="9"/>
                        </a:lnTo>
                        <a:lnTo>
                          <a:pt x="436" y="9"/>
                        </a:lnTo>
                        <a:lnTo>
                          <a:pt x="441" y="9"/>
                        </a:lnTo>
                        <a:lnTo>
                          <a:pt x="446" y="9"/>
                        </a:lnTo>
                        <a:lnTo>
                          <a:pt x="456" y="14"/>
                        </a:lnTo>
                        <a:lnTo>
                          <a:pt x="460" y="14"/>
                        </a:lnTo>
                        <a:lnTo>
                          <a:pt x="470" y="14"/>
                        </a:lnTo>
                        <a:lnTo>
                          <a:pt x="475" y="14"/>
                        </a:lnTo>
                        <a:lnTo>
                          <a:pt x="484" y="14"/>
                        </a:lnTo>
                        <a:lnTo>
                          <a:pt x="489" y="19"/>
                        </a:lnTo>
                        <a:lnTo>
                          <a:pt x="499" y="19"/>
                        </a:lnTo>
                        <a:lnTo>
                          <a:pt x="504" y="19"/>
                        </a:lnTo>
                        <a:lnTo>
                          <a:pt x="513" y="19"/>
                        </a:lnTo>
                        <a:lnTo>
                          <a:pt x="518" y="24"/>
                        </a:lnTo>
                        <a:lnTo>
                          <a:pt x="528" y="24"/>
                        </a:lnTo>
                        <a:lnTo>
                          <a:pt x="532" y="24"/>
                        </a:lnTo>
                        <a:lnTo>
                          <a:pt x="537" y="29"/>
                        </a:lnTo>
                        <a:lnTo>
                          <a:pt x="547" y="29"/>
                        </a:lnTo>
                        <a:lnTo>
                          <a:pt x="552" y="33"/>
                        </a:lnTo>
                        <a:lnTo>
                          <a:pt x="556" y="33"/>
                        </a:lnTo>
                        <a:lnTo>
                          <a:pt x="566" y="38"/>
                        </a:lnTo>
                        <a:lnTo>
                          <a:pt x="571" y="43"/>
                        </a:lnTo>
                        <a:lnTo>
                          <a:pt x="575" y="43"/>
                        </a:lnTo>
                        <a:lnTo>
                          <a:pt x="580" y="48"/>
                        </a:lnTo>
                        <a:lnTo>
                          <a:pt x="585" y="53"/>
                        </a:lnTo>
                        <a:lnTo>
                          <a:pt x="595" y="57"/>
                        </a:lnTo>
                        <a:lnTo>
                          <a:pt x="599" y="62"/>
                        </a:lnTo>
                        <a:lnTo>
                          <a:pt x="599" y="67"/>
                        </a:lnTo>
                        <a:lnTo>
                          <a:pt x="604" y="77"/>
                        </a:lnTo>
                        <a:lnTo>
                          <a:pt x="609" y="81"/>
                        </a:lnTo>
                        <a:lnTo>
                          <a:pt x="614" y="91"/>
                        </a:lnTo>
                        <a:lnTo>
                          <a:pt x="619" y="96"/>
                        </a:lnTo>
                        <a:lnTo>
                          <a:pt x="623" y="105"/>
                        </a:lnTo>
                        <a:lnTo>
                          <a:pt x="628" y="115"/>
                        </a:lnTo>
                        <a:lnTo>
                          <a:pt x="633" y="124"/>
                        </a:lnTo>
                        <a:lnTo>
                          <a:pt x="638" y="134"/>
                        </a:lnTo>
                        <a:lnTo>
                          <a:pt x="643" y="144"/>
                        </a:lnTo>
                        <a:lnTo>
                          <a:pt x="647" y="148"/>
                        </a:lnTo>
                        <a:lnTo>
                          <a:pt x="652" y="158"/>
                        </a:lnTo>
                        <a:lnTo>
                          <a:pt x="657" y="167"/>
                        </a:lnTo>
                        <a:lnTo>
                          <a:pt x="662" y="177"/>
                        </a:lnTo>
                        <a:lnTo>
                          <a:pt x="662" y="187"/>
                        </a:lnTo>
                        <a:lnTo>
                          <a:pt x="667" y="196"/>
                        </a:lnTo>
                        <a:lnTo>
                          <a:pt x="671" y="206"/>
                        </a:lnTo>
                        <a:lnTo>
                          <a:pt x="676" y="215"/>
                        </a:lnTo>
                        <a:lnTo>
                          <a:pt x="681" y="225"/>
                        </a:lnTo>
                        <a:lnTo>
                          <a:pt x="686" y="235"/>
                        </a:lnTo>
                        <a:lnTo>
                          <a:pt x="686" y="249"/>
                        </a:lnTo>
                        <a:lnTo>
                          <a:pt x="691" y="258"/>
                        </a:lnTo>
                        <a:lnTo>
                          <a:pt x="695" y="268"/>
                        </a:lnTo>
                        <a:lnTo>
                          <a:pt x="695" y="278"/>
                        </a:lnTo>
                        <a:lnTo>
                          <a:pt x="700" y="287"/>
                        </a:lnTo>
                        <a:lnTo>
                          <a:pt x="705" y="297"/>
                        </a:lnTo>
                        <a:lnTo>
                          <a:pt x="705" y="306"/>
                        </a:lnTo>
                        <a:lnTo>
                          <a:pt x="710" y="316"/>
                        </a:lnTo>
                        <a:lnTo>
                          <a:pt x="710" y="326"/>
                        </a:lnTo>
                        <a:lnTo>
                          <a:pt x="715" y="335"/>
                        </a:lnTo>
                        <a:lnTo>
                          <a:pt x="715" y="345"/>
                        </a:lnTo>
                        <a:lnTo>
                          <a:pt x="715" y="354"/>
                        </a:lnTo>
                        <a:lnTo>
                          <a:pt x="719" y="364"/>
                        </a:lnTo>
                        <a:lnTo>
                          <a:pt x="719" y="373"/>
                        </a:lnTo>
                        <a:lnTo>
                          <a:pt x="719" y="388"/>
                        </a:lnTo>
                        <a:lnTo>
                          <a:pt x="724" y="397"/>
                        </a:lnTo>
                        <a:lnTo>
                          <a:pt x="724" y="407"/>
                        </a:lnTo>
                        <a:lnTo>
                          <a:pt x="724" y="412"/>
                        </a:lnTo>
                        <a:lnTo>
                          <a:pt x="724" y="416"/>
                        </a:lnTo>
                        <a:lnTo>
                          <a:pt x="729" y="421"/>
                        </a:lnTo>
                        <a:lnTo>
                          <a:pt x="729" y="426"/>
                        </a:lnTo>
                        <a:lnTo>
                          <a:pt x="729" y="431"/>
                        </a:lnTo>
                        <a:lnTo>
                          <a:pt x="729" y="436"/>
                        </a:lnTo>
                        <a:lnTo>
                          <a:pt x="729" y="440"/>
                        </a:lnTo>
                        <a:lnTo>
                          <a:pt x="729" y="445"/>
                        </a:lnTo>
                        <a:lnTo>
                          <a:pt x="734" y="450"/>
                        </a:lnTo>
                        <a:lnTo>
                          <a:pt x="734" y="455"/>
                        </a:lnTo>
                        <a:lnTo>
                          <a:pt x="734" y="460"/>
                        </a:lnTo>
                        <a:lnTo>
                          <a:pt x="734" y="469"/>
                        </a:lnTo>
                        <a:lnTo>
                          <a:pt x="734" y="474"/>
                        </a:lnTo>
                        <a:lnTo>
                          <a:pt x="734" y="479"/>
                        </a:lnTo>
                        <a:lnTo>
                          <a:pt x="734" y="484"/>
                        </a:lnTo>
                        <a:lnTo>
                          <a:pt x="734" y="488"/>
                        </a:lnTo>
                        <a:lnTo>
                          <a:pt x="734" y="493"/>
                        </a:lnTo>
                        <a:lnTo>
                          <a:pt x="734" y="498"/>
                        </a:lnTo>
                        <a:lnTo>
                          <a:pt x="734" y="503"/>
                        </a:lnTo>
                        <a:lnTo>
                          <a:pt x="734" y="507"/>
                        </a:lnTo>
                        <a:lnTo>
                          <a:pt x="734" y="517"/>
                        </a:lnTo>
                        <a:lnTo>
                          <a:pt x="734" y="522"/>
                        </a:lnTo>
                        <a:lnTo>
                          <a:pt x="734" y="527"/>
                        </a:lnTo>
                        <a:lnTo>
                          <a:pt x="729" y="531"/>
                        </a:lnTo>
                        <a:lnTo>
                          <a:pt x="729" y="536"/>
                        </a:lnTo>
                        <a:lnTo>
                          <a:pt x="729" y="541"/>
                        </a:lnTo>
                        <a:lnTo>
                          <a:pt x="729" y="551"/>
                        </a:lnTo>
                        <a:lnTo>
                          <a:pt x="729" y="555"/>
                        </a:lnTo>
                        <a:lnTo>
                          <a:pt x="729" y="560"/>
                        </a:lnTo>
                        <a:lnTo>
                          <a:pt x="729" y="565"/>
                        </a:lnTo>
                        <a:lnTo>
                          <a:pt x="729" y="570"/>
                        </a:lnTo>
                        <a:lnTo>
                          <a:pt x="729" y="574"/>
                        </a:lnTo>
                        <a:lnTo>
                          <a:pt x="729" y="579"/>
                        </a:lnTo>
                        <a:lnTo>
                          <a:pt x="729" y="584"/>
                        </a:lnTo>
                        <a:lnTo>
                          <a:pt x="724" y="584"/>
                        </a:lnTo>
                        <a:lnTo>
                          <a:pt x="724" y="589"/>
                        </a:lnTo>
                        <a:lnTo>
                          <a:pt x="724" y="594"/>
                        </a:lnTo>
                        <a:lnTo>
                          <a:pt x="724" y="598"/>
                        </a:lnTo>
                        <a:lnTo>
                          <a:pt x="719" y="598"/>
                        </a:lnTo>
                        <a:lnTo>
                          <a:pt x="719" y="603"/>
                        </a:lnTo>
                        <a:lnTo>
                          <a:pt x="719" y="608"/>
                        </a:lnTo>
                        <a:lnTo>
                          <a:pt x="719" y="613"/>
                        </a:lnTo>
                        <a:lnTo>
                          <a:pt x="715" y="613"/>
                        </a:lnTo>
                        <a:lnTo>
                          <a:pt x="715" y="618"/>
                        </a:lnTo>
                        <a:lnTo>
                          <a:pt x="715" y="622"/>
                        </a:lnTo>
                        <a:lnTo>
                          <a:pt x="710" y="627"/>
                        </a:lnTo>
                        <a:lnTo>
                          <a:pt x="710" y="632"/>
                        </a:lnTo>
                        <a:lnTo>
                          <a:pt x="705" y="622"/>
                        </a:lnTo>
                        <a:lnTo>
                          <a:pt x="705" y="613"/>
                        </a:lnTo>
                        <a:lnTo>
                          <a:pt x="700" y="608"/>
                        </a:lnTo>
                        <a:lnTo>
                          <a:pt x="700" y="598"/>
                        </a:lnTo>
                        <a:lnTo>
                          <a:pt x="695" y="589"/>
                        </a:lnTo>
                        <a:lnTo>
                          <a:pt x="691" y="579"/>
                        </a:lnTo>
                        <a:lnTo>
                          <a:pt x="691" y="570"/>
                        </a:lnTo>
                        <a:lnTo>
                          <a:pt x="686" y="560"/>
                        </a:lnTo>
                        <a:lnTo>
                          <a:pt x="686" y="551"/>
                        </a:lnTo>
                        <a:lnTo>
                          <a:pt x="681" y="546"/>
                        </a:lnTo>
                        <a:lnTo>
                          <a:pt x="681" y="536"/>
                        </a:lnTo>
                        <a:lnTo>
                          <a:pt x="676" y="527"/>
                        </a:lnTo>
                        <a:lnTo>
                          <a:pt x="671" y="517"/>
                        </a:lnTo>
                        <a:lnTo>
                          <a:pt x="671" y="507"/>
                        </a:lnTo>
                        <a:lnTo>
                          <a:pt x="667" y="498"/>
                        </a:lnTo>
                        <a:lnTo>
                          <a:pt x="667" y="488"/>
                        </a:lnTo>
                        <a:lnTo>
                          <a:pt x="662" y="484"/>
                        </a:lnTo>
                        <a:lnTo>
                          <a:pt x="657" y="474"/>
                        </a:lnTo>
                        <a:lnTo>
                          <a:pt x="657" y="464"/>
                        </a:lnTo>
                        <a:lnTo>
                          <a:pt x="652" y="455"/>
                        </a:lnTo>
                        <a:lnTo>
                          <a:pt x="647" y="445"/>
                        </a:lnTo>
                        <a:lnTo>
                          <a:pt x="647" y="436"/>
                        </a:lnTo>
                        <a:lnTo>
                          <a:pt x="643" y="431"/>
                        </a:lnTo>
                        <a:lnTo>
                          <a:pt x="638" y="421"/>
                        </a:lnTo>
                        <a:lnTo>
                          <a:pt x="638" y="412"/>
                        </a:lnTo>
                        <a:lnTo>
                          <a:pt x="633" y="402"/>
                        </a:lnTo>
                        <a:lnTo>
                          <a:pt x="628" y="397"/>
                        </a:lnTo>
                        <a:lnTo>
                          <a:pt x="623" y="388"/>
                        </a:lnTo>
                        <a:lnTo>
                          <a:pt x="623" y="378"/>
                        </a:lnTo>
                        <a:lnTo>
                          <a:pt x="619" y="373"/>
                        </a:lnTo>
                        <a:lnTo>
                          <a:pt x="614" y="364"/>
                        </a:lnTo>
                        <a:lnTo>
                          <a:pt x="609" y="354"/>
                        </a:lnTo>
                        <a:lnTo>
                          <a:pt x="604" y="349"/>
                        </a:lnTo>
                        <a:lnTo>
                          <a:pt x="599" y="349"/>
                        </a:lnTo>
                        <a:lnTo>
                          <a:pt x="595" y="345"/>
                        </a:lnTo>
                        <a:lnTo>
                          <a:pt x="590" y="345"/>
                        </a:lnTo>
                        <a:lnTo>
                          <a:pt x="585" y="345"/>
                        </a:lnTo>
                        <a:lnTo>
                          <a:pt x="585" y="349"/>
                        </a:lnTo>
                        <a:lnTo>
                          <a:pt x="580" y="349"/>
                        </a:lnTo>
                        <a:lnTo>
                          <a:pt x="575" y="349"/>
                        </a:lnTo>
                        <a:lnTo>
                          <a:pt x="571" y="354"/>
                        </a:lnTo>
                        <a:lnTo>
                          <a:pt x="566" y="354"/>
                        </a:lnTo>
                        <a:lnTo>
                          <a:pt x="566" y="359"/>
                        </a:lnTo>
                        <a:lnTo>
                          <a:pt x="566" y="364"/>
                        </a:lnTo>
                        <a:lnTo>
                          <a:pt x="566" y="369"/>
                        </a:lnTo>
                        <a:lnTo>
                          <a:pt x="566" y="373"/>
                        </a:lnTo>
                        <a:lnTo>
                          <a:pt x="566" y="378"/>
                        </a:lnTo>
                        <a:lnTo>
                          <a:pt x="566" y="383"/>
                        </a:lnTo>
                        <a:lnTo>
                          <a:pt x="566" y="388"/>
                        </a:lnTo>
                        <a:lnTo>
                          <a:pt x="571" y="393"/>
                        </a:lnTo>
                        <a:lnTo>
                          <a:pt x="575" y="393"/>
                        </a:lnTo>
                        <a:lnTo>
                          <a:pt x="575" y="397"/>
                        </a:lnTo>
                        <a:lnTo>
                          <a:pt x="580" y="402"/>
                        </a:lnTo>
                        <a:lnTo>
                          <a:pt x="580" y="407"/>
                        </a:lnTo>
                        <a:lnTo>
                          <a:pt x="585" y="412"/>
                        </a:lnTo>
                        <a:lnTo>
                          <a:pt x="585" y="416"/>
                        </a:lnTo>
                        <a:lnTo>
                          <a:pt x="590" y="421"/>
                        </a:lnTo>
                        <a:lnTo>
                          <a:pt x="590" y="426"/>
                        </a:lnTo>
                        <a:lnTo>
                          <a:pt x="595" y="431"/>
                        </a:lnTo>
                        <a:lnTo>
                          <a:pt x="595" y="436"/>
                        </a:lnTo>
                        <a:lnTo>
                          <a:pt x="599" y="440"/>
                        </a:lnTo>
                        <a:lnTo>
                          <a:pt x="599" y="445"/>
                        </a:lnTo>
                        <a:lnTo>
                          <a:pt x="604" y="450"/>
                        </a:lnTo>
                        <a:lnTo>
                          <a:pt x="604" y="455"/>
                        </a:lnTo>
                        <a:lnTo>
                          <a:pt x="609" y="460"/>
                        </a:lnTo>
                        <a:lnTo>
                          <a:pt x="609" y="464"/>
                        </a:lnTo>
                        <a:lnTo>
                          <a:pt x="609" y="469"/>
                        </a:lnTo>
                        <a:lnTo>
                          <a:pt x="614" y="474"/>
                        </a:lnTo>
                        <a:lnTo>
                          <a:pt x="614" y="479"/>
                        </a:lnTo>
                        <a:lnTo>
                          <a:pt x="619" y="484"/>
                        </a:lnTo>
                        <a:lnTo>
                          <a:pt x="619" y="493"/>
                        </a:lnTo>
                        <a:lnTo>
                          <a:pt x="619" y="498"/>
                        </a:lnTo>
                        <a:lnTo>
                          <a:pt x="619" y="503"/>
                        </a:lnTo>
                        <a:lnTo>
                          <a:pt x="623" y="507"/>
                        </a:lnTo>
                        <a:lnTo>
                          <a:pt x="623" y="512"/>
                        </a:lnTo>
                        <a:lnTo>
                          <a:pt x="623" y="517"/>
                        </a:lnTo>
                        <a:lnTo>
                          <a:pt x="623" y="522"/>
                        </a:lnTo>
                        <a:lnTo>
                          <a:pt x="628" y="527"/>
                        </a:lnTo>
                        <a:lnTo>
                          <a:pt x="628" y="531"/>
                        </a:lnTo>
                        <a:lnTo>
                          <a:pt x="628" y="541"/>
                        </a:lnTo>
                        <a:lnTo>
                          <a:pt x="628" y="546"/>
                        </a:lnTo>
                        <a:lnTo>
                          <a:pt x="633" y="546"/>
                        </a:lnTo>
                        <a:lnTo>
                          <a:pt x="633" y="551"/>
                        </a:lnTo>
                        <a:lnTo>
                          <a:pt x="633" y="555"/>
                        </a:lnTo>
                        <a:lnTo>
                          <a:pt x="638" y="555"/>
                        </a:lnTo>
                        <a:lnTo>
                          <a:pt x="638" y="560"/>
                        </a:lnTo>
                        <a:lnTo>
                          <a:pt x="638" y="565"/>
                        </a:lnTo>
                        <a:lnTo>
                          <a:pt x="643" y="570"/>
                        </a:lnTo>
                        <a:lnTo>
                          <a:pt x="643" y="574"/>
                        </a:lnTo>
                        <a:lnTo>
                          <a:pt x="643" y="579"/>
                        </a:lnTo>
                        <a:lnTo>
                          <a:pt x="647" y="584"/>
                        </a:lnTo>
                        <a:lnTo>
                          <a:pt x="647" y="589"/>
                        </a:lnTo>
                        <a:lnTo>
                          <a:pt x="647" y="594"/>
                        </a:lnTo>
                        <a:lnTo>
                          <a:pt x="647" y="598"/>
                        </a:lnTo>
                        <a:lnTo>
                          <a:pt x="647" y="603"/>
                        </a:lnTo>
                        <a:lnTo>
                          <a:pt x="652" y="603"/>
                        </a:lnTo>
                        <a:lnTo>
                          <a:pt x="652" y="608"/>
                        </a:lnTo>
                        <a:lnTo>
                          <a:pt x="652" y="618"/>
                        </a:lnTo>
                        <a:lnTo>
                          <a:pt x="643" y="618"/>
                        </a:lnTo>
                        <a:lnTo>
                          <a:pt x="638" y="622"/>
                        </a:lnTo>
                        <a:lnTo>
                          <a:pt x="628" y="627"/>
                        </a:lnTo>
                        <a:lnTo>
                          <a:pt x="623" y="632"/>
                        </a:lnTo>
                        <a:lnTo>
                          <a:pt x="614" y="637"/>
                        </a:lnTo>
                        <a:lnTo>
                          <a:pt x="604" y="637"/>
                        </a:lnTo>
                        <a:lnTo>
                          <a:pt x="599" y="642"/>
                        </a:lnTo>
                        <a:lnTo>
                          <a:pt x="590" y="646"/>
                        </a:lnTo>
                        <a:lnTo>
                          <a:pt x="585" y="646"/>
                        </a:lnTo>
                        <a:lnTo>
                          <a:pt x="575" y="651"/>
                        </a:lnTo>
                        <a:lnTo>
                          <a:pt x="566" y="651"/>
                        </a:lnTo>
                        <a:lnTo>
                          <a:pt x="556" y="656"/>
                        </a:lnTo>
                        <a:lnTo>
                          <a:pt x="552" y="656"/>
                        </a:lnTo>
                        <a:lnTo>
                          <a:pt x="542" y="656"/>
                        </a:lnTo>
                        <a:lnTo>
                          <a:pt x="532" y="661"/>
                        </a:lnTo>
                        <a:lnTo>
                          <a:pt x="528" y="661"/>
                        </a:lnTo>
                        <a:lnTo>
                          <a:pt x="518" y="661"/>
                        </a:lnTo>
                        <a:lnTo>
                          <a:pt x="508" y="665"/>
                        </a:lnTo>
                        <a:lnTo>
                          <a:pt x="499" y="665"/>
                        </a:lnTo>
                        <a:lnTo>
                          <a:pt x="494" y="665"/>
                        </a:lnTo>
                        <a:lnTo>
                          <a:pt x="484" y="665"/>
                        </a:lnTo>
                        <a:lnTo>
                          <a:pt x="475" y="670"/>
                        </a:lnTo>
                        <a:lnTo>
                          <a:pt x="465" y="670"/>
                        </a:lnTo>
                        <a:lnTo>
                          <a:pt x="460" y="670"/>
                        </a:lnTo>
                        <a:lnTo>
                          <a:pt x="451" y="670"/>
                        </a:lnTo>
                        <a:lnTo>
                          <a:pt x="441" y="670"/>
                        </a:lnTo>
                        <a:lnTo>
                          <a:pt x="432" y="675"/>
                        </a:lnTo>
                        <a:lnTo>
                          <a:pt x="427" y="675"/>
                        </a:lnTo>
                        <a:lnTo>
                          <a:pt x="417" y="675"/>
                        </a:lnTo>
                        <a:lnTo>
                          <a:pt x="408" y="675"/>
                        </a:lnTo>
                        <a:lnTo>
                          <a:pt x="398" y="680"/>
                        </a:lnTo>
                        <a:lnTo>
                          <a:pt x="393" y="680"/>
                        </a:lnTo>
                        <a:lnTo>
                          <a:pt x="384" y="680"/>
                        </a:lnTo>
                        <a:lnTo>
                          <a:pt x="379" y="680"/>
                        </a:lnTo>
                        <a:lnTo>
                          <a:pt x="369" y="680"/>
                        </a:lnTo>
                        <a:lnTo>
                          <a:pt x="364" y="680"/>
                        </a:lnTo>
                        <a:lnTo>
                          <a:pt x="355" y="680"/>
                        </a:lnTo>
                        <a:lnTo>
                          <a:pt x="350" y="685"/>
                        </a:lnTo>
                        <a:lnTo>
                          <a:pt x="340" y="685"/>
                        </a:lnTo>
                        <a:lnTo>
                          <a:pt x="331" y="685"/>
                        </a:lnTo>
                        <a:lnTo>
                          <a:pt x="326" y="685"/>
                        </a:lnTo>
                        <a:lnTo>
                          <a:pt x="316" y="685"/>
                        </a:lnTo>
                        <a:lnTo>
                          <a:pt x="312" y="685"/>
                        </a:lnTo>
                        <a:lnTo>
                          <a:pt x="302" y="685"/>
                        </a:lnTo>
                        <a:lnTo>
                          <a:pt x="297" y="685"/>
                        </a:lnTo>
                        <a:lnTo>
                          <a:pt x="288" y="685"/>
                        </a:lnTo>
                        <a:lnTo>
                          <a:pt x="278" y="685"/>
                        </a:lnTo>
                        <a:lnTo>
                          <a:pt x="273" y="685"/>
                        </a:lnTo>
                        <a:lnTo>
                          <a:pt x="264" y="685"/>
                        </a:lnTo>
                        <a:lnTo>
                          <a:pt x="259" y="685"/>
                        </a:lnTo>
                        <a:lnTo>
                          <a:pt x="249" y="685"/>
                        </a:lnTo>
                        <a:lnTo>
                          <a:pt x="244" y="685"/>
                        </a:lnTo>
                        <a:lnTo>
                          <a:pt x="235" y="685"/>
                        </a:lnTo>
                        <a:lnTo>
                          <a:pt x="225" y="685"/>
                        </a:lnTo>
                        <a:lnTo>
                          <a:pt x="221" y="685"/>
                        </a:lnTo>
                        <a:lnTo>
                          <a:pt x="211" y="685"/>
                        </a:lnTo>
                        <a:lnTo>
                          <a:pt x="206" y="680"/>
                        </a:lnTo>
                        <a:lnTo>
                          <a:pt x="197" y="680"/>
                        </a:lnTo>
                        <a:lnTo>
                          <a:pt x="192" y="680"/>
                        </a:lnTo>
                        <a:lnTo>
                          <a:pt x="182" y="680"/>
                        </a:lnTo>
                        <a:lnTo>
                          <a:pt x="173" y="675"/>
                        </a:lnTo>
                        <a:lnTo>
                          <a:pt x="168" y="675"/>
                        </a:lnTo>
                        <a:lnTo>
                          <a:pt x="158" y="675"/>
                        </a:lnTo>
                        <a:lnTo>
                          <a:pt x="153" y="670"/>
                        </a:lnTo>
                        <a:lnTo>
                          <a:pt x="149" y="656"/>
                        </a:lnTo>
                        <a:lnTo>
                          <a:pt x="139" y="642"/>
                        </a:lnTo>
                        <a:lnTo>
                          <a:pt x="134" y="627"/>
                        </a:lnTo>
                        <a:lnTo>
                          <a:pt x="129" y="613"/>
                        </a:lnTo>
                        <a:lnTo>
                          <a:pt x="120" y="598"/>
                        </a:lnTo>
                        <a:lnTo>
                          <a:pt x="115" y="584"/>
                        </a:lnTo>
                        <a:lnTo>
                          <a:pt x="110" y="570"/>
                        </a:lnTo>
                        <a:lnTo>
                          <a:pt x="101" y="555"/>
                        </a:lnTo>
                        <a:lnTo>
                          <a:pt x="96" y="541"/>
                        </a:lnTo>
                        <a:lnTo>
                          <a:pt x="91" y="527"/>
                        </a:lnTo>
                        <a:lnTo>
                          <a:pt x="81" y="512"/>
                        </a:lnTo>
                        <a:lnTo>
                          <a:pt x="77" y="498"/>
                        </a:lnTo>
                        <a:lnTo>
                          <a:pt x="72" y="484"/>
                        </a:lnTo>
                        <a:lnTo>
                          <a:pt x="67" y="469"/>
                        </a:lnTo>
                        <a:lnTo>
                          <a:pt x="57" y="455"/>
                        </a:lnTo>
                        <a:lnTo>
                          <a:pt x="53" y="436"/>
                        </a:lnTo>
                        <a:lnTo>
                          <a:pt x="48" y="421"/>
                        </a:lnTo>
                        <a:lnTo>
                          <a:pt x="43" y="407"/>
                        </a:lnTo>
                        <a:lnTo>
                          <a:pt x="38" y="393"/>
                        </a:lnTo>
                        <a:lnTo>
                          <a:pt x="33" y="378"/>
                        </a:lnTo>
                        <a:lnTo>
                          <a:pt x="29" y="359"/>
                        </a:lnTo>
                        <a:lnTo>
                          <a:pt x="24" y="345"/>
                        </a:lnTo>
                        <a:lnTo>
                          <a:pt x="19" y="330"/>
                        </a:lnTo>
                        <a:lnTo>
                          <a:pt x="14" y="316"/>
                        </a:lnTo>
                        <a:lnTo>
                          <a:pt x="14" y="297"/>
                        </a:lnTo>
                        <a:lnTo>
                          <a:pt x="9" y="282"/>
                        </a:lnTo>
                        <a:lnTo>
                          <a:pt x="9" y="268"/>
                        </a:lnTo>
                        <a:lnTo>
                          <a:pt x="5" y="249"/>
                        </a:lnTo>
                        <a:lnTo>
                          <a:pt x="5" y="235"/>
                        </a:lnTo>
                        <a:lnTo>
                          <a:pt x="0" y="220"/>
                        </a:lnTo>
                        <a:lnTo>
                          <a:pt x="0" y="201"/>
                        </a:lnTo>
                        <a:lnTo>
                          <a:pt x="0" y="187"/>
                        </a:lnTo>
                        <a:lnTo>
                          <a:pt x="0" y="177"/>
                        </a:lnTo>
                        <a:lnTo>
                          <a:pt x="0" y="172"/>
                        </a:lnTo>
                        <a:lnTo>
                          <a:pt x="0" y="167"/>
                        </a:lnTo>
                        <a:lnTo>
                          <a:pt x="0" y="163"/>
                        </a:lnTo>
                        <a:lnTo>
                          <a:pt x="0" y="158"/>
                        </a:lnTo>
                        <a:lnTo>
                          <a:pt x="0" y="148"/>
                        </a:lnTo>
                        <a:lnTo>
                          <a:pt x="5" y="144"/>
                        </a:lnTo>
                        <a:lnTo>
                          <a:pt x="5" y="139"/>
                        </a:lnTo>
                        <a:lnTo>
                          <a:pt x="5" y="134"/>
                        </a:lnTo>
                        <a:lnTo>
                          <a:pt x="5" y="124"/>
                        </a:lnTo>
                        <a:lnTo>
                          <a:pt x="9" y="120"/>
                        </a:lnTo>
                        <a:lnTo>
                          <a:pt x="9" y="115"/>
                        </a:lnTo>
                        <a:lnTo>
                          <a:pt x="9" y="110"/>
                        </a:lnTo>
                        <a:lnTo>
                          <a:pt x="14" y="100"/>
                        </a:lnTo>
                        <a:lnTo>
                          <a:pt x="14" y="96"/>
                        </a:lnTo>
                        <a:lnTo>
                          <a:pt x="19" y="91"/>
                        </a:lnTo>
                        <a:lnTo>
                          <a:pt x="19" y="86"/>
                        </a:lnTo>
                        <a:lnTo>
                          <a:pt x="24" y="77"/>
                        </a:lnTo>
                        <a:lnTo>
                          <a:pt x="29" y="72"/>
                        </a:lnTo>
                        <a:lnTo>
                          <a:pt x="29" y="67"/>
                        </a:lnTo>
                        <a:lnTo>
                          <a:pt x="33" y="62"/>
                        </a:lnTo>
                        <a:lnTo>
                          <a:pt x="38" y="57"/>
                        </a:lnTo>
                        <a:lnTo>
                          <a:pt x="38" y="53"/>
                        </a:lnTo>
                        <a:lnTo>
                          <a:pt x="43" y="48"/>
                        </a:lnTo>
                        <a:lnTo>
                          <a:pt x="48" y="43"/>
                        </a:lnTo>
                        <a:lnTo>
                          <a:pt x="53" y="38"/>
                        </a:lnTo>
                        <a:lnTo>
                          <a:pt x="57" y="33"/>
                        </a:lnTo>
                        <a:lnTo>
                          <a:pt x="62" y="29"/>
                        </a:lnTo>
                        <a:lnTo>
                          <a:pt x="67" y="24"/>
                        </a:lnTo>
                        <a:lnTo>
                          <a:pt x="72" y="19"/>
                        </a:lnTo>
                        <a:lnTo>
                          <a:pt x="77" y="14"/>
                        </a:lnTo>
                        <a:lnTo>
                          <a:pt x="81" y="9"/>
                        </a:lnTo>
                        <a:lnTo>
                          <a:pt x="86" y="0"/>
                        </a:lnTo>
                        <a:lnTo>
                          <a:pt x="96" y="0"/>
                        </a:lnTo>
                        <a:lnTo>
                          <a:pt x="105" y="0"/>
                        </a:lnTo>
                        <a:lnTo>
                          <a:pt x="115" y="5"/>
                        </a:lnTo>
                        <a:lnTo>
                          <a:pt x="129" y="5"/>
                        </a:lnTo>
                        <a:lnTo>
                          <a:pt x="139" y="5"/>
                        </a:lnTo>
                        <a:lnTo>
                          <a:pt x="149" y="5"/>
                        </a:lnTo>
                        <a:lnTo>
                          <a:pt x="158" y="5"/>
                        </a:lnTo>
                        <a:lnTo>
                          <a:pt x="173" y="9"/>
                        </a:lnTo>
                        <a:lnTo>
                          <a:pt x="182" y="9"/>
                        </a:lnTo>
                        <a:lnTo>
                          <a:pt x="192" y="9"/>
                        </a:lnTo>
                        <a:lnTo>
                          <a:pt x="201" y="9"/>
                        </a:lnTo>
                        <a:lnTo>
                          <a:pt x="211" y="9"/>
                        </a:lnTo>
                        <a:lnTo>
                          <a:pt x="221" y="14"/>
                        </a:lnTo>
                        <a:lnTo>
                          <a:pt x="235" y="14"/>
                        </a:lnTo>
                        <a:lnTo>
                          <a:pt x="244" y="14"/>
                        </a:lnTo>
                        <a:lnTo>
                          <a:pt x="254" y="14"/>
                        </a:lnTo>
                        <a:lnTo>
                          <a:pt x="264" y="14"/>
                        </a:lnTo>
                        <a:lnTo>
                          <a:pt x="273" y="14"/>
                        </a:lnTo>
                        <a:lnTo>
                          <a:pt x="288" y="14"/>
                        </a:lnTo>
                        <a:lnTo>
                          <a:pt x="297" y="14"/>
                        </a:lnTo>
                        <a:lnTo>
                          <a:pt x="307" y="14"/>
                        </a:lnTo>
                        <a:lnTo>
                          <a:pt x="316" y="14"/>
                        </a:lnTo>
                        <a:lnTo>
                          <a:pt x="326" y="14"/>
                        </a:lnTo>
                        <a:lnTo>
                          <a:pt x="336" y="14"/>
                        </a:lnTo>
                        <a:lnTo>
                          <a:pt x="350" y="14"/>
                        </a:lnTo>
                        <a:lnTo>
                          <a:pt x="360" y="14"/>
                        </a:lnTo>
                        <a:lnTo>
                          <a:pt x="369" y="14"/>
                        </a:lnTo>
                        <a:lnTo>
                          <a:pt x="379" y="14"/>
                        </a:lnTo>
                        <a:lnTo>
                          <a:pt x="388" y="9"/>
                        </a:lnTo>
                        <a:lnTo>
                          <a:pt x="403" y="9"/>
                        </a:lnTo>
                        <a:lnTo>
                          <a:pt x="412" y="9"/>
                        </a:lnTo>
                        <a:lnTo>
                          <a:pt x="422" y="5"/>
                        </a:lnTo>
                        <a:close/>
                      </a:path>
                    </a:pathLst>
                  </a:custGeom>
                  <a:solidFill>
                    <a:srgbClr val="ffd9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1" name=""/>
                  <p:cNvSpPr/>
                  <p:nvPr/>
                </p:nvSpPr>
                <p:spPr>
                  <a:xfrm flipH="1">
                    <a:off x="4376520" y="4809240"/>
                    <a:ext cx="143280" cy="115200"/>
                  </a:xfrm>
                  <a:custGeom>
                    <a:avLst/>
                    <a:gdLst/>
                    <a:ahLst/>
                    <a:rect l="l" t="t" r="r" b="b"/>
                    <a:pathLst>
                      <a:path w="845" h="704">
                        <a:moveTo>
                          <a:pt x="658" y="33"/>
                        </a:moveTo>
                        <a:lnTo>
                          <a:pt x="658" y="38"/>
                        </a:lnTo>
                        <a:lnTo>
                          <a:pt x="662" y="38"/>
                        </a:lnTo>
                        <a:lnTo>
                          <a:pt x="662" y="43"/>
                        </a:lnTo>
                        <a:lnTo>
                          <a:pt x="667" y="43"/>
                        </a:lnTo>
                        <a:lnTo>
                          <a:pt x="672" y="48"/>
                        </a:lnTo>
                        <a:lnTo>
                          <a:pt x="677" y="48"/>
                        </a:lnTo>
                        <a:lnTo>
                          <a:pt x="682" y="48"/>
                        </a:lnTo>
                        <a:lnTo>
                          <a:pt x="686" y="53"/>
                        </a:lnTo>
                        <a:lnTo>
                          <a:pt x="691" y="53"/>
                        </a:lnTo>
                        <a:lnTo>
                          <a:pt x="696" y="53"/>
                        </a:lnTo>
                        <a:lnTo>
                          <a:pt x="701" y="53"/>
                        </a:lnTo>
                        <a:lnTo>
                          <a:pt x="705" y="53"/>
                        </a:lnTo>
                        <a:lnTo>
                          <a:pt x="710" y="53"/>
                        </a:lnTo>
                        <a:lnTo>
                          <a:pt x="715" y="53"/>
                        </a:lnTo>
                        <a:lnTo>
                          <a:pt x="715" y="57"/>
                        </a:lnTo>
                        <a:lnTo>
                          <a:pt x="720" y="57"/>
                        </a:lnTo>
                        <a:lnTo>
                          <a:pt x="725" y="57"/>
                        </a:lnTo>
                        <a:lnTo>
                          <a:pt x="729" y="57"/>
                        </a:lnTo>
                        <a:lnTo>
                          <a:pt x="729" y="62"/>
                        </a:lnTo>
                        <a:lnTo>
                          <a:pt x="734" y="62"/>
                        </a:lnTo>
                        <a:lnTo>
                          <a:pt x="739" y="67"/>
                        </a:lnTo>
                        <a:lnTo>
                          <a:pt x="744" y="72"/>
                        </a:lnTo>
                        <a:lnTo>
                          <a:pt x="749" y="72"/>
                        </a:lnTo>
                        <a:lnTo>
                          <a:pt x="753" y="77"/>
                        </a:lnTo>
                        <a:lnTo>
                          <a:pt x="758" y="81"/>
                        </a:lnTo>
                        <a:lnTo>
                          <a:pt x="758" y="86"/>
                        </a:lnTo>
                        <a:lnTo>
                          <a:pt x="758" y="91"/>
                        </a:lnTo>
                        <a:lnTo>
                          <a:pt x="758" y="96"/>
                        </a:lnTo>
                        <a:lnTo>
                          <a:pt x="758" y="100"/>
                        </a:lnTo>
                        <a:lnTo>
                          <a:pt x="758" y="105"/>
                        </a:lnTo>
                        <a:lnTo>
                          <a:pt x="758" y="110"/>
                        </a:lnTo>
                        <a:lnTo>
                          <a:pt x="753" y="110"/>
                        </a:lnTo>
                        <a:lnTo>
                          <a:pt x="753" y="115"/>
                        </a:lnTo>
                        <a:lnTo>
                          <a:pt x="753" y="120"/>
                        </a:lnTo>
                        <a:lnTo>
                          <a:pt x="753" y="124"/>
                        </a:lnTo>
                        <a:lnTo>
                          <a:pt x="749" y="129"/>
                        </a:lnTo>
                        <a:lnTo>
                          <a:pt x="749" y="134"/>
                        </a:lnTo>
                        <a:lnTo>
                          <a:pt x="749" y="139"/>
                        </a:lnTo>
                        <a:lnTo>
                          <a:pt x="749" y="144"/>
                        </a:lnTo>
                        <a:lnTo>
                          <a:pt x="749" y="148"/>
                        </a:lnTo>
                        <a:lnTo>
                          <a:pt x="749" y="153"/>
                        </a:lnTo>
                        <a:lnTo>
                          <a:pt x="749" y="158"/>
                        </a:lnTo>
                        <a:lnTo>
                          <a:pt x="749" y="167"/>
                        </a:lnTo>
                        <a:lnTo>
                          <a:pt x="749" y="172"/>
                        </a:lnTo>
                        <a:lnTo>
                          <a:pt x="749" y="177"/>
                        </a:lnTo>
                        <a:lnTo>
                          <a:pt x="749" y="182"/>
                        </a:lnTo>
                        <a:lnTo>
                          <a:pt x="749" y="187"/>
                        </a:lnTo>
                        <a:lnTo>
                          <a:pt x="749" y="191"/>
                        </a:lnTo>
                        <a:lnTo>
                          <a:pt x="749" y="196"/>
                        </a:lnTo>
                        <a:lnTo>
                          <a:pt x="749" y="206"/>
                        </a:lnTo>
                        <a:lnTo>
                          <a:pt x="749" y="211"/>
                        </a:lnTo>
                        <a:lnTo>
                          <a:pt x="749" y="215"/>
                        </a:lnTo>
                        <a:lnTo>
                          <a:pt x="749" y="220"/>
                        </a:lnTo>
                        <a:lnTo>
                          <a:pt x="749" y="225"/>
                        </a:lnTo>
                        <a:lnTo>
                          <a:pt x="749" y="230"/>
                        </a:lnTo>
                        <a:lnTo>
                          <a:pt x="749" y="239"/>
                        </a:lnTo>
                        <a:lnTo>
                          <a:pt x="749" y="244"/>
                        </a:lnTo>
                        <a:lnTo>
                          <a:pt x="749" y="249"/>
                        </a:lnTo>
                        <a:lnTo>
                          <a:pt x="749" y="254"/>
                        </a:lnTo>
                        <a:lnTo>
                          <a:pt x="749" y="258"/>
                        </a:lnTo>
                        <a:lnTo>
                          <a:pt x="749" y="263"/>
                        </a:lnTo>
                        <a:lnTo>
                          <a:pt x="749" y="273"/>
                        </a:lnTo>
                        <a:lnTo>
                          <a:pt x="749" y="278"/>
                        </a:lnTo>
                        <a:lnTo>
                          <a:pt x="749" y="282"/>
                        </a:lnTo>
                        <a:lnTo>
                          <a:pt x="753" y="287"/>
                        </a:lnTo>
                        <a:lnTo>
                          <a:pt x="753" y="292"/>
                        </a:lnTo>
                        <a:lnTo>
                          <a:pt x="753" y="297"/>
                        </a:lnTo>
                        <a:lnTo>
                          <a:pt x="753" y="306"/>
                        </a:lnTo>
                        <a:lnTo>
                          <a:pt x="753" y="311"/>
                        </a:lnTo>
                        <a:lnTo>
                          <a:pt x="758" y="316"/>
                        </a:lnTo>
                        <a:lnTo>
                          <a:pt x="758" y="321"/>
                        </a:lnTo>
                        <a:lnTo>
                          <a:pt x="758" y="326"/>
                        </a:lnTo>
                        <a:lnTo>
                          <a:pt x="763" y="330"/>
                        </a:lnTo>
                        <a:lnTo>
                          <a:pt x="763" y="340"/>
                        </a:lnTo>
                        <a:lnTo>
                          <a:pt x="763" y="349"/>
                        </a:lnTo>
                        <a:lnTo>
                          <a:pt x="763" y="354"/>
                        </a:lnTo>
                        <a:lnTo>
                          <a:pt x="768" y="364"/>
                        </a:lnTo>
                        <a:lnTo>
                          <a:pt x="768" y="373"/>
                        </a:lnTo>
                        <a:lnTo>
                          <a:pt x="768" y="378"/>
                        </a:lnTo>
                        <a:lnTo>
                          <a:pt x="773" y="388"/>
                        </a:lnTo>
                        <a:lnTo>
                          <a:pt x="773" y="393"/>
                        </a:lnTo>
                        <a:lnTo>
                          <a:pt x="777" y="402"/>
                        </a:lnTo>
                        <a:lnTo>
                          <a:pt x="782" y="412"/>
                        </a:lnTo>
                        <a:lnTo>
                          <a:pt x="782" y="416"/>
                        </a:lnTo>
                        <a:lnTo>
                          <a:pt x="787" y="426"/>
                        </a:lnTo>
                        <a:lnTo>
                          <a:pt x="787" y="431"/>
                        </a:lnTo>
                        <a:lnTo>
                          <a:pt x="792" y="440"/>
                        </a:lnTo>
                        <a:lnTo>
                          <a:pt x="797" y="445"/>
                        </a:lnTo>
                        <a:lnTo>
                          <a:pt x="801" y="455"/>
                        </a:lnTo>
                        <a:lnTo>
                          <a:pt x="801" y="460"/>
                        </a:lnTo>
                        <a:lnTo>
                          <a:pt x="806" y="469"/>
                        </a:lnTo>
                        <a:lnTo>
                          <a:pt x="811" y="474"/>
                        </a:lnTo>
                        <a:lnTo>
                          <a:pt x="811" y="484"/>
                        </a:lnTo>
                        <a:lnTo>
                          <a:pt x="816" y="488"/>
                        </a:lnTo>
                        <a:lnTo>
                          <a:pt x="821" y="498"/>
                        </a:lnTo>
                        <a:lnTo>
                          <a:pt x="821" y="507"/>
                        </a:lnTo>
                        <a:lnTo>
                          <a:pt x="825" y="512"/>
                        </a:lnTo>
                        <a:lnTo>
                          <a:pt x="830" y="522"/>
                        </a:lnTo>
                        <a:lnTo>
                          <a:pt x="830" y="527"/>
                        </a:lnTo>
                        <a:lnTo>
                          <a:pt x="835" y="536"/>
                        </a:lnTo>
                        <a:lnTo>
                          <a:pt x="835" y="541"/>
                        </a:lnTo>
                        <a:lnTo>
                          <a:pt x="840" y="551"/>
                        </a:lnTo>
                        <a:lnTo>
                          <a:pt x="840" y="560"/>
                        </a:lnTo>
                        <a:lnTo>
                          <a:pt x="845" y="565"/>
                        </a:lnTo>
                        <a:lnTo>
                          <a:pt x="845" y="574"/>
                        </a:lnTo>
                        <a:lnTo>
                          <a:pt x="840" y="579"/>
                        </a:lnTo>
                        <a:lnTo>
                          <a:pt x="840" y="584"/>
                        </a:lnTo>
                        <a:lnTo>
                          <a:pt x="840" y="589"/>
                        </a:lnTo>
                        <a:lnTo>
                          <a:pt x="840" y="594"/>
                        </a:lnTo>
                        <a:lnTo>
                          <a:pt x="845" y="594"/>
                        </a:lnTo>
                        <a:lnTo>
                          <a:pt x="845" y="598"/>
                        </a:lnTo>
                        <a:lnTo>
                          <a:pt x="845" y="603"/>
                        </a:lnTo>
                        <a:lnTo>
                          <a:pt x="840" y="603"/>
                        </a:lnTo>
                        <a:lnTo>
                          <a:pt x="840" y="608"/>
                        </a:lnTo>
                        <a:lnTo>
                          <a:pt x="840" y="613"/>
                        </a:lnTo>
                        <a:lnTo>
                          <a:pt x="840" y="618"/>
                        </a:lnTo>
                        <a:lnTo>
                          <a:pt x="840" y="622"/>
                        </a:lnTo>
                        <a:lnTo>
                          <a:pt x="840" y="627"/>
                        </a:lnTo>
                        <a:lnTo>
                          <a:pt x="840" y="632"/>
                        </a:lnTo>
                        <a:lnTo>
                          <a:pt x="835" y="637"/>
                        </a:lnTo>
                        <a:lnTo>
                          <a:pt x="835" y="642"/>
                        </a:lnTo>
                        <a:lnTo>
                          <a:pt x="835" y="646"/>
                        </a:lnTo>
                        <a:lnTo>
                          <a:pt x="835" y="651"/>
                        </a:lnTo>
                        <a:lnTo>
                          <a:pt x="835" y="656"/>
                        </a:lnTo>
                        <a:lnTo>
                          <a:pt x="835" y="661"/>
                        </a:lnTo>
                        <a:lnTo>
                          <a:pt x="830" y="665"/>
                        </a:lnTo>
                        <a:lnTo>
                          <a:pt x="830" y="670"/>
                        </a:lnTo>
                        <a:lnTo>
                          <a:pt x="830" y="675"/>
                        </a:lnTo>
                        <a:lnTo>
                          <a:pt x="830" y="680"/>
                        </a:lnTo>
                        <a:lnTo>
                          <a:pt x="825" y="685"/>
                        </a:lnTo>
                        <a:lnTo>
                          <a:pt x="825" y="689"/>
                        </a:lnTo>
                        <a:lnTo>
                          <a:pt x="821" y="694"/>
                        </a:lnTo>
                        <a:lnTo>
                          <a:pt x="821" y="699"/>
                        </a:lnTo>
                        <a:lnTo>
                          <a:pt x="816" y="699"/>
                        </a:lnTo>
                        <a:lnTo>
                          <a:pt x="816" y="704"/>
                        </a:lnTo>
                        <a:lnTo>
                          <a:pt x="811" y="704"/>
                        </a:lnTo>
                        <a:lnTo>
                          <a:pt x="806" y="704"/>
                        </a:lnTo>
                        <a:lnTo>
                          <a:pt x="801" y="704"/>
                        </a:lnTo>
                        <a:lnTo>
                          <a:pt x="797" y="699"/>
                        </a:lnTo>
                        <a:lnTo>
                          <a:pt x="792" y="699"/>
                        </a:lnTo>
                        <a:lnTo>
                          <a:pt x="787" y="694"/>
                        </a:lnTo>
                        <a:lnTo>
                          <a:pt x="782" y="694"/>
                        </a:lnTo>
                        <a:lnTo>
                          <a:pt x="782" y="689"/>
                        </a:lnTo>
                        <a:lnTo>
                          <a:pt x="777" y="689"/>
                        </a:lnTo>
                        <a:lnTo>
                          <a:pt x="773" y="685"/>
                        </a:lnTo>
                        <a:lnTo>
                          <a:pt x="768" y="680"/>
                        </a:lnTo>
                        <a:lnTo>
                          <a:pt x="763" y="680"/>
                        </a:lnTo>
                        <a:lnTo>
                          <a:pt x="763" y="675"/>
                        </a:lnTo>
                        <a:lnTo>
                          <a:pt x="758" y="675"/>
                        </a:lnTo>
                        <a:lnTo>
                          <a:pt x="753" y="675"/>
                        </a:lnTo>
                        <a:lnTo>
                          <a:pt x="744" y="665"/>
                        </a:lnTo>
                        <a:lnTo>
                          <a:pt x="734" y="661"/>
                        </a:lnTo>
                        <a:lnTo>
                          <a:pt x="725" y="656"/>
                        </a:lnTo>
                        <a:lnTo>
                          <a:pt x="715" y="646"/>
                        </a:lnTo>
                        <a:lnTo>
                          <a:pt x="705" y="642"/>
                        </a:lnTo>
                        <a:lnTo>
                          <a:pt x="696" y="632"/>
                        </a:lnTo>
                        <a:lnTo>
                          <a:pt x="691" y="627"/>
                        </a:lnTo>
                        <a:lnTo>
                          <a:pt x="682" y="618"/>
                        </a:lnTo>
                        <a:lnTo>
                          <a:pt x="672" y="613"/>
                        </a:lnTo>
                        <a:lnTo>
                          <a:pt x="662" y="603"/>
                        </a:lnTo>
                        <a:lnTo>
                          <a:pt x="653" y="598"/>
                        </a:lnTo>
                        <a:lnTo>
                          <a:pt x="643" y="589"/>
                        </a:lnTo>
                        <a:lnTo>
                          <a:pt x="638" y="579"/>
                        </a:lnTo>
                        <a:lnTo>
                          <a:pt x="629" y="574"/>
                        </a:lnTo>
                        <a:lnTo>
                          <a:pt x="619" y="565"/>
                        </a:lnTo>
                        <a:lnTo>
                          <a:pt x="614" y="560"/>
                        </a:lnTo>
                        <a:lnTo>
                          <a:pt x="605" y="551"/>
                        </a:lnTo>
                        <a:lnTo>
                          <a:pt x="595" y="541"/>
                        </a:lnTo>
                        <a:lnTo>
                          <a:pt x="586" y="531"/>
                        </a:lnTo>
                        <a:lnTo>
                          <a:pt x="581" y="527"/>
                        </a:lnTo>
                        <a:lnTo>
                          <a:pt x="571" y="517"/>
                        </a:lnTo>
                        <a:lnTo>
                          <a:pt x="562" y="507"/>
                        </a:lnTo>
                        <a:lnTo>
                          <a:pt x="557" y="503"/>
                        </a:lnTo>
                        <a:lnTo>
                          <a:pt x="547" y="493"/>
                        </a:lnTo>
                        <a:lnTo>
                          <a:pt x="538" y="484"/>
                        </a:lnTo>
                        <a:lnTo>
                          <a:pt x="533" y="474"/>
                        </a:lnTo>
                        <a:lnTo>
                          <a:pt x="523" y="469"/>
                        </a:lnTo>
                        <a:lnTo>
                          <a:pt x="514" y="460"/>
                        </a:lnTo>
                        <a:lnTo>
                          <a:pt x="504" y="450"/>
                        </a:lnTo>
                        <a:lnTo>
                          <a:pt x="499" y="440"/>
                        </a:lnTo>
                        <a:lnTo>
                          <a:pt x="490" y="436"/>
                        </a:lnTo>
                        <a:lnTo>
                          <a:pt x="480" y="426"/>
                        </a:lnTo>
                        <a:lnTo>
                          <a:pt x="475" y="426"/>
                        </a:lnTo>
                        <a:lnTo>
                          <a:pt x="470" y="426"/>
                        </a:lnTo>
                        <a:lnTo>
                          <a:pt x="466" y="426"/>
                        </a:lnTo>
                        <a:lnTo>
                          <a:pt x="461" y="426"/>
                        </a:lnTo>
                        <a:lnTo>
                          <a:pt x="456" y="431"/>
                        </a:lnTo>
                        <a:lnTo>
                          <a:pt x="451" y="431"/>
                        </a:lnTo>
                        <a:lnTo>
                          <a:pt x="451" y="436"/>
                        </a:lnTo>
                        <a:lnTo>
                          <a:pt x="446" y="436"/>
                        </a:lnTo>
                        <a:lnTo>
                          <a:pt x="446" y="440"/>
                        </a:lnTo>
                        <a:lnTo>
                          <a:pt x="446" y="445"/>
                        </a:lnTo>
                        <a:lnTo>
                          <a:pt x="451" y="450"/>
                        </a:lnTo>
                        <a:lnTo>
                          <a:pt x="451" y="455"/>
                        </a:lnTo>
                        <a:lnTo>
                          <a:pt x="451" y="460"/>
                        </a:lnTo>
                        <a:lnTo>
                          <a:pt x="456" y="464"/>
                        </a:lnTo>
                        <a:lnTo>
                          <a:pt x="456" y="469"/>
                        </a:lnTo>
                        <a:lnTo>
                          <a:pt x="461" y="474"/>
                        </a:lnTo>
                        <a:lnTo>
                          <a:pt x="466" y="479"/>
                        </a:lnTo>
                        <a:lnTo>
                          <a:pt x="470" y="484"/>
                        </a:lnTo>
                        <a:lnTo>
                          <a:pt x="470" y="488"/>
                        </a:lnTo>
                        <a:lnTo>
                          <a:pt x="475" y="488"/>
                        </a:lnTo>
                        <a:lnTo>
                          <a:pt x="475" y="493"/>
                        </a:lnTo>
                        <a:lnTo>
                          <a:pt x="480" y="498"/>
                        </a:lnTo>
                        <a:lnTo>
                          <a:pt x="485" y="503"/>
                        </a:lnTo>
                        <a:lnTo>
                          <a:pt x="490" y="503"/>
                        </a:lnTo>
                        <a:lnTo>
                          <a:pt x="490" y="507"/>
                        </a:lnTo>
                        <a:lnTo>
                          <a:pt x="494" y="507"/>
                        </a:lnTo>
                        <a:lnTo>
                          <a:pt x="494" y="512"/>
                        </a:lnTo>
                        <a:lnTo>
                          <a:pt x="499" y="517"/>
                        </a:lnTo>
                        <a:lnTo>
                          <a:pt x="504" y="522"/>
                        </a:lnTo>
                        <a:lnTo>
                          <a:pt x="509" y="527"/>
                        </a:lnTo>
                        <a:lnTo>
                          <a:pt x="514" y="531"/>
                        </a:lnTo>
                        <a:lnTo>
                          <a:pt x="514" y="536"/>
                        </a:lnTo>
                        <a:lnTo>
                          <a:pt x="518" y="536"/>
                        </a:lnTo>
                        <a:lnTo>
                          <a:pt x="518" y="541"/>
                        </a:lnTo>
                        <a:lnTo>
                          <a:pt x="523" y="546"/>
                        </a:lnTo>
                        <a:lnTo>
                          <a:pt x="518" y="551"/>
                        </a:lnTo>
                        <a:lnTo>
                          <a:pt x="518" y="555"/>
                        </a:lnTo>
                        <a:lnTo>
                          <a:pt x="523" y="560"/>
                        </a:lnTo>
                        <a:lnTo>
                          <a:pt x="523" y="565"/>
                        </a:lnTo>
                        <a:lnTo>
                          <a:pt x="523" y="570"/>
                        </a:lnTo>
                        <a:lnTo>
                          <a:pt x="528" y="574"/>
                        </a:lnTo>
                        <a:lnTo>
                          <a:pt x="528" y="579"/>
                        </a:lnTo>
                        <a:lnTo>
                          <a:pt x="528" y="584"/>
                        </a:lnTo>
                        <a:lnTo>
                          <a:pt x="533" y="589"/>
                        </a:lnTo>
                        <a:lnTo>
                          <a:pt x="533" y="594"/>
                        </a:lnTo>
                        <a:lnTo>
                          <a:pt x="533" y="598"/>
                        </a:lnTo>
                        <a:lnTo>
                          <a:pt x="538" y="603"/>
                        </a:lnTo>
                        <a:lnTo>
                          <a:pt x="538" y="608"/>
                        </a:lnTo>
                        <a:lnTo>
                          <a:pt x="538" y="613"/>
                        </a:lnTo>
                        <a:lnTo>
                          <a:pt x="533" y="618"/>
                        </a:lnTo>
                        <a:lnTo>
                          <a:pt x="528" y="622"/>
                        </a:lnTo>
                        <a:lnTo>
                          <a:pt x="523" y="622"/>
                        </a:lnTo>
                        <a:lnTo>
                          <a:pt x="518" y="627"/>
                        </a:lnTo>
                        <a:lnTo>
                          <a:pt x="514" y="627"/>
                        </a:lnTo>
                        <a:lnTo>
                          <a:pt x="509" y="627"/>
                        </a:lnTo>
                        <a:lnTo>
                          <a:pt x="499" y="627"/>
                        </a:lnTo>
                        <a:lnTo>
                          <a:pt x="485" y="627"/>
                        </a:lnTo>
                        <a:lnTo>
                          <a:pt x="475" y="632"/>
                        </a:lnTo>
                        <a:lnTo>
                          <a:pt x="466" y="632"/>
                        </a:lnTo>
                        <a:lnTo>
                          <a:pt x="451" y="632"/>
                        </a:lnTo>
                        <a:lnTo>
                          <a:pt x="437" y="632"/>
                        </a:lnTo>
                        <a:lnTo>
                          <a:pt x="427" y="637"/>
                        </a:lnTo>
                        <a:lnTo>
                          <a:pt x="413" y="637"/>
                        </a:lnTo>
                        <a:lnTo>
                          <a:pt x="403" y="637"/>
                        </a:lnTo>
                        <a:lnTo>
                          <a:pt x="389" y="642"/>
                        </a:lnTo>
                        <a:lnTo>
                          <a:pt x="379" y="642"/>
                        </a:lnTo>
                        <a:lnTo>
                          <a:pt x="365" y="642"/>
                        </a:lnTo>
                        <a:lnTo>
                          <a:pt x="355" y="642"/>
                        </a:lnTo>
                        <a:lnTo>
                          <a:pt x="341" y="646"/>
                        </a:lnTo>
                        <a:lnTo>
                          <a:pt x="331" y="646"/>
                        </a:lnTo>
                        <a:lnTo>
                          <a:pt x="317" y="646"/>
                        </a:lnTo>
                        <a:lnTo>
                          <a:pt x="307" y="646"/>
                        </a:lnTo>
                        <a:lnTo>
                          <a:pt x="293" y="651"/>
                        </a:lnTo>
                        <a:lnTo>
                          <a:pt x="283" y="651"/>
                        </a:lnTo>
                        <a:lnTo>
                          <a:pt x="269" y="651"/>
                        </a:lnTo>
                        <a:lnTo>
                          <a:pt x="259" y="651"/>
                        </a:lnTo>
                        <a:lnTo>
                          <a:pt x="245" y="651"/>
                        </a:lnTo>
                        <a:lnTo>
                          <a:pt x="235" y="651"/>
                        </a:lnTo>
                        <a:lnTo>
                          <a:pt x="221" y="651"/>
                        </a:lnTo>
                        <a:lnTo>
                          <a:pt x="211" y="651"/>
                        </a:lnTo>
                        <a:lnTo>
                          <a:pt x="197" y="651"/>
                        </a:lnTo>
                        <a:lnTo>
                          <a:pt x="187" y="651"/>
                        </a:lnTo>
                        <a:lnTo>
                          <a:pt x="173" y="651"/>
                        </a:lnTo>
                        <a:lnTo>
                          <a:pt x="163" y="651"/>
                        </a:lnTo>
                        <a:lnTo>
                          <a:pt x="149" y="651"/>
                        </a:lnTo>
                        <a:lnTo>
                          <a:pt x="139" y="651"/>
                        </a:lnTo>
                        <a:lnTo>
                          <a:pt x="130" y="646"/>
                        </a:lnTo>
                        <a:lnTo>
                          <a:pt x="120" y="637"/>
                        </a:lnTo>
                        <a:lnTo>
                          <a:pt x="115" y="622"/>
                        </a:lnTo>
                        <a:lnTo>
                          <a:pt x="111" y="613"/>
                        </a:lnTo>
                        <a:lnTo>
                          <a:pt x="106" y="598"/>
                        </a:lnTo>
                        <a:lnTo>
                          <a:pt x="101" y="589"/>
                        </a:lnTo>
                        <a:lnTo>
                          <a:pt x="96" y="574"/>
                        </a:lnTo>
                        <a:lnTo>
                          <a:pt x="91" y="565"/>
                        </a:lnTo>
                        <a:lnTo>
                          <a:pt x="87" y="551"/>
                        </a:lnTo>
                        <a:lnTo>
                          <a:pt x="82" y="541"/>
                        </a:lnTo>
                        <a:lnTo>
                          <a:pt x="77" y="527"/>
                        </a:lnTo>
                        <a:lnTo>
                          <a:pt x="72" y="512"/>
                        </a:lnTo>
                        <a:lnTo>
                          <a:pt x="67" y="503"/>
                        </a:lnTo>
                        <a:lnTo>
                          <a:pt x="63" y="488"/>
                        </a:lnTo>
                        <a:lnTo>
                          <a:pt x="58" y="479"/>
                        </a:lnTo>
                        <a:lnTo>
                          <a:pt x="58" y="464"/>
                        </a:lnTo>
                        <a:lnTo>
                          <a:pt x="53" y="450"/>
                        </a:lnTo>
                        <a:lnTo>
                          <a:pt x="48" y="440"/>
                        </a:lnTo>
                        <a:lnTo>
                          <a:pt x="43" y="426"/>
                        </a:lnTo>
                        <a:lnTo>
                          <a:pt x="39" y="412"/>
                        </a:lnTo>
                        <a:lnTo>
                          <a:pt x="39" y="402"/>
                        </a:lnTo>
                        <a:lnTo>
                          <a:pt x="34" y="388"/>
                        </a:lnTo>
                        <a:lnTo>
                          <a:pt x="29" y="373"/>
                        </a:lnTo>
                        <a:lnTo>
                          <a:pt x="29" y="364"/>
                        </a:lnTo>
                        <a:lnTo>
                          <a:pt x="24" y="349"/>
                        </a:lnTo>
                        <a:lnTo>
                          <a:pt x="20" y="335"/>
                        </a:lnTo>
                        <a:lnTo>
                          <a:pt x="20" y="321"/>
                        </a:lnTo>
                        <a:lnTo>
                          <a:pt x="15" y="311"/>
                        </a:lnTo>
                        <a:lnTo>
                          <a:pt x="15" y="297"/>
                        </a:lnTo>
                        <a:lnTo>
                          <a:pt x="10" y="282"/>
                        </a:lnTo>
                        <a:lnTo>
                          <a:pt x="10" y="268"/>
                        </a:lnTo>
                        <a:lnTo>
                          <a:pt x="5" y="258"/>
                        </a:lnTo>
                        <a:lnTo>
                          <a:pt x="5" y="244"/>
                        </a:lnTo>
                        <a:lnTo>
                          <a:pt x="5" y="235"/>
                        </a:lnTo>
                        <a:lnTo>
                          <a:pt x="0" y="230"/>
                        </a:lnTo>
                        <a:lnTo>
                          <a:pt x="0" y="220"/>
                        </a:lnTo>
                        <a:lnTo>
                          <a:pt x="0" y="215"/>
                        </a:lnTo>
                        <a:lnTo>
                          <a:pt x="0" y="206"/>
                        </a:lnTo>
                        <a:lnTo>
                          <a:pt x="5" y="201"/>
                        </a:lnTo>
                        <a:lnTo>
                          <a:pt x="5" y="191"/>
                        </a:lnTo>
                        <a:lnTo>
                          <a:pt x="5" y="187"/>
                        </a:lnTo>
                        <a:lnTo>
                          <a:pt x="10" y="177"/>
                        </a:lnTo>
                        <a:lnTo>
                          <a:pt x="10" y="172"/>
                        </a:lnTo>
                        <a:lnTo>
                          <a:pt x="15" y="167"/>
                        </a:lnTo>
                        <a:lnTo>
                          <a:pt x="15" y="163"/>
                        </a:lnTo>
                        <a:lnTo>
                          <a:pt x="20" y="153"/>
                        </a:lnTo>
                        <a:lnTo>
                          <a:pt x="20" y="148"/>
                        </a:lnTo>
                        <a:lnTo>
                          <a:pt x="24" y="144"/>
                        </a:lnTo>
                        <a:lnTo>
                          <a:pt x="29" y="139"/>
                        </a:lnTo>
                        <a:lnTo>
                          <a:pt x="34" y="129"/>
                        </a:lnTo>
                        <a:lnTo>
                          <a:pt x="34" y="124"/>
                        </a:lnTo>
                        <a:lnTo>
                          <a:pt x="39" y="120"/>
                        </a:lnTo>
                        <a:lnTo>
                          <a:pt x="43" y="115"/>
                        </a:lnTo>
                        <a:lnTo>
                          <a:pt x="48" y="110"/>
                        </a:lnTo>
                        <a:lnTo>
                          <a:pt x="53" y="105"/>
                        </a:lnTo>
                        <a:lnTo>
                          <a:pt x="58" y="100"/>
                        </a:lnTo>
                        <a:lnTo>
                          <a:pt x="63" y="96"/>
                        </a:lnTo>
                        <a:lnTo>
                          <a:pt x="67" y="91"/>
                        </a:lnTo>
                        <a:lnTo>
                          <a:pt x="72" y="86"/>
                        </a:lnTo>
                        <a:lnTo>
                          <a:pt x="77" y="81"/>
                        </a:lnTo>
                        <a:lnTo>
                          <a:pt x="82" y="77"/>
                        </a:lnTo>
                        <a:lnTo>
                          <a:pt x="87" y="72"/>
                        </a:lnTo>
                        <a:lnTo>
                          <a:pt x="87" y="67"/>
                        </a:lnTo>
                        <a:lnTo>
                          <a:pt x="91" y="62"/>
                        </a:lnTo>
                        <a:lnTo>
                          <a:pt x="96" y="57"/>
                        </a:lnTo>
                        <a:lnTo>
                          <a:pt x="101" y="53"/>
                        </a:lnTo>
                        <a:lnTo>
                          <a:pt x="106" y="48"/>
                        </a:lnTo>
                        <a:lnTo>
                          <a:pt x="111" y="48"/>
                        </a:lnTo>
                        <a:lnTo>
                          <a:pt x="115" y="43"/>
                        </a:lnTo>
                        <a:lnTo>
                          <a:pt x="120" y="43"/>
                        </a:lnTo>
                        <a:lnTo>
                          <a:pt x="125" y="38"/>
                        </a:lnTo>
                        <a:lnTo>
                          <a:pt x="130" y="38"/>
                        </a:lnTo>
                        <a:lnTo>
                          <a:pt x="135" y="33"/>
                        </a:lnTo>
                        <a:lnTo>
                          <a:pt x="139" y="29"/>
                        </a:lnTo>
                        <a:lnTo>
                          <a:pt x="144" y="29"/>
                        </a:lnTo>
                        <a:lnTo>
                          <a:pt x="149" y="29"/>
                        </a:lnTo>
                        <a:lnTo>
                          <a:pt x="154" y="24"/>
                        </a:lnTo>
                        <a:lnTo>
                          <a:pt x="159" y="24"/>
                        </a:lnTo>
                        <a:lnTo>
                          <a:pt x="163" y="19"/>
                        </a:lnTo>
                        <a:lnTo>
                          <a:pt x="168" y="19"/>
                        </a:lnTo>
                        <a:lnTo>
                          <a:pt x="173" y="14"/>
                        </a:lnTo>
                        <a:lnTo>
                          <a:pt x="178" y="14"/>
                        </a:lnTo>
                        <a:lnTo>
                          <a:pt x="183" y="14"/>
                        </a:lnTo>
                        <a:lnTo>
                          <a:pt x="187" y="9"/>
                        </a:lnTo>
                        <a:lnTo>
                          <a:pt x="192" y="9"/>
                        </a:lnTo>
                        <a:lnTo>
                          <a:pt x="197" y="9"/>
                        </a:lnTo>
                        <a:lnTo>
                          <a:pt x="202" y="9"/>
                        </a:lnTo>
                        <a:lnTo>
                          <a:pt x="207" y="5"/>
                        </a:lnTo>
                        <a:lnTo>
                          <a:pt x="211" y="5"/>
                        </a:lnTo>
                        <a:lnTo>
                          <a:pt x="216" y="5"/>
                        </a:lnTo>
                        <a:lnTo>
                          <a:pt x="221" y="5"/>
                        </a:lnTo>
                        <a:lnTo>
                          <a:pt x="226" y="5"/>
                        </a:lnTo>
                        <a:lnTo>
                          <a:pt x="235" y="5"/>
                        </a:lnTo>
                        <a:lnTo>
                          <a:pt x="240" y="5"/>
                        </a:lnTo>
                        <a:lnTo>
                          <a:pt x="245" y="5"/>
                        </a:lnTo>
                        <a:lnTo>
                          <a:pt x="250" y="5"/>
                        </a:lnTo>
                        <a:lnTo>
                          <a:pt x="255" y="5"/>
                        </a:lnTo>
                        <a:lnTo>
                          <a:pt x="259" y="0"/>
                        </a:lnTo>
                        <a:lnTo>
                          <a:pt x="269" y="9"/>
                        </a:lnTo>
                        <a:lnTo>
                          <a:pt x="279" y="14"/>
                        </a:lnTo>
                        <a:lnTo>
                          <a:pt x="293" y="24"/>
                        </a:lnTo>
                        <a:lnTo>
                          <a:pt x="303" y="29"/>
                        </a:lnTo>
                        <a:lnTo>
                          <a:pt x="312" y="33"/>
                        </a:lnTo>
                        <a:lnTo>
                          <a:pt x="327" y="38"/>
                        </a:lnTo>
                        <a:lnTo>
                          <a:pt x="336" y="43"/>
                        </a:lnTo>
                        <a:lnTo>
                          <a:pt x="351" y="48"/>
                        </a:lnTo>
                        <a:lnTo>
                          <a:pt x="360" y="53"/>
                        </a:lnTo>
                        <a:lnTo>
                          <a:pt x="374" y="53"/>
                        </a:lnTo>
                        <a:lnTo>
                          <a:pt x="384" y="57"/>
                        </a:lnTo>
                        <a:lnTo>
                          <a:pt x="398" y="57"/>
                        </a:lnTo>
                        <a:lnTo>
                          <a:pt x="413" y="57"/>
                        </a:lnTo>
                        <a:lnTo>
                          <a:pt x="422" y="62"/>
                        </a:lnTo>
                        <a:lnTo>
                          <a:pt x="437" y="62"/>
                        </a:lnTo>
                        <a:lnTo>
                          <a:pt x="451" y="62"/>
                        </a:lnTo>
                        <a:lnTo>
                          <a:pt x="466" y="62"/>
                        </a:lnTo>
                        <a:lnTo>
                          <a:pt x="475" y="62"/>
                        </a:lnTo>
                        <a:lnTo>
                          <a:pt x="490" y="62"/>
                        </a:lnTo>
                        <a:lnTo>
                          <a:pt x="504" y="62"/>
                        </a:lnTo>
                        <a:lnTo>
                          <a:pt x="518" y="62"/>
                        </a:lnTo>
                        <a:lnTo>
                          <a:pt x="528" y="57"/>
                        </a:lnTo>
                        <a:lnTo>
                          <a:pt x="542" y="57"/>
                        </a:lnTo>
                        <a:lnTo>
                          <a:pt x="557" y="57"/>
                        </a:lnTo>
                        <a:lnTo>
                          <a:pt x="566" y="53"/>
                        </a:lnTo>
                        <a:lnTo>
                          <a:pt x="581" y="53"/>
                        </a:lnTo>
                        <a:lnTo>
                          <a:pt x="595" y="48"/>
                        </a:lnTo>
                        <a:lnTo>
                          <a:pt x="605" y="48"/>
                        </a:lnTo>
                        <a:lnTo>
                          <a:pt x="619" y="43"/>
                        </a:lnTo>
                        <a:lnTo>
                          <a:pt x="634" y="38"/>
                        </a:lnTo>
                        <a:lnTo>
                          <a:pt x="643" y="38"/>
                        </a:lnTo>
                        <a:lnTo>
                          <a:pt x="658" y="33"/>
                        </a:lnTo>
                        <a:close/>
                      </a:path>
                    </a:pathLst>
                  </a:custGeom>
                  <a:solidFill>
                    <a:srgbClr val="ffd9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2" name=""/>
                  <p:cNvSpPr/>
                  <p:nvPr/>
                </p:nvSpPr>
                <p:spPr>
                  <a:xfrm flipH="1">
                    <a:off x="4577400" y="4837320"/>
                    <a:ext cx="12852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758" h="881">
                        <a:moveTo>
                          <a:pt x="753" y="130"/>
                        </a:moveTo>
                        <a:lnTo>
                          <a:pt x="753" y="134"/>
                        </a:lnTo>
                        <a:lnTo>
                          <a:pt x="753" y="139"/>
                        </a:lnTo>
                        <a:lnTo>
                          <a:pt x="753" y="144"/>
                        </a:lnTo>
                        <a:lnTo>
                          <a:pt x="753" y="149"/>
                        </a:lnTo>
                        <a:lnTo>
                          <a:pt x="753" y="154"/>
                        </a:lnTo>
                        <a:lnTo>
                          <a:pt x="753" y="158"/>
                        </a:lnTo>
                        <a:lnTo>
                          <a:pt x="753" y="163"/>
                        </a:lnTo>
                        <a:lnTo>
                          <a:pt x="753" y="168"/>
                        </a:lnTo>
                        <a:lnTo>
                          <a:pt x="748" y="173"/>
                        </a:lnTo>
                        <a:lnTo>
                          <a:pt x="748" y="177"/>
                        </a:lnTo>
                        <a:lnTo>
                          <a:pt x="748" y="182"/>
                        </a:lnTo>
                        <a:lnTo>
                          <a:pt x="748" y="187"/>
                        </a:lnTo>
                        <a:lnTo>
                          <a:pt x="748" y="192"/>
                        </a:lnTo>
                        <a:lnTo>
                          <a:pt x="748" y="197"/>
                        </a:lnTo>
                        <a:lnTo>
                          <a:pt x="753" y="201"/>
                        </a:lnTo>
                        <a:lnTo>
                          <a:pt x="753" y="206"/>
                        </a:lnTo>
                        <a:lnTo>
                          <a:pt x="753" y="211"/>
                        </a:lnTo>
                        <a:lnTo>
                          <a:pt x="753" y="225"/>
                        </a:lnTo>
                        <a:lnTo>
                          <a:pt x="758" y="235"/>
                        </a:lnTo>
                        <a:lnTo>
                          <a:pt x="758" y="249"/>
                        </a:lnTo>
                        <a:lnTo>
                          <a:pt x="758" y="264"/>
                        </a:lnTo>
                        <a:lnTo>
                          <a:pt x="758" y="278"/>
                        </a:lnTo>
                        <a:lnTo>
                          <a:pt x="758" y="292"/>
                        </a:lnTo>
                        <a:lnTo>
                          <a:pt x="758" y="307"/>
                        </a:lnTo>
                        <a:lnTo>
                          <a:pt x="758" y="321"/>
                        </a:lnTo>
                        <a:lnTo>
                          <a:pt x="758" y="335"/>
                        </a:lnTo>
                        <a:lnTo>
                          <a:pt x="758" y="345"/>
                        </a:lnTo>
                        <a:lnTo>
                          <a:pt x="758" y="359"/>
                        </a:lnTo>
                        <a:lnTo>
                          <a:pt x="758" y="374"/>
                        </a:lnTo>
                        <a:lnTo>
                          <a:pt x="758" y="388"/>
                        </a:lnTo>
                        <a:lnTo>
                          <a:pt x="758" y="402"/>
                        </a:lnTo>
                        <a:lnTo>
                          <a:pt x="753" y="417"/>
                        </a:lnTo>
                        <a:lnTo>
                          <a:pt x="753" y="431"/>
                        </a:lnTo>
                        <a:lnTo>
                          <a:pt x="748" y="446"/>
                        </a:lnTo>
                        <a:lnTo>
                          <a:pt x="748" y="460"/>
                        </a:lnTo>
                        <a:lnTo>
                          <a:pt x="743" y="470"/>
                        </a:lnTo>
                        <a:lnTo>
                          <a:pt x="739" y="484"/>
                        </a:lnTo>
                        <a:lnTo>
                          <a:pt x="734" y="498"/>
                        </a:lnTo>
                        <a:lnTo>
                          <a:pt x="729" y="508"/>
                        </a:lnTo>
                        <a:lnTo>
                          <a:pt x="724" y="522"/>
                        </a:lnTo>
                        <a:lnTo>
                          <a:pt x="719" y="532"/>
                        </a:lnTo>
                        <a:lnTo>
                          <a:pt x="710" y="541"/>
                        </a:lnTo>
                        <a:lnTo>
                          <a:pt x="700" y="551"/>
                        </a:lnTo>
                        <a:lnTo>
                          <a:pt x="691" y="565"/>
                        </a:lnTo>
                        <a:lnTo>
                          <a:pt x="681" y="570"/>
                        </a:lnTo>
                        <a:lnTo>
                          <a:pt x="671" y="580"/>
                        </a:lnTo>
                        <a:lnTo>
                          <a:pt x="662" y="589"/>
                        </a:lnTo>
                        <a:lnTo>
                          <a:pt x="647" y="599"/>
                        </a:lnTo>
                        <a:lnTo>
                          <a:pt x="633" y="604"/>
                        </a:lnTo>
                        <a:lnTo>
                          <a:pt x="628" y="604"/>
                        </a:lnTo>
                        <a:lnTo>
                          <a:pt x="623" y="604"/>
                        </a:lnTo>
                        <a:lnTo>
                          <a:pt x="614" y="608"/>
                        </a:lnTo>
                        <a:lnTo>
                          <a:pt x="609" y="608"/>
                        </a:lnTo>
                        <a:lnTo>
                          <a:pt x="604" y="608"/>
                        </a:lnTo>
                        <a:lnTo>
                          <a:pt x="595" y="608"/>
                        </a:lnTo>
                        <a:lnTo>
                          <a:pt x="590" y="608"/>
                        </a:lnTo>
                        <a:lnTo>
                          <a:pt x="585" y="613"/>
                        </a:lnTo>
                        <a:lnTo>
                          <a:pt x="580" y="613"/>
                        </a:lnTo>
                        <a:lnTo>
                          <a:pt x="571" y="613"/>
                        </a:lnTo>
                        <a:lnTo>
                          <a:pt x="566" y="613"/>
                        </a:lnTo>
                        <a:lnTo>
                          <a:pt x="561" y="613"/>
                        </a:lnTo>
                        <a:lnTo>
                          <a:pt x="551" y="613"/>
                        </a:lnTo>
                        <a:lnTo>
                          <a:pt x="547" y="613"/>
                        </a:lnTo>
                        <a:lnTo>
                          <a:pt x="542" y="618"/>
                        </a:lnTo>
                        <a:lnTo>
                          <a:pt x="537" y="618"/>
                        </a:lnTo>
                        <a:lnTo>
                          <a:pt x="527" y="618"/>
                        </a:lnTo>
                        <a:lnTo>
                          <a:pt x="523" y="618"/>
                        </a:lnTo>
                        <a:lnTo>
                          <a:pt x="518" y="618"/>
                        </a:lnTo>
                        <a:lnTo>
                          <a:pt x="508" y="618"/>
                        </a:lnTo>
                        <a:lnTo>
                          <a:pt x="503" y="618"/>
                        </a:lnTo>
                        <a:lnTo>
                          <a:pt x="499" y="618"/>
                        </a:lnTo>
                        <a:lnTo>
                          <a:pt x="494" y="618"/>
                        </a:lnTo>
                        <a:lnTo>
                          <a:pt x="484" y="618"/>
                        </a:lnTo>
                        <a:lnTo>
                          <a:pt x="479" y="618"/>
                        </a:lnTo>
                        <a:lnTo>
                          <a:pt x="475" y="618"/>
                        </a:lnTo>
                        <a:lnTo>
                          <a:pt x="465" y="623"/>
                        </a:lnTo>
                        <a:lnTo>
                          <a:pt x="460" y="623"/>
                        </a:lnTo>
                        <a:lnTo>
                          <a:pt x="456" y="623"/>
                        </a:lnTo>
                        <a:lnTo>
                          <a:pt x="446" y="623"/>
                        </a:lnTo>
                        <a:lnTo>
                          <a:pt x="441" y="623"/>
                        </a:lnTo>
                        <a:lnTo>
                          <a:pt x="432" y="623"/>
                        </a:lnTo>
                        <a:lnTo>
                          <a:pt x="436" y="618"/>
                        </a:lnTo>
                        <a:lnTo>
                          <a:pt x="441" y="608"/>
                        </a:lnTo>
                        <a:lnTo>
                          <a:pt x="441" y="604"/>
                        </a:lnTo>
                        <a:lnTo>
                          <a:pt x="446" y="599"/>
                        </a:lnTo>
                        <a:lnTo>
                          <a:pt x="451" y="594"/>
                        </a:lnTo>
                        <a:lnTo>
                          <a:pt x="451" y="589"/>
                        </a:lnTo>
                        <a:lnTo>
                          <a:pt x="456" y="580"/>
                        </a:lnTo>
                        <a:lnTo>
                          <a:pt x="460" y="575"/>
                        </a:lnTo>
                        <a:lnTo>
                          <a:pt x="465" y="570"/>
                        </a:lnTo>
                        <a:lnTo>
                          <a:pt x="465" y="565"/>
                        </a:lnTo>
                        <a:lnTo>
                          <a:pt x="470" y="561"/>
                        </a:lnTo>
                        <a:lnTo>
                          <a:pt x="475" y="556"/>
                        </a:lnTo>
                        <a:lnTo>
                          <a:pt x="479" y="551"/>
                        </a:lnTo>
                        <a:lnTo>
                          <a:pt x="484" y="546"/>
                        </a:lnTo>
                        <a:lnTo>
                          <a:pt x="489" y="541"/>
                        </a:lnTo>
                        <a:lnTo>
                          <a:pt x="494" y="537"/>
                        </a:lnTo>
                        <a:lnTo>
                          <a:pt x="499" y="532"/>
                        </a:lnTo>
                        <a:lnTo>
                          <a:pt x="503" y="527"/>
                        </a:lnTo>
                        <a:lnTo>
                          <a:pt x="508" y="522"/>
                        </a:lnTo>
                        <a:lnTo>
                          <a:pt x="513" y="522"/>
                        </a:lnTo>
                        <a:lnTo>
                          <a:pt x="518" y="517"/>
                        </a:lnTo>
                        <a:lnTo>
                          <a:pt x="523" y="513"/>
                        </a:lnTo>
                        <a:lnTo>
                          <a:pt x="527" y="513"/>
                        </a:lnTo>
                        <a:lnTo>
                          <a:pt x="532" y="508"/>
                        </a:lnTo>
                        <a:lnTo>
                          <a:pt x="542" y="503"/>
                        </a:lnTo>
                        <a:lnTo>
                          <a:pt x="547" y="503"/>
                        </a:lnTo>
                        <a:lnTo>
                          <a:pt x="551" y="503"/>
                        </a:lnTo>
                        <a:lnTo>
                          <a:pt x="561" y="498"/>
                        </a:lnTo>
                        <a:lnTo>
                          <a:pt x="566" y="498"/>
                        </a:lnTo>
                        <a:lnTo>
                          <a:pt x="571" y="498"/>
                        </a:lnTo>
                        <a:lnTo>
                          <a:pt x="580" y="498"/>
                        </a:lnTo>
                        <a:lnTo>
                          <a:pt x="585" y="498"/>
                        </a:lnTo>
                        <a:lnTo>
                          <a:pt x="590" y="498"/>
                        </a:lnTo>
                        <a:lnTo>
                          <a:pt x="590" y="493"/>
                        </a:lnTo>
                        <a:lnTo>
                          <a:pt x="595" y="493"/>
                        </a:lnTo>
                        <a:lnTo>
                          <a:pt x="595" y="489"/>
                        </a:lnTo>
                        <a:lnTo>
                          <a:pt x="599" y="489"/>
                        </a:lnTo>
                        <a:lnTo>
                          <a:pt x="599" y="484"/>
                        </a:lnTo>
                        <a:lnTo>
                          <a:pt x="599" y="479"/>
                        </a:lnTo>
                        <a:lnTo>
                          <a:pt x="599" y="474"/>
                        </a:lnTo>
                        <a:lnTo>
                          <a:pt x="599" y="470"/>
                        </a:lnTo>
                        <a:lnTo>
                          <a:pt x="599" y="465"/>
                        </a:lnTo>
                        <a:lnTo>
                          <a:pt x="599" y="460"/>
                        </a:lnTo>
                        <a:lnTo>
                          <a:pt x="595" y="455"/>
                        </a:lnTo>
                        <a:lnTo>
                          <a:pt x="595" y="450"/>
                        </a:lnTo>
                        <a:lnTo>
                          <a:pt x="590" y="446"/>
                        </a:lnTo>
                        <a:lnTo>
                          <a:pt x="585" y="446"/>
                        </a:lnTo>
                        <a:lnTo>
                          <a:pt x="580" y="446"/>
                        </a:lnTo>
                        <a:lnTo>
                          <a:pt x="575" y="446"/>
                        </a:lnTo>
                        <a:lnTo>
                          <a:pt x="575" y="450"/>
                        </a:lnTo>
                        <a:lnTo>
                          <a:pt x="571" y="450"/>
                        </a:lnTo>
                        <a:lnTo>
                          <a:pt x="566" y="455"/>
                        </a:lnTo>
                        <a:lnTo>
                          <a:pt x="566" y="460"/>
                        </a:lnTo>
                        <a:lnTo>
                          <a:pt x="561" y="460"/>
                        </a:lnTo>
                        <a:lnTo>
                          <a:pt x="561" y="465"/>
                        </a:lnTo>
                        <a:lnTo>
                          <a:pt x="556" y="465"/>
                        </a:lnTo>
                        <a:lnTo>
                          <a:pt x="556" y="470"/>
                        </a:lnTo>
                        <a:lnTo>
                          <a:pt x="551" y="470"/>
                        </a:lnTo>
                        <a:lnTo>
                          <a:pt x="551" y="474"/>
                        </a:lnTo>
                        <a:lnTo>
                          <a:pt x="547" y="474"/>
                        </a:lnTo>
                        <a:lnTo>
                          <a:pt x="542" y="474"/>
                        </a:lnTo>
                        <a:lnTo>
                          <a:pt x="537" y="474"/>
                        </a:lnTo>
                        <a:lnTo>
                          <a:pt x="532" y="474"/>
                        </a:lnTo>
                        <a:lnTo>
                          <a:pt x="537" y="470"/>
                        </a:lnTo>
                        <a:lnTo>
                          <a:pt x="537" y="465"/>
                        </a:lnTo>
                        <a:lnTo>
                          <a:pt x="537" y="460"/>
                        </a:lnTo>
                        <a:lnTo>
                          <a:pt x="537" y="455"/>
                        </a:lnTo>
                        <a:lnTo>
                          <a:pt x="537" y="450"/>
                        </a:lnTo>
                        <a:lnTo>
                          <a:pt x="537" y="446"/>
                        </a:lnTo>
                        <a:lnTo>
                          <a:pt x="537" y="441"/>
                        </a:lnTo>
                        <a:lnTo>
                          <a:pt x="537" y="436"/>
                        </a:lnTo>
                        <a:lnTo>
                          <a:pt x="537" y="431"/>
                        </a:lnTo>
                        <a:lnTo>
                          <a:pt x="532" y="426"/>
                        </a:lnTo>
                        <a:lnTo>
                          <a:pt x="532" y="422"/>
                        </a:lnTo>
                        <a:lnTo>
                          <a:pt x="527" y="422"/>
                        </a:lnTo>
                        <a:lnTo>
                          <a:pt x="523" y="422"/>
                        </a:lnTo>
                        <a:lnTo>
                          <a:pt x="518" y="422"/>
                        </a:lnTo>
                        <a:lnTo>
                          <a:pt x="513" y="422"/>
                        </a:lnTo>
                        <a:lnTo>
                          <a:pt x="513" y="426"/>
                        </a:lnTo>
                        <a:lnTo>
                          <a:pt x="513" y="431"/>
                        </a:lnTo>
                        <a:lnTo>
                          <a:pt x="508" y="436"/>
                        </a:lnTo>
                        <a:lnTo>
                          <a:pt x="508" y="441"/>
                        </a:lnTo>
                        <a:lnTo>
                          <a:pt x="503" y="446"/>
                        </a:lnTo>
                        <a:lnTo>
                          <a:pt x="503" y="450"/>
                        </a:lnTo>
                        <a:lnTo>
                          <a:pt x="499" y="455"/>
                        </a:lnTo>
                        <a:lnTo>
                          <a:pt x="499" y="460"/>
                        </a:lnTo>
                        <a:lnTo>
                          <a:pt x="494" y="465"/>
                        </a:lnTo>
                        <a:lnTo>
                          <a:pt x="494" y="470"/>
                        </a:lnTo>
                        <a:lnTo>
                          <a:pt x="489" y="474"/>
                        </a:lnTo>
                        <a:lnTo>
                          <a:pt x="484" y="479"/>
                        </a:lnTo>
                        <a:lnTo>
                          <a:pt x="484" y="484"/>
                        </a:lnTo>
                        <a:lnTo>
                          <a:pt x="479" y="484"/>
                        </a:lnTo>
                        <a:lnTo>
                          <a:pt x="475" y="489"/>
                        </a:lnTo>
                        <a:lnTo>
                          <a:pt x="470" y="493"/>
                        </a:lnTo>
                        <a:lnTo>
                          <a:pt x="470" y="498"/>
                        </a:lnTo>
                        <a:lnTo>
                          <a:pt x="465" y="503"/>
                        </a:lnTo>
                        <a:lnTo>
                          <a:pt x="460" y="503"/>
                        </a:lnTo>
                        <a:lnTo>
                          <a:pt x="456" y="508"/>
                        </a:lnTo>
                        <a:lnTo>
                          <a:pt x="451" y="513"/>
                        </a:lnTo>
                        <a:lnTo>
                          <a:pt x="451" y="517"/>
                        </a:lnTo>
                        <a:lnTo>
                          <a:pt x="446" y="522"/>
                        </a:lnTo>
                        <a:lnTo>
                          <a:pt x="441" y="522"/>
                        </a:lnTo>
                        <a:lnTo>
                          <a:pt x="436" y="527"/>
                        </a:lnTo>
                        <a:lnTo>
                          <a:pt x="432" y="532"/>
                        </a:lnTo>
                        <a:lnTo>
                          <a:pt x="432" y="537"/>
                        </a:lnTo>
                        <a:lnTo>
                          <a:pt x="427" y="541"/>
                        </a:lnTo>
                        <a:lnTo>
                          <a:pt x="422" y="541"/>
                        </a:lnTo>
                        <a:lnTo>
                          <a:pt x="417" y="546"/>
                        </a:lnTo>
                        <a:lnTo>
                          <a:pt x="417" y="551"/>
                        </a:lnTo>
                        <a:lnTo>
                          <a:pt x="412" y="556"/>
                        </a:lnTo>
                        <a:lnTo>
                          <a:pt x="412" y="561"/>
                        </a:lnTo>
                        <a:lnTo>
                          <a:pt x="408" y="570"/>
                        </a:lnTo>
                        <a:lnTo>
                          <a:pt x="398" y="580"/>
                        </a:lnTo>
                        <a:lnTo>
                          <a:pt x="393" y="589"/>
                        </a:lnTo>
                        <a:lnTo>
                          <a:pt x="388" y="599"/>
                        </a:lnTo>
                        <a:lnTo>
                          <a:pt x="384" y="608"/>
                        </a:lnTo>
                        <a:lnTo>
                          <a:pt x="379" y="618"/>
                        </a:lnTo>
                        <a:lnTo>
                          <a:pt x="374" y="628"/>
                        </a:lnTo>
                        <a:lnTo>
                          <a:pt x="364" y="632"/>
                        </a:lnTo>
                        <a:lnTo>
                          <a:pt x="360" y="642"/>
                        </a:lnTo>
                        <a:lnTo>
                          <a:pt x="355" y="651"/>
                        </a:lnTo>
                        <a:lnTo>
                          <a:pt x="345" y="661"/>
                        </a:lnTo>
                        <a:lnTo>
                          <a:pt x="340" y="671"/>
                        </a:lnTo>
                        <a:lnTo>
                          <a:pt x="336" y="675"/>
                        </a:lnTo>
                        <a:lnTo>
                          <a:pt x="326" y="685"/>
                        </a:lnTo>
                        <a:lnTo>
                          <a:pt x="321" y="695"/>
                        </a:lnTo>
                        <a:lnTo>
                          <a:pt x="312" y="704"/>
                        </a:lnTo>
                        <a:lnTo>
                          <a:pt x="307" y="709"/>
                        </a:lnTo>
                        <a:lnTo>
                          <a:pt x="302" y="719"/>
                        </a:lnTo>
                        <a:lnTo>
                          <a:pt x="292" y="728"/>
                        </a:lnTo>
                        <a:lnTo>
                          <a:pt x="288" y="733"/>
                        </a:lnTo>
                        <a:lnTo>
                          <a:pt x="278" y="742"/>
                        </a:lnTo>
                        <a:lnTo>
                          <a:pt x="273" y="752"/>
                        </a:lnTo>
                        <a:lnTo>
                          <a:pt x="264" y="762"/>
                        </a:lnTo>
                        <a:lnTo>
                          <a:pt x="259" y="766"/>
                        </a:lnTo>
                        <a:lnTo>
                          <a:pt x="249" y="776"/>
                        </a:lnTo>
                        <a:lnTo>
                          <a:pt x="244" y="786"/>
                        </a:lnTo>
                        <a:lnTo>
                          <a:pt x="240" y="795"/>
                        </a:lnTo>
                        <a:lnTo>
                          <a:pt x="230" y="800"/>
                        </a:lnTo>
                        <a:lnTo>
                          <a:pt x="225" y="809"/>
                        </a:lnTo>
                        <a:lnTo>
                          <a:pt x="216" y="819"/>
                        </a:lnTo>
                        <a:lnTo>
                          <a:pt x="211" y="829"/>
                        </a:lnTo>
                        <a:lnTo>
                          <a:pt x="206" y="833"/>
                        </a:lnTo>
                        <a:lnTo>
                          <a:pt x="201" y="838"/>
                        </a:lnTo>
                        <a:lnTo>
                          <a:pt x="196" y="838"/>
                        </a:lnTo>
                        <a:lnTo>
                          <a:pt x="192" y="843"/>
                        </a:lnTo>
                        <a:lnTo>
                          <a:pt x="187" y="843"/>
                        </a:lnTo>
                        <a:lnTo>
                          <a:pt x="187" y="848"/>
                        </a:lnTo>
                        <a:lnTo>
                          <a:pt x="182" y="848"/>
                        </a:lnTo>
                        <a:lnTo>
                          <a:pt x="182" y="853"/>
                        </a:lnTo>
                        <a:lnTo>
                          <a:pt x="177" y="853"/>
                        </a:lnTo>
                        <a:lnTo>
                          <a:pt x="172" y="853"/>
                        </a:lnTo>
                        <a:lnTo>
                          <a:pt x="172" y="857"/>
                        </a:lnTo>
                        <a:lnTo>
                          <a:pt x="168" y="857"/>
                        </a:lnTo>
                        <a:lnTo>
                          <a:pt x="163" y="862"/>
                        </a:lnTo>
                        <a:lnTo>
                          <a:pt x="158" y="862"/>
                        </a:lnTo>
                        <a:lnTo>
                          <a:pt x="153" y="867"/>
                        </a:lnTo>
                        <a:lnTo>
                          <a:pt x="148" y="867"/>
                        </a:lnTo>
                        <a:lnTo>
                          <a:pt x="144" y="872"/>
                        </a:lnTo>
                        <a:lnTo>
                          <a:pt x="139" y="872"/>
                        </a:lnTo>
                        <a:lnTo>
                          <a:pt x="134" y="877"/>
                        </a:lnTo>
                        <a:lnTo>
                          <a:pt x="129" y="877"/>
                        </a:lnTo>
                        <a:lnTo>
                          <a:pt x="125" y="877"/>
                        </a:lnTo>
                        <a:lnTo>
                          <a:pt x="120" y="881"/>
                        </a:lnTo>
                        <a:lnTo>
                          <a:pt x="115" y="881"/>
                        </a:lnTo>
                        <a:lnTo>
                          <a:pt x="110" y="881"/>
                        </a:lnTo>
                        <a:lnTo>
                          <a:pt x="105" y="881"/>
                        </a:lnTo>
                        <a:lnTo>
                          <a:pt x="101" y="881"/>
                        </a:lnTo>
                        <a:lnTo>
                          <a:pt x="96" y="881"/>
                        </a:lnTo>
                        <a:lnTo>
                          <a:pt x="91" y="881"/>
                        </a:lnTo>
                        <a:lnTo>
                          <a:pt x="86" y="881"/>
                        </a:lnTo>
                        <a:lnTo>
                          <a:pt x="81" y="881"/>
                        </a:lnTo>
                        <a:lnTo>
                          <a:pt x="77" y="877"/>
                        </a:lnTo>
                        <a:lnTo>
                          <a:pt x="72" y="877"/>
                        </a:lnTo>
                        <a:lnTo>
                          <a:pt x="67" y="877"/>
                        </a:lnTo>
                        <a:lnTo>
                          <a:pt x="62" y="877"/>
                        </a:lnTo>
                        <a:lnTo>
                          <a:pt x="57" y="872"/>
                        </a:lnTo>
                        <a:lnTo>
                          <a:pt x="53" y="872"/>
                        </a:lnTo>
                        <a:lnTo>
                          <a:pt x="48" y="872"/>
                        </a:lnTo>
                        <a:lnTo>
                          <a:pt x="43" y="867"/>
                        </a:lnTo>
                        <a:lnTo>
                          <a:pt x="38" y="867"/>
                        </a:lnTo>
                        <a:lnTo>
                          <a:pt x="33" y="862"/>
                        </a:lnTo>
                        <a:lnTo>
                          <a:pt x="29" y="862"/>
                        </a:lnTo>
                        <a:lnTo>
                          <a:pt x="29" y="857"/>
                        </a:lnTo>
                        <a:lnTo>
                          <a:pt x="24" y="857"/>
                        </a:lnTo>
                        <a:lnTo>
                          <a:pt x="24" y="853"/>
                        </a:lnTo>
                        <a:lnTo>
                          <a:pt x="19" y="853"/>
                        </a:lnTo>
                        <a:lnTo>
                          <a:pt x="14" y="848"/>
                        </a:lnTo>
                        <a:lnTo>
                          <a:pt x="9" y="843"/>
                        </a:lnTo>
                        <a:lnTo>
                          <a:pt x="5" y="838"/>
                        </a:lnTo>
                        <a:lnTo>
                          <a:pt x="5" y="833"/>
                        </a:lnTo>
                        <a:lnTo>
                          <a:pt x="0" y="829"/>
                        </a:lnTo>
                        <a:lnTo>
                          <a:pt x="0" y="824"/>
                        </a:lnTo>
                        <a:lnTo>
                          <a:pt x="5" y="824"/>
                        </a:lnTo>
                        <a:lnTo>
                          <a:pt x="5" y="819"/>
                        </a:lnTo>
                        <a:lnTo>
                          <a:pt x="9" y="814"/>
                        </a:lnTo>
                        <a:lnTo>
                          <a:pt x="9" y="809"/>
                        </a:lnTo>
                        <a:lnTo>
                          <a:pt x="14" y="809"/>
                        </a:lnTo>
                        <a:lnTo>
                          <a:pt x="14" y="805"/>
                        </a:lnTo>
                        <a:lnTo>
                          <a:pt x="19" y="800"/>
                        </a:lnTo>
                        <a:lnTo>
                          <a:pt x="24" y="795"/>
                        </a:lnTo>
                        <a:lnTo>
                          <a:pt x="29" y="795"/>
                        </a:lnTo>
                        <a:lnTo>
                          <a:pt x="29" y="790"/>
                        </a:lnTo>
                        <a:lnTo>
                          <a:pt x="33" y="790"/>
                        </a:lnTo>
                        <a:lnTo>
                          <a:pt x="38" y="786"/>
                        </a:lnTo>
                        <a:lnTo>
                          <a:pt x="38" y="781"/>
                        </a:lnTo>
                        <a:lnTo>
                          <a:pt x="43" y="781"/>
                        </a:lnTo>
                        <a:lnTo>
                          <a:pt x="48" y="776"/>
                        </a:lnTo>
                        <a:lnTo>
                          <a:pt x="53" y="771"/>
                        </a:lnTo>
                        <a:lnTo>
                          <a:pt x="57" y="771"/>
                        </a:lnTo>
                        <a:lnTo>
                          <a:pt x="57" y="766"/>
                        </a:lnTo>
                        <a:lnTo>
                          <a:pt x="62" y="766"/>
                        </a:lnTo>
                        <a:lnTo>
                          <a:pt x="67" y="762"/>
                        </a:lnTo>
                        <a:lnTo>
                          <a:pt x="72" y="762"/>
                        </a:lnTo>
                        <a:lnTo>
                          <a:pt x="72" y="757"/>
                        </a:lnTo>
                        <a:lnTo>
                          <a:pt x="77" y="757"/>
                        </a:lnTo>
                        <a:lnTo>
                          <a:pt x="81" y="752"/>
                        </a:lnTo>
                        <a:lnTo>
                          <a:pt x="81" y="747"/>
                        </a:lnTo>
                        <a:lnTo>
                          <a:pt x="86" y="747"/>
                        </a:lnTo>
                        <a:lnTo>
                          <a:pt x="91" y="742"/>
                        </a:lnTo>
                        <a:lnTo>
                          <a:pt x="91" y="738"/>
                        </a:lnTo>
                        <a:lnTo>
                          <a:pt x="96" y="738"/>
                        </a:lnTo>
                        <a:lnTo>
                          <a:pt x="101" y="733"/>
                        </a:lnTo>
                        <a:lnTo>
                          <a:pt x="110" y="723"/>
                        </a:lnTo>
                        <a:lnTo>
                          <a:pt x="115" y="719"/>
                        </a:lnTo>
                        <a:lnTo>
                          <a:pt x="125" y="709"/>
                        </a:lnTo>
                        <a:lnTo>
                          <a:pt x="134" y="699"/>
                        </a:lnTo>
                        <a:lnTo>
                          <a:pt x="144" y="690"/>
                        </a:lnTo>
                        <a:lnTo>
                          <a:pt x="148" y="680"/>
                        </a:lnTo>
                        <a:lnTo>
                          <a:pt x="158" y="675"/>
                        </a:lnTo>
                        <a:lnTo>
                          <a:pt x="163" y="666"/>
                        </a:lnTo>
                        <a:lnTo>
                          <a:pt x="172" y="656"/>
                        </a:lnTo>
                        <a:lnTo>
                          <a:pt x="182" y="647"/>
                        </a:lnTo>
                        <a:lnTo>
                          <a:pt x="187" y="637"/>
                        </a:lnTo>
                        <a:lnTo>
                          <a:pt x="196" y="628"/>
                        </a:lnTo>
                        <a:lnTo>
                          <a:pt x="201" y="618"/>
                        </a:lnTo>
                        <a:lnTo>
                          <a:pt x="211" y="608"/>
                        </a:lnTo>
                        <a:lnTo>
                          <a:pt x="216" y="599"/>
                        </a:lnTo>
                        <a:lnTo>
                          <a:pt x="225" y="589"/>
                        </a:lnTo>
                        <a:lnTo>
                          <a:pt x="230" y="580"/>
                        </a:lnTo>
                        <a:lnTo>
                          <a:pt x="240" y="570"/>
                        </a:lnTo>
                        <a:lnTo>
                          <a:pt x="244" y="561"/>
                        </a:lnTo>
                        <a:lnTo>
                          <a:pt x="249" y="551"/>
                        </a:lnTo>
                        <a:lnTo>
                          <a:pt x="259" y="541"/>
                        </a:lnTo>
                        <a:lnTo>
                          <a:pt x="264" y="532"/>
                        </a:lnTo>
                        <a:lnTo>
                          <a:pt x="268" y="517"/>
                        </a:lnTo>
                        <a:lnTo>
                          <a:pt x="278" y="508"/>
                        </a:lnTo>
                        <a:lnTo>
                          <a:pt x="283" y="498"/>
                        </a:lnTo>
                        <a:lnTo>
                          <a:pt x="288" y="489"/>
                        </a:lnTo>
                        <a:lnTo>
                          <a:pt x="292" y="479"/>
                        </a:lnTo>
                        <a:lnTo>
                          <a:pt x="297" y="470"/>
                        </a:lnTo>
                        <a:lnTo>
                          <a:pt x="307" y="460"/>
                        </a:lnTo>
                        <a:lnTo>
                          <a:pt x="312" y="446"/>
                        </a:lnTo>
                        <a:lnTo>
                          <a:pt x="316" y="436"/>
                        </a:lnTo>
                        <a:lnTo>
                          <a:pt x="321" y="426"/>
                        </a:lnTo>
                        <a:lnTo>
                          <a:pt x="321" y="422"/>
                        </a:lnTo>
                        <a:lnTo>
                          <a:pt x="316" y="422"/>
                        </a:lnTo>
                        <a:lnTo>
                          <a:pt x="316" y="417"/>
                        </a:lnTo>
                        <a:lnTo>
                          <a:pt x="312" y="417"/>
                        </a:lnTo>
                        <a:lnTo>
                          <a:pt x="312" y="412"/>
                        </a:lnTo>
                        <a:lnTo>
                          <a:pt x="307" y="412"/>
                        </a:lnTo>
                        <a:lnTo>
                          <a:pt x="302" y="412"/>
                        </a:lnTo>
                        <a:lnTo>
                          <a:pt x="297" y="412"/>
                        </a:lnTo>
                        <a:lnTo>
                          <a:pt x="292" y="412"/>
                        </a:lnTo>
                        <a:lnTo>
                          <a:pt x="288" y="412"/>
                        </a:lnTo>
                        <a:lnTo>
                          <a:pt x="288" y="417"/>
                        </a:lnTo>
                        <a:lnTo>
                          <a:pt x="283" y="417"/>
                        </a:lnTo>
                        <a:lnTo>
                          <a:pt x="278" y="417"/>
                        </a:lnTo>
                        <a:lnTo>
                          <a:pt x="278" y="422"/>
                        </a:lnTo>
                        <a:lnTo>
                          <a:pt x="273" y="426"/>
                        </a:lnTo>
                        <a:lnTo>
                          <a:pt x="268" y="431"/>
                        </a:lnTo>
                        <a:lnTo>
                          <a:pt x="268" y="436"/>
                        </a:lnTo>
                        <a:lnTo>
                          <a:pt x="264" y="441"/>
                        </a:lnTo>
                        <a:lnTo>
                          <a:pt x="259" y="446"/>
                        </a:lnTo>
                        <a:lnTo>
                          <a:pt x="259" y="450"/>
                        </a:lnTo>
                        <a:lnTo>
                          <a:pt x="254" y="450"/>
                        </a:lnTo>
                        <a:lnTo>
                          <a:pt x="254" y="455"/>
                        </a:lnTo>
                        <a:lnTo>
                          <a:pt x="249" y="460"/>
                        </a:lnTo>
                        <a:lnTo>
                          <a:pt x="249" y="465"/>
                        </a:lnTo>
                        <a:lnTo>
                          <a:pt x="244" y="470"/>
                        </a:lnTo>
                        <a:lnTo>
                          <a:pt x="244" y="474"/>
                        </a:lnTo>
                        <a:lnTo>
                          <a:pt x="240" y="479"/>
                        </a:lnTo>
                        <a:lnTo>
                          <a:pt x="235" y="484"/>
                        </a:lnTo>
                        <a:lnTo>
                          <a:pt x="230" y="489"/>
                        </a:lnTo>
                        <a:lnTo>
                          <a:pt x="230" y="493"/>
                        </a:lnTo>
                        <a:lnTo>
                          <a:pt x="225" y="498"/>
                        </a:lnTo>
                        <a:lnTo>
                          <a:pt x="225" y="503"/>
                        </a:lnTo>
                        <a:lnTo>
                          <a:pt x="220" y="508"/>
                        </a:lnTo>
                        <a:lnTo>
                          <a:pt x="220" y="513"/>
                        </a:lnTo>
                        <a:lnTo>
                          <a:pt x="216" y="513"/>
                        </a:lnTo>
                        <a:lnTo>
                          <a:pt x="211" y="517"/>
                        </a:lnTo>
                        <a:lnTo>
                          <a:pt x="211" y="522"/>
                        </a:lnTo>
                        <a:lnTo>
                          <a:pt x="206" y="527"/>
                        </a:lnTo>
                        <a:lnTo>
                          <a:pt x="206" y="532"/>
                        </a:lnTo>
                        <a:lnTo>
                          <a:pt x="201" y="532"/>
                        </a:lnTo>
                        <a:lnTo>
                          <a:pt x="196" y="537"/>
                        </a:lnTo>
                        <a:lnTo>
                          <a:pt x="196" y="541"/>
                        </a:lnTo>
                        <a:lnTo>
                          <a:pt x="192" y="546"/>
                        </a:lnTo>
                        <a:lnTo>
                          <a:pt x="187" y="546"/>
                        </a:lnTo>
                        <a:lnTo>
                          <a:pt x="187" y="541"/>
                        </a:lnTo>
                        <a:lnTo>
                          <a:pt x="187" y="537"/>
                        </a:lnTo>
                        <a:lnTo>
                          <a:pt x="187" y="532"/>
                        </a:lnTo>
                        <a:lnTo>
                          <a:pt x="187" y="527"/>
                        </a:lnTo>
                        <a:lnTo>
                          <a:pt x="187" y="522"/>
                        </a:lnTo>
                        <a:lnTo>
                          <a:pt x="187" y="517"/>
                        </a:lnTo>
                        <a:lnTo>
                          <a:pt x="187" y="513"/>
                        </a:lnTo>
                        <a:lnTo>
                          <a:pt x="192" y="508"/>
                        </a:lnTo>
                        <a:lnTo>
                          <a:pt x="192" y="503"/>
                        </a:lnTo>
                        <a:lnTo>
                          <a:pt x="192" y="498"/>
                        </a:lnTo>
                        <a:lnTo>
                          <a:pt x="192" y="493"/>
                        </a:lnTo>
                        <a:lnTo>
                          <a:pt x="192" y="489"/>
                        </a:lnTo>
                        <a:lnTo>
                          <a:pt x="192" y="484"/>
                        </a:lnTo>
                        <a:lnTo>
                          <a:pt x="196" y="484"/>
                        </a:lnTo>
                        <a:lnTo>
                          <a:pt x="196" y="479"/>
                        </a:lnTo>
                        <a:lnTo>
                          <a:pt x="196" y="474"/>
                        </a:lnTo>
                        <a:lnTo>
                          <a:pt x="196" y="470"/>
                        </a:lnTo>
                        <a:lnTo>
                          <a:pt x="192" y="465"/>
                        </a:lnTo>
                        <a:lnTo>
                          <a:pt x="192" y="460"/>
                        </a:lnTo>
                        <a:lnTo>
                          <a:pt x="192" y="455"/>
                        </a:lnTo>
                        <a:lnTo>
                          <a:pt x="187" y="450"/>
                        </a:lnTo>
                        <a:lnTo>
                          <a:pt x="182" y="446"/>
                        </a:lnTo>
                        <a:lnTo>
                          <a:pt x="177" y="446"/>
                        </a:lnTo>
                        <a:lnTo>
                          <a:pt x="172" y="446"/>
                        </a:lnTo>
                        <a:lnTo>
                          <a:pt x="168" y="446"/>
                        </a:lnTo>
                        <a:lnTo>
                          <a:pt x="168" y="450"/>
                        </a:lnTo>
                        <a:lnTo>
                          <a:pt x="163" y="450"/>
                        </a:lnTo>
                        <a:lnTo>
                          <a:pt x="163" y="455"/>
                        </a:lnTo>
                        <a:lnTo>
                          <a:pt x="158" y="455"/>
                        </a:lnTo>
                        <a:lnTo>
                          <a:pt x="158" y="460"/>
                        </a:lnTo>
                        <a:lnTo>
                          <a:pt x="158" y="465"/>
                        </a:lnTo>
                        <a:lnTo>
                          <a:pt x="158" y="470"/>
                        </a:lnTo>
                        <a:lnTo>
                          <a:pt x="158" y="474"/>
                        </a:lnTo>
                        <a:lnTo>
                          <a:pt x="158" y="479"/>
                        </a:lnTo>
                        <a:lnTo>
                          <a:pt x="158" y="484"/>
                        </a:lnTo>
                        <a:lnTo>
                          <a:pt x="158" y="489"/>
                        </a:lnTo>
                        <a:lnTo>
                          <a:pt x="158" y="493"/>
                        </a:lnTo>
                        <a:lnTo>
                          <a:pt x="158" y="498"/>
                        </a:lnTo>
                        <a:lnTo>
                          <a:pt x="158" y="503"/>
                        </a:lnTo>
                        <a:lnTo>
                          <a:pt x="158" y="508"/>
                        </a:lnTo>
                        <a:lnTo>
                          <a:pt x="158" y="513"/>
                        </a:lnTo>
                        <a:lnTo>
                          <a:pt x="158" y="517"/>
                        </a:lnTo>
                        <a:lnTo>
                          <a:pt x="158" y="522"/>
                        </a:lnTo>
                        <a:lnTo>
                          <a:pt x="158" y="527"/>
                        </a:lnTo>
                        <a:lnTo>
                          <a:pt x="158" y="532"/>
                        </a:lnTo>
                        <a:lnTo>
                          <a:pt x="158" y="537"/>
                        </a:lnTo>
                        <a:lnTo>
                          <a:pt x="158" y="541"/>
                        </a:lnTo>
                        <a:lnTo>
                          <a:pt x="158" y="546"/>
                        </a:lnTo>
                        <a:lnTo>
                          <a:pt x="163" y="551"/>
                        </a:lnTo>
                        <a:lnTo>
                          <a:pt x="163" y="556"/>
                        </a:lnTo>
                        <a:lnTo>
                          <a:pt x="163" y="561"/>
                        </a:lnTo>
                        <a:lnTo>
                          <a:pt x="163" y="565"/>
                        </a:lnTo>
                        <a:lnTo>
                          <a:pt x="168" y="570"/>
                        </a:lnTo>
                        <a:lnTo>
                          <a:pt x="168" y="575"/>
                        </a:lnTo>
                        <a:lnTo>
                          <a:pt x="168" y="580"/>
                        </a:lnTo>
                        <a:lnTo>
                          <a:pt x="168" y="584"/>
                        </a:lnTo>
                        <a:lnTo>
                          <a:pt x="168" y="589"/>
                        </a:lnTo>
                        <a:lnTo>
                          <a:pt x="163" y="589"/>
                        </a:lnTo>
                        <a:lnTo>
                          <a:pt x="163" y="594"/>
                        </a:lnTo>
                        <a:lnTo>
                          <a:pt x="158" y="599"/>
                        </a:lnTo>
                        <a:lnTo>
                          <a:pt x="158" y="604"/>
                        </a:lnTo>
                        <a:lnTo>
                          <a:pt x="153" y="604"/>
                        </a:lnTo>
                        <a:lnTo>
                          <a:pt x="153" y="608"/>
                        </a:lnTo>
                        <a:lnTo>
                          <a:pt x="148" y="608"/>
                        </a:lnTo>
                        <a:lnTo>
                          <a:pt x="144" y="604"/>
                        </a:lnTo>
                        <a:lnTo>
                          <a:pt x="144" y="599"/>
                        </a:lnTo>
                        <a:lnTo>
                          <a:pt x="139" y="594"/>
                        </a:lnTo>
                        <a:lnTo>
                          <a:pt x="134" y="589"/>
                        </a:lnTo>
                        <a:lnTo>
                          <a:pt x="134" y="584"/>
                        </a:lnTo>
                        <a:lnTo>
                          <a:pt x="129" y="580"/>
                        </a:lnTo>
                        <a:lnTo>
                          <a:pt x="129" y="575"/>
                        </a:lnTo>
                        <a:lnTo>
                          <a:pt x="125" y="575"/>
                        </a:lnTo>
                        <a:lnTo>
                          <a:pt x="125" y="570"/>
                        </a:lnTo>
                        <a:lnTo>
                          <a:pt x="125" y="565"/>
                        </a:lnTo>
                        <a:lnTo>
                          <a:pt x="120" y="561"/>
                        </a:lnTo>
                        <a:lnTo>
                          <a:pt x="120" y="556"/>
                        </a:lnTo>
                        <a:lnTo>
                          <a:pt x="120" y="551"/>
                        </a:lnTo>
                        <a:lnTo>
                          <a:pt x="115" y="551"/>
                        </a:lnTo>
                        <a:lnTo>
                          <a:pt x="115" y="546"/>
                        </a:lnTo>
                        <a:lnTo>
                          <a:pt x="115" y="541"/>
                        </a:lnTo>
                        <a:lnTo>
                          <a:pt x="115" y="537"/>
                        </a:lnTo>
                        <a:lnTo>
                          <a:pt x="115" y="532"/>
                        </a:lnTo>
                        <a:lnTo>
                          <a:pt x="110" y="527"/>
                        </a:lnTo>
                        <a:lnTo>
                          <a:pt x="110" y="522"/>
                        </a:lnTo>
                        <a:lnTo>
                          <a:pt x="110" y="517"/>
                        </a:lnTo>
                        <a:lnTo>
                          <a:pt x="110" y="513"/>
                        </a:lnTo>
                        <a:lnTo>
                          <a:pt x="110" y="508"/>
                        </a:lnTo>
                        <a:lnTo>
                          <a:pt x="110" y="503"/>
                        </a:lnTo>
                        <a:lnTo>
                          <a:pt x="110" y="498"/>
                        </a:lnTo>
                        <a:lnTo>
                          <a:pt x="110" y="493"/>
                        </a:lnTo>
                        <a:lnTo>
                          <a:pt x="110" y="489"/>
                        </a:lnTo>
                        <a:lnTo>
                          <a:pt x="110" y="484"/>
                        </a:lnTo>
                        <a:lnTo>
                          <a:pt x="110" y="474"/>
                        </a:lnTo>
                        <a:lnTo>
                          <a:pt x="115" y="470"/>
                        </a:lnTo>
                        <a:lnTo>
                          <a:pt x="110" y="470"/>
                        </a:lnTo>
                        <a:lnTo>
                          <a:pt x="105" y="470"/>
                        </a:lnTo>
                        <a:lnTo>
                          <a:pt x="105" y="465"/>
                        </a:lnTo>
                        <a:lnTo>
                          <a:pt x="101" y="465"/>
                        </a:lnTo>
                        <a:lnTo>
                          <a:pt x="96" y="465"/>
                        </a:lnTo>
                        <a:lnTo>
                          <a:pt x="91" y="465"/>
                        </a:lnTo>
                        <a:lnTo>
                          <a:pt x="86" y="465"/>
                        </a:lnTo>
                        <a:lnTo>
                          <a:pt x="81" y="465"/>
                        </a:lnTo>
                        <a:lnTo>
                          <a:pt x="81" y="470"/>
                        </a:lnTo>
                        <a:lnTo>
                          <a:pt x="81" y="474"/>
                        </a:lnTo>
                        <a:lnTo>
                          <a:pt x="81" y="479"/>
                        </a:lnTo>
                        <a:lnTo>
                          <a:pt x="81" y="484"/>
                        </a:lnTo>
                        <a:lnTo>
                          <a:pt x="81" y="489"/>
                        </a:lnTo>
                        <a:lnTo>
                          <a:pt x="81" y="493"/>
                        </a:lnTo>
                        <a:lnTo>
                          <a:pt x="81" y="498"/>
                        </a:lnTo>
                        <a:lnTo>
                          <a:pt x="81" y="503"/>
                        </a:lnTo>
                        <a:lnTo>
                          <a:pt x="81" y="508"/>
                        </a:lnTo>
                        <a:lnTo>
                          <a:pt x="81" y="513"/>
                        </a:lnTo>
                        <a:lnTo>
                          <a:pt x="81" y="517"/>
                        </a:lnTo>
                        <a:lnTo>
                          <a:pt x="81" y="522"/>
                        </a:lnTo>
                        <a:lnTo>
                          <a:pt x="81" y="527"/>
                        </a:lnTo>
                        <a:lnTo>
                          <a:pt x="86" y="532"/>
                        </a:lnTo>
                        <a:lnTo>
                          <a:pt x="86" y="537"/>
                        </a:lnTo>
                        <a:lnTo>
                          <a:pt x="86" y="541"/>
                        </a:lnTo>
                        <a:lnTo>
                          <a:pt x="86" y="546"/>
                        </a:lnTo>
                        <a:lnTo>
                          <a:pt x="86" y="551"/>
                        </a:lnTo>
                        <a:lnTo>
                          <a:pt x="86" y="556"/>
                        </a:lnTo>
                        <a:lnTo>
                          <a:pt x="81" y="551"/>
                        </a:lnTo>
                        <a:lnTo>
                          <a:pt x="77" y="546"/>
                        </a:lnTo>
                        <a:lnTo>
                          <a:pt x="72" y="541"/>
                        </a:lnTo>
                        <a:lnTo>
                          <a:pt x="67" y="537"/>
                        </a:lnTo>
                        <a:lnTo>
                          <a:pt x="62" y="532"/>
                        </a:lnTo>
                        <a:lnTo>
                          <a:pt x="62" y="527"/>
                        </a:lnTo>
                        <a:lnTo>
                          <a:pt x="57" y="522"/>
                        </a:lnTo>
                        <a:lnTo>
                          <a:pt x="53" y="517"/>
                        </a:lnTo>
                        <a:lnTo>
                          <a:pt x="53" y="513"/>
                        </a:lnTo>
                        <a:lnTo>
                          <a:pt x="48" y="508"/>
                        </a:lnTo>
                        <a:lnTo>
                          <a:pt x="48" y="503"/>
                        </a:lnTo>
                        <a:lnTo>
                          <a:pt x="48" y="498"/>
                        </a:lnTo>
                        <a:lnTo>
                          <a:pt x="43" y="493"/>
                        </a:lnTo>
                        <a:lnTo>
                          <a:pt x="43" y="489"/>
                        </a:lnTo>
                        <a:lnTo>
                          <a:pt x="43" y="484"/>
                        </a:lnTo>
                        <a:lnTo>
                          <a:pt x="43" y="479"/>
                        </a:lnTo>
                        <a:lnTo>
                          <a:pt x="38" y="474"/>
                        </a:lnTo>
                        <a:lnTo>
                          <a:pt x="38" y="470"/>
                        </a:lnTo>
                        <a:lnTo>
                          <a:pt x="38" y="465"/>
                        </a:lnTo>
                        <a:lnTo>
                          <a:pt x="38" y="460"/>
                        </a:lnTo>
                        <a:lnTo>
                          <a:pt x="38" y="455"/>
                        </a:lnTo>
                        <a:lnTo>
                          <a:pt x="38" y="450"/>
                        </a:lnTo>
                        <a:lnTo>
                          <a:pt x="38" y="446"/>
                        </a:lnTo>
                        <a:lnTo>
                          <a:pt x="38" y="441"/>
                        </a:lnTo>
                        <a:lnTo>
                          <a:pt x="38" y="436"/>
                        </a:lnTo>
                        <a:lnTo>
                          <a:pt x="38" y="426"/>
                        </a:lnTo>
                        <a:lnTo>
                          <a:pt x="38" y="422"/>
                        </a:lnTo>
                        <a:lnTo>
                          <a:pt x="43" y="417"/>
                        </a:lnTo>
                        <a:lnTo>
                          <a:pt x="43" y="412"/>
                        </a:lnTo>
                        <a:lnTo>
                          <a:pt x="48" y="398"/>
                        </a:lnTo>
                        <a:lnTo>
                          <a:pt x="48" y="383"/>
                        </a:lnTo>
                        <a:lnTo>
                          <a:pt x="57" y="369"/>
                        </a:lnTo>
                        <a:lnTo>
                          <a:pt x="62" y="355"/>
                        </a:lnTo>
                        <a:lnTo>
                          <a:pt x="67" y="340"/>
                        </a:lnTo>
                        <a:lnTo>
                          <a:pt x="72" y="326"/>
                        </a:lnTo>
                        <a:lnTo>
                          <a:pt x="81" y="312"/>
                        </a:lnTo>
                        <a:lnTo>
                          <a:pt x="86" y="302"/>
                        </a:lnTo>
                        <a:lnTo>
                          <a:pt x="96" y="288"/>
                        </a:lnTo>
                        <a:lnTo>
                          <a:pt x="105" y="278"/>
                        </a:lnTo>
                        <a:lnTo>
                          <a:pt x="115" y="264"/>
                        </a:lnTo>
                        <a:lnTo>
                          <a:pt x="125" y="254"/>
                        </a:lnTo>
                        <a:lnTo>
                          <a:pt x="134" y="240"/>
                        </a:lnTo>
                        <a:lnTo>
                          <a:pt x="144" y="230"/>
                        </a:lnTo>
                        <a:lnTo>
                          <a:pt x="153" y="216"/>
                        </a:lnTo>
                        <a:lnTo>
                          <a:pt x="163" y="206"/>
                        </a:lnTo>
                        <a:lnTo>
                          <a:pt x="172" y="197"/>
                        </a:lnTo>
                        <a:lnTo>
                          <a:pt x="187" y="182"/>
                        </a:lnTo>
                        <a:lnTo>
                          <a:pt x="196" y="173"/>
                        </a:lnTo>
                        <a:lnTo>
                          <a:pt x="211" y="163"/>
                        </a:lnTo>
                        <a:lnTo>
                          <a:pt x="220" y="154"/>
                        </a:lnTo>
                        <a:lnTo>
                          <a:pt x="230" y="144"/>
                        </a:lnTo>
                        <a:lnTo>
                          <a:pt x="244" y="134"/>
                        </a:lnTo>
                        <a:lnTo>
                          <a:pt x="254" y="125"/>
                        </a:lnTo>
                        <a:lnTo>
                          <a:pt x="268" y="110"/>
                        </a:lnTo>
                        <a:lnTo>
                          <a:pt x="278" y="101"/>
                        </a:lnTo>
                        <a:lnTo>
                          <a:pt x="292" y="91"/>
                        </a:lnTo>
                        <a:lnTo>
                          <a:pt x="302" y="82"/>
                        </a:lnTo>
                        <a:lnTo>
                          <a:pt x="316" y="72"/>
                        </a:lnTo>
                        <a:lnTo>
                          <a:pt x="326" y="63"/>
                        </a:lnTo>
                        <a:lnTo>
                          <a:pt x="340" y="53"/>
                        </a:lnTo>
                        <a:lnTo>
                          <a:pt x="350" y="43"/>
                        </a:lnTo>
                        <a:lnTo>
                          <a:pt x="360" y="39"/>
                        </a:lnTo>
                        <a:lnTo>
                          <a:pt x="364" y="39"/>
                        </a:lnTo>
                        <a:lnTo>
                          <a:pt x="374" y="39"/>
                        </a:lnTo>
                        <a:lnTo>
                          <a:pt x="379" y="34"/>
                        </a:lnTo>
                        <a:lnTo>
                          <a:pt x="388" y="34"/>
                        </a:lnTo>
                        <a:lnTo>
                          <a:pt x="393" y="29"/>
                        </a:lnTo>
                        <a:lnTo>
                          <a:pt x="398" y="29"/>
                        </a:lnTo>
                        <a:lnTo>
                          <a:pt x="408" y="24"/>
                        </a:lnTo>
                        <a:lnTo>
                          <a:pt x="412" y="24"/>
                        </a:lnTo>
                        <a:lnTo>
                          <a:pt x="422" y="19"/>
                        </a:lnTo>
                        <a:lnTo>
                          <a:pt x="427" y="19"/>
                        </a:lnTo>
                        <a:lnTo>
                          <a:pt x="436" y="15"/>
                        </a:lnTo>
                        <a:lnTo>
                          <a:pt x="441" y="15"/>
                        </a:lnTo>
                        <a:lnTo>
                          <a:pt x="451" y="10"/>
                        </a:lnTo>
                        <a:lnTo>
                          <a:pt x="456" y="10"/>
                        </a:lnTo>
                        <a:lnTo>
                          <a:pt x="465" y="10"/>
                        </a:lnTo>
                        <a:lnTo>
                          <a:pt x="470" y="5"/>
                        </a:lnTo>
                        <a:lnTo>
                          <a:pt x="475" y="5"/>
                        </a:lnTo>
                        <a:lnTo>
                          <a:pt x="484" y="5"/>
                        </a:lnTo>
                        <a:lnTo>
                          <a:pt x="489" y="0"/>
                        </a:lnTo>
                        <a:lnTo>
                          <a:pt x="499" y="0"/>
                        </a:lnTo>
                        <a:lnTo>
                          <a:pt x="503" y="0"/>
                        </a:lnTo>
                        <a:lnTo>
                          <a:pt x="513" y="0"/>
                        </a:lnTo>
                        <a:lnTo>
                          <a:pt x="523" y="0"/>
                        </a:lnTo>
                        <a:lnTo>
                          <a:pt x="527" y="0"/>
                        </a:lnTo>
                        <a:lnTo>
                          <a:pt x="537" y="0"/>
                        </a:lnTo>
                        <a:lnTo>
                          <a:pt x="542" y="0"/>
                        </a:lnTo>
                        <a:lnTo>
                          <a:pt x="551" y="0"/>
                        </a:lnTo>
                        <a:lnTo>
                          <a:pt x="556" y="0"/>
                        </a:lnTo>
                        <a:lnTo>
                          <a:pt x="566" y="0"/>
                        </a:lnTo>
                        <a:lnTo>
                          <a:pt x="571" y="5"/>
                        </a:lnTo>
                        <a:lnTo>
                          <a:pt x="580" y="5"/>
                        </a:lnTo>
                        <a:lnTo>
                          <a:pt x="585" y="10"/>
                        </a:lnTo>
                        <a:lnTo>
                          <a:pt x="595" y="10"/>
                        </a:lnTo>
                        <a:lnTo>
                          <a:pt x="599" y="15"/>
                        </a:lnTo>
                        <a:lnTo>
                          <a:pt x="604" y="15"/>
                        </a:lnTo>
                        <a:lnTo>
                          <a:pt x="614" y="19"/>
                        </a:lnTo>
                        <a:lnTo>
                          <a:pt x="619" y="19"/>
                        </a:lnTo>
                        <a:lnTo>
                          <a:pt x="623" y="24"/>
                        </a:lnTo>
                        <a:lnTo>
                          <a:pt x="628" y="29"/>
                        </a:lnTo>
                        <a:lnTo>
                          <a:pt x="638" y="29"/>
                        </a:lnTo>
                        <a:lnTo>
                          <a:pt x="643" y="34"/>
                        </a:lnTo>
                        <a:lnTo>
                          <a:pt x="647" y="34"/>
                        </a:lnTo>
                        <a:lnTo>
                          <a:pt x="657" y="39"/>
                        </a:lnTo>
                        <a:lnTo>
                          <a:pt x="662" y="43"/>
                        </a:lnTo>
                        <a:lnTo>
                          <a:pt x="667" y="48"/>
                        </a:lnTo>
                        <a:lnTo>
                          <a:pt x="671" y="48"/>
                        </a:lnTo>
                        <a:lnTo>
                          <a:pt x="676" y="53"/>
                        </a:lnTo>
                        <a:lnTo>
                          <a:pt x="686" y="58"/>
                        </a:lnTo>
                        <a:lnTo>
                          <a:pt x="691" y="63"/>
                        </a:lnTo>
                        <a:lnTo>
                          <a:pt x="695" y="63"/>
                        </a:lnTo>
                        <a:lnTo>
                          <a:pt x="700" y="67"/>
                        </a:lnTo>
                        <a:lnTo>
                          <a:pt x="705" y="72"/>
                        </a:lnTo>
                        <a:lnTo>
                          <a:pt x="710" y="77"/>
                        </a:lnTo>
                        <a:lnTo>
                          <a:pt x="715" y="82"/>
                        </a:lnTo>
                        <a:lnTo>
                          <a:pt x="719" y="86"/>
                        </a:lnTo>
                        <a:lnTo>
                          <a:pt x="724" y="91"/>
                        </a:lnTo>
                        <a:lnTo>
                          <a:pt x="729" y="96"/>
                        </a:lnTo>
                        <a:lnTo>
                          <a:pt x="734" y="101"/>
                        </a:lnTo>
                        <a:lnTo>
                          <a:pt x="739" y="106"/>
                        </a:lnTo>
                        <a:lnTo>
                          <a:pt x="743" y="110"/>
                        </a:lnTo>
                        <a:lnTo>
                          <a:pt x="748" y="120"/>
                        </a:lnTo>
                        <a:lnTo>
                          <a:pt x="753" y="125"/>
                        </a:lnTo>
                        <a:lnTo>
                          <a:pt x="753" y="130"/>
                        </a:lnTo>
                        <a:close/>
                      </a:path>
                    </a:pathLst>
                  </a:custGeom>
                  <a:solidFill>
                    <a:srgbClr val="ffd9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3" name=""/>
                  <p:cNvSpPr/>
                  <p:nvPr/>
                </p:nvSpPr>
                <p:spPr>
                  <a:xfrm flipH="1">
                    <a:off x="3825000" y="4873680"/>
                    <a:ext cx="104040" cy="96120"/>
                  </a:xfrm>
                  <a:custGeom>
                    <a:avLst/>
                    <a:gdLst/>
                    <a:ahLst/>
                    <a:rect l="l" t="t" r="r" b="b"/>
                    <a:pathLst>
                      <a:path w="614" h="588">
                        <a:moveTo>
                          <a:pt x="442" y="28"/>
                        </a:moveTo>
                        <a:lnTo>
                          <a:pt x="442" y="38"/>
                        </a:lnTo>
                        <a:lnTo>
                          <a:pt x="446" y="47"/>
                        </a:lnTo>
                        <a:lnTo>
                          <a:pt x="446" y="57"/>
                        </a:lnTo>
                        <a:lnTo>
                          <a:pt x="451" y="67"/>
                        </a:lnTo>
                        <a:lnTo>
                          <a:pt x="451" y="76"/>
                        </a:lnTo>
                        <a:lnTo>
                          <a:pt x="456" y="86"/>
                        </a:lnTo>
                        <a:lnTo>
                          <a:pt x="456" y="95"/>
                        </a:lnTo>
                        <a:lnTo>
                          <a:pt x="461" y="105"/>
                        </a:lnTo>
                        <a:lnTo>
                          <a:pt x="461" y="114"/>
                        </a:lnTo>
                        <a:lnTo>
                          <a:pt x="466" y="124"/>
                        </a:lnTo>
                        <a:lnTo>
                          <a:pt x="470" y="129"/>
                        </a:lnTo>
                        <a:lnTo>
                          <a:pt x="470" y="138"/>
                        </a:lnTo>
                        <a:lnTo>
                          <a:pt x="475" y="148"/>
                        </a:lnTo>
                        <a:lnTo>
                          <a:pt x="480" y="158"/>
                        </a:lnTo>
                        <a:lnTo>
                          <a:pt x="480" y="167"/>
                        </a:lnTo>
                        <a:lnTo>
                          <a:pt x="485" y="177"/>
                        </a:lnTo>
                        <a:lnTo>
                          <a:pt x="490" y="181"/>
                        </a:lnTo>
                        <a:lnTo>
                          <a:pt x="490" y="191"/>
                        </a:lnTo>
                        <a:lnTo>
                          <a:pt x="494" y="201"/>
                        </a:lnTo>
                        <a:lnTo>
                          <a:pt x="499" y="210"/>
                        </a:lnTo>
                        <a:lnTo>
                          <a:pt x="504" y="220"/>
                        </a:lnTo>
                        <a:lnTo>
                          <a:pt x="504" y="225"/>
                        </a:lnTo>
                        <a:lnTo>
                          <a:pt x="509" y="234"/>
                        </a:lnTo>
                        <a:lnTo>
                          <a:pt x="513" y="244"/>
                        </a:lnTo>
                        <a:lnTo>
                          <a:pt x="513" y="253"/>
                        </a:lnTo>
                        <a:lnTo>
                          <a:pt x="518" y="263"/>
                        </a:lnTo>
                        <a:lnTo>
                          <a:pt x="518" y="272"/>
                        </a:lnTo>
                        <a:lnTo>
                          <a:pt x="523" y="282"/>
                        </a:lnTo>
                        <a:lnTo>
                          <a:pt x="523" y="292"/>
                        </a:lnTo>
                        <a:lnTo>
                          <a:pt x="528" y="296"/>
                        </a:lnTo>
                        <a:lnTo>
                          <a:pt x="528" y="306"/>
                        </a:lnTo>
                        <a:lnTo>
                          <a:pt x="533" y="316"/>
                        </a:lnTo>
                        <a:lnTo>
                          <a:pt x="533" y="325"/>
                        </a:lnTo>
                        <a:lnTo>
                          <a:pt x="537" y="335"/>
                        </a:lnTo>
                        <a:lnTo>
                          <a:pt x="537" y="340"/>
                        </a:lnTo>
                        <a:lnTo>
                          <a:pt x="542" y="349"/>
                        </a:lnTo>
                        <a:lnTo>
                          <a:pt x="542" y="359"/>
                        </a:lnTo>
                        <a:lnTo>
                          <a:pt x="547" y="363"/>
                        </a:lnTo>
                        <a:lnTo>
                          <a:pt x="552" y="373"/>
                        </a:lnTo>
                        <a:lnTo>
                          <a:pt x="552" y="383"/>
                        </a:lnTo>
                        <a:lnTo>
                          <a:pt x="557" y="387"/>
                        </a:lnTo>
                        <a:lnTo>
                          <a:pt x="557" y="397"/>
                        </a:lnTo>
                        <a:lnTo>
                          <a:pt x="561" y="407"/>
                        </a:lnTo>
                        <a:lnTo>
                          <a:pt x="566" y="411"/>
                        </a:lnTo>
                        <a:lnTo>
                          <a:pt x="566" y="421"/>
                        </a:lnTo>
                        <a:lnTo>
                          <a:pt x="571" y="430"/>
                        </a:lnTo>
                        <a:lnTo>
                          <a:pt x="576" y="435"/>
                        </a:lnTo>
                        <a:lnTo>
                          <a:pt x="576" y="445"/>
                        </a:lnTo>
                        <a:lnTo>
                          <a:pt x="581" y="454"/>
                        </a:lnTo>
                        <a:lnTo>
                          <a:pt x="581" y="459"/>
                        </a:lnTo>
                        <a:lnTo>
                          <a:pt x="585" y="469"/>
                        </a:lnTo>
                        <a:lnTo>
                          <a:pt x="585" y="478"/>
                        </a:lnTo>
                        <a:lnTo>
                          <a:pt x="590" y="483"/>
                        </a:lnTo>
                        <a:lnTo>
                          <a:pt x="595" y="493"/>
                        </a:lnTo>
                        <a:lnTo>
                          <a:pt x="595" y="502"/>
                        </a:lnTo>
                        <a:lnTo>
                          <a:pt x="600" y="507"/>
                        </a:lnTo>
                        <a:lnTo>
                          <a:pt x="600" y="517"/>
                        </a:lnTo>
                        <a:lnTo>
                          <a:pt x="605" y="526"/>
                        </a:lnTo>
                        <a:lnTo>
                          <a:pt x="605" y="531"/>
                        </a:lnTo>
                        <a:lnTo>
                          <a:pt x="609" y="541"/>
                        </a:lnTo>
                        <a:lnTo>
                          <a:pt x="609" y="550"/>
                        </a:lnTo>
                        <a:lnTo>
                          <a:pt x="609" y="560"/>
                        </a:lnTo>
                        <a:lnTo>
                          <a:pt x="614" y="565"/>
                        </a:lnTo>
                        <a:lnTo>
                          <a:pt x="614" y="574"/>
                        </a:lnTo>
                        <a:lnTo>
                          <a:pt x="609" y="574"/>
                        </a:lnTo>
                        <a:lnTo>
                          <a:pt x="609" y="569"/>
                        </a:lnTo>
                        <a:lnTo>
                          <a:pt x="605" y="569"/>
                        </a:lnTo>
                        <a:lnTo>
                          <a:pt x="605" y="565"/>
                        </a:lnTo>
                        <a:lnTo>
                          <a:pt x="600" y="565"/>
                        </a:lnTo>
                        <a:lnTo>
                          <a:pt x="595" y="565"/>
                        </a:lnTo>
                        <a:lnTo>
                          <a:pt x="595" y="560"/>
                        </a:lnTo>
                        <a:lnTo>
                          <a:pt x="590" y="560"/>
                        </a:lnTo>
                        <a:lnTo>
                          <a:pt x="590" y="555"/>
                        </a:lnTo>
                        <a:lnTo>
                          <a:pt x="585" y="555"/>
                        </a:lnTo>
                        <a:lnTo>
                          <a:pt x="585" y="550"/>
                        </a:lnTo>
                        <a:lnTo>
                          <a:pt x="581" y="550"/>
                        </a:lnTo>
                        <a:lnTo>
                          <a:pt x="581" y="545"/>
                        </a:lnTo>
                        <a:lnTo>
                          <a:pt x="576" y="545"/>
                        </a:lnTo>
                        <a:lnTo>
                          <a:pt x="576" y="541"/>
                        </a:lnTo>
                        <a:lnTo>
                          <a:pt x="571" y="541"/>
                        </a:lnTo>
                        <a:lnTo>
                          <a:pt x="566" y="536"/>
                        </a:lnTo>
                        <a:lnTo>
                          <a:pt x="561" y="531"/>
                        </a:lnTo>
                        <a:lnTo>
                          <a:pt x="557" y="526"/>
                        </a:lnTo>
                        <a:lnTo>
                          <a:pt x="552" y="521"/>
                        </a:lnTo>
                        <a:lnTo>
                          <a:pt x="547" y="517"/>
                        </a:lnTo>
                        <a:lnTo>
                          <a:pt x="537" y="512"/>
                        </a:lnTo>
                        <a:lnTo>
                          <a:pt x="533" y="512"/>
                        </a:lnTo>
                        <a:lnTo>
                          <a:pt x="528" y="507"/>
                        </a:lnTo>
                        <a:lnTo>
                          <a:pt x="523" y="502"/>
                        </a:lnTo>
                        <a:lnTo>
                          <a:pt x="518" y="498"/>
                        </a:lnTo>
                        <a:lnTo>
                          <a:pt x="509" y="498"/>
                        </a:lnTo>
                        <a:lnTo>
                          <a:pt x="504" y="493"/>
                        </a:lnTo>
                        <a:lnTo>
                          <a:pt x="499" y="488"/>
                        </a:lnTo>
                        <a:lnTo>
                          <a:pt x="494" y="488"/>
                        </a:lnTo>
                        <a:lnTo>
                          <a:pt x="485" y="483"/>
                        </a:lnTo>
                        <a:lnTo>
                          <a:pt x="480" y="483"/>
                        </a:lnTo>
                        <a:lnTo>
                          <a:pt x="475" y="483"/>
                        </a:lnTo>
                        <a:lnTo>
                          <a:pt x="466" y="478"/>
                        </a:lnTo>
                        <a:lnTo>
                          <a:pt x="461" y="478"/>
                        </a:lnTo>
                        <a:lnTo>
                          <a:pt x="456" y="478"/>
                        </a:lnTo>
                        <a:lnTo>
                          <a:pt x="446" y="474"/>
                        </a:lnTo>
                        <a:lnTo>
                          <a:pt x="442" y="474"/>
                        </a:lnTo>
                        <a:lnTo>
                          <a:pt x="432" y="474"/>
                        </a:lnTo>
                        <a:lnTo>
                          <a:pt x="427" y="474"/>
                        </a:lnTo>
                        <a:lnTo>
                          <a:pt x="422" y="474"/>
                        </a:lnTo>
                        <a:lnTo>
                          <a:pt x="413" y="474"/>
                        </a:lnTo>
                        <a:lnTo>
                          <a:pt x="408" y="474"/>
                        </a:lnTo>
                        <a:lnTo>
                          <a:pt x="398" y="478"/>
                        </a:lnTo>
                        <a:lnTo>
                          <a:pt x="394" y="478"/>
                        </a:lnTo>
                        <a:lnTo>
                          <a:pt x="384" y="478"/>
                        </a:lnTo>
                        <a:lnTo>
                          <a:pt x="379" y="483"/>
                        </a:lnTo>
                        <a:lnTo>
                          <a:pt x="374" y="483"/>
                        </a:lnTo>
                        <a:lnTo>
                          <a:pt x="365" y="488"/>
                        </a:lnTo>
                        <a:lnTo>
                          <a:pt x="360" y="488"/>
                        </a:lnTo>
                        <a:lnTo>
                          <a:pt x="355" y="488"/>
                        </a:lnTo>
                        <a:lnTo>
                          <a:pt x="346" y="493"/>
                        </a:lnTo>
                        <a:lnTo>
                          <a:pt x="341" y="493"/>
                        </a:lnTo>
                        <a:lnTo>
                          <a:pt x="336" y="498"/>
                        </a:lnTo>
                        <a:lnTo>
                          <a:pt x="331" y="498"/>
                        </a:lnTo>
                        <a:lnTo>
                          <a:pt x="322" y="502"/>
                        </a:lnTo>
                        <a:lnTo>
                          <a:pt x="317" y="502"/>
                        </a:lnTo>
                        <a:lnTo>
                          <a:pt x="312" y="507"/>
                        </a:lnTo>
                        <a:lnTo>
                          <a:pt x="307" y="507"/>
                        </a:lnTo>
                        <a:lnTo>
                          <a:pt x="302" y="512"/>
                        </a:lnTo>
                        <a:lnTo>
                          <a:pt x="293" y="512"/>
                        </a:lnTo>
                        <a:lnTo>
                          <a:pt x="288" y="517"/>
                        </a:lnTo>
                        <a:lnTo>
                          <a:pt x="283" y="521"/>
                        </a:lnTo>
                        <a:lnTo>
                          <a:pt x="278" y="521"/>
                        </a:lnTo>
                        <a:lnTo>
                          <a:pt x="274" y="526"/>
                        </a:lnTo>
                        <a:lnTo>
                          <a:pt x="264" y="531"/>
                        </a:lnTo>
                        <a:lnTo>
                          <a:pt x="259" y="536"/>
                        </a:lnTo>
                        <a:lnTo>
                          <a:pt x="254" y="536"/>
                        </a:lnTo>
                        <a:lnTo>
                          <a:pt x="250" y="541"/>
                        </a:lnTo>
                        <a:lnTo>
                          <a:pt x="245" y="545"/>
                        </a:lnTo>
                        <a:lnTo>
                          <a:pt x="240" y="550"/>
                        </a:lnTo>
                        <a:lnTo>
                          <a:pt x="235" y="555"/>
                        </a:lnTo>
                        <a:lnTo>
                          <a:pt x="230" y="560"/>
                        </a:lnTo>
                        <a:lnTo>
                          <a:pt x="226" y="560"/>
                        </a:lnTo>
                        <a:lnTo>
                          <a:pt x="221" y="565"/>
                        </a:lnTo>
                        <a:lnTo>
                          <a:pt x="216" y="569"/>
                        </a:lnTo>
                        <a:lnTo>
                          <a:pt x="211" y="574"/>
                        </a:lnTo>
                        <a:lnTo>
                          <a:pt x="206" y="579"/>
                        </a:lnTo>
                        <a:lnTo>
                          <a:pt x="202" y="584"/>
                        </a:lnTo>
                        <a:lnTo>
                          <a:pt x="197" y="588"/>
                        </a:lnTo>
                        <a:lnTo>
                          <a:pt x="192" y="569"/>
                        </a:lnTo>
                        <a:lnTo>
                          <a:pt x="187" y="555"/>
                        </a:lnTo>
                        <a:lnTo>
                          <a:pt x="182" y="536"/>
                        </a:lnTo>
                        <a:lnTo>
                          <a:pt x="178" y="521"/>
                        </a:lnTo>
                        <a:lnTo>
                          <a:pt x="173" y="507"/>
                        </a:lnTo>
                        <a:lnTo>
                          <a:pt x="168" y="488"/>
                        </a:lnTo>
                        <a:lnTo>
                          <a:pt x="163" y="474"/>
                        </a:lnTo>
                        <a:lnTo>
                          <a:pt x="159" y="454"/>
                        </a:lnTo>
                        <a:lnTo>
                          <a:pt x="149" y="440"/>
                        </a:lnTo>
                        <a:lnTo>
                          <a:pt x="144" y="421"/>
                        </a:lnTo>
                        <a:lnTo>
                          <a:pt x="139" y="407"/>
                        </a:lnTo>
                        <a:lnTo>
                          <a:pt x="130" y="392"/>
                        </a:lnTo>
                        <a:lnTo>
                          <a:pt x="125" y="373"/>
                        </a:lnTo>
                        <a:lnTo>
                          <a:pt x="120" y="359"/>
                        </a:lnTo>
                        <a:lnTo>
                          <a:pt x="111" y="344"/>
                        </a:lnTo>
                        <a:lnTo>
                          <a:pt x="106" y="325"/>
                        </a:lnTo>
                        <a:lnTo>
                          <a:pt x="96" y="311"/>
                        </a:lnTo>
                        <a:lnTo>
                          <a:pt x="91" y="296"/>
                        </a:lnTo>
                        <a:lnTo>
                          <a:pt x="87" y="277"/>
                        </a:lnTo>
                        <a:lnTo>
                          <a:pt x="77" y="263"/>
                        </a:lnTo>
                        <a:lnTo>
                          <a:pt x="72" y="249"/>
                        </a:lnTo>
                        <a:lnTo>
                          <a:pt x="63" y="229"/>
                        </a:lnTo>
                        <a:lnTo>
                          <a:pt x="58" y="215"/>
                        </a:lnTo>
                        <a:lnTo>
                          <a:pt x="48" y="201"/>
                        </a:lnTo>
                        <a:lnTo>
                          <a:pt x="43" y="181"/>
                        </a:lnTo>
                        <a:lnTo>
                          <a:pt x="39" y="167"/>
                        </a:lnTo>
                        <a:lnTo>
                          <a:pt x="29" y="153"/>
                        </a:lnTo>
                        <a:lnTo>
                          <a:pt x="24" y="134"/>
                        </a:lnTo>
                        <a:lnTo>
                          <a:pt x="19" y="119"/>
                        </a:lnTo>
                        <a:lnTo>
                          <a:pt x="15" y="105"/>
                        </a:lnTo>
                        <a:lnTo>
                          <a:pt x="5" y="86"/>
                        </a:lnTo>
                        <a:lnTo>
                          <a:pt x="0" y="71"/>
                        </a:lnTo>
                        <a:lnTo>
                          <a:pt x="15" y="71"/>
                        </a:lnTo>
                        <a:lnTo>
                          <a:pt x="24" y="71"/>
                        </a:lnTo>
                        <a:lnTo>
                          <a:pt x="39" y="76"/>
                        </a:lnTo>
                        <a:lnTo>
                          <a:pt x="48" y="76"/>
                        </a:lnTo>
                        <a:lnTo>
                          <a:pt x="63" y="76"/>
                        </a:lnTo>
                        <a:lnTo>
                          <a:pt x="72" y="76"/>
                        </a:lnTo>
                        <a:lnTo>
                          <a:pt x="87" y="76"/>
                        </a:lnTo>
                        <a:lnTo>
                          <a:pt x="96" y="76"/>
                        </a:lnTo>
                        <a:lnTo>
                          <a:pt x="111" y="76"/>
                        </a:lnTo>
                        <a:lnTo>
                          <a:pt x="120" y="71"/>
                        </a:lnTo>
                        <a:lnTo>
                          <a:pt x="135" y="71"/>
                        </a:lnTo>
                        <a:lnTo>
                          <a:pt x="144" y="71"/>
                        </a:lnTo>
                        <a:lnTo>
                          <a:pt x="159" y="67"/>
                        </a:lnTo>
                        <a:lnTo>
                          <a:pt x="168" y="67"/>
                        </a:lnTo>
                        <a:lnTo>
                          <a:pt x="182" y="62"/>
                        </a:lnTo>
                        <a:lnTo>
                          <a:pt x="192" y="62"/>
                        </a:lnTo>
                        <a:lnTo>
                          <a:pt x="206" y="62"/>
                        </a:lnTo>
                        <a:lnTo>
                          <a:pt x="216" y="57"/>
                        </a:lnTo>
                        <a:lnTo>
                          <a:pt x="230" y="52"/>
                        </a:lnTo>
                        <a:lnTo>
                          <a:pt x="240" y="52"/>
                        </a:lnTo>
                        <a:lnTo>
                          <a:pt x="254" y="47"/>
                        </a:lnTo>
                        <a:lnTo>
                          <a:pt x="264" y="47"/>
                        </a:lnTo>
                        <a:lnTo>
                          <a:pt x="278" y="43"/>
                        </a:lnTo>
                        <a:lnTo>
                          <a:pt x="288" y="43"/>
                        </a:lnTo>
                        <a:lnTo>
                          <a:pt x="302" y="38"/>
                        </a:lnTo>
                        <a:lnTo>
                          <a:pt x="312" y="38"/>
                        </a:lnTo>
                        <a:lnTo>
                          <a:pt x="322" y="33"/>
                        </a:lnTo>
                        <a:lnTo>
                          <a:pt x="336" y="33"/>
                        </a:lnTo>
                        <a:lnTo>
                          <a:pt x="346" y="28"/>
                        </a:lnTo>
                        <a:lnTo>
                          <a:pt x="360" y="28"/>
                        </a:lnTo>
                        <a:lnTo>
                          <a:pt x="370" y="23"/>
                        </a:lnTo>
                        <a:lnTo>
                          <a:pt x="384" y="23"/>
                        </a:lnTo>
                        <a:lnTo>
                          <a:pt x="389" y="23"/>
                        </a:lnTo>
                        <a:lnTo>
                          <a:pt x="394" y="19"/>
                        </a:lnTo>
                        <a:lnTo>
                          <a:pt x="398" y="19"/>
                        </a:lnTo>
                        <a:lnTo>
                          <a:pt x="403" y="14"/>
                        </a:lnTo>
                        <a:lnTo>
                          <a:pt x="408" y="14"/>
                        </a:lnTo>
                        <a:lnTo>
                          <a:pt x="408" y="9"/>
                        </a:lnTo>
                        <a:lnTo>
                          <a:pt x="413" y="9"/>
                        </a:lnTo>
                        <a:lnTo>
                          <a:pt x="418" y="4"/>
                        </a:lnTo>
                        <a:lnTo>
                          <a:pt x="422" y="4"/>
                        </a:lnTo>
                        <a:lnTo>
                          <a:pt x="427" y="0"/>
                        </a:lnTo>
                        <a:lnTo>
                          <a:pt x="432" y="0"/>
                        </a:lnTo>
                        <a:lnTo>
                          <a:pt x="437" y="4"/>
                        </a:lnTo>
                        <a:lnTo>
                          <a:pt x="442" y="9"/>
                        </a:lnTo>
                        <a:lnTo>
                          <a:pt x="442" y="14"/>
                        </a:lnTo>
                        <a:lnTo>
                          <a:pt x="442" y="19"/>
                        </a:lnTo>
                        <a:lnTo>
                          <a:pt x="442" y="23"/>
                        </a:lnTo>
                        <a:lnTo>
                          <a:pt x="442" y="28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4" name=""/>
                  <p:cNvSpPr/>
                  <p:nvPr/>
                </p:nvSpPr>
                <p:spPr>
                  <a:xfrm flipH="1">
                    <a:off x="3905280" y="4884480"/>
                    <a:ext cx="82800" cy="84600"/>
                  </a:xfrm>
                  <a:custGeom>
                    <a:avLst/>
                    <a:gdLst/>
                    <a:ahLst/>
                    <a:rect l="l" t="t" r="r" b="b"/>
                    <a:pathLst>
                      <a:path w="489" h="517">
                        <a:moveTo>
                          <a:pt x="307" y="19"/>
                        </a:moveTo>
                        <a:lnTo>
                          <a:pt x="312" y="28"/>
                        </a:lnTo>
                        <a:lnTo>
                          <a:pt x="316" y="43"/>
                        </a:lnTo>
                        <a:lnTo>
                          <a:pt x="321" y="52"/>
                        </a:lnTo>
                        <a:lnTo>
                          <a:pt x="321" y="62"/>
                        </a:lnTo>
                        <a:lnTo>
                          <a:pt x="326" y="76"/>
                        </a:lnTo>
                        <a:lnTo>
                          <a:pt x="331" y="86"/>
                        </a:lnTo>
                        <a:lnTo>
                          <a:pt x="336" y="95"/>
                        </a:lnTo>
                        <a:lnTo>
                          <a:pt x="340" y="110"/>
                        </a:lnTo>
                        <a:lnTo>
                          <a:pt x="345" y="119"/>
                        </a:lnTo>
                        <a:lnTo>
                          <a:pt x="350" y="129"/>
                        </a:lnTo>
                        <a:lnTo>
                          <a:pt x="355" y="143"/>
                        </a:lnTo>
                        <a:lnTo>
                          <a:pt x="360" y="153"/>
                        </a:lnTo>
                        <a:lnTo>
                          <a:pt x="364" y="162"/>
                        </a:lnTo>
                        <a:lnTo>
                          <a:pt x="369" y="177"/>
                        </a:lnTo>
                        <a:lnTo>
                          <a:pt x="369" y="186"/>
                        </a:lnTo>
                        <a:lnTo>
                          <a:pt x="374" y="196"/>
                        </a:lnTo>
                        <a:lnTo>
                          <a:pt x="379" y="210"/>
                        </a:lnTo>
                        <a:lnTo>
                          <a:pt x="384" y="220"/>
                        </a:lnTo>
                        <a:lnTo>
                          <a:pt x="388" y="229"/>
                        </a:lnTo>
                        <a:lnTo>
                          <a:pt x="393" y="244"/>
                        </a:lnTo>
                        <a:lnTo>
                          <a:pt x="398" y="253"/>
                        </a:lnTo>
                        <a:lnTo>
                          <a:pt x="403" y="263"/>
                        </a:lnTo>
                        <a:lnTo>
                          <a:pt x="408" y="277"/>
                        </a:lnTo>
                        <a:lnTo>
                          <a:pt x="412" y="287"/>
                        </a:lnTo>
                        <a:lnTo>
                          <a:pt x="417" y="296"/>
                        </a:lnTo>
                        <a:lnTo>
                          <a:pt x="422" y="311"/>
                        </a:lnTo>
                        <a:lnTo>
                          <a:pt x="427" y="320"/>
                        </a:lnTo>
                        <a:lnTo>
                          <a:pt x="432" y="330"/>
                        </a:lnTo>
                        <a:lnTo>
                          <a:pt x="436" y="344"/>
                        </a:lnTo>
                        <a:lnTo>
                          <a:pt x="441" y="354"/>
                        </a:lnTo>
                        <a:lnTo>
                          <a:pt x="446" y="363"/>
                        </a:lnTo>
                        <a:lnTo>
                          <a:pt x="446" y="378"/>
                        </a:lnTo>
                        <a:lnTo>
                          <a:pt x="451" y="378"/>
                        </a:lnTo>
                        <a:lnTo>
                          <a:pt x="451" y="383"/>
                        </a:lnTo>
                        <a:lnTo>
                          <a:pt x="451" y="387"/>
                        </a:lnTo>
                        <a:lnTo>
                          <a:pt x="456" y="392"/>
                        </a:lnTo>
                        <a:lnTo>
                          <a:pt x="456" y="397"/>
                        </a:lnTo>
                        <a:lnTo>
                          <a:pt x="456" y="402"/>
                        </a:lnTo>
                        <a:lnTo>
                          <a:pt x="460" y="407"/>
                        </a:lnTo>
                        <a:lnTo>
                          <a:pt x="460" y="411"/>
                        </a:lnTo>
                        <a:lnTo>
                          <a:pt x="465" y="416"/>
                        </a:lnTo>
                        <a:lnTo>
                          <a:pt x="465" y="421"/>
                        </a:lnTo>
                        <a:lnTo>
                          <a:pt x="465" y="426"/>
                        </a:lnTo>
                        <a:lnTo>
                          <a:pt x="470" y="431"/>
                        </a:lnTo>
                        <a:lnTo>
                          <a:pt x="470" y="435"/>
                        </a:lnTo>
                        <a:lnTo>
                          <a:pt x="470" y="440"/>
                        </a:lnTo>
                        <a:lnTo>
                          <a:pt x="475" y="445"/>
                        </a:lnTo>
                        <a:lnTo>
                          <a:pt x="475" y="450"/>
                        </a:lnTo>
                        <a:lnTo>
                          <a:pt x="475" y="454"/>
                        </a:lnTo>
                        <a:lnTo>
                          <a:pt x="475" y="459"/>
                        </a:lnTo>
                        <a:lnTo>
                          <a:pt x="480" y="464"/>
                        </a:lnTo>
                        <a:lnTo>
                          <a:pt x="480" y="469"/>
                        </a:lnTo>
                        <a:lnTo>
                          <a:pt x="480" y="474"/>
                        </a:lnTo>
                        <a:lnTo>
                          <a:pt x="484" y="478"/>
                        </a:lnTo>
                        <a:lnTo>
                          <a:pt x="484" y="483"/>
                        </a:lnTo>
                        <a:lnTo>
                          <a:pt x="484" y="488"/>
                        </a:lnTo>
                        <a:lnTo>
                          <a:pt x="484" y="493"/>
                        </a:lnTo>
                        <a:lnTo>
                          <a:pt x="489" y="498"/>
                        </a:lnTo>
                        <a:lnTo>
                          <a:pt x="489" y="502"/>
                        </a:lnTo>
                        <a:lnTo>
                          <a:pt x="489" y="507"/>
                        </a:lnTo>
                        <a:lnTo>
                          <a:pt x="489" y="512"/>
                        </a:lnTo>
                        <a:lnTo>
                          <a:pt x="480" y="512"/>
                        </a:lnTo>
                        <a:lnTo>
                          <a:pt x="470" y="512"/>
                        </a:lnTo>
                        <a:lnTo>
                          <a:pt x="456" y="512"/>
                        </a:lnTo>
                        <a:lnTo>
                          <a:pt x="446" y="512"/>
                        </a:lnTo>
                        <a:lnTo>
                          <a:pt x="436" y="512"/>
                        </a:lnTo>
                        <a:lnTo>
                          <a:pt x="427" y="517"/>
                        </a:lnTo>
                        <a:lnTo>
                          <a:pt x="412" y="517"/>
                        </a:lnTo>
                        <a:lnTo>
                          <a:pt x="403" y="517"/>
                        </a:lnTo>
                        <a:lnTo>
                          <a:pt x="393" y="517"/>
                        </a:lnTo>
                        <a:lnTo>
                          <a:pt x="384" y="517"/>
                        </a:lnTo>
                        <a:lnTo>
                          <a:pt x="369" y="517"/>
                        </a:lnTo>
                        <a:lnTo>
                          <a:pt x="360" y="517"/>
                        </a:lnTo>
                        <a:lnTo>
                          <a:pt x="350" y="517"/>
                        </a:lnTo>
                        <a:lnTo>
                          <a:pt x="340" y="517"/>
                        </a:lnTo>
                        <a:lnTo>
                          <a:pt x="326" y="517"/>
                        </a:lnTo>
                        <a:lnTo>
                          <a:pt x="316" y="517"/>
                        </a:lnTo>
                        <a:lnTo>
                          <a:pt x="307" y="517"/>
                        </a:lnTo>
                        <a:lnTo>
                          <a:pt x="297" y="517"/>
                        </a:lnTo>
                        <a:lnTo>
                          <a:pt x="283" y="517"/>
                        </a:lnTo>
                        <a:lnTo>
                          <a:pt x="273" y="512"/>
                        </a:lnTo>
                        <a:lnTo>
                          <a:pt x="264" y="512"/>
                        </a:lnTo>
                        <a:lnTo>
                          <a:pt x="254" y="512"/>
                        </a:lnTo>
                        <a:lnTo>
                          <a:pt x="240" y="512"/>
                        </a:lnTo>
                        <a:lnTo>
                          <a:pt x="230" y="507"/>
                        </a:lnTo>
                        <a:lnTo>
                          <a:pt x="220" y="507"/>
                        </a:lnTo>
                        <a:lnTo>
                          <a:pt x="211" y="502"/>
                        </a:lnTo>
                        <a:lnTo>
                          <a:pt x="201" y="502"/>
                        </a:lnTo>
                        <a:lnTo>
                          <a:pt x="187" y="498"/>
                        </a:lnTo>
                        <a:lnTo>
                          <a:pt x="177" y="498"/>
                        </a:lnTo>
                        <a:lnTo>
                          <a:pt x="168" y="493"/>
                        </a:lnTo>
                        <a:lnTo>
                          <a:pt x="158" y="488"/>
                        </a:lnTo>
                        <a:lnTo>
                          <a:pt x="149" y="483"/>
                        </a:lnTo>
                        <a:lnTo>
                          <a:pt x="144" y="483"/>
                        </a:lnTo>
                        <a:lnTo>
                          <a:pt x="144" y="478"/>
                        </a:lnTo>
                        <a:lnTo>
                          <a:pt x="139" y="474"/>
                        </a:lnTo>
                        <a:lnTo>
                          <a:pt x="134" y="469"/>
                        </a:lnTo>
                        <a:lnTo>
                          <a:pt x="134" y="464"/>
                        </a:lnTo>
                        <a:lnTo>
                          <a:pt x="129" y="464"/>
                        </a:lnTo>
                        <a:lnTo>
                          <a:pt x="129" y="459"/>
                        </a:lnTo>
                        <a:lnTo>
                          <a:pt x="125" y="454"/>
                        </a:lnTo>
                        <a:lnTo>
                          <a:pt x="125" y="450"/>
                        </a:lnTo>
                        <a:lnTo>
                          <a:pt x="120" y="445"/>
                        </a:lnTo>
                        <a:lnTo>
                          <a:pt x="115" y="440"/>
                        </a:lnTo>
                        <a:lnTo>
                          <a:pt x="115" y="435"/>
                        </a:lnTo>
                        <a:lnTo>
                          <a:pt x="115" y="431"/>
                        </a:lnTo>
                        <a:lnTo>
                          <a:pt x="110" y="431"/>
                        </a:lnTo>
                        <a:lnTo>
                          <a:pt x="110" y="426"/>
                        </a:lnTo>
                        <a:lnTo>
                          <a:pt x="105" y="421"/>
                        </a:lnTo>
                        <a:lnTo>
                          <a:pt x="101" y="416"/>
                        </a:lnTo>
                        <a:lnTo>
                          <a:pt x="101" y="411"/>
                        </a:lnTo>
                        <a:lnTo>
                          <a:pt x="96" y="407"/>
                        </a:lnTo>
                        <a:lnTo>
                          <a:pt x="96" y="402"/>
                        </a:lnTo>
                        <a:lnTo>
                          <a:pt x="91" y="402"/>
                        </a:lnTo>
                        <a:lnTo>
                          <a:pt x="91" y="397"/>
                        </a:lnTo>
                        <a:lnTo>
                          <a:pt x="86" y="392"/>
                        </a:lnTo>
                        <a:lnTo>
                          <a:pt x="81" y="392"/>
                        </a:lnTo>
                        <a:lnTo>
                          <a:pt x="81" y="387"/>
                        </a:lnTo>
                        <a:lnTo>
                          <a:pt x="77" y="387"/>
                        </a:lnTo>
                        <a:lnTo>
                          <a:pt x="77" y="383"/>
                        </a:lnTo>
                        <a:lnTo>
                          <a:pt x="72" y="368"/>
                        </a:lnTo>
                        <a:lnTo>
                          <a:pt x="72" y="359"/>
                        </a:lnTo>
                        <a:lnTo>
                          <a:pt x="72" y="344"/>
                        </a:lnTo>
                        <a:lnTo>
                          <a:pt x="72" y="335"/>
                        </a:lnTo>
                        <a:lnTo>
                          <a:pt x="67" y="320"/>
                        </a:lnTo>
                        <a:lnTo>
                          <a:pt x="67" y="306"/>
                        </a:lnTo>
                        <a:lnTo>
                          <a:pt x="62" y="296"/>
                        </a:lnTo>
                        <a:lnTo>
                          <a:pt x="62" y="282"/>
                        </a:lnTo>
                        <a:lnTo>
                          <a:pt x="57" y="273"/>
                        </a:lnTo>
                        <a:lnTo>
                          <a:pt x="57" y="258"/>
                        </a:lnTo>
                        <a:lnTo>
                          <a:pt x="53" y="249"/>
                        </a:lnTo>
                        <a:lnTo>
                          <a:pt x="53" y="234"/>
                        </a:lnTo>
                        <a:lnTo>
                          <a:pt x="48" y="225"/>
                        </a:lnTo>
                        <a:lnTo>
                          <a:pt x="48" y="210"/>
                        </a:lnTo>
                        <a:lnTo>
                          <a:pt x="43" y="201"/>
                        </a:lnTo>
                        <a:lnTo>
                          <a:pt x="43" y="191"/>
                        </a:lnTo>
                        <a:lnTo>
                          <a:pt x="38" y="177"/>
                        </a:lnTo>
                        <a:lnTo>
                          <a:pt x="33" y="167"/>
                        </a:lnTo>
                        <a:lnTo>
                          <a:pt x="33" y="153"/>
                        </a:lnTo>
                        <a:lnTo>
                          <a:pt x="29" y="143"/>
                        </a:lnTo>
                        <a:lnTo>
                          <a:pt x="29" y="129"/>
                        </a:lnTo>
                        <a:lnTo>
                          <a:pt x="24" y="119"/>
                        </a:lnTo>
                        <a:lnTo>
                          <a:pt x="24" y="105"/>
                        </a:lnTo>
                        <a:lnTo>
                          <a:pt x="19" y="95"/>
                        </a:lnTo>
                        <a:lnTo>
                          <a:pt x="14" y="81"/>
                        </a:lnTo>
                        <a:lnTo>
                          <a:pt x="14" y="71"/>
                        </a:lnTo>
                        <a:lnTo>
                          <a:pt x="9" y="57"/>
                        </a:lnTo>
                        <a:lnTo>
                          <a:pt x="9" y="47"/>
                        </a:lnTo>
                        <a:lnTo>
                          <a:pt x="5" y="33"/>
                        </a:lnTo>
                        <a:lnTo>
                          <a:pt x="5" y="24"/>
                        </a:lnTo>
                        <a:lnTo>
                          <a:pt x="5" y="9"/>
                        </a:lnTo>
                        <a:lnTo>
                          <a:pt x="0" y="0"/>
                        </a:lnTo>
                        <a:lnTo>
                          <a:pt x="9" y="4"/>
                        </a:lnTo>
                        <a:lnTo>
                          <a:pt x="19" y="9"/>
                        </a:lnTo>
                        <a:lnTo>
                          <a:pt x="24" y="9"/>
                        </a:lnTo>
                        <a:lnTo>
                          <a:pt x="33" y="14"/>
                        </a:lnTo>
                        <a:lnTo>
                          <a:pt x="43" y="19"/>
                        </a:lnTo>
                        <a:lnTo>
                          <a:pt x="53" y="19"/>
                        </a:lnTo>
                        <a:lnTo>
                          <a:pt x="62" y="24"/>
                        </a:lnTo>
                        <a:lnTo>
                          <a:pt x="72" y="28"/>
                        </a:lnTo>
                        <a:lnTo>
                          <a:pt x="81" y="28"/>
                        </a:lnTo>
                        <a:lnTo>
                          <a:pt x="91" y="28"/>
                        </a:lnTo>
                        <a:lnTo>
                          <a:pt x="101" y="33"/>
                        </a:lnTo>
                        <a:lnTo>
                          <a:pt x="110" y="33"/>
                        </a:lnTo>
                        <a:lnTo>
                          <a:pt x="120" y="33"/>
                        </a:lnTo>
                        <a:lnTo>
                          <a:pt x="129" y="38"/>
                        </a:lnTo>
                        <a:lnTo>
                          <a:pt x="139" y="38"/>
                        </a:lnTo>
                        <a:lnTo>
                          <a:pt x="149" y="38"/>
                        </a:lnTo>
                        <a:lnTo>
                          <a:pt x="158" y="38"/>
                        </a:lnTo>
                        <a:lnTo>
                          <a:pt x="168" y="38"/>
                        </a:lnTo>
                        <a:lnTo>
                          <a:pt x="182" y="38"/>
                        </a:lnTo>
                        <a:lnTo>
                          <a:pt x="192" y="38"/>
                        </a:lnTo>
                        <a:lnTo>
                          <a:pt x="201" y="38"/>
                        </a:lnTo>
                        <a:lnTo>
                          <a:pt x="211" y="38"/>
                        </a:lnTo>
                        <a:lnTo>
                          <a:pt x="220" y="38"/>
                        </a:lnTo>
                        <a:lnTo>
                          <a:pt x="230" y="33"/>
                        </a:lnTo>
                        <a:lnTo>
                          <a:pt x="240" y="33"/>
                        </a:lnTo>
                        <a:lnTo>
                          <a:pt x="249" y="33"/>
                        </a:lnTo>
                        <a:lnTo>
                          <a:pt x="259" y="28"/>
                        </a:lnTo>
                        <a:lnTo>
                          <a:pt x="268" y="28"/>
                        </a:lnTo>
                        <a:lnTo>
                          <a:pt x="278" y="24"/>
                        </a:lnTo>
                        <a:lnTo>
                          <a:pt x="288" y="24"/>
                        </a:lnTo>
                        <a:lnTo>
                          <a:pt x="297" y="19"/>
                        </a:lnTo>
                        <a:lnTo>
                          <a:pt x="307" y="19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800" bIns="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5" name=""/>
                  <p:cNvSpPr/>
                  <p:nvPr/>
                </p:nvSpPr>
                <p:spPr>
                  <a:xfrm flipH="1">
                    <a:off x="4359960" y="4916880"/>
                    <a:ext cx="147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115">
                        <a:moveTo>
                          <a:pt x="87" y="115"/>
                        </a:moveTo>
                        <a:lnTo>
                          <a:pt x="82" y="115"/>
                        </a:lnTo>
                        <a:lnTo>
                          <a:pt x="77" y="110"/>
                        </a:lnTo>
                        <a:lnTo>
                          <a:pt x="72" y="110"/>
                        </a:lnTo>
                        <a:lnTo>
                          <a:pt x="67" y="110"/>
                        </a:lnTo>
                        <a:lnTo>
                          <a:pt x="63" y="105"/>
                        </a:lnTo>
                        <a:lnTo>
                          <a:pt x="58" y="105"/>
                        </a:lnTo>
                        <a:lnTo>
                          <a:pt x="53" y="100"/>
                        </a:lnTo>
                        <a:lnTo>
                          <a:pt x="48" y="100"/>
                        </a:lnTo>
                        <a:lnTo>
                          <a:pt x="43" y="100"/>
                        </a:lnTo>
                        <a:lnTo>
                          <a:pt x="43" y="96"/>
                        </a:lnTo>
                        <a:lnTo>
                          <a:pt x="39" y="96"/>
                        </a:lnTo>
                        <a:lnTo>
                          <a:pt x="34" y="91"/>
                        </a:lnTo>
                        <a:lnTo>
                          <a:pt x="29" y="91"/>
                        </a:lnTo>
                        <a:lnTo>
                          <a:pt x="24" y="86"/>
                        </a:lnTo>
                        <a:lnTo>
                          <a:pt x="19" y="86"/>
                        </a:lnTo>
                        <a:lnTo>
                          <a:pt x="15" y="86"/>
                        </a:lnTo>
                        <a:lnTo>
                          <a:pt x="15" y="81"/>
                        </a:lnTo>
                        <a:lnTo>
                          <a:pt x="10" y="81"/>
                        </a:lnTo>
                        <a:lnTo>
                          <a:pt x="5" y="81"/>
                        </a:lnTo>
                        <a:lnTo>
                          <a:pt x="5" y="77"/>
                        </a:lnTo>
                        <a:lnTo>
                          <a:pt x="0" y="77"/>
                        </a:lnTo>
                        <a:lnTo>
                          <a:pt x="0" y="72"/>
                        </a:lnTo>
                        <a:lnTo>
                          <a:pt x="5" y="72"/>
                        </a:lnTo>
                        <a:lnTo>
                          <a:pt x="5" y="67"/>
                        </a:lnTo>
                        <a:lnTo>
                          <a:pt x="5" y="62"/>
                        </a:lnTo>
                        <a:lnTo>
                          <a:pt x="10" y="62"/>
                        </a:lnTo>
                        <a:lnTo>
                          <a:pt x="10" y="57"/>
                        </a:lnTo>
                        <a:lnTo>
                          <a:pt x="10" y="53"/>
                        </a:lnTo>
                        <a:lnTo>
                          <a:pt x="15" y="48"/>
                        </a:lnTo>
                        <a:lnTo>
                          <a:pt x="15" y="43"/>
                        </a:lnTo>
                        <a:lnTo>
                          <a:pt x="19" y="38"/>
                        </a:lnTo>
                        <a:lnTo>
                          <a:pt x="19" y="33"/>
                        </a:lnTo>
                        <a:lnTo>
                          <a:pt x="24" y="29"/>
                        </a:lnTo>
                        <a:lnTo>
                          <a:pt x="24" y="24"/>
                        </a:lnTo>
                        <a:lnTo>
                          <a:pt x="24" y="19"/>
                        </a:lnTo>
                        <a:lnTo>
                          <a:pt x="29" y="19"/>
                        </a:lnTo>
                        <a:lnTo>
                          <a:pt x="29" y="14"/>
                        </a:lnTo>
                        <a:lnTo>
                          <a:pt x="29" y="9"/>
                        </a:lnTo>
                        <a:lnTo>
                          <a:pt x="34" y="5"/>
                        </a:lnTo>
                        <a:lnTo>
                          <a:pt x="34" y="0"/>
                        </a:lnTo>
                        <a:lnTo>
                          <a:pt x="34" y="5"/>
                        </a:lnTo>
                        <a:lnTo>
                          <a:pt x="34" y="9"/>
                        </a:lnTo>
                        <a:lnTo>
                          <a:pt x="39" y="14"/>
                        </a:lnTo>
                        <a:lnTo>
                          <a:pt x="39" y="19"/>
                        </a:lnTo>
                        <a:lnTo>
                          <a:pt x="43" y="24"/>
                        </a:lnTo>
                        <a:lnTo>
                          <a:pt x="43" y="29"/>
                        </a:lnTo>
                        <a:lnTo>
                          <a:pt x="48" y="33"/>
                        </a:lnTo>
                        <a:lnTo>
                          <a:pt x="48" y="38"/>
                        </a:lnTo>
                        <a:lnTo>
                          <a:pt x="53" y="43"/>
                        </a:lnTo>
                        <a:lnTo>
                          <a:pt x="53" y="48"/>
                        </a:lnTo>
                        <a:lnTo>
                          <a:pt x="58" y="53"/>
                        </a:lnTo>
                        <a:lnTo>
                          <a:pt x="58" y="57"/>
                        </a:lnTo>
                        <a:lnTo>
                          <a:pt x="63" y="62"/>
                        </a:lnTo>
                        <a:lnTo>
                          <a:pt x="63" y="67"/>
                        </a:lnTo>
                        <a:lnTo>
                          <a:pt x="67" y="67"/>
                        </a:lnTo>
                        <a:lnTo>
                          <a:pt x="67" y="72"/>
                        </a:lnTo>
                        <a:lnTo>
                          <a:pt x="67" y="77"/>
                        </a:lnTo>
                        <a:lnTo>
                          <a:pt x="72" y="77"/>
                        </a:lnTo>
                        <a:lnTo>
                          <a:pt x="72" y="81"/>
                        </a:lnTo>
                        <a:lnTo>
                          <a:pt x="72" y="86"/>
                        </a:lnTo>
                        <a:lnTo>
                          <a:pt x="77" y="91"/>
                        </a:lnTo>
                        <a:lnTo>
                          <a:pt x="77" y="96"/>
                        </a:lnTo>
                        <a:lnTo>
                          <a:pt x="82" y="100"/>
                        </a:lnTo>
                        <a:lnTo>
                          <a:pt x="82" y="105"/>
                        </a:lnTo>
                        <a:lnTo>
                          <a:pt x="87" y="110"/>
                        </a:lnTo>
                        <a:lnTo>
                          <a:pt x="87" y="115"/>
                        </a:lnTo>
                        <a:close/>
                      </a:path>
                    </a:pathLst>
                  </a:custGeom>
                  <a:solidFill>
                    <a:srgbClr val="6eb2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6" name=""/>
                  <p:cNvSpPr/>
                  <p:nvPr/>
                </p:nvSpPr>
                <p:spPr>
                  <a:xfrm flipH="1">
                    <a:off x="4244400" y="4918320"/>
                    <a:ext cx="10908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643" h="561">
                        <a:moveTo>
                          <a:pt x="508" y="87"/>
                        </a:moveTo>
                        <a:lnTo>
                          <a:pt x="508" y="91"/>
                        </a:lnTo>
                        <a:lnTo>
                          <a:pt x="513" y="96"/>
                        </a:lnTo>
                        <a:lnTo>
                          <a:pt x="513" y="101"/>
                        </a:lnTo>
                        <a:lnTo>
                          <a:pt x="513" y="106"/>
                        </a:lnTo>
                        <a:lnTo>
                          <a:pt x="518" y="106"/>
                        </a:lnTo>
                        <a:lnTo>
                          <a:pt x="518" y="111"/>
                        </a:lnTo>
                        <a:lnTo>
                          <a:pt x="518" y="115"/>
                        </a:lnTo>
                        <a:lnTo>
                          <a:pt x="523" y="115"/>
                        </a:lnTo>
                        <a:lnTo>
                          <a:pt x="523" y="120"/>
                        </a:lnTo>
                        <a:lnTo>
                          <a:pt x="523" y="125"/>
                        </a:lnTo>
                        <a:lnTo>
                          <a:pt x="523" y="130"/>
                        </a:lnTo>
                        <a:lnTo>
                          <a:pt x="523" y="135"/>
                        </a:lnTo>
                        <a:lnTo>
                          <a:pt x="528" y="144"/>
                        </a:lnTo>
                        <a:lnTo>
                          <a:pt x="532" y="154"/>
                        </a:lnTo>
                        <a:lnTo>
                          <a:pt x="537" y="163"/>
                        </a:lnTo>
                        <a:lnTo>
                          <a:pt x="542" y="173"/>
                        </a:lnTo>
                        <a:lnTo>
                          <a:pt x="542" y="182"/>
                        </a:lnTo>
                        <a:lnTo>
                          <a:pt x="547" y="192"/>
                        </a:lnTo>
                        <a:lnTo>
                          <a:pt x="552" y="202"/>
                        </a:lnTo>
                        <a:lnTo>
                          <a:pt x="556" y="206"/>
                        </a:lnTo>
                        <a:lnTo>
                          <a:pt x="556" y="216"/>
                        </a:lnTo>
                        <a:lnTo>
                          <a:pt x="561" y="226"/>
                        </a:lnTo>
                        <a:lnTo>
                          <a:pt x="566" y="235"/>
                        </a:lnTo>
                        <a:lnTo>
                          <a:pt x="571" y="245"/>
                        </a:lnTo>
                        <a:lnTo>
                          <a:pt x="571" y="254"/>
                        </a:lnTo>
                        <a:lnTo>
                          <a:pt x="576" y="264"/>
                        </a:lnTo>
                        <a:lnTo>
                          <a:pt x="580" y="273"/>
                        </a:lnTo>
                        <a:lnTo>
                          <a:pt x="580" y="283"/>
                        </a:lnTo>
                        <a:lnTo>
                          <a:pt x="585" y="293"/>
                        </a:lnTo>
                        <a:lnTo>
                          <a:pt x="590" y="302"/>
                        </a:lnTo>
                        <a:lnTo>
                          <a:pt x="595" y="312"/>
                        </a:lnTo>
                        <a:lnTo>
                          <a:pt x="595" y="316"/>
                        </a:lnTo>
                        <a:lnTo>
                          <a:pt x="600" y="326"/>
                        </a:lnTo>
                        <a:lnTo>
                          <a:pt x="604" y="336"/>
                        </a:lnTo>
                        <a:lnTo>
                          <a:pt x="609" y="345"/>
                        </a:lnTo>
                        <a:lnTo>
                          <a:pt x="609" y="355"/>
                        </a:lnTo>
                        <a:lnTo>
                          <a:pt x="614" y="364"/>
                        </a:lnTo>
                        <a:lnTo>
                          <a:pt x="619" y="374"/>
                        </a:lnTo>
                        <a:lnTo>
                          <a:pt x="624" y="384"/>
                        </a:lnTo>
                        <a:lnTo>
                          <a:pt x="624" y="393"/>
                        </a:lnTo>
                        <a:lnTo>
                          <a:pt x="628" y="403"/>
                        </a:lnTo>
                        <a:lnTo>
                          <a:pt x="633" y="407"/>
                        </a:lnTo>
                        <a:lnTo>
                          <a:pt x="638" y="417"/>
                        </a:lnTo>
                        <a:lnTo>
                          <a:pt x="643" y="427"/>
                        </a:lnTo>
                        <a:lnTo>
                          <a:pt x="628" y="427"/>
                        </a:lnTo>
                        <a:lnTo>
                          <a:pt x="619" y="422"/>
                        </a:lnTo>
                        <a:lnTo>
                          <a:pt x="609" y="417"/>
                        </a:lnTo>
                        <a:lnTo>
                          <a:pt x="600" y="417"/>
                        </a:lnTo>
                        <a:lnTo>
                          <a:pt x="590" y="412"/>
                        </a:lnTo>
                        <a:lnTo>
                          <a:pt x="580" y="412"/>
                        </a:lnTo>
                        <a:lnTo>
                          <a:pt x="571" y="407"/>
                        </a:lnTo>
                        <a:lnTo>
                          <a:pt x="561" y="407"/>
                        </a:lnTo>
                        <a:lnTo>
                          <a:pt x="547" y="407"/>
                        </a:lnTo>
                        <a:lnTo>
                          <a:pt x="537" y="407"/>
                        </a:lnTo>
                        <a:lnTo>
                          <a:pt x="528" y="403"/>
                        </a:lnTo>
                        <a:lnTo>
                          <a:pt x="518" y="403"/>
                        </a:lnTo>
                        <a:lnTo>
                          <a:pt x="508" y="403"/>
                        </a:lnTo>
                        <a:lnTo>
                          <a:pt x="499" y="403"/>
                        </a:lnTo>
                        <a:lnTo>
                          <a:pt x="489" y="403"/>
                        </a:lnTo>
                        <a:lnTo>
                          <a:pt x="475" y="403"/>
                        </a:lnTo>
                        <a:lnTo>
                          <a:pt x="465" y="407"/>
                        </a:lnTo>
                        <a:lnTo>
                          <a:pt x="456" y="407"/>
                        </a:lnTo>
                        <a:lnTo>
                          <a:pt x="446" y="407"/>
                        </a:lnTo>
                        <a:lnTo>
                          <a:pt x="436" y="412"/>
                        </a:lnTo>
                        <a:lnTo>
                          <a:pt x="427" y="412"/>
                        </a:lnTo>
                        <a:lnTo>
                          <a:pt x="417" y="417"/>
                        </a:lnTo>
                        <a:lnTo>
                          <a:pt x="408" y="417"/>
                        </a:lnTo>
                        <a:lnTo>
                          <a:pt x="398" y="422"/>
                        </a:lnTo>
                        <a:lnTo>
                          <a:pt x="388" y="427"/>
                        </a:lnTo>
                        <a:lnTo>
                          <a:pt x="379" y="431"/>
                        </a:lnTo>
                        <a:lnTo>
                          <a:pt x="369" y="436"/>
                        </a:lnTo>
                        <a:lnTo>
                          <a:pt x="365" y="441"/>
                        </a:lnTo>
                        <a:lnTo>
                          <a:pt x="355" y="446"/>
                        </a:lnTo>
                        <a:lnTo>
                          <a:pt x="345" y="451"/>
                        </a:lnTo>
                        <a:lnTo>
                          <a:pt x="336" y="460"/>
                        </a:lnTo>
                        <a:lnTo>
                          <a:pt x="326" y="465"/>
                        </a:lnTo>
                        <a:lnTo>
                          <a:pt x="326" y="470"/>
                        </a:lnTo>
                        <a:lnTo>
                          <a:pt x="321" y="475"/>
                        </a:lnTo>
                        <a:lnTo>
                          <a:pt x="317" y="475"/>
                        </a:lnTo>
                        <a:lnTo>
                          <a:pt x="317" y="479"/>
                        </a:lnTo>
                        <a:lnTo>
                          <a:pt x="312" y="479"/>
                        </a:lnTo>
                        <a:lnTo>
                          <a:pt x="312" y="484"/>
                        </a:lnTo>
                        <a:lnTo>
                          <a:pt x="307" y="489"/>
                        </a:lnTo>
                        <a:lnTo>
                          <a:pt x="302" y="489"/>
                        </a:lnTo>
                        <a:lnTo>
                          <a:pt x="302" y="494"/>
                        </a:lnTo>
                        <a:lnTo>
                          <a:pt x="297" y="494"/>
                        </a:lnTo>
                        <a:lnTo>
                          <a:pt x="297" y="498"/>
                        </a:lnTo>
                        <a:lnTo>
                          <a:pt x="293" y="503"/>
                        </a:lnTo>
                        <a:lnTo>
                          <a:pt x="288" y="508"/>
                        </a:lnTo>
                        <a:lnTo>
                          <a:pt x="283" y="513"/>
                        </a:lnTo>
                        <a:lnTo>
                          <a:pt x="283" y="518"/>
                        </a:lnTo>
                        <a:lnTo>
                          <a:pt x="278" y="518"/>
                        </a:lnTo>
                        <a:lnTo>
                          <a:pt x="278" y="522"/>
                        </a:lnTo>
                        <a:lnTo>
                          <a:pt x="278" y="527"/>
                        </a:lnTo>
                        <a:lnTo>
                          <a:pt x="273" y="527"/>
                        </a:lnTo>
                        <a:lnTo>
                          <a:pt x="273" y="532"/>
                        </a:lnTo>
                        <a:lnTo>
                          <a:pt x="269" y="532"/>
                        </a:lnTo>
                        <a:lnTo>
                          <a:pt x="269" y="537"/>
                        </a:lnTo>
                        <a:lnTo>
                          <a:pt x="264" y="542"/>
                        </a:lnTo>
                        <a:lnTo>
                          <a:pt x="259" y="546"/>
                        </a:lnTo>
                        <a:lnTo>
                          <a:pt x="259" y="551"/>
                        </a:lnTo>
                        <a:lnTo>
                          <a:pt x="254" y="551"/>
                        </a:lnTo>
                        <a:lnTo>
                          <a:pt x="254" y="556"/>
                        </a:lnTo>
                        <a:lnTo>
                          <a:pt x="249" y="561"/>
                        </a:lnTo>
                        <a:lnTo>
                          <a:pt x="245" y="556"/>
                        </a:lnTo>
                        <a:lnTo>
                          <a:pt x="240" y="546"/>
                        </a:lnTo>
                        <a:lnTo>
                          <a:pt x="235" y="537"/>
                        </a:lnTo>
                        <a:lnTo>
                          <a:pt x="230" y="532"/>
                        </a:lnTo>
                        <a:lnTo>
                          <a:pt x="225" y="522"/>
                        </a:lnTo>
                        <a:lnTo>
                          <a:pt x="221" y="513"/>
                        </a:lnTo>
                        <a:lnTo>
                          <a:pt x="216" y="503"/>
                        </a:lnTo>
                        <a:lnTo>
                          <a:pt x="211" y="494"/>
                        </a:lnTo>
                        <a:lnTo>
                          <a:pt x="206" y="489"/>
                        </a:lnTo>
                        <a:lnTo>
                          <a:pt x="201" y="479"/>
                        </a:lnTo>
                        <a:lnTo>
                          <a:pt x="197" y="470"/>
                        </a:lnTo>
                        <a:lnTo>
                          <a:pt x="197" y="460"/>
                        </a:lnTo>
                        <a:lnTo>
                          <a:pt x="192" y="451"/>
                        </a:lnTo>
                        <a:lnTo>
                          <a:pt x="187" y="441"/>
                        </a:lnTo>
                        <a:lnTo>
                          <a:pt x="182" y="431"/>
                        </a:lnTo>
                        <a:lnTo>
                          <a:pt x="177" y="422"/>
                        </a:lnTo>
                        <a:lnTo>
                          <a:pt x="173" y="417"/>
                        </a:lnTo>
                        <a:lnTo>
                          <a:pt x="173" y="407"/>
                        </a:lnTo>
                        <a:lnTo>
                          <a:pt x="168" y="398"/>
                        </a:lnTo>
                        <a:lnTo>
                          <a:pt x="163" y="388"/>
                        </a:lnTo>
                        <a:lnTo>
                          <a:pt x="158" y="379"/>
                        </a:lnTo>
                        <a:lnTo>
                          <a:pt x="153" y="369"/>
                        </a:lnTo>
                        <a:lnTo>
                          <a:pt x="153" y="360"/>
                        </a:lnTo>
                        <a:lnTo>
                          <a:pt x="149" y="350"/>
                        </a:lnTo>
                        <a:lnTo>
                          <a:pt x="144" y="345"/>
                        </a:lnTo>
                        <a:lnTo>
                          <a:pt x="139" y="336"/>
                        </a:lnTo>
                        <a:lnTo>
                          <a:pt x="134" y="326"/>
                        </a:lnTo>
                        <a:lnTo>
                          <a:pt x="129" y="316"/>
                        </a:lnTo>
                        <a:lnTo>
                          <a:pt x="125" y="307"/>
                        </a:lnTo>
                        <a:lnTo>
                          <a:pt x="120" y="302"/>
                        </a:lnTo>
                        <a:lnTo>
                          <a:pt x="115" y="293"/>
                        </a:lnTo>
                        <a:lnTo>
                          <a:pt x="110" y="283"/>
                        </a:lnTo>
                        <a:lnTo>
                          <a:pt x="110" y="278"/>
                        </a:lnTo>
                        <a:lnTo>
                          <a:pt x="105" y="269"/>
                        </a:lnTo>
                        <a:lnTo>
                          <a:pt x="101" y="264"/>
                        </a:lnTo>
                        <a:lnTo>
                          <a:pt x="96" y="259"/>
                        </a:lnTo>
                        <a:lnTo>
                          <a:pt x="91" y="249"/>
                        </a:lnTo>
                        <a:lnTo>
                          <a:pt x="91" y="245"/>
                        </a:lnTo>
                        <a:lnTo>
                          <a:pt x="86" y="235"/>
                        </a:lnTo>
                        <a:lnTo>
                          <a:pt x="81" y="230"/>
                        </a:lnTo>
                        <a:lnTo>
                          <a:pt x="77" y="221"/>
                        </a:lnTo>
                        <a:lnTo>
                          <a:pt x="77" y="216"/>
                        </a:lnTo>
                        <a:lnTo>
                          <a:pt x="72" y="206"/>
                        </a:lnTo>
                        <a:lnTo>
                          <a:pt x="67" y="202"/>
                        </a:lnTo>
                        <a:lnTo>
                          <a:pt x="67" y="192"/>
                        </a:lnTo>
                        <a:lnTo>
                          <a:pt x="62" y="187"/>
                        </a:lnTo>
                        <a:lnTo>
                          <a:pt x="57" y="182"/>
                        </a:lnTo>
                        <a:lnTo>
                          <a:pt x="53" y="173"/>
                        </a:lnTo>
                        <a:lnTo>
                          <a:pt x="53" y="168"/>
                        </a:lnTo>
                        <a:lnTo>
                          <a:pt x="48" y="158"/>
                        </a:lnTo>
                        <a:lnTo>
                          <a:pt x="43" y="154"/>
                        </a:lnTo>
                        <a:lnTo>
                          <a:pt x="43" y="144"/>
                        </a:lnTo>
                        <a:lnTo>
                          <a:pt x="38" y="139"/>
                        </a:lnTo>
                        <a:lnTo>
                          <a:pt x="34" y="130"/>
                        </a:lnTo>
                        <a:lnTo>
                          <a:pt x="34" y="125"/>
                        </a:lnTo>
                        <a:lnTo>
                          <a:pt x="29" y="115"/>
                        </a:lnTo>
                        <a:lnTo>
                          <a:pt x="24" y="111"/>
                        </a:lnTo>
                        <a:lnTo>
                          <a:pt x="19" y="106"/>
                        </a:lnTo>
                        <a:lnTo>
                          <a:pt x="19" y="96"/>
                        </a:lnTo>
                        <a:lnTo>
                          <a:pt x="14" y="91"/>
                        </a:lnTo>
                        <a:lnTo>
                          <a:pt x="10" y="82"/>
                        </a:lnTo>
                        <a:lnTo>
                          <a:pt x="5" y="77"/>
                        </a:lnTo>
                        <a:lnTo>
                          <a:pt x="0" y="72"/>
                        </a:lnTo>
                        <a:lnTo>
                          <a:pt x="0" y="63"/>
                        </a:lnTo>
                        <a:lnTo>
                          <a:pt x="14" y="68"/>
                        </a:lnTo>
                        <a:lnTo>
                          <a:pt x="29" y="68"/>
                        </a:lnTo>
                        <a:lnTo>
                          <a:pt x="43" y="68"/>
                        </a:lnTo>
                        <a:lnTo>
                          <a:pt x="62" y="68"/>
                        </a:lnTo>
                        <a:lnTo>
                          <a:pt x="77" y="68"/>
                        </a:lnTo>
                        <a:lnTo>
                          <a:pt x="91" y="68"/>
                        </a:lnTo>
                        <a:lnTo>
                          <a:pt x="110" y="68"/>
                        </a:lnTo>
                        <a:lnTo>
                          <a:pt x="125" y="68"/>
                        </a:lnTo>
                        <a:lnTo>
                          <a:pt x="139" y="68"/>
                        </a:lnTo>
                        <a:lnTo>
                          <a:pt x="153" y="68"/>
                        </a:lnTo>
                        <a:lnTo>
                          <a:pt x="168" y="68"/>
                        </a:lnTo>
                        <a:lnTo>
                          <a:pt x="187" y="68"/>
                        </a:lnTo>
                        <a:lnTo>
                          <a:pt x="201" y="68"/>
                        </a:lnTo>
                        <a:lnTo>
                          <a:pt x="216" y="68"/>
                        </a:lnTo>
                        <a:lnTo>
                          <a:pt x="230" y="63"/>
                        </a:lnTo>
                        <a:lnTo>
                          <a:pt x="245" y="63"/>
                        </a:lnTo>
                        <a:lnTo>
                          <a:pt x="259" y="63"/>
                        </a:lnTo>
                        <a:lnTo>
                          <a:pt x="273" y="58"/>
                        </a:lnTo>
                        <a:lnTo>
                          <a:pt x="293" y="58"/>
                        </a:lnTo>
                        <a:lnTo>
                          <a:pt x="307" y="53"/>
                        </a:lnTo>
                        <a:lnTo>
                          <a:pt x="321" y="53"/>
                        </a:lnTo>
                        <a:lnTo>
                          <a:pt x="336" y="48"/>
                        </a:lnTo>
                        <a:lnTo>
                          <a:pt x="350" y="44"/>
                        </a:lnTo>
                        <a:lnTo>
                          <a:pt x="365" y="39"/>
                        </a:lnTo>
                        <a:lnTo>
                          <a:pt x="379" y="34"/>
                        </a:lnTo>
                        <a:lnTo>
                          <a:pt x="393" y="34"/>
                        </a:lnTo>
                        <a:lnTo>
                          <a:pt x="408" y="29"/>
                        </a:lnTo>
                        <a:lnTo>
                          <a:pt x="422" y="24"/>
                        </a:lnTo>
                        <a:lnTo>
                          <a:pt x="436" y="15"/>
                        </a:lnTo>
                        <a:lnTo>
                          <a:pt x="451" y="10"/>
                        </a:lnTo>
                        <a:lnTo>
                          <a:pt x="465" y="5"/>
                        </a:lnTo>
                        <a:lnTo>
                          <a:pt x="480" y="0"/>
                        </a:lnTo>
                        <a:lnTo>
                          <a:pt x="480" y="5"/>
                        </a:lnTo>
                        <a:lnTo>
                          <a:pt x="484" y="10"/>
                        </a:lnTo>
                        <a:lnTo>
                          <a:pt x="484" y="15"/>
                        </a:lnTo>
                        <a:lnTo>
                          <a:pt x="489" y="20"/>
                        </a:lnTo>
                        <a:lnTo>
                          <a:pt x="489" y="24"/>
                        </a:lnTo>
                        <a:lnTo>
                          <a:pt x="489" y="29"/>
                        </a:lnTo>
                        <a:lnTo>
                          <a:pt x="494" y="34"/>
                        </a:lnTo>
                        <a:lnTo>
                          <a:pt x="494" y="39"/>
                        </a:lnTo>
                        <a:lnTo>
                          <a:pt x="494" y="44"/>
                        </a:lnTo>
                        <a:lnTo>
                          <a:pt x="494" y="48"/>
                        </a:lnTo>
                        <a:lnTo>
                          <a:pt x="499" y="48"/>
                        </a:lnTo>
                        <a:lnTo>
                          <a:pt x="499" y="53"/>
                        </a:lnTo>
                        <a:lnTo>
                          <a:pt x="499" y="58"/>
                        </a:lnTo>
                        <a:lnTo>
                          <a:pt x="499" y="63"/>
                        </a:lnTo>
                        <a:lnTo>
                          <a:pt x="504" y="68"/>
                        </a:lnTo>
                        <a:lnTo>
                          <a:pt x="504" y="72"/>
                        </a:lnTo>
                        <a:lnTo>
                          <a:pt x="504" y="77"/>
                        </a:lnTo>
                        <a:lnTo>
                          <a:pt x="504" y="82"/>
                        </a:lnTo>
                        <a:lnTo>
                          <a:pt x="508" y="87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7" name=""/>
                  <p:cNvSpPr/>
                  <p:nvPr/>
                </p:nvSpPr>
                <p:spPr>
                  <a:xfrm flipH="1">
                    <a:off x="4405320" y="4919040"/>
                    <a:ext cx="89280" cy="62640"/>
                  </a:xfrm>
                  <a:custGeom>
                    <a:avLst/>
                    <a:gdLst/>
                    <a:ahLst/>
                    <a:rect l="l" t="t" r="r" b="b"/>
                    <a:pathLst>
                      <a:path w="528" h="383">
                        <a:moveTo>
                          <a:pt x="528" y="359"/>
                        </a:moveTo>
                        <a:lnTo>
                          <a:pt x="528" y="369"/>
                        </a:lnTo>
                        <a:lnTo>
                          <a:pt x="518" y="369"/>
                        </a:lnTo>
                        <a:lnTo>
                          <a:pt x="509" y="369"/>
                        </a:lnTo>
                        <a:lnTo>
                          <a:pt x="499" y="374"/>
                        </a:lnTo>
                        <a:lnTo>
                          <a:pt x="489" y="374"/>
                        </a:lnTo>
                        <a:lnTo>
                          <a:pt x="480" y="374"/>
                        </a:lnTo>
                        <a:lnTo>
                          <a:pt x="470" y="374"/>
                        </a:lnTo>
                        <a:lnTo>
                          <a:pt x="461" y="374"/>
                        </a:lnTo>
                        <a:lnTo>
                          <a:pt x="451" y="379"/>
                        </a:lnTo>
                        <a:lnTo>
                          <a:pt x="441" y="379"/>
                        </a:lnTo>
                        <a:lnTo>
                          <a:pt x="432" y="379"/>
                        </a:lnTo>
                        <a:lnTo>
                          <a:pt x="422" y="379"/>
                        </a:lnTo>
                        <a:lnTo>
                          <a:pt x="413" y="379"/>
                        </a:lnTo>
                        <a:lnTo>
                          <a:pt x="403" y="379"/>
                        </a:lnTo>
                        <a:lnTo>
                          <a:pt x="393" y="379"/>
                        </a:lnTo>
                        <a:lnTo>
                          <a:pt x="379" y="383"/>
                        </a:lnTo>
                        <a:lnTo>
                          <a:pt x="369" y="383"/>
                        </a:lnTo>
                        <a:lnTo>
                          <a:pt x="360" y="383"/>
                        </a:lnTo>
                        <a:lnTo>
                          <a:pt x="350" y="383"/>
                        </a:lnTo>
                        <a:lnTo>
                          <a:pt x="341" y="383"/>
                        </a:lnTo>
                        <a:lnTo>
                          <a:pt x="331" y="383"/>
                        </a:lnTo>
                        <a:lnTo>
                          <a:pt x="321" y="383"/>
                        </a:lnTo>
                        <a:lnTo>
                          <a:pt x="312" y="383"/>
                        </a:lnTo>
                        <a:lnTo>
                          <a:pt x="302" y="383"/>
                        </a:lnTo>
                        <a:lnTo>
                          <a:pt x="293" y="383"/>
                        </a:lnTo>
                        <a:lnTo>
                          <a:pt x="283" y="383"/>
                        </a:lnTo>
                        <a:lnTo>
                          <a:pt x="273" y="383"/>
                        </a:lnTo>
                        <a:lnTo>
                          <a:pt x="264" y="383"/>
                        </a:lnTo>
                        <a:lnTo>
                          <a:pt x="249" y="379"/>
                        </a:lnTo>
                        <a:lnTo>
                          <a:pt x="240" y="379"/>
                        </a:lnTo>
                        <a:lnTo>
                          <a:pt x="230" y="379"/>
                        </a:lnTo>
                        <a:lnTo>
                          <a:pt x="221" y="379"/>
                        </a:lnTo>
                        <a:lnTo>
                          <a:pt x="211" y="374"/>
                        </a:lnTo>
                        <a:lnTo>
                          <a:pt x="206" y="374"/>
                        </a:lnTo>
                        <a:lnTo>
                          <a:pt x="202" y="374"/>
                        </a:lnTo>
                        <a:lnTo>
                          <a:pt x="197" y="374"/>
                        </a:lnTo>
                        <a:lnTo>
                          <a:pt x="192" y="374"/>
                        </a:lnTo>
                        <a:lnTo>
                          <a:pt x="187" y="374"/>
                        </a:lnTo>
                        <a:lnTo>
                          <a:pt x="187" y="369"/>
                        </a:lnTo>
                        <a:lnTo>
                          <a:pt x="182" y="369"/>
                        </a:lnTo>
                        <a:lnTo>
                          <a:pt x="173" y="359"/>
                        </a:lnTo>
                        <a:lnTo>
                          <a:pt x="168" y="350"/>
                        </a:lnTo>
                        <a:lnTo>
                          <a:pt x="158" y="340"/>
                        </a:lnTo>
                        <a:lnTo>
                          <a:pt x="154" y="326"/>
                        </a:lnTo>
                        <a:lnTo>
                          <a:pt x="144" y="316"/>
                        </a:lnTo>
                        <a:lnTo>
                          <a:pt x="139" y="307"/>
                        </a:lnTo>
                        <a:lnTo>
                          <a:pt x="130" y="297"/>
                        </a:lnTo>
                        <a:lnTo>
                          <a:pt x="125" y="288"/>
                        </a:lnTo>
                        <a:lnTo>
                          <a:pt x="120" y="278"/>
                        </a:lnTo>
                        <a:lnTo>
                          <a:pt x="115" y="268"/>
                        </a:lnTo>
                        <a:lnTo>
                          <a:pt x="106" y="254"/>
                        </a:lnTo>
                        <a:lnTo>
                          <a:pt x="101" y="244"/>
                        </a:lnTo>
                        <a:lnTo>
                          <a:pt x="96" y="235"/>
                        </a:lnTo>
                        <a:lnTo>
                          <a:pt x="91" y="225"/>
                        </a:lnTo>
                        <a:lnTo>
                          <a:pt x="86" y="211"/>
                        </a:lnTo>
                        <a:lnTo>
                          <a:pt x="82" y="201"/>
                        </a:lnTo>
                        <a:lnTo>
                          <a:pt x="77" y="192"/>
                        </a:lnTo>
                        <a:lnTo>
                          <a:pt x="72" y="182"/>
                        </a:lnTo>
                        <a:lnTo>
                          <a:pt x="67" y="168"/>
                        </a:lnTo>
                        <a:lnTo>
                          <a:pt x="62" y="158"/>
                        </a:lnTo>
                        <a:lnTo>
                          <a:pt x="58" y="149"/>
                        </a:lnTo>
                        <a:lnTo>
                          <a:pt x="53" y="134"/>
                        </a:lnTo>
                        <a:lnTo>
                          <a:pt x="48" y="125"/>
                        </a:lnTo>
                        <a:lnTo>
                          <a:pt x="43" y="115"/>
                        </a:lnTo>
                        <a:lnTo>
                          <a:pt x="38" y="106"/>
                        </a:lnTo>
                        <a:lnTo>
                          <a:pt x="29" y="91"/>
                        </a:lnTo>
                        <a:lnTo>
                          <a:pt x="24" y="82"/>
                        </a:lnTo>
                        <a:lnTo>
                          <a:pt x="19" y="72"/>
                        </a:lnTo>
                        <a:lnTo>
                          <a:pt x="14" y="63"/>
                        </a:lnTo>
                        <a:lnTo>
                          <a:pt x="10" y="48"/>
                        </a:lnTo>
                        <a:lnTo>
                          <a:pt x="5" y="39"/>
                        </a:lnTo>
                        <a:lnTo>
                          <a:pt x="0" y="29"/>
                        </a:lnTo>
                        <a:lnTo>
                          <a:pt x="10" y="29"/>
                        </a:lnTo>
                        <a:lnTo>
                          <a:pt x="19" y="29"/>
                        </a:lnTo>
                        <a:lnTo>
                          <a:pt x="29" y="29"/>
                        </a:lnTo>
                        <a:lnTo>
                          <a:pt x="43" y="34"/>
                        </a:lnTo>
                        <a:lnTo>
                          <a:pt x="53" y="34"/>
                        </a:lnTo>
                        <a:lnTo>
                          <a:pt x="62" y="34"/>
                        </a:lnTo>
                        <a:lnTo>
                          <a:pt x="77" y="34"/>
                        </a:lnTo>
                        <a:lnTo>
                          <a:pt x="86" y="34"/>
                        </a:lnTo>
                        <a:lnTo>
                          <a:pt x="96" y="34"/>
                        </a:lnTo>
                        <a:lnTo>
                          <a:pt x="110" y="34"/>
                        </a:lnTo>
                        <a:lnTo>
                          <a:pt x="120" y="29"/>
                        </a:lnTo>
                        <a:lnTo>
                          <a:pt x="130" y="29"/>
                        </a:lnTo>
                        <a:lnTo>
                          <a:pt x="144" y="29"/>
                        </a:lnTo>
                        <a:lnTo>
                          <a:pt x="154" y="29"/>
                        </a:lnTo>
                        <a:lnTo>
                          <a:pt x="163" y="29"/>
                        </a:lnTo>
                        <a:lnTo>
                          <a:pt x="178" y="29"/>
                        </a:lnTo>
                        <a:lnTo>
                          <a:pt x="187" y="24"/>
                        </a:lnTo>
                        <a:lnTo>
                          <a:pt x="197" y="24"/>
                        </a:lnTo>
                        <a:lnTo>
                          <a:pt x="211" y="24"/>
                        </a:lnTo>
                        <a:lnTo>
                          <a:pt x="221" y="24"/>
                        </a:lnTo>
                        <a:lnTo>
                          <a:pt x="235" y="24"/>
                        </a:lnTo>
                        <a:lnTo>
                          <a:pt x="245" y="19"/>
                        </a:lnTo>
                        <a:lnTo>
                          <a:pt x="254" y="19"/>
                        </a:lnTo>
                        <a:lnTo>
                          <a:pt x="269" y="19"/>
                        </a:lnTo>
                        <a:lnTo>
                          <a:pt x="278" y="19"/>
                        </a:lnTo>
                        <a:lnTo>
                          <a:pt x="288" y="15"/>
                        </a:lnTo>
                        <a:lnTo>
                          <a:pt x="302" y="15"/>
                        </a:lnTo>
                        <a:lnTo>
                          <a:pt x="312" y="15"/>
                        </a:lnTo>
                        <a:lnTo>
                          <a:pt x="321" y="15"/>
                        </a:lnTo>
                        <a:lnTo>
                          <a:pt x="331" y="10"/>
                        </a:lnTo>
                        <a:lnTo>
                          <a:pt x="345" y="10"/>
                        </a:lnTo>
                        <a:lnTo>
                          <a:pt x="355" y="10"/>
                        </a:lnTo>
                        <a:lnTo>
                          <a:pt x="403" y="0"/>
                        </a:lnTo>
                        <a:lnTo>
                          <a:pt x="408" y="10"/>
                        </a:lnTo>
                        <a:lnTo>
                          <a:pt x="413" y="19"/>
                        </a:lnTo>
                        <a:lnTo>
                          <a:pt x="417" y="34"/>
                        </a:lnTo>
                        <a:lnTo>
                          <a:pt x="422" y="43"/>
                        </a:lnTo>
                        <a:lnTo>
                          <a:pt x="427" y="53"/>
                        </a:lnTo>
                        <a:lnTo>
                          <a:pt x="432" y="67"/>
                        </a:lnTo>
                        <a:lnTo>
                          <a:pt x="437" y="77"/>
                        </a:lnTo>
                        <a:lnTo>
                          <a:pt x="437" y="86"/>
                        </a:lnTo>
                        <a:lnTo>
                          <a:pt x="441" y="101"/>
                        </a:lnTo>
                        <a:lnTo>
                          <a:pt x="446" y="110"/>
                        </a:lnTo>
                        <a:lnTo>
                          <a:pt x="451" y="120"/>
                        </a:lnTo>
                        <a:lnTo>
                          <a:pt x="451" y="134"/>
                        </a:lnTo>
                        <a:lnTo>
                          <a:pt x="456" y="144"/>
                        </a:lnTo>
                        <a:lnTo>
                          <a:pt x="461" y="153"/>
                        </a:lnTo>
                        <a:lnTo>
                          <a:pt x="465" y="168"/>
                        </a:lnTo>
                        <a:lnTo>
                          <a:pt x="465" y="177"/>
                        </a:lnTo>
                        <a:lnTo>
                          <a:pt x="470" y="187"/>
                        </a:lnTo>
                        <a:lnTo>
                          <a:pt x="475" y="201"/>
                        </a:lnTo>
                        <a:lnTo>
                          <a:pt x="475" y="211"/>
                        </a:lnTo>
                        <a:lnTo>
                          <a:pt x="480" y="225"/>
                        </a:lnTo>
                        <a:lnTo>
                          <a:pt x="485" y="235"/>
                        </a:lnTo>
                        <a:lnTo>
                          <a:pt x="485" y="244"/>
                        </a:lnTo>
                        <a:lnTo>
                          <a:pt x="489" y="259"/>
                        </a:lnTo>
                        <a:lnTo>
                          <a:pt x="494" y="268"/>
                        </a:lnTo>
                        <a:lnTo>
                          <a:pt x="499" y="278"/>
                        </a:lnTo>
                        <a:lnTo>
                          <a:pt x="499" y="292"/>
                        </a:lnTo>
                        <a:lnTo>
                          <a:pt x="504" y="302"/>
                        </a:lnTo>
                        <a:lnTo>
                          <a:pt x="509" y="316"/>
                        </a:lnTo>
                        <a:lnTo>
                          <a:pt x="513" y="326"/>
                        </a:lnTo>
                        <a:lnTo>
                          <a:pt x="518" y="335"/>
                        </a:lnTo>
                        <a:lnTo>
                          <a:pt x="523" y="350"/>
                        </a:lnTo>
                        <a:lnTo>
                          <a:pt x="528" y="359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840" bIns="15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8" name=""/>
                  <p:cNvSpPr/>
                  <p:nvPr/>
                </p:nvSpPr>
                <p:spPr>
                  <a:xfrm flipH="1">
                    <a:off x="3901680" y="4956840"/>
                    <a:ext cx="160920" cy="61200"/>
                  </a:xfrm>
                  <a:custGeom>
                    <a:avLst/>
                    <a:gdLst/>
                    <a:ahLst/>
                    <a:rect l="l" t="t" r="r" b="b"/>
                    <a:pathLst>
                      <a:path w="950" h="374">
                        <a:moveTo>
                          <a:pt x="504" y="0"/>
                        </a:moveTo>
                        <a:lnTo>
                          <a:pt x="509" y="5"/>
                        </a:lnTo>
                        <a:lnTo>
                          <a:pt x="514" y="10"/>
                        </a:lnTo>
                        <a:lnTo>
                          <a:pt x="514" y="14"/>
                        </a:lnTo>
                        <a:lnTo>
                          <a:pt x="519" y="19"/>
                        </a:lnTo>
                        <a:lnTo>
                          <a:pt x="519" y="24"/>
                        </a:lnTo>
                        <a:lnTo>
                          <a:pt x="523" y="29"/>
                        </a:lnTo>
                        <a:lnTo>
                          <a:pt x="528" y="34"/>
                        </a:lnTo>
                        <a:lnTo>
                          <a:pt x="528" y="38"/>
                        </a:lnTo>
                        <a:lnTo>
                          <a:pt x="533" y="43"/>
                        </a:lnTo>
                        <a:lnTo>
                          <a:pt x="533" y="48"/>
                        </a:lnTo>
                        <a:lnTo>
                          <a:pt x="538" y="53"/>
                        </a:lnTo>
                        <a:lnTo>
                          <a:pt x="543" y="58"/>
                        </a:lnTo>
                        <a:lnTo>
                          <a:pt x="543" y="62"/>
                        </a:lnTo>
                        <a:lnTo>
                          <a:pt x="547" y="67"/>
                        </a:lnTo>
                        <a:lnTo>
                          <a:pt x="552" y="72"/>
                        </a:lnTo>
                        <a:lnTo>
                          <a:pt x="552" y="77"/>
                        </a:lnTo>
                        <a:lnTo>
                          <a:pt x="557" y="81"/>
                        </a:lnTo>
                        <a:lnTo>
                          <a:pt x="562" y="81"/>
                        </a:lnTo>
                        <a:lnTo>
                          <a:pt x="567" y="86"/>
                        </a:lnTo>
                        <a:lnTo>
                          <a:pt x="571" y="91"/>
                        </a:lnTo>
                        <a:lnTo>
                          <a:pt x="576" y="91"/>
                        </a:lnTo>
                        <a:lnTo>
                          <a:pt x="576" y="96"/>
                        </a:lnTo>
                        <a:lnTo>
                          <a:pt x="581" y="101"/>
                        </a:lnTo>
                        <a:lnTo>
                          <a:pt x="586" y="101"/>
                        </a:lnTo>
                        <a:lnTo>
                          <a:pt x="591" y="101"/>
                        </a:lnTo>
                        <a:lnTo>
                          <a:pt x="600" y="105"/>
                        </a:lnTo>
                        <a:lnTo>
                          <a:pt x="605" y="105"/>
                        </a:lnTo>
                        <a:lnTo>
                          <a:pt x="610" y="105"/>
                        </a:lnTo>
                        <a:lnTo>
                          <a:pt x="615" y="105"/>
                        </a:lnTo>
                        <a:lnTo>
                          <a:pt x="624" y="105"/>
                        </a:lnTo>
                        <a:lnTo>
                          <a:pt x="629" y="105"/>
                        </a:lnTo>
                        <a:lnTo>
                          <a:pt x="638" y="110"/>
                        </a:lnTo>
                        <a:lnTo>
                          <a:pt x="648" y="110"/>
                        </a:lnTo>
                        <a:lnTo>
                          <a:pt x="653" y="115"/>
                        </a:lnTo>
                        <a:lnTo>
                          <a:pt x="662" y="115"/>
                        </a:lnTo>
                        <a:lnTo>
                          <a:pt x="672" y="115"/>
                        </a:lnTo>
                        <a:lnTo>
                          <a:pt x="682" y="120"/>
                        </a:lnTo>
                        <a:lnTo>
                          <a:pt x="691" y="120"/>
                        </a:lnTo>
                        <a:lnTo>
                          <a:pt x="696" y="120"/>
                        </a:lnTo>
                        <a:lnTo>
                          <a:pt x="706" y="120"/>
                        </a:lnTo>
                        <a:lnTo>
                          <a:pt x="715" y="125"/>
                        </a:lnTo>
                        <a:lnTo>
                          <a:pt x="725" y="125"/>
                        </a:lnTo>
                        <a:lnTo>
                          <a:pt x="734" y="125"/>
                        </a:lnTo>
                        <a:lnTo>
                          <a:pt x="739" y="125"/>
                        </a:lnTo>
                        <a:lnTo>
                          <a:pt x="749" y="125"/>
                        </a:lnTo>
                        <a:lnTo>
                          <a:pt x="758" y="125"/>
                        </a:lnTo>
                        <a:lnTo>
                          <a:pt x="768" y="125"/>
                        </a:lnTo>
                        <a:lnTo>
                          <a:pt x="778" y="125"/>
                        </a:lnTo>
                        <a:lnTo>
                          <a:pt x="787" y="129"/>
                        </a:lnTo>
                        <a:lnTo>
                          <a:pt x="792" y="129"/>
                        </a:lnTo>
                        <a:lnTo>
                          <a:pt x="802" y="129"/>
                        </a:lnTo>
                        <a:lnTo>
                          <a:pt x="811" y="129"/>
                        </a:lnTo>
                        <a:lnTo>
                          <a:pt x="821" y="129"/>
                        </a:lnTo>
                        <a:lnTo>
                          <a:pt x="830" y="129"/>
                        </a:lnTo>
                        <a:lnTo>
                          <a:pt x="835" y="129"/>
                        </a:lnTo>
                        <a:lnTo>
                          <a:pt x="845" y="125"/>
                        </a:lnTo>
                        <a:lnTo>
                          <a:pt x="854" y="125"/>
                        </a:lnTo>
                        <a:lnTo>
                          <a:pt x="864" y="125"/>
                        </a:lnTo>
                        <a:lnTo>
                          <a:pt x="869" y="125"/>
                        </a:lnTo>
                        <a:lnTo>
                          <a:pt x="878" y="125"/>
                        </a:lnTo>
                        <a:lnTo>
                          <a:pt x="888" y="125"/>
                        </a:lnTo>
                        <a:lnTo>
                          <a:pt x="898" y="125"/>
                        </a:lnTo>
                        <a:lnTo>
                          <a:pt x="902" y="125"/>
                        </a:lnTo>
                        <a:lnTo>
                          <a:pt x="907" y="125"/>
                        </a:lnTo>
                        <a:lnTo>
                          <a:pt x="912" y="125"/>
                        </a:lnTo>
                        <a:lnTo>
                          <a:pt x="912" y="129"/>
                        </a:lnTo>
                        <a:lnTo>
                          <a:pt x="917" y="129"/>
                        </a:lnTo>
                        <a:lnTo>
                          <a:pt x="922" y="129"/>
                        </a:lnTo>
                        <a:lnTo>
                          <a:pt x="926" y="129"/>
                        </a:lnTo>
                        <a:lnTo>
                          <a:pt x="931" y="129"/>
                        </a:lnTo>
                        <a:lnTo>
                          <a:pt x="936" y="129"/>
                        </a:lnTo>
                        <a:lnTo>
                          <a:pt x="936" y="125"/>
                        </a:lnTo>
                        <a:lnTo>
                          <a:pt x="941" y="125"/>
                        </a:lnTo>
                        <a:lnTo>
                          <a:pt x="946" y="125"/>
                        </a:lnTo>
                        <a:lnTo>
                          <a:pt x="950" y="129"/>
                        </a:lnTo>
                        <a:lnTo>
                          <a:pt x="946" y="129"/>
                        </a:lnTo>
                        <a:lnTo>
                          <a:pt x="946" y="134"/>
                        </a:lnTo>
                        <a:lnTo>
                          <a:pt x="941" y="139"/>
                        </a:lnTo>
                        <a:lnTo>
                          <a:pt x="941" y="144"/>
                        </a:lnTo>
                        <a:lnTo>
                          <a:pt x="936" y="149"/>
                        </a:lnTo>
                        <a:lnTo>
                          <a:pt x="931" y="153"/>
                        </a:lnTo>
                        <a:lnTo>
                          <a:pt x="931" y="158"/>
                        </a:lnTo>
                        <a:lnTo>
                          <a:pt x="926" y="163"/>
                        </a:lnTo>
                        <a:lnTo>
                          <a:pt x="926" y="168"/>
                        </a:lnTo>
                        <a:lnTo>
                          <a:pt x="922" y="172"/>
                        </a:lnTo>
                        <a:lnTo>
                          <a:pt x="922" y="177"/>
                        </a:lnTo>
                        <a:lnTo>
                          <a:pt x="922" y="182"/>
                        </a:lnTo>
                        <a:lnTo>
                          <a:pt x="917" y="182"/>
                        </a:lnTo>
                        <a:lnTo>
                          <a:pt x="917" y="187"/>
                        </a:lnTo>
                        <a:lnTo>
                          <a:pt x="917" y="192"/>
                        </a:lnTo>
                        <a:lnTo>
                          <a:pt x="912" y="196"/>
                        </a:lnTo>
                        <a:lnTo>
                          <a:pt x="912" y="201"/>
                        </a:lnTo>
                        <a:lnTo>
                          <a:pt x="912" y="206"/>
                        </a:lnTo>
                        <a:lnTo>
                          <a:pt x="907" y="211"/>
                        </a:lnTo>
                        <a:lnTo>
                          <a:pt x="907" y="216"/>
                        </a:lnTo>
                        <a:lnTo>
                          <a:pt x="907" y="220"/>
                        </a:lnTo>
                        <a:lnTo>
                          <a:pt x="902" y="225"/>
                        </a:lnTo>
                        <a:lnTo>
                          <a:pt x="902" y="230"/>
                        </a:lnTo>
                        <a:lnTo>
                          <a:pt x="902" y="235"/>
                        </a:lnTo>
                        <a:lnTo>
                          <a:pt x="898" y="235"/>
                        </a:lnTo>
                        <a:lnTo>
                          <a:pt x="898" y="240"/>
                        </a:lnTo>
                        <a:lnTo>
                          <a:pt x="898" y="244"/>
                        </a:lnTo>
                        <a:lnTo>
                          <a:pt x="893" y="249"/>
                        </a:lnTo>
                        <a:lnTo>
                          <a:pt x="893" y="254"/>
                        </a:lnTo>
                        <a:lnTo>
                          <a:pt x="893" y="259"/>
                        </a:lnTo>
                        <a:lnTo>
                          <a:pt x="888" y="263"/>
                        </a:lnTo>
                        <a:lnTo>
                          <a:pt x="888" y="268"/>
                        </a:lnTo>
                        <a:lnTo>
                          <a:pt x="888" y="273"/>
                        </a:lnTo>
                        <a:lnTo>
                          <a:pt x="888" y="278"/>
                        </a:lnTo>
                        <a:lnTo>
                          <a:pt x="883" y="278"/>
                        </a:lnTo>
                        <a:lnTo>
                          <a:pt x="883" y="283"/>
                        </a:lnTo>
                        <a:lnTo>
                          <a:pt x="883" y="287"/>
                        </a:lnTo>
                        <a:lnTo>
                          <a:pt x="883" y="292"/>
                        </a:lnTo>
                        <a:lnTo>
                          <a:pt x="878" y="292"/>
                        </a:lnTo>
                        <a:lnTo>
                          <a:pt x="878" y="297"/>
                        </a:lnTo>
                        <a:lnTo>
                          <a:pt x="878" y="302"/>
                        </a:lnTo>
                        <a:lnTo>
                          <a:pt x="878" y="307"/>
                        </a:lnTo>
                        <a:lnTo>
                          <a:pt x="874" y="311"/>
                        </a:lnTo>
                        <a:lnTo>
                          <a:pt x="874" y="316"/>
                        </a:lnTo>
                        <a:lnTo>
                          <a:pt x="874" y="321"/>
                        </a:lnTo>
                        <a:lnTo>
                          <a:pt x="869" y="326"/>
                        </a:lnTo>
                        <a:lnTo>
                          <a:pt x="869" y="330"/>
                        </a:lnTo>
                        <a:lnTo>
                          <a:pt x="869" y="335"/>
                        </a:lnTo>
                        <a:lnTo>
                          <a:pt x="869" y="340"/>
                        </a:lnTo>
                        <a:lnTo>
                          <a:pt x="869" y="345"/>
                        </a:lnTo>
                        <a:lnTo>
                          <a:pt x="869" y="350"/>
                        </a:lnTo>
                        <a:lnTo>
                          <a:pt x="869" y="354"/>
                        </a:lnTo>
                        <a:lnTo>
                          <a:pt x="869" y="359"/>
                        </a:lnTo>
                        <a:lnTo>
                          <a:pt x="859" y="354"/>
                        </a:lnTo>
                        <a:lnTo>
                          <a:pt x="854" y="354"/>
                        </a:lnTo>
                        <a:lnTo>
                          <a:pt x="850" y="354"/>
                        </a:lnTo>
                        <a:lnTo>
                          <a:pt x="840" y="354"/>
                        </a:lnTo>
                        <a:lnTo>
                          <a:pt x="835" y="354"/>
                        </a:lnTo>
                        <a:lnTo>
                          <a:pt x="826" y="354"/>
                        </a:lnTo>
                        <a:lnTo>
                          <a:pt x="821" y="354"/>
                        </a:lnTo>
                        <a:lnTo>
                          <a:pt x="816" y="354"/>
                        </a:lnTo>
                        <a:lnTo>
                          <a:pt x="806" y="354"/>
                        </a:lnTo>
                        <a:lnTo>
                          <a:pt x="802" y="354"/>
                        </a:lnTo>
                        <a:lnTo>
                          <a:pt x="792" y="354"/>
                        </a:lnTo>
                        <a:lnTo>
                          <a:pt x="787" y="354"/>
                        </a:lnTo>
                        <a:lnTo>
                          <a:pt x="782" y="354"/>
                        </a:lnTo>
                        <a:lnTo>
                          <a:pt x="773" y="354"/>
                        </a:lnTo>
                        <a:lnTo>
                          <a:pt x="768" y="354"/>
                        </a:lnTo>
                        <a:lnTo>
                          <a:pt x="758" y="359"/>
                        </a:lnTo>
                        <a:lnTo>
                          <a:pt x="754" y="359"/>
                        </a:lnTo>
                        <a:lnTo>
                          <a:pt x="744" y="359"/>
                        </a:lnTo>
                        <a:lnTo>
                          <a:pt x="739" y="359"/>
                        </a:lnTo>
                        <a:lnTo>
                          <a:pt x="734" y="359"/>
                        </a:lnTo>
                        <a:lnTo>
                          <a:pt x="725" y="359"/>
                        </a:lnTo>
                        <a:lnTo>
                          <a:pt x="720" y="359"/>
                        </a:lnTo>
                        <a:lnTo>
                          <a:pt x="710" y="359"/>
                        </a:lnTo>
                        <a:lnTo>
                          <a:pt x="706" y="359"/>
                        </a:lnTo>
                        <a:lnTo>
                          <a:pt x="696" y="359"/>
                        </a:lnTo>
                        <a:lnTo>
                          <a:pt x="691" y="359"/>
                        </a:lnTo>
                        <a:lnTo>
                          <a:pt x="682" y="359"/>
                        </a:lnTo>
                        <a:lnTo>
                          <a:pt x="677" y="364"/>
                        </a:lnTo>
                        <a:lnTo>
                          <a:pt x="667" y="364"/>
                        </a:lnTo>
                        <a:lnTo>
                          <a:pt x="662" y="364"/>
                        </a:lnTo>
                        <a:lnTo>
                          <a:pt x="658" y="364"/>
                        </a:lnTo>
                        <a:lnTo>
                          <a:pt x="648" y="364"/>
                        </a:lnTo>
                        <a:lnTo>
                          <a:pt x="629" y="364"/>
                        </a:lnTo>
                        <a:lnTo>
                          <a:pt x="615" y="364"/>
                        </a:lnTo>
                        <a:lnTo>
                          <a:pt x="595" y="364"/>
                        </a:lnTo>
                        <a:lnTo>
                          <a:pt x="576" y="364"/>
                        </a:lnTo>
                        <a:lnTo>
                          <a:pt x="557" y="364"/>
                        </a:lnTo>
                        <a:lnTo>
                          <a:pt x="543" y="364"/>
                        </a:lnTo>
                        <a:lnTo>
                          <a:pt x="523" y="364"/>
                        </a:lnTo>
                        <a:lnTo>
                          <a:pt x="504" y="364"/>
                        </a:lnTo>
                        <a:lnTo>
                          <a:pt x="485" y="364"/>
                        </a:lnTo>
                        <a:lnTo>
                          <a:pt x="466" y="364"/>
                        </a:lnTo>
                        <a:lnTo>
                          <a:pt x="451" y="369"/>
                        </a:lnTo>
                        <a:lnTo>
                          <a:pt x="432" y="369"/>
                        </a:lnTo>
                        <a:lnTo>
                          <a:pt x="413" y="369"/>
                        </a:lnTo>
                        <a:lnTo>
                          <a:pt x="394" y="369"/>
                        </a:lnTo>
                        <a:lnTo>
                          <a:pt x="375" y="369"/>
                        </a:lnTo>
                        <a:lnTo>
                          <a:pt x="355" y="369"/>
                        </a:lnTo>
                        <a:lnTo>
                          <a:pt x="341" y="369"/>
                        </a:lnTo>
                        <a:lnTo>
                          <a:pt x="322" y="374"/>
                        </a:lnTo>
                        <a:lnTo>
                          <a:pt x="303" y="374"/>
                        </a:lnTo>
                        <a:lnTo>
                          <a:pt x="284" y="374"/>
                        </a:lnTo>
                        <a:lnTo>
                          <a:pt x="264" y="374"/>
                        </a:lnTo>
                        <a:lnTo>
                          <a:pt x="245" y="374"/>
                        </a:lnTo>
                        <a:lnTo>
                          <a:pt x="231" y="374"/>
                        </a:lnTo>
                        <a:lnTo>
                          <a:pt x="212" y="374"/>
                        </a:lnTo>
                        <a:lnTo>
                          <a:pt x="192" y="374"/>
                        </a:lnTo>
                        <a:lnTo>
                          <a:pt x="173" y="374"/>
                        </a:lnTo>
                        <a:lnTo>
                          <a:pt x="154" y="374"/>
                        </a:lnTo>
                        <a:lnTo>
                          <a:pt x="140" y="374"/>
                        </a:lnTo>
                        <a:lnTo>
                          <a:pt x="120" y="369"/>
                        </a:lnTo>
                        <a:lnTo>
                          <a:pt x="101" y="369"/>
                        </a:lnTo>
                        <a:lnTo>
                          <a:pt x="82" y="369"/>
                        </a:lnTo>
                        <a:lnTo>
                          <a:pt x="63" y="364"/>
                        </a:lnTo>
                        <a:lnTo>
                          <a:pt x="58" y="364"/>
                        </a:lnTo>
                        <a:lnTo>
                          <a:pt x="53" y="364"/>
                        </a:lnTo>
                        <a:lnTo>
                          <a:pt x="53" y="359"/>
                        </a:lnTo>
                        <a:lnTo>
                          <a:pt x="48" y="359"/>
                        </a:lnTo>
                        <a:lnTo>
                          <a:pt x="44" y="359"/>
                        </a:lnTo>
                        <a:lnTo>
                          <a:pt x="39" y="354"/>
                        </a:lnTo>
                        <a:lnTo>
                          <a:pt x="34" y="354"/>
                        </a:lnTo>
                        <a:lnTo>
                          <a:pt x="34" y="350"/>
                        </a:lnTo>
                        <a:lnTo>
                          <a:pt x="29" y="350"/>
                        </a:lnTo>
                        <a:lnTo>
                          <a:pt x="24" y="350"/>
                        </a:lnTo>
                        <a:lnTo>
                          <a:pt x="24" y="345"/>
                        </a:lnTo>
                        <a:lnTo>
                          <a:pt x="20" y="345"/>
                        </a:lnTo>
                        <a:lnTo>
                          <a:pt x="20" y="340"/>
                        </a:lnTo>
                        <a:lnTo>
                          <a:pt x="15" y="340"/>
                        </a:lnTo>
                        <a:lnTo>
                          <a:pt x="15" y="335"/>
                        </a:lnTo>
                        <a:lnTo>
                          <a:pt x="10" y="335"/>
                        </a:lnTo>
                        <a:lnTo>
                          <a:pt x="10" y="330"/>
                        </a:lnTo>
                        <a:lnTo>
                          <a:pt x="5" y="330"/>
                        </a:lnTo>
                        <a:lnTo>
                          <a:pt x="5" y="326"/>
                        </a:lnTo>
                        <a:lnTo>
                          <a:pt x="0" y="326"/>
                        </a:lnTo>
                        <a:lnTo>
                          <a:pt x="0" y="321"/>
                        </a:lnTo>
                        <a:lnTo>
                          <a:pt x="0" y="316"/>
                        </a:lnTo>
                        <a:lnTo>
                          <a:pt x="0" y="311"/>
                        </a:lnTo>
                        <a:lnTo>
                          <a:pt x="0" y="307"/>
                        </a:lnTo>
                        <a:lnTo>
                          <a:pt x="0" y="302"/>
                        </a:lnTo>
                        <a:lnTo>
                          <a:pt x="0" y="297"/>
                        </a:lnTo>
                        <a:lnTo>
                          <a:pt x="0" y="292"/>
                        </a:lnTo>
                        <a:lnTo>
                          <a:pt x="5" y="292"/>
                        </a:lnTo>
                        <a:lnTo>
                          <a:pt x="5" y="287"/>
                        </a:lnTo>
                        <a:lnTo>
                          <a:pt x="5" y="283"/>
                        </a:lnTo>
                        <a:lnTo>
                          <a:pt x="10" y="278"/>
                        </a:lnTo>
                        <a:lnTo>
                          <a:pt x="10" y="273"/>
                        </a:lnTo>
                        <a:lnTo>
                          <a:pt x="15" y="273"/>
                        </a:lnTo>
                        <a:lnTo>
                          <a:pt x="15" y="268"/>
                        </a:lnTo>
                        <a:lnTo>
                          <a:pt x="20" y="263"/>
                        </a:lnTo>
                        <a:lnTo>
                          <a:pt x="24" y="259"/>
                        </a:lnTo>
                        <a:lnTo>
                          <a:pt x="24" y="254"/>
                        </a:lnTo>
                        <a:lnTo>
                          <a:pt x="29" y="254"/>
                        </a:lnTo>
                        <a:lnTo>
                          <a:pt x="29" y="249"/>
                        </a:lnTo>
                        <a:lnTo>
                          <a:pt x="34" y="249"/>
                        </a:lnTo>
                        <a:lnTo>
                          <a:pt x="34" y="244"/>
                        </a:lnTo>
                        <a:lnTo>
                          <a:pt x="39" y="240"/>
                        </a:lnTo>
                        <a:lnTo>
                          <a:pt x="44" y="235"/>
                        </a:lnTo>
                        <a:lnTo>
                          <a:pt x="48" y="230"/>
                        </a:lnTo>
                        <a:lnTo>
                          <a:pt x="48" y="225"/>
                        </a:lnTo>
                        <a:lnTo>
                          <a:pt x="53" y="225"/>
                        </a:lnTo>
                        <a:lnTo>
                          <a:pt x="53" y="220"/>
                        </a:lnTo>
                        <a:lnTo>
                          <a:pt x="58" y="220"/>
                        </a:lnTo>
                        <a:lnTo>
                          <a:pt x="68" y="211"/>
                        </a:lnTo>
                        <a:lnTo>
                          <a:pt x="77" y="201"/>
                        </a:lnTo>
                        <a:lnTo>
                          <a:pt x="87" y="192"/>
                        </a:lnTo>
                        <a:lnTo>
                          <a:pt x="96" y="182"/>
                        </a:lnTo>
                        <a:lnTo>
                          <a:pt x="106" y="172"/>
                        </a:lnTo>
                        <a:lnTo>
                          <a:pt x="116" y="163"/>
                        </a:lnTo>
                        <a:lnTo>
                          <a:pt x="125" y="153"/>
                        </a:lnTo>
                        <a:lnTo>
                          <a:pt x="135" y="149"/>
                        </a:lnTo>
                        <a:lnTo>
                          <a:pt x="144" y="139"/>
                        </a:lnTo>
                        <a:lnTo>
                          <a:pt x="154" y="134"/>
                        </a:lnTo>
                        <a:lnTo>
                          <a:pt x="168" y="125"/>
                        </a:lnTo>
                        <a:lnTo>
                          <a:pt x="178" y="120"/>
                        </a:lnTo>
                        <a:lnTo>
                          <a:pt x="188" y="110"/>
                        </a:lnTo>
                        <a:lnTo>
                          <a:pt x="197" y="105"/>
                        </a:lnTo>
                        <a:lnTo>
                          <a:pt x="212" y="101"/>
                        </a:lnTo>
                        <a:lnTo>
                          <a:pt x="221" y="91"/>
                        </a:lnTo>
                        <a:lnTo>
                          <a:pt x="231" y="86"/>
                        </a:lnTo>
                        <a:lnTo>
                          <a:pt x="245" y="81"/>
                        </a:lnTo>
                        <a:lnTo>
                          <a:pt x="255" y="77"/>
                        </a:lnTo>
                        <a:lnTo>
                          <a:pt x="264" y="72"/>
                        </a:lnTo>
                        <a:lnTo>
                          <a:pt x="279" y="62"/>
                        </a:lnTo>
                        <a:lnTo>
                          <a:pt x="288" y="58"/>
                        </a:lnTo>
                        <a:lnTo>
                          <a:pt x="303" y="53"/>
                        </a:lnTo>
                        <a:lnTo>
                          <a:pt x="312" y="48"/>
                        </a:lnTo>
                        <a:lnTo>
                          <a:pt x="322" y="43"/>
                        </a:lnTo>
                        <a:lnTo>
                          <a:pt x="336" y="38"/>
                        </a:lnTo>
                        <a:lnTo>
                          <a:pt x="346" y="34"/>
                        </a:lnTo>
                        <a:lnTo>
                          <a:pt x="360" y="34"/>
                        </a:lnTo>
                        <a:lnTo>
                          <a:pt x="370" y="29"/>
                        </a:lnTo>
                        <a:lnTo>
                          <a:pt x="379" y="24"/>
                        </a:lnTo>
                        <a:lnTo>
                          <a:pt x="394" y="19"/>
                        </a:lnTo>
                        <a:lnTo>
                          <a:pt x="403" y="14"/>
                        </a:lnTo>
                        <a:lnTo>
                          <a:pt x="408" y="14"/>
                        </a:lnTo>
                        <a:lnTo>
                          <a:pt x="413" y="14"/>
                        </a:lnTo>
                        <a:lnTo>
                          <a:pt x="418" y="10"/>
                        </a:lnTo>
                        <a:lnTo>
                          <a:pt x="423" y="10"/>
                        </a:lnTo>
                        <a:lnTo>
                          <a:pt x="427" y="10"/>
                        </a:lnTo>
                        <a:lnTo>
                          <a:pt x="432" y="10"/>
                        </a:lnTo>
                        <a:lnTo>
                          <a:pt x="437" y="10"/>
                        </a:lnTo>
                        <a:lnTo>
                          <a:pt x="442" y="5"/>
                        </a:lnTo>
                        <a:lnTo>
                          <a:pt x="447" y="5"/>
                        </a:lnTo>
                        <a:lnTo>
                          <a:pt x="451" y="5"/>
                        </a:lnTo>
                        <a:lnTo>
                          <a:pt x="456" y="5"/>
                        </a:lnTo>
                        <a:lnTo>
                          <a:pt x="461" y="5"/>
                        </a:lnTo>
                        <a:lnTo>
                          <a:pt x="466" y="5"/>
                        </a:lnTo>
                        <a:lnTo>
                          <a:pt x="471" y="5"/>
                        </a:lnTo>
                        <a:lnTo>
                          <a:pt x="471" y="0"/>
                        </a:lnTo>
                        <a:lnTo>
                          <a:pt x="475" y="0"/>
                        </a:lnTo>
                        <a:lnTo>
                          <a:pt x="480" y="0"/>
                        </a:lnTo>
                        <a:lnTo>
                          <a:pt x="485" y="0"/>
                        </a:lnTo>
                        <a:lnTo>
                          <a:pt x="490" y="0"/>
                        </a:lnTo>
                        <a:lnTo>
                          <a:pt x="495" y="0"/>
                        </a:lnTo>
                        <a:lnTo>
                          <a:pt x="499" y="0"/>
                        </a:lnTo>
                        <a:lnTo>
                          <a:pt x="504" y="0"/>
                        </a:lnTo>
                        <a:close/>
                      </a:path>
                    </a:pathLst>
                  </a:custGeom>
                  <a:solidFill>
                    <a:srgbClr val="e5b2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0" bIns="14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9" name=""/>
                  <p:cNvSpPr/>
                  <p:nvPr/>
                </p:nvSpPr>
                <p:spPr>
                  <a:xfrm flipH="1">
                    <a:off x="3808080" y="4959000"/>
                    <a:ext cx="100080" cy="77760"/>
                  </a:xfrm>
                  <a:custGeom>
                    <a:avLst/>
                    <a:gdLst/>
                    <a:ahLst/>
                    <a:rect l="l" t="t" r="r" b="b"/>
                    <a:pathLst>
                      <a:path w="590" h="475">
                        <a:moveTo>
                          <a:pt x="470" y="106"/>
                        </a:moveTo>
                        <a:lnTo>
                          <a:pt x="475" y="106"/>
                        </a:lnTo>
                        <a:lnTo>
                          <a:pt x="480" y="106"/>
                        </a:lnTo>
                        <a:lnTo>
                          <a:pt x="480" y="111"/>
                        </a:lnTo>
                        <a:lnTo>
                          <a:pt x="484" y="111"/>
                        </a:lnTo>
                        <a:lnTo>
                          <a:pt x="489" y="111"/>
                        </a:lnTo>
                        <a:lnTo>
                          <a:pt x="494" y="111"/>
                        </a:lnTo>
                        <a:lnTo>
                          <a:pt x="499" y="111"/>
                        </a:lnTo>
                        <a:lnTo>
                          <a:pt x="504" y="111"/>
                        </a:lnTo>
                        <a:lnTo>
                          <a:pt x="508" y="111"/>
                        </a:lnTo>
                        <a:lnTo>
                          <a:pt x="513" y="111"/>
                        </a:lnTo>
                        <a:lnTo>
                          <a:pt x="518" y="111"/>
                        </a:lnTo>
                        <a:lnTo>
                          <a:pt x="523" y="111"/>
                        </a:lnTo>
                        <a:lnTo>
                          <a:pt x="528" y="111"/>
                        </a:lnTo>
                        <a:lnTo>
                          <a:pt x="532" y="115"/>
                        </a:lnTo>
                        <a:lnTo>
                          <a:pt x="537" y="115"/>
                        </a:lnTo>
                        <a:lnTo>
                          <a:pt x="542" y="115"/>
                        </a:lnTo>
                        <a:lnTo>
                          <a:pt x="542" y="120"/>
                        </a:lnTo>
                        <a:lnTo>
                          <a:pt x="547" y="120"/>
                        </a:lnTo>
                        <a:lnTo>
                          <a:pt x="552" y="125"/>
                        </a:lnTo>
                        <a:lnTo>
                          <a:pt x="556" y="130"/>
                        </a:lnTo>
                        <a:lnTo>
                          <a:pt x="556" y="135"/>
                        </a:lnTo>
                        <a:lnTo>
                          <a:pt x="556" y="139"/>
                        </a:lnTo>
                        <a:lnTo>
                          <a:pt x="556" y="144"/>
                        </a:lnTo>
                        <a:lnTo>
                          <a:pt x="561" y="149"/>
                        </a:lnTo>
                        <a:lnTo>
                          <a:pt x="561" y="154"/>
                        </a:lnTo>
                        <a:lnTo>
                          <a:pt x="566" y="158"/>
                        </a:lnTo>
                        <a:lnTo>
                          <a:pt x="566" y="168"/>
                        </a:lnTo>
                        <a:lnTo>
                          <a:pt x="566" y="173"/>
                        </a:lnTo>
                        <a:lnTo>
                          <a:pt x="571" y="178"/>
                        </a:lnTo>
                        <a:lnTo>
                          <a:pt x="571" y="187"/>
                        </a:lnTo>
                        <a:lnTo>
                          <a:pt x="571" y="192"/>
                        </a:lnTo>
                        <a:lnTo>
                          <a:pt x="576" y="197"/>
                        </a:lnTo>
                        <a:lnTo>
                          <a:pt x="576" y="206"/>
                        </a:lnTo>
                        <a:lnTo>
                          <a:pt x="576" y="211"/>
                        </a:lnTo>
                        <a:lnTo>
                          <a:pt x="580" y="216"/>
                        </a:lnTo>
                        <a:lnTo>
                          <a:pt x="580" y="226"/>
                        </a:lnTo>
                        <a:lnTo>
                          <a:pt x="580" y="230"/>
                        </a:lnTo>
                        <a:lnTo>
                          <a:pt x="580" y="235"/>
                        </a:lnTo>
                        <a:lnTo>
                          <a:pt x="580" y="245"/>
                        </a:lnTo>
                        <a:lnTo>
                          <a:pt x="585" y="249"/>
                        </a:lnTo>
                        <a:lnTo>
                          <a:pt x="585" y="259"/>
                        </a:lnTo>
                        <a:lnTo>
                          <a:pt x="585" y="264"/>
                        </a:lnTo>
                        <a:lnTo>
                          <a:pt x="585" y="269"/>
                        </a:lnTo>
                        <a:lnTo>
                          <a:pt x="585" y="278"/>
                        </a:lnTo>
                        <a:lnTo>
                          <a:pt x="585" y="283"/>
                        </a:lnTo>
                        <a:lnTo>
                          <a:pt x="585" y="293"/>
                        </a:lnTo>
                        <a:lnTo>
                          <a:pt x="590" y="297"/>
                        </a:lnTo>
                        <a:lnTo>
                          <a:pt x="590" y="307"/>
                        </a:lnTo>
                        <a:lnTo>
                          <a:pt x="590" y="312"/>
                        </a:lnTo>
                        <a:lnTo>
                          <a:pt x="590" y="316"/>
                        </a:lnTo>
                        <a:lnTo>
                          <a:pt x="590" y="326"/>
                        </a:lnTo>
                        <a:lnTo>
                          <a:pt x="590" y="331"/>
                        </a:lnTo>
                        <a:lnTo>
                          <a:pt x="590" y="340"/>
                        </a:lnTo>
                        <a:lnTo>
                          <a:pt x="590" y="345"/>
                        </a:lnTo>
                        <a:lnTo>
                          <a:pt x="590" y="355"/>
                        </a:lnTo>
                        <a:lnTo>
                          <a:pt x="590" y="360"/>
                        </a:lnTo>
                        <a:lnTo>
                          <a:pt x="590" y="369"/>
                        </a:lnTo>
                        <a:lnTo>
                          <a:pt x="585" y="379"/>
                        </a:lnTo>
                        <a:lnTo>
                          <a:pt x="580" y="384"/>
                        </a:lnTo>
                        <a:lnTo>
                          <a:pt x="576" y="393"/>
                        </a:lnTo>
                        <a:lnTo>
                          <a:pt x="576" y="398"/>
                        </a:lnTo>
                        <a:lnTo>
                          <a:pt x="566" y="403"/>
                        </a:lnTo>
                        <a:lnTo>
                          <a:pt x="561" y="407"/>
                        </a:lnTo>
                        <a:lnTo>
                          <a:pt x="556" y="412"/>
                        </a:lnTo>
                        <a:lnTo>
                          <a:pt x="552" y="417"/>
                        </a:lnTo>
                        <a:lnTo>
                          <a:pt x="547" y="422"/>
                        </a:lnTo>
                        <a:lnTo>
                          <a:pt x="537" y="427"/>
                        </a:lnTo>
                        <a:lnTo>
                          <a:pt x="532" y="427"/>
                        </a:lnTo>
                        <a:lnTo>
                          <a:pt x="523" y="431"/>
                        </a:lnTo>
                        <a:lnTo>
                          <a:pt x="518" y="436"/>
                        </a:lnTo>
                        <a:lnTo>
                          <a:pt x="508" y="436"/>
                        </a:lnTo>
                        <a:lnTo>
                          <a:pt x="504" y="441"/>
                        </a:lnTo>
                        <a:lnTo>
                          <a:pt x="494" y="441"/>
                        </a:lnTo>
                        <a:lnTo>
                          <a:pt x="489" y="446"/>
                        </a:lnTo>
                        <a:lnTo>
                          <a:pt x="480" y="446"/>
                        </a:lnTo>
                        <a:lnTo>
                          <a:pt x="470" y="446"/>
                        </a:lnTo>
                        <a:lnTo>
                          <a:pt x="465" y="451"/>
                        </a:lnTo>
                        <a:lnTo>
                          <a:pt x="456" y="451"/>
                        </a:lnTo>
                        <a:lnTo>
                          <a:pt x="446" y="451"/>
                        </a:lnTo>
                        <a:lnTo>
                          <a:pt x="441" y="455"/>
                        </a:lnTo>
                        <a:lnTo>
                          <a:pt x="432" y="455"/>
                        </a:lnTo>
                        <a:lnTo>
                          <a:pt x="427" y="455"/>
                        </a:lnTo>
                        <a:lnTo>
                          <a:pt x="417" y="455"/>
                        </a:lnTo>
                        <a:lnTo>
                          <a:pt x="412" y="460"/>
                        </a:lnTo>
                        <a:lnTo>
                          <a:pt x="403" y="460"/>
                        </a:lnTo>
                        <a:lnTo>
                          <a:pt x="398" y="460"/>
                        </a:lnTo>
                        <a:lnTo>
                          <a:pt x="388" y="465"/>
                        </a:lnTo>
                        <a:lnTo>
                          <a:pt x="384" y="465"/>
                        </a:lnTo>
                        <a:lnTo>
                          <a:pt x="374" y="465"/>
                        </a:lnTo>
                        <a:lnTo>
                          <a:pt x="360" y="470"/>
                        </a:lnTo>
                        <a:lnTo>
                          <a:pt x="350" y="470"/>
                        </a:lnTo>
                        <a:lnTo>
                          <a:pt x="341" y="470"/>
                        </a:lnTo>
                        <a:lnTo>
                          <a:pt x="326" y="470"/>
                        </a:lnTo>
                        <a:lnTo>
                          <a:pt x="317" y="475"/>
                        </a:lnTo>
                        <a:lnTo>
                          <a:pt x="307" y="475"/>
                        </a:lnTo>
                        <a:lnTo>
                          <a:pt x="293" y="475"/>
                        </a:lnTo>
                        <a:lnTo>
                          <a:pt x="283" y="475"/>
                        </a:lnTo>
                        <a:lnTo>
                          <a:pt x="273" y="475"/>
                        </a:lnTo>
                        <a:lnTo>
                          <a:pt x="259" y="475"/>
                        </a:lnTo>
                        <a:lnTo>
                          <a:pt x="249" y="475"/>
                        </a:lnTo>
                        <a:lnTo>
                          <a:pt x="240" y="475"/>
                        </a:lnTo>
                        <a:lnTo>
                          <a:pt x="225" y="475"/>
                        </a:lnTo>
                        <a:lnTo>
                          <a:pt x="216" y="475"/>
                        </a:lnTo>
                        <a:lnTo>
                          <a:pt x="206" y="475"/>
                        </a:lnTo>
                        <a:lnTo>
                          <a:pt x="192" y="475"/>
                        </a:lnTo>
                        <a:lnTo>
                          <a:pt x="182" y="470"/>
                        </a:lnTo>
                        <a:lnTo>
                          <a:pt x="173" y="470"/>
                        </a:lnTo>
                        <a:lnTo>
                          <a:pt x="163" y="465"/>
                        </a:lnTo>
                        <a:lnTo>
                          <a:pt x="149" y="465"/>
                        </a:lnTo>
                        <a:lnTo>
                          <a:pt x="139" y="460"/>
                        </a:lnTo>
                        <a:lnTo>
                          <a:pt x="129" y="460"/>
                        </a:lnTo>
                        <a:lnTo>
                          <a:pt x="120" y="455"/>
                        </a:lnTo>
                        <a:lnTo>
                          <a:pt x="110" y="451"/>
                        </a:lnTo>
                        <a:lnTo>
                          <a:pt x="101" y="446"/>
                        </a:lnTo>
                        <a:lnTo>
                          <a:pt x="91" y="441"/>
                        </a:lnTo>
                        <a:lnTo>
                          <a:pt x="81" y="436"/>
                        </a:lnTo>
                        <a:lnTo>
                          <a:pt x="72" y="431"/>
                        </a:lnTo>
                        <a:lnTo>
                          <a:pt x="62" y="427"/>
                        </a:lnTo>
                        <a:lnTo>
                          <a:pt x="53" y="422"/>
                        </a:lnTo>
                        <a:lnTo>
                          <a:pt x="43" y="412"/>
                        </a:lnTo>
                        <a:lnTo>
                          <a:pt x="38" y="407"/>
                        </a:lnTo>
                        <a:lnTo>
                          <a:pt x="38" y="403"/>
                        </a:lnTo>
                        <a:lnTo>
                          <a:pt x="34" y="403"/>
                        </a:lnTo>
                        <a:lnTo>
                          <a:pt x="34" y="398"/>
                        </a:lnTo>
                        <a:lnTo>
                          <a:pt x="29" y="393"/>
                        </a:lnTo>
                        <a:lnTo>
                          <a:pt x="24" y="388"/>
                        </a:lnTo>
                        <a:lnTo>
                          <a:pt x="19" y="384"/>
                        </a:lnTo>
                        <a:lnTo>
                          <a:pt x="19" y="379"/>
                        </a:lnTo>
                        <a:lnTo>
                          <a:pt x="14" y="374"/>
                        </a:lnTo>
                        <a:lnTo>
                          <a:pt x="10" y="369"/>
                        </a:lnTo>
                        <a:lnTo>
                          <a:pt x="10" y="364"/>
                        </a:lnTo>
                        <a:lnTo>
                          <a:pt x="10" y="360"/>
                        </a:lnTo>
                        <a:lnTo>
                          <a:pt x="5" y="355"/>
                        </a:lnTo>
                        <a:lnTo>
                          <a:pt x="5" y="350"/>
                        </a:lnTo>
                        <a:lnTo>
                          <a:pt x="5" y="345"/>
                        </a:lnTo>
                        <a:lnTo>
                          <a:pt x="0" y="340"/>
                        </a:lnTo>
                        <a:lnTo>
                          <a:pt x="0" y="336"/>
                        </a:lnTo>
                        <a:lnTo>
                          <a:pt x="5" y="336"/>
                        </a:lnTo>
                        <a:lnTo>
                          <a:pt x="5" y="331"/>
                        </a:lnTo>
                        <a:lnTo>
                          <a:pt x="5" y="326"/>
                        </a:lnTo>
                        <a:lnTo>
                          <a:pt x="5" y="321"/>
                        </a:lnTo>
                        <a:lnTo>
                          <a:pt x="5" y="316"/>
                        </a:lnTo>
                        <a:lnTo>
                          <a:pt x="10" y="312"/>
                        </a:lnTo>
                        <a:lnTo>
                          <a:pt x="10" y="307"/>
                        </a:lnTo>
                        <a:lnTo>
                          <a:pt x="10" y="302"/>
                        </a:lnTo>
                        <a:lnTo>
                          <a:pt x="10" y="293"/>
                        </a:lnTo>
                        <a:lnTo>
                          <a:pt x="10" y="288"/>
                        </a:lnTo>
                        <a:lnTo>
                          <a:pt x="10" y="283"/>
                        </a:lnTo>
                        <a:lnTo>
                          <a:pt x="14" y="278"/>
                        </a:lnTo>
                        <a:lnTo>
                          <a:pt x="14" y="273"/>
                        </a:lnTo>
                        <a:lnTo>
                          <a:pt x="14" y="269"/>
                        </a:lnTo>
                        <a:lnTo>
                          <a:pt x="19" y="264"/>
                        </a:lnTo>
                        <a:lnTo>
                          <a:pt x="19" y="259"/>
                        </a:lnTo>
                        <a:lnTo>
                          <a:pt x="19" y="254"/>
                        </a:lnTo>
                        <a:lnTo>
                          <a:pt x="24" y="249"/>
                        </a:lnTo>
                        <a:lnTo>
                          <a:pt x="24" y="245"/>
                        </a:lnTo>
                        <a:lnTo>
                          <a:pt x="24" y="240"/>
                        </a:lnTo>
                        <a:lnTo>
                          <a:pt x="29" y="235"/>
                        </a:lnTo>
                        <a:lnTo>
                          <a:pt x="29" y="230"/>
                        </a:lnTo>
                        <a:lnTo>
                          <a:pt x="34" y="226"/>
                        </a:lnTo>
                        <a:lnTo>
                          <a:pt x="34" y="221"/>
                        </a:lnTo>
                        <a:lnTo>
                          <a:pt x="34" y="216"/>
                        </a:lnTo>
                        <a:lnTo>
                          <a:pt x="38" y="211"/>
                        </a:lnTo>
                        <a:lnTo>
                          <a:pt x="38" y="206"/>
                        </a:lnTo>
                        <a:lnTo>
                          <a:pt x="43" y="206"/>
                        </a:lnTo>
                        <a:lnTo>
                          <a:pt x="43" y="202"/>
                        </a:lnTo>
                        <a:lnTo>
                          <a:pt x="43" y="197"/>
                        </a:lnTo>
                        <a:lnTo>
                          <a:pt x="48" y="192"/>
                        </a:lnTo>
                        <a:lnTo>
                          <a:pt x="48" y="187"/>
                        </a:lnTo>
                        <a:lnTo>
                          <a:pt x="48" y="182"/>
                        </a:lnTo>
                        <a:lnTo>
                          <a:pt x="53" y="178"/>
                        </a:lnTo>
                        <a:lnTo>
                          <a:pt x="53" y="173"/>
                        </a:lnTo>
                        <a:lnTo>
                          <a:pt x="53" y="168"/>
                        </a:lnTo>
                        <a:lnTo>
                          <a:pt x="57" y="158"/>
                        </a:lnTo>
                        <a:lnTo>
                          <a:pt x="67" y="149"/>
                        </a:lnTo>
                        <a:lnTo>
                          <a:pt x="72" y="144"/>
                        </a:lnTo>
                        <a:lnTo>
                          <a:pt x="77" y="135"/>
                        </a:lnTo>
                        <a:lnTo>
                          <a:pt x="81" y="125"/>
                        </a:lnTo>
                        <a:lnTo>
                          <a:pt x="86" y="120"/>
                        </a:lnTo>
                        <a:lnTo>
                          <a:pt x="91" y="111"/>
                        </a:lnTo>
                        <a:lnTo>
                          <a:pt x="101" y="106"/>
                        </a:lnTo>
                        <a:lnTo>
                          <a:pt x="105" y="96"/>
                        </a:lnTo>
                        <a:lnTo>
                          <a:pt x="115" y="91"/>
                        </a:lnTo>
                        <a:lnTo>
                          <a:pt x="120" y="82"/>
                        </a:lnTo>
                        <a:lnTo>
                          <a:pt x="125" y="77"/>
                        </a:lnTo>
                        <a:lnTo>
                          <a:pt x="134" y="72"/>
                        </a:lnTo>
                        <a:lnTo>
                          <a:pt x="139" y="63"/>
                        </a:lnTo>
                        <a:lnTo>
                          <a:pt x="149" y="58"/>
                        </a:lnTo>
                        <a:lnTo>
                          <a:pt x="158" y="53"/>
                        </a:lnTo>
                        <a:lnTo>
                          <a:pt x="163" y="48"/>
                        </a:lnTo>
                        <a:lnTo>
                          <a:pt x="173" y="44"/>
                        </a:lnTo>
                        <a:lnTo>
                          <a:pt x="182" y="39"/>
                        </a:lnTo>
                        <a:lnTo>
                          <a:pt x="187" y="34"/>
                        </a:lnTo>
                        <a:lnTo>
                          <a:pt x="197" y="29"/>
                        </a:lnTo>
                        <a:lnTo>
                          <a:pt x="206" y="24"/>
                        </a:lnTo>
                        <a:lnTo>
                          <a:pt x="216" y="24"/>
                        </a:lnTo>
                        <a:lnTo>
                          <a:pt x="225" y="20"/>
                        </a:lnTo>
                        <a:lnTo>
                          <a:pt x="235" y="15"/>
                        </a:lnTo>
                        <a:lnTo>
                          <a:pt x="240" y="15"/>
                        </a:lnTo>
                        <a:lnTo>
                          <a:pt x="249" y="10"/>
                        </a:lnTo>
                        <a:lnTo>
                          <a:pt x="259" y="10"/>
                        </a:lnTo>
                        <a:lnTo>
                          <a:pt x="269" y="5"/>
                        </a:lnTo>
                        <a:lnTo>
                          <a:pt x="278" y="5"/>
                        </a:lnTo>
                        <a:lnTo>
                          <a:pt x="288" y="5"/>
                        </a:lnTo>
                        <a:lnTo>
                          <a:pt x="297" y="0"/>
                        </a:lnTo>
                        <a:lnTo>
                          <a:pt x="307" y="5"/>
                        </a:lnTo>
                        <a:lnTo>
                          <a:pt x="312" y="5"/>
                        </a:lnTo>
                        <a:lnTo>
                          <a:pt x="317" y="5"/>
                        </a:lnTo>
                        <a:lnTo>
                          <a:pt x="326" y="5"/>
                        </a:lnTo>
                        <a:lnTo>
                          <a:pt x="331" y="10"/>
                        </a:lnTo>
                        <a:lnTo>
                          <a:pt x="336" y="10"/>
                        </a:lnTo>
                        <a:lnTo>
                          <a:pt x="341" y="10"/>
                        </a:lnTo>
                        <a:lnTo>
                          <a:pt x="350" y="15"/>
                        </a:lnTo>
                        <a:lnTo>
                          <a:pt x="355" y="15"/>
                        </a:lnTo>
                        <a:lnTo>
                          <a:pt x="360" y="20"/>
                        </a:lnTo>
                        <a:lnTo>
                          <a:pt x="365" y="24"/>
                        </a:lnTo>
                        <a:lnTo>
                          <a:pt x="369" y="24"/>
                        </a:lnTo>
                        <a:lnTo>
                          <a:pt x="374" y="29"/>
                        </a:lnTo>
                        <a:lnTo>
                          <a:pt x="384" y="34"/>
                        </a:lnTo>
                        <a:lnTo>
                          <a:pt x="388" y="34"/>
                        </a:lnTo>
                        <a:lnTo>
                          <a:pt x="393" y="39"/>
                        </a:lnTo>
                        <a:lnTo>
                          <a:pt x="398" y="44"/>
                        </a:lnTo>
                        <a:lnTo>
                          <a:pt x="403" y="48"/>
                        </a:lnTo>
                        <a:lnTo>
                          <a:pt x="408" y="53"/>
                        </a:lnTo>
                        <a:lnTo>
                          <a:pt x="412" y="53"/>
                        </a:lnTo>
                        <a:lnTo>
                          <a:pt x="417" y="58"/>
                        </a:lnTo>
                        <a:lnTo>
                          <a:pt x="422" y="63"/>
                        </a:lnTo>
                        <a:lnTo>
                          <a:pt x="427" y="67"/>
                        </a:lnTo>
                        <a:lnTo>
                          <a:pt x="432" y="72"/>
                        </a:lnTo>
                        <a:lnTo>
                          <a:pt x="436" y="77"/>
                        </a:lnTo>
                        <a:lnTo>
                          <a:pt x="441" y="82"/>
                        </a:lnTo>
                        <a:lnTo>
                          <a:pt x="446" y="87"/>
                        </a:lnTo>
                        <a:lnTo>
                          <a:pt x="451" y="87"/>
                        </a:lnTo>
                        <a:lnTo>
                          <a:pt x="456" y="91"/>
                        </a:lnTo>
                        <a:lnTo>
                          <a:pt x="460" y="96"/>
                        </a:lnTo>
                        <a:lnTo>
                          <a:pt x="465" y="101"/>
                        </a:lnTo>
                        <a:lnTo>
                          <a:pt x="470" y="106"/>
                        </a:lnTo>
                        <a:close/>
                      </a:path>
                    </a:pathLst>
                  </a:custGeom>
                  <a:solidFill>
                    <a:srgbClr val="e5b2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0" name=""/>
                  <p:cNvSpPr/>
                  <p:nvPr/>
                </p:nvSpPr>
                <p:spPr>
                  <a:xfrm flipH="1">
                    <a:off x="4389120" y="4980240"/>
                    <a:ext cx="163440" cy="62640"/>
                  </a:xfrm>
                  <a:custGeom>
                    <a:avLst/>
                    <a:gdLst/>
                    <a:ahLst/>
                    <a:rect l="l" t="t" r="r" b="b"/>
                    <a:pathLst>
                      <a:path w="965" h="383">
                        <a:moveTo>
                          <a:pt x="514" y="38"/>
                        </a:moveTo>
                        <a:lnTo>
                          <a:pt x="523" y="43"/>
                        </a:lnTo>
                        <a:lnTo>
                          <a:pt x="533" y="43"/>
                        </a:lnTo>
                        <a:lnTo>
                          <a:pt x="538" y="48"/>
                        </a:lnTo>
                        <a:lnTo>
                          <a:pt x="547" y="48"/>
                        </a:lnTo>
                        <a:lnTo>
                          <a:pt x="557" y="52"/>
                        </a:lnTo>
                        <a:lnTo>
                          <a:pt x="566" y="52"/>
                        </a:lnTo>
                        <a:lnTo>
                          <a:pt x="576" y="52"/>
                        </a:lnTo>
                        <a:lnTo>
                          <a:pt x="581" y="57"/>
                        </a:lnTo>
                        <a:lnTo>
                          <a:pt x="590" y="57"/>
                        </a:lnTo>
                        <a:lnTo>
                          <a:pt x="600" y="57"/>
                        </a:lnTo>
                        <a:lnTo>
                          <a:pt x="610" y="57"/>
                        </a:lnTo>
                        <a:lnTo>
                          <a:pt x="619" y="57"/>
                        </a:lnTo>
                        <a:lnTo>
                          <a:pt x="629" y="57"/>
                        </a:lnTo>
                        <a:lnTo>
                          <a:pt x="638" y="57"/>
                        </a:lnTo>
                        <a:lnTo>
                          <a:pt x="643" y="57"/>
                        </a:lnTo>
                        <a:lnTo>
                          <a:pt x="653" y="57"/>
                        </a:lnTo>
                        <a:lnTo>
                          <a:pt x="662" y="57"/>
                        </a:lnTo>
                        <a:lnTo>
                          <a:pt x="672" y="57"/>
                        </a:lnTo>
                        <a:lnTo>
                          <a:pt x="682" y="57"/>
                        </a:lnTo>
                        <a:lnTo>
                          <a:pt x="691" y="57"/>
                        </a:lnTo>
                        <a:lnTo>
                          <a:pt x="701" y="57"/>
                        </a:lnTo>
                        <a:lnTo>
                          <a:pt x="710" y="57"/>
                        </a:lnTo>
                        <a:lnTo>
                          <a:pt x="715" y="57"/>
                        </a:lnTo>
                        <a:lnTo>
                          <a:pt x="725" y="57"/>
                        </a:lnTo>
                        <a:lnTo>
                          <a:pt x="734" y="52"/>
                        </a:lnTo>
                        <a:lnTo>
                          <a:pt x="744" y="52"/>
                        </a:lnTo>
                        <a:lnTo>
                          <a:pt x="754" y="52"/>
                        </a:lnTo>
                        <a:lnTo>
                          <a:pt x="763" y="52"/>
                        </a:lnTo>
                        <a:lnTo>
                          <a:pt x="773" y="52"/>
                        </a:lnTo>
                        <a:lnTo>
                          <a:pt x="782" y="52"/>
                        </a:lnTo>
                        <a:lnTo>
                          <a:pt x="787" y="52"/>
                        </a:lnTo>
                        <a:lnTo>
                          <a:pt x="797" y="52"/>
                        </a:lnTo>
                        <a:lnTo>
                          <a:pt x="802" y="52"/>
                        </a:lnTo>
                        <a:lnTo>
                          <a:pt x="806" y="52"/>
                        </a:lnTo>
                        <a:lnTo>
                          <a:pt x="806" y="48"/>
                        </a:lnTo>
                        <a:lnTo>
                          <a:pt x="811" y="48"/>
                        </a:lnTo>
                        <a:lnTo>
                          <a:pt x="816" y="48"/>
                        </a:lnTo>
                        <a:lnTo>
                          <a:pt x="821" y="43"/>
                        </a:lnTo>
                        <a:lnTo>
                          <a:pt x="826" y="43"/>
                        </a:lnTo>
                        <a:lnTo>
                          <a:pt x="830" y="43"/>
                        </a:lnTo>
                        <a:lnTo>
                          <a:pt x="830" y="48"/>
                        </a:lnTo>
                        <a:lnTo>
                          <a:pt x="835" y="48"/>
                        </a:lnTo>
                        <a:lnTo>
                          <a:pt x="883" y="43"/>
                        </a:lnTo>
                        <a:lnTo>
                          <a:pt x="888" y="52"/>
                        </a:lnTo>
                        <a:lnTo>
                          <a:pt x="893" y="57"/>
                        </a:lnTo>
                        <a:lnTo>
                          <a:pt x="893" y="67"/>
                        </a:lnTo>
                        <a:lnTo>
                          <a:pt x="897" y="72"/>
                        </a:lnTo>
                        <a:lnTo>
                          <a:pt x="902" y="76"/>
                        </a:lnTo>
                        <a:lnTo>
                          <a:pt x="902" y="86"/>
                        </a:lnTo>
                        <a:lnTo>
                          <a:pt x="907" y="91"/>
                        </a:lnTo>
                        <a:lnTo>
                          <a:pt x="907" y="100"/>
                        </a:lnTo>
                        <a:lnTo>
                          <a:pt x="912" y="105"/>
                        </a:lnTo>
                        <a:lnTo>
                          <a:pt x="912" y="115"/>
                        </a:lnTo>
                        <a:lnTo>
                          <a:pt x="917" y="119"/>
                        </a:lnTo>
                        <a:lnTo>
                          <a:pt x="917" y="129"/>
                        </a:lnTo>
                        <a:lnTo>
                          <a:pt x="921" y="134"/>
                        </a:lnTo>
                        <a:lnTo>
                          <a:pt x="921" y="143"/>
                        </a:lnTo>
                        <a:lnTo>
                          <a:pt x="926" y="148"/>
                        </a:lnTo>
                        <a:lnTo>
                          <a:pt x="926" y="158"/>
                        </a:lnTo>
                        <a:lnTo>
                          <a:pt x="931" y="163"/>
                        </a:lnTo>
                        <a:lnTo>
                          <a:pt x="931" y="172"/>
                        </a:lnTo>
                        <a:lnTo>
                          <a:pt x="931" y="177"/>
                        </a:lnTo>
                        <a:lnTo>
                          <a:pt x="936" y="186"/>
                        </a:lnTo>
                        <a:lnTo>
                          <a:pt x="936" y="191"/>
                        </a:lnTo>
                        <a:lnTo>
                          <a:pt x="936" y="201"/>
                        </a:lnTo>
                        <a:lnTo>
                          <a:pt x="941" y="206"/>
                        </a:lnTo>
                        <a:lnTo>
                          <a:pt x="941" y="215"/>
                        </a:lnTo>
                        <a:lnTo>
                          <a:pt x="941" y="225"/>
                        </a:lnTo>
                        <a:lnTo>
                          <a:pt x="941" y="230"/>
                        </a:lnTo>
                        <a:lnTo>
                          <a:pt x="945" y="239"/>
                        </a:lnTo>
                        <a:lnTo>
                          <a:pt x="945" y="244"/>
                        </a:lnTo>
                        <a:lnTo>
                          <a:pt x="945" y="254"/>
                        </a:lnTo>
                        <a:lnTo>
                          <a:pt x="945" y="258"/>
                        </a:lnTo>
                        <a:lnTo>
                          <a:pt x="945" y="268"/>
                        </a:lnTo>
                        <a:lnTo>
                          <a:pt x="950" y="277"/>
                        </a:lnTo>
                        <a:lnTo>
                          <a:pt x="950" y="282"/>
                        </a:lnTo>
                        <a:lnTo>
                          <a:pt x="955" y="282"/>
                        </a:lnTo>
                        <a:lnTo>
                          <a:pt x="955" y="287"/>
                        </a:lnTo>
                        <a:lnTo>
                          <a:pt x="955" y="292"/>
                        </a:lnTo>
                        <a:lnTo>
                          <a:pt x="955" y="297"/>
                        </a:lnTo>
                        <a:lnTo>
                          <a:pt x="955" y="301"/>
                        </a:lnTo>
                        <a:lnTo>
                          <a:pt x="955" y="306"/>
                        </a:lnTo>
                        <a:lnTo>
                          <a:pt x="955" y="311"/>
                        </a:lnTo>
                        <a:lnTo>
                          <a:pt x="955" y="316"/>
                        </a:lnTo>
                        <a:lnTo>
                          <a:pt x="955" y="321"/>
                        </a:lnTo>
                        <a:lnTo>
                          <a:pt x="955" y="325"/>
                        </a:lnTo>
                        <a:lnTo>
                          <a:pt x="955" y="330"/>
                        </a:lnTo>
                        <a:lnTo>
                          <a:pt x="960" y="335"/>
                        </a:lnTo>
                        <a:lnTo>
                          <a:pt x="960" y="340"/>
                        </a:lnTo>
                        <a:lnTo>
                          <a:pt x="965" y="345"/>
                        </a:lnTo>
                        <a:lnTo>
                          <a:pt x="960" y="345"/>
                        </a:lnTo>
                        <a:lnTo>
                          <a:pt x="955" y="345"/>
                        </a:lnTo>
                        <a:lnTo>
                          <a:pt x="955" y="349"/>
                        </a:lnTo>
                        <a:lnTo>
                          <a:pt x="950" y="349"/>
                        </a:lnTo>
                        <a:lnTo>
                          <a:pt x="945" y="354"/>
                        </a:lnTo>
                        <a:lnTo>
                          <a:pt x="941" y="354"/>
                        </a:lnTo>
                        <a:lnTo>
                          <a:pt x="936" y="354"/>
                        </a:lnTo>
                        <a:lnTo>
                          <a:pt x="931" y="359"/>
                        </a:lnTo>
                        <a:lnTo>
                          <a:pt x="926" y="359"/>
                        </a:lnTo>
                        <a:lnTo>
                          <a:pt x="921" y="359"/>
                        </a:lnTo>
                        <a:lnTo>
                          <a:pt x="917" y="359"/>
                        </a:lnTo>
                        <a:lnTo>
                          <a:pt x="912" y="359"/>
                        </a:lnTo>
                        <a:lnTo>
                          <a:pt x="907" y="364"/>
                        </a:lnTo>
                        <a:lnTo>
                          <a:pt x="902" y="364"/>
                        </a:lnTo>
                        <a:lnTo>
                          <a:pt x="897" y="364"/>
                        </a:lnTo>
                        <a:lnTo>
                          <a:pt x="893" y="364"/>
                        </a:lnTo>
                        <a:lnTo>
                          <a:pt x="888" y="364"/>
                        </a:lnTo>
                        <a:lnTo>
                          <a:pt x="883" y="364"/>
                        </a:lnTo>
                        <a:lnTo>
                          <a:pt x="878" y="364"/>
                        </a:lnTo>
                        <a:lnTo>
                          <a:pt x="874" y="364"/>
                        </a:lnTo>
                        <a:lnTo>
                          <a:pt x="869" y="364"/>
                        </a:lnTo>
                        <a:lnTo>
                          <a:pt x="864" y="364"/>
                        </a:lnTo>
                        <a:lnTo>
                          <a:pt x="859" y="364"/>
                        </a:lnTo>
                        <a:lnTo>
                          <a:pt x="854" y="364"/>
                        </a:lnTo>
                        <a:lnTo>
                          <a:pt x="850" y="364"/>
                        </a:lnTo>
                        <a:lnTo>
                          <a:pt x="845" y="364"/>
                        </a:lnTo>
                        <a:lnTo>
                          <a:pt x="840" y="364"/>
                        </a:lnTo>
                        <a:lnTo>
                          <a:pt x="835" y="368"/>
                        </a:lnTo>
                        <a:lnTo>
                          <a:pt x="826" y="368"/>
                        </a:lnTo>
                        <a:lnTo>
                          <a:pt x="811" y="368"/>
                        </a:lnTo>
                        <a:lnTo>
                          <a:pt x="797" y="368"/>
                        </a:lnTo>
                        <a:lnTo>
                          <a:pt x="787" y="373"/>
                        </a:lnTo>
                        <a:lnTo>
                          <a:pt x="773" y="373"/>
                        </a:lnTo>
                        <a:lnTo>
                          <a:pt x="758" y="373"/>
                        </a:lnTo>
                        <a:lnTo>
                          <a:pt x="749" y="373"/>
                        </a:lnTo>
                        <a:lnTo>
                          <a:pt x="734" y="373"/>
                        </a:lnTo>
                        <a:lnTo>
                          <a:pt x="720" y="373"/>
                        </a:lnTo>
                        <a:lnTo>
                          <a:pt x="710" y="373"/>
                        </a:lnTo>
                        <a:lnTo>
                          <a:pt x="696" y="373"/>
                        </a:lnTo>
                        <a:lnTo>
                          <a:pt x="682" y="378"/>
                        </a:lnTo>
                        <a:lnTo>
                          <a:pt x="672" y="378"/>
                        </a:lnTo>
                        <a:lnTo>
                          <a:pt x="658" y="378"/>
                        </a:lnTo>
                        <a:lnTo>
                          <a:pt x="643" y="378"/>
                        </a:lnTo>
                        <a:lnTo>
                          <a:pt x="634" y="378"/>
                        </a:lnTo>
                        <a:lnTo>
                          <a:pt x="619" y="378"/>
                        </a:lnTo>
                        <a:lnTo>
                          <a:pt x="605" y="378"/>
                        </a:lnTo>
                        <a:lnTo>
                          <a:pt x="595" y="378"/>
                        </a:lnTo>
                        <a:lnTo>
                          <a:pt x="581" y="378"/>
                        </a:lnTo>
                        <a:lnTo>
                          <a:pt x="566" y="378"/>
                        </a:lnTo>
                        <a:lnTo>
                          <a:pt x="557" y="378"/>
                        </a:lnTo>
                        <a:lnTo>
                          <a:pt x="543" y="378"/>
                        </a:lnTo>
                        <a:lnTo>
                          <a:pt x="528" y="378"/>
                        </a:lnTo>
                        <a:lnTo>
                          <a:pt x="519" y="378"/>
                        </a:lnTo>
                        <a:lnTo>
                          <a:pt x="504" y="378"/>
                        </a:lnTo>
                        <a:lnTo>
                          <a:pt x="490" y="383"/>
                        </a:lnTo>
                        <a:lnTo>
                          <a:pt x="475" y="383"/>
                        </a:lnTo>
                        <a:lnTo>
                          <a:pt x="466" y="383"/>
                        </a:lnTo>
                        <a:lnTo>
                          <a:pt x="451" y="383"/>
                        </a:lnTo>
                        <a:lnTo>
                          <a:pt x="437" y="383"/>
                        </a:lnTo>
                        <a:lnTo>
                          <a:pt x="427" y="383"/>
                        </a:lnTo>
                        <a:lnTo>
                          <a:pt x="418" y="383"/>
                        </a:lnTo>
                        <a:lnTo>
                          <a:pt x="408" y="383"/>
                        </a:lnTo>
                        <a:lnTo>
                          <a:pt x="399" y="383"/>
                        </a:lnTo>
                        <a:lnTo>
                          <a:pt x="389" y="383"/>
                        </a:lnTo>
                        <a:lnTo>
                          <a:pt x="384" y="383"/>
                        </a:lnTo>
                        <a:lnTo>
                          <a:pt x="375" y="383"/>
                        </a:lnTo>
                        <a:lnTo>
                          <a:pt x="365" y="383"/>
                        </a:lnTo>
                        <a:lnTo>
                          <a:pt x="355" y="383"/>
                        </a:lnTo>
                        <a:lnTo>
                          <a:pt x="346" y="383"/>
                        </a:lnTo>
                        <a:lnTo>
                          <a:pt x="336" y="378"/>
                        </a:lnTo>
                        <a:lnTo>
                          <a:pt x="327" y="378"/>
                        </a:lnTo>
                        <a:lnTo>
                          <a:pt x="322" y="378"/>
                        </a:lnTo>
                        <a:lnTo>
                          <a:pt x="312" y="378"/>
                        </a:lnTo>
                        <a:lnTo>
                          <a:pt x="303" y="378"/>
                        </a:lnTo>
                        <a:lnTo>
                          <a:pt x="293" y="378"/>
                        </a:lnTo>
                        <a:lnTo>
                          <a:pt x="283" y="378"/>
                        </a:lnTo>
                        <a:lnTo>
                          <a:pt x="274" y="378"/>
                        </a:lnTo>
                        <a:lnTo>
                          <a:pt x="269" y="378"/>
                        </a:lnTo>
                        <a:lnTo>
                          <a:pt x="259" y="378"/>
                        </a:lnTo>
                        <a:lnTo>
                          <a:pt x="250" y="378"/>
                        </a:lnTo>
                        <a:lnTo>
                          <a:pt x="240" y="378"/>
                        </a:lnTo>
                        <a:lnTo>
                          <a:pt x="231" y="378"/>
                        </a:lnTo>
                        <a:lnTo>
                          <a:pt x="221" y="378"/>
                        </a:lnTo>
                        <a:lnTo>
                          <a:pt x="216" y="378"/>
                        </a:lnTo>
                        <a:lnTo>
                          <a:pt x="207" y="378"/>
                        </a:lnTo>
                        <a:lnTo>
                          <a:pt x="197" y="378"/>
                        </a:lnTo>
                        <a:lnTo>
                          <a:pt x="188" y="378"/>
                        </a:lnTo>
                        <a:lnTo>
                          <a:pt x="178" y="378"/>
                        </a:lnTo>
                        <a:lnTo>
                          <a:pt x="173" y="378"/>
                        </a:lnTo>
                        <a:lnTo>
                          <a:pt x="164" y="378"/>
                        </a:lnTo>
                        <a:lnTo>
                          <a:pt x="154" y="373"/>
                        </a:lnTo>
                        <a:lnTo>
                          <a:pt x="149" y="373"/>
                        </a:lnTo>
                        <a:lnTo>
                          <a:pt x="144" y="373"/>
                        </a:lnTo>
                        <a:lnTo>
                          <a:pt x="140" y="373"/>
                        </a:lnTo>
                        <a:lnTo>
                          <a:pt x="135" y="373"/>
                        </a:lnTo>
                        <a:lnTo>
                          <a:pt x="130" y="373"/>
                        </a:lnTo>
                        <a:lnTo>
                          <a:pt x="125" y="373"/>
                        </a:lnTo>
                        <a:lnTo>
                          <a:pt x="120" y="373"/>
                        </a:lnTo>
                        <a:lnTo>
                          <a:pt x="116" y="373"/>
                        </a:lnTo>
                        <a:lnTo>
                          <a:pt x="111" y="368"/>
                        </a:lnTo>
                        <a:lnTo>
                          <a:pt x="106" y="368"/>
                        </a:lnTo>
                        <a:lnTo>
                          <a:pt x="101" y="368"/>
                        </a:lnTo>
                        <a:lnTo>
                          <a:pt x="96" y="368"/>
                        </a:lnTo>
                        <a:lnTo>
                          <a:pt x="92" y="368"/>
                        </a:lnTo>
                        <a:lnTo>
                          <a:pt x="87" y="368"/>
                        </a:lnTo>
                        <a:lnTo>
                          <a:pt x="82" y="364"/>
                        </a:lnTo>
                        <a:lnTo>
                          <a:pt x="77" y="364"/>
                        </a:lnTo>
                        <a:lnTo>
                          <a:pt x="72" y="364"/>
                        </a:lnTo>
                        <a:lnTo>
                          <a:pt x="68" y="364"/>
                        </a:lnTo>
                        <a:lnTo>
                          <a:pt x="63" y="359"/>
                        </a:lnTo>
                        <a:lnTo>
                          <a:pt x="58" y="359"/>
                        </a:lnTo>
                        <a:lnTo>
                          <a:pt x="53" y="359"/>
                        </a:lnTo>
                        <a:lnTo>
                          <a:pt x="48" y="354"/>
                        </a:lnTo>
                        <a:lnTo>
                          <a:pt x="44" y="354"/>
                        </a:lnTo>
                        <a:lnTo>
                          <a:pt x="39" y="354"/>
                        </a:lnTo>
                        <a:lnTo>
                          <a:pt x="34" y="354"/>
                        </a:lnTo>
                        <a:lnTo>
                          <a:pt x="34" y="349"/>
                        </a:lnTo>
                        <a:lnTo>
                          <a:pt x="29" y="349"/>
                        </a:lnTo>
                        <a:lnTo>
                          <a:pt x="24" y="349"/>
                        </a:lnTo>
                        <a:lnTo>
                          <a:pt x="24" y="345"/>
                        </a:lnTo>
                        <a:lnTo>
                          <a:pt x="20" y="345"/>
                        </a:lnTo>
                        <a:lnTo>
                          <a:pt x="20" y="340"/>
                        </a:lnTo>
                        <a:lnTo>
                          <a:pt x="15" y="340"/>
                        </a:lnTo>
                        <a:lnTo>
                          <a:pt x="15" y="335"/>
                        </a:lnTo>
                        <a:lnTo>
                          <a:pt x="10" y="335"/>
                        </a:lnTo>
                        <a:lnTo>
                          <a:pt x="10" y="330"/>
                        </a:lnTo>
                        <a:lnTo>
                          <a:pt x="5" y="330"/>
                        </a:lnTo>
                        <a:lnTo>
                          <a:pt x="5" y="325"/>
                        </a:lnTo>
                        <a:lnTo>
                          <a:pt x="0" y="321"/>
                        </a:lnTo>
                        <a:lnTo>
                          <a:pt x="0" y="316"/>
                        </a:lnTo>
                        <a:lnTo>
                          <a:pt x="10" y="306"/>
                        </a:lnTo>
                        <a:lnTo>
                          <a:pt x="15" y="297"/>
                        </a:lnTo>
                        <a:lnTo>
                          <a:pt x="24" y="282"/>
                        </a:lnTo>
                        <a:lnTo>
                          <a:pt x="34" y="273"/>
                        </a:lnTo>
                        <a:lnTo>
                          <a:pt x="39" y="263"/>
                        </a:lnTo>
                        <a:lnTo>
                          <a:pt x="48" y="249"/>
                        </a:lnTo>
                        <a:lnTo>
                          <a:pt x="58" y="239"/>
                        </a:lnTo>
                        <a:lnTo>
                          <a:pt x="68" y="230"/>
                        </a:lnTo>
                        <a:lnTo>
                          <a:pt x="77" y="220"/>
                        </a:lnTo>
                        <a:lnTo>
                          <a:pt x="87" y="210"/>
                        </a:lnTo>
                        <a:lnTo>
                          <a:pt x="96" y="201"/>
                        </a:lnTo>
                        <a:lnTo>
                          <a:pt x="106" y="191"/>
                        </a:lnTo>
                        <a:lnTo>
                          <a:pt x="116" y="182"/>
                        </a:lnTo>
                        <a:lnTo>
                          <a:pt x="130" y="172"/>
                        </a:lnTo>
                        <a:lnTo>
                          <a:pt x="140" y="167"/>
                        </a:lnTo>
                        <a:lnTo>
                          <a:pt x="149" y="158"/>
                        </a:lnTo>
                        <a:lnTo>
                          <a:pt x="164" y="148"/>
                        </a:lnTo>
                        <a:lnTo>
                          <a:pt x="173" y="139"/>
                        </a:lnTo>
                        <a:lnTo>
                          <a:pt x="183" y="134"/>
                        </a:lnTo>
                        <a:lnTo>
                          <a:pt x="197" y="124"/>
                        </a:lnTo>
                        <a:lnTo>
                          <a:pt x="207" y="119"/>
                        </a:lnTo>
                        <a:lnTo>
                          <a:pt x="221" y="110"/>
                        </a:lnTo>
                        <a:lnTo>
                          <a:pt x="231" y="105"/>
                        </a:lnTo>
                        <a:lnTo>
                          <a:pt x="245" y="96"/>
                        </a:lnTo>
                        <a:lnTo>
                          <a:pt x="255" y="91"/>
                        </a:lnTo>
                        <a:lnTo>
                          <a:pt x="269" y="81"/>
                        </a:lnTo>
                        <a:lnTo>
                          <a:pt x="283" y="76"/>
                        </a:lnTo>
                        <a:lnTo>
                          <a:pt x="293" y="72"/>
                        </a:lnTo>
                        <a:lnTo>
                          <a:pt x="307" y="62"/>
                        </a:lnTo>
                        <a:lnTo>
                          <a:pt x="317" y="57"/>
                        </a:lnTo>
                        <a:lnTo>
                          <a:pt x="331" y="52"/>
                        </a:lnTo>
                        <a:lnTo>
                          <a:pt x="341" y="48"/>
                        </a:lnTo>
                        <a:lnTo>
                          <a:pt x="346" y="48"/>
                        </a:lnTo>
                        <a:lnTo>
                          <a:pt x="351" y="48"/>
                        </a:lnTo>
                        <a:lnTo>
                          <a:pt x="355" y="43"/>
                        </a:lnTo>
                        <a:lnTo>
                          <a:pt x="360" y="43"/>
                        </a:lnTo>
                        <a:lnTo>
                          <a:pt x="365" y="43"/>
                        </a:lnTo>
                        <a:lnTo>
                          <a:pt x="370" y="38"/>
                        </a:lnTo>
                        <a:lnTo>
                          <a:pt x="375" y="38"/>
                        </a:lnTo>
                        <a:lnTo>
                          <a:pt x="379" y="38"/>
                        </a:lnTo>
                        <a:lnTo>
                          <a:pt x="384" y="33"/>
                        </a:lnTo>
                        <a:lnTo>
                          <a:pt x="389" y="33"/>
                        </a:lnTo>
                        <a:lnTo>
                          <a:pt x="394" y="28"/>
                        </a:lnTo>
                        <a:lnTo>
                          <a:pt x="399" y="28"/>
                        </a:lnTo>
                        <a:lnTo>
                          <a:pt x="399" y="24"/>
                        </a:lnTo>
                        <a:lnTo>
                          <a:pt x="403" y="24"/>
                        </a:lnTo>
                        <a:lnTo>
                          <a:pt x="408" y="24"/>
                        </a:lnTo>
                        <a:lnTo>
                          <a:pt x="408" y="19"/>
                        </a:lnTo>
                        <a:lnTo>
                          <a:pt x="413" y="19"/>
                        </a:lnTo>
                        <a:lnTo>
                          <a:pt x="418" y="19"/>
                        </a:lnTo>
                        <a:lnTo>
                          <a:pt x="423" y="14"/>
                        </a:lnTo>
                        <a:lnTo>
                          <a:pt x="427" y="14"/>
                        </a:lnTo>
                        <a:lnTo>
                          <a:pt x="432" y="9"/>
                        </a:lnTo>
                        <a:lnTo>
                          <a:pt x="437" y="5"/>
                        </a:lnTo>
                        <a:lnTo>
                          <a:pt x="442" y="5"/>
                        </a:lnTo>
                        <a:lnTo>
                          <a:pt x="447" y="5"/>
                        </a:lnTo>
                        <a:lnTo>
                          <a:pt x="451" y="0"/>
                        </a:lnTo>
                        <a:lnTo>
                          <a:pt x="456" y="0"/>
                        </a:lnTo>
                        <a:lnTo>
                          <a:pt x="461" y="0"/>
                        </a:lnTo>
                        <a:lnTo>
                          <a:pt x="461" y="5"/>
                        </a:lnTo>
                        <a:lnTo>
                          <a:pt x="466" y="5"/>
                        </a:lnTo>
                        <a:lnTo>
                          <a:pt x="466" y="9"/>
                        </a:lnTo>
                        <a:lnTo>
                          <a:pt x="471" y="9"/>
                        </a:lnTo>
                        <a:lnTo>
                          <a:pt x="471" y="14"/>
                        </a:lnTo>
                        <a:lnTo>
                          <a:pt x="475" y="14"/>
                        </a:lnTo>
                        <a:lnTo>
                          <a:pt x="475" y="19"/>
                        </a:lnTo>
                        <a:lnTo>
                          <a:pt x="480" y="19"/>
                        </a:lnTo>
                        <a:lnTo>
                          <a:pt x="480" y="24"/>
                        </a:lnTo>
                        <a:lnTo>
                          <a:pt x="485" y="24"/>
                        </a:lnTo>
                        <a:lnTo>
                          <a:pt x="490" y="28"/>
                        </a:lnTo>
                        <a:lnTo>
                          <a:pt x="495" y="33"/>
                        </a:lnTo>
                        <a:lnTo>
                          <a:pt x="499" y="33"/>
                        </a:lnTo>
                        <a:lnTo>
                          <a:pt x="499" y="38"/>
                        </a:lnTo>
                        <a:lnTo>
                          <a:pt x="504" y="38"/>
                        </a:lnTo>
                        <a:lnTo>
                          <a:pt x="509" y="38"/>
                        </a:lnTo>
                        <a:lnTo>
                          <a:pt x="514" y="38"/>
                        </a:lnTo>
                        <a:close/>
                      </a:path>
                    </a:pathLst>
                  </a:custGeom>
                  <a:solidFill>
                    <a:srgbClr val="99ba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840" bIns="15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1" name=""/>
                  <p:cNvSpPr/>
                  <p:nvPr/>
                </p:nvSpPr>
                <p:spPr>
                  <a:xfrm flipH="1">
                    <a:off x="4203720" y="4992120"/>
                    <a:ext cx="109800" cy="72000"/>
                  </a:xfrm>
                  <a:custGeom>
                    <a:avLst/>
                    <a:gdLst/>
                    <a:ahLst/>
                    <a:rect l="l" t="t" r="r" b="b"/>
                    <a:pathLst>
                      <a:path w="648" h="440">
                        <a:moveTo>
                          <a:pt x="624" y="244"/>
                        </a:moveTo>
                        <a:lnTo>
                          <a:pt x="628" y="249"/>
                        </a:lnTo>
                        <a:lnTo>
                          <a:pt x="628" y="253"/>
                        </a:lnTo>
                        <a:lnTo>
                          <a:pt x="633" y="258"/>
                        </a:lnTo>
                        <a:lnTo>
                          <a:pt x="633" y="263"/>
                        </a:lnTo>
                        <a:lnTo>
                          <a:pt x="633" y="268"/>
                        </a:lnTo>
                        <a:lnTo>
                          <a:pt x="638" y="273"/>
                        </a:lnTo>
                        <a:lnTo>
                          <a:pt x="638" y="277"/>
                        </a:lnTo>
                        <a:lnTo>
                          <a:pt x="638" y="282"/>
                        </a:lnTo>
                        <a:lnTo>
                          <a:pt x="638" y="287"/>
                        </a:lnTo>
                        <a:lnTo>
                          <a:pt x="638" y="292"/>
                        </a:lnTo>
                        <a:lnTo>
                          <a:pt x="643" y="296"/>
                        </a:lnTo>
                        <a:lnTo>
                          <a:pt x="643" y="301"/>
                        </a:lnTo>
                        <a:lnTo>
                          <a:pt x="643" y="306"/>
                        </a:lnTo>
                        <a:lnTo>
                          <a:pt x="643" y="311"/>
                        </a:lnTo>
                        <a:lnTo>
                          <a:pt x="643" y="316"/>
                        </a:lnTo>
                        <a:lnTo>
                          <a:pt x="643" y="320"/>
                        </a:lnTo>
                        <a:lnTo>
                          <a:pt x="643" y="325"/>
                        </a:lnTo>
                        <a:lnTo>
                          <a:pt x="648" y="330"/>
                        </a:lnTo>
                        <a:lnTo>
                          <a:pt x="648" y="335"/>
                        </a:lnTo>
                        <a:lnTo>
                          <a:pt x="648" y="340"/>
                        </a:lnTo>
                        <a:lnTo>
                          <a:pt x="648" y="344"/>
                        </a:lnTo>
                        <a:lnTo>
                          <a:pt x="648" y="349"/>
                        </a:lnTo>
                        <a:lnTo>
                          <a:pt x="648" y="354"/>
                        </a:lnTo>
                        <a:lnTo>
                          <a:pt x="648" y="359"/>
                        </a:lnTo>
                        <a:lnTo>
                          <a:pt x="648" y="363"/>
                        </a:lnTo>
                        <a:lnTo>
                          <a:pt x="648" y="368"/>
                        </a:lnTo>
                        <a:lnTo>
                          <a:pt x="648" y="373"/>
                        </a:lnTo>
                        <a:lnTo>
                          <a:pt x="643" y="373"/>
                        </a:lnTo>
                        <a:lnTo>
                          <a:pt x="643" y="378"/>
                        </a:lnTo>
                        <a:lnTo>
                          <a:pt x="643" y="383"/>
                        </a:lnTo>
                        <a:lnTo>
                          <a:pt x="638" y="383"/>
                        </a:lnTo>
                        <a:lnTo>
                          <a:pt x="638" y="387"/>
                        </a:lnTo>
                        <a:lnTo>
                          <a:pt x="633" y="392"/>
                        </a:lnTo>
                        <a:lnTo>
                          <a:pt x="628" y="392"/>
                        </a:lnTo>
                        <a:lnTo>
                          <a:pt x="628" y="397"/>
                        </a:lnTo>
                        <a:lnTo>
                          <a:pt x="624" y="402"/>
                        </a:lnTo>
                        <a:lnTo>
                          <a:pt x="619" y="402"/>
                        </a:lnTo>
                        <a:lnTo>
                          <a:pt x="619" y="407"/>
                        </a:lnTo>
                        <a:lnTo>
                          <a:pt x="614" y="407"/>
                        </a:lnTo>
                        <a:lnTo>
                          <a:pt x="609" y="411"/>
                        </a:lnTo>
                        <a:lnTo>
                          <a:pt x="604" y="411"/>
                        </a:lnTo>
                        <a:lnTo>
                          <a:pt x="600" y="411"/>
                        </a:lnTo>
                        <a:lnTo>
                          <a:pt x="600" y="416"/>
                        </a:lnTo>
                        <a:lnTo>
                          <a:pt x="595" y="416"/>
                        </a:lnTo>
                        <a:lnTo>
                          <a:pt x="590" y="416"/>
                        </a:lnTo>
                        <a:lnTo>
                          <a:pt x="585" y="416"/>
                        </a:lnTo>
                        <a:lnTo>
                          <a:pt x="580" y="421"/>
                        </a:lnTo>
                        <a:lnTo>
                          <a:pt x="571" y="421"/>
                        </a:lnTo>
                        <a:lnTo>
                          <a:pt x="556" y="426"/>
                        </a:lnTo>
                        <a:lnTo>
                          <a:pt x="542" y="426"/>
                        </a:lnTo>
                        <a:lnTo>
                          <a:pt x="532" y="431"/>
                        </a:lnTo>
                        <a:lnTo>
                          <a:pt x="518" y="431"/>
                        </a:lnTo>
                        <a:lnTo>
                          <a:pt x="504" y="435"/>
                        </a:lnTo>
                        <a:lnTo>
                          <a:pt x="494" y="435"/>
                        </a:lnTo>
                        <a:lnTo>
                          <a:pt x="480" y="435"/>
                        </a:lnTo>
                        <a:lnTo>
                          <a:pt x="465" y="440"/>
                        </a:lnTo>
                        <a:lnTo>
                          <a:pt x="451" y="440"/>
                        </a:lnTo>
                        <a:lnTo>
                          <a:pt x="437" y="440"/>
                        </a:lnTo>
                        <a:lnTo>
                          <a:pt x="427" y="440"/>
                        </a:lnTo>
                        <a:lnTo>
                          <a:pt x="413" y="440"/>
                        </a:lnTo>
                        <a:lnTo>
                          <a:pt x="398" y="440"/>
                        </a:lnTo>
                        <a:lnTo>
                          <a:pt x="384" y="440"/>
                        </a:lnTo>
                        <a:lnTo>
                          <a:pt x="369" y="440"/>
                        </a:lnTo>
                        <a:lnTo>
                          <a:pt x="355" y="440"/>
                        </a:lnTo>
                        <a:lnTo>
                          <a:pt x="341" y="440"/>
                        </a:lnTo>
                        <a:lnTo>
                          <a:pt x="326" y="440"/>
                        </a:lnTo>
                        <a:lnTo>
                          <a:pt x="317" y="440"/>
                        </a:lnTo>
                        <a:lnTo>
                          <a:pt x="302" y="440"/>
                        </a:lnTo>
                        <a:lnTo>
                          <a:pt x="288" y="440"/>
                        </a:lnTo>
                        <a:lnTo>
                          <a:pt x="273" y="435"/>
                        </a:lnTo>
                        <a:lnTo>
                          <a:pt x="259" y="435"/>
                        </a:lnTo>
                        <a:lnTo>
                          <a:pt x="245" y="435"/>
                        </a:lnTo>
                        <a:lnTo>
                          <a:pt x="230" y="435"/>
                        </a:lnTo>
                        <a:lnTo>
                          <a:pt x="216" y="431"/>
                        </a:lnTo>
                        <a:lnTo>
                          <a:pt x="206" y="431"/>
                        </a:lnTo>
                        <a:lnTo>
                          <a:pt x="192" y="426"/>
                        </a:lnTo>
                        <a:lnTo>
                          <a:pt x="177" y="426"/>
                        </a:lnTo>
                        <a:lnTo>
                          <a:pt x="163" y="426"/>
                        </a:lnTo>
                        <a:lnTo>
                          <a:pt x="149" y="421"/>
                        </a:lnTo>
                        <a:lnTo>
                          <a:pt x="144" y="421"/>
                        </a:lnTo>
                        <a:lnTo>
                          <a:pt x="139" y="421"/>
                        </a:lnTo>
                        <a:lnTo>
                          <a:pt x="134" y="421"/>
                        </a:lnTo>
                        <a:lnTo>
                          <a:pt x="130" y="421"/>
                        </a:lnTo>
                        <a:lnTo>
                          <a:pt x="125" y="421"/>
                        </a:lnTo>
                        <a:lnTo>
                          <a:pt x="120" y="421"/>
                        </a:lnTo>
                        <a:lnTo>
                          <a:pt x="115" y="421"/>
                        </a:lnTo>
                        <a:lnTo>
                          <a:pt x="110" y="416"/>
                        </a:lnTo>
                        <a:lnTo>
                          <a:pt x="101" y="416"/>
                        </a:lnTo>
                        <a:lnTo>
                          <a:pt x="96" y="416"/>
                        </a:lnTo>
                        <a:lnTo>
                          <a:pt x="91" y="416"/>
                        </a:lnTo>
                        <a:lnTo>
                          <a:pt x="86" y="416"/>
                        </a:lnTo>
                        <a:lnTo>
                          <a:pt x="82" y="416"/>
                        </a:lnTo>
                        <a:lnTo>
                          <a:pt x="77" y="411"/>
                        </a:lnTo>
                        <a:lnTo>
                          <a:pt x="72" y="411"/>
                        </a:lnTo>
                        <a:lnTo>
                          <a:pt x="67" y="411"/>
                        </a:lnTo>
                        <a:lnTo>
                          <a:pt x="62" y="407"/>
                        </a:lnTo>
                        <a:lnTo>
                          <a:pt x="58" y="407"/>
                        </a:lnTo>
                        <a:lnTo>
                          <a:pt x="53" y="407"/>
                        </a:lnTo>
                        <a:lnTo>
                          <a:pt x="48" y="402"/>
                        </a:lnTo>
                        <a:lnTo>
                          <a:pt x="43" y="402"/>
                        </a:lnTo>
                        <a:lnTo>
                          <a:pt x="38" y="397"/>
                        </a:lnTo>
                        <a:lnTo>
                          <a:pt x="34" y="397"/>
                        </a:lnTo>
                        <a:lnTo>
                          <a:pt x="34" y="392"/>
                        </a:lnTo>
                        <a:lnTo>
                          <a:pt x="29" y="392"/>
                        </a:lnTo>
                        <a:lnTo>
                          <a:pt x="24" y="387"/>
                        </a:lnTo>
                        <a:lnTo>
                          <a:pt x="19" y="383"/>
                        </a:lnTo>
                        <a:lnTo>
                          <a:pt x="14" y="378"/>
                        </a:lnTo>
                        <a:lnTo>
                          <a:pt x="10" y="373"/>
                        </a:lnTo>
                        <a:lnTo>
                          <a:pt x="10" y="368"/>
                        </a:lnTo>
                        <a:lnTo>
                          <a:pt x="5" y="363"/>
                        </a:lnTo>
                        <a:lnTo>
                          <a:pt x="5" y="359"/>
                        </a:lnTo>
                        <a:lnTo>
                          <a:pt x="0" y="349"/>
                        </a:lnTo>
                        <a:lnTo>
                          <a:pt x="0" y="344"/>
                        </a:lnTo>
                        <a:lnTo>
                          <a:pt x="0" y="340"/>
                        </a:lnTo>
                        <a:lnTo>
                          <a:pt x="0" y="335"/>
                        </a:lnTo>
                        <a:lnTo>
                          <a:pt x="0" y="325"/>
                        </a:lnTo>
                        <a:lnTo>
                          <a:pt x="0" y="320"/>
                        </a:lnTo>
                        <a:lnTo>
                          <a:pt x="0" y="316"/>
                        </a:lnTo>
                        <a:lnTo>
                          <a:pt x="0" y="311"/>
                        </a:lnTo>
                        <a:lnTo>
                          <a:pt x="0" y="301"/>
                        </a:lnTo>
                        <a:lnTo>
                          <a:pt x="0" y="296"/>
                        </a:lnTo>
                        <a:lnTo>
                          <a:pt x="0" y="292"/>
                        </a:lnTo>
                        <a:lnTo>
                          <a:pt x="0" y="287"/>
                        </a:lnTo>
                        <a:lnTo>
                          <a:pt x="5" y="277"/>
                        </a:lnTo>
                        <a:lnTo>
                          <a:pt x="5" y="273"/>
                        </a:lnTo>
                        <a:lnTo>
                          <a:pt x="5" y="268"/>
                        </a:lnTo>
                        <a:lnTo>
                          <a:pt x="5" y="263"/>
                        </a:lnTo>
                        <a:lnTo>
                          <a:pt x="10" y="258"/>
                        </a:lnTo>
                        <a:lnTo>
                          <a:pt x="10" y="249"/>
                        </a:lnTo>
                        <a:lnTo>
                          <a:pt x="10" y="244"/>
                        </a:lnTo>
                        <a:lnTo>
                          <a:pt x="14" y="239"/>
                        </a:lnTo>
                        <a:lnTo>
                          <a:pt x="14" y="234"/>
                        </a:lnTo>
                        <a:lnTo>
                          <a:pt x="19" y="229"/>
                        </a:lnTo>
                        <a:lnTo>
                          <a:pt x="19" y="220"/>
                        </a:lnTo>
                        <a:lnTo>
                          <a:pt x="24" y="215"/>
                        </a:lnTo>
                        <a:lnTo>
                          <a:pt x="24" y="210"/>
                        </a:lnTo>
                        <a:lnTo>
                          <a:pt x="29" y="205"/>
                        </a:lnTo>
                        <a:lnTo>
                          <a:pt x="29" y="201"/>
                        </a:lnTo>
                        <a:lnTo>
                          <a:pt x="34" y="196"/>
                        </a:lnTo>
                        <a:lnTo>
                          <a:pt x="34" y="191"/>
                        </a:lnTo>
                        <a:lnTo>
                          <a:pt x="38" y="182"/>
                        </a:lnTo>
                        <a:lnTo>
                          <a:pt x="38" y="177"/>
                        </a:lnTo>
                        <a:lnTo>
                          <a:pt x="38" y="172"/>
                        </a:lnTo>
                        <a:lnTo>
                          <a:pt x="43" y="167"/>
                        </a:lnTo>
                        <a:lnTo>
                          <a:pt x="43" y="162"/>
                        </a:lnTo>
                        <a:lnTo>
                          <a:pt x="43" y="158"/>
                        </a:lnTo>
                        <a:lnTo>
                          <a:pt x="48" y="153"/>
                        </a:lnTo>
                        <a:lnTo>
                          <a:pt x="48" y="148"/>
                        </a:lnTo>
                        <a:lnTo>
                          <a:pt x="48" y="143"/>
                        </a:lnTo>
                        <a:lnTo>
                          <a:pt x="53" y="138"/>
                        </a:lnTo>
                        <a:lnTo>
                          <a:pt x="53" y="134"/>
                        </a:lnTo>
                        <a:lnTo>
                          <a:pt x="58" y="129"/>
                        </a:lnTo>
                        <a:lnTo>
                          <a:pt x="62" y="124"/>
                        </a:lnTo>
                        <a:lnTo>
                          <a:pt x="62" y="119"/>
                        </a:lnTo>
                        <a:lnTo>
                          <a:pt x="67" y="114"/>
                        </a:lnTo>
                        <a:lnTo>
                          <a:pt x="67" y="110"/>
                        </a:lnTo>
                        <a:lnTo>
                          <a:pt x="72" y="110"/>
                        </a:lnTo>
                        <a:lnTo>
                          <a:pt x="77" y="105"/>
                        </a:lnTo>
                        <a:lnTo>
                          <a:pt x="77" y="100"/>
                        </a:lnTo>
                        <a:lnTo>
                          <a:pt x="82" y="95"/>
                        </a:lnTo>
                        <a:lnTo>
                          <a:pt x="86" y="91"/>
                        </a:lnTo>
                        <a:lnTo>
                          <a:pt x="91" y="86"/>
                        </a:lnTo>
                        <a:lnTo>
                          <a:pt x="96" y="81"/>
                        </a:lnTo>
                        <a:lnTo>
                          <a:pt x="96" y="76"/>
                        </a:lnTo>
                        <a:lnTo>
                          <a:pt x="101" y="76"/>
                        </a:lnTo>
                        <a:lnTo>
                          <a:pt x="106" y="71"/>
                        </a:lnTo>
                        <a:lnTo>
                          <a:pt x="110" y="67"/>
                        </a:lnTo>
                        <a:lnTo>
                          <a:pt x="115" y="62"/>
                        </a:lnTo>
                        <a:lnTo>
                          <a:pt x="120" y="57"/>
                        </a:lnTo>
                        <a:lnTo>
                          <a:pt x="125" y="52"/>
                        </a:lnTo>
                        <a:lnTo>
                          <a:pt x="130" y="47"/>
                        </a:lnTo>
                        <a:lnTo>
                          <a:pt x="139" y="43"/>
                        </a:lnTo>
                        <a:lnTo>
                          <a:pt x="144" y="38"/>
                        </a:lnTo>
                        <a:lnTo>
                          <a:pt x="153" y="33"/>
                        </a:lnTo>
                        <a:lnTo>
                          <a:pt x="163" y="28"/>
                        </a:lnTo>
                        <a:lnTo>
                          <a:pt x="168" y="24"/>
                        </a:lnTo>
                        <a:lnTo>
                          <a:pt x="177" y="19"/>
                        </a:lnTo>
                        <a:lnTo>
                          <a:pt x="187" y="14"/>
                        </a:lnTo>
                        <a:lnTo>
                          <a:pt x="197" y="14"/>
                        </a:lnTo>
                        <a:lnTo>
                          <a:pt x="206" y="9"/>
                        </a:lnTo>
                        <a:lnTo>
                          <a:pt x="211" y="9"/>
                        </a:lnTo>
                        <a:lnTo>
                          <a:pt x="221" y="4"/>
                        </a:lnTo>
                        <a:lnTo>
                          <a:pt x="230" y="4"/>
                        </a:lnTo>
                        <a:lnTo>
                          <a:pt x="240" y="4"/>
                        </a:lnTo>
                        <a:lnTo>
                          <a:pt x="249" y="0"/>
                        </a:lnTo>
                        <a:lnTo>
                          <a:pt x="259" y="0"/>
                        </a:lnTo>
                        <a:lnTo>
                          <a:pt x="269" y="0"/>
                        </a:lnTo>
                        <a:lnTo>
                          <a:pt x="278" y="0"/>
                        </a:lnTo>
                        <a:lnTo>
                          <a:pt x="288" y="0"/>
                        </a:lnTo>
                        <a:lnTo>
                          <a:pt x="297" y="0"/>
                        </a:lnTo>
                        <a:lnTo>
                          <a:pt x="307" y="0"/>
                        </a:lnTo>
                        <a:lnTo>
                          <a:pt x="317" y="4"/>
                        </a:lnTo>
                        <a:lnTo>
                          <a:pt x="326" y="4"/>
                        </a:lnTo>
                        <a:lnTo>
                          <a:pt x="336" y="4"/>
                        </a:lnTo>
                        <a:lnTo>
                          <a:pt x="345" y="9"/>
                        </a:lnTo>
                        <a:lnTo>
                          <a:pt x="355" y="9"/>
                        </a:lnTo>
                        <a:lnTo>
                          <a:pt x="365" y="14"/>
                        </a:lnTo>
                        <a:lnTo>
                          <a:pt x="369" y="14"/>
                        </a:lnTo>
                        <a:lnTo>
                          <a:pt x="379" y="19"/>
                        </a:lnTo>
                        <a:lnTo>
                          <a:pt x="389" y="24"/>
                        </a:lnTo>
                        <a:lnTo>
                          <a:pt x="398" y="28"/>
                        </a:lnTo>
                        <a:lnTo>
                          <a:pt x="408" y="28"/>
                        </a:lnTo>
                        <a:lnTo>
                          <a:pt x="417" y="33"/>
                        </a:lnTo>
                        <a:lnTo>
                          <a:pt x="422" y="38"/>
                        </a:lnTo>
                        <a:lnTo>
                          <a:pt x="432" y="38"/>
                        </a:lnTo>
                        <a:lnTo>
                          <a:pt x="441" y="43"/>
                        </a:lnTo>
                        <a:lnTo>
                          <a:pt x="451" y="47"/>
                        </a:lnTo>
                        <a:lnTo>
                          <a:pt x="460" y="52"/>
                        </a:lnTo>
                        <a:lnTo>
                          <a:pt x="465" y="57"/>
                        </a:lnTo>
                        <a:lnTo>
                          <a:pt x="475" y="62"/>
                        </a:lnTo>
                        <a:lnTo>
                          <a:pt x="484" y="71"/>
                        </a:lnTo>
                        <a:lnTo>
                          <a:pt x="489" y="76"/>
                        </a:lnTo>
                        <a:lnTo>
                          <a:pt x="499" y="81"/>
                        </a:lnTo>
                        <a:lnTo>
                          <a:pt x="508" y="86"/>
                        </a:lnTo>
                        <a:lnTo>
                          <a:pt x="513" y="95"/>
                        </a:lnTo>
                        <a:lnTo>
                          <a:pt x="523" y="100"/>
                        </a:lnTo>
                        <a:lnTo>
                          <a:pt x="528" y="110"/>
                        </a:lnTo>
                        <a:lnTo>
                          <a:pt x="537" y="114"/>
                        </a:lnTo>
                        <a:lnTo>
                          <a:pt x="542" y="124"/>
                        </a:lnTo>
                        <a:lnTo>
                          <a:pt x="547" y="129"/>
                        </a:lnTo>
                        <a:lnTo>
                          <a:pt x="556" y="138"/>
                        </a:lnTo>
                        <a:lnTo>
                          <a:pt x="561" y="148"/>
                        </a:lnTo>
                        <a:lnTo>
                          <a:pt x="566" y="153"/>
                        </a:lnTo>
                        <a:lnTo>
                          <a:pt x="576" y="162"/>
                        </a:lnTo>
                        <a:lnTo>
                          <a:pt x="580" y="172"/>
                        </a:lnTo>
                        <a:lnTo>
                          <a:pt x="585" y="182"/>
                        </a:lnTo>
                        <a:lnTo>
                          <a:pt x="590" y="186"/>
                        </a:lnTo>
                        <a:lnTo>
                          <a:pt x="595" y="196"/>
                        </a:lnTo>
                        <a:lnTo>
                          <a:pt x="600" y="205"/>
                        </a:lnTo>
                        <a:lnTo>
                          <a:pt x="609" y="210"/>
                        </a:lnTo>
                        <a:lnTo>
                          <a:pt x="614" y="220"/>
                        </a:lnTo>
                        <a:lnTo>
                          <a:pt x="619" y="229"/>
                        </a:lnTo>
                        <a:lnTo>
                          <a:pt x="624" y="239"/>
                        </a:lnTo>
                        <a:lnTo>
                          <a:pt x="624" y="244"/>
                        </a:lnTo>
                        <a:close/>
                      </a:path>
                    </a:pathLst>
                  </a:custGeom>
                  <a:solidFill>
                    <a:srgbClr val="99ba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792" name="" descr=""/>
                <p:cNvPicPr/>
                <p:nvPr/>
              </p:nvPicPr>
              <p:blipFill>
                <a:blip r:embed="rId8"/>
                <a:stretch/>
              </p:blipFill>
              <p:spPr>
                <a:xfrm flipH="1">
                  <a:off x="4500000" y="2637720"/>
                  <a:ext cx="771480" cy="912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9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2250000" y="7203960"/>
                  <a:ext cx="964080" cy="9129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94" name="" descr=""/>
                <p:cNvPicPr/>
                <p:nvPr/>
              </p:nvPicPr>
              <p:blipFill>
                <a:blip r:embed="rId10"/>
                <a:stretch/>
              </p:blipFill>
              <p:spPr>
                <a:xfrm flipH="1">
                  <a:off x="3106800" y="5783400"/>
                  <a:ext cx="857160" cy="811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5" name=""/>
                <p:cNvSpPr/>
                <p:nvPr/>
              </p:nvSpPr>
              <p:spPr>
                <a:xfrm flipH="1">
                  <a:off x="3213720" y="304200"/>
                  <a:ext cx="1408680" cy="811440"/>
                </a:xfrm>
                <a:prstGeom prst="wedgeEllipseCallout">
                  <a:avLst>
                    <a:gd name="adj1" fmla="val -89476"/>
                    <a:gd name="adj2" fmla="val 7000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ffff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1200" spc="-1" strike="noStrike">
                      <a:solidFill>
                        <a:srgbClr val="000000"/>
                      </a:solidFill>
                      <a:latin typeface="Times New Roman"/>
                    </a:rPr>
                    <a:t>.......................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6" name=""/>
                <p:cNvSpPr/>
                <p:nvPr/>
              </p:nvSpPr>
              <p:spPr>
                <a:xfrm>
                  <a:off x="5250600" y="2028960"/>
                  <a:ext cx="642600" cy="5072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1200" spc="-1" strike="noStrike">
                      <a:solidFill>
                        <a:srgbClr val="000000"/>
                      </a:solidFill>
                      <a:latin typeface="Times New Roman"/>
                    </a:rPr>
                    <a:t>...........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7" name=""/>
                <p:cNvSpPr/>
                <p:nvPr/>
              </p:nvSpPr>
              <p:spPr>
                <a:xfrm>
                  <a:off x="4500360" y="3551040"/>
                  <a:ext cx="642960" cy="5072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1200" spc="-1" strike="noStrike">
                      <a:solidFill>
                        <a:srgbClr val="000000"/>
                      </a:solidFill>
                      <a:latin typeface="Times New Roman"/>
                    </a:rPr>
                    <a:t>...........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8" name=""/>
                <p:cNvSpPr/>
                <p:nvPr/>
              </p:nvSpPr>
              <p:spPr>
                <a:xfrm>
                  <a:off x="3857400" y="5073120"/>
                  <a:ext cx="642600" cy="5072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1200" spc="-1" strike="noStrike">
                      <a:solidFill>
                        <a:srgbClr val="000000"/>
                      </a:solidFill>
                      <a:latin typeface="Times New Roman"/>
                    </a:rPr>
                    <a:t>...........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9" name=""/>
                <p:cNvSpPr/>
                <p:nvPr/>
              </p:nvSpPr>
              <p:spPr>
                <a:xfrm>
                  <a:off x="3107160" y="6595200"/>
                  <a:ext cx="642600" cy="5072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1200" spc="-1" strike="noStrike">
                      <a:solidFill>
                        <a:srgbClr val="000000"/>
                      </a:solidFill>
                      <a:latin typeface="Times New Roman"/>
                    </a:rPr>
                    <a:t>...........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0" name=""/>
                <p:cNvSpPr/>
                <p:nvPr/>
              </p:nvSpPr>
              <p:spPr>
                <a:xfrm>
                  <a:off x="2464200" y="8117280"/>
                  <a:ext cx="642960" cy="5072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1200" spc="-1" strike="noStrike">
                      <a:solidFill>
                        <a:srgbClr val="000000"/>
                      </a:solidFill>
                      <a:latin typeface="Times New Roman"/>
                    </a:rPr>
                    <a:t>...........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1" name=""/>
                <p:cNvSpPr/>
                <p:nvPr/>
              </p:nvSpPr>
              <p:spPr>
                <a:xfrm flipH="1">
                  <a:off x="2464200" y="1927440"/>
                  <a:ext cx="1408320" cy="811440"/>
                </a:xfrm>
                <a:prstGeom prst="wedgeEllipseCallout">
                  <a:avLst>
                    <a:gd name="adj1" fmla="val -89476"/>
                    <a:gd name="adj2" fmla="val 7000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cf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1200" spc="-1" strike="noStrike">
                      <a:solidFill>
                        <a:srgbClr val="000000"/>
                      </a:solidFill>
                      <a:latin typeface="Times New Roman"/>
                    </a:rPr>
                    <a:t>......................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2" name=""/>
                <p:cNvSpPr/>
                <p:nvPr/>
              </p:nvSpPr>
              <p:spPr>
                <a:xfrm flipH="1">
                  <a:off x="1713960" y="3449520"/>
                  <a:ext cx="1408320" cy="811440"/>
                </a:xfrm>
                <a:prstGeom prst="wedgeEllipseCallout">
                  <a:avLst>
                    <a:gd name="adj1" fmla="val -89476"/>
                    <a:gd name="adj2" fmla="val 7000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bd0fe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1200" spc="-1" strike="noStrike">
                      <a:solidFill>
                        <a:srgbClr val="000000"/>
                      </a:solidFill>
                      <a:latin typeface="Times New Roman"/>
                    </a:rPr>
                    <a:t>......................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3" name=""/>
                <p:cNvSpPr/>
                <p:nvPr/>
              </p:nvSpPr>
              <p:spPr>
                <a:xfrm flipH="1">
                  <a:off x="1070280" y="4971600"/>
                  <a:ext cx="1408680" cy="811440"/>
                </a:xfrm>
                <a:prstGeom prst="wedgeEllipseCallout">
                  <a:avLst>
                    <a:gd name="adj1" fmla="val -100046"/>
                    <a:gd name="adj2" fmla="val 66875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fffdf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1200" spc="-1" strike="noStrike">
                      <a:solidFill>
                        <a:srgbClr val="000000"/>
                      </a:solidFill>
                      <a:latin typeface="Times New Roman"/>
                    </a:rPr>
                    <a:t>......................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4" name=""/>
                <p:cNvSpPr/>
                <p:nvPr/>
              </p:nvSpPr>
              <p:spPr>
                <a:xfrm flipH="1">
                  <a:off x="321120" y="6595200"/>
                  <a:ext cx="1408320" cy="811440"/>
                </a:xfrm>
                <a:prstGeom prst="wedgeEllipseCallout">
                  <a:avLst>
                    <a:gd name="adj1" fmla="val -102537"/>
                    <a:gd name="adj2" fmla="val 51944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cccc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1200" spc="-1" strike="noStrike">
                      <a:solidFill>
                        <a:srgbClr val="000000"/>
                      </a:solidFill>
                      <a:latin typeface="Times New Roman"/>
                    </a:rPr>
                    <a:t>......................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5" name=""/>
              <p:cNvGrpSpPr/>
              <p:nvPr/>
            </p:nvGrpSpPr>
            <p:grpSpPr>
              <a:xfrm>
                <a:off x="3529080" y="5082840"/>
                <a:ext cx="3657240" cy="3409560"/>
                <a:chOff x="3529080" y="5082840"/>
                <a:chExt cx="3657240" cy="3409560"/>
              </a:xfrm>
            </p:grpSpPr>
            <p:pic>
              <p:nvPicPr>
                <p:cNvPr id="806" name="" descr=""/>
                <p:cNvPicPr/>
                <p:nvPr/>
              </p:nvPicPr>
              <p:blipFill>
                <a:blip r:embed="rId11"/>
                <a:stretch/>
              </p:blipFill>
              <p:spPr>
                <a:xfrm rot="20530800">
                  <a:off x="3857400" y="5478840"/>
                  <a:ext cx="3000240" cy="2617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07" name=""/>
                <p:cNvSpPr txBox="1"/>
                <p:nvPr/>
              </p:nvSpPr>
              <p:spPr>
                <a:xfrm rot="20310000">
                  <a:off x="4379400" y="7309440"/>
                  <a:ext cx="1707480" cy="6300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i-IN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0000"/>
                      </a:solidFill>
                      <a:latin typeface="Arial Black"/>
                    </a:rPr>
                    <a:t>المدود</a:t>
                  </a:r>
                  <a:endPara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0000"/>
                    </a:solidFill>
                    <a:latin typeface="Arial Black"/>
                    <a:ea typeface="Arial Black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1T08:44:41Z</dcterms:created>
  <dc:creator>sa</dc:creator>
  <dc:description/>
  <dc:language>en-US</dc:language>
  <cp:lastModifiedBy>أبوهمام</cp:lastModifiedBy>
  <dcterms:modified xsi:type="dcterms:W3CDTF">2010-02-19T00:56:55Z</dcterms:modified>
  <cp:revision>2</cp:revision>
  <dc:subject/>
  <dc:title>الشريحة 1</dc:title>
</cp:coreProperties>
</file>